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3BDC-EABA-4D7D-9CA5-038A623B8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92A7-CD5D-470E-82D9-E3F6C7238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nutritional factors limiting wool growth and the response of wool growth to protein that is not degraded in the ru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different forms that nutrition is available and where the nutrient becomes available to the sheep.  It is important to note that amino acids are supplied directly from the feed in the form of plant proteins.  Some of these pass through the rumen directly to the small intestines whereas others are used by the rumen organisms and then become available to the sheep as microbial protein.  All amino acids enter the sheep from the small intestines, whereas energy supply is available directly from the rum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convincingly demonstrated that infusion of amino acids so that they bypass the rumen which prevents breakdown by rumen organisms can increase wool growth significantly when compared to amino acids supplied orally or into the rum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different proteins have different responses depending on the amino acid composition.  This is discussed further in the module “Essential Amino Acids for Wool Growt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Hynd, P.I. (198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 45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160g/day of protein needs to reach the small intestine to achieve maximum levels of woo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Protein Supply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979560" y="925560"/>
            <a:ext cx="8205120" cy="5169240"/>
            <a:chOff x="979560" y="925560"/>
            <a:chExt cx="8205120" cy="5169240"/>
          </a:xfrm>
        </p:grpSpPr>
        <p:sp>
          <p:nvSpPr>
            <p:cNvPr id="50" name=""/>
            <p:cNvSpPr/>
            <p:nvPr/>
          </p:nvSpPr>
          <p:spPr>
            <a:xfrm>
              <a:off x="1682640" y="4795560"/>
              <a:ext cx="2273400" cy="907920"/>
            </a:xfrm>
            <a:prstGeom prst="rect">
              <a:avLst/>
            </a:prstGeom>
            <a:solidFill>
              <a:srgbClr val="006600"/>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676520" y="1595160"/>
              <a:ext cx="5022720" cy="3187440"/>
            </a:xfrm>
            <a:prstGeom prst="rect">
              <a:avLst/>
            </a:prstGeom>
            <a:solidFill>
              <a:srgbClr val="993366"/>
            </a:solidFill>
            <a:ln w="1260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735560" y="925560"/>
              <a:ext cx="121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p:txBody>
        </p:sp>
        <p:sp>
          <p:nvSpPr>
            <p:cNvPr id="53" name=""/>
            <p:cNvSpPr/>
            <p:nvPr/>
          </p:nvSpPr>
          <p:spPr>
            <a:xfrm>
              <a:off x="4862160" y="925560"/>
              <a:ext cx="228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bohydrates</a:t>
              </a:r>
              <a:endParaRPr b="0" lang="en-US" sz="2400" spc="-1" strike="noStrike">
                <a:solidFill>
                  <a:srgbClr val="000000"/>
                </a:solidFill>
                <a:latin typeface="Times New Roman"/>
              </a:endParaRPr>
            </a:p>
          </p:txBody>
        </p:sp>
        <p:sp>
          <p:nvSpPr>
            <p:cNvPr id="54" name=""/>
            <p:cNvSpPr/>
            <p:nvPr/>
          </p:nvSpPr>
          <p:spPr>
            <a:xfrm>
              <a:off x="2209680" y="1360440"/>
              <a:ext cx="0" cy="375552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11480" y="1055520"/>
              <a:ext cx="1065960" cy="1675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ccff66"/>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728440" y="2639880"/>
              <a:ext cx="79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H3</a:t>
              </a:r>
              <a:endParaRPr b="0" lang="en-US" sz="2400" spc="-1" strike="noStrike">
                <a:solidFill>
                  <a:srgbClr val="000000"/>
                </a:solidFill>
                <a:latin typeface="Times New Roman"/>
              </a:endParaRPr>
            </a:p>
          </p:txBody>
        </p:sp>
        <p:sp>
          <p:nvSpPr>
            <p:cNvPr id="57" name=""/>
            <p:cNvSpPr/>
            <p:nvPr/>
          </p:nvSpPr>
          <p:spPr>
            <a:xfrm>
              <a:off x="2973240" y="2503440"/>
              <a:ext cx="914040" cy="1065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ccff66"/>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06800" y="3630600"/>
              <a:ext cx="15415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crob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p:txBody>
        </p:sp>
        <p:sp>
          <p:nvSpPr>
            <p:cNvPr id="59" name=""/>
            <p:cNvSpPr/>
            <p:nvPr/>
          </p:nvSpPr>
          <p:spPr>
            <a:xfrm>
              <a:off x="3505320" y="4408200"/>
              <a:ext cx="0" cy="76176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638680" y="1360440"/>
              <a:ext cx="0" cy="175212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75120" y="3249360"/>
              <a:ext cx="15735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et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pion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tyric</a:t>
              </a:r>
              <a:endParaRPr b="0" lang="en-US" sz="2400" spc="-1" strike="noStrike">
                <a:solidFill>
                  <a:srgbClr val="000000"/>
                </a:solidFill>
                <a:latin typeface="Times New Roman"/>
              </a:endParaRPr>
            </a:p>
          </p:txBody>
        </p:sp>
        <p:sp>
          <p:nvSpPr>
            <p:cNvPr id="62" name=""/>
            <p:cNvSpPr/>
            <p:nvPr/>
          </p:nvSpPr>
          <p:spPr>
            <a:xfrm>
              <a:off x="3353040" y="1208520"/>
              <a:ext cx="2285280" cy="1675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ccff66"/>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4400" y="2639880"/>
              <a:ext cx="79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P</a:t>
              </a:r>
              <a:endParaRPr b="0" lang="en-US" sz="2400" spc="-1" strike="noStrike">
                <a:solidFill>
                  <a:srgbClr val="000000"/>
                </a:solidFill>
                <a:latin typeface="Times New Roman"/>
              </a:endParaRPr>
            </a:p>
          </p:txBody>
        </p:sp>
        <p:sp>
          <p:nvSpPr>
            <p:cNvPr id="64" name=""/>
            <p:cNvSpPr/>
            <p:nvPr/>
          </p:nvSpPr>
          <p:spPr>
            <a:xfrm>
              <a:off x="3124080" y="2503440"/>
              <a:ext cx="1066680" cy="1065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ccff66"/>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80000" y="5040000"/>
              <a:ext cx="194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a:t>
              </a:r>
              <a:endParaRPr b="0" lang="en-US" sz="2400" spc="-1" strike="noStrike">
                <a:solidFill>
                  <a:srgbClr val="000000"/>
                </a:solidFill>
                <a:latin typeface="Times New Roman"/>
              </a:endParaRPr>
            </a:p>
          </p:txBody>
        </p:sp>
        <p:sp>
          <p:nvSpPr>
            <p:cNvPr id="66" name=""/>
            <p:cNvSpPr/>
            <p:nvPr/>
          </p:nvSpPr>
          <p:spPr>
            <a:xfrm>
              <a:off x="6400800" y="3875040"/>
              <a:ext cx="1371600" cy="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37800" y="3439800"/>
              <a:ext cx="1946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a:t>
              </a:r>
              <a:endParaRPr b="0" lang="en-US" sz="2400" spc="-1" strike="noStrike">
                <a:solidFill>
                  <a:srgbClr val="000000"/>
                </a:solidFill>
                <a:latin typeface="Times New Roman"/>
              </a:endParaRPr>
            </a:p>
          </p:txBody>
        </p:sp>
        <p:sp>
          <p:nvSpPr>
            <p:cNvPr id="68" name=""/>
            <p:cNvSpPr/>
            <p:nvPr/>
          </p:nvSpPr>
          <p:spPr>
            <a:xfrm>
              <a:off x="4038480" y="2885040"/>
              <a:ext cx="3657240" cy="608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ccff66"/>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567560" y="2944800"/>
              <a:ext cx="1049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etic</a:t>
              </a:r>
              <a:endParaRPr b="0" lang="en-US" sz="2400" spc="-1" strike="noStrike">
                <a:solidFill>
                  <a:srgbClr val="000000"/>
                </a:solidFill>
                <a:latin typeface="Times New Roman"/>
              </a:endParaRPr>
            </a:p>
          </p:txBody>
        </p:sp>
        <p:sp>
          <p:nvSpPr>
            <p:cNvPr id="70" name=""/>
            <p:cNvSpPr/>
            <p:nvPr/>
          </p:nvSpPr>
          <p:spPr>
            <a:xfrm>
              <a:off x="4345200" y="4181400"/>
              <a:ext cx="3352320" cy="608040"/>
            </a:xfrm>
            <a:custGeom>
              <a:avLst/>
              <a:gdLst/>
              <a:ahLst/>
              <a:rect l="l" t="t" r="r" b="b"/>
              <a:pathLst>
                <a:path stroke="0" w="21600" h="21600">
                  <a:moveTo>
                    <a:pt x="10790" y="0"/>
                  </a:moveTo>
                  <a:arcTo wR="10800" hR="10800" stAng="-5403255" swAng="5403255"/>
                  <a:lnTo>
                    <a:pt x="10800" y="10800"/>
                  </a:lnTo>
                  <a:close/>
                </a:path>
                <a:path fill="none" w="21600" h="21600">
                  <a:moveTo>
                    <a:pt x="10790" y="0"/>
                  </a:moveTo>
                  <a:arcTo wR="10800" hR="10800" stAng="-5403255" swAng="5403255"/>
                </a:path>
              </a:pathLst>
            </a:custGeom>
            <a:noFill/>
            <a:ln cap="rnd" w="50760">
              <a:solidFill>
                <a:srgbClr val="ccff66"/>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44240" y="4316400"/>
              <a:ext cx="13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etones</a:t>
              </a:r>
              <a:endParaRPr b="0" lang="en-US" sz="2400" spc="-1" strike="noStrike">
                <a:solidFill>
                  <a:srgbClr val="000000"/>
                </a:solidFill>
                <a:latin typeface="Times New Roman"/>
              </a:endParaRPr>
            </a:p>
          </p:txBody>
        </p:sp>
        <p:sp>
          <p:nvSpPr>
            <p:cNvPr id="72" name=""/>
            <p:cNvSpPr/>
            <p:nvPr/>
          </p:nvSpPr>
          <p:spPr>
            <a:xfrm>
              <a:off x="3886200" y="5246640"/>
              <a:ext cx="3352680" cy="0"/>
            </a:xfrm>
            <a:prstGeom prst="line">
              <a:avLst/>
            </a:prstGeom>
            <a:ln w="50760">
              <a:solidFill>
                <a:srgbClr val="ccff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237800" y="5094000"/>
              <a:ext cx="194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ino acids</a:t>
              </a:r>
              <a:endParaRPr b="0" lang="en-US" sz="2400" spc="-1" strike="noStrike">
                <a:solidFill>
                  <a:srgbClr val="000000"/>
                </a:solidFill>
                <a:latin typeface="Times New Roman"/>
              </a:endParaRPr>
            </a:p>
          </p:txBody>
        </p:sp>
        <p:sp>
          <p:nvSpPr>
            <p:cNvPr id="74" name=""/>
            <p:cNvSpPr/>
            <p:nvPr/>
          </p:nvSpPr>
          <p:spPr>
            <a:xfrm rot="16140000">
              <a:off x="615240" y="2724840"/>
              <a:ext cx="1270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rumen</a:t>
              </a:r>
              <a:endParaRPr b="0" lang="en-US" sz="2800" spc="-1" strike="noStrike">
                <a:solidFill>
                  <a:srgbClr val="000000"/>
                </a:solidFill>
                <a:latin typeface="Times New Roman"/>
              </a:endParaRPr>
            </a:p>
          </p:txBody>
        </p:sp>
        <p:sp>
          <p:nvSpPr>
            <p:cNvPr id="75" name=""/>
            <p:cNvSpPr/>
            <p:nvPr/>
          </p:nvSpPr>
          <p:spPr>
            <a:xfrm rot="16200000">
              <a:off x="403200" y="4912200"/>
              <a:ext cx="1846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intestines</a:t>
              </a:r>
              <a:endParaRPr b="0" lang="en-US" sz="2800" spc="-1" strike="noStrike">
                <a:solidFill>
                  <a:srgbClr val="000000"/>
                </a:solidFill>
                <a:latin typeface="Times New Roman"/>
              </a:endParaRPr>
            </a:p>
          </p:txBody>
        </p:sp>
      </p:gr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at limits wool growth?</a:t>
            </a:r>
            <a:endParaRPr b="1" lang="en-US" sz="3200" spc="-1" strike="noStrike">
              <a:solidFill>
                <a:srgbClr val="fafd00"/>
              </a:solidFill>
              <a:latin typeface="Arial"/>
            </a:endParaRPr>
          </a:p>
        </p:txBody>
      </p:sp>
      <p:sp>
        <p:nvSpPr>
          <p:cNvPr id="77"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759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struminal protein limits wool growth</a:t>
            </a:r>
            <a:endParaRPr b="1" lang="en-US" sz="3200" spc="-1" strike="noStrike">
              <a:solidFill>
                <a:srgbClr val="fafd00"/>
              </a:solidFill>
              <a:latin typeface="Arial"/>
            </a:endParaRPr>
          </a:p>
        </p:txBody>
      </p:sp>
      <p:sp>
        <p:nvSpPr>
          <p:cNvPr id="8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bomasal or intravenous infusions of proteins and amino acids increase wool growth by up to 100%</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t proteins have different effects on wool growth (e.g. gelatin, zein, casein, egg whit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1066680" y="1600200"/>
            <a:ext cx="8382240" cy="4649400"/>
            <a:chOff x="1066680" y="1600200"/>
            <a:chExt cx="8382240" cy="4649400"/>
          </a:xfrm>
        </p:grpSpPr>
        <p:sp>
          <p:nvSpPr>
            <p:cNvPr id="82" name=""/>
            <p:cNvSpPr/>
            <p:nvPr/>
          </p:nvSpPr>
          <p:spPr>
            <a:xfrm>
              <a:off x="2057400" y="1600200"/>
              <a:ext cx="0" cy="380988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57400" y="5410080"/>
              <a:ext cx="563868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508840" y="5791320"/>
              <a:ext cx="472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tuminal protein flow (g/day)</a:t>
              </a:r>
              <a:endParaRPr b="0" lang="en-US" sz="2400" spc="-1" strike="noStrike">
                <a:solidFill>
                  <a:srgbClr val="000000"/>
                </a:solidFill>
                <a:latin typeface="Times New Roman"/>
              </a:endParaRPr>
            </a:p>
          </p:txBody>
        </p:sp>
        <p:sp>
          <p:nvSpPr>
            <p:cNvPr id="85" name=""/>
            <p:cNvSpPr/>
            <p:nvPr/>
          </p:nvSpPr>
          <p:spPr>
            <a:xfrm rot="16200000">
              <a:off x="-415800" y="3086280"/>
              <a:ext cx="3423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 (g/d)</a:t>
              </a:r>
              <a:endParaRPr b="0" lang="en-US" sz="2400" spc="-1" strike="noStrike">
                <a:solidFill>
                  <a:srgbClr val="000000"/>
                </a:solidFill>
                <a:latin typeface="Times New Roman"/>
              </a:endParaRPr>
            </a:p>
          </p:txBody>
        </p:sp>
        <p:sp>
          <p:nvSpPr>
            <p:cNvPr id="86" name=""/>
            <p:cNvSpPr/>
            <p:nvPr/>
          </p:nvSpPr>
          <p:spPr>
            <a:xfrm>
              <a:off x="2590920" y="1881360"/>
              <a:ext cx="5305320" cy="3149280"/>
            </a:xfrm>
            <a:custGeom>
              <a:avLst/>
              <a:gdLst/>
              <a:ahLst/>
              <a:rect l="l" t="t" r="r" b="b"/>
              <a:pathLst>
                <a:path w="3342" h="1984">
                  <a:moveTo>
                    <a:pt x="0" y="1983"/>
                  </a:moveTo>
                  <a:lnTo>
                    <a:pt x="9" y="1939"/>
                  </a:lnTo>
                  <a:lnTo>
                    <a:pt x="31" y="1928"/>
                  </a:lnTo>
                  <a:lnTo>
                    <a:pt x="41" y="1896"/>
                  </a:lnTo>
                  <a:lnTo>
                    <a:pt x="63" y="1885"/>
                  </a:lnTo>
                  <a:lnTo>
                    <a:pt x="84" y="1853"/>
                  </a:lnTo>
                  <a:lnTo>
                    <a:pt x="106" y="1832"/>
                  </a:lnTo>
                  <a:lnTo>
                    <a:pt x="116" y="1810"/>
                  </a:lnTo>
                  <a:lnTo>
                    <a:pt x="138" y="1789"/>
                  </a:lnTo>
                  <a:lnTo>
                    <a:pt x="159" y="1757"/>
                  </a:lnTo>
                  <a:lnTo>
                    <a:pt x="181" y="1746"/>
                  </a:lnTo>
                  <a:lnTo>
                    <a:pt x="213" y="1714"/>
                  </a:lnTo>
                  <a:lnTo>
                    <a:pt x="234" y="1682"/>
                  </a:lnTo>
                  <a:lnTo>
                    <a:pt x="256" y="1671"/>
                  </a:lnTo>
                  <a:lnTo>
                    <a:pt x="277" y="1639"/>
                  </a:lnTo>
                  <a:lnTo>
                    <a:pt x="309" y="1607"/>
                  </a:lnTo>
                  <a:lnTo>
                    <a:pt x="331" y="1586"/>
                  </a:lnTo>
                  <a:lnTo>
                    <a:pt x="341" y="1564"/>
                  </a:lnTo>
                  <a:lnTo>
                    <a:pt x="363" y="1553"/>
                  </a:lnTo>
                  <a:lnTo>
                    <a:pt x="373" y="1521"/>
                  </a:lnTo>
                  <a:lnTo>
                    <a:pt x="395" y="1511"/>
                  </a:lnTo>
                  <a:lnTo>
                    <a:pt x="406" y="1489"/>
                  </a:lnTo>
                  <a:lnTo>
                    <a:pt x="427" y="1457"/>
                  </a:lnTo>
                  <a:lnTo>
                    <a:pt x="459" y="1425"/>
                  </a:lnTo>
                  <a:lnTo>
                    <a:pt x="481" y="1403"/>
                  </a:lnTo>
                  <a:lnTo>
                    <a:pt x="513" y="1382"/>
                  </a:lnTo>
                  <a:lnTo>
                    <a:pt x="545" y="1350"/>
                  </a:lnTo>
                  <a:lnTo>
                    <a:pt x="566" y="1328"/>
                  </a:lnTo>
                  <a:lnTo>
                    <a:pt x="588" y="1307"/>
                  </a:lnTo>
                  <a:lnTo>
                    <a:pt x="609" y="1275"/>
                  </a:lnTo>
                  <a:lnTo>
                    <a:pt x="631" y="1264"/>
                  </a:lnTo>
                  <a:lnTo>
                    <a:pt x="652" y="1232"/>
                  </a:lnTo>
                  <a:lnTo>
                    <a:pt x="684" y="1200"/>
                  </a:lnTo>
                  <a:lnTo>
                    <a:pt x="706" y="1179"/>
                  </a:lnTo>
                  <a:lnTo>
                    <a:pt x="716" y="1157"/>
                  </a:lnTo>
                  <a:lnTo>
                    <a:pt x="738" y="1136"/>
                  </a:lnTo>
                  <a:lnTo>
                    <a:pt x="748" y="1114"/>
                  </a:lnTo>
                  <a:lnTo>
                    <a:pt x="770" y="1093"/>
                  </a:lnTo>
                  <a:lnTo>
                    <a:pt x="781" y="1071"/>
                  </a:lnTo>
                  <a:lnTo>
                    <a:pt x="813" y="1039"/>
                  </a:lnTo>
                  <a:lnTo>
                    <a:pt x="834" y="1007"/>
                  </a:lnTo>
                  <a:lnTo>
                    <a:pt x="856" y="996"/>
                  </a:lnTo>
                  <a:lnTo>
                    <a:pt x="888" y="964"/>
                  </a:lnTo>
                  <a:lnTo>
                    <a:pt x="920" y="932"/>
                  </a:lnTo>
                  <a:lnTo>
                    <a:pt x="952" y="900"/>
                  </a:lnTo>
                  <a:lnTo>
                    <a:pt x="984" y="879"/>
                  </a:lnTo>
                  <a:lnTo>
                    <a:pt x="995" y="857"/>
                  </a:lnTo>
                  <a:lnTo>
                    <a:pt x="1027" y="846"/>
                  </a:lnTo>
                  <a:lnTo>
                    <a:pt x="1048" y="814"/>
                  </a:lnTo>
                  <a:lnTo>
                    <a:pt x="1070" y="804"/>
                  </a:lnTo>
                  <a:lnTo>
                    <a:pt x="1080" y="782"/>
                  </a:lnTo>
                  <a:lnTo>
                    <a:pt x="1102" y="771"/>
                  </a:lnTo>
                  <a:lnTo>
                    <a:pt x="1134" y="739"/>
                  </a:lnTo>
                  <a:lnTo>
                    <a:pt x="1166" y="707"/>
                  </a:lnTo>
                  <a:lnTo>
                    <a:pt x="1188" y="686"/>
                  </a:lnTo>
                  <a:lnTo>
                    <a:pt x="1220" y="664"/>
                  </a:lnTo>
                  <a:lnTo>
                    <a:pt x="1241" y="632"/>
                  </a:lnTo>
                  <a:lnTo>
                    <a:pt x="1263" y="622"/>
                  </a:lnTo>
                  <a:lnTo>
                    <a:pt x="1284" y="600"/>
                  </a:lnTo>
                  <a:lnTo>
                    <a:pt x="1316" y="579"/>
                  </a:lnTo>
                  <a:lnTo>
                    <a:pt x="1338" y="557"/>
                  </a:lnTo>
                  <a:lnTo>
                    <a:pt x="1370" y="536"/>
                  </a:lnTo>
                  <a:lnTo>
                    <a:pt x="1380" y="514"/>
                  </a:lnTo>
                  <a:lnTo>
                    <a:pt x="1402" y="504"/>
                  </a:lnTo>
                  <a:lnTo>
                    <a:pt x="1434" y="482"/>
                  </a:lnTo>
                  <a:lnTo>
                    <a:pt x="1466" y="461"/>
                  </a:lnTo>
                  <a:lnTo>
                    <a:pt x="1488" y="450"/>
                  </a:lnTo>
                  <a:lnTo>
                    <a:pt x="1520" y="418"/>
                  </a:lnTo>
                  <a:lnTo>
                    <a:pt x="1552" y="397"/>
                  </a:lnTo>
                  <a:lnTo>
                    <a:pt x="1584" y="375"/>
                  </a:lnTo>
                  <a:lnTo>
                    <a:pt x="1616" y="354"/>
                  </a:lnTo>
                  <a:lnTo>
                    <a:pt x="1638" y="343"/>
                  </a:lnTo>
                  <a:lnTo>
                    <a:pt x="1670" y="332"/>
                  </a:lnTo>
                  <a:lnTo>
                    <a:pt x="1702" y="311"/>
                  </a:lnTo>
                  <a:lnTo>
                    <a:pt x="1734" y="300"/>
                  </a:lnTo>
                  <a:lnTo>
                    <a:pt x="1766" y="279"/>
                  </a:lnTo>
                  <a:lnTo>
                    <a:pt x="1788" y="268"/>
                  </a:lnTo>
                  <a:lnTo>
                    <a:pt x="1820" y="247"/>
                  </a:lnTo>
                  <a:lnTo>
                    <a:pt x="1852" y="236"/>
                  </a:lnTo>
                  <a:lnTo>
                    <a:pt x="1884" y="225"/>
                  </a:lnTo>
                  <a:lnTo>
                    <a:pt x="1916" y="215"/>
                  </a:lnTo>
                  <a:lnTo>
                    <a:pt x="1938" y="204"/>
                  </a:lnTo>
                  <a:lnTo>
                    <a:pt x="1970" y="193"/>
                  </a:lnTo>
                  <a:lnTo>
                    <a:pt x="2002" y="182"/>
                  </a:lnTo>
                  <a:lnTo>
                    <a:pt x="2034" y="172"/>
                  </a:lnTo>
                  <a:lnTo>
                    <a:pt x="2066" y="161"/>
                  </a:lnTo>
                  <a:lnTo>
                    <a:pt x="2088" y="161"/>
                  </a:lnTo>
                  <a:lnTo>
                    <a:pt x="2120" y="150"/>
                  </a:lnTo>
                  <a:lnTo>
                    <a:pt x="2152" y="140"/>
                  </a:lnTo>
                  <a:lnTo>
                    <a:pt x="2184" y="129"/>
                  </a:lnTo>
                  <a:lnTo>
                    <a:pt x="2227" y="118"/>
                  </a:lnTo>
                  <a:lnTo>
                    <a:pt x="2259" y="118"/>
                  </a:lnTo>
                  <a:lnTo>
                    <a:pt x="2291" y="107"/>
                  </a:lnTo>
                  <a:lnTo>
                    <a:pt x="2323" y="97"/>
                  </a:lnTo>
                  <a:lnTo>
                    <a:pt x="2345" y="97"/>
                  </a:lnTo>
                  <a:lnTo>
                    <a:pt x="2377" y="86"/>
                  </a:lnTo>
                  <a:lnTo>
                    <a:pt x="2409" y="75"/>
                  </a:lnTo>
                  <a:lnTo>
                    <a:pt x="2441" y="65"/>
                  </a:lnTo>
                  <a:lnTo>
                    <a:pt x="2473" y="65"/>
                  </a:lnTo>
                  <a:lnTo>
                    <a:pt x="2495" y="54"/>
                  </a:lnTo>
                  <a:lnTo>
                    <a:pt x="2527" y="54"/>
                  </a:lnTo>
                  <a:lnTo>
                    <a:pt x="2559" y="54"/>
                  </a:lnTo>
                  <a:lnTo>
                    <a:pt x="2591" y="43"/>
                  </a:lnTo>
                  <a:lnTo>
                    <a:pt x="2623" y="43"/>
                  </a:lnTo>
                  <a:lnTo>
                    <a:pt x="2645" y="43"/>
                  </a:lnTo>
                  <a:lnTo>
                    <a:pt x="2677" y="43"/>
                  </a:lnTo>
                  <a:lnTo>
                    <a:pt x="2709" y="32"/>
                  </a:lnTo>
                  <a:lnTo>
                    <a:pt x="2741" y="32"/>
                  </a:lnTo>
                  <a:lnTo>
                    <a:pt x="2773" y="32"/>
                  </a:lnTo>
                  <a:lnTo>
                    <a:pt x="2795" y="22"/>
                  </a:lnTo>
                  <a:lnTo>
                    <a:pt x="2827" y="22"/>
                  </a:lnTo>
                  <a:lnTo>
                    <a:pt x="2859" y="22"/>
                  </a:lnTo>
                  <a:lnTo>
                    <a:pt x="2891" y="11"/>
                  </a:lnTo>
                  <a:lnTo>
                    <a:pt x="2923" y="11"/>
                  </a:lnTo>
                  <a:lnTo>
                    <a:pt x="2945" y="0"/>
                  </a:lnTo>
                  <a:lnTo>
                    <a:pt x="2977" y="0"/>
                  </a:lnTo>
                  <a:lnTo>
                    <a:pt x="3009" y="0"/>
                  </a:lnTo>
                  <a:lnTo>
                    <a:pt x="3041" y="0"/>
                  </a:lnTo>
                  <a:lnTo>
                    <a:pt x="3073" y="0"/>
                  </a:lnTo>
                  <a:lnTo>
                    <a:pt x="3095" y="0"/>
                  </a:lnTo>
                  <a:lnTo>
                    <a:pt x="3127" y="0"/>
                  </a:lnTo>
                  <a:lnTo>
                    <a:pt x="3159" y="0"/>
                  </a:lnTo>
                  <a:lnTo>
                    <a:pt x="3191" y="0"/>
                  </a:lnTo>
                  <a:lnTo>
                    <a:pt x="3223" y="0"/>
                  </a:lnTo>
                  <a:lnTo>
                    <a:pt x="3245" y="0"/>
                  </a:lnTo>
                  <a:lnTo>
                    <a:pt x="3277" y="0"/>
                  </a:lnTo>
                  <a:lnTo>
                    <a:pt x="3309" y="0"/>
                  </a:lnTo>
                  <a:lnTo>
                    <a:pt x="3341" y="0"/>
                  </a:lnTo>
                </a:path>
              </a:pathLst>
            </a:custGeom>
            <a:noFill/>
            <a:ln cap="rnd" w="507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804040" y="5394240"/>
              <a:ext cx="435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a:t>
              </a:r>
              <a:r>
                <a:rPr b="1" lang="en-AU" sz="2400" spc="-1" strike="noStrike">
                  <a:solidFill>
                    <a:srgbClr val="ffffff"/>
                  </a:solidFill>
                  <a:latin typeface="Arial"/>
                </a:rPr>
                <a:t>	</a:t>
              </a:r>
              <a:r>
                <a:rPr b="1" lang="en-AU" sz="2400" spc="-1" strike="noStrike">
                  <a:solidFill>
                    <a:srgbClr val="ffffff"/>
                  </a:solidFill>
                  <a:latin typeface="Arial"/>
                </a:rPr>
                <a:t>80</a:t>
              </a:r>
              <a:r>
                <a:rPr b="1" lang="en-AU" sz="2400" spc="-1" strike="noStrike">
                  <a:solidFill>
                    <a:srgbClr val="ffffff"/>
                  </a:solidFill>
                  <a:latin typeface="Arial"/>
                </a:rPr>
                <a:t>	</a:t>
              </a:r>
              <a:r>
                <a:rPr b="1" lang="en-AU" sz="2400" spc="-1" strike="noStrike">
                  <a:solidFill>
                    <a:srgbClr val="ffffff"/>
                  </a:solidFill>
                  <a:latin typeface="Arial"/>
                </a:rPr>
                <a:t>120</a:t>
              </a:r>
              <a:r>
                <a:rPr b="1" lang="en-AU" sz="2400" spc="-1" strike="noStrike">
                  <a:solidFill>
                    <a:srgbClr val="ffffff"/>
                  </a:solidFill>
                  <a:latin typeface="Arial"/>
                </a:rPr>
                <a:t>	</a:t>
              </a:r>
              <a:r>
                <a:rPr b="1" lang="en-AU" sz="2400" spc="-1" strike="noStrike">
                  <a:solidFill>
                    <a:srgbClr val="ffffff"/>
                  </a:solidFill>
                  <a:latin typeface="Arial"/>
                </a:rPr>
                <a:t>160</a:t>
              </a:r>
              <a:r>
                <a:rPr b="1" lang="en-AU" sz="2400" spc="-1" strike="noStrike">
                  <a:solidFill>
                    <a:srgbClr val="ffffff"/>
                  </a:solidFill>
                  <a:latin typeface="Arial"/>
                </a:rPr>
                <a:t>	</a:t>
              </a:r>
              <a:r>
                <a:rPr b="1" lang="en-AU" sz="2400" spc="-1" strike="noStrike">
                  <a:solidFill>
                    <a:srgbClr val="ffffff"/>
                  </a:solidFill>
                  <a:latin typeface="Arial"/>
                </a:rPr>
                <a:t>200</a:t>
              </a:r>
              <a:endParaRPr b="0" lang="en-US" sz="2400" spc="-1" strike="noStrike">
                <a:solidFill>
                  <a:srgbClr val="000000"/>
                </a:solidFill>
                <a:latin typeface="Times New Roman"/>
              </a:endParaRPr>
            </a:p>
          </p:txBody>
        </p:sp>
        <p:sp>
          <p:nvSpPr>
            <p:cNvPr id="88" name=""/>
            <p:cNvSpPr/>
            <p:nvPr/>
          </p:nvSpPr>
          <p:spPr>
            <a:xfrm>
              <a:off x="1660680" y="516564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89" name=""/>
            <p:cNvSpPr/>
            <p:nvPr/>
          </p:nvSpPr>
          <p:spPr>
            <a:xfrm>
              <a:off x="1508040" y="173664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90" name=""/>
            <p:cNvSpPr/>
            <p:nvPr/>
          </p:nvSpPr>
          <p:spPr>
            <a:xfrm>
              <a:off x="1508040" y="341316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91" name=""/>
            <p:cNvSpPr/>
            <p:nvPr/>
          </p:nvSpPr>
          <p:spPr>
            <a:xfrm>
              <a:off x="6156360" y="2651040"/>
              <a:ext cx="329256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ximum wool growth is achieved when 160g/day  of protein reaches the intestines</a:t>
              </a:r>
              <a:endParaRPr b="0" lang="en-US" sz="2400" spc="-1" strike="noStrike">
                <a:solidFill>
                  <a:srgbClr val="000000"/>
                </a:solidFill>
                <a:latin typeface="Times New Roman"/>
              </a:endParaRPr>
            </a:p>
          </p:txBody>
        </p:sp>
        <p:sp>
          <p:nvSpPr>
            <p:cNvPr id="92" name=""/>
            <p:cNvSpPr/>
            <p:nvPr/>
          </p:nvSpPr>
          <p:spPr>
            <a:xfrm>
              <a:off x="5867280" y="2209680"/>
              <a:ext cx="990720" cy="533520"/>
            </a:xfrm>
            <a:prstGeom prst="line">
              <a:avLst/>
            </a:prstGeom>
            <a:ln w="507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th response to postruminal protei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24:54Z</dcterms:created>
  <dc:creator>USER</dc:creator>
  <dc:description/>
  <dc:language>en-US</dc:language>
  <cp:lastModifiedBy>Hdaily</cp:lastModifiedBy>
  <cp:lastPrinted>2000-02-03T09:09:47Z</cp:lastPrinted>
  <dcterms:modified xsi:type="dcterms:W3CDTF">2000-06-08T23:55:34Z</dcterms:modified>
  <cp:revision>3</cp:revision>
  <dc:subject/>
  <dc:title>The Effect of Protein Supply on Wool Production</dc:title>
</cp:coreProperties>
</file>