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676160" y="533520"/>
            <a:ext cx="34290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C1F2-FD58-48F5-945D-99D79A902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module contains a detailed diagram of the fibre structure and develops the picture from the coiling of the keratin alpha-helices right through to the cuticle and cort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roduced for the CRC for Premium Quality Wool undergraduate program by Dr. Janelle Hocking Edwards, The University of Western Austr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BC52-94B0-4CA4-AA4B-E9A8606D5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Dr. Janelle Hocking Edwards, The University of Western Austr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http://www.tft.csiro.au/LSI/fibre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is slide shows a schematic diagram of fibre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ool and hair keratins consist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2  alpha helix of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se coi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 group of these interact to form the intermediate filament (microfibr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intermediate filament associated protein (matrix) surrounds 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is structure groups together to form a keratin filament (macrofibr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23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092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95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23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092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9246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20760" y="658332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ww.woolwi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idebar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Detailed Fibre Diagram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51055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Produced for the CRC for Premium Quality Wool undergraduate program 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Dr. Janelle Hocking Edwards, The University of Western Austral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295280" y="1176480"/>
            <a:ext cx="7620120" cy="4995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949360" y="6324480"/>
            <a:ext cx="312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Janelle Hocking Ed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Source: http://www.tft.csiro.au/LSI/fibre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Diagrammatic representation of</a:t>
            </a:r>
            <a:br>
              <a:rPr sz="3200"/>
            </a:b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 fibre structur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7T00:50:26Z</dcterms:created>
  <dc:creator>USER</dc:creator>
  <dc:description/>
  <dc:language>en-US</dc:language>
  <cp:lastModifiedBy>Hdaily</cp:lastModifiedBy>
  <cp:lastPrinted>2000-02-03T09:09:47Z</cp:lastPrinted>
  <dcterms:modified xsi:type="dcterms:W3CDTF">2000-05-19T02:19:53Z</dcterms:modified>
  <cp:revision>3</cp:revision>
  <dc:subject/>
  <dc:title>Detailed Fibre Diagram</dc:title>
</cp:coreProperties>
</file>