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41E4-1A7B-4ED8-BE99-C35286D9C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5AA3-09CE-4C49-9FA7-CC9FE6D88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562040" y="533520"/>
            <a:ext cx="3657600" cy="2743200"/>
          </a:xfrm>
          <a:prstGeom prst="rect">
            <a:avLst/>
          </a:prstGeom>
          <a:ln w="0">
            <a:noFill/>
          </a:ln>
        </p:spPr>
      </p:sp>
      <p:sp>
        <p:nvSpPr>
          <p:cNvPr id="3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ere are many techniques that are used in molecular biology.  This module describes the polymerase chain reaction (PCR) that is used to increase the amount of DNA from as little as one copy to many copies of a strand of D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4F0D-52FB-456C-A507-84DAE4200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562040" y="533520"/>
            <a:ext cx="3657600" cy="2743200"/>
          </a:xfrm>
          <a:prstGeom prst="rect">
            <a:avLst/>
          </a:prstGeom>
          <a:ln w="0">
            <a:noFill/>
          </a:ln>
        </p:spPr>
      </p:sp>
      <p:sp>
        <p:nvSpPr>
          <p:cNvPr id="3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4 more cycles (8 all together) there will be 256 strands and 240 of those will have both ends identical.  Generally, 20-30 cycles are needed to get effective amplification.  A word of caution though, PCR’s power is also its downfall.  Because it is so powerful at amplifying DNA it is also incredibly sensitive to contamination.  If there is any slight contamination of a particular sample, PCR will pick it up and make interpretation of data extremely difficul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C872-C314-43CA-A2C6-25BC505BB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562040" y="533520"/>
            <a:ext cx="3657600" cy="2743200"/>
          </a:xfrm>
          <a:prstGeom prst="rect">
            <a:avLst/>
          </a:prstGeom>
          <a:ln w="0">
            <a:noFill/>
          </a:ln>
        </p:spPr>
      </p:sp>
      <p:sp>
        <p:nvSpPr>
          <p:cNvPr id="3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ymerase Chain Reaction has revolutionised the field of molecular biology.  The person who developed it won a Nobel prize and there are very few molecular labs in the world who would not use this technique or some modification of i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powerful because it can amplify specific fragments of DNA from minute amounts of DNA (and therefore identify individuals from specks of blood or semen or even a single hair shaf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B604-A3F7-4FE3-8EA7-ECE01F6E7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562040" y="533520"/>
            <a:ext cx="3657600" cy="2743200"/>
          </a:xfrm>
          <a:prstGeom prst="rect">
            <a:avLst/>
          </a:prstGeom>
          <a:ln w="0">
            <a:noFill/>
          </a:ln>
        </p:spPr>
      </p:sp>
      <p:sp>
        <p:nvSpPr>
          <p:cNvPr id="3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basically three steps to PC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naturation- where the two DNA strands are melted apa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nnealing - where oligonucleotide primers (oligo’s or primers) that “face each other” are annealed (bound) to the DNA str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xtension - where the primers are extended by DNA Polymerase to synthesise a new strand using the original strand as a templ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steps are repeated a number of time (usually 25 -30) and the region between the two primers is amplified exponentially.  The two primers are said to face each other, which means that one binds on one strand and the other binds on the second strand some distance away from the first primer.  Since DNA can only be synthesised from 5’ - 3’ the extension of the primers is in opposite directions.  The following slides provide further expla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D511-33E9-4D6E-B5F1-9D78E9154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562040" y="533520"/>
            <a:ext cx="3657600" cy="2743200"/>
          </a:xfrm>
          <a:prstGeom prst="rect">
            <a:avLst/>
          </a:prstGeom>
          <a:ln w="0">
            <a:noFill/>
          </a:ln>
        </p:spPr>
      </p:sp>
      <p:sp>
        <p:nvSpPr>
          <p:cNvPr id="3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the three main steps are the three main ingredi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emplate - This is the sample of DNA that will act as a template for the synthesis of new strands during ampl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rimers (synthetic oligonucleotides) which are short single stranded pieces of DNA complementary to regions of the template D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at stable DNA Polymerase.  A Polymerase that is capable of surviving the 95°C required to denature the template means it can be cycled a number of times.  Before a bacteria was identified that survived extreme temperatures most enzymes functioned around 37°C and were disabled by heating.  But researchers extracted Taq DNA Polymerase from </a:t>
            </a:r>
            <a:r>
              <a:rPr b="0" i="1" lang="en-US" sz="1200" spc="-1" strike="noStrike">
                <a:solidFill>
                  <a:srgbClr val="000000"/>
                </a:solidFill>
                <a:latin typeface="Times New Roman"/>
              </a:rPr>
              <a:t>Thermus aquaticus</a:t>
            </a:r>
            <a:r>
              <a:rPr b="0" lang="en-US" sz="1200" spc="-1" strike="noStrike">
                <a:solidFill>
                  <a:srgbClr val="000000"/>
                </a:solidFill>
                <a:latin typeface="Times New Roman"/>
              </a:rPr>
              <a:t>.  It had an optimum temperature of around 72°C and was not killed at elevated temperatures.  This was one of the key discoveries in the development of PC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562040" y="533520"/>
            <a:ext cx="3657600" cy="2743200"/>
          </a:xfrm>
          <a:prstGeom prst="rect">
            <a:avLst/>
          </a:prstGeom>
          <a:ln w="0">
            <a:noFill/>
          </a:ln>
        </p:spPr>
      </p:sp>
      <p:sp>
        <p:nvSpPr>
          <p:cNvPr id="3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diagrammatic representation of what has been discussed in the previous slides.  It shows the strands being denatured in the first step by heating to 95°C.  The primers (shown in red) are then annealed to the separated strands and these are extended in step three to produce the new strand (green) which is complementary to the parent strand (yel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3D40-EBE0-49EB-872B-75336625F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562040" y="533520"/>
            <a:ext cx="3657600" cy="2743200"/>
          </a:xfrm>
          <a:prstGeom prst="rect">
            <a:avLst/>
          </a:prstGeom>
          <a:ln w="0">
            <a:noFill/>
          </a:ln>
        </p:spPr>
      </p:sp>
      <p:sp>
        <p:nvSpPr>
          <p:cNvPr id="3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close up of the primer annealing to the parent strand.  The oligonucleotide primers are synthesised by a machine.  The required oligo sequence is entered, and the machine produces it.  In this case the sequence of the primer is CGATATGACG (light blue).  DNA Polymerase extends that primer to produce the new strand (red) and it uses the parent strand as a templ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562040" y="533520"/>
            <a:ext cx="3657600" cy="2743200"/>
          </a:xfrm>
          <a:prstGeom prst="rect">
            <a:avLst/>
          </a:prstGeom>
          <a:ln w="0">
            <a:noFill/>
          </a:ln>
        </p:spPr>
      </p:sp>
      <p:sp>
        <p:nvSpPr>
          <p:cNvPr id="3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cycle, the original parent strands are still there (yellow) but there are also the newly synthesised strands from the previous cycle that can act as template for the primers.  Since the newly synthesised strands have also got the primer binding sites the primer binds to the new strands and the original strands during the annealing step.  All 4 primer are extended to produce more new strands.  The primers on the original DNA strands (yellow) produce DNA exactly the same as the green strands in the first cycle, but the primers on the green strands from the first cycle can only be extended as far as the opposite primer site. This is because the green strand of DNA was initiated at the opposite primer site.  DNA Polymerase needs a template, it can’t just create D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latest new strand (orange) is a fragment that is defined by the two primers and what happens from here on after many cycles is that the majority of the DNA that is amplified is the region of DNA defined by the two primers.  In other words there is specific amplification of the region between the two primers.  The next few slides illustrate this fur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562040" y="533520"/>
            <a:ext cx="3657600" cy="2743200"/>
          </a:xfrm>
          <a:prstGeom prst="rect">
            <a:avLst/>
          </a:prstGeom>
          <a:ln w="0">
            <a:noFill/>
          </a:ln>
        </p:spPr>
      </p:sp>
      <p:sp>
        <p:nvSpPr>
          <p:cNvPr id="3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third cycle, a larger proportion of the fragments that are amplified are defined by the two primers. There is an exponential increase in the number of fragments defined by the two primers as more cycles are perform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562040" y="533520"/>
            <a:ext cx="3657600" cy="2743200"/>
          </a:xfrm>
          <a:prstGeom prst="rect">
            <a:avLst/>
          </a:prstGeom>
          <a:ln w="0">
            <a:noFill/>
          </a:ln>
        </p:spPr>
      </p:sp>
      <p:sp>
        <p:nvSpPr>
          <p:cNvPr id="3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4 cycles, there are 16 strands, 8 with both ends defined by the prime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merase chain reaction (PC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hil Vercoe, The University of Western Australia.</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CR</a:t>
            </a:r>
            <a:endParaRPr b="1" lang="en-US" sz="3200" spc="-1" strike="noStrike">
              <a:solidFill>
                <a:srgbClr val="fafd00"/>
              </a:solidFill>
              <a:latin typeface="Arial"/>
            </a:endParaRPr>
          </a:p>
        </p:txBody>
      </p:sp>
      <p:sp>
        <p:nvSpPr>
          <p:cNvPr id="3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fter 4 more cyc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56 stra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40 strands will have both ends identical (i.e. the region defined by the two prim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ed 20 to 30 cycles to get effective amplific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oretically can amplify a region of DNA from a single DNA molecule</a:t>
            </a:r>
            <a:endParaRPr b="1" lang="en-US" sz="2400" spc="-1" strike="noStrike">
              <a:solidFill>
                <a:srgbClr val="ffffff"/>
              </a:solidFill>
              <a:latin typeface="Arial"/>
            </a:endParaRPr>
          </a:p>
        </p:txBody>
      </p:sp>
      <p:sp>
        <p:nvSpPr>
          <p:cNvPr id="30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merase Chain Reaction (PCR)</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762012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d to amplify specific regions of DN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d in Forensic Science because it can amplify DNA from minute amounts of DNA (hair shaft, blood speck, semen)</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merase Chain Reaction</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sically three steps</a:t>
            </a:r>
            <a:endParaRPr b="1" lang="en-US" sz="2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natur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lting strands apart</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neal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joining primers to template</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tension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DNA Polymerase used to synthesize new strand</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CR</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ree main ingredients</a:t>
            </a:r>
            <a:endParaRPr b="1" lang="en-US" sz="2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mplate</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mers (synthetic oligonucleotid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 bits of single stranded DNA complementary to regions of the template DNA</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eat stable DNA Polymeras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aq Polymerase - isolated from Thermus aquaticus which survives 100°C </a:t>
            </a:r>
            <a:endParaRPr b="1" lang="en-US" sz="2000" spc="-1" strike="noStrike">
              <a:solidFill>
                <a:srgbClr val="ffffff"/>
              </a:solidFill>
              <a:latin typeface="Arial"/>
            </a:endParaRPr>
          </a:p>
        </p:txBody>
      </p:sp>
      <p:sp>
        <p:nvSpPr>
          <p:cNvPr id="57"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cle 1</a:t>
            </a:r>
            <a:endParaRPr b="1" lang="en-US" sz="3200" spc="-1" strike="noStrike">
              <a:solidFill>
                <a:srgbClr val="fafd00"/>
              </a:solidFill>
              <a:latin typeface="Arial"/>
            </a:endParaRPr>
          </a:p>
        </p:txBody>
      </p:sp>
      <p:grpSp>
        <p:nvGrpSpPr>
          <p:cNvPr id="59" name=""/>
          <p:cNvGrpSpPr/>
          <p:nvPr/>
        </p:nvGrpSpPr>
        <p:grpSpPr>
          <a:xfrm>
            <a:off x="1143000" y="990720"/>
            <a:ext cx="8001000" cy="4952880"/>
            <a:chOff x="1143000" y="990720"/>
            <a:chExt cx="8001000" cy="4952880"/>
          </a:xfrm>
        </p:grpSpPr>
        <p:sp>
          <p:nvSpPr>
            <p:cNvPr id="60" name=""/>
            <p:cNvSpPr/>
            <p:nvPr/>
          </p:nvSpPr>
          <p:spPr>
            <a:xfrm>
              <a:off x="1143000" y="990720"/>
              <a:ext cx="8001000" cy="4952880"/>
            </a:xfrm>
            <a:prstGeom prst="rect">
              <a:avLst/>
            </a:prstGeom>
            <a:solidFill>
              <a:srgbClr val="7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37304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51884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3684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97332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66496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9180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810040" y="186048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46720" y="468000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236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71992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137800" y="186048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574120" y="468000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6200000">
              <a:off x="6896160" y="2892240"/>
              <a:ext cx="3416400" cy="133560"/>
            </a:xfrm>
            <a:prstGeom prst="rightArrow">
              <a:avLst>
                <a:gd name="adj1" fmla="val 50000"/>
                <a:gd name="adj2" fmla="val 128371"/>
              </a:avLst>
            </a:prstGeom>
            <a:solidFill>
              <a:srgbClr val="008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4" name=""/>
            <p:cNvSpPr/>
            <p:nvPr/>
          </p:nvSpPr>
          <p:spPr>
            <a:xfrm flipH="1" rot="16200000">
              <a:off x="6458760" y="3882960"/>
              <a:ext cx="3416040" cy="133560"/>
            </a:xfrm>
            <a:prstGeom prst="rightArrow">
              <a:avLst>
                <a:gd name="adj1" fmla="val 50000"/>
                <a:gd name="adj2" fmla="val 128358"/>
              </a:avLst>
            </a:prstGeom>
            <a:solidFill>
              <a:srgbClr val="008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5" name=""/>
            <p:cNvSpPr/>
            <p:nvPr/>
          </p:nvSpPr>
          <p:spPr>
            <a:xfrm>
              <a:off x="2100600" y="3232080"/>
              <a:ext cx="642600" cy="216000"/>
            </a:xfrm>
            <a:prstGeom prst="rightArrow">
              <a:avLst>
                <a:gd name="adj1" fmla="val 50000"/>
                <a:gd name="adj2" fmla="val 148805"/>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500720" y="3232080"/>
              <a:ext cx="642600" cy="216000"/>
            </a:xfrm>
            <a:prstGeom prst="rightArrow">
              <a:avLst>
                <a:gd name="adj1" fmla="val 50000"/>
                <a:gd name="adj2" fmla="val 148805"/>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901200" y="3232080"/>
              <a:ext cx="642600" cy="216000"/>
            </a:xfrm>
            <a:prstGeom prst="rightArrow">
              <a:avLst>
                <a:gd name="adj1" fmla="val 50000"/>
                <a:gd name="adj2" fmla="val 148805"/>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51240" y="1787400"/>
              <a:ext cx="1752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Denaturation</a:t>
              </a:r>
              <a:endParaRPr b="0" lang="en-US" sz="2000" spc="-1" strike="noStrike">
                <a:solidFill>
                  <a:srgbClr val="000000"/>
                </a:solidFill>
                <a:latin typeface="Times New Roman"/>
              </a:endParaRPr>
            </a:p>
          </p:txBody>
        </p:sp>
        <p:sp>
          <p:nvSpPr>
            <p:cNvPr id="79" name=""/>
            <p:cNvSpPr/>
            <p:nvPr/>
          </p:nvSpPr>
          <p:spPr>
            <a:xfrm>
              <a:off x="4079880" y="1763640"/>
              <a:ext cx="1411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Annealing</a:t>
              </a:r>
              <a:endParaRPr b="0" lang="en-US" sz="2000" spc="-1" strike="noStrike">
                <a:solidFill>
                  <a:srgbClr val="000000"/>
                </a:solidFill>
                <a:latin typeface="Times New Roman"/>
              </a:endParaRPr>
            </a:p>
          </p:txBody>
        </p:sp>
        <p:sp>
          <p:nvSpPr>
            <p:cNvPr id="80" name=""/>
            <p:cNvSpPr/>
            <p:nvPr/>
          </p:nvSpPr>
          <p:spPr>
            <a:xfrm>
              <a:off x="6480720" y="1763640"/>
              <a:ext cx="139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Extension</a:t>
              </a:r>
              <a:endParaRPr b="0" lang="en-US" sz="2000" spc="-1" strike="noStrike">
                <a:solidFill>
                  <a:srgbClr val="000000"/>
                </a:solidFill>
                <a:latin typeface="Times New Roman"/>
              </a:endParaRPr>
            </a:p>
          </p:txBody>
        </p:sp>
        <p:sp>
          <p:nvSpPr>
            <p:cNvPr id="81" name=""/>
            <p:cNvSpPr/>
            <p:nvPr/>
          </p:nvSpPr>
          <p:spPr>
            <a:xfrm>
              <a:off x="2089440" y="2259000"/>
              <a:ext cx="84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333300"/>
                  </a:solidFill>
                  <a:latin typeface="Arial"/>
                </a:rPr>
                <a:t>94</a:t>
              </a:r>
              <a:r>
                <a:rPr b="1" lang="en-AU" sz="2400" spc="-1" strike="noStrike" baseline="30000">
                  <a:solidFill>
                    <a:srgbClr val="333300"/>
                  </a:solidFill>
                  <a:latin typeface="Arial"/>
                </a:rPr>
                <a:t>o</a:t>
              </a:r>
              <a:r>
                <a:rPr b="1" lang="en-AU" sz="2400" spc="-1" strike="noStrike">
                  <a:solidFill>
                    <a:srgbClr val="333300"/>
                  </a:solidFill>
                  <a:latin typeface="Arial"/>
                </a:rPr>
                <a:t>C</a:t>
              </a:r>
              <a:endParaRPr b="0" lang="en-US" sz="2400" spc="-1" strike="noStrike">
                <a:solidFill>
                  <a:srgbClr val="000000"/>
                </a:solidFill>
                <a:latin typeface="Times New Roman"/>
              </a:endParaRPr>
            </a:p>
          </p:txBody>
        </p:sp>
        <p:sp>
          <p:nvSpPr>
            <p:cNvPr id="82" name=""/>
            <p:cNvSpPr/>
            <p:nvPr/>
          </p:nvSpPr>
          <p:spPr>
            <a:xfrm>
              <a:off x="4489920" y="2259000"/>
              <a:ext cx="84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333300"/>
                  </a:solidFill>
                  <a:latin typeface="Arial"/>
                </a:rPr>
                <a:t>50</a:t>
              </a:r>
              <a:r>
                <a:rPr b="1" lang="en-AU" sz="2400" spc="-1" strike="noStrike" baseline="30000">
                  <a:solidFill>
                    <a:srgbClr val="333300"/>
                  </a:solidFill>
                  <a:latin typeface="Arial"/>
                </a:rPr>
                <a:t>o</a:t>
              </a:r>
              <a:r>
                <a:rPr b="1" lang="en-AU" sz="2400" spc="-1" strike="noStrike">
                  <a:solidFill>
                    <a:srgbClr val="333300"/>
                  </a:solidFill>
                  <a:latin typeface="Arial"/>
                </a:rPr>
                <a:t>C</a:t>
              </a:r>
              <a:endParaRPr b="0" lang="en-US" sz="2400" spc="-1" strike="noStrike">
                <a:solidFill>
                  <a:srgbClr val="000000"/>
                </a:solidFill>
                <a:latin typeface="Times New Roman"/>
              </a:endParaRPr>
            </a:p>
          </p:txBody>
        </p:sp>
        <p:sp>
          <p:nvSpPr>
            <p:cNvPr id="83" name=""/>
            <p:cNvSpPr/>
            <p:nvPr/>
          </p:nvSpPr>
          <p:spPr>
            <a:xfrm>
              <a:off x="6890400" y="2259000"/>
              <a:ext cx="84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333300"/>
                  </a:solidFill>
                  <a:latin typeface="Arial"/>
                </a:rPr>
                <a:t>72</a:t>
              </a:r>
              <a:r>
                <a:rPr b="1" lang="en-AU" sz="2400" spc="-1" strike="noStrike" baseline="30000">
                  <a:solidFill>
                    <a:srgbClr val="333300"/>
                  </a:solidFill>
                  <a:latin typeface="Arial"/>
                </a:rPr>
                <a:t>o</a:t>
              </a:r>
              <a:r>
                <a:rPr b="1" lang="en-AU" sz="2400" spc="-1" strike="noStrike">
                  <a:solidFill>
                    <a:srgbClr val="333300"/>
                  </a:solidFill>
                  <a:latin typeface="Arial"/>
                </a:rPr>
                <a:t>C</a:t>
              </a:r>
              <a:endParaRPr b="0" lang="en-US" sz="2400" spc="-1" strike="noStrike">
                <a:solidFill>
                  <a:srgbClr val="000000"/>
                </a:solidFill>
                <a:latin typeface="Times New Roman"/>
              </a:endParaRPr>
            </a:p>
          </p:txBody>
        </p:sp>
        <p:sp>
          <p:nvSpPr>
            <p:cNvPr id="84" name=""/>
            <p:cNvSpPr/>
            <p:nvPr/>
          </p:nvSpPr>
          <p:spPr>
            <a:xfrm>
              <a:off x="2246040" y="1098720"/>
              <a:ext cx="4240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31696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1</a:t>
              </a:r>
              <a:endParaRPr b="0" lang="en-US" sz="2000" spc="-1" strike="noStrike">
                <a:solidFill>
                  <a:srgbClr val="000000"/>
                </a:solidFill>
                <a:latin typeface="Times New Roman"/>
              </a:endParaRPr>
            </a:p>
          </p:txBody>
        </p:sp>
        <p:sp>
          <p:nvSpPr>
            <p:cNvPr id="86" name=""/>
            <p:cNvSpPr/>
            <p:nvPr/>
          </p:nvSpPr>
          <p:spPr>
            <a:xfrm>
              <a:off x="4646160" y="1098720"/>
              <a:ext cx="4240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71744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2</a:t>
              </a:r>
              <a:endParaRPr b="0" lang="en-US" sz="2000" spc="-1" strike="noStrike">
                <a:solidFill>
                  <a:srgbClr val="000000"/>
                </a:solidFill>
                <a:latin typeface="Times New Roman"/>
              </a:endParaRPr>
            </a:p>
          </p:txBody>
        </p:sp>
        <p:sp>
          <p:nvSpPr>
            <p:cNvPr id="88" name=""/>
            <p:cNvSpPr/>
            <p:nvPr/>
          </p:nvSpPr>
          <p:spPr>
            <a:xfrm>
              <a:off x="7046640" y="1098720"/>
              <a:ext cx="4240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1756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3</a:t>
              </a:r>
              <a:endParaRPr b="0" lang="en-US" sz="2000" spc="-1" strike="noStrike">
                <a:solidFill>
                  <a:srgbClr val="000000"/>
                </a:solidFill>
                <a:latin typeface="Times New Roman"/>
              </a:endParaRPr>
            </a:p>
          </p:txBody>
        </p:sp>
        <p:sp>
          <p:nvSpPr>
            <p:cNvPr id="90" name=""/>
            <p:cNvSpPr/>
            <p:nvPr/>
          </p:nvSpPr>
          <p:spPr>
            <a:xfrm>
              <a:off x="4573800" y="407052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719240" y="422280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64320" y="437508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010120" y="407052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155560" y="422280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864320" y="391788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3800" y="452772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10120" y="460368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19240" y="468000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155560" y="475632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1680480" y="1143000"/>
            <a:ext cx="6738120" cy="4115520"/>
            <a:chOff x="1680480" y="1143000"/>
            <a:chExt cx="6738120" cy="4115520"/>
          </a:xfrm>
        </p:grpSpPr>
        <p:sp>
          <p:nvSpPr>
            <p:cNvPr id="102" name=""/>
            <p:cNvSpPr/>
            <p:nvPr/>
          </p:nvSpPr>
          <p:spPr>
            <a:xfrm>
              <a:off x="1700280" y="4803840"/>
              <a:ext cx="6718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Courier New"/>
                </a:rPr>
                <a:t>GGATGCTATACTGCTAGCTAACCCGATGCC</a:t>
              </a:r>
              <a:endParaRPr b="0" lang="en-US" sz="2400" spc="-1" strike="noStrike">
                <a:solidFill>
                  <a:srgbClr val="000000"/>
                </a:solidFill>
                <a:latin typeface="Times New Roman"/>
              </a:endParaRPr>
            </a:p>
          </p:txBody>
        </p:sp>
        <p:sp>
          <p:nvSpPr>
            <p:cNvPr id="103" name=""/>
            <p:cNvSpPr/>
            <p:nvPr/>
          </p:nvSpPr>
          <p:spPr>
            <a:xfrm>
              <a:off x="1979280" y="446580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ff00"/>
                  </a:solidFill>
                  <a:latin typeface="Courier New"/>
                </a:rPr>
                <a:t>    </a:t>
              </a:r>
              <a:r>
                <a:rPr b="1" lang="en-AU" sz="2400" spc="-1" strike="noStrike">
                  <a:solidFill>
                    <a:srgbClr val="ccccff"/>
                  </a:solidFill>
                  <a:latin typeface="Courier New"/>
                </a:rPr>
                <a:t>CGATATGACG</a:t>
              </a:r>
              <a:r>
                <a:rPr b="1" lang="en-AU" sz="2400" spc="-1" strike="noStrike">
                  <a:solidFill>
                    <a:srgbClr val="ff0066"/>
                  </a:solidFill>
                  <a:latin typeface="Courier New"/>
                </a:rPr>
                <a:t>ATCGATTGGGCTACGG</a:t>
              </a:r>
              <a:endParaRPr b="0" lang="en-US" sz="2400" spc="-1" strike="noStrike">
                <a:solidFill>
                  <a:srgbClr val="000000"/>
                </a:solidFill>
                <a:latin typeface="Times New Roman"/>
              </a:endParaRPr>
            </a:p>
          </p:txBody>
        </p:sp>
        <p:sp>
          <p:nvSpPr>
            <p:cNvPr id="104" name=""/>
            <p:cNvSpPr/>
            <p:nvPr/>
          </p:nvSpPr>
          <p:spPr>
            <a:xfrm>
              <a:off x="1700280" y="2975040"/>
              <a:ext cx="6718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Courier New"/>
                </a:rPr>
                <a:t>GGATGCTATACTGCTAGCTAACCCGATGCC</a:t>
              </a:r>
              <a:endParaRPr b="0" lang="en-US" sz="2400" spc="-1" strike="noStrike">
                <a:solidFill>
                  <a:srgbClr val="000000"/>
                </a:solidFill>
                <a:latin typeface="Times New Roman"/>
              </a:endParaRPr>
            </a:p>
          </p:txBody>
        </p:sp>
        <p:sp>
          <p:nvSpPr>
            <p:cNvPr id="105" name=""/>
            <p:cNvSpPr/>
            <p:nvPr/>
          </p:nvSpPr>
          <p:spPr>
            <a:xfrm>
              <a:off x="1680480" y="2637000"/>
              <a:ext cx="27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ff00"/>
                  </a:solidFill>
                  <a:latin typeface="Courier New"/>
                </a:rPr>
                <a:t>    </a:t>
              </a:r>
              <a:r>
                <a:rPr b="1" lang="en-AU" sz="2400" spc="-1" strike="noStrike">
                  <a:solidFill>
                    <a:srgbClr val="ccccff"/>
                  </a:solidFill>
                  <a:latin typeface="Courier New"/>
                </a:rPr>
                <a:t>CGATATGACG</a:t>
              </a:r>
              <a:endParaRPr b="0" lang="en-US" sz="2400" spc="-1" strike="noStrike">
                <a:solidFill>
                  <a:srgbClr val="000000"/>
                </a:solidFill>
                <a:latin typeface="Times New Roman"/>
              </a:endParaRPr>
            </a:p>
          </p:txBody>
        </p:sp>
        <p:sp>
          <p:nvSpPr>
            <p:cNvPr id="106" name=""/>
            <p:cNvSpPr/>
            <p:nvPr/>
          </p:nvSpPr>
          <p:spPr>
            <a:xfrm>
              <a:off x="1700280" y="1143000"/>
              <a:ext cx="6718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Courier New"/>
                </a:rPr>
                <a:t>GGATGCTATACTGCTAGCTAACCCGATGCC</a:t>
              </a:r>
              <a:endParaRPr b="0" lang="en-US" sz="2400" spc="-1" strike="noStrike">
                <a:solidFill>
                  <a:srgbClr val="000000"/>
                </a:solidFill>
                <a:latin typeface="Times New Roman"/>
              </a:endParaRPr>
            </a:p>
          </p:txBody>
        </p:sp>
        <p:sp>
          <p:nvSpPr>
            <p:cNvPr id="107" name=""/>
            <p:cNvSpPr/>
            <p:nvPr/>
          </p:nvSpPr>
          <p:spPr>
            <a:xfrm flipH="1" rot="16200000">
              <a:off x="4311720" y="1857240"/>
              <a:ext cx="520560" cy="749520"/>
            </a:xfrm>
            <a:prstGeom prst="rightArrow">
              <a:avLst>
                <a:gd name="adj1" fmla="val 75000"/>
                <a:gd name="adj2" fmla="val 50019"/>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rot="16200000">
              <a:off x="4311720" y="3533760"/>
              <a:ext cx="520560" cy="749520"/>
            </a:xfrm>
            <a:prstGeom prst="rightArrow">
              <a:avLst>
                <a:gd name="adj1" fmla="val 75000"/>
                <a:gd name="adj2" fmla="val 50019"/>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19000" y="1951200"/>
              <a:ext cx="1909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dd Primer </a:t>
              </a:r>
              <a:endParaRPr b="0" lang="en-US" sz="2400" spc="-1" strike="noStrike">
                <a:solidFill>
                  <a:srgbClr val="000000"/>
                </a:solidFill>
                <a:latin typeface="Times New Roman"/>
              </a:endParaRPr>
            </a:p>
          </p:txBody>
        </p:sp>
        <p:sp>
          <p:nvSpPr>
            <p:cNvPr id="110" name=""/>
            <p:cNvSpPr/>
            <p:nvPr/>
          </p:nvSpPr>
          <p:spPr>
            <a:xfrm>
              <a:off x="5319720" y="3551400"/>
              <a:ext cx="2451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dd DNA Polymerase</a:t>
              </a:r>
              <a:endParaRPr b="0" lang="en-US" sz="2400" spc="-1" strike="noStrike">
                <a:solidFill>
                  <a:srgbClr val="000000"/>
                </a:solidFill>
                <a:latin typeface="Times New Roman"/>
              </a:endParaRPr>
            </a:p>
          </p:txBody>
        </p:sp>
      </p:grpSp>
      <p:sp>
        <p:nvSpPr>
          <p:cNvPr id="11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nealing and Extension Up Close</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cle 2</a:t>
            </a:r>
            <a:endParaRPr b="1" lang="en-US" sz="3200" spc="-1" strike="noStrike">
              <a:solidFill>
                <a:srgbClr val="fafd00"/>
              </a:solidFill>
              <a:latin typeface="Arial"/>
            </a:endParaRPr>
          </a:p>
        </p:txBody>
      </p:sp>
      <p:grpSp>
        <p:nvGrpSpPr>
          <p:cNvPr id="114" name=""/>
          <p:cNvGrpSpPr/>
          <p:nvPr/>
        </p:nvGrpSpPr>
        <p:grpSpPr>
          <a:xfrm>
            <a:off x="1143000" y="914400"/>
            <a:ext cx="8001000" cy="4952880"/>
            <a:chOff x="1143000" y="914400"/>
            <a:chExt cx="8001000" cy="4952880"/>
          </a:xfrm>
        </p:grpSpPr>
        <p:sp>
          <p:nvSpPr>
            <p:cNvPr id="115" name=""/>
            <p:cNvSpPr/>
            <p:nvPr/>
          </p:nvSpPr>
          <p:spPr>
            <a:xfrm>
              <a:off x="1143000" y="914400"/>
              <a:ext cx="8001000" cy="4952880"/>
            </a:xfrm>
            <a:prstGeom prst="rect">
              <a:avLst/>
            </a:prstGeom>
            <a:solidFill>
              <a:srgbClr val="7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716960" y="1319040"/>
              <a:ext cx="5688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935920" y="1319040"/>
              <a:ext cx="5580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219320" y="1319040"/>
              <a:ext cx="5544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895400" y="1319040"/>
              <a:ext cx="5724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766000" y="1520640"/>
              <a:ext cx="123840" cy="3473640"/>
              <a:chOff x="8766000" y="1520640"/>
              <a:chExt cx="123840" cy="3473640"/>
            </a:xfrm>
          </p:grpSpPr>
          <p:sp>
            <p:nvSpPr>
              <p:cNvPr id="121" name=""/>
              <p:cNvSpPr/>
              <p:nvPr/>
            </p:nvSpPr>
            <p:spPr>
              <a:xfrm>
                <a:off x="8799480" y="4657680"/>
                <a:ext cx="57240" cy="33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6200000">
                <a:off x="7266600" y="3019680"/>
                <a:ext cx="3122280" cy="123840"/>
              </a:xfrm>
              <a:prstGeom prst="rightArrow">
                <a:avLst>
                  <a:gd name="adj1" fmla="val 50000"/>
                  <a:gd name="adj2" fmla="val 126528"/>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23" name=""/>
            <p:cNvGrpSpPr/>
            <p:nvPr/>
          </p:nvGrpSpPr>
          <p:grpSpPr>
            <a:xfrm>
              <a:off x="7818480" y="1835280"/>
              <a:ext cx="123840" cy="3674880"/>
              <a:chOff x="7818480" y="1835280"/>
              <a:chExt cx="123840" cy="3674880"/>
            </a:xfrm>
          </p:grpSpPr>
          <p:sp>
            <p:nvSpPr>
              <p:cNvPr id="124" name=""/>
              <p:cNvSpPr/>
              <p:nvPr/>
            </p:nvSpPr>
            <p:spPr>
              <a:xfrm>
                <a:off x="7851600" y="1835280"/>
                <a:ext cx="5724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rot="16200000">
                <a:off x="6226920" y="3794760"/>
                <a:ext cx="3306600" cy="123840"/>
              </a:xfrm>
              <a:prstGeom prst="rightArrow">
                <a:avLst>
                  <a:gd name="adj1" fmla="val 50000"/>
                  <a:gd name="adj2" fmla="val 133997"/>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26" name=""/>
            <p:cNvSpPr/>
            <p:nvPr/>
          </p:nvSpPr>
          <p:spPr>
            <a:xfrm>
              <a:off x="2233440" y="3309840"/>
              <a:ext cx="598680" cy="209520"/>
            </a:xfrm>
            <a:prstGeom prst="rightArrow">
              <a:avLst>
                <a:gd name="adj1" fmla="val 50000"/>
                <a:gd name="adj2" fmla="val 142922"/>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03680" y="3309840"/>
              <a:ext cx="596880" cy="209520"/>
            </a:xfrm>
            <a:prstGeom prst="rightArrow">
              <a:avLst>
                <a:gd name="adj1" fmla="val 50000"/>
                <a:gd name="adj2" fmla="val 142492"/>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8155800" y="1835280"/>
              <a:ext cx="125640" cy="3674880"/>
              <a:chOff x="8155800" y="1835280"/>
              <a:chExt cx="125640" cy="3674880"/>
            </a:xfrm>
          </p:grpSpPr>
          <p:sp>
            <p:nvSpPr>
              <p:cNvPr id="129" name=""/>
              <p:cNvSpPr/>
              <p:nvPr/>
            </p:nvSpPr>
            <p:spPr>
              <a:xfrm>
                <a:off x="8190000" y="1835280"/>
                <a:ext cx="5868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rot="16200000">
                <a:off x="6564960" y="3794040"/>
                <a:ext cx="3306600" cy="125640"/>
              </a:xfrm>
              <a:prstGeom prst="rightArrow">
                <a:avLst>
                  <a:gd name="adj1" fmla="val 50000"/>
                  <a:gd name="adj2" fmla="val 132078"/>
                </a:avLst>
              </a:prstGeom>
              <a:solidFill>
                <a:srgbClr val="008000"/>
              </a:solidFill>
              <a:ln w="12600">
                <a:solidFill>
                  <a:srgbClr val="008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31" name=""/>
            <p:cNvSpPr/>
            <p:nvPr/>
          </p:nvSpPr>
          <p:spPr>
            <a:xfrm>
              <a:off x="8055000" y="4637160"/>
              <a:ext cx="5724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055000" y="1835280"/>
              <a:ext cx="57240" cy="279072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8427960" y="1520640"/>
              <a:ext cx="123840" cy="3473640"/>
              <a:chOff x="8427960" y="1520640"/>
              <a:chExt cx="123840" cy="3473640"/>
            </a:xfrm>
          </p:grpSpPr>
          <p:sp>
            <p:nvSpPr>
              <p:cNvPr id="134" name=""/>
              <p:cNvSpPr/>
              <p:nvPr/>
            </p:nvSpPr>
            <p:spPr>
              <a:xfrm>
                <a:off x="8461440" y="4657680"/>
                <a:ext cx="57240" cy="33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6200000">
                <a:off x="6928560" y="3019680"/>
                <a:ext cx="3122280" cy="123840"/>
              </a:xfrm>
              <a:prstGeom prst="rightArrow">
                <a:avLst>
                  <a:gd name="adj1" fmla="val 50000"/>
                  <a:gd name="adj2" fmla="val 126528"/>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36" name=""/>
            <p:cNvGrpSpPr/>
            <p:nvPr/>
          </p:nvGrpSpPr>
          <p:grpSpPr>
            <a:xfrm>
              <a:off x="8596440" y="1835280"/>
              <a:ext cx="56880" cy="3159000"/>
              <a:chOff x="8596440" y="1835280"/>
              <a:chExt cx="56880" cy="3159000"/>
            </a:xfrm>
          </p:grpSpPr>
          <p:sp>
            <p:nvSpPr>
              <p:cNvPr id="137" name=""/>
              <p:cNvSpPr/>
              <p:nvPr/>
            </p:nvSpPr>
            <p:spPr>
              <a:xfrm>
                <a:off x="8596440" y="1835280"/>
                <a:ext cx="5688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596440" y="2203560"/>
                <a:ext cx="56880" cy="279072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2979720" y="1319040"/>
              <a:ext cx="5544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3351240" y="1835280"/>
              <a:ext cx="123840" cy="3674880"/>
              <a:chOff x="3351240" y="1835280"/>
              <a:chExt cx="123840" cy="3674880"/>
            </a:xfrm>
          </p:grpSpPr>
          <p:sp>
            <p:nvSpPr>
              <p:cNvPr id="141" name=""/>
              <p:cNvSpPr/>
              <p:nvPr/>
            </p:nvSpPr>
            <p:spPr>
              <a:xfrm>
                <a:off x="3384720" y="1835280"/>
                <a:ext cx="56880" cy="3553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rot="16200000">
                <a:off x="1759680" y="3794760"/>
                <a:ext cx="3306600" cy="123840"/>
              </a:xfrm>
              <a:prstGeom prst="rightArrow">
                <a:avLst>
                  <a:gd name="adj1" fmla="val 50000"/>
                  <a:gd name="adj2" fmla="val 133997"/>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43" name=""/>
            <p:cNvSpPr/>
            <p:nvPr/>
          </p:nvSpPr>
          <p:spPr>
            <a:xfrm>
              <a:off x="4265640" y="1319040"/>
              <a:ext cx="5544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3825720" y="1520640"/>
              <a:ext cx="123840" cy="3473640"/>
              <a:chOff x="3825720" y="1520640"/>
              <a:chExt cx="123840" cy="3473640"/>
            </a:xfrm>
          </p:grpSpPr>
          <p:sp>
            <p:nvSpPr>
              <p:cNvPr id="145" name=""/>
              <p:cNvSpPr/>
              <p:nvPr/>
            </p:nvSpPr>
            <p:spPr>
              <a:xfrm>
                <a:off x="3859200" y="4657680"/>
                <a:ext cx="57240" cy="33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2326320" y="3019680"/>
                <a:ext cx="3122280" cy="123840"/>
              </a:xfrm>
              <a:prstGeom prst="rightArrow">
                <a:avLst>
                  <a:gd name="adj1" fmla="val 50000"/>
                  <a:gd name="adj2" fmla="val 126528"/>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47" name=""/>
            <p:cNvGrpSpPr/>
            <p:nvPr/>
          </p:nvGrpSpPr>
          <p:grpSpPr>
            <a:xfrm>
              <a:off x="1320840" y="1760400"/>
              <a:ext cx="123840" cy="3676680"/>
              <a:chOff x="1320840" y="1760400"/>
              <a:chExt cx="123840" cy="3676680"/>
            </a:xfrm>
          </p:grpSpPr>
          <p:sp>
            <p:nvSpPr>
              <p:cNvPr id="148" name=""/>
              <p:cNvSpPr/>
              <p:nvPr/>
            </p:nvSpPr>
            <p:spPr>
              <a:xfrm>
                <a:off x="1353960" y="1760400"/>
                <a:ext cx="57240" cy="3574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6200000">
                <a:off x="-271080" y="3720960"/>
                <a:ext cx="3308400" cy="123840"/>
              </a:xfrm>
              <a:prstGeom prst="rightArrow">
                <a:avLst>
                  <a:gd name="adj1" fmla="val 50000"/>
                  <a:gd name="adj2" fmla="val 134070"/>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50" name=""/>
            <p:cNvGrpSpPr/>
            <p:nvPr/>
          </p:nvGrpSpPr>
          <p:grpSpPr>
            <a:xfrm>
              <a:off x="1727280" y="1595160"/>
              <a:ext cx="123840" cy="3472200"/>
              <a:chOff x="1727280" y="1595160"/>
              <a:chExt cx="123840" cy="3472200"/>
            </a:xfrm>
          </p:grpSpPr>
          <p:sp>
            <p:nvSpPr>
              <p:cNvPr id="151" name=""/>
              <p:cNvSpPr/>
              <p:nvPr/>
            </p:nvSpPr>
            <p:spPr>
              <a:xfrm>
                <a:off x="1760400" y="4730760"/>
                <a:ext cx="57240" cy="33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6200000">
                <a:off x="228600" y="3093480"/>
                <a:ext cx="3120840" cy="123840"/>
              </a:xfrm>
              <a:prstGeom prst="rightArrow">
                <a:avLst>
                  <a:gd name="adj1" fmla="val 50000"/>
                  <a:gd name="adj2" fmla="val 126470"/>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53" name=""/>
            <p:cNvGrpSpPr/>
            <p:nvPr/>
          </p:nvGrpSpPr>
          <p:grpSpPr>
            <a:xfrm>
              <a:off x="2233440" y="1066680"/>
              <a:ext cx="395640" cy="393840"/>
              <a:chOff x="2233440" y="1066680"/>
              <a:chExt cx="395640" cy="393840"/>
            </a:xfrm>
          </p:grpSpPr>
          <p:sp>
            <p:nvSpPr>
              <p:cNvPr id="154" name=""/>
              <p:cNvSpPr/>
              <p:nvPr/>
            </p:nvSpPr>
            <p:spPr>
              <a:xfrm>
                <a:off x="2233440" y="1096920"/>
                <a:ext cx="395640" cy="28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30004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56" name=""/>
            <p:cNvGrpSpPr/>
            <p:nvPr/>
          </p:nvGrpSpPr>
          <p:grpSpPr>
            <a:xfrm>
              <a:off x="4670280" y="1066680"/>
              <a:ext cx="395280" cy="393840"/>
              <a:chOff x="4670280" y="1066680"/>
              <a:chExt cx="395280" cy="393840"/>
            </a:xfrm>
          </p:grpSpPr>
          <p:sp>
            <p:nvSpPr>
              <p:cNvPr id="157" name=""/>
              <p:cNvSpPr/>
              <p:nvPr/>
            </p:nvSpPr>
            <p:spPr>
              <a:xfrm>
                <a:off x="4670280" y="1096920"/>
                <a:ext cx="395280" cy="28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73688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a:t>
                </a:r>
                <a:endParaRPr b="0" lang="en-US" sz="2000" spc="-1" strike="noStrike">
                  <a:solidFill>
                    <a:srgbClr val="000000"/>
                  </a:solidFill>
                  <a:latin typeface="Times New Roman"/>
                </a:endParaRPr>
              </a:p>
            </p:txBody>
          </p:sp>
        </p:grpSp>
        <p:sp>
          <p:nvSpPr>
            <p:cNvPr id="159" name=""/>
            <p:cNvSpPr/>
            <p:nvPr/>
          </p:nvSpPr>
          <p:spPr>
            <a:xfrm>
              <a:off x="5348160" y="1319040"/>
              <a:ext cx="5580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5718960" y="1835280"/>
              <a:ext cx="125640" cy="3674880"/>
              <a:chOff x="5718960" y="1835280"/>
              <a:chExt cx="125640" cy="3674880"/>
            </a:xfrm>
          </p:grpSpPr>
          <p:sp>
            <p:nvSpPr>
              <p:cNvPr id="161" name=""/>
              <p:cNvSpPr/>
              <p:nvPr/>
            </p:nvSpPr>
            <p:spPr>
              <a:xfrm>
                <a:off x="5753160" y="1835280"/>
                <a:ext cx="5868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16200000">
                <a:off x="4128120" y="3794040"/>
                <a:ext cx="3306600" cy="125640"/>
              </a:xfrm>
              <a:prstGeom prst="rightArrow">
                <a:avLst>
                  <a:gd name="adj1" fmla="val 50000"/>
                  <a:gd name="adj2" fmla="val 132078"/>
                </a:avLst>
              </a:prstGeom>
              <a:solidFill>
                <a:srgbClr val="008000"/>
              </a:solidFill>
              <a:ln w="12600">
                <a:solidFill>
                  <a:srgbClr val="008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63" name=""/>
            <p:cNvSpPr/>
            <p:nvPr/>
          </p:nvSpPr>
          <p:spPr>
            <a:xfrm>
              <a:off x="6634080" y="1319040"/>
              <a:ext cx="5724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6194520" y="1520640"/>
              <a:ext cx="123840" cy="3473640"/>
              <a:chOff x="6194520" y="1520640"/>
              <a:chExt cx="123840" cy="3473640"/>
            </a:xfrm>
          </p:grpSpPr>
          <p:sp>
            <p:nvSpPr>
              <p:cNvPr id="165" name=""/>
              <p:cNvSpPr/>
              <p:nvPr/>
            </p:nvSpPr>
            <p:spPr>
              <a:xfrm>
                <a:off x="6227640" y="4657680"/>
                <a:ext cx="57240" cy="33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6200000">
                <a:off x="4695120" y="3019680"/>
                <a:ext cx="3122280" cy="123840"/>
              </a:xfrm>
              <a:prstGeom prst="rightArrow">
                <a:avLst>
                  <a:gd name="adj1" fmla="val 50000"/>
                  <a:gd name="adj2" fmla="val 126528"/>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67" name=""/>
            <p:cNvSpPr/>
            <p:nvPr/>
          </p:nvSpPr>
          <p:spPr>
            <a:xfrm>
              <a:off x="5651640" y="4637160"/>
              <a:ext cx="5688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450040" y="1835280"/>
              <a:ext cx="55440" cy="3553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329520" y="1835280"/>
              <a:ext cx="55440" cy="3553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32560" y="4637160"/>
              <a:ext cx="5544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039080" y="1066680"/>
              <a:ext cx="395280" cy="393840"/>
              <a:chOff x="7039080" y="1066680"/>
              <a:chExt cx="395280" cy="393840"/>
            </a:xfrm>
          </p:grpSpPr>
          <p:sp>
            <p:nvSpPr>
              <p:cNvPr id="172" name=""/>
              <p:cNvSpPr/>
              <p:nvPr/>
            </p:nvSpPr>
            <p:spPr>
              <a:xfrm>
                <a:off x="7039080" y="1096920"/>
                <a:ext cx="395280" cy="28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10532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3</a:t>
                </a:r>
                <a:endParaRPr b="0" lang="en-US" sz="2000" spc="-1" strike="noStrike">
                  <a:solidFill>
                    <a:srgbClr val="000000"/>
                  </a:solidFill>
                  <a:latin typeface="Times New Roman"/>
                </a:endParaRPr>
              </a:p>
            </p:txBody>
          </p:sp>
        </p:grpSp>
        <p:sp>
          <p:nvSpPr>
            <p:cNvPr id="174" name=""/>
            <p:cNvSpPr/>
            <p:nvPr/>
          </p:nvSpPr>
          <p:spPr>
            <a:xfrm>
              <a:off x="2166840" y="1982880"/>
              <a:ext cx="572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01840" y="2130480"/>
              <a:ext cx="554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36840" y="2278080"/>
              <a:ext cx="572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573280" y="1982880"/>
              <a:ext cx="5580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8280" y="2130480"/>
              <a:ext cx="554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36840" y="1835280"/>
              <a:ext cx="57240" cy="3553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166840" y="2425680"/>
              <a:ext cx="572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573280" y="2498760"/>
              <a:ext cx="5580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301840" y="2573280"/>
              <a:ext cx="554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708280" y="2646360"/>
              <a:ext cx="5544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cle 3</a:t>
            </a:r>
            <a:endParaRPr b="1" lang="en-US" sz="3200" spc="-1" strike="noStrike">
              <a:solidFill>
                <a:srgbClr val="fafd00"/>
              </a:solidFill>
              <a:latin typeface="Arial"/>
            </a:endParaRPr>
          </a:p>
        </p:txBody>
      </p:sp>
      <p:grpSp>
        <p:nvGrpSpPr>
          <p:cNvPr id="186" name=""/>
          <p:cNvGrpSpPr/>
          <p:nvPr/>
        </p:nvGrpSpPr>
        <p:grpSpPr>
          <a:xfrm>
            <a:off x="1219320" y="914400"/>
            <a:ext cx="7696080" cy="5105520"/>
            <a:chOff x="1219320" y="914400"/>
            <a:chExt cx="7696080" cy="5105520"/>
          </a:xfrm>
        </p:grpSpPr>
        <p:sp>
          <p:nvSpPr>
            <p:cNvPr id="187" name=""/>
            <p:cNvSpPr/>
            <p:nvPr/>
          </p:nvSpPr>
          <p:spPr>
            <a:xfrm>
              <a:off x="1219320" y="914400"/>
              <a:ext cx="7696080" cy="5105520"/>
            </a:xfrm>
            <a:prstGeom prst="rect">
              <a:avLst/>
            </a:prstGeom>
            <a:solidFill>
              <a:srgbClr val="7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612800" y="1219320"/>
              <a:ext cx="6769080" cy="4483080"/>
              <a:chOff x="1612800" y="1219320"/>
              <a:chExt cx="6769080" cy="4483080"/>
            </a:xfrm>
          </p:grpSpPr>
          <p:sp>
            <p:nvSpPr>
              <p:cNvPr id="189" name=""/>
              <p:cNvSpPr/>
              <p:nvPr/>
            </p:nvSpPr>
            <p:spPr>
              <a:xfrm>
                <a:off x="4965840" y="1219320"/>
                <a:ext cx="63360" cy="448308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18520" y="1219320"/>
                <a:ext cx="63360" cy="448308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8128080" y="1428840"/>
                <a:ext cx="139680" cy="3587760"/>
                <a:chOff x="8128080" y="1428840"/>
                <a:chExt cx="139680" cy="3587760"/>
              </a:xfrm>
            </p:grpSpPr>
            <p:sp>
              <p:nvSpPr>
                <p:cNvPr id="192" name=""/>
                <p:cNvSpPr/>
                <p:nvPr/>
              </p:nvSpPr>
              <p:spPr>
                <a:xfrm>
                  <a:off x="8166240" y="4668840"/>
                  <a:ext cx="63360" cy="3477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6200000">
                  <a:off x="6585120" y="2971800"/>
                  <a:ext cx="3225600" cy="139680"/>
                </a:xfrm>
                <a:prstGeom prst="rightArrow">
                  <a:avLst>
                    <a:gd name="adj1" fmla="val 50000"/>
                    <a:gd name="adj2" fmla="val 115892"/>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94" name=""/>
              <p:cNvGrpSpPr/>
              <p:nvPr/>
            </p:nvGrpSpPr>
            <p:grpSpPr>
              <a:xfrm>
                <a:off x="5079960" y="1752480"/>
                <a:ext cx="139680" cy="3797280"/>
                <a:chOff x="5079960" y="1752480"/>
                <a:chExt cx="139680" cy="3797280"/>
              </a:xfrm>
            </p:grpSpPr>
            <p:sp>
              <p:nvSpPr>
                <p:cNvPr id="195" name=""/>
                <p:cNvSpPr/>
                <p:nvPr/>
              </p:nvSpPr>
              <p:spPr>
                <a:xfrm>
                  <a:off x="51181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rot="16200000">
                  <a:off x="3441600" y="3771720"/>
                  <a:ext cx="3416040" cy="139680"/>
                </a:xfrm>
                <a:prstGeom prst="rightArrow">
                  <a:avLst>
                    <a:gd name="adj1" fmla="val 50000"/>
                    <a:gd name="adj2" fmla="val 122734"/>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97" name=""/>
              <p:cNvGrpSpPr/>
              <p:nvPr/>
            </p:nvGrpSpPr>
            <p:grpSpPr>
              <a:xfrm>
                <a:off x="5651640" y="1752480"/>
                <a:ext cx="253800" cy="3797280"/>
                <a:chOff x="5651640" y="1752480"/>
                <a:chExt cx="253800" cy="3797280"/>
              </a:xfrm>
            </p:grpSpPr>
            <p:grpSp>
              <p:nvGrpSpPr>
                <p:cNvPr id="198" name=""/>
                <p:cNvGrpSpPr/>
                <p:nvPr/>
              </p:nvGrpSpPr>
              <p:grpSpPr>
                <a:xfrm>
                  <a:off x="5765760" y="1752480"/>
                  <a:ext cx="139680" cy="3797280"/>
                  <a:chOff x="5765760" y="1752480"/>
                  <a:chExt cx="139680" cy="3797280"/>
                </a:xfrm>
              </p:grpSpPr>
              <p:sp>
                <p:nvSpPr>
                  <p:cNvPr id="199" name=""/>
                  <p:cNvSpPr/>
                  <p:nvPr/>
                </p:nvSpPr>
                <p:spPr>
                  <a:xfrm>
                    <a:off x="58039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rot="16200000">
                    <a:off x="4127400" y="3771720"/>
                    <a:ext cx="3416040" cy="139680"/>
                  </a:xfrm>
                  <a:prstGeom prst="rightArrow">
                    <a:avLst>
                      <a:gd name="adj1" fmla="val 50000"/>
                      <a:gd name="adj2" fmla="val 122734"/>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01" name=""/>
                <p:cNvGrpSpPr/>
                <p:nvPr/>
              </p:nvGrpSpPr>
              <p:grpSpPr>
                <a:xfrm>
                  <a:off x="5651640" y="1752480"/>
                  <a:ext cx="63360" cy="3264120"/>
                  <a:chOff x="5651640" y="1752480"/>
                  <a:chExt cx="63360" cy="3264120"/>
                </a:xfrm>
              </p:grpSpPr>
              <p:sp>
                <p:nvSpPr>
                  <p:cNvPr id="202" name=""/>
                  <p:cNvSpPr/>
                  <p:nvPr/>
                </p:nvSpPr>
                <p:spPr>
                  <a:xfrm>
                    <a:off x="565164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175248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4" name=""/>
              <p:cNvGrpSpPr/>
              <p:nvPr/>
            </p:nvGrpSpPr>
            <p:grpSpPr>
              <a:xfrm>
                <a:off x="7518240" y="1428840"/>
                <a:ext cx="254160" cy="3587760"/>
                <a:chOff x="7518240" y="1428840"/>
                <a:chExt cx="254160" cy="3587760"/>
              </a:xfrm>
            </p:grpSpPr>
            <p:grpSp>
              <p:nvGrpSpPr>
                <p:cNvPr id="205" name=""/>
                <p:cNvGrpSpPr/>
                <p:nvPr/>
              </p:nvGrpSpPr>
              <p:grpSpPr>
                <a:xfrm>
                  <a:off x="7518240" y="1428840"/>
                  <a:ext cx="140040" cy="3587760"/>
                  <a:chOff x="7518240" y="1428840"/>
                  <a:chExt cx="140040" cy="3587760"/>
                </a:xfrm>
              </p:grpSpPr>
              <p:sp>
                <p:nvSpPr>
                  <p:cNvPr id="206" name=""/>
                  <p:cNvSpPr/>
                  <p:nvPr/>
                </p:nvSpPr>
                <p:spPr>
                  <a:xfrm>
                    <a:off x="7556400" y="4668840"/>
                    <a:ext cx="63720" cy="3477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16200000">
                    <a:off x="5975280" y="2971440"/>
                    <a:ext cx="3225600" cy="140040"/>
                  </a:xfrm>
                  <a:prstGeom prst="rightArrow">
                    <a:avLst>
                      <a:gd name="adj1" fmla="val 50000"/>
                      <a:gd name="adj2" fmla="val 115594"/>
                    </a:avLst>
                  </a:prstGeom>
                  <a:solidFill>
                    <a:srgbClr val="008000"/>
                  </a:solidFill>
                  <a:ln w="12600">
                    <a:solidFill>
                      <a:srgbClr val="008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208" name=""/>
                <p:cNvGrpSpPr/>
                <p:nvPr/>
              </p:nvGrpSpPr>
              <p:grpSpPr>
                <a:xfrm>
                  <a:off x="7709040" y="1752480"/>
                  <a:ext cx="63360" cy="3264120"/>
                  <a:chOff x="7709040" y="1752480"/>
                  <a:chExt cx="63360" cy="3264120"/>
                </a:xfrm>
              </p:grpSpPr>
              <p:sp>
                <p:nvSpPr>
                  <p:cNvPr id="209" name=""/>
                  <p:cNvSpPr/>
                  <p:nvPr/>
                </p:nvSpPr>
                <p:spPr>
                  <a:xfrm>
                    <a:off x="770904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709040" y="213372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337440" y="1752480"/>
                <a:ext cx="215640" cy="3264120"/>
                <a:chOff x="6337440" y="1752480"/>
                <a:chExt cx="215640" cy="3264120"/>
              </a:xfrm>
            </p:grpSpPr>
            <p:grpSp>
              <p:nvGrpSpPr>
                <p:cNvPr id="212" name=""/>
                <p:cNvGrpSpPr/>
                <p:nvPr/>
              </p:nvGrpSpPr>
              <p:grpSpPr>
                <a:xfrm>
                  <a:off x="6489720" y="1752480"/>
                  <a:ext cx="63360" cy="3264120"/>
                  <a:chOff x="6489720" y="1752480"/>
                  <a:chExt cx="63360" cy="3264120"/>
                </a:xfrm>
              </p:grpSpPr>
              <p:sp>
                <p:nvSpPr>
                  <p:cNvPr id="213" name=""/>
                  <p:cNvSpPr/>
                  <p:nvPr/>
                </p:nvSpPr>
                <p:spPr>
                  <a:xfrm>
                    <a:off x="64897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489720" y="213372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633744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37440" y="1752480"/>
                  <a:ext cx="6336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7023240" y="1752480"/>
                <a:ext cx="215640" cy="3264120"/>
                <a:chOff x="7023240" y="1752480"/>
                <a:chExt cx="215640" cy="3264120"/>
              </a:xfrm>
            </p:grpSpPr>
            <p:grpSp>
              <p:nvGrpSpPr>
                <p:cNvPr id="218" name=""/>
                <p:cNvGrpSpPr/>
                <p:nvPr/>
              </p:nvGrpSpPr>
              <p:grpSpPr>
                <a:xfrm>
                  <a:off x="7023240" y="1752480"/>
                  <a:ext cx="63360" cy="3264120"/>
                  <a:chOff x="7023240" y="1752480"/>
                  <a:chExt cx="63360" cy="3264120"/>
                </a:xfrm>
              </p:grpSpPr>
              <p:sp>
                <p:nvSpPr>
                  <p:cNvPr id="219" name=""/>
                  <p:cNvSpPr/>
                  <p:nvPr/>
                </p:nvSpPr>
                <p:spPr>
                  <a:xfrm>
                    <a:off x="702324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23240" y="175248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71755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75520" y="2133720"/>
                  <a:ext cx="6336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1612800" y="3092400"/>
                <a:ext cx="444600" cy="393840"/>
                <a:chOff x="1612800" y="3092400"/>
                <a:chExt cx="444600" cy="393840"/>
              </a:xfrm>
            </p:grpSpPr>
            <p:sp>
              <p:nvSpPr>
                <p:cNvPr id="224" name=""/>
                <p:cNvSpPr/>
                <p:nvPr/>
              </p:nvSpPr>
              <p:spPr>
                <a:xfrm>
                  <a:off x="1612800" y="3124080"/>
                  <a:ext cx="44460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686960" y="30924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226" name=""/>
              <p:cNvGrpSpPr/>
              <p:nvPr/>
            </p:nvGrpSpPr>
            <p:grpSpPr>
              <a:xfrm>
                <a:off x="2298600" y="3092400"/>
                <a:ext cx="444600" cy="393840"/>
                <a:chOff x="2298600" y="3092400"/>
                <a:chExt cx="444600" cy="393840"/>
              </a:xfrm>
            </p:grpSpPr>
            <p:sp>
              <p:nvSpPr>
                <p:cNvPr id="227" name=""/>
                <p:cNvSpPr/>
                <p:nvPr/>
              </p:nvSpPr>
              <p:spPr>
                <a:xfrm>
                  <a:off x="2298600" y="3124080"/>
                  <a:ext cx="44460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72760" y="30924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a:t>
                  </a:r>
                  <a:endParaRPr b="0" lang="en-US" sz="2000" spc="-1" strike="noStrike">
                    <a:solidFill>
                      <a:srgbClr val="000000"/>
                    </a:solidFill>
                    <a:latin typeface="Times New Roman"/>
                  </a:endParaRPr>
                </a:p>
              </p:txBody>
            </p:sp>
          </p:grpSp>
          <p:grpSp>
            <p:nvGrpSpPr>
              <p:cNvPr id="229" name=""/>
              <p:cNvGrpSpPr/>
              <p:nvPr/>
            </p:nvGrpSpPr>
            <p:grpSpPr>
              <a:xfrm>
                <a:off x="2984400" y="3092400"/>
                <a:ext cx="444600" cy="393840"/>
                <a:chOff x="2984400" y="3092400"/>
                <a:chExt cx="444600" cy="393840"/>
              </a:xfrm>
            </p:grpSpPr>
            <p:sp>
              <p:nvSpPr>
                <p:cNvPr id="230" name=""/>
                <p:cNvSpPr/>
                <p:nvPr/>
              </p:nvSpPr>
              <p:spPr>
                <a:xfrm>
                  <a:off x="2984400" y="3124080"/>
                  <a:ext cx="44460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058560" y="30924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3</a:t>
                  </a:r>
                  <a:endParaRPr b="0" lang="en-US" sz="2000" spc="-1" strike="noStrike">
                    <a:solidFill>
                      <a:srgbClr val="000000"/>
                    </a:solidFill>
                    <a:latin typeface="Times New Roman"/>
                  </a:endParaRPr>
                </a:p>
              </p:txBody>
            </p:sp>
          </p:grpSp>
          <p:sp>
            <p:nvSpPr>
              <p:cNvPr id="232" name=""/>
              <p:cNvSpPr/>
              <p:nvPr/>
            </p:nvSpPr>
            <p:spPr>
              <a:xfrm>
                <a:off x="3746520" y="3124080"/>
                <a:ext cx="825480" cy="292320"/>
              </a:xfrm>
              <a:prstGeom prst="rightArrow">
                <a:avLst>
                  <a:gd name="adj1" fmla="val 75000"/>
                  <a:gd name="adj2" fmla="val 141247"/>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3"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cle 4</a:t>
            </a:r>
            <a:endParaRPr b="1" lang="en-US" sz="3200" spc="-1" strike="noStrike">
              <a:solidFill>
                <a:srgbClr val="fafd00"/>
              </a:solidFill>
              <a:latin typeface="Arial"/>
            </a:endParaRPr>
          </a:p>
        </p:txBody>
      </p:sp>
      <p:grpSp>
        <p:nvGrpSpPr>
          <p:cNvPr id="235" name=""/>
          <p:cNvGrpSpPr/>
          <p:nvPr/>
        </p:nvGrpSpPr>
        <p:grpSpPr>
          <a:xfrm>
            <a:off x="1143000" y="1066680"/>
            <a:ext cx="8001000" cy="5029200"/>
            <a:chOff x="1143000" y="1066680"/>
            <a:chExt cx="8001000" cy="5029200"/>
          </a:xfrm>
        </p:grpSpPr>
        <p:sp>
          <p:nvSpPr>
            <p:cNvPr id="236" name=""/>
            <p:cNvSpPr/>
            <p:nvPr/>
          </p:nvSpPr>
          <p:spPr>
            <a:xfrm>
              <a:off x="1143000" y="1066680"/>
              <a:ext cx="8001000" cy="5029200"/>
            </a:xfrm>
            <a:prstGeom prst="rect">
              <a:avLst/>
            </a:prstGeom>
            <a:solidFill>
              <a:srgbClr val="7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1231920" y="1219320"/>
              <a:ext cx="7683480" cy="4483080"/>
              <a:chOff x="1231920" y="1219320"/>
              <a:chExt cx="7683480" cy="4483080"/>
            </a:xfrm>
          </p:grpSpPr>
          <p:grpSp>
            <p:nvGrpSpPr>
              <p:cNvPr id="238" name=""/>
              <p:cNvGrpSpPr/>
              <p:nvPr/>
            </p:nvGrpSpPr>
            <p:grpSpPr>
              <a:xfrm>
                <a:off x="4508640" y="1219320"/>
                <a:ext cx="4406760" cy="4483080"/>
                <a:chOff x="4508640" y="1219320"/>
                <a:chExt cx="4406760" cy="4483080"/>
              </a:xfrm>
            </p:grpSpPr>
            <p:sp>
              <p:nvSpPr>
                <p:cNvPr id="239" name=""/>
                <p:cNvSpPr/>
                <p:nvPr/>
              </p:nvSpPr>
              <p:spPr>
                <a:xfrm>
                  <a:off x="4508640" y="1219320"/>
                  <a:ext cx="63360" cy="448308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852040" y="1219320"/>
                  <a:ext cx="63360" cy="448308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8661240" y="1429920"/>
                  <a:ext cx="140040" cy="3586680"/>
                  <a:chOff x="8661240" y="1429920"/>
                  <a:chExt cx="140040" cy="3586680"/>
                </a:xfrm>
              </p:grpSpPr>
              <p:sp>
                <p:nvSpPr>
                  <p:cNvPr id="242" name=""/>
                  <p:cNvSpPr/>
                  <p:nvPr/>
                </p:nvSpPr>
                <p:spPr>
                  <a:xfrm>
                    <a:off x="8699400" y="4668840"/>
                    <a:ext cx="63720" cy="3477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rot="16200000">
                    <a:off x="7118280" y="2972880"/>
                    <a:ext cx="3225960" cy="140040"/>
                  </a:xfrm>
                  <a:prstGeom prst="rightArrow">
                    <a:avLst>
                      <a:gd name="adj1" fmla="val 50000"/>
                      <a:gd name="adj2" fmla="val 115606"/>
                    </a:avLst>
                  </a:prstGeom>
                  <a:solidFill>
                    <a:srgbClr val="008000"/>
                  </a:solidFill>
                  <a:ln w="12600">
                    <a:solidFill>
                      <a:srgbClr val="008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244" name=""/>
                <p:cNvGrpSpPr/>
                <p:nvPr/>
              </p:nvGrpSpPr>
              <p:grpSpPr>
                <a:xfrm>
                  <a:off x="4622760" y="1752480"/>
                  <a:ext cx="139680" cy="3797280"/>
                  <a:chOff x="4622760" y="1752480"/>
                  <a:chExt cx="139680" cy="3797280"/>
                </a:xfrm>
              </p:grpSpPr>
              <p:sp>
                <p:nvSpPr>
                  <p:cNvPr id="245" name=""/>
                  <p:cNvSpPr/>
                  <p:nvPr/>
                </p:nvSpPr>
                <p:spPr>
                  <a:xfrm>
                    <a:off x="46609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rot="16200000">
                    <a:off x="2984400" y="3771720"/>
                    <a:ext cx="3416040" cy="139680"/>
                  </a:xfrm>
                  <a:prstGeom prst="rightArrow">
                    <a:avLst>
                      <a:gd name="adj1" fmla="val 50000"/>
                      <a:gd name="adj2" fmla="val 122734"/>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47" name=""/>
                <p:cNvGrpSpPr/>
                <p:nvPr/>
              </p:nvGrpSpPr>
              <p:grpSpPr>
                <a:xfrm>
                  <a:off x="5041800" y="1752480"/>
                  <a:ext cx="254160" cy="3797280"/>
                  <a:chOff x="5041800" y="1752480"/>
                  <a:chExt cx="254160" cy="3797280"/>
                </a:xfrm>
              </p:grpSpPr>
              <p:grpSp>
                <p:nvGrpSpPr>
                  <p:cNvPr id="248" name=""/>
                  <p:cNvGrpSpPr/>
                  <p:nvPr/>
                </p:nvGrpSpPr>
                <p:grpSpPr>
                  <a:xfrm>
                    <a:off x="5156280" y="1752480"/>
                    <a:ext cx="139680" cy="3797280"/>
                    <a:chOff x="5156280" y="1752480"/>
                    <a:chExt cx="139680" cy="3797280"/>
                  </a:xfrm>
                </p:grpSpPr>
                <p:sp>
                  <p:nvSpPr>
                    <p:cNvPr id="249" name=""/>
                    <p:cNvSpPr/>
                    <p:nvPr/>
                  </p:nvSpPr>
                  <p:spPr>
                    <a:xfrm>
                      <a:off x="519444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rot="16200000">
                      <a:off x="3517920" y="3771720"/>
                      <a:ext cx="3416040" cy="139680"/>
                    </a:xfrm>
                    <a:prstGeom prst="rightArrow">
                      <a:avLst>
                        <a:gd name="adj1" fmla="val 50000"/>
                        <a:gd name="adj2" fmla="val 122734"/>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51" name=""/>
                  <p:cNvGrpSpPr/>
                  <p:nvPr/>
                </p:nvGrpSpPr>
                <p:grpSpPr>
                  <a:xfrm>
                    <a:off x="5041800" y="1752480"/>
                    <a:ext cx="63720" cy="3264120"/>
                    <a:chOff x="5041800" y="1752480"/>
                    <a:chExt cx="63720" cy="3264120"/>
                  </a:xfrm>
                </p:grpSpPr>
                <p:sp>
                  <p:nvSpPr>
                    <p:cNvPr id="252" name=""/>
                    <p:cNvSpPr/>
                    <p:nvPr/>
                  </p:nvSpPr>
                  <p:spPr>
                    <a:xfrm>
                      <a:off x="5041800" y="4648320"/>
                      <a:ext cx="6372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041800" y="1752480"/>
                      <a:ext cx="6372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4" name=""/>
                <p:cNvGrpSpPr/>
                <p:nvPr/>
              </p:nvGrpSpPr>
              <p:grpSpPr>
                <a:xfrm>
                  <a:off x="8051760" y="1429920"/>
                  <a:ext cx="254160" cy="3586680"/>
                  <a:chOff x="8051760" y="1429920"/>
                  <a:chExt cx="254160" cy="3586680"/>
                </a:xfrm>
              </p:grpSpPr>
              <p:grpSp>
                <p:nvGrpSpPr>
                  <p:cNvPr id="255" name=""/>
                  <p:cNvGrpSpPr/>
                  <p:nvPr/>
                </p:nvGrpSpPr>
                <p:grpSpPr>
                  <a:xfrm>
                    <a:off x="8051760" y="1429920"/>
                    <a:ext cx="139680" cy="3586680"/>
                    <a:chOff x="8051760" y="1429920"/>
                    <a:chExt cx="139680" cy="3586680"/>
                  </a:xfrm>
                </p:grpSpPr>
                <p:sp>
                  <p:nvSpPr>
                    <p:cNvPr id="256" name=""/>
                    <p:cNvSpPr/>
                    <p:nvPr/>
                  </p:nvSpPr>
                  <p:spPr>
                    <a:xfrm>
                      <a:off x="8089920" y="4668840"/>
                      <a:ext cx="63360" cy="3477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16200000">
                      <a:off x="6508440" y="2972880"/>
                      <a:ext cx="3225960" cy="139680"/>
                    </a:xfrm>
                    <a:prstGeom prst="rightArrow">
                      <a:avLst>
                        <a:gd name="adj1" fmla="val 50000"/>
                        <a:gd name="adj2" fmla="val 115904"/>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58" name=""/>
                  <p:cNvGrpSpPr/>
                  <p:nvPr/>
                </p:nvGrpSpPr>
                <p:grpSpPr>
                  <a:xfrm>
                    <a:off x="8242200" y="1752480"/>
                    <a:ext cx="63720" cy="3264120"/>
                    <a:chOff x="8242200" y="1752480"/>
                    <a:chExt cx="63720" cy="3264120"/>
                  </a:xfrm>
                </p:grpSpPr>
                <p:sp>
                  <p:nvSpPr>
                    <p:cNvPr id="259" name=""/>
                    <p:cNvSpPr/>
                    <p:nvPr/>
                  </p:nvSpPr>
                  <p:spPr>
                    <a:xfrm>
                      <a:off x="8242200" y="1752480"/>
                      <a:ext cx="6372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242200" y="2133720"/>
                      <a:ext cx="6372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1" name=""/>
                <p:cNvGrpSpPr/>
                <p:nvPr/>
              </p:nvGrpSpPr>
              <p:grpSpPr>
                <a:xfrm>
                  <a:off x="5651640" y="1752480"/>
                  <a:ext cx="215640" cy="3264120"/>
                  <a:chOff x="5651640" y="1752480"/>
                  <a:chExt cx="215640" cy="3264120"/>
                </a:xfrm>
              </p:grpSpPr>
              <p:grpSp>
                <p:nvGrpSpPr>
                  <p:cNvPr id="262" name=""/>
                  <p:cNvGrpSpPr/>
                  <p:nvPr/>
                </p:nvGrpSpPr>
                <p:grpSpPr>
                  <a:xfrm>
                    <a:off x="5803920" y="1752480"/>
                    <a:ext cx="63360" cy="3264120"/>
                    <a:chOff x="5803920" y="1752480"/>
                    <a:chExt cx="63360" cy="3264120"/>
                  </a:xfrm>
                </p:grpSpPr>
                <p:sp>
                  <p:nvSpPr>
                    <p:cNvPr id="263" name=""/>
                    <p:cNvSpPr/>
                    <p:nvPr/>
                  </p:nvSpPr>
                  <p:spPr>
                    <a:xfrm>
                      <a:off x="58039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03920" y="213372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5" name=""/>
                  <p:cNvGrpSpPr/>
                  <p:nvPr/>
                </p:nvGrpSpPr>
                <p:grpSpPr>
                  <a:xfrm>
                    <a:off x="5651640" y="1752480"/>
                    <a:ext cx="63360" cy="3264120"/>
                    <a:chOff x="5651640" y="1752480"/>
                    <a:chExt cx="63360" cy="3264120"/>
                  </a:xfrm>
                </p:grpSpPr>
                <p:sp>
                  <p:nvSpPr>
                    <p:cNvPr id="266" name=""/>
                    <p:cNvSpPr/>
                    <p:nvPr/>
                  </p:nvSpPr>
                  <p:spPr>
                    <a:xfrm>
                      <a:off x="565164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651640" y="1752480"/>
                      <a:ext cx="6336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8" name=""/>
                <p:cNvGrpSpPr/>
                <p:nvPr/>
              </p:nvGrpSpPr>
              <p:grpSpPr>
                <a:xfrm>
                  <a:off x="7480440" y="1752480"/>
                  <a:ext cx="215640" cy="3264120"/>
                  <a:chOff x="7480440" y="1752480"/>
                  <a:chExt cx="215640" cy="3264120"/>
                </a:xfrm>
              </p:grpSpPr>
              <p:sp>
                <p:nvSpPr>
                  <p:cNvPr id="269" name=""/>
                  <p:cNvSpPr/>
                  <p:nvPr/>
                </p:nvSpPr>
                <p:spPr>
                  <a:xfrm>
                    <a:off x="748044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480440" y="175248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7632720" y="1752480"/>
                    <a:ext cx="63360" cy="3264120"/>
                    <a:chOff x="7632720" y="1752480"/>
                    <a:chExt cx="63360" cy="3264120"/>
                  </a:xfrm>
                </p:grpSpPr>
                <p:sp>
                  <p:nvSpPr>
                    <p:cNvPr id="272" name=""/>
                    <p:cNvSpPr/>
                    <p:nvPr/>
                  </p:nvSpPr>
                  <p:spPr>
                    <a:xfrm>
                      <a:off x="76327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632720" y="2133720"/>
                      <a:ext cx="6336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4" name=""/>
                <p:cNvGrpSpPr/>
                <p:nvPr/>
              </p:nvGrpSpPr>
              <p:grpSpPr>
                <a:xfrm>
                  <a:off x="6870600" y="1752480"/>
                  <a:ext cx="216000" cy="3264120"/>
                  <a:chOff x="6870600" y="1752480"/>
                  <a:chExt cx="216000" cy="3264120"/>
                </a:xfrm>
              </p:grpSpPr>
              <p:sp>
                <p:nvSpPr>
                  <p:cNvPr id="275" name=""/>
                  <p:cNvSpPr/>
                  <p:nvPr/>
                </p:nvSpPr>
                <p:spPr>
                  <a:xfrm>
                    <a:off x="702324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3240" y="2133720"/>
                    <a:ext cx="63360" cy="2882880"/>
                  </a:xfrm>
                  <a:prstGeom prst="rect">
                    <a:avLst/>
                  </a:prstGeom>
                  <a:solidFill>
                    <a:srgbClr val="fda4b5"/>
                  </a:solidFill>
                  <a:ln w="1260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6870600" y="1752480"/>
                    <a:ext cx="63720" cy="3264120"/>
                    <a:chOff x="6870600" y="1752480"/>
                    <a:chExt cx="63720" cy="3264120"/>
                  </a:xfrm>
                </p:grpSpPr>
                <p:sp>
                  <p:nvSpPr>
                    <p:cNvPr id="278" name=""/>
                    <p:cNvSpPr/>
                    <p:nvPr/>
                  </p:nvSpPr>
                  <p:spPr>
                    <a:xfrm>
                      <a:off x="6870600" y="4648320"/>
                      <a:ext cx="6372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870600" y="1752480"/>
                      <a:ext cx="6372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0" name=""/>
                <p:cNvGrpSpPr/>
                <p:nvPr/>
              </p:nvGrpSpPr>
              <p:grpSpPr>
                <a:xfrm>
                  <a:off x="6261120" y="1752480"/>
                  <a:ext cx="216000" cy="3264120"/>
                  <a:chOff x="6261120" y="1752480"/>
                  <a:chExt cx="216000" cy="3264120"/>
                </a:xfrm>
              </p:grpSpPr>
              <p:sp>
                <p:nvSpPr>
                  <p:cNvPr id="281" name=""/>
                  <p:cNvSpPr/>
                  <p:nvPr/>
                </p:nvSpPr>
                <p:spPr>
                  <a:xfrm>
                    <a:off x="626112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261120" y="1752480"/>
                    <a:ext cx="63360" cy="2882880"/>
                  </a:xfrm>
                  <a:prstGeom prst="rect">
                    <a:avLst/>
                  </a:prstGeom>
                  <a:solidFill>
                    <a:srgbClr val="fda4b5"/>
                  </a:solidFill>
                  <a:ln w="1260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6413400" y="1752480"/>
                    <a:ext cx="63720" cy="3264120"/>
                    <a:chOff x="6413400" y="1752480"/>
                    <a:chExt cx="63720" cy="3264120"/>
                  </a:xfrm>
                </p:grpSpPr>
                <p:sp>
                  <p:nvSpPr>
                    <p:cNvPr id="284" name=""/>
                    <p:cNvSpPr/>
                    <p:nvPr/>
                  </p:nvSpPr>
                  <p:spPr>
                    <a:xfrm>
                      <a:off x="6413400" y="1752480"/>
                      <a:ext cx="6372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13400" y="2133720"/>
                      <a:ext cx="6372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1231920" y="3016080"/>
                <a:ext cx="3035160" cy="1517400"/>
                <a:chOff x="1231920" y="3016080"/>
                <a:chExt cx="3035160" cy="1517400"/>
              </a:xfrm>
            </p:grpSpPr>
            <p:grpSp>
              <p:nvGrpSpPr>
                <p:cNvPr id="287" name=""/>
                <p:cNvGrpSpPr/>
                <p:nvPr/>
              </p:nvGrpSpPr>
              <p:grpSpPr>
                <a:xfrm>
                  <a:off x="1231920" y="3016080"/>
                  <a:ext cx="444240" cy="393840"/>
                  <a:chOff x="1231920" y="3016080"/>
                  <a:chExt cx="444240" cy="393840"/>
                </a:xfrm>
              </p:grpSpPr>
              <p:sp>
                <p:nvSpPr>
                  <p:cNvPr id="288" name=""/>
                  <p:cNvSpPr/>
                  <p:nvPr/>
                </p:nvSpPr>
                <p:spPr>
                  <a:xfrm>
                    <a:off x="1231920" y="3048120"/>
                    <a:ext cx="4442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06080" y="3016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290" name=""/>
                <p:cNvGrpSpPr/>
                <p:nvPr/>
              </p:nvGrpSpPr>
              <p:grpSpPr>
                <a:xfrm>
                  <a:off x="1917720" y="3016080"/>
                  <a:ext cx="444240" cy="393840"/>
                  <a:chOff x="1917720" y="3016080"/>
                  <a:chExt cx="444240" cy="393840"/>
                </a:xfrm>
              </p:grpSpPr>
              <p:sp>
                <p:nvSpPr>
                  <p:cNvPr id="291" name=""/>
                  <p:cNvSpPr/>
                  <p:nvPr/>
                </p:nvSpPr>
                <p:spPr>
                  <a:xfrm>
                    <a:off x="1917720" y="3048120"/>
                    <a:ext cx="4442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91880" y="3016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a:t>
                    </a:r>
                    <a:endParaRPr b="0" lang="en-US" sz="2000" spc="-1" strike="noStrike">
                      <a:solidFill>
                        <a:srgbClr val="000000"/>
                      </a:solidFill>
                      <a:latin typeface="Times New Roman"/>
                    </a:endParaRPr>
                  </a:p>
                </p:txBody>
              </p:sp>
            </p:grpSp>
            <p:grpSp>
              <p:nvGrpSpPr>
                <p:cNvPr id="293" name=""/>
                <p:cNvGrpSpPr/>
                <p:nvPr/>
              </p:nvGrpSpPr>
              <p:grpSpPr>
                <a:xfrm>
                  <a:off x="2603520" y="3016080"/>
                  <a:ext cx="444240" cy="393840"/>
                  <a:chOff x="2603520" y="3016080"/>
                  <a:chExt cx="444240" cy="393840"/>
                </a:xfrm>
              </p:grpSpPr>
              <p:sp>
                <p:nvSpPr>
                  <p:cNvPr id="294" name=""/>
                  <p:cNvSpPr/>
                  <p:nvPr/>
                </p:nvSpPr>
                <p:spPr>
                  <a:xfrm>
                    <a:off x="2603520" y="3048120"/>
                    <a:ext cx="4442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77680" y="3016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3</a:t>
                    </a:r>
                    <a:endParaRPr b="0" lang="en-US" sz="2000" spc="-1" strike="noStrike">
                      <a:solidFill>
                        <a:srgbClr val="000000"/>
                      </a:solidFill>
                      <a:latin typeface="Times New Roman"/>
                    </a:endParaRPr>
                  </a:p>
                </p:txBody>
              </p:sp>
            </p:grpSp>
            <p:sp>
              <p:nvSpPr>
                <p:cNvPr id="296" name=""/>
                <p:cNvSpPr/>
                <p:nvPr/>
              </p:nvSpPr>
              <p:spPr>
                <a:xfrm>
                  <a:off x="3441600" y="3048120"/>
                  <a:ext cx="825480" cy="291960"/>
                </a:xfrm>
                <a:prstGeom prst="rightArrow">
                  <a:avLst>
                    <a:gd name="adj1" fmla="val 75000"/>
                    <a:gd name="adj2" fmla="val 141421"/>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282680" y="3713040"/>
                  <a:ext cx="29844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6 strands, 8 with both ends identical</a:t>
                  </a:r>
                  <a:endParaRPr b="0" lang="en-US" sz="2400" spc="-1" strike="noStrike">
                    <a:solidFill>
                      <a:srgbClr val="000000"/>
                    </a:solidFill>
                    <a:latin typeface="Times New Roman"/>
                  </a:endParaRPr>
                </a:p>
              </p:txBody>
            </p:sp>
          </p:grpSp>
        </p:grpSp>
      </p:grpSp>
      <p:sp>
        <p:nvSpPr>
          <p:cNvPr id="298"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1:23:02Z</dcterms:created>
  <dc:creator>USER</dc:creator>
  <dc:description/>
  <dc:language>en-US</dc:language>
  <cp:lastModifiedBy>Hdaily</cp:lastModifiedBy>
  <cp:lastPrinted>2000-02-03T09:09:47Z</cp:lastPrinted>
  <dcterms:modified xsi:type="dcterms:W3CDTF">2000-06-07T10:05:46Z</dcterms:modified>
  <cp:revision>2</cp:revision>
  <dc:subject/>
  <dc:title>Polymerase chain reaction (PCR)</dc:title>
</cp:coreProperties>
</file>