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94FC-F34E-457A-92A6-40FBB2F89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4D44-78D5-471C-8895-68C7C9747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1562040" y="533520"/>
            <a:ext cx="3657600" cy="2743200"/>
          </a:xfrm>
          <a:prstGeom prst="rect">
            <a:avLst/>
          </a:prstGeom>
          <a:ln w="0">
            <a:noFill/>
          </a:ln>
        </p:spPr>
      </p:sp>
      <p:sp>
        <p:nvSpPr>
          <p:cNvPr id="1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n the follicle is essential for wool growth.  Without protein metabolism, fibre formation would be impossible (see the module “Basic fibre compos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tein metabolism is much more than simple fibre formation.  It is also includes transport of amino acids from the plasma into the cells, amino acid metabolism and polyamine syn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alanine, proline, glycine, leucine, isoleucine, phenylalanine, valine, cysteine, histidine and arginine are transported across cell membranes.  The site of expression of mRNA for a cysteine transporter in wool follicles is also describ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1083-462E-4DF3-8B36-0113A11F9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562040" y="533520"/>
            <a:ext cx="3657600" cy="2743200"/>
          </a:xfrm>
          <a:prstGeom prst="rect">
            <a:avLst/>
          </a:prstGeom>
          <a:ln w="0">
            <a:noFill/>
          </a:ln>
        </p:spPr>
      </p:sp>
      <p:sp>
        <p:nvSpPr>
          <p:cNvPr id="1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how amino acids enter the cell from the capillaries.  The amino acids must pass through the spaces between the blood vessels and the follicle cells, then through the follicle cell membranes.  Amino acid transport proteins actively carry the amino acids across the membranes.  The transport proteins are specific for groups of amino acids with similar properties, for example neutral, acidic, basic amino acids.  There is competition between amino acids within each grou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A48E-0778-45B3-8A85-95447757E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562040" y="533520"/>
            <a:ext cx="3657600" cy="2743200"/>
          </a:xfrm>
          <a:prstGeom prst="rect">
            <a:avLst/>
          </a:prstGeom>
          <a:ln w="0">
            <a:noFill/>
          </a:ln>
        </p:spPr>
      </p:sp>
      <p:sp>
        <p:nvSpPr>
          <p:cNvPr id="1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describes some of the systems that have been identified in mammalian cells that transport amino acids across membranes.  There are approximately 15 systems that have been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me of the system (e.g. A), the amino acids that the system transports and the distribution of the system is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s with an asterisk are likely to be important for follic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6EE7-2E95-4953-A017-DBA219182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1562040" y="533520"/>
            <a:ext cx="3657600" cy="2743200"/>
          </a:xfrm>
          <a:prstGeom prst="rect">
            <a:avLst/>
          </a:prstGeom>
          <a:ln w="0">
            <a:noFill/>
          </a:ln>
        </p:spPr>
      </p:sp>
      <p:sp>
        <p:nvSpPr>
          <p:cNvPr id="1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how System A transports alanine, proline and glycine into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ergy is used to transport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out of the cell.  This creates an electrochemical gradient.  As the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moves back into the cell, the amino acid is drawn with it.</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McGivan, J. D. (1992).  Techniques used in the study of plasma membrane amino acid transport pp 51-63 In 'Mammalian Amino Acid Transport'  eds M. S. Kliberg and D. Haussinger (Plenum Press New Y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D298-084D-45F7-AB01-A7939970F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562040" y="533520"/>
            <a:ext cx="3657600" cy="2743200"/>
          </a:xfrm>
          <a:prstGeom prst="rect">
            <a:avLst/>
          </a:prstGeom>
          <a:ln w="0">
            <a:noFill/>
          </a:ln>
        </p:spPr>
      </p:sp>
      <p:sp>
        <p:nvSpPr>
          <p:cNvPr id="1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how System L and xc- transport leucine, isoleucine, phenylalanine, valine, cysteine and glutamate into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ergy is used to transport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out of the cell.  This creates an electrochemical gradient.  As the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moves back into the cell, an amino acid is drawn with it.  This causes an accumulation of amino acid 1 in the cell.  AA1 then moves out of the cell along a chemical gradient and the desired amino acid is transported into th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McGivan, J. D. (1992).  Techniques used in the study of plasma membrane amino acid transport pp 51-63 In 'Mammalian Amino Acid Transport'  eds M. S. Kliberg and D. Haussinger (Plenum Press New Y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4456-D331-47C9-A2C7-B31B421DF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562040" y="533520"/>
            <a:ext cx="3657600" cy="2743200"/>
          </a:xfrm>
          <a:prstGeom prst="rect">
            <a:avLst/>
          </a:prstGeom>
          <a:ln w="0">
            <a:noFill/>
          </a:ln>
        </p:spPr>
      </p:sp>
      <p:sp>
        <p:nvSpPr>
          <p:cNvPr id="11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how System y+ transports lysine, histidine and arginine into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ergy is used to transport Na</a:t>
            </a:r>
            <a:r>
              <a:rPr b="0" lang="en-AU" sz="1200" spc="-1" strike="noStrike" baseline="30000">
                <a:solidFill>
                  <a:srgbClr val="000000"/>
                </a:solidFill>
                <a:latin typeface="Times New Roman"/>
              </a:rPr>
              <a:t>+</a:t>
            </a:r>
            <a:r>
              <a:rPr b="0" lang="en-AU" sz="1200" spc="-1" strike="noStrike">
                <a:solidFill>
                  <a:srgbClr val="000000"/>
                </a:solidFill>
                <a:latin typeface="Times New Roman"/>
              </a:rPr>
              <a:t> out of the cell.  This creates an electrochemical gradient.  As lysine, histidine and arginine are cationic amino acids, they move down the electrochemical gradient into the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McGivan, J. D. (1992).  Techniques used in the study of plasma membrane amino acid transport pp 51-63 In 'Mammalian Amino Acid Transport'  eds M. S. Kliberg and D. Haussinger (Plenum Press New Y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05A7-2A47-49F7-8B2F-C216477D8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1562040" y="533520"/>
            <a:ext cx="3657600" cy="2743200"/>
          </a:xfrm>
          <a:prstGeom prst="rect">
            <a:avLst/>
          </a:prstGeom>
          <a:ln w="0">
            <a:noFill/>
          </a:ln>
        </p:spPr>
      </p:sp>
      <p:sp>
        <p:nvSpPr>
          <p:cNvPr id="11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Biology group at The Adelaide University has isolated cDNA encoding a follicle-derived neutral amino acid transporter.  </a:t>
            </a: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has shown the site of expression of the gene to be in the keratogenous zone of the follicle (Fig. 1) in precisely the same region as radiolabelled cysteine is taken incorporated into the follicle/fibre (Fig. 2).  The cDNA for this transporter has been termed CYST1. It remains to be seen whether this is the main cysteine transporter in follicles and whether it differs in form or function from cysteine transporters in other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 Nattrass, G.S. (2000) PhD thesis, The University of Adela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port of Specific Amino Acids</a:t>
            </a:r>
            <a:br>
              <a:rPr sz="3200"/>
            </a:br>
            <a:r>
              <a:rPr b="1" lang="en-AU" sz="3200" spc="-1" strike="noStrike">
                <a:solidFill>
                  <a:srgbClr val="fafd00"/>
                </a:solidFill>
                <a:latin typeface="Arial"/>
              </a:rPr>
              <a:t>into Cell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7160" y="1066680"/>
            <a:ext cx="7926840" cy="4923720"/>
            <a:chOff x="1217160" y="1066680"/>
            <a:chExt cx="7926840" cy="4923720"/>
          </a:xfrm>
        </p:grpSpPr>
        <p:sp>
          <p:nvSpPr>
            <p:cNvPr id="50" name=""/>
            <p:cNvSpPr/>
            <p:nvPr/>
          </p:nvSpPr>
          <p:spPr>
            <a:xfrm>
              <a:off x="5905440" y="2362320"/>
              <a:ext cx="25578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mino aci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ransport proteins</a:t>
              </a:r>
              <a:endParaRPr b="0" lang="en-US" sz="2400" spc="-1" strike="noStrike">
                <a:solidFill>
                  <a:srgbClr val="000000"/>
                </a:solidFill>
                <a:latin typeface="Times New Roman"/>
              </a:endParaRPr>
            </a:p>
          </p:txBody>
        </p:sp>
        <p:sp>
          <p:nvSpPr>
            <p:cNvPr id="51" name=""/>
            <p:cNvSpPr/>
            <p:nvPr/>
          </p:nvSpPr>
          <p:spPr>
            <a:xfrm>
              <a:off x="6713640" y="1676520"/>
              <a:ext cx="970920" cy="137124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38160">
              <a:solidFill>
                <a:srgbClr val="fafd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1296000" y="3276720"/>
              <a:ext cx="7848000" cy="2713680"/>
              <a:chOff x="1296000" y="3276720"/>
              <a:chExt cx="7848000" cy="2713680"/>
            </a:xfrm>
          </p:grpSpPr>
          <p:sp>
            <p:nvSpPr>
              <p:cNvPr id="53" name=""/>
              <p:cNvSpPr/>
              <p:nvPr/>
            </p:nvSpPr>
            <p:spPr>
              <a:xfrm>
                <a:off x="2616120" y="4800600"/>
                <a:ext cx="65278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ysteine</a:t>
                </a:r>
                <a:r>
                  <a:rPr b="0" lang="en-AU" sz="2400" spc="-1" strike="noStrike">
                    <a:solidFill>
                      <a:srgbClr val="ffffff"/>
                    </a:solidFill>
                    <a:latin typeface="Arial"/>
                  </a:rPr>
                  <a:t>	</a:t>
                </a:r>
                <a:r>
                  <a:rPr b="0" lang="en-AU" sz="2400" spc="-1" strike="noStrike">
                    <a:solidFill>
                      <a:srgbClr val="ffffff"/>
                    </a:solidFill>
                    <a:latin typeface="Arial"/>
                  </a:rPr>
                  <a:t>leucine</a:t>
                </a:r>
                <a:r>
                  <a:rPr b="0" lang="en-AU" sz="2400" spc="-1" strike="noStrike">
                    <a:solidFill>
                      <a:srgbClr val="ffffff"/>
                    </a:solidFill>
                    <a:latin typeface="Arial"/>
                  </a:rPr>
                  <a:t>	</a:t>
                </a:r>
                <a:r>
                  <a:rPr b="0" lang="en-AU" sz="2400" spc="-1" strike="noStrike">
                    <a:solidFill>
                      <a:srgbClr val="ffffff"/>
                    </a:solidFill>
                    <a:latin typeface="Arial"/>
                  </a:rPr>
                  <a:t>lysine</a:t>
                </a:r>
                <a:r>
                  <a:rPr b="0" lang="en-AU" sz="2400" spc="-1" strike="noStrike">
                    <a:solidFill>
                      <a:srgbClr val="ffffff"/>
                    </a:solidFill>
                    <a:latin typeface="Arial"/>
                  </a:rPr>
                  <a:t>	</a:t>
                </a:r>
                <a:r>
                  <a:rPr b="0" lang="en-AU" sz="2400" spc="-1" strike="noStrike">
                    <a:solidFill>
                      <a:srgbClr val="ffffff"/>
                    </a:solidFill>
                    <a:latin typeface="Arial"/>
                  </a:rPr>
                  <a:t>     glutamate serine</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cysteine</a:t>
                </a:r>
                <a:r>
                  <a:rPr b="0" lang="en-AU" sz="2400" spc="-1" strike="noStrike">
                    <a:solidFill>
                      <a:srgbClr val="ffffff"/>
                    </a:solidFill>
                    <a:latin typeface="Arial"/>
                  </a:rPr>
                  <a:t>	</a:t>
                </a:r>
                <a:r>
                  <a:rPr b="0" lang="en-AU" sz="2400" spc="-1" strike="noStrike">
                    <a:solidFill>
                      <a:srgbClr val="ffffff"/>
                    </a:solidFill>
                    <a:latin typeface="Arial"/>
                  </a:rPr>
                  <a:t>histidine   cyst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anine</a:t>
                </a:r>
                <a:r>
                  <a:rPr b="0" lang="en-AU" sz="2400" spc="-1" strike="noStrike">
                    <a:solidFill>
                      <a:srgbClr val="ffffff"/>
                    </a:solidFill>
                    <a:latin typeface="Arial"/>
                  </a:rPr>
                  <a:t>	</a:t>
                </a:r>
                <a:r>
                  <a:rPr b="0" lang="en-AU" sz="2400" spc="-1" strike="noStrike">
                    <a:solidFill>
                      <a:srgbClr val="ffffff"/>
                    </a:solidFill>
                    <a:latin typeface="Arial"/>
                  </a:rPr>
                  <a:t>serine</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arginine</a:t>
                </a:r>
                <a:endParaRPr b="0" lang="en-US" sz="2400" spc="-1" strike="noStrike">
                  <a:solidFill>
                    <a:srgbClr val="000000"/>
                  </a:solidFill>
                  <a:latin typeface="Times New Roman"/>
                </a:endParaRPr>
              </a:p>
            </p:txBody>
          </p:sp>
          <p:grpSp>
            <p:nvGrpSpPr>
              <p:cNvPr id="54" name=""/>
              <p:cNvGrpSpPr/>
              <p:nvPr/>
            </p:nvGrpSpPr>
            <p:grpSpPr>
              <a:xfrm>
                <a:off x="1782720" y="3276720"/>
                <a:ext cx="6710400" cy="1509120"/>
                <a:chOff x="1782720" y="3276720"/>
                <a:chExt cx="6710400" cy="1509120"/>
              </a:xfrm>
            </p:grpSpPr>
            <p:sp>
              <p:nvSpPr>
                <p:cNvPr id="55" name=""/>
                <p:cNvSpPr/>
                <p:nvPr/>
              </p:nvSpPr>
              <p:spPr>
                <a:xfrm>
                  <a:off x="7129800" y="3276720"/>
                  <a:ext cx="0" cy="53316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3462120" y="3809880"/>
                  <a:ext cx="4445640" cy="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62480" y="3809880"/>
                  <a:ext cx="0" cy="45720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821680" y="4327560"/>
                  <a:ext cx="567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ASC</a:t>
                  </a:r>
                  <a:r>
                    <a:rPr b="1" lang="en-AU" sz="2400" spc="-1" strike="noStrike">
                      <a:solidFill>
                        <a:srgbClr val="fafd00"/>
                      </a:solidFill>
                      <a:latin typeface="Arial"/>
                    </a:rPr>
                    <a:t>	</a:t>
                  </a:r>
                  <a:r>
                    <a:rPr b="1" lang="en-AU" sz="2400" spc="-1" strike="noStrike">
                      <a:solidFill>
                        <a:srgbClr val="fafd00"/>
                      </a:solidFill>
                      <a:latin typeface="Arial"/>
                    </a:rPr>
                    <a:t>	</a:t>
                  </a:r>
                  <a:r>
                    <a:rPr b="1" lang="en-AU" sz="2400" spc="-1" strike="noStrike">
                      <a:solidFill>
                        <a:srgbClr val="fafd00"/>
                      </a:solidFill>
                      <a:latin typeface="Arial"/>
                    </a:rPr>
                    <a:t>L</a:t>
                  </a:r>
                  <a:r>
                    <a:rPr b="1" lang="en-AU" sz="2400" spc="-1" strike="noStrike">
                      <a:solidFill>
                        <a:srgbClr val="fafd00"/>
                      </a:solidFill>
                      <a:latin typeface="Arial"/>
                    </a:rPr>
                    <a:t>	</a:t>
                  </a:r>
                  <a:r>
                    <a:rPr b="1" lang="en-AU" sz="2400" spc="-1" strike="noStrike">
                      <a:solidFill>
                        <a:srgbClr val="fafd00"/>
                      </a:solidFill>
                      <a:latin typeface="Arial"/>
                    </a:rPr>
                    <a:t>         y</a:t>
                  </a:r>
                  <a:r>
                    <a:rPr b="1" lang="en-AU" sz="2400" spc="-1" strike="noStrike">
                      <a:solidFill>
                        <a:srgbClr val="fafd00"/>
                      </a:solidFill>
                      <a:latin typeface="Arial"/>
                    </a:rPr>
                    <a:t>	</a:t>
                  </a:r>
                  <a:r>
                    <a:rPr b="1" lang="en-AU" sz="2400" spc="-1" strike="noStrike">
                      <a:solidFill>
                        <a:srgbClr val="fafd00"/>
                      </a:solidFill>
                      <a:latin typeface="Arial"/>
                    </a:rPr>
                    <a:t>  xc-</a:t>
                  </a:r>
                  <a:r>
                    <a:rPr b="1" lang="en-AU" sz="2400" spc="-1" strike="noStrike">
                      <a:solidFill>
                        <a:srgbClr val="fafd00"/>
                      </a:solidFill>
                      <a:latin typeface="Arial"/>
                    </a:rPr>
                    <a:t>	</a:t>
                  </a:r>
                  <a:endParaRPr b="0" lang="en-US" sz="2400" spc="-1" strike="noStrike">
                    <a:solidFill>
                      <a:srgbClr val="000000"/>
                    </a:solidFill>
                    <a:latin typeface="Times New Roman"/>
                  </a:endParaRPr>
                </a:p>
              </p:txBody>
            </p:sp>
            <p:sp>
              <p:nvSpPr>
                <p:cNvPr id="59" name=""/>
                <p:cNvSpPr/>
                <p:nvPr/>
              </p:nvSpPr>
              <p:spPr>
                <a:xfrm>
                  <a:off x="4782240" y="3809880"/>
                  <a:ext cx="0" cy="53352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518880" y="3809880"/>
                  <a:ext cx="0" cy="53352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908120" y="3809880"/>
                  <a:ext cx="0" cy="53352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2003400" y="3809880"/>
                  <a:ext cx="1458360" cy="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03760" y="3809880"/>
                  <a:ext cx="0" cy="457200"/>
                </a:xfrm>
                <a:prstGeom prst="line">
                  <a:avLst/>
                </a:prstGeom>
                <a:ln w="38160">
                  <a:solidFill>
                    <a:srgbClr val="f6bf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782720" y="4327560"/>
                  <a:ext cx="404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A</a:t>
                  </a:r>
                  <a:endParaRPr b="0" lang="en-US" sz="2400" spc="-1" strike="noStrike">
                    <a:solidFill>
                      <a:srgbClr val="000000"/>
                    </a:solidFill>
                    <a:latin typeface="Times New Roman"/>
                  </a:endParaRPr>
                </a:p>
              </p:txBody>
            </p:sp>
          </p:grpSp>
          <p:sp>
            <p:nvSpPr>
              <p:cNvPr id="65" name=""/>
              <p:cNvSpPr/>
              <p:nvPr/>
            </p:nvSpPr>
            <p:spPr>
              <a:xfrm>
                <a:off x="1296000" y="4800600"/>
                <a:ext cx="13021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yste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an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rine</a:t>
                </a:r>
                <a:endParaRPr b="0" lang="en-US" sz="2400" spc="-1" strike="noStrike">
                  <a:solidFill>
                    <a:srgbClr val="000000"/>
                  </a:solidFill>
                  <a:latin typeface="Times New Roman"/>
                </a:endParaRPr>
              </a:p>
            </p:txBody>
          </p:sp>
        </p:grpSp>
        <p:grpSp>
          <p:nvGrpSpPr>
            <p:cNvPr id="66" name=""/>
            <p:cNvGrpSpPr/>
            <p:nvPr/>
          </p:nvGrpSpPr>
          <p:grpSpPr>
            <a:xfrm>
              <a:off x="1217160" y="1066680"/>
              <a:ext cx="7876080" cy="702360"/>
              <a:chOff x="1217160" y="1066680"/>
              <a:chExt cx="7876080" cy="702360"/>
            </a:xfrm>
          </p:grpSpPr>
          <p:sp>
            <p:nvSpPr>
              <p:cNvPr id="67" name=""/>
              <p:cNvSpPr/>
              <p:nvPr/>
            </p:nvSpPr>
            <p:spPr>
              <a:xfrm>
                <a:off x="1217160" y="121932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pillaries</a:t>
                </a:r>
                <a:endParaRPr b="0" lang="en-US" sz="2000" spc="-1" strike="noStrike">
                  <a:solidFill>
                    <a:srgbClr val="000000"/>
                  </a:solidFill>
                  <a:latin typeface="Times New Roman"/>
                </a:endParaRPr>
              </a:p>
            </p:txBody>
          </p:sp>
          <p:sp>
            <p:nvSpPr>
              <p:cNvPr id="68" name=""/>
              <p:cNvSpPr/>
              <p:nvPr/>
            </p:nvSpPr>
            <p:spPr>
              <a:xfrm>
                <a:off x="7467840" y="1219320"/>
                <a:ext cx="162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llicle cells</a:t>
                </a:r>
                <a:endParaRPr b="0" lang="en-US" sz="2000" spc="-1" strike="noStrike">
                  <a:solidFill>
                    <a:srgbClr val="000000"/>
                  </a:solidFill>
                  <a:latin typeface="Times New Roman"/>
                </a:endParaRPr>
              </a:p>
            </p:txBody>
          </p:sp>
          <p:sp>
            <p:nvSpPr>
              <p:cNvPr id="69" name=""/>
              <p:cNvSpPr/>
              <p:nvPr/>
            </p:nvSpPr>
            <p:spPr>
              <a:xfrm>
                <a:off x="3602520" y="1066680"/>
                <a:ext cx="26996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luid spa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rrounding follicles</a:t>
                </a:r>
                <a:endParaRPr b="0" lang="en-US" sz="2000" spc="-1" strike="noStrike">
                  <a:solidFill>
                    <a:srgbClr val="000000"/>
                  </a:solidFill>
                  <a:latin typeface="Times New Roman"/>
                </a:endParaRPr>
              </a:p>
            </p:txBody>
          </p:sp>
          <p:sp>
            <p:nvSpPr>
              <p:cNvPr id="70" name=""/>
              <p:cNvSpPr/>
              <p:nvPr/>
            </p:nvSpPr>
            <p:spPr>
              <a:xfrm>
                <a:off x="6296040" y="1295280"/>
                <a:ext cx="1098360" cy="308160"/>
              </a:xfrm>
              <a:prstGeom prst="rightArrow">
                <a:avLst>
                  <a:gd name="adj1" fmla="val 49481"/>
                  <a:gd name="adj2" fmla="val 12897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12880" y="1295280"/>
                <a:ext cx="1100160" cy="308160"/>
              </a:xfrm>
              <a:prstGeom prst="rightArrow">
                <a:avLst>
                  <a:gd name="adj1" fmla="val 49481"/>
                  <a:gd name="adj2" fmla="val 12918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mino Acids and Wool Growth</a:t>
            </a:r>
            <a:endParaRPr b="1" lang="en-US" sz="3200" spc="-1" strike="noStrike">
              <a:solidFill>
                <a:srgbClr val="fafd00"/>
              </a:solidFill>
              <a:latin typeface="Arial"/>
            </a:endParaRPr>
          </a:p>
        </p:txBody>
      </p:sp>
      <p:sp>
        <p:nvSpPr>
          <p:cNvPr id="73"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1015920" y="2590920"/>
            <a:ext cx="79758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p:nvPr>
        </p:nvSpPr>
        <p:spPr>
          <a:xfrm>
            <a:off x="1371600" y="1447920"/>
            <a:ext cx="7772400" cy="45720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x. 15 different system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System</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amino acid</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distribution</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ala, pro, gly</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widesprea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SC</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ala, ser, cys</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widesprea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leu, ile, phe, val</a:t>
            </a:r>
            <a:r>
              <a:rPr b="1" lang="en-AU" sz="2000" spc="-1" strike="noStrike">
                <a:solidFill>
                  <a:srgbClr val="ffffff"/>
                </a:solidFill>
                <a:latin typeface="Arial"/>
              </a:rPr>
              <a:t>	</a:t>
            </a:r>
            <a:r>
              <a:rPr b="1" lang="en-AU" sz="2000" spc="-1" strike="noStrike">
                <a:solidFill>
                  <a:srgbClr val="ffffff"/>
                </a:solidFill>
                <a:latin typeface="Arial"/>
              </a:rPr>
              <a:t>widesprea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xc-</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cys, glu</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fibroblast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lys, his, ar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widespread</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gln, his, arg</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hepatocyte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y</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gly</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RBC, brain....</a:t>
            </a:r>
            <a:endParaRPr b="1" lang="en-US" sz="2000" spc="-1" strike="noStrike">
              <a:solidFill>
                <a:srgbClr val="ffffff"/>
              </a:solidFill>
              <a:latin typeface="Arial"/>
            </a:endParaRPr>
          </a:p>
        </p:txBody>
      </p:sp>
      <p:sp>
        <p:nvSpPr>
          <p:cNvPr id="76"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77" name="PlaceHolder 2"/>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mino acid transport systems in mammalian cell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1449360" y="5486400"/>
            <a:ext cx="7466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lectrochemical gradient of Na</a:t>
            </a:r>
            <a:r>
              <a:rPr b="1" lang="en-AU" sz="2000" spc="-1" strike="noStrike" baseline="30000">
                <a:solidFill>
                  <a:srgbClr val="ffffff"/>
                </a:solidFill>
                <a:latin typeface="Arial"/>
              </a:rPr>
              <a:t>+</a:t>
            </a:r>
            <a:r>
              <a:rPr b="1" lang="en-AU" sz="2000" spc="-1" strike="noStrike">
                <a:solidFill>
                  <a:srgbClr val="ffffff"/>
                </a:solidFill>
                <a:latin typeface="Arial"/>
              </a:rPr>
              <a:t>.  Backflux of Na</a:t>
            </a:r>
            <a:r>
              <a:rPr b="1" lang="en-AU" sz="2000" spc="-1" strike="noStrike" baseline="30000">
                <a:solidFill>
                  <a:srgbClr val="ffffff"/>
                </a:solidFill>
                <a:latin typeface="Arial"/>
              </a:rPr>
              <a:t>+</a:t>
            </a:r>
            <a:r>
              <a:rPr b="1" lang="en-AU" sz="2000" spc="-1" strike="noStrike">
                <a:solidFill>
                  <a:srgbClr val="ffffff"/>
                </a:solidFill>
                <a:latin typeface="Arial"/>
              </a:rPr>
              <a:t> with inward movement of amino acid.</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stem A (ala, pro, gly)</a:t>
            </a:r>
            <a:endParaRPr b="1" lang="en-US" sz="3200" spc="-1" strike="noStrike">
              <a:solidFill>
                <a:srgbClr val="fafd00"/>
              </a:solidFill>
              <a:latin typeface="Arial"/>
            </a:endParaRPr>
          </a:p>
        </p:txBody>
      </p:sp>
      <p:grpSp>
        <p:nvGrpSpPr>
          <p:cNvPr id="80" name=""/>
          <p:cNvGrpSpPr/>
          <p:nvPr/>
        </p:nvGrpSpPr>
        <p:grpSpPr>
          <a:xfrm>
            <a:off x="1392840" y="1143000"/>
            <a:ext cx="7598520" cy="4203000"/>
            <a:chOff x="1392840" y="1143000"/>
            <a:chExt cx="7598520" cy="4203000"/>
          </a:xfrm>
        </p:grpSpPr>
        <p:grpSp>
          <p:nvGrpSpPr>
            <p:cNvPr id="81" name=""/>
            <p:cNvGrpSpPr/>
            <p:nvPr/>
          </p:nvGrpSpPr>
          <p:grpSpPr>
            <a:xfrm>
              <a:off x="1392840" y="1143000"/>
              <a:ext cx="1763640" cy="4203000"/>
              <a:chOff x="1392840" y="1143000"/>
              <a:chExt cx="1763640" cy="4203000"/>
            </a:xfrm>
          </p:grpSpPr>
          <p:sp>
            <p:nvSpPr>
              <p:cNvPr id="82" name=""/>
              <p:cNvSpPr/>
              <p:nvPr/>
            </p:nvSpPr>
            <p:spPr>
              <a:xfrm>
                <a:off x="2323800" y="2139840"/>
                <a:ext cx="0" cy="228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19640" y="1523880"/>
                <a:ext cx="119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  +</a:t>
                </a:r>
                <a:endParaRPr b="0" lang="en-US" sz="2000" spc="-1" strike="noStrike">
                  <a:solidFill>
                    <a:srgbClr val="000000"/>
                  </a:solidFill>
                  <a:latin typeface="Times New Roman"/>
                </a:endParaRPr>
              </a:p>
            </p:txBody>
          </p:sp>
          <p:sp>
            <p:nvSpPr>
              <p:cNvPr id="84" name=""/>
              <p:cNvSpPr/>
              <p:nvPr/>
            </p:nvSpPr>
            <p:spPr>
              <a:xfrm>
                <a:off x="1393200" y="19051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85" name=""/>
              <p:cNvSpPr/>
              <p:nvPr/>
            </p:nvSpPr>
            <p:spPr>
              <a:xfrm>
                <a:off x="2536200" y="190512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86" name=""/>
              <p:cNvSpPr/>
              <p:nvPr/>
            </p:nvSpPr>
            <p:spPr>
              <a:xfrm>
                <a:off x="2002680" y="114300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a:t>
                </a:r>
                <a:endParaRPr b="0" lang="en-US" sz="2000" spc="-1" strike="noStrike">
                  <a:solidFill>
                    <a:srgbClr val="000000"/>
                  </a:solidFill>
                  <a:latin typeface="Times New Roman"/>
                </a:endParaRPr>
              </a:p>
            </p:txBody>
          </p:sp>
          <p:sp>
            <p:nvSpPr>
              <p:cNvPr id="87" name=""/>
              <p:cNvSpPr/>
              <p:nvPr/>
            </p:nvSpPr>
            <p:spPr>
              <a:xfrm>
                <a:off x="1392840" y="4403880"/>
                <a:ext cx="154836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   -</a:t>
                </a:r>
                <a:endParaRPr b="0" lang="en-US" sz="2800" spc="-1" strike="noStrike">
                  <a:solidFill>
                    <a:srgbClr val="000000"/>
                  </a:solidFill>
                  <a:latin typeface="Times New Roman"/>
                </a:endParaRPr>
              </a:p>
            </p:txBody>
          </p:sp>
        </p:grpSp>
        <p:grpSp>
          <p:nvGrpSpPr>
            <p:cNvPr id="88" name=""/>
            <p:cNvGrpSpPr/>
            <p:nvPr/>
          </p:nvGrpSpPr>
          <p:grpSpPr>
            <a:xfrm>
              <a:off x="3133440" y="1752480"/>
              <a:ext cx="5857920" cy="3502800"/>
              <a:chOff x="3133440" y="1752480"/>
              <a:chExt cx="5857920" cy="3502800"/>
            </a:xfrm>
          </p:grpSpPr>
          <p:sp>
            <p:nvSpPr>
              <p:cNvPr id="89" name=""/>
              <p:cNvSpPr/>
              <p:nvPr/>
            </p:nvSpPr>
            <p:spPr>
              <a:xfrm>
                <a:off x="3468600" y="1752480"/>
                <a:ext cx="12031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2K</a:t>
                </a:r>
                <a:r>
                  <a:rPr b="1" lang="en-AU" sz="2400" spc="-1" strike="noStrike" baseline="30000">
                    <a:solidFill>
                      <a:srgbClr val="ffffcc"/>
                    </a:solidFill>
                    <a:latin typeface="Arial"/>
                  </a:rPr>
                  <a:t>+</a:t>
                </a:r>
                <a:r>
                  <a:rPr b="1" lang="en-AU" sz="2400" spc="-1" strike="noStrike" baseline="-25000">
                    <a:solidFill>
                      <a:srgbClr val="ffffcc"/>
                    </a:solidFill>
                    <a:latin typeface="Arial"/>
                  </a:rPr>
                  <a:t>out</a:t>
                </a:r>
                <a:endParaRPr b="0" lang="en-US" sz="2400" spc="-1" strike="noStrike">
                  <a:solidFill>
                    <a:srgbClr val="000000"/>
                  </a:solidFill>
                  <a:latin typeface="Times New Roman"/>
                </a:endParaRPr>
              </a:p>
            </p:txBody>
          </p:sp>
          <p:sp>
            <p:nvSpPr>
              <p:cNvPr id="90" name=""/>
              <p:cNvSpPr/>
              <p:nvPr/>
            </p:nvSpPr>
            <p:spPr>
              <a:xfrm>
                <a:off x="4687560" y="4800600"/>
                <a:ext cx="14241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3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91" name=""/>
              <p:cNvSpPr/>
              <p:nvPr/>
            </p:nvSpPr>
            <p:spPr>
              <a:xfrm>
                <a:off x="5814720" y="1782720"/>
                <a:ext cx="1087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92" name=""/>
              <p:cNvSpPr/>
              <p:nvPr/>
            </p:nvSpPr>
            <p:spPr>
              <a:xfrm>
                <a:off x="5814720" y="4800600"/>
                <a:ext cx="809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93" name=""/>
              <p:cNvSpPr/>
              <p:nvPr/>
            </p:nvSpPr>
            <p:spPr>
              <a:xfrm>
                <a:off x="6653160" y="4800600"/>
                <a:ext cx="2338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mino acid</a:t>
                </a:r>
                <a:endParaRPr b="0" lang="en-US" sz="2400" spc="-1" strike="noStrike">
                  <a:solidFill>
                    <a:srgbClr val="000000"/>
                  </a:solidFill>
                  <a:latin typeface="Times New Roman"/>
                </a:endParaRPr>
              </a:p>
            </p:txBody>
          </p:sp>
          <p:sp>
            <p:nvSpPr>
              <p:cNvPr id="94" name=""/>
              <p:cNvSpPr/>
              <p:nvPr/>
            </p:nvSpPr>
            <p:spPr>
              <a:xfrm>
                <a:off x="6653160" y="1752480"/>
                <a:ext cx="1981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mino acid</a:t>
                </a:r>
                <a:endParaRPr b="0" lang="en-US" sz="2400" spc="-1" strike="noStrike">
                  <a:solidFill>
                    <a:srgbClr val="000000"/>
                  </a:solidFill>
                  <a:latin typeface="Times New Roman"/>
                </a:endParaRPr>
              </a:p>
            </p:txBody>
          </p:sp>
          <p:grpSp>
            <p:nvGrpSpPr>
              <p:cNvPr id="95" name=""/>
              <p:cNvGrpSpPr/>
              <p:nvPr/>
            </p:nvGrpSpPr>
            <p:grpSpPr>
              <a:xfrm>
                <a:off x="6554520" y="2089080"/>
                <a:ext cx="456480" cy="2655720"/>
                <a:chOff x="6554520" y="2089080"/>
                <a:chExt cx="456480" cy="2655720"/>
              </a:xfrm>
            </p:grpSpPr>
            <p:sp>
              <p:nvSpPr>
                <p:cNvPr id="96" name=""/>
                <p:cNvSpPr/>
                <p:nvPr/>
              </p:nvSpPr>
              <p:spPr>
                <a:xfrm>
                  <a:off x="6554520" y="2089080"/>
                  <a:ext cx="44388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67120" y="224316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noFill/>
                <a:ln cap="rnd" w="5076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6021720" y="2089080"/>
                <a:ext cx="454320" cy="2655720"/>
                <a:chOff x="6021720" y="2089080"/>
                <a:chExt cx="454320" cy="2655720"/>
              </a:xfrm>
            </p:grpSpPr>
            <p:sp>
              <p:nvSpPr>
                <p:cNvPr id="99" name=""/>
                <p:cNvSpPr/>
                <p:nvPr/>
              </p:nvSpPr>
              <p:spPr>
                <a:xfrm>
                  <a:off x="6032160" y="2089080"/>
                  <a:ext cx="44388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21720" y="2243160"/>
                  <a:ext cx="44352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5094000" y="2089080"/>
                <a:ext cx="456840" cy="2655720"/>
                <a:chOff x="5094000" y="2089080"/>
                <a:chExt cx="456840" cy="2655720"/>
              </a:xfrm>
            </p:grpSpPr>
            <p:sp>
              <p:nvSpPr>
                <p:cNvPr id="102" name=""/>
                <p:cNvSpPr/>
                <p:nvPr/>
              </p:nvSpPr>
              <p:spPr>
                <a:xfrm>
                  <a:off x="5094000" y="2089080"/>
                  <a:ext cx="44460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6960" y="224316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3875400" y="2089080"/>
                <a:ext cx="454320" cy="2655720"/>
                <a:chOff x="3875400" y="2089080"/>
                <a:chExt cx="454320" cy="2655720"/>
              </a:xfrm>
            </p:grpSpPr>
            <p:sp>
              <p:nvSpPr>
                <p:cNvPr id="105" name=""/>
                <p:cNvSpPr/>
                <p:nvPr/>
              </p:nvSpPr>
              <p:spPr>
                <a:xfrm>
                  <a:off x="3885840" y="2089080"/>
                  <a:ext cx="44388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75400" y="2243160"/>
                  <a:ext cx="44352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3549600" y="2997360"/>
                <a:ext cx="3913200" cy="953280"/>
                <a:chOff x="3549600" y="2997360"/>
                <a:chExt cx="3913200" cy="953280"/>
              </a:xfrm>
            </p:grpSpPr>
            <p:sp>
              <p:nvSpPr>
                <p:cNvPr id="108" name=""/>
                <p:cNvSpPr/>
                <p:nvPr/>
              </p:nvSpPr>
              <p:spPr>
                <a:xfrm>
                  <a:off x="673884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3848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3884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736680" y="299736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37040" y="3073320"/>
                  <a:ext cx="10188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3" name=""/>
                <p:cNvSpPr/>
                <p:nvPr/>
              </p:nvSpPr>
              <p:spPr>
                <a:xfrm>
                  <a:off x="6852960" y="329076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840720" y="329076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2960" y="299736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3892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515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18" name=""/>
                <p:cNvSpPr/>
                <p:nvPr/>
              </p:nvSpPr>
              <p:spPr>
                <a:xfrm>
                  <a:off x="6954840" y="329076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942240" y="329076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954840" y="299736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9404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9530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3" name=""/>
                <p:cNvSpPr/>
                <p:nvPr/>
              </p:nvSpPr>
              <p:spPr>
                <a:xfrm>
                  <a:off x="705636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04340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563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4196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0545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8" name=""/>
                <p:cNvSpPr/>
                <p:nvPr/>
              </p:nvSpPr>
              <p:spPr>
                <a:xfrm>
                  <a:off x="705636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04340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563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04196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545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3" name=""/>
                <p:cNvSpPr/>
                <p:nvPr/>
              </p:nvSpPr>
              <p:spPr>
                <a:xfrm>
                  <a:off x="725940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259400" y="329076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25940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257600" y="299736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2579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8" name=""/>
                <p:cNvSpPr/>
                <p:nvPr/>
              </p:nvSpPr>
              <p:spPr>
                <a:xfrm>
                  <a:off x="715788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157880" y="329076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1578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156440" y="299736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156440" y="3073320"/>
                  <a:ext cx="8856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43" name=""/>
                <p:cNvSpPr/>
                <p:nvPr/>
              </p:nvSpPr>
              <p:spPr>
                <a:xfrm>
                  <a:off x="7360920" y="329076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60920" y="299736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7368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773680" y="327816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736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72240" y="299736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7188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0" name=""/>
                <p:cNvSpPr/>
                <p:nvPr/>
              </p:nvSpPr>
              <p:spPr>
                <a:xfrm>
                  <a:off x="587520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75560" y="327816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7520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7376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73400" y="3073320"/>
                  <a:ext cx="10188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5" name=""/>
                <p:cNvSpPr/>
                <p:nvPr/>
              </p:nvSpPr>
              <p:spPr>
                <a:xfrm>
                  <a:off x="5989320" y="327816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77080" y="327816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89320" y="299736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97528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98788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0" name=""/>
                <p:cNvSpPr/>
                <p:nvPr/>
              </p:nvSpPr>
              <p:spPr>
                <a:xfrm>
                  <a:off x="609120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7824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9120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7680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8940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5" name=""/>
                <p:cNvSpPr/>
                <p:nvPr/>
              </p:nvSpPr>
              <p:spPr>
                <a:xfrm>
                  <a:off x="619272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17976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9272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17832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1909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0" name=""/>
                <p:cNvSpPr/>
                <p:nvPr/>
              </p:nvSpPr>
              <p:spPr>
                <a:xfrm>
                  <a:off x="629424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294240" y="327816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9424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92440" y="299736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9280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5" name=""/>
                <p:cNvSpPr/>
                <p:nvPr/>
              </p:nvSpPr>
              <p:spPr>
                <a:xfrm>
                  <a:off x="574812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340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4812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73588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74668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0" name=""/>
                <p:cNvSpPr/>
                <p:nvPr/>
              </p:nvSpPr>
              <p:spPr>
                <a:xfrm>
                  <a:off x="584964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47840" y="339120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84964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49640" y="36846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84820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5" name=""/>
                <p:cNvSpPr/>
                <p:nvPr/>
              </p:nvSpPr>
              <p:spPr>
                <a:xfrm>
                  <a:off x="595152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94972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95152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5116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949720" y="374652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0" name=""/>
                <p:cNvSpPr/>
                <p:nvPr/>
              </p:nvSpPr>
              <p:spPr>
                <a:xfrm>
                  <a:off x="606564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0880" y="339120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065640" y="36846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5268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6420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5" name=""/>
                <p:cNvSpPr/>
                <p:nvPr/>
              </p:nvSpPr>
              <p:spPr>
                <a:xfrm>
                  <a:off x="616716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15312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167160" y="36846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15492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6572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0" name=""/>
                <p:cNvSpPr/>
                <p:nvPr/>
              </p:nvSpPr>
              <p:spPr>
                <a:xfrm>
                  <a:off x="626904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25464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26904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25644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26724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5" name=""/>
                <p:cNvSpPr/>
                <p:nvPr/>
              </p:nvSpPr>
              <p:spPr>
                <a:xfrm>
                  <a:off x="67132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711480" y="339120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71328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13280" y="36720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71184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0" name=""/>
                <p:cNvSpPr/>
                <p:nvPr/>
              </p:nvSpPr>
              <p:spPr>
                <a:xfrm>
                  <a:off x="6814800" y="339120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13720" y="33912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814800" y="367200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15520" y="367200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1336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5" name=""/>
                <p:cNvSpPr/>
                <p:nvPr/>
              </p:nvSpPr>
              <p:spPr>
                <a:xfrm>
                  <a:off x="69166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9148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91668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916320" y="36720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914880" y="3733920"/>
                  <a:ext cx="1015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0" name=""/>
                <p:cNvSpPr/>
                <p:nvPr/>
              </p:nvSpPr>
              <p:spPr>
                <a:xfrm>
                  <a:off x="703080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0167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030800" y="36720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01856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02936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703080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0167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030800" y="36720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01856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02936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0" name=""/>
                <p:cNvSpPr/>
                <p:nvPr/>
              </p:nvSpPr>
              <p:spPr>
                <a:xfrm>
                  <a:off x="723420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21980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23420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221240" y="36720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23240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35" name=""/>
                <p:cNvSpPr/>
                <p:nvPr/>
              </p:nvSpPr>
              <p:spPr>
                <a:xfrm>
                  <a:off x="7132320" y="339120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182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132320" y="367200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2008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13088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0" name=""/>
                <p:cNvSpPr/>
                <p:nvPr/>
              </p:nvSpPr>
              <p:spPr>
                <a:xfrm>
                  <a:off x="733572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334280" y="33912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33572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335720" y="36720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3392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45" name=""/>
                <p:cNvSpPr/>
                <p:nvPr/>
              </p:nvSpPr>
              <p:spPr>
                <a:xfrm>
                  <a:off x="6349680" y="3143160"/>
                  <a:ext cx="317520" cy="660600"/>
                </a:xfrm>
                <a:custGeom>
                  <a:avLst/>
                  <a:gdLst>
                    <a:gd name="textAreaLeft" fmla="*/ 46440 w 317520"/>
                    <a:gd name="textAreaRight" fmla="*/ 271080 w 317520"/>
                    <a:gd name="textAreaTop" fmla="*/ 46440 h 660600"/>
                    <a:gd name="textAreaBottom" fmla="*/ 614160 h 660600"/>
                  </a:gdLst>
                  <a:ahLst/>
                  <a:rect l="textAreaLeft" t="textAreaTop" r="textAreaRight" b="textAreaBottom"/>
                  <a:pathLst>
                    <a:path w="21600" h="44912">
                      <a:moveTo>
                        <a:pt x="10799" y="0"/>
                      </a:moveTo>
                      <a:arcTo wR="10799" hR="10799" stAng="16200000" swAng="-5400000"/>
                      <a:lnTo>
                        <a:pt x="0" y="34113"/>
                      </a:lnTo>
                      <a:arcTo wR="10799" hR="10799" stAng="10800000" swAng="-5400000"/>
                      <a:lnTo>
                        <a:pt x="10801" y="44912"/>
                      </a:lnTo>
                      <a:arcTo wR="10799" hR="10799" stAng="5400000" swAng="-5400000"/>
                      <a:lnTo>
                        <a:pt x="21600" y="10799"/>
                      </a:lnTo>
                      <a:arcTo wR="10799" hR="10799"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6552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5256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66552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5112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6637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1" name=""/>
                <p:cNvSpPr/>
                <p:nvPr/>
              </p:nvSpPr>
              <p:spPr>
                <a:xfrm>
                  <a:off x="3551400" y="329076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4960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76704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75408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6704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526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652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8" name=""/>
                <p:cNvSpPr/>
                <p:nvPr/>
              </p:nvSpPr>
              <p:spPr>
                <a:xfrm>
                  <a:off x="386856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868560" y="329076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8685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66760" y="299736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8671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3970080" y="329076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70440" y="329076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700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86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968640" y="307332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8" name=""/>
                <p:cNvSpPr/>
                <p:nvPr/>
              </p:nvSpPr>
              <p:spPr>
                <a:xfrm>
                  <a:off x="4084560" y="329076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07160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084560" y="299736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7016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0827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3" name=""/>
                <p:cNvSpPr/>
                <p:nvPr/>
              </p:nvSpPr>
              <p:spPr>
                <a:xfrm>
                  <a:off x="4186080" y="329076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73120" y="329076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186080" y="299736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17168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84640" y="3073320"/>
                  <a:ext cx="8856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8" name=""/>
                <p:cNvSpPr/>
                <p:nvPr/>
              </p:nvSpPr>
              <p:spPr>
                <a:xfrm>
                  <a:off x="3639960" y="339120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25200" y="339120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39960" y="367200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627000" y="36720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3852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3" name=""/>
                <p:cNvSpPr/>
                <p:nvPr/>
              </p:nvSpPr>
              <p:spPr>
                <a:xfrm>
                  <a:off x="37414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2744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74148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72924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74004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88" name=""/>
                <p:cNvSpPr/>
                <p:nvPr/>
              </p:nvSpPr>
              <p:spPr>
                <a:xfrm>
                  <a:off x="3843000" y="339120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289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843000" y="367200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3076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4156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3" name=""/>
                <p:cNvSpPr/>
                <p:nvPr/>
              </p:nvSpPr>
              <p:spPr>
                <a:xfrm>
                  <a:off x="39448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943440" y="33912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94488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44880" y="36720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94308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98" name=""/>
                <p:cNvSpPr/>
                <p:nvPr/>
              </p:nvSpPr>
              <p:spPr>
                <a:xfrm>
                  <a:off x="404640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0449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046400" y="36720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04676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044600" y="3733920"/>
                  <a:ext cx="10188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03" name=""/>
                <p:cNvSpPr/>
                <p:nvPr/>
              </p:nvSpPr>
              <p:spPr>
                <a:xfrm>
                  <a:off x="416052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1464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160520" y="36720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148280" y="36720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59080" y="37339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08" name=""/>
                <p:cNvSpPr/>
                <p:nvPr/>
              </p:nvSpPr>
              <p:spPr>
                <a:xfrm>
                  <a:off x="4343400" y="3143160"/>
                  <a:ext cx="660240" cy="660600"/>
                </a:xfrm>
                <a:prstGeom prst="ellipse">
                  <a:avLst/>
                </a:pr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25276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25276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2527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25132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251320" y="307332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4" name=""/>
                <p:cNvSpPr/>
                <p:nvPr/>
              </p:nvSpPr>
              <p:spPr>
                <a:xfrm>
                  <a:off x="5367240" y="327816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35428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367240" y="299736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3528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3654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546876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55800" y="327816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6876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54000" y="299736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46732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24" name=""/>
                <p:cNvSpPr/>
                <p:nvPr/>
              </p:nvSpPr>
              <p:spPr>
                <a:xfrm>
                  <a:off x="557028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558040" y="327816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702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5562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5688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29" name=""/>
                <p:cNvSpPr/>
                <p:nvPr/>
              </p:nvSpPr>
              <p:spPr>
                <a:xfrm>
                  <a:off x="5570280" y="327816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558040" y="327816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570280" y="299736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556240" y="299736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6884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4" name=""/>
                <p:cNvSpPr/>
                <p:nvPr/>
              </p:nvSpPr>
              <p:spPr>
                <a:xfrm>
                  <a:off x="5671800" y="327816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72520" y="327816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671800" y="299736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670720" y="299736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670360" y="30733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a:off x="522756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226120" y="33912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22756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227560" y="368460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22576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4" name=""/>
                <p:cNvSpPr/>
                <p:nvPr/>
              </p:nvSpPr>
              <p:spPr>
                <a:xfrm>
                  <a:off x="532908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32764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32908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32944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27640" y="374652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9" name=""/>
                <p:cNvSpPr/>
                <p:nvPr/>
              </p:nvSpPr>
              <p:spPr>
                <a:xfrm>
                  <a:off x="5443200" y="339120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2916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43200" y="368460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430960" y="368460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44176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4" name=""/>
                <p:cNvSpPr/>
                <p:nvPr/>
              </p:nvSpPr>
              <p:spPr>
                <a:xfrm>
                  <a:off x="5545080" y="339120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5306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45080" y="368460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212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54328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9" name=""/>
                <p:cNvSpPr/>
                <p:nvPr/>
              </p:nvSpPr>
              <p:spPr>
                <a:xfrm>
                  <a:off x="5545080" y="339120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068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545080" y="368460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3212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4328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4" name=""/>
                <p:cNvSpPr/>
                <p:nvPr/>
              </p:nvSpPr>
              <p:spPr>
                <a:xfrm>
                  <a:off x="5646600" y="33912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632200" y="33912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646600" y="368460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33640" y="368460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44800" y="374652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369" name=""/>
              <p:cNvGrpSpPr/>
              <p:nvPr/>
            </p:nvGrpSpPr>
            <p:grpSpPr>
              <a:xfrm>
                <a:off x="3900600" y="3944880"/>
                <a:ext cx="1625040" cy="215640"/>
                <a:chOff x="3900600" y="3944880"/>
                <a:chExt cx="1625040" cy="215640"/>
              </a:xfrm>
            </p:grpSpPr>
            <p:sp>
              <p:nvSpPr>
                <p:cNvPr id="370" name=""/>
                <p:cNvSpPr/>
                <p:nvPr/>
              </p:nvSpPr>
              <p:spPr>
                <a:xfrm>
                  <a:off x="3900600" y="3944880"/>
                  <a:ext cx="1586880" cy="215640"/>
                </a:xfrm>
                <a:custGeom>
                  <a:avLst/>
                  <a:gdLst/>
                  <a:ahLst/>
                  <a:rect l="l" t="t" r="r" b="b"/>
                  <a:pathLst>
                    <a:path stroke="0" w="21600" h="21600">
                      <a:moveTo>
                        <a:pt x="10778" y="0"/>
                      </a:moveTo>
                      <a:arcTo wR="10800" hR="10800" stAng="-5406875" swAng="5406875"/>
                      <a:lnTo>
                        <a:pt x="10800" y="10800"/>
                      </a:lnTo>
                      <a:close/>
                    </a:path>
                    <a:path fill="none" w="21600" h="21600">
                      <a:moveTo>
                        <a:pt x="10778" y="0"/>
                      </a:moveTo>
                      <a:arcTo wR="10800" hR="10800" stAng="-5406875" swAng="5406875"/>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938400" y="3944880"/>
                  <a:ext cx="1587240" cy="215640"/>
                </a:xfrm>
                <a:custGeom>
                  <a:avLst/>
                  <a:gdLst/>
                  <a:ahLst/>
                  <a:rect l="l" t="t" r="r" b="b"/>
                  <a:pathLst>
                    <a:path stroke="0" w="21600" h="21600">
                      <a:moveTo>
                        <a:pt x="0" y="10800"/>
                      </a:moveTo>
                      <a:arcTo wR="10800" hR="10800" stAng="10800000" swAng="5393125"/>
                      <a:lnTo>
                        <a:pt x="10800" y="10800"/>
                      </a:lnTo>
                      <a:close/>
                    </a:path>
                    <a:path fill="none" w="21600" h="21600">
                      <a:moveTo>
                        <a:pt x="0" y="10800"/>
                      </a:moveTo>
                      <a:arcTo wR="10800" hR="10800" stAng="10800000" swAng="5393125"/>
                    </a:path>
                  </a:pathLst>
                </a:custGeom>
                <a:noFill/>
                <a:ln cap="rnd" w="507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3133440" y="400608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TP</a:t>
                </a:r>
                <a:endParaRPr b="0" lang="en-US" sz="1800" spc="-1" strike="noStrike">
                  <a:solidFill>
                    <a:srgbClr val="000000"/>
                  </a:solidFill>
                  <a:latin typeface="Times New Roman"/>
                </a:endParaRPr>
              </a:p>
            </p:txBody>
          </p:sp>
          <p:sp>
            <p:nvSpPr>
              <p:cNvPr id="373" name=""/>
              <p:cNvSpPr/>
              <p:nvPr/>
            </p:nvSpPr>
            <p:spPr>
              <a:xfrm>
                <a:off x="5181480" y="402372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DP+Pi</a:t>
                </a:r>
                <a:endParaRPr b="0" lang="en-US" sz="1800" spc="-1" strike="noStrike">
                  <a:solidFill>
                    <a:srgbClr val="000000"/>
                  </a:solidFill>
                  <a:latin typeface="Times New Roman"/>
                </a:endParaRPr>
              </a:p>
            </p:txBody>
          </p:sp>
        </p:grpSp>
      </p:grpSp>
      <p:sp>
        <p:nvSpPr>
          <p:cNvPr id="374"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5" name=""/>
          <p:cNvSpPr/>
          <p:nvPr/>
        </p:nvSpPr>
        <p:spPr>
          <a:xfrm>
            <a:off x="1219320" y="5092560"/>
            <a:ext cx="77724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 secondary system causes accumulation of amino acid 1 by sodium symport, generating a chemical gradient of AA1.  The efflux of AA1 down this gradient facilitates transport of AA2.</a:t>
            </a:r>
            <a:endParaRPr b="0" lang="en-US" sz="2000" spc="-1" strike="noStrike">
              <a:solidFill>
                <a:srgbClr val="000000"/>
              </a:solidFill>
              <a:latin typeface="Times New Roman"/>
            </a:endParaRPr>
          </a:p>
        </p:txBody>
      </p:sp>
      <p:grpSp>
        <p:nvGrpSpPr>
          <p:cNvPr id="376" name=""/>
          <p:cNvGrpSpPr/>
          <p:nvPr/>
        </p:nvGrpSpPr>
        <p:grpSpPr>
          <a:xfrm>
            <a:off x="1564200" y="914400"/>
            <a:ext cx="6968520" cy="4013640"/>
            <a:chOff x="1564200" y="914400"/>
            <a:chExt cx="6968520" cy="4013640"/>
          </a:xfrm>
        </p:grpSpPr>
        <p:grpSp>
          <p:nvGrpSpPr>
            <p:cNvPr id="377" name=""/>
            <p:cNvGrpSpPr/>
            <p:nvPr/>
          </p:nvGrpSpPr>
          <p:grpSpPr>
            <a:xfrm>
              <a:off x="1564200" y="914400"/>
              <a:ext cx="6968520" cy="4013640"/>
              <a:chOff x="1564200" y="914400"/>
              <a:chExt cx="6968520" cy="4013640"/>
            </a:xfrm>
          </p:grpSpPr>
          <p:sp>
            <p:nvSpPr>
              <p:cNvPr id="378" name=""/>
              <p:cNvSpPr/>
              <p:nvPr/>
            </p:nvSpPr>
            <p:spPr>
              <a:xfrm>
                <a:off x="4389120" y="1322280"/>
                <a:ext cx="927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3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379" name=""/>
              <p:cNvSpPr/>
              <p:nvPr/>
            </p:nvSpPr>
            <p:spPr>
              <a:xfrm>
                <a:off x="3102120" y="4306680"/>
                <a:ext cx="673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2K</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380" name=""/>
              <p:cNvSpPr/>
              <p:nvPr/>
            </p:nvSpPr>
            <p:spPr>
              <a:xfrm>
                <a:off x="5455800" y="1322280"/>
                <a:ext cx="62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381" name=""/>
              <p:cNvSpPr/>
              <p:nvPr/>
            </p:nvSpPr>
            <p:spPr>
              <a:xfrm>
                <a:off x="5311800" y="4306680"/>
                <a:ext cx="673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382" name=""/>
              <p:cNvSpPr/>
              <p:nvPr/>
            </p:nvSpPr>
            <p:spPr>
              <a:xfrm>
                <a:off x="6143040" y="430668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1</a:t>
                </a:r>
                <a:endParaRPr b="0" lang="en-US" sz="2400" spc="-1" strike="noStrike">
                  <a:solidFill>
                    <a:srgbClr val="000000"/>
                  </a:solidFill>
                  <a:latin typeface="Times New Roman"/>
                </a:endParaRPr>
              </a:p>
            </p:txBody>
          </p:sp>
          <p:sp>
            <p:nvSpPr>
              <p:cNvPr id="383" name=""/>
              <p:cNvSpPr/>
              <p:nvPr/>
            </p:nvSpPr>
            <p:spPr>
              <a:xfrm>
                <a:off x="6143040" y="129204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1</a:t>
                </a:r>
                <a:endParaRPr b="0" lang="en-US" sz="2400" spc="-1" strike="noStrike">
                  <a:solidFill>
                    <a:srgbClr val="000000"/>
                  </a:solidFill>
                  <a:latin typeface="Times New Roman"/>
                </a:endParaRPr>
              </a:p>
            </p:txBody>
          </p:sp>
          <p:sp>
            <p:nvSpPr>
              <p:cNvPr id="384" name=""/>
              <p:cNvSpPr/>
              <p:nvPr/>
            </p:nvSpPr>
            <p:spPr>
              <a:xfrm>
                <a:off x="6981120" y="430668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1</a:t>
                </a:r>
                <a:endParaRPr b="0" lang="en-US" sz="2400" spc="-1" strike="noStrike">
                  <a:solidFill>
                    <a:srgbClr val="000000"/>
                  </a:solidFill>
                  <a:latin typeface="Times New Roman"/>
                </a:endParaRPr>
              </a:p>
            </p:txBody>
          </p:sp>
          <p:sp>
            <p:nvSpPr>
              <p:cNvPr id="385" name=""/>
              <p:cNvSpPr/>
              <p:nvPr/>
            </p:nvSpPr>
            <p:spPr>
              <a:xfrm>
                <a:off x="6905160" y="129204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1</a:t>
                </a:r>
                <a:endParaRPr b="0" lang="en-US" sz="2400" spc="-1" strike="noStrike">
                  <a:solidFill>
                    <a:srgbClr val="000000"/>
                  </a:solidFill>
                  <a:latin typeface="Times New Roman"/>
                </a:endParaRPr>
              </a:p>
            </p:txBody>
          </p:sp>
          <p:sp>
            <p:nvSpPr>
              <p:cNvPr id="386" name=""/>
              <p:cNvSpPr/>
              <p:nvPr/>
            </p:nvSpPr>
            <p:spPr>
              <a:xfrm>
                <a:off x="7666920" y="129204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2</a:t>
                </a:r>
                <a:endParaRPr b="0" lang="en-US" sz="2400" spc="-1" strike="noStrike">
                  <a:solidFill>
                    <a:srgbClr val="000000"/>
                  </a:solidFill>
                  <a:latin typeface="Times New Roman"/>
                </a:endParaRPr>
              </a:p>
            </p:txBody>
          </p:sp>
          <p:sp>
            <p:nvSpPr>
              <p:cNvPr id="387" name=""/>
              <p:cNvSpPr/>
              <p:nvPr/>
            </p:nvSpPr>
            <p:spPr>
              <a:xfrm>
                <a:off x="7743240" y="4306680"/>
                <a:ext cx="78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A2</a:t>
                </a:r>
                <a:endParaRPr b="0" lang="en-US" sz="2400" spc="-1" strike="noStrike">
                  <a:solidFill>
                    <a:srgbClr val="000000"/>
                  </a:solidFill>
                  <a:latin typeface="Times New Roman"/>
                </a:endParaRPr>
              </a:p>
            </p:txBody>
          </p:sp>
          <p:grpSp>
            <p:nvGrpSpPr>
              <p:cNvPr id="388" name=""/>
              <p:cNvGrpSpPr/>
              <p:nvPr/>
            </p:nvGrpSpPr>
            <p:grpSpPr>
              <a:xfrm>
                <a:off x="1564200" y="914400"/>
                <a:ext cx="1548360" cy="4013640"/>
                <a:chOff x="1564200" y="914400"/>
                <a:chExt cx="1548360" cy="4013640"/>
              </a:xfrm>
            </p:grpSpPr>
            <p:sp>
              <p:nvSpPr>
                <p:cNvPr id="389" name=""/>
                <p:cNvSpPr/>
                <p:nvPr/>
              </p:nvSpPr>
              <p:spPr>
                <a:xfrm>
                  <a:off x="2314440" y="1855800"/>
                  <a:ext cx="0" cy="2151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740240" y="1271520"/>
                  <a:ext cx="119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  +</a:t>
                  </a:r>
                  <a:endParaRPr b="0" lang="en-US" sz="2000" spc="-1" strike="noStrike">
                    <a:solidFill>
                      <a:srgbClr val="000000"/>
                    </a:solidFill>
                    <a:latin typeface="Times New Roman"/>
                  </a:endParaRPr>
                </a:p>
              </p:txBody>
            </p:sp>
            <p:sp>
              <p:nvSpPr>
                <p:cNvPr id="391" name=""/>
                <p:cNvSpPr/>
                <p:nvPr/>
              </p:nvSpPr>
              <p:spPr>
                <a:xfrm>
                  <a:off x="1564560" y="1631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392" name=""/>
                <p:cNvSpPr/>
                <p:nvPr/>
              </p:nvSpPr>
              <p:spPr>
                <a:xfrm>
                  <a:off x="2459880" y="163188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393" name=""/>
                <p:cNvSpPr/>
                <p:nvPr/>
              </p:nvSpPr>
              <p:spPr>
                <a:xfrm>
                  <a:off x="2042280" y="91440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a:t>
                  </a:r>
                  <a:endParaRPr b="0" lang="en-US" sz="2000" spc="-1" strike="noStrike">
                    <a:solidFill>
                      <a:srgbClr val="000000"/>
                    </a:solidFill>
                    <a:latin typeface="Times New Roman"/>
                  </a:endParaRPr>
                </a:p>
              </p:txBody>
            </p:sp>
            <p:sp>
              <p:nvSpPr>
                <p:cNvPr id="394" name=""/>
                <p:cNvSpPr/>
                <p:nvPr/>
              </p:nvSpPr>
              <p:spPr>
                <a:xfrm>
                  <a:off x="1564200" y="3985920"/>
                  <a:ext cx="154836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   -</a:t>
                  </a:r>
                  <a:endParaRPr b="0" lang="en-US" sz="2800" spc="-1" strike="noStrike">
                    <a:solidFill>
                      <a:srgbClr val="000000"/>
                    </a:solidFill>
                    <a:latin typeface="Times New Roman"/>
                  </a:endParaRPr>
                </a:p>
              </p:txBody>
            </p:sp>
          </p:grpSp>
          <p:sp>
            <p:nvSpPr>
              <p:cNvPr id="395" name=""/>
              <p:cNvSpPr/>
              <p:nvPr/>
            </p:nvSpPr>
            <p:spPr>
              <a:xfrm flipV="1">
                <a:off x="6841800" y="2466720"/>
                <a:ext cx="0" cy="1130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94960" y="2076480"/>
                <a:ext cx="993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A1]</a:t>
                </a:r>
                <a:endParaRPr b="0" lang="en-US" sz="2400" spc="-1" strike="noStrike">
                  <a:solidFill>
                    <a:srgbClr val="000000"/>
                  </a:solidFill>
                  <a:latin typeface="Times New Roman"/>
                </a:endParaRPr>
              </a:p>
            </p:txBody>
          </p:sp>
        </p:grpSp>
        <p:sp>
          <p:nvSpPr>
            <p:cNvPr id="397" name=""/>
            <p:cNvSpPr/>
            <p:nvPr/>
          </p:nvSpPr>
          <p:spPr>
            <a:xfrm>
              <a:off x="4895640" y="367092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DP+Pi</a:t>
              </a:r>
              <a:endParaRPr b="0" lang="en-US" sz="1800" spc="-1" strike="noStrike">
                <a:solidFill>
                  <a:srgbClr val="000000"/>
                </a:solidFill>
                <a:latin typeface="Times New Roman"/>
              </a:endParaRPr>
            </a:p>
          </p:txBody>
        </p:sp>
        <p:grpSp>
          <p:nvGrpSpPr>
            <p:cNvPr id="398" name=""/>
            <p:cNvGrpSpPr/>
            <p:nvPr/>
          </p:nvGrpSpPr>
          <p:grpSpPr>
            <a:xfrm>
              <a:off x="2928600" y="1663560"/>
              <a:ext cx="5450040" cy="2823840"/>
              <a:chOff x="2928600" y="1663560"/>
              <a:chExt cx="5450040" cy="2823840"/>
            </a:xfrm>
          </p:grpSpPr>
          <p:grpSp>
            <p:nvGrpSpPr>
              <p:cNvPr id="399" name=""/>
              <p:cNvGrpSpPr/>
              <p:nvPr/>
            </p:nvGrpSpPr>
            <p:grpSpPr>
              <a:xfrm>
                <a:off x="6959520" y="1678320"/>
                <a:ext cx="1419120" cy="2809080"/>
                <a:chOff x="6959520" y="1678320"/>
                <a:chExt cx="1419120" cy="2809080"/>
              </a:xfrm>
            </p:grpSpPr>
            <p:sp>
              <p:nvSpPr>
                <p:cNvPr id="400" name=""/>
                <p:cNvSpPr/>
                <p:nvPr/>
              </p:nvSpPr>
              <p:spPr>
                <a:xfrm>
                  <a:off x="784692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83432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846920" y="258876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83468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846920" y="2662200"/>
                  <a:ext cx="11412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94988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948800" y="2862000"/>
                  <a:ext cx="11340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948440" y="2588760"/>
                  <a:ext cx="12600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948800" y="2588760"/>
                  <a:ext cx="1134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48440" y="2662200"/>
                  <a:ext cx="11412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05140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049960" y="286200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049960" y="2588760"/>
                  <a:ext cx="12600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050320" y="258768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049960" y="2662200"/>
                  <a:ext cx="12528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16264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14968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162640" y="258876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149680" y="258876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162640" y="2662200"/>
                  <a:ext cx="11448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16264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14968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162640" y="258876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149680" y="258876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162640" y="2662200"/>
                  <a:ext cx="11448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26416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25120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264160" y="258876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251200" y="258876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264160" y="2662200"/>
                  <a:ext cx="114480" cy="13788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82136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80912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82136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80876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821360" y="3325680"/>
                  <a:ext cx="11412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92288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909920" y="297612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92288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90992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922880" y="3325680"/>
                  <a:ext cx="11448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024400" y="2976120"/>
                  <a:ext cx="12708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025120" y="2975040"/>
                  <a:ext cx="113400" cy="288360"/>
                </a:xfrm>
                <a:custGeom>
                  <a:avLst/>
                  <a:gdLst/>
                  <a:ahLst/>
                  <a:rect l="l" t="t" r="r" b="b"/>
                  <a:pathLst>
                    <a:path stroke="0" w="21600" h="21600">
                      <a:moveTo>
                        <a:pt x="21599" y="10675"/>
                      </a:moveTo>
                      <a:arcTo wR="10800" hR="10800" stAng="-39660" swAng="5539221"/>
                      <a:lnTo>
                        <a:pt x="10800" y="10800"/>
                      </a:lnTo>
                      <a:close/>
                    </a:path>
                    <a:path fill="none" w="21600" h="21600">
                      <a:moveTo>
                        <a:pt x="21599" y="10675"/>
                      </a:moveTo>
                      <a:arcTo wR="10800" hR="10800" stAng="-39660" swAng="5539221"/>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026200" y="325116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024760" y="3249360"/>
                  <a:ext cx="113760" cy="288720"/>
                </a:xfrm>
                <a:custGeom>
                  <a:avLst/>
                  <a:gdLst/>
                  <a:ahLst/>
                  <a:rect l="l" t="t" r="r" b="b"/>
                  <a:pathLst>
                    <a:path stroke="0" w="21600" h="21600">
                      <a:moveTo>
                        <a:pt x="10494" y="4"/>
                      </a:moveTo>
                      <a:arcTo wR="10800" hR="10800" stAng="-5497350" swAng="5457690"/>
                      <a:lnTo>
                        <a:pt x="10800" y="10800"/>
                      </a:lnTo>
                      <a:close/>
                    </a:path>
                    <a:path fill="none" w="21600" h="21600">
                      <a:moveTo>
                        <a:pt x="10494" y="4"/>
                      </a:moveTo>
                      <a:arcTo wR="10800" hR="10800" stAng="-5497350" swAng="5457690"/>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024400" y="3325680"/>
                  <a:ext cx="11304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12448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12520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12448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12484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124480" y="3325680"/>
                  <a:ext cx="12708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12448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12520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12448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812484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8124480" y="3325680"/>
                  <a:ext cx="12708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238960" y="2976120"/>
                  <a:ext cx="1134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22672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238960" y="3249360"/>
                  <a:ext cx="11340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22636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238960" y="3325680"/>
                  <a:ext cx="114120" cy="1364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95952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95988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7212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07364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074000" y="2862000"/>
                  <a:ext cx="11340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073640" y="258876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74000" y="2588760"/>
                  <a:ext cx="1134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7364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17516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17552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175160" y="258876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17588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175160" y="2662200"/>
                  <a:ext cx="1270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289640" y="2862000"/>
                  <a:ext cx="11340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27704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289640" y="2588760"/>
                  <a:ext cx="1134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27740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28964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392600" y="2863800"/>
                  <a:ext cx="111240" cy="285480"/>
                </a:xfrm>
                <a:custGeom>
                  <a:avLst/>
                  <a:gdLst/>
                  <a:ahLst/>
                  <a:rect l="l" t="t" r="r" b="b"/>
                  <a:pathLst>
                    <a:path stroke="0" w="21600" h="21600">
                      <a:moveTo>
                        <a:pt x="1" y="10682"/>
                      </a:moveTo>
                      <a:arcTo wR="10800" hR="10800" stAng="-10762542" swAng="5265192"/>
                      <a:lnTo>
                        <a:pt x="10800" y="10800"/>
                      </a:lnTo>
                      <a:close/>
                    </a:path>
                    <a:path fill="none" w="21600" h="21600">
                      <a:moveTo>
                        <a:pt x="1" y="10682"/>
                      </a:moveTo>
                      <a:arcTo wR="10800" hR="10800" stAng="-10762542" swAng="5265192"/>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378920" y="2862000"/>
                  <a:ext cx="12600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391160" y="2588760"/>
                  <a:ext cx="114120" cy="285840"/>
                </a:xfrm>
                <a:custGeom>
                  <a:avLst/>
                  <a:gdLst/>
                  <a:ahLst/>
                  <a:rect l="l" t="t" r="r" b="b"/>
                  <a:pathLst>
                    <a:path stroke="0" w="21600" h="21600">
                      <a:moveTo>
                        <a:pt x="10487" y="21595"/>
                      </a:moveTo>
                      <a:arcTo wR="10800" hR="10800" stAng="5499561" swAng="5337897"/>
                      <a:lnTo>
                        <a:pt x="10800" y="10800"/>
                      </a:lnTo>
                      <a:close/>
                    </a:path>
                    <a:path fill="none" w="21600" h="21600">
                      <a:moveTo>
                        <a:pt x="10487" y="21595"/>
                      </a:moveTo>
                      <a:arcTo wR="10800" hR="10800" stAng="5499561" swAng="533789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379280" y="2587680"/>
                  <a:ext cx="12564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391160" y="2662200"/>
                  <a:ext cx="1126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04808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03620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04808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03584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04808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14996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149600" y="297612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14996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14960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14996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25148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840" y="2976120"/>
                  <a:ext cx="1134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25148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251840" y="3249360"/>
                  <a:ext cx="11340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25148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353000" y="2976120"/>
                  <a:ext cx="12600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353360" y="297504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354800" y="3251160"/>
                  <a:ext cx="12276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53000" y="324936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353000" y="3313080"/>
                  <a:ext cx="1252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7732440" y="1678320"/>
                  <a:ext cx="520560" cy="2671200"/>
                  <a:chOff x="7732440" y="1678320"/>
                  <a:chExt cx="520560" cy="2671200"/>
                </a:xfrm>
              </p:grpSpPr>
              <p:grpSp>
                <p:nvGrpSpPr>
                  <p:cNvPr id="504" name=""/>
                  <p:cNvGrpSpPr/>
                  <p:nvPr/>
                </p:nvGrpSpPr>
                <p:grpSpPr>
                  <a:xfrm>
                    <a:off x="7732440" y="1678320"/>
                    <a:ext cx="520560" cy="2671200"/>
                    <a:chOff x="7732440" y="1678320"/>
                    <a:chExt cx="520560" cy="2671200"/>
                  </a:xfrm>
                </p:grpSpPr>
                <p:sp>
                  <p:nvSpPr>
                    <p:cNvPr id="505" name=""/>
                    <p:cNvSpPr/>
                    <p:nvPr/>
                  </p:nvSpPr>
                  <p:spPr>
                    <a:xfrm>
                      <a:off x="7732440" y="1678320"/>
                      <a:ext cx="507960" cy="2520000"/>
                    </a:xfrm>
                    <a:custGeom>
                      <a:avLst/>
                      <a:gdLst/>
                      <a:ahLst/>
                      <a:rect l="l" t="t" r="r" b="b"/>
                      <a:pathLst>
                        <a:path stroke="0" w="21600" h="21600">
                          <a:moveTo>
                            <a:pt x="10732" y="21600"/>
                          </a:moveTo>
                          <a:arcTo wR="10800" hR="10800" stAng="5421648" swAng="5382666"/>
                          <a:lnTo>
                            <a:pt x="10800" y="10800"/>
                          </a:lnTo>
                          <a:close/>
                        </a:path>
                        <a:path fill="none" w="21600" h="21600">
                          <a:moveTo>
                            <a:pt x="10732" y="21600"/>
                          </a:moveTo>
                          <a:arcTo wR="10800" hR="10800" stAng="5421648" swAng="538266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745040" y="1825560"/>
                      <a:ext cx="507960" cy="2523960"/>
                    </a:xfrm>
                    <a:custGeom>
                      <a:avLst/>
                      <a:gdLst/>
                      <a:ahLst/>
                      <a:rect l="l" t="t" r="r" b="b"/>
                      <a:pathLst>
                        <a:path stroke="0" w="21600" h="21600">
                          <a:moveTo>
                            <a:pt x="0" y="10800"/>
                          </a:moveTo>
                          <a:arcTo wR="10800" hR="10800" stAng="10800000" swAng="5378394"/>
                          <a:lnTo>
                            <a:pt x="10800" y="10800"/>
                          </a:lnTo>
                          <a:close/>
                        </a:path>
                        <a:path fill="none" w="21600" h="21600">
                          <a:moveTo>
                            <a:pt x="0" y="10800"/>
                          </a:moveTo>
                          <a:arcTo wR="10800" hR="10800" stAng="10800000" swAng="5378394"/>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7897680" y="4087800"/>
                    <a:ext cx="201600" cy="199800"/>
                    <a:chOff x="7897680" y="4087800"/>
                    <a:chExt cx="201600" cy="199800"/>
                  </a:xfrm>
                </p:grpSpPr>
                <p:sp>
                  <p:nvSpPr>
                    <p:cNvPr id="508" name=""/>
                    <p:cNvSpPr/>
                    <p:nvPr/>
                  </p:nvSpPr>
                  <p:spPr>
                    <a:xfrm>
                      <a:off x="7897680" y="4087800"/>
                      <a:ext cx="201600" cy="199800"/>
                    </a:xfrm>
                    <a:custGeom>
                      <a:avLst/>
                      <a:gdLst/>
                      <a:ahLst/>
                      <a:rect l="l" t="t" r="r" b="b"/>
                      <a:pathLst>
                        <a:path w="127" h="126">
                          <a:moveTo>
                            <a:pt x="127" y="126"/>
                          </a:moveTo>
                          <a:lnTo>
                            <a:pt x="0" y="78"/>
                          </a:lnTo>
                          <a:lnTo>
                            <a:pt x="80" y="0"/>
                          </a:lnTo>
                          <a:lnTo>
                            <a:pt x="127" y="1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961040" y="4149720"/>
                      <a:ext cx="50760" cy="48960"/>
                    </a:xfrm>
                    <a:prstGeom prst="line">
                      <a:avLst/>
                    </a:prstGeom>
                    <a:ln w="507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510" name=""/>
                <p:cNvGrpSpPr/>
                <p:nvPr/>
              </p:nvGrpSpPr>
              <p:grpSpPr>
                <a:xfrm>
                  <a:off x="7214760" y="1812600"/>
                  <a:ext cx="517320" cy="2674800"/>
                  <a:chOff x="7214760" y="1812600"/>
                  <a:chExt cx="517320" cy="2674800"/>
                </a:xfrm>
              </p:grpSpPr>
              <p:grpSp>
                <p:nvGrpSpPr>
                  <p:cNvPr id="511" name=""/>
                  <p:cNvGrpSpPr/>
                  <p:nvPr/>
                </p:nvGrpSpPr>
                <p:grpSpPr>
                  <a:xfrm>
                    <a:off x="7214760" y="1812600"/>
                    <a:ext cx="517320" cy="2674800"/>
                    <a:chOff x="7214760" y="1812600"/>
                    <a:chExt cx="517320" cy="2674800"/>
                  </a:xfrm>
                </p:grpSpPr>
                <p:sp>
                  <p:nvSpPr>
                    <p:cNvPr id="512" name=""/>
                    <p:cNvSpPr/>
                    <p:nvPr/>
                  </p:nvSpPr>
                  <p:spPr>
                    <a:xfrm>
                      <a:off x="7227360" y="1812600"/>
                      <a:ext cx="504720" cy="2523960"/>
                    </a:xfrm>
                    <a:custGeom>
                      <a:avLst/>
                      <a:gdLst/>
                      <a:ahLst/>
                      <a:rect l="l" t="t" r="r" b="b"/>
                      <a:pathLst>
                        <a:path stroke="0" w="21600" h="21600">
                          <a:moveTo>
                            <a:pt x="21600" y="10800"/>
                          </a:moveTo>
                          <a:arcTo wR="10800" hR="10800" stAng="0" swAng="5421606"/>
                          <a:lnTo>
                            <a:pt x="10800" y="10800"/>
                          </a:lnTo>
                          <a:close/>
                        </a:path>
                        <a:path fill="none" w="21600" h="21600">
                          <a:moveTo>
                            <a:pt x="21600" y="10800"/>
                          </a:moveTo>
                          <a:arcTo wR="10800" hR="10800" stAng="0" swAng="542160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214760" y="1963440"/>
                      <a:ext cx="504720" cy="2523960"/>
                    </a:xfrm>
                    <a:custGeom>
                      <a:avLst/>
                      <a:gdLst/>
                      <a:ahLst/>
                      <a:rect l="l" t="t" r="r" b="b"/>
                      <a:pathLst>
                        <a:path stroke="0" w="21600" h="21600">
                          <a:moveTo>
                            <a:pt x="10732" y="0"/>
                          </a:moveTo>
                          <a:arcTo wR="10800" hR="10800" stAng="-5421594" swAng="5417226"/>
                          <a:lnTo>
                            <a:pt x="10800" y="10800"/>
                          </a:lnTo>
                          <a:close/>
                        </a:path>
                        <a:path fill="none" w="21600" h="21600">
                          <a:moveTo>
                            <a:pt x="10732" y="0"/>
                          </a:moveTo>
                          <a:arcTo wR="10800" hR="10800" stAng="-5421594" swAng="541722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7365600" y="1825560"/>
                    <a:ext cx="201600" cy="199800"/>
                    <a:chOff x="7365600" y="1825560"/>
                    <a:chExt cx="201600" cy="199800"/>
                  </a:xfrm>
                </p:grpSpPr>
                <p:sp>
                  <p:nvSpPr>
                    <p:cNvPr id="515" name=""/>
                    <p:cNvSpPr/>
                    <p:nvPr/>
                  </p:nvSpPr>
                  <p:spPr>
                    <a:xfrm>
                      <a:off x="7365600" y="1825560"/>
                      <a:ext cx="201600" cy="199800"/>
                    </a:xfrm>
                    <a:custGeom>
                      <a:avLst/>
                      <a:gdLst/>
                      <a:ahLst/>
                      <a:rect l="l" t="t" r="r" b="b"/>
                      <a:pathLst>
                        <a:path w="127" h="126">
                          <a:moveTo>
                            <a:pt x="0" y="0"/>
                          </a:moveTo>
                          <a:lnTo>
                            <a:pt x="127" y="47"/>
                          </a:lnTo>
                          <a:lnTo>
                            <a:pt x="47" y="12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403760" y="1863720"/>
                      <a:ext cx="49320" cy="48960"/>
                    </a:xfrm>
                    <a:prstGeom prst="line">
                      <a:avLst/>
                    </a:prstGeom>
                    <a:ln w="507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sp>
              <p:nvSpPr>
                <p:cNvPr id="517" name=""/>
                <p:cNvSpPr/>
                <p:nvPr/>
              </p:nvSpPr>
              <p:spPr>
                <a:xfrm>
                  <a:off x="7478280" y="2700360"/>
                  <a:ext cx="495360" cy="712800"/>
                </a:xfrm>
                <a:custGeom>
                  <a:avLst/>
                  <a:gdLst>
                    <a:gd name="textAreaLeft" fmla="*/ 65520 w 495360"/>
                    <a:gd name="textAreaRight" fmla="*/ 429840 w 495360"/>
                    <a:gd name="textAreaTop" fmla="*/ 65520 h 712800"/>
                    <a:gd name="textAreaBottom" fmla="*/ 647280 h 712800"/>
                  </a:gdLst>
                  <a:ahLst/>
                  <a:rect l="textAreaLeft" t="textAreaTop" r="textAreaRight" b="textAreaBottom"/>
                  <a:pathLst>
                    <a:path w="21600" h="31075">
                      <a:moveTo>
                        <a:pt x="9796" y="0"/>
                      </a:moveTo>
                      <a:arcTo wR="9796" hR="9796" stAng="16200000" swAng="-5400000"/>
                      <a:lnTo>
                        <a:pt x="0" y="21279"/>
                      </a:lnTo>
                      <a:arcTo wR="9796" hR="9796" stAng="10800000" swAng="-5400000"/>
                      <a:lnTo>
                        <a:pt x="11804" y="31075"/>
                      </a:lnTo>
                      <a:arcTo wR="9796" hR="9796" stAng="5400000" swAng="-5400000"/>
                      <a:lnTo>
                        <a:pt x="21600" y="9796"/>
                      </a:lnTo>
                      <a:arcTo wR="9796" hR="9796" stAng="0" swAng="-5400000"/>
                      <a:close/>
                    </a:path>
                  </a:pathLst>
                </a:custGeom>
                <a:solidFill>
                  <a:srgbClr val="ffffff"/>
                </a:solidFill>
                <a:ln w="38160">
                  <a:solidFill>
                    <a:srgbClr val="99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5351040" y="1663560"/>
                <a:ext cx="1747440" cy="2672280"/>
                <a:chOff x="5351040" y="1663560"/>
                <a:chExt cx="1747440" cy="2672280"/>
              </a:xfrm>
            </p:grpSpPr>
            <p:grpSp>
              <p:nvGrpSpPr>
                <p:cNvPr id="519" name=""/>
                <p:cNvGrpSpPr/>
                <p:nvPr/>
              </p:nvGrpSpPr>
              <p:grpSpPr>
                <a:xfrm>
                  <a:off x="5617800" y="1663560"/>
                  <a:ext cx="1050840" cy="2672280"/>
                  <a:chOff x="5617800" y="1663560"/>
                  <a:chExt cx="1050840" cy="2672280"/>
                </a:xfrm>
              </p:grpSpPr>
              <p:grpSp>
                <p:nvGrpSpPr>
                  <p:cNvPr id="520" name=""/>
                  <p:cNvGrpSpPr/>
                  <p:nvPr/>
                </p:nvGrpSpPr>
                <p:grpSpPr>
                  <a:xfrm>
                    <a:off x="6148080" y="1663560"/>
                    <a:ext cx="520560" cy="2672280"/>
                    <a:chOff x="6148080" y="1663560"/>
                    <a:chExt cx="520560" cy="2672280"/>
                  </a:xfrm>
                </p:grpSpPr>
                <p:grpSp>
                  <p:nvGrpSpPr>
                    <p:cNvPr id="521" name=""/>
                    <p:cNvGrpSpPr/>
                    <p:nvPr/>
                  </p:nvGrpSpPr>
                  <p:grpSpPr>
                    <a:xfrm>
                      <a:off x="6148080" y="1663560"/>
                      <a:ext cx="520560" cy="2672280"/>
                      <a:chOff x="6148080" y="1663560"/>
                      <a:chExt cx="520560" cy="2672280"/>
                    </a:xfrm>
                  </p:grpSpPr>
                  <p:sp>
                    <p:nvSpPr>
                      <p:cNvPr id="522" name=""/>
                      <p:cNvSpPr/>
                      <p:nvPr/>
                    </p:nvSpPr>
                    <p:spPr>
                      <a:xfrm>
                        <a:off x="6148080" y="1663560"/>
                        <a:ext cx="507960" cy="2523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160680" y="1812960"/>
                        <a:ext cx="507960" cy="25228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313320" y="4074840"/>
                      <a:ext cx="203040" cy="200160"/>
                      <a:chOff x="6313320" y="4074840"/>
                      <a:chExt cx="203040" cy="200160"/>
                    </a:xfrm>
                  </p:grpSpPr>
                  <p:sp>
                    <p:nvSpPr>
                      <p:cNvPr id="525" name=""/>
                      <p:cNvSpPr/>
                      <p:nvPr/>
                    </p:nvSpPr>
                    <p:spPr>
                      <a:xfrm>
                        <a:off x="6313320" y="4074840"/>
                        <a:ext cx="203040" cy="200160"/>
                      </a:xfrm>
                      <a:custGeom>
                        <a:avLst/>
                        <a:gdLst/>
                        <a:ahLst/>
                        <a:rect l="l" t="t" r="r" b="b"/>
                        <a:pathLst>
                          <a:path w="128" h="126">
                            <a:moveTo>
                              <a:pt x="128" y="126"/>
                            </a:moveTo>
                            <a:lnTo>
                              <a:pt x="0" y="78"/>
                            </a:lnTo>
                            <a:lnTo>
                              <a:pt x="80" y="0"/>
                            </a:lnTo>
                            <a:lnTo>
                              <a:pt x="128" y="1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376680" y="4136760"/>
                        <a:ext cx="50760" cy="51120"/>
                      </a:xfrm>
                      <a:prstGeom prst="line">
                        <a:avLst/>
                      </a:prstGeom>
                      <a:ln w="50760">
                        <a:solidFill>
                          <a:srgbClr val="ffff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527" name=""/>
                  <p:cNvGrpSpPr/>
                  <p:nvPr/>
                </p:nvGrpSpPr>
                <p:grpSpPr>
                  <a:xfrm>
                    <a:off x="5617800" y="1663560"/>
                    <a:ext cx="517320" cy="2672280"/>
                    <a:chOff x="5617800" y="1663560"/>
                    <a:chExt cx="517320" cy="2672280"/>
                  </a:xfrm>
                </p:grpSpPr>
                <p:grpSp>
                  <p:nvGrpSpPr>
                    <p:cNvPr id="528" name=""/>
                    <p:cNvGrpSpPr/>
                    <p:nvPr/>
                  </p:nvGrpSpPr>
                  <p:grpSpPr>
                    <a:xfrm>
                      <a:off x="5617800" y="1663560"/>
                      <a:ext cx="517320" cy="2672280"/>
                      <a:chOff x="5617800" y="1663560"/>
                      <a:chExt cx="517320" cy="2672280"/>
                    </a:xfrm>
                  </p:grpSpPr>
                  <p:sp>
                    <p:nvSpPr>
                      <p:cNvPr id="529" name=""/>
                      <p:cNvSpPr/>
                      <p:nvPr/>
                    </p:nvSpPr>
                    <p:spPr>
                      <a:xfrm>
                        <a:off x="5630400" y="1663560"/>
                        <a:ext cx="504720" cy="2523960"/>
                      </a:xfrm>
                      <a:custGeom>
                        <a:avLst/>
                        <a:gdLst/>
                        <a:ahLst/>
                        <a:rect l="l" t="t" r="r" b="b"/>
                        <a:pathLst>
                          <a:path stroke="0" w="21600" h="21600">
                            <a:moveTo>
                              <a:pt x="21600" y="10800"/>
                            </a:moveTo>
                            <a:arcTo wR="10800" hR="10800" stAng="0" swAng="5421606"/>
                            <a:lnTo>
                              <a:pt x="10800" y="10800"/>
                            </a:lnTo>
                            <a:close/>
                          </a:path>
                          <a:path fill="none" w="21600" h="21600">
                            <a:moveTo>
                              <a:pt x="21600" y="10800"/>
                            </a:moveTo>
                            <a:arcTo wR="10800" hR="10800" stAng="0" swAng="542160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617800" y="1812960"/>
                        <a:ext cx="504720" cy="2522880"/>
                      </a:xfrm>
                      <a:custGeom>
                        <a:avLst/>
                        <a:gdLst/>
                        <a:ahLst/>
                        <a:rect l="l" t="t" r="r" b="b"/>
                        <a:pathLst>
                          <a:path stroke="0" w="21600" h="21600">
                            <a:moveTo>
                              <a:pt x="10732" y="0"/>
                            </a:moveTo>
                            <a:arcTo wR="10800" hR="10800" stAng="-5421606" swAng="5421606"/>
                            <a:lnTo>
                              <a:pt x="10800" y="10800"/>
                            </a:lnTo>
                            <a:close/>
                          </a:path>
                          <a:path fill="none" w="21600" h="21600">
                            <a:moveTo>
                              <a:pt x="10732" y="0"/>
                            </a:moveTo>
                            <a:arcTo wR="10800" hR="10800" stAng="-5421606" swAng="542160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5768640" y="4074840"/>
                      <a:ext cx="203400" cy="200160"/>
                      <a:chOff x="5768640" y="4074840"/>
                      <a:chExt cx="203400" cy="200160"/>
                    </a:xfrm>
                  </p:grpSpPr>
                  <p:sp>
                    <p:nvSpPr>
                      <p:cNvPr id="532" name=""/>
                      <p:cNvSpPr/>
                      <p:nvPr/>
                    </p:nvSpPr>
                    <p:spPr>
                      <a:xfrm>
                        <a:off x="5768640" y="4074840"/>
                        <a:ext cx="203400" cy="200160"/>
                      </a:xfrm>
                      <a:custGeom>
                        <a:avLst/>
                        <a:gdLst/>
                        <a:ahLst/>
                        <a:rect l="l" t="t" r="r" b="b"/>
                        <a:pathLst>
                          <a:path w="128" h="126">
                            <a:moveTo>
                              <a:pt x="0" y="126"/>
                            </a:moveTo>
                            <a:lnTo>
                              <a:pt x="48" y="0"/>
                            </a:lnTo>
                            <a:lnTo>
                              <a:pt x="128" y="78"/>
                            </a:lnTo>
                            <a:lnTo>
                              <a:pt x="0" y="1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a:off x="5806440" y="4136760"/>
                        <a:ext cx="50760" cy="51120"/>
                      </a:xfrm>
                      <a:prstGeom prst="line">
                        <a:avLst/>
                      </a:prstGeom>
                      <a:ln w="50760">
                        <a:solidFill>
                          <a:srgbClr val="ffff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sp>
              <p:nvSpPr>
                <p:cNvPr id="534" name=""/>
                <p:cNvSpPr/>
                <p:nvPr/>
              </p:nvSpPr>
              <p:spPr>
                <a:xfrm>
                  <a:off x="635148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35148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35148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351840" y="257652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351480" y="2651040"/>
                  <a:ext cx="1267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46560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5264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465600" y="257652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45264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46560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56712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55416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567120" y="257652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55416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56712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7044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656040" y="286200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669000" y="257652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656400" y="257508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669000" y="265104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67044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656040" y="286200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669000" y="257652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656400" y="257508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669000" y="265104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87060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87024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87060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87024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7060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76872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76872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768720" y="257652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76872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76872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97212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97212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391000" y="2851200"/>
                  <a:ext cx="123480" cy="28476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389560" y="2849400"/>
                  <a:ext cx="113760" cy="288360"/>
                </a:xfrm>
                <a:custGeom>
                  <a:avLst/>
                  <a:gdLst/>
                  <a:ahLst/>
                  <a:rect l="l" t="t" r="r" b="b"/>
                  <a:pathLst>
                    <a:path stroke="0" w="21600" h="21600">
                      <a:moveTo>
                        <a:pt x="10494" y="4"/>
                      </a:moveTo>
                      <a:arcTo wR="10800" hR="10800" stAng="-5497350" swAng="5457690"/>
                      <a:lnTo>
                        <a:pt x="10800" y="10800"/>
                      </a:lnTo>
                      <a:close/>
                    </a:path>
                    <a:path fill="none" w="21600" h="21600">
                      <a:moveTo>
                        <a:pt x="10494" y="4"/>
                      </a:moveTo>
                      <a:arcTo wR="10800" hR="10800" stAng="-5497350" swAng="5457690"/>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389200" y="2576520"/>
                  <a:ext cx="12708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389920" y="2575080"/>
                  <a:ext cx="113400" cy="288360"/>
                </a:xfrm>
                <a:custGeom>
                  <a:avLst/>
                  <a:gdLst/>
                  <a:ahLst/>
                  <a:rect l="l" t="t" r="r" b="b"/>
                  <a:pathLst>
                    <a:path stroke="0" w="21600" h="21600">
                      <a:moveTo>
                        <a:pt x="21599" y="10675"/>
                      </a:moveTo>
                      <a:arcTo wR="10800" hR="10800" stAng="-39660" swAng="5539221"/>
                      <a:lnTo>
                        <a:pt x="10800" y="10800"/>
                      </a:lnTo>
                      <a:close/>
                    </a:path>
                    <a:path fill="none" w="21600" h="21600">
                      <a:moveTo>
                        <a:pt x="21599" y="10675"/>
                      </a:moveTo>
                      <a:arcTo wR="10800" hR="10800" stAng="-39660" swAng="5539221"/>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389200" y="265104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489280" y="284940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488920" y="2849400"/>
                  <a:ext cx="12708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48928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48892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489280" y="2651040"/>
                  <a:ext cx="1270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603760" y="2849400"/>
                  <a:ext cx="11340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591160" y="2849400"/>
                  <a:ext cx="12636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603760" y="2576520"/>
                  <a:ext cx="1134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591520" y="257652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60376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705280" y="284940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692680" y="2849400"/>
                  <a:ext cx="12636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70528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693040" y="257652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0528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806800" y="284940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793840" y="2849400"/>
                  <a:ext cx="12708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80680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79384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80680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908320" y="2849400"/>
                  <a:ext cx="12708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908320" y="2849400"/>
                  <a:ext cx="11412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908320" y="257652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90832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90832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364000" y="296388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351400" y="296244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365440" y="325116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351040" y="324936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364000" y="331308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46408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463720" y="296388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46408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46372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46408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56560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565240" y="296388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56560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56524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565600" y="3313080"/>
                  <a:ext cx="1270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679720" y="296388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666760" y="296388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679720" y="324936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66676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67972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781240" y="296388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76936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781240" y="324936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76900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78124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88312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87088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88312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87052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88312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32592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325920" y="296388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325920" y="323676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325920" y="3236760"/>
                  <a:ext cx="11412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325920" y="3300120"/>
                  <a:ext cx="1144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27440" y="296388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427440" y="296388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427440" y="3236760"/>
                  <a:ext cx="12708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427440" y="3236760"/>
                  <a:ext cx="11412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427440" y="3300120"/>
                  <a:ext cx="1144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528960" y="296388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52968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528960" y="3236760"/>
                  <a:ext cx="12708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529320" y="3236760"/>
                  <a:ext cx="12636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28960" y="3300120"/>
                  <a:ext cx="1270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643440" y="2963880"/>
                  <a:ext cx="114120" cy="285120"/>
                </a:xfrm>
                <a:custGeom>
                  <a:avLst/>
                  <a:gdLst/>
                  <a:ahLst/>
                  <a:rect l="l" t="t" r="r" b="b"/>
                  <a:pathLst>
                    <a:path stroke="0" w="21600" h="21600">
                      <a:moveTo>
                        <a:pt x="10487" y="21595"/>
                      </a:moveTo>
                      <a:arcTo wR="10800" hR="10800" stAng="5499561" swAng="5337897"/>
                      <a:lnTo>
                        <a:pt x="10800" y="10800"/>
                      </a:lnTo>
                      <a:close/>
                    </a:path>
                    <a:path fill="none" w="21600" h="21600">
                      <a:moveTo>
                        <a:pt x="10487" y="21595"/>
                      </a:moveTo>
                      <a:arcTo wR="10800" hR="10800" stAng="5499561" swAng="533789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631560" y="2962440"/>
                  <a:ext cx="12564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644880" y="3238560"/>
                  <a:ext cx="111240" cy="284760"/>
                </a:xfrm>
                <a:custGeom>
                  <a:avLst/>
                  <a:gdLst/>
                  <a:ahLst/>
                  <a:rect l="l" t="t" r="r" b="b"/>
                  <a:pathLst>
                    <a:path stroke="0" w="21600" h="21600">
                      <a:moveTo>
                        <a:pt x="1" y="10682"/>
                      </a:moveTo>
                      <a:arcTo wR="10800" hR="10800" stAng="-10762542" swAng="5265192"/>
                      <a:lnTo>
                        <a:pt x="10800" y="10800"/>
                      </a:lnTo>
                      <a:close/>
                    </a:path>
                    <a:path fill="none" w="21600" h="21600">
                      <a:moveTo>
                        <a:pt x="1" y="10682"/>
                      </a:moveTo>
                      <a:arcTo wR="10800" hR="10800" stAng="-10762542" swAng="5265192"/>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631200" y="3236760"/>
                  <a:ext cx="126000" cy="28836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43440" y="3300120"/>
                  <a:ext cx="1126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643440" y="2963880"/>
                  <a:ext cx="114120" cy="285120"/>
                </a:xfrm>
                <a:custGeom>
                  <a:avLst/>
                  <a:gdLst/>
                  <a:ahLst/>
                  <a:rect l="l" t="t" r="r" b="b"/>
                  <a:pathLst>
                    <a:path stroke="0" w="21600" h="21600">
                      <a:moveTo>
                        <a:pt x="10487" y="21595"/>
                      </a:moveTo>
                      <a:arcTo wR="10800" hR="10800" stAng="5499561" swAng="5337897"/>
                      <a:lnTo>
                        <a:pt x="10800" y="10800"/>
                      </a:lnTo>
                      <a:close/>
                    </a:path>
                    <a:path fill="none" w="21600" h="21600">
                      <a:moveTo>
                        <a:pt x="10487" y="21595"/>
                      </a:moveTo>
                      <a:arcTo wR="10800" hR="10800" stAng="5499561" swAng="533789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631560" y="2962440"/>
                  <a:ext cx="12564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44880" y="3238560"/>
                  <a:ext cx="111240" cy="284760"/>
                </a:xfrm>
                <a:custGeom>
                  <a:avLst/>
                  <a:gdLst/>
                  <a:ahLst/>
                  <a:rect l="l" t="t" r="r" b="b"/>
                  <a:pathLst>
                    <a:path stroke="0" w="21600" h="21600">
                      <a:moveTo>
                        <a:pt x="1" y="10682"/>
                      </a:moveTo>
                      <a:arcTo wR="10800" hR="10800" stAng="-10762542" swAng="5265192"/>
                      <a:lnTo>
                        <a:pt x="10800" y="10800"/>
                      </a:lnTo>
                      <a:close/>
                    </a:path>
                    <a:path fill="none" w="21600" h="21600">
                      <a:moveTo>
                        <a:pt x="1" y="10682"/>
                      </a:moveTo>
                      <a:arcTo wR="10800" hR="10800" stAng="-10762542" swAng="5265192"/>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631200" y="3236760"/>
                  <a:ext cx="126000" cy="28836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643440" y="3300120"/>
                  <a:ext cx="1126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84504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83280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845040" y="3236760"/>
                  <a:ext cx="12636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832440" y="3236760"/>
                  <a:ext cx="12636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845040" y="3300120"/>
                  <a:ext cx="11412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744960" y="2963880"/>
                  <a:ext cx="12708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732720" y="296244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746760" y="3238560"/>
                  <a:ext cx="123480" cy="28476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732360" y="3236760"/>
                  <a:ext cx="126720" cy="28836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744960" y="3300120"/>
                  <a:ext cx="1126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946560" y="296388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946560" y="296388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946560" y="3236760"/>
                  <a:ext cx="127080" cy="28836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946560" y="3236760"/>
                  <a:ext cx="114120" cy="28836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946560" y="3300120"/>
                  <a:ext cx="114480" cy="14940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946480" y="2700360"/>
                  <a:ext cx="379440" cy="712800"/>
                </a:xfrm>
                <a:custGeom>
                  <a:avLst/>
                  <a:gdLst>
                    <a:gd name="textAreaLeft" fmla="*/ 65520 w 379440"/>
                    <a:gd name="textAreaRight" fmla="*/ 313920 w 379440"/>
                    <a:gd name="textAreaTop" fmla="*/ 65520 h 712800"/>
                    <a:gd name="textAreaBottom" fmla="*/ 647280 h 712800"/>
                  </a:gdLst>
                  <a:ahLst/>
                  <a:rect l="textAreaLeft" t="textAreaTop" r="textAreaRight" b="textAreaBottom"/>
                  <a:pathLst>
                    <a:path w="21600" h="40559">
                      <a:moveTo>
                        <a:pt x="12788" y="0"/>
                      </a:moveTo>
                      <a:arcTo wR="12788" hR="12788" stAng="16200000" swAng="-5400000"/>
                      <a:lnTo>
                        <a:pt x="0" y="27771"/>
                      </a:lnTo>
                      <a:arcTo wR="12788" hR="12788" stAng="10800000" swAng="-5400000"/>
                      <a:lnTo>
                        <a:pt x="8812" y="40559"/>
                      </a:lnTo>
                      <a:arcTo wR="12788" hR="12788" stAng="5400000" swAng="-5400000"/>
                      <a:lnTo>
                        <a:pt x="21600" y="12788"/>
                      </a:lnTo>
                      <a:arcTo wR="12788" hR="12788" stAng="0" swAng="-5400000"/>
                      <a:close/>
                    </a:path>
                  </a:pathLst>
                </a:custGeom>
                <a:solidFill>
                  <a:srgbClr val="ffffff"/>
                </a:solidFill>
                <a:ln w="38160">
                  <a:solidFill>
                    <a:srgbClr val="99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2928600" y="1678320"/>
                <a:ext cx="2473560" cy="2671200"/>
                <a:chOff x="2928600" y="1678320"/>
                <a:chExt cx="2473560" cy="2671200"/>
              </a:xfrm>
            </p:grpSpPr>
            <p:grpSp>
              <p:nvGrpSpPr>
                <p:cNvPr id="673" name=""/>
                <p:cNvGrpSpPr/>
                <p:nvPr/>
              </p:nvGrpSpPr>
              <p:grpSpPr>
                <a:xfrm>
                  <a:off x="4679640" y="1678320"/>
                  <a:ext cx="520560" cy="2671200"/>
                  <a:chOff x="4679640" y="1678320"/>
                  <a:chExt cx="520560" cy="2671200"/>
                </a:xfrm>
              </p:grpSpPr>
              <p:grpSp>
                <p:nvGrpSpPr>
                  <p:cNvPr id="674" name=""/>
                  <p:cNvGrpSpPr/>
                  <p:nvPr/>
                </p:nvGrpSpPr>
                <p:grpSpPr>
                  <a:xfrm>
                    <a:off x="4679640" y="1678320"/>
                    <a:ext cx="520560" cy="2671200"/>
                    <a:chOff x="4679640" y="1678320"/>
                    <a:chExt cx="520560" cy="2671200"/>
                  </a:xfrm>
                </p:grpSpPr>
                <p:sp>
                  <p:nvSpPr>
                    <p:cNvPr id="675" name=""/>
                    <p:cNvSpPr/>
                    <p:nvPr/>
                  </p:nvSpPr>
                  <p:spPr>
                    <a:xfrm>
                      <a:off x="4679640" y="1678320"/>
                      <a:ext cx="507960" cy="2520000"/>
                    </a:xfrm>
                    <a:custGeom>
                      <a:avLst/>
                      <a:gdLst/>
                      <a:ahLst/>
                      <a:rect l="l" t="t" r="r" b="b"/>
                      <a:pathLst>
                        <a:path stroke="0" w="21600" h="21600">
                          <a:moveTo>
                            <a:pt x="10732" y="21600"/>
                          </a:moveTo>
                          <a:arcTo wR="10800" hR="10800" stAng="5421648" swAng="5382666"/>
                          <a:lnTo>
                            <a:pt x="10800" y="10800"/>
                          </a:lnTo>
                          <a:close/>
                        </a:path>
                        <a:path fill="none" w="21600" h="21600">
                          <a:moveTo>
                            <a:pt x="10732" y="21600"/>
                          </a:moveTo>
                          <a:arcTo wR="10800" hR="10800" stAng="5421648" swAng="5382666"/>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692240" y="1825560"/>
                      <a:ext cx="507960" cy="2523960"/>
                    </a:xfrm>
                    <a:custGeom>
                      <a:avLst/>
                      <a:gdLst/>
                      <a:ahLst/>
                      <a:rect l="l" t="t" r="r" b="b"/>
                      <a:pathLst>
                        <a:path stroke="0" w="21600" h="21600">
                          <a:moveTo>
                            <a:pt x="0" y="10800"/>
                          </a:moveTo>
                          <a:arcTo wR="10800" hR="10800" stAng="10800000" swAng="5378394"/>
                          <a:lnTo>
                            <a:pt x="10800" y="10800"/>
                          </a:lnTo>
                          <a:close/>
                        </a:path>
                        <a:path fill="none" w="21600" h="21600">
                          <a:moveTo>
                            <a:pt x="0" y="10800"/>
                          </a:moveTo>
                          <a:arcTo wR="10800" hR="10800" stAng="10800000" swAng="5378394"/>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4791960" y="1687320"/>
                    <a:ext cx="254520" cy="200160"/>
                    <a:chOff x="4791960" y="1687320"/>
                    <a:chExt cx="254520" cy="200160"/>
                  </a:xfrm>
                </p:grpSpPr>
                <p:sp>
                  <p:nvSpPr>
                    <p:cNvPr id="678" name=""/>
                    <p:cNvSpPr/>
                    <p:nvPr/>
                  </p:nvSpPr>
                  <p:spPr>
                    <a:xfrm>
                      <a:off x="4843080" y="1687320"/>
                      <a:ext cx="203400" cy="200160"/>
                    </a:xfrm>
                    <a:custGeom>
                      <a:avLst/>
                      <a:gdLst/>
                      <a:ahLst/>
                      <a:rect l="l" t="t" r="r" b="b"/>
                      <a:pathLst>
                        <a:path w="128" h="126">
                          <a:moveTo>
                            <a:pt x="128" y="0"/>
                          </a:moveTo>
                          <a:lnTo>
                            <a:pt x="80" y="126"/>
                          </a:lnTo>
                          <a:lnTo>
                            <a:pt x="0" y="48"/>
                          </a:lnTo>
                          <a:lnTo>
                            <a:pt x="12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H="1">
                      <a:off x="4791960" y="1725480"/>
                      <a:ext cx="165240" cy="16200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0" name=""/>
                <p:cNvGrpSpPr/>
                <p:nvPr/>
              </p:nvGrpSpPr>
              <p:grpSpPr>
                <a:xfrm>
                  <a:off x="3475440" y="1678320"/>
                  <a:ext cx="519840" cy="2671200"/>
                  <a:chOff x="3475440" y="1678320"/>
                  <a:chExt cx="519840" cy="2671200"/>
                </a:xfrm>
              </p:grpSpPr>
              <p:grpSp>
                <p:nvGrpSpPr>
                  <p:cNvPr id="681" name=""/>
                  <p:cNvGrpSpPr/>
                  <p:nvPr/>
                </p:nvGrpSpPr>
                <p:grpSpPr>
                  <a:xfrm>
                    <a:off x="3475440" y="1678320"/>
                    <a:ext cx="519840" cy="2671200"/>
                    <a:chOff x="3475440" y="1678320"/>
                    <a:chExt cx="519840" cy="2671200"/>
                  </a:xfrm>
                </p:grpSpPr>
                <p:sp>
                  <p:nvSpPr>
                    <p:cNvPr id="682" name=""/>
                    <p:cNvSpPr/>
                    <p:nvPr/>
                  </p:nvSpPr>
                  <p:spPr>
                    <a:xfrm>
                      <a:off x="3487320" y="1678320"/>
                      <a:ext cx="507960" cy="2520000"/>
                    </a:xfrm>
                    <a:custGeom>
                      <a:avLst/>
                      <a:gdLst/>
                      <a:ahLst/>
                      <a:rect l="l" t="t" r="r" b="b"/>
                      <a:pathLst>
                        <a:path stroke="0" w="21600" h="21600">
                          <a:moveTo>
                            <a:pt x="21600" y="10786"/>
                          </a:moveTo>
                          <a:arcTo wR="10800" hR="10800" stAng="-4327" swAng="5404327"/>
                          <a:lnTo>
                            <a:pt x="10800" y="10800"/>
                          </a:lnTo>
                          <a:close/>
                        </a:path>
                        <a:path fill="none" w="21600" h="21600">
                          <a:moveTo>
                            <a:pt x="21600" y="10786"/>
                          </a:moveTo>
                          <a:arcTo wR="10800" hR="10800" stAng="-4327" swAng="5404327"/>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475440" y="1825560"/>
                      <a:ext cx="506880" cy="252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aa"/>
                    </a:solid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3627000" y="4087800"/>
                    <a:ext cx="203400" cy="199800"/>
                    <a:chOff x="3627000" y="4087800"/>
                    <a:chExt cx="203400" cy="199800"/>
                  </a:xfrm>
                </p:grpSpPr>
                <p:sp>
                  <p:nvSpPr>
                    <p:cNvPr id="685" name=""/>
                    <p:cNvSpPr/>
                    <p:nvPr/>
                  </p:nvSpPr>
                  <p:spPr>
                    <a:xfrm>
                      <a:off x="3627000" y="4087800"/>
                      <a:ext cx="203400" cy="199800"/>
                    </a:xfrm>
                    <a:custGeom>
                      <a:avLst/>
                      <a:gdLst/>
                      <a:ahLst/>
                      <a:rect l="l" t="t" r="r" b="b"/>
                      <a:pathLst>
                        <a:path w="128" h="126">
                          <a:moveTo>
                            <a:pt x="0" y="126"/>
                          </a:moveTo>
                          <a:lnTo>
                            <a:pt x="48" y="0"/>
                          </a:lnTo>
                          <a:lnTo>
                            <a:pt x="128" y="78"/>
                          </a:lnTo>
                          <a:lnTo>
                            <a:pt x="0" y="1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H="1">
                      <a:off x="3664800" y="4149720"/>
                      <a:ext cx="50760" cy="48960"/>
                    </a:xfrm>
                    <a:prstGeom prst="line">
                      <a:avLst/>
                    </a:prstGeom>
                    <a:ln w="50760">
                      <a:solidFill>
                        <a:srgbClr val="ffff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87" name=""/>
                <p:cNvGrpSpPr/>
                <p:nvPr/>
              </p:nvGrpSpPr>
              <p:grpSpPr>
                <a:xfrm>
                  <a:off x="3159000" y="2576520"/>
                  <a:ext cx="2243160" cy="1186200"/>
                  <a:chOff x="3159000" y="2576520"/>
                  <a:chExt cx="2243160" cy="1186200"/>
                </a:xfrm>
              </p:grpSpPr>
              <p:sp>
                <p:nvSpPr>
                  <p:cNvPr id="688" name=""/>
                  <p:cNvSpPr/>
                  <p:nvPr/>
                </p:nvSpPr>
                <p:spPr>
                  <a:xfrm>
                    <a:off x="317160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27312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27312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273120" y="258876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273120" y="258876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273120" y="2662200"/>
                    <a:ext cx="1144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15900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15936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376440" y="286380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374640" y="2862000"/>
                    <a:ext cx="126720" cy="288720"/>
                  </a:xfrm>
                  <a:custGeom>
                    <a:avLst/>
                    <a:gdLst/>
                    <a:ahLst/>
                    <a:rect l="l" t="t" r="r" b="b"/>
                    <a:pathLst>
                      <a:path stroke="0" w="21600" h="21600">
                        <a:moveTo>
                          <a:pt x="10525" y="3"/>
                        </a:moveTo>
                        <a:arcTo wR="10800" hR="10800" stAng="-5487496" swAng="5448013"/>
                        <a:lnTo>
                          <a:pt x="10800" y="10800"/>
                        </a:lnTo>
                        <a:close/>
                      </a:path>
                      <a:path fill="none" w="21600" h="21600">
                        <a:moveTo>
                          <a:pt x="10525" y="3"/>
                        </a:moveTo>
                        <a:arcTo wR="10800" hR="10800" stAng="-5487496" swAng="5448013"/>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374640" y="2588760"/>
                    <a:ext cx="127080" cy="28584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375000" y="2587680"/>
                    <a:ext cx="126360" cy="288360"/>
                  </a:xfrm>
                  <a:custGeom>
                    <a:avLst/>
                    <a:gdLst/>
                    <a:ahLst/>
                    <a:rect l="l" t="t" r="r" b="b"/>
                    <a:pathLst>
                      <a:path stroke="0" w="21600" h="21600">
                        <a:moveTo>
                          <a:pt x="21599" y="10676"/>
                        </a:moveTo>
                        <a:arcTo wR="10800" hR="10800" stAng="-39483" swAng="5528967"/>
                        <a:lnTo>
                          <a:pt x="10800" y="10800"/>
                        </a:lnTo>
                        <a:close/>
                      </a:path>
                      <a:path fill="none" w="21600" h="21600">
                        <a:moveTo>
                          <a:pt x="21599" y="10676"/>
                        </a:moveTo>
                        <a:arcTo wR="10800" hR="10800" stAng="-39483" swAng="5528967"/>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374640" y="2662200"/>
                    <a:ext cx="12564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48732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347508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487320" y="258876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47544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487320" y="2662200"/>
                    <a:ext cx="1144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589200" y="2862000"/>
                    <a:ext cx="11340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57660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589200" y="2588760"/>
                    <a:ext cx="1134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57696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58920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69072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67812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690720" y="258876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678480" y="258876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690720" y="2662200"/>
                    <a:ext cx="11412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79224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79224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792240" y="258876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792240" y="258876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792240" y="2662200"/>
                    <a:ext cx="114480" cy="1508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24792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23568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24792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23532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24792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349440" y="296388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349800" y="2963880"/>
                    <a:ext cx="1134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350880" y="325116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349800" y="3249360"/>
                    <a:ext cx="11340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34944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450960" y="2963880"/>
                    <a:ext cx="126000" cy="285120"/>
                  </a:xfrm>
                  <a:custGeom>
                    <a:avLst/>
                    <a:gdLst/>
                    <a:ahLst/>
                    <a:rect l="l" t="t" r="r" b="b"/>
                    <a:pathLst>
                      <a:path stroke="0" w="21600" h="21600">
                        <a:moveTo>
                          <a:pt x="10519" y="21596"/>
                        </a:moveTo>
                        <a:arcTo wR="10800" hR="10800" stAng="5489484" swAng="5348026"/>
                        <a:lnTo>
                          <a:pt x="10800" y="10800"/>
                        </a:lnTo>
                        <a:close/>
                      </a:path>
                      <a:path fill="none" w="21600" h="21600">
                        <a:moveTo>
                          <a:pt x="10519" y="21596"/>
                        </a:moveTo>
                        <a:arcTo wR="10800" hR="10800" stAng="5489484" swAng="534802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450960" y="2962440"/>
                    <a:ext cx="114120" cy="288360"/>
                  </a:xfrm>
                  <a:custGeom>
                    <a:avLst/>
                    <a:gdLst/>
                    <a:ahLst/>
                    <a:rect l="l" t="t" r="r" b="b"/>
                    <a:pathLst>
                      <a:path stroke="0" w="21600" h="21600">
                        <a:moveTo>
                          <a:pt x="21599" y="10675"/>
                        </a:moveTo>
                        <a:arcTo wR="10800" hR="10800" stAng="-39660" swAng="5539221"/>
                        <a:lnTo>
                          <a:pt x="10800" y="10800"/>
                        </a:lnTo>
                        <a:close/>
                      </a:path>
                      <a:path fill="none" w="21600" h="21600">
                        <a:moveTo>
                          <a:pt x="21599" y="10675"/>
                        </a:moveTo>
                        <a:arcTo wR="10800" hR="10800" stAng="-39660" swAng="5539221"/>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452400" y="3251160"/>
                    <a:ext cx="123480" cy="285480"/>
                  </a:xfrm>
                  <a:custGeom>
                    <a:avLst/>
                    <a:gdLst/>
                    <a:ahLst/>
                    <a:rect l="l" t="t" r="r" b="b"/>
                    <a:pathLst>
                      <a:path stroke="0" w="21600" h="21600">
                        <a:moveTo>
                          <a:pt x="1" y="10682"/>
                        </a:moveTo>
                        <a:arcTo wR="10800" hR="10800" stAng="-10762490" swAng="5274994"/>
                        <a:lnTo>
                          <a:pt x="10800" y="10800"/>
                        </a:lnTo>
                        <a:close/>
                      </a:path>
                      <a:path fill="none" w="21600" h="21600">
                        <a:moveTo>
                          <a:pt x="1" y="10682"/>
                        </a:moveTo>
                        <a:arcTo wR="10800" hR="10800" stAng="-10762490" swAng="527499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450960" y="3249360"/>
                    <a:ext cx="114120" cy="288720"/>
                  </a:xfrm>
                  <a:custGeom>
                    <a:avLst/>
                    <a:gdLst/>
                    <a:ahLst/>
                    <a:rect l="l" t="t" r="r" b="b"/>
                    <a:pathLst>
                      <a:path stroke="0" w="21600" h="21600">
                        <a:moveTo>
                          <a:pt x="10494" y="4"/>
                        </a:moveTo>
                        <a:arcTo wR="10800" hR="10800" stAng="-5497350" swAng="5457690"/>
                        <a:lnTo>
                          <a:pt x="10800" y="10800"/>
                        </a:lnTo>
                        <a:close/>
                      </a:path>
                      <a:path fill="none" w="21600" h="21600">
                        <a:moveTo>
                          <a:pt x="10494" y="4"/>
                        </a:moveTo>
                        <a:arcTo wR="10800" hR="10800" stAng="-5497350" swAng="5457690"/>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450960" y="3313080"/>
                    <a:ext cx="1126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55104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550680" y="296388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55104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5068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551040" y="3313080"/>
                    <a:ext cx="1270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665160" y="296388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52200" y="296388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665160" y="324936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65220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66516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767040" y="296388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54800" y="296388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76704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5444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704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944520" y="2700360"/>
                    <a:ext cx="722520" cy="712800"/>
                  </a:xfrm>
                  <a:prstGeom prst="ellipse">
                    <a:avLst/>
                  </a:prstGeom>
                  <a:solidFill>
                    <a:srgbClr val="ffffff"/>
                  </a:solidFill>
                  <a:ln w="38160">
                    <a:solidFill>
                      <a:srgbClr val="99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868640" y="286200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856040" y="286200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8640" y="2576520"/>
                    <a:ext cx="11412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56400" y="2576520"/>
                    <a:ext cx="12600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86864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97016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720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970160" y="257652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95720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97016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071680" y="286200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07168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071680" y="2576520"/>
                    <a:ext cx="12708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07168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071680" y="265104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17356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17320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517356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17320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17356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17356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173200" y="286200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17356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173200" y="2576520"/>
                    <a:ext cx="11412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173560" y="265104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75080" y="286200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274720" y="286200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275080" y="2576520"/>
                    <a:ext cx="126000" cy="28512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5274720" y="2576520"/>
                    <a:ext cx="127080" cy="28512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275080" y="2651040"/>
                    <a:ext cx="1270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843080" y="2976120"/>
                    <a:ext cx="11412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830120" y="2976120"/>
                    <a:ext cx="12708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843080" y="3249360"/>
                    <a:ext cx="11412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830120" y="3249360"/>
                    <a:ext cx="12708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84308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944960" y="2976120"/>
                    <a:ext cx="1134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93272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944960" y="3249360"/>
                    <a:ext cx="11340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93236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94496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04648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5034240" y="2976120"/>
                    <a:ext cx="12600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04648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033880" y="3249360"/>
                    <a:ext cx="12636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046480" y="3313080"/>
                    <a:ext cx="11412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14800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148000" y="297612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14800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14800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14800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5148000" y="2976120"/>
                    <a:ext cx="12600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5148000" y="297612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148000" y="3249360"/>
                    <a:ext cx="12636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14800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14800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49520" y="2976120"/>
                    <a:ext cx="127080" cy="285840"/>
                  </a:xfrm>
                  <a:custGeom>
                    <a:avLst/>
                    <a:gdLst/>
                    <a:ahLst/>
                    <a:rect l="l" t="t" r="r" b="b"/>
                    <a:pathLst>
                      <a:path stroke="0" w="21600" h="21600">
                        <a:moveTo>
                          <a:pt x="10800" y="21600"/>
                        </a:moveTo>
                        <a:arcTo wR="10800" hR="10800" stAng="5400000" swAng="5437985"/>
                        <a:lnTo>
                          <a:pt x="10800" y="10800"/>
                        </a:lnTo>
                        <a:close/>
                      </a:path>
                      <a:path fill="none" w="21600" h="21600">
                        <a:moveTo>
                          <a:pt x="10800" y="21600"/>
                        </a:moveTo>
                        <a:arcTo wR="10800" hR="10800" stAng="5400000" swAng="543798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249520" y="2976120"/>
                    <a:ext cx="114120" cy="285840"/>
                  </a:xfrm>
                  <a:custGeom>
                    <a:avLst/>
                    <a:gdLst/>
                    <a:ahLst/>
                    <a:rect l="l" t="t" r="r" b="b"/>
                    <a:pathLst>
                      <a:path stroke="0" w="21600" h="21600">
                        <a:moveTo>
                          <a:pt x="21599" y="10681"/>
                        </a:moveTo>
                        <a:arcTo wR="10800" hR="10800" stAng="-37984" swAng="5437984"/>
                        <a:lnTo>
                          <a:pt x="10800" y="10800"/>
                        </a:lnTo>
                        <a:close/>
                      </a:path>
                      <a:path fill="none" w="21600" h="21600">
                        <a:moveTo>
                          <a:pt x="21599" y="10681"/>
                        </a:moveTo>
                        <a:arcTo wR="10800" hR="10800" stAng="-37984" swAng="5437984"/>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249520" y="3249360"/>
                    <a:ext cx="127080" cy="288720"/>
                  </a:xfrm>
                  <a:custGeom>
                    <a:avLst/>
                    <a:gdLst/>
                    <a:ahLst/>
                    <a:rect l="l" t="t" r="r" b="b"/>
                    <a:pathLst>
                      <a:path stroke="0" w="21600" h="21600">
                        <a:moveTo>
                          <a:pt x="1" y="10681"/>
                        </a:moveTo>
                        <a:arcTo wR="10800" hR="10800" stAng="-10762015" swAng="5362015"/>
                        <a:lnTo>
                          <a:pt x="10800" y="10800"/>
                        </a:lnTo>
                        <a:close/>
                      </a:path>
                      <a:path fill="none" w="21600" h="21600">
                        <a:moveTo>
                          <a:pt x="1" y="10681"/>
                        </a:moveTo>
                        <a:arcTo wR="10800" hR="10800" stAng="-10762015" swAng="5362015"/>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249520" y="3249360"/>
                    <a:ext cx="114120" cy="288720"/>
                  </a:xfrm>
                  <a:custGeom>
                    <a:avLst/>
                    <a:gdLst/>
                    <a:ahLst/>
                    <a:rect l="l" t="t" r="r" b="b"/>
                    <a:pathLst>
                      <a:path stroke="0" w="21600" h="21600">
                        <a:moveTo>
                          <a:pt x="10800" y="0"/>
                        </a:moveTo>
                        <a:arcTo wR="10800" hR="10800" stAng="-5400000" swAng="5362016"/>
                        <a:lnTo>
                          <a:pt x="10800" y="10800"/>
                        </a:lnTo>
                        <a:close/>
                      </a:path>
                      <a:path fill="none" w="21600" h="21600">
                        <a:moveTo>
                          <a:pt x="10800" y="0"/>
                        </a:moveTo>
                        <a:arcTo wR="10800" hR="10800" stAng="-5400000" swAng="5362016"/>
                      </a:path>
                    </a:pathLst>
                  </a:custGeom>
                  <a:solidFill>
                    <a:srgbClr val="0000aa"/>
                  </a:solidFill>
                  <a:ln w="1260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5249520" y="3313080"/>
                    <a:ext cx="114480" cy="149040"/>
                  </a:xfrm>
                  <a:prstGeom prst="ellipse">
                    <a:avLst/>
                  </a:prstGeom>
                  <a:solidFill>
                    <a:srgbClr val="ffff99"/>
                  </a:solidFill>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2" name=""/>
                  <p:cNvGrpSpPr/>
                  <p:nvPr/>
                </p:nvGrpSpPr>
                <p:grpSpPr>
                  <a:xfrm>
                    <a:off x="3487320" y="3487680"/>
                    <a:ext cx="1685880" cy="275040"/>
                    <a:chOff x="3487320" y="3487680"/>
                    <a:chExt cx="1685880" cy="275040"/>
                  </a:xfrm>
                </p:grpSpPr>
                <p:sp>
                  <p:nvSpPr>
                    <p:cNvPr id="813" name=""/>
                    <p:cNvSpPr/>
                    <p:nvPr/>
                  </p:nvSpPr>
                  <p:spPr>
                    <a:xfrm>
                      <a:off x="3487320" y="3487680"/>
                      <a:ext cx="1647720" cy="275040"/>
                    </a:xfrm>
                    <a:custGeom>
                      <a:avLst/>
                      <a:gdLst/>
                      <a:ahLst/>
                      <a:rect l="l" t="t" r="r" b="b"/>
                      <a:pathLst>
                        <a:path stroke="0" w="21600" h="21600">
                          <a:moveTo>
                            <a:pt x="10800" y="0"/>
                          </a:moveTo>
                          <a:arcTo wR="10800" hR="10800" stAng="-5400000" swAng="5360260"/>
                          <a:lnTo>
                            <a:pt x="10800" y="10800"/>
                          </a:lnTo>
                          <a:close/>
                        </a:path>
                        <a:path fill="none" w="21600" h="21600">
                          <a:moveTo>
                            <a:pt x="10800" y="0"/>
                          </a:moveTo>
                          <a:arcTo wR="10800" hR="10800" stAng="-5400000" swAng="5360260"/>
                        </a:path>
                      </a:pathLst>
                    </a:custGeom>
                    <a:noFill/>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525480" y="3487680"/>
                      <a:ext cx="1647720" cy="275040"/>
                    </a:xfrm>
                    <a:custGeom>
                      <a:avLst/>
                      <a:gdLst/>
                      <a:ahLst/>
                      <a:rect l="l" t="t" r="r" b="b"/>
                      <a:pathLst>
                        <a:path stroke="0" w="21600" h="21600">
                          <a:moveTo>
                            <a:pt x="1" y="10675"/>
                          </a:moveTo>
                          <a:arcTo wR="10800" hR="10800" stAng="-10760259" swAng="5360259"/>
                          <a:lnTo>
                            <a:pt x="10800" y="10800"/>
                          </a:lnTo>
                          <a:close/>
                        </a:path>
                        <a:path fill="none" w="21600" h="21600">
                          <a:moveTo>
                            <a:pt x="1" y="10675"/>
                          </a:moveTo>
                          <a:arcTo wR="10800" hR="10800" stAng="-10760259" swAng="5360259"/>
                        </a:path>
                      </a:pathLst>
                    </a:custGeom>
                    <a:no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5" name=""/>
                <p:cNvSpPr/>
                <p:nvPr/>
              </p:nvSpPr>
              <p:spPr>
                <a:xfrm>
                  <a:off x="2928600" y="349020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TP</a:t>
                  </a:r>
                  <a:endParaRPr b="0" lang="en-US" sz="1800" spc="-1" strike="noStrike">
                    <a:solidFill>
                      <a:srgbClr val="000000"/>
                    </a:solidFill>
                    <a:latin typeface="Times New Roman"/>
                  </a:endParaRPr>
                </a:p>
              </p:txBody>
            </p:sp>
          </p:grpSp>
        </p:grpSp>
      </p:grpSp>
      <p:sp>
        <p:nvSpPr>
          <p:cNvPr id="816"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8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Systems L (leu, ile, phe, val) &amp; xc- (cys, glu)</a:t>
            </a:r>
            <a:endParaRPr b="1" lang="en-US" sz="28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8" name=""/>
          <p:cNvSpPr/>
          <p:nvPr/>
        </p:nvSpPr>
        <p:spPr>
          <a:xfrm>
            <a:off x="1220760" y="5321160"/>
            <a:ext cx="77709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membrane potential drives accumulation of cationic amino acids by a mechanism of facilitated diffusion.</a:t>
            </a:r>
            <a:endParaRPr b="0" lang="en-US" sz="2000" spc="-1" strike="noStrike">
              <a:solidFill>
                <a:srgbClr val="000000"/>
              </a:solidFill>
              <a:latin typeface="Times New Roman"/>
            </a:endParaRPr>
          </a:p>
        </p:txBody>
      </p:sp>
      <p:sp>
        <p:nvSpPr>
          <p:cNvPr id="8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stem y+ (lys, his, arg)</a:t>
            </a:r>
            <a:endParaRPr b="1" lang="en-US" sz="3200" spc="-1" strike="noStrike">
              <a:solidFill>
                <a:srgbClr val="fafd00"/>
              </a:solidFill>
              <a:latin typeface="Arial"/>
            </a:endParaRPr>
          </a:p>
        </p:txBody>
      </p:sp>
      <p:grpSp>
        <p:nvGrpSpPr>
          <p:cNvPr id="820" name=""/>
          <p:cNvGrpSpPr/>
          <p:nvPr/>
        </p:nvGrpSpPr>
        <p:grpSpPr>
          <a:xfrm>
            <a:off x="1737360" y="825480"/>
            <a:ext cx="6187320" cy="4202640"/>
            <a:chOff x="1737360" y="825480"/>
            <a:chExt cx="6187320" cy="4202640"/>
          </a:xfrm>
        </p:grpSpPr>
        <p:grpSp>
          <p:nvGrpSpPr>
            <p:cNvPr id="821" name=""/>
            <p:cNvGrpSpPr/>
            <p:nvPr/>
          </p:nvGrpSpPr>
          <p:grpSpPr>
            <a:xfrm>
              <a:off x="1737360" y="825480"/>
              <a:ext cx="1763640" cy="4202640"/>
              <a:chOff x="1737360" y="825480"/>
              <a:chExt cx="1763640" cy="4202640"/>
            </a:xfrm>
          </p:grpSpPr>
          <p:sp>
            <p:nvSpPr>
              <p:cNvPr id="822" name=""/>
              <p:cNvSpPr/>
              <p:nvPr/>
            </p:nvSpPr>
            <p:spPr>
              <a:xfrm>
                <a:off x="2668320" y="1822320"/>
                <a:ext cx="0" cy="228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964160" y="1206360"/>
                <a:ext cx="1199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  +  +</a:t>
                </a:r>
                <a:endParaRPr b="0" lang="en-US" sz="2000" spc="-1" strike="noStrike">
                  <a:solidFill>
                    <a:srgbClr val="000000"/>
                  </a:solidFill>
                  <a:latin typeface="Times New Roman"/>
                </a:endParaRPr>
              </a:p>
            </p:txBody>
          </p:sp>
          <p:sp>
            <p:nvSpPr>
              <p:cNvPr id="824" name=""/>
              <p:cNvSpPr/>
              <p:nvPr/>
            </p:nvSpPr>
            <p:spPr>
              <a:xfrm>
                <a:off x="1737720" y="15872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825" name=""/>
              <p:cNvSpPr/>
              <p:nvPr/>
            </p:nvSpPr>
            <p:spPr>
              <a:xfrm>
                <a:off x="2880720" y="1587240"/>
                <a:ext cx="62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826" name=""/>
              <p:cNvSpPr/>
              <p:nvPr/>
            </p:nvSpPr>
            <p:spPr>
              <a:xfrm>
                <a:off x="2346120" y="825480"/>
                <a:ext cx="685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Geneva"/>
                  </a:rPr>
                  <a:t> </a:t>
                </a:r>
                <a:endParaRPr b="0" lang="en-US" sz="2000" spc="-1" strike="noStrike">
                  <a:solidFill>
                    <a:srgbClr val="000000"/>
                  </a:solidFill>
                  <a:latin typeface="Times New Roman"/>
                </a:endParaRPr>
              </a:p>
            </p:txBody>
          </p:sp>
          <p:sp>
            <p:nvSpPr>
              <p:cNvPr id="827" name=""/>
              <p:cNvSpPr/>
              <p:nvPr/>
            </p:nvSpPr>
            <p:spPr>
              <a:xfrm>
                <a:off x="1737360" y="4086000"/>
                <a:ext cx="154836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   -</a:t>
                </a:r>
                <a:endParaRPr b="0" lang="en-US" sz="2800" spc="-1" strike="noStrike">
                  <a:solidFill>
                    <a:srgbClr val="000000"/>
                  </a:solidFill>
                  <a:latin typeface="Times New Roman"/>
                </a:endParaRPr>
              </a:p>
            </p:txBody>
          </p:sp>
        </p:grpSp>
        <p:grpSp>
          <p:nvGrpSpPr>
            <p:cNvPr id="828" name=""/>
            <p:cNvGrpSpPr/>
            <p:nvPr/>
          </p:nvGrpSpPr>
          <p:grpSpPr>
            <a:xfrm>
              <a:off x="6078600" y="1746000"/>
              <a:ext cx="1563120" cy="2503440"/>
              <a:chOff x="6078600" y="1746000"/>
              <a:chExt cx="1563120" cy="2503440"/>
            </a:xfrm>
          </p:grpSpPr>
          <p:sp>
            <p:nvSpPr>
              <p:cNvPr id="829" name=""/>
              <p:cNvSpPr/>
              <p:nvPr/>
            </p:nvSpPr>
            <p:spPr>
              <a:xfrm>
                <a:off x="7134120" y="2808000"/>
                <a:ext cx="8892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12188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7134120" y="2527200"/>
                <a:ext cx="8892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2008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13268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4" name=""/>
              <p:cNvSpPr/>
              <p:nvPr/>
            </p:nvSpPr>
            <p:spPr>
              <a:xfrm>
                <a:off x="7235640" y="280800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340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35640" y="2527200"/>
                <a:ext cx="10188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60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3420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9" name=""/>
              <p:cNvSpPr/>
              <p:nvPr/>
            </p:nvSpPr>
            <p:spPr>
              <a:xfrm>
                <a:off x="73375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33752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33752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336080" y="2527200"/>
                <a:ext cx="8820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33572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44" name=""/>
              <p:cNvSpPr/>
              <p:nvPr/>
            </p:nvSpPr>
            <p:spPr>
              <a:xfrm>
                <a:off x="743904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43904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43904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437600" y="2527200"/>
                <a:ext cx="8820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43724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49" name=""/>
              <p:cNvSpPr/>
              <p:nvPr/>
            </p:nvSpPr>
            <p:spPr>
              <a:xfrm>
                <a:off x="743904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43904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3904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437600" y="2527200"/>
                <a:ext cx="8820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437240" y="26031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54" name=""/>
              <p:cNvSpPr/>
              <p:nvPr/>
            </p:nvSpPr>
            <p:spPr>
              <a:xfrm>
                <a:off x="754056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4056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959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09452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0959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09596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094520" y="326376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61" name=""/>
              <p:cNvSpPr/>
              <p:nvPr/>
            </p:nvSpPr>
            <p:spPr>
              <a:xfrm>
                <a:off x="7210440" y="29210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19604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7210440" y="320184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19748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20864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66" name=""/>
              <p:cNvSpPr/>
              <p:nvPr/>
            </p:nvSpPr>
            <p:spPr>
              <a:xfrm>
                <a:off x="73119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29792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3119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29972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3105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71" name=""/>
              <p:cNvSpPr/>
              <p:nvPr/>
            </p:nvSpPr>
            <p:spPr>
              <a:xfrm>
                <a:off x="741348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39944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41348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40124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41204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76" name=""/>
              <p:cNvSpPr/>
              <p:nvPr/>
            </p:nvSpPr>
            <p:spPr>
              <a:xfrm>
                <a:off x="741348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739944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41348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40124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41204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1" name=""/>
              <p:cNvSpPr/>
              <p:nvPr/>
            </p:nvSpPr>
            <p:spPr>
              <a:xfrm>
                <a:off x="75153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513920" y="29210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5153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515720" y="3201840"/>
                <a:ext cx="8784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51356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86" name=""/>
              <p:cNvSpPr/>
              <p:nvPr/>
            </p:nvSpPr>
            <p:spPr>
              <a:xfrm>
                <a:off x="6732720" y="2660400"/>
                <a:ext cx="317520" cy="660600"/>
              </a:xfrm>
              <a:custGeom>
                <a:avLst/>
                <a:gdLst>
                  <a:gd name="textAreaLeft" fmla="*/ 46440 w 317520"/>
                  <a:gd name="textAreaRight" fmla="*/ 271080 w 317520"/>
                  <a:gd name="textAreaTop" fmla="*/ 46440 h 660600"/>
                  <a:gd name="textAreaBottom" fmla="*/ 614160 h 660600"/>
                </a:gdLst>
                <a:ahLst/>
                <a:rect l="textAreaLeft" t="textAreaTop" r="textAreaRight" b="textAreaBottom"/>
                <a:pathLst>
                  <a:path w="21600" h="44912">
                    <a:moveTo>
                      <a:pt x="10799" y="0"/>
                    </a:moveTo>
                    <a:arcTo wR="10799" hR="10799" stAng="16200000" swAng="-5400000"/>
                    <a:lnTo>
                      <a:pt x="0" y="34113"/>
                    </a:lnTo>
                    <a:arcTo wR="10799" hR="10799" stAng="10800000" swAng="-5400000"/>
                    <a:lnTo>
                      <a:pt x="10801" y="44912"/>
                    </a:lnTo>
                    <a:arcTo wR="10799" hR="10799" stAng="5400000" swAng="-5400000"/>
                    <a:lnTo>
                      <a:pt x="21600" y="10799"/>
                    </a:lnTo>
                    <a:arcTo wR="10799" hR="10799" stAng="0" swAng="-5400000"/>
                    <a:close/>
                  </a:path>
                </a:pathLst>
              </a:cu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1182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11820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11820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116400" y="2527200"/>
                <a:ext cx="8892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116760" y="26031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92" name=""/>
              <p:cNvSpPr/>
              <p:nvPr/>
            </p:nvSpPr>
            <p:spPr>
              <a:xfrm>
                <a:off x="62197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22008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21972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21828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218280" y="2603160"/>
                <a:ext cx="1015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97" name=""/>
              <p:cNvSpPr/>
              <p:nvPr/>
            </p:nvSpPr>
            <p:spPr>
              <a:xfrm>
                <a:off x="6334200" y="280800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32124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334200" y="2527200"/>
                <a:ext cx="8820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31980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332400" y="26031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02" name=""/>
              <p:cNvSpPr/>
              <p:nvPr/>
            </p:nvSpPr>
            <p:spPr>
              <a:xfrm>
                <a:off x="64357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42276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43572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42132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434280" y="2603160"/>
                <a:ext cx="8856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07" name=""/>
              <p:cNvSpPr/>
              <p:nvPr/>
            </p:nvSpPr>
            <p:spPr>
              <a:xfrm>
                <a:off x="653724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52500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53724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52320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535800" y="26031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12" name=""/>
              <p:cNvSpPr/>
              <p:nvPr/>
            </p:nvSpPr>
            <p:spPr>
              <a:xfrm>
                <a:off x="663876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63876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63876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636960" y="2527200"/>
                <a:ext cx="8892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637320" y="26031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17" name=""/>
              <p:cNvSpPr/>
              <p:nvPr/>
            </p:nvSpPr>
            <p:spPr>
              <a:xfrm>
                <a:off x="6092640" y="29210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07860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092640" y="320184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08040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09120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22" name=""/>
              <p:cNvSpPr/>
              <p:nvPr/>
            </p:nvSpPr>
            <p:spPr>
              <a:xfrm>
                <a:off x="619452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193080" y="29210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19452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9452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19272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27" name=""/>
              <p:cNvSpPr/>
              <p:nvPr/>
            </p:nvSpPr>
            <p:spPr>
              <a:xfrm>
                <a:off x="629604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29460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2960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29640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294240" y="3276360"/>
                <a:ext cx="10188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32" name=""/>
              <p:cNvSpPr/>
              <p:nvPr/>
            </p:nvSpPr>
            <p:spPr>
              <a:xfrm>
                <a:off x="6410160" y="29210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39612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10160" y="320184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39792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40872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37" name=""/>
              <p:cNvSpPr/>
              <p:nvPr/>
            </p:nvSpPr>
            <p:spPr>
              <a:xfrm>
                <a:off x="6512040" y="29210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49764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512040" y="320184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49908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51024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42" name=""/>
              <p:cNvSpPr/>
              <p:nvPr/>
            </p:nvSpPr>
            <p:spPr>
              <a:xfrm>
                <a:off x="66135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59916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6135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60060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611760" y="3276360"/>
                <a:ext cx="88920" cy="1144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947" name=""/>
              <p:cNvGrpSpPr/>
              <p:nvPr/>
            </p:nvGrpSpPr>
            <p:grpSpPr>
              <a:xfrm>
                <a:off x="6834240" y="1746000"/>
                <a:ext cx="141120" cy="2503440"/>
                <a:chOff x="6834240" y="1746000"/>
                <a:chExt cx="141120" cy="2503440"/>
              </a:xfrm>
            </p:grpSpPr>
            <p:sp>
              <p:nvSpPr>
                <p:cNvPr id="948" name=""/>
                <p:cNvSpPr/>
                <p:nvPr/>
              </p:nvSpPr>
              <p:spPr>
                <a:xfrm>
                  <a:off x="6834240" y="4057560"/>
                  <a:ext cx="141120" cy="191880"/>
                </a:xfrm>
                <a:custGeom>
                  <a:avLst/>
                  <a:gdLst/>
                  <a:ahLst/>
                  <a:rect l="l" t="t" r="r" b="b"/>
                  <a:pathLst>
                    <a:path w="89" h="121">
                      <a:moveTo>
                        <a:pt x="44" y="120"/>
                      </a:moveTo>
                      <a:lnTo>
                        <a:pt x="0" y="0"/>
                      </a:lnTo>
                      <a:lnTo>
                        <a:pt x="88" y="0"/>
                      </a:lnTo>
                      <a:lnTo>
                        <a:pt x="44" y="12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910200" y="1746000"/>
                  <a:ext cx="0" cy="2400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50" name=""/>
            <p:cNvSpPr/>
            <p:nvPr/>
          </p:nvSpPr>
          <p:spPr>
            <a:xfrm>
              <a:off x="388116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951" name=""/>
            <p:cNvGrpSpPr/>
            <p:nvPr/>
          </p:nvGrpSpPr>
          <p:grpSpPr>
            <a:xfrm>
              <a:off x="5413320" y="1618920"/>
              <a:ext cx="456120" cy="2655720"/>
              <a:chOff x="5413320" y="1618920"/>
              <a:chExt cx="456120" cy="2655720"/>
            </a:xfrm>
          </p:grpSpPr>
          <p:sp>
            <p:nvSpPr>
              <p:cNvPr id="952" name=""/>
              <p:cNvSpPr/>
              <p:nvPr/>
            </p:nvSpPr>
            <p:spPr>
              <a:xfrm>
                <a:off x="5413320" y="1618920"/>
                <a:ext cx="443160" cy="2501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425560" y="1773000"/>
                <a:ext cx="443880" cy="2501640"/>
              </a:xfrm>
              <a:custGeom>
                <a:avLst/>
                <a:gdLst/>
                <a:ahLst/>
                <a:rect l="l" t="t" r="r" b="b"/>
                <a:pathLst>
                  <a:path stroke="0" w="21600" h="21600">
                    <a:moveTo>
                      <a:pt x="0" y="10800"/>
                    </a:moveTo>
                    <a:arcTo wR="10800" hR="10800" stAng="10800000" swAng="5375446"/>
                    <a:lnTo>
                      <a:pt x="10800" y="10800"/>
                    </a:lnTo>
                    <a:close/>
                  </a:path>
                  <a:path fill="none" w="21600" h="21600">
                    <a:moveTo>
                      <a:pt x="0" y="10800"/>
                    </a:moveTo>
                    <a:arcTo wR="10800" hR="10800" stAng="10800000" swAng="5375446"/>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4" name=""/>
            <p:cNvGrpSpPr/>
            <p:nvPr/>
          </p:nvGrpSpPr>
          <p:grpSpPr>
            <a:xfrm>
              <a:off x="4206960" y="1618920"/>
              <a:ext cx="454680" cy="2655720"/>
              <a:chOff x="4206960" y="1618920"/>
              <a:chExt cx="454680" cy="2655720"/>
            </a:xfrm>
          </p:grpSpPr>
          <p:sp>
            <p:nvSpPr>
              <p:cNvPr id="955" name=""/>
              <p:cNvSpPr/>
              <p:nvPr/>
            </p:nvSpPr>
            <p:spPr>
              <a:xfrm>
                <a:off x="4217760" y="1618920"/>
                <a:ext cx="443880" cy="25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206960" y="1773000"/>
                <a:ext cx="443520" cy="2501640"/>
              </a:xfrm>
              <a:custGeom>
                <a:avLst/>
                <a:gdLst/>
                <a:ahLst/>
                <a:rect l="l" t="t" r="r" b="b"/>
                <a:pathLst>
                  <a:path stroke="0" w="21600" h="21600">
                    <a:moveTo>
                      <a:pt x="10723" y="0"/>
                    </a:moveTo>
                    <a:arcTo wR="10800" hR="10800" stAng="-5424554" swAng="5424554"/>
                    <a:lnTo>
                      <a:pt x="10800" y="10800"/>
                    </a:lnTo>
                    <a:close/>
                  </a:path>
                  <a:path fill="none" w="21600" h="21600">
                    <a:moveTo>
                      <a:pt x="10723" y="0"/>
                    </a:moveTo>
                    <a:arcTo wR="10800" hR="10800" stAng="-5424554" swAng="5424554"/>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398448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98448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98448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982680" y="2527200"/>
              <a:ext cx="8892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98304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62" name=""/>
            <p:cNvSpPr/>
            <p:nvPr/>
          </p:nvSpPr>
          <p:spPr>
            <a:xfrm>
              <a:off x="387000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86856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860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408636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08600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08456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084560" y="2603520"/>
              <a:ext cx="1015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69" name=""/>
            <p:cNvSpPr/>
            <p:nvPr/>
          </p:nvSpPr>
          <p:spPr>
            <a:xfrm>
              <a:off x="4200480" y="280800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418752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200480" y="2527200"/>
              <a:ext cx="8820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18608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19868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74" name=""/>
            <p:cNvSpPr/>
            <p:nvPr/>
          </p:nvSpPr>
          <p:spPr>
            <a:xfrm>
              <a:off x="4302000" y="280800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28904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302000" y="2527200"/>
              <a:ext cx="8820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28760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4300560" y="2603520"/>
              <a:ext cx="8856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79" name=""/>
            <p:cNvSpPr/>
            <p:nvPr/>
          </p:nvSpPr>
          <p:spPr>
            <a:xfrm>
              <a:off x="44035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439128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403520" y="2527200"/>
              <a:ext cx="10116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389480" y="2527200"/>
              <a:ext cx="10116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440208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84" name=""/>
            <p:cNvSpPr/>
            <p:nvPr/>
          </p:nvSpPr>
          <p:spPr>
            <a:xfrm>
              <a:off x="4505040" y="280800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50504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505040" y="2527200"/>
              <a:ext cx="101880" cy="266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4503240" y="2527200"/>
              <a:ext cx="88920" cy="266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503600" y="2603520"/>
              <a:ext cx="88920" cy="12672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89" name=""/>
            <p:cNvSpPr/>
            <p:nvPr/>
          </p:nvSpPr>
          <p:spPr>
            <a:xfrm>
              <a:off x="3958920" y="290844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944880" y="29084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958920" y="3201840"/>
              <a:ext cx="10188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394668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95748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94" name=""/>
            <p:cNvSpPr/>
            <p:nvPr/>
          </p:nvSpPr>
          <p:spPr>
            <a:xfrm>
              <a:off x="4060800" y="29084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4059360" y="29084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406080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06080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05900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99" name=""/>
            <p:cNvSpPr/>
            <p:nvPr/>
          </p:nvSpPr>
          <p:spPr>
            <a:xfrm>
              <a:off x="4162320" y="29084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160880" y="290844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416232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16232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1605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04" name=""/>
            <p:cNvSpPr/>
            <p:nvPr/>
          </p:nvSpPr>
          <p:spPr>
            <a:xfrm>
              <a:off x="4263840" y="29084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262400" y="29084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2638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26420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262400" y="3263760"/>
              <a:ext cx="1015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09" name=""/>
            <p:cNvSpPr/>
            <p:nvPr/>
          </p:nvSpPr>
          <p:spPr>
            <a:xfrm>
              <a:off x="4378320" y="29084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363920" y="29084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378320" y="320184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36536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3765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14" name=""/>
            <p:cNvSpPr/>
            <p:nvPr/>
          </p:nvSpPr>
          <p:spPr>
            <a:xfrm>
              <a:off x="4479840" y="29084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465440" y="29084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4798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46688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47804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19" name=""/>
            <p:cNvSpPr/>
            <p:nvPr/>
          </p:nvSpPr>
          <p:spPr>
            <a:xfrm>
              <a:off x="4674960" y="2660400"/>
              <a:ext cx="660600" cy="660600"/>
            </a:xfrm>
            <a:prstGeom prst="ellipse">
              <a:avLst/>
            </a:prstGeom>
            <a:solidFill>
              <a:srgbClr val="ffffff"/>
            </a:solidFill>
            <a:ln w="50760">
              <a:solidFill>
                <a:srgbClr val="99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584680" y="2808000"/>
              <a:ext cx="88200" cy="26676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571720" y="2808000"/>
              <a:ext cx="10152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584680" y="251460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569920" y="2514600"/>
              <a:ext cx="10188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58324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25" name=""/>
            <p:cNvSpPr/>
            <p:nvPr/>
          </p:nvSpPr>
          <p:spPr>
            <a:xfrm>
              <a:off x="56862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67396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86200" y="25146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672160" y="25146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68476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30" name=""/>
            <p:cNvSpPr/>
            <p:nvPr/>
          </p:nvSpPr>
          <p:spPr>
            <a:xfrm>
              <a:off x="5787720" y="2808000"/>
              <a:ext cx="10188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88440" y="2808000"/>
              <a:ext cx="8784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787720" y="2514600"/>
              <a:ext cx="10188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786640" y="25146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78628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35" name=""/>
            <p:cNvSpPr/>
            <p:nvPr/>
          </p:nvSpPr>
          <p:spPr>
            <a:xfrm>
              <a:off x="58896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88960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889600" y="25146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888160" y="25146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88780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40" name=""/>
            <p:cNvSpPr/>
            <p:nvPr/>
          </p:nvSpPr>
          <p:spPr>
            <a:xfrm>
              <a:off x="588960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889600" y="2808000"/>
              <a:ext cx="88560" cy="26640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889600" y="25146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888160" y="2514600"/>
              <a:ext cx="8820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887800" y="25905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45" name=""/>
            <p:cNvSpPr/>
            <p:nvPr/>
          </p:nvSpPr>
          <p:spPr>
            <a:xfrm>
              <a:off x="5991120" y="2808000"/>
              <a:ext cx="101160" cy="26676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991480" y="2808000"/>
              <a:ext cx="100800" cy="26640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991120" y="251460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989680" y="251460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5989320" y="2590560"/>
              <a:ext cx="10188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50" name=""/>
            <p:cNvSpPr/>
            <p:nvPr/>
          </p:nvSpPr>
          <p:spPr>
            <a:xfrm>
              <a:off x="5559120" y="2921040"/>
              <a:ext cx="8892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54508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559120" y="3201840"/>
              <a:ext cx="8892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546880" y="3201840"/>
              <a:ext cx="10080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55768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55" name=""/>
            <p:cNvSpPr/>
            <p:nvPr/>
          </p:nvSpPr>
          <p:spPr>
            <a:xfrm>
              <a:off x="5661000" y="2921040"/>
              <a:ext cx="8820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64660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661000" y="3201840"/>
              <a:ext cx="88200" cy="266040"/>
            </a:xfrm>
            <a:custGeom>
              <a:avLst/>
              <a:gdLst/>
              <a:ahLst/>
              <a:rect l="l" t="t" r="r" b="b"/>
              <a:pathLst>
                <a:path stroke="0" w="21600" h="21600">
                  <a:moveTo>
                    <a:pt x="0" y="10800"/>
                  </a:moveTo>
                  <a:arcTo wR="10800" hR="10800" stAng="10800000" swAng="5277276"/>
                  <a:lnTo>
                    <a:pt x="10800" y="10800"/>
                  </a:lnTo>
                  <a:close/>
                </a:path>
                <a:path fill="none" w="21600" h="21600">
                  <a:moveTo>
                    <a:pt x="0" y="10800"/>
                  </a:moveTo>
                  <a:arcTo wR="10800" hR="10800" stAng="10800000" swAng="527727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64804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65920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60" name=""/>
            <p:cNvSpPr/>
            <p:nvPr/>
          </p:nvSpPr>
          <p:spPr>
            <a:xfrm>
              <a:off x="576252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748120" y="2921040"/>
              <a:ext cx="10116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76252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749560" y="3201840"/>
              <a:ext cx="101520" cy="266040"/>
            </a:xfrm>
            <a:custGeom>
              <a:avLst/>
              <a:gdLst/>
              <a:ahLst/>
              <a:rect l="l" t="t" r="r" b="b"/>
              <a:pathLst>
                <a:path stroke="0" w="21600" h="21600">
                  <a:moveTo>
                    <a:pt x="10463" y="5"/>
                  </a:moveTo>
                  <a:arcTo wR="10800" hR="10800" stAng="-5507394" swAng="5507394"/>
                  <a:lnTo>
                    <a:pt x="10800" y="10800"/>
                  </a:lnTo>
                  <a:close/>
                </a:path>
                <a:path fill="none" w="21600" h="21600">
                  <a:moveTo>
                    <a:pt x="10463" y="5"/>
                  </a:moveTo>
                  <a:arcTo wR="10800" hR="10800" stAng="-5507394" swAng="550739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7607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65" name=""/>
            <p:cNvSpPr/>
            <p:nvPr/>
          </p:nvSpPr>
          <p:spPr>
            <a:xfrm>
              <a:off x="586404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862240" y="29210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8640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86404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86260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70" name=""/>
            <p:cNvSpPr/>
            <p:nvPr/>
          </p:nvSpPr>
          <p:spPr>
            <a:xfrm>
              <a:off x="586404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862240" y="29210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86404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86404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86260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075" name=""/>
            <p:cNvSpPr/>
            <p:nvPr/>
          </p:nvSpPr>
          <p:spPr>
            <a:xfrm>
              <a:off x="5965560" y="2921040"/>
              <a:ext cx="101160" cy="266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963760" y="2921040"/>
              <a:ext cx="88920" cy="266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965560" y="3201840"/>
              <a:ext cx="101160" cy="266040"/>
            </a:xfrm>
            <a:custGeom>
              <a:avLst/>
              <a:gdLst/>
              <a:ahLst/>
              <a:rect l="l" t="t" r="r" b="b"/>
              <a:pathLst>
                <a:path stroke="0" w="21600" h="21600">
                  <a:moveTo>
                    <a:pt x="0" y="10800"/>
                  </a:moveTo>
                  <a:arcTo wR="10800" hR="10800" stAng="10800000" swAng="5292606"/>
                  <a:lnTo>
                    <a:pt x="10800" y="10800"/>
                  </a:lnTo>
                  <a:close/>
                </a:path>
                <a:path fill="none" w="21600" h="21600">
                  <a:moveTo>
                    <a:pt x="0" y="10800"/>
                  </a:moveTo>
                  <a:arcTo wR="10800" hR="10800" stAng="10800000" swAng="5292606"/>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965560" y="3201840"/>
              <a:ext cx="88560" cy="266040"/>
            </a:xfrm>
            <a:custGeom>
              <a:avLst/>
              <a:gdLst/>
              <a:ahLst/>
              <a:rect l="l" t="t" r="r" b="b"/>
              <a:pathLst>
                <a:path stroke="0" w="21600" h="21600">
                  <a:moveTo>
                    <a:pt x="10415" y="7"/>
                  </a:moveTo>
                  <a:arcTo wR="10800" hR="10800" stAng="-5522724" swAng="5522724"/>
                  <a:lnTo>
                    <a:pt x="10800" y="10800"/>
                  </a:lnTo>
                  <a:close/>
                </a:path>
                <a:path fill="none" w="21600" h="21600">
                  <a:moveTo>
                    <a:pt x="10415" y="7"/>
                  </a:moveTo>
                  <a:arcTo wR="10800" hR="10800" stAng="-5522724" swAng="5522724"/>
                </a:path>
              </a:pathLst>
            </a:custGeom>
            <a:solidFill>
              <a:srgbClr val="0000aa"/>
            </a:solidFill>
            <a:ln cap="rnd" w="1260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964120" y="3263760"/>
              <a:ext cx="88920" cy="127080"/>
            </a:xfrm>
            <a:prstGeom prst="ellipse">
              <a:avLst/>
            </a:prstGeom>
            <a:solidFill>
              <a:srgbClr val="ffff99"/>
            </a:solidFill>
            <a:ln w="12600">
              <a:solidFill>
                <a:srgbClr val="ffff99"/>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080" name=""/>
            <p:cNvGrpSpPr/>
            <p:nvPr/>
          </p:nvGrpSpPr>
          <p:grpSpPr>
            <a:xfrm>
              <a:off x="4219560" y="3462120"/>
              <a:ext cx="1625040" cy="215640"/>
              <a:chOff x="4219560" y="3462120"/>
              <a:chExt cx="1625040" cy="215640"/>
            </a:xfrm>
          </p:grpSpPr>
          <p:sp>
            <p:nvSpPr>
              <p:cNvPr id="1081" name=""/>
              <p:cNvSpPr/>
              <p:nvPr/>
            </p:nvSpPr>
            <p:spPr>
              <a:xfrm>
                <a:off x="4219560" y="3462120"/>
                <a:ext cx="1586880" cy="215640"/>
              </a:xfrm>
              <a:custGeom>
                <a:avLst/>
                <a:gdLst/>
                <a:ahLst/>
                <a:rect l="l" t="t" r="r" b="b"/>
                <a:pathLst>
                  <a:path stroke="0" w="21600" h="21600">
                    <a:moveTo>
                      <a:pt x="10778" y="0"/>
                    </a:moveTo>
                    <a:arcTo wR="10800" hR="10800" stAng="-5406875" swAng="5406875"/>
                    <a:lnTo>
                      <a:pt x="10800" y="10800"/>
                    </a:lnTo>
                    <a:close/>
                  </a:path>
                  <a:path fill="none" w="21600" h="21600">
                    <a:moveTo>
                      <a:pt x="10778" y="0"/>
                    </a:moveTo>
                    <a:arcTo wR="10800" hR="10800" stAng="-5406875" swAng="5406875"/>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257360" y="3462120"/>
                <a:ext cx="1587240" cy="215640"/>
              </a:xfrm>
              <a:custGeom>
                <a:avLst/>
                <a:gdLst/>
                <a:ahLst/>
                <a:rect l="l" t="t" r="r" b="b"/>
                <a:pathLst>
                  <a:path stroke="0" w="21600" h="21600">
                    <a:moveTo>
                      <a:pt x="0" y="10800"/>
                    </a:moveTo>
                    <a:arcTo wR="10800" hR="10800" stAng="10800000" swAng="5393125"/>
                    <a:lnTo>
                      <a:pt x="10800" y="10800"/>
                    </a:lnTo>
                    <a:close/>
                  </a:path>
                  <a:path fill="none" w="21600" h="21600">
                    <a:moveTo>
                      <a:pt x="0" y="10800"/>
                    </a:moveTo>
                    <a:arcTo wR="10800" hR="10800" stAng="10800000" swAng="5393125"/>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3" name=""/>
            <p:cNvSpPr/>
            <p:nvPr/>
          </p:nvSpPr>
          <p:spPr>
            <a:xfrm>
              <a:off x="4034160" y="1282680"/>
              <a:ext cx="673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2K</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1084" name=""/>
            <p:cNvSpPr/>
            <p:nvPr/>
          </p:nvSpPr>
          <p:spPr>
            <a:xfrm>
              <a:off x="5253480" y="4330440"/>
              <a:ext cx="8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3Na</a:t>
              </a:r>
              <a:r>
                <a:rPr b="1" lang="en-AU" sz="2400" spc="-1" strike="noStrike" baseline="30000">
                  <a:solidFill>
                    <a:srgbClr val="ffffcc"/>
                  </a:solidFill>
                  <a:latin typeface="Arial"/>
                </a:rPr>
                <a:t>+</a:t>
              </a:r>
              <a:endParaRPr b="0" lang="en-US" sz="2400" spc="-1" strike="noStrike">
                <a:solidFill>
                  <a:srgbClr val="000000"/>
                </a:solidFill>
                <a:latin typeface="Times New Roman"/>
              </a:endParaRPr>
            </a:p>
          </p:txBody>
        </p:sp>
        <p:sp>
          <p:nvSpPr>
            <p:cNvPr id="1085" name=""/>
            <p:cNvSpPr/>
            <p:nvPr/>
          </p:nvSpPr>
          <p:spPr>
            <a:xfrm>
              <a:off x="6006960" y="1054080"/>
              <a:ext cx="1841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cation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mino acid</a:t>
              </a:r>
              <a:endParaRPr b="0" lang="en-US" sz="2400" spc="-1" strike="noStrike">
                <a:solidFill>
                  <a:srgbClr val="000000"/>
                </a:solidFill>
                <a:latin typeface="Times New Roman"/>
              </a:endParaRPr>
            </a:p>
          </p:txBody>
        </p:sp>
        <p:sp>
          <p:nvSpPr>
            <p:cNvPr id="1086" name=""/>
            <p:cNvSpPr/>
            <p:nvPr/>
          </p:nvSpPr>
          <p:spPr>
            <a:xfrm>
              <a:off x="6083280" y="4178160"/>
              <a:ext cx="1841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cation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mino acid</a:t>
              </a:r>
              <a:endParaRPr b="0" lang="en-US" sz="2400" spc="-1" strike="noStrike">
                <a:solidFill>
                  <a:srgbClr val="000000"/>
                </a:solidFill>
                <a:latin typeface="Times New Roman"/>
              </a:endParaRPr>
            </a:p>
          </p:txBody>
        </p:sp>
        <p:sp>
          <p:nvSpPr>
            <p:cNvPr id="1087" name=""/>
            <p:cNvSpPr/>
            <p:nvPr/>
          </p:nvSpPr>
          <p:spPr>
            <a:xfrm>
              <a:off x="5581440" y="362988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DP+Pi</a:t>
              </a:r>
              <a:endParaRPr b="0" lang="en-US" sz="1800" spc="-1" strike="noStrike">
                <a:solidFill>
                  <a:srgbClr val="000000"/>
                </a:solidFill>
                <a:latin typeface="Times New Roman"/>
              </a:endParaRPr>
            </a:p>
          </p:txBody>
        </p:sp>
        <p:sp>
          <p:nvSpPr>
            <p:cNvPr id="1088" name=""/>
            <p:cNvSpPr/>
            <p:nvPr/>
          </p:nvSpPr>
          <p:spPr>
            <a:xfrm>
              <a:off x="3787560" y="355356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6bf69"/>
                  </a:solidFill>
                  <a:latin typeface="Arial"/>
                </a:rPr>
                <a:t>ATP</a:t>
              </a:r>
              <a:endParaRPr b="0" lang="en-US" sz="1800" spc="-1" strike="noStrike">
                <a:solidFill>
                  <a:srgbClr val="000000"/>
                </a:solidFill>
                <a:latin typeface="Times New Roman"/>
              </a:endParaRPr>
            </a:p>
          </p:txBody>
        </p:sp>
      </p:grpSp>
      <p:sp>
        <p:nvSpPr>
          <p:cNvPr id="1089"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90" name=""/>
          <p:cNvGrpSpPr/>
          <p:nvPr/>
        </p:nvGrpSpPr>
        <p:grpSpPr>
          <a:xfrm>
            <a:off x="1216800" y="1905120"/>
            <a:ext cx="7774560" cy="4206600"/>
            <a:chOff x="1216800" y="1905120"/>
            <a:chExt cx="7774560" cy="4206600"/>
          </a:xfrm>
        </p:grpSpPr>
        <p:grpSp>
          <p:nvGrpSpPr>
            <p:cNvPr id="1091" name=""/>
            <p:cNvGrpSpPr/>
            <p:nvPr/>
          </p:nvGrpSpPr>
          <p:grpSpPr>
            <a:xfrm>
              <a:off x="2332440" y="1905120"/>
              <a:ext cx="3319200" cy="4206600"/>
              <a:chOff x="2332440" y="1905120"/>
              <a:chExt cx="3319200" cy="4206600"/>
            </a:xfrm>
          </p:grpSpPr>
          <p:sp>
            <p:nvSpPr>
              <p:cNvPr id="1092" name=""/>
              <p:cNvSpPr/>
              <p:nvPr/>
            </p:nvSpPr>
            <p:spPr>
              <a:xfrm>
                <a:off x="2332440" y="1905120"/>
                <a:ext cx="3319200" cy="4206600"/>
              </a:xfrm>
              <a:custGeom>
                <a:avLst/>
                <a:gdLst/>
                <a:ahLst/>
                <a:rect l="l" t="t" r="r" b="b"/>
                <a:pathLst>
                  <a:path w="2290" h="2650">
                    <a:moveTo>
                      <a:pt x="0" y="36"/>
                    </a:moveTo>
                    <a:lnTo>
                      <a:pt x="47" y="34"/>
                    </a:lnTo>
                    <a:lnTo>
                      <a:pt x="81" y="34"/>
                    </a:lnTo>
                    <a:lnTo>
                      <a:pt x="115" y="34"/>
                    </a:lnTo>
                    <a:lnTo>
                      <a:pt x="149" y="46"/>
                    </a:lnTo>
                    <a:lnTo>
                      <a:pt x="195" y="46"/>
                    </a:lnTo>
                    <a:lnTo>
                      <a:pt x="229" y="57"/>
                    </a:lnTo>
                    <a:lnTo>
                      <a:pt x="263" y="57"/>
                    </a:lnTo>
                    <a:lnTo>
                      <a:pt x="296" y="68"/>
                    </a:lnTo>
                    <a:lnTo>
                      <a:pt x="342" y="80"/>
                    </a:lnTo>
                    <a:lnTo>
                      <a:pt x="376" y="91"/>
                    </a:lnTo>
                    <a:lnTo>
                      <a:pt x="410" y="102"/>
                    </a:lnTo>
                    <a:lnTo>
                      <a:pt x="444" y="125"/>
                    </a:lnTo>
                    <a:lnTo>
                      <a:pt x="478" y="136"/>
                    </a:lnTo>
                    <a:lnTo>
                      <a:pt x="512" y="159"/>
                    </a:lnTo>
                    <a:lnTo>
                      <a:pt x="557" y="170"/>
                    </a:lnTo>
                    <a:lnTo>
                      <a:pt x="591" y="193"/>
                    </a:lnTo>
                    <a:lnTo>
                      <a:pt x="625" y="215"/>
                    </a:lnTo>
                    <a:lnTo>
                      <a:pt x="648" y="249"/>
                    </a:lnTo>
                    <a:lnTo>
                      <a:pt x="681" y="283"/>
                    </a:lnTo>
                    <a:lnTo>
                      <a:pt x="704" y="317"/>
                    </a:lnTo>
                    <a:lnTo>
                      <a:pt x="727" y="351"/>
                    </a:lnTo>
                    <a:lnTo>
                      <a:pt x="749" y="385"/>
                    </a:lnTo>
                    <a:lnTo>
                      <a:pt x="783" y="430"/>
                    </a:lnTo>
                    <a:lnTo>
                      <a:pt x="806" y="464"/>
                    </a:lnTo>
                    <a:lnTo>
                      <a:pt x="817" y="498"/>
                    </a:lnTo>
                    <a:lnTo>
                      <a:pt x="840" y="544"/>
                    </a:lnTo>
                    <a:lnTo>
                      <a:pt x="863" y="589"/>
                    </a:lnTo>
                    <a:lnTo>
                      <a:pt x="885" y="634"/>
                    </a:lnTo>
                    <a:lnTo>
                      <a:pt x="897" y="668"/>
                    </a:lnTo>
                    <a:lnTo>
                      <a:pt x="908" y="702"/>
                    </a:lnTo>
                    <a:lnTo>
                      <a:pt x="919" y="747"/>
                    </a:lnTo>
                    <a:lnTo>
                      <a:pt x="931" y="793"/>
                    </a:lnTo>
                    <a:lnTo>
                      <a:pt x="931" y="827"/>
                    </a:lnTo>
                    <a:lnTo>
                      <a:pt x="931" y="861"/>
                    </a:lnTo>
                    <a:lnTo>
                      <a:pt x="942" y="906"/>
                    </a:lnTo>
                    <a:lnTo>
                      <a:pt x="942" y="940"/>
                    </a:lnTo>
                    <a:lnTo>
                      <a:pt x="942" y="974"/>
                    </a:lnTo>
                    <a:lnTo>
                      <a:pt x="942" y="1008"/>
                    </a:lnTo>
                    <a:lnTo>
                      <a:pt x="942" y="1053"/>
                    </a:lnTo>
                    <a:lnTo>
                      <a:pt x="942" y="1087"/>
                    </a:lnTo>
                    <a:lnTo>
                      <a:pt x="942" y="1121"/>
                    </a:lnTo>
                    <a:lnTo>
                      <a:pt x="942" y="1166"/>
                    </a:lnTo>
                    <a:lnTo>
                      <a:pt x="942" y="1211"/>
                    </a:lnTo>
                    <a:lnTo>
                      <a:pt x="931" y="1245"/>
                    </a:lnTo>
                    <a:lnTo>
                      <a:pt x="931" y="1279"/>
                    </a:lnTo>
                    <a:lnTo>
                      <a:pt x="919" y="1325"/>
                    </a:lnTo>
                    <a:lnTo>
                      <a:pt x="919" y="1359"/>
                    </a:lnTo>
                    <a:lnTo>
                      <a:pt x="908" y="1393"/>
                    </a:lnTo>
                    <a:lnTo>
                      <a:pt x="897" y="1427"/>
                    </a:lnTo>
                    <a:lnTo>
                      <a:pt x="897" y="1472"/>
                    </a:lnTo>
                    <a:lnTo>
                      <a:pt x="885" y="1506"/>
                    </a:lnTo>
                    <a:lnTo>
                      <a:pt x="874" y="1540"/>
                    </a:lnTo>
                    <a:lnTo>
                      <a:pt x="863" y="1574"/>
                    </a:lnTo>
                    <a:lnTo>
                      <a:pt x="851" y="1608"/>
                    </a:lnTo>
                    <a:lnTo>
                      <a:pt x="851" y="1642"/>
                    </a:lnTo>
                    <a:lnTo>
                      <a:pt x="840" y="1676"/>
                    </a:lnTo>
                    <a:lnTo>
                      <a:pt x="829" y="1710"/>
                    </a:lnTo>
                    <a:lnTo>
                      <a:pt x="817" y="1743"/>
                    </a:lnTo>
                    <a:lnTo>
                      <a:pt x="817" y="1777"/>
                    </a:lnTo>
                    <a:lnTo>
                      <a:pt x="806" y="1811"/>
                    </a:lnTo>
                    <a:lnTo>
                      <a:pt x="795" y="1845"/>
                    </a:lnTo>
                    <a:lnTo>
                      <a:pt x="783" y="1891"/>
                    </a:lnTo>
                    <a:lnTo>
                      <a:pt x="783" y="1925"/>
                    </a:lnTo>
                    <a:lnTo>
                      <a:pt x="772" y="1959"/>
                    </a:lnTo>
                    <a:lnTo>
                      <a:pt x="761" y="1992"/>
                    </a:lnTo>
                    <a:lnTo>
                      <a:pt x="761" y="2026"/>
                    </a:lnTo>
                    <a:lnTo>
                      <a:pt x="761" y="2060"/>
                    </a:lnTo>
                    <a:lnTo>
                      <a:pt x="749" y="2094"/>
                    </a:lnTo>
                    <a:lnTo>
                      <a:pt x="749" y="2140"/>
                    </a:lnTo>
                    <a:lnTo>
                      <a:pt x="749" y="2174"/>
                    </a:lnTo>
                    <a:lnTo>
                      <a:pt x="749" y="2208"/>
                    </a:lnTo>
                    <a:lnTo>
                      <a:pt x="749" y="2241"/>
                    </a:lnTo>
                    <a:lnTo>
                      <a:pt x="749" y="2287"/>
                    </a:lnTo>
                    <a:lnTo>
                      <a:pt x="749" y="2321"/>
                    </a:lnTo>
                    <a:lnTo>
                      <a:pt x="749" y="2355"/>
                    </a:lnTo>
                    <a:lnTo>
                      <a:pt x="761" y="2389"/>
                    </a:lnTo>
                    <a:lnTo>
                      <a:pt x="772" y="2423"/>
                    </a:lnTo>
                    <a:lnTo>
                      <a:pt x="795" y="2457"/>
                    </a:lnTo>
                    <a:lnTo>
                      <a:pt x="817" y="2490"/>
                    </a:lnTo>
                    <a:lnTo>
                      <a:pt x="840" y="2524"/>
                    </a:lnTo>
                    <a:lnTo>
                      <a:pt x="874" y="2547"/>
                    </a:lnTo>
                    <a:lnTo>
                      <a:pt x="908" y="2570"/>
                    </a:lnTo>
                    <a:lnTo>
                      <a:pt x="942" y="2581"/>
                    </a:lnTo>
                    <a:lnTo>
                      <a:pt x="976" y="2604"/>
                    </a:lnTo>
                    <a:lnTo>
                      <a:pt x="1010" y="2615"/>
                    </a:lnTo>
                    <a:lnTo>
                      <a:pt x="1044" y="2615"/>
                    </a:lnTo>
                    <a:lnTo>
                      <a:pt x="1078" y="2615"/>
                    </a:lnTo>
                    <a:lnTo>
                      <a:pt x="1112" y="2604"/>
                    </a:lnTo>
                    <a:lnTo>
                      <a:pt x="1134" y="2570"/>
                    </a:lnTo>
                    <a:lnTo>
                      <a:pt x="1146" y="2536"/>
                    </a:lnTo>
                    <a:lnTo>
                      <a:pt x="1146" y="2502"/>
                    </a:lnTo>
                    <a:lnTo>
                      <a:pt x="1146" y="2468"/>
                    </a:lnTo>
                    <a:lnTo>
                      <a:pt x="1146" y="2434"/>
                    </a:lnTo>
                    <a:lnTo>
                      <a:pt x="1123" y="2400"/>
                    </a:lnTo>
                    <a:lnTo>
                      <a:pt x="1112" y="2366"/>
                    </a:lnTo>
                    <a:lnTo>
                      <a:pt x="1100" y="2332"/>
                    </a:lnTo>
                    <a:lnTo>
                      <a:pt x="1089" y="2298"/>
                    </a:lnTo>
                    <a:lnTo>
                      <a:pt x="1078" y="2264"/>
                    </a:lnTo>
                    <a:lnTo>
                      <a:pt x="1078" y="2230"/>
                    </a:lnTo>
                    <a:lnTo>
                      <a:pt x="1078" y="2196"/>
                    </a:lnTo>
                    <a:lnTo>
                      <a:pt x="1089" y="2162"/>
                    </a:lnTo>
                    <a:lnTo>
                      <a:pt x="1112" y="2128"/>
                    </a:lnTo>
                    <a:lnTo>
                      <a:pt x="1146" y="2106"/>
                    </a:lnTo>
                    <a:lnTo>
                      <a:pt x="1180" y="2083"/>
                    </a:lnTo>
                    <a:lnTo>
                      <a:pt x="1214" y="2083"/>
                    </a:lnTo>
                    <a:lnTo>
                      <a:pt x="1248" y="2083"/>
                    </a:lnTo>
                    <a:lnTo>
                      <a:pt x="1282" y="2083"/>
                    </a:lnTo>
                    <a:lnTo>
                      <a:pt x="1316" y="2117"/>
                    </a:lnTo>
                    <a:lnTo>
                      <a:pt x="1338" y="2151"/>
                    </a:lnTo>
                    <a:lnTo>
                      <a:pt x="1350" y="2185"/>
                    </a:lnTo>
                    <a:lnTo>
                      <a:pt x="1350" y="2219"/>
                    </a:lnTo>
                    <a:lnTo>
                      <a:pt x="1350" y="2253"/>
                    </a:lnTo>
                    <a:lnTo>
                      <a:pt x="1350" y="2287"/>
                    </a:lnTo>
                    <a:lnTo>
                      <a:pt x="1350" y="2321"/>
                    </a:lnTo>
                    <a:lnTo>
                      <a:pt x="1350" y="2355"/>
                    </a:lnTo>
                    <a:lnTo>
                      <a:pt x="1350" y="2389"/>
                    </a:lnTo>
                    <a:lnTo>
                      <a:pt x="1350" y="2423"/>
                    </a:lnTo>
                    <a:lnTo>
                      <a:pt x="1350" y="2457"/>
                    </a:lnTo>
                    <a:lnTo>
                      <a:pt x="1338" y="2490"/>
                    </a:lnTo>
                    <a:lnTo>
                      <a:pt x="1338" y="2524"/>
                    </a:lnTo>
                    <a:lnTo>
                      <a:pt x="1350" y="2558"/>
                    </a:lnTo>
                    <a:lnTo>
                      <a:pt x="1361" y="2592"/>
                    </a:lnTo>
                    <a:lnTo>
                      <a:pt x="1395" y="2615"/>
                    </a:lnTo>
                    <a:lnTo>
                      <a:pt x="1429" y="2626"/>
                    </a:lnTo>
                    <a:lnTo>
                      <a:pt x="1474" y="2649"/>
                    </a:lnTo>
                    <a:lnTo>
                      <a:pt x="1508" y="2649"/>
                    </a:lnTo>
                    <a:lnTo>
                      <a:pt x="1542" y="2649"/>
                    </a:lnTo>
                    <a:lnTo>
                      <a:pt x="1576" y="2649"/>
                    </a:lnTo>
                    <a:lnTo>
                      <a:pt x="1610" y="2649"/>
                    </a:lnTo>
                    <a:lnTo>
                      <a:pt x="1644" y="2626"/>
                    </a:lnTo>
                    <a:lnTo>
                      <a:pt x="1667" y="2592"/>
                    </a:lnTo>
                    <a:lnTo>
                      <a:pt x="1678" y="2558"/>
                    </a:lnTo>
                    <a:lnTo>
                      <a:pt x="1678" y="2524"/>
                    </a:lnTo>
                    <a:lnTo>
                      <a:pt x="1689" y="2490"/>
                    </a:lnTo>
                    <a:lnTo>
                      <a:pt x="1689" y="2445"/>
                    </a:lnTo>
                    <a:lnTo>
                      <a:pt x="1689" y="2411"/>
                    </a:lnTo>
                    <a:lnTo>
                      <a:pt x="1689" y="2377"/>
                    </a:lnTo>
                    <a:lnTo>
                      <a:pt x="1678" y="2343"/>
                    </a:lnTo>
                    <a:lnTo>
                      <a:pt x="1678" y="2309"/>
                    </a:lnTo>
                    <a:lnTo>
                      <a:pt x="1667" y="2275"/>
                    </a:lnTo>
                    <a:lnTo>
                      <a:pt x="1667" y="2241"/>
                    </a:lnTo>
                    <a:lnTo>
                      <a:pt x="1655" y="2208"/>
                    </a:lnTo>
                    <a:lnTo>
                      <a:pt x="1644" y="2174"/>
                    </a:lnTo>
                    <a:lnTo>
                      <a:pt x="1644" y="2140"/>
                    </a:lnTo>
                    <a:lnTo>
                      <a:pt x="1633" y="2106"/>
                    </a:lnTo>
                    <a:lnTo>
                      <a:pt x="1621" y="2060"/>
                    </a:lnTo>
                    <a:lnTo>
                      <a:pt x="1610" y="2026"/>
                    </a:lnTo>
                    <a:lnTo>
                      <a:pt x="1599" y="1992"/>
                    </a:lnTo>
                    <a:lnTo>
                      <a:pt x="1587" y="1959"/>
                    </a:lnTo>
                    <a:lnTo>
                      <a:pt x="1576" y="1925"/>
                    </a:lnTo>
                    <a:lnTo>
                      <a:pt x="1553" y="1879"/>
                    </a:lnTo>
                    <a:lnTo>
                      <a:pt x="1542" y="1845"/>
                    </a:lnTo>
                    <a:lnTo>
                      <a:pt x="1531" y="1811"/>
                    </a:lnTo>
                    <a:lnTo>
                      <a:pt x="1519" y="1777"/>
                    </a:lnTo>
                    <a:lnTo>
                      <a:pt x="1508" y="1743"/>
                    </a:lnTo>
                    <a:lnTo>
                      <a:pt x="1508" y="1710"/>
                    </a:lnTo>
                    <a:lnTo>
                      <a:pt x="1497" y="1676"/>
                    </a:lnTo>
                    <a:lnTo>
                      <a:pt x="1485" y="1630"/>
                    </a:lnTo>
                    <a:lnTo>
                      <a:pt x="1485" y="1596"/>
                    </a:lnTo>
                    <a:lnTo>
                      <a:pt x="1485" y="1562"/>
                    </a:lnTo>
                    <a:lnTo>
                      <a:pt x="1474" y="1528"/>
                    </a:lnTo>
                    <a:lnTo>
                      <a:pt x="1474" y="1494"/>
                    </a:lnTo>
                    <a:lnTo>
                      <a:pt x="1474" y="1449"/>
                    </a:lnTo>
                    <a:lnTo>
                      <a:pt x="1463" y="1415"/>
                    </a:lnTo>
                    <a:lnTo>
                      <a:pt x="1463" y="1359"/>
                    </a:lnTo>
                    <a:lnTo>
                      <a:pt x="1463" y="1313"/>
                    </a:lnTo>
                    <a:lnTo>
                      <a:pt x="1463" y="1268"/>
                    </a:lnTo>
                    <a:lnTo>
                      <a:pt x="1452" y="1234"/>
                    </a:lnTo>
                    <a:lnTo>
                      <a:pt x="1452" y="1189"/>
                    </a:lnTo>
                    <a:lnTo>
                      <a:pt x="1452" y="1155"/>
                    </a:lnTo>
                    <a:lnTo>
                      <a:pt x="1452" y="1110"/>
                    </a:lnTo>
                    <a:lnTo>
                      <a:pt x="1452" y="1076"/>
                    </a:lnTo>
                    <a:lnTo>
                      <a:pt x="1452" y="1042"/>
                    </a:lnTo>
                    <a:lnTo>
                      <a:pt x="1452" y="1008"/>
                    </a:lnTo>
                    <a:lnTo>
                      <a:pt x="1452" y="962"/>
                    </a:lnTo>
                    <a:lnTo>
                      <a:pt x="1452" y="929"/>
                    </a:lnTo>
                    <a:lnTo>
                      <a:pt x="1452" y="883"/>
                    </a:lnTo>
                    <a:lnTo>
                      <a:pt x="1452" y="849"/>
                    </a:lnTo>
                    <a:lnTo>
                      <a:pt x="1452" y="804"/>
                    </a:lnTo>
                    <a:lnTo>
                      <a:pt x="1452" y="770"/>
                    </a:lnTo>
                    <a:lnTo>
                      <a:pt x="1452" y="736"/>
                    </a:lnTo>
                    <a:lnTo>
                      <a:pt x="1452" y="691"/>
                    </a:lnTo>
                    <a:lnTo>
                      <a:pt x="1452" y="657"/>
                    </a:lnTo>
                    <a:lnTo>
                      <a:pt x="1452" y="623"/>
                    </a:lnTo>
                    <a:lnTo>
                      <a:pt x="1452" y="589"/>
                    </a:lnTo>
                    <a:lnTo>
                      <a:pt x="1463" y="555"/>
                    </a:lnTo>
                    <a:lnTo>
                      <a:pt x="1463" y="521"/>
                    </a:lnTo>
                    <a:lnTo>
                      <a:pt x="1474" y="487"/>
                    </a:lnTo>
                    <a:lnTo>
                      <a:pt x="1485" y="453"/>
                    </a:lnTo>
                    <a:lnTo>
                      <a:pt x="1497" y="419"/>
                    </a:lnTo>
                    <a:lnTo>
                      <a:pt x="1508" y="385"/>
                    </a:lnTo>
                    <a:lnTo>
                      <a:pt x="1519" y="351"/>
                    </a:lnTo>
                    <a:lnTo>
                      <a:pt x="1531" y="317"/>
                    </a:lnTo>
                    <a:lnTo>
                      <a:pt x="1553" y="283"/>
                    </a:lnTo>
                    <a:lnTo>
                      <a:pt x="1576" y="249"/>
                    </a:lnTo>
                    <a:lnTo>
                      <a:pt x="1587" y="215"/>
                    </a:lnTo>
                    <a:lnTo>
                      <a:pt x="1610" y="181"/>
                    </a:lnTo>
                    <a:lnTo>
                      <a:pt x="1644" y="148"/>
                    </a:lnTo>
                    <a:lnTo>
                      <a:pt x="1667" y="114"/>
                    </a:lnTo>
                    <a:lnTo>
                      <a:pt x="1701" y="102"/>
                    </a:lnTo>
                    <a:lnTo>
                      <a:pt x="1735" y="68"/>
                    </a:lnTo>
                    <a:lnTo>
                      <a:pt x="1769" y="46"/>
                    </a:lnTo>
                    <a:lnTo>
                      <a:pt x="1803" y="46"/>
                    </a:lnTo>
                    <a:lnTo>
                      <a:pt x="1837" y="23"/>
                    </a:lnTo>
                    <a:lnTo>
                      <a:pt x="1870" y="12"/>
                    </a:lnTo>
                    <a:lnTo>
                      <a:pt x="1904" y="12"/>
                    </a:lnTo>
                    <a:lnTo>
                      <a:pt x="1938" y="12"/>
                    </a:lnTo>
                    <a:lnTo>
                      <a:pt x="1984" y="0"/>
                    </a:lnTo>
                    <a:lnTo>
                      <a:pt x="2018" y="0"/>
                    </a:lnTo>
                    <a:lnTo>
                      <a:pt x="2052" y="0"/>
                    </a:lnTo>
                    <a:lnTo>
                      <a:pt x="2086" y="0"/>
                    </a:lnTo>
                    <a:lnTo>
                      <a:pt x="2120" y="0"/>
                    </a:lnTo>
                    <a:lnTo>
                      <a:pt x="2154" y="0"/>
                    </a:lnTo>
                    <a:lnTo>
                      <a:pt x="2188" y="0"/>
                    </a:lnTo>
                    <a:lnTo>
                      <a:pt x="2222" y="0"/>
                    </a:lnTo>
                    <a:lnTo>
                      <a:pt x="2255" y="0"/>
                    </a:lnTo>
                    <a:lnTo>
                      <a:pt x="2289" y="0"/>
                    </a:lnTo>
                  </a:path>
                </a:pathLst>
              </a:custGeom>
              <a:noFill/>
              <a:ln cap="rnd" w="3816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664440" y="3414600"/>
                <a:ext cx="756000" cy="1708200"/>
              </a:xfrm>
              <a:custGeom>
                <a:avLst/>
                <a:gdLst/>
                <a:ahLst/>
                <a:rect l="l" t="t" r="r" b="b"/>
                <a:pathLst>
                  <a:path w="522" h="1076">
                    <a:moveTo>
                      <a:pt x="137" y="45"/>
                    </a:moveTo>
                    <a:lnTo>
                      <a:pt x="170" y="91"/>
                    </a:lnTo>
                    <a:lnTo>
                      <a:pt x="170" y="125"/>
                    </a:lnTo>
                    <a:lnTo>
                      <a:pt x="170" y="159"/>
                    </a:lnTo>
                    <a:lnTo>
                      <a:pt x="170" y="193"/>
                    </a:lnTo>
                    <a:lnTo>
                      <a:pt x="159" y="227"/>
                    </a:lnTo>
                    <a:lnTo>
                      <a:pt x="159" y="260"/>
                    </a:lnTo>
                    <a:lnTo>
                      <a:pt x="148" y="294"/>
                    </a:lnTo>
                    <a:lnTo>
                      <a:pt x="148" y="328"/>
                    </a:lnTo>
                    <a:lnTo>
                      <a:pt x="136" y="362"/>
                    </a:lnTo>
                    <a:lnTo>
                      <a:pt x="136" y="396"/>
                    </a:lnTo>
                    <a:lnTo>
                      <a:pt x="125" y="430"/>
                    </a:lnTo>
                    <a:lnTo>
                      <a:pt x="125" y="464"/>
                    </a:lnTo>
                    <a:lnTo>
                      <a:pt x="114" y="498"/>
                    </a:lnTo>
                    <a:lnTo>
                      <a:pt x="114" y="532"/>
                    </a:lnTo>
                    <a:lnTo>
                      <a:pt x="102" y="566"/>
                    </a:lnTo>
                    <a:lnTo>
                      <a:pt x="91" y="600"/>
                    </a:lnTo>
                    <a:lnTo>
                      <a:pt x="80" y="634"/>
                    </a:lnTo>
                    <a:lnTo>
                      <a:pt x="68" y="668"/>
                    </a:lnTo>
                    <a:lnTo>
                      <a:pt x="57" y="702"/>
                    </a:lnTo>
                    <a:lnTo>
                      <a:pt x="46" y="736"/>
                    </a:lnTo>
                    <a:lnTo>
                      <a:pt x="34" y="770"/>
                    </a:lnTo>
                    <a:lnTo>
                      <a:pt x="34" y="804"/>
                    </a:lnTo>
                    <a:lnTo>
                      <a:pt x="23" y="838"/>
                    </a:lnTo>
                    <a:lnTo>
                      <a:pt x="12" y="872"/>
                    </a:lnTo>
                    <a:lnTo>
                      <a:pt x="12" y="906"/>
                    </a:lnTo>
                    <a:lnTo>
                      <a:pt x="0" y="940"/>
                    </a:lnTo>
                    <a:lnTo>
                      <a:pt x="0" y="974"/>
                    </a:lnTo>
                    <a:lnTo>
                      <a:pt x="0" y="1008"/>
                    </a:lnTo>
                    <a:lnTo>
                      <a:pt x="0" y="1041"/>
                    </a:lnTo>
                    <a:lnTo>
                      <a:pt x="34" y="1053"/>
                    </a:lnTo>
                    <a:lnTo>
                      <a:pt x="68" y="1075"/>
                    </a:lnTo>
                    <a:lnTo>
                      <a:pt x="102" y="1075"/>
                    </a:lnTo>
                    <a:lnTo>
                      <a:pt x="136" y="1075"/>
                    </a:lnTo>
                    <a:lnTo>
                      <a:pt x="170" y="1075"/>
                    </a:lnTo>
                    <a:lnTo>
                      <a:pt x="204" y="1075"/>
                    </a:lnTo>
                    <a:lnTo>
                      <a:pt x="238" y="1075"/>
                    </a:lnTo>
                    <a:lnTo>
                      <a:pt x="272" y="1075"/>
                    </a:lnTo>
                    <a:lnTo>
                      <a:pt x="306" y="1075"/>
                    </a:lnTo>
                    <a:lnTo>
                      <a:pt x="340" y="1075"/>
                    </a:lnTo>
                    <a:lnTo>
                      <a:pt x="374" y="1075"/>
                    </a:lnTo>
                    <a:lnTo>
                      <a:pt x="408" y="1075"/>
                    </a:lnTo>
                    <a:lnTo>
                      <a:pt x="442" y="1075"/>
                    </a:lnTo>
                    <a:lnTo>
                      <a:pt x="476" y="1075"/>
                    </a:lnTo>
                    <a:lnTo>
                      <a:pt x="510" y="1064"/>
                    </a:lnTo>
                    <a:lnTo>
                      <a:pt x="521" y="1030"/>
                    </a:lnTo>
                    <a:lnTo>
                      <a:pt x="521" y="996"/>
                    </a:lnTo>
                    <a:lnTo>
                      <a:pt x="521" y="962"/>
                    </a:lnTo>
                    <a:lnTo>
                      <a:pt x="510" y="928"/>
                    </a:lnTo>
                    <a:lnTo>
                      <a:pt x="499" y="894"/>
                    </a:lnTo>
                    <a:lnTo>
                      <a:pt x="499" y="860"/>
                    </a:lnTo>
                    <a:lnTo>
                      <a:pt x="487" y="826"/>
                    </a:lnTo>
                    <a:lnTo>
                      <a:pt x="476" y="792"/>
                    </a:lnTo>
                    <a:lnTo>
                      <a:pt x="465" y="759"/>
                    </a:lnTo>
                    <a:lnTo>
                      <a:pt x="465" y="725"/>
                    </a:lnTo>
                    <a:lnTo>
                      <a:pt x="453" y="691"/>
                    </a:lnTo>
                    <a:lnTo>
                      <a:pt x="453" y="657"/>
                    </a:lnTo>
                    <a:lnTo>
                      <a:pt x="453" y="623"/>
                    </a:lnTo>
                    <a:lnTo>
                      <a:pt x="442" y="589"/>
                    </a:lnTo>
                    <a:lnTo>
                      <a:pt x="442" y="555"/>
                    </a:lnTo>
                    <a:lnTo>
                      <a:pt x="442" y="521"/>
                    </a:lnTo>
                    <a:lnTo>
                      <a:pt x="442" y="487"/>
                    </a:lnTo>
                    <a:lnTo>
                      <a:pt x="431" y="453"/>
                    </a:lnTo>
                    <a:lnTo>
                      <a:pt x="431" y="419"/>
                    </a:lnTo>
                    <a:lnTo>
                      <a:pt x="431" y="385"/>
                    </a:lnTo>
                    <a:lnTo>
                      <a:pt x="431" y="351"/>
                    </a:lnTo>
                    <a:lnTo>
                      <a:pt x="431" y="317"/>
                    </a:lnTo>
                    <a:lnTo>
                      <a:pt x="431" y="283"/>
                    </a:lnTo>
                    <a:lnTo>
                      <a:pt x="431" y="249"/>
                    </a:lnTo>
                    <a:lnTo>
                      <a:pt x="431" y="215"/>
                    </a:lnTo>
                    <a:lnTo>
                      <a:pt x="431" y="181"/>
                    </a:lnTo>
                    <a:lnTo>
                      <a:pt x="419" y="147"/>
                    </a:lnTo>
                    <a:lnTo>
                      <a:pt x="408" y="113"/>
                    </a:lnTo>
                    <a:lnTo>
                      <a:pt x="385" y="79"/>
                    </a:lnTo>
                    <a:lnTo>
                      <a:pt x="363" y="45"/>
                    </a:lnTo>
                    <a:lnTo>
                      <a:pt x="329" y="23"/>
                    </a:lnTo>
                    <a:lnTo>
                      <a:pt x="295" y="11"/>
                    </a:lnTo>
                    <a:lnTo>
                      <a:pt x="261" y="0"/>
                    </a:lnTo>
                    <a:lnTo>
                      <a:pt x="227" y="0"/>
                    </a:lnTo>
                    <a:lnTo>
                      <a:pt x="193" y="0"/>
                    </a:lnTo>
                    <a:lnTo>
                      <a:pt x="137" y="45"/>
                    </a:lnTo>
                    <a:lnTo>
                      <a:pt x="137" y="45"/>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5672160" y="1905120"/>
              <a:ext cx="3319200" cy="4206600"/>
              <a:chOff x="5672160" y="1905120"/>
              <a:chExt cx="3319200" cy="4206600"/>
            </a:xfrm>
          </p:grpSpPr>
          <p:sp>
            <p:nvSpPr>
              <p:cNvPr id="1095" name=""/>
              <p:cNvSpPr/>
              <p:nvPr/>
            </p:nvSpPr>
            <p:spPr>
              <a:xfrm>
                <a:off x="5672160" y="1905120"/>
                <a:ext cx="3319200" cy="4206600"/>
              </a:xfrm>
              <a:custGeom>
                <a:avLst/>
                <a:gdLst/>
                <a:ahLst/>
                <a:rect l="l" t="t" r="r" b="b"/>
                <a:pathLst>
                  <a:path w="2290" h="2650">
                    <a:moveTo>
                      <a:pt x="0" y="36"/>
                    </a:moveTo>
                    <a:lnTo>
                      <a:pt x="47" y="34"/>
                    </a:lnTo>
                    <a:lnTo>
                      <a:pt x="81" y="34"/>
                    </a:lnTo>
                    <a:lnTo>
                      <a:pt x="115" y="34"/>
                    </a:lnTo>
                    <a:lnTo>
                      <a:pt x="149" y="46"/>
                    </a:lnTo>
                    <a:lnTo>
                      <a:pt x="195" y="46"/>
                    </a:lnTo>
                    <a:lnTo>
                      <a:pt x="229" y="57"/>
                    </a:lnTo>
                    <a:lnTo>
                      <a:pt x="263" y="57"/>
                    </a:lnTo>
                    <a:lnTo>
                      <a:pt x="296" y="68"/>
                    </a:lnTo>
                    <a:lnTo>
                      <a:pt x="342" y="80"/>
                    </a:lnTo>
                    <a:lnTo>
                      <a:pt x="376" y="91"/>
                    </a:lnTo>
                    <a:lnTo>
                      <a:pt x="410" y="102"/>
                    </a:lnTo>
                    <a:lnTo>
                      <a:pt x="444" y="125"/>
                    </a:lnTo>
                    <a:lnTo>
                      <a:pt x="478" y="136"/>
                    </a:lnTo>
                    <a:lnTo>
                      <a:pt x="512" y="159"/>
                    </a:lnTo>
                    <a:lnTo>
                      <a:pt x="557" y="170"/>
                    </a:lnTo>
                    <a:lnTo>
                      <a:pt x="591" y="193"/>
                    </a:lnTo>
                    <a:lnTo>
                      <a:pt x="625" y="215"/>
                    </a:lnTo>
                    <a:lnTo>
                      <a:pt x="648" y="249"/>
                    </a:lnTo>
                    <a:lnTo>
                      <a:pt x="681" y="283"/>
                    </a:lnTo>
                    <a:lnTo>
                      <a:pt x="704" y="317"/>
                    </a:lnTo>
                    <a:lnTo>
                      <a:pt x="727" y="351"/>
                    </a:lnTo>
                    <a:lnTo>
                      <a:pt x="749" y="385"/>
                    </a:lnTo>
                    <a:lnTo>
                      <a:pt x="783" y="430"/>
                    </a:lnTo>
                    <a:lnTo>
                      <a:pt x="806" y="464"/>
                    </a:lnTo>
                    <a:lnTo>
                      <a:pt x="817" y="498"/>
                    </a:lnTo>
                    <a:lnTo>
                      <a:pt x="840" y="544"/>
                    </a:lnTo>
                    <a:lnTo>
                      <a:pt x="863" y="589"/>
                    </a:lnTo>
                    <a:lnTo>
                      <a:pt x="885" y="634"/>
                    </a:lnTo>
                    <a:lnTo>
                      <a:pt x="897" y="668"/>
                    </a:lnTo>
                    <a:lnTo>
                      <a:pt x="908" y="702"/>
                    </a:lnTo>
                    <a:lnTo>
                      <a:pt x="919" y="747"/>
                    </a:lnTo>
                    <a:lnTo>
                      <a:pt x="931" y="793"/>
                    </a:lnTo>
                    <a:lnTo>
                      <a:pt x="931" y="827"/>
                    </a:lnTo>
                    <a:lnTo>
                      <a:pt x="931" y="861"/>
                    </a:lnTo>
                    <a:lnTo>
                      <a:pt x="942" y="906"/>
                    </a:lnTo>
                    <a:lnTo>
                      <a:pt x="942" y="940"/>
                    </a:lnTo>
                    <a:lnTo>
                      <a:pt x="942" y="974"/>
                    </a:lnTo>
                    <a:lnTo>
                      <a:pt x="942" y="1008"/>
                    </a:lnTo>
                    <a:lnTo>
                      <a:pt x="942" y="1053"/>
                    </a:lnTo>
                    <a:lnTo>
                      <a:pt x="942" y="1087"/>
                    </a:lnTo>
                    <a:lnTo>
                      <a:pt x="942" y="1121"/>
                    </a:lnTo>
                    <a:lnTo>
                      <a:pt x="942" y="1166"/>
                    </a:lnTo>
                    <a:lnTo>
                      <a:pt x="942" y="1211"/>
                    </a:lnTo>
                    <a:lnTo>
                      <a:pt x="931" y="1245"/>
                    </a:lnTo>
                    <a:lnTo>
                      <a:pt x="931" y="1279"/>
                    </a:lnTo>
                    <a:lnTo>
                      <a:pt x="919" y="1325"/>
                    </a:lnTo>
                    <a:lnTo>
                      <a:pt x="919" y="1359"/>
                    </a:lnTo>
                    <a:lnTo>
                      <a:pt x="908" y="1393"/>
                    </a:lnTo>
                    <a:lnTo>
                      <a:pt x="897" y="1427"/>
                    </a:lnTo>
                    <a:lnTo>
                      <a:pt x="897" y="1472"/>
                    </a:lnTo>
                    <a:lnTo>
                      <a:pt x="885" y="1506"/>
                    </a:lnTo>
                    <a:lnTo>
                      <a:pt x="874" y="1540"/>
                    </a:lnTo>
                    <a:lnTo>
                      <a:pt x="863" y="1574"/>
                    </a:lnTo>
                    <a:lnTo>
                      <a:pt x="851" y="1608"/>
                    </a:lnTo>
                    <a:lnTo>
                      <a:pt x="851" y="1642"/>
                    </a:lnTo>
                    <a:lnTo>
                      <a:pt x="840" y="1676"/>
                    </a:lnTo>
                    <a:lnTo>
                      <a:pt x="829" y="1710"/>
                    </a:lnTo>
                    <a:lnTo>
                      <a:pt x="817" y="1743"/>
                    </a:lnTo>
                    <a:lnTo>
                      <a:pt x="817" y="1777"/>
                    </a:lnTo>
                    <a:lnTo>
                      <a:pt x="806" y="1811"/>
                    </a:lnTo>
                    <a:lnTo>
                      <a:pt x="795" y="1845"/>
                    </a:lnTo>
                    <a:lnTo>
                      <a:pt x="783" y="1891"/>
                    </a:lnTo>
                    <a:lnTo>
                      <a:pt x="783" y="1925"/>
                    </a:lnTo>
                    <a:lnTo>
                      <a:pt x="772" y="1959"/>
                    </a:lnTo>
                    <a:lnTo>
                      <a:pt x="761" y="1992"/>
                    </a:lnTo>
                    <a:lnTo>
                      <a:pt x="761" y="2026"/>
                    </a:lnTo>
                    <a:lnTo>
                      <a:pt x="761" y="2060"/>
                    </a:lnTo>
                    <a:lnTo>
                      <a:pt x="749" y="2094"/>
                    </a:lnTo>
                    <a:lnTo>
                      <a:pt x="749" y="2140"/>
                    </a:lnTo>
                    <a:lnTo>
                      <a:pt x="749" y="2174"/>
                    </a:lnTo>
                    <a:lnTo>
                      <a:pt x="749" y="2208"/>
                    </a:lnTo>
                    <a:lnTo>
                      <a:pt x="749" y="2241"/>
                    </a:lnTo>
                    <a:lnTo>
                      <a:pt x="749" y="2287"/>
                    </a:lnTo>
                    <a:lnTo>
                      <a:pt x="749" y="2321"/>
                    </a:lnTo>
                    <a:lnTo>
                      <a:pt x="749" y="2355"/>
                    </a:lnTo>
                    <a:lnTo>
                      <a:pt x="761" y="2389"/>
                    </a:lnTo>
                    <a:lnTo>
                      <a:pt x="772" y="2423"/>
                    </a:lnTo>
                    <a:lnTo>
                      <a:pt x="795" y="2457"/>
                    </a:lnTo>
                    <a:lnTo>
                      <a:pt x="817" y="2490"/>
                    </a:lnTo>
                    <a:lnTo>
                      <a:pt x="840" y="2524"/>
                    </a:lnTo>
                    <a:lnTo>
                      <a:pt x="874" y="2547"/>
                    </a:lnTo>
                    <a:lnTo>
                      <a:pt x="908" y="2570"/>
                    </a:lnTo>
                    <a:lnTo>
                      <a:pt x="942" y="2581"/>
                    </a:lnTo>
                    <a:lnTo>
                      <a:pt x="976" y="2604"/>
                    </a:lnTo>
                    <a:lnTo>
                      <a:pt x="1010" y="2615"/>
                    </a:lnTo>
                    <a:lnTo>
                      <a:pt x="1044" y="2615"/>
                    </a:lnTo>
                    <a:lnTo>
                      <a:pt x="1078" y="2615"/>
                    </a:lnTo>
                    <a:lnTo>
                      <a:pt x="1112" y="2604"/>
                    </a:lnTo>
                    <a:lnTo>
                      <a:pt x="1134" y="2570"/>
                    </a:lnTo>
                    <a:lnTo>
                      <a:pt x="1146" y="2536"/>
                    </a:lnTo>
                    <a:lnTo>
                      <a:pt x="1146" y="2502"/>
                    </a:lnTo>
                    <a:lnTo>
                      <a:pt x="1146" y="2468"/>
                    </a:lnTo>
                    <a:lnTo>
                      <a:pt x="1146" y="2434"/>
                    </a:lnTo>
                    <a:lnTo>
                      <a:pt x="1123" y="2400"/>
                    </a:lnTo>
                    <a:lnTo>
                      <a:pt x="1112" y="2366"/>
                    </a:lnTo>
                    <a:lnTo>
                      <a:pt x="1100" y="2332"/>
                    </a:lnTo>
                    <a:lnTo>
                      <a:pt x="1089" y="2298"/>
                    </a:lnTo>
                    <a:lnTo>
                      <a:pt x="1078" y="2264"/>
                    </a:lnTo>
                    <a:lnTo>
                      <a:pt x="1078" y="2230"/>
                    </a:lnTo>
                    <a:lnTo>
                      <a:pt x="1078" y="2196"/>
                    </a:lnTo>
                    <a:lnTo>
                      <a:pt x="1089" y="2162"/>
                    </a:lnTo>
                    <a:lnTo>
                      <a:pt x="1112" y="2128"/>
                    </a:lnTo>
                    <a:lnTo>
                      <a:pt x="1146" y="2106"/>
                    </a:lnTo>
                    <a:lnTo>
                      <a:pt x="1180" y="2083"/>
                    </a:lnTo>
                    <a:lnTo>
                      <a:pt x="1214" y="2083"/>
                    </a:lnTo>
                    <a:lnTo>
                      <a:pt x="1248" y="2083"/>
                    </a:lnTo>
                    <a:lnTo>
                      <a:pt x="1282" y="2083"/>
                    </a:lnTo>
                    <a:lnTo>
                      <a:pt x="1316" y="2117"/>
                    </a:lnTo>
                    <a:lnTo>
                      <a:pt x="1338" y="2151"/>
                    </a:lnTo>
                    <a:lnTo>
                      <a:pt x="1350" y="2185"/>
                    </a:lnTo>
                    <a:lnTo>
                      <a:pt x="1350" y="2219"/>
                    </a:lnTo>
                    <a:lnTo>
                      <a:pt x="1350" y="2253"/>
                    </a:lnTo>
                    <a:lnTo>
                      <a:pt x="1350" y="2287"/>
                    </a:lnTo>
                    <a:lnTo>
                      <a:pt x="1350" y="2321"/>
                    </a:lnTo>
                    <a:lnTo>
                      <a:pt x="1350" y="2355"/>
                    </a:lnTo>
                    <a:lnTo>
                      <a:pt x="1350" y="2389"/>
                    </a:lnTo>
                    <a:lnTo>
                      <a:pt x="1350" y="2423"/>
                    </a:lnTo>
                    <a:lnTo>
                      <a:pt x="1350" y="2457"/>
                    </a:lnTo>
                    <a:lnTo>
                      <a:pt x="1338" y="2490"/>
                    </a:lnTo>
                    <a:lnTo>
                      <a:pt x="1338" y="2524"/>
                    </a:lnTo>
                    <a:lnTo>
                      <a:pt x="1350" y="2558"/>
                    </a:lnTo>
                    <a:lnTo>
                      <a:pt x="1361" y="2592"/>
                    </a:lnTo>
                    <a:lnTo>
                      <a:pt x="1395" y="2615"/>
                    </a:lnTo>
                    <a:lnTo>
                      <a:pt x="1429" y="2626"/>
                    </a:lnTo>
                    <a:lnTo>
                      <a:pt x="1474" y="2649"/>
                    </a:lnTo>
                    <a:lnTo>
                      <a:pt x="1508" y="2649"/>
                    </a:lnTo>
                    <a:lnTo>
                      <a:pt x="1542" y="2649"/>
                    </a:lnTo>
                    <a:lnTo>
                      <a:pt x="1576" y="2649"/>
                    </a:lnTo>
                    <a:lnTo>
                      <a:pt x="1610" y="2649"/>
                    </a:lnTo>
                    <a:lnTo>
                      <a:pt x="1644" y="2626"/>
                    </a:lnTo>
                    <a:lnTo>
                      <a:pt x="1667" y="2592"/>
                    </a:lnTo>
                    <a:lnTo>
                      <a:pt x="1678" y="2558"/>
                    </a:lnTo>
                    <a:lnTo>
                      <a:pt x="1678" y="2524"/>
                    </a:lnTo>
                    <a:lnTo>
                      <a:pt x="1689" y="2490"/>
                    </a:lnTo>
                    <a:lnTo>
                      <a:pt x="1689" y="2445"/>
                    </a:lnTo>
                    <a:lnTo>
                      <a:pt x="1689" y="2411"/>
                    </a:lnTo>
                    <a:lnTo>
                      <a:pt x="1689" y="2377"/>
                    </a:lnTo>
                    <a:lnTo>
                      <a:pt x="1678" y="2343"/>
                    </a:lnTo>
                    <a:lnTo>
                      <a:pt x="1678" y="2309"/>
                    </a:lnTo>
                    <a:lnTo>
                      <a:pt x="1667" y="2275"/>
                    </a:lnTo>
                    <a:lnTo>
                      <a:pt x="1667" y="2241"/>
                    </a:lnTo>
                    <a:lnTo>
                      <a:pt x="1655" y="2208"/>
                    </a:lnTo>
                    <a:lnTo>
                      <a:pt x="1644" y="2174"/>
                    </a:lnTo>
                    <a:lnTo>
                      <a:pt x="1644" y="2140"/>
                    </a:lnTo>
                    <a:lnTo>
                      <a:pt x="1633" y="2106"/>
                    </a:lnTo>
                    <a:lnTo>
                      <a:pt x="1621" y="2060"/>
                    </a:lnTo>
                    <a:lnTo>
                      <a:pt x="1610" y="2026"/>
                    </a:lnTo>
                    <a:lnTo>
                      <a:pt x="1599" y="1992"/>
                    </a:lnTo>
                    <a:lnTo>
                      <a:pt x="1587" y="1959"/>
                    </a:lnTo>
                    <a:lnTo>
                      <a:pt x="1576" y="1925"/>
                    </a:lnTo>
                    <a:lnTo>
                      <a:pt x="1553" y="1879"/>
                    </a:lnTo>
                    <a:lnTo>
                      <a:pt x="1542" y="1845"/>
                    </a:lnTo>
                    <a:lnTo>
                      <a:pt x="1531" y="1811"/>
                    </a:lnTo>
                    <a:lnTo>
                      <a:pt x="1519" y="1777"/>
                    </a:lnTo>
                    <a:lnTo>
                      <a:pt x="1508" y="1743"/>
                    </a:lnTo>
                    <a:lnTo>
                      <a:pt x="1508" y="1710"/>
                    </a:lnTo>
                    <a:lnTo>
                      <a:pt x="1497" y="1676"/>
                    </a:lnTo>
                    <a:lnTo>
                      <a:pt x="1485" y="1630"/>
                    </a:lnTo>
                    <a:lnTo>
                      <a:pt x="1485" y="1596"/>
                    </a:lnTo>
                    <a:lnTo>
                      <a:pt x="1485" y="1562"/>
                    </a:lnTo>
                    <a:lnTo>
                      <a:pt x="1474" y="1528"/>
                    </a:lnTo>
                    <a:lnTo>
                      <a:pt x="1474" y="1494"/>
                    </a:lnTo>
                    <a:lnTo>
                      <a:pt x="1474" y="1449"/>
                    </a:lnTo>
                    <a:lnTo>
                      <a:pt x="1463" y="1415"/>
                    </a:lnTo>
                    <a:lnTo>
                      <a:pt x="1463" y="1359"/>
                    </a:lnTo>
                    <a:lnTo>
                      <a:pt x="1463" y="1313"/>
                    </a:lnTo>
                    <a:lnTo>
                      <a:pt x="1463" y="1268"/>
                    </a:lnTo>
                    <a:lnTo>
                      <a:pt x="1452" y="1234"/>
                    </a:lnTo>
                    <a:lnTo>
                      <a:pt x="1452" y="1189"/>
                    </a:lnTo>
                    <a:lnTo>
                      <a:pt x="1452" y="1155"/>
                    </a:lnTo>
                    <a:lnTo>
                      <a:pt x="1452" y="1110"/>
                    </a:lnTo>
                    <a:lnTo>
                      <a:pt x="1452" y="1076"/>
                    </a:lnTo>
                    <a:lnTo>
                      <a:pt x="1452" y="1042"/>
                    </a:lnTo>
                    <a:lnTo>
                      <a:pt x="1452" y="1008"/>
                    </a:lnTo>
                    <a:lnTo>
                      <a:pt x="1452" y="962"/>
                    </a:lnTo>
                    <a:lnTo>
                      <a:pt x="1452" y="929"/>
                    </a:lnTo>
                    <a:lnTo>
                      <a:pt x="1452" y="883"/>
                    </a:lnTo>
                    <a:lnTo>
                      <a:pt x="1452" y="849"/>
                    </a:lnTo>
                    <a:lnTo>
                      <a:pt x="1452" y="804"/>
                    </a:lnTo>
                    <a:lnTo>
                      <a:pt x="1452" y="770"/>
                    </a:lnTo>
                    <a:lnTo>
                      <a:pt x="1452" y="736"/>
                    </a:lnTo>
                    <a:lnTo>
                      <a:pt x="1452" y="691"/>
                    </a:lnTo>
                    <a:lnTo>
                      <a:pt x="1452" y="657"/>
                    </a:lnTo>
                    <a:lnTo>
                      <a:pt x="1452" y="623"/>
                    </a:lnTo>
                    <a:lnTo>
                      <a:pt x="1452" y="589"/>
                    </a:lnTo>
                    <a:lnTo>
                      <a:pt x="1463" y="555"/>
                    </a:lnTo>
                    <a:lnTo>
                      <a:pt x="1463" y="521"/>
                    </a:lnTo>
                    <a:lnTo>
                      <a:pt x="1474" y="487"/>
                    </a:lnTo>
                    <a:lnTo>
                      <a:pt x="1485" y="453"/>
                    </a:lnTo>
                    <a:lnTo>
                      <a:pt x="1497" y="419"/>
                    </a:lnTo>
                    <a:lnTo>
                      <a:pt x="1508" y="385"/>
                    </a:lnTo>
                    <a:lnTo>
                      <a:pt x="1519" y="351"/>
                    </a:lnTo>
                    <a:lnTo>
                      <a:pt x="1531" y="317"/>
                    </a:lnTo>
                    <a:lnTo>
                      <a:pt x="1553" y="283"/>
                    </a:lnTo>
                    <a:lnTo>
                      <a:pt x="1576" y="249"/>
                    </a:lnTo>
                    <a:lnTo>
                      <a:pt x="1587" y="215"/>
                    </a:lnTo>
                    <a:lnTo>
                      <a:pt x="1610" y="181"/>
                    </a:lnTo>
                    <a:lnTo>
                      <a:pt x="1644" y="148"/>
                    </a:lnTo>
                    <a:lnTo>
                      <a:pt x="1667" y="114"/>
                    </a:lnTo>
                    <a:lnTo>
                      <a:pt x="1701" y="102"/>
                    </a:lnTo>
                    <a:lnTo>
                      <a:pt x="1735" y="68"/>
                    </a:lnTo>
                    <a:lnTo>
                      <a:pt x="1769" y="46"/>
                    </a:lnTo>
                    <a:lnTo>
                      <a:pt x="1803" y="46"/>
                    </a:lnTo>
                    <a:lnTo>
                      <a:pt x="1837" y="23"/>
                    </a:lnTo>
                    <a:lnTo>
                      <a:pt x="1870" y="12"/>
                    </a:lnTo>
                    <a:lnTo>
                      <a:pt x="1904" y="12"/>
                    </a:lnTo>
                    <a:lnTo>
                      <a:pt x="1938" y="12"/>
                    </a:lnTo>
                    <a:lnTo>
                      <a:pt x="1984" y="0"/>
                    </a:lnTo>
                    <a:lnTo>
                      <a:pt x="2018" y="0"/>
                    </a:lnTo>
                    <a:lnTo>
                      <a:pt x="2052" y="0"/>
                    </a:lnTo>
                    <a:lnTo>
                      <a:pt x="2086" y="0"/>
                    </a:lnTo>
                    <a:lnTo>
                      <a:pt x="2120" y="0"/>
                    </a:lnTo>
                    <a:lnTo>
                      <a:pt x="2154" y="0"/>
                    </a:lnTo>
                    <a:lnTo>
                      <a:pt x="2188" y="0"/>
                    </a:lnTo>
                    <a:lnTo>
                      <a:pt x="2222" y="0"/>
                    </a:lnTo>
                    <a:lnTo>
                      <a:pt x="2255" y="0"/>
                    </a:lnTo>
                    <a:lnTo>
                      <a:pt x="2289" y="0"/>
                    </a:lnTo>
                  </a:path>
                </a:pathLst>
              </a:custGeom>
              <a:noFill/>
              <a:ln cap="rnd" w="38160">
                <a:solidFill>
                  <a:srgbClr val="f6bf6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004160" y="3338640"/>
                <a:ext cx="756000" cy="1707840"/>
              </a:xfrm>
              <a:custGeom>
                <a:avLst/>
                <a:gdLst/>
                <a:ahLst/>
                <a:rect l="l" t="t" r="r" b="b"/>
                <a:pathLst>
                  <a:path w="522" h="1076">
                    <a:moveTo>
                      <a:pt x="137" y="45"/>
                    </a:moveTo>
                    <a:lnTo>
                      <a:pt x="170" y="91"/>
                    </a:lnTo>
                    <a:lnTo>
                      <a:pt x="170" y="125"/>
                    </a:lnTo>
                    <a:lnTo>
                      <a:pt x="170" y="159"/>
                    </a:lnTo>
                    <a:lnTo>
                      <a:pt x="170" y="193"/>
                    </a:lnTo>
                    <a:lnTo>
                      <a:pt x="159" y="227"/>
                    </a:lnTo>
                    <a:lnTo>
                      <a:pt x="159" y="260"/>
                    </a:lnTo>
                    <a:lnTo>
                      <a:pt x="148" y="294"/>
                    </a:lnTo>
                    <a:lnTo>
                      <a:pt x="148" y="328"/>
                    </a:lnTo>
                    <a:lnTo>
                      <a:pt x="136" y="362"/>
                    </a:lnTo>
                    <a:lnTo>
                      <a:pt x="136" y="396"/>
                    </a:lnTo>
                    <a:lnTo>
                      <a:pt x="125" y="430"/>
                    </a:lnTo>
                    <a:lnTo>
                      <a:pt x="125" y="464"/>
                    </a:lnTo>
                    <a:lnTo>
                      <a:pt x="114" y="498"/>
                    </a:lnTo>
                    <a:lnTo>
                      <a:pt x="114" y="532"/>
                    </a:lnTo>
                    <a:lnTo>
                      <a:pt x="102" y="566"/>
                    </a:lnTo>
                    <a:lnTo>
                      <a:pt x="91" y="600"/>
                    </a:lnTo>
                    <a:lnTo>
                      <a:pt x="80" y="634"/>
                    </a:lnTo>
                    <a:lnTo>
                      <a:pt x="68" y="668"/>
                    </a:lnTo>
                    <a:lnTo>
                      <a:pt x="57" y="702"/>
                    </a:lnTo>
                    <a:lnTo>
                      <a:pt x="46" y="736"/>
                    </a:lnTo>
                    <a:lnTo>
                      <a:pt x="34" y="770"/>
                    </a:lnTo>
                    <a:lnTo>
                      <a:pt x="34" y="804"/>
                    </a:lnTo>
                    <a:lnTo>
                      <a:pt x="23" y="838"/>
                    </a:lnTo>
                    <a:lnTo>
                      <a:pt x="12" y="872"/>
                    </a:lnTo>
                    <a:lnTo>
                      <a:pt x="12" y="906"/>
                    </a:lnTo>
                    <a:lnTo>
                      <a:pt x="0" y="940"/>
                    </a:lnTo>
                    <a:lnTo>
                      <a:pt x="0" y="974"/>
                    </a:lnTo>
                    <a:lnTo>
                      <a:pt x="0" y="1008"/>
                    </a:lnTo>
                    <a:lnTo>
                      <a:pt x="0" y="1041"/>
                    </a:lnTo>
                    <a:lnTo>
                      <a:pt x="34" y="1053"/>
                    </a:lnTo>
                    <a:lnTo>
                      <a:pt x="68" y="1075"/>
                    </a:lnTo>
                    <a:lnTo>
                      <a:pt x="102" y="1075"/>
                    </a:lnTo>
                    <a:lnTo>
                      <a:pt x="136" y="1075"/>
                    </a:lnTo>
                    <a:lnTo>
                      <a:pt x="170" y="1075"/>
                    </a:lnTo>
                    <a:lnTo>
                      <a:pt x="204" y="1075"/>
                    </a:lnTo>
                    <a:lnTo>
                      <a:pt x="238" y="1075"/>
                    </a:lnTo>
                    <a:lnTo>
                      <a:pt x="272" y="1075"/>
                    </a:lnTo>
                    <a:lnTo>
                      <a:pt x="306" y="1075"/>
                    </a:lnTo>
                    <a:lnTo>
                      <a:pt x="340" y="1075"/>
                    </a:lnTo>
                    <a:lnTo>
                      <a:pt x="374" y="1075"/>
                    </a:lnTo>
                    <a:lnTo>
                      <a:pt x="408" y="1075"/>
                    </a:lnTo>
                    <a:lnTo>
                      <a:pt x="442" y="1075"/>
                    </a:lnTo>
                    <a:lnTo>
                      <a:pt x="476" y="1075"/>
                    </a:lnTo>
                    <a:lnTo>
                      <a:pt x="510" y="1064"/>
                    </a:lnTo>
                    <a:lnTo>
                      <a:pt x="521" y="1030"/>
                    </a:lnTo>
                    <a:lnTo>
                      <a:pt x="521" y="996"/>
                    </a:lnTo>
                    <a:lnTo>
                      <a:pt x="521" y="962"/>
                    </a:lnTo>
                    <a:lnTo>
                      <a:pt x="510" y="928"/>
                    </a:lnTo>
                    <a:lnTo>
                      <a:pt x="499" y="894"/>
                    </a:lnTo>
                    <a:lnTo>
                      <a:pt x="499" y="860"/>
                    </a:lnTo>
                    <a:lnTo>
                      <a:pt x="487" y="826"/>
                    </a:lnTo>
                    <a:lnTo>
                      <a:pt x="476" y="792"/>
                    </a:lnTo>
                    <a:lnTo>
                      <a:pt x="465" y="759"/>
                    </a:lnTo>
                    <a:lnTo>
                      <a:pt x="465" y="725"/>
                    </a:lnTo>
                    <a:lnTo>
                      <a:pt x="453" y="691"/>
                    </a:lnTo>
                    <a:lnTo>
                      <a:pt x="453" y="657"/>
                    </a:lnTo>
                    <a:lnTo>
                      <a:pt x="453" y="623"/>
                    </a:lnTo>
                    <a:lnTo>
                      <a:pt x="442" y="589"/>
                    </a:lnTo>
                    <a:lnTo>
                      <a:pt x="442" y="555"/>
                    </a:lnTo>
                    <a:lnTo>
                      <a:pt x="442" y="521"/>
                    </a:lnTo>
                    <a:lnTo>
                      <a:pt x="442" y="487"/>
                    </a:lnTo>
                    <a:lnTo>
                      <a:pt x="431" y="453"/>
                    </a:lnTo>
                    <a:lnTo>
                      <a:pt x="431" y="419"/>
                    </a:lnTo>
                    <a:lnTo>
                      <a:pt x="431" y="385"/>
                    </a:lnTo>
                    <a:lnTo>
                      <a:pt x="431" y="351"/>
                    </a:lnTo>
                    <a:lnTo>
                      <a:pt x="431" y="317"/>
                    </a:lnTo>
                    <a:lnTo>
                      <a:pt x="431" y="283"/>
                    </a:lnTo>
                    <a:lnTo>
                      <a:pt x="431" y="249"/>
                    </a:lnTo>
                    <a:lnTo>
                      <a:pt x="431" y="215"/>
                    </a:lnTo>
                    <a:lnTo>
                      <a:pt x="431" y="181"/>
                    </a:lnTo>
                    <a:lnTo>
                      <a:pt x="419" y="147"/>
                    </a:lnTo>
                    <a:lnTo>
                      <a:pt x="408" y="113"/>
                    </a:lnTo>
                    <a:lnTo>
                      <a:pt x="385" y="79"/>
                    </a:lnTo>
                    <a:lnTo>
                      <a:pt x="363" y="45"/>
                    </a:lnTo>
                    <a:lnTo>
                      <a:pt x="329" y="23"/>
                    </a:lnTo>
                    <a:lnTo>
                      <a:pt x="295" y="11"/>
                    </a:lnTo>
                    <a:lnTo>
                      <a:pt x="261" y="0"/>
                    </a:lnTo>
                    <a:lnTo>
                      <a:pt x="227" y="0"/>
                    </a:lnTo>
                    <a:lnTo>
                      <a:pt x="193" y="0"/>
                    </a:lnTo>
                    <a:lnTo>
                      <a:pt x="137" y="45"/>
                    </a:lnTo>
                    <a:lnTo>
                      <a:pt x="137" y="45"/>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216800" y="2971800"/>
              <a:ext cx="23781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te of CYS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RNA expression</a:t>
              </a:r>
              <a:endParaRPr b="0" lang="en-US" sz="2000" spc="-1" strike="noStrike">
                <a:solidFill>
                  <a:srgbClr val="000000"/>
                </a:solidFill>
                <a:latin typeface="Times New Roman"/>
              </a:endParaRPr>
            </a:p>
          </p:txBody>
        </p:sp>
        <p:sp>
          <p:nvSpPr>
            <p:cNvPr id="1098" name=""/>
            <p:cNvSpPr/>
            <p:nvPr/>
          </p:nvSpPr>
          <p:spPr>
            <a:xfrm>
              <a:off x="4694400" y="2895480"/>
              <a:ext cx="21646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te of cyste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ptake into fibre</a:t>
              </a:r>
              <a:endParaRPr b="0" lang="en-US" sz="2000" spc="-1" strike="noStrike">
                <a:solidFill>
                  <a:srgbClr val="000000"/>
                </a:solidFill>
                <a:latin typeface="Times New Roman"/>
              </a:endParaRPr>
            </a:p>
          </p:txBody>
        </p:sp>
      </p:grpSp>
      <p:sp>
        <p:nvSpPr>
          <p:cNvPr id="1099"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te of expression of mRNA for a follicle cysteine transport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3:42:24Z</dcterms:created>
  <dc:creator>USER</dc:creator>
  <dc:description/>
  <dc:language>en-US</dc:language>
  <cp:lastModifiedBy>Hdaily</cp:lastModifiedBy>
  <cp:lastPrinted>2000-02-03T09:09:47Z</cp:lastPrinted>
  <dcterms:modified xsi:type="dcterms:W3CDTF">2000-06-09T06:28:39Z</dcterms:modified>
  <cp:revision>4</cp:revision>
  <dc:subject/>
  <dc:title>Transport of Specific Amino Acids into Cells</dc:title>
</cp:coreProperties>
</file>