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E52D-8F3C-45A6-9E01-34AF1E79A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9B92-CB68-4DF6-957C-8A6C0D118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four factors which influence energy supply to the follicle - the supply, concentration, transport and use of energy substrates in the follicle. This module describes these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0F4E-982B-4036-907B-A7495E27C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proximately 6% of the output from the heart is directed to the skin in a thermoneutral environment, however the skin only uses 1.4% of the total oxygen used by the whole body. This implies that the skin must be able to operate without oxygen in some instances and thus have the capacity for anaerobic metabolis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Harris et al. (1989) Aust. J. Agric. Res. 40: 879-88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A62E-EF11-4A64-B76A-FF37DE5EE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DA86-D557-41CE-90D2-F0D2757F1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ptake of glucose is fundamental to all metabolic pathways in which it is involved as it is the rate limiting step in these processes.  Glucose enters the cell via facilitated transport mediated by a family of transmembrane proteins called GLUTS. Facilitated diffusion is catalysed by members of the family of facilitated glucose. Facilitated transport is the most widespread mechanism of glucose transport in mammalian cells and alternate mechanisms of glucose transporters are restricted to specific t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ddition to facilitated diffusion, glucose may be transported by active sodium linked sugar co-transporters that are found in the kidney and small intestine and in many bacteria existing in hypoglycaemic environments.  Glucose is also transported by binding protein-dependent systems that utilise the free energy of ATP and phosphotransferase systems that exploit the free energy of hydrolysis of phosphoenolpyruvate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tamine is actively transported from the capillaries into the cells using a number of amino acid transport systems.  These are dealt with in more detail in the “Amino Acid Transport” and “Transport of Specific Amino Acids into Cells” modu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8F1E-3F40-4A64-BBC4-C3B259953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late 1960’s and early 1970’s it was established that the skin had all the necessary enzymes for glycolysis, the TCA cycle and the pentose phosphate path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important pathway for energy metabolism in the hair follicle is glycolysis.  About 90% glucose passes through glycolysis.  6-7% of glucose is oxidised via the TCA cycle and the remaining 3-4% is oxidised via the pentose phosphate pathw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s. Rachel Smith, The University of Western Australia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ctors That Influence the Supply of Energy to the Follicl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  Supply of energy substrates to the skin</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ood flow to the skin is high but variab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oximately 300 ml/min to total sk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ich is 6% of cardiac output</a:t>
            </a:r>
            <a:endParaRPr b="1"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uses only 1.4% of whole body OXYGEN utilis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AEROBIC metabolism must be operating in the ski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4708440" y="5927760"/>
            <a:ext cx="18432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7064640" y="6507000"/>
            <a:ext cx="1930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 &amp; Phil Hy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2. Concentration of energy substrates in the blood</a:t>
            </a:r>
            <a:endParaRPr b="1" lang="en-US" sz="3200" spc="-1" strike="noStrike">
              <a:solidFill>
                <a:srgbClr val="fafd00"/>
              </a:solidFill>
              <a:latin typeface="Arial"/>
            </a:endParaRPr>
          </a:p>
        </p:txBody>
      </p:sp>
      <p:sp>
        <p:nvSpPr>
          <p:cNvPr id="55"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cose (carbohydrate) and glutamine (amino acid) are the major substrates for energy production in the follicle</a:t>
            </a:r>
            <a:endParaRPr b="1"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cose - 2.95-3.81 m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tamine - 0.5-0.6 mM (20-25% of total plasma amino 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790344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3. Transport of energy substrates into the cell</a:t>
            </a:r>
            <a:endParaRPr b="1" lang="en-US" sz="3200" spc="-1" strike="noStrike">
              <a:solidFill>
                <a:srgbClr val="fafd00"/>
              </a:solidFill>
              <a:latin typeface="Arial"/>
            </a:endParaRPr>
          </a:p>
        </p:txBody>
      </p:sp>
      <p:sp>
        <p:nvSpPr>
          <p:cNvPr id="58"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co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cilitated by glucose transport proteins (Glut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tamin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ely via various amino acid transport systems</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7064640" y="6507000"/>
            <a:ext cx="1930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 &amp; Phil Hynd</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4. Use of absorbed energy substrates</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GLUCOSE is metabolised b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aerobic or aerobic glycolysis (&gt;9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CA cycle (6-7%)</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entose phosphate pathway (3-4%)</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GLUTAMINE is metabolised b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lete oxidation (15-25%)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utaminolysis (65-75%)</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2:26:30Z</dcterms:created>
  <dc:creator>USER</dc:creator>
  <dc:description/>
  <dc:language>en-US</dc:language>
  <cp:lastModifiedBy>Hdaily</cp:lastModifiedBy>
  <cp:lastPrinted>2000-02-03T09:09:47Z</cp:lastPrinted>
  <dcterms:modified xsi:type="dcterms:W3CDTF">2000-05-24T22:54:13Z</dcterms:modified>
  <cp:revision>3</cp:revision>
  <dc:subject/>
  <dc:title>Factors That Influence the Supply of Energy to the Follicle</dc:title>
</cp:coreProperties>
</file>