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2BFB-1F8D-4E6E-A1CA-18BA19CBD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C057-2417-4C2E-AA57-8FDB9351E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IC ANIMAL</a:t>
            </a:r>
            <a:r>
              <a:rPr b="0" lang="en-AU" sz="1200" spc="-1" strike="noStrike">
                <a:solidFill>
                  <a:srgbClr val="000000"/>
                </a:solidFill>
                <a:latin typeface="Times New Roman"/>
              </a:rPr>
              <a:t> contains recombinant DNA which is stably integrated into the chromosomal DNA of some or all of its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E</a:t>
            </a:r>
            <a:r>
              <a:rPr b="0" lang="en-AU" sz="1200" spc="-1" strike="noStrike">
                <a:solidFill>
                  <a:srgbClr val="000000"/>
                </a:solidFill>
                <a:latin typeface="Times New Roman"/>
              </a:rPr>
              <a:t> is the piece of recombinant DNA which becomes integrated into the chromosomal DNA of a transgenic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the modules relating to molecular biology to review the process of isolating, identifying and cloning DNA for use in transgen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ic animals potentially have many varied roles.  For wool production, use of transgenics may improve the sheeps’ resistance to disease, their ability to produce essential amino acids, decrease pigmentation or improve the fibre proper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what transgenic animals have been produced and what their potential uses mayb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3C0E-9F07-4393-898D-5A8FE0155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ist on the above slide covers the animals that have been transgenically modified, mainly for research purposes as opposed to food production due to the constraints of public percep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B9D1-C26F-41AB-B0AB-707887805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ic animals will expand the uses of our current animals.  Instead of regarding  animals just as a source of food or fibre they can also be sources of pharmaceutical products, used for biomedical research and grow and develop at faster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Regulatory elements of genes can be studied by joining them to “reporter genes” and inserting them into transgenic animals.  Useful reporters for animal cells are Chloramphenicol Acetyltransferase, lacz and more recently, Green Fluorescent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ransgenic animals can be made to mimic various diseases by either inserting a new gene into the animals or “knocking out” the function of an existing ge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While the potential for improvements in domestic animals appears considerable, no transgenic domestic animal has yet proven commercially valuable.  However, several are now  thought to be close to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ransgenic animals can be used to produce environmentally-friendly insecticides to reduce the use of chemicals.  They may also be able to reduce the populations of unwanted animal species such as foxes or rabbits, although extreme care will be needed for this application to be released outside contained laborator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2B05-9BCA-4DEB-9DA9-8C0965BF6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Hormone manipulation was one of the earliest applications of transgenic technology to domestic animals, however, it has yet to prove useful for the farmer because of side-effects of the manipulated hormone concentrations.  At least three laboratories are still continuing with aspects of this resear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he process of evolution has resulted in the loss of many biochemical pathways from domestic animals.  Since the functional pathways still exist in bacteria, they can be isolated from these organisms and transferred to animals, thus providing additional nutrients for growth and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Structural proteins provide some of the best targets for manipulation by transgenic technologies, because they can frequently be altered without having any effect on the growth and health of the animal itself.  Wool proteins are a particularly good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here are several ways in which disease resistance can be modified by transgenic technology.  One is to alter the immune system directly.  This has great potential but is quite difficult technically.  Another approach is to add a gene to an animal and thus provide it with the information necessary to produce a protein which is toxic to the disease-causing organism.</a:t>
            </a:r>
            <a:endParaRPr b="0" lang="en-US" sz="1200" spc="-1" strike="noStrike">
              <a:solidFill>
                <a:srgbClr val="000000"/>
              </a:solidFill>
              <a:latin typeface="Times New Roman"/>
            </a:endParaRPr>
          </a:p>
        </p:txBody>
      </p:sp>
      <p:sp>
        <p:nvSpPr>
          <p:cNvPr id="73"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genic Anima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Kevin Ward,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urrent range of transgenic animal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aboratory animals (mice, rats, rabbi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g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oa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ttl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s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irds</a:t>
            </a:r>
            <a:endParaRPr b="1" lang="en-US" sz="2800" spc="-1" strike="noStrike">
              <a:solidFill>
                <a:srgbClr val="ffffff"/>
              </a:solidFill>
              <a:latin typeface="Arial"/>
            </a:endParaRPr>
          </a:p>
        </p:txBody>
      </p:sp>
      <p:sp>
        <p:nvSpPr>
          <p:cNvPr id="51"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lications for transgenic animal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earch into gene regul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dical researc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rovements in domestic animal productiv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vironmental protection</a:t>
            </a:r>
            <a:endParaRPr b="1" lang="en-US" sz="2800" spc="-1" strike="noStrike">
              <a:solidFill>
                <a:srgbClr val="ffffff"/>
              </a:solidFill>
              <a:latin typeface="Arial"/>
            </a:endParaRPr>
          </a:p>
        </p:txBody>
      </p:sp>
      <p:sp>
        <p:nvSpPr>
          <p:cNvPr id="54"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lications in domestic animal production</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rmone manipul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dification to animal biochemistr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terations to structural protei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hanced disease resistanc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2:00:37Z</dcterms:created>
  <dc:creator>USER</dc:creator>
  <dc:description/>
  <dc:language>en-US</dc:language>
  <cp:lastModifiedBy>Hdaily</cp:lastModifiedBy>
  <cp:lastPrinted>2000-02-03T09:09:47Z</cp:lastPrinted>
  <dcterms:modified xsi:type="dcterms:W3CDTF">2000-06-09T05:38:33Z</dcterms:modified>
  <cp:revision>3</cp:revision>
  <dc:subject/>
  <dc:title>Transgenic Animals</dc:title>
</cp:coreProperties>
</file>