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B21D-A3EF-49E3-B51C-D1A3C4D19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BDFA-79D8-4568-B9F4-D85342D36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glucose, the primary fuel of the follicle is transported into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0664-5BA9-46DE-879E-761C8D870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e of glucose uptake in Merino skin has been measured, but the mechanism by which this process occurs is not cl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transporter type 1 (GLUT1) was first purified from human erythrocytes.  This was aided by the relative abundance of the transporter protein in the erythrocyte membrane (~5% total membrane protein).  The purification of the GLUT1 protein and subsequent antibody production enabled the elucidation of </a:t>
            </a:r>
            <a:r>
              <a:rPr b="0" i="1" lang="en-AU" sz="1200" spc="-1" strike="noStrike">
                <a:solidFill>
                  <a:srgbClr val="000000"/>
                </a:solidFill>
                <a:latin typeface="Times New Roman"/>
              </a:rPr>
              <a:t>glut1</a:t>
            </a:r>
            <a:r>
              <a:rPr b="0" lang="en-AU" sz="1200" spc="-1" strike="noStrike">
                <a:solidFill>
                  <a:srgbClr val="000000"/>
                </a:solidFill>
                <a:latin typeface="Times New Roman"/>
              </a:rPr>
              <a:t> cDNA from human HepG2 and rat brain.   Cloning demonstrated that in human and rat, GLUT1 is a 492 amino acid protein with a molecular mass of 54117 Da.  </a:t>
            </a:r>
            <a:r>
              <a:rPr b="0" i="1" lang="en-AU" sz="1200" spc="-1" strike="noStrike">
                <a:solidFill>
                  <a:srgbClr val="000000"/>
                </a:solidFill>
                <a:latin typeface="Times New Roman"/>
              </a:rPr>
              <a:t>glut1</a:t>
            </a:r>
            <a:r>
              <a:rPr b="0" lang="en-AU" sz="1200" spc="-1" strike="noStrike">
                <a:solidFill>
                  <a:srgbClr val="000000"/>
                </a:solidFill>
                <a:latin typeface="Times New Roman"/>
              </a:rPr>
              <a:t> has since been cloned from mouse, pig, rabbit, cow and more recently, sheep. The amino acid sequence of GLUT1 is 97-98% homologous between species and there is 99% identity between the two ruminant sequ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vailability of the</a:t>
            </a:r>
            <a:r>
              <a:rPr b="0" i="1" lang="en-AU" sz="1200" spc="-1" strike="noStrike">
                <a:solidFill>
                  <a:srgbClr val="000000"/>
                </a:solidFill>
                <a:latin typeface="Times New Roman"/>
              </a:rPr>
              <a:t> glut1</a:t>
            </a:r>
            <a:r>
              <a:rPr b="0" lang="en-AU" sz="1200" spc="-1" strike="noStrike">
                <a:solidFill>
                  <a:srgbClr val="000000"/>
                </a:solidFill>
                <a:latin typeface="Times New Roman"/>
              </a:rPr>
              <a:t> cDNA has resulted in the discovery of other isoforms of glucose transporter proteins through screening of DNA libraries.  The accepted nomenclature of glucose transporters is </a:t>
            </a:r>
            <a:r>
              <a:rPr b="0" i="1" lang="en-AU" sz="1200" spc="-1" strike="noStrike">
                <a:solidFill>
                  <a:srgbClr val="000000"/>
                </a:solidFill>
                <a:latin typeface="Times New Roman"/>
              </a:rPr>
              <a:t>glut1 -7</a:t>
            </a:r>
            <a:r>
              <a:rPr b="0" lang="en-AU" sz="1200" spc="-1" strike="noStrike">
                <a:solidFill>
                  <a:srgbClr val="000000"/>
                </a:solidFill>
                <a:latin typeface="Times New Roman"/>
              </a:rPr>
              <a:t> in chronological order of discovery.  In rapid succession; </a:t>
            </a:r>
            <a:r>
              <a:rPr b="0" i="1" lang="en-AU" sz="1200" spc="-1" strike="noStrike">
                <a:solidFill>
                  <a:srgbClr val="000000"/>
                </a:solidFill>
                <a:latin typeface="Times New Roman"/>
              </a:rPr>
              <a:t>glut2</a:t>
            </a:r>
            <a:r>
              <a:rPr b="0" lang="en-AU" sz="1200" spc="-1" strike="noStrike">
                <a:solidFill>
                  <a:srgbClr val="000000"/>
                </a:solidFill>
                <a:latin typeface="Times New Roman"/>
              </a:rPr>
              <a:t>, the liver-type facilitated glucose transporter, </a:t>
            </a:r>
            <a:r>
              <a:rPr b="0" i="1" lang="en-AU" sz="1200" spc="-1" strike="noStrike">
                <a:solidFill>
                  <a:srgbClr val="000000"/>
                </a:solidFill>
                <a:latin typeface="Times New Roman"/>
              </a:rPr>
              <a:t>glut3</a:t>
            </a:r>
            <a:r>
              <a:rPr b="0" lang="en-AU" sz="1200" spc="-1" strike="noStrike">
                <a:solidFill>
                  <a:srgbClr val="000000"/>
                </a:solidFill>
                <a:latin typeface="Times New Roman"/>
              </a:rPr>
              <a:t>, the brain-type glucose transporter, </a:t>
            </a:r>
            <a:r>
              <a:rPr b="0" i="1" lang="en-AU" sz="1200" spc="-1" strike="noStrike">
                <a:solidFill>
                  <a:srgbClr val="000000"/>
                </a:solidFill>
                <a:latin typeface="Times New Roman"/>
              </a:rPr>
              <a:t>glut4</a:t>
            </a:r>
            <a:r>
              <a:rPr b="0" lang="en-AU" sz="1200" spc="-1" strike="noStrike">
                <a:solidFill>
                  <a:srgbClr val="000000"/>
                </a:solidFill>
                <a:latin typeface="Times New Roman"/>
              </a:rPr>
              <a:t>, the insulin-regulatable-type glucose transporter and </a:t>
            </a:r>
            <a:r>
              <a:rPr b="0" i="1" lang="en-AU" sz="1200" spc="-1" strike="noStrike">
                <a:solidFill>
                  <a:srgbClr val="000000"/>
                </a:solidFill>
                <a:latin typeface="Times New Roman"/>
              </a:rPr>
              <a:t>glut5</a:t>
            </a:r>
            <a:r>
              <a:rPr b="0" lang="en-AU" sz="1200" spc="-1" strike="noStrike">
                <a:solidFill>
                  <a:srgbClr val="000000"/>
                </a:solidFill>
                <a:latin typeface="Times New Roman"/>
              </a:rPr>
              <a:t>, the small intestine-type transporter were identified in human tissues and </a:t>
            </a:r>
            <a:r>
              <a:rPr b="0" i="1" lang="en-AU" sz="1200" spc="-1" strike="noStrike">
                <a:solidFill>
                  <a:srgbClr val="000000"/>
                </a:solidFill>
                <a:latin typeface="Times New Roman"/>
              </a:rPr>
              <a:t>glut7</a:t>
            </a:r>
            <a:r>
              <a:rPr b="0" lang="en-AU" sz="1200" spc="-1" strike="noStrike">
                <a:solidFill>
                  <a:srgbClr val="000000"/>
                </a:solidFill>
                <a:latin typeface="Times New Roman"/>
              </a:rPr>
              <a:t> was demonstrated in the endoplasmic reticulum of rat hepatocy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s been limited investigation of glucose transporters in skin and there is no published data for ruminant skin.  In normal human and rat skin GLUT1 is localised in the basal and suprabasal cells of the epidermis. GLUT1 expression is high in cells with high metabolic activity that proliferate and migrate e.g. margins of wounds, tumour cells, epidermis.  Within the basal cells of the epidermis GLUT1 is distributed primarily in the plasma membrane and there is little evidence of an intracellular pool.  GLUT4 is not detectable in human and rat skin.  The remaining two glucose transporter isoforms have not been demonstrated in skin but are unlikely to occur due to their specific functions in other tissu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A9AC-2DC3-4D2B-9447-D94000F25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dentifying the distribution of GLUT1 in skin and around the wool follicle will give an indication of what its role might be in the overall carbohydrate metabolism of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likely that GLUT1 expression is also high within metabolically active cell types of the wool follicle.  Published investigations of GLUT1 in skin have not considered skin appendages such as the wool follicle.  It is possible that GLUT1 distribution in sheep skin will be similar to other species and reflect the distribution of glycogen.   In this case it will be concentrated around the outer root sheath where most of the glycogen is stored, and there may be some present in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econd possibility is that GLUT1 may play an important role in the direct uptake of glucose in the follicle bulb adjacent to the dermal papilla where there is a concentrated blood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1 might also play a role in the transport of glucose to cells which are further removed from a direct supply from the capill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should be little or no expression in the keratinised fibre and there is likely to be expression of GLUT1 in the wool follicle bulb as it is the most metabolically active region of the follic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of Glucose in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University of Western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of glucose into cell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 by glucose transport proteins (Glu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x GLUT isoforms describ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T1 possibly major isoform in sk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uman epidermis &amp; keratinocytes </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uman &amp; rat ski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eep placenta</a:t>
            </a:r>
            <a:endParaRPr b="1" lang="en-US" sz="2000" spc="-1" strike="noStrike">
              <a:solidFill>
                <a:srgbClr val="ffffff"/>
              </a:solidFill>
              <a:latin typeface="Arial"/>
            </a:endParaRPr>
          </a:p>
        </p:txBody>
      </p:sp>
      <p:sp>
        <p:nvSpPr>
          <p:cNvPr id="51"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ssible roles of GLUT1 in ovine skin and wool follicl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ptake of glucose to be stored as glycoge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ptake of circulating glucose for direct production of energ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 transfer from glycogen store to point of end us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2:47:21Z</dcterms:created>
  <dc:creator>USER</dc:creator>
  <dc:description/>
  <dc:language>en-US</dc:language>
  <cp:lastModifiedBy>Hdaily</cp:lastModifiedBy>
  <cp:lastPrinted>2000-02-03T09:09:47Z</cp:lastPrinted>
  <dcterms:modified xsi:type="dcterms:W3CDTF">2000-05-24T23:04:50Z</dcterms:modified>
  <cp:revision>2</cp:revision>
  <dc:subject/>
  <dc:title>Transport of Glucose in the Follicle</dc:title>
</cp:coreProperties>
</file>