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1B48-0A74-4748-BB6C-DAA812A34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E864-AD31-45CE-B011-1211C798F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similarity between follicle initiation and the follicle cycle and the role the dermal papilla plays in both si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B0C3-D29F-4BBE-92A5-6E444AF8E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uller-Rover, S. Tokura, Y., Welker, P., Furukawa, F., Takigawa, M. and Paus, R. (1999). Exp. Dermatol. 8:2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cessation of telogen there arises the requirement for reactivation of hair growth.  In the shortened telogen follicle, the deepest epithelial cells (the hair-germ) are undifferentiated and non-dividing outer root sheath (ORS).  Below these cells are the dormant dermal papilla (DP) cells (which have moved up as the follicle regressed and shortened).  With reactivation of fibre growth some hair germ cells extend deeper into the dermis to form of a plug - as if responding to a "first dermal message" from the DP cells.  Hair plug cells then surround the DP and, as if responding to a "second dermal message”, the clearly adjacent matrix cells begin to divide forming a hair fibre and inner root sheath (IRS).  The new fibre grows into the mouth of the original follicle.  The old hair, known as a club hair, is eventually sh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the follicle stem cells are activated by the DP.  Further, the hypothesis requires that cell movement in the ORS is downward rather than upwards as is the case with the matrix cells.  This has been observed in rat vibrissae follicle but further experimentation is required to substantiate the one obser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ats, the adult dermal papilla (DP) has properties similar to its mesenchymal precursor.  It has been shown that surgically removed follicle bulbs of rat vibrissae follicles induce a new developing hair follicle when transported to non-follicular epidermis.  In addition, dermal sheath cells from the lower part of the follicle also induce the formation of a new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ter studies with cultured dermal papilla cells were able to induce hair growth in amputated rat vibrissae follicles the same as isolated intact DP, whereas dermal fibroblasts from hairless regions of rats were unable to induce new follicles.  Cultured vibrissae DP cells were shown to induce follicle formation when implanted directly into rat ear skin, provided they were in contact with the epidermis (this is another piece of evidence reflecting the importance of E-M interactions).  Follicles induced by implants of vibrissae cells grew vibrissae like hairs as hair type is specified by the DP.  Of course one criticism of this experiment is that the DP cells could induce existing follicles in rat ear.  This criticism was overcome by showing that cultured rat pelage papilla cells can induce hair follicles in glabrous footpad skin (which is known to be devoid of hair).  These experiments show that the DP clearly has an inductive role in follicle formation.  There is also strong evidence that the follicular epithelium plays an active role in this inductive process, since epithelial cells derived from the bulb of rat vibrissae follicles will not proliferate when cultured alone.  However, they do proliferate when cultured with DP cells.  These same epithelial cells will not form follicles when implanted into rat ear skin, nor will cells implanted from cultured vibrissae dermal sheath.  However, large follicles do form when bulb cells and dermal sheath cells are implanted together.  What this suggests is that the dermal sheath cells need to be conditioned by signals from the germinative epidermis before they can function as DP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s:  Oliver, R.F. and Jahoda, C.A.B.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C71B-1C17-4D55-A132-47AC33A93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ductive role of the dermal papilla occurs by interacting with the neighbouring follicular epithelial cells.  This slide describes some of the molecular changes that occur during this inter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al papilla, as part of the dermis, contains extra cellular matrix (ECM) which is rich in basement membrane molecules such as collagen, laminin and heparin sulphate  proteoglycan.  These components are constant throughout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ondroitin and chondroitin sulphate (both are proteoglycans - refer to “Extracellular Matrix” module) have also been localised to the dermal sheath and DP of anagen follicles.  However, they diminish during catagen, disappearing altogether during telogen.  This suggests that they may be involved in regulating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several growth factors including, TGF</a:t>
            </a:r>
            <a:r>
              <a:rPr b="0" lang="en-AU" sz="1200" spc="-1" strike="noStrike">
                <a:solidFill>
                  <a:srgbClr val="000000"/>
                </a:solidFill>
                <a:latin typeface="Symbol"/>
                <a:ea typeface="Symbol"/>
              </a:rPr>
              <a:t></a:t>
            </a:r>
            <a:r>
              <a:rPr b="0" lang="en-AU" sz="1200" spc="-1" strike="noStrike">
                <a:solidFill>
                  <a:srgbClr val="000000"/>
                </a:solidFill>
                <a:latin typeface="Times New Roman"/>
              </a:rPr>
              <a:t>-1 and FGF-2 are known to bind to the ECM.  This binding may modulate and/or localise the activity of the growth factors.  In fact, the FGF family of peptide growth factors require the binding of heparin in order to be presented correctly to their recept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F728-1720-42EA-B300-F3546658F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relationships and respective roles of the adult dermal papilla and hair bulb epithelium, appear to be similar to those of their embryonic precursors during the hair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the dermal component plays a dominant role in both environments but must be primed by the epidermis to attain its full inductive pot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nn </a:t>
            </a:r>
            <a:r>
              <a:rPr b="0" i="1" lang="en-AU" sz="1200" spc="-1" strike="noStrike">
                <a:solidFill>
                  <a:srgbClr val="000000"/>
                </a:solidFill>
                <a:latin typeface="Times New Roman"/>
              </a:rPr>
              <a:t>et al.,</a:t>
            </a:r>
            <a:r>
              <a:rPr b="0" lang="en-AU" sz="1200" spc="-1" strike="noStrike">
                <a:solidFill>
                  <a:srgbClr val="000000"/>
                </a:solidFill>
                <a:latin typeface="Times New Roman"/>
              </a:rPr>
              <a:t>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a:t>
            </a:r>
            <a:r>
              <a:rPr b="1" lang="en-AU" sz="1200" spc="-1" strike="noStrike">
                <a:solidFill>
                  <a:srgbClr val="000000"/>
                </a:solidFill>
                <a:latin typeface="Times New Roman"/>
              </a:rPr>
              <a:t>8</a:t>
            </a:r>
            <a:r>
              <a:rPr b="0" lang="en-AU" sz="1200" spc="-1" strike="noStrike">
                <a:solidFill>
                  <a:srgbClr val="000000"/>
                </a:solidFill>
                <a:latin typeface="Times New Roman"/>
              </a:rPr>
              <a:t>, 229-2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fafd00"/>
                </a:solidFill>
                <a:latin typeface="Arial"/>
              </a:rPr>
              <a:t>Epithelial-mesenchymal Reactions in the Adult Follicl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837720" y="1980720"/>
            <a:ext cx="39625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Links between the follicle cycle and follicle initiation</a:t>
            </a:r>
            <a:endParaRPr b="1" lang="en-US" sz="2800" spc="-1" strike="noStrike">
              <a:solidFill>
                <a:srgbClr val="fafd00"/>
              </a:solidFill>
              <a:latin typeface="Arial"/>
            </a:endParaRPr>
          </a:p>
        </p:txBody>
      </p:sp>
      <p:pic>
        <p:nvPicPr>
          <p:cNvPr id="56" name="" descr=""/>
          <p:cNvPicPr/>
          <p:nvPr/>
        </p:nvPicPr>
        <p:blipFill>
          <a:blip r:embed="rId1">
            <a:lum contrast="6000"/>
          </a:blip>
          <a:stretch/>
        </p:blipFill>
        <p:spPr>
          <a:xfrm>
            <a:off x="4419720" y="0"/>
            <a:ext cx="4647960" cy="6248520"/>
          </a:xfrm>
          <a:prstGeom prst="rect">
            <a:avLst/>
          </a:prstGeom>
          <a:ln w="0">
            <a:noFill/>
          </a:ln>
        </p:spPr>
      </p:pic>
      <p:sp>
        <p:nvSpPr>
          <p:cNvPr id="57" name=""/>
          <p:cNvSpPr/>
          <p:nvPr/>
        </p:nvSpPr>
        <p:spPr>
          <a:xfrm>
            <a:off x="6317280" y="6400800"/>
            <a:ext cx="275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uller-Rover, S. et al. (1999)</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6461280" y="615636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e retain their inductive properties in the adult</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mal papilla can induce follicle form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 dermal papilla transplanted from a follicle to epidermis that contains no follicles, such as a mouse foot pad, will induce a new follicle to for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al papilla cells will induce new follicles when place in contact with the epiderm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pithelial-mesenchymal interactions are involv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interactions in the follicle</a:t>
            </a:r>
            <a:endParaRPr b="1" lang="en-US" sz="3200" spc="-1" strike="noStrike">
              <a:solidFill>
                <a:srgbClr val="fafd00"/>
              </a:solidFill>
              <a:latin typeface="Arial"/>
            </a:endParaRPr>
          </a:p>
        </p:txBody>
      </p:sp>
      <p:sp>
        <p:nvSpPr>
          <p:cNvPr id="6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M interactions occur between the bulb (epithelial tissue) and the dermal papilla (mesenchymal tiss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papilla contains ECM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ponents disappear during teloge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ECM modulates the activity of growth facto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s may influence what factors are available during the follicle cycle</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onships and respective roles of the adult dermal papilla and hair bulb matrix epithelium, appear similar to those of their embryonic precurs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dermal component plays a dominant role in both settings but must be primed by the epidermis to attain its full inductive potential</a:t>
            </a:r>
            <a:endParaRPr b="1" lang="en-US" sz="2800" spc="-1" strike="noStrike">
              <a:solidFill>
                <a:srgbClr val="ffffff"/>
              </a:solidFill>
              <a:latin typeface="Arial"/>
            </a:endParaRPr>
          </a:p>
        </p:txBody>
      </p:sp>
      <p:sp>
        <p:nvSpPr>
          <p:cNvPr id="73"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3:09:34Z</dcterms:created>
  <dc:creator>USER</dc:creator>
  <dc:description/>
  <dc:language>en-US</dc:language>
  <cp:lastModifiedBy>Hdaily</cp:lastModifiedBy>
  <cp:lastPrinted>2000-03-23T03:22:48Z</cp:lastPrinted>
  <dcterms:modified xsi:type="dcterms:W3CDTF">2000-05-24T02:33:26Z</dcterms:modified>
  <cp:revision>4</cp:revision>
  <dc:subject/>
  <dc:title> Epithelial-mesenchymal Reactions in the Adult Follicle.</dc:title>
</cp:coreProperties>
</file>