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5D77-9758-46E3-A35D-B67323C97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562040" y="533520"/>
            <a:ext cx="3657600" cy="2743200"/>
          </a:xfrm>
          <a:prstGeom prst="rect">
            <a:avLst/>
          </a:prstGeom>
          <a:ln w="0">
            <a:noFill/>
          </a:ln>
        </p:spPr>
      </p:sp>
      <p:sp>
        <p:nvSpPr>
          <p:cNvPr id="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ity of endocrine effects on wool production are a result of the hormones affecting other tissues, for example, stimulating protein breakdown, vasoconstriction and nutrient partitioning.  This module summarises how indirect effects can influence wool production using nutrient partitioning as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heep grow, reach maturity and reproduce there is a shift of where nutrients are directed.  For example, in a growing sheep, the majority of nutrients are directed to muscle and bone growth.  However in the adult sheep there is less demand from the muscle so nutrients are directed to wool growth and fat deposition.  In the reproducing ewe, nutrients will be partitioned to fetal growth and then milk production and away from muscle and wool growth.  Much of this nutrient partitioning is under hormonal control and it is possible to use hormones to redirect nutrients to the tissue you desire.  However, there may be adverse effects on normal func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irect Effects of Hormones on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utrient Partitioning</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are shifts in balance between available feed, body reserves and maintenance, growth and reprodu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al messages act as mediators in this proces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ful in 3 situ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weight loss in autum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ring weight gain in sp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pregnant or growing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03:52Z</dcterms:created>
  <dc:creator>Wes Osborne</dc:creator>
  <dc:description/>
  <dc:language>en-US</dc:language>
  <cp:lastModifiedBy>Hdaily</cp:lastModifiedBy>
  <cp:lastPrinted>2000-02-03T09:09:47Z</cp:lastPrinted>
  <dcterms:modified xsi:type="dcterms:W3CDTF">2000-06-02T05:07:25Z</dcterms:modified>
  <cp:revision>1</cp:revision>
  <dc:subject/>
  <dc:title>Indirect Effects of Hormones on Wool Production</dc:title>
</cp:coreProperties>
</file>