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F54F-91E4-49FB-B6C6-27EF84F98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E814-B45A-40C6-B626-6722BEBB2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effects of thyroid hormones on follicle initiation and development.  A schematic diagram illustrates the changes that occur when fetal lambs are thyroidecto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958E-39B6-4AEE-B4AF-221EE72B7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oval of the thyroid (thyroidectomy) of sheep fetuses before follicle initiation (50 -51 days gestation) did not have any affect on the follicles until after 100 days.  From this stage onwards the thryoidectomised fetuses had failure of keratinisation in primary (P), no secondary (S), excessive branching of P and sweat gland development and no sebaceous gland formation.  Density increased and mean fibre diameter decreased, suggesting that the thyroid plays a role in the stimulation and regulation of follicle differentiation.  Keratinisation can be reversed by grafting skin onto animals with an intact thyroid. (Wallace, C.E., Simpson-Morgan, M.W., McCullagh, P.  (1994).  </a:t>
            </a:r>
            <a:r>
              <a:rPr b="0" i="1" lang="en-AU" sz="1200" spc="-1" strike="noStrike">
                <a:solidFill>
                  <a:srgbClr val="000000"/>
                </a:solidFill>
                <a:latin typeface="Times New Roman"/>
              </a:rPr>
              <a:t>J. Comp. Path</a:t>
            </a:r>
            <a:r>
              <a:rPr b="0" lang="en-AU" sz="1200" spc="-1" strike="noStrike">
                <a:solidFill>
                  <a:srgbClr val="000000"/>
                </a:solidFill>
                <a:latin typeface="Times New Roman"/>
              </a:rPr>
              <a:t>.  110: 2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yroidectomy of sheep fetuses between 81 and 96 days of gestation retards the development of all components of the skin.  The younger that the thyroidectomy was performed, the greater the retardation in the development of P follicles, sebaceous and sweat glands, and the onset of epidermal keratinisation.  It inhibited S development at the pre-hair cone stage and reduced dermal thick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ministration of thyroxine (T4) to fetuses between 85 and 115 days of gestation hastened the development of primary follicles, the sebaceous glands and keratinisation of the epidermis.  The younger that T4 was administered the earlier the changes occurred.  T4 did not affect initiation and development of S follicles but may have reduced branching while accelerating the development of  follicles that had branched prior to T4 administratrion  (Chapman et al 1974, </a:t>
            </a:r>
            <a:r>
              <a:rPr b="0" i="1" lang="en-AU" sz="1200" spc="-1" strike="noStrike">
                <a:solidFill>
                  <a:srgbClr val="000000"/>
                </a:solidFill>
                <a:latin typeface="Times New Roman"/>
              </a:rPr>
              <a:t>J. Anat</a:t>
            </a:r>
            <a:r>
              <a:rPr b="0" lang="en-AU" sz="1200" spc="-1" strike="noStrike">
                <a:solidFill>
                  <a:srgbClr val="000000"/>
                </a:solidFill>
                <a:latin typeface="Times New Roman"/>
              </a:rPr>
              <a:t>. 117: 419).</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lace, C.E., Simpson-Morgan, M.W., McCullagh, P.  (1994).  </a:t>
            </a:r>
            <a:r>
              <a:rPr b="0" i="1" lang="en-AU" sz="1200" spc="-1" strike="noStrike">
                <a:solidFill>
                  <a:srgbClr val="000000"/>
                </a:solidFill>
                <a:latin typeface="Times New Roman"/>
              </a:rPr>
              <a:t>J. Comp. Path</a:t>
            </a:r>
            <a:r>
              <a:rPr b="0" lang="en-AU" sz="1200" spc="-1" strike="noStrike">
                <a:solidFill>
                  <a:srgbClr val="000000"/>
                </a:solidFill>
                <a:latin typeface="Times New Roman"/>
              </a:rPr>
              <a:t>.  110: 2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s a reconstruction of wool follicles from a normal and a (54 day-) thyroidectomised fetal lamb at 118 days of gestation.</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H = P folli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L = sweat gl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 sweat duc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 sebaceous gl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 = wool fibr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 = erector pili mus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 = secondary folli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 double ducted sweat gl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 = P follicle lateral lobe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 = additional P folli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Thyroid Hormon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5824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thyroid hormones on follicle initiation and development</a:t>
            </a:r>
            <a:endParaRPr b="1" lang="en-US" sz="3200" spc="-1" strike="noStrike">
              <a:solidFill>
                <a:srgbClr val="fafd00"/>
              </a:solidFill>
              <a:latin typeface="Arial"/>
            </a:endParaRPr>
          </a:p>
        </p:txBody>
      </p:sp>
      <p:sp>
        <p:nvSpPr>
          <p:cNvPr id="51"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tal thyroidectom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P follic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ilure of keratinis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xcessive branch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cessive sweat gland development and branch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S follicles or sebaceous gland formation.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yroid plays a role in the stimulation and regulation of follicle differentiation.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lum contrast="6000"/>
          </a:blip>
          <a:stretch/>
        </p:blipFill>
        <p:spPr>
          <a:xfrm>
            <a:off x="2590920" y="1447920"/>
            <a:ext cx="4572000" cy="4387680"/>
          </a:xfrm>
          <a:prstGeom prst="rect">
            <a:avLst/>
          </a:prstGeom>
          <a:ln w="0">
            <a:noFill/>
          </a:ln>
        </p:spPr>
      </p:pic>
      <p:sp>
        <p:nvSpPr>
          <p:cNvPr id="53" name=""/>
          <p:cNvSpPr/>
          <p:nvPr/>
        </p:nvSpPr>
        <p:spPr>
          <a:xfrm>
            <a:off x="6995160" y="6324480"/>
            <a:ext cx="215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allace </a:t>
            </a:r>
            <a:r>
              <a:rPr b="0" i="1" lang="en-AU" sz="1200" spc="-1" strike="noStrike">
                <a:solidFill>
                  <a:srgbClr val="fafd00"/>
                </a:solidFill>
                <a:latin typeface="Arial"/>
              </a:rPr>
              <a:t>et al</a:t>
            </a:r>
            <a:r>
              <a:rPr b="0" lang="en-AU" sz="1200" spc="-1" strike="noStrike">
                <a:solidFill>
                  <a:srgbClr val="fafd00"/>
                </a:solidFill>
                <a:latin typeface="Arial"/>
              </a:rPr>
              <a:t>. (1994)</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Wool follicles from a thyroidectomised and a normal fetal lamb at 118 days of gestatio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0:44:56Z</dcterms:created>
  <dc:creator>USER</dc:creator>
  <dc:description/>
  <dc:language>en-US</dc:language>
  <cp:lastModifiedBy>Hdaily</cp:lastModifiedBy>
  <cp:lastPrinted>2000-03-23T20:53:29Z</cp:lastPrinted>
  <dcterms:modified xsi:type="dcterms:W3CDTF">2000-06-06T23:13:46Z</dcterms:modified>
  <cp:revision>2</cp:revision>
  <dc:subject/>
  <dc:title>Follicle Initiation and Thyroid Hormones</dc:title>
</cp:coreProperties>
</file>