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3EE7-1E81-40B6-B50B-C37B44638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7A807-7B02-4677-A436-E7C491672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1"/>
          <p:cNvSpPr>
            <a:spLocks noGrp="1"/>
          </p:cNvSpPr>
          <p:nvPr>
            <p:ph type="sldImg"/>
          </p:nvPr>
        </p:nvSpPr>
        <p:spPr>
          <a:xfrm>
            <a:off x="1562040" y="533520"/>
            <a:ext cx="3657600" cy="2743200"/>
          </a:xfrm>
          <a:prstGeom prst="rect">
            <a:avLst/>
          </a:prstGeom>
          <a:ln w="0">
            <a:noFill/>
          </a:ln>
        </p:spPr>
      </p:sp>
      <p:sp>
        <p:nvSpPr>
          <p:cNvPr id="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follicle in its role as a production unit may be considered from two broad aspects.  One concerns the processes involved in cell division, differentiation, growth and keratinisation. The other concerns the size/volume of the productive unit. This module describes one of the characteristics related volume of fibre produced - dermal papilla siz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687F-D74E-46B4-AA51-8D9041CFD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rmal papilla is necessary for normal fibre growth although why is not know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has been consistently shown that follicles containing small dermal papillae produce small hairs and there is a fairly constant relationship between the volume of the dermal papilla (measured as 2 cones) and the volume of the fibre produced in follicles which have a defined cyc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gh positive correlations between papilla volume/surface area and fibre diameter/volume have been found, and the underlying basis for this is the size of the bulb population in contact with the papilla surf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ize and shape of the papilla are related to fibre diameter, fibre growth rate and the shape of the fibre cross section and, in coarse fibres, the width of the fibre medulla.  The dermal papilla has a significant role in determining bulb size and follicle morphology and its shape and ellipticity can be similar to the contours of the fibre, but not alw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Romneys (seasonal sheep with a slower period of growth in winter) there is no change in dermal papilla volume however, there were changes in papilla length. This suggests that seasonal responses in papilla are compensated for in papilla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believed that it is actually the dermal papilla that controls bulb size because if dermal papilla are dissected from follicles and placed where there are no follicles present, the follicle that forms will be of similar size to the papil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Papilla Siz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Papilla</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ithin sheep, volume and diameter of papilla are related to:</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diamet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growth rat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dulla width (when presen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ithin sheep, shape of papilla is related to:</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cross-sectional shap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etween sheep correlations are more tenuous.</a:t>
            </a:r>
            <a:endParaRPr b="1" lang="en-US" sz="2800" spc="-1" strike="noStrike">
              <a:solidFill>
                <a:srgbClr val="ffffff"/>
              </a:solidFill>
              <a:latin typeface="Arial"/>
            </a:endParaRPr>
          </a:p>
        </p:txBody>
      </p:sp>
      <p:sp>
        <p:nvSpPr>
          <p:cNvPr id="51" name=""/>
          <p:cNvSpPr/>
          <p:nvPr/>
        </p:nvSpPr>
        <p:spPr>
          <a:xfrm>
            <a:off x="709956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8T03:36:56Z</dcterms:created>
  <dc:creator>USER</dc:creator>
  <dc:description/>
  <dc:language>en-US</dc:language>
  <cp:lastModifiedBy>Hdaily</cp:lastModifiedBy>
  <cp:lastPrinted>2000-02-03T09:09:47Z</cp:lastPrinted>
  <dcterms:modified xsi:type="dcterms:W3CDTF">2000-05-19T01:17:56Z</dcterms:modified>
  <cp:revision>2</cp:revision>
  <dc:subject/>
  <dc:title>Dermal Papilla Size</dc:title>
</cp:coreProperties>
</file>