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CFC5-9817-4286-9E29-5F227DB51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5433-0C30-4677-83DC-0E8946736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the mature fibre cuticle from germinal epithelial cells is a complex process which involves highly specified changes in cell shape, protein synthesis and formation of specialised intermolecular cross links to form the various resistant barriers of the exocut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formation of the cuticle using transmission electron microscope (TEM) images to illustrate the changes from the bulb to the separation of the fibre from the follicle in the pilary ca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notes are drawn from a study of fibre surface characterisation, which is aimed at resolving particular aspects concerning the structural nature of the emerging fibre surface and the various intercellular matrices together with the origin of these separate entit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hair and wool fibre cells are formed in the follicle. The follicle germinal epithelial cells associated with a basement membrane are influenced by factors from the dermal papilla to divide and differentiate along well-defined pathways.  The cells associated with the developing fibre shaft (cuticle, cortical and medullary) are found in the central region of the follicle where they are associated with the dermal papilla and basement membrane located at the base of the follicle.  The presumptive cuticle cells are located between the inner root sheath (IRS) on the outside and the cortex on the ins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take a transverse section through the supra bulb region (i.e. above the tip of the dermal papilla) and examine this section by TEM, we can see the cell ultrastructure in greater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ection shows the various cell components associated with the developing fibre shaft and the respectively surrounding sheaths, IRS, 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C602-FB1D-4F14-91A6-52E606E24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lectron micrograph is an enlargement of that designated by the rectangle shown in the previous slide and shows the developing fibre cuticle (FCU), fibre cortex (FCO) and the inner root sheath cuticle (IRSCU).  Note the flattened appearance of the FCU cells.  This micrograph demonstrates the plasma-membranes of apposing IRSCU and FCU cells which typically appear as a ‘tram line’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FCU cells the first indication of intracellular synthesis of FCU specific components appear as circular darkly stained droplets (presumed precursors of exocuticle layer).  This is the first specific cuticle component.  The plasma membranes between apposed FCU/IRSCU and FCU/FCU cell types demonstrate intact plasma-membranes separated by intercellular ‘spaces’.  Cytoplasmic organelles, such as mitochondria and endoplasmic reticular are also evident as this lev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9CE6-4A43-471A-A737-96A2189AA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lectron micrograph shows a later stage of development further up the follicle shaft.  Formation of the exocuticular layers is shown by fusing of the globules observed in the previous slide, into a network of plate-like lamellae.  These lamellae occupy the outer two-thirds of developing FCU cells, and appear to consist of two components;  an inner densely stained fine core surrounded by less densely stained material.  At this level between FCU/IRSCU cells, the plasma membrane has been disrupted, the region now apposing developing exocuticular layers consists of intercellular material.  In some regions this material showed evidence of a laminated ultrastructure.  The inconsistency of these laminae may be due to incomplete differentiation at this leve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pite plasma membrane removal, the almost mature exocuticle could prevent leakage of the remnants and fluids comprising the cytoplasmic milieu of these cells.  With regard to surface function, the original plasma-membrane is not adapted to perform the functions of a mature fibre surface membrane, hence it seems probable that, on the emerging FCU surface, the original plasma-membrane would be regarded as vestig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intercellular region between apposed FCU cells, material which exhibit uptake of stain also demonstrates a laminated texture surrounding a fine unstained central band.  This intercellular arrangement is surrounded by two unstained plasma-membranes.  At higher magnification, the intercellular laminae between apposed FCU and IRSCU is a more obvious feature.  The exposed central region between the two pairs of laminae indicates that the process of cleavage between apposed FCU cells and IRSCU cells has been initiated.  From the TEM image, the width of the two lightly stained FCU surface laminae is in the range of 10-12 nm.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lectron micrograph shows the ultrastructural features of developing surface membranes at the FCU scale edges in the FCU/FCU overlap region.  The developing exocuticular layers have maintained the previously described bicomponent staining features and have notably extended their spread around the periphery of FCU cells including the entire outer scale edge, terminating as an inner lining approximately 1-2 </a:t>
            </a:r>
            <a:r>
              <a:rPr b="0" lang="en-AU" sz="1200" spc="-1" strike="noStrike">
                <a:solidFill>
                  <a:srgbClr val="000000"/>
                </a:solidFill>
                <a:latin typeface="Symbol"/>
                <a:ea typeface="Symbol"/>
              </a:rPr>
              <a:t></a:t>
            </a:r>
            <a:r>
              <a:rPr b="0" lang="en-AU" sz="1200" spc="-1" strike="noStrike">
                <a:solidFill>
                  <a:srgbClr val="000000"/>
                </a:solidFill>
                <a:latin typeface="Times New Roman"/>
              </a:rPr>
              <a:t>m on the FCU underside.  Since the developing exocuticular layers extend as an envelope around the entire FCU scale edge, to the final point of cleavage, it is probable that the space between overlapping FCU cells performs a functional role in a variety of applications.  For example initiation of the process involving ingress of water and other chemical agents is thought to occur in this region.  Recently, the passage of dyes has been demonstrated to occur in the FCU/FCU regions.  The implications of the current ultrastructural observations are fundamental to understanding water and reagent penet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leavage plane between juxtaposed IRSCU and FCU is well defined and is continuous around the scale edge to about the point where the developing exocuticle terminates on the underside of FCU cells.  The remaining intercellular material between FCU/FCU cells is unchanged.  Between apposed IRSCU/IRSCU cells, the stain uptake in intercellular material indicates a central darkly-stained band sandwiched between a total of four laminae.  This intercellular complex is in turn bound on both sides by the previously observed IRSCU plasma-membrane.  The structural and staining arrangement described above is observed surrounding the complete scale edge in other sections (not presented) of FCU cells, consistent with the enveloping exocuticle layers and the span of the cleavage plane. The densely stained central band appears implicated in the cleavage process and the formation of the overlap region or space between apposing FCU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ired surface laminae surrounding the scale edge are not clearly observed in the micrograph presented and are difficult to determine.  The reason for this deficiency is that the space resulting after cleavage allows a high electron transmission and hence high contrast.  The high electron intensity recorded in this region of the micrograph markedly interferes with the fine details particularly the laminae which are located at the edge of the cleavage spac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lectron micrograph taken at the same level as the previous slide shows changes have taken place in the developing exocuticular texture where the previously observed bicomponent structure of plate-like lamellae has adopted an homogenous appearance.  The densely stained internal core structures of these lamellae have dissipated to form an upper densely stained band between the developing exocuticle and the intercellular laminae lying between apposed FCU/IRSCU cells.  The process involved in forming this densely stained band (A-band) has occurred at about the same level of fibre developing as cleavage planes formed between apposed FCU/IRSCU cells.  The intercellular region between apposed FCU cells has presented the same appearance as that described in early sec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lectron micrograph, separation between previously apposed FCU/IRSCU cells is now extensive.  The aforementioned plate-like lamellae of the developing exocuticle have now consolidated to form two distinctive bands.  The outer band is relatively intensely stained and is about 25-50 nm thickness.  The underlying less densely stained band is more variable in thickness and apparently occupies about half of the FCU cell volume.  The intercellular region between apposed FCU cells is apparently much more intensely stained, masking the previously observed intercellular laminae.  On the exposed FCU surface, the intercellular laminae cannot be observed.  This is most likely due to large differences in relative contrast between the intensely stained A-band, the lightly stained fine laminae and the gap region which allows high electron transmission (as earlier).  The emerging fibre shaft structure at this level of development appears consistent with observed staining intensities in mature fibre se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the mature fibre surface has hydrophobic properties, it is reasonable to assume that the original plasma-membrane of FCU cells has been replaced by a surface coating designed to perform this hydrophobic role.  The intercellular laminae described here could indeed perform this function.  This proposed surface results after the cleavage of the densely stained central band between the four laminae.  The cleavage process leads to two of these laminae being apposed to the exocuticle of the FCU surface, while the other paired laminae remain associated with the IRSCU surface.  Despite observing paired laminae on the FC surface at this level of differentiation it is possible that these paired lamellae could coalesce into a single laminae or bila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C = pilary ca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del for the emerging fibre cuticle is shown in the dia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the current observations of the emerging fibre surface indicate the follow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original outer plasma-membrane of FCU cells is disrupted and removed at a level corresponding with the later stages involved in formation of the exocuticle laye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aired laminae (presumably lipid bilayers) derived from FCU/IRSCU intercellular laminae are deposited on the FCU and IRSCU surfaces, respectively, after intercellular cleavage along the central stained band.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emerging fibre surface consists of pairs of presumed lipid bilayers and proteins associated with a densely stained underlying proteinaceous band (exocut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Formation of the overlap region (scale edge) between apposed FCU/FCU cells is a predetermined process involving the intracellular, enveloping exocuticle layers, resulting in an intercellular gap of approximately 1-2 </a:t>
            </a:r>
            <a:r>
              <a:rPr b="0" lang="en-AU" sz="1200" spc="-1" strike="noStrike">
                <a:solidFill>
                  <a:srgbClr val="000000"/>
                </a:solidFill>
                <a:latin typeface="Symbol"/>
                <a:ea typeface="Symbol"/>
              </a:rPr>
              <a:t></a:t>
            </a:r>
            <a:r>
              <a:rPr b="0" lang="en-AU" sz="1200" spc="-1" strike="noStrike">
                <a:solidFill>
                  <a:srgbClr val="000000"/>
                </a:solidFill>
                <a:latin typeface="Times New Roman"/>
              </a:rPr>
              <a:t>m length between overlapping FCU cells extending in from the scale edg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staining characteristics of intercellular material between apposed FCU/FCU cells demonstrates an unstained central band sandwiches between relatively lightly stained single laminae, with a role paradoxically adapted to perform both barrier function and cellular adhesion together with ingress of water and certain reagen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ages in the Formation of the Cut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the fibre cuticl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cuticle cells are derived from follicle bulb</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se are enclosed by IRS cells and ORS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cuticle cells undergo changes in cell shape, protein synthesis and cross linkages</a:t>
            </a:r>
            <a:endParaRPr b="1" lang="en-US" sz="2800" spc="-1" strike="noStrike">
              <a:solidFill>
                <a:srgbClr val="ffffff"/>
              </a:solidFill>
              <a:latin typeface="Arial"/>
            </a:endParaRPr>
          </a:p>
        </p:txBody>
      </p:sp>
      <p:sp>
        <p:nvSpPr>
          <p:cNvPr id="51"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066680" y="1371600"/>
            <a:ext cx="2743200" cy="1295280"/>
          </a:xfrm>
          <a:prstGeom prst="rect">
            <a:avLst/>
          </a:prstGeom>
          <a:noFill/>
          <a:ln w="0">
            <a:noFill/>
          </a:ln>
        </p:spPr>
        <p:txBody>
          <a:bodyPr lIns="93600" rIns="93600" tIns="46080" bIns="46080" anchor="t">
            <a:normAutofit/>
          </a:bodyPr>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cellular detail of fibre cells and IRS &amp; ORS</a:t>
            </a:r>
            <a:endParaRPr b="1" lang="en-US" sz="2200" spc="-1" strike="noStrike">
              <a:solidFill>
                <a:srgbClr val="ffffff"/>
              </a:solidFill>
              <a:latin typeface="Arial"/>
            </a:endParaRPr>
          </a:p>
        </p:txBody>
      </p:sp>
      <p:grpSp>
        <p:nvGrpSpPr>
          <p:cNvPr id="53" name=""/>
          <p:cNvGrpSpPr/>
          <p:nvPr/>
        </p:nvGrpSpPr>
        <p:grpSpPr>
          <a:xfrm>
            <a:off x="2188080" y="1063800"/>
            <a:ext cx="6803280" cy="5337000"/>
            <a:chOff x="2188080" y="1063800"/>
            <a:chExt cx="6803280" cy="5337000"/>
          </a:xfrm>
        </p:grpSpPr>
        <p:grpSp>
          <p:nvGrpSpPr>
            <p:cNvPr id="54" name=""/>
            <p:cNvGrpSpPr/>
            <p:nvPr/>
          </p:nvGrpSpPr>
          <p:grpSpPr>
            <a:xfrm>
              <a:off x="2188080" y="1063800"/>
              <a:ext cx="6803280" cy="5337000"/>
              <a:chOff x="2188080" y="1063800"/>
              <a:chExt cx="6803280" cy="5337000"/>
            </a:xfrm>
          </p:grpSpPr>
          <p:pic>
            <p:nvPicPr>
              <p:cNvPr id="55" name="" descr=""/>
              <p:cNvPicPr/>
              <p:nvPr/>
            </p:nvPicPr>
            <p:blipFill>
              <a:blip r:embed="rId1"/>
              <a:stretch/>
            </p:blipFill>
            <p:spPr>
              <a:xfrm>
                <a:off x="3733560" y="1063800"/>
                <a:ext cx="5257800" cy="5337000"/>
              </a:xfrm>
              <a:prstGeom prst="rect">
                <a:avLst/>
              </a:prstGeom>
              <a:ln w="0">
                <a:noFill/>
              </a:ln>
            </p:spPr>
          </p:pic>
          <p:sp>
            <p:nvSpPr>
              <p:cNvPr id="56" name=""/>
              <p:cNvSpPr/>
              <p:nvPr/>
            </p:nvSpPr>
            <p:spPr>
              <a:xfrm>
                <a:off x="6000120" y="2293920"/>
                <a:ext cx="17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aracortex</a:t>
                </a:r>
                <a:endParaRPr b="0" lang="en-US" sz="2400" spc="-1" strike="noStrike">
                  <a:solidFill>
                    <a:srgbClr val="000000"/>
                  </a:solidFill>
                  <a:latin typeface="Times New Roman"/>
                </a:endParaRPr>
              </a:p>
            </p:txBody>
          </p:sp>
          <p:sp>
            <p:nvSpPr>
              <p:cNvPr id="57" name=""/>
              <p:cNvSpPr/>
              <p:nvPr/>
            </p:nvSpPr>
            <p:spPr>
              <a:xfrm>
                <a:off x="2188080" y="4495680"/>
                <a:ext cx="169308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Trichohyal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ranules</a:t>
                </a:r>
                <a:endParaRPr b="0" lang="en-US" sz="2000" spc="-1" strike="noStrike">
                  <a:solidFill>
                    <a:srgbClr val="000000"/>
                  </a:solidFill>
                  <a:latin typeface="Times New Roman"/>
                </a:endParaRPr>
              </a:p>
            </p:txBody>
          </p:sp>
          <p:sp>
            <p:nvSpPr>
              <p:cNvPr id="58" name=""/>
              <p:cNvSpPr/>
              <p:nvPr/>
            </p:nvSpPr>
            <p:spPr>
              <a:xfrm>
                <a:off x="7446240" y="473220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uticle</a:t>
                </a:r>
                <a:endParaRPr b="0" lang="en-US" sz="2400" spc="-1" strike="noStrike">
                  <a:solidFill>
                    <a:srgbClr val="000000"/>
                  </a:solidFill>
                  <a:latin typeface="Times New Roman"/>
                </a:endParaRPr>
              </a:p>
            </p:txBody>
          </p:sp>
          <p:sp>
            <p:nvSpPr>
              <p:cNvPr id="59" name=""/>
              <p:cNvSpPr/>
              <p:nvPr/>
            </p:nvSpPr>
            <p:spPr>
              <a:xfrm>
                <a:off x="7140960" y="5037120"/>
                <a:ext cx="174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60" name=""/>
              <p:cNvSpPr/>
              <p:nvPr/>
            </p:nvSpPr>
            <p:spPr>
              <a:xfrm>
                <a:off x="6838200" y="5418000"/>
                <a:ext cx="214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Huxleys layer</a:t>
                </a:r>
                <a:endParaRPr b="0" lang="en-US" sz="2400" spc="-1" strike="noStrike">
                  <a:solidFill>
                    <a:srgbClr val="000000"/>
                  </a:solidFill>
                  <a:latin typeface="Times New Roman"/>
                </a:endParaRPr>
              </a:p>
            </p:txBody>
          </p:sp>
          <p:sp>
            <p:nvSpPr>
              <p:cNvPr id="61" name=""/>
              <p:cNvSpPr/>
              <p:nvPr/>
            </p:nvSpPr>
            <p:spPr>
              <a:xfrm>
                <a:off x="6990120" y="5722920"/>
                <a:ext cx="197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Henles layer</a:t>
                </a:r>
                <a:endParaRPr b="0" lang="en-US" sz="2400" spc="-1" strike="noStrike">
                  <a:solidFill>
                    <a:srgbClr val="000000"/>
                  </a:solidFill>
                  <a:latin typeface="Times New Roman"/>
                </a:endParaRPr>
              </a:p>
            </p:txBody>
          </p:sp>
          <p:sp>
            <p:nvSpPr>
              <p:cNvPr id="62" name=""/>
              <p:cNvSpPr/>
              <p:nvPr/>
            </p:nvSpPr>
            <p:spPr>
              <a:xfrm>
                <a:off x="4246560" y="57988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ORS</a:t>
                </a:r>
                <a:endParaRPr b="0" lang="en-US" sz="2400" spc="-1" strike="noStrike">
                  <a:solidFill>
                    <a:srgbClr val="000000"/>
                  </a:solidFill>
                  <a:latin typeface="Times New Roman"/>
                </a:endParaRPr>
              </a:p>
            </p:txBody>
          </p:sp>
          <p:sp>
            <p:nvSpPr>
              <p:cNvPr id="63" name=""/>
              <p:cNvSpPr/>
              <p:nvPr/>
            </p:nvSpPr>
            <p:spPr>
              <a:xfrm>
                <a:off x="5313240" y="3741480"/>
                <a:ext cx="187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orthocortex</a:t>
                </a:r>
                <a:endParaRPr b="0" lang="en-US" sz="2400" spc="-1" strike="noStrike">
                  <a:solidFill>
                    <a:srgbClr val="000000"/>
                  </a:solidFill>
                  <a:latin typeface="Times New Roman"/>
                </a:endParaRPr>
              </a:p>
            </p:txBody>
          </p:sp>
          <p:sp>
            <p:nvSpPr>
              <p:cNvPr id="64" name=""/>
              <p:cNvSpPr/>
              <p:nvPr/>
            </p:nvSpPr>
            <p:spPr>
              <a:xfrm rot="20040000">
                <a:off x="5358960" y="1806120"/>
                <a:ext cx="711000" cy="32976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476760" y="4994280"/>
                <a:ext cx="914400" cy="50400"/>
              </a:xfrm>
              <a:prstGeom prst="line">
                <a:avLst/>
              </a:prstGeom>
              <a:ln w="38160">
                <a:solidFill>
                  <a:srgbClr val="ff33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6" name=""/>
              <p:cNvSpPr/>
              <p:nvPr/>
            </p:nvSpPr>
            <p:spPr>
              <a:xfrm flipH="1">
                <a:off x="6324480" y="5222880"/>
                <a:ext cx="914400" cy="50400"/>
              </a:xfrm>
              <a:prstGeom prst="line">
                <a:avLst/>
              </a:prstGeom>
              <a:ln w="38160">
                <a:solidFill>
                  <a:srgbClr val="ff33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7" name=""/>
              <p:cNvSpPr/>
              <p:nvPr/>
            </p:nvSpPr>
            <p:spPr>
              <a:xfrm flipH="1">
                <a:off x="6400800" y="5680080"/>
                <a:ext cx="457200" cy="50400"/>
              </a:xfrm>
              <a:prstGeom prst="line">
                <a:avLst/>
              </a:prstGeom>
              <a:ln w="38160">
                <a:solidFill>
                  <a:srgbClr val="ff33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8" name=""/>
              <p:cNvSpPr/>
              <p:nvPr/>
            </p:nvSpPr>
            <p:spPr>
              <a:xfrm flipH="1">
                <a:off x="6476760" y="5984640"/>
                <a:ext cx="533520" cy="50400"/>
              </a:xfrm>
              <a:prstGeom prst="line">
                <a:avLst/>
              </a:prstGeom>
              <a:ln w="38160">
                <a:solidFill>
                  <a:srgbClr val="ff33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sp>
          <p:nvSpPr>
            <p:cNvPr id="69" name=""/>
            <p:cNvSpPr/>
            <p:nvPr/>
          </p:nvSpPr>
          <p:spPr>
            <a:xfrm flipV="1">
              <a:off x="3886200" y="4571640"/>
              <a:ext cx="304920" cy="152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1"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ction through bulb region above dermal papilla.</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2" name=""/>
          <p:cNvGrpSpPr/>
          <p:nvPr/>
        </p:nvGrpSpPr>
        <p:grpSpPr>
          <a:xfrm>
            <a:off x="1219320" y="1181160"/>
            <a:ext cx="7848360" cy="4762440"/>
            <a:chOff x="1219320" y="1181160"/>
            <a:chExt cx="7848360" cy="4762440"/>
          </a:xfrm>
        </p:grpSpPr>
        <p:pic>
          <p:nvPicPr>
            <p:cNvPr id="73" name="" descr=""/>
            <p:cNvPicPr/>
            <p:nvPr/>
          </p:nvPicPr>
          <p:blipFill>
            <a:blip r:embed="rId1"/>
            <a:srcRect l="1260" t="1034" r="1104" b="1558"/>
            <a:stretch/>
          </p:blipFill>
          <p:spPr>
            <a:xfrm>
              <a:off x="1219320" y="1181160"/>
              <a:ext cx="7848360" cy="4762440"/>
            </a:xfrm>
            <a:prstGeom prst="rect">
              <a:avLst/>
            </a:prstGeom>
            <a:ln w="0">
              <a:noFill/>
            </a:ln>
          </p:spPr>
        </p:pic>
        <p:sp>
          <p:nvSpPr>
            <p:cNvPr id="74" name=""/>
            <p:cNvSpPr/>
            <p:nvPr/>
          </p:nvSpPr>
          <p:spPr>
            <a:xfrm>
              <a:off x="7102440" y="180828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75" name=""/>
            <p:cNvSpPr/>
            <p:nvPr/>
          </p:nvSpPr>
          <p:spPr>
            <a:xfrm>
              <a:off x="4150800" y="2743200"/>
              <a:ext cx="19782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sp>
          <p:nvSpPr>
            <p:cNvPr id="76" name=""/>
            <p:cNvSpPr/>
            <p:nvPr/>
          </p:nvSpPr>
          <p:spPr>
            <a:xfrm>
              <a:off x="4989600" y="1198800"/>
              <a:ext cx="285768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lasma Membrane</a:t>
              </a:r>
              <a:endParaRPr b="0" lang="en-US" sz="2400" spc="-1" strike="noStrike">
                <a:solidFill>
                  <a:srgbClr val="000000"/>
                </a:solidFill>
                <a:latin typeface="Times New Roman"/>
              </a:endParaRPr>
            </a:p>
          </p:txBody>
        </p:sp>
        <p:sp>
          <p:nvSpPr>
            <p:cNvPr id="77" name=""/>
            <p:cNvSpPr/>
            <p:nvPr/>
          </p:nvSpPr>
          <p:spPr>
            <a:xfrm flipH="1">
              <a:off x="4876560" y="1562040"/>
              <a:ext cx="304560" cy="152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er magnification of fibre/IRS interface at the supra-bulbar level. </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1219320" y="1371600"/>
            <a:ext cx="7716240" cy="4267080"/>
            <a:chOff x="1219320" y="1371600"/>
            <a:chExt cx="7716240" cy="4267080"/>
          </a:xfrm>
        </p:grpSpPr>
        <p:grpSp>
          <p:nvGrpSpPr>
            <p:cNvPr id="81" name=""/>
            <p:cNvGrpSpPr/>
            <p:nvPr/>
          </p:nvGrpSpPr>
          <p:grpSpPr>
            <a:xfrm>
              <a:off x="1219320" y="1371600"/>
              <a:ext cx="7716240" cy="4267080"/>
              <a:chOff x="1219320" y="1371600"/>
              <a:chExt cx="7716240" cy="4267080"/>
            </a:xfrm>
          </p:grpSpPr>
          <p:pic>
            <p:nvPicPr>
              <p:cNvPr id="82" name="" descr=""/>
              <p:cNvPicPr/>
              <p:nvPr/>
            </p:nvPicPr>
            <p:blipFill>
              <a:blip r:embed="rId1"/>
              <a:srcRect l="0" t="0" r="0" b="965"/>
              <a:stretch/>
            </p:blipFill>
            <p:spPr>
              <a:xfrm>
                <a:off x="1219320" y="1371600"/>
                <a:ext cx="7709040" cy="4267080"/>
              </a:xfrm>
              <a:prstGeom prst="rect">
                <a:avLst/>
              </a:prstGeom>
              <a:ln w="0">
                <a:noFill/>
              </a:ln>
            </p:spPr>
          </p:pic>
          <p:sp>
            <p:nvSpPr>
              <p:cNvPr id="83" name=""/>
              <p:cNvSpPr/>
              <p:nvPr/>
            </p:nvSpPr>
            <p:spPr>
              <a:xfrm>
                <a:off x="7088760" y="146844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84" name=""/>
              <p:cNvSpPr/>
              <p:nvPr/>
            </p:nvSpPr>
            <p:spPr>
              <a:xfrm>
                <a:off x="7230240" y="2135160"/>
                <a:ext cx="1705320" cy="820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lasm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Membrane</a:t>
                </a:r>
                <a:endParaRPr b="0" lang="en-US" sz="2400" spc="-1" strike="noStrike">
                  <a:solidFill>
                    <a:srgbClr val="000000"/>
                  </a:solidFill>
                  <a:latin typeface="Times New Roman"/>
                </a:endParaRPr>
              </a:p>
            </p:txBody>
          </p:sp>
          <p:sp>
            <p:nvSpPr>
              <p:cNvPr id="85" name=""/>
              <p:cNvSpPr/>
              <p:nvPr/>
            </p:nvSpPr>
            <p:spPr>
              <a:xfrm>
                <a:off x="5618520" y="4002480"/>
                <a:ext cx="19782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grpSp>
        <p:sp>
          <p:nvSpPr>
            <p:cNvPr id="86" name=""/>
            <p:cNvSpPr/>
            <p:nvPr/>
          </p:nvSpPr>
          <p:spPr>
            <a:xfrm flipH="1">
              <a:off x="6829200" y="2353320"/>
              <a:ext cx="4197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bove the bulb</a:t>
            </a:r>
            <a:endParaRPr b="1" lang="en-US" sz="3200" spc="-1" strike="noStrike">
              <a:solidFill>
                <a:srgbClr val="fafd00"/>
              </a:solidFill>
              <a:latin typeface="Arial"/>
            </a:endParaRPr>
          </a:p>
        </p:txBody>
      </p:sp>
      <p:sp>
        <p:nvSpPr>
          <p:cNvPr id="88"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9" name=""/>
          <p:cNvGrpSpPr/>
          <p:nvPr/>
        </p:nvGrpSpPr>
        <p:grpSpPr>
          <a:xfrm>
            <a:off x="1369800" y="1447920"/>
            <a:ext cx="7469280" cy="4483080"/>
            <a:chOff x="1369800" y="1447920"/>
            <a:chExt cx="7469280" cy="4483080"/>
          </a:xfrm>
        </p:grpSpPr>
        <p:pic>
          <p:nvPicPr>
            <p:cNvPr id="90" name="" descr=""/>
            <p:cNvPicPr/>
            <p:nvPr/>
          </p:nvPicPr>
          <p:blipFill>
            <a:blip r:embed="rId1"/>
            <a:srcRect l="0" t="0" r="3019" b="0"/>
            <a:stretch/>
          </p:blipFill>
          <p:spPr>
            <a:xfrm>
              <a:off x="1371600" y="1447920"/>
              <a:ext cx="7467480" cy="4483080"/>
            </a:xfrm>
            <a:prstGeom prst="rect">
              <a:avLst/>
            </a:prstGeom>
            <a:ln w="0">
              <a:noFill/>
            </a:ln>
          </p:spPr>
        </p:pic>
        <p:sp>
          <p:nvSpPr>
            <p:cNvPr id="91" name=""/>
            <p:cNvSpPr/>
            <p:nvPr/>
          </p:nvSpPr>
          <p:spPr>
            <a:xfrm>
              <a:off x="1369800" y="2880720"/>
              <a:ext cx="19782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sp>
          <p:nvSpPr>
            <p:cNvPr id="92" name=""/>
            <p:cNvSpPr/>
            <p:nvPr/>
          </p:nvSpPr>
          <p:spPr>
            <a:xfrm>
              <a:off x="7027920" y="395928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93" name=""/>
            <p:cNvSpPr/>
            <p:nvPr/>
          </p:nvSpPr>
          <p:spPr>
            <a:xfrm>
              <a:off x="4096080" y="154944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grpSp>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ven further up the follicle</a:t>
            </a:r>
            <a:endParaRPr b="1" lang="en-US" sz="3200" spc="-1" strike="noStrike">
              <a:solidFill>
                <a:srgbClr val="fafd00"/>
              </a:solidFill>
              <a:latin typeface="Arial"/>
            </a:endParaRPr>
          </a:p>
        </p:txBody>
      </p:sp>
      <p:sp>
        <p:nvSpPr>
          <p:cNvPr id="95"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6" name=""/>
          <p:cNvGrpSpPr/>
          <p:nvPr/>
        </p:nvGrpSpPr>
        <p:grpSpPr>
          <a:xfrm>
            <a:off x="1371600" y="1600200"/>
            <a:ext cx="7467480" cy="4343400"/>
            <a:chOff x="1371600" y="1600200"/>
            <a:chExt cx="7467480" cy="4343400"/>
          </a:xfrm>
        </p:grpSpPr>
        <p:pic>
          <p:nvPicPr>
            <p:cNvPr id="97" name="" descr=""/>
            <p:cNvPicPr/>
            <p:nvPr/>
          </p:nvPicPr>
          <p:blipFill>
            <a:blip r:embed="rId1"/>
            <a:srcRect l="0" t="0" r="1819" b="8257"/>
            <a:stretch/>
          </p:blipFill>
          <p:spPr>
            <a:xfrm>
              <a:off x="1371600" y="1600200"/>
              <a:ext cx="7467480" cy="4343400"/>
            </a:xfrm>
            <a:prstGeom prst="rect">
              <a:avLst/>
            </a:prstGeom>
            <a:ln w="0">
              <a:noFill/>
            </a:ln>
          </p:spPr>
        </p:pic>
        <p:sp>
          <p:nvSpPr>
            <p:cNvPr id="98" name=""/>
            <p:cNvSpPr/>
            <p:nvPr/>
          </p:nvSpPr>
          <p:spPr>
            <a:xfrm>
              <a:off x="6128640" y="2797920"/>
              <a:ext cx="19782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grpSp>
      <p:sp>
        <p:nvSpPr>
          <p:cNvPr id="99"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ame level as previous slide but different degree of differentiation</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295280" y="1523880"/>
            <a:ext cx="7772400" cy="4572000"/>
            <a:chOff x="1295280" y="1523880"/>
            <a:chExt cx="7772400" cy="4572000"/>
          </a:xfrm>
        </p:grpSpPr>
        <p:pic>
          <p:nvPicPr>
            <p:cNvPr id="102" name="" descr=""/>
            <p:cNvPicPr/>
            <p:nvPr/>
          </p:nvPicPr>
          <p:blipFill>
            <a:blip r:embed="rId1"/>
            <a:srcRect l="893" t="0" r="3570" b="6801"/>
            <a:stretch/>
          </p:blipFill>
          <p:spPr>
            <a:xfrm>
              <a:off x="1295280" y="1523880"/>
              <a:ext cx="7772400" cy="4572000"/>
            </a:xfrm>
            <a:prstGeom prst="rect">
              <a:avLst/>
            </a:prstGeom>
            <a:ln w="0">
              <a:noFill/>
            </a:ln>
          </p:spPr>
        </p:pic>
        <p:sp>
          <p:nvSpPr>
            <p:cNvPr id="103" name=""/>
            <p:cNvSpPr/>
            <p:nvPr/>
          </p:nvSpPr>
          <p:spPr>
            <a:xfrm>
              <a:off x="1432080" y="162324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104" name=""/>
            <p:cNvSpPr/>
            <p:nvPr/>
          </p:nvSpPr>
          <p:spPr>
            <a:xfrm>
              <a:off x="2813040" y="3552120"/>
              <a:ext cx="17053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Exocuticle</a:t>
              </a:r>
              <a:endParaRPr b="0" lang="en-US" sz="2400" spc="-1" strike="noStrike">
                <a:solidFill>
                  <a:srgbClr val="000000"/>
                </a:solidFill>
                <a:latin typeface="Times New Roman"/>
              </a:endParaRPr>
            </a:p>
          </p:txBody>
        </p:sp>
        <p:sp>
          <p:nvSpPr>
            <p:cNvPr id="105" name=""/>
            <p:cNvSpPr/>
            <p:nvPr/>
          </p:nvSpPr>
          <p:spPr>
            <a:xfrm>
              <a:off x="3836160" y="2738160"/>
              <a:ext cx="1164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layer</a:t>
              </a:r>
              <a:endParaRPr b="0" lang="en-US" sz="2400" spc="-1" strike="noStrike">
                <a:solidFill>
                  <a:srgbClr val="000000"/>
                </a:solidFill>
                <a:latin typeface="Times New Roman"/>
              </a:endParaRPr>
            </a:p>
          </p:txBody>
        </p:sp>
        <p:sp>
          <p:nvSpPr>
            <p:cNvPr id="106" name=""/>
            <p:cNvSpPr/>
            <p:nvPr/>
          </p:nvSpPr>
          <p:spPr>
            <a:xfrm flipH="1">
              <a:off x="3691800" y="2809440"/>
              <a:ext cx="290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10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lete separation of the fibre from the inner root sheath</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1217520" y="1219320"/>
            <a:ext cx="7774200" cy="4876560"/>
            <a:chOff x="1217520" y="1219320"/>
            <a:chExt cx="7774200" cy="4876560"/>
          </a:xfrm>
        </p:grpSpPr>
        <p:sp>
          <p:nvSpPr>
            <p:cNvPr id="110" name=""/>
            <p:cNvSpPr/>
            <p:nvPr/>
          </p:nvSpPr>
          <p:spPr>
            <a:xfrm>
              <a:off x="1217520" y="1219320"/>
              <a:ext cx="777420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641240" y="1288800"/>
              <a:ext cx="7326360" cy="4806360"/>
              <a:chOff x="1641240" y="1288800"/>
              <a:chExt cx="7326360" cy="4806360"/>
            </a:xfrm>
          </p:grpSpPr>
          <p:pic>
            <p:nvPicPr>
              <p:cNvPr id="112" name="" descr=""/>
              <p:cNvPicPr/>
              <p:nvPr/>
            </p:nvPicPr>
            <p:blipFill>
              <a:blip r:embed="rId1"/>
              <a:srcRect l="2622" t="0" r="5363" b="3927"/>
              <a:stretch/>
            </p:blipFill>
            <p:spPr>
              <a:xfrm>
                <a:off x="1641240" y="1349640"/>
                <a:ext cx="6410520" cy="4745520"/>
              </a:xfrm>
              <a:prstGeom prst="rect">
                <a:avLst/>
              </a:prstGeom>
              <a:ln w="0">
                <a:noFill/>
              </a:ln>
            </p:spPr>
          </p:pic>
          <p:sp>
            <p:nvSpPr>
              <p:cNvPr id="113" name=""/>
              <p:cNvSpPr/>
              <p:nvPr/>
            </p:nvSpPr>
            <p:spPr>
              <a:xfrm>
                <a:off x="5604480" y="1288800"/>
                <a:ext cx="63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M</a:t>
                </a:r>
                <a:endParaRPr b="0" lang="en-US" sz="2400" spc="-1" strike="noStrike">
                  <a:solidFill>
                    <a:srgbClr val="000000"/>
                  </a:solidFill>
                  <a:latin typeface="Times New Roman"/>
                </a:endParaRPr>
              </a:p>
            </p:txBody>
          </p:sp>
          <p:sp>
            <p:nvSpPr>
              <p:cNvPr id="114" name=""/>
              <p:cNvSpPr/>
              <p:nvPr/>
            </p:nvSpPr>
            <p:spPr>
              <a:xfrm>
                <a:off x="6345000" y="2075040"/>
                <a:ext cx="85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IL)</a:t>
                </a:r>
                <a:endParaRPr b="0" lang="en-US" sz="2400" spc="-1" strike="noStrike">
                  <a:solidFill>
                    <a:srgbClr val="000000"/>
                  </a:solidFill>
                  <a:latin typeface="Times New Roman"/>
                </a:endParaRPr>
              </a:p>
            </p:txBody>
          </p:sp>
          <p:sp>
            <p:nvSpPr>
              <p:cNvPr id="115" name=""/>
              <p:cNvSpPr/>
              <p:nvPr/>
            </p:nvSpPr>
            <p:spPr>
              <a:xfrm>
                <a:off x="2634120" y="1288800"/>
                <a:ext cx="179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116" name=""/>
              <p:cNvSpPr/>
              <p:nvPr/>
            </p:nvSpPr>
            <p:spPr>
              <a:xfrm>
                <a:off x="2768040" y="1934280"/>
                <a:ext cx="60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C</a:t>
                </a:r>
                <a:endParaRPr b="0" lang="en-US" sz="2400" spc="-1" strike="noStrike">
                  <a:solidFill>
                    <a:srgbClr val="000000"/>
                  </a:solidFill>
                  <a:latin typeface="Times New Roman"/>
                </a:endParaRPr>
              </a:p>
            </p:txBody>
          </p:sp>
          <p:sp>
            <p:nvSpPr>
              <p:cNvPr id="117" name=""/>
              <p:cNvSpPr/>
              <p:nvPr/>
            </p:nvSpPr>
            <p:spPr>
              <a:xfrm>
                <a:off x="2365200" y="2388600"/>
                <a:ext cx="116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layer</a:t>
                </a:r>
                <a:endParaRPr b="0" lang="en-US" sz="2400" spc="-1" strike="noStrike">
                  <a:solidFill>
                    <a:srgbClr val="000000"/>
                  </a:solidFill>
                  <a:latin typeface="Times New Roman"/>
                </a:endParaRPr>
              </a:p>
            </p:txBody>
          </p:sp>
          <p:sp>
            <p:nvSpPr>
              <p:cNvPr id="118" name=""/>
              <p:cNvSpPr/>
              <p:nvPr/>
            </p:nvSpPr>
            <p:spPr>
              <a:xfrm>
                <a:off x="3444480" y="284148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exocuticle</a:t>
                </a:r>
                <a:endParaRPr b="0" lang="en-US" sz="2400" spc="-1" strike="noStrike">
                  <a:solidFill>
                    <a:srgbClr val="000000"/>
                  </a:solidFill>
                  <a:latin typeface="Times New Roman"/>
                </a:endParaRPr>
              </a:p>
            </p:txBody>
          </p:sp>
          <p:sp>
            <p:nvSpPr>
              <p:cNvPr id="119" name=""/>
              <p:cNvSpPr/>
              <p:nvPr/>
            </p:nvSpPr>
            <p:spPr>
              <a:xfrm>
                <a:off x="4118040" y="3425040"/>
                <a:ext cx="187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endocuticle</a:t>
                </a:r>
                <a:endParaRPr b="0" lang="en-US" sz="2400" spc="-1" strike="noStrike">
                  <a:solidFill>
                    <a:srgbClr val="000000"/>
                  </a:solidFill>
                  <a:latin typeface="Times New Roman"/>
                </a:endParaRPr>
              </a:p>
            </p:txBody>
          </p:sp>
          <p:sp>
            <p:nvSpPr>
              <p:cNvPr id="120" name=""/>
              <p:cNvSpPr/>
              <p:nvPr/>
            </p:nvSpPr>
            <p:spPr>
              <a:xfrm>
                <a:off x="1893240" y="3877920"/>
                <a:ext cx="87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MC</a:t>
                </a:r>
                <a:endParaRPr b="0" lang="en-US" sz="2400" spc="-1" strike="noStrike">
                  <a:solidFill>
                    <a:srgbClr val="000000"/>
                  </a:solidFill>
                  <a:latin typeface="Times New Roman"/>
                </a:endParaRPr>
              </a:p>
            </p:txBody>
          </p:sp>
          <p:sp>
            <p:nvSpPr>
              <p:cNvPr id="121" name=""/>
              <p:cNvSpPr/>
              <p:nvPr/>
            </p:nvSpPr>
            <p:spPr>
              <a:xfrm>
                <a:off x="2904120" y="3793680"/>
                <a:ext cx="321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2" name=""/>
              <p:cNvSpPr/>
              <p:nvPr/>
            </p:nvSpPr>
            <p:spPr>
              <a:xfrm>
                <a:off x="3106800" y="3980880"/>
                <a:ext cx="3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3" name=""/>
              <p:cNvSpPr/>
              <p:nvPr/>
            </p:nvSpPr>
            <p:spPr>
              <a:xfrm>
                <a:off x="2904120" y="4109760"/>
                <a:ext cx="321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 name=""/>
              <p:cNvSpPr/>
              <p:nvPr/>
            </p:nvSpPr>
            <p:spPr>
              <a:xfrm>
                <a:off x="3374280" y="5301720"/>
                <a:ext cx="1978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sp>
            <p:nvSpPr>
              <p:cNvPr id="125" name=""/>
              <p:cNvSpPr/>
              <p:nvPr/>
            </p:nvSpPr>
            <p:spPr>
              <a:xfrm flipH="1">
                <a:off x="5825160" y="2211480"/>
                <a:ext cx="47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825160" y="2217240"/>
                <a:ext cx="470880" cy="53640"/>
              </a:xfrm>
              <a:prstGeom prst="line">
                <a:avLst/>
              </a:prstGeom>
              <a:ln w="12600">
                <a:solidFill>
                  <a:srgbClr val="0000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27" name=""/>
              <p:cNvSpPr/>
              <p:nvPr/>
            </p:nvSpPr>
            <p:spPr>
              <a:xfrm flipH="1">
                <a:off x="6431760" y="2606400"/>
                <a:ext cx="4050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633720" y="2606400"/>
                <a:ext cx="203040" cy="441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2113560" y="2405880"/>
                <a:ext cx="336960" cy="19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30920" y="3958920"/>
                <a:ext cx="12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130920" y="4282560"/>
                <a:ext cx="191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731640" y="2403000"/>
                <a:ext cx="22359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Fibre cuticl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Surface membran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PIL)</a:t>
                </a:r>
                <a:endParaRPr b="0" lang="en-US" sz="1800" spc="-1" strike="noStrike">
                  <a:solidFill>
                    <a:srgbClr val="000000"/>
                  </a:solidFill>
                  <a:latin typeface="Times New Roman"/>
                </a:endParaRPr>
              </a:p>
            </p:txBody>
          </p:sp>
        </p:grpSp>
      </p:grpSp>
      <p:sp>
        <p:nvSpPr>
          <p:cNvPr id="133"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el of fibre cuticle forma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0:37:45Z</dcterms:created>
  <dc:creator>USER</dc:creator>
  <dc:description/>
  <dc:language>en-US</dc:language>
  <cp:lastModifiedBy>Hdaily</cp:lastModifiedBy>
  <cp:lastPrinted>2000-02-03T09:09:47Z</cp:lastPrinted>
  <dcterms:modified xsi:type="dcterms:W3CDTF">2000-05-19T00:50:35Z</dcterms:modified>
  <cp:revision>3</cp:revision>
  <dc:subject/>
  <dc:title>Stages in the Formation of the Cuticle</dc:title>
</cp:coreProperties>
</file>