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B7CD-6A67-45E4-9EB6-E4CFADD51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ADC3-B8C3-438B-BA69-4D85F0987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s metabolised in follicles by 3 pathway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erobic or aerobic glycolysis (90%)</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CA cycle (7%)</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ntose phosphate pathway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c requirements of the cells in the skin mirror those in the remainder of the body.  It is therefore reasonable to expect that the skin and hair follicle will exhibit similar biochemical pathways to other tissues.  The enzymes and metabolites of glucose metabolism have been extensively studied and, qualitatively, the intermediary metabolism of skin and follicle do not differ significantly from other tissues in the body. There are several pathways by which glucose may be metabolised.  A brief outline is presented here but further detail can be obtained from standard biochemistry text boo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ucose that is not metabolised to lactate is oxidised via the pentose phosphate pathway or the tricarboxylic acid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entose phosphate path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DD02-9D0D-4F0F-A345-218FD84F6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ird pathway of glucose metabolism is the pentose phosphate pathway.  This pathway provides five carbon sugars which are used for the synthesis of DNA, RNA and other important biomolecules (ATP, CoA, NAD and FAD). ATP is the energy currency of the cell and this pathway also produces NADPH which is the reducing currency of th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of the high rate of cell division in the follicle bulb it was thought that this pathway would be fairly a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ly 3-4% of total glucose is metabolised by this pathway, but if the glucose which is metabolised to lactate is ignored and we consider the 10% of glucose which is oxidised, about 40% is oxidised via the pentose phosphate path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hough the overall activity is low, this pathway is the most responsive to the activity of the follicle.  Resting follicles have a lower metabolic flux through all pathways than growing follicles.  Growing follicles use twice as much glucose and produce twice as much lactate as resting follicles, but the activity of the pentose phosphate pathway is 4 times as high in growing follicles than in resting follicles.  This makes sense, because more nucleic acid intermediates would be required by growing follicles.</a:t>
            </a:r>
            <a:endParaRPr b="0" lang="en-US" sz="1200" spc="-1" strike="noStrike">
              <a:solidFill>
                <a:srgbClr val="000000"/>
              </a:solidFill>
              <a:latin typeface="Times New Roman"/>
            </a:endParaRPr>
          </a:p>
        </p:txBody>
      </p:sp>
      <p:sp>
        <p:nvSpPr>
          <p:cNvPr id="65"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entose Phosphate Pathwa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entose Phosphate Pathway</a:t>
            </a:r>
            <a:endParaRPr b="1" lang="en-US" sz="3200" spc="-1" strike="noStrike">
              <a:solidFill>
                <a:srgbClr val="fafd00"/>
              </a:solidFill>
              <a:latin typeface="Arial"/>
            </a:endParaRPr>
          </a:p>
        </p:txBody>
      </p:sp>
      <p:grpSp>
        <p:nvGrpSpPr>
          <p:cNvPr id="50" name=""/>
          <p:cNvGrpSpPr/>
          <p:nvPr/>
        </p:nvGrpSpPr>
        <p:grpSpPr>
          <a:xfrm>
            <a:off x="1198800" y="1295280"/>
            <a:ext cx="3095280" cy="3921480"/>
            <a:chOff x="1198800" y="1295280"/>
            <a:chExt cx="3095280" cy="3921480"/>
          </a:xfrm>
        </p:grpSpPr>
        <p:sp>
          <p:nvSpPr>
            <p:cNvPr id="51" name=""/>
            <p:cNvSpPr/>
            <p:nvPr/>
          </p:nvSpPr>
          <p:spPr>
            <a:xfrm>
              <a:off x="2455920" y="1887480"/>
              <a:ext cx="0" cy="777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2476080" y="3540240"/>
              <a:ext cx="1800" cy="85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72280" y="1295280"/>
              <a:ext cx="1581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afd00"/>
                  </a:solidFill>
                  <a:latin typeface="Arial"/>
                </a:rPr>
                <a:t>glucose</a:t>
              </a:r>
              <a:endParaRPr b="0" lang="en-US" sz="3200" spc="-1" strike="noStrike">
                <a:solidFill>
                  <a:srgbClr val="000000"/>
                </a:solidFill>
                <a:latin typeface="Times New Roman"/>
              </a:endParaRPr>
            </a:p>
          </p:txBody>
        </p:sp>
        <p:sp>
          <p:nvSpPr>
            <p:cNvPr id="54" name=""/>
            <p:cNvSpPr/>
            <p:nvPr/>
          </p:nvSpPr>
          <p:spPr>
            <a:xfrm>
              <a:off x="1198800" y="2800440"/>
              <a:ext cx="3095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5 carbon sugars</a:t>
              </a:r>
              <a:endParaRPr b="0" lang="en-US" sz="3200" spc="-1" strike="noStrike">
                <a:solidFill>
                  <a:srgbClr val="000000"/>
                </a:solidFill>
                <a:latin typeface="Times New Roman"/>
              </a:endParaRPr>
            </a:p>
          </p:txBody>
        </p:sp>
        <p:sp>
          <p:nvSpPr>
            <p:cNvPr id="55" name=""/>
            <p:cNvSpPr/>
            <p:nvPr/>
          </p:nvSpPr>
          <p:spPr>
            <a:xfrm>
              <a:off x="1390680" y="4640400"/>
              <a:ext cx="25084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ucleic acids</a:t>
              </a:r>
              <a:endParaRPr b="0" lang="en-US" sz="3200" spc="-1" strike="noStrike">
                <a:solidFill>
                  <a:srgbClr val="000000"/>
                </a:solidFill>
                <a:latin typeface="Times New Roman"/>
              </a:endParaRPr>
            </a:p>
          </p:txBody>
        </p:sp>
      </p:grpSp>
      <p:sp>
        <p:nvSpPr>
          <p:cNvPr id="56" name="PlaceHolder 2"/>
          <p:cNvSpPr>
            <a:spLocks noGrp="1"/>
          </p:cNvSpPr>
          <p:nvPr>
            <p:ph/>
          </p:nvPr>
        </p:nvSpPr>
        <p:spPr>
          <a:xfrm>
            <a:off x="4800240" y="1309680"/>
            <a:ext cx="3809880" cy="3262320"/>
          </a:xfrm>
          <a:prstGeom prst="rect">
            <a:avLst/>
          </a:prstGeom>
          <a:noFill/>
          <a:ln w="76320">
            <a:solidFill>
              <a:srgbClr val="fafd00"/>
            </a:solidFill>
            <a:miter/>
          </a:ln>
        </p:spPr>
        <p:txBody>
          <a:bodyPr lIns="90360" rIns="90360" tIns="44280" bIns="44280" anchor="t">
            <a:normAutofit/>
          </a:bodyPr>
          <a:p>
            <a:pPr marL="343080" indent="-343080">
              <a:spcBef>
                <a:spcPts val="700"/>
              </a:spcBef>
              <a:buClr>
                <a:srgbClr val="fafd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 produ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cleic acid intermedia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ADPH reducing equivalents</a:t>
            </a:r>
            <a:endParaRPr b="1" lang="en-US" sz="2400" spc="-1" strike="noStrike">
              <a:solidFill>
                <a:srgbClr val="ffffff"/>
              </a:solidFill>
              <a:latin typeface="Arial"/>
            </a:endParaRPr>
          </a:p>
        </p:txBody>
      </p:sp>
      <p:sp>
        <p:nvSpPr>
          <p:cNvPr id="57"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0:39:32Z</dcterms:created>
  <dc:creator>USER</dc:creator>
  <dc:description/>
  <dc:language>en-US</dc:language>
  <cp:lastModifiedBy>Hdaily</cp:lastModifiedBy>
  <cp:lastPrinted>2000-02-03T09:09:47Z</cp:lastPrinted>
  <dcterms:modified xsi:type="dcterms:W3CDTF">2000-06-07T10:50:10Z</dcterms:modified>
  <cp:revision>3</cp:revision>
  <dc:subject/>
  <dc:title>Pentose Phosphate Pathway</dc:title>
</cp:coreProperties>
</file>