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8AA8-0178-412B-BF9D-FED7ED293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describes the structure of the medulla of fibres.  There are photomicrographs and descriptions of the different types of medullation that occur in fib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3F16-EF9E-4297-B087-329F94DDC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dulla is present in large fibres, mainly hairs and kemp fibres.  The medulla contains vacuolated cells that consist of walls of keratin and collapse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rge fibres tend to have a medulla which is continuous throughout the length of the fibre, but thinner fibres may have a medulla in only some places (discontinuou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.  Ryder, M.L. (1968) Wool Growth. Academic Press, London.  P3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appearance of the medulla is determined by the presence of air.  When looking at fibres with medulla using a light microscope, the medulla appears black because the airspace does not allow the light to pas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).  Latticed medulla of kemp filled with mounting media that allows some of the internal rods that support the medulla to be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b).  Continuous non-latticed medulla occurs in coarse w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).  Fragmented non-latticed medulla occurs in wools of medium diameters such as Downs w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Medulla Structur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Janelle Hocking Edwards, The University of Western Austral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Medulla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present in coarse fib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vacuolated ce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uni- or multi-cellular in wid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iscontinuous or continu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9560" y="650700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437560" y="974880"/>
            <a:ext cx="5296320" cy="5123160"/>
            <a:chOff x="2437560" y="974880"/>
            <a:chExt cx="5296320" cy="51231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2590560" y="1616040"/>
              <a:ext cx="5029200" cy="35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437560" y="974880"/>
              <a:ext cx="218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Latticed medul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98800" y="974880"/>
              <a:ext cx="268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Non-latticed medul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6240" y="5699160"/>
              <a:ext cx="163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Fragm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800" y="569916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Continu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105160" y="5317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933960" y="5317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4960" y="1279440"/>
              <a:ext cx="0" cy="38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333760" y="1355760"/>
              <a:ext cx="457200" cy="15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48160" y="1355760"/>
              <a:ext cx="53352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Medulla patter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0800" y="6324480"/>
            <a:ext cx="214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afd00"/>
                </a:solidFill>
                <a:latin typeface="Arial"/>
              </a:rPr>
              <a:t>Source: Ryder, M.L., (196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7T01:06:20Z</dcterms:created>
  <dc:creator>USER</dc:creator>
  <dc:description/>
  <dc:language>en-US</dc:language>
  <cp:lastModifiedBy>Hdaily</cp:lastModifiedBy>
  <cp:lastPrinted>2000-02-03T09:09:47Z</cp:lastPrinted>
  <dcterms:modified xsi:type="dcterms:W3CDTF">2000-06-07T06:37:27Z</dcterms:modified>
  <cp:revision>2</cp:revision>
  <dc:subject/>
  <dc:title>Medulla Structure</dc:title>
</cp:coreProperties>
</file>