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858C-A599-4388-96A4-A23CA4566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briefly describes the structure of mammalian skin with particular reference to sheep skin and wool production.   As with all structure/function issues it is useful to know the function of the skin to understand the structure of the skin.  Many text books describe the structure and function of the skin in all species of animals.  A lot of commonality exists between species in skin structure and function and it is possible to follow the patterns of skin evolution through the different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ntains a diagram of sheep skin and also a labelled photomicrograph of sheep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EBDF-FFFD-4B62-97E0-756C1ED9D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kin is composed of many different cell and tissue typ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8E9B-3BD0-4DAE-8926-5571EAC5C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kin is composed of two main laye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uter layer is known as the epidermis.  This does not have blood vessels and is composed of cellular layers that act as a physical barrier between the external environment and the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pidermis is attached to and maintained by the second layer, the dermi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is is predominantly composed of loosely packed, elastic and flexible connective tissue.  It also has a variety of cell types and accessory orga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692C-6660-46E9-AA1B-8F3010944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addocks, I.J., and Jackson, N. 1988.  Structural studies of sheep, cattle and goat skin.  CSIRO Division of Animal Production, PO Box 239 Blacktown, NSW 2148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dimensional diagram of sheep skin.  The important structures to note are the epidermis on the outer surface of the skin and the dermis making up the major part of the skin.  Below the dermis is the subcutaneous muscle layer.  Within the dermis there are follicles, sebaceous glands, sweat glands and a muscle attached to some follicles.  There is also an extensive blood and nerve netw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984A-DD39-40CB-882A-C63DB440C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photo taken down a microscope (photomicrograph) of sheep ski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kin Struct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heep ski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285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2858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is composed of many different structures and cell types</a:t>
            </a:r>
            <a:endParaRPr b="1" lang="en-US" sz="28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ch has a specific function in relation to the whole animal</a:t>
            </a:r>
            <a:endParaRPr b="1" lang="en-US" sz="24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 components can directly influence wool production</a:t>
            </a:r>
            <a:endParaRPr b="1" lang="en-US" sz="2400" spc="-1" strike="noStrike">
              <a:solidFill>
                <a:srgbClr val="ffffff"/>
              </a:solidFill>
              <a:latin typeface="Arial"/>
            </a:endParaRPr>
          </a:p>
          <a:p>
            <a:pPr marL="2858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858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2858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has a well developed nerve and blood supply</a:t>
            </a:r>
            <a:endParaRPr b="1" lang="en-US" sz="2800" spc="-1" strike="noStrike">
              <a:solidFill>
                <a:srgbClr val="ffffff"/>
              </a:solidFill>
              <a:latin typeface="Arial"/>
            </a:endParaRPr>
          </a:p>
        </p:txBody>
      </p:sp>
      <p:sp>
        <p:nvSpPr>
          <p:cNvPr id="51"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structure</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467840" cy="5181840"/>
          </a:xfrm>
          <a:prstGeom prst="rect">
            <a:avLst/>
          </a:prstGeom>
          <a:noFill/>
          <a:ln w="0">
            <a:noFill/>
          </a:ln>
        </p:spPr>
        <p:txBody>
          <a:bodyPr lIns="90360" rIns="90360" tIns="44280" bIns="44280" anchor="t">
            <a:normAutofit/>
          </a:bodyPr>
          <a:p>
            <a:pPr marL="285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2858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is composed of two main layers</a:t>
            </a:r>
            <a:endParaRPr b="1" lang="en-US" sz="28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dermi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utermost layer that separates the animal from the external environment</a:t>
            </a:r>
            <a:endParaRPr b="1" lang="en-US" sz="20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rmi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sists of structures that support the epidermis and aids in protecting the animal from the external environmen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cludes nerves, blood vessels, follicles, glands</a:t>
            </a:r>
            <a:endParaRPr b="1" lang="en-US" sz="2000" spc="-1" strike="noStrike">
              <a:solidFill>
                <a:srgbClr val="ffffff"/>
              </a:solidFill>
              <a:latin typeface="Arial"/>
            </a:endParaRPr>
          </a:p>
          <a:p>
            <a:pPr marL="285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rcRect l="915" t="0" r="2754" b="1271"/>
          <a:stretch/>
        </p:blipFill>
        <p:spPr>
          <a:xfrm>
            <a:off x="1219320" y="304920"/>
            <a:ext cx="7848360" cy="5943600"/>
          </a:xfrm>
          <a:prstGeom prst="rect">
            <a:avLst/>
          </a:prstGeom>
          <a:ln w="12600">
            <a:solidFill>
              <a:srgbClr val="ffffff"/>
            </a:solidFill>
            <a:miter/>
          </a:ln>
        </p:spPr>
      </p:pic>
      <p:sp>
        <p:nvSpPr>
          <p:cNvPr id="56" name=""/>
          <p:cNvSpPr/>
          <p:nvPr/>
        </p:nvSpPr>
        <p:spPr>
          <a:xfrm>
            <a:off x="5822640" y="6400800"/>
            <a:ext cx="3250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addocks, I.J., &amp; Jackson, N. (1988)</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rcRect l="4168" t="0" r="4997" b="0"/>
          <a:stretch/>
        </p:blipFill>
        <p:spPr>
          <a:xfrm>
            <a:off x="1143000" y="457200"/>
            <a:ext cx="8001000" cy="4267080"/>
          </a:xfrm>
          <a:prstGeom prst="rect">
            <a:avLst/>
          </a:prstGeom>
          <a:ln w="0">
            <a:noFill/>
          </a:ln>
        </p:spPr>
      </p:pic>
      <p:pic>
        <p:nvPicPr>
          <p:cNvPr id="58" name="" descr=""/>
          <p:cNvPicPr/>
          <p:nvPr/>
        </p:nvPicPr>
        <p:blipFill>
          <a:blip r:embed="rId2"/>
          <a:srcRect l="0" t="0" r="9165" b="14845"/>
          <a:stretch/>
        </p:blipFill>
        <p:spPr>
          <a:xfrm>
            <a:off x="1143000" y="3713040"/>
            <a:ext cx="8001000" cy="2687760"/>
          </a:xfrm>
          <a:prstGeom prst="rect">
            <a:avLst/>
          </a:prstGeom>
          <a:ln w="0">
            <a:noFill/>
          </a:ln>
        </p:spPr>
      </p:pic>
      <p:grpSp>
        <p:nvGrpSpPr>
          <p:cNvPr id="59" name=""/>
          <p:cNvGrpSpPr/>
          <p:nvPr/>
        </p:nvGrpSpPr>
        <p:grpSpPr>
          <a:xfrm>
            <a:off x="1436760" y="457200"/>
            <a:ext cx="6907320" cy="5428080"/>
            <a:chOff x="1436760" y="457200"/>
            <a:chExt cx="6907320" cy="5428080"/>
          </a:xfrm>
        </p:grpSpPr>
        <p:sp>
          <p:nvSpPr>
            <p:cNvPr id="60" name=""/>
            <p:cNvSpPr/>
            <p:nvPr/>
          </p:nvSpPr>
          <p:spPr>
            <a:xfrm>
              <a:off x="3470400" y="679320"/>
              <a:ext cx="36324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5653080" y="3933360"/>
              <a:ext cx="581040" cy="297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653080" y="4303800"/>
              <a:ext cx="2181240" cy="1490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7034040" y="2011320"/>
              <a:ext cx="1092240" cy="3700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034040" y="2454120"/>
              <a:ext cx="1310040" cy="1184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161040" y="752400"/>
              <a:ext cx="363600" cy="666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524640" y="752400"/>
              <a:ext cx="219240" cy="7398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5653080" y="2529000"/>
              <a:ext cx="363600" cy="66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flipV="1">
              <a:off x="3615840" y="2973240"/>
              <a:ext cx="436680" cy="11829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724040" y="752400"/>
              <a:ext cx="146160" cy="4662720"/>
            </a:xfrm>
            <a:custGeom>
              <a:avLst/>
              <a:gdLst>
                <a:gd name="textAreaLeft" fmla="*/ 42840 w 146160"/>
                <a:gd name="textAreaRight" fmla="*/ 146520 w 146160"/>
                <a:gd name="textAreaTop" fmla="*/ 0 h 4662720"/>
                <a:gd name="textAreaBottom" fmla="*/ 4663080 h 466272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32280" y="4154400"/>
              <a:ext cx="1554120" cy="703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weat glands</a:t>
              </a:r>
              <a:endParaRPr b="0" lang="en-US" sz="2000" spc="-1" strike="noStrike">
                <a:solidFill>
                  <a:srgbClr val="000000"/>
                </a:solidFill>
                <a:latin typeface="Times New Roman"/>
              </a:endParaRPr>
            </a:p>
          </p:txBody>
        </p:sp>
        <p:sp>
          <p:nvSpPr>
            <p:cNvPr id="71" name=""/>
            <p:cNvSpPr/>
            <p:nvPr/>
          </p:nvSpPr>
          <p:spPr>
            <a:xfrm>
              <a:off x="5916600" y="2233440"/>
              <a:ext cx="139860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Follicles</a:t>
              </a:r>
              <a:endParaRPr b="0" lang="en-US" sz="2000" spc="-1" strike="noStrike">
                <a:solidFill>
                  <a:srgbClr val="000000"/>
                </a:solidFill>
                <a:latin typeface="Times New Roman"/>
              </a:endParaRPr>
            </a:p>
          </p:txBody>
        </p:sp>
        <p:sp>
          <p:nvSpPr>
            <p:cNvPr id="72" name=""/>
            <p:cNvSpPr/>
            <p:nvPr/>
          </p:nvSpPr>
          <p:spPr>
            <a:xfrm>
              <a:off x="1436760" y="1492200"/>
              <a:ext cx="107784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Dermis</a:t>
              </a:r>
              <a:endParaRPr b="0" lang="en-US" sz="2000" spc="-1" strike="noStrike">
                <a:solidFill>
                  <a:srgbClr val="000000"/>
                </a:solidFill>
                <a:latin typeface="Times New Roman"/>
              </a:endParaRPr>
            </a:p>
          </p:txBody>
        </p:sp>
        <p:sp>
          <p:nvSpPr>
            <p:cNvPr id="73" name=""/>
            <p:cNvSpPr/>
            <p:nvPr/>
          </p:nvSpPr>
          <p:spPr>
            <a:xfrm>
              <a:off x="2171880" y="457200"/>
              <a:ext cx="1485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Epidermis</a:t>
              </a:r>
              <a:endParaRPr b="0" lang="en-US" sz="2000" spc="-1" strike="noStrike">
                <a:solidFill>
                  <a:srgbClr val="000000"/>
                </a:solidFill>
                <a:latin typeface="Times New Roman"/>
              </a:endParaRPr>
            </a:p>
          </p:txBody>
        </p:sp>
        <p:sp>
          <p:nvSpPr>
            <p:cNvPr id="74" name=""/>
            <p:cNvSpPr/>
            <p:nvPr/>
          </p:nvSpPr>
          <p:spPr>
            <a:xfrm>
              <a:off x="5767560" y="457200"/>
              <a:ext cx="1699920" cy="703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Sebaceous glands</a:t>
              </a:r>
              <a:endParaRPr b="0" lang="en-US" sz="2000" spc="-1" strike="noStrike">
                <a:solidFill>
                  <a:srgbClr val="000000"/>
                </a:solidFill>
                <a:latin typeface="Times New Roman"/>
              </a:endParaRPr>
            </a:p>
          </p:txBody>
        </p:sp>
        <p:sp>
          <p:nvSpPr>
            <p:cNvPr id="75" name=""/>
            <p:cNvSpPr/>
            <p:nvPr/>
          </p:nvSpPr>
          <p:spPr>
            <a:xfrm>
              <a:off x="4886280" y="5486400"/>
              <a:ext cx="120960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Muscle</a:t>
              </a:r>
              <a:endParaRPr b="0" lang="en-US" sz="2000" spc="-1" strike="noStrike">
                <a:solidFill>
                  <a:srgbClr val="000000"/>
                </a:solidFill>
                <a:latin typeface="Times New Roman"/>
              </a:endParaRPr>
            </a:p>
          </p:txBody>
        </p:sp>
      </p:grpSp>
      <p:sp>
        <p:nvSpPr>
          <p:cNvPr id="76"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8T03:21:50Z</dcterms:created>
  <dc:creator>USER</dc:creator>
  <dc:description/>
  <dc:language>en-US</dc:language>
  <cp:lastModifiedBy>Hdaily</cp:lastModifiedBy>
  <cp:lastPrinted>2000-03-28T03:31:20Z</cp:lastPrinted>
  <dcterms:modified xsi:type="dcterms:W3CDTF">2000-06-09T04:41:49Z</dcterms:modified>
  <cp:revision>2</cp:revision>
  <dc:subject/>
  <dc:title>Skin Structure</dc:title>
</cp:coreProperties>
</file>