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DFD2-4B91-41CE-8844-A62910806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FB21-645A-453A-B159-C78F5444C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1"/>
          <p:cNvSpPr>
            <a:spLocks noGrp="1"/>
          </p:cNvSpPr>
          <p:nvPr>
            <p:ph type="sldImg"/>
          </p:nvPr>
        </p:nvSpPr>
        <p:spPr>
          <a:xfrm>
            <a:off x="1562040" y="533520"/>
            <a:ext cx="3657600" cy="2743200"/>
          </a:xfrm>
          <a:prstGeom prst="rect">
            <a:avLst/>
          </a:prstGeom>
          <a:ln w="0">
            <a:noFill/>
          </a:ln>
        </p:spPr>
      </p:sp>
      <p:sp>
        <p:nvSpPr>
          <p:cNvPr id="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ogen predominantly occurs in the outer root sheath of hair follicles in adult mammals.  The concentration of glycogen in the skin and hair follicle is influenced by the wound status, proliferative activity and nutrition of the tiss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distribution of glycogen during the follicle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Rachel Smith, The University of Western Austral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2F73-CF34-4F0C-AF4F-40A952416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ogen concentration in the follicle is strongly correlated with proliferative activity related to the inherent follicle cycle.  In mouse skin, the glycogen store disappears from the outer root sheath during catagen as the vascularity of the follicle decreases and remains absent during telogen.  Glycogen begins to reappear during the phase of active mitosis concomitant with follicle reformation during early anagen.  Glycogen concentration is maximal during the late stages of anagen when fibre production has commenced.  At this time, the outer root sheath cells are laden with glycogen and small amounts of glycogen are apparent in the unkeratinised regions of the cuticle, cortex and medulla .  Glycogen fluctuations during the follicle cycle are species dependent.  The outer root sheath of the telogen follicle in mouse, rat and rabbit does not contain glycogen .  In comparison, glycogen is apparent in human and primate telogen follicles although it is reduced to about one-tenth of the concentration of anagen follicles in these speci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ycogen and the Hair Cy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achel Smith,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979760" y="650700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ycogen dynamics during the inherent follicle cycle</a:t>
            </a:r>
            <a:endParaRPr b="1" lang="en-US" sz="3200" spc="-1" strike="noStrike">
              <a:solidFill>
                <a:srgbClr val="fafd00"/>
              </a:solidFill>
              <a:latin typeface="Arial"/>
            </a:endParaRPr>
          </a:p>
        </p:txBody>
      </p:sp>
      <p:sp>
        <p:nvSpPr>
          <p:cNvPr id="51"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nagen I-II</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ittle glycogen present</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nagen III</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eriphery of ORS cells</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nagen IV-VI </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lycogen increases</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tagen </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lycogen disappears suddenly</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logen </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 glycogen present</a:t>
            </a: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04:45:16Z</dcterms:created>
  <dc:creator>USER</dc:creator>
  <dc:description/>
  <dc:language>en-US</dc:language>
  <cp:lastModifiedBy>Hdaily</cp:lastModifiedBy>
  <cp:lastPrinted>2000-02-03T09:09:47Z</cp:lastPrinted>
  <dcterms:modified xsi:type="dcterms:W3CDTF">2000-05-30T04:46:35Z</dcterms:modified>
  <cp:revision>2</cp:revision>
  <dc:subject/>
  <dc:title>Glycogen and the Hair Cycle</dc:title>
</cp:coreProperties>
</file>