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676160" y="533520"/>
            <a:ext cx="3429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DB7A-B3FB-4619-BF1E-739718CDE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CB39-9027-4F27-A434-5DD3A71B7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rotein metabolism in the follicle is essential for wool growth.  Without protein metabolism, fibre formation would be impossible (see the module “Basic fibre composition”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rotein metabolism is much more than simple fibre formation.  It is also includes transport of amino acids from the plasma into the cells, amino acid metabolism and polyamine syn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module illustrates three metabolic pathways in which methionine is involv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ransulfuration pathway (conversion of methionine to cysteine and then cystin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use of methionine for protein synthesis;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use of methionine for polyamine syn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roduced for the CRC for Premium Quality Wool undergraduate program by Prof Phil Hynd, The University of Adela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06FB-B2F9-42D2-B3FA-F20B30B07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Prof Phil Hynd, The University of Adela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Reference: Reis, P.J. (1979) In: Physiological and Environmental Limitations to Wool Growth. Eds; Black, J.L and Reis, P.J. UNE Publishing Unit, Armidale, NSW,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sulfur amino acids, methionine, cysteine and cystine are essential for wool growth and are generally described as the first-limiting amino acids for </a:t>
            </a:r>
            <a:r>
              <a:rPr b="0" i="1" lang="en-AU" sz="1200" spc="-1" strike="noStrike">
                <a:solidFill>
                  <a:srgbClr val="000000"/>
                </a:solidFill>
                <a:latin typeface="Times New Roman"/>
              </a:rPr>
              <a:t>in vivo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wool production in Merin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diagram shows the major routes of methionine metabolism.  Methionine is an essential amino acid for sheep - it can either be obtained from the sheep’s diet or from its rumen microflora, however, it can not synthesise methionine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ethionine is used directly for protein synthesis or it may be converted to cystine via the transulfuration pathway, it may be used for polyamine metabolism or may act as a donor of methyl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23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092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5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23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092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9246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2076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ww.woolwi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debar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Sulfur Amino Acid Metabolis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Produced for the CRC for Premium Quality Wool undergraduate program 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Prof Phil Hynd, The University of Adelai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9528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Methionine Metabolis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067400" y="1019160"/>
            <a:ext cx="8151120" cy="4926960"/>
            <a:chOff x="1067400" y="1019160"/>
            <a:chExt cx="8151120" cy="4926960"/>
          </a:xfrm>
        </p:grpSpPr>
        <p:sp>
          <p:nvSpPr>
            <p:cNvPr id="52" name=""/>
            <p:cNvSpPr/>
            <p:nvPr/>
          </p:nvSpPr>
          <p:spPr>
            <a:xfrm>
              <a:off x="3187800" y="1263600"/>
              <a:ext cx="393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27520" y="1263600"/>
              <a:ext cx="3924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029120" y="1424160"/>
              <a:ext cx="0" cy="3664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29120" y="2262240"/>
              <a:ext cx="0" cy="3668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43440" y="3224160"/>
              <a:ext cx="0" cy="3668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029120" y="4137120"/>
              <a:ext cx="0" cy="3682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029120" y="5051520"/>
              <a:ext cx="0" cy="3682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67240" y="1949400"/>
              <a:ext cx="39204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83520" y="2438280"/>
              <a:ext cx="1440" cy="3812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494080" y="5654520"/>
              <a:ext cx="7999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707840" y="3903840"/>
              <a:ext cx="14605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1709640" y="1417680"/>
              <a:ext cx="1611360" cy="226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75080" y="5807160"/>
              <a:ext cx="7999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67400" y="1019160"/>
              <a:ext cx="211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400" spc="-1" strike="noStrike">
                  <a:solidFill>
                    <a:srgbClr val="ffffff"/>
                  </a:solidFill>
                  <a:latin typeface="Arial"/>
                </a:rPr>
                <a:t>D-Methion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05320" y="101916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400" spc="-1" strike="noStrike">
                  <a:solidFill>
                    <a:srgbClr val="ffffff"/>
                  </a:solidFill>
                  <a:latin typeface="Arial"/>
                </a:rPr>
                <a:t>L-Methion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59240" y="1019160"/>
              <a:ext cx="275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AU" sz="2400" spc="-1" strike="noStrike">
                  <a:solidFill>
                    <a:srgbClr val="ffffcc"/>
                  </a:solidFill>
                  <a:latin typeface="Arial"/>
                </a:rPr>
                <a:t>Protein Synthe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76320" y="2743200"/>
              <a:ext cx="390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400" spc="-1" strike="noStrike">
                  <a:solidFill>
                    <a:srgbClr val="ffffff"/>
                  </a:solidFill>
                  <a:latin typeface="Arial"/>
                </a:rPr>
                <a:t>S-Adenosylhomocyste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628960" y="1616040"/>
              <a:ext cx="3481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400" spc="-1" strike="noStrike">
                  <a:solidFill>
                    <a:srgbClr val="ffffff"/>
                  </a:solidFill>
                  <a:latin typeface="Arial"/>
                </a:rPr>
                <a:t>Decarboxyla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400" spc="-1" strike="noStrike">
                  <a:solidFill>
                    <a:srgbClr val="ffffff"/>
                  </a:solidFill>
                  <a:latin typeface="Arial"/>
                </a:rPr>
                <a:t>S-Adenosylmethion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98560" y="1752480"/>
              <a:ext cx="348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400" spc="-1" strike="noStrike">
                  <a:solidFill>
                    <a:srgbClr val="ffffff"/>
                  </a:solidFill>
                  <a:latin typeface="Arial"/>
                </a:rPr>
                <a:t>S-Adenosylmethion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89680" y="2743200"/>
              <a:ext cx="32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AU" sz="2400" spc="-1" strike="noStrike">
                  <a:solidFill>
                    <a:srgbClr val="ffffcc"/>
                  </a:solidFill>
                  <a:latin typeface="Arial"/>
                </a:rPr>
                <a:t>Polyamine Synthe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47560" y="3581280"/>
              <a:ext cx="226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400" spc="-1" strike="noStrike">
                  <a:solidFill>
                    <a:srgbClr val="ffffff"/>
                  </a:solidFill>
                  <a:latin typeface="Arial"/>
                </a:rPr>
                <a:t>Homocyste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46480" y="4495680"/>
              <a:ext cx="21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400" spc="-1" strike="noStrike">
                  <a:solidFill>
                    <a:srgbClr val="ffffff"/>
                  </a:solidFill>
                  <a:latin typeface="Arial"/>
                </a:rPr>
                <a:t>Cystathion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00200" y="548640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400" spc="-1" strike="noStrike">
                  <a:solidFill>
                    <a:srgbClr val="ffffff"/>
                  </a:solidFill>
                  <a:latin typeface="Arial"/>
                </a:rPr>
                <a:t>Cyste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89800" y="5486400"/>
              <a:ext cx="12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400" spc="-1" strike="noStrike">
                  <a:solidFill>
                    <a:srgbClr val="ffffff"/>
                  </a:solidFill>
                  <a:latin typeface="Arial"/>
                </a:rPr>
                <a:t>Cyst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5715000"/>
              <a:ext cx="8002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662440" y="5486400"/>
              <a:ext cx="14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400" spc="-1" strike="noStrike">
                  <a:solidFill>
                    <a:srgbClr val="ffffff"/>
                  </a:solidFill>
                  <a:latin typeface="Arial"/>
                </a:rPr>
                <a:t>Sul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20800" y="1600200"/>
              <a:ext cx="0" cy="22860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81400" y="3276720"/>
              <a:ext cx="0" cy="3682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233920" y="6583320"/>
            <a:ext cx="8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Phil Hy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7T01:27:54Z</dcterms:created>
  <dc:creator>USER</dc:creator>
  <dc:description/>
  <dc:language>en-US</dc:language>
  <cp:lastModifiedBy>Hdaily</cp:lastModifiedBy>
  <cp:lastPrinted>2000-02-03T09:09:47Z</cp:lastPrinted>
  <dcterms:modified xsi:type="dcterms:W3CDTF">2000-06-09T03:59:18Z</dcterms:modified>
  <cp:revision>3</cp:revision>
  <dc:subject/>
  <dc:title>Sulphur Amino Acid Metabolism</dc:title>
</cp:coreProperties>
</file>