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F263-2397-4285-BB39-8880136B1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9808-16BD-46A9-B59A-1152DE493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characteristics of the skin are associated with wool production. The wool follicle in its role as a production unit may be considered from two broad aspects.  One concerns the processes involved in cell division, differentiation, growth and keratinisation. The other concerns the size/volume of the productive unit. This module describes how follicle size is associated with particular fleece characteristics and how it can be mea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A6B6-B10B-45FE-B0DA-37874ECCD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 </a:t>
            </a:r>
            <a:r>
              <a:rPr b="1" lang="en-AU" sz="1200" spc="-1" strike="noStrike">
                <a:solidFill>
                  <a:srgbClr val="000000"/>
                </a:solidFill>
                <a:latin typeface="Times New Roman"/>
              </a:rPr>
              <a:t>broad generalisation</a:t>
            </a:r>
            <a:r>
              <a:rPr b="0" lang="en-AU" sz="1200" spc="-1" strike="noStrike">
                <a:solidFill>
                  <a:srgbClr val="000000"/>
                </a:solidFill>
                <a:latin typeface="Times New Roman"/>
              </a:rPr>
              <a:t>, finewool breeds tend to have follicles of shorter length and narrower diameters than coarser wool breeds (1.7mm vs 2.3mm length; &lt;0.1mm vs ~0.1mm follicle diameter).  Breeds producing both coarse and fine wool e.g. Drysdale have variable populations (1-3.5mm length; ~0.17mm diamet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size alters in response to nutritional and seasonal changes.  As nutrition improves follicles get longer and broader.  As nutrition changes with season (e.g. in a Mediterranean environment) there is a similar change in follicle dimensions, in autumn where there is less feed available, follicles are shorter and thinner than in spring.  Sheep that are seasonal wool producers, that is their wool production responds to day length, tend to have shorter, thinner follicles in winter than in summ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cause all fibres are produced by similar mechanisms, the reasons for variation in follicle length are unclear and there is little information about which zones vary in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Referenc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nderson (1965) In Biology of the Skin and Hair Growth.  Eds: Lyne, A.G. and Short, B.F. Angus and Robertson, Sydne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61D9-A53B-40F6-ACDA-2C92E5169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ddocks, I.J., and Jackson, N. (1988)  Structural studies of sheep, cattle and goat skin.  CSIRO Division of Animal Production, PO Box 239 Blacktown, NSW 2148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the shape of the follicle bulb has been related to the curvature of the follicle and the mechanisms of crimp formation.  This is one of the reasons bulb size has been measured. Also as the bulb contains all of the cells that will divide to form a fibre, people have been interested in the relationship between bulb size, fibre production and diamet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In deflected bulbs, the papilla axis (b) is more inclined than the bulb axis (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Straight bul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Entally deflected bulb (opposite direction to sha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  Ectally deflected bulb (same direction as sha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b, c, d bulb diameter is shown as a 2-headed arrow and the eccentric position of the fibre in the transverse sections of the follicle is shown for various combinations of bulb deflections and outer root sheath (ORS) swelling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B25D-1EC4-4AF7-96F4-AB809A106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Henderson., (1965) In Biology of the Skin and Hair Growth.  Eds: Lyne, A.G. and Short, B.F. Angus and Robertson,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sheep, as follicle bulb diameter increase, so does fibre diamet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between sheep treated alike, the relationship is more complex and only the association between fibre length and follicle length was significant.  This suggests that the dimensions of the follicle do not ultimately determine the differences in wool production between animals.  That is, you can not say that sheep A is going to grow more wool than sheep B simply because sheep A has larger follic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Siz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Siz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newool breeds tend to have follicles of short length and narrow diamet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ffected b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utr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as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otype</a:t>
            </a:r>
            <a:endParaRPr b="1" lang="en-US" sz="2400" spc="-1" strike="noStrike">
              <a:solidFill>
                <a:srgbClr val="ffffff"/>
              </a:solidFill>
              <a:latin typeface="Arial"/>
            </a:endParaRPr>
          </a:p>
        </p:txBody>
      </p:sp>
      <p:sp>
        <p:nvSpPr>
          <p:cNvPr id="51"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lum contrast="6000"/>
          </a:blip>
          <a:srcRect l="0" t="0" r="2618" b="0"/>
          <a:stretch/>
        </p:blipFill>
        <p:spPr>
          <a:xfrm>
            <a:off x="1219320" y="1143000"/>
            <a:ext cx="7848360" cy="3352680"/>
          </a:xfrm>
          <a:prstGeom prst="rect">
            <a:avLst/>
          </a:prstGeom>
          <a:ln w="0">
            <a:noFill/>
          </a:ln>
        </p:spPr>
      </p:pic>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asurement of follicle bulb size</a:t>
            </a:r>
            <a:endParaRPr b="1" lang="en-US" sz="3200" spc="-1" strike="noStrike">
              <a:solidFill>
                <a:srgbClr val="fafd00"/>
              </a:solidFill>
              <a:latin typeface="Arial"/>
            </a:endParaRPr>
          </a:p>
        </p:txBody>
      </p:sp>
      <p:sp>
        <p:nvSpPr>
          <p:cNvPr id="54" name="PlaceHolder 2"/>
          <p:cNvSpPr>
            <a:spLocks noGrp="1"/>
          </p:cNvSpPr>
          <p:nvPr>
            <p:ph/>
          </p:nvPr>
        </p:nvSpPr>
        <p:spPr>
          <a:xfrm>
            <a:off x="1219320" y="4647960"/>
            <a:ext cx="7696080" cy="1066680"/>
          </a:xfrm>
          <a:prstGeom prst="rect">
            <a:avLst/>
          </a:prstGeom>
          <a:noFill/>
          <a:ln w="0">
            <a:noFill/>
          </a:ln>
        </p:spPr>
        <p:txBody>
          <a:bodyPr lIns="90000" rIns="90000" tIns="46800" bIns="46800" anchor="t">
            <a:normAutofit fontScale="98000"/>
          </a:bodyPr>
          <a:p>
            <a:pPr marL="335880" indent="-335880">
              <a:lnSpc>
                <a:spcPct val="90000"/>
              </a:lnSpc>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bulb size is measured as the maximum of the bulb in a direction perpendicular to the axis of the papilla</a:t>
            </a:r>
            <a:endParaRPr b="1" lang="en-US" sz="2400" spc="-1" strike="noStrike">
              <a:solidFill>
                <a:srgbClr val="ffffff"/>
              </a:solidFill>
              <a:latin typeface="Arial"/>
            </a:endParaRPr>
          </a:p>
        </p:txBody>
      </p:sp>
      <p:sp>
        <p:nvSpPr>
          <p:cNvPr id="55" name=""/>
          <p:cNvSpPr/>
          <p:nvPr/>
        </p:nvSpPr>
        <p:spPr>
          <a:xfrm>
            <a:off x="5594400" y="6324480"/>
            <a:ext cx="3404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ddocks, I.J., and Jackson, N. (1988)</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dividual Follicle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ithin sheep: positive correlations between fibre diameter and follicle dimension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ween sheep: positive correlations between fibre length and follicle dimension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llicle dimensions only have a small and inconsistent influence on fibre size between sheep</a:t>
            </a:r>
            <a:endParaRPr b="1" lang="en-US" sz="2000" spc="-1" strike="noStrike">
              <a:solidFill>
                <a:srgbClr val="ffffff"/>
              </a:solidFill>
              <a:latin typeface="Arial"/>
            </a:endParaRPr>
          </a:p>
        </p:txBody>
      </p:sp>
      <p:sp>
        <p:nvSpPr>
          <p:cNvPr id="58"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03:45:26Z</dcterms:created>
  <dc:creator>USER</dc:creator>
  <dc:description/>
  <dc:language>en-US</dc:language>
  <cp:lastModifiedBy>Hdaily</cp:lastModifiedBy>
  <cp:lastPrinted>2000-02-18T03:56:05Z</cp:lastPrinted>
  <dcterms:modified xsi:type="dcterms:W3CDTF">2000-05-24T23:48:03Z</dcterms:modified>
  <cp:revision>2</cp:revision>
  <dc:subject/>
  <dc:title>Follicle Size</dc:title>
</cp:coreProperties>
</file>