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F3F4-6928-47FC-A3B8-BF9F2EEDA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the basic processes that occur to produce a fibre from within the follicle.  A diagram is used to illustrate the processes</a:t>
            </a:r>
            <a:r>
              <a:rPr b="0" lang="en-GB" sz="1200" spc="-1" strike="noStrike">
                <a:solidFill>
                  <a:srgbClr val="ff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0EFA-DEE9-4C73-A83A-E5CD64EF9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fibre is formed when cells in the base of the follicle (bulb) undergo mitosis.  Cells in the dermal papilla rarely divide and dermal papilla cells do not contribute to the cells that form the fibre.  The bulb cells that have divided then differentiate into cells that will form either fibre cells or inner root sheath (IRS) cells.  The cells then migrate into either the central region of the follicle if they are going to become fibre cells or into the IRS region of the follicles.  The fibre cells then begin to harden in a process called keratinisation in which keratin is formed in the cytoplasm of the cells.  The nucleus of the cell degrades and the cell dies and completely hardens to form a fibre cell.  The formed fibre cells are pushed up the follicle by the newly dividing cells in the bulb.  When the fibre reaches the upper part of the follicle the fibre separates from the IRS (which dies and is sloughed off, out of the follicle) and is pushed out of the follicle to form a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ommended reference: Chapman, R.E. and Ward, K.A. (1979). In: Physiological and Environmental Limitations to Wool Growth. Eds: Black, J.L. and Reis, P.J. UNE Publishing Unit, Armidale, NSW, Austral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hapman, R.E. and Ward, K.A.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different regions where each process of the fibre production occu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ral Follicle Fun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9956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does the follicle produce a fibr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 divis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the bulb</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 differentiation into fibre or I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the bulb and at the apex of the dermal papilla</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 migration in the fibre and I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roughout the follicl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eratinisation of the fib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the keratogenous zon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paration between the fibre and the I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the zone of sloughing</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600200" y="304920"/>
            <a:ext cx="6934320" cy="5947560"/>
            <a:chOff x="1600200" y="304920"/>
            <a:chExt cx="6934320" cy="5947560"/>
          </a:xfrm>
        </p:grpSpPr>
        <p:sp>
          <p:nvSpPr>
            <p:cNvPr id="53" name=""/>
            <p:cNvSpPr/>
            <p:nvPr/>
          </p:nvSpPr>
          <p:spPr>
            <a:xfrm>
              <a:off x="1600200" y="304920"/>
              <a:ext cx="6934320" cy="594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752840" y="327240"/>
              <a:ext cx="6073200" cy="5925240"/>
              <a:chOff x="1752840" y="327240"/>
              <a:chExt cx="6073200" cy="5925240"/>
            </a:xfrm>
          </p:grpSpPr>
          <p:pic>
            <p:nvPicPr>
              <p:cNvPr id="55" name="" descr=""/>
              <p:cNvPicPr/>
              <p:nvPr/>
            </p:nvPicPr>
            <p:blipFill>
              <a:blip r:embed="rId1">
                <a:lum contrast="54000"/>
              </a:blip>
              <a:srcRect l="0" t="0" r="0" b="2827"/>
              <a:stretch/>
            </p:blipFill>
            <p:spPr>
              <a:xfrm>
                <a:off x="3402360" y="327240"/>
                <a:ext cx="3710520" cy="5868720"/>
              </a:xfrm>
              <a:prstGeom prst="rect">
                <a:avLst/>
              </a:prstGeom>
              <a:ln w="0">
                <a:noFill/>
              </a:ln>
            </p:spPr>
          </p:pic>
          <p:sp>
            <p:nvSpPr>
              <p:cNvPr id="56" name=""/>
              <p:cNvSpPr/>
              <p:nvPr/>
            </p:nvSpPr>
            <p:spPr>
              <a:xfrm>
                <a:off x="4200120" y="5991120"/>
                <a:ext cx="1015200" cy="136440"/>
              </a:xfrm>
              <a:prstGeom prst="rect">
                <a:avLst/>
              </a:prstGeom>
              <a:solidFill>
                <a:srgbClr val="fffc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257280" y="4080600"/>
                <a:ext cx="942840" cy="40932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74720" y="3329640"/>
                <a:ext cx="1087560" cy="40932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257280" y="5581800"/>
                <a:ext cx="65268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158160" y="5035680"/>
                <a:ext cx="65268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58160" y="4353120"/>
                <a:ext cx="65268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158160" y="2579040"/>
                <a:ext cx="87012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085800" y="1282320"/>
                <a:ext cx="94284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20160" y="2920320"/>
                <a:ext cx="123264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764880" y="2306160"/>
                <a:ext cx="1305360" cy="54612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82680" y="941400"/>
                <a:ext cx="1232640" cy="10918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82680" y="531720"/>
                <a:ext cx="1232640" cy="20448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752840" y="5427000"/>
                <a:ext cx="2248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Differentiatio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Division</a:t>
                </a:r>
                <a:endParaRPr b="0" lang="en-US" sz="2400" spc="-1" strike="noStrike">
                  <a:solidFill>
                    <a:srgbClr val="000000"/>
                  </a:solidFill>
                  <a:latin typeface="Times New Roman"/>
                </a:endParaRPr>
              </a:p>
            </p:txBody>
          </p:sp>
          <p:sp>
            <p:nvSpPr>
              <p:cNvPr id="69" name=""/>
              <p:cNvSpPr/>
              <p:nvPr/>
            </p:nvSpPr>
            <p:spPr>
              <a:xfrm>
                <a:off x="2007720" y="4265280"/>
                <a:ext cx="20473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Keratogenous</a:t>
                </a:r>
                <a:endParaRPr b="0" lang="en-US" sz="24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zone</a:t>
                </a:r>
                <a:endParaRPr b="0" lang="en-US" sz="2400" spc="-1" strike="noStrike">
                  <a:solidFill>
                    <a:srgbClr val="000000"/>
                  </a:solidFill>
                  <a:latin typeface="Times New Roman"/>
                </a:endParaRPr>
              </a:p>
            </p:txBody>
          </p:sp>
          <p:sp>
            <p:nvSpPr>
              <p:cNvPr id="70" name=""/>
              <p:cNvSpPr/>
              <p:nvPr/>
            </p:nvSpPr>
            <p:spPr>
              <a:xfrm>
                <a:off x="3158280" y="3038040"/>
                <a:ext cx="147276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Zone of</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hardening</a:t>
                </a:r>
                <a:endParaRPr b="0" lang="en-US" sz="2400" spc="-1" strike="noStrike">
                  <a:solidFill>
                    <a:srgbClr val="000000"/>
                  </a:solidFill>
                  <a:latin typeface="Times New Roman"/>
                </a:endParaRPr>
              </a:p>
            </p:txBody>
          </p:sp>
          <p:sp>
            <p:nvSpPr>
              <p:cNvPr id="71" name=""/>
              <p:cNvSpPr/>
              <p:nvPr/>
            </p:nvSpPr>
            <p:spPr>
              <a:xfrm>
                <a:off x="3634920" y="1468800"/>
                <a:ext cx="145620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Zone of</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sloughing</a:t>
                </a:r>
                <a:endParaRPr b="0" lang="en-US" sz="2400" spc="-1" strike="noStrike">
                  <a:solidFill>
                    <a:srgbClr val="000000"/>
                  </a:solidFill>
                  <a:latin typeface="Times New Roman"/>
                </a:endParaRPr>
              </a:p>
            </p:txBody>
          </p:sp>
          <p:sp>
            <p:nvSpPr>
              <p:cNvPr id="72" name=""/>
              <p:cNvSpPr/>
              <p:nvPr/>
            </p:nvSpPr>
            <p:spPr>
              <a:xfrm>
                <a:off x="2967120" y="2988360"/>
                <a:ext cx="485892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94760" y="3875760"/>
                <a:ext cx="485928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749680" y="5308920"/>
                <a:ext cx="485892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 name=""/>
          <p:cNvSpPr/>
          <p:nvPr/>
        </p:nvSpPr>
        <p:spPr>
          <a:xfrm>
            <a:off x="5671080" y="6324480"/>
            <a:ext cx="3402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Source: </a:t>
            </a:r>
            <a:r>
              <a:rPr b="0" lang="en-AU" sz="1200" spc="-1" strike="noStrike">
                <a:solidFill>
                  <a:srgbClr val="fafd00"/>
                </a:solidFill>
                <a:latin typeface="Arial"/>
              </a:rPr>
              <a:t>Chapman, R.E. and Ward, K.A.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7T02:21:21Z</dcterms:created>
  <dc:creator>USER</dc:creator>
  <dc:description/>
  <dc:language>en-US</dc:language>
  <cp:lastModifiedBy>Hdaily</cp:lastModifiedBy>
  <cp:lastPrinted>2000-02-03T09:09:47Z</cp:lastPrinted>
  <dcterms:modified xsi:type="dcterms:W3CDTF">2000-05-30T00:25:46Z</dcterms:modified>
  <cp:revision>2</cp:revision>
  <dc:subject/>
  <dc:title>General Follicle Function</dc:title>
</cp:coreProperties>
</file>