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FADE-D8FC-4122-843A-E8A3F1724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7D0B3-7C5F-404D-A6F3-B2CA2C5FD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1"/>
          <p:cNvSpPr>
            <a:spLocks noGrp="1"/>
          </p:cNvSpPr>
          <p:nvPr>
            <p:ph type="sldImg"/>
          </p:nvPr>
        </p:nvSpPr>
        <p:spPr>
          <a:xfrm>
            <a:off x="1562040" y="533520"/>
            <a:ext cx="3657600" cy="2743200"/>
          </a:xfrm>
          <a:prstGeom prst="rect">
            <a:avLst/>
          </a:prstGeom>
          <a:ln w="0">
            <a:noFill/>
          </a:ln>
        </p:spPr>
      </p:sp>
      <p:sp>
        <p:nvSpPr>
          <p:cNvPr id="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is the major environmental factor influencing the realisation of genetic potential for wool production.  Wool growth rate is constrained by feed intake and the supply of protein, energy, vitamins and minerals provided by the di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effect of vitamin A and D on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562040" y="533520"/>
            <a:ext cx="3657600" cy="2743200"/>
          </a:xfrm>
          <a:prstGeom prst="rect">
            <a:avLst/>
          </a:prstGeom>
          <a:ln w="0">
            <a:noFill/>
          </a:ln>
        </p:spPr>
      </p:sp>
      <p:sp>
        <p:nvSpPr>
          <p:cNvPr id="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nd, P.I. (2000). The nutritional biochemistry of wool and hair follicles. </a:t>
            </a:r>
            <a:r>
              <a:rPr b="0" i="1" lang="en-GB" sz="1200" spc="-1" strike="noStrike">
                <a:solidFill>
                  <a:srgbClr val="000000"/>
                </a:solidFill>
                <a:latin typeface="Times New Roman"/>
              </a:rPr>
              <a:t>J. Anim. Sc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S = outer root shea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Prof Phil Hynd, The University of Adelaid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tamin A appears to influence fibre growth by altering keratin gene expression and by altering the production of insulin-like growth factors (IGF), epidermal growth factor and vitamin D activ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itamins and Wool Growth</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itamin D </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adiolabelled Vitamin D3 accumulates in ORS and bulb</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3 receptors found in papilla and O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3 receptor no. varies through hair cyc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opecia occurs in patients with type II ricke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 defect in the D3 receptor</a:t>
            </a:r>
            <a:endParaRPr b="1"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3 alters fibre growth in cultu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levels stimulated growth and high levels depressed growth</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itamin A</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aried responses to vitamin A supplementation in shee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tinoids have direct effects on keratinocyte growth and differenti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tinoic acid receptors present in bulb, ORS and keratinising zon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itamin A alters production of IGF binding protei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3:59:32Z</dcterms:created>
  <dc:creator>USER</dc:creator>
  <dc:description/>
  <dc:language>en-US</dc:language>
  <cp:lastModifiedBy>Hdaily</cp:lastModifiedBy>
  <cp:lastPrinted>2000-02-03T09:09:47Z</cp:lastPrinted>
  <dcterms:modified xsi:type="dcterms:W3CDTF">2000-06-09T06:35:21Z</dcterms:modified>
  <cp:revision>2</cp:revision>
  <dc:subject/>
  <dc:title>No Slide Title</dc:title>
</cp:coreProperties>
</file>