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49E2-32B3-4B91-8A01-130E5E71C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7A77-8F05-4D81-A47D-E0C7EB9A9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diseases affect protein composition of human hair, and this situation is compared and contrasted with the effect on fibre composition and wool growth of sulfur deficiency in the diet of shee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A05C-B854-4B67-A279-EAA92FF63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Kevin Ley, CSIRO Textile &amp; Fibre Technolog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urce:. Gillespie, J. M. and Marshall, R. C. (1983) J. Investigative Dermatology, </a:t>
            </a:r>
            <a:r>
              <a:rPr b="1" lang="en-AU" sz="1000" spc="-1" strike="noStrike">
                <a:solidFill>
                  <a:srgbClr val="000000"/>
                </a:solidFill>
                <a:latin typeface="Times New Roman"/>
              </a:rPr>
              <a:t>80</a:t>
            </a:r>
            <a:r>
              <a:rPr b="0" lang="en-AU" sz="1000" spc="-1" strike="noStrike">
                <a:solidFill>
                  <a:srgbClr val="000000"/>
                </a:solidFill>
                <a:latin typeface="Times New Roman"/>
              </a:rPr>
              <a:t>, 195.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se fluorographs were obtained with the acid urea-PAGE/SDS-PAGE two-dimensional gel system.  The upper two panels compare high-sulfur protein fractions isolated from S-carboxymethyl protein extracts of normal hair and trichothiodystrophic hair produced by a metabolic defect.  The lower two panels compare high-sulfur protein fractions isolated from S-carboxymethyl protein extracts of hair grown during kwashiorkor (a state of dietary protein deficiency), and the hair grown after treatment for and recovery from the kwashiorkor stat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mino acid analysis shows that the high-sulfur protein fraction corresponding to the kwashiorkor state has a much lower content of half-cystine than normal, and the fluorographs here show that, for the kwashiorkor state compared to the recovery state, the high-sulfur protein fraction corresponding to the kwashiorkor contains less of the ultra-high-sulfur protein wedge; furthermore, this fraction apparently contains a significant amount of low molecular weight protein seen here at the bottom of the gel patter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mino acid analysis shows that the trichothiodystrophic hair used here has a half-cystine content of less than half of normal.  Furthermore, two-dimensional gel electrophoretic data have been obtained with the high-sulfur protein fraction as a whole (as presented here in the fluorograph), and have also been obtained with sub-fractions of the high-sulfur fraction separated by chromatography on Sepharose G-200.  It was found that, in the case of trichothiodystrophy, there occur changes in the nature of the high-sulfur proteins, and that these changes are due to 1) the loss of the ultra-high-sulfur proteins, 2) the loss of at least 8 normal high-sulfur protein components, 3) the acquisition of at least 22 high-sulfur proteins of lower than normal cystine content that are undetectable in normal hair, and 4) the acquisition of a significant amount of abnormal ill-defined low molecular weight protei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vent 1), the loss of the ultra-high-sulfur proteins, is an effect common to sulfur deprivation in sheep and protein deficiency in humans, and supports the hypothesis that trichothiodystrophic hair is grown under conditions of sulfur deficiency.  But the subject was on an adequate diet, and so this deficiency must be a metabolically induced sulfur deficiency at the follicle.  However this may not be the cause of events 2)-4), because sulfur deficiency in the sheep, carried to the stage where wool growth almost ceases, does not cause the loss of normal proteins, apart from the loss of the ultra-high-sulfur proteins, nor does it cause the appearance of new proteins.  It is believed that events 2)-4), i.e. the loss of normal high-sulfur proteins and the acquisition of many “new” proteins, are not the result of sulfur deficiency but stem from the effects of a different regulatory mechanism.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ease and Protein Composition of Mammalian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S Protein Fraction</a:t>
            </a:r>
            <a:endParaRPr b="1" lang="en-US" sz="3200" spc="-1" strike="noStrike">
              <a:solidFill>
                <a:srgbClr val="fafd00"/>
              </a:solidFill>
              <a:latin typeface="Arial"/>
            </a:endParaRPr>
          </a:p>
        </p:txBody>
      </p:sp>
      <p:grpSp>
        <p:nvGrpSpPr>
          <p:cNvPr id="50" name=""/>
          <p:cNvGrpSpPr/>
          <p:nvPr/>
        </p:nvGrpSpPr>
        <p:grpSpPr>
          <a:xfrm>
            <a:off x="1064520" y="838080"/>
            <a:ext cx="8158320" cy="5334120"/>
            <a:chOff x="1064520" y="838080"/>
            <a:chExt cx="8158320" cy="5334120"/>
          </a:xfrm>
        </p:grpSpPr>
        <p:pic>
          <p:nvPicPr>
            <p:cNvPr id="51" name="" descr=""/>
            <p:cNvPicPr/>
            <p:nvPr/>
          </p:nvPicPr>
          <p:blipFill>
            <a:blip r:embed="rId1">
              <a:lum contrast="12000"/>
            </a:blip>
            <a:stretch/>
          </p:blipFill>
          <p:spPr>
            <a:xfrm>
              <a:off x="2514600" y="838080"/>
              <a:ext cx="5105520" cy="5334120"/>
            </a:xfrm>
            <a:prstGeom prst="rect">
              <a:avLst/>
            </a:prstGeom>
            <a:ln w="0">
              <a:noFill/>
            </a:ln>
          </p:spPr>
        </p:pic>
        <p:sp>
          <p:nvSpPr>
            <p:cNvPr id="52" name=""/>
            <p:cNvSpPr/>
            <p:nvPr/>
          </p:nvSpPr>
          <p:spPr>
            <a:xfrm>
              <a:off x="1294560" y="2133720"/>
              <a:ext cx="1057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Normal</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a:t>
              </a:r>
              <a:endParaRPr b="0" lang="en-US" sz="2000" spc="-1" strike="noStrike">
                <a:solidFill>
                  <a:srgbClr val="000000"/>
                </a:solidFill>
                <a:latin typeface="Times New Roman"/>
              </a:endParaRPr>
            </a:p>
          </p:txBody>
        </p:sp>
        <p:sp>
          <p:nvSpPr>
            <p:cNvPr id="53" name=""/>
            <p:cNvSpPr/>
            <p:nvPr/>
          </p:nvSpPr>
          <p:spPr>
            <a:xfrm>
              <a:off x="7662960" y="1981080"/>
              <a:ext cx="14828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trichothio-</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dystrophic</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a:t>
              </a:r>
              <a:endParaRPr b="0" lang="en-US" sz="2000" spc="-1" strike="noStrike">
                <a:solidFill>
                  <a:srgbClr val="000000"/>
                </a:solidFill>
                <a:latin typeface="Times New Roman"/>
              </a:endParaRPr>
            </a:p>
          </p:txBody>
        </p:sp>
        <p:sp>
          <p:nvSpPr>
            <p:cNvPr id="54" name=""/>
            <p:cNvSpPr/>
            <p:nvPr/>
          </p:nvSpPr>
          <p:spPr>
            <a:xfrm>
              <a:off x="1064520" y="4191120"/>
              <a:ext cx="1681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 during</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kwashiorkor</a:t>
              </a:r>
              <a:endParaRPr b="0" lang="en-US" sz="2000" spc="-1" strike="noStrike">
                <a:solidFill>
                  <a:srgbClr val="000000"/>
                </a:solidFill>
                <a:latin typeface="Times New Roman"/>
              </a:endParaRPr>
            </a:p>
          </p:txBody>
        </p:sp>
        <p:sp>
          <p:nvSpPr>
            <p:cNvPr id="55" name=""/>
            <p:cNvSpPr/>
            <p:nvPr/>
          </p:nvSpPr>
          <p:spPr>
            <a:xfrm>
              <a:off x="7541640" y="4254480"/>
              <a:ext cx="1681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Hair afte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kwashiorkor</a:t>
              </a:r>
              <a:endParaRPr b="0" lang="en-US" sz="2000" spc="-1" strike="noStrike">
                <a:solidFill>
                  <a:srgbClr val="000000"/>
                </a:solidFill>
                <a:latin typeface="Times New Roman"/>
              </a:endParaRPr>
            </a:p>
          </p:txBody>
        </p:sp>
      </p:grpSp>
      <p:sp>
        <p:nvSpPr>
          <p:cNvPr id="56" name=""/>
          <p:cNvSpPr/>
          <p:nvPr/>
        </p:nvSpPr>
        <p:spPr>
          <a:xfrm>
            <a:off x="5480640" y="6324480"/>
            <a:ext cx="358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Gillespie, J. M. and Marshall, R. C. (1983)</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24:00Z</dcterms:created>
  <dc:creator>USER</dc:creator>
  <dc:description/>
  <dc:language>en-US</dc:language>
  <cp:lastModifiedBy>Hdaily</cp:lastModifiedBy>
  <cp:lastPrinted>2000-02-15T05:43:09Z</cp:lastPrinted>
  <dcterms:modified xsi:type="dcterms:W3CDTF">2000-05-19T05:14:50Z</dcterms:modified>
  <cp:revision>3</cp:revision>
  <dc:subject/>
  <dc:title>Disease and Protein Composition of Mammalian Fibres</dc:title>
</cp:coreProperties>
</file>