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676160" y="533520"/>
            <a:ext cx="34290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82EC-D35C-4648-8AD8-0170C0BF2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module describes the accessory structures that are present within the dermis.  Particular attention is given to the blood vessels and the ner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roduced for the CRC for Premium Quality Wool undergraduate program by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r. Janelle Hocking Edwards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, The University of Western Austr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609E-FD8A-4069-ACF2-9511823B4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r. Janelle Hocking Edwards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, The University of Western Austr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dapted from: Maddocks, I.J., and Jackson, N. 1988.  Structural studies of sheep, cattle and goat skin.  CSIRO Division of Animal Production, PO Box 239 Blacktown, NSW 2148 Austr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ood vessels in the dermis come from the cutaneous branches of the subcutaneous  musculocutaneous art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anches arising from the cutaneous arteries give rise to small vessels which lie deep in the dermis near and parallel to the interface with the subcutaneous 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ther branches ascend towards the skin surface as small muscular perforating arteries which become arteriolar.  Mid dermal branches are sent to other ascending arterio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llicles are supplied from the mid-dermal and dermal networks with some variation between br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r. Janelle Hocking Edwards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, The University of Western Austr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is is a photomicrograph of Merino skin that has been infused with a rubber compound (Microfil</a:t>
            </a:r>
            <a:r>
              <a:rPr b="0" lang="en-AU" sz="1200" spc="-1" strike="noStrike" baseline="30000">
                <a:solidFill>
                  <a:srgbClr val="000000"/>
                </a:solidFill>
                <a:latin typeface="Times New Roman"/>
              </a:rPr>
              <a:t>®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). The compound fills the blood vessels making them visible under a light microscope.  Note the predominantly vertical distribution of blood vessels; few of the blood vessels can be seen travelling horizontally through the sk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F706-B39B-4214-9EEC-0351014EB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r. Janelle Hocking Edwards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, The University of Western Austr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re are two types of nerves within the skin:- sensory and mo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ensory nerves have free nerve endings and are associated with pain and it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y are present at the junction between the dermis and epidermis and also around the foll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otor nerves are involved in making things move, for example blood vessel constriction, causing hairs to stand on end and secretion of sw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B652-3921-4830-A52A-6F1534020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r. Janelle Hocking Edwards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, The University of Western Austr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Oldland, G.F. (1991). In: Goldsmith, L.A. Physiology, Biochemistry and Molecular Biology of the Skin.  Oxford University Press, New York.  Vol 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is diagram shows the nerves encircling the follicle, at the dermal-epidermal junction, along th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rector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pili and sweat gla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23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092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95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23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092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9246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20760" y="658332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ww.woolwi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idebar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Dermal Accessory Structure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51055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Produced for the CRC for Premium Quality Wool undergraduate program 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r. Janelle Hocking Edwards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, The University of Western Austral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952880" y="6327720"/>
            <a:ext cx="41911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Janelle Hocking Ed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Source: adapted from Maddocks and Jackson (198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Vasculature of the skin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067400" y="1295280"/>
            <a:ext cx="8088480" cy="3807360"/>
            <a:chOff x="1067400" y="1295280"/>
            <a:chExt cx="8088480" cy="3807360"/>
          </a:xfrm>
        </p:grpSpPr>
        <p:grpSp>
          <p:nvGrpSpPr>
            <p:cNvPr id="52" name=""/>
            <p:cNvGrpSpPr/>
            <p:nvPr/>
          </p:nvGrpSpPr>
          <p:grpSpPr>
            <a:xfrm>
              <a:off x="2681640" y="2020680"/>
              <a:ext cx="3262320" cy="2611440"/>
              <a:chOff x="2681640" y="2020680"/>
              <a:chExt cx="3262320" cy="261144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2723400" y="4176720"/>
                <a:ext cx="3192120" cy="341280"/>
                <a:chOff x="2723400" y="4176720"/>
                <a:chExt cx="3192120" cy="341280"/>
              </a:xfrm>
            </p:grpSpPr>
            <p:sp>
              <p:nvSpPr>
                <p:cNvPr id="54" name=""/>
                <p:cNvSpPr/>
                <p:nvPr/>
              </p:nvSpPr>
              <p:spPr>
                <a:xfrm flipH="1">
                  <a:off x="2723400" y="4518000"/>
                  <a:ext cx="3192120" cy="0"/>
                </a:xfrm>
                <a:prstGeom prst="line">
                  <a:avLst/>
                </a:prstGeom>
                <a:ln w="25560">
                  <a:solidFill>
                    <a:srgbClr val="ff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 flipH="1">
                  <a:off x="2723400" y="4176720"/>
                  <a:ext cx="3192120" cy="0"/>
                </a:xfrm>
                <a:prstGeom prst="line">
                  <a:avLst/>
                </a:prstGeom>
                <a:ln w="25560">
                  <a:solidFill>
                    <a:srgbClr val="ff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>
                  <a:off x="2723760" y="4308480"/>
                  <a:ext cx="3178080" cy="0"/>
                </a:xfrm>
                <a:prstGeom prst="line">
                  <a:avLst/>
                </a:prstGeom>
                <a:ln w="12600">
                  <a:solidFill>
                    <a:srgbClr val="ff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H="1">
                  <a:off x="2723760" y="4246560"/>
                  <a:ext cx="3178080" cy="0"/>
                </a:xfrm>
                <a:prstGeom prst="line">
                  <a:avLst/>
                </a:prstGeom>
                <a:ln w="12600">
                  <a:solidFill>
                    <a:srgbClr val="ff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flipH="1">
                  <a:off x="2723760" y="4384440"/>
                  <a:ext cx="3178080" cy="0"/>
                </a:xfrm>
                <a:prstGeom prst="line">
                  <a:avLst/>
                </a:prstGeom>
                <a:ln w="12600">
                  <a:solidFill>
                    <a:srgbClr val="ff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H="1">
                  <a:off x="2723760" y="4448160"/>
                  <a:ext cx="3178080" cy="0"/>
                </a:xfrm>
                <a:prstGeom prst="line">
                  <a:avLst/>
                </a:prstGeom>
                <a:ln w="12600">
                  <a:solidFill>
                    <a:srgbClr val="ff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" name=""/>
              <p:cNvSpPr/>
              <p:nvPr/>
            </p:nvSpPr>
            <p:spPr>
              <a:xfrm>
                <a:off x="2752200" y="2474640"/>
                <a:ext cx="3163320" cy="1000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" name=""/>
              <p:cNvGrpSpPr/>
              <p:nvPr/>
            </p:nvGrpSpPr>
            <p:grpSpPr>
              <a:xfrm>
                <a:off x="2681640" y="2651040"/>
                <a:ext cx="3191760" cy="1930320"/>
                <a:chOff x="2681640" y="2651040"/>
                <a:chExt cx="3191760" cy="1930320"/>
              </a:xfrm>
            </p:grpSpPr>
            <p:sp>
              <p:nvSpPr>
                <p:cNvPr id="62" name=""/>
                <p:cNvSpPr/>
                <p:nvPr/>
              </p:nvSpPr>
              <p:spPr>
                <a:xfrm flipH="1">
                  <a:off x="2681640" y="2651040"/>
                  <a:ext cx="3191760" cy="0"/>
                </a:xfrm>
                <a:prstGeom prst="line">
                  <a:avLst/>
                </a:prstGeom>
                <a:ln w="25560">
                  <a:solidFill>
                    <a:srgbClr val="66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flipH="1">
                  <a:off x="2681640" y="4012920"/>
                  <a:ext cx="3191760" cy="0"/>
                </a:xfrm>
                <a:prstGeom prst="line">
                  <a:avLst/>
                </a:prstGeom>
                <a:ln w="25560">
                  <a:solidFill>
                    <a:srgbClr val="66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flipH="1">
                  <a:off x="2681640" y="3105000"/>
                  <a:ext cx="3191760" cy="0"/>
                </a:xfrm>
                <a:prstGeom prst="line">
                  <a:avLst/>
                </a:prstGeom>
                <a:ln w="25560">
                  <a:solidFill>
                    <a:srgbClr val="66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flipH="1">
                  <a:off x="3457440" y="3105000"/>
                  <a:ext cx="381960" cy="895320"/>
                </a:xfrm>
                <a:prstGeom prst="line">
                  <a:avLst/>
                </a:prstGeom>
                <a:ln w="25560">
                  <a:solidFill>
                    <a:srgbClr val="66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H="1">
                  <a:off x="4969440" y="2651040"/>
                  <a:ext cx="282600" cy="453960"/>
                </a:xfrm>
                <a:prstGeom prst="line">
                  <a:avLst/>
                </a:prstGeom>
                <a:ln w="25560">
                  <a:solidFill>
                    <a:srgbClr val="66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2694960" y="4012920"/>
                  <a:ext cx="2417040" cy="568440"/>
                </a:xfrm>
                <a:custGeom>
                  <a:avLst/>
                  <a:gdLst/>
                  <a:ahLst/>
                  <a:rect l="l" t="t" r="r" b="b"/>
                  <a:pathLst>
                    <a:path w="1600" h="358">
                      <a:moveTo>
                        <a:pt x="1599" y="0"/>
                      </a:moveTo>
                      <a:lnTo>
                        <a:pt x="589" y="357"/>
                      </a:lnTo>
                      <a:lnTo>
                        <a:pt x="0" y="357"/>
                      </a:lnTo>
                    </a:path>
                  </a:pathLst>
                </a:custGeom>
                <a:noFill/>
                <a:ln cap="rnd" w="25560">
                  <a:solidFill>
                    <a:srgbClr val="66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2751840" y="2701800"/>
                <a:ext cx="3192120" cy="1930320"/>
                <a:chOff x="2751840" y="2701800"/>
                <a:chExt cx="3192120" cy="1930320"/>
              </a:xfrm>
            </p:grpSpPr>
            <p:sp>
              <p:nvSpPr>
                <p:cNvPr id="69" name=""/>
                <p:cNvSpPr/>
                <p:nvPr/>
              </p:nvSpPr>
              <p:spPr>
                <a:xfrm flipH="1">
                  <a:off x="2751840" y="2701800"/>
                  <a:ext cx="31921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flipH="1">
                  <a:off x="2751840" y="4064040"/>
                  <a:ext cx="31921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flipH="1">
                  <a:off x="2751840" y="3155760"/>
                  <a:ext cx="31921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 flipH="1">
                  <a:off x="3528360" y="3155760"/>
                  <a:ext cx="381960" cy="8953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 flipH="1">
                  <a:off x="5040720" y="2701800"/>
                  <a:ext cx="282240" cy="45396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765880" y="4064040"/>
                  <a:ext cx="2416680" cy="568080"/>
                </a:xfrm>
                <a:custGeom>
                  <a:avLst/>
                  <a:gdLst/>
                  <a:ahLst/>
                  <a:rect l="l" t="t" r="r" b="b"/>
                  <a:pathLst>
                    <a:path w="1600" h="358">
                      <a:moveTo>
                        <a:pt x="1599" y="0"/>
                      </a:moveTo>
                      <a:lnTo>
                        <a:pt x="589" y="357"/>
                      </a:lnTo>
                      <a:lnTo>
                        <a:pt x="0" y="35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" name=""/>
              <p:cNvSpPr/>
              <p:nvPr/>
            </p:nvSpPr>
            <p:spPr>
              <a:xfrm flipH="1">
                <a:off x="2765880" y="2020680"/>
                <a:ext cx="762840" cy="1803600"/>
              </a:xfrm>
              <a:prstGeom prst="line">
                <a:avLst/>
              </a:prstGeom>
              <a:ln w="507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3330720" y="2020680"/>
                <a:ext cx="762840" cy="1803600"/>
              </a:xfrm>
              <a:prstGeom prst="line">
                <a:avLst/>
              </a:prstGeom>
              <a:ln w="507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3910680" y="2020680"/>
                <a:ext cx="761400" cy="1803600"/>
              </a:xfrm>
              <a:prstGeom prst="line">
                <a:avLst/>
              </a:prstGeom>
              <a:ln w="507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4475520" y="2020680"/>
                <a:ext cx="761400" cy="1803600"/>
              </a:xfrm>
              <a:prstGeom prst="line">
                <a:avLst/>
              </a:prstGeom>
              <a:ln w="507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5054040" y="2020680"/>
                <a:ext cx="762840" cy="1803600"/>
              </a:xfrm>
              <a:prstGeom prst="line">
                <a:avLst/>
              </a:prstGeom>
              <a:ln w="507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1156680" y="1542960"/>
              <a:ext cx="1655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ffffff"/>
                  </a:solidFill>
                  <a:latin typeface="Arial"/>
                </a:rPr>
                <a:t>Epiderm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380920" y="1295280"/>
              <a:ext cx="1095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ffffff"/>
                  </a:solidFill>
                  <a:latin typeface="Arial"/>
                </a:rPr>
                <a:t>Fib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60160" y="2266920"/>
              <a:ext cx="2840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ffffcc"/>
                  </a:solidFill>
                  <a:latin typeface="Arial"/>
                </a:rPr>
                <a:t>Sub-epidermal 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58440" y="2590560"/>
              <a:ext cx="2868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cc"/>
                  </a:solidFill>
                  <a:latin typeface="Arial"/>
                </a:rPr>
                <a:t>(capillaries &amp; venule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177960" y="3047760"/>
              <a:ext cx="2977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ffffcc"/>
                  </a:solidFill>
                  <a:latin typeface="Arial"/>
                </a:rPr>
                <a:t>Mid dermal vess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13920" y="3809880"/>
              <a:ext cx="2468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ffffcc"/>
                  </a:solidFill>
                  <a:latin typeface="Arial"/>
                </a:rPr>
                <a:t>Dermal 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03400" y="4647960"/>
              <a:ext cx="2889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ffffff"/>
                  </a:solidFill>
                  <a:latin typeface="Arial"/>
                </a:rPr>
                <a:t>Cutaneous musc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107400" y="4647960"/>
              <a:ext cx="2400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ffffcc"/>
                  </a:solidFill>
                  <a:latin typeface="Arial"/>
                </a:rPr>
                <a:t>Fascial vess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67400" y="3085920"/>
              <a:ext cx="1214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400" spc="-1" strike="noStrike">
                  <a:solidFill>
                    <a:srgbClr val="ffffff"/>
                  </a:solidFill>
                  <a:latin typeface="Arial"/>
                </a:rPr>
                <a:t>Derm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97840" y="1904760"/>
              <a:ext cx="362520" cy="457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5454000" y="2742840"/>
              <a:ext cx="652320" cy="152280"/>
            </a:xfrm>
            <a:prstGeom prst="line">
              <a:avLst/>
            </a:prstGeom>
            <a:ln w="5724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4438080" y="4419360"/>
              <a:ext cx="1595160" cy="457200"/>
            </a:xfrm>
            <a:prstGeom prst="line">
              <a:avLst/>
            </a:prstGeom>
            <a:ln w="5724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4728600" y="1600200"/>
              <a:ext cx="652320" cy="380880"/>
            </a:xfrm>
            <a:prstGeom prst="line">
              <a:avLst/>
            </a:prstGeom>
            <a:ln w="5724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81280" y="1600200"/>
              <a:ext cx="362160" cy="457200"/>
            </a:xfrm>
            <a:prstGeom prst="line">
              <a:avLst/>
            </a:prstGeom>
            <a:ln w="5724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033960" y="4038480"/>
              <a:ext cx="507600" cy="0"/>
            </a:xfrm>
            <a:prstGeom prst="line">
              <a:avLst/>
            </a:prstGeom>
            <a:ln w="5724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526000" y="3200040"/>
              <a:ext cx="652320" cy="152280"/>
            </a:xfrm>
            <a:prstGeom prst="line">
              <a:avLst/>
            </a:prstGeom>
            <a:ln w="5724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35320" y="2666880"/>
              <a:ext cx="72360" cy="1371600"/>
            </a:xfrm>
            <a:custGeom>
              <a:avLst/>
              <a:gdLst>
                <a:gd name="textAreaLeft" fmla="*/ 21240 w 72360"/>
                <a:gd name="textAreaRight" fmla="*/ 72720 w 72360"/>
                <a:gd name="textAreaTop" fmla="*/ 56880 h 1371600"/>
                <a:gd name="textAreaBottom" fmla="*/ 13147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17880" y="3352680"/>
              <a:ext cx="217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2117880" y="4343400"/>
              <a:ext cx="507600" cy="3045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Blood vessels in sheep skin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Blood vessels are mainly distributed vertically through the skin around and between follic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56080" y="1905120"/>
            <a:ext cx="8360640" cy="3593880"/>
            <a:chOff x="856080" y="1905120"/>
            <a:chExt cx="8360640" cy="3593880"/>
          </a:xfrm>
        </p:grpSpPr>
        <p:pic>
          <p:nvPicPr>
            <p:cNvPr id="102" name="" descr=""/>
            <p:cNvPicPr/>
            <p:nvPr/>
          </p:nvPicPr>
          <p:blipFill>
            <a:blip r:embed="rId1">
              <a:lum bright="12000"/>
            </a:blip>
            <a:stretch/>
          </p:blipFill>
          <p:spPr>
            <a:xfrm>
              <a:off x="2147760" y="1905120"/>
              <a:ext cx="546264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856080" y="1905120"/>
              <a:ext cx="1340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ff"/>
                  </a:solidFill>
                  <a:latin typeface="Arial"/>
                </a:rPr>
                <a:t>Extern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ff"/>
                  </a:solidFill>
                  <a:latin typeface="Arial"/>
                </a:rPr>
                <a:t>Wool Fib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865640" y="5105520"/>
              <a:ext cx="13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ff"/>
                  </a:solidFill>
                  <a:latin typeface="Arial"/>
                </a:rPr>
                <a:t>Hypoderm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914960" y="3200400"/>
              <a:ext cx="93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ff"/>
                  </a:solidFill>
                  <a:latin typeface="Arial"/>
                </a:rPr>
                <a:t>Blo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ff"/>
                  </a:solidFill>
                  <a:latin typeface="Arial"/>
                </a:rPr>
                <a:t>Vess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42840" y="2133720"/>
              <a:ext cx="76212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948360" y="5257800"/>
              <a:ext cx="9144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252920" y="3505320"/>
              <a:ext cx="6858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7251840" y="6583320"/>
            <a:ext cx="189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Janelle Hocking Ed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251840" y="6583320"/>
            <a:ext cx="189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Janelle Hocking Ed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Innervation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Sensory nerv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specialised recepto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at epidermal-dermal jun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around hai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Schwann cell-axonal uni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Motor nerv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follow blood vess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vasomotor contr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pilomotor  fun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sweat secre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19320" y="946080"/>
            <a:ext cx="7772400" cy="53024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Nerves of the skin                                                                                                                                                                                                              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24480" y="6400800"/>
            <a:ext cx="192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Janelle Hocking Edwards</a:t>
            </a:r>
            <a:br>
              <a:rPr sz="1200"/>
            </a:b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Source: Goldsmith (199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7T23:03:10Z</dcterms:created>
  <dc:creator>USER</dc:creator>
  <dc:description/>
  <dc:language>en-US</dc:language>
  <cp:lastModifiedBy>Hdaily</cp:lastModifiedBy>
  <cp:lastPrinted>2000-03-27T23:06:14Z</cp:lastPrinted>
  <dcterms:modified xsi:type="dcterms:W3CDTF">2000-05-19T01:33:55Z</dcterms:modified>
  <cp:revision>2</cp:revision>
  <dc:subject/>
  <dc:title>Dermal Accessory Structures</dc:title>
</cp:coreProperties>
</file>