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165D-4502-4D0D-AF0A-F9CD067620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FBEA-5883-44C0-850C-B22A6EA36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p:nvPr/>
        </p:nvSpPr>
        <p:spPr>
          <a:xfrm>
            <a:off x="388620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886200" y="8705880"/>
            <a:ext cx="2971800" cy="4255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400" spc="-1" strike="noStrike">
              <a:solidFill>
                <a:srgbClr val="000000"/>
              </a:solidFill>
              <a:latin typeface="Times New Roman"/>
            </a:endParaRPr>
          </a:p>
        </p:txBody>
      </p:sp>
      <p:sp>
        <p:nvSpPr>
          <p:cNvPr id="157" name=""/>
          <p:cNvSpPr/>
          <p:nvPr/>
        </p:nvSpPr>
        <p:spPr>
          <a:xfrm>
            <a:off x="0" y="870588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86200" y="792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8704440"/>
            <a:ext cx="2971800" cy="4251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400" spc="-1" strike="noStrike">
              <a:solidFill>
                <a:srgbClr val="000000"/>
              </a:solidFill>
              <a:latin typeface="Times New Roman"/>
            </a:endParaRPr>
          </a:p>
        </p:txBody>
      </p:sp>
      <p:sp>
        <p:nvSpPr>
          <p:cNvPr id="161" name=""/>
          <p:cNvSpPr/>
          <p:nvPr/>
        </p:nvSpPr>
        <p:spPr>
          <a:xfrm>
            <a:off x="0" y="8704440"/>
            <a:ext cx="2971800" cy="42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0" y="792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PlaceHolder 1"/>
          <p:cNvSpPr>
            <a:spLocks noGrp="1"/>
          </p:cNvSpPr>
          <p:nvPr>
            <p:ph type="sldImg"/>
          </p:nvPr>
        </p:nvSpPr>
        <p:spPr>
          <a:xfrm>
            <a:off x="1562040" y="533520"/>
            <a:ext cx="3657600" cy="2743200"/>
          </a:xfrm>
          <a:prstGeom prst="rect">
            <a:avLst/>
          </a:prstGeom>
          <a:ln w="0">
            <a:noFill/>
          </a:ln>
        </p:spPr>
      </p:sp>
      <p:sp>
        <p:nvSpPr>
          <p:cNvPr id="1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ynamics of the fibre growth cycle vary:</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speci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different body sites in the same species, and</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different follicle types in the same body site</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ocal (non-systemic) control of the follicle cycle is poorly understood.  However there are similarities between follicle initiation and the follicle cycle, so it is possible that similar mechanisms control both process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monstrates the interaction between local and systemic control agents on the follicle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562040" y="533520"/>
            <a:ext cx="3657600" cy="2743200"/>
          </a:xfrm>
          <a:prstGeom prst="rect">
            <a:avLst/>
          </a:prstGeom>
          <a:ln w="0">
            <a:noFill/>
          </a:ln>
        </p:spPr>
      </p:sp>
      <p:sp>
        <p:nvSpPr>
          <p:cNvPr id="1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interaction between local and systemic control of the follicle cycle in the rodent.  When a flap of skin from the mid flank of a rat is excised and rotated through 90-180</a:t>
            </a:r>
            <a:r>
              <a:rPr b="0" lang="en-AU" sz="1200" spc="-1" strike="noStrike" baseline="30000">
                <a:solidFill>
                  <a:srgbClr val="000000"/>
                </a:solidFill>
                <a:latin typeface="Times New Roman"/>
              </a:rPr>
              <a:t>o</a:t>
            </a:r>
            <a:r>
              <a:rPr b="0" lang="en-AU" sz="1200" spc="-1" strike="noStrike">
                <a:solidFill>
                  <a:srgbClr val="000000"/>
                </a:solidFill>
                <a:latin typeface="Times New Roman"/>
              </a:rPr>
              <a:t>, it will continue to shed its hair fibres in the original direction for some time.  Even grafts between animals of different ages retain the moult pattern of the donor animal.  This indicates that there is local factors controlling the follicle cycle.  However, in both cases the hair cycles eventually come into phase with the surrounding skin of the recipient animal indicating systemic control.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proposed that follicles have an intrinsic, rhythmic behaviour which is modulated by systemic facto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Graham Cam, CSIRO Animal Production.</a:t>
            </a:r>
            <a:endParaRPr b="0" lang="en-US" sz="1600" spc="-1" strike="noStrike">
              <a:solidFill>
                <a:srgbClr val="000000"/>
              </a:solidFill>
              <a:latin typeface="Times New Roman"/>
            </a:endParaRPr>
          </a:p>
        </p:txBody>
      </p:sp>
      <p:sp>
        <p:nvSpPr>
          <p:cNvPr id="52"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ocal Versus Systemic Control of the Follicle Cycle</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ystemic vs local control of the follicle cycle</a:t>
            </a:r>
            <a:endParaRPr b="1" lang="en-US" sz="3200" spc="-1" strike="noStrike">
              <a:solidFill>
                <a:srgbClr val="fafd00"/>
              </a:solidFill>
              <a:latin typeface="Arial"/>
            </a:endParaRPr>
          </a:p>
        </p:txBody>
      </p:sp>
      <p:grpSp>
        <p:nvGrpSpPr>
          <p:cNvPr id="54" name=""/>
          <p:cNvGrpSpPr/>
          <p:nvPr/>
        </p:nvGrpSpPr>
        <p:grpSpPr>
          <a:xfrm>
            <a:off x="1203480" y="1247760"/>
            <a:ext cx="1142640" cy="3428640"/>
            <a:chOff x="1203480" y="1247760"/>
            <a:chExt cx="1142640" cy="3428640"/>
          </a:xfrm>
        </p:grpSpPr>
        <p:grpSp>
          <p:nvGrpSpPr>
            <p:cNvPr id="55" name=""/>
            <p:cNvGrpSpPr/>
            <p:nvPr/>
          </p:nvGrpSpPr>
          <p:grpSpPr>
            <a:xfrm>
              <a:off x="1203480" y="1247760"/>
              <a:ext cx="1142640" cy="3428640"/>
              <a:chOff x="1203480" y="1247760"/>
              <a:chExt cx="1142640" cy="3428640"/>
            </a:xfrm>
          </p:grpSpPr>
          <p:sp>
            <p:nvSpPr>
              <p:cNvPr id="56" name=""/>
              <p:cNvSpPr/>
              <p:nvPr/>
            </p:nvSpPr>
            <p:spPr>
              <a:xfrm flipH="1">
                <a:off x="1546200" y="2910240"/>
                <a:ext cx="342720" cy="17661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03480" y="1767600"/>
                <a:ext cx="1142640" cy="16621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488960" y="1247760"/>
                <a:ext cx="571680" cy="7272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 name=""/>
            <p:cNvSpPr/>
            <p:nvPr/>
          </p:nvSpPr>
          <p:spPr>
            <a:xfrm rot="1369200">
              <a:off x="1507680" y="20098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rot="1369200">
              <a:off x="1736280" y="20098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1369200">
              <a:off x="1964880" y="20098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1369200">
              <a:off x="1507680" y="29242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rot="1369200">
              <a:off x="1888920" y="239076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rot="1369200">
              <a:off x="1279080" y="22384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1369200">
              <a:off x="1736280" y="300024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1369200">
              <a:off x="1964880" y="29242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369200">
              <a:off x="1355400" y="284796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rot="1369200">
              <a:off x="2117520" y="216216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508040" y="2238480"/>
              <a:ext cx="5335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rot="1369200">
              <a:off x="1507680" y="261936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69200">
              <a:off x="1736280" y="261936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369200">
              <a:off x="1888920" y="269568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1369200">
              <a:off x="1507680" y="22384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1369200">
              <a:off x="1812600" y="22384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rot="1369200">
              <a:off x="1660320" y="239076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rot="1369200">
              <a:off x="2117520" y="246708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369200">
              <a:off x="1355400" y="254304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 name=""/>
          <p:cNvGrpSpPr/>
          <p:nvPr/>
        </p:nvGrpSpPr>
        <p:grpSpPr>
          <a:xfrm>
            <a:off x="3352680" y="1219320"/>
            <a:ext cx="1142640" cy="3428640"/>
            <a:chOff x="3352680" y="1219320"/>
            <a:chExt cx="1142640" cy="3428640"/>
          </a:xfrm>
        </p:grpSpPr>
        <p:grpSp>
          <p:nvGrpSpPr>
            <p:cNvPr id="79" name=""/>
            <p:cNvGrpSpPr/>
            <p:nvPr/>
          </p:nvGrpSpPr>
          <p:grpSpPr>
            <a:xfrm>
              <a:off x="3352680" y="1219320"/>
              <a:ext cx="1142640" cy="3428640"/>
              <a:chOff x="3352680" y="1219320"/>
              <a:chExt cx="1142640" cy="3428640"/>
            </a:xfrm>
          </p:grpSpPr>
          <p:sp>
            <p:nvSpPr>
              <p:cNvPr id="80" name=""/>
              <p:cNvSpPr/>
              <p:nvPr/>
            </p:nvSpPr>
            <p:spPr>
              <a:xfrm flipH="1">
                <a:off x="3695400" y="2881800"/>
                <a:ext cx="342720" cy="17661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352680" y="1739160"/>
                <a:ext cx="1142640" cy="16621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638160" y="1219320"/>
                <a:ext cx="571680" cy="7272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 name=""/>
            <p:cNvSpPr/>
            <p:nvPr/>
          </p:nvSpPr>
          <p:spPr>
            <a:xfrm rot="1369200">
              <a:off x="3656880" y="19810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rot="1369200">
              <a:off x="3885480" y="19810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rot="1369200">
              <a:off x="4114080" y="19810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1369200">
              <a:off x="3656880" y="28954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1369200">
              <a:off x="3428280" y="22096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rot="1369200">
              <a:off x="3885480" y="297180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369200">
              <a:off x="4114080" y="28954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rot="1369200">
              <a:off x="3504600" y="281952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369200">
              <a:off x="4266720" y="213372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3657240" y="2203560"/>
              <a:ext cx="574920" cy="697320"/>
              <a:chOff x="3657240" y="2203560"/>
              <a:chExt cx="574920" cy="697320"/>
            </a:xfrm>
          </p:grpSpPr>
          <p:sp>
            <p:nvSpPr>
              <p:cNvPr id="93" name=""/>
              <p:cNvSpPr/>
              <p:nvPr/>
            </p:nvSpPr>
            <p:spPr>
              <a:xfrm rot="10800000">
                <a:off x="3657240" y="2209320"/>
                <a:ext cx="5335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rot="12169200">
                <a:off x="4114440" y="228492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12169200">
                <a:off x="3885840" y="228492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2169200">
                <a:off x="3733560" y="220896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2169200">
                <a:off x="4114440" y="266616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12169200">
                <a:off x="3809520" y="266616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rot="12169200">
                <a:off x="3962160" y="251352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 name=""/>
            <p:cNvSpPr/>
            <p:nvPr/>
          </p:nvSpPr>
          <p:spPr>
            <a:xfrm rot="1369200">
              <a:off x="4266720" y="243828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1369200">
              <a:off x="3504600" y="251460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5410080" y="1219320"/>
            <a:ext cx="1142640" cy="3428640"/>
            <a:chOff x="5410080" y="1219320"/>
            <a:chExt cx="1142640" cy="3428640"/>
          </a:xfrm>
        </p:grpSpPr>
        <p:grpSp>
          <p:nvGrpSpPr>
            <p:cNvPr id="103" name=""/>
            <p:cNvGrpSpPr/>
            <p:nvPr/>
          </p:nvGrpSpPr>
          <p:grpSpPr>
            <a:xfrm>
              <a:off x="5410080" y="1219320"/>
              <a:ext cx="1142640" cy="3428640"/>
              <a:chOff x="5410080" y="1219320"/>
              <a:chExt cx="1142640" cy="3428640"/>
            </a:xfrm>
          </p:grpSpPr>
          <p:sp>
            <p:nvSpPr>
              <p:cNvPr id="104" name=""/>
              <p:cNvSpPr/>
              <p:nvPr/>
            </p:nvSpPr>
            <p:spPr>
              <a:xfrm flipH="1">
                <a:off x="5752800" y="2881800"/>
                <a:ext cx="342720" cy="17661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410080" y="1739160"/>
                <a:ext cx="1142640" cy="16621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695560" y="1219320"/>
                <a:ext cx="571680" cy="7272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rot="1369200">
              <a:off x="5714640" y="198108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rot="1369200">
              <a:off x="5943240" y="198108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369200">
              <a:off x="6171840" y="198108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rot="1369200">
              <a:off x="5714640" y="289548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rot="1369200">
              <a:off x="5486040" y="220968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rot="1369200">
              <a:off x="5943240" y="297180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1369200">
              <a:off x="6171840" y="289548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rot="1369200">
              <a:off x="5562000" y="281952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1369200">
              <a:off x="6324120" y="213372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rot="10800000">
              <a:off x="5714640" y="2209320"/>
              <a:ext cx="5331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rot="12169200">
              <a:off x="6170400" y="228384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12169200">
              <a:off x="5941800" y="228384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2169200">
              <a:off x="5789520" y="220752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rot="12169200">
              <a:off x="6170400" y="266472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2169200">
              <a:off x="5865480" y="266472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rot="12169200">
              <a:off x="6018120" y="251244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rot="1369200">
              <a:off x="6324120" y="24382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rot="1369200">
              <a:off x="5562000" y="251460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7543800" y="1219320"/>
            <a:ext cx="1142640" cy="3428640"/>
            <a:chOff x="7543800" y="1219320"/>
            <a:chExt cx="1142640" cy="3428640"/>
          </a:xfrm>
        </p:grpSpPr>
        <p:grpSp>
          <p:nvGrpSpPr>
            <p:cNvPr id="126" name=""/>
            <p:cNvGrpSpPr/>
            <p:nvPr/>
          </p:nvGrpSpPr>
          <p:grpSpPr>
            <a:xfrm>
              <a:off x="7543800" y="1219320"/>
              <a:ext cx="1142640" cy="3428640"/>
              <a:chOff x="7543800" y="1219320"/>
              <a:chExt cx="1142640" cy="3428640"/>
            </a:xfrm>
          </p:grpSpPr>
          <p:sp>
            <p:nvSpPr>
              <p:cNvPr id="127" name=""/>
              <p:cNvSpPr/>
              <p:nvPr/>
            </p:nvSpPr>
            <p:spPr>
              <a:xfrm flipH="1">
                <a:off x="7886520" y="2881800"/>
                <a:ext cx="342720" cy="17661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543800" y="1739160"/>
                <a:ext cx="1142640" cy="16621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829280" y="1219320"/>
                <a:ext cx="571680" cy="7272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rot="1369200">
              <a:off x="7848360" y="198144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1369200">
              <a:off x="8076960" y="198144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rot="1369200">
              <a:off x="8305560" y="198144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1369200">
              <a:off x="7848360" y="289584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1369200">
              <a:off x="7619760" y="221004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1369200">
              <a:off x="8076960" y="297216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1369200">
              <a:off x="8305560" y="289584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rot="1369200">
              <a:off x="7696080" y="281952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1369200">
              <a:off x="8457840" y="213372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10800000">
              <a:off x="7848720" y="2209680"/>
              <a:ext cx="5335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rot="12169200">
              <a:off x="8304120" y="228384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12169200">
              <a:off x="8075520" y="228384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rot="12169200">
              <a:off x="7923240" y="22078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rot="12169200">
              <a:off x="8304120" y="266508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rot="12169200">
              <a:off x="7999560" y="26650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rot="12169200">
              <a:off x="8151840" y="251244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rot="1369200">
              <a:off x="8457840" y="243864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1369200">
              <a:off x="7696080" y="251496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8" name=""/>
          <p:cNvSpPr/>
          <p:nvPr/>
        </p:nvSpPr>
        <p:spPr>
          <a:xfrm>
            <a:off x="898560" y="4753080"/>
            <a:ext cx="169236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ff"/>
                </a:solidFill>
                <a:latin typeface="Arial"/>
              </a:rPr>
              <a:t>Follicle cycle moves in waves down the mouse</a:t>
            </a:r>
            <a:endParaRPr b="0" lang="en-US" sz="1800" spc="-1" strike="noStrike">
              <a:solidFill>
                <a:srgbClr val="000000"/>
              </a:solidFill>
              <a:latin typeface="Times New Roman"/>
            </a:endParaRPr>
          </a:p>
        </p:txBody>
      </p:sp>
      <p:sp>
        <p:nvSpPr>
          <p:cNvPr id="149" name=""/>
          <p:cNvSpPr/>
          <p:nvPr/>
        </p:nvSpPr>
        <p:spPr>
          <a:xfrm>
            <a:off x="2743200" y="4724280"/>
            <a:ext cx="1828800" cy="14655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ff"/>
                </a:solidFill>
                <a:latin typeface="Arial"/>
              </a:rPr>
              <a:t>Skin removed, regrafted at 180</a:t>
            </a:r>
            <a:r>
              <a:rPr b="1" lang="en-AU" sz="1800" spc="-1" strike="noStrike" baseline="30000">
                <a:solidFill>
                  <a:srgbClr val="3333ff"/>
                </a:solidFill>
                <a:latin typeface="Arial"/>
              </a:rPr>
              <a:t>o</a:t>
            </a:r>
            <a:r>
              <a:rPr b="1" lang="en-AU" sz="1800" spc="-1" strike="noStrike">
                <a:solidFill>
                  <a:srgbClr val="3333ff"/>
                </a:solidFill>
                <a:latin typeface="Arial"/>
              </a:rPr>
              <a:t>.  Follicle cycle follows original cycle</a:t>
            </a:r>
            <a:endParaRPr b="0" lang="en-US" sz="1800" spc="-1" strike="noStrike">
              <a:solidFill>
                <a:srgbClr val="000000"/>
              </a:solidFill>
              <a:latin typeface="Times New Roman"/>
            </a:endParaRPr>
          </a:p>
        </p:txBody>
      </p:sp>
      <p:sp>
        <p:nvSpPr>
          <p:cNvPr id="150" name=""/>
          <p:cNvSpPr/>
          <p:nvPr/>
        </p:nvSpPr>
        <p:spPr>
          <a:xfrm>
            <a:off x="4724280" y="4724280"/>
            <a:ext cx="2133720" cy="14655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ff"/>
                </a:solidFill>
                <a:latin typeface="Arial"/>
              </a:rPr>
              <a:t>After a time, some follicles begin to cycle with surrounding follicles</a:t>
            </a:r>
            <a:endParaRPr b="0" lang="en-US" sz="1800" spc="-1" strike="noStrike">
              <a:solidFill>
                <a:srgbClr val="000000"/>
              </a:solidFill>
              <a:latin typeface="Times New Roman"/>
            </a:endParaRPr>
          </a:p>
        </p:txBody>
      </p:sp>
      <p:sp>
        <p:nvSpPr>
          <p:cNvPr id="151" name=""/>
          <p:cNvSpPr/>
          <p:nvPr/>
        </p:nvSpPr>
        <p:spPr>
          <a:xfrm>
            <a:off x="7010280" y="4724280"/>
            <a:ext cx="2133720" cy="14655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ff"/>
                </a:solidFill>
                <a:latin typeface="Arial"/>
              </a:rPr>
              <a:t>Eventually, normal wave pattern along the whole mouse will be restored</a:t>
            </a:r>
            <a:endParaRPr b="0" lang="en-US" sz="1800" spc="-1" strike="noStrike">
              <a:solidFill>
                <a:srgbClr val="000000"/>
              </a:solidFill>
              <a:latin typeface="Times New Roman"/>
            </a:endParaRPr>
          </a:p>
        </p:txBody>
      </p:sp>
      <p:sp>
        <p:nvSpPr>
          <p:cNvPr id="152" name=""/>
          <p:cNvSpPr/>
          <p:nvPr/>
        </p:nvSpPr>
        <p:spPr>
          <a:xfrm>
            <a:off x="797076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raham Ca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04:25:53Z</dcterms:created>
  <dc:creator>USER</dc:creator>
  <dc:description/>
  <dc:language>en-US</dc:language>
  <cp:lastModifiedBy>Hdaily</cp:lastModifiedBy>
  <cp:lastPrinted>2000-02-03T09:09:47Z</cp:lastPrinted>
  <dcterms:modified xsi:type="dcterms:W3CDTF">2000-05-25T01:23:49Z</dcterms:modified>
  <cp:revision>2</cp:revision>
  <dc:subject/>
  <dc:title>Local Versus Systemic Control of the Follicle Cycle</dc:title>
</cp:coreProperties>
</file>