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60D6-68B7-40BE-82BA-E1B6A555F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562040" y="533520"/>
            <a:ext cx="3657600" cy="2743200"/>
          </a:xfrm>
          <a:prstGeom prst="rect">
            <a:avLst/>
          </a:prstGeom>
          <a:ln w="0">
            <a:noFill/>
          </a:ln>
        </p:spPr>
      </p:sp>
      <p:sp>
        <p:nvSpPr>
          <p:cNvPr id="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ole of EGF and FGF5 on the follicle cycle and includes information that led to the development of Biological Wool Harv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 Stenn et al.,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a:t>
            </a:r>
            <a:r>
              <a:rPr b="1" lang="en-AU" sz="1200" spc="-1" strike="noStrike">
                <a:solidFill>
                  <a:srgbClr val="000000"/>
                </a:solidFill>
                <a:latin typeface="Times New Roman"/>
              </a:rPr>
              <a:t>8</a:t>
            </a:r>
            <a:r>
              <a:rPr b="0" lang="en-AU" sz="1200" spc="-1" strike="noStrike">
                <a:solidFill>
                  <a:srgbClr val="000000"/>
                </a:solidFill>
                <a:latin typeface="Times New Roman"/>
              </a:rPr>
              <a:t>, 229-2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ravenous infusion of mouse EGF (epidermal growth factor) into castrated male Merino sheep for 26 hours resulted in complete casting of the fleeces a week la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cell proliferation was noted in the epidermis and sebaceous glands, whereas the follicle regressed into a “catagen-like” state.  Fibre and inner root sheath (IRS) production was reduced in about 60% of follicles which had partially regressed and completely ceased in the remaining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s began to regenerate asynchronously 4-8 days after infusion and completed their development during the next three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 Moore et al., 1981, </a:t>
            </a:r>
            <a:r>
              <a:rPr b="0" i="1" lang="en-AU" sz="1200" spc="-1" strike="noStrike">
                <a:solidFill>
                  <a:srgbClr val="000000"/>
                </a:solidFill>
                <a:latin typeface="Times New Roman"/>
              </a:rPr>
              <a:t>Search</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28-9;  Moore et al., 1982,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5</a:t>
            </a:r>
            <a:r>
              <a:rPr b="0" lang="en-AU" sz="1200" spc="-1" strike="noStrike">
                <a:solidFill>
                  <a:srgbClr val="000000"/>
                </a:solidFill>
                <a:latin typeface="Times New Roman"/>
              </a:rPr>
              <a:t>, 163-72;  Hollis et al., 1983,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a:t>
            </a:r>
            <a:r>
              <a:rPr b="1" lang="en-AU" sz="1200" spc="-1" strike="noStrike">
                <a:solidFill>
                  <a:srgbClr val="000000"/>
                </a:solidFill>
                <a:latin typeface="Times New Roman"/>
              </a:rPr>
              <a:t> 36</a:t>
            </a:r>
            <a:r>
              <a:rPr b="0" lang="en-AU" sz="1200" spc="-1" strike="noStrike">
                <a:solidFill>
                  <a:srgbClr val="000000"/>
                </a:solidFill>
                <a:latin typeface="Times New Roman"/>
              </a:rPr>
              <a:t>, 419-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details on Biological Wool Harvesting see the module “Biocli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B3FD-F870-436C-B30B-B88442B1F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detailed description demonstrates how studies are performed to determine the role molecules play in follicle function.  An FGF-5 (follicle growth factor 5) null mutant was produced by utilising a vector in which the neo gene under the control of the Pgk1 (phosphoglycerate kinase) promoter was inserted in the opposite transcriptional orientation to the endogenous FGF-5 gene.  The neo gene disrupts the FGF-5 coding sequence (113 b p3' to start codon) and introduces multiple stop codons in all three reading frames.  The FGF-5 neo vector was inserted into embryonic stem cells and PCR analysis was employed to detect those cells in which homologous recombination had taken place.  Homozygous recombinant cells were injected into mouse blastocysts to generate chimeric mice.  Heterozygous mice x heterozygous mice produced homozygous mutant mice in which the +/+ FGF-5 gene was replaced with the FGF-5 neo gene.  Homozygous mutant offspring had longer hair than their heterozygous or wild type littermates.  The phenotype is that of angora (go/go;  in which the hairs are &gt;55% longer).  FGF-5 and go/go are known to be positioned close to each other on mouse chromosome 5.</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 is the angora phenotype expressed due to mutations in FGF-5?  To test this, go/go were mated to FGF5 neo/+.  If angora is a mutation at the FGF5 locus, the go/FGF5 neo offspring should have long hair and the go/+ offspring should have normal hair. This was what was observed.  DNA analysis showed angora to have a deletion in exon 1 of the FGF-5 gene and FGF-5 mRNA is not detected in go/go animals, indicating that angora is a null allele. In go/go mice anagen VI is extended by 3 day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 is FGF-5 the signal for catagen onset?  In normal mice, FGF-5 mRNA is not detected in early anagen VI follicles (during the first hair cycle).  In late anagen VI, FGF-5 mRNA was localised to the lower third of the outer root sheath.  As follicles progress into catagen, FGF-5 mRNA expression is extinguished. But what terminates anagen VI in the absence of FGF-5?  Angora mice still have catagen, but it is delayed.  Some possibilities are,</a:t>
            </a:r>
            <a:endParaRPr b="0" lang="en-US" sz="10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1. hair matrix cells have finite number of divisions</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2. another signalling molecule can replace FGF-5 (FGF-2,-4,-6 perhaps)</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3. or are there other possibilities?</a:t>
            </a:r>
            <a:endParaRPr b="0" lang="en-US" sz="9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GF, FGF5 and the Follicle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infusion on adult Merino sheep</a:t>
            </a:r>
            <a:endParaRPr b="1" lang="en-US" sz="3200" spc="-1" strike="noStrike">
              <a:solidFill>
                <a:srgbClr val="fafd00"/>
              </a:solidFill>
              <a:latin typeface="Arial"/>
            </a:endParaRPr>
          </a:p>
        </p:txBody>
      </p:sp>
      <p:sp>
        <p:nvSpPr>
          <p:cNvPr id="51"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GF infusion initiates regression of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lete casting of fleeces 6-8 days after infu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s is the basis for the newly commercialised Biological Wool Harvest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GF-5 may induce catagen</a:t>
            </a:r>
            <a:endParaRPr b="1" lang="en-US" sz="3200" spc="-1" strike="noStrike">
              <a:solidFill>
                <a:srgbClr val="fafd00"/>
              </a:solidFill>
              <a:latin typeface="Arial"/>
            </a:endParaRPr>
          </a:p>
        </p:txBody>
      </p:sp>
      <p:sp>
        <p:nvSpPr>
          <p:cNvPr id="53" name="PlaceHolder 2"/>
          <p:cNvSpPr>
            <a:spLocks noGrp="1"/>
          </p:cNvSpPr>
          <p:nvPr>
            <p:ph/>
          </p:nvPr>
        </p:nvSpPr>
        <p:spPr>
          <a:xfrm>
            <a:off x="1218960" y="838080"/>
            <a:ext cx="80010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null mutant for FGF-5 was produc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utants had longer fibr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normal mi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GF-5 mRNA is not present in early anage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GF-5 mRNA is present in late anage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GF-5 mRNA is not present in catage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suggests that FGF-5 regulates the onset of catagen</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UT</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the null mutants still eventually enter catagen</a:t>
            </a:r>
            <a:endParaRPr b="1" lang="en-US" sz="2400" spc="-1" strike="noStrike">
              <a:solidFill>
                <a:srgbClr val="ffffff"/>
              </a:solidFill>
              <a:latin typeface="Arial"/>
            </a:endParaRPr>
          </a:p>
        </p:txBody>
      </p:sp>
      <p:sp>
        <p:nvSpPr>
          <p:cNvPr id="54"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17:34Z</dcterms:created>
  <dc:creator>USER</dc:creator>
  <dc:description/>
  <dc:language>en-US</dc:language>
  <cp:lastModifiedBy>Hdaily</cp:lastModifiedBy>
  <cp:lastPrinted>2000-02-03T09:09:47Z</cp:lastPrinted>
  <dcterms:modified xsi:type="dcterms:W3CDTF">2000-05-24T00:28:06Z</dcterms:modified>
  <cp:revision>3</cp:revision>
  <dc:subject/>
  <dc:title>EGF, FGF5 and the Follicle Cycle</dc:title>
</cp:coreProperties>
</file>