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90D8-2456-4565-8658-804820697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CCF5-D492-4673-A91C-B18E69EB8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cept that glutamine has a major role as an energy substrate for the skin and follicle is relatively recent.  In contrast to the extensively studied metabolism of glucose in the skin and follicle, the relevant literature on the metabolism of glutamine is sc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role of glutamine as an energy 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Rachel Smith, The University of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C73B-FB4C-4455-AE81-7C3CDCE5E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tamine is one of the most abundant amino acids, representing 22-25% of the total plasma amino N in human blood and 12% of total amino acids in sheep plasma.  The concentration of glutamine in sheep plasma is about one quarter of that in human plasm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tamine is also one of the most abundant amino acids in cell culture med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ole of glutamine as a respiratory fuel was first demonstrated in neoplastic cells but it is now recognised as a significant respiratory fuel in a wide range of normal tissues.  Glutamine consumption by peripheral tissues is supported by its synthesis in skeletal muscle and the liver.  Glutamine is actively synthesised and released by skeletal muscle.  Although glutamine represents only 3% of amino acid residues, together with alanine it accounts for more than 50% of amino acid release from skeletal mus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least 85% of glutamine in the skin is used for energy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8DE9-56F2-4F61-A9FC-1059D9831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amino acids can be converted to TCA intermediates.  The 20 amino acids are funnelled into the TCA cycle via 7 intermediates.  Glutamine enters via a-ketoglutarate.  From there it can be completely oxidised to CO</a:t>
            </a:r>
            <a:r>
              <a:rPr b="0" lang="en-AU" sz="1200" spc="-1" strike="noStrike" baseline="-25000">
                <a:solidFill>
                  <a:srgbClr val="000000"/>
                </a:solidFill>
                <a:latin typeface="Times New Roman"/>
              </a:rPr>
              <a:t>2</a:t>
            </a:r>
            <a:r>
              <a:rPr b="0" lang="en-AU" sz="1200" spc="-1" strike="noStrike">
                <a:solidFill>
                  <a:srgbClr val="000000"/>
                </a:solidFill>
                <a:latin typeface="Times New Roman"/>
              </a:rPr>
              <a:t> and H</a:t>
            </a:r>
            <a:r>
              <a:rPr b="0" lang="en-AU" sz="1200" spc="-1" strike="noStrike" baseline="-25000">
                <a:solidFill>
                  <a:srgbClr val="000000"/>
                </a:solidFill>
                <a:latin typeface="Times New Roman"/>
              </a:rPr>
              <a:t>2</a:t>
            </a:r>
            <a:r>
              <a:rPr b="0" lang="en-AU" sz="1200" spc="-1" strike="noStrike">
                <a:solidFill>
                  <a:srgbClr val="000000"/>
                </a:solidFill>
                <a:latin typeface="Times New Roman"/>
              </a:rPr>
              <a: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tamine can also be partially oxidised to pyruvate in a process called glutaminolysis.  The pyruvate can enter the TCA cycle, or be metabolised to lactate in the same manner as pyruvate derived from glycolys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utamine as an Energy Source</a:t>
            </a:r>
            <a:br>
              <a:rPr sz="3200"/>
            </a:br>
            <a:r>
              <a:rPr b="1" lang="en-AU" sz="3200" spc="-1" strike="noStrike">
                <a:solidFill>
                  <a:srgbClr val="fafd00"/>
                </a:solidFill>
                <a:latin typeface="Arial"/>
              </a:rPr>
              <a:t> for the Folli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s. 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90344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utamine</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ne of the most abundant amino aci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lasma</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ssu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 culture media</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s the major respiratory substrate for some tissu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ticulocyt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mall intestin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ocytes</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251000" y="4419720"/>
            <a:ext cx="7893000" cy="617760"/>
            <a:chOff x="1251000" y="4419720"/>
            <a:chExt cx="7893000" cy="617760"/>
          </a:xfrm>
        </p:grpSpPr>
        <p:sp>
          <p:nvSpPr>
            <p:cNvPr id="53" name=""/>
            <p:cNvSpPr/>
            <p:nvPr/>
          </p:nvSpPr>
          <p:spPr>
            <a:xfrm>
              <a:off x="3257640" y="4718160"/>
              <a:ext cx="8874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08600" y="4718160"/>
              <a:ext cx="8510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51000" y="4419720"/>
              <a:ext cx="22050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lutamine</a:t>
              </a:r>
              <a:endParaRPr b="0" lang="en-US" sz="3200" spc="-1" strike="noStrike">
                <a:solidFill>
                  <a:srgbClr val="000000"/>
                </a:solidFill>
                <a:latin typeface="Times New Roman"/>
              </a:endParaRPr>
            </a:p>
          </p:txBody>
        </p:sp>
        <p:sp>
          <p:nvSpPr>
            <p:cNvPr id="56" name=""/>
            <p:cNvSpPr/>
            <p:nvPr/>
          </p:nvSpPr>
          <p:spPr>
            <a:xfrm>
              <a:off x="4294440" y="4461120"/>
              <a:ext cx="14634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alate</a:t>
              </a:r>
              <a:endParaRPr b="0" lang="en-US" sz="3200" spc="-1" strike="noStrike">
                <a:solidFill>
                  <a:srgbClr val="000000"/>
                </a:solidFill>
                <a:latin typeface="Times New Roman"/>
              </a:endParaRPr>
            </a:p>
          </p:txBody>
        </p:sp>
        <p:sp>
          <p:nvSpPr>
            <p:cNvPr id="57" name=""/>
            <p:cNvSpPr/>
            <p:nvPr/>
          </p:nvSpPr>
          <p:spPr>
            <a:xfrm>
              <a:off x="7169400" y="4432320"/>
              <a:ext cx="19746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yruvate</a:t>
              </a:r>
              <a:endParaRPr b="0" lang="en-US" sz="3200" spc="-1" strike="noStrike">
                <a:solidFill>
                  <a:srgbClr val="000000"/>
                </a:solidFill>
                <a:latin typeface="Times New Roman"/>
              </a:endParaRPr>
            </a:p>
          </p:txBody>
        </p:sp>
      </p:grpSp>
      <p:sp>
        <p:nvSpPr>
          <p:cNvPr id="58" name=""/>
          <p:cNvSpPr/>
          <p:nvPr/>
        </p:nvSpPr>
        <p:spPr>
          <a:xfrm>
            <a:off x="790344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utamine</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n be oxidised completely to CO</a:t>
            </a:r>
            <a:r>
              <a:rPr b="1" lang="en-AU" sz="2800" spc="-1" strike="noStrike" baseline="-25000">
                <a:solidFill>
                  <a:srgbClr val="ffffff"/>
                </a:solidFill>
                <a:latin typeface="Arial"/>
              </a:rPr>
              <a:t>2</a:t>
            </a:r>
            <a:r>
              <a:rPr b="1" lang="en-AU" sz="2800" spc="-1" strike="noStrike">
                <a:solidFill>
                  <a:srgbClr val="ffffff"/>
                </a:solidFill>
                <a:latin typeface="Arial"/>
              </a:rPr>
              <a:t> and H</a:t>
            </a:r>
            <a:r>
              <a:rPr b="1" lang="en-AU" sz="2800" spc="-1" strike="noStrike" baseline="-25000">
                <a:solidFill>
                  <a:srgbClr val="ffffff"/>
                </a:solidFill>
                <a:latin typeface="Arial"/>
              </a:rPr>
              <a:t>2</a:t>
            </a:r>
            <a:r>
              <a:rPr b="1" lang="en-AU" sz="2800" spc="-1" strike="noStrike">
                <a:solidFill>
                  <a:srgbClr val="ffffff"/>
                </a:solidFill>
                <a:latin typeface="Arial"/>
              </a:rPr>
              <a:t>O via the TCA cycle and oxidative phosphoryl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n be metabolised via glutaminolysi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partial oxidation of glutamine to pyruvate</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23:34:35Z</dcterms:created>
  <dc:creator>USER</dc:creator>
  <dc:description/>
  <dc:language>en-US</dc:language>
  <cp:lastModifiedBy>Hdaily</cp:lastModifiedBy>
  <cp:lastPrinted>2000-02-03T09:09:47Z</cp:lastPrinted>
  <dcterms:modified xsi:type="dcterms:W3CDTF">2000-05-30T03:58:26Z</dcterms:modified>
  <cp:revision>5</cp:revision>
  <dc:subject/>
  <dc:title>Glutamine as an Energy Source  for the Follicle</dc:title>
</cp:coreProperties>
</file>