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9890-BA9E-42BC-B930-3F4CF168D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is synthesised in the skin via two pathways; traditionally with glucose-6-phosphate as a precursor and de novo from lactate in a process called gluconeogenesis.  Investigations of gluconeogenesis have been restricted to the demonstration of the enzymes and functional pathway.  Glycogen is degraded in the skin to glucose-6-phosphate, a substrate available to the glycolytic and pentose phosphate pathways.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distribution and role of glycogen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E568-157F-449A-A1A2-2A00571D5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is an efficient, readily mobilised storage form of glucose.  It is composed of glucose units predominantly linked by </a:t>
            </a:r>
            <a:r>
              <a:rPr b="0" lang="en-AU" sz="1200" spc="-1" strike="noStrike">
                <a:solidFill>
                  <a:srgbClr val="000000"/>
                </a:solidFill>
                <a:latin typeface="Symbol"/>
                <a:ea typeface="Symbol"/>
              </a:rPr>
              <a:t></a:t>
            </a:r>
            <a:r>
              <a:rPr b="0" lang="en-AU" sz="1200" spc="-1" strike="noStrike">
                <a:solidFill>
                  <a:srgbClr val="000000"/>
                </a:solidFill>
                <a:latin typeface="Times New Roman"/>
              </a:rPr>
              <a:t>-1,4-glycosidic bonds with branches formed by </a:t>
            </a:r>
            <a:r>
              <a:rPr b="0" lang="en-AU" sz="1200" spc="-1" strike="noStrike">
                <a:solidFill>
                  <a:srgbClr val="000000"/>
                </a:solidFill>
                <a:latin typeface="Symbol"/>
                <a:ea typeface="Symbol"/>
              </a:rPr>
              <a:t></a:t>
            </a:r>
            <a:r>
              <a:rPr b="0" lang="en-AU" sz="1200" spc="-1" strike="noStrike">
                <a:solidFill>
                  <a:srgbClr val="000000"/>
                </a:solidFill>
                <a:latin typeface="Times New Roman"/>
              </a:rPr>
              <a:t>-1,6-glycosidic bonds occurring approximately every 10 residues.  The storage function of glycogen and the biochemical control of glycogen metabolism in the liver and skeletal muscle have been well characterised.  In contrast, the knowledge of function and control of cutaneous glycogen metabolism is limi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pon entry into the cell, glucose is phosphorylated to form glucose-6-phosphate.  Two alternative metabolic fates of glucose-6-phosphate are described in other modules.  Glycogen synthesis is described in standard biochemistry texts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large store of glycogen in the outer root sheath.  This energy store was discovered at least 50 years ago, but no one has investigated the role of the glycogen store.  It has been suggested that the stored glycogen may provide energy for keratinisation or that it buffers fluctuating energy supply from the bloo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E7D9-0C3E-4092-9B0A-440D538B3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the distribution of glycogen (red) in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human and sheep follicles, the presence of glycogen is inversely related to the level of mitotic activity and keratinisation.  Glycogen is located predominantly in the middle section of the outer root sheath below the sebaceous gland, with lesser amounts evident in the outer root sheath cells near the bulb.  Glycogen has been observed in the fibroblasts of the connective tissue sheath and the basal third of the cuticle of the cortex, medulla and cortex in human and sheep follicles .  There is no glycogen in the basement membrane of the outer root sheath, the inner root sheath, the cuticle of the inner root sheath or the dermal papilla.  The general pattern of glycogen accumulation in cells of the hair follicle can be related to the metabolic activity of each cell type.  During active division in the follicle bulb there is no accumulation of glycogen in the cell.  As the cells differentiate into medulla, cortex, cuticle and inner root sheath the rate of glycogen disappearance correlates inversely with the rate of keratinisation of the cells.  Glycogen extends further distally in the slower keratinising cells of the medulla compared with the cortex, and the cells of the outer root sheath, which predominantly remain unkeratinised, display abundant glycogen to the level of the sebaceous 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4E7E-3F13-4F4C-8F4B-EABC04A7A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otomicrograph shows the granularity of the glycogen in the 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in the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orage form of gluco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cogen is present in the outer root shea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roles of glycoge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 energy for keratinis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 for cell division and mig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ffer fluctuating energy supply from bloo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1560" y="533520"/>
            <a:ext cx="7925760" cy="5638680"/>
            <a:chOff x="1141560" y="533520"/>
            <a:chExt cx="7925760" cy="5638680"/>
          </a:xfrm>
        </p:grpSpPr>
        <p:pic>
          <p:nvPicPr>
            <p:cNvPr id="53" name="" descr=""/>
            <p:cNvPicPr/>
            <p:nvPr/>
          </p:nvPicPr>
          <p:blipFill>
            <a:blip r:embed="rId1"/>
            <a:stretch/>
          </p:blipFill>
          <p:spPr>
            <a:xfrm>
              <a:off x="1147320" y="533520"/>
              <a:ext cx="7920000" cy="5638680"/>
            </a:xfrm>
            <a:prstGeom prst="rect">
              <a:avLst/>
            </a:prstGeom>
            <a:ln w="38160">
              <a:solidFill>
                <a:srgbClr val="000000"/>
              </a:solidFill>
              <a:miter/>
            </a:ln>
          </p:spPr>
        </p:pic>
        <p:sp>
          <p:nvSpPr>
            <p:cNvPr id="54" name=""/>
            <p:cNvSpPr/>
            <p:nvPr/>
          </p:nvSpPr>
          <p:spPr>
            <a:xfrm>
              <a:off x="1141560" y="1727280"/>
              <a:ext cx="268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uter root sheath</a:t>
              </a:r>
              <a:endParaRPr b="0" lang="en-US" sz="2400" spc="-1" strike="noStrike">
                <a:solidFill>
                  <a:srgbClr val="000000"/>
                </a:solidFill>
                <a:latin typeface="Times New Roman"/>
              </a:endParaRPr>
            </a:p>
          </p:txBody>
        </p:sp>
        <p:sp>
          <p:nvSpPr>
            <p:cNvPr id="55" name=""/>
            <p:cNvSpPr/>
            <p:nvPr/>
          </p:nvSpPr>
          <p:spPr>
            <a:xfrm flipV="1">
              <a:off x="2314440" y="1212840"/>
              <a:ext cx="69192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351160" y="2146320"/>
              <a:ext cx="947160" cy="37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506640" y="1187640"/>
              <a:ext cx="223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rmal papilla</a:t>
              </a:r>
              <a:endParaRPr b="0" lang="en-US" sz="2400" spc="-1" strike="noStrike">
                <a:solidFill>
                  <a:srgbClr val="000000"/>
                </a:solidFill>
                <a:latin typeface="Times New Roman"/>
              </a:endParaRPr>
            </a:p>
          </p:txBody>
        </p:sp>
        <p:sp>
          <p:nvSpPr>
            <p:cNvPr id="58" name=""/>
            <p:cNvSpPr/>
            <p:nvPr/>
          </p:nvSpPr>
          <p:spPr>
            <a:xfrm>
              <a:off x="7925040" y="1623960"/>
              <a:ext cx="21348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6383160" y="3683160"/>
              <a:ext cx="930600" cy="186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822440" y="1641600"/>
              <a:ext cx="72000" cy="19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13080" y="5383440"/>
              <a:ext cx="1877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ollicle bulb</a:t>
              </a:r>
              <a:endParaRPr b="0" lang="en-US" sz="2400" spc="-1" strike="noStrike">
                <a:solidFill>
                  <a:srgbClr val="000000"/>
                </a:solidFill>
                <a:latin typeface="Times New Roman"/>
              </a:endParaRPr>
            </a:p>
          </p:txBody>
        </p:sp>
        <p:sp>
          <p:nvSpPr>
            <p:cNvPr id="62" name=""/>
            <p:cNvSpPr/>
            <p:nvPr/>
          </p:nvSpPr>
          <p:spPr>
            <a:xfrm flipV="1">
              <a:off x="6364800" y="5372280"/>
              <a:ext cx="1480320" cy="17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08120" y="787680"/>
              <a:ext cx="84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ibre</a:t>
              </a:r>
              <a:endParaRPr b="0" lang="en-US" sz="2400" spc="-1" strike="noStrike">
                <a:solidFill>
                  <a:srgbClr val="000000"/>
                </a:solidFill>
                <a:latin typeface="Times New Roman"/>
              </a:endParaRPr>
            </a:p>
          </p:txBody>
        </p:sp>
        <p:sp>
          <p:nvSpPr>
            <p:cNvPr id="64" name=""/>
            <p:cNvSpPr/>
            <p:nvPr/>
          </p:nvSpPr>
          <p:spPr>
            <a:xfrm flipH="1">
              <a:off x="3695400" y="979560"/>
              <a:ext cx="549720" cy="8244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65"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143000" y="533520"/>
            <a:ext cx="8001000" cy="5638680"/>
            <a:chOff x="1143000" y="533520"/>
            <a:chExt cx="8001000" cy="5638680"/>
          </a:xfrm>
        </p:grpSpPr>
        <p:pic>
          <p:nvPicPr>
            <p:cNvPr id="67" name="" descr=""/>
            <p:cNvPicPr/>
            <p:nvPr/>
          </p:nvPicPr>
          <p:blipFill>
            <a:blip r:embed="rId1"/>
            <a:stretch/>
          </p:blipFill>
          <p:spPr>
            <a:xfrm>
              <a:off x="1143000" y="533520"/>
              <a:ext cx="8001000" cy="5638680"/>
            </a:xfrm>
            <a:prstGeom prst="rect">
              <a:avLst/>
            </a:prstGeom>
            <a:ln w="38160">
              <a:solidFill>
                <a:srgbClr val="000000"/>
              </a:solidFill>
              <a:miter/>
            </a:ln>
          </p:spPr>
        </p:pic>
        <p:sp>
          <p:nvSpPr>
            <p:cNvPr id="68" name=""/>
            <p:cNvSpPr/>
            <p:nvPr/>
          </p:nvSpPr>
          <p:spPr>
            <a:xfrm>
              <a:off x="5364360" y="1270080"/>
              <a:ext cx="3770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lycogen granules</a:t>
              </a:r>
              <a:endParaRPr b="0" lang="en-US" sz="3200" spc="-1" strike="noStrike">
                <a:solidFill>
                  <a:srgbClr val="000000"/>
                </a:solidFill>
                <a:latin typeface="Times New Roman"/>
              </a:endParaRPr>
            </a:p>
          </p:txBody>
        </p:sp>
        <p:sp>
          <p:nvSpPr>
            <p:cNvPr id="69" name=""/>
            <p:cNvSpPr/>
            <p:nvPr/>
          </p:nvSpPr>
          <p:spPr>
            <a:xfrm flipH="1">
              <a:off x="6534000" y="1746360"/>
              <a:ext cx="38736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440680" y="1746360"/>
              <a:ext cx="1480320" cy="56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4960080" y="1746360"/>
              <a:ext cx="1960920" cy="142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979760" y="658332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6T23:53:00Z</dcterms:created>
  <dc:creator>USER</dc:creator>
  <dc:description/>
  <dc:language>en-US</dc:language>
  <cp:lastModifiedBy>Hdaily</cp:lastModifiedBy>
  <cp:lastPrinted>2000-02-03T09:09:47Z</cp:lastPrinted>
  <dcterms:modified xsi:type="dcterms:W3CDTF">2000-05-30T04:42:02Z</dcterms:modified>
  <cp:revision>3</cp:revision>
  <dc:subject/>
  <dc:title>Glycogen in the Follicle</dc:title>
</cp:coreProperties>
</file>