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C4AD-11A0-4AB0-A7E1-604F5BB6B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4911-B10D-4708-A18B-C357DF028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 name="PlaceHolder 1"/>
          <p:cNvSpPr>
            <a:spLocks noGrp="1"/>
          </p:cNvSpPr>
          <p:nvPr>
            <p:ph type="sldImg"/>
          </p:nvPr>
        </p:nvSpPr>
        <p:spPr>
          <a:xfrm>
            <a:off x="1562040" y="533520"/>
            <a:ext cx="3657600" cy="2743200"/>
          </a:xfrm>
          <a:prstGeom prst="rect">
            <a:avLst/>
          </a:prstGeom>
          <a:ln w="0">
            <a:noFill/>
          </a:ln>
        </p:spPr>
      </p:sp>
      <p:sp>
        <p:nvSpPr>
          <p:cNvPr id="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understand the formation, initiation and development of follicles it is useful to study other organs that develop in a similar way.  Epithelial-mesenchymal interactions are essential for follicle initiation and a number of molecules have been implicated in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molecular strategies used for testing the proposed developmental roles for these molec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3AF1-6F5B-4350-86C8-F287CA4A1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
          <p:cNvSpPr/>
          <p:nvPr/>
        </p:nvSpPr>
        <p:spPr>
          <a:xfrm>
            <a:off x="388620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lecular tools for detecting the molecules involved in Follicle Morphogenesis include RT-PCR (see “PCR” module), </a:t>
            </a:r>
            <a:r>
              <a:rPr b="0" i="1" lang="en-AU" sz="1200" spc="-1" strike="noStrike">
                <a:solidFill>
                  <a:srgbClr val="000000"/>
                </a:solidFill>
                <a:latin typeface="Times New Roman"/>
              </a:rPr>
              <a:t>in-situ </a:t>
            </a:r>
            <a:r>
              <a:rPr b="0" lang="en-AU" sz="1200" spc="-1" strike="noStrike">
                <a:solidFill>
                  <a:srgbClr val="000000"/>
                </a:solidFill>
                <a:latin typeface="Times New Roman"/>
              </a:rPr>
              <a:t>hybridisation (see “In situ hybridisation” module) which localises mRNA and immunohistochemistry (see Immunocytochemistry” module) which localises proteins.  This slide describes the use of genetic variability to examine the effects of molecules o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DNA sequence encoding a specific protein is linked to a DNA promotor sequence which targets expression of that protein to a specific cell type or tissue.  Depending on the promotor sequence, the timing of expression can be a relevant factor in such studies.  The transgene is injected into fertile oocytes and the resulting transgenic offspring are used to examine expression of the gene construct.  This technique can be used to over-express an endogenously expressed gene product, express a novel gene product or to eliminate endogenous gene expression by utilising anti-sense strategies.  The new technique of animal cloning will supersede the microinjection approach to integrating genes into the genome of livestock (see “Production of Transgenic Animal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ll mutants or knock-out animals have a gene rendered incompetent through genetic manipulation.  An inoperative gene with a suitable marker is incorporated into a somatic stem cell in culture.  These cells are microinjected into a fertile oocyte and the resulting offspring, which are heterozygous for the mutant gene, are selected and mated to produce offspring homozygous for the mutation.  The effects of eliminating a specific gene can then be studied </a:t>
            </a:r>
            <a:r>
              <a:rPr b="0" i="1" lang="en-AU" sz="1200" spc="-1" strike="noStrike">
                <a:solidFill>
                  <a:srgbClr val="000000"/>
                </a:solidFill>
                <a:latin typeface="Times New Roman"/>
              </a:rPr>
              <a:t>in vivo</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tations which arise naturally are quite common in laboratory mouse colonies throughout the world.  Some mutations are obvious by their altered phenotype.  Such mutants include both dominant and recessive alleles.  Other mutations have no obvious phenotype and the nature of the mutation can be ascertained only after extensive molecular and genetic analysis.  Of course some mutations are lethal and may never reach an advanced state of development.  Hair and skin mutants generally have obvious phenotypes if the animals survive to adulthoo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tecting and Testing Molecules Involved in Follicle Fun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Graham Cam ,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804708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lecular strategies for testing candidate molecules</a:t>
            </a:r>
            <a:endParaRPr b="1" lang="en-US" sz="3200" spc="-1" strike="noStrike">
              <a:solidFill>
                <a:srgbClr val="fafd00"/>
              </a:solidFill>
              <a:latin typeface="Arial"/>
            </a:endParaRPr>
          </a:p>
        </p:txBody>
      </p:sp>
      <p:sp>
        <p:nvSpPr>
          <p:cNvPr id="53" name="PlaceHolder 2"/>
          <p:cNvSpPr>
            <a:spLocks noGrp="1"/>
          </p:cNvSpPr>
          <p:nvPr>
            <p:ph/>
          </p:nvPr>
        </p:nvSpPr>
        <p:spPr>
          <a:xfrm>
            <a:off x="137160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gene over-express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ll mutan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aturally arising mutants</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2:07:30Z</dcterms:created>
  <dc:creator>USER</dc:creator>
  <dc:description/>
  <dc:language>en-US</dc:language>
  <cp:lastModifiedBy>Hdaily</cp:lastModifiedBy>
  <cp:lastPrinted>2000-02-03T09:09:47Z</cp:lastPrinted>
  <dcterms:modified xsi:type="dcterms:W3CDTF">2000-05-30T00:41:28Z</dcterms:modified>
  <cp:revision>2</cp:revision>
  <dc:subject/>
  <dc:title>Detecting and Testing Molecules Involved in Follicle Function</dc:title>
</cp:coreProperties>
</file>