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078C-CF26-4D27-ACAF-3EA07B2AD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outlines the basic components of the fibre and provides the amino acid composition of wool fi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5B67-029C-42DD-818A-B4C6C1014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wool fibre is basically protein, thus it consists of C, N, H, O and S arranged in a particular configuration due to chemical bonding of its amino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se proteins consist of 85% or more of the mass; the rest is intercellular membranes, remnants of cell constituents, cuticle and, where present, a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non-protein components include  lipids, minerals (Ca, Na (0.5%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933D-9C1F-408A-9825-50BD178A8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3504960"/>
            <a:ext cx="5943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Janelle Hocking Edwards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Reis, P.J. (1979) in Black and Reis, Physiological and environmental limitations to wool growth. UNE Pub. Unit, N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f the 20 amino acids used for synthesis of animal proteins 18 are in wool.  The amino acid composition differs from other proteins in their high content of the S-amino acid, cyste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major amino acids are cystine, glutamic acid, serine, glycine.  Cystine is first limiting amino acid for wool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ypical amino acid composition of wool and its soluble proteins (residues/100 residues of amino acids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562720"/>
            <a:ext cx="5867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5486400"/>
          <a:ext cx="5790960" cy="34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486400"/>
                    <a:ext cx="579096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Basic Fibre Composi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Janelle Hocking Edwards, The University of Western Australi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62800" y="650700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.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Basic components of the fib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ibre is 85% protein (amino acid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, H, N, O and S are main el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hese determine the fibre’s chemical proper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ome lipids are pres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he major minerals are Ca and 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Amino acid composi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4440" y="6324480"/>
            <a:ext cx="193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.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Reis, P.J., (197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19320" y="1278000"/>
            <a:ext cx="7696080" cy="3904560"/>
            <a:chOff x="1219320" y="1278000"/>
            <a:chExt cx="7696080" cy="3904560"/>
          </a:xfrm>
        </p:grpSpPr>
        <p:sp>
          <p:nvSpPr>
            <p:cNvPr id="55" name=""/>
            <p:cNvSpPr/>
            <p:nvPr/>
          </p:nvSpPr>
          <p:spPr>
            <a:xfrm>
              <a:off x="1470240" y="1760400"/>
              <a:ext cx="1047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Amino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8960" y="2182680"/>
              <a:ext cx="678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acid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78280" y="1760400"/>
              <a:ext cx="1047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Whole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1560" y="2182680"/>
              <a:ext cx="761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wool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49560" y="1760400"/>
              <a:ext cx="451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L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91280" y="2182680"/>
              <a:ext cx="1315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protein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75600" y="1760400"/>
              <a:ext cx="512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H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48640" y="2182680"/>
              <a:ext cx="1315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protein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40520" y="1760400"/>
              <a:ext cx="492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HT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06000" y="2182680"/>
              <a:ext cx="1315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protein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26200" y="2624040"/>
              <a:ext cx="575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Arg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60880" y="26240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18240" y="26240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7.8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75600" y="26240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32960" y="26240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3.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88760" y="3049560"/>
              <a:ext cx="6361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Cy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51080" y="3049560"/>
              <a:ext cx="72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13.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18240" y="304956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65800" y="3049560"/>
              <a:ext cx="72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2960" y="304956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4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34480" y="3471840"/>
              <a:ext cx="554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Gly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60880" y="34718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18240" y="34718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75600" y="347184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6.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823160" y="3471840"/>
              <a:ext cx="72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6.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22960" y="3894120"/>
              <a:ext cx="575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Ly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60880" y="389412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8240" y="389412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5600" y="389412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32960" y="389412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3520" y="4318200"/>
              <a:ext cx="616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Met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60880" y="431820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18240" y="431820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75600" y="431820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32960" y="431820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43840" y="4740480"/>
              <a:ext cx="534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99"/>
                  </a:solidFill>
                  <a:latin typeface="Arial"/>
                </a:rPr>
                <a:t>Tyr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60880" y="474048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3.8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8240" y="474048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5600" y="4740480"/>
              <a:ext cx="5144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3160" y="4740480"/>
              <a:ext cx="72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ffffff"/>
                  </a:solidFill>
                  <a:latin typeface="Arial"/>
                </a:rPr>
                <a:t>18.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20200" y="1278000"/>
              <a:ext cx="524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Residues per 100 residues of amino aci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9320" y="2589120"/>
              <a:ext cx="769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18:11Z</dcterms:created>
  <dc:creator>USER</dc:creator>
  <dc:description/>
  <dc:language>en-US</dc:language>
  <cp:lastModifiedBy>Hdaily</cp:lastModifiedBy>
  <cp:lastPrinted>2000-02-16T05:44:16Z</cp:lastPrinted>
  <dcterms:modified xsi:type="dcterms:W3CDTF">2000-05-12T05:11:14Z</dcterms:modified>
  <cp:revision>4</cp:revision>
  <dc:subject/>
  <dc:title>Basic Fibre Composition</dc:title>
</cp:coreProperties>
</file>