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9DB8-3AF7-4328-BFC2-784AB9DF2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82D7-E980-437F-9A20-AFCA747E3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1"/>
          <p:cNvSpPr>
            <a:spLocks noGrp="1"/>
          </p:cNvSpPr>
          <p:nvPr>
            <p:ph type="sldImg"/>
          </p:nvPr>
        </p:nvSpPr>
        <p:spPr>
          <a:xfrm>
            <a:off x="1562040" y="533520"/>
            <a:ext cx="3657600" cy="2743200"/>
          </a:xfrm>
          <a:prstGeom prst="rect">
            <a:avLst/>
          </a:prstGeom>
          <a:ln w="0">
            <a:noFill/>
          </a:ln>
        </p:spPr>
      </p:sp>
      <p:sp>
        <p:nvSpPr>
          <p:cNvPr id="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summarises  the current knowledge about energy metabolism in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is a significant energy substrate for both the skin and hair follicles.  These tissues demonstrate high rates of aerobic glycolysis and glutaminolysis and they share characteristics of other tissues having this metabolic patt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E255-DD0C-4F59-8275-6B72F85DF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creasing number of tissues have been identified as engaging in both aerobic glycolysis and glutaminolysis. This has been established for a wide range of cells and tissue types including hair follicles.  High rates of glycolysis and glutaminolysis occur in tissues with the following characteristic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pidly dividing cell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which have proliferative potential;</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with a secretory function i.e. high rate of mRNA and protein synthesis; o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with high rates of membrane turnover i.e. phospholipid synthesi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monia production by cattle skin slices has been attributed to protein oxidation.  In conjunction with evidence of glutaminolysis in skin this observation suggests that the ammonia was derived from glutamine and perhaps partial oxidation of other key amino acids.  Glucose reduced the production of ammonia thus supporting the hypothesis that the skin exhibits a glutamine/glucose cycle. Endogenous production of lactate occurs when wool follicles are incubated in the absence of glucose.  Although the decrease in endogenous glycogen concentration suggests that this may be the source of lactate it is also possible that glutaminolysis contributed to the appearance of lact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lysis and Glutaminoly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lysis and glutaminolysis occur together</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issues which engage in aerobic glycolysis commonly show high levels of  glutaminolys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se tissues are generally engaged in active cell divi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H</a:t>
            </a:r>
            <a:r>
              <a:rPr b="1" lang="en-AU" sz="2800" spc="-1" strike="noStrike" baseline="-25000">
                <a:solidFill>
                  <a:srgbClr val="ffffff"/>
                </a:solidFill>
                <a:latin typeface="Arial"/>
              </a:rPr>
              <a:t>4</a:t>
            </a:r>
            <a:r>
              <a:rPr b="1" lang="en-AU" sz="2800" spc="-1" strike="noStrike" baseline="30000">
                <a:solidFill>
                  <a:srgbClr val="ffffff"/>
                </a:solidFill>
                <a:latin typeface="Arial"/>
              </a:rPr>
              <a:t>+</a:t>
            </a:r>
            <a:r>
              <a:rPr b="1" lang="en-AU" sz="2800" spc="-1" strike="noStrike">
                <a:solidFill>
                  <a:srgbClr val="ffffff"/>
                </a:solidFill>
                <a:latin typeface="Arial"/>
              </a:rPr>
              <a:t> produced by glutamine metabolism may balance the acid load created by the production of CO</a:t>
            </a:r>
            <a:r>
              <a:rPr b="1" lang="en-AU" sz="2800" spc="-1" strike="noStrike" baseline="-25000">
                <a:solidFill>
                  <a:srgbClr val="ffffff"/>
                </a:solidFill>
                <a:latin typeface="Arial"/>
              </a:rPr>
              <a:t>2</a:t>
            </a:r>
            <a:r>
              <a:rPr b="1" lang="en-AU" sz="2800" spc="-1" strike="noStrike">
                <a:solidFill>
                  <a:srgbClr val="ffffff"/>
                </a:solidFill>
                <a:latin typeface="Arial"/>
              </a:rPr>
              <a:t> and lactat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0:25:44Z</dcterms:created>
  <dc:creator>USER</dc:creator>
  <dc:description/>
  <dc:language>en-US</dc:language>
  <cp:lastModifiedBy>Hdaily</cp:lastModifiedBy>
  <cp:lastPrinted>2000-02-03T09:09:47Z</cp:lastPrinted>
  <dcterms:modified xsi:type="dcterms:W3CDTF">2000-05-30T05:10:39Z</dcterms:modified>
  <cp:revision>3</cp:revision>
  <dc:subject/>
  <dc:title>Glycolysis and Glutaminolysis</dc:title>
</cp:coreProperties>
</file>