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1497-51B7-4DD9-94F4-392F20DA6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Since cell division is essential for follicle function and fibre formation it is necessary to understand how cells replicate. These notes provide a brief summary of stathmokinetic methods used to estimate cell division rate.  Photomicrographs of sheep skin that has been injected with colchicine are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thmokinetic techniques involves the use of antimitotic drugs that act by binding to the tubulin molecules in the spindle and prevents the polymerisation of the spindle.  The cells are unable to pass through mitosis and stay in metaphase.  Compounds that have been used to estimate cell division rate in sheep include colchicine, colcemid and vineblastine.  Colchicine tends to be the most popul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thod involves the administration of the drug.  The cells stop cycling in metaphase.  Skin samples are taken within 4 hours after administration and the number of cells that are in metaphase are counted.  Cells in metaphase are distinguished by the condensed chromosomes.  This method works on the theory that any cell that tries to divide over the period between drug administration and skin sampling will be stopped.  Thus it is possible to count the number of cells undergoing division during that time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ynd, P.I., Schlink, A.C,., Phillips, P.M. and Scobie, D.R. (1986).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39:3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micrograph of sheep skin that has been sampled two hours after colchicine administration.  The dark cells in the bulbs are the ones containing condensed chromosomes and it is these that have attempted to undergo division since drug administration.  Thus the cell division rate of this sample would b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0 cells undergoing division</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bulb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hour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1.25 cells per bulb per hour per 4µm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re are no dividing cells in the dermal papilla, or above the apex of the dermal papilla and that there are few fibroblasts arrested.</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Cell Division Rates by Manipulating the Cell Cycle With Colchicin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rresting cell divis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thmokinetic: to stop cell divi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ounds u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chicine, colcemid and vineblast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th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ug administ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kin samp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unting cells in metaph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umber of cells dividing / time</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428840" y="957240"/>
            <a:ext cx="7484400" cy="5217120"/>
            <a:chOff x="1428840" y="957240"/>
            <a:chExt cx="7484400" cy="5217120"/>
          </a:xfrm>
        </p:grpSpPr>
        <p:pic>
          <p:nvPicPr>
            <p:cNvPr id="53" name="" descr=""/>
            <p:cNvPicPr/>
            <p:nvPr/>
          </p:nvPicPr>
          <p:blipFill>
            <a:blip r:embed="rId1">
              <a:lum contrast="18000"/>
            </a:blip>
            <a:stretch/>
          </p:blipFill>
          <p:spPr>
            <a:xfrm>
              <a:off x="1428840" y="957240"/>
              <a:ext cx="7467840" cy="5207400"/>
            </a:xfrm>
            <a:prstGeom prst="rect">
              <a:avLst/>
            </a:prstGeom>
            <a:ln w="0">
              <a:noFill/>
            </a:ln>
          </p:spPr>
        </p:pic>
        <p:sp>
          <p:nvSpPr>
            <p:cNvPr id="54" name=""/>
            <p:cNvSpPr/>
            <p:nvPr/>
          </p:nvSpPr>
          <p:spPr>
            <a:xfrm>
              <a:off x="4683240" y="5714640"/>
              <a:ext cx="423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ells arrested in metaphase</a:t>
              </a:r>
              <a:endParaRPr b="0" lang="en-US" sz="2400" spc="-1" strike="noStrike">
                <a:solidFill>
                  <a:srgbClr val="000000"/>
                </a:solidFill>
                <a:latin typeface="Times New Roman"/>
              </a:endParaRPr>
            </a:p>
          </p:txBody>
        </p:sp>
        <p:sp>
          <p:nvSpPr>
            <p:cNvPr id="55" name=""/>
            <p:cNvSpPr/>
            <p:nvPr/>
          </p:nvSpPr>
          <p:spPr>
            <a:xfrm flipH="1" flipV="1">
              <a:off x="3813840" y="5452920"/>
              <a:ext cx="1089000" cy="33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flipV="1">
              <a:off x="4966920" y="5080680"/>
              <a:ext cx="986760" cy="70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6982200" y="4171320"/>
              <a:ext cx="674640" cy="1341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ell division rate</a:t>
            </a:r>
            <a:endParaRPr b="1" lang="en-US" sz="3200" spc="-1" strike="noStrike">
              <a:solidFill>
                <a:srgbClr val="fafd00"/>
              </a:solidFill>
              <a:latin typeface="Arial"/>
            </a:endParaRPr>
          </a:p>
        </p:txBody>
      </p:sp>
      <p:sp>
        <p:nvSpPr>
          <p:cNvPr id="5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39:25Z</dcterms:created>
  <dc:creator>USER</dc:creator>
  <dc:description/>
  <dc:language>en-US</dc:language>
  <cp:lastModifiedBy>Wes Osborne</cp:lastModifiedBy>
  <cp:lastPrinted>2000-02-03T09:09:47Z</cp:lastPrinted>
  <dcterms:modified xsi:type="dcterms:W3CDTF">2000-05-18T05:34:04Z</dcterms:modified>
  <cp:revision>2</cp:revision>
  <dc:subject/>
  <dc:title>Estimating Cell Division Rates by Manipulating the Cell Cycle With Colchicine</dc:title>
</cp:coreProperties>
</file>