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2C57-0043-4E0B-B335-69F5FE727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0FD1-397E-4039-AD97-8D282653A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variations in fleece characteristics between different strains of sheep maintained under the same environmental conditions and describes the whole body differences that may give rise to these vari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72B9-E295-4D41-A0BF-04301E0E6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A.  (196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3:5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inherent variation in wool growth between 3 strains of Merinos all maintained under the same conditions.  Note that the variation in the fleece characteristics ranges from 27 to 74% between the finewool and strongwool Merinos with the medium wool Merino (Peppin) intermediate between the tw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26E-21CB-4BE9-AD08-F5571C7B3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production is related to feed intake and bodyweight, but these only account for small differences in the genetic variation in wool production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with high rates of wool growth tend to be more efficient converters of feed to wool and this can contribute 50 - 90% of the variation in wool production.  Thus the capacity for wool growth is not dependent on the quantity of nutrients supplied, rather it is dependent on how the nutrients are util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nhanced efficiency of high-wool producers is due to differences in the utilisation of absorbed nutrients after digestion rather than digestive ability.  Differences in wool growth may therefore be related to the availability of nutrients to all tissues in the body (i.e. partitioning) or differences in biochemical kinetics between t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ynd, P. (1998). Nutrition and Wool Growth. CRC for Premium Quality Wool, Wool Biology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at there is a direct relationship between wool growth and feed intake.  It also shows that sheep genotype affects the utilisation of nutrients for wool growth.  For example, at any given level of nutrition a high wool-producer will always produce more wool than a sheep which is a genetically low wool producer.   It is important to note also, that to identify high-producers high levels of intake and wool growth should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this is a diminishing returns curve which suggests that it is more efficient (in terms of wool/ha or wool/feed intake) to feed more sheep at a lower rate/individual.  This means that as more sheep are fed less, then feed is used most efficiently.  A possible cause of changing efficiency is that excess feed beyond the animals needs is converted to fat, rather than w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CB73-0CCF-4151-BD4E-EACD3155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differences in metabolism and endocrinology status that exist between sheep selected for (Fleece-plus) and against (Fleece-minus)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vels of plasma cystine are lower in Fleece-plus sheep than Fleece-minus sheep although the net availability (rates of irreversible loss/flux) appears to be similar.  There are some differences in the cystine metabolism of these sheep due to a higher requirement for cystine in the higher producing sheep and they respond better to supplementary levels of cyst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rmones which affect wool at physiological levels include cortisol, growth hormone (GH) and insulin, however none of these differ between sheep in similar environments.  Thyroxine sometimes is less in high-producing ani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lasma urea differs but inconsistently (lower in superior animals e.g. cattle and milk/milk solids; pigs and lean tissue growth).  There may be a common genetic association between protein deposition and plasma u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inconsistent differences in plasma acetate, lactate, potassium and glutathi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Williams, A.J. (1987) In: Merino Improvement Programs in Australia.  Ed; B.J. McGuirk, Australian Wool Corporation, Melbour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257040" y="1019160"/>
            <a:ext cx="8705880" cy="2152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ole Body Differences that affect Wool Production</a:t>
            </a:r>
            <a:endParaRPr b="1" lang="en-US" sz="3200" spc="-1" strike="noStrike">
              <a:solidFill>
                <a:srgbClr val="fafd00"/>
              </a:solidFill>
              <a:latin typeface="Arial"/>
            </a:endParaRPr>
          </a:p>
        </p:txBody>
      </p:sp>
      <p:sp>
        <p:nvSpPr>
          <p:cNvPr id="49"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0" name=""/>
          <p:cNvSpPr/>
          <p:nvPr/>
        </p:nvSpPr>
        <p:spPr>
          <a:xfrm>
            <a:off x="7253280" y="6357960"/>
            <a:ext cx="1897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200" spc="-1" strike="noStrike">
                <a:solidFill>
                  <a:srgbClr val="fafd00"/>
                </a:solidFill>
                <a:latin typeface="Arial"/>
              </a:rPr>
              <a:t>Source: Dunlop (1962)</a:t>
            </a:r>
            <a:endParaRPr b="0" lang="en-US" sz="1200" spc="-1" strike="noStrike">
              <a:solidFill>
                <a:srgbClr val="000000"/>
              </a:solidFill>
              <a:latin typeface="Times New Roman"/>
            </a:endParaRPr>
          </a:p>
        </p:txBody>
      </p:sp>
      <p:graphicFrame>
        <p:nvGraphicFramePr>
          <p:cNvPr id="51" name=""/>
          <p:cNvGraphicFramePr/>
          <p:nvPr/>
        </p:nvGraphicFramePr>
        <p:xfrm>
          <a:off x="1001880" y="1271520"/>
          <a:ext cx="8065800" cy="4367160"/>
        </p:xfrm>
        <a:graphic>
          <a:graphicData uri="http://schemas.openxmlformats.org/presentationml/2006/ole">
            <p:oleObj progId="Word.Document.12" r:id="rId1" spid="">
              <p:embed/>
              <p:pic>
                <p:nvPicPr>
                  <p:cNvPr id="52" name="" descr=""/>
                  <p:cNvPicPr/>
                  <p:nvPr/>
                </p:nvPicPr>
                <p:blipFill>
                  <a:blip r:embed="rId2"/>
                  <a:stretch/>
                </p:blipFill>
                <p:spPr>
                  <a:xfrm>
                    <a:off x="1001880" y="1271520"/>
                    <a:ext cx="8065800" cy="4367160"/>
                  </a:xfrm>
                  <a:prstGeom prst="rect">
                    <a:avLst/>
                  </a:prstGeom>
                  <a:ln w="0">
                    <a:noFill/>
                  </a:ln>
                </p:spPr>
              </p:pic>
            </p:oleObj>
          </a:graphicData>
        </a:graphic>
      </p:graphicFrame>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ariation between merino strain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ally superior sheep for wool production do not:</a:t>
            </a:r>
            <a:endParaRPr b="1" lang="en-US" sz="3200" spc="-1" strike="noStrike">
              <a:solidFill>
                <a:srgbClr val="fafd00"/>
              </a:solidFill>
              <a:latin typeface="Arial"/>
            </a:endParaRPr>
          </a:p>
        </p:txBody>
      </p:sp>
      <p:sp>
        <p:nvSpPr>
          <p:cNvPr id="56" name="PlaceHolder 2"/>
          <p:cNvSpPr>
            <a:spLocks noGrp="1"/>
          </p:cNvSpPr>
          <p:nvPr>
            <p:ph/>
          </p:nvPr>
        </p:nvSpPr>
        <p:spPr>
          <a:xfrm>
            <a:off x="1294920" y="1218960"/>
            <a:ext cx="762012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nd to be bigger shee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t more feed per unit live weigh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ve a more effective digestion syste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ve a different metabolic rat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They tend to be more efficient converters of feed to woo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123200" y="1006560"/>
            <a:ext cx="7871760" cy="5395320"/>
            <a:chOff x="1123200" y="1006560"/>
            <a:chExt cx="7871760" cy="5395320"/>
          </a:xfrm>
        </p:grpSpPr>
        <p:sp>
          <p:nvSpPr>
            <p:cNvPr id="58" name=""/>
            <p:cNvSpPr/>
            <p:nvPr/>
          </p:nvSpPr>
          <p:spPr>
            <a:xfrm>
              <a:off x="2243160" y="1006560"/>
              <a:ext cx="0" cy="449568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243160" y="5502240"/>
              <a:ext cx="5410080" cy="0"/>
            </a:xfrm>
            <a:prstGeom prst="line">
              <a:avLst/>
            </a:prstGeom>
            <a:ln w="507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909160" y="5943600"/>
              <a:ext cx="4932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gestible dry matter intake (g/d)</a:t>
              </a:r>
              <a:endParaRPr b="0" lang="en-US" sz="2400" spc="-1" strike="noStrike">
                <a:solidFill>
                  <a:srgbClr val="000000"/>
                </a:solidFill>
                <a:latin typeface="Times New Roman"/>
              </a:endParaRPr>
            </a:p>
          </p:txBody>
        </p:sp>
        <p:sp>
          <p:nvSpPr>
            <p:cNvPr id="61" name=""/>
            <p:cNvSpPr/>
            <p:nvPr/>
          </p:nvSpPr>
          <p:spPr>
            <a:xfrm rot="16140000">
              <a:off x="-753840" y="2948760"/>
              <a:ext cx="428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lean, dry wool growth (g/d)</a:t>
              </a:r>
              <a:endParaRPr b="0" lang="en-US" sz="2400" spc="-1" strike="noStrike">
                <a:solidFill>
                  <a:srgbClr val="000000"/>
                </a:solidFill>
                <a:latin typeface="Times New Roman"/>
              </a:endParaRPr>
            </a:p>
          </p:txBody>
        </p:sp>
        <p:sp>
          <p:nvSpPr>
            <p:cNvPr id="62" name=""/>
            <p:cNvSpPr/>
            <p:nvPr/>
          </p:nvSpPr>
          <p:spPr>
            <a:xfrm>
              <a:off x="2700360" y="1490400"/>
              <a:ext cx="5246640" cy="3479760"/>
            </a:xfrm>
            <a:custGeom>
              <a:avLst/>
              <a:gdLst/>
              <a:ahLst/>
              <a:rect l="l" t="t" r="r" b="b"/>
              <a:pathLst>
                <a:path w="3305" h="2192">
                  <a:moveTo>
                    <a:pt x="0" y="2191"/>
                  </a:moveTo>
                  <a:lnTo>
                    <a:pt x="47" y="2164"/>
                  </a:lnTo>
                  <a:lnTo>
                    <a:pt x="58" y="2132"/>
                  </a:lnTo>
                  <a:lnTo>
                    <a:pt x="68" y="2110"/>
                  </a:lnTo>
                  <a:lnTo>
                    <a:pt x="90" y="2089"/>
                  </a:lnTo>
                  <a:lnTo>
                    <a:pt x="111" y="2057"/>
                  </a:lnTo>
                  <a:lnTo>
                    <a:pt x="122" y="2035"/>
                  </a:lnTo>
                  <a:lnTo>
                    <a:pt x="154" y="2014"/>
                  </a:lnTo>
                  <a:lnTo>
                    <a:pt x="175" y="1982"/>
                  </a:lnTo>
                  <a:lnTo>
                    <a:pt x="197" y="1950"/>
                  </a:lnTo>
                  <a:lnTo>
                    <a:pt x="208" y="1928"/>
                  </a:lnTo>
                  <a:lnTo>
                    <a:pt x="229" y="1896"/>
                  </a:lnTo>
                  <a:lnTo>
                    <a:pt x="250" y="1864"/>
                  </a:lnTo>
                  <a:lnTo>
                    <a:pt x="272" y="1843"/>
                  </a:lnTo>
                  <a:lnTo>
                    <a:pt x="283" y="1821"/>
                  </a:lnTo>
                  <a:lnTo>
                    <a:pt x="304" y="1789"/>
                  </a:lnTo>
                  <a:lnTo>
                    <a:pt x="336" y="1757"/>
                  </a:lnTo>
                  <a:lnTo>
                    <a:pt x="358" y="1725"/>
                  </a:lnTo>
                  <a:lnTo>
                    <a:pt x="368" y="1703"/>
                  </a:lnTo>
                  <a:lnTo>
                    <a:pt x="390" y="1693"/>
                  </a:lnTo>
                  <a:lnTo>
                    <a:pt x="400" y="1671"/>
                  </a:lnTo>
                  <a:lnTo>
                    <a:pt x="422" y="1639"/>
                  </a:lnTo>
                  <a:lnTo>
                    <a:pt x="443" y="1607"/>
                  </a:lnTo>
                  <a:lnTo>
                    <a:pt x="465" y="1586"/>
                  </a:lnTo>
                  <a:lnTo>
                    <a:pt x="475" y="1564"/>
                  </a:lnTo>
                  <a:lnTo>
                    <a:pt x="497" y="1543"/>
                  </a:lnTo>
                  <a:lnTo>
                    <a:pt x="508" y="1521"/>
                  </a:lnTo>
                  <a:lnTo>
                    <a:pt x="529" y="1489"/>
                  </a:lnTo>
                  <a:lnTo>
                    <a:pt x="550" y="1457"/>
                  </a:lnTo>
                  <a:lnTo>
                    <a:pt x="561" y="1425"/>
                  </a:lnTo>
                  <a:lnTo>
                    <a:pt x="583" y="1404"/>
                  </a:lnTo>
                  <a:lnTo>
                    <a:pt x="593" y="1382"/>
                  </a:lnTo>
                  <a:lnTo>
                    <a:pt x="604" y="1350"/>
                  </a:lnTo>
                  <a:lnTo>
                    <a:pt x="636" y="1329"/>
                  </a:lnTo>
                  <a:lnTo>
                    <a:pt x="658" y="1296"/>
                  </a:lnTo>
                  <a:lnTo>
                    <a:pt x="690" y="1264"/>
                  </a:lnTo>
                  <a:lnTo>
                    <a:pt x="722" y="1232"/>
                  </a:lnTo>
                  <a:lnTo>
                    <a:pt x="754" y="1200"/>
                  </a:lnTo>
                  <a:lnTo>
                    <a:pt x="775" y="1168"/>
                  </a:lnTo>
                  <a:lnTo>
                    <a:pt x="797" y="1147"/>
                  </a:lnTo>
                  <a:lnTo>
                    <a:pt x="808" y="1125"/>
                  </a:lnTo>
                  <a:lnTo>
                    <a:pt x="840" y="1093"/>
                  </a:lnTo>
                  <a:lnTo>
                    <a:pt x="861" y="1061"/>
                  </a:lnTo>
                  <a:lnTo>
                    <a:pt x="883" y="1039"/>
                  </a:lnTo>
                  <a:lnTo>
                    <a:pt x="904" y="1007"/>
                  </a:lnTo>
                  <a:lnTo>
                    <a:pt x="936" y="975"/>
                  </a:lnTo>
                  <a:lnTo>
                    <a:pt x="958" y="954"/>
                  </a:lnTo>
                  <a:lnTo>
                    <a:pt x="968" y="932"/>
                  </a:lnTo>
                  <a:lnTo>
                    <a:pt x="990" y="911"/>
                  </a:lnTo>
                  <a:lnTo>
                    <a:pt x="1011" y="889"/>
                  </a:lnTo>
                  <a:lnTo>
                    <a:pt x="1043" y="857"/>
                  </a:lnTo>
                  <a:lnTo>
                    <a:pt x="1065" y="836"/>
                  </a:lnTo>
                  <a:lnTo>
                    <a:pt x="1086" y="814"/>
                  </a:lnTo>
                  <a:lnTo>
                    <a:pt x="1118" y="782"/>
                  </a:lnTo>
                  <a:lnTo>
                    <a:pt x="1140" y="761"/>
                  </a:lnTo>
                  <a:lnTo>
                    <a:pt x="1161" y="739"/>
                  </a:lnTo>
                  <a:lnTo>
                    <a:pt x="1193" y="707"/>
                  </a:lnTo>
                  <a:lnTo>
                    <a:pt x="1215" y="697"/>
                  </a:lnTo>
                  <a:lnTo>
                    <a:pt x="1236" y="675"/>
                  </a:lnTo>
                  <a:lnTo>
                    <a:pt x="1268" y="654"/>
                  </a:lnTo>
                  <a:lnTo>
                    <a:pt x="1290" y="632"/>
                  </a:lnTo>
                  <a:lnTo>
                    <a:pt x="1322" y="611"/>
                  </a:lnTo>
                  <a:lnTo>
                    <a:pt x="1354" y="590"/>
                  </a:lnTo>
                  <a:lnTo>
                    <a:pt x="1375" y="568"/>
                  </a:lnTo>
                  <a:lnTo>
                    <a:pt x="1397" y="557"/>
                  </a:lnTo>
                  <a:lnTo>
                    <a:pt x="1429" y="536"/>
                  </a:lnTo>
                  <a:lnTo>
                    <a:pt x="1461" y="515"/>
                  </a:lnTo>
                  <a:lnTo>
                    <a:pt x="1482" y="493"/>
                  </a:lnTo>
                  <a:lnTo>
                    <a:pt x="1504" y="482"/>
                  </a:lnTo>
                  <a:lnTo>
                    <a:pt x="1536" y="461"/>
                  </a:lnTo>
                  <a:lnTo>
                    <a:pt x="1568" y="450"/>
                  </a:lnTo>
                  <a:lnTo>
                    <a:pt x="1590" y="440"/>
                  </a:lnTo>
                  <a:lnTo>
                    <a:pt x="1622" y="418"/>
                  </a:lnTo>
                  <a:lnTo>
                    <a:pt x="1654" y="407"/>
                  </a:lnTo>
                  <a:lnTo>
                    <a:pt x="1686" y="397"/>
                  </a:lnTo>
                  <a:lnTo>
                    <a:pt x="1718" y="386"/>
                  </a:lnTo>
                  <a:lnTo>
                    <a:pt x="1740" y="375"/>
                  </a:lnTo>
                  <a:lnTo>
                    <a:pt x="1772" y="365"/>
                  </a:lnTo>
                  <a:lnTo>
                    <a:pt x="1804" y="354"/>
                  </a:lnTo>
                  <a:lnTo>
                    <a:pt x="1825" y="332"/>
                  </a:lnTo>
                  <a:lnTo>
                    <a:pt x="1847" y="332"/>
                  </a:lnTo>
                  <a:lnTo>
                    <a:pt x="1890" y="311"/>
                  </a:lnTo>
                  <a:lnTo>
                    <a:pt x="1922" y="300"/>
                  </a:lnTo>
                  <a:lnTo>
                    <a:pt x="1954" y="279"/>
                  </a:lnTo>
                  <a:lnTo>
                    <a:pt x="1986" y="268"/>
                  </a:lnTo>
                  <a:lnTo>
                    <a:pt x="2018" y="258"/>
                  </a:lnTo>
                  <a:lnTo>
                    <a:pt x="2040" y="247"/>
                  </a:lnTo>
                  <a:lnTo>
                    <a:pt x="2072" y="236"/>
                  </a:lnTo>
                  <a:lnTo>
                    <a:pt x="2104" y="225"/>
                  </a:lnTo>
                  <a:lnTo>
                    <a:pt x="2136" y="215"/>
                  </a:lnTo>
                  <a:lnTo>
                    <a:pt x="2168" y="204"/>
                  </a:lnTo>
                  <a:lnTo>
                    <a:pt x="2200" y="193"/>
                  </a:lnTo>
                  <a:lnTo>
                    <a:pt x="2232" y="193"/>
                  </a:lnTo>
                  <a:lnTo>
                    <a:pt x="2254" y="183"/>
                  </a:lnTo>
                  <a:lnTo>
                    <a:pt x="2286" y="172"/>
                  </a:lnTo>
                  <a:lnTo>
                    <a:pt x="2318" y="161"/>
                  </a:lnTo>
                  <a:lnTo>
                    <a:pt x="2350" y="150"/>
                  </a:lnTo>
                  <a:lnTo>
                    <a:pt x="2372" y="150"/>
                  </a:lnTo>
                  <a:lnTo>
                    <a:pt x="2404" y="140"/>
                  </a:lnTo>
                  <a:lnTo>
                    <a:pt x="2436" y="129"/>
                  </a:lnTo>
                  <a:lnTo>
                    <a:pt x="2468" y="118"/>
                  </a:lnTo>
                  <a:lnTo>
                    <a:pt x="2500" y="108"/>
                  </a:lnTo>
                  <a:lnTo>
                    <a:pt x="2522" y="97"/>
                  </a:lnTo>
                  <a:lnTo>
                    <a:pt x="2554" y="97"/>
                  </a:lnTo>
                  <a:lnTo>
                    <a:pt x="2586" y="86"/>
                  </a:lnTo>
                  <a:lnTo>
                    <a:pt x="2618" y="75"/>
                  </a:lnTo>
                  <a:lnTo>
                    <a:pt x="2650" y="65"/>
                  </a:lnTo>
                  <a:lnTo>
                    <a:pt x="2672" y="65"/>
                  </a:lnTo>
                  <a:lnTo>
                    <a:pt x="2704" y="54"/>
                  </a:lnTo>
                  <a:lnTo>
                    <a:pt x="2736" y="54"/>
                  </a:lnTo>
                  <a:lnTo>
                    <a:pt x="2768" y="43"/>
                  </a:lnTo>
                  <a:lnTo>
                    <a:pt x="2800" y="43"/>
                  </a:lnTo>
                  <a:lnTo>
                    <a:pt x="2822" y="33"/>
                  </a:lnTo>
                  <a:lnTo>
                    <a:pt x="2854" y="33"/>
                  </a:lnTo>
                  <a:lnTo>
                    <a:pt x="2886" y="33"/>
                  </a:lnTo>
                  <a:lnTo>
                    <a:pt x="2918" y="33"/>
                  </a:lnTo>
                  <a:lnTo>
                    <a:pt x="2950" y="22"/>
                  </a:lnTo>
                  <a:lnTo>
                    <a:pt x="2972" y="22"/>
                  </a:lnTo>
                  <a:lnTo>
                    <a:pt x="3004" y="22"/>
                  </a:lnTo>
                  <a:lnTo>
                    <a:pt x="3036" y="11"/>
                  </a:lnTo>
                  <a:lnTo>
                    <a:pt x="3068" y="11"/>
                  </a:lnTo>
                  <a:lnTo>
                    <a:pt x="3100" y="0"/>
                  </a:lnTo>
                  <a:lnTo>
                    <a:pt x="3122" y="0"/>
                  </a:lnTo>
                  <a:lnTo>
                    <a:pt x="3154" y="0"/>
                  </a:lnTo>
                  <a:lnTo>
                    <a:pt x="3186" y="0"/>
                  </a:lnTo>
                  <a:lnTo>
                    <a:pt x="3218" y="0"/>
                  </a:lnTo>
                  <a:lnTo>
                    <a:pt x="3250" y="0"/>
                  </a:lnTo>
                  <a:lnTo>
                    <a:pt x="3282" y="0"/>
                  </a:lnTo>
                  <a:lnTo>
                    <a:pt x="3304" y="0"/>
                  </a:lnTo>
                </a:path>
              </a:pathLst>
            </a:custGeom>
            <a:noFill/>
            <a:ln cap="rnd" w="507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776680" y="3386160"/>
              <a:ext cx="5238720" cy="1888560"/>
            </a:xfrm>
            <a:custGeom>
              <a:avLst/>
              <a:gdLst/>
              <a:ahLst/>
              <a:rect l="l" t="t" r="r" b="b"/>
              <a:pathLst>
                <a:path w="3300" h="1190">
                  <a:moveTo>
                    <a:pt x="0" y="1189"/>
                  </a:moveTo>
                  <a:lnTo>
                    <a:pt x="21" y="1146"/>
                  </a:lnTo>
                  <a:lnTo>
                    <a:pt x="53" y="1135"/>
                  </a:lnTo>
                  <a:lnTo>
                    <a:pt x="85" y="1103"/>
                  </a:lnTo>
                  <a:lnTo>
                    <a:pt x="117" y="1082"/>
                  </a:lnTo>
                  <a:lnTo>
                    <a:pt x="139" y="1071"/>
                  </a:lnTo>
                  <a:lnTo>
                    <a:pt x="171" y="1050"/>
                  </a:lnTo>
                  <a:lnTo>
                    <a:pt x="192" y="1028"/>
                  </a:lnTo>
                  <a:lnTo>
                    <a:pt x="214" y="1018"/>
                  </a:lnTo>
                  <a:lnTo>
                    <a:pt x="246" y="996"/>
                  </a:lnTo>
                  <a:lnTo>
                    <a:pt x="278" y="975"/>
                  </a:lnTo>
                  <a:lnTo>
                    <a:pt x="310" y="953"/>
                  </a:lnTo>
                  <a:lnTo>
                    <a:pt x="342" y="932"/>
                  </a:lnTo>
                  <a:lnTo>
                    <a:pt x="364" y="911"/>
                  </a:lnTo>
                  <a:lnTo>
                    <a:pt x="396" y="900"/>
                  </a:lnTo>
                  <a:lnTo>
                    <a:pt x="417" y="878"/>
                  </a:lnTo>
                  <a:lnTo>
                    <a:pt x="439" y="868"/>
                  </a:lnTo>
                  <a:lnTo>
                    <a:pt x="449" y="846"/>
                  </a:lnTo>
                  <a:lnTo>
                    <a:pt x="471" y="836"/>
                  </a:lnTo>
                  <a:lnTo>
                    <a:pt x="492" y="814"/>
                  </a:lnTo>
                  <a:lnTo>
                    <a:pt x="514" y="803"/>
                  </a:lnTo>
                  <a:lnTo>
                    <a:pt x="546" y="782"/>
                  </a:lnTo>
                  <a:lnTo>
                    <a:pt x="567" y="750"/>
                  </a:lnTo>
                  <a:lnTo>
                    <a:pt x="589" y="750"/>
                  </a:lnTo>
                  <a:lnTo>
                    <a:pt x="610" y="728"/>
                  </a:lnTo>
                  <a:lnTo>
                    <a:pt x="642" y="718"/>
                  </a:lnTo>
                  <a:lnTo>
                    <a:pt x="664" y="696"/>
                  </a:lnTo>
                  <a:lnTo>
                    <a:pt x="696" y="686"/>
                  </a:lnTo>
                  <a:lnTo>
                    <a:pt x="717" y="664"/>
                  </a:lnTo>
                  <a:lnTo>
                    <a:pt x="739" y="664"/>
                  </a:lnTo>
                  <a:lnTo>
                    <a:pt x="771" y="643"/>
                  </a:lnTo>
                  <a:lnTo>
                    <a:pt x="803" y="632"/>
                  </a:lnTo>
                  <a:lnTo>
                    <a:pt x="835" y="621"/>
                  </a:lnTo>
                  <a:lnTo>
                    <a:pt x="867" y="600"/>
                  </a:lnTo>
                  <a:lnTo>
                    <a:pt x="899" y="589"/>
                  </a:lnTo>
                  <a:lnTo>
                    <a:pt x="921" y="578"/>
                  </a:lnTo>
                  <a:lnTo>
                    <a:pt x="953" y="568"/>
                  </a:lnTo>
                  <a:lnTo>
                    <a:pt x="985" y="546"/>
                  </a:lnTo>
                  <a:lnTo>
                    <a:pt x="1017" y="536"/>
                  </a:lnTo>
                  <a:lnTo>
                    <a:pt x="1049" y="525"/>
                  </a:lnTo>
                  <a:lnTo>
                    <a:pt x="1071" y="514"/>
                  </a:lnTo>
                  <a:lnTo>
                    <a:pt x="1103" y="493"/>
                  </a:lnTo>
                  <a:lnTo>
                    <a:pt x="1135" y="482"/>
                  </a:lnTo>
                  <a:lnTo>
                    <a:pt x="1167" y="471"/>
                  </a:lnTo>
                  <a:lnTo>
                    <a:pt x="1199" y="450"/>
                  </a:lnTo>
                  <a:lnTo>
                    <a:pt x="1221" y="439"/>
                  </a:lnTo>
                  <a:lnTo>
                    <a:pt x="1253" y="429"/>
                  </a:lnTo>
                  <a:lnTo>
                    <a:pt x="1285" y="418"/>
                  </a:lnTo>
                  <a:lnTo>
                    <a:pt x="1317" y="407"/>
                  </a:lnTo>
                  <a:lnTo>
                    <a:pt x="1349" y="386"/>
                  </a:lnTo>
                  <a:lnTo>
                    <a:pt x="1371" y="375"/>
                  </a:lnTo>
                  <a:lnTo>
                    <a:pt x="1403" y="364"/>
                  </a:lnTo>
                  <a:lnTo>
                    <a:pt x="1435" y="354"/>
                  </a:lnTo>
                  <a:lnTo>
                    <a:pt x="1467" y="343"/>
                  </a:lnTo>
                  <a:lnTo>
                    <a:pt x="1488" y="321"/>
                  </a:lnTo>
                  <a:lnTo>
                    <a:pt x="1510" y="321"/>
                  </a:lnTo>
                  <a:lnTo>
                    <a:pt x="1542" y="311"/>
                  </a:lnTo>
                  <a:lnTo>
                    <a:pt x="1574" y="300"/>
                  </a:lnTo>
                  <a:lnTo>
                    <a:pt x="1596" y="289"/>
                  </a:lnTo>
                  <a:lnTo>
                    <a:pt x="1628" y="268"/>
                  </a:lnTo>
                  <a:lnTo>
                    <a:pt x="1660" y="268"/>
                  </a:lnTo>
                  <a:lnTo>
                    <a:pt x="1692" y="246"/>
                  </a:lnTo>
                  <a:lnTo>
                    <a:pt x="1724" y="236"/>
                  </a:lnTo>
                  <a:lnTo>
                    <a:pt x="1746" y="236"/>
                  </a:lnTo>
                  <a:lnTo>
                    <a:pt x="1778" y="225"/>
                  </a:lnTo>
                  <a:lnTo>
                    <a:pt x="1810" y="214"/>
                  </a:lnTo>
                  <a:lnTo>
                    <a:pt x="1842" y="204"/>
                  </a:lnTo>
                  <a:lnTo>
                    <a:pt x="1874" y="193"/>
                  </a:lnTo>
                  <a:lnTo>
                    <a:pt x="1896" y="182"/>
                  </a:lnTo>
                  <a:lnTo>
                    <a:pt x="1928" y="171"/>
                  </a:lnTo>
                  <a:lnTo>
                    <a:pt x="1960" y="161"/>
                  </a:lnTo>
                  <a:lnTo>
                    <a:pt x="1992" y="139"/>
                  </a:lnTo>
                  <a:lnTo>
                    <a:pt x="2024" y="129"/>
                  </a:lnTo>
                  <a:lnTo>
                    <a:pt x="2056" y="118"/>
                  </a:lnTo>
                  <a:lnTo>
                    <a:pt x="2078" y="118"/>
                  </a:lnTo>
                  <a:lnTo>
                    <a:pt x="2110" y="107"/>
                  </a:lnTo>
                  <a:lnTo>
                    <a:pt x="2142" y="97"/>
                  </a:lnTo>
                  <a:lnTo>
                    <a:pt x="2174" y="97"/>
                  </a:lnTo>
                  <a:lnTo>
                    <a:pt x="2217" y="86"/>
                  </a:lnTo>
                  <a:lnTo>
                    <a:pt x="2249" y="86"/>
                  </a:lnTo>
                  <a:lnTo>
                    <a:pt x="2281" y="75"/>
                  </a:lnTo>
                  <a:lnTo>
                    <a:pt x="2303" y="75"/>
                  </a:lnTo>
                  <a:lnTo>
                    <a:pt x="2335" y="64"/>
                  </a:lnTo>
                  <a:lnTo>
                    <a:pt x="2367" y="64"/>
                  </a:lnTo>
                  <a:lnTo>
                    <a:pt x="2399" y="64"/>
                  </a:lnTo>
                  <a:lnTo>
                    <a:pt x="2431" y="54"/>
                  </a:lnTo>
                  <a:lnTo>
                    <a:pt x="2453" y="54"/>
                  </a:lnTo>
                  <a:lnTo>
                    <a:pt x="2485" y="54"/>
                  </a:lnTo>
                  <a:lnTo>
                    <a:pt x="2517" y="43"/>
                  </a:lnTo>
                  <a:lnTo>
                    <a:pt x="2549" y="43"/>
                  </a:lnTo>
                  <a:lnTo>
                    <a:pt x="2581" y="43"/>
                  </a:lnTo>
                  <a:lnTo>
                    <a:pt x="2603" y="43"/>
                  </a:lnTo>
                  <a:lnTo>
                    <a:pt x="2635" y="32"/>
                  </a:lnTo>
                  <a:lnTo>
                    <a:pt x="2667" y="32"/>
                  </a:lnTo>
                  <a:lnTo>
                    <a:pt x="2699" y="32"/>
                  </a:lnTo>
                  <a:lnTo>
                    <a:pt x="2731" y="32"/>
                  </a:lnTo>
                  <a:lnTo>
                    <a:pt x="2753" y="32"/>
                  </a:lnTo>
                  <a:lnTo>
                    <a:pt x="2785" y="32"/>
                  </a:lnTo>
                  <a:lnTo>
                    <a:pt x="2817" y="22"/>
                  </a:lnTo>
                  <a:lnTo>
                    <a:pt x="2849" y="22"/>
                  </a:lnTo>
                  <a:lnTo>
                    <a:pt x="2881" y="22"/>
                  </a:lnTo>
                  <a:lnTo>
                    <a:pt x="2903" y="22"/>
                  </a:lnTo>
                  <a:lnTo>
                    <a:pt x="2935" y="22"/>
                  </a:lnTo>
                  <a:lnTo>
                    <a:pt x="2967" y="11"/>
                  </a:lnTo>
                  <a:lnTo>
                    <a:pt x="2999" y="11"/>
                  </a:lnTo>
                  <a:lnTo>
                    <a:pt x="3031" y="0"/>
                  </a:lnTo>
                  <a:lnTo>
                    <a:pt x="3053" y="0"/>
                  </a:lnTo>
                  <a:lnTo>
                    <a:pt x="3085" y="0"/>
                  </a:lnTo>
                  <a:lnTo>
                    <a:pt x="3117" y="0"/>
                  </a:lnTo>
                  <a:lnTo>
                    <a:pt x="3149" y="0"/>
                  </a:lnTo>
                  <a:lnTo>
                    <a:pt x="3181" y="0"/>
                  </a:lnTo>
                  <a:lnTo>
                    <a:pt x="3213" y="0"/>
                  </a:lnTo>
                  <a:lnTo>
                    <a:pt x="3235" y="0"/>
                  </a:lnTo>
                  <a:lnTo>
                    <a:pt x="3267" y="0"/>
                  </a:lnTo>
                  <a:lnTo>
                    <a:pt x="3299" y="11"/>
                  </a:lnTo>
                </a:path>
              </a:pathLst>
            </a:custGeom>
            <a:noFill/>
            <a:ln cap="rnd" w="5076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779480" y="525780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65" name=""/>
            <p:cNvSpPr/>
            <p:nvPr/>
          </p:nvSpPr>
          <p:spPr>
            <a:xfrm>
              <a:off x="1703520" y="38862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endParaRPr b="0" lang="en-US" sz="2400" spc="-1" strike="noStrike">
                <a:solidFill>
                  <a:srgbClr val="000000"/>
                </a:solidFill>
                <a:latin typeface="Times New Roman"/>
              </a:endParaRPr>
            </a:p>
          </p:txBody>
        </p:sp>
        <p:sp>
          <p:nvSpPr>
            <p:cNvPr id="66" name=""/>
            <p:cNvSpPr/>
            <p:nvPr/>
          </p:nvSpPr>
          <p:spPr>
            <a:xfrm>
              <a:off x="1703520" y="228600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0</a:t>
              </a:r>
              <a:endParaRPr b="0" lang="en-US" sz="2400" spc="-1" strike="noStrike">
                <a:solidFill>
                  <a:srgbClr val="000000"/>
                </a:solidFill>
                <a:latin typeface="Times New Roman"/>
              </a:endParaRPr>
            </a:p>
          </p:txBody>
        </p:sp>
        <p:sp>
          <p:nvSpPr>
            <p:cNvPr id="67" name=""/>
            <p:cNvSpPr/>
            <p:nvPr/>
          </p:nvSpPr>
          <p:spPr>
            <a:xfrm>
              <a:off x="1703520" y="1066680"/>
              <a:ext cx="52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0</a:t>
              </a:r>
              <a:endParaRPr b="0" lang="en-US" sz="2400" spc="-1" strike="noStrike">
                <a:solidFill>
                  <a:srgbClr val="000000"/>
                </a:solidFill>
                <a:latin typeface="Times New Roman"/>
              </a:endParaRPr>
            </a:p>
          </p:txBody>
        </p:sp>
        <p:sp>
          <p:nvSpPr>
            <p:cNvPr id="68" name=""/>
            <p:cNvSpPr/>
            <p:nvPr/>
          </p:nvSpPr>
          <p:spPr>
            <a:xfrm>
              <a:off x="3142440" y="5486400"/>
              <a:ext cx="451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0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00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500</a:t>
              </a:r>
              <a:endParaRPr b="0" lang="en-US" sz="2400" spc="-1" strike="noStrike">
                <a:solidFill>
                  <a:srgbClr val="000000"/>
                </a:solidFill>
                <a:latin typeface="Times New Roman"/>
              </a:endParaRPr>
            </a:p>
          </p:txBody>
        </p:sp>
        <p:sp>
          <p:nvSpPr>
            <p:cNvPr id="69" name=""/>
            <p:cNvSpPr/>
            <p:nvPr/>
          </p:nvSpPr>
          <p:spPr>
            <a:xfrm>
              <a:off x="2243160" y="4206600"/>
              <a:ext cx="5715000" cy="0"/>
            </a:xfrm>
            <a:prstGeom prst="line">
              <a:avLst/>
            </a:prstGeom>
            <a:ln w="1260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709640" y="1996920"/>
              <a:ext cx="1523880" cy="2133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00040" y="1904760"/>
              <a:ext cx="232020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average w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growth of graz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sheep</a:t>
              </a:r>
              <a:endParaRPr b="0" lang="en-US" sz="2000" spc="-1" strike="noStrike">
                <a:solidFill>
                  <a:srgbClr val="000000"/>
                </a:solidFill>
                <a:latin typeface="Times New Roman"/>
              </a:endParaRPr>
            </a:p>
          </p:txBody>
        </p:sp>
        <p:sp>
          <p:nvSpPr>
            <p:cNvPr id="72" name=""/>
            <p:cNvSpPr/>
            <p:nvPr/>
          </p:nvSpPr>
          <p:spPr>
            <a:xfrm>
              <a:off x="6872760" y="1600200"/>
              <a:ext cx="21222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genetically-hi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99"/>
                  </a:solidFill>
                  <a:latin typeface="Arial"/>
                </a:rPr>
                <a:t>producer</a:t>
              </a:r>
              <a:endParaRPr b="0" lang="en-US" sz="2000" spc="-1" strike="noStrike">
                <a:solidFill>
                  <a:srgbClr val="000000"/>
                </a:solidFill>
                <a:latin typeface="Times New Roman"/>
              </a:endParaRPr>
            </a:p>
          </p:txBody>
        </p:sp>
        <p:sp>
          <p:nvSpPr>
            <p:cNvPr id="73" name=""/>
            <p:cNvSpPr/>
            <p:nvPr/>
          </p:nvSpPr>
          <p:spPr>
            <a:xfrm>
              <a:off x="6643080" y="3809880"/>
              <a:ext cx="2079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genetically-l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99"/>
                  </a:solidFill>
                  <a:latin typeface="Arial"/>
                </a:rPr>
                <a:t>producer</a:t>
              </a:r>
              <a:endParaRPr b="0" lang="en-US" sz="2000" spc="-1" strike="noStrike">
                <a:solidFill>
                  <a:srgbClr val="000000"/>
                </a:solidFill>
                <a:latin typeface="Times New Roman"/>
              </a:endParaRPr>
            </a:p>
          </p:txBody>
        </p:sp>
      </p:grpSp>
      <p:sp>
        <p:nvSpPr>
          <p:cNvPr id="7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growth is directly related to feed intak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hole body metabolism</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yst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Fleece Plus &lt; Fleece minu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docrinolog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yrox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aboli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rea, acetate, lactate, glutathione, K</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1:57:11Z</dcterms:created>
  <dc:creator>USER</dc:creator>
  <dc:description/>
  <dc:language>en-US</dc:language>
  <cp:lastModifiedBy>Hdaily</cp:lastModifiedBy>
  <cp:lastPrinted>2000-02-03T09:09:47Z</cp:lastPrinted>
  <dcterms:modified xsi:type="dcterms:W3CDTF">2000-06-09T06:57:16Z</dcterms:modified>
  <cp:revision>3</cp:revision>
  <dc:subject/>
  <dc:title>Whole Body Differences that affect Wool Production</dc:title>
</cp:coreProperties>
</file>