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8A6A-E362-4C00-88EF-AFB1E3468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DAA3-F27D-4AE5-8331-B5BF1E30A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a paper that describes differences and similarities between sheep of different genotypes in their pattern of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undertaken to examine the pattern and timing of wool follicle development in the New Zealand Romney, Merino and Merino x Romney (MxR), Drysdale and Wiltshire sheep during fetal and early post-natal life in order to determine the period or periods during which genotypic differences in follicle density occ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1AAC-1C15-4C7D-8C94-76180F7E6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ary (P) follicle density has a similar pattern of development in each of the genotypes, although the Merino has a greater density of P follicles than the other genotypes.  The density of P follicles (both immature and mature P follicles) in all genotypes increases between 76 and 83 days of gestation with the peak density being reached around day 83.  Following this, there is a decline in P follicle density until day 126 after which there is no change in P follicle density to day 143 of gestation.  Prior to birth, Merinos have more P follicles per unit area of skin than Romneys, MxR and Drysdales but there are no differences between the other genotypes.  Post-natally, each genotype exhibits a similar decrease in P follicle density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sdale, Wiltshire and MxR complete P follicle maturation before the other two genotypes. However the majority of P follicles in all genotypes are producing fibres by 111 days of gestation.  The maturation of the P follicle population occurs rapidly, being completed within 14 days of the first observation of a fibre in a P follicle.  The rate of maturation of the P follicles differs between genotypes with the Drysdale having more P follicles with fibres than the Wiltshire, which in turn have more than the Romney, Merino and MxR at day 97 of gestation.  By day 104, the MxR have a higher density of P follicles with fibres than the Romney, Merino and Wiltshire; the Drysdale does not differ from any of the other genotypes.  On day 111, the Merino has more mature P follicles per unit area of skin than the Romney.  From day 119 to the end of the study there is no difference between genotypes in P follicle density.   At least 98% of the P follicles produce a fibre by day 104 in the MxR, Drysdale and Wiltshire, and by day 111 in the Romney and the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clusion the small differences in the density and time of development of the P follicles does not cause the differences in wool type between genotyp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0412-B704-4E58-8723-23AB75604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ature secondary (S) follicles are first observed at day 90 of gestation and the S follicle density is similar in all five genotypes at day 90 and 97.  Secondary follicle density changes similarly over time in the Romney, Drysdale and Wiltshire.  The MxR has a greater S follicle density than both the Romney and Drysdale on day 104.  On day 111, the Merino and MxR have a similar number of S follicles per unit area of skin and both have a greater density than the Romney, Drysdale and Wiltshire.  From day 119 until birth, the Merino has a greater S follicle density than the MxR which, in turn, has a greater density than the other 3 genotypes. Post-natally, the Merino has a greater S follicle density than the Romney, Drysdale and Wiltshire.  The MxR has a lower S follicle density than the Merino one and three weeks after birth, after which the two genotypes have a similar S follicle densities until 32 weeks after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genotypes, fibres begin to appear at sebaceous gland level of S follicles between day 104 and 111 of gestation.  The Romney and MxR have a greater mean pre-natal density of fibre-producing S follicles than the Merino, Drysdale and Wiltshire prior to birth.  After birth, the Merino and MxR have a similar mature S follicle density which is greater than the other three genotyp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C2B8-3E12-41C7-86C2-3B31044EE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1996. </a:t>
            </a:r>
            <a:r>
              <a:rPr b="0" i="1" lang="en-AU" sz="1200" spc="-1" strike="noStrike">
                <a:solidFill>
                  <a:srgbClr val="000000"/>
                </a:solidFill>
                <a:latin typeface="Times New Roman"/>
              </a:rPr>
              <a:t>J. Ag. Sci (Camb)</a:t>
            </a:r>
            <a:r>
              <a:rPr b="0" lang="en-AU" sz="1200" spc="-1" strike="noStrike">
                <a:solidFill>
                  <a:srgbClr val="000000"/>
                </a:solidFill>
                <a:latin typeface="Times New Roman"/>
              </a:rPr>
              <a:t> 126: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ttern of development of the secondary (S) follicle population was examined by comparing S:P ratios.  The initiation of S follicles begins at similar ages in the five genotypes, but initiation is completed earlier in the Romney, Drysdale and Wiltshire than in the Merino and MxR.  There is no difference between genotypes in S:P ratio from 90 to 104 days of gestation.  The S:P ratio increases from 0 at day 83 to 3.4, 3.6 and 4.1 at day 111 in the Drysdale, Wiltshire and Romney, respectively.  The maximum S:P ratios were reached at day 111 of gestation in the Drysdale, Wiltshire and Romney.  The S:P ratio of the Romney, Drysdale and Wiltshire did not change from 104 days of gestation until the end of the study, indicating that few S follicles are initiated in these genotypes after 104 days of gestation.  The MxR increase in S:P ratio until 119 days of gestation and the Merino S:P ratio increases until 126 days of gestation.  Post-natally, the Merino has a greater mean S:P ratio than the other four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DBA8-554D-4134-ABAB-7F86795F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n P density (pooled over time) was greater in the Merino than the MxR, Romney and Drysdale, however the difference was small.  P density does not make a major contribution to differences in total follicle populations between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often quite large differences between the Merino and non-Merino genotypes in many of the follicle population characteristics but there is very little difference between the Romney, Drysdale and Wiltshire.  This indicates that differences in fleece types (e.g. shedding (Wiltshire) and non-shedding (Romney)) between those breeds is not due to differences in timing of follicle initiation and development or in follicle den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has identified that the critical period when differences in the follicle populations between Merino and non-Merino genotypes develop is between days 90 and 126 of gestational age when the secondary follicles are produced.  Thus, it is this period which should be the focus for studies into factors controlling secondary follicle initiation and branch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Genotyp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grpSp>
        <p:nvGrpSpPr>
          <p:cNvPr id="50" name=""/>
          <p:cNvGrpSpPr/>
          <p:nvPr/>
        </p:nvGrpSpPr>
        <p:grpSpPr>
          <a:xfrm>
            <a:off x="3124080" y="76320"/>
            <a:ext cx="6019560" cy="5790600"/>
            <a:chOff x="3124080" y="76320"/>
            <a:chExt cx="6019560" cy="5790600"/>
          </a:xfrm>
        </p:grpSpPr>
        <p:pic>
          <p:nvPicPr>
            <p:cNvPr id="51" name="" descr=""/>
            <p:cNvPicPr/>
            <p:nvPr/>
          </p:nvPicPr>
          <p:blipFill>
            <a:blip r:embed="rId1">
              <a:lum contrast="30000"/>
            </a:blip>
            <a:stretch/>
          </p:blipFill>
          <p:spPr>
            <a:xfrm>
              <a:off x="3124080" y="76320"/>
              <a:ext cx="6019560" cy="5790600"/>
            </a:xfrm>
            <a:prstGeom prst="rect">
              <a:avLst/>
            </a:prstGeom>
            <a:ln w="0">
              <a:noFill/>
            </a:ln>
          </p:spPr>
        </p:pic>
        <p:sp>
          <p:nvSpPr>
            <p:cNvPr id="52" name=""/>
            <p:cNvSpPr/>
            <p:nvPr/>
          </p:nvSpPr>
          <p:spPr>
            <a:xfrm>
              <a:off x="5682240" y="6570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53" name=""/>
            <p:cNvSpPr/>
            <p:nvPr/>
          </p:nvSpPr>
          <p:spPr>
            <a:xfrm>
              <a:off x="7386840" y="389340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54" name=""/>
            <p:cNvSpPr/>
            <p:nvPr/>
          </p:nvSpPr>
          <p:spPr>
            <a:xfrm>
              <a:off x="6690960" y="341964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55" name=""/>
            <p:cNvSpPr/>
            <p:nvPr/>
          </p:nvSpPr>
          <p:spPr>
            <a:xfrm>
              <a:off x="6381000" y="2788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56" name=""/>
            <p:cNvSpPr/>
            <p:nvPr/>
          </p:nvSpPr>
          <p:spPr>
            <a:xfrm>
              <a:off x="5838120" y="19198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57" name=""/>
            <p:cNvSpPr/>
            <p:nvPr/>
          </p:nvSpPr>
          <p:spPr>
            <a:xfrm flipH="1">
              <a:off x="4673160" y="893520"/>
              <a:ext cx="697320" cy="1576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5138280" y="2156760"/>
              <a:ext cx="542520" cy="31536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440600" y="3025080"/>
              <a:ext cx="1782360" cy="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5835600" y="3656520"/>
              <a:ext cx="697320" cy="1580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6532920" y="4051440"/>
              <a:ext cx="697320" cy="31536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PlaceHolder 1"/>
          <p:cNvSpPr>
            <a:spLocks noGrp="1"/>
          </p:cNvSpPr>
          <p:nvPr>
            <p:ph type="title"/>
          </p:nvPr>
        </p:nvSpPr>
        <p:spPr>
          <a:xfrm>
            <a:off x="1066320" y="380880"/>
            <a:ext cx="2057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Primary follicle density </a:t>
            </a:r>
            <a:br>
              <a:rPr sz="2100"/>
            </a:br>
            <a:r>
              <a:rPr b="1" lang="en-AU" sz="2100" spc="-1" strike="noStrike">
                <a:solidFill>
                  <a:srgbClr val="fafd00"/>
                </a:solidFill>
                <a:latin typeface="Arial"/>
              </a:rPr>
              <a:t>from 80 days gestation to 8 months</a:t>
            </a:r>
            <a:endParaRPr b="1" lang="en-US" sz="21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609480"/>
            <a:ext cx="190512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Secondary follicle density from 80 days gestation to 8 months</a:t>
            </a:r>
            <a:endParaRPr b="1" lang="en-US" sz="2100" spc="-1" strike="noStrike">
              <a:solidFill>
                <a:srgbClr val="fafd00"/>
              </a:solidFill>
              <a:latin typeface="Arial"/>
            </a:endParaRPr>
          </a:p>
        </p:txBody>
      </p:sp>
      <p:grpSp>
        <p:nvGrpSpPr>
          <p:cNvPr id="64" name=""/>
          <p:cNvGrpSpPr/>
          <p:nvPr/>
        </p:nvGrpSpPr>
        <p:grpSpPr>
          <a:xfrm>
            <a:off x="3046320" y="76320"/>
            <a:ext cx="6097680" cy="5790600"/>
            <a:chOff x="3046320" y="76320"/>
            <a:chExt cx="6097680" cy="5790600"/>
          </a:xfrm>
        </p:grpSpPr>
        <p:pic>
          <p:nvPicPr>
            <p:cNvPr id="65" name="" descr=""/>
            <p:cNvPicPr/>
            <p:nvPr/>
          </p:nvPicPr>
          <p:blipFill>
            <a:blip r:embed="rId1">
              <a:lum contrast="30000"/>
            </a:blip>
            <a:stretch/>
          </p:blipFill>
          <p:spPr>
            <a:xfrm>
              <a:off x="3046320" y="76320"/>
              <a:ext cx="6097680" cy="5790600"/>
            </a:xfrm>
            <a:prstGeom prst="rect">
              <a:avLst/>
            </a:prstGeom>
            <a:ln w="0">
              <a:noFill/>
            </a:ln>
          </p:spPr>
        </p:pic>
        <p:sp>
          <p:nvSpPr>
            <p:cNvPr id="66" name=""/>
            <p:cNvSpPr/>
            <p:nvPr/>
          </p:nvSpPr>
          <p:spPr>
            <a:xfrm>
              <a:off x="6248160" y="14572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67" name=""/>
            <p:cNvSpPr/>
            <p:nvPr/>
          </p:nvSpPr>
          <p:spPr>
            <a:xfrm>
              <a:off x="7543440" y="408780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68" name=""/>
            <p:cNvSpPr/>
            <p:nvPr/>
          </p:nvSpPr>
          <p:spPr>
            <a:xfrm>
              <a:off x="7544880" y="37008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69" name=""/>
            <p:cNvSpPr/>
            <p:nvPr/>
          </p:nvSpPr>
          <p:spPr>
            <a:xfrm>
              <a:off x="7544520" y="33141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70" name=""/>
            <p:cNvSpPr/>
            <p:nvPr/>
          </p:nvSpPr>
          <p:spPr>
            <a:xfrm>
              <a:off x="6401880" y="277236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71" name=""/>
            <p:cNvSpPr/>
            <p:nvPr/>
          </p:nvSpPr>
          <p:spPr>
            <a:xfrm flipH="1">
              <a:off x="5637240" y="1612080"/>
              <a:ext cx="533520" cy="15480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6094440" y="3081960"/>
              <a:ext cx="380880" cy="6962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6703560" y="3546360"/>
              <a:ext cx="838440" cy="1160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932520" y="3855600"/>
              <a:ext cx="609840" cy="9280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160760" y="4320000"/>
              <a:ext cx="381240" cy="5410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762120"/>
            <a:ext cx="2057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afd00"/>
                </a:solidFill>
                <a:latin typeface="Arial"/>
              </a:rPr>
              <a:t>Ratio of secondary to primary follicles (S:P) from 80 days gestation to 8 months</a:t>
            </a:r>
            <a:endParaRPr b="1" lang="en-US" sz="2100" spc="-1" strike="noStrike">
              <a:solidFill>
                <a:srgbClr val="fafd00"/>
              </a:solidFill>
              <a:latin typeface="Arial"/>
            </a:endParaRPr>
          </a:p>
        </p:txBody>
      </p:sp>
      <p:grpSp>
        <p:nvGrpSpPr>
          <p:cNvPr id="78" name=""/>
          <p:cNvGrpSpPr/>
          <p:nvPr/>
        </p:nvGrpSpPr>
        <p:grpSpPr>
          <a:xfrm>
            <a:off x="3048120" y="0"/>
            <a:ext cx="6127920" cy="5867280"/>
            <a:chOff x="3048120" y="0"/>
            <a:chExt cx="6127920" cy="5867280"/>
          </a:xfrm>
        </p:grpSpPr>
        <p:sp>
          <p:nvSpPr>
            <p:cNvPr id="79" name=""/>
            <p:cNvSpPr/>
            <p:nvPr/>
          </p:nvSpPr>
          <p:spPr>
            <a:xfrm>
              <a:off x="3054240" y="0"/>
              <a:ext cx="6096240" cy="586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3048120" y="87480"/>
              <a:ext cx="6127920" cy="5779800"/>
              <a:chOff x="3048120" y="87480"/>
              <a:chExt cx="6127920" cy="5779800"/>
            </a:xfrm>
          </p:grpSpPr>
          <p:pic>
            <p:nvPicPr>
              <p:cNvPr id="81" name="" descr=""/>
              <p:cNvPicPr/>
              <p:nvPr/>
            </p:nvPicPr>
            <p:blipFill>
              <a:blip r:embed="rId1"/>
              <a:stretch/>
            </p:blipFill>
            <p:spPr>
              <a:xfrm>
                <a:off x="3048120" y="87480"/>
                <a:ext cx="5083200" cy="5779800"/>
              </a:xfrm>
              <a:prstGeom prst="rect">
                <a:avLst/>
              </a:prstGeom>
              <a:ln w="0">
                <a:noFill/>
              </a:ln>
            </p:spPr>
          </p:pic>
          <p:sp>
            <p:nvSpPr>
              <p:cNvPr id="82" name=""/>
              <p:cNvSpPr/>
              <p:nvPr/>
            </p:nvSpPr>
            <p:spPr>
              <a:xfrm>
                <a:off x="5930640" y="72396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a:t>
                </a:r>
                <a:endParaRPr b="0" lang="en-US" sz="1800" spc="-1" strike="noStrike">
                  <a:solidFill>
                    <a:srgbClr val="000000"/>
                  </a:solidFill>
                  <a:latin typeface="Times New Roman"/>
                </a:endParaRPr>
              </a:p>
            </p:txBody>
          </p:sp>
          <p:sp>
            <p:nvSpPr>
              <p:cNvPr id="83" name=""/>
              <p:cNvSpPr/>
              <p:nvPr/>
            </p:nvSpPr>
            <p:spPr>
              <a:xfrm>
                <a:off x="8029080" y="4610160"/>
                <a:ext cx="114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Wiltshire</a:t>
                </a:r>
                <a:endParaRPr b="0" lang="en-US" sz="1800" spc="-1" strike="noStrike">
                  <a:solidFill>
                    <a:srgbClr val="000000"/>
                  </a:solidFill>
                  <a:latin typeface="Times New Roman"/>
                </a:endParaRPr>
              </a:p>
            </p:txBody>
          </p:sp>
          <p:sp>
            <p:nvSpPr>
              <p:cNvPr id="84" name=""/>
              <p:cNvSpPr/>
              <p:nvPr/>
            </p:nvSpPr>
            <p:spPr>
              <a:xfrm>
                <a:off x="8030880" y="35434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rysdale</a:t>
                </a:r>
                <a:endParaRPr b="0" lang="en-US" sz="1800" spc="-1" strike="noStrike">
                  <a:solidFill>
                    <a:srgbClr val="000000"/>
                  </a:solidFill>
                  <a:latin typeface="Times New Roman"/>
                </a:endParaRPr>
              </a:p>
            </p:txBody>
          </p:sp>
          <p:sp>
            <p:nvSpPr>
              <p:cNvPr id="85" name=""/>
              <p:cNvSpPr/>
              <p:nvPr/>
            </p:nvSpPr>
            <p:spPr>
              <a:xfrm>
                <a:off x="8030160" y="27813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Romney</a:t>
                </a:r>
                <a:endParaRPr b="0" lang="en-US" sz="1800" spc="-1" strike="noStrike">
                  <a:solidFill>
                    <a:srgbClr val="000000"/>
                  </a:solidFill>
                  <a:latin typeface="Times New Roman"/>
                </a:endParaRPr>
              </a:p>
            </p:txBody>
          </p:sp>
          <p:sp>
            <p:nvSpPr>
              <p:cNvPr id="86" name=""/>
              <p:cNvSpPr/>
              <p:nvPr/>
            </p:nvSpPr>
            <p:spPr>
              <a:xfrm>
                <a:off x="6555600" y="137160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Merino-Romney Cross</a:t>
                </a:r>
                <a:endParaRPr b="0" lang="en-US" sz="1800" spc="-1" strike="noStrike">
                  <a:solidFill>
                    <a:srgbClr val="000000"/>
                  </a:solidFill>
                  <a:latin typeface="Times New Roman"/>
                </a:endParaRPr>
              </a:p>
            </p:txBody>
          </p:sp>
          <p:sp>
            <p:nvSpPr>
              <p:cNvPr id="87" name=""/>
              <p:cNvSpPr/>
              <p:nvPr/>
            </p:nvSpPr>
            <p:spPr>
              <a:xfrm flipH="1">
                <a:off x="5393880" y="952560"/>
                <a:ext cx="468360" cy="152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6129000" y="1714680"/>
                <a:ext cx="1073160" cy="129528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6869160" y="3124080"/>
                <a:ext cx="1471680" cy="99072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7603920" y="3886200"/>
                <a:ext cx="671400" cy="45720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a:off x="6722640" y="4495680"/>
                <a:ext cx="1484280" cy="152640"/>
              </a:xfrm>
              <a:prstGeom prst="line">
                <a:avLst/>
              </a:prstGeom>
              <a:ln w="2844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2" name=""/>
          <p:cNvSpPr/>
          <p:nvPr/>
        </p:nvSpPr>
        <p:spPr>
          <a:xfrm>
            <a:off x="6232680" y="640080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Hocking Edwards </a:t>
            </a:r>
            <a:r>
              <a:rPr b="0" i="1" lang="en-AU" sz="1200" spc="-1" strike="noStrike">
                <a:solidFill>
                  <a:srgbClr val="fafd00"/>
                </a:solidFill>
                <a:latin typeface="Arial"/>
              </a:rPr>
              <a:t>et al</a:t>
            </a:r>
            <a:r>
              <a:rPr b="0" lang="en-AU" sz="1200" spc="-1" strike="noStrike">
                <a:solidFill>
                  <a:srgbClr val="fafd00"/>
                </a:solidFill>
                <a:latin typeface="Arial"/>
              </a:rPr>
              <a:t>,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715824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otype variation in initiation and development</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y little difference in P number or den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ttle difference in development patter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jor difference in the number and density of S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lected in S:P ratio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nger period of S initiation in Merinos possibly due to branching</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12:16Z</dcterms:created>
  <dc:creator>USER</dc:creator>
  <dc:description/>
  <dc:language>en-US</dc:language>
  <cp:lastModifiedBy>Hdaily</cp:lastModifiedBy>
  <cp:lastPrinted>2000-02-03T09:09:47Z</cp:lastPrinted>
  <dcterms:modified xsi:type="dcterms:W3CDTF">2000-06-06T23:07:53Z</dcterms:modified>
  <cp:revision>4</cp:revision>
  <dc:subject/>
  <dc:title>Follicle Initiation and Genotype</dc:title>
</cp:coreProperties>
</file>