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E219-39FE-4768-B3C9-61317D38E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6DAD-5BFE-4D95-94AC-EE74DF515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erous microscopic studies, mainly using TEM (transmission electron microscope), on sections of mammalian hair follicles have provided an abundance of morphological data to explain the cellular composition and ultrastructural details of the processes involved in hair formation.  These microscopic studies are illustrated to describe the formation of the cortex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ansverse section shown in this low magnification TEM micrograph of a fine wool follicle was obtained from the supra bulb region (near the apex or tip of the dermal papilla).  Cellular differentiation can be seen even at this early level of development.  In particular, two types of presumptive cortical cells are appar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cells are the OC (orthocortex) and PC (paracortex) and can be distinguished on the basis of staining intensity and morphology of intracellular components (OC being more darkly s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tangle can be seen drawn on the PC region, which will be studied in more detail in the following slides to follow the development of the IF/matrix texture as seen in the module “Detailed Structure of the Cortex”.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icrograph shows at high magnification the early indications of keratin structural components in the cortex.  Located near the cell periphery (plasma membrane), arrays of IFs can be seen.  On careful examination of these arrays, clearly defined regions where IFs are packed into hexagonal lattices are apparent.  The mechanisms underlying formation of these ordered arrays are unknown but it has been suggested that interfilamentous protein linkages may function to regulate this packing arrangement.  It should be noted that IF packing (wool cortex) in orthocortical cells (whorl-like) differs in appearance from that in paracortical cells (parallel), however, the fundamental hexagonal arrangement is common to both cell types.  It should be emphasised that these lattice structures are extremely delicate and hence difficult to preserve in TEM prepar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 more advanced level of development arrays of IFs can be seen in association with densely stained droplets of material which appear to be infusing the intercellular spaces.  The nature of this material together with its staining characteristics indicates the synthesis of matrix proteins at this level.  Coupled with data obtained from sulfur analyses of the follicle, the region of increasing sulphur content corresponds with the level at which this fibre was sampled.  Note this observation is consistent with synthesis of high-sulphur (matrix)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icrograph shows further synthesis of sulphur-rich proteins and the interfilamentous spaces have now have been completely filled.  Note the regular hexagonal packing of IFs in the arr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ery intense staining of matrix material at this level is presumably due to cysteine residues in these proteins (-SH or thiol).  Compare the staining of matrix at this level with a fully keratinized fibre where disulphide bonds (-S-S-) have been formed. We can assume that dual synthesis of proteins associated with IFs and matrix is occurring at this level.  The formation of further IF/matrix arrays will now continue until the cell volume is almost entirely filled with the composi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the mechanisms involved in hair formation are complex but for convenience can be considered as occurring in three stages.</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ir keratin protein synthesis precedes the assembly of protein molecules into intracellular structural components. The important observation from these micrographs is that formation of the IF/matrix composite occurs through a two stage process, that is, IFs are synthesised before the matrix as a general rule.</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ructural components then form the keratin complex (IF/matrix) which is subsequently stabilised through the formation of a three dimensional cross link arrangement.  The most important crosslinks in the cortex are of the disulphide type.</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terminal stages of cortex formation the so-called filler proteins are synthesised and these occupy regions between the cell membrane and the IF/matrix arr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ages in the Formation of the Cortex</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4876920" y="1371600"/>
            <a:ext cx="4267080" cy="4292640"/>
            <a:chOff x="4876920" y="1371600"/>
            <a:chExt cx="4267080" cy="4292640"/>
          </a:xfrm>
        </p:grpSpPr>
        <p:pic>
          <p:nvPicPr>
            <p:cNvPr id="50" name="" descr=""/>
            <p:cNvPicPr/>
            <p:nvPr/>
          </p:nvPicPr>
          <p:blipFill>
            <a:blip r:embed="rId1"/>
            <a:stretch/>
          </p:blipFill>
          <p:spPr>
            <a:xfrm>
              <a:off x="4876920" y="1371600"/>
              <a:ext cx="4267080" cy="4292640"/>
            </a:xfrm>
            <a:prstGeom prst="rect">
              <a:avLst/>
            </a:prstGeom>
            <a:ln w="0">
              <a:noFill/>
            </a:ln>
          </p:spPr>
        </p:pic>
        <p:sp>
          <p:nvSpPr>
            <p:cNvPr id="51" name=""/>
            <p:cNvSpPr/>
            <p:nvPr/>
          </p:nvSpPr>
          <p:spPr>
            <a:xfrm rot="19054800">
              <a:off x="6032880" y="4064400"/>
              <a:ext cx="358920" cy="28404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M micrograph of fine wool follicle at the apex of the papilla</a:t>
            </a:r>
            <a:endParaRPr b="1" lang="en-US" sz="3200" spc="-1" strike="noStrike">
              <a:solidFill>
                <a:srgbClr val="fafd00"/>
              </a:solidFill>
              <a:latin typeface="Arial"/>
            </a:endParaRPr>
          </a:p>
        </p:txBody>
      </p:sp>
      <p:sp>
        <p:nvSpPr>
          <p:cNvPr id="54" name="PlaceHolder 2"/>
          <p:cNvSpPr>
            <a:spLocks noGrp="1"/>
          </p:cNvSpPr>
          <p:nvPr>
            <p:ph/>
          </p:nvPr>
        </p:nvSpPr>
        <p:spPr>
          <a:xfrm>
            <a:off x="1143000" y="1218960"/>
            <a:ext cx="3733920" cy="518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ular differentiation visib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sumptive ortho and para cortical cells visi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rthocortical cells are more darkly stained</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75960"/>
            <a:ext cx="78487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er magnification of paracortex</a:t>
            </a:r>
            <a:endParaRPr b="1" lang="en-US" sz="3200" spc="-1" strike="noStrike">
              <a:solidFill>
                <a:srgbClr val="fafd00"/>
              </a:solidFill>
              <a:latin typeface="Arial"/>
            </a:endParaRPr>
          </a:p>
        </p:txBody>
      </p:sp>
      <p:sp>
        <p:nvSpPr>
          <p:cNvPr id="56" name="PlaceHolder 2"/>
          <p:cNvSpPr>
            <a:spLocks noGrp="1"/>
          </p:cNvSpPr>
          <p:nvPr>
            <p:ph/>
          </p:nvPr>
        </p:nvSpPr>
        <p:spPr>
          <a:xfrm>
            <a:off x="1066680" y="1295280"/>
            <a:ext cx="2743200" cy="4648320"/>
          </a:xfrm>
          <a:prstGeom prst="rect">
            <a:avLst/>
          </a:prstGeom>
          <a:noFill/>
          <a:ln w="0">
            <a:noFill/>
          </a:ln>
        </p:spPr>
        <p:txBody>
          <a:bodyPr lIns="93600" rIns="93600" tIns="46080" bIns="460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eratin structural component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intermediate filaments (IF)</a:t>
            </a:r>
            <a:endParaRPr b="1"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xagonal packing of IF</a:t>
            </a:r>
            <a:endParaRPr b="1" lang="en-US" sz="2000" spc="-1" strike="noStrike">
              <a:solidFill>
                <a:srgbClr val="ffffff"/>
              </a:solidFill>
              <a:latin typeface="Arial"/>
            </a:endParaRPr>
          </a:p>
        </p:txBody>
      </p:sp>
      <p:grpSp>
        <p:nvGrpSpPr>
          <p:cNvPr id="57" name=""/>
          <p:cNvGrpSpPr/>
          <p:nvPr/>
        </p:nvGrpSpPr>
        <p:grpSpPr>
          <a:xfrm>
            <a:off x="3809880" y="1447920"/>
            <a:ext cx="5257800" cy="4054320"/>
            <a:chOff x="3809880" y="1447920"/>
            <a:chExt cx="5257800" cy="4054320"/>
          </a:xfrm>
        </p:grpSpPr>
        <p:pic>
          <p:nvPicPr>
            <p:cNvPr id="58" name="" descr=""/>
            <p:cNvPicPr/>
            <p:nvPr/>
          </p:nvPicPr>
          <p:blipFill>
            <a:blip r:embed="rId1"/>
            <a:srcRect l="6856" t="6920" r="4782" b="9003"/>
            <a:stretch/>
          </p:blipFill>
          <p:spPr>
            <a:xfrm>
              <a:off x="3809880" y="1447920"/>
              <a:ext cx="5257800" cy="4054320"/>
            </a:xfrm>
            <a:prstGeom prst="rect">
              <a:avLst/>
            </a:prstGeom>
            <a:ln w="0">
              <a:noFill/>
            </a:ln>
          </p:spPr>
        </p:pic>
        <p:sp>
          <p:nvSpPr>
            <p:cNvPr id="59" name=""/>
            <p:cNvSpPr/>
            <p:nvPr/>
          </p:nvSpPr>
          <p:spPr>
            <a:xfrm>
              <a:off x="7255080" y="363420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IF</a:t>
              </a:r>
              <a:endParaRPr b="0" lang="en-US" sz="2400" spc="-1" strike="noStrike">
                <a:solidFill>
                  <a:srgbClr val="000000"/>
                </a:solidFill>
                <a:latin typeface="Times New Roman"/>
              </a:endParaRPr>
            </a:p>
          </p:txBody>
        </p:sp>
        <p:sp>
          <p:nvSpPr>
            <p:cNvPr id="60" name=""/>
            <p:cNvSpPr/>
            <p:nvPr/>
          </p:nvSpPr>
          <p:spPr>
            <a:xfrm>
              <a:off x="4429800" y="4057920"/>
              <a:ext cx="17222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Plasm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membrane</a:t>
              </a:r>
              <a:endParaRPr b="0" lang="en-US" sz="2400" spc="-1" strike="noStrike">
                <a:solidFill>
                  <a:srgbClr val="000000"/>
                </a:solidFill>
                <a:latin typeface="Times New Roman"/>
              </a:endParaRPr>
            </a:p>
          </p:txBody>
        </p:sp>
        <p:sp>
          <p:nvSpPr>
            <p:cNvPr id="61" name=""/>
            <p:cNvSpPr/>
            <p:nvPr/>
          </p:nvSpPr>
          <p:spPr>
            <a:xfrm flipV="1">
              <a:off x="5711760" y="4147920"/>
              <a:ext cx="229320" cy="2124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590920" y="1219320"/>
            <a:ext cx="6324480" cy="5067360"/>
          </a:xfrm>
          <a:prstGeom prst="rect">
            <a:avLst/>
          </a:prstGeom>
          <a:ln w="0">
            <a:noFill/>
          </a:ln>
        </p:spPr>
      </p:pic>
      <p:sp>
        <p:nvSpPr>
          <p:cNvPr id="64" name=""/>
          <p:cNvSpPr/>
          <p:nvPr/>
        </p:nvSpPr>
        <p:spPr>
          <a:xfrm>
            <a:off x="1143000" y="1066680"/>
            <a:ext cx="1600200" cy="4648320"/>
          </a:xfrm>
          <a:prstGeom prst="rect">
            <a:avLst/>
          </a:prstGeom>
          <a:noFill/>
          <a:ln w="0">
            <a:noFill/>
          </a:ln>
        </p:spPr>
        <p:style>
          <a:lnRef idx="0"/>
          <a:fillRef idx="0"/>
          <a:effectRef idx="0"/>
          <a:fontRef idx="minor"/>
        </p:style>
        <p:txBody>
          <a:bodyPr lIns="93600" rIns="93600" tIns="46080" bIns="4608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ark staining matrix proteins associated with IF</a:t>
            </a:r>
            <a:endParaRPr b="0" lang="en-US" sz="1800" spc="-1" strike="noStrike">
              <a:solidFill>
                <a:srgbClr val="000000"/>
              </a:solidFill>
              <a:latin typeface="Times New Roman"/>
            </a:endParaRPr>
          </a:p>
        </p:txBody>
      </p:sp>
      <p:sp>
        <p:nvSpPr>
          <p:cNvPr id="65"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up follicle</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lum contrast="-30000"/>
          </a:blip>
          <a:stretch/>
        </p:blipFill>
        <p:spPr>
          <a:xfrm>
            <a:off x="2743200" y="1523880"/>
            <a:ext cx="6248520" cy="4521240"/>
          </a:xfrm>
          <a:prstGeom prst="rect">
            <a:avLst/>
          </a:prstGeom>
          <a:ln w="0">
            <a:noFill/>
          </a:ln>
        </p:spPr>
      </p:pic>
      <p:sp>
        <p:nvSpPr>
          <p:cNvPr id="68" name=""/>
          <p:cNvSpPr/>
          <p:nvPr/>
        </p:nvSpPr>
        <p:spPr>
          <a:xfrm>
            <a:off x="1143000" y="1371600"/>
            <a:ext cx="1600200" cy="4648320"/>
          </a:xfrm>
          <a:prstGeom prst="rect">
            <a:avLst/>
          </a:prstGeom>
          <a:noFill/>
          <a:ln w="0">
            <a:noFill/>
          </a:ln>
        </p:spPr>
        <p:style>
          <a:lnRef idx="0"/>
          <a:fillRef idx="0"/>
          <a:effectRef idx="0"/>
          <a:fontRef idx="minor"/>
        </p:style>
        <p:txBody>
          <a:bodyPr lIns="93600" rIns="93600" tIns="46080" bIns="4608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ual synthesis of IF and matrix</a:t>
            </a:r>
            <a:endParaRPr b="0" lang="en-US" sz="1800" spc="-1" strike="noStrike">
              <a:solidFill>
                <a:srgbClr val="000000"/>
              </a:solidFill>
              <a:latin typeface="Times New Roman"/>
            </a:endParaRPr>
          </a:p>
        </p:txBody>
      </p:sp>
      <p:sp>
        <p:nvSpPr>
          <p:cNvPr id="69"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ven further up the follicl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ee major steps in cortex form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eratin protein synthesi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ormation of IF/matrix composite occurs in a 2-stage proces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mportantly, the IF’s are synthesised before matrix</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ssembly of molecules into intracellular structural compone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uctural components form keratin complex</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matrix</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abilised through formation of 3-D cross-linking</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jor bonds are disulfid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terminal stages of cortex formation ‘filler’ proteins are synthesised which occupy regions between cell membrane and IF/matrix</a:t>
            </a:r>
            <a:endParaRPr b="1"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0:23:51Z</dcterms:created>
  <dc:creator>USER</dc:creator>
  <dc:description/>
  <dc:language>en-US</dc:language>
  <cp:lastModifiedBy>Hdaily</cp:lastModifiedBy>
  <cp:lastPrinted>2000-05-18T07:09:47Z</cp:lastPrinted>
  <dcterms:modified xsi:type="dcterms:W3CDTF">2000-05-18T07:09:58Z</dcterms:modified>
  <cp:revision>5</cp:revision>
  <dc:subject/>
  <dc:title>Stages in the Formation of the Cortex</dc:title>
</cp:coreProperties>
</file>