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6BAAA-D647-41B8-9F9D-85A61E5219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9974-9DD0-4CAD-8603-424AF550B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terior of the cortical cells of fibrous keratin tissue such as wool consists predominantly of more or less longitudinally aligned protein intermediate filaments embedded in a protein matrix phase.  This module briefly summarises the protein structure within these cortical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Kevin Ley, CSIRO Textile &amp; Fibre Technology and Dr Barry Powell &amp;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95987-92F7-4E03-948A-203955B45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intermediate filament (IF) consists of large numbers of so-called low-sulfur protein molecules, which are single protein chains, arranged in a specific manner.  The matrix phase, in which the intermediate filaments are embedded, consists of two protein groups, a major group known as the high-sulfur proteins and a minor group known as the high-tyrosine proteins (sometimes known as the high-glycine/tyrosine proteins).  The proteins of the matrix phase are also known as the intermediate filament-associated proteins (IFAP).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low-sulfur protein consists of numerous amino acids bonded together in a particular linear sequence.  The low-sulfur proteins are enriched in glutamic acid, leucine, aspartic acid, and lysine, amino acids which favour </a:t>
            </a:r>
            <a:r>
              <a:rPr b="0" lang="en-AU" sz="1200" spc="-1" strike="noStrike">
                <a:solidFill>
                  <a:srgbClr val="000000"/>
                </a:solidFill>
                <a:latin typeface="Symbol"/>
                <a:ea typeface="Symbol"/>
              </a:rPr>
              <a:t></a:t>
            </a:r>
            <a:r>
              <a:rPr b="0" lang="en-AU" sz="1200" spc="-1" strike="noStrike">
                <a:solidFill>
                  <a:srgbClr val="000000"/>
                </a:solidFill>
                <a:latin typeface="Times New Roman"/>
              </a:rPr>
              <a:t>-helix formation, and the content of these amino acids is very much larger in the low-sulfur proteins than in the the high-sulfur proteins.  The low sulfur proteins contain large amounts of certain other amino acids as well; of these, four are present in still larger amounts in the high-sulfur proteins, and only alanine is present in an amount which is very much larger in the low-sulfur proteins than in the high-sulfur protein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intermediate filament, individual low-sulfur protein molecules interact with each other to form pairs of protein chains or dimers.*  In turn, the dimers interact with each other to form tetramers.  Within the intermediate filament large numbers of tetramers are arranged end to end thereby constituting a long subfilament; the tetramer, with its four constituent protein chains, is regarded as the repeating unit in the longitudinal direction.  A small number of subfilaments, probably eight, are bundled together side by side in a cylindrical arrangement, with a certain stagger between them in the longitudinal direction, to form the intermediate filament.</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there exists a potential source of confusion regarding the use of the word “molecule” in connection with intermediate filaments: one prominent investigator of intermediate filaments,  D. A. D. Parry, consistently refers to the dimer as the “intermediate filament molec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terior of cortical cells of wool and indeed of all keratin fibres consists predominantly of more or less longitudinally aligned protein intermediate filaments embedded in a protein matrix ph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trix consists of two protein groups, a major group known as the high-sulfur proteins, and a minor group known as the high-tyrosine proteins (which are sometimes known as the high-glycine-tyrosine proteins).  The high-sulfur proteins contain large amounts of half-cystine, serine, proline, and threonine, and the content of these amino acids is significantly greater in the high-sulfur proteins than in the low-sulfur proteins.  The high-tyrosine proteins are very rich in glycine and tyrosine.  The amino acid sequences of some of the high-sulfur proteins and high-tyrosine proteins are known.  The positions of half-cystine residues within the sequences of some of the high-sulfur proteins are such that the disulfide bonding within these proteins is expected to be intramolecular rather than intermolecular.  Nevertheless at least some of the disulfide bonding within the matrix is likely to be intermolecular, connecting separate high-sulfur protein chains to each other, and also to low-sulfur protein chains of the intermediate filament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mp;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 the complex mix of proteins required to form a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2 types of keratin IF’s - Type I and Type II. Each of these families have at least 4 genes associated with them.  The IF Type I proteins are found in the cuticle and the cortex of the fibre.  The IF Type II cuticle protein has not been isolated to d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wo major IFAPs- those proteins which are cystine rich and those that are glycine/tyrosine rich.   The cystine rich proteins can be further subdivided into 3 families</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igh sulfur family (HS) which contains KAP 1, 2, 3 and 11 of which there are at least 20 genes controlling the protein production</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ltra high sulfur family (UHS) which contains KAP 4, 9 and 12 of which there are at least 10 genes controlling the protein production</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uticle family which contains KAP 5 and 10 of which there are at least 10 genes controlling the protein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lycine/tyrosine rich proteins also have type I and type II components of which 10 genes are known.</a:t>
            </a:r>
            <a:endParaRPr b="0" lang="en-US" sz="1200" spc="-1" strike="noStrike">
              <a:solidFill>
                <a:srgbClr val="000000"/>
              </a:solidFill>
              <a:latin typeface="Times New Roman"/>
            </a:endParaRPr>
          </a:p>
          <a:p>
            <a:pPr lvl="1" marL="457200"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eratin Structur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Mr. Kevin Ley, CSIRO Textile &amp; Fibre Technolog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Barry Powell &amp; Dr. C. Simon Bawden,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52560" y="6507000"/>
            <a:ext cx="85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lecules of the wool IF </a:t>
            </a:r>
            <a:br>
              <a:rPr sz="3200"/>
            </a:br>
            <a:r>
              <a:rPr b="1" lang="en-AU" sz="3200" spc="-1" strike="noStrike">
                <a:solidFill>
                  <a:srgbClr val="fafd00"/>
                </a:solidFill>
                <a:latin typeface="Arial"/>
              </a:rPr>
              <a:t>(the low sulfur proteins)</a:t>
            </a:r>
            <a:endParaRPr b="1" lang="en-US" sz="3200" spc="-1" strike="noStrike">
              <a:solidFill>
                <a:srgbClr val="fafd00"/>
              </a:solidFill>
              <a:latin typeface="Arial"/>
            </a:endParaRPr>
          </a:p>
        </p:txBody>
      </p:sp>
      <p:sp>
        <p:nvSpPr>
          <p:cNvPr id="51"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fontScale="98000"/>
          </a:bodyPr>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Amino acids join together to form a single protein chain</a:t>
            </a:r>
            <a:endParaRPr b="1" lang="en-US" sz="22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low-S protein molecule</a:t>
            </a:r>
            <a:endParaRPr b="1" lang="en-US" sz="1800" spc="-1" strike="noStrike">
              <a:solidFill>
                <a:srgbClr val="ffffff"/>
              </a:solidFill>
              <a:latin typeface="Arial"/>
            </a:endParaRPr>
          </a:p>
          <a:p>
            <a:pPr marL="335880" indent="-33588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Two protein chains interact, with their </a:t>
            </a:r>
            <a:r>
              <a:rPr b="1" lang="en-AU" sz="2200" spc="-1" strike="noStrike">
                <a:solidFill>
                  <a:srgbClr val="ffffff"/>
                </a:solidFill>
                <a:latin typeface="Symbol"/>
                <a:ea typeface="Symbol"/>
              </a:rPr>
              <a:t></a:t>
            </a:r>
            <a:r>
              <a:rPr b="1" lang="en-AU" sz="2200" spc="-1" strike="noStrike">
                <a:solidFill>
                  <a:srgbClr val="ffffff"/>
                </a:solidFill>
                <a:latin typeface="Arial"/>
              </a:rPr>
              <a:t>-helical regions forming a coiled-coil</a:t>
            </a:r>
            <a:endParaRPr b="1" lang="en-US" sz="22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dimer </a:t>
            </a:r>
            <a:endParaRPr b="1" lang="en-US" sz="1800" spc="-1" strike="noStrike">
              <a:solidFill>
                <a:srgbClr val="ffffff"/>
              </a:solidFill>
              <a:latin typeface="Arial"/>
            </a:endParaRPr>
          </a:p>
          <a:p>
            <a:pPr marL="335880" indent="-33588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Two dimers interact, with their coiled-coil regions antiparallel and staggered with respect to each other</a:t>
            </a:r>
            <a:endParaRPr b="1" lang="en-US" sz="22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tetramer</a:t>
            </a:r>
            <a:endParaRPr b="1" lang="en-US" sz="1800" spc="-1" strike="noStrike">
              <a:solidFill>
                <a:srgbClr val="ffffff"/>
              </a:solidFill>
              <a:latin typeface="Arial"/>
            </a:endParaRPr>
          </a:p>
          <a:p>
            <a:pPr marL="335880" indent="-33588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Tetramers align end to end</a:t>
            </a:r>
            <a:endParaRPr b="1" lang="en-US" sz="22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subfilament </a:t>
            </a:r>
            <a:endParaRPr b="1" lang="en-US" sz="1800" spc="-1" strike="noStrike">
              <a:solidFill>
                <a:srgbClr val="ffffff"/>
              </a:solidFill>
              <a:latin typeface="Arial"/>
            </a:endParaRPr>
          </a:p>
          <a:p>
            <a:pPr marL="335880" indent="-33588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Subfilaments are bundled together and staggered with respect to each other</a:t>
            </a:r>
            <a:endParaRPr b="1" lang="en-US" sz="22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intermediate filament</a:t>
            </a:r>
            <a:endParaRPr b="1"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trix</a:t>
            </a:r>
            <a:endParaRPr b="1" lang="en-US" sz="3200" spc="-1" strike="noStrike">
              <a:solidFill>
                <a:srgbClr val="fafd00"/>
              </a:solidFill>
              <a:latin typeface="Arial"/>
            </a:endParaRPr>
          </a:p>
        </p:txBody>
      </p:sp>
      <p:sp>
        <p:nvSpPr>
          <p:cNvPr id="53" name="PlaceHolder 2"/>
          <p:cNvSpPr>
            <a:spLocks noGrp="1"/>
          </p:cNvSpPr>
          <p:nvPr>
            <p:ph/>
          </p:nvPr>
        </p:nvSpPr>
        <p:spPr>
          <a:xfrm>
            <a:off x="1143000" y="990360"/>
            <a:ext cx="7848720" cy="5181480"/>
          </a:xfrm>
          <a:prstGeom prst="rect">
            <a:avLst/>
          </a:prstGeom>
          <a:noFill/>
          <a:ln w="0">
            <a:noFill/>
          </a:ln>
        </p:spPr>
        <p:txBody>
          <a:bodyPr lIns="90000" rIns="90000" tIns="46800" bIns="46800" anchor="t">
            <a:normAutofit fontScale="98000"/>
          </a:bodyPr>
          <a:p>
            <a:pPr marL="335880" indent="-3358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termediate filaments are embedded in a non-filament matrix</a:t>
            </a:r>
            <a:endParaRPr b="1" lang="en-US" sz="1800" spc="-1" strike="noStrike">
              <a:solidFill>
                <a:srgbClr val="ffffff"/>
              </a:solidFill>
              <a:latin typeface="Arial"/>
            </a:endParaRPr>
          </a:p>
          <a:p>
            <a:pPr lvl="1" marL="727920" indent="-280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termediate filament associated protein</a:t>
            </a:r>
            <a:endParaRPr b="1" lang="en-US" sz="1800" spc="-1" strike="noStrike">
              <a:solidFill>
                <a:srgbClr val="ffffff"/>
              </a:solidFill>
              <a:latin typeface="Arial"/>
            </a:endParaRPr>
          </a:p>
          <a:p>
            <a:pPr lvl="3" marL="15681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sulfur proteins</a:t>
            </a:r>
            <a:endParaRPr b="1" lang="en-US" sz="2000" spc="-1" strike="noStrike">
              <a:solidFill>
                <a:srgbClr val="ffffff"/>
              </a:solidFill>
              <a:latin typeface="Arial"/>
            </a:endParaRPr>
          </a:p>
          <a:p>
            <a:pPr lvl="4" marL="2016000" indent="-223920">
              <a:spcBef>
                <a:spcPts val="499"/>
              </a:spcBef>
              <a:buClr>
                <a:srgbClr val="fafd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ich in half-cystine, serine, proline, and threonine</a:t>
            </a:r>
            <a:endParaRPr b="1" lang="en-US" sz="2000" spc="-1" strike="noStrike">
              <a:solidFill>
                <a:srgbClr val="ffffff"/>
              </a:solidFill>
              <a:latin typeface="Arial"/>
            </a:endParaRPr>
          </a:p>
          <a:p>
            <a:pPr lvl="3" marL="15681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glycine-tyrosine proteins</a:t>
            </a:r>
            <a:endParaRPr b="1" lang="en-US" sz="2000" spc="-1" strike="noStrike">
              <a:solidFill>
                <a:srgbClr val="ffffff"/>
              </a:solidFill>
              <a:latin typeface="Arial"/>
            </a:endParaRPr>
          </a:p>
          <a:p>
            <a:pPr lvl="4" marL="2016000" indent="-223920">
              <a:spcBef>
                <a:spcPts val="499"/>
              </a:spcBef>
              <a:buClr>
                <a:srgbClr val="fafd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ery rich in glycine and tyrosine.</a:t>
            </a:r>
            <a:endParaRPr b="1" lang="en-US" sz="20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isulfide bonding of high-sulfur proteins mostly intramolecular rather than intermolecular. </a:t>
            </a:r>
            <a:endParaRPr b="1" lang="en-US" sz="1800" spc="-1" strike="noStrike">
              <a:solidFill>
                <a:srgbClr val="ffffff"/>
              </a:solidFill>
              <a:latin typeface="Arial"/>
            </a:endParaRPr>
          </a:p>
          <a:p>
            <a:pPr lvl="3" marL="1568160" indent="-22392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ut some of the disulfide bonding within the matrix is likely to be intermolecular, connecting high-sulfur protein chains to other high-sulfur protein chains and also to low-sulfur protein chains of the intermediate filaments. </a:t>
            </a:r>
            <a:endParaRPr b="1" lang="en-US" sz="2000" spc="-1" strike="noStrike">
              <a:solidFill>
                <a:srgbClr val="ffffff"/>
              </a:solidFill>
              <a:latin typeface="Arial"/>
            </a:endParaRPr>
          </a:p>
          <a:p>
            <a:pPr marL="335880" indent="-3358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combination of the IFs and IFAPs is the basic structure of mammalian hard </a:t>
            </a:r>
            <a:r>
              <a:rPr b="1" lang="en-AU" sz="1800" spc="-1" strike="noStrike">
                <a:solidFill>
                  <a:srgbClr val="ffffff"/>
                </a:solidFill>
                <a:latin typeface="Symbol"/>
                <a:ea typeface="Symbol"/>
              </a:rPr>
              <a:t></a:t>
            </a:r>
            <a:r>
              <a:rPr b="1" lang="en-AU" sz="1800" spc="-1" strike="noStrike">
                <a:solidFill>
                  <a:srgbClr val="ffffff"/>
                </a:solidFill>
                <a:latin typeface="Arial"/>
              </a:rPr>
              <a:t>-keratins</a:t>
            </a:r>
            <a:endParaRPr b="1" lang="en-US" sz="1800" spc="-1" strike="noStrike">
              <a:solidFill>
                <a:srgbClr val="ffffff"/>
              </a:solidFill>
              <a:latin typeface="Arial"/>
            </a:endParaRPr>
          </a:p>
        </p:txBody>
      </p:sp>
      <p:sp>
        <p:nvSpPr>
          <p:cNvPr id="54" name=""/>
          <p:cNvSpPr/>
          <p:nvPr/>
        </p:nvSpPr>
        <p:spPr>
          <a:xfrm>
            <a:off x="8152560" y="6507000"/>
            <a:ext cx="85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 of protein types in fibres</a:t>
            </a:r>
            <a:endParaRPr b="1" lang="en-US" sz="3200" spc="-1" strike="noStrike">
              <a:solidFill>
                <a:srgbClr val="fafd00"/>
              </a:solidFill>
              <a:latin typeface="Arial"/>
            </a:endParaRPr>
          </a:p>
        </p:txBody>
      </p:sp>
      <p:graphicFrame>
        <p:nvGraphicFramePr>
          <p:cNvPr id="56" name=""/>
          <p:cNvGraphicFramePr/>
          <p:nvPr/>
        </p:nvGraphicFramePr>
        <p:xfrm>
          <a:off x="1143000" y="1066680"/>
          <a:ext cx="7112160" cy="5118120"/>
        </p:xfrm>
        <a:graphic>
          <a:graphicData uri="http://schemas.openxmlformats.org/presentationml/2006/ole">
            <p:oleObj progId="Word.Document.12" r:id="rId1" spid="">
              <p:embed/>
              <p:pic>
                <p:nvPicPr>
                  <p:cNvPr id="57" name="" descr=""/>
                  <p:cNvPicPr/>
                  <p:nvPr/>
                </p:nvPicPr>
                <p:blipFill>
                  <a:blip r:embed="rId2"/>
                  <a:stretch/>
                </p:blipFill>
                <p:spPr>
                  <a:xfrm>
                    <a:off x="1143000" y="1066680"/>
                    <a:ext cx="7112160" cy="5118120"/>
                  </a:xfrm>
                  <a:prstGeom prst="rect">
                    <a:avLst/>
                  </a:prstGeom>
                  <a:ln w="0">
                    <a:noFill/>
                  </a:ln>
                </p:spPr>
              </p:pic>
            </p:oleObj>
          </a:graphicData>
        </a:graphic>
      </p:graphicFrame>
      <p:sp>
        <p:nvSpPr>
          <p:cNvPr id="58" name=""/>
          <p:cNvSpPr/>
          <p:nvPr/>
        </p:nvSpPr>
        <p:spPr>
          <a:xfrm>
            <a:off x="6168600" y="6507000"/>
            <a:ext cx="28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r Barry Powell &amp; Dr. C. Simon Bawde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23:21:07Z</dcterms:created>
  <dc:creator>USER</dc:creator>
  <dc:description/>
  <dc:language>en-US</dc:language>
  <cp:lastModifiedBy>Hdaily</cp:lastModifiedBy>
  <cp:lastPrinted>2000-02-15T23:38:21Z</cp:lastPrinted>
  <dcterms:modified xsi:type="dcterms:W3CDTF">2000-06-07T05:44:42Z</dcterms:modified>
  <cp:revision>4</cp:revision>
  <dc:subject/>
  <dc:title>Keratin structure</dc:title>
</cp:coreProperties>
</file>