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77D4-3F7E-4911-B448-083E622D9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77C3-7ABA-4AE0-AD6B-3D5ED9258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t>
            </a:r>
            <a:r>
              <a:rPr b="1" lang="en-AU" sz="1200" spc="-1" strike="noStrike">
                <a:solidFill>
                  <a:srgbClr val="000000"/>
                </a:solidFill>
                <a:latin typeface="Times New Roman"/>
              </a:rPr>
              <a:t>TRANSGENIC ANIMAL</a:t>
            </a:r>
            <a:r>
              <a:rPr b="0" lang="en-AU" sz="1200" spc="-1" strike="noStrike">
                <a:solidFill>
                  <a:srgbClr val="000000"/>
                </a:solidFill>
                <a:latin typeface="Times New Roman"/>
              </a:rPr>
              <a:t> contains recombinant DNA which is stably integrated into the chromosomal DNA of some or all of its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t>
            </a:r>
            <a:r>
              <a:rPr b="1" lang="en-AU" sz="1200" spc="-1" strike="noStrike">
                <a:solidFill>
                  <a:srgbClr val="000000"/>
                </a:solidFill>
                <a:latin typeface="Times New Roman"/>
              </a:rPr>
              <a:t>TRANSGENE </a:t>
            </a:r>
            <a:r>
              <a:rPr b="0" lang="en-AU" sz="1200" spc="-1" strike="noStrike">
                <a:solidFill>
                  <a:srgbClr val="000000"/>
                </a:solidFill>
                <a:latin typeface="Times New Roman"/>
              </a:rPr>
              <a:t>is the piece of recombinant DNA which becomes integrated into the chromosomal DNA of a transgenic ani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e the modules relating to molecular biology to review the process of isolating, identifying and cloning DNA for use in transgene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nsgenic animals potentially have many varied roles.  For wool production, use of transgenics may improve the sheeps’ resistance to disease, their ability to produce essential amino acids, decrease pigmentation or improve the fibre properties of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some practical applications of transgenic technology for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9092-6B18-4FAB-8606-5CA251625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rst three examples will be outlined in this module and there are separate modules describing the use of transgenics to alter the proteins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lk production can be modified so that pharmaceutical products can be excreted in the milk.  For example the gene for interferon could be included into the sheep and controlled to express only in the mammary gland.  The interferon could then be isolated from the milk. Unfortunately for the wool industry the Merinos have very low levels of milk production and probably would not be considered an efficient source of the product compared to dairy cows, goats or other sheep breeds.</a:t>
            </a:r>
            <a:endParaRPr b="0" lang="en-US" sz="1200" spc="-1" strike="noStrike">
              <a:solidFill>
                <a:srgbClr val="000000"/>
              </a:solidFill>
              <a:latin typeface="Times New Roman"/>
            </a:endParaRPr>
          </a:p>
        </p:txBody>
      </p:sp>
      <p:sp>
        <p:nvSpPr>
          <p:cNvPr id="68"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01C45-5526-4B27-89E7-A04059079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The cysteine requirement for wool growth comes from the high cysteine content of the keratin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Cysteine can be made from methionine but both these amino acids can often be low in poor quality forage.  Feeding supplements of either amino acid does not help because each is broken down in the rum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The two genes in </a:t>
            </a:r>
            <a:r>
              <a:rPr b="0" i="1" lang="en-AU" sz="1200" spc="-1" strike="noStrike">
                <a:solidFill>
                  <a:srgbClr val="000000"/>
                </a:solidFill>
                <a:latin typeface="Times New Roman"/>
              </a:rPr>
              <a:t>E. coli</a:t>
            </a:r>
            <a:r>
              <a:rPr b="0" lang="en-AU" sz="1200" spc="-1" strike="noStrike">
                <a:solidFill>
                  <a:srgbClr val="000000"/>
                </a:solidFill>
                <a:latin typeface="Times New Roman"/>
              </a:rPr>
              <a:t> are the cysE gene (encodes serine transacetylase) and the cysK gene (encodes O-acetylserine sulfhydryl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The cysE and cysK genes have been joined together under the control of a metallothionein promoter and inserted into transgenic mice.  When placed on a diet which is very low in both sulfur amino acids, the transgenic mice can continue to grow well and to grow hair strongly while non-transgenic control mice lose their hair and los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5.  The gene is currently being transferred to sheep but it is proving to be very difficult to make many transgenic animals at the moment.  The reason for this is not known, but the gene may still require further modification for optimal performance in sheep.</a:t>
            </a:r>
            <a:endParaRPr b="0" lang="en-US" sz="1200" spc="-1" strike="noStrike">
              <a:solidFill>
                <a:srgbClr val="000000"/>
              </a:solidFill>
              <a:latin typeface="Times New Roman"/>
            </a:endParaRPr>
          </a:p>
        </p:txBody>
      </p:sp>
      <p:sp>
        <p:nvSpPr>
          <p:cNvPr id="72" name="PlaceHolder 2"/>
          <p:cNvSpPr>
            <a:spLocks noGrp="1"/>
          </p:cNvSpPr>
          <p:nvPr>
            <p:ph type="sldImg"/>
          </p:nvPr>
        </p:nvSpPr>
        <p:spPr>
          <a:xfrm>
            <a:off x="1562040" y="533520"/>
            <a:ext cx="3657600" cy="2743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DD2CD-0EFA-4CB1-8138-B0DD87BEE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The secretions of the skin provide an ideal environment for blowfly larvae to grow in, but as the larvae grow in size, they become invasive and start to feed from the body tissues of th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The problem with the use of chemical insecticides is that they are expensive, require additional husbandry effort and can leave residues in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An ideal solution to the problem would be for the sheep to secrete a larval-specific protein in its sweat such that the fly larvae are killed when they feed on the skin secretions.  Plant chitinases and some modifications of these proteins can inhibit larval growth and are not dangerous to any animals.  In fact, they form part of the food chain for most animals, including huma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The ideal solution to the problem would be to construct a gene that encodes a plant chitinase, regulated by a promoter sequence that directs expression of the gene to the sheep’s sweat glands.  Currently in CSIRO the appropriate gene from plants has been isolated and modified for expression in animals and is being tested in laboratory mice.  Much more work still needs to be done to get the optimum expression in the sheep’s sweat gland, but the final aim of the research is to produce sheep which are genetically resistant to blowfly larvae.</a:t>
            </a:r>
            <a:endParaRPr b="0" lang="en-US" sz="1200" spc="-1" strike="noStrike">
              <a:solidFill>
                <a:srgbClr val="000000"/>
              </a:solidFill>
              <a:latin typeface="Times New Roman"/>
            </a:endParaRPr>
          </a:p>
        </p:txBody>
      </p:sp>
      <p:sp>
        <p:nvSpPr>
          <p:cNvPr id="76"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B2DD-CBEC-4382-B69C-F532D8A83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on pigmentation see the modules “Mouse Pigmentation Genes” and “Regulation of Melanin Synthesis”.  With this background information it is possible to see how transgenic animals can be created which produce no pigmented fibres.</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nsgenic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Kevin Ward,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lected examples of domestic animal applications</a:t>
            </a:r>
            <a:endParaRPr b="1" lang="en-US" sz="3200" spc="-1" strike="noStrike">
              <a:solidFill>
                <a:srgbClr val="fafd00"/>
              </a:solidFill>
              <a:latin typeface="Arial"/>
            </a:endParaRPr>
          </a:p>
        </p:txBody>
      </p:sp>
      <p:sp>
        <p:nvSpPr>
          <p:cNvPr id="50" name="PlaceHolder 2"/>
          <p:cNvSpPr>
            <a:spLocks noGrp="1"/>
          </p:cNvSpPr>
          <p:nvPr>
            <p:ph/>
          </p:nvPr>
        </p:nvSpPr>
        <p:spPr>
          <a:xfrm>
            <a:off x="1295280" y="1143000"/>
            <a:ext cx="7772400" cy="49528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roduction of a cysteine biosynthetic pathway to shee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ion of a plant chitinase in sheep to prevent blowfly strik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vention of pigmented wo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dification to milk produc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lteration to the proteins of wool</a:t>
            </a:r>
            <a:endParaRPr b="1" lang="en-US" sz="2800" spc="-1" strike="noStrike">
              <a:solidFill>
                <a:srgbClr val="ffffff"/>
              </a:solidFill>
              <a:latin typeface="Arial"/>
            </a:endParaRPr>
          </a:p>
        </p:txBody>
      </p:sp>
      <p:sp>
        <p:nvSpPr>
          <p:cNvPr id="51" name=""/>
          <p:cNvSpPr/>
          <p:nvPr/>
        </p:nvSpPr>
        <p:spPr>
          <a:xfrm>
            <a:off x="8021520" y="643104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roduction of a cysteine biosynthetic pathway</a:t>
            </a:r>
            <a:endParaRPr b="1" lang="en-US" sz="3200" spc="-1" strike="noStrike">
              <a:solidFill>
                <a:srgbClr val="fafd00"/>
              </a:solidFill>
              <a:latin typeface="Arial"/>
            </a:endParaRPr>
          </a:p>
        </p:txBody>
      </p:sp>
      <p:sp>
        <p:nvSpPr>
          <p:cNvPr id="53" name="PlaceHolder 2"/>
          <p:cNvSpPr>
            <a:spLocks noGrp="1"/>
          </p:cNvSpPr>
          <p:nvPr>
            <p:ph/>
          </p:nvPr>
        </p:nvSpPr>
        <p:spPr>
          <a:xfrm>
            <a:off x="1295280" y="1143000"/>
            <a:ext cx="7772400" cy="50292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ysteine limits wool grow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heep have lost the pathway for cysteine synthesi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pathway has been isolated from bacteria</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ice with the new pathway can produce cystein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w needs to be shown in sheep</a:t>
            </a:r>
            <a:endParaRPr b="1" lang="en-US" sz="2800" spc="-1" strike="noStrike">
              <a:solidFill>
                <a:srgbClr val="ffffff"/>
              </a:solidFill>
              <a:latin typeface="Arial"/>
            </a:endParaRPr>
          </a:p>
        </p:txBody>
      </p:sp>
      <p:sp>
        <p:nvSpPr>
          <p:cNvPr id="54" name=""/>
          <p:cNvSpPr/>
          <p:nvPr/>
        </p:nvSpPr>
        <p:spPr>
          <a:xfrm>
            <a:off x="8021520" y="643104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duction of a plant chitinase in sheep</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lowfly strike causes much damage to shee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rmally controlled by chemical insecticid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lant chitinases can control fly larva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im is to transfer a plant gene for chitinase to sheep</a:t>
            </a:r>
            <a:endParaRPr b="1" lang="en-US" sz="2800" spc="-1" strike="noStrike">
              <a:solidFill>
                <a:srgbClr val="ffffff"/>
              </a:solidFill>
              <a:latin typeface="Arial"/>
            </a:endParaRPr>
          </a:p>
        </p:txBody>
      </p:sp>
      <p:sp>
        <p:nvSpPr>
          <p:cNvPr id="57" name=""/>
          <p:cNvSpPr/>
          <p:nvPr/>
        </p:nvSpPr>
        <p:spPr>
          <a:xfrm>
            <a:off x="8021520" y="643104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evention of pigmented wool</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igmented fibres contaminating white wool downgrade the fleec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igment production requires the activity of the enzyme tyrosinas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im is to reduce tyrosinase activity by the use of anti-sense genes directed against tyrosinase mRNA</a:t>
            </a:r>
            <a:endParaRPr b="1" lang="en-US" sz="2800" spc="-1" strike="noStrike">
              <a:solidFill>
                <a:srgbClr val="ffffff"/>
              </a:solidFill>
              <a:latin typeface="Arial"/>
            </a:endParaRPr>
          </a:p>
        </p:txBody>
      </p:sp>
      <p:sp>
        <p:nvSpPr>
          <p:cNvPr id="60" name=""/>
          <p:cNvSpPr/>
          <p:nvPr/>
        </p:nvSpPr>
        <p:spPr>
          <a:xfrm>
            <a:off x="8021520" y="643104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22:11:05Z</dcterms:created>
  <dc:creator>USER</dc:creator>
  <dc:description/>
  <dc:language>en-US</dc:language>
  <cp:lastModifiedBy>Hdaily</cp:lastModifiedBy>
  <cp:lastPrinted>2000-02-03T09:09:47Z</cp:lastPrinted>
  <dcterms:modified xsi:type="dcterms:W3CDTF">2000-06-09T05:54:14Z</dcterms:modified>
  <cp:revision>3</cp:revision>
  <dc:subject/>
  <dc:title>Transgenic Sheep</dc:title>
</cp:coreProperties>
</file>