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3F3C-9102-4DDD-9EE6-5D548C910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62040" y="533520"/>
            <a:ext cx="3657600" cy="2743200"/>
          </a:xfrm>
          <a:prstGeom prst="rect">
            <a:avLst/>
          </a:prstGeom>
          <a:ln w="0">
            <a:noFill/>
          </a:ln>
        </p:spPr>
      </p:sp>
      <p:sp>
        <p:nvSpPr>
          <p:cNvPr id="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concepts involved in the area of quality assurance and quality management, and how those concepts are applied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f the questions addressed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is quality important to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can we improve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systems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0B92-416E-464B-8B18-DA023D158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have been some moves within the wool industry to lift the quality image of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urvey conducted by IWS in 1996 showed that there were a number of organisations that support quality systems of various pedi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group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 / bloodline grou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al location grou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lt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ation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hemes themselves range from ISO and AS series’, both  requiring a detailed set of procedures and an independent third party audit to more simple schemes.  There are non-certified schemes having various degrees of documentation and also shed tidy check lists, that are a simple check list containing a recommendation of what is required by that particular broker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ong brokers, a number of participants support ISO standards.  Included in the module is a brief summary of Elders Clip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stralian Wool Exchange (AWEX) has been trying to implement an Wool Quality Mark in the Australian wool industry for some time.  Work is progressing in this area.  This module includes a brief summary of AWEX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the Australian Wool Testing Authority (AWTA) complies with ISO 9002, and follows a philosophy of TQM in all its operations.</a:t>
            </a:r>
            <a:endParaRPr b="0" lang="en-US" sz="1200" spc="-1" strike="noStrike">
              <a:solidFill>
                <a:srgbClr val="000000"/>
              </a:solidFill>
              <a:latin typeface="Times New Roman"/>
            </a:endParaRPr>
          </a:p>
        </p:txBody>
      </p:sp>
      <p:sp>
        <p:nvSpPr>
          <p:cNvPr id="222" name="PlaceHolder 2"/>
          <p:cNvSpPr>
            <a:spLocks noGrp="1"/>
          </p:cNvSpPr>
          <p:nvPr>
            <p:ph type="sldImg"/>
          </p:nvPr>
        </p:nvSpPr>
        <p:spPr>
          <a:xfrm>
            <a:off x="1562040" y="53352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AC68-8EDA-4F09-BDF8-8136FC318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562040" y="533520"/>
            <a:ext cx="3657600" cy="2743200"/>
          </a:xfrm>
          <a:prstGeom prst="rect">
            <a:avLst/>
          </a:prstGeom>
          <a:ln w="0">
            <a:noFill/>
          </a:ln>
        </p:spPr>
      </p:sp>
      <p:sp>
        <p:nvSpPr>
          <p:cNvPr id="2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three slides and notes are taken from a lecture given by Mark Rodda, the Direct Wool Marketing Manager from Elders in 1998.  The notes detail the procedures and philosophy of Elders ClipC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pCare is an ISO-certified quality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ders ensure that there is independent training of staff to be assessors.  This ensures that they understand the requirements of ClipCare as an ISO QA program and not just a marketing strategy of a wool broker.  Classers, contractors and woolgrowers are also able to train to the same level through TAF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ssessors go through the philosophies of ClipCare and then the operational requirements to ensure the grower understands and has time to prepare the shed and sheep to the required standard. (Sheep preparation ensures that they are free of stain and crutched within the three months prior to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Rodda, M. (1998), Quality Assurance, A Broker’s View,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F4B5-9E73-4370-8601-C4C497E63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odda, M. (1998), Quality Assurance, A Broker’s View,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shearing the ClipCare assessor attends the first day and briefs the team, inspects the sheep and the shear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the procedures are well documented, and each shed is registered.  The grower and classer sign a declaration form acknowledging the procedures and their commitment to following them.  This is called the ClipCare Accreditation Declaration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ny point in this process the accreditation can be withdrawn or not issu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ird party auditor for ClipCare is SGS, who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udit wool shed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udit Elders employees acting as assessors,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udit Elders woolsto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ditor may return to the shearing or to Elders operations at any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the grab sample is inspected by Elders on the showfloor as a final che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724D-E156-4742-99E8-16275AFFE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562040" y="533520"/>
            <a:ext cx="3657600" cy="2743200"/>
          </a:xfrm>
          <a:prstGeom prst="rect">
            <a:avLst/>
          </a:prstGeom>
          <a:ln w="0">
            <a:noFill/>
          </a:ln>
        </p:spPr>
      </p:sp>
      <p:sp>
        <p:nvSpPr>
          <p:cNvPr id="234" name="PlaceHolder 2"/>
          <p:cNvSpPr>
            <a:spLocks noGrp="1"/>
          </p:cNvSpPr>
          <p:nvPr>
            <p:ph type="body"/>
          </p:nvPr>
        </p:nvSpPr>
        <p:spPr>
          <a:xfrm>
            <a:off x="457200" y="3428640"/>
            <a:ext cx="5943600" cy="4876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Rodda, M. (1998), Quality Assurance, A Broker’s View, Wool Marketing lecture, CRC for Premium Quality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lipCare wool is identified in a number of ways.  The ClipCare Stencil is applied as a quality mark, so ClipCare is incorporated into the farm brand.  Other stencils are just applied to the bale in the shed with no further use in the wool chai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the sale catalogue quality scheme wools can be identified on separate pages or by symbols in the catalogue.  Some brokers also separate the quality wools on the showfloo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wool is identified on the Test Certificate by the brand, e.g. ClipCa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inally the quality wool can be identified in electronic data transmission.  All major brokers and exporters operate on electronic data transmissions for transfer of catalogue details and invoices.  This data format is controlled by a committee of AWEX and is the basis for the international transfer of dat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QA programs have had a number of positive impacts in the wool industry so far.  Some of these are listed in the slide.  A good example is the ClipCare Premium pack which set a new standard for woolpacks.  It has become the new industry standard “Standard 5”.</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However, no individual program has been able to achieve critical mass in the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rokers refer to QA programs achieving premiums, but, if you remember the level of discounts currently applied then any price difference between QA wools and non-QA wool is actually the discount NOT being applied rather than a premium being pai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lso exists a fair amount of confusion about which wool is actually being sold under a quality scheme.  This confusion leads to difficulties in analysing the dat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s confusion also makes it difficult for the buyer to purchase true QA wool.  The “wool industry” needs to resolve what is to be the QA standard that can be promoted in Australia to growers and marketed to our export customers.  For buyers to fully utilise QA wool they need a reliable supply of wool in commercial quantities.  A common standard needs to be marketed by the industry, i.e. all quality schemes should be a minimum ISO or AS equivale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C413-806A-4ECF-A727-427185C20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562040" y="533520"/>
            <a:ext cx="3657600" cy="2743200"/>
          </a:xfrm>
          <a:prstGeom prst="rect">
            <a:avLst/>
          </a:prstGeom>
          <a:ln w="0">
            <a:noFill/>
          </a:ln>
        </p:spPr>
      </p:sp>
      <p:sp>
        <p:nvSpPr>
          <p:cNvPr id="2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slides are from a lecture given by Mr. Lindsay Spencer in 1998 in the Wool Marketing lecture series.  Lindsay was then the Quality Systems Manager for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stralian Wool Exchange (AWEX) was formed in the aftermath of the collapse of the Reserve Price Scheme.  A review of the Wool Industry, the Garnaut Report recommended that the Government withdraw from wool selling (through AWC/AWRAP/IWS/AWRC/WI), and that an industry based alternative be formed.  This was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WEX is a not-for-profit company limited by guarantee.  It has 6  Membership classes, a Board comprising of; 7 elected/appointed by members, 3 Independent Directors, including the Chairman and a Chief Executive Officer responsible for Exchange operations (Administration, Selling Facilities, Market Reporting, Technical Services (including </a:t>
            </a:r>
            <a:r>
              <a:rPr b="1" lang="en-AU" sz="1200" spc="-1" strike="noStrike">
                <a:solidFill>
                  <a:srgbClr val="000000"/>
                </a:solidFill>
                <a:latin typeface="Times New Roman"/>
              </a:rPr>
              <a:t>Qualit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ncial basis of AWEX is membership applications and fees, trading fees on first hand greasy wool and fees fo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ssion Statement of AWEX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t>
            </a:r>
            <a:r>
              <a:rPr b="0" i="1" lang="en-AU" sz="1200" spc="-1" strike="noStrike">
                <a:solidFill>
                  <a:srgbClr val="000000"/>
                </a:solidFill>
                <a:latin typeface="Times New Roman"/>
              </a:rPr>
              <a:t>Enhance the global demand for Australian wool for the benefit of buyers and sellers by providing and facilitating efficient, innovative and informed trading systems in an environment which fosters competition and self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cknowledgment of the move to industry self regulation, the Australian Consumer and Competition Commission (ACCC) authorised AWEX to operate outside the bounds of the Consumer Act for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bjectives of AWEX are listed in the slide, quality being part of the whole pictur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Spencer, L. (1998), Quality in the Australian Wool Industry, Wool Marketing lecture, CRC for Premium Quality W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02F3-72BE-4A29-BED7-03D77B1E2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562040" y="533520"/>
            <a:ext cx="3657600" cy="2743200"/>
          </a:xfrm>
          <a:prstGeom prst="rect">
            <a:avLst/>
          </a:prstGeom>
          <a:ln w="0">
            <a:noFill/>
          </a:ln>
        </p:spPr>
      </p:sp>
      <p:sp>
        <p:nvSpPr>
          <p:cNvPr id="2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numerous hurdles to the adoption of new quality standards and practices in the wool industry.  These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are also sol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building block that will be highlighted is the introduction of adequate quality systems.  This may be manifested in the Greasy Wool Quality Mark (Quality Ma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must be produced, harvested, handled and marketed through a continuous chain of organisations having acceptable quality management systems in place and be working to the agreed Codes of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562040" y="533520"/>
            <a:ext cx="3657600" cy="2743200"/>
          </a:xfrm>
          <a:prstGeom prst="rect">
            <a:avLst/>
          </a:prstGeom>
          <a:ln w="0">
            <a:noFill/>
          </a:ln>
        </p:spPr>
      </p:sp>
      <p:sp>
        <p:nvSpPr>
          <p:cNvPr id="2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0" lang="en-AU" sz="1200" spc="-1" strike="noStrike" u="sng">
                <a:solidFill>
                  <a:srgbClr val="000000"/>
                </a:solidFill>
                <a:uFillTx/>
                <a:latin typeface="Times New Roman"/>
              </a:rPr>
              <a:t>Greasy Wool Quality Mark</a:t>
            </a:r>
            <a:r>
              <a:rPr b="0" lang="en-AU" sz="1200" spc="-1" strike="noStrike">
                <a:solidFill>
                  <a:srgbClr val="000000"/>
                </a:solidFill>
                <a:latin typeface="Times New Roman"/>
              </a:rPr>
              <a:t> is a way of differentiating better quality Australian wool, it shoul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extend from wool production through to delivery to mill,</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acilitate the provision of a critical mass of suitable quality prepared wool to the trad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e the basis for continual improvement, including lifting standards across Australia,</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eliver a competitive advantage to Australian woolgrowers, an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llow all woolgrowers to access a Quality Management program without necessarily becoming tied to an individual scheme an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hould be implemented progressively to allow the system to be built up with integr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ted issues ar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tegration with existing AWEX quality systems, e.g. woolclasser, sampling site and showfloor;</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egistration;</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 simplified approach for selecting quality wool from Australia;</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tegration with other on-farm Quality Systems, e.g. Cattlecare/Flockcar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quality system approach, ISO compatible including preventive/corrective action and continuous improvement;</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operation from key wool grower contacts, e.g. wool brokers, grower group schemes; an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Quality Mark must be self fun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lementation of the AWEX Quality Mark should proceed in two phases.  Phase 1 targets Wool Producers and Wool Brokers / Sale Agents.  Phase 2 targets Buyers / Exporters, Wool Dumps and Mills (Scouring &amp;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562040" y="533520"/>
            <a:ext cx="3657600" cy="2743200"/>
          </a:xfrm>
          <a:prstGeom prst="rect">
            <a:avLst/>
          </a:prstGeom>
          <a:ln w="0">
            <a:noFill/>
          </a:ln>
        </p:spPr>
      </p:sp>
      <p:sp>
        <p:nvSpPr>
          <p:cNvPr id="2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quality systems have control points, activities where control can and must be exercised to achieve acceptable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trol points as far as the wool producer is concerned are listed on this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4469-85E2-44CB-93E4-0CDEC66B2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so a number of activities in a quality system where action can be taken to manage quality; the management poi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nagement points as far as the wool producer is concerned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562040" y="53352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B704-7BED-4A1B-A213-4347A9A58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562040" y="533520"/>
            <a:ext cx="3657600" cy="2743200"/>
          </a:xfrm>
          <a:prstGeom prst="rect">
            <a:avLst/>
          </a:prstGeom>
          <a:ln w="0">
            <a:noFill/>
          </a:ln>
        </p:spPr>
      </p:sp>
      <p:sp>
        <p:nvSpPr>
          <p:cNvPr id="25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trol points for sale agent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8213-8FBA-4FAD-B2EF-1B2789ECF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some of the reasons why quality is important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cessing technology has improved over the years and competing fibres, especially synthetics, are better suited to this improved technology.  Improved technology means faster speeds, more productive equipment and automated equipment.  Production techniques like ‘Just in Time’ (JIT) mean smaller batches (constant availability) and more control is required for these (less variation or specified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ong with these developments, the overriding aims of processors have become waste reduction, maximum throughput and minimum down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a natural fibre that is variable and inconsistent.  It is grown in varying environments and its growth is affected by the environment.  This means variable availability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ibre is inadequately specified.  The variation in properties is not specified, although this will change soon for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past specification has been seen as simply a certification for trade, rather than a tool to satisfy custo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CBA8-0FE3-46CC-8D97-8EDE10DE1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nagement points for sale agent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1562040" y="53352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562040" y="533520"/>
            <a:ext cx="3657600" cy="2743200"/>
          </a:xfrm>
          <a:prstGeom prst="rect">
            <a:avLst/>
          </a:prstGeom>
          <a:ln w="0">
            <a:noFill/>
          </a:ln>
        </p:spPr>
      </p:sp>
      <p:sp>
        <p:nvSpPr>
          <p:cNvPr id="2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ways benefits and costs to the introduction of any innovation.  Some of the benefits and costs of the adoption of the Quality Mark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question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l the Australian wool industry take up the international challenge and adopt Quality Management practices that assure delivery of a product to the customers’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04A5-27BF-44E7-A8B0-0491D3C92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849D-BFE3-400D-BB79-F32D74734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ways that quality can be def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essence quality is meeting the customers’ needs.  The concept of Total Quality Management (TQM) encompasses this “holistic” approach.</a:t>
            </a:r>
            <a:endParaRPr b="0" lang="en-US" sz="1200" spc="-1" strike="noStrike">
              <a:solidFill>
                <a:srgbClr val="000000"/>
              </a:solidFill>
              <a:latin typeface="Times New Roman"/>
            </a:endParaRPr>
          </a:p>
        </p:txBody>
      </p:sp>
      <p:sp>
        <p:nvSpPr>
          <p:cNvPr id="198"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ets out the features of Total Quality Management (TQM).  TQM is an approach that meshes well with modern marketing approaches since the needs of the customer are paramount. TQM also suits a systems approach to marketing, since all stages of production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very applicable to the wool industry, which is starting to realise that quality starts at home.  The developments during 1999 in in-shed sampling are exc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Quality Systems” is another term frequently used in this area.  While TQM encompasses the philosophy of quality, the quality system is </a:t>
            </a:r>
            <a:r>
              <a:rPr b="0" lang="en-AU" sz="1200" spc="-1" strike="noStrike">
                <a:solidFill>
                  <a:srgbClr val="000000"/>
                </a:solidFill>
                <a:latin typeface="Times New Roman"/>
              </a:rPr>
              <a:t>the structure to implement TQ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terms encountered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Quality Assurance (QA</a:t>
            </a:r>
            <a:r>
              <a:rPr b="0" lang="en-AU" sz="1200" spc="-1" strike="noStrike">
                <a:solidFill>
                  <a:srgbClr val="000000"/>
                </a:solidFill>
                <a:latin typeface="Times New Roman"/>
              </a:rPr>
              <a:t>), which encompasses all activities required to provide customer confidence in the Quality System.  Quality is being built into the product, and structures are in place to maintain and improve the product.  The key concept is TRUST in the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Quality Control (QC)</a:t>
            </a:r>
            <a:r>
              <a:rPr b="0" lang="en-AU" sz="1200" spc="-1" strike="noStrike">
                <a:solidFill>
                  <a:srgbClr val="000000"/>
                </a:solidFill>
                <a:latin typeface="Times New Roman"/>
              </a:rPr>
              <a:t> is simply part of the Quality System.  These are the techniques and activities for controlling variability, and the specification and testing required to know your raw material.  The key concept i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Evans, J.R. &amp; Lindsay, W.M. (1993), The Management and Control of Quality, 2nd Edition, West Publishing Co., Minneapolis / St. 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B730-082E-4E05-8959-6F3A2A9B4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IWS (1996) Wool Quality Guide, Melbourne, IWS, p. 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le of QA has been illustrated above as part of a continuous improvement cycle.  The way that QA can be used to enhance the product and inspire confidence is illustra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lists those product and service features which are important to the customers of the wool industry.  The focus here is more on the processor rather than the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mands of customers (processors) have been clearly expressed in the market.  These include low contamination (VM and non-VM), lower fibre diameter, higher strength and adequate length.  Variables like diameter variation and curvature are still being assessed, but these demands will become clear so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verriding feature for products and services is repeatability.  A quality system will guarantee this to a level that meets the customers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BC56-5C07-4212-AB5A-C4938D5DF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benefits of quality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rketing advantages for producers who pursue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definitely advantages for the processor in terms of productivity and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bination of these advantages is being tested and proven in the market by schemes like Fibre Direct and Tasmanian Quality Wool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note that quality is not a demand driver per se, and that quality costs the producer.  The implementation of quality schemes will cost the industry.  To be successful, the costs should be outweighed by the benefits of such sch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quality MUST be a concern to woolgrowers.  There is potential for profit maximisation through quality differentiation.  The customer perception of the fibre can be changed to that of a winning fibre.  Changing technological requirements mean that wool must adopt adequate quality systems to become a more competitive fibre.  There are also both product and service issues to consider in the implementation of such a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F4B9-9264-4FE1-9EBE-580CA27F6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mon features of any worthwhile quality system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onents and these are features of the ISO 9000 models (see next slide for more information on ISO 9000),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commitment from management down; a Quality Policy is require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ducation &amp; train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stomer focus (their needs are paramoun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ign &amp; documented quality system,</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ystem auditing which has internal and external fun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worth noting that models like ISO 9000 may not be necessary for everyone.  The extra costs involved may not be worth the implementation, although there is a strong market awareness of ISO 900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143D-3C7B-4DED-B9A4-6E59B8672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SO is based in Geneva and has achieved a world-wide presence through the development and application of standards.  The ISO 9000 series is a series of standards addressing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1994 survey conducted by the Mobil Oil Company in 76 countries world-wide showed that the growth in registrations for ISO 9000 went from 46,546 companies in Sept 1993 to 70,517 registered companies in June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Standards (AS) support ISO standards through their AS3900 s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of these quality standards (models) are suppliers, the process and the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ong many elements, the following stand out; management responsibility (regular reviews required), the quality system must be documented and internal and external quality audits are fea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s elements are contract review, design control, purchasing procedure review, product traceability, process control, inspection and testing, testing equipment, control of non-conforming product, corrective action, handling and storage, quality records, training, servicing, statistical techniques and quality cost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ay seem daunting but the point is that this is a system and any part of the system can be let down by the other parts, so every part must be controlled.</a:t>
            </a:r>
            <a:endParaRPr b="0" lang="en-US" sz="1200" spc="-1" strike="noStrike">
              <a:solidFill>
                <a:srgbClr val="000000"/>
              </a:solidFill>
              <a:latin typeface="Times New Roman"/>
            </a:endParaRPr>
          </a:p>
        </p:txBody>
      </p:sp>
      <p:sp>
        <p:nvSpPr>
          <p:cNvPr id="218"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Quality Assurance &amp;</a:t>
            </a:r>
            <a:br>
              <a:rPr sz="3200"/>
            </a:br>
            <a:r>
              <a:rPr b="1" lang="en-GB" sz="3200" spc="-1" strike="noStrike">
                <a:solidFill>
                  <a:srgbClr val="fafd00"/>
                </a:solidFill>
                <a:latin typeface="Arial"/>
              </a:rPr>
              <a:t> Quality Manag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Quality in the Wool Industry</a:t>
            </a:r>
            <a:endParaRPr b="1" lang="en-US" sz="3200" spc="-1" strike="noStrike">
              <a:solidFill>
                <a:srgbClr val="fafd00"/>
              </a:solidFill>
              <a:latin typeface="Arial"/>
            </a:endParaRPr>
          </a:p>
        </p:txBody>
      </p:sp>
      <p:sp>
        <p:nvSpPr>
          <p:cNvPr id="126"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96 figure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SO</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pca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S Falkiner &amp; S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oddard Wool Marke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Jemalong Wool Pty. Lt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bout 10 other grower / broker groups</a:t>
            </a:r>
            <a:endParaRPr b="1" lang="en-US" sz="2000" spc="-1" strike="noStrike">
              <a:solidFill>
                <a:srgbClr val="ffffff"/>
              </a:solidFill>
              <a:latin typeface="Arial"/>
            </a:endParaRPr>
          </a:p>
        </p:txBody>
      </p:sp>
      <p:sp>
        <p:nvSpPr>
          <p:cNvPr id="127"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WEX</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ustralian Quality Mark</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WTA</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SO 9002</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ders ClipCare</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ff training to TAFE certificate level</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iefing the grower on the operational requirements of ClipCare</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 shearing inspection of shed and surrounds </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ower to prepare shed and sheep to required standard</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 have to be crutched or rung within three months of shearing</a:t>
            </a:r>
            <a:endParaRPr b="1" lang="en-US" sz="2800" spc="-1" strike="noStrike">
              <a:solidFill>
                <a:srgbClr val="ffffff"/>
              </a:solidFill>
              <a:latin typeface="Arial"/>
            </a:endParaRPr>
          </a:p>
        </p:txBody>
      </p:sp>
      <p:sp>
        <p:nvSpPr>
          <p:cNvPr id="130" name=""/>
          <p:cNvSpPr/>
          <p:nvPr/>
        </p:nvSpPr>
        <p:spPr>
          <a:xfrm>
            <a:off x="7698960" y="6324480"/>
            <a:ext cx="137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dda, M. (1998)</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ders ClipCare</a:t>
            </a:r>
            <a:endParaRPr b="1" lang="en-US" sz="3200" spc="-1" strike="noStrike">
              <a:solidFill>
                <a:srgbClr val="fafd00"/>
              </a:solidFill>
              <a:latin typeface="Arial"/>
            </a:endParaRPr>
          </a:p>
        </p:txBody>
      </p:sp>
      <p:sp>
        <p:nvSpPr>
          <p:cNvPr id="13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ssessor attends the first day of shearing to brief the team, inspect the sheep and oper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gned declar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ipCare Accreditation Declaration Form</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rd party audi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ditor may return unannounced at any tim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ab sample is then inspected on the show floor</a:t>
            </a:r>
            <a:endParaRPr b="1" lang="en-US" sz="2800" spc="-1" strike="noStrike">
              <a:solidFill>
                <a:srgbClr val="ffffff"/>
              </a:solidFill>
              <a:latin typeface="Arial"/>
            </a:endParaRPr>
          </a:p>
        </p:txBody>
      </p:sp>
      <p:sp>
        <p:nvSpPr>
          <p:cNvPr id="133" name=""/>
          <p:cNvSpPr/>
          <p:nvPr/>
        </p:nvSpPr>
        <p:spPr>
          <a:xfrm>
            <a:off x="7698960" y="6324480"/>
            <a:ext cx="137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dda, M. (1998)</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ders ClipCare</a:t>
            </a:r>
            <a:endParaRPr b="1" lang="en-US" sz="3200" spc="-1" strike="noStrike">
              <a:solidFill>
                <a:srgbClr val="fafd00"/>
              </a:solidFill>
              <a:latin typeface="Arial"/>
            </a:endParaRPr>
          </a:p>
        </p:txBody>
      </p:sp>
      <p:sp>
        <p:nvSpPr>
          <p:cNvPr id="13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act of QA progra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ise awareness of production and classing iss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 clip preparation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eate loyalty to broker or other grou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d the standards of packs u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wev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individual program has been able to achieve critical ma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e premiums difficult to quantify</a:t>
            </a:r>
            <a:endParaRPr b="1" lang="en-US" sz="2400" spc="-1" strike="noStrike">
              <a:solidFill>
                <a:srgbClr val="ffffff"/>
              </a:solidFill>
              <a:latin typeface="Arial"/>
            </a:endParaRPr>
          </a:p>
        </p:txBody>
      </p:sp>
      <p:sp>
        <p:nvSpPr>
          <p:cNvPr id="136" name=""/>
          <p:cNvSpPr/>
          <p:nvPr/>
        </p:nvSpPr>
        <p:spPr>
          <a:xfrm>
            <a:off x="7698960" y="6400800"/>
            <a:ext cx="137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dda, M. (1998)</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7" name=""/>
          <p:cNvSpPr/>
          <p:nvPr/>
        </p:nvSpPr>
        <p:spPr>
          <a:xfrm>
            <a:off x="762192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WEX Objectives</a:t>
            </a:r>
            <a:endParaRPr b="1" lang="en-US" sz="3200" spc="-1" strike="noStrike">
              <a:solidFill>
                <a:srgbClr val="fafd00"/>
              </a:solidFill>
              <a:latin typeface="Arial"/>
            </a:endParaRPr>
          </a:p>
        </p:txBody>
      </p:sp>
      <p:sp>
        <p:nvSpPr>
          <p:cNvPr id="1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intain, administer, conduct and facilitate efficient, innovative and informed wool selling system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stablish, monitor and administer the rules of wool selling of the Australian Wool Exchan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stablish and maintain facilities to gather and disseminate pre and post sale market inform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ibute to and maintain recognised </a:t>
            </a:r>
            <a:r>
              <a:rPr b="1" lang="en-AU" sz="2400" spc="-1" strike="noStrike" u="sng">
                <a:solidFill>
                  <a:srgbClr val="ffffff"/>
                </a:solidFill>
                <a:uFillTx/>
                <a:latin typeface="Arial"/>
              </a:rPr>
              <a:t>quality assurance standards</a:t>
            </a:r>
            <a:r>
              <a:rPr b="1" lang="en-AU" sz="2400" spc="-1" strike="noStrike">
                <a:solidFill>
                  <a:srgbClr val="ffffff"/>
                </a:solidFill>
                <a:latin typeface="Arial"/>
              </a:rPr>
              <a:t> for wool sold in Australia.</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WEX &amp; Quality</a:t>
            </a:r>
            <a:endParaRPr b="1" lang="en-US" sz="3200" spc="-1" strike="noStrike">
              <a:solidFill>
                <a:srgbClr val="fafd00"/>
              </a:solidFill>
              <a:latin typeface="Arial"/>
            </a:endParaRPr>
          </a:p>
        </p:txBody>
      </p:sp>
      <p:sp>
        <p:nvSpPr>
          <p:cNvPr id="14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bstacl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y culture chang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ctor interes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nforceability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o pay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o gets the benefi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n the industry afford quality?</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lu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ilding block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des of Practic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gistration Schem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System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nimum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sy Wool Quality Mark</a:t>
            </a:r>
            <a:endParaRPr b="1" lang="en-US" sz="2400" spc="-1" strike="noStrike">
              <a:solidFill>
                <a:srgbClr val="ffffff"/>
              </a:solidFill>
              <a:latin typeface="Arial"/>
            </a:endParaRPr>
          </a:p>
        </p:txBody>
      </p:sp>
      <p:sp>
        <p:nvSpPr>
          <p:cNvPr id="143" name=""/>
          <p:cNvSpPr/>
          <p:nvPr/>
        </p:nvSpPr>
        <p:spPr>
          <a:xfrm>
            <a:off x="762192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ucture of AWEX Quality Mark</a:t>
            </a:r>
            <a:endParaRPr b="1" lang="en-US" sz="3200" spc="-1" strike="noStrike">
              <a:solidFill>
                <a:srgbClr val="fafd00"/>
              </a:solidFill>
              <a:latin typeface="Arial"/>
            </a:endParaRPr>
          </a:p>
        </p:txBody>
      </p:sp>
      <p:sp>
        <p:nvSpPr>
          <p:cNvPr id="145" name=""/>
          <p:cNvSpPr/>
          <p:nvPr/>
        </p:nvSpPr>
        <p:spPr>
          <a:xfrm>
            <a:off x="7053840" y="6324480"/>
            <a:ext cx="2018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pencer, L. (1998)</a:t>
            </a:r>
            <a:endParaRPr b="0" lang="en-US" sz="1200" spc="-1" strike="noStrike">
              <a:solidFill>
                <a:srgbClr val="000000"/>
              </a:solidFill>
              <a:latin typeface="Times New Roman"/>
            </a:endParaRPr>
          </a:p>
        </p:txBody>
      </p:sp>
      <p:sp>
        <p:nvSpPr>
          <p:cNvPr id="146" name=""/>
          <p:cNvSpPr/>
          <p:nvPr/>
        </p:nvSpPr>
        <p:spPr>
          <a:xfrm>
            <a:off x="1269360" y="5321160"/>
            <a:ext cx="7705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upported by Independent Auditing of each sector, including ISO Certification</a:t>
            </a:r>
            <a:endParaRPr b="0" lang="en-US" sz="1600" spc="-1" strike="noStrike">
              <a:solidFill>
                <a:srgbClr val="000000"/>
              </a:solidFill>
              <a:latin typeface="Times New Roman"/>
            </a:endParaRPr>
          </a:p>
        </p:txBody>
      </p:sp>
      <p:grpSp>
        <p:nvGrpSpPr>
          <p:cNvPr id="147" name=""/>
          <p:cNvGrpSpPr/>
          <p:nvPr/>
        </p:nvGrpSpPr>
        <p:grpSpPr>
          <a:xfrm>
            <a:off x="1104480" y="1252440"/>
            <a:ext cx="8038800" cy="3762000"/>
            <a:chOff x="1104480" y="1252440"/>
            <a:chExt cx="8038800" cy="3762000"/>
          </a:xfrm>
        </p:grpSpPr>
        <p:sp>
          <p:nvSpPr>
            <p:cNvPr id="148" name=""/>
            <p:cNvSpPr/>
            <p:nvPr/>
          </p:nvSpPr>
          <p:spPr>
            <a:xfrm>
              <a:off x="4273200" y="4438800"/>
              <a:ext cx="1397520" cy="575640"/>
            </a:xfrm>
            <a:prstGeom prst="rect">
              <a:avLst/>
            </a:prstGeom>
            <a:solidFill>
              <a:srgbClr val="ff9933"/>
            </a:solidFill>
            <a:ln w="12600">
              <a:solidFill>
                <a:srgbClr val="000000"/>
              </a:solidFill>
              <a:miter/>
            </a:ln>
            <a:effectLst>
              <a:outerShdw dist="153753" dir="2700000" blurRad="0" rotWithShape="0">
                <a:srgbClr val="80808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WE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Quality Mark</a:t>
              </a:r>
              <a:endParaRPr b="0" lang="en-US" sz="1600" spc="-1" strike="noStrike">
                <a:solidFill>
                  <a:srgbClr val="000000"/>
                </a:solidFill>
                <a:latin typeface="Times New Roman"/>
              </a:endParaRPr>
            </a:p>
          </p:txBody>
        </p:sp>
        <p:sp>
          <p:nvSpPr>
            <p:cNvPr id="149" name=""/>
            <p:cNvSpPr/>
            <p:nvPr/>
          </p:nvSpPr>
          <p:spPr>
            <a:xfrm>
              <a:off x="1333440" y="3424320"/>
              <a:ext cx="7354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55680" y="2619360"/>
              <a:ext cx="0" cy="73044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87800" y="2619360"/>
              <a:ext cx="0" cy="73044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904080" y="2619360"/>
              <a:ext cx="0" cy="73044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763120" y="2619360"/>
              <a:ext cx="0" cy="73044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897440" y="2913120"/>
              <a:ext cx="0" cy="146376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345400" y="3646440"/>
              <a:ext cx="1525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hase 1</a:t>
              </a:r>
              <a:endParaRPr b="0" lang="en-US" sz="2800" spc="-1" strike="noStrike">
                <a:solidFill>
                  <a:srgbClr val="000000"/>
                </a:solidFill>
                <a:latin typeface="Times New Roman"/>
              </a:endParaRPr>
            </a:p>
          </p:txBody>
        </p:sp>
        <p:sp>
          <p:nvSpPr>
            <p:cNvPr id="156" name=""/>
            <p:cNvSpPr/>
            <p:nvPr/>
          </p:nvSpPr>
          <p:spPr>
            <a:xfrm>
              <a:off x="6358680" y="3646440"/>
              <a:ext cx="1525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hase 2</a:t>
              </a:r>
              <a:endParaRPr b="0" lang="en-US" sz="2800" spc="-1" strike="noStrike">
                <a:solidFill>
                  <a:srgbClr val="000000"/>
                </a:solidFill>
                <a:latin typeface="Times New Roman"/>
              </a:endParaRPr>
            </a:p>
          </p:txBody>
        </p:sp>
        <p:grpSp>
          <p:nvGrpSpPr>
            <p:cNvPr id="157" name=""/>
            <p:cNvGrpSpPr/>
            <p:nvPr/>
          </p:nvGrpSpPr>
          <p:grpSpPr>
            <a:xfrm>
              <a:off x="1104480" y="1252440"/>
              <a:ext cx="8038800" cy="639720"/>
              <a:chOff x="1104480" y="1252440"/>
              <a:chExt cx="8038800" cy="639720"/>
            </a:xfrm>
          </p:grpSpPr>
          <p:sp>
            <p:nvSpPr>
              <p:cNvPr id="158" name=""/>
              <p:cNvSpPr/>
              <p:nvPr/>
            </p:nvSpPr>
            <p:spPr>
              <a:xfrm>
                <a:off x="2373480" y="1589040"/>
                <a:ext cx="369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04480" y="1252440"/>
                <a:ext cx="1249920" cy="639720"/>
              </a:xfrm>
              <a:prstGeom prst="rect">
                <a:avLst/>
              </a:prstGeom>
              <a:solidFill>
                <a:srgbClr val="ff9933"/>
              </a:solidFill>
              <a:ln w="12600">
                <a:solidFill>
                  <a:srgbClr val="000000"/>
                </a:solidFill>
                <a:miter/>
              </a:ln>
            </p:spPr>
            <p:style>
              <a:lnRef idx="0"/>
              <a:fillRef idx="0"/>
              <a:effectRef idx="0"/>
              <a:fontRef idx="minor"/>
            </p:style>
            <p:txBody>
              <a:bodyPr wrap="none" lIns="90360" rIns="90360" tIns="76320" bIns="7632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du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rvesting</a:t>
                </a:r>
                <a:endParaRPr b="0" lang="en-US" sz="1600" spc="-1" strike="noStrike">
                  <a:solidFill>
                    <a:srgbClr val="000000"/>
                  </a:solidFill>
                  <a:latin typeface="Times New Roman"/>
                </a:endParaRPr>
              </a:p>
            </p:txBody>
          </p:sp>
          <p:sp>
            <p:nvSpPr>
              <p:cNvPr id="160" name=""/>
              <p:cNvSpPr/>
              <p:nvPr/>
            </p:nvSpPr>
            <p:spPr>
              <a:xfrm>
                <a:off x="2828520" y="1252440"/>
                <a:ext cx="1126440" cy="639720"/>
              </a:xfrm>
              <a:prstGeom prst="rect">
                <a:avLst/>
              </a:prstGeom>
              <a:solidFill>
                <a:srgbClr val="ff9933"/>
              </a:solidFill>
              <a:ln w="12600">
                <a:solidFill>
                  <a:srgbClr val="000000"/>
                </a:solidFill>
                <a:miter/>
              </a:ln>
            </p:spPr>
            <p:style>
              <a:lnRef idx="0"/>
              <a:fillRef idx="0"/>
              <a:effectRef idx="0"/>
              <a:fontRef idx="minor"/>
            </p:style>
            <p:txBody>
              <a:bodyPr wrap="none" lIns="90360" rIns="90360" tIns="76320" bIns="7632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rans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ndling</a:t>
                </a:r>
                <a:endParaRPr b="0" lang="en-US" sz="1600" spc="-1" strike="noStrike">
                  <a:solidFill>
                    <a:srgbClr val="000000"/>
                  </a:solidFill>
                  <a:latin typeface="Times New Roman"/>
                </a:endParaRPr>
              </a:p>
            </p:txBody>
          </p:sp>
          <p:sp>
            <p:nvSpPr>
              <p:cNvPr id="161" name=""/>
              <p:cNvSpPr/>
              <p:nvPr/>
            </p:nvSpPr>
            <p:spPr>
              <a:xfrm>
                <a:off x="3962520" y="1589040"/>
                <a:ext cx="368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684760" y="1589040"/>
                <a:ext cx="368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83600" y="1589040"/>
                <a:ext cx="369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419720" y="1301760"/>
                <a:ext cx="1252440" cy="574560"/>
                <a:chOff x="4419720" y="1301760"/>
                <a:chExt cx="1252440" cy="574560"/>
              </a:xfrm>
            </p:grpSpPr>
            <p:sp>
              <p:nvSpPr>
                <p:cNvPr id="165" name=""/>
                <p:cNvSpPr/>
                <p:nvPr/>
              </p:nvSpPr>
              <p:spPr>
                <a:xfrm>
                  <a:off x="4419720" y="1301760"/>
                  <a:ext cx="1252440" cy="5745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541760" y="1389240"/>
                  <a:ext cx="1005120" cy="396360"/>
                </a:xfrm>
                <a:prstGeom prst="rect">
                  <a:avLst/>
                </a:prstGeom>
                <a:solidFill>
                  <a:srgbClr val="ff9933"/>
                </a:solidFill>
                <a:ln w="0">
                  <a:noFill/>
                </a:ln>
              </p:spPr>
              <p:style>
                <a:lnRef idx="0"/>
                <a:fillRef idx="0"/>
                <a:effectRef idx="0"/>
                <a:fontRef idx="minor"/>
              </p:style>
              <p:txBody>
                <a:bodyPr lIns="90360" rIns="90360" tIns="76320" bIns="7632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ALE</a:t>
                  </a:r>
                  <a:endParaRPr b="0" lang="en-US" sz="1600" spc="-1" strike="noStrike">
                    <a:solidFill>
                      <a:srgbClr val="000000"/>
                    </a:solidFill>
                    <a:latin typeface="Times New Roman"/>
                  </a:endParaRPr>
                </a:p>
              </p:txBody>
            </p:sp>
          </p:grpSp>
          <p:sp>
            <p:nvSpPr>
              <p:cNvPr id="167" name=""/>
              <p:cNvSpPr/>
              <p:nvPr/>
            </p:nvSpPr>
            <p:spPr>
              <a:xfrm>
                <a:off x="7857000" y="1252440"/>
                <a:ext cx="1286280" cy="639720"/>
              </a:xfrm>
              <a:prstGeom prst="rect">
                <a:avLst/>
              </a:prstGeom>
              <a:solidFill>
                <a:srgbClr val="ff9933"/>
              </a:solidFill>
              <a:ln w="12600">
                <a:solidFill>
                  <a:srgbClr val="000000"/>
                </a:solidFill>
                <a:miter/>
              </a:ln>
            </p:spPr>
            <p:style>
              <a:lnRef idx="0"/>
              <a:fillRef idx="0"/>
              <a:effectRef idx="0"/>
              <a:fontRef idx="minor"/>
            </p:style>
            <p:txBody>
              <a:bodyPr wrap="none" lIns="90360" rIns="90360" tIns="76320" bIns="7632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arly St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cessing</a:t>
                </a:r>
                <a:endParaRPr b="0" lang="en-US" sz="1600" spc="-1" strike="noStrike">
                  <a:solidFill>
                    <a:srgbClr val="000000"/>
                  </a:solidFill>
                  <a:latin typeface="Times New Roman"/>
                </a:endParaRPr>
              </a:p>
            </p:txBody>
          </p:sp>
          <p:sp>
            <p:nvSpPr>
              <p:cNvPr id="168" name=""/>
              <p:cNvSpPr/>
              <p:nvPr/>
            </p:nvSpPr>
            <p:spPr>
              <a:xfrm>
                <a:off x="6103080" y="1282680"/>
                <a:ext cx="1261800" cy="575640"/>
              </a:xfrm>
              <a:prstGeom prst="rect">
                <a:avLst/>
              </a:prstGeom>
              <a:solidFill>
                <a:srgbClr val="ff9933"/>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uy/Ex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Dumping</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er Control Points</a:t>
            </a:r>
            <a:endParaRPr b="1" lang="en-US" sz="3200" spc="-1" strike="noStrike">
              <a:solidFill>
                <a:srgbClr val="fafd00"/>
              </a:solidFill>
              <a:latin typeface="Arial"/>
            </a:endParaRPr>
          </a:p>
        </p:txBody>
      </p:sp>
      <p:sp>
        <p:nvSpPr>
          <p:cNvPr id="170"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rking Environment</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aring Shed</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ep Movement Areas</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ol Preparation Area</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micals On-Farm</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btaining and Storing Farm Chemicals</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afe and Responsible Chemical Use</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ain Management</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ep Free From Urine and Dung Stain</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spection of Sheep Prior to Shearing</a:t>
            </a:r>
            <a:endParaRPr b="1" lang="en-US" sz="1800" spc="-1" strike="noStrike">
              <a:solidFill>
                <a:srgbClr val="ffffff"/>
              </a:solidFill>
              <a:latin typeface="Arial"/>
            </a:endParaRPr>
          </a:p>
        </p:txBody>
      </p:sp>
      <p:sp>
        <p:nvSpPr>
          <p:cNvPr id="171" name="PlaceHolder 3"/>
          <p:cNvSpPr>
            <a:spLocks noGrp="1"/>
          </p:cNvSpPr>
          <p:nvPr>
            <p:ph/>
          </p:nvPr>
        </p:nvSpPr>
        <p:spPr>
          <a:xfrm>
            <a:off x="4952880" y="838080"/>
            <a:ext cx="4114800" cy="5181840"/>
          </a:xfrm>
          <a:prstGeom prst="rect">
            <a:avLst/>
          </a:prstGeom>
          <a:noFill/>
          <a:ln w="0">
            <a:noFill/>
          </a:ln>
        </p:spPr>
        <p:txBody>
          <a:bodyPr lIns="90000" rIns="90000" tIns="46800" bIns="46800" anchor="t">
            <a:normAutofit fontScale="89000"/>
          </a:bodyPr>
          <a:p>
            <a:pPr marL="305280" indent="-3052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amination</a:t>
            </a:r>
            <a:endParaRPr b="1" lang="en-US" sz="20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ark or Pigmented Fibre (Genetic)</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n-wool Articles</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randing and Raddling</a:t>
            </a:r>
            <a:endParaRPr b="1" lang="en-US" sz="1800" spc="-1" strike="noStrike">
              <a:solidFill>
                <a:srgbClr val="ffffff"/>
              </a:solidFill>
              <a:latin typeface="Arial"/>
            </a:endParaRPr>
          </a:p>
          <a:p>
            <a:pPr marL="305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05280" indent="-3052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Preparation</a:t>
            </a:r>
            <a:endParaRPr b="1" lang="en-US" sz="20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eparation and Classing</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moval of Fleeces</a:t>
            </a:r>
            <a:endParaRPr b="1" lang="en-US" sz="1800" spc="-1" strike="noStrike">
              <a:solidFill>
                <a:srgbClr val="ffffff"/>
              </a:solidFill>
              <a:latin typeface="Arial"/>
            </a:endParaRPr>
          </a:p>
          <a:p>
            <a:pPr marL="305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05280" indent="-3052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aling and Storage</a:t>
            </a:r>
            <a:endParaRPr b="1" lang="en-US" sz="20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aling of Wool</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ale Identification and Traceability</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andling and Storage</a:t>
            </a:r>
            <a:endParaRPr b="1" lang="en-US" sz="1800" spc="-1" strike="noStrike">
              <a:solidFill>
                <a:srgbClr val="ffffff"/>
              </a:solidFill>
              <a:latin typeface="Arial"/>
            </a:endParaRPr>
          </a:p>
          <a:p>
            <a:pPr marL="305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05280" indent="-3052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spection and Transport</a:t>
            </a:r>
            <a:endParaRPr b="1" lang="en-US" sz="20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nal Inspection</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ransportation</a:t>
            </a:r>
            <a:endParaRPr b="1"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2" name=""/>
          <p:cNvSpPr/>
          <p:nvPr/>
        </p:nvSpPr>
        <p:spPr>
          <a:xfrm>
            <a:off x="754596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er - Management Points</a:t>
            </a:r>
            <a:endParaRPr b="1" lang="en-US" sz="3200" spc="-1" strike="noStrike">
              <a:solidFill>
                <a:srgbClr val="fafd00"/>
              </a:solidFill>
              <a:latin typeface="Arial"/>
            </a:endParaRPr>
          </a:p>
        </p:txBody>
      </p:sp>
      <p:sp>
        <p:nvSpPr>
          <p:cNvPr id="1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agement Responsibil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ide to adopt Quality Mark</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ccupational Health and Safe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imal Welfa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ff</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rk agreements and Duty She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affing level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in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rds and Document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di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rrective and preventive actio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Specifica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5" name=""/>
          <p:cNvSpPr/>
          <p:nvPr/>
        </p:nvSpPr>
        <p:spPr>
          <a:xfrm>
            <a:off x="754596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ale Agent - Control Points</a:t>
            </a:r>
            <a:endParaRPr b="1" lang="en-US" sz="3200" spc="-1" strike="noStrike">
              <a:solidFill>
                <a:srgbClr val="fafd00"/>
              </a:solidFill>
              <a:latin typeface="Arial"/>
            </a:endParaRPr>
          </a:p>
        </p:txBody>
      </p:sp>
      <p:sp>
        <p:nvSpPr>
          <p:cNvPr id="1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livery Requirements</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ceival of Wool into Store</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le Handling Equipment and Machinery</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store Handling, Delivery and Storage</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Identification and Traceability</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Specification and Measurement</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paration for Sale </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le</a:t>
            </a:r>
            <a:r>
              <a:rPr b="1" lang="en-AU" sz="2800" spc="-1" strike="noStrike">
                <a:solidFill>
                  <a:srgbClr val="ffffff"/>
                </a:solidFill>
                <a:latin typeface="Arial"/>
              </a:rPr>
              <a:t>	</a:t>
            </a:r>
            <a:r>
              <a:rPr b="1" lang="en-AU" sz="2800" spc="-1" strike="noStrike">
                <a:solidFill>
                  <a:srgbClr val="ffffff"/>
                </a:solidFill>
                <a:latin typeface="Arial"/>
              </a:rPr>
              <a:t>	</a:t>
            </a:r>
            <a:endParaRPr b="1" lang="en-US" sz="2800" spc="-1" strike="noStrike">
              <a:solidFill>
                <a:srgbClr val="ffffff"/>
              </a:solidFill>
              <a:latin typeface="Arial"/>
            </a:endParaRPr>
          </a:p>
        </p:txBody>
      </p:sp>
      <p:sp>
        <p:nvSpPr>
          <p:cNvPr id="178" name=""/>
          <p:cNvSpPr/>
          <p:nvPr/>
        </p:nvSpPr>
        <p:spPr>
          <a:xfrm>
            <a:off x="762192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y is Quality Important?</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roved technolog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tural fibr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adequately specifi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ation not specifi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able availa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fication as certification for trade</a:t>
            </a:r>
            <a:endParaRPr b="1" lang="en-US" sz="2800" spc="-1" strike="noStrike">
              <a:solidFill>
                <a:srgbClr val="ffffff"/>
              </a:solidFill>
              <a:latin typeface="Arial"/>
            </a:endParaRPr>
          </a:p>
        </p:txBody>
      </p:sp>
      <p:sp>
        <p:nvSpPr>
          <p:cNvPr id="5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ale Agent - Management Points</a:t>
            </a:r>
            <a:endParaRPr b="1" lang="en-US" sz="3200" spc="-1" strike="noStrike">
              <a:solidFill>
                <a:srgbClr val="fafd00"/>
              </a:solidFill>
              <a:latin typeface="Arial"/>
            </a:endParaRPr>
          </a:p>
        </p:txBody>
      </p:sp>
      <p:sp>
        <p:nvSpPr>
          <p:cNvPr id="18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nagement Responsibility</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rking Conditions</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ining</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ccupational Health and Safety</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spection, Measuring and Sampling Equipment</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cords and Documentation</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dits, Corrective and Preventive Action</a:t>
            </a:r>
            <a:r>
              <a:rPr b="1" lang="en-AU" sz="2800" spc="-1" strike="noStrike">
                <a:solidFill>
                  <a:srgbClr val="ffffff"/>
                </a:solidFill>
                <a:latin typeface="Arial"/>
              </a:rPr>
              <a:t>	</a:t>
            </a:r>
            <a:endParaRPr b="1" lang="en-US" sz="2800" spc="-1" strike="noStrike">
              <a:solidFill>
                <a:srgbClr val="ffffff"/>
              </a:solidFill>
              <a:latin typeface="Arial"/>
            </a:endParaRPr>
          </a:p>
        </p:txBody>
      </p:sp>
      <p:sp>
        <p:nvSpPr>
          <p:cNvPr id="181" name=""/>
          <p:cNvSpPr/>
          <p:nvPr/>
        </p:nvSpPr>
        <p:spPr>
          <a:xfrm>
            <a:off x="7698240" y="632448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efits &amp; Costs of Quality</a:t>
            </a:r>
            <a:endParaRPr b="1" lang="en-US" sz="3200" spc="-1" strike="noStrike">
              <a:solidFill>
                <a:srgbClr val="fafd00"/>
              </a:solidFill>
              <a:latin typeface="Arial"/>
            </a:endParaRPr>
          </a:p>
        </p:txBody>
      </p:sp>
      <p:sp>
        <p:nvSpPr>
          <p:cNvPr id="18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BENEFITS</a:t>
            </a:r>
            <a:endParaRPr b="1" lang="en-US" sz="24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grower</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differentiation</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oker/Sale Agent</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ferred supplier</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buyer/Exporter</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sk management</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dump</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efficiency</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rly Stage processor</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 prediction</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Industry</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y survival</a:t>
            </a:r>
            <a:endParaRPr b="1" lang="en-US" sz="2000" spc="-1" strike="noStrike">
              <a:solidFill>
                <a:srgbClr val="ffffff"/>
              </a:solidFill>
              <a:latin typeface="Arial"/>
            </a:endParaRPr>
          </a:p>
        </p:txBody>
      </p:sp>
      <p:sp>
        <p:nvSpPr>
          <p:cNvPr id="18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S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li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diting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SO certification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istr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ining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
          <p:cNvSpPr/>
          <p:nvPr/>
        </p:nvSpPr>
        <p:spPr>
          <a:xfrm>
            <a:off x="762192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ferences</a:t>
            </a:r>
            <a:endParaRPr b="1" lang="en-US" sz="3200" spc="-1" strike="noStrike">
              <a:solidFill>
                <a:srgbClr val="fafd00"/>
              </a:solidFill>
              <a:latin typeface="Arial"/>
            </a:endParaRPr>
          </a:p>
        </p:txBody>
      </p:sp>
      <p:sp>
        <p:nvSpPr>
          <p:cNvPr id="1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3000"/>
          </a:bodyPr>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International Wool Secretariat (1996) Wool Quality Guide IWS Melbourne (Appendices cited)</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Chant Link &amp; Associates (1994) Market Research on Quality Assurance System Requirements for Australian Greasy Wool prepared for IWS</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GS Australia P/L (1993) Study into Quality Management Systems for the Australian Wool Industry prepared for AWC and WRDC</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AS / NZS ISO 9000 series standards</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pencer, L. (1998), Quality in the Australian Wool Industry, Wool Marketing lecture, CRC for PQW</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Rodda, M. (1998), Quality Assurance, A Broker’s View, Wool Marketing lecture, CRC for PQW</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is Quality?</a:t>
            </a:r>
            <a:endParaRPr b="1" lang="en-US" sz="3200" spc="-1" strike="noStrike">
              <a:solidFill>
                <a:srgbClr val="fafd00"/>
              </a:solidFill>
              <a:latin typeface="Arial"/>
            </a:endParaRPr>
          </a:p>
        </p:txBody>
      </p:sp>
      <p:sp>
        <p:nvSpPr>
          <p:cNvPr id="54" name="PlaceHolder 2"/>
          <p:cNvSpPr>
            <a:spLocks noGrp="1"/>
          </p:cNvSpPr>
          <p:nvPr>
            <p:ph/>
          </p:nvPr>
        </p:nvSpPr>
        <p:spPr>
          <a:xfrm>
            <a:off x="1295280" y="914040"/>
            <a:ext cx="7772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 (or service) features which meet the needs of customers and thereby provide customer satisfaction</a:t>
            </a:r>
            <a:endParaRPr b="1" lang="en-US" sz="24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livering what the customer wants at the price and specification agre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ors and consumers</a:t>
            </a:r>
            <a:endParaRPr b="1"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surpris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ors especially</a:t>
            </a:r>
            <a:endParaRPr b="1"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dictable degree of uniformity suited to the marke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dictable variation</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tal Quality Management</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rve the needs of customers bett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customer or buyer satisfa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l stages of production involv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ng-term perspect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eds of the custom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holistic” approach to management</a:t>
            </a:r>
            <a:endParaRPr b="1" lang="en-US" sz="2800" spc="-1" strike="noStrike">
              <a:solidFill>
                <a:srgbClr val="ffffff"/>
              </a:solidFill>
              <a:latin typeface="Arial"/>
            </a:endParaRPr>
          </a:p>
        </p:txBody>
      </p:sp>
      <p:sp>
        <p:nvSpPr>
          <p:cNvPr id="57"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125000" y="906120"/>
            <a:ext cx="7942680" cy="4656600"/>
            <a:chOff x="1125000" y="906120"/>
            <a:chExt cx="7942680" cy="4656600"/>
          </a:xfrm>
        </p:grpSpPr>
        <p:sp>
          <p:nvSpPr>
            <p:cNvPr id="59" name=""/>
            <p:cNvSpPr/>
            <p:nvPr/>
          </p:nvSpPr>
          <p:spPr>
            <a:xfrm>
              <a:off x="1866960" y="5425920"/>
              <a:ext cx="7200720" cy="13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89040" y="5094360"/>
              <a:ext cx="6578640" cy="318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14720" y="4759200"/>
              <a:ext cx="5952960" cy="324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08440" y="4429080"/>
              <a:ext cx="5259240" cy="318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502160" y="4095720"/>
              <a:ext cx="456552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24600" y="3762360"/>
              <a:ext cx="3943080" cy="32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49920" y="3429000"/>
              <a:ext cx="3317760" cy="32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30960" y="3152880"/>
              <a:ext cx="2736720" cy="32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811920" y="2806560"/>
              <a:ext cx="2255760" cy="390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403280" y="2755800"/>
              <a:ext cx="2289240" cy="1890720"/>
            </a:xfrm>
            <a:prstGeom prst="line">
              <a:avLst/>
            </a:prstGeom>
            <a:ln w="10152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2340000">
              <a:off x="913680" y="3645000"/>
              <a:ext cx="3178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quality assurance</a:t>
              </a:r>
              <a:endParaRPr b="0" lang="en-US" sz="2400" spc="-1" strike="noStrike">
                <a:solidFill>
                  <a:srgbClr val="000000"/>
                </a:solidFill>
                <a:latin typeface="Times New Roman"/>
              </a:endParaRPr>
            </a:p>
          </p:txBody>
        </p:sp>
        <p:sp>
          <p:nvSpPr>
            <p:cNvPr id="70" name=""/>
            <p:cNvSpPr/>
            <p:nvPr/>
          </p:nvSpPr>
          <p:spPr>
            <a:xfrm>
              <a:off x="2552760" y="1630440"/>
              <a:ext cx="2598840" cy="247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82880" y="1638360"/>
              <a:ext cx="0" cy="246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60680" y="2870280"/>
              <a:ext cx="258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44280" y="2298600"/>
              <a:ext cx="100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74" name=""/>
            <p:cNvSpPr/>
            <p:nvPr/>
          </p:nvSpPr>
          <p:spPr>
            <a:xfrm>
              <a:off x="4039920" y="2286000"/>
              <a:ext cx="638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DO</a:t>
              </a:r>
              <a:endParaRPr b="0" lang="en-US" sz="2400" spc="-1" strike="noStrike">
                <a:solidFill>
                  <a:srgbClr val="000000"/>
                </a:solidFill>
                <a:latin typeface="Times New Roman"/>
              </a:endParaRPr>
            </a:p>
          </p:txBody>
        </p:sp>
        <p:sp>
          <p:nvSpPr>
            <p:cNvPr id="75" name=""/>
            <p:cNvSpPr/>
            <p:nvPr/>
          </p:nvSpPr>
          <p:spPr>
            <a:xfrm>
              <a:off x="3754440" y="3129120"/>
              <a:ext cx="129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HECK</a:t>
              </a:r>
              <a:endParaRPr b="0" lang="en-US" sz="2400" spc="-1" strike="noStrike">
                <a:solidFill>
                  <a:srgbClr val="000000"/>
                </a:solidFill>
                <a:latin typeface="Times New Roman"/>
              </a:endParaRPr>
            </a:p>
          </p:txBody>
        </p:sp>
        <p:sp>
          <p:nvSpPr>
            <p:cNvPr id="76" name=""/>
            <p:cNvSpPr/>
            <p:nvPr/>
          </p:nvSpPr>
          <p:spPr>
            <a:xfrm>
              <a:off x="2820600" y="3129120"/>
              <a:ext cx="82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CT</a:t>
              </a:r>
              <a:endParaRPr b="0" lang="en-US" sz="2400" spc="-1" strike="noStrike">
                <a:solidFill>
                  <a:srgbClr val="000000"/>
                </a:solidFill>
                <a:latin typeface="Times New Roman"/>
              </a:endParaRPr>
            </a:p>
          </p:txBody>
        </p:sp>
        <p:sp>
          <p:nvSpPr>
            <p:cNvPr id="77" name=""/>
            <p:cNvSpPr/>
            <p:nvPr/>
          </p:nvSpPr>
          <p:spPr>
            <a:xfrm>
              <a:off x="2114640" y="1120680"/>
              <a:ext cx="3482280" cy="3365640"/>
            </a:xfrm>
            <a:custGeom>
              <a:avLst/>
              <a:gdLst/>
              <a:ahLst/>
              <a:rect l="l" t="t" r="r" b="b"/>
              <a:pathLst>
                <a:path stroke="0" w="21600" h="21600">
                  <a:moveTo>
                    <a:pt x="0" y="10782"/>
                  </a:moveTo>
                  <a:arcTo wR="10800" hR="10800" stAng="-10794113" swAng="5391286"/>
                  <a:lnTo>
                    <a:pt x="10800" y="10800"/>
                  </a:lnTo>
                  <a:close/>
                </a:path>
                <a:path fill="none" w="21600" h="21600">
                  <a:moveTo>
                    <a:pt x="0" y="10782"/>
                  </a:moveTo>
                  <a:arcTo wR="10800" hR="10800" stAng="-10794113" swAng="5391286"/>
                </a:path>
              </a:pathLst>
            </a:custGeom>
            <a:noFill/>
            <a:ln cap="rnd" w="507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5135400" y="1719000"/>
              <a:ext cx="2586240" cy="1958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9440000">
              <a:off x="4776120" y="1986120"/>
              <a:ext cx="382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ntinuous improvement</a:t>
              </a:r>
              <a:endParaRPr b="0" lang="en-US" sz="2400" spc="-1" strike="noStrike">
                <a:solidFill>
                  <a:srgbClr val="000000"/>
                </a:solidFill>
                <a:latin typeface="Times New Roman"/>
              </a:endParaRPr>
            </a:p>
          </p:txBody>
        </p:sp>
        <p:sp>
          <p:nvSpPr>
            <p:cNvPr id="80" name=""/>
            <p:cNvSpPr/>
            <p:nvPr/>
          </p:nvSpPr>
          <p:spPr>
            <a:xfrm>
              <a:off x="7224840" y="2530440"/>
              <a:ext cx="1842840" cy="25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567560" y="2184480"/>
              <a:ext cx="150012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7469640" y="6324480"/>
            <a:ext cx="1523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IWS (1996)</a:t>
            </a:r>
            <a:endParaRPr b="0" lang="en-US" sz="1200" spc="-1" strike="noStrike">
              <a:solidFill>
                <a:srgbClr val="000000"/>
              </a:solidFill>
              <a:latin typeface="Times New Roman"/>
            </a:endParaRPr>
          </a:p>
        </p:txBody>
      </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inuous Improvement Cycl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Quality Features</a:t>
            </a:r>
            <a:endParaRPr b="1" lang="en-US" sz="3200" spc="-1" strike="noStrike">
              <a:solidFill>
                <a:srgbClr val="fafd00"/>
              </a:solidFill>
              <a:latin typeface="Arial"/>
            </a:endParaRPr>
          </a:p>
        </p:txBody>
      </p:sp>
      <p:sp>
        <p:nvSpPr>
          <p:cNvPr id="8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grpSp>
        <p:nvGrpSpPr>
          <p:cNvPr id="86" name=""/>
          <p:cNvGrpSpPr/>
          <p:nvPr/>
        </p:nvGrpSpPr>
        <p:grpSpPr>
          <a:xfrm>
            <a:off x="1295280" y="1219320"/>
            <a:ext cx="7467840" cy="4800600"/>
            <a:chOff x="1295280" y="1219320"/>
            <a:chExt cx="7467840" cy="4800600"/>
          </a:xfrm>
        </p:grpSpPr>
        <p:sp>
          <p:nvSpPr>
            <p:cNvPr id="87" name=""/>
            <p:cNvSpPr/>
            <p:nvPr/>
          </p:nvSpPr>
          <p:spPr>
            <a:xfrm>
              <a:off x="2233440" y="1249200"/>
              <a:ext cx="134172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roduct</a:t>
              </a:r>
              <a:endParaRPr b="0" lang="en-US" sz="2800" spc="-1" strike="noStrike">
                <a:solidFill>
                  <a:srgbClr val="000000"/>
                </a:solidFill>
                <a:latin typeface="Times New Roman"/>
              </a:endParaRPr>
            </a:p>
          </p:txBody>
        </p:sp>
        <p:sp>
          <p:nvSpPr>
            <p:cNvPr id="88" name=""/>
            <p:cNvSpPr/>
            <p:nvPr/>
          </p:nvSpPr>
          <p:spPr>
            <a:xfrm>
              <a:off x="6057720" y="1249200"/>
              <a:ext cx="126720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ervice</a:t>
              </a:r>
              <a:endParaRPr b="0" lang="en-US" sz="2800" spc="-1" strike="noStrike">
                <a:solidFill>
                  <a:srgbClr val="000000"/>
                </a:solidFill>
                <a:latin typeface="Times New Roman"/>
              </a:endParaRPr>
            </a:p>
          </p:txBody>
        </p:sp>
        <p:sp>
          <p:nvSpPr>
            <p:cNvPr id="89" name=""/>
            <p:cNvSpPr/>
            <p:nvPr/>
          </p:nvSpPr>
          <p:spPr>
            <a:xfrm>
              <a:off x="1579320" y="1981080"/>
              <a:ext cx="228816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p preparation</a:t>
              </a:r>
              <a:endParaRPr b="0" lang="en-US" sz="2400" spc="-1" strike="noStrike">
                <a:solidFill>
                  <a:srgbClr val="000000"/>
                </a:solidFill>
                <a:latin typeface="Times New Roman"/>
              </a:endParaRPr>
            </a:p>
          </p:txBody>
        </p:sp>
        <p:sp>
          <p:nvSpPr>
            <p:cNvPr id="90" name=""/>
            <p:cNvSpPr/>
            <p:nvPr/>
          </p:nvSpPr>
          <p:spPr>
            <a:xfrm>
              <a:off x="1590840" y="2530440"/>
              <a:ext cx="29815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description</a:t>
              </a:r>
              <a:endParaRPr b="0" lang="en-US" sz="2400" spc="-1" strike="noStrike">
                <a:solidFill>
                  <a:srgbClr val="000000"/>
                </a:solidFill>
                <a:latin typeface="Times New Roman"/>
              </a:endParaRPr>
            </a:p>
          </p:txBody>
        </p:sp>
        <p:sp>
          <p:nvSpPr>
            <p:cNvPr id="91" name=""/>
            <p:cNvSpPr/>
            <p:nvPr/>
          </p:nvSpPr>
          <p:spPr>
            <a:xfrm>
              <a:off x="1607040" y="3081240"/>
              <a:ext cx="20520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eign matter</a:t>
              </a:r>
              <a:endParaRPr b="0" lang="en-US" sz="2400" spc="-1" strike="noStrike">
                <a:solidFill>
                  <a:srgbClr val="000000"/>
                </a:solidFill>
                <a:latin typeface="Times New Roman"/>
              </a:endParaRPr>
            </a:p>
          </p:txBody>
        </p:sp>
        <p:sp>
          <p:nvSpPr>
            <p:cNvPr id="92" name=""/>
            <p:cNvSpPr/>
            <p:nvPr/>
          </p:nvSpPr>
          <p:spPr>
            <a:xfrm>
              <a:off x="1600200" y="3630600"/>
              <a:ext cx="15066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ckaging</a:t>
              </a:r>
              <a:endParaRPr b="0" lang="en-US" sz="2400" spc="-1" strike="noStrike">
                <a:solidFill>
                  <a:srgbClr val="000000"/>
                </a:solidFill>
                <a:latin typeface="Times New Roman"/>
              </a:endParaRPr>
            </a:p>
          </p:txBody>
        </p:sp>
        <p:sp>
          <p:nvSpPr>
            <p:cNvPr id="93" name=""/>
            <p:cNvSpPr/>
            <p:nvPr/>
          </p:nvSpPr>
          <p:spPr>
            <a:xfrm>
              <a:off x="1552320" y="4179960"/>
              <a:ext cx="201996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 variability</a:t>
              </a:r>
              <a:endParaRPr b="0" lang="en-US" sz="2400" spc="-1" strike="noStrike">
                <a:solidFill>
                  <a:srgbClr val="000000"/>
                </a:solidFill>
                <a:latin typeface="Times New Roman"/>
              </a:endParaRPr>
            </a:p>
          </p:txBody>
        </p:sp>
        <p:sp>
          <p:nvSpPr>
            <p:cNvPr id="94" name=""/>
            <p:cNvSpPr/>
            <p:nvPr/>
          </p:nvSpPr>
          <p:spPr>
            <a:xfrm>
              <a:off x="5567040" y="2066760"/>
              <a:ext cx="15613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ailability</a:t>
              </a:r>
              <a:endParaRPr b="0" lang="en-US" sz="2400" spc="-1" strike="noStrike">
                <a:solidFill>
                  <a:srgbClr val="000000"/>
                </a:solidFill>
                <a:latin typeface="Times New Roman"/>
              </a:endParaRPr>
            </a:p>
          </p:txBody>
        </p:sp>
        <p:sp>
          <p:nvSpPr>
            <p:cNvPr id="95" name=""/>
            <p:cNvSpPr/>
            <p:nvPr/>
          </p:nvSpPr>
          <p:spPr>
            <a:xfrm>
              <a:off x="5490720" y="2590920"/>
              <a:ext cx="23234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ivery on time</a:t>
              </a:r>
              <a:endParaRPr b="0" lang="en-US" sz="2400" spc="-1" strike="noStrike">
                <a:solidFill>
                  <a:srgbClr val="000000"/>
                </a:solidFill>
                <a:latin typeface="Times New Roman"/>
              </a:endParaRPr>
            </a:p>
          </p:txBody>
        </p:sp>
        <p:sp>
          <p:nvSpPr>
            <p:cNvPr id="96" name=""/>
            <p:cNvSpPr/>
            <p:nvPr/>
          </p:nvSpPr>
          <p:spPr>
            <a:xfrm>
              <a:off x="5484600" y="3124080"/>
              <a:ext cx="28627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description</a:t>
              </a:r>
              <a:endParaRPr b="0" lang="en-US" sz="2400" spc="-1" strike="noStrike">
                <a:solidFill>
                  <a:srgbClr val="000000"/>
                </a:solidFill>
                <a:latin typeface="Times New Roman"/>
              </a:endParaRPr>
            </a:p>
          </p:txBody>
        </p:sp>
        <p:sp>
          <p:nvSpPr>
            <p:cNvPr id="97" name=""/>
            <p:cNvSpPr/>
            <p:nvPr/>
          </p:nvSpPr>
          <p:spPr>
            <a:xfrm>
              <a:off x="5541480" y="3657600"/>
              <a:ext cx="211896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 system</a:t>
              </a:r>
              <a:endParaRPr b="0" lang="en-US" sz="2400" spc="-1" strike="noStrike">
                <a:solidFill>
                  <a:srgbClr val="000000"/>
                </a:solidFill>
                <a:latin typeface="Times New Roman"/>
              </a:endParaRPr>
            </a:p>
          </p:txBody>
        </p:sp>
        <p:sp>
          <p:nvSpPr>
            <p:cNvPr id="98" name=""/>
            <p:cNvSpPr/>
            <p:nvPr/>
          </p:nvSpPr>
          <p:spPr>
            <a:xfrm>
              <a:off x="5550480" y="4191120"/>
              <a:ext cx="15080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ce back</a:t>
              </a:r>
              <a:endParaRPr b="0" lang="en-US" sz="2400" spc="-1" strike="noStrike">
                <a:solidFill>
                  <a:srgbClr val="000000"/>
                </a:solidFill>
                <a:latin typeface="Times New Roman"/>
              </a:endParaRPr>
            </a:p>
          </p:txBody>
        </p:sp>
        <p:sp>
          <p:nvSpPr>
            <p:cNvPr id="99" name=""/>
            <p:cNvSpPr/>
            <p:nvPr/>
          </p:nvSpPr>
          <p:spPr>
            <a:xfrm>
              <a:off x="5409360" y="4724280"/>
              <a:ext cx="2830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et specifications</a:t>
              </a:r>
              <a:endParaRPr b="0" lang="en-US" sz="2400" spc="-1" strike="noStrike">
                <a:solidFill>
                  <a:srgbClr val="000000"/>
                </a:solidFill>
                <a:latin typeface="Times New Roman"/>
              </a:endParaRPr>
            </a:p>
          </p:txBody>
        </p:sp>
        <p:sp>
          <p:nvSpPr>
            <p:cNvPr id="100" name=""/>
            <p:cNvSpPr/>
            <p:nvPr/>
          </p:nvSpPr>
          <p:spPr>
            <a:xfrm>
              <a:off x="3735720" y="5486400"/>
              <a:ext cx="209772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peatability</a:t>
              </a:r>
              <a:endParaRPr b="0" lang="en-US" sz="2800" spc="-1" strike="noStrike">
                <a:solidFill>
                  <a:srgbClr val="000000"/>
                </a:solidFill>
                <a:latin typeface="Times New Roman"/>
              </a:endParaRPr>
            </a:p>
          </p:txBody>
        </p:sp>
        <p:sp>
          <p:nvSpPr>
            <p:cNvPr id="101" name=""/>
            <p:cNvSpPr/>
            <p:nvPr/>
          </p:nvSpPr>
          <p:spPr>
            <a:xfrm>
              <a:off x="1295280" y="1752480"/>
              <a:ext cx="7467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12193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95280" y="24382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95280" y="29718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95280" y="35053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95280" y="40384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95280" y="4572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95280" y="51814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60199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95280" y="121932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63120" y="121932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76920" y="1219320"/>
              <a:ext cx="0" cy="396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3"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efits of Quality</a:t>
            </a:r>
            <a:endParaRPr b="1" lang="en-US" sz="3200" spc="-1" strike="noStrike">
              <a:solidFill>
                <a:srgbClr val="fafd00"/>
              </a:solidFill>
              <a:latin typeface="Arial"/>
            </a:endParaRPr>
          </a:p>
        </p:txBody>
      </p:sp>
      <p:sp>
        <p:nvSpPr>
          <p:cNvPr id="115"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roved customer confide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peat busi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ter market acces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v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ter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roved efficien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ter mora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d capacity</a:t>
            </a:r>
            <a:endParaRPr b="1" lang="en-US" sz="2000" spc="-1" strike="noStrike">
              <a:solidFill>
                <a:srgbClr val="ffffff"/>
              </a:solidFill>
              <a:latin typeface="Arial"/>
            </a:endParaRPr>
          </a:p>
        </p:txBody>
      </p:sp>
      <p:sp>
        <p:nvSpPr>
          <p:cNvPr id="116"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s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ess was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ess claim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re are also costs to the producer</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Quality Systems</a:t>
            </a:r>
            <a:endParaRPr b="1" lang="en-US" sz="3200" spc="-1" strike="noStrike">
              <a:solidFill>
                <a:srgbClr val="fafd00"/>
              </a:solidFill>
              <a:latin typeface="Arial"/>
            </a:endParaRPr>
          </a:p>
        </p:txBody>
      </p:sp>
      <p:sp>
        <p:nvSpPr>
          <p:cNvPr id="118"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on Featu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edibility (assur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inuous improve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ide adoption (volum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ware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listic approach</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ISO 9000</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y not be necessary</a:t>
            </a:r>
            <a:endParaRPr b="1" lang="en-US" sz="2000" spc="-1" strike="noStrike">
              <a:solidFill>
                <a:srgbClr val="ffffff"/>
              </a:solidFill>
              <a:latin typeface="Arial"/>
            </a:endParaRPr>
          </a:p>
        </p:txBody>
      </p:sp>
      <p:sp>
        <p:nvSpPr>
          <p:cNvPr id="119"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onen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stomer focu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Poli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ducation &amp; trai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sign &amp; document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udi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na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ternal</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0"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SO 9000</a:t>
            </a:r>
            <a:endParaRPr b="1" lang="en-US" sz="3200" spc="-1" strike="noStrike">
              <a:solidFill>
                <a:srgbClr val="fafd00"/>
              </a:solidFill>
              <a:latin typeface="Arial"/>
            </a:endParaRPr>
          </a:p>
        </p:txBody>
      </p:sp>
      <p:sp>
        <p:nvSpPr>
          <p:cNvPr id="122"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fontScale="98000"/>
          </a:bodyPr>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national Standards Organisation (ISO), Geneva, Switzerland</a:t>
            </a:r>
            <a:endParaRPr b="1" lang="en-US" sz="28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so AS3900 series</a:t>
            </a:r>
            <a:endParaRPr b="1" lang="en-US" sz="24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NIMUM specified requirements</a:t>
            </a:r>
            <a:endParaRPr b="1" lang="en-US" sz="28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 production models eg.</a:t>
            </a:r>
            <a:endParaRPr b="1" lang="en-US" sz="28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S ISO 9001</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del for QA in design, development, production, installation and servicing</a:t>
            </a:r>
            <a:endParaRPr b="1" lang="en-US" sz="20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S ISO 9002</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del for QA in  production, installation and servicing</a:t>
            </a:r>
            <a:endParaRPr b="1" lang="en-US" sz="20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21:34:34Z</dcterms:created>
  <dc:creator>USER</dc:creator>
  <dc:description/>
  <dc:language>en-US</dc:language>
  <cp:lastModifiedBy>Wes Osborne</cp:lastModifiedBy>
  <cp:lastPrinted>2000-02-03T09:09:47Z</cp:lastPrinted>
  <dcterms:modified xsi:type="dcterms:W3CDTF">2000-05-17T05:08:48Z</dcterms:modified>
  <cp:revision>9</cp:revision>
  <dc:subject/>
  <dc:title>Quality</dc:title>
</cp:coreProperties>
</file>