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299F6-11A6-4915-9BFE-382B0D1D5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plains the “free-rider” principle” and its significance to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outlines two scenarios where the free rider principle appl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ee riding is an attractive option for those who can benefit without paying for the benefi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Taskforce (1999) Diversity and Innovation for Australian Wool, Vol. 1, Executive Summary, Conclusions and Recommendations, Commonwealth of Australia, page 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outlines two instances where free-riding was seen as an issue with the Wool Taskforce in their 1999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ssue of research and development (R&amp;D) in wool processing is important.  Woolgrowers might like to free-ride on the improvement in marketing efficiency brought about by processors, but this is an unlikely scenari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ze and structure of the wool market gives developers of wool textile machinery little incentive to innovate.  Woolgrowers will have to contribut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ignificance of free-riding for woolgrowers is that, to protect against its occurrence compulsory levies are collected.  These levies fund areas of research where the benefit of new developments can’t be wholely captured by the developers.  Areas of research and development funded by the wool industry are, for example, wool processing research and new product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issue in the wool industry, is whether these levies could be better spent on projects that more directly benefit woolgrowers (eg. wool production resear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stralian cotton growers fund agricultural research in Australia through contributions by merchant organisations, but they still free-ride as far as processing research is concerned, since this is largely carried out in the United States and funded by Cotton In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ase could be made that there is no free-riding for synthetic fibre makers.  Their developments in new fibres can be protected by patents (similar to protection for woolgrower funded Optim™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fibre and textile processing is concerned, the case could be made that woolgrowers maybe better off adapting technology developed by the far larger and better funded cotton and synthetic fibre processing machinery manufactur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ree-rider Princip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cenario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39152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ne company invests in promotion or R&amp;D, and competing companies who don’t invest share in the benefi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investment in promotion which leads to an increase in consumer demand benefits everyone in the pipeline, even though everyone hasn’t contributed.</a:t>
            </a:r>
            <a:endParaRPr b="1"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askforce Report</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Australian woolgrowers are not able to “free-ride” on research conducted in other countries - as Australian cotton-growers, for example, can free-ride on US cotton researc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it is not realistic for (R&amp;D) to be funded only by wool processor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
          <p:cNvSpPr/>
          <p:nvPr/>
        </p:nvSpPr>
        <p:spPr>
          <a:xfrm>
            <a:off x="6469560" y="6324480"/>
            <a:ext cx="2602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 Taskforce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ignificance</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ulsory levies</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er vs. industry</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vs. cotton</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tton merchant contribution</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 / bale</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ynthetics</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free-ride?</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velopments protected by patent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rand promotion</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xtile processing innovation</a:t>
            </a:r>
            <a:endParaRPr b="1" lang="en-US" sz="2800" spc="-1" strike="noStrike">
              <a:solidFill>
                <a:srgbClr val="ffffff"/>
              </a:solidFill>
              <a:latin typeface="Arial"/>
            </a:endParaRPr>
          </a:p>
        </p:txBody>
      </p:sp>
      <p:sp>
        <p:nvSpPr>
          <p:cNvPr id="57"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9T04:31:19Z</dcterms:created>
  <dc:creator>USER</dc:creator>
  <dc:description/>
  <dc:language>en-US</dc:language>
  <cp:lastModifiedBy>Hdaily</cp:lastModifiedBy>
  <cp:lastPrinted>2000-02-03T09:09:47Z</cp:lastPrinted>
  <dcterms:modified xsi:type="dcterms:W3CDTF">2000-04-04T05:16:17Z</dcterms:modified>
  <cp:revision>4</cp:revision>
  <dc:subject/>
  <dc:title>Free-rider Principle</dc:title>
</cp:coreProperties>
</file>