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ADCF4-E2FE-4693-BB93-042B8774F5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562040" y="533520"/>
            <a:ext cx="3657600" cy="2743200"/>
          </a:xfrm>
          <a:prstGeom prst="rect">
            <a:avLst/>
          </a:prstGeom>
          <a:ln w="0">
            <a:noFill/>
          </a:ln>
        </p:spPr>
      </p:sp>
      <p:sp>
        <p:nvSpPr>
          <p:cNvPr id="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gives an overview of product life cycles and their signific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lated marketing subjects would be Product Mix, Product Strategy and Product Management.  Unfortunately, these are outside the range of this series of mod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562040" y="533520"/>
            <a:ext cx="3657600" cy="2743200"/>
          </a:xfrm>
          <a:prstGeom prst="rect">
            <a:avLst/>
          </a:prstGeom>
          <a:ln w="0">
            <a:noFill/>
          </a:ln>
        </p:spPr>
      </p:sp>
      <p:sp>
        <p:nvSpPr>
          <p:cNvPr id="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Purcell, Wayne D. 1979, Agricultural Marketing, Systems, Coordination, Cash and Futures Prices, Reston Publishing Company, Inc., Reston, Virginia 22090, page 38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rom an agricultural producer’s point of view, new products are important because they are an opportunity to sell surplus production in new markets.  They are also an opportunity to sell existing production if the production is suited to the new produ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fferent markets have different price elasticities, so the opportunity exists for the producer to benefit from the price differentiation in the new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f course, most new product will have a life cycle, so the agricultural producer should also be interested in the continued generation of new produc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562040" y="533520"/>
            <a:ext cx="3657600" cy="2743200"/>
          </a:xfrm>
          <a:prstGeom prst="rect">
            <a:avLst/>
          </a:prstGeom>
          <a:ln w="0">
            <a:noFill/>
          </a:ln>
        </p:spPr>
      </p:sp>
      <p:sp>
        <p:nvSpPr>
          <p:cNvPr id="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chewe, C.D. &amp; Hiam, A. (1998) The Portable MBA in Marketing, John Wiley &amp; Sons Inc. New Yor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llustrates a common model for a product life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 time, a new product’s sales trajectory climbs to a peak and then goes through a decline.  Sales of the product don’t start until after inception and development, so the developers of the product are actually losing money in the introduction phase.  The growth phase is signalled by the recovery of the development costs.  Maturity sees a plateau in sales, after which sales decli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times introduction is called birth, decline is called death, or abandonm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562040" y="533520"/>
            <a:ext cx="3657600" cy="2743200"/>
          </a:xfrm>
          <a:prstGeom prst="rect">
            <a:avLst/>
          </a:prstGeom>
          <a:ln w="0">
            <a:noFill/>
          </a:ln>
        </p:spPr>
      </p:sp>
      <p:sp>
        <p:nvSpPr>
          <p:cNvPr id="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duct Life Cycle Model’ is significant for anyone wishing to develop new products.  Many new products don’t sell and don’t recover the development costs.  There is risk with any new product.  Some will never make a prof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w products can also be classified as innovations and developments of the same products (e.g. Gillette Sensor™ and Sensor Excel™ ).  Products may be differentiated in the market by slight changes (e.g. Levi™ jeans compared to Dock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ifetime of products is difficult to predict, but can obviously be tracked by sales data.  The causes of death are covered in the next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ife cycle model can also explain how the location of production changes.  A new product is usually sold into the domestic market.  If it is successful, then other people will copy the concept and make very similar products which will lead to competition and price cutting.  The copies might come from overseas.  To compete for market share, domestic manufacturers might choose to shift manufacture to a lower cost loc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562040" y="533520"/>
            <a:ext cx="3657600" cy="2743200"/>
          </a:xfrm>
          <a:prstGeom prst="rect">
            <a:avLst/>
          </a:prstGeom>
          <a:ln w="0">
            <a:noFill/>
          </a:ln>
        </p:spPr>
      </p:sp>
      <p:sp>
        <p:nvSpPr>
          <p:cNvPr id="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ifetime of products is shortened by technological change.  New technology opens up the possibility for other products which may appeal to consum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sumer tastes and preferences change over time, leading to abandonment of the product.  The slow decline in the use of suits would be an exam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one product declines, new products are required to meet these changing consumer preferences.  Possibly the new product may be the same product in a differentiated fo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ile not necessarily causing death, competition will lead out of the growth phase into the maturity phase, a steady level of sales over ti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562040" y="533520"/>
            <a:ext cx="3657600" cy="2743200"/>
          </a:xfrm>
          <a:prstGeom prst="rect">
            <a:avLst/>
          </a:prstGeom>
          <a:ln w="0">
            <a:noFill/>
          </a:ln>
        </p:spPr>
      </p:sp>
      <p:sp>
        <p:nvSpPr>
          <p:cNvPr id="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Stoeckel, A., Borrel, B. and Quirke, D. (1990), Wool into the 21st Century, Implications for Marketing and Profitability, Centre for International Economics, Canberr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two slides are provided as examples of innovations in the telecommunications and textile indust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teworthy feature is the acceleration of innovation since the inception of the market economy.  New product development has become more and more important in the market econom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562040" y="533520"/>
            <a:ext cx="3657600" cy="2743200"/>
          </a:xfrm>
          <a:prstGeom prst="rect">
            <a:avLst/>
          </a:prstGeom>
          <a:ln w="0">
            <a:noFill/>
          </a:ln>
        </p:spPr>
      </p:sp>
      <p:sp>
        <p:nvSpPr>
          <p:cNvPr id="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important to note that some products may not quite fit the behaviour of the life cycle mode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examples are fashion items with short life cycles, so therefore there is no global shifting of production.  This is one way for a domestic textile industry to fight competi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goods are timeless, such as luxury goods where price is not an issue.  An example might be the finest wool suits.  Perhaps one could argue that the life cycle of these products is just very long (no one wore suits in the 1700’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so, some goods may incur very high transport costs, which may mitigate against the re-location of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a:t>
            </a:r>
            <a:r>
              <a:rPr b="0" lang="en-GB" sz="1200" spc="-1" strike="noStrike">
                <a:solidFill>
                  <a:srgbClr val="000000"/>
                </a:solidFill>
                <a:latin typeface="Times New Roman"/>
              </a:rPr>
              <a:t>Dickerson, K.G. (1995), Textiles and Apparel in the Global Economy, Prentice-Hall Inc., New Jers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562040" y="533520"/>
            <a:ext cx="3657600" cy="2743200"/>
          </a:xfrm>
          <a:prstGeom prst="rect">
            <a:avLst/>
          </a:prstGeom>
          <a:ln w="0">
            <a:noFill/>
          </a:ln>
        </p:spPr>
      </p:sp>
      <p:sp>
        <p:nvSpPr>
          <p:cNvPr id="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ew products are not simply just new ideas.  There are many factors that contribute to the success of new products, “first to market” does not guarantee success.  No one factor has been found to pre-domina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oficiency of pre-market planning is essential.  This includes things like market assessment, technical assessment, detailed study, product development and financial analysis.  An overriding focus must be the customers and their nee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organisation that is marketing the product should be proficient in marketing and have committed a significant amount of resources to the produ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search and development must be well planned and execu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reate, make and market functions must be well interfaced and coordin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must also be a high level of management commitment to the product from development to launc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all these things are in place then there is a chance that the product might se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important point is that there has to be a mechanism for new ideas to be generated, since so few will actually end up in the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Hart, S. (ed.) (1996) New Product Developemnt, A Reader, Dryden Press, Sydne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562040" y="533520"/>
            <a:ext cx="3657600" cy="2743200"/>
          </a:xfrm>
          <a:prstGeom prst="rect">
            <a:avLst/>
          </a:prstGeom>
          <a:ln w="0">
            <a:noFill/>
          </a:ln>
        </p:spPr>
      </p:sp>
      <p:sp>
        <p:nvSpPr>
          <p:cNvPr id="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are some examples of new products in the fibre area and their marketing over the ye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ayon is a regenerated cellulosic fibre, first marketed as artificial silk because of its lustre.  It suffered from a poor image which was mainly performance related (poor abrasion resistance, poor recovery, low strength).  As a consequence, nylon fibre which was also competing in the same market predomin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ayon has re-emerged in recent years as another new product called Tencel™.  This is modified rayon and has enjoyed some degree of success being marketed by Courtaulds as a cotton substitute with good handle proper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ylon itself was developed in World War 2 and used initially by the military for parachutes and ropes etc.  However, even during the war Dupont was working at developing this fibre for the consumer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ew product development in nylon has seen the invention of fibres such as those listed on the slide.  The chemical composition is almost exactly the sa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interesting development was Tactel™ which was a bicomponent nylon fibre originally developed by ICI.  They couldn’t get it to succeed in the market and sold the patent to Dupont who have been quite successful marketing the fibre into luxury goods, against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ew product developments in wool are covered in other modul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New Product Developmen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ajor References</a:t>
            </a:r>
            <a:endParaRPr b="1" lang="en-US" sz="3200" spc="-1" strike="noStrike">
              <a:solidFill>
                <a:srgbClr val="fafd00"/>
              </a:solidFill>
              <a:latin typeface="Arial"/>
            </a:endParaRPr>
          </a:p>
        </p:txBody>
      </p:sp>
      <p:sp>
        <p:nvSpPr>
          <p:cNvPr id="77" name="PlaceHolder 2"/>
          <p:cNvSpPr>
            <a:spLocks noGrp="1"/>
          </p:cNvSpPr>
          <p:nvPr>
            <p:ph/>
          </p:nvPr>
        </p:nvSpPr>
        <p:spPr>
          <a:xfrm>
            <a:off x="1294920" y="838080"/>
            <a:ext cx="75438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hewe, C.D. &amp; Hiam, A. (1998) The Portable MBA in Marketing, John Wiley &amp; Sons Inc. New York</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rkstresser, G.A. (1984) Textile Marketing Management, Noyes Publications, New Jersey</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ckerson, Kitty G. (1995), Textiles and Apparel in the Global Economy, 2nd edition, Prentice-Hall, Inc., New Jersey, USA</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ww.dupont.co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New Products / New Markets</a:t>
            </a:r>
            <a:endParaRPr b="1" lang="en-US" sz="3200" spc="-1" strike="noStrike">
              <a:solidFill>
                <a:srgbClr val="fafd00"/>
              </a:solidFill>
              <a:latin typeface="Arial"/>
            </a:endParaRPr>
          </a:p>
        </p:txBody>
      </p:sp>
      <p:pic>
        <p:nvPicPr>
          <p:cNvPr id="50" name="AGMARK" descr=""/>
          <p:cNvPicPr/>
          <p:nvPr/>
        </p:nvPicPr>
        <p:blipFill>
          <a:blip r:embed="rId1">
            <a:lum contrast="6000"/>
          </a:blip>
          <a:srcRect l="0" t="0" r="5505" b="0"/>
          <a:stretch/>
        </p:blipFill>
        <p:spPr>
          <a:xfrm>
            <a:off x="1219320" y="1033560"/>
            <a:ext cx="7848360" cy="4833720"/>
          </a:xfrm>
          <a:prstGeom prst="rect">
            <a:avLst/>
          </a:prstGeom>
          <a:ln w="0">
            <a:noFill/>
          </a:ln>
        </p:spPr>
      </p:pic>
      <p:sp>
        <p:nvSpPr>
          <p:cNvPr id="51" name=""/>
          <p:cNvSpPr/>
          <p:nvPr/>
        </p:nvSpPr>
        <p:spPr>
          <a:xfrm>
            <a:off x="6911280" y="6324480"/>
            <a:ext cx="2082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Purcell W.D. (197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oduct Life Cycle Model</a:t>
            </a:r>
            <a:endParaRPr b="1" lang="en-US" sz="3200" spc="-1" strike="noStrike">
              <a:solidFill>
                <a:srgbClr val="fafd00"/>
              </a:solidFill>
              <a:latin typeface="Arial"/>
            </a:endParaRPr>
          </a:p>
        </p:txBody>
      </p:sp>
      <p:sp>
        <p:nvSpPr>
          <p:cNvPr id="53" name=""/>
          <p:cNvSpPr/>
          <p:nvPr/>
        </p:nvSpPr>
        <p:spPr>
          <a:xfrm>
            <a:off x="6206040" y="6324480"/>
            <a:ext cx="29422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chewe, C.D. &amp; Hiam, A. (1998)</a:t>
            </a:r>
            <a:endParaRPr b="0" lang="en-US" sz="1200" spc="-1" strike="noStrike">
              <a:solidFill>
                <a:srgbClr val="000000"/>
              </a:solidFill>
              <a:latin typeface="Times New Roman"/>
            </a:endParaRPr>
          </a:p>
        </p:txBody>
      </p:sp>
      <p:pic>
        <p:nvPicPr>
          <p:cNvPr id="54" name="Mba_81" descr=""/>
          <p:cNvPicPr/>
          <p:nvPr/>
        </p:nvPicPr>
        <p:blipFill>
          <a:blip r:embed="rId1"/>
          <a:srcRect l="3640" t="0" r="2726" b="0"/>
          <a:stretch/>
        </p:blipFill>
        <p:spPr>
          <a:xfrm>
            <a:off x="1295280" y="1295280"/>
            <a:ext cx="7696440" cy="43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ignificance</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ew Product Developmen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cludes improvements, differentia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ifetim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ifficult to predict</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fit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ocation Changes in Produc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omestic market firs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petition and pric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hift to low cost location</a:t>
            </a:r>
            <a:endParaRPr b="1" lang="en-US" sz="2400" spc="-1" strike="noStrike">
              <a:solidFill>
                <a:srgbClr val="ffffff"/>
              </a:solidFill>
              <a:latin typeface="Arial"/>
            </a:endParaRPr>
          </a:p>
        </p:txBody>
      </p:sp>
      <p:sp>
        <p:nvSpPr>
          <p:cNvPr id="57"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ause of death</a:t>
            </a:r>
            <a:endParaRPr b="1" lang="en-US" sz="3200" spc="-1" strike="noStrike">
              <a:solidFill>
                <a:srgbClr val="fafd00"/>
              </a:solidFill>
              <a:latin typeface="Arial"/>
            </a:endParaRPr>
          </a:p>
        </p:txBody>
      </p:sp>
      <p:sp>
        <p:nvSpPr>
          <p:cNvPr id="5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echnological change</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hortens lifetime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nsumer tastes and preferenc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ew products neede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flect chang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ame product, differentiated</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mpetition</a:t>
            </a:r>
            <a:endParaRPr b="1" lang="en-US" sz="2800" spc="-1" strike="noStrike">
              <a:solidFill>
                <a:srgbClr val="ffffff"/>
              </a:solidFill>
              <a:latin typeface="Arial"/>
            </a:endParaRPr>
          </a:p>
        </p:txBody>
      </p:sp>
      <p:sp>
        <p:nvSpPr>
          <p:cNvPr id="60"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echnological Innovation</a:t>
            </a:r>
            <a:endParaRPr b="1" lang="en-US" sz="3200" spc="-1" strike="noStrike">
              <a:solidFill>
                <a:srgbClr val="fafd00"/>
              </a:solidFill>
              <a:latin typeface="Arial"/>
            </a:endParaRPr>
          </a:p>
        </p:txBody>
      </p:sp>
      <p:grpSp>
        <p:nvGrpSpPr>
          <p:cNvPr id="62" name=""/>
          <p:cNvGrpSpPr/>
          <p:nvPr/>
        </p:nvGrpSpPr>
        <p:grpSpPr>
          <a:xfrm>
            <a:off x="1219320" y="800280"/>
            <a:ext cx="7696080" cy="5582880"/>
            <a:chOff x="1219320" y="800280"/>
            <a:chExt cx="7696080" cy="5582880"/>
          </a:xfrm>
        </p:grpSpPr>
        <p:pic>
          <p:nvPicPr>
            <p:cNvPr id="63" name="CENT_21" descr=""/>
            <p:cNvPicPr/>
            <p:nvPr/>
          </p:nvPicPr>
          <p:blipFill>
            <a:blip r:embed="rId1"/>
            <a:stretch/>
          </p:blipFill>
          <p:spPr>
            <a:xfrm>
              <a:off x="4189320" y="800280"/>
              <a:ext cx="4726080" cy="2781000"/>
            </a:xfrm>
            <a:prstGeom prst="rect">
              <a:avLst/>
            </a:prstGeom>
            <a:ln w="0">
              <a:noFill/>
            </a:ln>
          </p:spPr>
        </p:pic>
        <p:pic>
          <p:nvPicPr>
            <p:cNvPr id="64" name="CENT_22" descr=""/>
            <p:cNvPicPr/>
            <p:nvPr/>
          </p:nvPicPr>
          <p:blipFill>
            <a:blip r:embed="rId2"/>
            <a:stretch/>
          </p:blipFill>
          <p:spPr>
            <a:xfrm>
              <a:off x="1219320" y="3657600"/>
              <a:ext cx="4579920" cy="2725560"/>
            </a:xfrm>
            <a:prstGeom prst="rect">
              <a:avLst/>
            </a:prstGeom>
            <a:ln w="0">
              <a:noFill/>
            </a:ln>
          </p:spPr>
        </p:pic>
      </p:grpSp>
      <p:sp>
        <p:nvSpPr>
          <p:cNvPr id="65" name=""/>
          <p:cNvSpPr/>
          <p:nvPr/>
        </p:nvSpPr>
        <p:spPr>
          <a:xfrm>
            <a:off x="6569280" y="6324480"/>
            <a:ext cx="2427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oeckel, A. et al. (199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6"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6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ome Products outside the Model</a:t>
            </a:r>
            <a:endParaRPr b="1" lang="en-US" sz="3200" spc="-1" strike="noStrike">
              <a:solidFill>
                <a:srgbClr val="fafd00"/>
              </a:solidFill>
              <a:latin typeface="Arial"/>
            </a:endParaRPr>
          </a:p>
        </p:txBody>
      </p:sp>
      <p:sp>
        <p:nvSpPr>
          <p:cNvPr id="6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ashion item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hort life cycl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 global shifting of produc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uxury good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ice is not an issu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g. fine wool suit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igh transportation cost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ecrets of Success</a:t>
            </a:r>
            <a:endParaRPr b="1" lang="en-US" sz="3200" spc="-1" strike="noStrike">
              <a:solidFill>
                <a:srgbClr val="fafd00"/>
              </a:solidFill>
              <a:latin typeface="Arial"/>
            </a:endParaRPr>
          </a:p>
        </p:txBody>
      </p:sp>
      <p:sp>
        <p:nvSpPr>
          <p:cNvPr id="7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ustomer focu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e-market planning</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rketing and resourc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amp;D plann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ordination of function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mmitment</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duc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very few ideas are actually marketed</a:t>
            </a:r>
            <a:endParaRPr b="1" lang="en-US" sz="2400" spc="-1" strike="noStrike">
              <a:solidFill>
                <a:srgbClr val="ffffff"/>
              </a:solidFill>
              <a:latin typeface="Arial"/>
            </a:endParaRPr>
          </a:p>
        </p:txBody>
      </p:sp>
      <p:sp>
        <p:nvSpPr>
          <p:cNvPr id="71"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pplicability to Fibres</a:t>
            </a:r>
            <a:endParaRPr b="1" lang="en-US" sz="3200" spc="-1" strike="noStrike">
              <a:solidFill>
                <a:srgbClr val="fafd00"/>
              </a:solidFill>
              <a:latin typeface="Arial"/>
            </a:endParaRPr>
          </a:p>
        </p:txBody>
      </p:sp>
      <p:sp>
        <p:nvSpPr>
          <p:cNvPr id="73" name="PlaceHolder 2"/>
          <p:cNvSpPr>
            <a:spLocks noGrp="1"/>
          </p:cNvSpPr>
          <p:nvPr>
            <p:ph/>
          </p:nvPr>
        </p:nvSpPr>
        <p:spPr>
          <a:xfrm>
            <a:off x="11426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Artificial</a:t>
            </a:r>
            <a:r>
              <a:rPr b="1" lang="en-AU" sz="2400" spc="-1" strike="noStrike">
                <a:solidFill>
                  <a:srgbClr val="ffffff"/>
                </a:solidFill>
                <a:latin typeface="Arial"/>
              </a:rPr>
              <a:t> (cellulosic)</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ayon</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first marketed against silk</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oor image, performance related</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ylon predominated</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re-launched as Tencel in 1980’s</a:t>
            </a:r>
            <a:endParaRPr b="1"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Wool</a:t>
            </a:r>
            <a:endParaRPr b="1" lang="en-US" sz="2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Optim™ </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irospun, Solospun</a:t>
            </a:r>
            <a:endParaRPr b="1" lang="en-US" sz="2000" spc="-1" strike="noStrike">
              <a:solidFill>
                <a:srgbClr val="ffffff"/>
              </a:solidFill>
              <a:latin typeface="Arial"/>
            </a:endParaRPr>
          </a:p>
        </p:txBody>
      </p:sp>
      <p:sp>
        <p:nvSpPr>
          <p:cNvPr id="74"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Synthetic</a:t>
            </a:r>
            <a:endParaRPr b="1" lang="en-US" sz="2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ylon</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ilitary</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arachutes, rope</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consumer</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hosiery, clothing, tires, carpet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ew products</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ntron</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Holofil</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icrofibres</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actel</a:t>
            </a:r>
            <a:endParaRPr b="1" lang="en-US" sz="1800" spc="-1" strike="noStrike">
              <a:solidFill>
                <a:srgbClr val="ffffff"/>
              </a:solidFill>
              <a:latin typeface="Arial"/>
            </a:endParaRPr>
          </a:p>
          <a:p>
            <a:pPr lvl="4" marL="2057400" indent="-228600">
              <a:spcBef>
                <a:spcPts val="451"/>
              </a:spcBef>
              <a:buClr>
                <a:srgbClr val="fafd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CI to DuPont</a:t>
            </a:r>
            <a:endParaRPr b="1" lang="en-US" sz="1800" spc="-1" strike="noStrike">
              <a:solidFill>
                <a:srgbClr val="ffffff"/>
              </a:solidFill>
              <a:latin typeface="Arial"/>
            </a:endParaRPr>
          </a:p>
        </p:txBody>
      </p:sp>
      <p:sp>
        <p:nvSpPr>
          <p:cNvPr id="75"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8T00:51:00Z</dcterms:created>
  <dc:creator>USER</dc:creator>
  <dc:description/>
  <dc:language>en-US</dc:language>
  <cp:lastModifiedBy>Hdaily</cp:lastModifiedBy>
  <cp:lastPrinted>2000-03-08T00:56:45Z</cp:lastPrinted>
  <dcterms:modified xsi:type="dcterms:W3CDTF">2000-04-30T23:55:06Z</dcterms:modified>
  <cp:revision>5</cp:revision>
  <dc:subject/>
  <dc:title>New Product Development</dc:title>
</cp:coreProperties>
</file>