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FCB56-B1CE-43A7-8296-085783FCB0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562040" y="533520"/>
            <a:ext cx="3657600" cy="2743200"/>
          </a:xfrm>
          <a:prstGeom prst="rect">
            <a:avLst/>
          </a:prstGeom>
          <a:ln w="0">
            <a:noFill/>
          </a:ln>
        </p:spPr>
      </p:sp>
      <p:sp>
        <p:nvSpPr>
          <p:cNvPr id="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the fibre market and reviews some principles and developments in this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information about fibre consumption can be found in the module, “The Global Fibr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562040" y="533520"/>
            <a:ext cx="3657600" cy="2743200"/>
          </a:xfrm>
          <a:prstGeom prst="rect">
            <a:avLst/>
          </a:prstGeom>
          <a:ln w="0">
            <a:noFill/>
          </a:ln>
        </p:spPr>
      </p:sp>
      <p:sp>
        <p:nvSpPr>
          <p:cNvPr id="1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are some examples of new products in the fibre area and their marketing over the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ayon is a regenerated cellulosic fibre, which was first marketed as artificial silk because of its lustre.  It suffered from a poor image which was mainly performance related (poor abrasion resistance, poor recovery, low strength).  As a consequence, Nylon fibre which was also competing in the same market predomin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ayon has re-emerged in recent years as another new product called Tencel™.  This is modified rayon, and has enjoyed some degree of success being marketed by Courtaulds as a cotton substitute with good handle proper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ylon itself was developed during World War 2 and used initially by the military for parachutes and rope etc.  However, even during the war Dupont was working at developing this fibre for the consumer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w product development in Nylon has seen the invention of fibres such as those listed above.  The chemical composition is almost exactly the sa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interesting development was Tactel™ which was a bicomponent nylon fibre originally developed by ICI.  They couldn’t get it to succeed in the market, and sold the patent to Dupont who have been quite successful marketing the fibre into luxury goods, against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w product developments in wool are covered in other modul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562040" y="533520"/>
            <a:ext cx="3657600" cy="2743200"/>
          </a:xfrm>
          <a:prstGeom prst="rect">
            <a:avLst/>
          </a:prstGeom>
          <a:ln w="0">
            <a:noFill/>
          </a:ln>
        </p:spPr>
      </p:sp>
      <p:sp>
        <p:nvSpPr>
          <p:cNvPr id="1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lists just some of the fibre products that have been marketed in recent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more extensive list can be found from the American Fiber Manufacturers Association (afma@afma.org or www.fibersource.co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562040" y="533520"/>
            <a:ext cx="3657600" cy="2743200"/>
          </a:xfrm>
          <a:prstGeom prst="rect">
            <a:avLst/>
          </a:prstGeom>
          <a:ln w="0">
            <a:noFill/>
          </a:ln>
        </p:spPr>
      </p:sp>
      <p:sp>
        <p:nvSpPr>
          <p:cNvPr id="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Carnaby, G. A. (1998), The New Zealand Research Effort to Increase the Value of Wool, Wool Technology &amp; Sheep Breeding, 46 (1), p66-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mportant slide summarises what has happened to the global fibre market over the long-te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mand for fibres of all descriptions has grown over time (D to D’).  The world is richer and people use more fibre as they have more money.  There are also more people.  This has resulted in a demand shif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makers in general have worked on their processing efficiency, through intense research and development and innovation, and the unit price for fibres in general has fallen, especially for synthetic fibres.  Natural fibres have also been improved, especially cotton which has the advantage of being a crop that can be genetically improved more quickly.  New fibres have also been developed which meet consumer needs (eg. micro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 of the supply-demand balance in the long term means more fibres for lower prices.  For the consumer, this translates to lower clothing prices as w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fibre makers price competition is now intens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Carnaby, G. A. (1998), The New Zealand Research Effort to Increase the Value of Wool, Wool Technology &amp; Sheep Breeding, 46 (1), p66-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aph charts the story for New Zealand wool produced mainly for the carpet industry and the story is not go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pply has not shifted appreciably in the long term, due to the difficulty in producing more for the same inpu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mand has shifted the wrong way due to intense competition from synthetic fibres being produced more cheaply, but still satisfying consumers needs for comfortable, durable floor-coverings and cloth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 of the supply-demand balance is that prices have collap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could easily be argued that the same scenario applies to the Australian wool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substitution is obviously playing a major part in the previous scenario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562040" y="533520"/>
            <a:ext cx="3657600" cy="2743200"/>
          </a:xfrm>
          <a:prstGeom prst="rect">
            <a:avLst/>
          </a:prstGeom>
          <a:ln w="0">
            <a:noFill/>
          </a:ln>
        </p:spPr>
      </p:sp>
      <p:sp>
        <p:nvSpPr>
          <p:cNvPr id="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undamental reasons for substitution of agricultural products with synthetic products which tend to be the drivers of innovation (e.g. margarine vs. butter, Mr. Whippy vs. ice-cream, polyester vs. wool) are listed on this sl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ing wool as the example of the natural product, it can be seen that synthetic fibres have approximated wool.  Synthetic fibres have achieved favourable costs in processing.  Consumers have been convinced that synthetic fibres can add value (eg. Coolmax™, Lycra™).  Synthetic fibres are more suited to mass production.  There is favourable pricing for consumers, and consumers are accepting of synthetic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ence: Purcell, W. (1979), Agricultural Marketing, Systems, Coordination, Cash and Futures Prices, Reston Publishing Co., Virginia, U.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562040" y="533520"/>
            <a:ext cx="3657600" cy="2743200"/>
          </a:xfrm>
          <a:prstGeom prst="rect">
            <a:avLst/>
          </a:prstGeom>
          <a:ln w="0">
            <a:noFill/>
          </a:ln>
        </p:spPr>
      </p:sp>
      <p:sp>
        <p:nvSpPr>
          <p:cNvPr id="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ere are opportunities for wool amongst all th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ent fibre technology developments like Optim™ have created an opportunity for wool to look less lik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great opportunity for wool to become a less costly fibre for processors through farm productivity and gains in marketing efficiency (production, processing, pric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lue related properties of wool have been undersold, but are starting to be realised by products like Sportwool™, and further blend developments will enhance this perception.  Wool Research Organisation of New Zealand (WRONZ) has developed a series of added value wool fibres (Insect Resist, Fire Resist) using in-scour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blems in mass production can be alleviated through developments in processing technology, and improved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lending and lower wool prices will create favourable pricing opportunities for consu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gative perceptions of the fibre can be overcome through information to consumers (effective promotion) and fibre specifi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very important to remember that substitution works both way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562040" y="533520"/>
            <a:ext cx="3657600" cy="2743200"/>
          </a:xfrm>
          <a:prstGeom prst="rect">
            <a:avLst/>
          </a:prstGeom>
          <a:ln w="0">
            <a:noFill/>
          </a:ln>
        </p:spPr>
      </p:sp>
      <p:sp>
        <p:nvSpPr>
          <p:cNvPr id="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orris, D. and Stogdon, A. (1996), World Markets for Wool Forecasts to 2000, Special Report No. 2642, Textiles Intelligence Ltd., pages 52-6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factors involved in inter-fibre competition.  It is not just always down to fibre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rstly, there are regional differences in consumption, reflecting seasonal and cultural factors.  The consumption of wool by volume is strongest in Western Europe, USSR &amp; Eastern Europe, Japan, and North Americ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rivers of inter-fibre competition have been found to be product innovation (from synthetic fibres) and the growth of blends (performance and cost driven).  Many of the new products in recent years, waterproofed fabrics, sportswear, duvets etc., didn’t use an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ature of the main consumer markets (largely developed countries) means that the level of income growth can effect fibre usage.  Richer countries buy more wool.  The Western world economies haven’t been growing quickly compared to As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sumer preferences in the 1980’s swung back towards natural fibres.  Wool benefited from this but not to the extent of cott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ally, fibre prices do have an effect and the greatest effect in some markets.  Wool prices are constantly under pressure since the unit prices for synthetics keep falling, mainly through technology innovation and economies of scale.  Due to the inelastic nature of wool supply, rapid price rises will lead to greater fibre substitu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562040" y="533520"/>
            <a:ext cx="3657600" cy="2743200"/>
          </a:xfrm>
          <a:prstGeom prst="rect">
            <a:avLst/>
          </a:prstGeom>
          <a:ln w="0">
            <a:noFill/>
          </a:ln>
        </p:spPr>
      </p:sp>
      <p:sp>
        <p:nvSpPr>
          <p:cNvPr id="1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rketing of synthetic fibres has been far more successful than the marketing of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ather than try and change consumers perceptions through costly promotional campaigns, synthetic fibre makers have concentrated on a number of fundament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y have invested money to ensure that fibre processing for their fibres is optimised.  Similarly cotton R&amp;D has gone into this area as well.  The wool industry has invested in this area, but suffers from a lack of size and consequent lack of innovation from machinery manufactur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s have been developed to meet the market. For example synthetic fibres for the blend market are optimised in production so that their low stress mechanical properties match as closely as possible the properties of the blend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s have also been developed to meet new consumer needs.  Microfibres are an example of a product that led to the development of fabrics with new properties.  Consumers liked what they saw and fel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specific example of polymer marketing is Dupont.  Fibres produced from the factories this large chemical company set up go into the staple and tow markets.  Dupont sells the raw material (polymer) to these factories.  They have divided the world into regions and are actively seeking joint ventures.  These factories can be tailor-made to produce anything from 90 to 900 tonnes of fibre each day, depending on the fibre market that the joint venture partner wants to servi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562040" y="533520"/>
            <a:ext cx="3657600" cy="2743200"/>
          </a:xfrm>
          <a:prstGeom prst="rect">
            <a:avLst/>
          </a:prstGeom>
          <a:ln w="0">
            <a:noFill/>
          </a:ln>
        </p:spPr>
      </p:sp>
      <p:sp>
        <p:nvSpPr>
          <p:cNvPr id="1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ttp://www.dupont.com (August 199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overview of the breadth of research and development (R&amp;D) can be found from the Dupont website.  This slide lists those areas of R&amp;D applicable to Polymer and fibre researc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mportance of basic fibre research is well recognised by this large multi-national company.  The other major area is in process develop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company spends $US 1 billion  per annum on its total R&amp;D budget.  The polymer and fibre divisions consume a significant proportion of this budg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562040" y="533520"/>
            <a:ext cx="3657600" cy="2743200"/>
          </a:xfrm>
          <a:prstGeom prst="rect">
            <a:avLst/>
          </a:prstGeom>
          <a:ln w="0">
            <a:noFill/>
          </a:ln>
        </p:spPr>
      </p:sp>
      <p:sp>
        <p:nvSpPr>
          <p:cNvPr id="1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ttp://www.cottoninc.com (December, 199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a comparison, the cotton industry through Cotton Inc., which is based in the U.S., spends about $US 30 million on research, ensuring the profitability of the users of cotton fibre such as spinners, weavers and dy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amp;D areas covered are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interesting development during the 1990’s is the EFS® system which consists of three software programs, (MILLNet, QRNet, and GINNet) and one electronic data interchange mailbox, which facilitates the transfer of EDI data between mills, merchants/co-ops and gin direct oper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ILLNet: Merchants and mills use this program to ship uniform lots of cotton, cotton mixes, or category lots to mi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QRNet: This is Cotton Inc.’s file translator program used by mills to electronically exchange </a:t>
            </a:r>
            <a:r>
              <a:rPr b="0" lang="en-GB" sz="1200" spc="-1" strike="noStrike">
                <a:solidFill>
                  <a:srgbClr val="000000"/>
                </a:solidFill>
                <a:latin typeface="Times New Roman"/>
              </a:rPr>
              <a:t>High Volume Instrumentation (HVI)</a:t>
            </a:r>
            <a:r>
              <a:rPr b="0" lang="en-AU" sz="1200" spc="-1" strike="noStrike">
                <a:solidFill>
                  <a:srgbClr val="000000"/>
                </a:solidFill>
                <a:latin typeface="Times New Roman"/>
              </a:rPr>
              <a:t> data and related cotton transaction in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INNet: This program allows cotton growers and ginners to acquire and analyse USDA HVI data and related variables including yield, CCC loan value, planting, harvesting and gin conditions.  This information can be used by growers to determine profitable production practices, and also the technical value of their cott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DI</a:t>
            </a:r>
            <a:r>
              <a:rPr b="0" lang="en-AU" sz="1200" spc="-1" strike="noStrike" baseline="30000">
                <a:solidFill>
                  <a:srgbClr val="000000"/>
                </a:solidFill>
                <a:latin typeface="Times New Roman"/>
              </a:rPr>
              <a:t>SM </a:t>
            </a:r>
            <a:r>
              <a:rPr b="0" lang="en-AU" sz="1200" spc="-1" strike="noStrike">
                <a:solidFill>
                  <a:srgbClr val="000000"/>
                </a:solidFill>
                <a:latin typeface="Times New Roman"/>
              </a:rPr>
              <a:t>Service: This electronic mailbox is used by mills, cotton sellers and gin direct warehouses to exchange HVI data and related cotton information, such as price, weights and bale numb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Market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Marketing Examples</a:t>
            </a:r>
            <a:endParaRPr b="1" lang="en-US" sz="3200" spc="-1" strike="noStrike">
              <a:solidFill>
                <a:srgbClr val="fafd00"/>
              </a:solidFill>
              <a:latin typeface="Arial"/>
            </a:endParaRPr>
          </a:p>
        </p:txBody>
      </p:sp>
      <p:sp>
        <p:nvSpPr>
          <p:cNvPr id="81" name="PlaceHolder 2"/>
          <p:cNvSpPr>
            <a:spLocks noGrp="1"/>
          </p:cNvSpPr>
          <p:nvPr>
            <p:ph/>
          </p:nvPr>
        </p:nvSpPr>
        <p:spPr>
          <a:xfrm>
            <a:off x="11426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66"/>
                </a:solidFill>
                <a:latin typeface="Arial"/>
              </a:rPr>
              <a:t>Artificial (cellulosic)</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ayon</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irst marketed against silk</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oor image, performance related</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ylon predominated</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re-launched as Tencel in 1980’s</a:t>
            </a:r>
            <a:endParaRPr b="1"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66"/>
                </a:solidFill>
                <a:latin typeface="Arial"/>
              </a:rPr>
              <a:t>Woo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ptim™ </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irospun, Solospun</a:t>
            </a:r>
            <a:endParaRPr b="1" lang="en-US" sz="2000" spc="-1" strike="noStrike">
              <a:solidFill>
                <a:srgbClr val="ffffff"/>
              </a:solidFill>
              <a:latin typeface="Arial"/>
            </a:endParaRPr>
          </a:p>
        </p:txBody>
      </p:sp>
      <p:sp>
        <p:nvSpPr>
          <p:cNvPr id="82" name="PlaceHolder 3"/>
          <p:cNvSpPr>
            <a:spLocks noGrp="1"/>
          </p:cNvSpPr>
          <p:nvPr>
            <p:ph/>
          </p:nvPr>
        </p:nvSpPr>
        <p:spPr>
          <a:xfrm>
            <a:off x="510516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66"/>
                </a:solidFill>
                <a:latin typeface="Arial"/>
              </a:rPr>
              <a:t>Synthetic</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ylon</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ilitary</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arachutes, rope</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onsumer</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osiery, clothing, tyres, carpet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ew products</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ntron</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olofil</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icrofibres</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actel</a:t>
            </a:r>
            <a:endParaRPr b="1" lang="en-US" sz="1800" spc="-1" strike="noStrike">
              <a:solidFill>
                <a:srgbClr val="ffffff"/>
              </a:solidFill>
              <a:latin typeface="Arial"/>
            </a:endParaRPr>
          </a:p>
          <a:p>
            <a:pPr lvl="4" marL="2057400" indent="-228600">
              <a:spcBef>
                <a:spcPts val="451"/>
              </a:spcBef>
              <a:buClr>
                <a:srgbClr val="fafd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CI to DuPont</a:t>
            </a:r>
            <a:endParaRPr b="1" lang="en-US" sz="1800" spc="-1" strike="noStrike">
              <a:solidFill>
                <a:srgbClr val="ffffff"/>
              </a:solidFill>
              <a:latin typeface="Arial"/>
            </a:endParaRPr>
          </a:p>
        </p:txBody>
      </p:sp>
      <p:sp>
        <p:nvSpPr>
          <p:cNvPr id="83" name=""/>
          <p:cNvSpPr/>
          <p:nvPr/>
        </p:nvSpPr>
        <p:spPr>
          <a:xfrm>
            <a:off x="807984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4" name=""/>
          <p:cNvSpPr/>
          <p:nvPr/>
        </p:nvSpPr>
        <p:spPr>
          <a:xfrm>
            <a:off x="807984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8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New Synthetic Fibre Products</a:t>
            </a:r>
            <a:endParaRPr b="1" lang="en-US" sz="3200" spc="-1" strike="noStrike">
              <a:solidFill>
                <a:srgbClr val="fafd00"/>
              </a:solidFill>
              <a:latin typeface="Arial"/>
            </a:endParaRPr>
          </a:p>
        </p:txBody>
      </p:sp>
      <p:sp>
        <p:nvSpPr>
          <p:cNvPr id="86"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66"/>
                </a:solidFill>
                <a:latin typeface="Arial"/>
              </a:rPr>
              <a:t>DuPo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olyester</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icrofibres</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icromattique</a:t>
            </a:r>
            <a:r>
              <a:rPr b="1" lang="en-AU" sz="1800" spc="-1" strike="noStrike" baseline="30000">
                <a:solidFill>
                  <a:srgbClr val="ffffff"/>
                </a:solidFill>
                <a:latin typeface="Arial"/>
              </a:rPr>
              <a:t>TM</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blend fibres</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omferel</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olyurethan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ycra® </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ycra® 3D</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ylon</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actel®</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icro</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bicomponent</a:t>
            </a:r>
            <a:endParaRPr b="1" lang="en-US" sz="1800" spc="-1" strike="noStrike">
              <a:solidFill>
                <a:srgbClr val="ffffff"/>
              </a:solidFill>
              <a:latin typeface="Arial"/>
            </a:endParaRPr>
          </a:p>
        </p:txBody>
      </p:sp>
      <p:sp>
        <p:nvSpPr>
          <p:cNvPr id="87"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66"/>
                </a:solidFill>
                <a:latin typeface="Arial"/>
              </a:rPr>
              <a:t>ICI</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ylon</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oolmax®</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lta</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olofil®</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upriva®</a:t>
            </a:r>
            <a:endParaRPr b="1"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66"/>
                </a:solidFill>
                <a:latin typeface="Arial"/>
              </a:rPr>
              <a:t>Courtauld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ayon</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encel®</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mand &amp; Supply (all fibres)</a:t>
            </a:r>
            <a:endParaRPr b="1" lang="en-US" sz="3200" spc="-1" strike="noStrike">
              <a:solidFill>
                <a:srgbClr val="fafd00"/>
              </a:solidFill>
              <a:latin typeface="Arial"/>
            </a:endParaRPr>
          </a:p>
        </p:txBody>
      </p:sp>
      <p:pic>
        <p:nvPicPr>
          <p:cNvPr id="50" name="DEMAND1" descr=""/>
          <p:cNvPicPr/>
          <p:nvPr/>
        </p:nvPicPr>
        <p:blipFill>
          <a:blip r:embed="rId1"/>
          <a:stretch/>
        </p:blipFill>
        <p:spPr>
          <a:xfrm>
            <a:off x="1676520" y="824040"/>
            <a:ext cx="6705360" cy="4662360"/>
          </a:xfrm>
          <a:prstGeom prst="rect">
            <a:avLst/>
          </a:prstGeom>
          <a:ln w="0">
            <a:noFill/>
          </a:ln>
        </p:spPr>
      </p:pic>
      <p:sp>
        <p:nvSpPr>
          <p:cNvPr id="51" name=""/>
          <p:cNvSpPr/>
          <p:nvPr/>
        </p:nvSpPr>
        <p:spPr>
          <a:xfrm>
            <a:off x="6824160" y="6324480"/>
            <a:ext cx="2247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arnaby, G. A. (1998)</a:t>
            </a:r>
            <a:endParaRPr b="0" lang="en-US" sz="1200" spc="-1" strike="noStrike">
              <a:solidFill>
                <a:srgbClr val="000000"/>
              </a:solidFill>
              <a:latin typeface="Times New Roman"/>
            </a:endParaRPr>
          </a:p>
        </p:txBody>
      </p:sp>
      <p:sp>
        <p:nvSpPr>
          <p:cNvPr id="52" name="PlaceHolder 2"/>
          <p:cNvSpPr>
            <a:spLocks noGrp="1"/>
          </p:cNvSpPr>
          <p:nvPr>
            <p:ph/>
          </p:nvPr>
        </p:nvSpPr>
        <p:spPr>
          <a:xfrm>
            <a:off x="1143000" y="5486040"/>
            <a:ext cx="7772400" cy="76212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modity price falls over tim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mand &amp; Supply: NZ wool</a:t>
            </a:r>
            <a:endParaRPr b="1" lang="en-US" sz="3200" spc="-1" strike="noStrike">
              <a:solidFill>
                <a:srgbClr val="fafd00"/>
              </a:solidFill>
              <a:latin typeface="Arial"/>
            </a:endParaRPr>
          </a:p>
        </p:txBody>
      </p:sp>
      <p:pic>
        <p:nvPicPr>
          <p:cNvPr id="54" name="DEMAND2" descr=""/>
          <p:cNvPicPr/>
          <p:nvPr/>
        </p:nvPicPr>
        <p:blipFill>
          <a:blip r:embed="rId1"/>
          <a:srcRect l="0" t="0" r="0" b="2697"/>
          <a:stretch/>
        </p:blipFill>
        <p:spPr>
          <a:xfrm>
            <a:off x="1828800" y="838080"/>
            <a:ext cx="6324480" cy="4648320"/>
          </a:xfrm>
          <a:prstGeom prst="rect">
            <a:avLst/>
          </a:prstGeom>
          <a:ln w="0">
            <a:noFill/>
          </a:ln>
        </p:spPr>
      </p:pic>
      <p:sp>
        <p:nvSpPr>
          <p:cNvPr id="55" name="PlaceHolder 2"/>
          <p:cNvSpPr>
            <a:spLocks noGrp="1"/>
          </p:cNvSpPr>
          <p:nvPr>
            <p:ph/>
          </p:nvPr>
        </p:nvSpPr>
        <p:spPr>
          <a:xfrm>
            <a:off x="1219320" y="5638680"/>
            <a:ext cx="7772400" cy="609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mand falls (substitute fibres)</a:t>
            </a:r>
            <a:endParaRPr b="1" lang="en-US" sz="2800" spc="-1" strike="noStrike">
              <a:solidFill>
                <a:srgbClr val="ffffff"/>
              </a:solidFill>
              <a:latin typeface="Arial"/>
            </a:endParaRPr>
          </a:p>
        </p:txBody>
      </p:sp>
      <p:sp>
        <p:nvSpPr>
          <p:cNvPr id="56" name=""/>
          <p:cNvSpPr/>
          <p:nvPr/>
        </p:nvSpPr>
        <p:spPr>
          <a:xfrm>
            <a:off x="6824160" y="6324480"/>
            <a:ext cx="2247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arnaby, G. A.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bstitution Fundamentals</a:t>
            </a:r>
            <a:endParaRPr b="1" lang="en-US" sz="3200" spc="-1" strike="noStrike">
              <a:solidFill>
                <a:srgbClr val="fafd00"/>
              </a:solidFill>
              <a:latin typeface="Arial"/>
            </a:endParaRPr>
          </a:p>
        </p:txBody>
      </p:sp>
      <p:sp>
        <p:nvSpPr>
          <p:cNvPr id="5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ynthetics as “new product” cf. natural product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novation drivers</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ikely to substitute natural produc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chnology to approximate natural produc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vourable cost of synthetic &amp; natural-synthetic blen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alue related properties improved by synthetic or natural-synthetic blen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re suited to mass produc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vourable pricing for synthetic or blen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sumer acceptance of synthetic or blends</a:t>
            </a:r>
            <a:endParaRPr b="1" lang="en-US" sz="2400" spc="-1" strike="noStrike">
              <a:solidFill>
                <a:srgbClr val="ffffff"/>
              </a:solidFill>
              <a:latin typeface="Arial"/>
            </a:endParaRPr>
          </a:p>
        </p:txBody>
      </p:sp>
      <p:sp>
        <p:nvSpPr>
          <p:cNvPr id="59" name=""/>
          <p:cNvSpPr/>
          <p:nvPr/>
        </p:nvSpPr>
        <p:spPr>
          <a:xfrm>
            <a:off x="807984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
          <p:cNvSpPr/>
          <p:nvPr/>
        </p:nvSpPr>
        <p:spPr>
          <a:xfrm>
            <a:off x="807984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6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pportunities for Wool</a:t>
            </a:r>
            <a:endParaRPr b="1" lang="en-US" sz="3200" spc="-1" strike="noStrike">
              <a:solidFill>
                <a:srgbClr val="fafd00"/>
              </a:solidFill>
              <a:latin typeface="Arial"/>
            </a:endParaRPr>
          </a:p>
        </p:txBody>
      </p:sp>
      <p:sp>
        <p:nvSpPr>
          <p:cNvPr id="62"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echnolog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ptim</a:t>
            </a:r>
            <a:r>
              <a:rPr b="1" lang="en-GB" sz="2000" spc="-1" strike="noStrike" baseline="30000">
                <a:solidFill>
                  <a:srgbClr val="ffffff"/>
                </a:solidFill>
                <a:latin typeface="Arial"/>
              </a:rPr>
              <a:t>TM</a:t>
            </a:r>
            <a:r>
              <a:rPr b="1" lang="en-GB" sz="2000" spc="-1" strike="noStrike">
                <a:solidFill>
                  <a:srgbClr val="ffffff"/>
                </a:solidFill>
                <a:latin typeface="Arial"/>
              </a:rPr>
              <a: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avourable cos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rm productivit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rketing efficiency</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alue related</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pparel performanc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lend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mproved fibres</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RONZ</a:t>
            </a:r>
            <a:endParaRPr b="1" lang="en-US" sz="1800" spc="-1" strike="noStrike">
              <a:solidFill>
                <a:srgbClr val="ffffff"/>
              </a:solidFill>
              <a:latin typeface="Arial"/>
            </a:endParaRPr>
          </a:p>
        </p:txBody>
      </p:sp>
      <p:sp>
        <p:nvSpPr>
          <p:cNvPr id="63"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ss produc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cessing technolog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specification</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avourable pric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lend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ower wool price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umer acceptance</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
          <p:cNvSpPr/>
          <p:nvPr/>
        </p:nvSpPr>
        <p:spPr>
          <a:xfrm>
            <a:off x="1978200" y="5318280"/>
            <a:ext cx="585900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Times New Roman"/>
              </a:rPr>
              <a:t>SUBSTITUTION WORKS BOTH WAYS!!</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ter-fibre Competition</a:t>
            </a:r>
            <a:endParaRPr b="1" lang="en-US" sz="3200" spc="-1" strike="noStrike">
              <a:solidFill>
                <a:srgbClr val="fafd00"/>
              </a:solidFill>
              <a:latin typeface="Arial"/>
            </a:endParaRPr>
          </a:p>
        </p:txBody>
      </p:sp>
      <p:sp>
        <p:nvSpPr>
          <p:cNvPr id="66" name="PlaceHolder 2"/>
          <p:cNvSpPr>
            <a:spLocks noGrp="1"/>
          </p:cNvSpPr>
          <p:nvPr>
            <p:ph/>
          </p:nvPr>
        </p:nvSpPr>
        <p:spPr>
          <a:xfrm>
            <a:off x="1294920" y="990360"/>
            <a:ext cx="40388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sumption (k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gional difference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a:t>
            </a:r>
            <a:endParaRPr b="1" lang="en-US" sz="24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1992</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n tons)</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estern Europe (0.6)</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USSR &amp; Eastern Europe (0.2)</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Japan (0.2)</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orth America (0.1)</a:t>
            </a:r>
            <a:endParaRPr b="1" lang="en-US" sz="2000" spc="-1" strike="noStrike">
              <a:solidFill>
                <a:srgbClr val="ffffff"/>
              </a:solidFill>
              <a:latin typeface="Arial"/>
            </a:endParaRPr>
          </a:p>
        </p:txBody>
      </p:sp>
      <p:sp>
        <p:nvSpPr>
          <p:cNvPr id="67"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river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t innov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rowth of blend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come growth</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sumer preferenc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lative pric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wool &gt; synthetics</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ynthetic unit prices keep falling</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rapid price rises</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elastic supply</a:t>
            </a:r>
            <a:endParaRPr b="1" lang="en-US" sz="1800" spc="-1" strike="noStrike">
              <a:solidFill>
                <a:srgbClr val="ffffff"/>
              </a:solidFill>
              <a:latin typeface="Arial"/>
            </a:endParaRPr>
          </a:p>
        </p:txBody>
      </p:sp>
      <p:sp>
        <p:nvSpPr>
          <p:cNvPr id="68" name=""/>
          <p:cNvSpPr/>
          <p:nvPr/>
        </p:nvSpPr>
        <p:spPr>
          <a:xfrm>
            <a:off x="6035760" y="6324480"/>
            <a:ext cx="30384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Morris, D. and Stogdon, A. (199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ynthetic Fibre Marketing</a:t>
            </a:r>
            <a:endParaRPr b="1" lang="en-US" sz="3200" spc="-1" strike="noStrike">
              <a:solidFill>
                <a:srgbClr val="fafd00"/>
              </a:solidFill>
              <a:latin typeface="Arial"/>
            </a:endParaRPr>
          </a:p>
        </p:txBody>
      </p:sp>
      <p:sp>
        <p:nvSpPr>
          <p:cNvPr id="70"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66"/>
                </a:solidFill>
                <a:latin typeface="Arial"/>
              </a:rPr>
              <a:t>Gener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bre processing optimise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bres developed to meet market</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g. blend fibres</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bres developed to meet consumer need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g. microfibres</a:t>
            </a:r>
            <a:endParaRPr b="1"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66"/>
                </a:solidFill>
                <a:latin typeface="Arial"/>
              </a:rPr>
              <a:t>Dupo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aple &amp; tow marke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rld divided into region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joint ventures with partners in each reg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ailor-made factorie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90 to 900 tonnes / day</a:t>
            </a:r>
            <a:endParaRPr b="1" lang="en-US" sz="1800" spc="-1" strike="noStrike">
              <a:solidFill>
                <a:srgbClr val="ffffff"/>
              </a:solidFill>
              <a:latin typeface="Arial"/>
            </a:endParaRPr>
          </a:p>
        </p:txBody>
      </p:sp>
      <p:sp>
        <p:nvSpPr>
          <p:cNvPr id="72" name=""/>
          <p:cNvSpPr/>
          <p:nvPr/>
        </p:nvSpPr>
        <p:spPr>
          <a:xfrm>
            <a:off x="807984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upont R&amp;D</a:t>
            </a:r>
            <a:endParaRPr b="1" lang="en-US" sz="3200" spc="-1" strike="noStrike">
              <a:solidFill>
                <a:srgbClr val="fafd00"/>
              </a:solidFill>
              <a:latin typeface="Arial"/>
            </a:endParaRPr>
          </a:p>
        </p:txBody>
      </p:sp>
      <p:sp>
        <p:nvSpPr>
          <p:cNvPr id="74"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66"/>
                </a:solidFill>
                <a:latin typeface="Arial"/>
              </a:rPr>
              <a:t>Fibr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olymer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undamental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ynthesi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odification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ulti-component</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recycling</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abrication</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mposit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ating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bre scienc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lor science</a:t>
            </a:r>
            <a:endParaRPr b="1" lang="en-US" sz="2000" spc="-1" strike="noStrike">
              <a:solidFill>
                <a:srgbClr val="ffffff"/>
              </a:solidFill>
              <a:latin typeface="Arial"/>
            </a:endParaRPr>
          </a:p>
        </p:txBody>
      </p:sp>
      <p:sp>
        <p:nvSpPr>
          <p:cNvPr id="75" name="PlaceHolder 3"/>
          <p:cNvSpPr>
            <a:spLocks noGrp="1"/>
          </p:cNvSpPr>
          <p:nvPr>
            <p:ph/>
          </p:nvPr>
        </p:nvSpPr>
        <p:spPr>
          <a:xfrm>
            <a:off x="4647960" y="990360"/>
            <a:ext cx="434340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66"/>
                </a:solidFill>
                <a:latin typeface="Arial"/>
              </a:rPr>
              <a:t>Proces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ss developmen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odeling, simul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azard contro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ptimis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easurement &amp; control</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S 1 bn p.a. TOTAL R&amp;D</a:t>
            </a:r>
            <a:endParaRPr b="1" lang="en-US" sz="2400" spc="-1" strike="noStrike">
              <a:solidFill>
                <a:srgbClr val="ffffff"/>
              </a:solidFill>
              <a:latin typeface="Arial"/>
            </a:endParaRPr>
          </a:p>
        </p:txBody>
      </p:sp>
      <p:sp>
        <p:nvSpPr>
          <p:cNvPr id="76" name=""/>
          <p:cNvSpPr/>
          <p:nvPr/>
        </p:nvSpPr>
        <p:spPr>
          <a:xfrm>
            <a:off x="6589440" y="6324480"/>
            <a:ext cx="240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www.dupont.com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tton R&amp;D</a:t>
            </a:r>
            <a:endParaRPr b="1" lang="en-US" sz="3200" spc="-1" strike="noStrike">
              <a:solidFill>
                <a:srgbClr val="fafd00"/>
              </a:solidFill>
              <a:latin typeface="Arial"/>
            </a:endParaRPr>
          </a:p>
        </p:txBody>
      </p:sp>
      <p:sp>
        <p:nvSpPr>
          <p:cNvPr id="7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tton Inc.</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S 30 miliion p.a.</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S. based</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gricultural Research</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abric Developmen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bre Qualit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extile Research</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bre Management Research</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FS® System</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acilitation of HVI data transfer and usage</a:t>
            </a:r>
            <a:endParaRPr b="1" lang="en-US" sz="2000" spc="-1" strike="noStrike">
              <a:solidFill>
                <a:srgbClr val="ffffff"/>
              </a:solidFill>
              <a:latin typeface="Arial"/>
            </a:endParaRPr>
          </a:p>
        </p:txBody>
      </p:sp>
      <p:sp>
        <p:nvSpPr>
          <p:cNvPr id="79" name=""/>
          <p:cNvSpPr/>
          <p:nvPr/>
        </p:nvSpPr>
        <p:spPr>
          <a:xfrm>
            <a:off x="6445800" y="6324480"/>
            <a:ext cx="2550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www.cottoninc.com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2T03:04:11Z</dcterms:created>
  <dc:creator>USER</dc:creator>
  <dc:description/>
  <dc:language>en-US</dc:language>
  <cp:lastModifiedBy>USER</cp:lastModifiedBy>
  <cp:lastPrinted>2000-02-03T09:09:47Z</cp:lastPrinted>
  <dcterms:modified xsi:type="dcterms:W3CDTF">2000-04-16T23:40:23Z</dcterms:modified>
  <cp:revision>4</cp:revision>
  <dc:subject/>
  <dc:title>Fibre Marketing</dc:title>
</cp:coreProperties>
</file>