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EF1A-0E34-41EE-A8A8-089CA0740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esents a number of scenarios that could be applied to define the principles of Wool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trasts the marketing of agricultural and manufactured products.  The inclusion of the means of production in the consideration of agricultural marketing can be a confusing factor in this comparison.  However, this shouldn’t be the c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related modules deal with the measurement of marketing performance (market share, price premium, sales volume), government intervention in markets and product cy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ce of group or industry activity is highligh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ers of agricultural products facing a situation of market failure have the opportunity to group together to influence the factors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ze of the group is an important variable.  The wool industry has always acted as an “industry”.  Compulsory levies have been used to try and change some of the factors such as consumer demand (through promotion, both technical and generic) and pricing policy (lobbying governments on macroeconomic issues).  As an industry, marketing efficiency has also been improved.  The area of marketing efficiency will be expanded i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could be argued that smaller groups could be more effective in other activities such as the quantity and quality of the product and the orientation of other producers to the market.  Farm development projects such as the South West Victorian Monitor Farm Project have proved successful in thes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ing efficiency can be broken down into two main areas, </a:t>
            </a:r>
            <a:r>
              <a:rPr b="0" i="1" lang="en-GB" sz="1200" spc="-1" strike="noStrike">
                <a:solidFill>
                  <a:srgbClr val="000000"/>
                </a:solidFill>
                <a:latin typeface="Times New Roman"/>
              </a:rPr>
              <a:t>Technical Efficiency</a:t>
            </a:r>
            <a:r>
              <a:rPr b="0" lang="en-GB" sz="1200" spc="-1" strike="noStrike">
                <a:solidFill>
                  <a:srgbClr val="000000"/>
                </a:solidFill>
                <a:latin typeface="Times New Roman"/>
              </a:rPr>
              <a:t> and </a:t>
            </a:r>
            <a:r>
              <a:rPr b="0" i="1" lang="en-GB" sz="1200" spc="-1" strike="noStrike">
                <a:solidFill>
                  <a:srgbClr val="000000"/>
                </a:solidFill>
                <a:latin typeface="Times New Roman"/>
              </a:rPr>
              <a:t>Pricing Efficienc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a systems approach means that efficiencies at the production level (e.g. lowering costs of production) can be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ion and processing efficiency are two major areas where producers can have an effect to improve marketing efficiency.  To be effective improvements must ultimately lead to lower prices for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main area is pricing efficiency, which should optimise the balance between demand and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sues such as the description of the product and price volatility are familiar territory for the wool industry.  The sooner the former is overcome the better.  The latter is a fact of life in agricultural markets, but robust price discovery mechanisms can help the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Purcell, W. (1979), Agricultural Marketing, Systems, Coordination, Cash and Futures Prices, Reston Publishing Co., Virginia, U.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module has presented a view of marketing principles that ties in the practices of modern marketing with a systems approach to agricultural market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rom the woolgrowers’ perspective, this leads to a consideration of what can be done to make marketing more effective - an action framework, for want of a better phras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nsumers are difficult creatures, but their needs ultimately decide which products are purchased.  Consumer markets are changing, and becoming more fragmented.  There must be a mechanism to achieve Market Insight.  This is intimately tied up with the issues of market information, and information flow through the system.  This is also an area where there is demonstrated market failure for the wool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rom consumer insights, marketing techniques such as the development and promotion of new products is another area where woolgrowers may be involved.  This is a grey area as far as market failure is concerned.  Woolgrowers have funded the development of new products (e.g. Sportwool™, Optim™ fibre), however some processors feel that this work is their role.  The impetus and number of new products from processors will ultimately demonstrate whether market failure applies in this case.  Also, the leverage of an industry organisation may be necessary for smaller groups to get further down the segmented pipeline.  The issue of promotion and where it is applied in the pipeline (processor or consumer) is one that has vexed the industry for yea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activities of producer groups also has the potential to enhance the assembly of grower produce.  This may have an effect on the competitive structure of selling (e.g. the adoption of alternate means of ownership transfer), or perhaps product quality (through group quality schemes) and the attitude of other producers’ to the market (perhaps through a realisation of a price premium for their activiti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ther obvious areas for woolgrowers to take action in would be included in Marketing Efficiency.  Production needs to be made more efficient (e.g. lower costs of production), and lower processing costs would also benefit the consumer.  The advanced description of the product would also benefit marketing, so the measurement of the product must be as accurate and precise as possible.  This is possibly another area of market failure.</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critical marketing functions that should be considered by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industry body so charged must identify where market failure occurs within these functions and act to improve the situation.  This action should be based on delivering the highest efficiency in the quickest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ton, J. &amp; Senior, A. (1994), Wool Market Awareness, Curtin Univer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ay that product innovation and diversity can meet consumer needs in a pro-active manner is summaris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view of marketing would state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The company’s goal will be achieved when the NEEDS AND WANTS of the TARGET MARKETS are determined, and the DESIRED SATISFACTIONS are delivered MORE EFFECTIVELY AND EFFICIENTLY THAN OUR COMPETI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ranslates into three main task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 your customer (Market Insigh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et their requirements (Applying Marketing Techniqu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 it better than your compet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new products is a critical step in this proc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48E7-4E3D-42F2-987F-451575B08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562040" y="533520"/>
            <a:ext cx="3657600" cy="2743200"/>
          </a:xfrm>
          <a:prstGeom prst="rect">
            <a:avLst/>
          </a:prstGeom>
          <a:ln w="0">
            <a:noFill/>
          </a:ln>
        </p:spPr>
      </p:sp>
      <p:sp>
        <p:nvSpPr>
          <p:cNvPr id="1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ired satisfaction can also be equated to “Quality to suit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management is fundamental to good marketing because it is the means of ensuring that the needs of the customer are met. It has many dimensions, each casting a different perception on the meaning of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ose dimensions ar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formance related to desired characteristic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atures that supplement basic characteristic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iability to perform within stated time perio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formity with specifications of product standard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ability in terms of use before replacement require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rviceability reflected in speed, courtesy, ease and competence of servic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esthetics of how a product looks, feels, sounds, tastes, smells etc.</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ception is the intangible element of how product quality is perceiv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perspective is the familiar 4 P’s approach to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ain Market Insight and Applying Marketing Techniques are predominant in this approa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rtels, R. (1988), The History of Marketing Thought, 3rd edition, Publishing Horizons, Columbus, Oh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production had exceeded local or domestic consumption in the industrialised world, the imperative became to find new markets for goods.  Slowly this has extended from a national to the global basis that we see in the world today.  The concept of marketing was born in the industrialised United States in the early 190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keting is regarded as a social institution in modern consumer society.  It is a means to meet and satisfy certain needs of peo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the evolution of contemporary marketing philosophy, the way that products were distributed was thought of simply as a cost in getting product to the consumer.  Over time, there has been a realisation by processors, and those who supply the raw matrials to them, that marketing can actually add value to thei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history of modern consumer society in the industrialised world, new markets have always been the key to successful marketing, whether these are new markets for existing products, or the development of new markets based on new products (e.g.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on Research and Development (R&amp;D), and New Products is an integral feature of any marketing effo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ummarises the thrust of modern marketing practice in the consume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i="1" lang="en-GB" sz="1200" spc="-1" strike="noStrike">
                <a:solidFill>
                  <a:srgbClr val="000000"/>
                </a:solidFill>
                <a:latin typeface="Times New Roman"/>
              </a:rPr>
              <a:t>Concept of Marketing</a:t>
            </a:r>
            <a:r>
              <a:rPr b="0" lang="en-GB" sz="1200" spc="-1" strike="noStrike">
                <a:solidFill>
                  <a:srgbClr val="000000"/>
                </a:solidFill>
                <a:latin typeface="Times New Roman"/>
              </a:rPr>
              <a:t> is that the customer is first, last and always.  A marketing strategy usually has a global foc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taining </a:t>
            </a:r>
            <a:r>
              <a:rPr b="0" i="1" lang="en-GB" sz="1200" spc="-1" strike="noStrike">
                <a:solidFill>
                  <a:srgbClr val="000000"/>
                </a:solidFill>
                <a:latin typeface="Times New Roman"/>
              </a:rPr>
              <a:t>Market Insight</a:t>
            </a:r>
            <a:r>
              <a:rPr b="0" lang="en-GB" sz="1200" spc="-1" strike="noStrike">
                <a:solidFill>
                  <a:srgbClr val="000000"/>
                </a:solidFill>
                <a:latin typeface="Times New Roman"/>
              </a:rPr>
              <a:t> is not easy.  Consumers are passive, segmented and human.  Professional marketing organisations would have strategies to obtain the necessary degree of market ins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important phase is </a:t>
            </a:r>
            <a:r>
              <a:rPr b="0" i="1" lang="en-GB" sz="1200" spc="-1" strike="noStrike">
                <a:solidFill>
                  <a:srgbClr val="000000"/>
                </a:solidFill>
                <a:latin typeface="Times New Roman"/>
              </a:rPr>
              <a:t>Applying Market Techniques</a:t>
            </a:r>
            <a:r>
              <a:rPr b="0" lang="en-GB" sz="1200" spc="-1" strike="noStrike">
                <a:solidFill>
                  <a:srgbClr val="000000"/>
                </a:solidFill>
                <a:latin typeface="Times New Roman"/>
              </a:rPr>
              <a:t>, involving the development and promotion of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hird phase is critical.  So many good new products fail.  Just because there is a good idea which makes it to the product stage, and just because the product is superior, doesn’t guarantee marketing success.  The ability of the marketing organisation to properly market the product is a critical factor in marketing success.  The success of VHS against the Beta standards is a good example of superior marketing of a technically inferio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verriding philosophy in modern marketing is summed up by the aphor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If it ain’t broke, you might as well break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no system can withstand the pressures of the modern market.  A robust system will last for a while but will eventually be overtaken by competitors’ actions.  A marketing system must be constantly evolving to stay ahead of the g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Schewe, C.D. &amp; Hiam, A. (1998) The Portable MBA in Marketing, John Wiley &amp; Sons Inc. New Yor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bject of marketing is quite extensive.  People study at university for four years to master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related subjects are listed above.  This series of modules does not cover all these are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provides some food for thought about the importance of marketing to the agricultural produ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approach to the study of marketing agricultural products is to adopt a systems approach, an inclusive concep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s of production are included in the study which leads to the abolition of the farm-gate.  Producing the raw material is just another step in the market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by far the most sensible approach, and it will be seen that the factors that can lead to improvements in the system can be applied to all stages of the route from production to consum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terms which are known by various names depending on their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rms are called </a:t>
            </a:r>
            <a:r>
              <a:rPr b="0" i="1" lang="en-AU" sz="1200" spc="-1" strike="noStrike">
                <a:solidFill>
                  <a:srgbClr val="000000"/>
                </a:solidFill>
                <a:latin typeface="Times New Roman"/>
              </a:rPr>
              <a:t>Product Marketing</a:t>
            </a:r>
            <a:r>
              <a:rPr b="0" lang="en-AU" sz="1200" spc="-1" strike="noStrike">
                <a:solidFill>
                  <a:srgbClr val="000000"/>
                </a:solidFill>
                <a:latin typeface="Times New Roman"/>
              </a:rPr>
              <a:t> and </a:t>
            </a:r>
            <a:r>
              <a:rPr b="0" i="1" lang="en-AU" sz="1200" spc="-1" strike="noStrike">
                <a:solidFill>
                  <a:srgbClr val="000000"/>
                </a:solidFill>
                <a:latin typeface="Times New Roman"/>
              </a:rPr>
              <a:t>Consumer Marketing</a:t>
            </a:r>
            <a:r>
              <a:rPr b="0" lang="en-AU" sz="1200" spc="-1" strike="noStrike">
                <a:solidFill>
                  <a:srgbClr val="000000"/>
                </a:solidFill>
                <a:latin typeface="Times New Roman"/>
              </a:rPr>
              <a:t> by the Wool Industries Future Directions Taskforce.  The other names they have been called are listed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inction between the two is also made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marketing is the more obvious form of marketing while product marketing is more commonly applicable to marketing systems involving raw material.   Suppliers of raw material try to ensure that the processing system for their product is using their product, or producing consumer products from the raw material at the least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ranslates into more sales of the raw material and lower consumer pri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den, B. (1997), in Hamilton VFF DC Wool Committee (1997), Which Half? – An Anthology of Views on the Value of Promotion, Hamilton VFF District Council, p.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provided as an example of the Australian Meat and Livestock Corporation’s (AMLC) philosophy on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inction between product and consumer marketing is clear in their activities.  There is also a further separation for trade related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point that the organisation makes is that their activity is only justified in the case of “market failure”.  This is shown by the asterisks next to consumer related activ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den, B. (1997), in Hamilton VFF DC Wool Committee (1997), Which Half? – An Anthology of Views on the Value of Promotion, Hamilton VFF District Council, p.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pands on the AMLC’s definition of “market fail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important because the findings of the Wool Industry Future Directions Taskforce supported an industry response to issues ONLY when “market failure” could be demonstr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up Marketing</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ing groups can influe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m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quantity of produ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quality of produ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tive structure of se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ing policy (govern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 producers orientation to the market</a:t>
            </a:r>
            <a:endParaRPr b="1" lang="en-US" sz="2400" spc="-1" strike="noStrike">
              <a:solidFill>
                <a:srgbClr val="ffffff"/>
              </a:solidFill>
              <a:latin typeface="Arial"/>
            </a:endParaRPr>
          </a:p>
        </p:txBody>
      </p:sp>
      <p:sp>
        <p:nvSpPr>
          <p:cNvPr id="80" name=""/>
          <p:cNvSpPr/>
          <p:nvPr/>
        </p:nvSpPr>
        <p:spPr>
          <a:xfrm>
            <a:off x="5259600" y="6323040"/>
            <a:ext cx="1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ing Efficiency</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ical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put / output relationships throughout the system / pipe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 leve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 leve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ing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justment of prices to balance demand and suppl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mon description between buyer &amp; sell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qual bargaining pow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 volatility shouldn’t mask signals</a:t>
            </a:r>
            <a:endParaRPr b="1" lang="en-US" sz="2000" spc="-1" strike="noStrike">
              <a:solidFill>
                <a:srgbClr val="ffffff"/>
              </a:solidFill>
              <a:latin typeface="Arial"/>
            </a:endParaRPr>
          </a:p>
        </p:txBody>
      </p:sp>
      <p:sp>
        <p:nvSpPr>
          <p:cNvPr id="8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grower Action Framework</a:t>
            </a:r>
            <a:endParaRPr b="1" lang="en-US" sz="3200" spc="-1" strike="noStrike">
              <a:solidFill>
                <a:srgbClr val="fafd00"/>
              </a:solidFill>
              <a:latin typeface="Arial"/>
            </a:endParaRPr>
          </a:p>
        </p:txBody>
      </p:sp>
      <p:sp>
        <p:nvSpPr>
          <p:cNvPr id="86"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Ins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icult, passive consum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s constantly evolv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lying Marketing Techniqu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Products</a:t>
            </a:r>
            <a:endParaRPr b="1" lang="en-US" sz="20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ere do these come fro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endParaRPr b="1" lang="en-US" sz="20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ere in the pipeline?</a:t>
            </a:r>
            <a:endParaRPr b="1" lang="en-US" sz="1800" spc="-1" strike="noStrike">
              <a:solidFill>
                <a:srgbClr val="ffffff"/>
              </a:solidFill>
              <a:latin typeface="Arial"/>
            </a:endParaRPr>
          </a:p>
        </p:txBody>
      </p:sp>
      <p:sp>
        <p:nvSpPr>
          <p:cNvPr id="87" name="PlaceHolder 3"/>
          <p:cNvSpPr>
            <a:spLocks noGrp="1"/>
          </p:cNvSpPr>
          <p:nvPr>
            <p:ph/>
          </p:nvPr>
        </p:nvSpPr>
        <p:spPr>
          <a:xfrm>
            <a:off x="51814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up activity is importa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etitive structure of se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ther producers’ orient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p:txBody>
      </p:sp>
      <p:sp>
        <p:nvSpPr>
          <p:cNvPr id="8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itical Marketing Functions</a:t>
            </a:r>
            <a:endParaRPr b="1" lang="en-US" sz="3200" spc="-1" strike="noStrike">
              <a:solidFill>
                <a:srgbClr val="fafd00"/>
              </a:solidFill>
              <a:latin typeface="Arial"/>
            </a:endParaRPr>
          </a:p>
        </p:txBody>
      </p:sp>
      <p:sp>
        <p:nvSpPr>
          <p:cNvPr id="90" name="PlaceHolder 2"/>
          <p:cNvSpPr>
            <a:spLocks noGrp="1"/>
          </p:cNvSpPr>
          <p:nvPr>
            <p:ph/>
          </p:nvPr>
        </p:nvSpPr>
        <p:spPr>
          <a:xfrm>
            <a:off x="11426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dentifying consumer nee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dustri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lling 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ltural</a:t>
            </a:r>
            <a:endParaRPr b="1" lang="en-US" sz="2000" spc="-1" strike="noStrike">
              <a:solidFill>
                <a:srgbClr val="ffffff"/>
              </a:solidFill>
              <a:latin typeface="Arial"/>
            </a:endParaRPr>
          </a:p>
        </p:txBody>
      </p:sp>
      <p:sp>
        <p:nvSpPr>
          <p:cNvPr id="91" name="PlaceHolder 3"/>
          <p:cNvSpPr>
            <a:spLocks noGrp="1"/>
          </p:cNvSpPr>
          <p:nvPr>
            <p:ph/>
          </p:nvPr>
        </p:nvSpPr>
        <p:spPr>
          <a:xfrm>
            <a:off x="5029200" y="990360"/>
            <a:ext cx="41148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t of 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innovation (R&amp;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asurement and descrip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3" name=""/>
          <p:cNvGrpSpPr/>
          <p:nvPr/>
        </p:nvGrpSpPr>
        <p:grpSpPr>
          <a:xfrm>
            <a:off x="1143360" y="1066680"/>
            <a:ext cx="7970760" cy="5194800"/>
            <a:chOff x="1143360" y="1066680"/>
            <a:chExt cx="7970760" cy="5194800"/>
          </a:xfrm>
        </p:grpSpPr>
        <p:sp>
          <p:nvSpPr>
            <p:cNvPr id="94" name=""/>
            <p:cNvSpPr/>
            <p:nvPr/>
          </p:nvSpPr>
          <p:spPr>
            <a:xfrm>
              <a:off x="7730280" y="153360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ass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95" name=""/>
            <p:cNvSpPr/>
            <p:nvPr/>
          </p:nvSpPr>
          <p:spPr>
            <a:xfrm>
              <a:off x="1143360" y="3814920"/>
              <a:ext cx="1603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a:t>
              </a:r>
              <a:endParaRPr b="0" lang="en-US" sz="2400" spc="-1" strike="noStrike">
                <a:solidFill>
                  <a:srgbClr val="000000"/>
                </a:solidFill>
                <a:latin typeface="Times New Roman"/>
              </a:endParaRPr>
            </a:p>
          </p:txBody>
        </p:sp>
        <p:sp>
          <p:nvSpPr>
            <p:cNvPr id="96" name=""/>
            <p:cNvSpPr/>
            <p:nvPr/>
          </p:nvSpPr>
          <p:spPr>
            <a:xfrm>
              <a:off x="3902760" y="4879800"/>
              <a:ext cx="170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endParaRPr b="0" lang="en-US" sz="2400" spc="-1" strike="noStrike">
                <a:solidFill>
                  <a:srgbClr val="000000"/>
                </a:solidFill>
                <a:latin typeface="Times New Roman"/>
              </a:endParaRPr>
            </a:p>
          </p:txBody>
        </p:sp>
        <p:sp>
          <p:nvSpPr>
            <p:cNvPr id="97" name=""/>
            <p:cNvSpPr/>
            <p:nvPr/>
          </p:nvSpPr>
          <p:spPr>
            <a:xfrm>
              <a:off x="5391720" y="2244600"/>
              <a:ext cx="1382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98" name=""/>
            <p:cNvSpPr/>
            <p:nvPr/>
          </p:nvSpPr>
          <p:spPr>
            <a:xfrm>
              <a:off x="1772640" y="163044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77640" y="1066680"/>
              <a:ext cx="1130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ic</a:t>
              </a:r>
              <a:endParaRPr b="0" lang="en-US" sz="2800" spc="-1" strike="noStrike">
                <a:solidFill>
                  <a:srgbClr val="000000"/>
                </a:solidFill>
                <a:latin typeface="Times New Roman"/>
              </a:endParaRPr>
            </a:p>
          </p:txBody>
        </p:sp>
        <p:sp>
          <p:nvSpPr>
            <p:cNvPr id="100" name=""/>
            <p:cNvSpPr/>
            <p:nvPr/>
          </p:nvSpPr>
          <p:spPr>
            <a:xfrm>
              <a:off x="1222920" y="2244600"/>
              <a:ext cx="1094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eds</a:t>
              </a:r>
              <a:endParaRPr b="0" lang="en-US" sz="2400" spc="-1" strike="noStrike">
                <a:solidFill>
                  <a:srgbClr val="000000"/>
                </a:solidFill>
                <a:latin typeface="Times New Roman"/>
              </a:endParaRPr>
            </a:p>
          </p:txBody>
        </p:sp>
        <p:sp>
          <p:nvSpPr>
            <p:cNvPr id="101" name=""/>
            <p:cNvSpPr/>
            <p:nvPr/>
          </p:nvSpPr>
          <p:spPr>
            <a:xfrm>
              <a:off x="2833920" y="2174760"/>
              <a:ext cx="34164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834280" y="2244600"/>
              <a:ext cx="109584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103" name=""/>
            <p:cNvSpPr/>
            <p:nvPr/>
          </p:nvSpPr>
          <p:spPr>
            <a:xfrm>
              <a:off x="2345760" y="2414520"/>
              <a:ext cx="334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960360" y="2414520"/>
              <a:ext cx="12754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219440" y="1666800"/>
              <a:ext cx="0" cy="284976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18680" y="2414520"/>
              <a:ext cx="33300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941240" y="223848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108" name=""/>
            <p:cNvSpPr/>
            <p:nvPr/>
          </p:nvSpPr>
          <p:spPr>
            <a:xfrm>
              <a:off x="6322680" y="1066680"/>
              <a:ext cx="2196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action</a:t>
              </a:r>
              <a:endParaRPr b="0" lang="en-US" sz="2800" spc="-1" strike="noStrike">
                <a:solidFill>
                  <a:srgbClr val="000000"/>
                </a:solidFill>
                <a:latin typeface="Times New Roman"/>
              </a:endParaRPr>
            </a:p>
          </p:txBody>
        </p:sp>
        <p:sp>
          <p:nvSpPr>
            <p:cNvPr id="109" name=""/>
            <p:cNvSpPr/>
            <p:nvPr/>
          </p:nvSpPr>
          <p:spPr>
            <a:xfrm>
              <a:off x="2689560" y="1066680"/>
              <a:ext cx="2277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eriences</a:t>
              </a:r>
              <a:endParaRPr b="0" lang="en-US" sz="2800" spc="-1" strike="noStrike">
                <a:solidFill>
                  <a:srgbClr val="000000"/>
                </a:solidFill>
                <a:latin typeface="Times New Roman"/>
              </a:endParaRPr>
            </a:p>
          </p:txBody>
        </p:sp>
        <p:sp>
          <p:nvSpPr>
            <p:cNvPr id="110" name=""/>
            <p:cNvSpPr/>
            <p:nvPr/>
          </p:nvSpPr>
          <p:spPr>
            <a:xfrm>
              <a:off x="3318840" y="170496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901960" y="3892680"/>
              <a:ext cx="34164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903400" y="3745080"/>
              <a:ext cx="109584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113" name=""/>
            <p:cNvSpPr/>
            <p:nvPr/>
          </p:nvSpPr>
          <p:spPr>
            <a:xfrm>
              <a:off x="2359080" y="2867040"/>
              <a:ext cx="488880" cy="898560"/>
            </a:xfrm>
            <a:prstGeom prst="line">
              <a:avLst/>
            </a:prstGeom>
            <a:ln w="507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945080" y="3036600"/>
              <a:ext cx="393480" cy="7081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409720" y="3772080"/>
              <a:ext cx="1198800" cy="66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88120" y="3740040"/>
              <a:ext cx="138240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117" name=""/>
            <p:cNvSpPr/>
            <p:nvPr/>
          </p:nvSpPr>
          <p:spPr>
            <a:xfrm>
              <a:off x="7390800" y="4067280"/>
              <a:ext cx="4006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18680" y="4067280"/>
              <a:ext cx="33300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941240" y="388944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120" name=""/>
            <p:cNvSpPr/>
            <p:nvPr/>
          </p:nvSpPr>
          <p:spPr>
            <a:xfrm>
              <a:off x="3926880" y="4216320"/>
              <a:ext cx="1410480" cy="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4599000" y="4105080"/>
              <a:ext cx="0" cy="8982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65480" y="318456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ro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123" name=""/>
            <p:cNvSpPr/>
            <p:nvPr/>
          </p:nvSpPr>
          <p:spPr>
            <a:xfrm>
              <a:off x="2149560" y="5245200"/>
              <a:ext cx="22327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 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ITY</a:t>
              </a:r>
              <a:endParaRPr b="0" lang="en-US" sz="2000" spc="-1" strike="noStrike">
                <a:solidFill>
                  <a:srgbClr val="000000"/>
                </a:solidFill>
                <a:latin typeface="Times New Roman"/>
              </a:endParaRPr>
            </a:p>
          </p:txBody>
        </p:sp>
        <p:sp>
          <p:nvSpPr>
            <p:cNvPr id="124" name=""/>
            <p:cNvSpPr/>
            <p:nvPr/>
          </p:nvSpPr>
          <p:spPr>
            <a:xfrm>
              <a:off x="5445360" y="5257800"/>
              <a:ext cx="19918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CKAG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a:t>
              </a:r>
              <a:endParaRPr b="0" lang="en-US" sz="2000" spc="-1" strike="noStrike">
                <a:solidFill>
                  <a:srgbClr val="000000"/>
                </a:solidFill>
                <a:latin typeface="Times New Roman"/>
              </a:endParaRPr>
            </a:p>
          </p:txBody>
        </p:sp>
        <p:sp>
          <p:nvSpPr>
            <p:cNvPr id="125" name=""/>
            <p:cNvSpPr/>
            <p:nvPr/>
          </p:nvSpPr>
          <p:spPr>
            <a:xfrm flipV="1">
              <a:off x="601056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390800" y="2414520"/>
              <a:ext cx="3340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338724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6169680" y="6324480"/>
            <a:ext cx="2827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ton, J. &amp; Senior, A. (1994)</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other Perspective of Marketing</a:t>
            </a:r>
            <a:endParaRPr b="1" lang="en-US" sz="32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Quality?</a:t>
            </a:r>
            <a:endParaRPr b="1" lang="en-US" sz="3200" spc="-1" strike="noStrike">
              <a:solidFill>
                <a:srgbClr val="fafd00"/>
              </a:solidFill>
              <a:latin typeface="Arial"/>
            </a:endParaRPr>
          </a:p>
        </p:txBody>
      </p:sp>
      <p:sp>
        <p:nvSpPr>
          <p:cNvPr id="13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SIRED SATISFACTIONS = QUA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iabil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form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urabilit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ementary Featu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rvicea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esthetic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ceptions</a:t>
            </a:r>
            <a:endParaRPr b="1" lang="en-US" sz="2400" spc="-1" strike="noStrike">
              <a:solidFill>
                <a:srgbClr val="ffffff"/>
              </a:solidFill>
              <a:latin typeface="Arial"/>
            </a:endParaRPr>
          </a:p>
        </p:txBody>
      </p:sp>
      <p:sp>
        <p:nvSpPr>
          <p:cNvPr id="13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4 P’s of Marketing</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ed from market research for the target custom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ric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licy based on profit, financing, relative posi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hance position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athway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 presented to customer when it is requir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21880" y="6400800"/>
            <a:ext cx="1948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artels, R. (1988)</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 of Marketing</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on &gt; domestic consump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d new markets (national to glob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 derivation (~1900)</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cial institu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s to satisfy certain consumer need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lue added by marke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w markets are the ke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nthetic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deos, Walkma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mp;D / New Product foc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rn Marketing</a:t>
            </a:r>
            <a:endParaRPr b="1" lang="en-US" sz="3200" spc="-1" strike="noStrike">
              <a:solidFill>
                <a:srgbClr val="fafd00"/>
              </a:solidFill>
              <a:latin typeface="Arial"/>
            </a:endParaRPr>
          </a:p>
        </p:txBody>
      </p:sp>
      <p:sp>
        <p:nvSpPr>
          <p:cNvPr id="53"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Marketing Concep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customer first, last, alway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ategy (globa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Ins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researc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inform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filing mark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derstanding buyer behaviou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gments, targets, position</a:t>
            </a:r>
            <a:endParaRPr b="1" lang="en-US" sz="2000" spc="-1" strike="noStrike">
              <a:solidFill>
                <a:srgbClr val="ffffff"/>
              </a:solidFill>
              <a:latin typeface="Arial"/>
            </a:endParaRPr>
          </a:p>
        </p:txBody>
      </p:sp>
      <p:sp>
        <p:nvSpPr>
          <p:cNvPr id="54" name="PlaceHolder 3"/>
          <p:cNvSpPr>
            <a:spLocks noGrp="1"/>
          </p:cNvSpPr>
          <p:nvPr>
            <p:ph/>
          </p:nvPr>
        </p:nvSpPr>
        <p:spPr>
          <a:xfrm>
            <a:off x="4876920" y="914040"/>
            <a:ext cx="41148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lying Market Techniqu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manag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ture of pric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 fun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t>
            </a:r>
            <a:r>
              <a:rPr b="1" lang="en-AU" sz="2400" spc="-1" strike="noStrike">
                <a:solidFill>
                  <a:srgbClr val="ffff99"/>
                </a:solidFill>
                <a:latin typeface="Arial"/>
              </a:rPr>
              <a:t>if it ain’t broke, you might as well break it”</a:t>
            </a:r>
            <a:endParaRPr b="1" lang="en-US" sz="2400" spc="-1" strike="noStrike">
              <a:solidFill>
                <a:srgbClr val="ffffff"/>
              </a:solidFill>
              <a:latin typeface="Arial"/>
            </a:endParaRPr>
          </a:p>
        </p:txBody>
      </p:sp>
      <p:sp>
        <p:nvSpPr>
          <p:cNvPr id="55"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ed Area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Manag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sych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ci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ltural Anthrop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formation Scien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oun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conomic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nag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tistics</a:t>
            </a:r>
            <a:endParaRPr b="1" lang="en-US" sz="2800" spc="-1" strike="noStrike">
              <a:solidFill>
                <a:srgbClr val="ffffff"/>
              </a:solidFill>
              <a:latin typeface="Arial"/>
            </a:endParaRPr>
          </a:p>
        </p:txBody>
      </p:sp>
      <p:sp>
        <p:nvSpPr>
          <p:cNvPr id="58"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ortance of Marketing</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Knowledge of prices, of pricing patterns, and the capacity to analyze the economic forces that cause and change those prices will be a necessary condition to effective marketing decision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The benefits of a year-long and outstanding job of production can be wiped out with a single poorly informed marketing decision”</a:t>
            </a:r>
            <a:endParaRPr b="1" lang="en-US" sz="2400" spc="-1" strike="noStrike">
              <a:solidFill>
                <a:srgbClr val="ffffff"/>
              </a:solidFill>
              <a:latin typeface="Arial"/>
            </a:endParaRPr>
          </a:p>
        </p:txBody>
      </p:sp>
      <p:sp>
        <p:nvSpPr>
          <p:cNvPr id="61" name=""/>
          <p:cNvSpPr/>
          <p:nvPr/>
        </p:nvSpPr>
        <p:spPr>
          <a:xfrm>
            <a:off x="7173360" y="640080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s Approach</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ptio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ailin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olesalin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y</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
          <p:cNvSpPr/>
          <p:nvPr/>
        </p:nvSpPr>
        <p:spPr>
          <a:xfrm>
            <a:off x="1219320" y="3809880"/>
            <a:ext cx="2895480" cy="0"/>
          </a:xfrm>
          <a:prstGeom prst="line">
            <a:avLst/>
          </a:prstGeom>
          <a:ln w="7632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PlaceHolder 3"/>
          <p:cNvSpPr>
            <a:spLocks noGrp="1"/>
          </p:cNvSpPr>
          <p:nvPr>
            <p:ph/>
          </p:nvPr>
        </p:nvSpPr>
        <p:spPr>
          <a:xfrm>
            <a:off x="4952880" y="1218960"/>
            <a:ext cx="3810240" cy="51814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marketing might be defined as the set of economic and behavioural activities that are involved in coordinating the various stages of economic activity from production to consumption”</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 farm g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combination of resources at each stage is production</a:t>
            </a:r>
            <a:endParaRPr b="1" lang="en-US" sz="1800" spc="-1" strike="noStrike">
              <a:solidFill>
                <a:srgbClr val="ffffff"/>
              </a:solidFill>
              <a:latin typeface="Arial"/>
            </a:endParaRPr>
          </a:p>
        </p:txBody>
      </p:sp>
      <p:sp>
        <p:nvSpPr>
          <p:cNvPr id="66" name=""/>
          <p:cNvSpPr/>
          <p:nvPr/>
        </p:nvSpPr>
        <p:spPr>
          <a:xfrm>
            <a:off x="7166880" y="640080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ing after the Farm-gate</a:t>
            </a:r>
            <a:endParaRPr b="1" lang="en-US" sz="3200" spc="-1" strike="noStrike">
              <a:solidFill>
                <a:srgbClr val="fafd00"/>
              </a:solidFill>
              <a:latin typeface="Arial"/>
            </a:endParaRPr>
          </a:p>
        </p:txBody>
      </p:sp>
      <p:sp>
        <p:nvSpPr>
          <p:cNvPr id="6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Marketing</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de promo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chnical promo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ial marketing</a:t>
            </a: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USH</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rsonnel</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 products to processo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ing  production efficiency (cos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hancing processor products</a:t>
            </a:r>
            <a:endParaRPr b="1" lang="en-US" sz="2000" spc="-1" strike="noStrike">
              <a:solidFill>
                <a:srgbClr val="ffffff"/>
              </a:solidFill>
              <a:latin typeface="Arial"/>
            </a:endParaRPr>
          </a:p>
        </p:txBody>
      </p:sp>
      <p:sp>
        <p:nvSpPr>
          <p:cNvPr id="69" name="PlaceHolder 3"/>
          <p:cNvSpPr>
            <a:spLocks noGrp="1"/>
          </p:cNvSpPr>
          <p:nvPr>
            <p:ph/>
          </p:nvPr>
        </p:nvSpPr>
        <p:spPr>
          <a:xfrm>
            <a:off x="5105520" y="990360"/>
            <a:ext cx="396216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 Marketing</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eneric promo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dvertis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randing</a:t>
            </a: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ULL</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ing products to consumers</a:t>
            </a:r>
            <a:endParaRPr b="1" lang="en-US" sz="2000" spc="-1" strike="noStrike">
              <a:solidFill>
                <a:srgbClr val="ffffff"/>
              </a:solidFill>
              <a:latin typeface="Arial"/>
            </a:endParaRPr>
          </a:p>
        </p:txBody>
      </p:sp>
      <p:sp>
        <p:nvSpPr>
          <p:cNvPr id="7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ing Activity</a:t>
            </a:r>
            <a:endParaRPr b="1" lang="en-US" sz="3200" spc="-1" strike="noStrike">
              <a:solidFill>
                <a:srgbClr val="fafd00"/>
              </a:solidFill>
              <a:latin typeface="Arial"/>
            </a:endParaRPr>
          </a:p>
        </p:txBody>
      </p:sp>
      <p:sp>
        <p:nvSpPr>
          <p:cNvPr id="7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ckaging, delivery, 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les servic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d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semina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fai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miss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advertising</a:t>
            </a:r>
            <a:endParaRPr b="1" lang="en-US" sz="2000" spc="-1" strike="noStrike">
              <a:solidFill>
                <a:srgbClr val="ffffff"/>
              </a:solidFill>
              <a:latin typeface="Arial"/>
            </a:endParaRPr>
          </a:p>
        </p:txBody>
      </p:sp>
      <p:sp>
        <p:nvSpPr>
          <p:cNvPr id="7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ore promo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S materi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 medi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verti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ublic relation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fail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up activity justifi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LC philosoph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lamb</a:t>
            </a:r>
            <a:endParaRPr b="1" lang="en-US" sz="2000" spc="-1" strike="noStrike">
              <a:solidFill>
                <a:srgbClr val="ffffff"/>
              </a:solidFill>
              <a:latin typeface="Arial"/>
            </a:endParaRPr>
          </a:p>
        </p:txBody>
      </p:sp>
      <p:sp>
        <p:nvSpPr>
          <p:cNvPr id="74" name=""/>
          <p:cNvSpPr/>
          <p:nvPr/>
        </p:nvSpPr>
        <p:spPr>
          <a:xfrm>
            <a:off x="7112160" y="6400800"/>
            <a:ext cx="203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den, B.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Failure</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vidual firm can’t capture most of the benefits from providing an activ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consumer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gnificant economies of scale exist in the provision of an activ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ere the costs imposed on an industry by the actions of a firm are higher than the costs to a fi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meat substitution</a:t>
            </a:r>
            <a:endParaRPr b="1" lang="en-US" sz="2400" spc="-1" strike="noStrike">
              <a:solidFill>
                <a:srgbClr val="ffffff"/>
              </a:solidFill>
              <a:latin typeface="Arial"/>
            </a:endParaRPr>
          </a:p>
        </p:txBody>
      </p:sp>
      <p:sp>
        <p:nvSpPr>
          <p:cNvPr id="77" name=""/>
          <p:cNvSpPr/>
          <p:nvPr/>
        </p:nvSpPr>
        <p:spPr>
          <a:xfrm>
            <a:off x="7112160" y="6400800"/>
            <a:ext cx="203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den, B.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3:09:45Z</dcterms:created>
  <dc:creator>USER</dc:creator>
  <dc:description/>
  <dc:language>en-US</dc:language>
  <cp:lastModifiedBy>Hdaily</cp:lastModifiedBy>
  <cp:lastPrinted>2000-02-03T09:09:47Z</cp:lastPrinted>
  <dcterms:modified xsi:type="dcterms:W3CDTF">2000-04-27T04:16:46Z</dcterms:modified>
  <cp:revision>10</cp:revision>
  <dc:subject/>
  <dc:title>Marketing Principles</dc:title>
</cp:coreProperties>
</file>