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97DAA-E4F7-496A-BC9D-BB268B3664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562040" y="533520"/>
            <a:ext cx="3657600" cy="2743200"/>
          </a:xfrm>
          <a:prstGeom prst="rect">
            <a:avLst/>
          </a:prstGeom>
          <a:ln w="0">
            <a:noFill/>
          </a:ln>
        </p:spPr>
      </p:sp>
      <p:sp>
        <p:nvSpPr>
          <p:cNvPr id="7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examines trade restrictions in the global textile market.  It looks at the implications of these restrictions for the wool indust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562040" y="533520"/>
            <a:ext cx="3657600" cy="2743200"/>
          </a:xfrm>
          <a:prstGeom prst="rect">
            <a:avLst/>
          </a:prstGeom>
          <a:ln w="0">
            <a:noFill/>
          </a:ln>
        </p:spPr>
      </p:sp>
      <p:sp>
        <p:nvSpPr>
          <p:cNvPr id="7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strictions to free and open markets lead to market distortions and market inefficiency.  For example, the restriction of apparel textile production to countries with relatively high labour costs mean that consumers pay more for clothing than they really need t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ever, current trade restrictions need to be put into perspective.  There is a general need for clothing and furnishing.  Domestic industries are favoured by governments to supply the needs of their own populations.  On top of this textile industries have been shown to play a vital role in the development of industrialised economies.  Textile industries are also vital for domestic employment.  These issues are covered in more detail in the module, “Textiles and Apparel in the Global Econom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should also be remembered that textiles have been regulated for many centuries.  Textiles were the foundation of wealth for many Western countries (England, Italy etc.).  Governments of the time imposed heavy restrictions on the location and dispersion of textile production and knowledg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562040" y="533520"/>
            <a:ext cx="3657600" cy="2743200"/>
          </a:xfrm>
          <a:prstGeom prst="rect">
            <a:avLst/>
          </a:prstGeom>
          <a:ln w="0">
            <a:noFill/>
          </a:ln>
        </p:spPr>
      </p:sp>
      <p:sp>
        <p:nvSpPr>
          <p:cNvPr id="7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rade restrictions can take various form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ariffs are taxes on imports imposed by governments to make imports more expensiv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Quotas are quantitative restrictions on imports and act to restrict the market share of imported goo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ther trade restrictions can be more subtle such as labelling laws which impose a cost on importers to meet labelling regulations for a particular market, or making sure that only a component of goods is imported through domestic content laws.  Health regulations can also be used to restrict imports.  For example, topmakers in Australia can only use wool grown in Australia or New Zealand because of quarantine regulation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562040" y="533520"/>
            <a:ext cx="3657600" cy="2743200"/>
          </a:xfrm>
          <a:prstGeom prst="rect">
            <a:avLst/>
          </a:prstGeom>
          <a:ln w="0">
            <a:noFill/>
          </a:ln>
        </p:spPr>
      </p:sp>
      <p:sp>
        <p:nvSpPr>
          <p:cNvPr id="8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General Agreement on Tariffs and Trade (GATT) was enacted in 1947.  The general aim of GATT is to achieve free and fair trade, and the final abolition of tariff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GATT guidelines are listed i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ariffs are the endorsed tool for trade restric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ATT is a mechanism for countries to restrict access to their domestic markets and to protect their domestic manufacturing industries.  GATT is patronised by developed countries.  Japan was only included in the 1950’s.  The European Economic Union (EEU) evolved under GATT guidelin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relative importance of apparel and textiles is apparent from the fact that textiles depart from guidelines 1, 2 and 6, and resort to emergency action ofte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fact the trade in apparel and textiles is dealt with outside GAT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562040" y="533520"/>
            <a:ext cx="3657600" cy="2743200"/>
          </a:xfrm>
          <a:prstGeom prst="rect">
            <a:avLst/>
          </a:prstGeom>
          <a:ln w="0">
            <a:noFill/>
          </a:ln>
        </p:spPr>
      </p:sp>
      <p:sp>
        <p:nvSpPr>
          <p:cNvPr id="8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ulti Fibre Agreement (MFA) is outside GATT, but endorsed by GATT.  Significantly, import quotas are the restrictive tool used in this agree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FA superseded the Short Term Agreement (STA) and Long Term Agreement (LTA) which only covered the trade in cotton textiles.  It is interesting that import of textiles made from other fibres were not important enough before this time to be includ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FA covers apparel and textiles made from all fibres.  It should be noted that it doesn’t cover the fibre trade as raw material for textiles.  Raw wool is not directly affec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FA is a compromise between importing countries and exporting countries which allows a certain indexed market share for imports over time.  It is argued that MFA has led to a certain amount of market disruption, certainly trade is not free and fai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is worth noting that MFA was initially meant to finish in 1991, currently the wind-up date is approximately 2005.</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562040" y="533520"/>
            <a:ext cx="3657600" cy="2743200"/>
          </a:xfrm>
          <a:prstGeom prst="rect">
            <a:avLst/>
          </a:prstGeom>
          <a:ln w="0">
            <a:noFill/>
          </a:ln>
        </p:spPr>
      </p:sp>
      <p:sp>
        <p:nvSpPr>
          <p:cNvPr id="8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rguments used to support GATT and MFA are that these agreements protect against dumping and import surges.  The protection of brands is also a powerful argument.  Developed countries also argue that imported goods may be artificially priced through export subsidies from exporting countr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later argument is that developed countries use more eco-friendly and efficient technologies to produce the goods which helps the environmen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562040" y="533520"/>
            <a:ext cx="3657600" cy="2743200"/>
          </a:xfrm>
          <a:prstGeom prst="rect">
            <a:avLst/>
          </a:prstGeom>
          <a:ln w="0">
            <a:noFill/>
          </a:ln>
        </p:spPr>
      </p:sp>
      <p:sp>
        <p:nvSpPr>
          <p:cNvPr id="8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Dickerson, K.G. (1995), Textiles and Apparel in the Global Economy, Prentice-Hall Inc., New Jersey, p. 50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graph presents the average tariff rates on clothing, footwear and textiles against the average for all merchandi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im of GATT and MFA is to abolish tariffs.  The graph shows that tariffs are relatively high for textiles etc., and that tariffs are being reduced, albeit at a slow rat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ng term effects of GATT are likely to be positive as far as tariff levels are concerned.</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562040" y="533520"/>
            <a:ext cx="3657600" cy="2743200"/>
          </a:xfrm>
          <a:prstGeom prst="rect">
            <a:avLst/>
          </a:prstGeom>
          <a:ln w="0">
            <a:noFill/>
          </a:ln>
        </p:spPr>
      </p:sp>
      <p:sp>
        <p:nvSpPr>
          <p:cNvPr id="8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deals with the consequences of tarrifs, particularly the MFA, for wool.  Raw wool is not included because it is a raw material for the global textile mark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ever, there is an argument that MFA has distorted the international textile trade; it isn’t free or fai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FA has restricted general textile and apparel trade because consumers are paying higher prices for goods, and their access to cheaper goods is also restric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f the MFA is removed, the world trade in textiles would increase, which would be better for raw wool.  Raw wool would be an input material into a market running at a higher rat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o take full advantage of these possibilities wool must be cost competitive and relevant in the global textile marke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Global Trade Restrictions in</a:t>
            </a:r>
            <a:br>
              <a:rPr sz="3200"/>
            </a:br>
            <a:r>
              <a:rPr b="1" lang="en-GB" sz="3200" spc="-1" strike="noStrike">
                <a:solidFill>
                  <a:srgbClr val="fafd00"/>
                </a:solidFill>
                <a:latin typeface="Arial"/>
              </a:rPr>
              <a:t>Apparel Textile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Perspective</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general need for clothing &amp; furnishing</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governments want domestic industrie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extile industries have a vital role in national development</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extiles are vital for domestic employment</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extile trade has been regulated for a long time (before GATT)</a:t>
            </a:r>
            <a:endParaRPr b="1" lang="en-US" sz="2800" spc="-1" strike="noStrike">
              <a:solidFill>
                <a:srgbClr val="ffffff"/>
              </a:solidFill>
              <a:latin typeface="Arial"/>
            </a:endParaRPr>
          </a:p>
        </p:txBody>
      </p:sp>
      <p:sp>
        <p:nvSpPr>
          <p:cNvPr id="51"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rade Restrictions</a:t>
            </a:r>
            <a:endParaRPr b="1" lang="en-US" sz="3200" spc="-1" strike="noStrike">
              <a:solidFill>
                <a:srgbClr val="fafd00"/>
              </a:solidFill>
              <a:latin typeface="Arial"/>
            </a:endParaRPr>
          </a:p>
        </p:txBody>
      </p:sp>
      <p:sp>
        <p:nvSpPr>
          <p:cNvPr id="53" name="PlaceHolder 2"/>
          <p:cNvSpPr>
            <a:spLocks noGrp="1"/>
          </p:cNvSpPr>
          <p:nvPr>
            <p:ph/>
          </p:nvPr>
        </p:nvSpPr>
        <p:spPr>
          <a:xfrm>
            <a:off x="1295280" y="838080"/>
            <a:ext cx="381024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ariff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ax on import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nsumers effectively pay through higher prices</a:t>
            </a:r>
            <a:endParaRPr b="1"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on-Tariff Barrier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labelling</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domestic content law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health regulations</a:t>
            </a:r>
            <a:endParaRPr b="1" lang="en-US" sz="2000" spc="-1" strike="noStrike">
              <a:solidFill>
                <a:srgbClr val="ffffff"/>
              </a:solidFill>
              <a:latin typeface="Arial"/>
            </a:endParaRPr>
          </a:p>
        </p:txBody>
      </p:sp>
      <p:sp>
        <p:nvSpPr>
          <p:cNvPr id="54" name="PlaceHolder 3"/>
          <p:cNvSpPr>
            <a:spLocks noGrp="1"/>
          </p:cNvSpPr>
          <p:nvPr>
            <p:ph/>
          </p:nvPr>
        </p:nvSpPr>
        <p:spPr>
          <a:xfrm>
            <a:off x="5257440" y="838080"/>
            <a:ext cx="380988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Quota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quantitative restrictions on import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effectively limiting market share</a:t>
            </a:r>
            <a:endParaRPr b="1" lang="en-US" sz="2000" spc="-1" strike="noStrike">
              <a:solidFill>
                <a:srgbClr val="ffffff"/>
              </a:solidFill>
              <a:latin typeface="Arial"/>
            </a:endParaRPr>
          </a:p>
        </p:txBody>
      </p:sp>
      <p:sp>
        <p:nvSpPr>
          <p:cNvPr id="55"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GATT &amp; Textiles</a:t>
            </a:r>
            <a:endParaRPr b="1" lang="en-US" sz="3200" spc="-1" strike="noStrike">
              <a:solidFill>
                <a:srgbClr val="fafd00"/>
              </a:solidFill>
              <a:latin typeface="Arial"/>
            </a:endParaRPr>
          </a:p>
        </p:txBody>
      </p:sp>
      <p:sp>
        <p:nvSpPr>
          <p:cNvPr id="5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trade without discrimination</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2</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protection through tariffs</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3</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a stable basis for trade</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4</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consultation, conciliation</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5</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emergency action possible</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6</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quota restrictions prohibited</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7</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regional trading allowed</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TEXTILES depart from 1, 2, 6, using 5 often</a:t>
            </a:r>
            <a:endParaRPr b="1" lang="en-US" sz="2800" spc="-1" strike="noStrike">
              <a:solidFill>
                <a:srgbClr val="ffffff"/>
              </a:solidFill>
              <a:latin typeface="Arial"/>
            </a:endParaRPr>
          </a:p>
        </p:txBody>
      </p:sp>
      <p:sp>
        <p:nvSpPr>
          <p:cNvPr id="58"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ulti Fibre Agreement</a:t>
            </a:r>
            <a:r>
              <a:rPr b="1" lang="en-GB" sz="3200" spc="-1" strike="noStrike">
                <a:solidFill>
                  <a:srgbClr val="fafd00"/>
                </a:solidFill>
                <a:latin typeface="Arial"/>
              </a:rPr>
              <a:t> (MFA)</a:t>
            </a:r>
            <a:endParaRPr b="1" lang="en-US" sz="3200" spc="-1" strike="noStrike">
              <a:solidFill>
                <a:srgbClr val="fafd00"/>
              </a:solidFill>
              <a:latin typeface="Arial"/>
            </a:endParaRPr>
          </a:p>
        </p:txBody>
      </p:sp>
      <p:sp>
        <p:nvSpPr>
          <p:cNvPr id="6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ulti Fibre Agreement</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1974 onward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uperseded STA, LTA</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tton only</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ll fibres included</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anaging all textile and apparel trad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mpromise between importing and exporting countries</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bilateral agreement</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arket disruption</a:t>
            </a:r>
            <a:endParaRPr b="1" lang="en-US" sz="2000" spc="-1" strike="noStrike">
              <a:solidFill>
                <a:srgbClr val="ffffff"/>
              </a:solidFill>
              <a:latin typeface="Arial"/>
            </a:endParaRPr>
          </a:p>
        </p:txBody>
      </p:sp>
      <p:sp>
        <p:nvSpPr>
          <p:cNvPr id="61"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upport for GATT / MFA</a:t>
            </a:r>
            <a:endParaRPr b="1" lang="en-US" sz="3200" spc="-1" strike="noStrike">
              <a:solidFill>
                <a:srgbClr val="fafd00"/>
              </a:solidFill>
              <a:latin typeface="Arial"/>
            </a:endParaRPr>
          </a:p>
        </p:txBody>
      </p:sp>
      <p:sp>
        <p:nvSpPr>
          <p:cNvPr id="6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Dumping</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otection of Brand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ights export subsidie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afeguard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gainst import surg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nvironment</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Used by developed countries</a:t>
            </a:r>
            <a:endParaRPr b="1" lang="en-US" sz="2800" spc="-1" strike="noStrike">
              <a:solidFill>
                <a:srgbClr val="ffffff"/>
              </a:solidFill>
              <a:latin typeface="Arial"/>
            </a:endParaRPr>
          </a:p>
        </p:txBody>
      </p:sp>
      <p:sp>
        <p:nvSpPr>
          <p:cNvPr id="64"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Average Tariff Rates</a:t>
            </a:r>
            <a:endParaRPr b="1" lang="en-US" sz="3200" spc="-1" strike="noStrike">
              <a:solidFill>
                <a:srgbClr val="fafd00"/>
              </a:solidFill>
              <a:latin typeface="Arial"/>
            </a:endParaRPr>
          </a:p>
        </p:txBody>
      </p:sp>
      <p:sp>
        <p:nvSpPr>
          <p:cNvPr id="66" name=""/>
          <p:cNvSpPr/>
          <p:nvPr/>
        </p:nvSpPr>
        <p:spPr>
          <a:xfrm>
            <a:off x="6842160" y="6400800"/>
            <a:ext cx="23050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Dickerson, K.G. (1995)</a:t>
            </a:r>
            <a:endParaRPr b="0" lang="en-US" sz="1200" spc="-1" strike="noStrike">
              <a:solidFill>
                <a:srgbClr val="000000"/>
              </a:solidFill>
              <a:latin typeface="Times New Roman"/>
            </a:endParaRPr>
          </a:p>
        </p:txBody>
      </p:sp>
      <p:pic>
        <p:nvPicPr>
          <p:cNvPr id="67" name="TARIF" descr=""/>
          <p:cNvPicPr/>
          <p:nvPr/>
        </p:nvPicPr>
        <p:blipFill>
          <a:blip r:embed="rId1"/>
          <a:stretch/>
        </p:blipFill>
        <p:spPr>
          <a:xfrm>
            <a:off x="1905120" y="831960"/>
            <a:ext cx="6019560" cy="5492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onsequences for Wool</a:t>
            </a:r>
            <a:endParaRPr b="1" lang="en-US" sz="3200" spc="-1" strike="noStrike">
              <a:solidFill>
                <a:srgbClr val="fafd00"/>
              </a:solidFill>
              <a:latin typeface="Arial"/>
            </a:endParaRPr>
          </a:p>
        </p:txBody>
      </p:sp>
      <p:sp>
        <p:nvSpPr>
          <p:cNvPr id="6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6000"/>
          </a:bodyPr>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raw wool trade not included</a:t>
            </a:r>
            <a:endParaRPr b="1" lang="en-US" sz="2800" spc="-1" strike="noStrike">
              <a:solidFill>
                <a:srgbClr val="ffffff"/>
              </a:solidFill>
              <a:latin typeface="Arial"/>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nternational trade is distorted</a:t>
            </a:r>
            <a:endParaRPr b="1" lang="en-US" sz="28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o free and fair trade</a:t>
            </a:r>
            <a:endParaRPr b="1" lang="en-US" sz="2400" spc="-1" strike="noStrike">
              <a:solidFill>
                <a:srgbClr val="ffffff"/>
              </a:solidFill>
              <a:latin typeface="Arial"/>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general textile and apparel trade is restricted</a:t>
            </a:r>
            <a:endParaRPr b="1" lang="en-US" sz="28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nsumers pay higher prices</a:t>
            </a:r>
            <a:endParaRPr b="1" lang="en-US" sz="24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ess access to cheaper imports</a:t>
            </a:r>
            <a:endParaRPr b="1" lang="en-US" sz="2400" spc="-1" strike="noStrike">
              <a:solidFill>
                <a:srgbClr val="ffffff"/>
              </a:solidFill>
              <a:latin typeface="Arial"/>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FA removal</a:t>
            </a:r>
            <a:endParaRPr b="1" lang="en-US" sz="28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crease world trade in textiles</a:t>
            </a:r>
            <a:endParaRPr b="1" lang="en-US" sz="24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etter for raw wool (input material)</a:t>
            </a:r>
            <a:endParaRPr b="1" lang="en-US" sz="2400" spc="-1" strike="noStrike">
              <a:solidFill>
                <a:srgbClr val="ffffff"/>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0"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ajor References</a:t>
            </a:r>
            <a:endParaRPr b="1" lang="en-US" sz="3200" spc="-1" strike="noStrike">
              <a:solidFill>
                <a:srgbClr val="fafd00"/>
              </a:solidFill>
              <a:latin typeface="Arial"/>
            </a:endParaRPr>
          </a:p>
        </p:txBody>
      </p:sp>
      <p:sp>
        <p:nvSpPr>
          <p:cNvPr id="72" name="PlaceHolder 2"/>
          <p:cNvSpPr>
            <a:spLocks noGrp="1"/>
          </p:cNvSpPr>
          <p:nvPr>
            <p:ph/>
          </p:nvPr>
        </p:nvSpPr>
        <p:spPr>
          <a:xfrm>
            <a:off x="1294920" y="838080"/>
            <a:ext cx="716292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ickerson, K.G. (1995), Textiles and Apparel in the Global Economy, Prentice-Hall Inc., New Jersey</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UK’s Apparel, Knitting &amp; Textiles Alliance (1990), Fair Trade in Textiles and Clothing: a Battle Still to be Won, EIU Textile Outlook International, November</a:t>
            </a:r>
            <a:endParaRPr b="1" lang="en-US" sz="2800" spc="-1" strike="noStrike">
              <a:solidFill>
                <a:srgbClr val="ffffff"/>
              </a:solidFill>
              <a:latin typeface="Arial"/>
            </a:endParaRPr>
          </a:p>
        </p:txBody>
      </p:sp>
      <p:sp>
        <p:nvSpPr>
          <p:cNvPr id="73"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9T05:07:55Z</dcterms:created>
  <dc:creator>USER</dc:creator>
  <dc:description/>
  <dc:language>en-US</dc:language>
  <cp:lastModifiedBy>Hdaily</cp:lastModifiedBy>
  <cp:lastPrinted>2000-02-29T05:28:20Z</cp:lastPrinted>
  <dcterms:modified xsi:type="dcterms:W3CDTF">2000-05-09T23:38:06Z</dcterms:modified>
  <cp:revision>5</cp:revision>
  <dc:subject/>
  <dc:title>Global Trade Restrictions in Apparel Textiles</dc:title>
</cp:coreProperties>
</file>