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C83E-A2E8-49E3-A96A-D8FC5243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briefly looks at the fundamentals of supply chain management, the benefits of supply chain management and gives some examples of successful supply chain management in the wool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of these examples, such as Fibre Direct, Woolaby, and Homestead Grazing Co. Ltd. are covered in other relevant mod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ly chain management is also known as value cha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imary focus is on customer needs.  There must be a mutual benefit for all parties and all the steps between the producer and the customer must be co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ssence supply chain management is investing in relationships built on trust and a common vision forming co-operative partne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sic technique is the elimination of non value-added steps after analysis of the system.  So detailed information and planning is required before decisions are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pply chain management focuses on the customer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also delivers a competitive advantage to the partners, delivering sustainability, flexibility and a platform for growth in the context of the global mar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allows the maximum benefits of change to be captured by the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me successful examples of the practice in the wool industry are given in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asmanian Quality Wool Ltd. involves a broker (Roberts Ltd.), Tasmanian private treaty merchants, Tasmanian Wool Company (top processor / exporter), Zwckauer Kammgan Spinnerei (German spinner), and Brax (German garment maker / retailer).  Support was also forthcoming from Tasmanian woolclassers and relevant farmer groups and State departments.  The Woolmark Company also provided support throughout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roject eliminated non value-added steps in ownership during the process, halved the lead time between shearing and garment sale, delivered a premium to growers and also led to solid forward orders for the groups product, which was medium micron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motion of the products was jointly funded over a 3 year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ther success stories for the Australian wool industry are explained in the modules “Niche Marketing: The Woolaby Experience”, “Fibre Direct”, and “New Marketing Strategie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Supply Chain Manage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rincip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pply chain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e chai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cus on customer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utual benefit for all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ust, common v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ole supply chain cov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irtual vertica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st in relationshi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-operative partner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mination of non value-added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2920" y="6507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ocus on customer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ompetitive adva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latform for grow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ximum benefits capt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99036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asmanian Quality Wool Pty. Lt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cut operating co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market premium for Tasmanian w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8 stages of ownership to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lead time hal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20% premiu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forward orders achie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7440" y="9903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Homestead Grazing Co. Lt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Woolaby &amp; E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ibre Direct &amp; Custo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overed in other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ibliography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162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partment of Industry Science and Resources (1999), Textile Clothing Footwear and Leather Industries Action Agendas discussion paper, Commonwealth of Austral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4:39:41Z</dcterms:created>
  <dc:creator>USER</dc:creator>
  <dc:description/>
  <dc:language>en-US</dc:language>
  <cp:lastModifiedBy>Hdaily</cp:lastModifiedBy>
  <cp:lastPrinted>2000-02-03T09:09:47Z</cp:lastPrinted>
  <dcterms:modified xsi:type="dcterms:W3CDTF">2000-05-05T01:30:04Z</dcterms:modified>
  <cp:revision>3</cp:revision>
  <dc:subject/>
  <dc:title>Supply Chain Management</dc:title>
</cp:coreProperties>
</file>