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E127-B92C-4309-B3DD-71568510B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62040" y="533520"/>
            <a:ext cx="3657600" cy="2743200"/>
          </a:xfrm>
          <a:prstGeom prst="rect">
            <a:avLst/>
          </a:prstGeom>
          <a:ln w="0">
            <a:noFill/>
          </a:ln>
        </p:spPr>
      </p:sp>
      <p:sp>
        <p:nvSpPr>
          <p:cNvPr id="1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how a forward contract is set up, the pitfalls, and some strategies a seller might adopt when entering such a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ward contract involves selling greasy wool in advance of the completion of the production cycle.  It is a </a:t>
            </a:r>
            <a:r>
              <a:rPr b="0" lang="en-US" sz="1200" spc="-1" strike="noStrike" u="sng">
                <a:solidFill>
                  <a:srgbClr val="000000"/>
                </a:solidFill>
                <a:uFillTx/>
                <a:latin typeface="Times New Roman"/>
              </a:rPr>
              <a:t>p</a:t>
            </a:r>
            <a:r>
              <a:rPr b="0" lang="en-GB" sz="1200" spc="-1" strike="noStrike" u="sng">
                <a:solidFill>
                  <a:srgbClr val="000000"/>
                </a:solidFill>
                <a:uFillTx/>
                <a:latin typeface="Times New Roman"/>
              </a:rPr>
              <a:t>hysical</a:t>
            </a:r>
            <a:r>
              <a:rPr b="0" lang="en-GB" sz="1200" spc="-1" strike="noStrike">
                <a:solidFill>
                  <a:srgbClr val="000000"/>
                </a:solidFill>
                <a:latin typeface="Times New Roman"/>
              </a:rPr>
              <a:t> forward contract, involving the actual or physical delivery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grower may sit down with the wool buyer and examine the historical records of the clip.  Woolgrowers will have a fair idea of what to expect that year based on these records and their knowledge of the production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is stage, the delivery specifications are agreed and the delivery price is determined.  This is called the base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me of delivery can also be negotiated.  Generally, this interval is 3 months, but contracts have been known to be taken 3 years out, although this is r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 clip specifications are determined by testing the wool after delivery, based on core and grab samp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l price is an adjustment of the base price, according to a Premium and Discounts (P&amp;D) Schedule.  The P&amp;D Schedule is part of the original contract between the buyer and the se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ome cases, the base price for a contract may be appealing, but the P&amp;D schedule may impose relatively harsh penalties for non-conformance.  This is something to watch out for, before signing the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ward contracts are not standard as for Futures contracts, therefore there is leeway to tailor the contract to the individual needs of the buyer (e.g. clip preparation procedures), or sell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vantages of using a forward contract as opposed to other price risk management (PRM) technique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no up-front finance required for a forward contract.  Futures require funds for “margin calls”.  For more information see the “Future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is sold before it is shorn.  It is not sitting in a broker’s store at any time, tying up capit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the possibility of enhanced feedback from your customer / buyer.  There is certainly a more direct relationship between the woolgrower and the wool processor, especially if the buyer is a proces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ward contract is flexible, not fixed, as for futures contracts.  For example, the quantity of wool delivered could be any amou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ome other issues worth mentioning as far as forward contracts are concer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growers must realise that they have to accept responsibility for the selling decision.  They have to be aware of what their wool is worth and what it costs to produce it.  With this information they can set a realistic price for their wool.  This is fundament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sales are secure.  Woolgrowers can be assured they will be paid because of the checks and balances in place.  Forward contracts are not as secure, but this depends on who you are dealing with.  Use your judgement and deal with a reputable dea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cess to relevant, timely information is essential.  The seller must know the market at the time the contract is sig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the negotiation of contracts is largely done through fax or e-mail.  Sellers must have access to one at lea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 1: POTENTIAL BUYERS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you are doing your own marketing.  You could use an agent, or your wool broker is likely to offer the service to identify potential buy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 2: </a:t>
            </a:r>
            <a:r>
              <a:rPr b="0" lang="en-US" sz="1200" spc="-1" strike="noStrike">
                <a:solidFill>
                  <a:srgbClr val="000000"/>
                </a:solidFill>
                <a:latin typeface="Times New Roman"/>
              </a:rPr>
              <a:t>WOOLGROWER COMPLETES OFFER DOCU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od records are essential, listing micron, vegetable matter base, staple strength and staple length from previous years.  A summary sheet is usually part of the offer documentation.  This is your Clip Profi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SEND OUT CLIP PROFILE &amp; FORWARD CONTRACT REQU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quest then needs to be sent to the buyer, requesting a Forward Contract, with the clean or greasy price clearly identified and other information provided like delivery time et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OFFERS RETUR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fers should come back based on your request for a Forward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OFFERS ANALY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ers must now be analysed to identify the most suitable one.  The b</a:t>
            </a:r>
            <a:r>
              <a:rPr b="0" lang="en-GB" sz="1200" spc="-1" strike="noStrike">
                <a:solidFill>
                  <a:srgbClr val="000000"/>
                </a:solidFill>
                <a:latin typeface="Times New Roman"/>
              </a:rPr>
              <a:t>ase price given will reflect the Clip Profile you have supplied, but you may find that there is a variation in the values for each base price, for example the base prices may be based on slightly different diameter values, perhaps reflecting different judgements on the part of buyers about what you will ultimately gr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if you can satisfy ranges for specifications in the contract.  The highest base price may not necessarily the best when taking into consideration the range in the Premiums and Discounts (P&amp;D) schedule.  You may like to compare the P&amp;D schedule to that in the auction market (information available from the Australian Wool Exchange (AWEX)).  You may like to use a “What if” analy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ever way you do it, you must end up with a view as to which offer is the best for you.  It is your responsibility.  An agent may also be helpful in this case for ad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6:  NOTIFY SUCCESSFUL BUYER,  SIGN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very important, the contract must be signed with the successful buyer.  You must remember that you are entering into a legally enforceable and binding contract.  It is likely that l</a:t>
            </a:r>
            <a:r>
              <a:rPr b="0" lang="en-GB" sz="1200" spc="-1" strike="noStrike">
                <a:solidFill>
                  <a:srgbClr val="000000"/>
                </a:solidFill>
                <a:latin typeface="Times New Roman"/>
              </a:rPr>
              <a:t>egal action will ensue if you don’t deliver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ill be a clause in the contract called “Force Majeur”.  This is also standard in contracts through Private Treaty merchants.  It means that if there is an Act of God (e.g. floods, fire etc.) that prevents the contract being fulfilled (wool not delivered), then this is outside the provisions of the contract and no legal action will ensue because of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ontract will also be other Conditions, for example who pays costs (freight etc.) and when will you get paid (most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7:  WOOL SUPPLIED TO CONTRACT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ormal course of events, the contract is fulfilled when the wool is supplied to the contract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8:  CLIP SAMPLED &amp; TE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lip will be sampled and tested.  You should ensure that the test regime is such that you get the test results in writing and that the tests are performed to IWTO regulations.  You should get results for everything, staple length and staple strength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 9: </a:t>
            </a:r>
            <a:r>
              <a:rPr b="0" lang="en-US" sz="1200" spc="-1" strike="noStrike">
                <a:solidFill>
                  <a:srgbClr val="000000"/>
                </a:solidFill>
                <a:latin typeface="Times New Roman"/>
              </a:rPr>
              <a:t>WOOLGROWER RECEIVES ACCOUNT S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you will get paid, according to the Conditions in the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0: FEEDBACK OB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should receive some feedback.  This is difficult to write into contracts, but buyers should provide this feedback, as it is important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1: PLANNING FOR NEXT CLIP MOD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fter all that you can start planning for the next clip, perhaps modifying your planning based on the feedback you have recei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ing into forward contracts, you need to be looking at the trends in the market.  Historically, wool cycles every 18 months.  Are you in an upward trending market, or downward trending?  Get to know the market that you are in.  Remember that the Eastern Market Indicator (EMI) is a general market indicator only.  You need as much detailed information as you can g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try and hang out for the top of the market.  You will only know the top when it has passed.  Don’t let emotions and hopes rule your hea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strategy in a rising market is </a:t>
            </a:r>
            <a:r>
              <a:rPr b="0" lang="en-GB" sz="1200" spc="-1" strike="noStrike" u="sng">
                <a:solidFill>
                  <a:srgbClr val="000000"/>
                </a:solidFill>
                <a:uFillTx/>
                <a:latin typeface="Times New Roman"/>
              </a:rPr>
              <a:t>scale selling</a:t>
            </a:r>
            <a:r>
              <a:rPr b="0" lang="en-GB" sz="1200" spc="-1" strike="noStrike">
                <a:solidFill>
                  <a:srgbClr val="000000"/>
                </a:solidFill>
                <a:latin typeface="Times New Roman"/>
              </a:rPr>
              <a:t>.  Forward sell some of the clip as the market trends up, if it keeps trending up, sell some m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ly the size of forward contracts is about 25-35 bales minimum (about 5000kg greasy, or 3000 kg clean).  This roughly corresponds to a single futures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ly you must be able to recognise good value.  Know what your wool is worth and what it takes to produce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ke home message if you are going to get into forward contracts, is that you must accept responsibility for marketing your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point to remember is that you should keep the buyer informed of progress and any other issues that may impact on the final clip.  The last thing you want is for them to find the clip is tender when it is delivered.  They may be able to make allowances if they have time to adju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the whole approach takes discipline and perseverance, but should ultimately be rewar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Contracts</a:t>
            </a:r>
            <a:endParaRPr b="1" lang="en-US" sz="3200" spc="-1" strike="noStrike">
              <a:solidFill>
                <a:srgbClr val="fafd00"/>
              </a:solidFill>
              <a:latin typeface="Arial"/>
            </a:endParaRPr>
          </a:p>
        </p:txBody>
      </p:sp>
      <p:sp>
        <p:nvSpPr>
          <p:cNvPr id="50"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Geoff Honey, </a:t>
            </a:r>
            <a:r>
              <a:rPr b="1" lang="en-AU" sz="1600" spc="-1" strike="noStrike">
                <a:solidFill>
                  <a:srgbClr val="ffffff"/>
                </a:solidFill>
                <a:latin typeface="Arial"/>
              </a:rPr>
              <a:t>Agricultural Risk Management Services.</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is a forward contract?</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 specifications agreed </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last year’s clip results</a:t>
            </a:r>
            <a:endParaRPr b="1" lang="en-US" sz="24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 determined at contract negotiation </a:t>
            </a:r>
            <a:r>
              <a:rPr b="1" lang="en-US" sz="2400" spc="-1" strike="noStrike">
                <a:solidFill>
                  <a:srgbClr val="ffffff"/>
                </a:solidFill>
                <a:latin typeface="Arial"/>
              </a:rPr>
              <a:t>(base price)</a:t>
            </a:r>
            <a:endParaRPr b="1" lang="en-US" sz="24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ivery in 3 months to 3 years (rare)</a:t>
            </a:r>
            <a:endParaRPr b="1" lang="en-US" sz="28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price</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p tested after delivery</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miums &amp; Discounts schedule</a:t>
            </a:r>
            <a:endParaRPr b="1" lang="en-US" sz="24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 designed to specific requirements</a:t>
            </a:r>
            <a:endParaRPr b="1" lang="en-US" sz="2800" spc="-1" strike="noStrike">
              <a:solidFill>
                <a:srgbClr val="ffffff"/>
              </a:solidFill>
              <a:latin typeface="Arial"/>
            </a:endParaRPr>
          </a:p>
        </p:txBody>
      </p:sp>
      <p:sp>
        <p:nvSpPr>
          <p:cNvPr id="61"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y use a forward contract?</a:t>
            </a:r>
            <a:endParaRPr b="1" lang="en-US" sz="3200" spc="-1" strike="noStrike">
              <a:solidFill>
                <a:srgbClr val="fafd00"/>
              </a:solidFill>
              <a:latin typeface="Arial"/>
            </a:endParaRPr>
          </a:p>
        </p:txBody>
      </p:sp>
      <p:sp>
        <p:nvSpPr>
          <p:cNvPr id="71"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finance requir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capital tied up in wool awaiting sale in brokers stor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edback,  start of long term relationship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 tailor-made to suit your circumstances</a:t>
            </a:r>
            <a:endParaRPr b="1" lang="en-US" sz="2800" spc="-1" strike="noStrike">
              <a:solidFill>
                <a:srgbClr val="ffffff"/>
              </a:solidFill>
              <a:latin typeface="Arial"/>
            </a:endParaRPr>
          </a:p>
        </p:txBody>
      </p:sp>
      <p:sp>
        <p:nvSpPr>
          <p:cNvPr id="72"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ther issues</a:t>
            </a:r>
            <a:endParaRPr b="1" lang="en-US" sz="3200" spc="-1" strike="noStrike">
              <a:solidFill>
                <a:srgbClr val="fafd00"/>
              </a:solidFill>
              <a:latin typeface="Arial"/>
            </a:endParaRPr>
          </a:p>
        </p:txBody>
      </p:sp>
      <p:sp>
        <p:nvSpPr>
          <p:cNvPr id="8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must accept responsibil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ecur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ailed planning requir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evant, timely information requir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x or email</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Forwards</a:t>
            </a:r>
            <a:endParaRPr b="1" lang="en-US" sz="3200" spc="-1" strike="noStrike">
              <a:solidFill>
                <a:srgbClr val="fafd00"/>
              </a:solidFill>
              <a:latin typeface="Arial"/>
            </a:endParaRPr>
          </a:p>
        </p:txBody>
      </p:sp>
      <p:sp>
        <p:nvSpPr>
          <p:cNvPr id="9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1</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TENTIAL BUYERS IDENTIFIED</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2</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COMPLETES OFFER DOCUMENTATION</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3</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D OUT CLIP PROFILE &amp; FORWARD CONTRACT REQUEST</a:t>
            </a:r>
            <a:endParaRPr b="1" lang="en-US" sz="2800" spc="-1" strike="noStrike">
              <a:solidFill>
                <a:srgbClr val="ffffff"/>
              </a:solidFill>
              <a:latin typeface="Arial"/>
            </a:endParaRPr>
          </a:p>
        </p:txBody>
      </p:sp>
      <p:sp>
        <p:nvSpPr>
          <p:cNvPr id="94"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Forwards</a:t>
            </a:r>
            <a:endParaRPr b="1" lang="en-US" sz="3200" spc="-1" strike="noStrike">
              <a:solidFill>
                <a:srgbClr val="fafd00"/>
              </a:solidFill>
              <a:latin typeface="Arial"/>
            </a:endParaRPr>
          </a:p>
        </p:txBody>
      </p:sp>
      <p:sp>
        <p:nvSpPr>
          <p:cNvPr id="10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4</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FERS RETURNED</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5</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FERS ANALY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ication of most suitable off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the premium/discount schedu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ure that the most suitable offer reflects commercial pricing</a:t>
            </a:r>
            <a:endParaRPr b="1" lang="en-US" sz="2400" spc="-1" strike="noStrike">
              <a:solidFill>
                <a:srgbClr val="ffffff"/>
              </a:solidFill>
              <a:latin typeface="Arial"/>
            </a:endParaRPr>
          </a:p>
        </p:txBody>
      </p:sp>
      <p:sp>
        <p:nvSpPr>
          <p:cNvPr id="105"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Forwards</a:t>
            </a:r>
            <a:endParaRPr b="1" lang="en-US" sz="3200" spc="-1" strike="noStrike">
              <a:solidFill>
                <a:srgbClr val="fafd00"/>
              </a:solidFill>
              <a:latin typeface="Arial"/>
            </a:endParaRPr>
          </a:p>
        </p:txBody>
      </p:sp>
      <p:sp>
        <p:nvSpPr>
          <p:cNvPr id="11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6</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FY SUCCESSFUL BUYER,  SIGN CONTRA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Force Majeur</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7</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 SUPPLIED TO CONTRACT SPECIFICATIONS</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8</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P SAMPLED &amp; TESTED</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6"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Forwards</a:t>
            </a:r>
            <a:endParaRPr b="1" lang="en-US" sz="3200" spc="-1" strike="noStrike">
              <a:solidFill>
                <a:srgbClr val="fafd00"/>
              </a:solidFill>
              <a:latin typeface="Arial"/>
            </a:endParaRPr>
          </a:p>
        </p:txBody>
      </p:sp>
      <p:sp>
        <p:nvSpPr>
          <p:cNvPr id="12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9</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RECEIVES ACCOUNT SA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1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EDBACK OBTAIN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11</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 FOR NEXT CLIP MODIFIED</a:t>
            </a:r>
            <a:endParaRPr b="1" lang="en-US" sz="2800" spc="-1" strike="noStrike">
              <a:solidFill>
                <a:srgbClr val="ffffff"/>
              </a:solidFill>
              <a:latin typeface="Arial"/>
            </a:endParaRPr>
          </a:p>
        </p:txBody>
      </p:sp>
      <p:sp>
        <p:nvSpPr>
          <p:cNvPr id="127"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Contract Strategies</a:t>
            </a:r>
            <a:endParaRPr b="1" lang="en-US" sz="3200" spc="-1" strike="noStrike">
              <a:solidFill>
                <a:srgbClr val="fafd00"/>
              </a:solidFill>
              <a:latin typeface="Arial"/>
            </a:endParaRPr>
          </a:p>
        </p:txBody>
      </p:sp>
      <p:sp>
        <p:nvSpPr>
          <p:cNvPr id="13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nd in marke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ze of contra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ake Home Message</a:t>
            </a:r>
            <a:endParaRPr b="1" lang="en-US" sz="3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s accept responsibilit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opt marketing philosoph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ep buyer informed of progres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ipline</a:t>
            </a:r>
            <a:endParaRPr b="1" lang="en-US" sz="2800" spc="-1" strike="noStrike">
              <a:solidFill>
                <a:srgbClr val="ffffff"/>
              </a:solidFill>
              <a:latin typeface="Arial"/>
            </a:endParaRPr>
          </a:p>
        </p:txBody>
      </p:sp>
      <p:sp>
        <p:nvSpPr>
          <p:cNvPr id="138"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23:45:58Z</dcterms:created>
  <dc:creator>USER</dc:creator>
  <dc:description/>
  <dc:language>en-US</dc:language>
  <cp:lastModifiedBy>Hdaily</cp:lastModifiedBy>
  <cp:lastPrinted>2000-02-03T09:09:47Z</cp:lastPrinted>
  <dcterms:modified xsi:type="dcterms:W3CDTF">2000-04-04T05:12:36Z</dcterms:modified>
  <cp:revision>5</cp:revision>
  <dc:subject/>
  <dc:title>Forward Contracts</dc:title>
</cp:coreProperties>
</file>