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86CD-5DCD-4F40-93C8-58DFA8CA1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assesses four ways (market share, price premiums, real price and total consumption) that may be used to measure the long-term performance of the marketing fun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1, Executive Summary, Conclusions and Recommendation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cent Wool Taskforce also had something to say about price premiums.  The demand side of price premiums is highligh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ce premiums aren’t granted, they must be earned from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must be noted that as far as increasing price premiums are concerned, promotion is irrelevant.  </a:t>
            </a:r>
            <a:r>
              <a:rPr b="0" lang="en-US" sz="1200" spc="-1" strike="noStrike">
                <a:solidFill>
                  <a:srgbClr val="000000"/>
                </a:solidFill>
                <a:latin typeface="Times New Roman"/>
              </a:rPr>
              <a:t>Promotion cannot affect the costs of other fibres, so price premiums are irrelevant as a success indicator for promo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562040" y="533520"/>
            <a:ext cx="3657600" cy="2743200"/>
          </a:xfrm>
          <a:prstGeom prst="rect">
            <a:avLst/>
          </a:prstGeom>
          <a:ln w="0">
            <a:noFill/>
          </a:ln>
        </p:spPr>
      </p:sp>
      <p:sp>
        <p:nvSpPr>
          <p:cNvPr id="1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1, Executive Summary, Conclusions and Recommendations, Commonwealth of Australia, Cha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al price for wool has been falling over a long time period.  This slide illustrates this point.  23</a:t>
            </a:r>
            <a:r>
              <a:rPr b="0" lang="en-AU" sz="1200" spc="-1" strike="noStrike">
                <a:solidFill>
                  <a:srgbClr val="000000"/>
                </a:solidFill>
                <a:latin typeface="Symbol"/>
                <a:ea typeface="Symbol"/>
              </a:rPr>
              <a:t></a:t>
            </a:r>
            <a:r>
              <a:rPr b="0" lang="en-AU" sz="1200" spc="-1" strike="noStrike">
                <a:solidFill>
                  <a:srgbClr val="000000"/>
                </a:solidFill>
                <a:latin typeface="Times New Roman"/>
              </a:rPr>
              <a:t>m prices have been falling at twice the rate of 19</a:t>
            </a:r>
            <a:r>
              <a:rPr b="0" lang="en-AU" sz="1200" spc="-1" strike="noStrike">
                <a:solidFill>
                  <a:srgbClr val="000000"/>
                </a:solidFill>
                <a:latin typeface="Symbol"/>
                <a:ea typeface="Symbol"/>
              </a:rPr>
              <a:t></a:t>
            </a:r>
            <a:r>
              <a:rPr b="0" lang="en-AU" sz="1200" spc="-1" strike="noStrike">
                <a:solidFill>
                  <a:srgbClr val="000000"/>
                </a:solidFill>
                <a:latin typeface="Times New Roman"/>
              </a:rPr>
              <a:t>m prices since 197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alling real price is not necessarily a bad thing on its own, as long as it reflects higher productivity, eg. personal computers, electronic equipment.  A proportion of the fall featured in this slide could be accounted for by increased productivity.  However, it is unlikely that the entire fall is accounted for by this factor considering the performance of wool productivity against other agricultural commod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all in real price has been driven by competition from synthetic fibres.  The increase in productivity during this time period hasn’t been enough to off-set the falling real price.  It is unlikely to be enough </a:t>
            </a:r>
            <a:r>
              <a:rPr b="0" i="1" lang="en-AU" sz="1200" spc="-1" strike="noStrike">
                <a:solidFill>
                  <a:srgbClr val="000000"/>
                </a:solidFill>
                <a:latin typeface="Times New Roman"/>
              </a:rPr>
              <a:t>per se</a:t>
            </a:r>
            <a:r>
              <a:rPr b="0" lang="en-AU" sz="1200" spc="-1" strike="noStrike">
                <a:solidFill>
                  <a:srgbClr val="000000"/>
                </a:solidFill>
                <a:latin typeface="Times New Roman"/>
              </a:rPr>
              <a:t> to off-set the continued falling real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562040" y="533520"/>
            <a:ext cx="3657600" cy="2743200"/>
          </a:xfrm>
          <a:prstGeom prst="rect">
            <a:avLst/>
          </a:prstGeom>
          <a:ln w="0">
            <a:noFill/>
          </a:ln>
        </p:spPr>
      </p:sp>
      <p:sp>
        <p:nvSpPr>
          <p:cNvPr id="1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ple-Brown, J. (1999), Submission to the Wool Industry Task Fo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matrix whereby market share and real price are feat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does wool rate on this matrix?  Market share is (slowly) falling in all market segments (fine to medium to coarse wool).  Real prices are being sustained longer (but still falling) in certain market segments (finer wool).  So, the news isn’t as bad for some, depending on the segment of the wool market they are in.  However, these scenarios could be seen as unambiguously bad (falling market share, falling real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must find a way to arrest the decline in real price, either through fibre properties or quality and move into the segment featuring rising real price and lower market share (which will happen due to supply limitations).  The right hand side of the matrix is probably out of reach considering the environmental restraints on suppl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te, B. (1998), </a:t>
            </a:r>
            <a:r>
              <a:rPr b="0" i="1" lang="en-AU" sz="1200" spc="-1" strike="noStrike">
                <a:solidFill>
                  <a:srgbClr val="000000"/>
                </a:solidFill>
                <a:latin typeface="Times New Roman"/>
              </a:rPr>
              <a:t>Wool at the Crossroads?</a:t>
            </a:r>
            <a:r>
              <a:rPr b="0" lang="en-AU" sz="1200" spc="-1" strike="noStrike">
                <a:solidFill>
                  <a:srgbClr val="000000"/>
                </a:solidFill>
                <a:latin typeface="Times New Roman"/>
              </a:rPr>
              <a:t>,</a:t>
            </a:r>
            <a:r>
              <a:rPr b="0" lang="en-GB" sz="1200" spc="-1" strike="noStrike">
                <a:solidFill>
                  <a:srgbClr val="000000"/>
                </a:solidFill>
                <a:latin typeface="Times New Roman"/>
              </a:rPr>
              <a:t> </a:t>
            </a:r>
            <a:r>
              <a:rPr b="0" lang="en-AU" sz="1200" spc="-1" strike="noStrike">
                <a:solidFill>
                  <a:srgbClr val="000000"/>
                </a:solidFill>
                <a:latin typeface="Times New Roman"/>
              </a:rPr>
              <a:t>International Textile Manufacturers Federation (ITMF) Conference , Melbourne 21 October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nor, S. (1997), Wool Marketing module, Access to the Expert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tson, A. (1997 / 98), </a:t>
            </a:r>
            <a:r>
              <a:rPr b="0" lang="en-US" sz="1200" spc="-1" strike="noStrike">
                <a:solidFill>
                  <a:srgbClr val="000000"/>
                </a:solidFill>
                <a:latin typeface="Times New Roman"/>
              </a:rPr>
              <a:t>Promotion Principles, Wool Marketing lectures, CRC for PQ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views on the worth of sales volume are featured on this slide.  The first two views are from the marketing organisation of the Australian wool industry IWS, (now The Woolmark Company).   They indicate that increases in volumes of wool sold should be used as a measure of marketing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s would seem to agree with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F909-5D26-448A-8944-8F55D1C43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562040" y="533520"/>
            <a:ext cx="3657600" cy="2743200"/>
          </a:xfrm>
          <a:prstGeom prst="rect">
            <a:avLst/>
          </a:prstGeom>
          <a:ln w="0">
            <a:noFill/>
          </a:ln>
        </p:spPr>
      </p:sp>
      <p:sp>
        <p:nvSpPr>
          <p:cNvPr id="1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ndicates that the volume of wool consumed in 5 key markets has been trending downwards.  The total figure has been trending downwards at about 4.5 million kg per year over this period.  The bright spot is US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difficult to tell from these figures whether promotion has been unsuccessful or not.  The downward trend may be due to a general downturn in the global economy, the fibre to fabric ratio may have chan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turning to the slide which shows the market share for various fibre classes over time in the EEC market, we can see that wool’s market share in the EEC (which includes Germany, Italy and France) was fairly stable in the 1991-4 time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it might be concluded that the drop in volume in these countries was due to a general downturn in fibre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emonstrates the difficulty with using sales volume as a performance measurement.  Is it sales volume for a certain new product?  What about total volume of sales, or total consum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562040" y="533520"/>
            <a:ext cx="3657600" cy="2743200"/>
          </a:xfrm>
          <a:prstGeom prst="rect">
            <a:avLst/>
          </a:prstGeom>
          <a:ln w="0">
            <a:noFill/>
          </a:ln>
        </p:spPr>
      </p:sp>
      <p:sp>
        <p:nvSpPr>
          <p:cNvPr id="1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hat is the best way to measure the long-term marketing performance of the wool industr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market share of Australian wool in the global apparel fibre market will decline over time if the country can’t produce enough fibre to satisfy demand.  This is likely to be the case due to environmental conditions and competition for land usage with other agricultural products.  Wool market share of the total fibre market is projected to be about 3.5%  by 2002.</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Price premiums are being sustained for some segments of the wool market.  These premiums are sustainable given the limitations in fibre technology, and consumer needs.  However, there is no control over the progress of competing fibres.  Processing technology is improving all the time, and this is likely to ameliorate any increases in raw material prices for synthetic fibres in the long term. The advent of new synthetic fibres or, new cotton technology would also threaten these price premiums.  Therefore, while price premiums may be sustained, the real price of wool is likely to keep falling over time despite any price premiu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only opportunity to improve the price situation is by meeting consumer demands more closely.  Wool must regain the consum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argument for using increased sales volume to measure marketing success also has some merit.  However, the outcome really must be increases in total consumption of wool fibre, rather than increases in volume for certain market segments.  Otherwise, one wool product is just being substituted for another and the size of the market is not being expanded.  However, there appears to be a limit to this expansion past the limitations of suppl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role of new product development and R&amp;D is vital in improving real price and increasing total s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eference:  Morris, D. and Stogdon, A. (1996), World Markets for Wool Forecasts to 2000, Special Report No. 2642, Textiles Intelligence Ltd., page 52.</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chewe, C.D. &amp; Hiam, A. (1998) The Portable MBA in Marketing, John Wiley &amp; Sons Inc. New Y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 share is commonly used in marketing to assess how an organisation is doing relative to its competi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found that for companies manufacturing goods, the return on investment varies proportionally with market share.  Bigger organisations benefit from lower unit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remember that market share is no guarantee of future success, it is simply a measure of past purchases.  If the competition starts doing better, you will lose future purchases and your market share will dr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istorical data from Department of Primary Industries and Energy (1988) Government Support of Wool Promotion, Report of the Wool Promotion Review Committee,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rket share of wool has declined over time for various reasons.  This is obvious if we examine the total fibre market.  However, there is a large variation in market share depending on the type of apparel, or the world reg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rimary reason is the advent of more competition in the fibre market.  Historically, the only real competitor was cotton.  Whatever clothing need that cotton didn’t fulfill was met by wool, except for some luxury and little-used fibres.  Interestingly at this stage the perception of cotton was atrocious, along the lines of it being a hard, scratchy, common fibre.  Wool was a fairly common but luxury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vent of synthetic fibres altered the market share of other fibres.  Currently, cotton and synthetics each occupy about 40% of the apparel fibre market, while wool has about 1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line for wool in terms of market share has not been as dramatic in the apparel fibre market compared to the total fibr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synthetics, the apparel market share would have been about 18%, with cotton having about 80% of the market (other fibres were only about 2%).  Arguably, cotton has suffered more than wool in terms of loss of market share since the introduction of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as the historical figures above show, vital market segments for wool have been hard hit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White, B. (1998), </a:t>
            </a:r>
            <a:r>
              <a:rPr b="0" lang="en-AU" sz="1200" spc="-1" strike="noStrike">
                <a:solidFill>
                  <a:srgbClr val="000000"/>
                </a:solidFill>
                <a:latin typeface="Times New Roman"/>
              </a:rPr>
              <a:t>Wool at the Crossroads?,</a:t>
            </a:r>
            <a:r>
              <a:rPr b="0" lang="en-GB" sz="1200" spc="-1" strike="noStrike">
                <a:solidFill>
                  <a:srgbClr val="000000"/>
                </a:solidFill>
                <a:latin typeface="Times New Roman"/>
              </a:rPr>
              <a:t> </a:t>
            </a:r>
            <a:r>
              <a:rPr b="0" lang="en-AU" sz="1200" spc="-1" strike="noStrike">
                <a:solidFill>
                  <a:srgbClr val="000000"/>
                </a:solidFill>
                <a:latin typeface="Times New Roman"/>
              </a:rPr>
              <a:t>International Textile Manufacturers Federation (ITMF) Conference , Melbourne 21 October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hite, B. (1998), Wool Marketing Lecture serie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gional basis of market share is illustrated in this slide, showing the difference between three main customer reg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rguably, the cultural differences between these countries, as well as climate are causing these differences.  It should also be remembered that the United States of America (US) is one of the world’s biggest cotton growers and us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e Land (1998), Interview with Colly Cotton MD, Mr. David Farley, 20 August, Rural Press, p.1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share is well recognised by the cotton industry as an indicator of performance in the market along with real price, annual production and world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1970, cotton’s market share has fallen 1% every 5 years, due to competition from lower priced synthetic fibres and also a European tariff on natural fibres which stands at 33%.  The projection is that market share would be about 39% in 2008 if this erosion continues.  Some in the cotton industry fear that cotton could face the same future as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reat of synthetic fibres has been fought since the 1960’s by the cotton industry through investment by growers and cotton textile importers in the United States in such organisations as Cotton Inc. and Cotton Council International (CC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tton Inc. is a collective organisation funded by United States cotton growers and cotton textile importers.  The activities of this organisation are cited as the reason for the resurgence of the cotton industry, especially in the United States mark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market share for various fibre classes over time in the EEC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pparel market in this case is defined as menswear, womenswear, knitwear, underwear and socks.  Arguably this grouping closely reflects the appare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 this time period, the market share of each fibre class only varied a couple of percentage points.  This seems quite stable, but each percentage point represents about 20 million kg (between 2 and 3% of the Australian wool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comparison, one percentage point in the world apparel market represents about 250 million kg (~30% of the Australian wool clip), one percentage point in the combined EEC, Japan and US apparel fibre markets is about 60 million kg (~8% of the the Australian wool clip).  So small movements in market share would have a significant effect on deman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nteresting to see that the addition of trendlines shows a positive story for wool in the EEC market over this short time perio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 page 6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te, B. (1998), </a:t>
            </a:r>
            <a:r>
              <a:rPr b="0" i="1" lang="en-AU" sz="1200" spc="-1" strike="noStrike">
                <a:solidFill>
                  <a:srgbClr val="000000"/>
                </a:solidFill>
                <a:latin typeface="Times New Roman"/>
              </a:rPr>
              <a:t>Wool at the Crossroads?</a:t>
            </a:r>
            <a:r>
              <a:rPr b="0" lang="en-AU" sz="1200" spc="-1" strike="noStrike">
                <a:solidFill>
                  <a:srgbClr val="000000"/>
                </a:solidFill>
                <a:latin typeface="Times New Roman"/>
              </a:rPr>
              <a:t>,</a:t>
            </a:r>
            <a:r>
              <a:rPr b="0" lang="en-GB" sz="1200" spc="-1" strike="noStrike">
                <a:solidFill>
                  <a:srgbClr val="000000"/>
                </a:solidFill>
                <a:latin typeface="Times New Roman"/>
              </a:rPr>
              <a:t> </a:t>
            </a:r>
            <a:r>
              <a:rPr b="0" lang="en-AU" sz="1200" spc="-1" strike="noStrike">
                <a:solidFill>
                  <a:srgbClr val="000000"/>
                </a:solidFill>
                <a:latin typeface="Times New Roman"/>
              </a:rPr>
              <a:t>International Textile Manufacturers Federation (ITMF) Conference , Melbourne 21 October 1998, page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quotes show various aspects of the argument about market share.  They argue that some sort of limit on market share exists for wool, whether in certain market segments, or in a global sen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imit appears to come from both the demand and supply sides of the equ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son, J. (1996), Extra promotion needed to build market share, Wool, July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ridan, B. (1999), July Article?, The Land, Rural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quotes contrast different approaches that may be taken to build market share, presumably to the maximum possible limit of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approach, from IWS at that time, favours promotion, while another (responding to the Wool Future Directions Taskforce) favours new product development, presumably with the promotion required for new products attac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s would say that m</a:t>
            </a:r>
            <a:r>
              <a:rPr b="0" lang="en-US" sz="1200" spc="-1" strike="noStrike">
                <a:solidFill>
                  <a:srgbClr val="000000"/>
                </a:solidFill>
                <a:latin typeface="Times New Roman"/>
              </a:rPr>
              <a:t>arket share is completely irrelevant, since the costs of production, and supply determine output, and hence market share.  Promotion cannot affect the major influences impinging on the world textile mark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562040" y="533520"/>
            <a:ext cx="3657600" cy="2743200"/>
          </a:xfrm>
          <a:prstGeom prst="rect">
            <a:avLst/>
          </a:prstGeom>
          <a:ln w="0">
            <a:noFill/>
          </a:ln>
        </p:spPr>
      </p:sp>
      <p:sp>
        <p:nvSpPr>
          <p:cNvPr id="1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a:t>
            </a:r>
            <a:r>
              <a:rPr b="0" lang="en-GB" sz="1100" spc="-1" strike="noStrike">
                <a:solidFill>
                  <a:srgbClr val="000000"/>
                </a:solidFill>
                <a:latin typeface="Times New Roman"/>
              </a:rPr>
              <a:t>Stoeckel, A., Borrel, B. and Quirke, D. (1990), Wool into the 21st Century, Implications for Marketing and Profitability, Centre for International Economics, Canberr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slide illustrates that the price paid for wool is at a premium relative to competing fibres.  This was also the case before the introduction of synthetic fibres, when cotton was the main competito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price premium varies over time, but sudden increases in the price relativities are not sustainable, as fibre substitution takes effect in the medium ter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question is whether price premium is an effective measurement of marketing performanc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growers specialising in fine and superfine wool would argue that the price premium for their wool will always be there over other segments of the wool market.  This is probably so given the current limitations on spinning technology, and consumer preferences for lightweight, comfortable clothing.  These are long-term sustained trends in the apparel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lso, as long as people keep wanting to buy luxury suiting goods (men and women), there will be a price premium for finer wool.  These price premiums have existed in the wool market for some time, and should continu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n interesting development is Optim™, which converts medium diameter wool to fine wool.  This may lead to direct competition and some price erosion for the fine wool market.  The extra processing costs for Optim™ fibre mean that this modified fibre will most likely be targeted at the fine wool market secto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 far, micro-fibres and “Shingosen” type fibres have come close to matching wool fibre in these applications, but wool is still offering something more, be it image or performance, in these marke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rice premiums in the medium micron markets have been eroded, and will probably continue to be eroded.</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ment of Marketing Performanc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ture Directions Taskforce</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Price premiums can be sustained in the face of cost disadvantages if, and only if, quality attributes are relevant and sufficiently well recognised by consum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price premiums are rarely permanent”</a:t>
            </a:r>
            <a:endParaRPr b="1" lang="en-US" sz="2800" spc="-1" strike="noStrike">
              <a:solidFill>
                <a:srgbClr val="ffffff"/>
              </a:solidFill>
              <a:latin typeface="Arial"/>
            </a:endParaRPr>
          </a:p>
        </p:txBody>
      </p:sp>
      <p:sp>
        <p:nvSpPr>
          <p:cNvPr id="78" name=""/>
          <p:cNvSpPr/>
          <p:nvPr/>
        </p:nvSpPr>
        <p:spPr>
          <a:xfrm>
            <a:off x="6396480" y="6324480"/>
            <a:ext cx="260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al Price</a:t>
            </a:r>
            <a:endParaRPr b="1" lang="en-US" sz="3200" spc="-1" strike="noStrike">
              <a:solidFill>
                <a:srgbClr val="fafd00"/>
              </a:solidFill>
              <a:latin typeface="Arial"/>
            </a:endParaRPr>
          </a:p>
        </p:txBody>
      </p:sp>
      <p:pic>
        <p:nvPicPr>
          <p:cNvPr id="80" name="c3" descr=""/>
          <p:cNvPicPr/>
          <p:nvPr/>
        </p:nvPicPr>
        <p:blipFill>
          <a:blip r:embed="rId1"/>
          <a:stretch/>
        </p:blipFill>
        <p:spPr>
          <a:xfrm>
            <a:off x="1219320" y="1006560"/>
            <a:ext cx="7848360" cy="4708440"/>
          </a:xfrm>
          <a:prstGeom prst="rect">
            <a:avLst/>
          </a:prstGeom>
          <a:ln w="0">
            <a:noFill/>
          </a:ln>
        </p:spPr>
      </p:pic>
      <p:sp>
        <p:nvSpPr>
          <p:cNvPr id="81" name=""/>
          <p:cNvSpPr/>
          <p:nvPr/>
        </p:nvSpPr>
        <p:spPr>
          <a:xfrm>
            <a:off x="6396480" y="6324480"/>
            <a:ext cx="260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ccess Indicators</a:t>
            </a:r>
            <a:endParaRPr b="1" lang="en-US" sz="3200" spc="-1" strike="noStrike">
              <a:solidFill>
                <a:srgbClr val="fafd00"/>
              </a:solidFill>
              <a:latin typeface="Arial"/>
            </a:endParaRPr>
          </a:p>
        </p:txBody>
      </p:sp>
      <p:sp>
        <p:nvSpPr>
          <p:cNvPr id="83" name="PlaceHolder 2"/>
          <p:cNvSpPr>
            <a:spLocks noGrp="1"/>
          </p:cNvSpPr>
          <p:nvPr>
            <p:ph/>
          </p:nvPr>
        </p:nvSpPr>
        <p:spPr>
          <a:xfrm>
            <a:off x="2057040" y="990360"/>
            <a:ext cx="33526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lose market shar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stly goo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nly temporarily ba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Penfolds Grang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ambiguously ba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wool</a:t>
            </a:r>
            <a:endParaRPr b="1" lang="en-US" sz="2400" spc="-1" strike="noStrike">
              <a:solidFill>
                <a:srgbClr val="ffffff"/>
              </a:solidFill>
              <a:latin typeface="Arial"/>
            </a:endParaRPr>
          </a:p>
        </p:txBody>
      </p:sp>
      <p:sp>
        <p:nvSpPr>
          <p:cNvPr id="84" name="PlaceHolder 3"/>
          <p:cNvSpPr>
            <a:spLocks noGrp="1"/>
          </p:cNvSpPr>
          <p:nvPr>
            <p:ph/>
          </p:nvPr>
        </p:nvSpPr>
        <p:spPr>
          <a:xfrm>
            <a:off x="5333760" y="990360"/>
            <a:ext cx="38098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gain market shar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ambiguously goo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Jacob’s Creek in UK</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ually goo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cotton / polyester</a:t>
            </a:r>
            <a:endParaRPr b="1" lang="en-US" sz="2400" spc="-1" strike="noStrike">
              <a:solidFill>
                <a:srgbClr val="ffffff"/>
              </a:solidFill>
              <a:latin typeface="Arial"/>
            </a:endParaRPr>
          </a:p>
        </p:txBody>
      </p:sp>
      <p:grpSp>
        <p:nvGrpSpPr>
          <p:cNvPr id="85" name=""/>
          <p:cNvGrpSpPr/>
          <p:nvPr/>
        </p:nvGrpSpPr>
        <p:grpSpPr>
          <a:xfrm>
            <a:off x="1050840" y="1371600"/>
            <a:ext cx="7956720" cy="4343400"/>
            <a:chOff x="1050840" y="1371600"/>
            <a:chExt cx="7956720" cy="4343400"/>
          </a:xfrm>
        </p:grpSpPr>
        <p:sp>
          <p:nvSpPr>
            <p:cNvPr id="86" name=""/>
            <p:cNvSpPr/>
            <p:nvPr/>
          </p:nvSpPr>
          <p:spPr>
            <a:xfrm>
              <a:off x="1905120" y="1371600"/>
              <a:ext cx="7102440" cy="4343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334120" y="1371600"/>
              <a:ext cx="0" cy="43434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52480" y="3429000"/>
              <a:ext cx="725508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50840" y="1660680"/>
              <a:ext cx="854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afd00"/>
                  </a:solidFill>
                  <a:latin typeface="Arial"/>
                </a:rPr>
                <a:t>rising real price</a:t>
              </a:r>
              <a:endParaRPr b="0" lang="en-US" sz="1800" spc="-1" strike="noStrike">
                <a:solidFill>
                  <a:srgbClr val="000000"/>
                </a:solidFill>
                <a:latin typeface="Times New Roman"/>
              </a:endParaRPr>
            </a:p>
          </p:txBody>
        </p:sp>
        <p:sp>
          <p:nvSpPr>
            <p:cNvPr id="90" name=""/>
            <p:cNvSpPr/>
            <p:nvPr/>
          </p:nvSpPr>
          <p:spPr>
            <a:xfrm>
              <a:off x="1066680" y="3962520"/>
              <a:ext cx="99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afd00"/>
                  </a:solidFill>
                  <a:latin typeface="Arial"/>
                </a:rPr>
                <a:t>falling real price</a:t>
              </a:r>
              <a:endParaRPr b="0" lang="en-US" sz="1800" spc="-1" strike="noStrike">
                <a:solidFill>
                  <a:srgbClr val="000000"/>
                </a:solidFill>
                <a:latin typeface="Times New Roman"/>
              </a:endParaRPr>
            </a:p>
          </p:txBody>
        </p:sp>
      </p:grpSp>
      <p:sp>
        <p:nvSpPr>
          <p:cNvPr id="91" name=""/>
          <p:cNvSpPr/>
          <p:nvPr/>
        </p:nvSpPr>
        <p:spPr>
          <a:xfrm>
            <a:off x="6809760" y="6400800"/>
            <a:ext cx="2338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ple-Brown, J.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
          <p:cNvSpPr/>
          <p:nvPr/>
        </p:nvSpPr>
        <p:spPr>
          <a:xfrm>
            <a:off x="4411080" y="6324480"/>
            <a:ext cx="4636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hite, B. (1998), Dinor, S. (1997), Watson, A. (1997 / 98)</a:t>
            </a:r>
            <a:endParaRPr b="0" lang="en-US" sz="1200" spc="-1" strike="noStrike">
              <a:solidFill>
                <a:srgbClr val="000000"/>
              </a:solidFill>
              <a:latin typeface="Times New Roman"/>
            </a:endParaRPr>
          </a:p>
        </p:txBody>
      </p:sp>
      <p:sp>
        <p:nvSpPr>
          <p:cNvPr id="93" name="PlaceHolder 1"/>
          <p:cNvSpPr>
            <a:spLocks noGrp="1"/>
          </p:cNvSpPr>
          <p:nvPr>
            <p:ph/>
          </p:nvPr>
        </p:nvSpPr>
        <p:spPr>
          <a:xfrm>
            <a:off x="1218960" y="914040"/>
            <a:ext cx="7924680" cy="5181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White, B (1998)</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What is important however, for wool producers, is not so much relative market share but actual volumes produced and net returns from such production.”</a:t>
            </a:r>
            <a:endParaRPr b="1" lang="en-US" sz="1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Dinor, S. (1997)</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Wool cannot compete head-on with its competitors, nor could we meet the volume demands of the ever-increasing population.  Focus on market share as an indication of success or failure for the work we do is inappropriate as markets are constantly growing and changing…”</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our indicator needs to be increases in volume rather than increase in market share”</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	</a:t>
            </a:r>
            <a:r>
              <a:rPr b="1" i="1" lang="en-AU" sz="1800" spc="-1" strike="noStrike">
                <a:solidFill>
                  <a:srgbClr val="ffffff"/>
                </a:solidFill>
                <a:latin typeface="Arial"/>
              </a:rPr>
              <a:t>	</a:t>
            </a:r>
            <a:r>
              <a:rPr b="1" i="1" lang="en-AU" sz="1800" spc="-1" strike="noStrike">
                <a:solidFill>
                  <a:srgbClr val="ffffff"/>
                </a:solidFill>
                <a:latin typeface="Arial"/>
              </a:rPr>
              <a:t>	</a:t>
            </a:r>
            <a:r>
              <a:rPr b="1" i="1" lang="en-AU" sz="1800" spc="-1" strike="noStrike">
                <a:solidFill>
                  <a:srgbClr val="ffffff"/>
                </a:solidFill>
                <a:latin typeface="Arial"/>
              </a:rPr>
              <a:t>	</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atson, A. (1997 / 98)</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US" sz="1800" spc="-1" strike="noStrike">
                <a:solidFill>
                  <a:srgbClr val="ffffff"/>
                </a:solidFill>
                <a:latin typeface="Arial"/>
              </a:rPr>
              <a:t>Growth in consumption is the only relevant success indicator (for promotion).”</a:t>
            </a:r>
            <a:endParaRPr b="1" lang="en-US" sz="1800" spc="-1" strike="noStrike">
              <a:solidFill>
                <a:srgbClr val="ffffff"/>
              </a:solidFill>
              <a:latin typeface="Arial"/>
            </a:endParaRPr>
          </a:p>
        </p:txBody>
      </p:sp>
      <p:sp>
        <p:nvSpPr>
          <p:cNvPr id="9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s Volum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arel Wool Consumption</a:t>
            </a:r>
            <a:endParaRPr b="1" lang="en-US" sz="3200" spc="-1" strike="noStrike">
              <a:solidFill>
                <a:srgbClr val="fafd00"/>
              </a:solidFill>
              <a:latin typeface="Arial"/>
            </a:endParaRPr>
          </a:p>
        </p:txBody>
      </p:sp>
      <p:sp>
        <p:nvSpPr>
          <p:cNvPr id="96" name=""/>
          <p:cNvSpPr/>
          <p:nvPr/>
        </p:nvSpPr>
        <p:spPr>
          <a:xfrm>
            <a:off x="7122960" y="6400800"/>
            <a:ext cx="2023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mark Co.</a:t>
            </a:r>
            <a:endParaRPr b="0" lang="en-US" sz="1200" spc="-1" strike="noStrike">
              <a:solidFill>
                <a:srgbClr val="000000"/>
              </a:solidFill>
              <a:latin typeface="Times New Roman"/>
            </a:endParaRPr>
          </a:p>
        </p:txBody>
      </p:sp>
      <p:graphicFrame>
        <p:nvGraphicFramePr>
          <p:cNvPr id="97" name=""/>
          <p:cNvGraphicFramePr/>
          <p:nvPr/>
        </p:nvGraphicFramePr>
        <p:xfrm>
          <a:off x="1219320" y="1227240"/>
          <a:ext cx="7772400" cy="4548240"/>
        </p:xfrm>
        <a:graphic>
          <a:graphicData uri="http://schemas.openxmlformats.org/presentationml/2006/ole">
            <p:oleObj progId="Excel.Sheet.12" r:id="rId1" spid="">
              <p:embed/>
              <p:pic>
                <p:nvPicPr>
                  <p:cNvPr id="98" name="" descr=""/>
                  <p:cNvPicPr/>
                  <p:nvPr/>
                </p:nvPicPr>
                <p:blipFill>
                  <a:blip r:embed="rId2"/>
                  <a:stretch/>
                </p:blipFill>
                <p:spPr>
                  <a:xfrm>
                    <a:off x="1219320" y="1227240"/>
                    <a:ext cx="7772400" cy="45482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clusion for wool</a:t>
            </a:r>
            <a:endParaRPr b="1" lang="en-US" sz="3200" spc="-1" strike="noStrike">
              <a:solidFill>
                <a:srgbClr val="fafd00"/>
              </a:solidFill>
              <a:latin typeface="Arial"/>
            </a:endParaRPr>
          </a:p>
        </p:txBody>
      </p:sp>
      <p:sp>
        <p:nvSpPr>
          <p:cNvPr id="1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 share will fall over tim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on capacity of wool limited</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jection 3.5% by 2002</a:t>
            </a:r>
            <a:endParaRPr b="1" lang="en-US" sz="24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ris &amp; Stogdon (1996)</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 premium</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control over competitor’s progress</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al prices</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lling in all markets (some slower)</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d sales volum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ust = increased total consumption</a:t>
            </a:r>
            <a:endParaRPr b="1" lang="en-US" sz="2400" spc="-1" strike="noStrike">
              <a:solidFill>
                <a:srgbClr val="ffffff"/>
              </a:solidFill>
              <a:latin typeface="Arial"/>
            </a:endParaRPr>
          </a:p>
        </p:txBody>
      </p:sp>
      <p:sp>
        <p:nvSpPr>
          <p:cNvPr id="101" name=""/>
          <p:cNvSpPr/>
          <p:nvPr/>
        </p:nvSpPr>
        <p:spPr>
          <a:xfrm>
            <a:off x="80769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 Shar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monly used in marketing</a:t>
            </a:r>
            <a:endParaRPr b="1" lang="en-US" sz="2800" spc="-1" strike="noStrike">
              <a:solidFill>
                <a:srgbClr val="ffffff"/>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t>
            </a:r>
            <a:r>
              <a:rPr b="1" i="1" lang="en-GB" sz="2400" spc="-1" strike="noStrike">
                <a:solidFill>
                  <a:srgbClr val="ffffff"/>
                </a:solidFill>
                <a:latin typeface="Arial"/>
              </a:rPr>
              <a:t>Market share is the chief measure of how well an organisation is doing relative to its competitors.”</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ket share varies with return on investment</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 unit costs</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T</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ket share = past purchas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future purchas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guarantee of success</a:t>
            </a:r>
            <a:endParaRPr b="1" lang="en-US" sz="2400" spc="-1" strike="noStrike">
              <a:solidFill>
                <a:srgbClr val="ffffff"/>
              </a:solidFill>
              <a:latin typeface="Arial"/>
            </a:endParaRPr>
          </a:p>
        </p:txBody>
      </p:sp>
      <p:sp>
        <p:nvSpPr>
          <p:cNvPr id="51" name=""/>
          <p:cNvSpPr/>
          <p:nvPr/>
        </p:nvSpPr>
        <p:spPr>
          <a:xfrm>
            <a:off x="6129720" y="6342120"/>
            <a:ext cx="2942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chewe, C.D. &amp; Hiam, A.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478280" y="6373800"/>
            <a:ext cx="1591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DPIE (1988)</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 Share: wool</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s on market seg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d-use, reg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fibre marke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60’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tton / wool ~7:1</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tton / wool ~10:1</a:t>
            </a:r>
            <a:endParaRPr b="1" lang="en-US" sz="1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arel marke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 ~15%</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ite, B (1998)</a:t>
            </a:r>
            <a:endParaRPr b="1" lang="en-US" sz="1800" spc="-1" strike="noStrike">
              <a:solidFill>
                <a:srgbClr val="ffffff"/>
              </a:solidFill>
              <a:latin typeface="Arial"/>
            </a:endParaRPr>
          </a:p>
        </p:txBody>
      </p:sp>
      <p:sp>
        <p:nvSpPr>
          <p:cNvPr id="55"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arel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Japan (1971 to 1982)</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nswea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70% to 38%</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menswea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55% to 25%</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 (1974 to 1986)</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weat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4% to 8%</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ottomweigh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3.5% to 5.5%</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rket Share: wool</a:t>
            </a:r>
            <a:endParaRPr b="1" lang="en-US" sz="3200" spc="-1" strike="noStrike">
              <a:solidFill>
                <a:srgbClr val="fafd00"/>
              </a:solidFill>
              <a:latin typeface="Arial"/>
            </a:endParaRPr>
          </a:p>
        </p:txBody>
      </p:sp>
      <p:pic>
        <p:nvPicPr>
          <p:cNvPr id="57" name="" descr=""/>
          <p:cNvPicPr/>
          <p:nvPr/>
        </p:nvPicPr>
        <p:blipFill>
          <a:blip r:embed="rId1">
            <a:lum contrast="6000"/>
          </a:blip>
          <a:stretch/>
        </p:blipFill>
        <p:spPr>
          <a:xfrm>
            <a:off x="1523880" y="762120"/>
            <a:ext cx="7239240" cy="5424480"/>
          </a:xfrm>
          <a:prstGeom prst="rect">
            <a:avLst/>
          </a:prstGeom>
          <a:ln w="0">
            <a:noFill/>
          </a:ln>
        </p:spPr>
      </p:pic>
      <p:sp>
        <p:nvSpPr>
          <p:cNvPr id="58" name=""/>
          <p:cNvSpPr/>
          <p:nvPr/>
        </p:nvSpPr>
        <p:spPr>
          <a:xfrm>
            <a:off x="7160760" y="640080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hite, B.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 Share: Cotton</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70 (53% of world marke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len 1% every 5 year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t from synthetic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70-75c per lb cf. 27-30c per lb</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ropean tariffs 33% on natural fibre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ing the same future as wool!</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60’s US regained market shar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ective program funded by</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ers</a:t>
            </a:r>
            <a:endParaRPr b="1" lang="en-US" sz="20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tton textile importers</a:t>
            </a:r>
            <a:endParaRPr b="1" lang="en-US" sz="2000" spc="-1" strike="noStrike">
              <a:solidFill>
                <a:srgbClr val="ffffff"/>
              </a:solidFill>
              <a:latin typeface="Arial"/>
            </a:endParaRPr>
          </a:p>
        </p:txBody>
      </p:sp>
      <p:sp>
        <p:nvSpPr>
          <p:cNvPr id="61" name=""/>
          <p:cNvSpPr/>
          <p:nvPr/>
        </p:nvSpPr>
        <p:spPr>
          <a:xfrm>
            <a:off x="7189560" y="6324480"/>
            <a:ext cx="1883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e Land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EC Apparel Market</a:t>
            </a:r>
            <a:endParaRPr b="1" lang="en-US" sz="3200" spc="-1" strike="noStrike">
              <a:solidFill>
                <a:srgbClr val="fafd00"/>
              </a:solidFill>
              <a:latin typeface="Arial"/>
            </a:endParaRPr>
          </a:p>
        </p:txBody>
      </p:sp>
      <p:graphicFrame>
        <p:nvGraphicFramePr>
          <p:cNvPr id="63" name=""/>
          <p:cNvGraphicFramePr/>
          <p:nvPr/>
        </p:nvGraphicFramePr>
        <p:xfrm>
          <a:off x="1447920" y="914400"/>
          <a:ext cx="7315200" cy="5067360"/>
        </p:xfrm>
        <a:graphic>
          <a:graphicData uri="http://schemas.openxmlformats.org/presentationml/2006/ole">
            <p:oleObj progId="Excel.Sheet.12" r:id="rId1" spid="">
              <p:embed/>
              <p:pic>
                <p:nvPicPr>
                  <p:cNvPr id="64" name="" descr=""/>
                  <p:cNvPicPr/>
                  <p:nvPr/>
                </p:nvPicPr>
                <p:blipFill>
                  <a:blip r:embed="rId2"/>
                  <a:stretch/>
                </p:blipFill>
                <p:spPr>
                  <a:xfrm>
                    <a:off x="1447920" y="914400"/>
                    <a:ext cx="7315200" cy="5067360"/>
                  </a:xfrm>
                  <a:prstGeom prst="rect">
                    <a:avLst/>
                  </a:prstGeom>
                  <a:ln w="0">
                    <a:noFill/>
                  </a:ln>
                </p:spPr>
              </p:pic>
            </p:oleObj>
          </a:graphicData>
        </a:graphic>
      </p:graphicFrame>
      <p:sp>
        <p:nvSpPr>
          <p:cNvPr id="6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rket Share: wool</a:t>
            </a:r>
            <a:endParaRPr b="1" lang="en-US" sz="3200" spc="-1" strike="noStrike">
              <a:solidFill>
                <a:srgbClr val="fafd00"/>
              </a:solidFill>
              <a:latin typeface="Arial"/>
            </a:endParaRPr>
          </a:p>
        </p:txBody>
      </p:sp>
      <p:sp>
        <p:nvSpPr>
          <p:cNvPr id="6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there are limits to the extent that demand can be expanded within each (market) seg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oeckel et al. (1990)</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t is unlikely that this market share will increase and in fact, it is more likely to decrease due to physical constraints on production such as reduced pastures, water availability and environmental pressures which will restrict wool supply relative to expected growth in demand for textiles in the fu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ite, B. (1998)</a:t>
            </a:r>
            <a:endParaRPr b="1" lang="en-US" sz="2400" spc="-1" strike="noStrike">
              <a:solidFill>
                <a:srgbClr val="ffffff"/>
              </a:solidFill>
              <a:latin typeface="Arial"/>
            </a:endParaRPr>
          </a:p>
        </p:txBody>
      </p:sp>
      <p:sp>
        <p:nvSpPr>
          <p:cNvPr id="68"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ilding Market Share</a:t>
            </a:r>
            <a:endParaRPr b="1" lang="en-US" sz="3200" spc="-1" strike="noStrike">
              <a:solidFill>
                <a:srgbClr val="fafd00"/>
              </a:solidFill>
              <a:latin typeface="Arial"/>
            </a:endParaRPr>
          </a:p>
        </p:txBody>
      </p:sp>
      <p:sp>
        <p:nvSpPr>
          <p:cNvPr id="70"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Extra promotion needed to build market sha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rson, J. (1996)</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stralian Wool Services) must be “focussed on taking market share from other fibres by delivering new products through direct product management relationships with their custom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ll Sheridan, Vice President, NSW Farmers (1999)</a:t>
            </a:r>
            <a:endParaRPr b="1" lang="en-US" sz="2400" spc="-1" strike="noStrike">
              <a:solidFill>
                <a:srgbClr val="ffffff"/>
              </a:solidFill>
              <a:latin typeface="Arial"/>
            </a:endParaRPr>
          </a:p>
        </p:txBody>
      </p:sp>
      <p:sp>
        <p:nvSpPr>
          <p:cNvPr id="7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ce Premium</a:t>
            </a:r>
            <a:endParaRPr b="1" lang="en-US" sz="3200" spc="-1" strike="noStrike">
              <a:solidFill>
                <a:srgbClr val="fafd00"/>
              </a:solidFill>
              <a:latin typeface="Arial"/>
            </a:endParaRPr>
          </a:p>
        </p:txBody>
      </p:sp>
      <p:sp>
        <p:nvSpPr>
          <p:cNvPr id="73" name="PlaceHolder 2"/>
          <p:cNvSpPr>
            <a:spLocks noGrp="1"/>
          </p:cNvSpPr>
          <p:nvPr>
            <p:ph/>
          </p:nvPr>
        </p:nvSpPr>
        <p:spPr>
          <a:xfrm>
            <a:off x="1143000" y="4952880"/>
            <a:ext cx="7772400" cy="15242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t; ~4 relative to cott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t; ~3 relative to synthetic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dden price rises critical</a:t>
            </a:r>
            <a:endParaRPr b="1" lang="en-US" sz="2000" spc="-1" strike="noStrike">
              <a:solidFill>
                <a:srgbClr val="ffffff"/>
              </a:solidFill>
              <a:latin typeface="Arial"/>
            </a:endParaRPr>
          </a:p>
        </p:txBody>
      </p:sp>
      <p:sp>
        <p:nvSpPr>
          <p:cNvPr id="74" name=""/>
          <p:cNvSpPr/>
          <p:nvPr/>
        </p:nvSpPr>
        <p:spPr>
          <a:xfrm>
            <a:off x="6853320" y="6324480"/>
            <a:ext cx="2197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toeckel et al. (1990)</a:t>
            </a:r>
            <a:endParaRPr b="0" lang="en-US" sz="1200" spc="-1" strike="noStrike">
              <a:solidFill>
                <a:srgbClr val="000000"/>
              </a:solidFill>
              <a:latin typeface="Times New Roman"/>
            </a:endParaRPr>
          </a:p>
        </p:txBody>
      </p:sp>
      <p:pic>
        <p:nvPicPr>
          <p:cNvPr id="75" name="CENT_65" descr=""/>
          <p:cNvPicPr/>
          <p:nvPr/>
        </p:nvPicPr>
        <p:blipFill>
          <a:blip r:embed="rId1"/>
          <a:srcRect l="2018" t="10824" r="11861" b="0"/>
          <a:stretch/>
        </p:blipFill>
        <p:spPr>
          <a:xfrm>
            <a:off x="1219320" y="934920"/>
            <a:ext cx="7696080" cy="394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1T22:08:04Z</dcterms:created>
  <dc:creator>USER</dc:creator>
  <dc:description/>
  <dc:language>en-US</dc:language>
  <cp:lastModifiedBy>Hdaily</cp:lastModifiedBy>
  <cp:lastPrinted>2000-03-03T01:54:35Z</cp:lastPrinted>
  <dcterms:modified xsi:type="dcterms:W3CDTF">2000-04-27T02:54:06Z</dcterms:modified>
  <cp:revision>7</cp:revision>
  <dc:subject/>
  <dc:title>Measurement of Marketing Performance</dc:title>
</cp:coreProperties>
</file>