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157B-A263-45B5-A041-4CAC2156B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562040" y="533520"/>
            <a:ext cx="3657600" cy="2743200"/>
          </a:xfrm>
          <a:prstGeom prst="rect">
            <a:avLst/>
          </a:prstGeom>
          <a:ln w="0">
            <a:noFill/>
          </a:ln>
        </p:spPr>
      </p:sp>
      <p:sp>
        <p:nvSpPr>
          <p:cNvPr id="18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arketing choices between growers and buyers.  It compares those choices based on the factors which influence marketing cho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electronic sale methods are either offer boards or t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have some more information on recent developments in electronic se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ptance of electronic selling has been slow because of:</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grower reserves set above market</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buyer preference for auction with display samples</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small quantities on system</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not as attractive when demand weak</a:t>
            </a:r>
            <a:br>
              <a:rPr sz="1200"/>
            </a:br>
            <a:r>
              <a:rPr b="0" lang="en-GB" sz="1200" spc="-1" strike="noStrike">
                <a:solidFill>
                  <a:srgbClr val="000000"/>
                </a:solidFill>
                <a:latin typeface="Times New Roman"/>
              </a:rPr>
              <a:t>but, is expected to accelerat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lots are offered on broker description without the buyer sighting the sample pre-purchase.  The buyer has cancellation rights if the wool is incorrectly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selling will provide significant benefits when Sale by Description is accepted by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TA is a strong advocate of electronic selling and is to launch a limited on-line auction system in 1999.  AWEX are also about to start electronic selling trials in the near futu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wool (1999),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scribes the processes followed using the e-wool system developed this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wool is a private company, based in Adelaide.  In terms of their operation, they could be viewed as a competitor, albeit on a small scale, to AWEX.</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Land (1999), 12 August (1999), page 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eptember 1999, the first “live” electronic auction was conducted by AWTA using a mainframe system.  Subsequent media reports of the event have been encourag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in 1999, another parallel on-line electronic selling system will be trialled by AWEX using the Talsman system, which is PC based.  AWEX will initially place PCs in the auction room in Melbourne in late Septem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ever system proves successful, these systems will lead to opportunities for remote bidd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62040" y="533520"/>
            <a:ext cx="3657600" cy="2743200"/>
          </a:xfrm>
          <a:prstGeom prst="rect">
            <a:avLst/>
          </a:prstGeom>
          <a:ln w="0">
            <a:noFill/>
          </a:ln>
        </p:spPr>
      </p:sp>
      <p:sp>
        <p:nvSpPr>
          <p:cNvPr id="20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ies Future Directions Taskforce (1999),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skforce classifies ownership transfer slightly differently, and in less detail to the thrust of this module.  The classifications are listed on this slide and are included for comparison purpo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562040" y="533520"/>
            <a:ext cx="3657600" cy="2743200"/>
          </a:xfrm>
          <a:prstGeom prst="rect">
            <a:avLst/>
          </a:prstGeom>
          <a:ln w="0">
            <a:noFill/>
          </a:ln>
        </p:spPr>
      </p:sp>
      <p:sp>
        <p:nvSpPr>
          <p:cNvPr id="20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producers will be influenced by a range of factors in their decision about which selling method to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factors are:</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mpetition</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ice risk</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sh flow</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lling cost (also called Delivery Costs)</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mmercial risk</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wer Involvement /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expanded in more detail in the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yers and processors are also influenced by similar factors in their decisions about how to buy w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562040" y="533520"/>
            <a:ext cx="3657600" cy="2743200"/>
          </a:xfrm>
          <a:prstGeom prst="rect">
            <a:avLst/>
          </a:prstGeom>
          <a:ln w="0">
            <a:noFill/>
          </a:ln>
        </p:spPr>
      </p:sp>
      <p:sp>
        <p:nvSpPr>
          <p:cNvPr id="21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wool growers look for the highest price and greatest competition on the day of sale. This is different to producers of other commodities, such as chickens or pigs who sell at a fixed price over a long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on varies markedly between the various selling methods depending on the demand at th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more consistently maintains the level of competition, regardless of the market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private sales, competition wanes when prices are low but intensifies in a rising market.  Larger clips are likely to attract more off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rent state of electronic selling means that competition is fairly moderate.  This may improve as more buyers become active, and systems are “bedded 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sales are slow in a slow market.  There is no incentive for buyers to offer to but forward if prices are stagnant or falling, and supply is as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imes of poor demand growers are sometimes more attracted to ‘Direct to Mill’ having adopted the philosophy “there must be a better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top market is depressed the option of owning or joint venturing the tops requires careful examination.  Once a grower’s wool has been sent to a combing mill, with the choice of outright purchase or having some ownership of the top, the competitive element is virtually lost.  Most mills will allow the wool to be removed and sold elsewhere but additional handling, transport and testing costs often make that option unattracti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62040" y="533520"/>
            <a:ext cx="3657600" cy="2743200"/>
          </a:xfrm>
          <a:prstGeom prst="rect">
            <a:avLst/>
          </a:prstGeom>
          <a:ln w="0">
            <a:noFill/>
          </a:ln>
        </p:spPr>
      </p:sp>
      <p:sp>
        <p:nvSpPr>
          <p:cNvPr id="21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risk occurs in a volatile market and the choice of selling method will be influenced by growers’ willingness to bear that price risk.  At auction, growers can provide their own price floor through a reserve on their clip, but have no way of predicting what the exact price will be on the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s provide a guaranteed return because the price is set once the contract has been made, no matter what the auction price does in between then and shear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can relate this contract price to their cost of production. Their decision process may be to accept a price that provides a margin above that cost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ks may require evidence of a minimum return from wool when arranging finance for producers.  Forward contracts are useful in these situations as they provide a fixed return in advanc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tures and derivatives can be used in conjunction with any selling method to manag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h flow requirements may influence the selling method chosen by growers.  If growers need cash as soon as possible after shearing they may choose to sell privately, rather than wait for auction.  A trend in the last two years has been for mixed farming producers, who benefited from high grain prices, to hold their wool until prices are considered suitable.  This stems from a reduced need for cash flow from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reduced Australian clip, delays at auction, due to rostering restrictions, do not occur for most of the year.  Breaks in sales of three weeks at Christmas and in July and two weeks at Easter affect sellers at those ti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vate sales can be achieved quickly, possibly two weeks earlier than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g delays can occur should the grower elect to sell their own tops.  Where a mill undertakes that task on growers behalf the time should be reduc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rvices provided by Brokers range widely from basic warehousing operations to a full range of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tender and electronic selling costs typically range from 9.0c/kg to 17.0c/kg.   Clips at the fine end are mostly sold through commission brokers and the higher price attracts a higher c/kg char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ight savings can be achieved where wool is sent direct from shed to mill or dump rather than via a central warehouse.</a:t>
            </a:r>
            <a:endParaRPr b="0" lang="en-US" sz="1200" spc="-1" strike="noStrike">
              <a:solidFill>
                <a:srgbClr val="000000"/>
              </a:solidFill>
              <a:latin typeface="Times New Roman"/>
            </a:endParaRPr>
          </a:p>
          <a:p>
            <a:pPr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warehoused in regional stores partly offset this cost.  In contrast, in NSW around 30% of the wool warehoused and sold in Sydney is transported to regionally located processing plants.</a:t>
            </a:r>
            <a:r>
              <a:rPr b="0" lang="en-GB" sz="200" spc="-1" strike="noStrike">
                <a:solidFill>
                  <a:srgbClr val="000000"/>
                </a:solidFill>
                <a:latin typeface="Times New Roman"/>
              </a:rPr>
              <a:t> </a:t>
            </a:r>
            <a:endParaRPr b="0" lang="en-US" sz="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supporting regional warehouses achieve savings in shed to store costs though the buyer then has an additional cost where the wool is moved to the port.  Exporters would allow for this cost in the prices paid for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savings achieved through direct to mill or private sales (some identifiable, others hidden) have to be assessed against the competitiveness of the price received.  Most private offers are based on net prices (except freight and wool levy) and therefore the actual costs are mas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analysis see the module “Raw Wool Marketing Cos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cidence of buyer default is historically low in the ownership transfer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selling affords the greatest protection as the broker does not release any wool after sale until payment is rece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selling involves a legally enforcable contract between the buyer and the se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recourse is lessened with private trading or having wool proce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extile pipeline is long and complex and there is transfer of ownership at a number of st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wnership of wool from the producer is usually transferred to an auction buyer (exporter).  The handling of the wool and the cash transactions during auctions are usually conducted under the auspices of a wool bro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who sell their wool to private buyers may be selling to an early stage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number of growers and grower groups retain ownership through the processing part of the chain, e.g. sell to top-makers or spin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ercentage of growers enjoy the challenge of the direct involvement in private sales or direct-to-mill negoti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view is not shared by the majority of growers as evidenced by the high proportion of wool sold at auction.  Some of the reasons be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Lack of confidence in knowing what their wool is wo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Perceived wider competition at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se association with bro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ecurity of pay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vailability of full test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ower’s competitive position is lessened if the wool is consigned to a processor without a price or agreed basis being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owning tops generally would not have the expertise to maximise their value.  Even in a joint venture there is the question of whose tops will receive priority.  There are drawbacks to retaining ownership of the wool until top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wool consigned to a broker, the grower can exercise full control on when wool is sold.  Most brokers offer a range of selling op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system is perfect.  A better system of ownership transfer could address the item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system of ownership transfer must be accessible to all who want to use it.  The wool must be sold in a competitive environment, with objective measurement where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wool needs to be quality assured, either by an industry-wide scheme, or a QA scheme that matches the buyers’ needs, provided by brokers’ perha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cise and relevant market information is a necessity in any price discovery mechanism.  Information which flows throughout the pipeline, but particularly between buyers and sellers of raw wool, should be rob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velopments such as forward marketing, the electronic exchange of ownership and truncating the pipeline between grower and spinner would be advantage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chnical innovations in the materials handling area, such as in-shed sampling, and the building of larger lines would also be beneficial to the customers for raw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widely used and accepted method of selling greasy wool is open cry auctions.  Over a 20 year period, auction sales accounted for between 84% and 93% of all greasy wool sold.  During the time of high reserve prices under the Reserve Price Scheme, almost all the wool clip was sold by auction.</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pproximately 45,000 wool growers and an average clip size of less than 60 bales, auction is an effective method to marshal and sell the multiplicity of lots.  Lot size averaged only 6.39 bales per lot during 1997/98.</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is an efficient way of aggregating wool from many growers who are geographically dispersed and presenting for sale to a small number of buyer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with display sample) is the preferred buying option for the majority of exporter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de selection of wool types on offer, with certified objective measurements, assists exporters to fulfil their mill batch order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provides the widest exposure to competition of all the selling options.  There are around 87 buyer members of the Australian Wool Exchange (AWEX).</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ler and buyer members of AWEX must abide by rules that afford greater protection in respect to clip preparation, claims and payment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will remain the main price recovery system for some time y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average, less than 5% of the Australian clip is sold by te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s are mostly tested, catalogued and usually offered at the end of the week with a nominated closing time for acceptance of ten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tenders use the ‘progressive’ method.  That is, the successful bid is one cent/kg above the second highest bi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er catalogues usually have a higher proportion of deal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tender sales do not have to comply with AWEX ‘R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ers allow for prompt sale as no limitations are imposed by rosters or sale allocations and it is often possible to submit lots for sale earlier than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dustry Sale by Description (SxD) committee, run by AWEX, conducted a 12 month trial of the selling method in 1998.  Two trials have been conducted by Wesfarmers Dalgety and Elders with limited suc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buyers currently oppose Sale by Description.  The main obstacles appear to be insufficient confidence in the brokers’ description, and the brokers’ unwillingness to guarantee the wool.  There are also arguments that visual assessment is essential because some of the characteristics of wool can’t be measured.  This argument is considered by buyers to be particularly relevant for fine and super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elling agents do not subscribe to Sale without Sample for the speciality portion of the clip.  However, in excess of 60%, maybe up to 75%, of the clip should be able to be sold effectively by this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potential benefits of this selling method, including the obvious fact that it would eliminate the need for transportation of wool between stores.  This would facilitate the rationalisation of wool selling venues and reduce costs for the industry.  Many believe that this method would substantially increase efficiency of selling and would help make wool more competiti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vate selling involves direct negotiation between buyer and seller (wool producer).  Spot sales are made when ownership of the wool will be immediately transferred and the physical wool delivered.  For example, the sale is made at the tim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er either acts as a buying agent, a merchant (taking a principal’s position), or as a representative of a particular m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d buying usually involves guidance testing of the wool with one to eight buyers bidding for the clip.  Generally, the larger the clip the more buyers compe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shed purchases the pricing is agreed before the wool leaves the property.  In some cases, a price is given on the anticipated measurements of the wool, and that price is adjusted (up or down) when the full test results are available.  This system is also used for forward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chase at store door without testing is predominantly for small clips and odd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transfer of ownership of wool is favoured by topmakers who are actively involved in private selling, even to the extent of having Internet sites where prices are offered for certain micron wo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562040" y="533520"/>
            <a:ext cx="3657600" cy="2743200"/>
          </a:xfrm>
          <a:prstGeom prst="rect">
            <a:avLst/>
          </a:prstGeom>
          <a:ln w="0">
            <a:noFill/>
          </a:ln>
        </p:spPr>
      </p:sp>
      <p:sp>
        <p:nvSpPr>
          <p:cNvPr id="19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 sales also involve direct negotiation between buyer and seller, but in contrast with spot sales, the contract is made 3 to 6 months ahead of shearing.  The ownership is transferred on delivery.  Forward contracts lock in a price for growers ahead of time.  When the wool is actually delivered (e.g. after shearing), and test results are available, a pre-agreed grid of premiums and discounts is used to determine the final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risk for growers is reduced, if not eliminated, because they know in advance what price they will receive for their wool.  They may accept prices on the basis of a certain margin above their cost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upply and demand balance out this method of sale will probably grow as mills attempt to assure continuity of supply.  Further developments may see the contract period go out fur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variations in farm-to-mill trans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methods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mills offer outright price upon receipt and availability of test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 wool is converted to tops (owned by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 wool is converted to tops (joint ven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p size is important as most mill batches are in excess of 300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ew growers or groups have taken ownership or joint ventures through to the yarn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enterprises have retained ownership through to the garment stage.   Mostly these are niche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243E-79C3-4827-A61E-2C8238BDA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cept involves batching growers’ wool, commission combing &amp; selling top to spin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side samples taken from 5% of the flock are tested.  A price is then offered to the grower based on the TEAM formula prediction, historical test results, and negotiations with spin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rk fibre risk procedures are strictly adhered to with the removal of all stained wool within 3 months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virtually no classing with unskirted fleeces, bellies and  locks pressed together.  The clip is packed in nylon packs and cored in the shed.  The original price offered is adjusted based on the AWTA test result of the cor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s either consigned to an Australian top-maker or direct to a seaboard dump.  The batches are then converted to tops by commission combing and delivered to the spinner cl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ower is paid within 2 weeks of delivering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ownership transfer eliminates some links in the pipeline.  An example of this method is Fibre Direct.  See the “Fibre Direct” module for more information.</a:t>
            </a:r>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w Wool Marketing Choic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John Seale, Wesfarmers Dalgety.</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lectronic Selling</a:t>
            </a:r>
            <a:endParaRPr b="1" lang="en-US" sz="3200" spc="-1" strike="noStrike">
              <a:solidFill>
                <a:srgbClr val="fafd00"/>
              </a:solidFill>
              <a:latin typeface="Arial"/>
            </a:endParaRPr>
          </a:p>
        </p:txBody>
      </p:sp>
      <p:sp>
        <p:nvSpPr>
          <p:cNvPr id="12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method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fer board or tender</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ink</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e-wool</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eptance has been slow</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ts bought on broker description</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l benefits if SxD was accepted</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n-line auctions under development</a:t>
            </a:r>
            <a:endParaRPr b="1" lang="en-US" sz="28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ink</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WEX</a:t>
            </a:r>
            <a:endParaRPr b="1" lang="en-US" sz="2000" spc="-1" strike="noStrike">
              <a:solidFill>
                <a:srgbClr val="ffffff"/>
              </a:solidFill>
              <a:latin typeface="Arial"/>
            </a:endParaRPr>
          </a:p>
        </p:txBody>
      </p:sp>
      <p:sp>
        <p:nvSpPr>
          <p:cNvPr id="128"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e-wool</a:t>
            </a:r>
            <a:endParaRPr b="1" lang="en-US" sz="3200" spc="-1" strike="noStrike">
              <a:solidFill>
                <a:srgbClr val="fafd00"/>
              </a:solidFill>
              <a:latin typeface="Arial"/>
            </a:endParaRPr>
          </a:p>
        </p:txBody>
      </p:sp>
      <p:sp>
        <p:nvSpPr>
          <p:cNvPr id="13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pot sale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delivered to brok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est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er establishes target pri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sted on </a:t>
            </a:r>
            <a:r>
              <a:rPr b="1" i="1" lang="en-AU" sz="2400" spc="-1" strike="noStrike">
                <a:solidFill>
                  <a:srgbClr val="ffffff"/>
                </a:solidFill>
                <a:latin typeface="Arial"/>
              </a:rPr>
              <a:t>e-wool</a:t>
            </a:r>
            <a:r>
              <a:rPr b="1" lang="en-AU" sz="2400" spc="-1" strike="noStrike">
                <a:solidFill>
                  <a:srgbClr val="ffffff"/>
                </a:solidFill>
                <a:latin typeface="Arial"/>
              </a:rPr>
              <a:t> syste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er purcha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ker pays grower</a:t>
            </a:r>
            <a:endParaRPr b="1" lang="en-US" sz="2400" spc="-1" strike="noStrike">
              <a:solidFill>
                <a:srgbClr val="ffffff"/>
              </a:solidFill>
              <a:latin typeface="Arial"/>
            </a:endParaRPr>
          </a:p>
        </p:txBody>
      </p:sp>
      <p:sp>
        <p:nvSpPr>
          <p:cNvPr id="13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forward sale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e-wool</a:t>
            </a:r>
            <a:r>
              <a:rPr b="1" lang="en-AU" sz="2400" spc="-1" strike="noStrike">
                <a:solidFill>
                  <a:srgbClr val="ffffff"/>
                </a:solidFill>
                <a:latin typeface="Arial"/>
              </a:rPr>
              <a:t> softwa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aly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ecas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rget Pric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ffer on forward catalogu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rmal forward transaction by broker</a:t>
            </a:r>
            <a:endParaRPr b="1" lang="en-US" sz="2400" spc="-1" strike="noStrike">
              <a:solidFill>
                <a:srgbClr val="ffffff"/>
              </a:solidFill>
              <a:latin typeface="Arial"/>
            </a:endParaRPr>
          </a:p>
        </p:txBody>
      </p:sp>
      <p:sp>
        <p:nvSpPr>
          <p:cNvPr id="132" name=""/>
          <p:cNvSpPr/>
          <p:nvPr/>
        </p:nvSpPr>
        <p:spPr>
          <a:xfrm>
            <a:off x="7462800" y="6324480"/>
            <a:ext cx="168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e-wool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ink</a:t>
            </a:r>
            <a:endParaRPr b="1" lang="en-US" sz="3200" spc="-1" strike="noStrike">
              <a:solidFill>
                <a:srgbClr val="fafd00"/>
              </a:solidFill>
              <a:latin typeface="Arial"/>
            </a:endParaRPr>
          </a:p>
        </p:txBody>
      </p:sp>
      <p:sp>
        <p:nvSpPr>
          <p:cNvPr id="13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ed by AWTA</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with AWEX system</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er to another bidder</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static” trials from mid-August 1999</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ctronic auctions</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live” trial 17 September 1999</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 brokers secured</a:t>
            </a:r>
            <a:endParaRPr b="1" lang="en-US" sz="28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0 lots offered</a:t>
            </a:r>
            <a:endParaRPr b="1" lang="en-US" sz="28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1 of top 20 exporters subscribed</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2% of last season offering</a:t>
            </a:r>
            <a:endParaRPr b="1" lang="en-US" sz="2400" spc="-1" strike="noStrike">
              <a:solidFill>
                <a:srgbClr val="ffffff"/>
              </a:solidFill>
              <a:latin typeface="Arial"/>
            </a:endParaRPr>
          </a:p>
        </p:txBody>
      </p:sp>
      <p:sp>
        <p:nvSpPr>
          <p:cNvPr id="135" name=""/>
          <p:cNvSpPr/>
          <p:nvPr/>
        </p:nvSpPr>
        <p:spPr>
          <a:xfrm>
            <a:off x="7165800" y="6324480"/>
            <a:ext cx="1883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Land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a:t>
            </a:r>
            <a:endParaRPr b="1" lang="en-US" sz="3200" spc="-1" strike="noStrike">
              <a:solidFill>
                <a:srgbClr val="fafd00"/>
              </a:solidFill>
              <a:latin typeface="Arial"/>
            </a:endParaRPr>
          </a:p>
        </p:txBody>
      </p:sp>
      <p:sp>
        <p:nvSpPr>
          <p:cNvPr id="13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en outcry A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t;75% of marke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vate Treaty Mercha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times re-submitted through a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 of WA marke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rect to processor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tical integration arrange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ckward (from process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from fibre producers)</a:t>
            </a:r>
            <a:endParaRPr b="1" lang="en-US" sz="2400" spc="-1" strike="noStrike">
              <a:solidFill>
                <a:srgbClr val="ffffff"/>
              </a:solidFill>
              <a:latin typeface="Arial"/>
            </a:endParaRPr>
          </a:p>
        </p:txBody>
      </p:sp>
      <p:sp>
        <p:nvSpPr>
          <p:cNvPr id="138" name=""/>
          <p:cNvSpPr/>
          <p:nvPr/>
        </p:nvSpPr>
        <p:spPr>
          <a:xfrm>
            <a:off x="5876280" y="6324480"/>
            <a:ext cx="319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Task Force Repor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ctors Influencing Choice of </a:t>
            </a:r>
            <a:br>
              <a:rPr sz="3200"/>
            </a:br>
            <a:r>
              <a:rPr b="1" lang="en-GB" sz="3200" spc="-1" strike="noStrike">
                <a:solidFill>
                  <a:srgbClr val="fafd00"/>
                </a:solidFill>
                <a:latin typeface="Arial"/>
              </a:rPr>
              <a:t>Selling Method </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eti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ris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sh f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m to 1st stage processo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ercial Ris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er Involvement / Control</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vels of Competition</a:t>
            </a:r>
            <a:endParaRPr b="1" lang="en-US" sz="3200" spc="-1" strike="noStrike">
              <a:solidFill>
                <a:srgbClr val="fafd00"/>
              </a:solidFill>
              <a:latin typeface="Arial"/>
            </a:endParaRPr>
          </a:p>
        </p:txBody>
      </p:sp>
      <p:sp>
        <p:nvSpPr>
          <p:cNvPr id="14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woolgrowers look for highest price and greatest compet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the case in other industri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uction</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High</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end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High</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lectronic</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Low</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Forward sale</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 (variab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Direct to Mil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Low</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Price Risk</a:t>
            </a:r>
            <a:endParaRPr b="1" lang="en-US" sz="3200" spc="-1" strike="noStrike">
              <a:solidFill>
                <a:srgbClr val="fafd00"/>
              </a:solidFill>
              <a:latin typeface="Arial"/>
            </a:endParaRPr>
          </a:p>
        </p:txBody>
      </p:sp>
      <p:sp>
        <p:nvSpPr>
          <p:cNvPr id="15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price risk occurs in a volatile market</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orward contracts provide a guaranteed retur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n relate to cost of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banks may require evidence of minimum return from wool</a:t>
            </a:r>
            <a:endParaRPr b="1" lang="en-US" sz="24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utures and options are tools to minimise price risk </a:t>
            </a:r>
            <a:endParaRPr b="1" lang="en-US" sz="2800" spc="-1" strike="noStrike">
              <a:solidFill>
                <a:srgbClr val="ffffff"/>
              </a:solidFill>
              <a:latin typeface="Arial"/>
            </a:endParaRPr>
          </a:p>
        </p:txBody>
      </p:sp>
      <p:sp>
        <p:nvSpPr>
          <p:cNvPr id="15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sh Flow:  access to selling</a:t>
            </a:r>
            <a:endParaRPr b="1" lang="en-US" sz="3200" spc="-1" strike="noStrike">
              <a:solidFill>
                <a:srgbClr val="fafd00"/>
              </a:solidFill>
              <a:latin typeface="Arial"/>
            </a:endParaRPr>
          </a:p>
        </p:txBody>
      </p:sp>
      <p:sp>
        <p:nvSpPr>
          <p:cNvPr id="1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sh flow requirements may influence selling meth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me of sale, timing of pay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ess to selling diff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auction wool is sold within 3 weeks of shea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nder and electronic within 2 week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vate sales are potentially within day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rect-to-mill may involve long delays when growers retain ownership of tops</a:t>
            </a: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livery Costs</a:t>
            </a:r>
            <a:endParaRPr b="1" lang="en-US" sz="3200" spc="-1" strike="noStrike">
              <a:solidFill>
                <a:srgbClr val="fafd00"/>
              </a:solidFill>
              <a:latin typeface="Arial"/>
            </a:endParaRPr>
          </a:p>
        </p:txBody>
      </p:sp>
      <p:sp>
        <p:nvSpPr>
          <p:cNvPr id="1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okers services vary wide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ction selling costs range from 9c/kg to 17c/k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eight savings achieved with direct consignm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ional warehousing cost effectiv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s for direct to mill and private sales are net of costs</a:t>
            </a:r>
            <a:endParaRPr b="1" lang="en-US" sz="2800" spc="-1" strike="noStrike">
              <a:solidFill>
                <a:srgbClr val="ffffff"/>
              </a:solidFill>
              <a:latin typeface="Arial"/>
            </a:endParaRPr>
          </a:p>
        </p:txBody>
      </p:sp>
      <p:sp>
        <p:nvSpPr>
          <p:cNvPr id="16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Commercial Risks</a:t>
            </a:r>
            <a:endParaRPr b="1" lang="en-US" sz="3200" spc="-1" strike="noStrike">
              <a:solidFill>
                <a:srgbClr val="fafd00"/>
              </a:solidFill>
              <a:latin typeface="Arial"/>
            </a:endParaRPr>
          </a:p>
        </p:txBody>
      </p:sp>
      <p:sp>
        <p:nvSpPr>
          <p:cNvPr id="167"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incidence of default low</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auction selling safest</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orward selling is usually through contracts</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most wool is insured</a:t>
            </a:r>
            <a:endParaRPr b="1" lang="en-US" sz="2800" spc="-1" strike="noStrike">
              <a:solidFill>
                <a:srgbClr val="ffffff"/>
              </a:solidFill>
              <a:latin typeface="Arial"/>
            </a:endParaRPr>
          </a:p>
        </p:txBody>
      </p:sp>
      <p:sp>
        <p:nvSpPr>
          <p:cNvPr id="168"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990720" y="304560"/>
            <a:ext cx="744192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Ownership Transfer in the </a:t>
            </a:r>
            <a:br>
              <a:rPr sz="3200"/>
            </a:br>
            <a:r>
              <a:rPr b="1" lang="en-GB" sz="3200" spc="-1" strike="noStrike">
                <a:solidFill>
                  <a:srgbClr val="fafd00"/>
                </a:solidFill>
                <a:latin typeface="Arial"/>
              </a:rPr>
              <a:t>Wool Pipeline</a:t>
            </a:r>
            <a:endParaRPr b="1" lang="en-US" sz="3200" spc="-1" strike="noStrike">
              <a:solidFill>
                <a:srgbClr val="fafd00"/>
              </a:solidFill>
              <a:latin typeface="Arial"/>
            </a:endParaRPr>
          </a:p>
        </p:txBody>
      </p:sp>
      <p:grpSp>
        <p:nvGrpSpPr>
          <p:cNvPr id="54" name=""/>
          <p:cNvGrpSpPr/>
          <p:nvPr/>
        </p:nvGrpSpPr>
        <p:grpSpPr>
          <a:xfrm>
            <a:off x="1231920" y="1308240"/>
            <a:ext cx="7835760" cy="4559040"/>
            <a:chOff x="1231920" y="1308240"/>
            <a:chExt cx="7835760" cy="4559040"/>
          </a:xfrm>
        </p:grpSpPr>
        <p:sp>
          <p:nvSpPr>
            <p:cNvPr id="55" name=""/>
            <p:cNvSpPr/>
            <p:nvPr/>
          </p:nvSpPr>
          <p:spPr>
            <a:xfrm>
              <a:off x="1231920" y="1308240"/>
              <a:ext cx="7835760" cy="455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530000" y="1778040"/>
              <a:ext cx="1510920" cy="1053720"/>
              <a:chOff x="1530000" y="1778040"/>
              <a:chExt cx="1510920" cy="1053720"/>
            </a:xfrm>
          </p:grpSpPr>
          <p:sp>
            <p:nvSpPr>
              <p:cNvPr id="57" name=""/>
              <p:cNvSpPr/>
              <p:nvPr/>
            </p:nvSpPr>
            <p:spPr>
              <a:xfrm>
                <a:off x="1530000" y="1778040"/>
                <a:ext cx="1510920" cy="1053720"/>
              </a:xfrm>
              <a:prstGeom prst="roundRect">
                <a:avLst>
                  <a:gd name="adj" fmla="val 12458"/>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01280" y="2077560"/>
                <a:ext cx="1368000" cy="454680"/>
              </a:xfrm>
              <a:prstGeom prst="rect">
                <a:avLst/>
              </a:prstGeom>
              <a:solidFill>
                <a:srgbClr val="00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tailer</a:t>
                </a:r>
                <a:endParaRPr b="0" lang="en-US" sz="2400" spc="-1" strike="noStrike">
                  <a:solidFill>
                    <a:srgbClr val="000000"/>
                  </a:solidFill>
                  <a:latin typeface="Times New Roman"/>
                </a:endParaRPr>
              </a:p>
            </p:txBody>
          </p:sp>
        </p:grpSp>
        <p:grpSp>
          <p:nvGrpSpPr>
            <p:cNvPr id="59" name=""/>
            <p:cNvGrpSpPr/>
            <p:nvPr/>
          </p:nvGrpSpPr>
          <p:grpSpPr>
            <a:xfrm>
              <a:off x="3663720" y="1847880"/>
              <a:ext cx="1980720" cy="1053720"/>
              <a:chOff x="3663720" y="1847880"/>
              <a:chExt cx="1980720" cy="1053720"/>
            </a:xfrm>
          </p:grpSpPr>
          <p:sp>
            <p:nvSpPr>
              <p:cNvPr id="60" name=""/>
              <p:cNvSpPr/>
              <p:nvPr/>
            </p:nvSpPr>
            <p:spPr>
              <a:xfrm>
                <a:off x="3663720" y="1847880"/>
                <a:ext cx="1980720" cy="1053720"/>
              </a:xfrm>
              <a:prstGeom prst="roundRect">
                <a:avLst>
                  <a:gd name="adj" fmla="val 12458"/>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53720" y="1995120"/>
                <a:ext cx="1882440" cy="820440"/>
              </a:xfrm>
              <a:prstGeom prst="rect">
                <a:avLst/>
              </a:prstGeom>
              <a:solidFill>
                <a:srgbClr val="99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rment maker</a:t>
                </a:r>
                <a:endParaRPr b="0" lang="en-US" sz="2400" spc="-1" strike="noStrike">
                  <a:solidFill>
                    <a:srgbClr val="000000"/>
                  </a:solidFill>
                  <a:latin typeface="Times New Roman"/>
                </a:endParaRPr>
              </a:p>
            </p:txBody>
          </p:sp>
        </p:grpSp>
        <p:grpSp>
          <p:nvGrpSpPr>
            <p:cNvPr id="62" name=""/>
            <p:cNvGrpSpPr/>
            <p:nvPr/>
          </p:nvGrpSpPr>
          <p:grpSpPr>
            <a:xfrm>
              <a:off x="6330600" y="1847880"/>
              <a:ext cx="1510920" cy="1053720"/>
              <a:chOff x="6330600" y="1847880"/>
              <a:chExt cx="1510920" cy="1053720"/>
            </a:xfrm>
          </p:grpSpPr>
          <p:sp>
            <p:nvSpPr>
              <p:cNvPr id="63" name=""/>
              <p:cNvSpPr/>
              <p:nvPr/>
            </p:nvSpPr>
            <p:spPr>
              <a:xfrm>
                <a:off x="6330600" y="1847880"/>
                <a:ext cx="1510920" cy="1053720"/>
              </a:xfrm>
              <a:prstGeom prst="roundRect">
                <a:avLst>
                  <a:gd name="adj" fmla="val 12458"/>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1880" y="1995120"/>
                <a:ext cx="1368000" cy="820440"/>
              </a:xfrm>
              <a:prstGeom prst="rect">
                <a:avLst/>
              </a:prstGeom>
              <a:solidFill>
                <a:srgbClr val="cccc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bric maker</a:t>
                </a:r>
                <a:endParaRPr b="0" lang="en-US" sz="2400" spc="-1" strike="noStrike">
                  <a:solidFill>
                    <a:srgbClr val="000000"/>
                  </a:solidFill>
                  <a:latin typeface="Times New Roman"/>
                </a:endParaRPr>
              </a:p>
            </p:txBody>
          </p:sp>
        </p:grpSp>
        <p:grpSp>
          <p:nvGrpSpPr>
            <p:cNvPr id="65" name=""/>
            <p:cNvGrpSpPr/>
            <p:nvPr/>
          </p:nvGrpSpPr>
          <p:grpSpPr>
            <a:xfrm>
              <a:off x="3136680" y="3143160"/>
              <a:ext cx="4863600" cy="1206000"/>
              <a:chOff x="3136680" y="3143160"/>
              <a:chExt cx="4863600" cy="1206000"/>
            </a:xfrm>
          </p:grpSpPr>
          <p:grpSp>
            <p:nvGrpSpPr>
              <p:cNvPr id="66" name=""/>
              <p:cNvGrpSpPr/>
              <p:nvPr/>
            </p:nvGrpSpPr>
            <p:grpSpPr>
              <a:xfrm>
                <a:off x="3212640" y="3219120"/>
                <a:ext cx="1510920" cy="1053720"/>
                <a:chOff x="3212640" y="3219120"/>
                <a:chExt cx="1510920" cy="1053720"/>
              </a:xfrm>
            </p:grpSpPr>
            <p:sp>
              <p:nvSpPr>
                <p:cNvPr id="67" name=""/>
                <p:cNvSpPr/>
                <p:nvPr/>
              </p:nvSpPr>
              <p:spPr>
                <a:xfrm>
                  <a:off x="3212640" y="3219120"/>
                  <a:ext cx="1510920" cy="1053720"/>
                </a:xfrm>
                <a:prstGeom prst="roundRect">
                  <a:avLst>
                    <a:gd name="adj" fmla="val 12458"/>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3560" y="3366360"/>
                  <a:ext cx="13680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inner</a:t>
                  </a:r>
                  <a:endParaRPr b="0" lang="en-US" sz="2400" spc="-1" strike="noStrike">
                    <a:solidFill>
                      <a:srgbClr val="000000"/>
                    </a:solidFill>
                    <a:latin typeface="Times New Roman"/>
                  </a:endParaRPr>
                </a:p>
              </p:txBody>
            </p:sp>
          </p:grpSp>
          <p:grpSp>
            <p:nvGrpSpPr>
              <p:cNvPr id="69" name=""/>
              <p:cNvGrpSpPr/>
              <p:nvPr/>
            </p:nvGrpSpPr>
            <p:grpSpPr>
              <a:xfrm>
                <a:off x="4812840" y="3219120"/>
                <a:ext cx="1510920" cy="1053720"/>
                <a:chOff x="4812840" y="3219120"/>
                <a:chExt cx="1510920" cy="1053720"/>
              </a:xfrm>
            </p:grpSpPr>
            <p:sp>
              <p:nvSpPr>
                <p:cNvPr id="70" name=""/>
                <p:cNvSpPr/>
                <p:nvPr/>
              </p:nvSpPr>
              <p:spPr>
                <a:xfrm>
                  <a:off x="4812840" y="3219120"/>
                  <a:ext cx="1510920" cy="1053720"/>
                </a:xfrm>
                <a:prstGeom prst="roundRect">
                  <a:avLst>
                    <a:gd name="adj" fmla="val 12458"/>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883760" y="3366360"/>
                  <a:ext cx="1368000" cy="82044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p-maker</a:t>
                  </a:r>
                  <a:endParaRPr b="0" lang="en-US" sz="2400" spc="-1" strike="noStrike">
                    <a:solidFill>
                      <a:srgbClr val="000000"/>
                    </a:solidFill>
                    <a:latin typeface="Times New Roman"/>
                  </a:endParaRPr>
                </a:p>
              </p:txBody>
            </p:sp>
          </p:grpSp>
          <p:grpSp>
            <p:nvGrpSpPr>
              <p:cNvPr id="72" name=""/>
              <p:cNvGrpSpPr/>
              <p:nvPr/>
            </p:nvGrpSpPr>
            <p:grpSpPr>
              <a:xfrm>
                <a:off x="6413040" y="3219120"/>
                <a:ext cx="1510920" cy="1053720"/>
                <a:chOff x="6413040" y="3219120"/>
                <a:chExt cx="1510920" cy="1053720"/>
              </a:xfrm>
            </p:grpSpPr>
            <p:sp>
              <p:nvSpPr>
                <p:cNvPr id="73" name=""/>
                <p:cNvSpPr/>
                <p:nvPr/>
              </p:nvSpPr>
              <p:spPr>
                <a:xfrm>
                  <a:off x="6413040" y="3219120"/>
                  <a:ext cx="1510920" cy="1053720"/>
                </a:xfrm>
                <a:prstGeom prst="roundRect">
                  <a:avLst>
                    <a:gd name="adj" fmla="val 12458"/>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83960" y="3366360"/>
                  <a:ext cx="13680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urer</a:t>
                  </a:r>
                  <a:endParaRPr b="0" lang="en-US" sz="2400" spc="-1" strike="noStrike">
                    <a:solidFill>
                      <a:srgbClr val="000000"/>
                    </a:solidFill>
                    <a:latin typeface="Times New Roman"/>
                  </a:endParaRPr>
                </a:p>
              </p:txBody>
            </p:sp>
          </p:grpSp>
          <p:sp>
            <p:nvSpPr>
              <p:cNvPr id="75" name=""/>
              <p:cNvSpPr/>
              <p:nvPr/>
            </p:nvSpPr>
            <p:spPr>
              <a:xfrm>
                <a:off x="3136680" y="3143160"/>
                <a:ext cx="4863600" cy="1206000"/>
              </a:xfrm>
              <a:prstGeom prst="roundRect">
                <a:avLst>
                  <a:gd name="adj" fmla="val 124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3816000" y="4660920"/>
              <a:ext cx="1510920" cy="1053720"/>
              <a:chOff x="3816000" y="4660920"/>
              <a:chExt cx="1510920" cy="1053720"/>
            </a:xfrm>
          </p:grpSpPr>
          <p:sp>
            <p:nvSpPr>
              <p:cNvPr id="77" name=""/>
              <p:cNvSpPr/>
              <p:nvPr/>
            </p:nvSpPr>
            <p:spPr>
              <a:xfrm>
                <a:off x="3816000" y="4660920"/>
                <a:ext cx="1510920" cy="1053720"/>
              </a:xfrm>
              <a:prstGeom prst="roundRect">
                <a:avLst>
                  <a:gd name="adj" fmla="val 12458"/>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87280" y="4808160"/>
                <a:ext cx="13680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yer</a:t>
                </a:r>
                <a:endParaRPr b="0" lang="en-US" sz="2400" spc="-1" strike="noStrike">
                  <a:solidFill>
                    <a:srgbClr val="000000"/>
                  </a:solidFill>
                  <a:latin typeface="Times New Roman"/>
                </a:endParaRPr>
              </a:p>
            </p:txBody>
          </p:sp>
        </p:grpSp>
        <p:grpSp>
          <p:nvGrpSpPr>
            <p:cNvPr id="79" name=""/>
            <p:cNvGrpSpPr/>
            <p:nvPr/>
          </p:nvGrpSpPr>
          <p:grpSpPr>
            <a:xfrm>
              <a:off x="6254640" y="4584600"/>
              <a:ext cx="1890360" cy="1206000"/>
              <a:chOff x="6254640" y="4584600"/>
              <a:chExt cx="1890360" cy="1206000"/>
            </a:xfrm>
          </p:grpSpPr>
          <p:sp>
            <p:nvSpPr>
              <p:cNvPr id="80" name=""/>
              <p:cNvSpPr/>
              <p:nvPr/>
            </p:nvSpPr>
            <p:spPr>
              <a:xfrm>
                <a:off x="6554160" y="4811400"/>
                <a:ext cx="13680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ol grower</a:t>
                </a:r>
                <a:endParaRPr b="0" lang="en-US" sz="2400" spc="-1" strike="noStrike">
                  <a:solidFill>
                    <a:srgbClr val="000000"/>
                  </a:solidFill>
                  <a:latin typeface="Times New Roman"/>
                </a:endParaRPr>
              </a:p>
            </p:txBody>
          </p:sp>
          <p:sp>
            <p:nvSpPr>
              <p:cNvPr id="81" name=""/>
              <p:cNvSpPr/>
              <p:nvPr/>
            </p:nvSpPr>
            <p:spPr>
              <a:xfrm>
                <a:off x="6254640" y="4584600"/>
                <a:ext cx="1890360" cy="120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flipH="1">
              <a:off x="3142440" y="2305080"/>
              <a:ext cx="443880" cy="215280"/>
            </a:xfrm>
            <a:prstGeom prst="rightArrow">
              <a:avLst>
                <a:gd name="adj1" fmla="val 50000"/>
                <a:gd name="adj2" fmla="val 10317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733720" y="2305080"/>
              <a:ext cx="444240" cy="215280"/>
            </a:xfrm>
            <a:prstGeom prst="rightArrow">
              <a:avLst>
                <a:gd name="adj1" fmla="val 50000"/>
                <a:gd name="adj2" fmla="val 10326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7860960" y="2381040"/>
              <a:ext cx="444240" cy="215640"/>
            </a:xfrm>
            <a:prstGeom prst="rightArrow">
              <a:avLst>
                <a:gd name="adj1" fmla="val 50000"/>
                <a:gd name="adj2" fmla="val 10309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8012880" y="3600360"/>
              <a:ext cx="443880" cy="215640"/>
            </a:xfrm>
            <a:prstGeom prst="rightArrow">
              <a:avLst>
                <a:gd name="adj1" fmla="val 50000"/>
                <a:gd name="adj2" fmla="val 10300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340240" y="4813200"/>
              <a:ext cx="748800" cy="596520"/>
            </a:xfrm>
            <a:prstGeom prst="rightArrow">
              <a:avLst>
                <a:gd name="adj1" fmla="val 50000"/>
                <a:gd name="adj2" fmla="val 628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2824920" y="5041800"/>
              <a:ext cx="443880" cy="215640"/>
            </a:xfrm>
            <a:prstGeom prst="rightArrow">
              <a:avLst>
                <a:gd name="adj1" fmla="val 50000"/>
                <a:gd name="adj2" fmla="val 10300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2609640" y="3600360"/>
              <a:ext cx="444240" cy="215640"/>
            </a:xfrm>
            <a:prstGeom prst="rightArrow">
              <a:avLst>
                <a:gd name="adj1" fmla="val 50000"/>
                <a:gd name="adj2" fmla="val 10309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rot="2481000">
              <a:off x="5732640" y="4279320"/>
              <a:ext cx="749160" cy="596520"/>
            </a:xfrm>
            <a:prstGeom prst="rightArrow">
              <a:avLst>
                <a:gd name="adj1" fmla="val 50000"/>
                <a:gd name="adj2" fmla="val 6284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s involvement / control</a:t>
            </a:r>
            <a:endParaRPr b="1" lang="en-US" sz="3200" spc="-1" strike="noStrike">
              <a:solidFill>
                <a:srgbClr val="fafd00"/>
              </a:solidFill>
              <a:latin typeface="Arial"/>
            </a:endParaRPr>
          </a:p>
        </p:txBody>
      </p:sp>
      <p:sp>
        <p:nvSpPr>
          <p:cNvPr id="1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me growers believe they have maximum control through direct sel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jority of growers comfortable with au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rect sales need predetermined ba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wnership of tops has drawback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brokers offer selling options</a:t>
            </a:r>
            <a:endParaRPr b="1" lang="en-US" sz="2800" spc="-1" strike="noStrike">
              <a:solidFill>
                <a:srgbClr val="ffffff"/>
              </a:solidFill>
              <a:latin typeface="Arial"/>
            </a:endParaRPr>
          </a:p>
        </p:txBody>
      </p:sp>
      <p:sp>
        <p:nvSpPr>
          <p:cNvPr id="17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king a Better System</a:t>
            </a:r>
            <a:endParaRPr b="1" lang="en-US" sz="3200" spc="-1" strike="noStrike">
              <a:solidFill>
                <a:srgbClr val="fafd00"/>
              </a:solidFill>
              <a:latin typeface="Arial"/>
            </a:endParaRPr>
          </a:p>
        </p:txBody>
      </p:sp>
      <p:sp>
        <p:nvSpPr>
          <p:cNvPr id="17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ib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etitive 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 measuremen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assu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information</a:t>
            </a:r>
            <a:endParaRPr b="1" lang="en-US" sz="2400" spc="-1" strike="noStrike">
              <a:solidFill>
                <a:srgbClr val="ffffff"/>
              </a:solidFill>
              <a:latin typeface="Arial"/>
            </a:endParaRPr>
          </a:p>
        </p:txBody>
      </p:sp>
      <p:sp>
        <p:nvSpPr>
          <p:cNvPr id="17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ward marke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ectronic exchange of ownershi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peline shorte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terials handl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rger lines (container size)</a:t>
            </a:r>
            <a:endParaRPr b="1" lang="en-US" sz="2400" spc="-1" strike="noStrike">
              <a:solidFill>
                <a:srgbClr val="ffffff"/>
              </a:solidFill>
              <a:latin typeface="Arial"/>
            </a:endParaRPr>
          </a:p>
        </p:txBody>
      </p:sp>
      <p:sp>
        <p:nvSpPr>
          <p:cNvPr id="177"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a:t>
            </a:r>
            <a:endParaRPr b="1" lang="en-US" sz="3200" spc="-1" strike="noStrike">
              <a:solidFill>
                <a:srgbClr val="fafd00"/>
              </a:solidFill>
              <a:latin typeface="Arial"/>
            </a:endParaRPr>
          </a:p>
        </p:txBody>
      </p:sp>
      <p:sp>
        <p:nvSpPr>
          <p:cNvPr id="179"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le J. (1996), Wool Selling Options - Strengths and Weaknesses, Wool Technology and Sheep Breeding, 44/4, 30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ction Selling</a:t>
            </a:r>
            <a:endParaRPr b="1" lang="en-US" sz="3200" spc="-1" strike="noStrike">
              <a:solidFill>
                <a:srgbClr val="fafd00"/>
              </a:solidFill>
              <a:latin typeface="Arial"/>
            </a:endParaRPr>
          </a:p>
        </p:txBody>
      </p:sp>
      <p:sp>
        <p:nvSpPr>
          <p:cNvPr id="95" name="PlaceHolder 2"/>
          <p:cNvSpPr>
            <a:spLocks noGrp="1"/>
          </p:cNvSpPr>
          <p:nvPr>
            <p:ph/>
          </p:nvPr>
        </p:nvSpPr>
        <p:spPr>
          <a:xfrm>
            <a:off x="1219320" y="838080"/>
            <a:ext cx="7772400" cy="5181840"/>
          </a:xfrm>
          <a:prstGeom prst="rect">
            <a:avLst/>
          </a:prstGeom>
          <a:noFill/>
          <a:ln w="0">
            <a:noFill/>
          </a:ln>
        </p:spPr>
        <p:txBody>
          <a:bodyPr lIns="90000" rIns="90000" tIns="46800" bIns="46800" anchor="t">
            <a:normAutofit fontScale="98000"/>
          </a:bodyPr>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ccounts for around 85% of sales</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orderly and effective method of disposal</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fficient way of aggregating wool from dispersed growers</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referred sale method for exporters</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ssists building mill batches to specification</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ximises competition</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gulations provide financial security</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in price discovery mechanism</a:t>
            </a:r>
            <a:endParaRPr b="1"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nder Sale</a:t>
            </a:r>
            <a:endParaRPr b="1" lang="en-US" sz="3200" spc="-1" strike="noStrike">
              <a:solidFill>
                <a:srgbClr val="fafd00"/>
              </a:solidFill>
              <a:latin typeface="Arial"/>
            </a:endParaRPr>
          </a:p>
        </p:txBody>
      </p:sp>
      <p:sp>
        <p:nvSpPr>
          <p:cNvPr id="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tracts less than 5% of cli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catalogues offered at end of wee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idding is “progressiv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er proportion of dealer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flexibility, fewer ‘rules’</a:t>
            </a:r>
            <a:endParaRPr b="1" lang="en-US" sz="2800" spc="-1" strike="noStrike">
              <a:solidFill>
                <a:srgbClr val="ffffff"/>
              </a:solidFill>
              <a:latin typeface="Arial"/>
            </a:endParaRPr>
          </a:p>
        </p:txBody>
      </p:sp>
      <p:sp>
        <p:nvSpPr>
          <p:cNvPr id="100"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By Description</a:t>
            </a:r>
            <a:br>
              <a:rPr sz="3200"/>
            </a:br>
            <a:r>
              <a:rPr b="1" lang="en-GB" sz="3200" spc="-1" strike="noStrike">
                <a:solidFill>
                  <a:srgbClr val="fafd00"/>
                </a:solidFill>
                <a:latin typeface="Arial"/>
              </a:rPr>
              <a:t>(Sale without Sample)</a:t>
            </a:r>
            <a:endParaRPr b="1" lang="en-US" sz="3200" spc="-1" strike="noStrike">
              <a:solidFill>
                <a:srgbClr val="fafd00"/>
              </a:solidFill>
              <a:latin typeface="Arial"/>
            </a:endParaRPr>
          </a:p>
        </p:txBody>
      </p:sp>
      <p:sp>
        <p:nvSpPr>
          <p:cNvPr id="10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iewed by industry committee 1998</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mited success, appraisal issu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yer opposition remains stro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tential to sell &gt;60% of cli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liminates need for transportation between sto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tionalisation of venues</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vate Selling: Spot</a:t>
            </a:r>
            <a:br>
              <a:rPr sz="3200"/>
            </a:br>
            <a:r>
              <a:rPr b="1" lang="en-GB" sz="3200" spc="-1" strike="noStrike">
                <a:solidFill>
                  <a:srgbClr val="fafd00"/>
                </a:solidFill>
                <a:latin typeface="Arial"/>
              </a:rPr>
              <a:t>(on farm, store door, price on result)</a:t>
            </a:r>
            <a:endParaRPr b="1" lang="en-US" sz="3200" spc="-1" strike="noStrike">
              <a:solidFill>
                <a:srgbClr val="fafd00"/>
              </a:solidFill>
              <a:latin typeface="Arial"/>
            </a:endParaRPr>
          </a:p>
        </p:txBody>
      </p:sp>
      <p:sp>
        <p:nvSpPr>
          <p:cNvPr id="110"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fontScale="95000"/>
          </a:bodyPr>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gotiation between buyer and seller for immediate delivery</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yer acts as agent, principal or representative of a mill</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etition mostly relates to clip size</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dance or certified tests used</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al price can be determined:</a:t>
            </a:r>
            <a:endParaRPr b="1" lang="en-US" sz="28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hed</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tore</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store door</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Private Selling: Forward</a:t>
            </a:r>
            <a:endParaRPr b="1" lang="en-US" sz="3200" spc="-1" strike="noStrike">
              <a:solidFill>
                <a:srgbClr val="fafd00"/>
              </a:solidFill>
              <a:latin typeface="Arial"/>
            </a:endParaRPr>
          </a:p>
        </p:txBody>
      </p:sp>
      <p:sp>
        <p:nvSpPr>
          <p:cNvPr id="114"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egotiation between buyer and seller for delivery 3 to 6 months ahead of shearing</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locks in a price, with a premiums and discounts grid on delivery</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reduces price risk for producers </a:t>
            </a:r>
            <a:endParaRPr b="1" lang="en-US" sz="2800" spc="-1" strike="noStrike">
              <a:solidFill>
                <a:srgbClr val="ffffff"/>
              </a:solidFill>
              <a:latin typeface="Arial"/>
            </a:endParaRPr>
          </a:p>
        </p:txBody>
      </p:sp>
      <p:sp>
        <p:nvSpPr>
          <p:cNvPr id="115"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rect to Mill</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veral options offered</a:t>
            </a:r>
            <a:br>
              <a:rPr sz="2800"/>
            </a:br>
            <a:r>
              <a:rPr b="1" lang="en-GB" sz="2800" spc="-1" strike="noStrike">
                <a:solidFill>
                  <a:srgbClr val="ffffff"/>
                </a:solidFill>
                <a:latin typeface="Arial"/>
              </a:rPr>
              <a:t>-  outright purchase</a:t>
            </a:r>
            <a:br>
              <a:rPr sz="2800"/>
            </a:br>
            <a:r>
              <a:rPr b="1" lang="en-GB" sz="2800" spc="-1" strike="noStrike">
                <a:solidFill>
                  <a:srgbClr val="ffffff"/>
                </a:solidFill>
                <a:latin typeface="Arial"/>
              </a:rPr>
              <a:t>-  grower owns tops</a:t>
            </a:r>
            <a:br>
              <a:rPr sz="2800"/>
            </a:br>
            <a:r>
              <a:rPr b="1" lang="en-GB" sz="2800" spc="-1" strike="noStrike">
                <a:solidFill>
                  <a:srgbClr val="ffffff"/>
                </a:solidFill>
                <a:latin typeface="Arial"/>
              </a:rPr>
              <a:t>-  joint venture with to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nly for larger cli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few growers/groups produce yar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ominantly niche market to garment st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mited competition</a:t>
            </a:r>
            <a:endParaRPr b="1" lang="en-US" sz="2800" spc="-1" strike="noStrike">
              <a:solidFill>
                <a:srgbClr val="ffffff"/>
              </a:solidFill>
              <a:latin typeface="Arial"/>
            </a:endParaRPr>
          </a:p>
        </p:txBody>
      </p:sp>
      <p:sp>
        <p:nvSpPr>
          <p:cNvPr id="120"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tching Wool; pre-selling Tops</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d-side samples test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offered to producer on predicted top resul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rk fibre procedures strictly observ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rtually no class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les cored in sh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s adjusted for actual test resul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verted to tops locally or O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old top delivered to spinner</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0:35:27Z</dcterms:created>
  <dc:creator>USER</dc:creator>
  <dc:description/>
  <dc:language>en-US</dc:language>
  <cp:lastModifiedBy>Hdaily</cp:lastModifiedBy>
  <cp:lastPrinted>2000-02-03T09:09:47Z</cp:lastPrinted>
  <dcterms:modified xsi:type="dcterms:W3CDTF">2000-04-27T00:31:05Z</dcterms:modified>
  <cp:revision>5</cp:revision>
  <dc:subject/>
  <dc:title>Raw Wool Marketing Choices</dc:title>
</cp:coreProperties>
</file>