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B4062-F3F0-45AE-8134-2B30B5CDE4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plains derived demand for raw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562040" y="533520"/>
            <a:ext cx="3657600" cy="2743200"/>
          </a:xfrm>
          <a:prstGeom prst="rect">
            <a:avLst/>
          </a:prstGeom>
          <a:ln w="0">
            <a:noFill/>
          </a:ln>
        </p:spPr>
      </p:sp>
      <p:sp>
        <p:nvSpPr>
          <p:cNvPr id="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Dickerson, Kitty G. (1995), Textiles and Apparel in the Global Economy, 2nd edition, Prentice-Hall, Inc., New Jersey, USA, page 245-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umers are the ultimate source of dem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no demand for raw wool in consumer markets.  Consumers at retail are buying products with wool in them, so demand for the raw material is derived from these purcha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ice of the retail product consists of the ultimate raw material price, and the manufacturing or marketing margins imposed on the raw material as it travels through the intermediate stages of manufacture, wholesaling and retai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margins vary between stages and consist of such things as risk, depreciation and profits.  The marketing services required to take the raw material to the next step are also part of marketing margi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rris, D. and Stogdon, A. (1996), World Markets for Wool Forecasts to 2000, Special Report No. 2642, Textiles Intelligence Ltd., Figure 4.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llustrates the derivation of demand for raw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further illustration of derived demand from spinners to topmakers is given in the module “Topmaker Preferen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562040" y="533520"/>
            <a:ext cx="3657600" cy="2743200"/>
          </a:xfrm>
          <a:prstGeom prst="rect">
            <a:avLst/>
          </a:prstGeom>
          <a:ln w="0">
            <a:noFill/>
          </a:ln>
        </p:spPr>
      </p:sp>
      <p:sp>
        <p:nvSpPr>
          <p:cNvPr id="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rris, D. and Stogdon, A. (1996), World Markets for Wool Forecasts to 2000, Special Report No. 2642, Textiles Intelligence Ltd., Figure 4.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aspect of derived demand is the time lapse between the purchase of raw material and the delivery of the product on to the store shelv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urchase of the raw material is preceded by sample preparation and exhibition cycles (for yarn and fabric), which is a layer of complexity not shown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cent developments such as Just in Time (JIT) and Quick Response (QR) manufacture have placed considerable pressure on these delivery schedul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562040" y="533520"/>
            <a:ext cx="3657600" cy="2743200"/>
          </a:xfrm>
          <a:prstGeom prst="rect">
            <a:avLst/>
          </a:prstGeom>
          <a:ln w="0">
            <a:noFill/>
          </a:ln>
        </p:spPr>
      </p:sp>
      <p:sp>
        <p:nvSpPr>
          <p:cNvPr id="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Stoeckel, A., Borrel, B. and Quirke, D. (1990), Wool into the 21st Century, Implications for Marketing and Profitability, Centre for International Economics, Canberra, p.10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dule “Economic Principles in Wool Marketing” looks at price elasticity of demand for raw wool.  More correctly this should be the price elasticity of derived dem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quantity response is INELASTIC, i.e. the quantity response to changes in price is less than the change in price.  This is true in the short to medium term, since margins tend to stay steady for a whi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there are a number of factors which make the demand less responsive to price changes besides the inelasticity of demand for the final product.  Derived demand is inelastic for products like fine suiting, but not true for products like woollen pullov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lasticity of derived demand is affected by factors such as how essential the raw material is to the final product (degree of substitution), the share of the final costs for the raw material (which can become very high and demand becomes more elastic for raw material), and how inelastic (or fixed) is supply of other production factors (eg. substitute fibr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562040" y="533520"/>
            <a:ext cx="3657600" cy="2743200"/>
          </a:xfrm>
          <a:prstGeom prst="rect">
            <a:avLst/>
          </a:prstGeom>
          <a:ln w="0">
            <a:noFill/>
          </a:ln>
        </p:spPr>
      </p:sp>
      <p:sp>
        <p:nvSpPr>
          <p:cNvPr id="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oeckel, A., Borrel, B. and Quirke, D. (1990), Wool into the 21st Century, Implications for Marketing and Profitability, Centre for International Economics, Canberr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dea of the share of final costs of the wool fibre in the end product can be derived from this fig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rther information on costs of inputs at each stage of manufacture is given in the module “Value Add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rived Demand</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70248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pic>
        <p:nvPicPr>
          <p:cNvPr id="50" name="text8_4" descr=""/>
          <p:cNvPicPr/>
          <p:nvPr/>
        </p:nvPicPr>
        <p:blipFill>
          <a:blip r:embed="rId1"/>
          <a:stretch/>
        </p:blipFill>
        <p:spPr>
          <a:xfrm>
            <a:off x="1752480" y="847800"/>
            <a:ext cx="6477120" cy="2657520"/>
          </a:xfrm>
          <a:prstGeom prst="rect">
            <a:avLst/>
          </a:prstGeom>
          <a:ln w="0">
            <a:noFill/>
          </a:ln>
        </p:spPr>
      </p:pic>
      <p:pic>
        <p:nvPicPr>
          <p:cNvPr id="51" name="text8_5" descr=""/>
          <p:cNvPicPr/>
          <p:nvPr/>
        </p:nvPicPr>
        <p:blipFill>
          <a:blip r:embed="rId2"/>
          <a:stretch/>
        </p:blipFill>
        <p:spPr>
          <a:xfrm>
            <a:off x="1752480" y="3591000"/>
            <a:ext cx="6477120" cy="2657520"/>
          </a:xfrm>
          <a:prstGeom prst="rect">
            <a:avLst/>
          </a:prstGeom>
          <a:ln w="0">
            <a:noFill/>
          </a:ln>
        </p:spPr>
      </p:pic>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sumer Spending leads the way</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rivation of Demand Scheme</a:t>
            </a:r>
            <a:endParaRPr b="1" lang="en-US" sz="3200" spc="-1" strike="noStrike">
              <a:solidFill>
                <a:srgbClr val="fafd00"/>
              </a:solidFill>
              <a:latin typeface="Arial"/>
            </a:endParaRPr>
          </a:p>
        </p:txBody>
      </p:sp>
      <p:sp>
        <p:nvSpPr>
          <p:cNvPr id="54" name=""/>
          <p:cNvSpPr/>
          <p:nvPr/>
        </p:nvSpPr>
        <p:spPr>
          <a:xfrm>
            <a:off x="6264360" y="6324480"/>
            <a:ext cx="2884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orris, D. &amp; Stogdon, A. (1996)</a:t>
            </a:r>
            <a:endParaRPr b="0" lang="en-US" sz="1200" spc="-1" strike="noStrike">
              <a:solidFill>
                <a:srgbClr val="000000"/>
              </a:solidFill>
              <a:latin typeface="Times New Roman"/>
            </a:endParaRPr>
          </a:p>
        </p:txBody>
      </p:sp>
      <p:pic>
        <p:nvPicPr>
          <p:cNvPr id="55" name="FORW4_1" descr=""/>
          <p:cNvPicPr/>
          <p:nvPr/>
        </p:nvPicPr>
        <p:blipFill>
          <a:blip r:embed="rId1">
            <a:lum contrast="6000"/>
          </a:blip>
          <a:srcRect l="3610" t="0" r="0" b="0"/>
          <a:stretch/>
        </p:blipFill>
        <p:spPr>
          <a:xfrm>
            <a:off x="2743200" y="762120"/>
            <a:ext cx="4419720" cy="5462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livery Time Lapse</a:t>
            </a:r>
            <a:endParaRPr b="1" lang="en-US" sz="3200" spc="-1" strike="noStrike">
              <a:solidFill>
                <a:srgbClr val="fafd00"/>
              </a:solidFill>
              <a:latin typeface="Arial"/>
            </a:endParaRPr>
          </a:p>
        </p:txBody>
      </p:sp>
      <p:pic>
        <p:nvPicPr>
          <p:cNvPr id="57" name="Forw4_2R" descr=""/>
          <p:cNvPicPr/>
          <p:nvPr/>
        </p:nvPicPr>
        <p:blipFill>
          <a:blip r:embed="rId1"/>
          <a:srcRect l="1904" t="0" r="1904" b="0"/>
          <a:stretch/>
        </p:blipFill>
        <p:spPr>
          <a:xfrm>
            <a:off x="1295280" y="838080"/>
            <a:ext cx="7696440" cy="5310360"/>
          </a:xfrm>
          <a:prstGeom prst="rect">
            <a:avLst/>
          </a:prstGeom>
          <a:ln w="0">
            <a:noFill/>
          </a:ln>
        </p:spPr>
      </p:pic>
      <p:sp>
        <p:nvSpPr>
          <p:cNvPr id="58" name=""/>
          <p:cNvSpPr/>
          <p:nvPr/>
        </p:nvSpPr>
        <p:spPr>
          <a:xfrm>
            <a:off x="6257880" y="6324480"/>
            <a:ext cx="2884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orris, D. &amp; Stogdon, A. (199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
          <p:cNvSpPr/>
          <p:nvPr/>
        </p:nvSpPr>
        <p:spPr>
          <a:xfrm>
            <a:off x="6548760" y="6324480"/>
            <a:ext cx="246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 </a:t>
            </a:r>
            <a:endParaRPr b="0" lang="en-US" sz="1200" spc="-1" strike="noStrike">
              <a:solidFill>
                <a:srgbClr val="000000"/>
              </a:solidFill>
              <a:latin typeface="Times New Roman"/>
            </a:endParaRPr>
          </a:p>
        </p:txBody>
      </p:sp>
      <p:sp>
        <p:nvSpPr>
          <p:cNvPr id="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lasticty of Derived Demand</a:t>
            </a:r>
            <a:endParaRPr b="1" lang="en-US" sz="3200" spc="-1" strike="noStrike">
              <a:solidFill>
                <a:srgbClr val="fafd00"/>
              </a:solidFill>
              <a:latin typeface="Arial"/>
            </a:endParaRPr>
          </a:p>
        </p:txBody>
      </p:sp>
      <p:sp>
        <p:nvSpPr>
          <p:cNvPr id="6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rived demand is price INELASTIC</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ort to medium term</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gins tend to stay steady</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mediate margins are squeezed firs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actors (more inelastic)</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he more inelastic is demand for final product (“market power”)</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he more essential the raw material is to the final product (eg. suit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maller share of final costs of the raw material</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he more inelastic is the supply of other production factors (substitute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hare of Final Costs: Wool</a:t>
            </a:r>
            <a:endParaRPr b="1" lang="en-US" sz="3200" spc="-1" strike="noStrike">
              <a:solidFill>
                <a:srgbClr val="fafd00"/>
              </a:solidFill>
              <a:latin typeface="Arial"/>
            </a:endParaRPr>
          </a:p>
        </p:txBody>
      </p:sp>
      <p:pic>
        <p:nvPicPr>
          <p:cNvPr id="63" name="CENT_42" descr=""/>
          <p:cNvPicPr/>
          <p:nvPr/>
        </p:nvPicPr>
        <p:blipFill>
          <a:blip r:embed="rId1"/>
          <a:stretch/>
        </p:blipFill>
        <p:spPr>
          <a:xfrm>
            <a:off x="1371600" y="976320"/>
            <a:ext cx="7543800" cy="4967280"/>
          </a:xfrm>
          <a:prstGeom prst="rect">
            <a:avLst/>
          </a:prstGeom>
          <a:ln w="0">
            <a:noFill/>
          </a:ln>
        </p:spPr>
      </p:pic>
      <p:sp>
        <p:nvSpPr>
          <p:cNvPr id="64" name=""/>
          <p:cNvSpPr/>
          <p:nvPr/>
        </p:nvSpPr>
        <p:spPr>
          <a:xfrm>
            <a:off x="6548760" y="6324480"/>
            <a:ext cx="246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7T02:50:02Z</dcterms:created>
  <dc:creator>USER</dc:creator>
  <dc:description/>
  <dc:language>en-US</dc:language>
  <cp:lastModifiedBy>Hdaily</cp:lastModifiedBy>
  <cp:lastPrinted>2000-03-07T03:34:22Z</cp:lastPrinted>
  <dcterms:modified xsi:type="dcterms:W3CDTF">2000-03-31T04:32:13Z</dcterms:modified>
  <cp:revision>2</cp:revision>
  <dc:subject/>
  <dc:title>Derived Demand</dc:title>
</cp:coreProperties>
</file>