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F7C24-1A90-42DE-AEA9-AA1A3BFE1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more traditional concept of value-adding and the more recent development, adding val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lue-adding is defined in this slide.  It is important to note that the figure derived for value-added by a process is not a measure of the profitability of the business undertaking that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key to profitability and competitiveness for a business is to add value to the product.  The value is what buyers are willing to pay.  Superior value can be achieved by providing lower prices for the same product, or a product with unique benefits for the buyer for which they are willing to pay a price premiu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ditionally, value-adding has been viewed as the conversion of raw materials into manufactured goods, especially as applied to industrial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far as the economic benefits to the wider economy are concerned this definition has been broadened by governments in recent years to include activities which occur after manufacture, such as marketing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the producers of agricultural goods, this broader view is also applicab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Griffith, R.E. (1993) Who Gets the Value out of Value Adding?, Wool Tech. Sheep Breed., 41, p. 62-6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tables provide an example of some value-adding during the industrial processing of wool fibre into men’s suiting.  It is obvious that the bulk of value-adding, in the traditional sense, occurs after early stage processing (ES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st of raw material for each process has also been calculated.  This is important when considering the profitability of each stage of the textile pipelin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pportunities for woolgrowers to add value would then broadly come under the headings listed at the top of this slide.  These form the Australian Government  perspective of value-ad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fore, it is up to woolgrowing businesses to identify opportunities to raise buyer satisfaction, and to devise strategies to exploit these opportunities using this framewo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context also, Total Quality Management, is another strategy designed to meet specific customers’ needs bet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Crean, S. (1992), Value-adding in Agriculture: A government perspective, Agricultural Science, March 24 - 2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iche marketing adds value by identifying the needs of a particular market segment through market research, and offering a specialised service.  It is very important to ensure that the benefits that the customer is willing to pay for (the value), outweigh the additional costs associated with providing the servic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iche marketing is a specific way to add value that is being pursued in the wool industry today.  The clothing makers, Woolaby and Toorallie, the consignment makers, Fibre Direct and Homestead Grazing Pty. Ltd., are current examples of this approach.  The production of shedded wool is a good example from the production s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iche marketing is a specific example of a generic strategy called Focus Differenti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eneric strategies for adding value can be classified as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wo main approaches are available to producers or processors in broad market segments.  They can try to attain Cost Leadership by being the lowest cost producer or alternatively they can differentiate their product to be the sole supplier of a high quality product that the customer is willing to pay f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mall producers may find it more appropriate to concentrate on small market segments.  Their approach to value-adding may also be based on cost (Focus Cost) or differentiation (Focus Differentiation).  These strategies also tailor the product to suit a small specific part of the market, and offer value that the buyer is willing to pay f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Porter, M.E. (1985), Competitive Advantage: Creating and Sustaining Superior Performance, The Free Press, New Yo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cus Differentiation approach has been pursued by some participants in the wool industry.  One point to emphasise again is that the likely additional costs of adoption of this strategy must lead to benefits and advantages that the buyer is willing me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ecific examples are Fibre Direct, the company which builds consignments of wool specifically tailored to the needs of its spinning customers.  These consignments are specifically designed to address the final needs of the garment consumer.  The quality assurance (QA) procedures and reliability of supply of these products are what the spinner is willing to pay f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example is Homestead Grazing Pty. Ltd. which involves pipeline players from designers through to growers in the production of specific high quality apparel products.  Again the QA procedures and reliability of supply are critical issues in this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aby is an example of a garment manufacturer using Focus Differentiation as a strategy.  In this case, the customer is the garment consumer who appreciates the quality and performance of the garments produced by this forward thinking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example of this strategy that has been adopted is Clipcare, which was founded in 1990, and finally bought out by Elders.  Clipcare was specifically designed as a vehicle to be “the basis for quality management standards in the wool industry”.  However, the benefits of this system to the buyer have not been manifested in demonstrable price premiums at this stage of the scheme, although there are some promising sig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alue-adding and</a:t>
            </a:r>
            <a:br>
              <a:rPr sz="3200"/>
            </a:br>
            <a:r>
              <a:rPr b="1" lang="en-GB" sz="3200" spc="-1" strike="noStrike">
                <a:solidFill>
                  <a:srgbClr val="fafd00"/>
                </a:solidFill>
                <a:latin typeface="Arial"/>
              </a:rPr>
              <a:t>“Adding Valu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finition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alue-add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venue of the business </a:t>
            </a:r>
            <a:r>
              <a:rPr b="1" i="1" lang="en-AU" sz="2400" spc="-1" strike="noStrike">
                <a:solidFill>
                  <a:srgbClr val="fafd00"/>
                </a:solidFill>
                <a:latin typeface="Arial"/>
              </a:rPr>
              <a:t>minus</a:t>
            </a:r>
            <a:r>
              <a:rPr b="1" lang="en-AU" sz="2400" spc="-1" strike="noStrike">
                <a:solidFill>
                  <a:srgbClr val="ffffff"/>
                </a:solidFill>
                <a:latin typeface="Arial"/>
              </a:rPr>
              <a:t> cost of raw material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ff"/>
                </a:solidFill>
                <a:uFillTx/>
                <a:latin typeface="Arial"/>
              </a:rPr>
              <a:t>not</a:t>
            </a:r>
            <a:r>
              <a:rPr b="1" lang="en-AU" sz="2400" spc="-1" strike="noStrike">
                <a:solidFill>
                  <a:srgbClr val="ffffff"/>
                </a:solidFill>
                <a:latin typeface="Arial"/>
              </a:rPr>
              <a:t> a measure of profitabilit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alu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ey to profitability &amp; competitivenes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at buyers are willing to pa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perior valu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er price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nique benefits</a:t>
            </a:r>
            <a:endParaRPr b="1" lang="en-US" sz="2000" spc="-1" strike="noStrike">
              <a:solidFill>
                <a:srgbClr val="ffffff"/>
              </a:solidFill>
              <a:latin typeface="Arial"/>
            </a:endParaRPr>
          </a:p>
        </p:txBody>
      </p:sp>
      <p:sp>
        <p:nvSpPr>
          <p:cNvPr id="51"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at is Value-adding?</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dition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w materials into manufactured good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dustrial processing</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cent developmen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ter activities included</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rketing</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nsporta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QA service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fter sales servicing</a:t>
            </a:r>
            <a:endParaRPr b="1" lang="en-US" sz="2000" spc="-1" strike="noStrike">
              <a:solidFill>
                <a:srgbClr val="ffffff"/>
              </a:solidFill>
              <a:latin typeface="Arial"/>
            </a:endParaRPr>
          </a:p>
        </p:txBody>
      </p:sp>
      <p:sp>
        <p:nvSpPr>
          <p:cNvPr id="54"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Value-adding in Processing</a:t>
            </a:r>
            <a:endParaRPr b="1" lang="en-US" sz="3200" spc="-1" strike="noStrike">
              <a:solidFill>
                <a:srgbClr val="fafd00"/>
              </a:solidFill>
              <a:latin typeface="Arial"/>
            </a:endParaRPr>
          </a:p>
        </p:txBody>
      </p:sp>
      <p:graphicFrame>
        <p:nvGraphicFramePr>
          <p:cNvPr id="56" name=""/>
          <p:cNvGraphicFramePr/>
          <p:nvPr/>
        </p:nvGraphicFramePr>
        <p:xfrm>
          <a:off x="1143000" y="1143000"/>
          <a:ext cx="8001000" cy="4159080"/>
        </p:xfrm>
        <a:graphic>
          <a:graphicData uri="http://schemas.openxmlformats.org/presentationml/2006/ole">
            <p:oleObj progId="Excel.Sheet.12" r:id="rId1" spid="">
              <p:embed/>
              <p:pic>
                <p:nvPicPr>
                  <p:cNvPr id="57" name="" descr=""/>
                  <p:cNvPicPr/>
                  <p:nvPr/>
                </p:nvPicPr>
                <p:blipFill>
                  <a:blip r:embed="rId2"/>
                  <a:stretch/>
                </p:blipFill>
                <p:spPr>
                  <a:xfrm>
                    <a:off x="1143000" y="1143000"/>
                    <a:ext cx="8001000" cy="4159080"/>
                  </a:xfrm>
                  <a:prstGeom prst="rect">
                    <a:avLst/>
                  </a:prstGeom>
                  <a:ln w="0">
                    <a:noFill/>
                  </a:ln>
                </p:spPr>
              </p:pic>
            </p:oleObj>
          </a:graphicData>
        </a:graphic>
      </p:graphicFrame>
      <p:sp>
        <p:nvSpPr>
          <p:cNvPr id="58" name=""/>
          <p:cNvSpPr/>
          <p:nvPr/>
        </p:nvSpPr>
        <p:spPr>
          <a:xfrm>
            <a:off x="1143000" y="1143000"/>
            <a:ext cx="8001000" cy="41911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 name=""/>
          <p:cNvSpPr/>
          <p:nvPr/>
        </p:nvSpPr>
        <p:spPr>
          <a:xfrm>
            <a:off x="6922800" y="6324480"/>
            <a:ext cx="2067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Griffith, R.E. (199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ramework for Woolgrowers</a:t>
            </a:r>
            <a:endParaRPr b="1" lang="en-US" sz="3200" spc="-1" strike="noStrike">
              <a:solidFill>
                <a:srgbClr val="fafd00"/>
              </a:solidFill>
              <a:latin typeface="Arial"/>
            </a:endParaRPr>
          </a:p>
        </p:txBody>
      </p:sp>
      <p:sp>
        <p:nvSpPr>
          <p:cNvPr id="6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ans to “add valu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iche market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motion of individual bran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intenance of quality standar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istency of servi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vision of financial services</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dentify opportunities to raise buyer satisfac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rategies to exploit opportunities</a:t>
            </a:r>
            <a:endParaRPr b="1" lang="en-US" sz="2800" spc="-1" strike="noStrike">
              <a:solidFill>
                <a:srgbClr val="ffffff"/>
              </a:solidFill>
              <a:latin typeface="Arial"/>
            </a:endParaRPr>
          </a:p>
        </p:txBody>
      </p:sp>
      <p:sp>
        <p:nvSpPr>
          <p:cNvPr id="62" name=""/>
          <p:cNvSpPr/>
          <p:nvPr/>
        </p:nvSpPr>
        <p:spPr>
          <a:xfrm>
            <a:off x="2803680" y="544356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iche Marketing</a:t>
            </a:r>
            <a:endParaRPr b="1" lang="en-US" sz="3200" spc="-1" strike="noStrike">
              <a:solidFill>
                <a:srgbClr val="fafd00"/>
              </a:solidFill>
              <a:latin typeface="Arial"/>
            </a:endParaRPr>
          </a:p>
        </p:txBody>
      </p:sp>
      <p:sp>
        <p:nvSpPr>
          <p:cNvPr id="6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dds valu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eds of a particular market segment satisfi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et research</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ecialised servi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enefits must outweigh the additional cos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urrent exampl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aby, Tooralli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Direct, Homestead Grazing P/L</a:t>
            </a:r>
            <a:endParaRPr b="1" lang="en-US" sz="2400" spc="-1" strike="noStrike">
              <a:solidFill>
                <a:srgbClr val="ffffff"/>
              </a:solidFill>
              <a:latin typeface="Arial"/>
            </a:endParaRPr>
          </a:p>
        </p:txBody>
      </p:sp>
      <p:sp>
        <p:nvSpPr>
          <p:cNvPr id="66"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rategies for Adding Value</a:t>
            </a:r>
            <a:endParaRPr b="1" lang="en-US" sz="3200" spc="-1" strike="noStrike">
              <a:solidFill>
                <a:srgbClr val="fafd00"/>
              </a:solidFill>
              <a:latin typeface="Arial"/>
            </a:endParaRPr>
          </a:p>
        </p:txBody>
      </p:sp>
      <p:sp>
        <p:nvSpPr>
          <p:cNvPr id="6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oad Market Segments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st Leadership</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est cost producer</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fferentiati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ole supplier, $ premium, added “value”</a:t>
            </a:r>
            <a:endParaRPr b="1" lang="en-US" sz="20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mall Market Segmen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cus Cost</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est cost producer</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cus Differentiati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ole supplier, $ premium, tailored</a:t>
            </a:r>
            <a:endParaRPr b="1" lang="en-US" sz="2000" spc="-1" strike="noStrike">
              <a:solidFill>
                <a:srgbClr val="ffffff"/>
              </a:solidFill>
              <a:latin typeface="Arial"/>
            </a:endParaRPr>
          </a:p>
        </p:txBody>
      </p:sp>
      <p:sp>
        <p:nvSpPr>
          <p:cNvPr id="69"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cus Differentiation</a:t>
            </a:r>
            <a:endParaRPr b="1" lang="en-US" sz="3200" spc="-1" strike="noStrike">
              <a:solidFill>
                <a:srgbClr val="fafd00"/>
              </a:solidFill>
              <a:latin typeface="Arial"/>
            </a:endParaRPr>
          </a:p>
        </p:txBody>
      </p:sp>
      <p:sp>
        <p:nvSpPr>
          <p:cNvPr id="7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7000"/>
          </a:bodyPr>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dditional costs likely</a:t>
            </a:r>
            <a:endParaRPr b="1" lang="en-US" sz="28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uyer MUST see advantage</a:t>
            </a:r>
            <a:endParaRPr b="1" lang="en-US" sz="28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chieved by</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er performance product</a:t>
            </a:r>
            <a:endParaRPr b="1" lang="en-US" sz="2400" spc="-1" strike="noStrike">
              <a:solidFill>
                <a:srgbClr val="ffffff"/>
              </a:solidFill>
              <a:latin typeface="Arial"/>
            </a:endParaRPr>
          </a:p>
          <a:p>
            <a:pPr lvl="2" marL="1108440" indent="-221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QA procedures</a:t>
            </a:r>
            <a:endParaRPr b="1" lang="en-US" sz="20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formance guarantees</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level of reliability of supply</a:t>
            </a:r>
            <a:endParaRPr b="1" lang="en-US" sz="24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urrent examples</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Direct, Homestead Grazing P/L</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aby</a:t>
            </a:r>
            <a:endParaRPr b="1" lang="en-US" sz="2400" spc="-1" strike="noStrike">
              <a:solidFill>
                <a:srgbClr val="ffffff"/>
              </a:solidFill>
              <a:latin typeface="Arial"/>
            </a:endParaRPr>
          </a:p>
        </p:txBody>
      </p:sp>
      <p:sp>
        <p:nvSpPr>
          <p:cNvPr id="72"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jor Reference</a:t>
            </a:r>
            <a:endParaRPr b="1" lang="en-US" sz="3200" spc="-1" strike="noStrike">
              <a:solidFill>
                <a:srgbClr val="fafd00"/>
              </a:solidFill>
              <a:latin typeface="Arial"/>
            </a:endParaRPr>
          </a:p>
        </p:txBody>
      </p:sp>
      <p:sp>
        <p:nvSpPr>
          <p:cNvPr id="74" name="PlaceHolder 2"/>
          <p:cNvSpPr>
            <a:spLocks noGrp="1"/>
          </p:cNvSpPr>
          <p:nvPr>
            <p:ph/>
          </p:nvPr>
        </p:nvSpPr>
        <p:spPr>
          <a:xfrm>
            <a:off x="1295280" y="838080"/>
            <a:ext cx="739152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Kaine, G., Tozer, P. &amp; Grace, C. (1994), Where’s the Value in Value Adding?, The Rural Development Centre, University of New England</a:t>
            </a:r>
            <a:endParaRPr b="1" lang="en-US" sz="2800" spc="-1" strike="noStrike">
              <a:solidFill>
                <a:srgbClr val="ffffff"/>
              </a:solidFill>
              <a:latin typeface="Arial"/>
            </a:endParaRPr>
          </a:p>
        </p:txBody>
      </p:sp>
      <p:sp>
        <p:nvSpPr>
          <p:cNvPr id="75"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2T04:04:49Z</dcterms:created>
  <dc:creator>USER</dc:creator>
  <dc:description/>
  <dc:language>en-US</dc:language>
  <cp:lastModifiedBy>Wes Osborne</cp:lastModifiedBy>
  <cp:lastPrinted>2000-02-03T09:09:47Z</cp:lastPrinted>
  <dcterms:modified xsi:type="dcterms:W3CDTF">2000-05-17T05:30:33Z</dcterms:modified>
  <cp:revision>5</cp:revision>
  <dc:subject/>
  <dc:title>Value-adding and “Adding Value”</dc:title>
</cp:coreProperties>
</file>