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F492-B53F-4CB8-84DE-8D74C2C66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5EC3-0B90-4DE6-8AE1-13D61DB7A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562040" y="533520"/>
            <a:ext cx="3657600" cy="2743200"/>
          </a:xfrm>
          <a:prstGeom prst="rect">
            <a:avLst/>
          </a:prstGeom>
          <a:ln w="0">
            <a:noFill/>
          </a:ln>
        </p:spPr>
      </p:sp>
      <p:sp>
        <p:nvSpPr>
          <p:cNvPr id="3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ology comprises sampling and measurement.  Generally, the aim is to obtain an estimation of the average value of a property within a pop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addresses some basic theory which will aid the understanding of metr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mpletion of this module you should understand the principles of sampling, the meaning of accuracy and precision, and how precision is calcul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ngus Ireland, Australian Wool Testing Authority Ltd. and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562040" y="533520"/>
            <a:ext cx="3657600" cy="2743200"/>
          </a:xfrm>
          <a:prstGeom prst="rect">
            <a:avLst/>
          </a:prstGeom>
          <a:ln w="0">
            <a:noFill/>
          </a:ln>
        </p:spPr>
      </p:sp>
      <p:sp>
        <p:nvSpPr>
          <p:cNvPr id="39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should reinforce what has been learned about the calculation of Total Varianc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igures have been calculated for the sources of variation in the test for fibre diameter using the Fibre Diameter Analyser (FDA).  This machine is obsolete but the example is still helpful, especially since the research was carried out that separates individual components of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08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mp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0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s of variation involve core sampling, subsampling, and the raw mater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ctional variances are added to calculate the Total Variance.  20 cores were taken, two subsamples were measured and 2000 fibres were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 can be calculated from this, and tells us that 95 times out of 100, the “true” result will be somewhere in an interval of 0.60 about the average (mean) resul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562040" y="533520"/>
            <a:ext cx="3657600" cy="2743200"/>
          </a:xfrm>
          <a:prstGeom prst="rect">
            <a:avLst/>
          </a:prstGeom>
          <a:ln w="0">
            <a:noFill/>
          </a:ln>
        </p:spPr>
      </p:sp>
      <p:sp>
        <p:nvSpPr>
          <p:cNvPr id="40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further measure of the precision of diameter obtained after sampling and testing.  This value is an estimate of the ‘true’ diameter and this estimate has definable levels of preci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asure of precision or confidence limits of the estimated mean fibre diameter are able to be specified because there is a tight control over the methods of sampling and testing to ensure they are conducted according to an agreed standard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if the true diameter of a sale lot was 30µm and it was repeatedly tested 100 times, it is known that on 95 of these occasions, the measured diameter would be within 0.6µm of the true diameter, or with the range 29.4µm to 30.6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sure of precision is known as the 95% confidence limit.  The range is also known as the 95% confidence interv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562040" y="533520"/>
            <a:ext cx="3657600" cy="2743200"/>
          </a:xfrm>
          <a:prstGeom prst="rect">
            <a:avLst/>
          </a:prstGeom>
          <a:ln w="0">
            <a:noFill/>
          </a:ln>
        </p:spPr>
      </p:sp>
      <p:sp>
        <p:nvSpPr>
          <p:cNvPr id="4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 opportunity for improving the precision of a test result is by conducting more sampling and tes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demonstrates the benefit obtained by carrying out multiples of the current sampling and testing reg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ame improvement in precision is obtained when individual sale lots are assembled into processing parcels for shipment to the mill.  Most processing parcels (consignments) are at least 10 lots, giving a 68% improvement in precision, or diameter confidence limits +/- 0.19µm for wools coarser that 26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562040" y="533520"/>
            <a:ext cx="3657600" cy="2743200"/>
          </a:xfrm>
          <a:prstGeom prst="rect">
            <a:avLst/>
          </a:prstGeom>
          <a:ln w="0">
            <a:noFill/>
          </a:ln>
        </p:spPr>
      </p:sp>
      <p:sp>
        <p:nvSpPr>
          <p:cNvPr id="4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IWTO 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eresting example of how the precision of measurements can vary is provided by this chart.  The precision as defined as the 95% confidence LIMIT of Laserscan diameter measurements for aqueous scoured wool is plotted against the average diameter (micron) values for the sampl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shows that the precision of diameter measurements is related to the diameter over a wide range.  However, it should be noted that the diameter range for Australian wool generally falls between the red lines, so the range of precision is quite narrow for Australian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the derivation of the above Confidence Limits, see Lindsay, A.R., IWTO, Raw Wool Group, Nice meeting, December 1996.</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s are taken to reliably describe some characteristic of a population.  This happens routinely in many industr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bsence of sampling and testing there would be less confidence in our lives.  For examp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s you get in the car to drive home from university, you couldn’t be sure whether the beer you’d just drunk was 2.5% or 7.5% alcohol; o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hen the plane you are flying in flops down into the ocean and you pull on the cords of your life jacket to release the compressed air, there would be no guarantee that the jacket would actually inflate; finall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f you are a wool buyer with a contract to deliver 16,000kg of 19.5µm wool to an Italian mill, and there was no sampling and testing, you would be relying entirely on your subjective skills of looking at and handling wool to save yourself from exceeding the tolerance and suffering a high financial penal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562040" y="533520"/>
            <a:ext cx="3657600" cy="2743200"/>
          </a:xfrm>
          <a:prstGeom prst="rect">
            <a:avLst/>
          </a:prstGeom>
          <a:ln w="0">
            <a:noFill/>
          </a:ln>
        </p:spPr>
      </p:sp>
      <p:sp>
        <p:nvSpPr>
          <p:cNvPr id="3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wool industry, lack of confidence will have a number of  consequences, includi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rokers who lack confidence in test methods will carefully check each sale lot against the results to determine if the testing was wrong so that a check test can be performed if necessary.</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yers will pay less for wool because they carry a risk that the test results are wrong.</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rocessors will insist on repeating the test on receival of the wool, so that if they haven’t got what they asked for, they can make a financial claim against the 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certainty at each stage in the pipeline adds costs to the final product which ultimately reduces the competitiveness of wool against other natural fibres and synthet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562040" y="533520"/>
            <a:ext cx="3657600" cy="2743200"/>
          </a:xfrm>
          <a:prstGeom prst="rect">
            <a:avLst/>
          </a:prstGeom>
          <a:ln w="0">
            <a:noFill/>
          </a:ln>
        </p:spPr>
      </p:sp>
      <p:sp>
        <p:nvSpPr>
          <p:cNvPr id="3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st result obtained through metrology can vary from the “true” result in two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inaccurate, i.e. moving to the right of the chart, the test results are some distance away from the target.  This can be caused by poor calibration, or instrument fail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imprecise, i.e. moving down the chart, the test results are scattered.  This can be caused by an inadequate sampling regime, or a highly variable population.  These two factors go hand in hand, since the sampling regime should reflect the variability of the population, but it is not always economically viable to do this.  In reality the precision of the test can be defined by statistical analysis.  This figure is called the 95% confidence limit.  This is commonly called “precision” in metrology parl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metrology should return a result which is both accurate and precise, i.e. the average result is repeatable and within clearly defined limits of the “true” resul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562040" y="533520"/>
            <a:ext cx="3657600" cy="2743200"/>
          </a:xfrm>
          <a:prstGeom prst="rect">
            <a:avLst/>
          </a:prstGeom>
          <a:ln w="0">
            <a:noFill/>
          </a:ln>
        </p:spPr>
      </p:sp>
      <p:sp>
        <p:nvSpPr>
          <p:cNvPr id="3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example of the difficulty in sampling an entire population is to consider the number of fibres in a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any fibres need to be sampled and measured in order to give a reasonable estimate of average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fibre diameter measurement using Laserscan, 7 bales of fibres (approx. 1200kg) are reduced to a sample weighing less than 0.1 grams.  Clearly, sampling and preparation must be thorough to give a result that is representative of the entire sale l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come of metrology is an estimation of the “true” value of a property within a certain population (or grou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cases the total population can’t be measured, e.g. the diameter of all the fibres in a wool bale.  Therefore sound metrology must be based on measurements made on an unbiased or representativ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basic steps to achieve a representative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ign of the sampling regime (e.g. how many cores need to be taken per bale) will ensure that there is an equal chance for each of the population to be picked.  During the selection of the sample, manipulation needs to be avoided. (Generally, machines perform this function most consisten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ility within a population determines how many samples need to be taken (e.g. if all  the fibres in a wool bale had the same diameter, then only one fibre would need to be sampled to estimate the diameter of all the fibres).  If the population is more variable then more samples must be taken to adequately represent the popul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562040" y="533520"/>
            <a:ext cx="3657600" cy="2743200"/>
          </a:xfrm>
          <a:prstGeom prst="rect">
            <a:avLst/>
          </a:prstGeom>
          <a:ln w="0">
            <a:noFill/>
          </a:ln>
        </p:spPr>
      </p:sp>
      <p:sp>
        <p:nvSpPr>
          <p:cNvPr id="3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example of natural variation in the raw material is that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found that the BETWEEN fibre variation can be from  8µm to 65 µ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tion ALONG a single fibre can also be very significant.  Normal growth patterns can lead to a small variation, while abnormal health and nutritional conditions, or pregnancy can lead to a complete “break”, a zero diameter in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562040" y="533520"/>
            <a:ext cx="3657600" cy="2743200"/>
          </a:xfrm>
          <a:prstGeom prst="rect">
            <a:avLst/>
          </a:prstGeom>
          <a:ln w="0">
            <a:noFill/>
          </a:ln>
        </p:spPr>
      </p:sp>
      <p:sp>
        <p:nvSpPr>
          <p:cNvPr id="3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variance of a test method takes into account all the sources of variation within a sampling and test regime.  These sources of variation include the variability of the raw material, the variability inherent in sampling, the variability of the test itself, the variability of each measurement within the test, the variability between operators, and the variability between laborat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 influence of each of these sources of variation changes for each property measured.  Some sources of variation may be negligible depending on the sampling and test reg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rces of variation for each raw wool property used commercially have generally been researched and calculated using a statistical method called Analysis of Variance.  This is because these measurements are used in trading and process control, so the variability of the measurement is of vital interest in terms of the risk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cases, the sources of variation may be broken down into a simple differentiation between WITHIN laboratory variance (which would include natural variation, sampling &amp; testing variation) and BETWEEN laboratory vari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ngus Ireland, Australian Wool Testing Authorit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Variance is therefore the sum of the fractional varia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en measuring fibre diameter with FDA (a predecessor of Laserscan), it has been calculated that the variance caused by the fibre is 21.8µ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however the variance per fibre (fractional variance) included in the calculation of Total Variance is 21.8 / 2000 since 2000 fibres were measured per FDA sub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reasoning can be applied to the inclusion of the fractional variances for the sampling and test regime.  That is the number of samples and the number of tests has a direct effect on the Total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for the precision of the test is calculated from the Total Var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 in statistical terms, is the 95% confidence interval (95% CI), i.e. when all the variation within the test is considered the “true” result will lie within the interval defined by the precision 95 times out of 10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ampling Theo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ngus Ireland, Australian Wool Testing Authori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25280" y="228600"/>
            <a:ext cx="811836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xample of Total Variance</a:t>
            </a:r>
            <a:endParaRPr b="1" lang="en-US" sz="3200" spc="-1" strike="noStrike">
              <a:solidFill>
                <a:srgbClr val="fafd00"/>
              </a:solidFill>
              <a:latin typeface="Arial"/>
            </a:endParaRPr>
          </a:p>
        </p:txBody>
      </p:sp>
      <p:sp>
        <p:nvSpPr>
          <p:cNvPr id="291" name="PlaceHolder 2"/>
          <p:cNvSpPr>
            <a:spLocks noGrp="1"/>
          </p:cNvSpPr>
          <p:nvPr>
            <p:ph/>
          </p:nvPr>
        </p:nvSpPr>
        <p:spPr>
          <a:xfrm>
            <a:off x="1295280" y="914400"/>
            <a:ext cx="777240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tal Variance (FDA)</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83 / 20 + 0.016 / 2 + 21.8 / 20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0415</a:t>
            </a:r>
            <a:r>
              <a:rPr b="1" lang="en-GB" sz="2800" spc="-1" strike="noStrike">
                <a:solidFill>
                  <a:srgbClr val="ffffff"/>
                </a:solidFill>
                <a:latin typeface="Arial"/>
              </a:rPr>
              <a:t>	</a:t>
            </a:r>
            <a:r>
              <a:rPr b="1" i="1" lang="en-GB" sz="2800" spc="-1" strike="noStrike">
                <a:solidFill>
                  <a:srgbClr val="ffffff"/>
                </a:solidFill>
                <a:latin typeface="Arial"/>
              </a:rPr>
              <a:t>(18.1%)</a:t>
            </a:r>
            <a:r>
              <a:rPr b="1" i="1" lang="en-GB" sz="2800" spc="-1" strike="noStrike">
                <a:solidFill>
                  <a:srgbClr val="ffffff"/>
                </a:solidFill>
                <a:latin typeface="Arial"/>
              </a:rPr>
              <a:t>	</a:t>
            </a:r>
            <a:r>
              <a:rPr b="1" i="1" lang="en-GB" sz="2800" spc="-1" strike="noStrike">
                <a:solidFill>
                  <a:srgbClr val="ffffff"/>
                </a:solidFill>
                <a:latin typeface="Arial"/>
              </a:rPr>
              <a:t>cor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0.008</a:t>
            </a:r>
            <a:r>
              <a:rPr b="1" lang="en-GB" sz="2800" spc="-1" strike="noStrike">
                <a:solidFill>
                  <a:srgbClr val="ffffff"/>
                </a:solidFill>
                <a:latin typeface="Arial"/>
              </a:rPr>
              <a:t>	</a:t>
            </a:r>
            <a:r>
              <a:rPr b="1" i="1" lang="en-GB" sz="2800" spc="-1" strike="noStrike">
                <a:solidFill>
                  <a:srgbClr val="ffffff"/>
                </a:solidFill>
                <a:latin typeface="Arial"/>
              </a:rPr>
              <a:t>(34.7%) </a:t>
            </a:r>
            <a:r>
              <a:rPr b="1" i="1" lang="en-GB" sz="2800" spc="-1" strike="noStrike">
                <a:solidFill>
                  <a:srgbClr val="ffffff"/>
                </a:solidFill>
                <a:latin typeface="Arial"/>
              </a:rPr>
              <a:t>	</a:t>
            </a:r>
            <a:r>
              <a:rPr b="1" i="1" lang="en-GB" sz="2800" spc="-1" strike="noStrike">
                <a:solidFill>
                  <a:srgbClr val="ffffff"/>
                </a:solidFill>
                <a:latin typeface="Arial"/>
              </a:rPr>
              <a:t>subsampl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0.0109</a:t>
            </a:r>
            <a:r>
              <a:rPr b="1" lang="en-GB" sz="2800" spc="-1" strike="noStrike">
                <a:solidFill>
                  <a:srgbClr val="ffffff"/>
                </a:solidFill>
                <a:latin typeface="Arial"/>
              </a:rPr>
              <a:t>	</a:t>
            </a:r>
            <a:r>
              <a:rPr b="1" i="1" lang="en-GB" sz="2800" spc="-1" strike="noStrike">
                <a:solidFill>
                  <a:srgbClr val="ffffff"/>
                </a:solidFill>
                <a:latin typeface="Arial"/>
              </a:rPr>
              <a:t>(47.3%) </a:t>
            </a:r>
            <a:r>
              <a:rPr b="1" i="1" lang="en-GB" sz="2800" spc="-1" strike="noStrike">
                <a:solidFill>
                  <a:srgbClr val="ffffff"/>
                </a:solidFill>
                <a:latin typeface="Arial"/>
              </a:rPr>
              <a:t>	</a:t>
            </a:r>
            <a:r>
              <a:rPr b="1" i="1" lang="en-GB" sz="2800" spc="-1" strike="noStrike">
                <a:solidFill>
                  <a:srgbClr val="ffffff"/>
                </a:solidFill>
                <a:latin typeface="Arial"/>
              </a:rPr>
              <a:t>fibr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0.02305</a:t>
            </a:r>
            <a:endParaRPr b="1" lang="en-US" sz="28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cision =    1.96 X    0.02305 = +/- 0.30 </a:t>
            </a:r>
            <a:endParaRPr b="1" lang="en-US" sz="2800" spc="-1" strike="noStrike">
              <a:solidFill>
                <a:srgbClr val="ffffff"/>
              </a:solidFill>
              <a:latin typeface="Arial"/>
            </a:endParaRPr>
          </a:p>
        </p:txBody>
      </p:sp>
      <p:sp>
        <p:nvSpPr>
          <p:cNvPr id="292"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grpSp>
        <p:nvGrpSpPr>
          <p:cNvPr id="293" name=""/>
          <p:cNvGrpSpPr/>
          <p:nvPr/>
        </p:nvGrpSpPr>
        <p:grpSpPr>
          <a:xfrm>
            <a:off x="4800600" y="4343400"/>
            <a:ext cx="1371600" cy="380880"/>
            <a:chOff x="4800600" y="4343400"/>
            <a:chExt cx="1371600" cy="380880"/>
          </a:xfrm>
        </p:grpSpPr>
        <p:sp>
          <p:nvSpPr>
            <p:cNvPr id="294" name=""/>
            <p:cNvSpPr/>
            <p:nvPr/>
          </p:nvSpPr>
          <p:spPr>
            <a:xfrm>
              <a:off x="4876920" y="4343400"/>
              <a:ext cx="129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4876920" y="4343400"/>
              <a:ext cx="0" cy="380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00600" y="4495680"/>
              <a:ext cx="76320" cy="228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95% Confidence Limit &amp; Interval</a:t>
            </a:r>
            <a:endParaRPr b="1" lang="en-US" sz="3200" spc="-1" strike="noStrike">
              <a:solidFill>
                <a:srgbClr val="fafd00"/>
              </a:solidFill>
              <a:latin typeface="Arial"/>
            </a:endParaRPr>
          </a:p>
        </p:txBody>
      </p:sp>
      <p:sp>
        <p:nvSpPr>
          <p:cNvPr id="298" name="PlaceHolder 2"/>
          <p:cNvSpPr>
            <a:spLocks noGrp="1"/>
          </p:cNvSpPr>
          <p:nvPr>
            <p:ph/>
          </p:nvPr>
        </p:nvSpPr>
        <p:spPr>
          <a:xfrm>
            <a:off x="2201400" y="1295280"/>
            <a:ext cx="6180120" cy="47246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Examp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30.0µm +/- 0.6µm  (Limit)</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29.4µm - 30.6µm  (Interval)</a:t>
            </a:r>
            <a:endParaRPr b="1"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ffffff"/>
              </a:solidFill>
              <a:latin typeface="Arial"/>
            </a:endParaRPr>
          </a:p>
        </p:txBody>
      </p:sp>
      <p:grpSp>
        <p:nvGrpSpPr>
          <p:cNvPr id="299" name=""/>
          <p:cNvGrpSpPr/>
          <p:nvPr/>
        </p:nvGrpSpPr>
        <p:grpSpPr>
          <a:xfrm>
            <a:off x="1371600" y="2362320"/>
            <a:ext cx="1511280" cy="1511280"/>
            <a:chOff x="1371600" y="2362320"/>
            <a:chExt cx="1511280" cy="1511280"/>
          </a:xfrm>
        </p:grpSpPr>
        <p:sp>
          <p:nvSpPr>
            <p:cNvPr id="300" name=""/>
            <p:cNvSpPr/>
            <p:nvPr/>
          </p:nvSpPr>
          <p:spPr>
            <a:xfrm>
              <a:off x="1371600" y="2362320"/>
              <a:ext cx="1511280" cy="368280"/>
            </a:xfrm>
            <a:prstGeom prst="rightArrow">
              <a:avLst>
                <a:gd name="adj1" fmla="val 50000"/>
                <a:gd name="adj2" fmla="val 20519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371600" y="3505320"/>
              <a:ext cx="1511280" cy="368280"/>
            </a:xfrm>
            <a:prstGeom prst="rightArrow">
              <a:avLst>
                <a:gd name="adj1" fmla="val 50000"/>
                <a:gd name="adj2" fmla="val 20519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2"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3"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04"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roving the Precision of a Test Result</a:t>
            </a:r>
            <a:endParaRPr b="1" lang="en-US" sz="3200" spc="-1" strike="noStrike">
              <a:solidFill>
                <a:srgbClr val="fafd00"/>
              </a:solidFill>
              <a:latin typeface="Arial"/>
            </a:endParaRPr>
          </a:p>
        </p:txBody>
      </p:sp>
      <p:grpSp>
        <p:nvGrpSpPr>
          <p:cNvPr id="305" name=""/>
          <p:cNvGrpSpPr/>
          <p:nvPr/>
        </p:nvGrpSpPr>
        <p:grpSpPr>
          <a:xfrm>
            <a:off x="1371600" y="1295280"/>
            <a:ext cx="7772400" cy="4953240"/>
            <a:chOff x="1371600" y="1295280"/>
            <a:chExt cx="7772400" cy="4953240"/>
          </a:xfrm>
        </p:grpSpPr>
        <p:sp>
          <p:nvSpPr>
            <p:cNvPr id="306" name=""/>
            <p:cNvSpPr/>
            <p:nvPr/>
          </p:nvSpPr>
          <p:spPr>
            <a:xfrm>
              <a:off x="5670720" y="1523880"/>
              <a:ext cx="347328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ffect on 95% Confidence Limit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ols &gt; 26µ)</a:t>
              </a:r>
              <a:endParaRPr b="0" lang="en-US" sz="2400" spc="-1" strike="noStrike">
                <a:solidFill>
                  <a:srgbClr val="000000"/>
                </a:solidFill>
                <a:latin typeface="Times New Roman"/>
              </a:endParaRPr>
            </a:p>
          </p:txBody>
        </p:sp>
        <p:sp>
          <p:nvSpPr>
            <p:cNvPr id="307" name=""/>
            <p:cNvSpPr/>
            <p:nvPr/>
          </p:nvSpPr>
          <p:spPr>
            <a:xfrm>
              <a:off x="1791360" y="1979640"/>
              <a:ext cx="1335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ultipl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ests</a:t>
              </a:r>
              <a:endParaRPr b="0" lang="en-US" sz="2400" spc="-1" strike="noStrike">
                <a:solidFill>
                  <a:srgbClr val="000000"/>
                </a:solidFill>
                <a:latin typeface="Times New Roman"/>
              </a:endParaRPr>
            </a:p>
          </p:txBody>
        </p:sp>
        <p:sp>
          <p:nvSpPr>
            <p:cNvPr id="308" name=""/>
            <p:cNvSpPr/>
            <p:nvPr/>
          </p:nvSpPr>
          <p:spPr>
            <a:xfrm>
              <a:off x="3390840" y="1523880"/>
              <a:ext cx="20955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mprovement</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n Precision</a:t>
              </a:r>
              <a:endParaRPr b="0" lang="en-US" sz="2400" spc="-1" strike="noStrike">
                <a:solidFill>
                  <a:srgbClr val="000000"/>
                </a:solidFill>
                <a:latin typeface="Times New Roman"/>
              </a:endParaRPr>
            </a:p>
          </p:txBody>
        </p:sp>
        <p:sp>
          <p:nvSpPr>
            <p:cNvPr id="309" name=""/>
            <p:cNvSpPr/>
            <p:nvPr/>
          </p:nvSpPr>
          <p:spPr>
            <a:xfrm>
              <a:off x="2154600" y="2970360"/>
              <a:ext cx="51984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1</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2</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4</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10</a:t>
              </a:r>
              <a:endParaRPr b="0" lang="en-US" sz="2400" spc="-1" strike="noStrike">
                <a:solidFill>
                  <a:srgbClr val="000000"/>
                </a:solidFill>
                <a:latin typeface="Times New Roman"/>
              </a:endParaRPr>
            </a:p>
          </p:txBody>
        </p:sp>
        <p:sp>
          <p:nvSpPr>
            <p:cNvPr id="310" name=""/>
            <p:cNvSpPr/>
            <p:nvPr/>
          </p:nvSpPr>
          <p:spPr>
            <a:xfrm>
              <a:off x="4080240" y="2970360"/>
              <a:ext cx="51984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 </a:t>
              </a:r>
              <a:r>
                <a:rPr b="1" lang="en-GB" sz="2400" spc="-1" strike="noStrike">
                  <a:solidFill>
                    <a:srgbClr val="ffffff"/>
                  </a:solidFill>
                  <a:latin typeface="Arial"/>
                </a:rPr>
                <a:t>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29</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5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8</a:t>
              </a:r>
              <a:endParaRPr b="0" lang="en-US" sz="2400" spc="-1" strike="noStrike">
                <a:solidFill>
                  <a:srgbClr val="000000"/>
                </a:solidFill>
                <a:latin typeface="Times New Roman"/>
              </a:endParaRPr>
            </a:p>
          </p:txBody>
        </p:sp>
        <p:sp>
          <p:nvSpPr>
            <p:cNvPr id="311" name=""/>
            <p:cNvSpPr/>
            <p:nvPr/>
          </p:nvSpPr>
          <p:spPr>
            <a:xfrm>
              <a:off x="6654960" y="2970360"/>
              <a:ext cx="77436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6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42</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30</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0.19</a:t>
              </a:r>
              <a:endParaRPr b="0" lang="en-US" sz="2400" spc="-1" strike="noStrike">
                <a:solidFill>
                  <a:srgbClr val="000000"/>
                </a:solidFill>
                <a:latin typeface="Times New Roman"/>
              </a:endParaRPr>
            </a:p>
          </p:txBody>
        </p:sp>
        <p:sp>
          <p:nvSpPr>
            <p:cNvPr id="312" name=""/>
            <p:cNvSpPr/>
            <p:nvPr/>
          </p:nvSpPr>
          <p:spPr>
            <a:xfrm>
              <a:off x="3352680" y="1295280"/>
              <a:ext cx="0" cy="495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715000" y="1295280"/>
              <a:ext cx="0" cy="495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71600" y="35812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371600" y="42670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371600" y="49528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371600" y="5638680"/>
              <a:ext cx="7086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371600" y="2819520"/>
              <a:ext cx="7086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7027920" y="6324480"/>
            <a:ext cx="2044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Peter Au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IWTO 12</a:t>
            </a:r>
            <a:endParaRPr b="0" lang="en-US" sz="1200" spc="-1" strike="noStrike">
              <a:solidFill>
                <a:srgbClr val="000000"/>
              </a:solidFill>
              <a:latin typeface="Times New Roman"/>
            </a:endParaRPr>
          </a:p>
        </p:txBody>
      </p:sp>
      <p:sp>
        <p:nvSpPr>
          <p:cNvPr id="32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ecision - How it can vary</a:t>
            </a:r>
            <a:endParaRPr b="1" lang="en-US" sz="3200" spc="-1" strike="noStrike">
              <a:solidFill>
                <a:srgbClr val="fafd00"/>
              </a:solidFill>
              <a:latin typeface="Arial"/>
            </a:endParaRPr>
          </a:p>
        </p:txBody>
      </p:sp>
      <p:grpSp>
        <p:nvGrpSpPr>
          <p:cNvPr id="321" name=""/>
          <p:cNvGrpSpPr/>
          <p:nvPr/>
        </p:nvGrpSpPr>
        <p:grpSpPr>
          <a:xfrm>
            <a:off x="1749600" y="1136880"/>
            <a:ext cx="6480000" cy="4857840"/>
            <a:chOff x="1749600" y="1136880"/>
            <a:chExt cx="6480000" cy="4857840"/>
          </a:xfrm>
        </p:grpSpPr>
        <p:sp>
          <p:nvSpPr>
            <p:cNvPr id="322" name=""/>
            <p:cNvSpPr/>
            <p:nvPr/>
          </p:nvSpPr>
          <p:spPr>
            <a:xfrm>
              <a:off x="2791080" y="1491480"/>
              <a:ext cx="5243040" cy="32410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791080" y="408024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2791080" y="3427560"/>
              <a:ext cx="52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791080" y="279792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2791080" y="2145240"/>
              <a:ext cx="5243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a:off x="2791080" y="149148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2791080" y="1491480"/>
              <a:ext cx="5243040" cy="3241080"/>
            </a:xfrm>
            <a:prstGeom prst="rect">
              <a:avLst/>
            </a:prstGeom>
            <a:noFill/>
            <a:ln w="1584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791080" y="1491480"/>
              <a:ext cx="1440" cy="324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707920" y="473256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2707920" y="408024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2707920" y="342756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
            <p:cNvSpPr/>
            <p:nvPr/>
          </p:nvSpPr>
          <p:spPr>
            <a:xfrm>
              <a:off x="2707920" y="279792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
            <p:cNvSpPr/>
            <p:nvPr/>
          </p:nvSpPr>
          <p:spPr>
            <a:xfrm>
              <a:off x="2707920" y="2145240"/>
              <a:ext cx="8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
            <p:cNvSpPr/>
            <p:nvPr/>
          </p:nvSpPr>
          <p:spPr>
            <a:xfrm>
              <a:off x="2707920" y="1491480"/>
              <a:ext cx="8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2791080" y="4732560"/>
              <a:ext cx="5243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flipV="1">
              <a:off x="279108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3841920" y="4732200"/>
              <a:ext cx="180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4894920" y="4732200"/>
              <a:ext cx="180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92956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698256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8034120" y="4732200"/>
              <a:ext cx="1440" cy="117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4369320" y="3589920"/>
              <a:ext cx="525600" cy="46728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4894920" y="3170160"/>
              <a:ext cx="525600" cy="41940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V="1">
              <a:off x="5420880" y="2797560"/>
              <a:ext cx="508680" cy="37260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5929560" y="2378160"/>
              <a:ext cx="527040" cy="41976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6456960" y="1980720"/>
              <a:ext cx="525600" cy="397080"/>
            </a:xfrm>
            <a:prstGeom prst="line">
              <a:avLst/>
            </a:prstGeom>
            <a:ln w="316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286880" y="3940200"/>
              <a:ext cx="163440" cy="232560"/>
            </a:xfrm>
            <a:custGeom>
              <a:avLst/>
              <a:gdLst/>
              <a:ahLst/>
              <a:rect l="l" t="t" r="r" b="b"/>
              <a:pathLst>
                <a:path w="97" h="123">
                  <a:moveTo>
                    <a:pt x="49" y="0"/>
                  </a:moveTo>
                  <a:lnTo>
                    <a:pt x="97" y="62"/>
                  </a:lnTo>
                  <a:lnTo>
                    <a:pt x="49" y="123"/>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812480" y="3472920"/>
              <a:ext cx="164880" cy="234360"/>
            </a:xfrm>
            <a:custGeom>
              <a:avLst/>
              <a:gdLst/>
              <a:ahLst/>
              <a:rect l="l" t="t" r="r" b="b"/>
              <a:pathLst>
                <a:path w="98" h="124">
                  <a:moveTo>
                    <a:pt x="49" y="0"/>
                  </a:moveTo>
                  <a:lnTo>
                    <a:pt x="98" y="62"/>
                  </a:lnTo>
                  <a:lnTo>
                    <a:pt x="49" y="124"/>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338080" y="3053160"/>
              <a:ext cx="164880" cy="234360"/>
            </a:xfrm>
            <a:custGeom>
              <a:avLst/>
              <a:gdLst/>
              <a:ahLst/>
              <a:rect l="l" t="t" r="r" b="b"/>
              <a:pathLst>
                <a:path w="98" h="124">
                  <a:moveTo>
                    <a:pt x="49" y="0"/>
                  </a:moveTo>
                  <a:lnTo>
                    <a:pt x="98" y="62"/>
                  </a:lnTo>
                  <a:lnTo>
                    <a:pt x="49" y="124"/>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848560" y="2680560"/>
              <a:ext cx="163440" cy="232560"/>
            </a:xfrm>
            <a:custGeom>
              <a:avLst/>
              <a:gdLst/>
              <a:ahLst/>
              <a:rect l="l" t="t" r="r" b="b"/>
              <a:pathLst>
                <a:path w="97" h="123">
                  <a:moveTo>
                    <a:pt x="48" y="0"/>
                  </a:moveTo>
                  <a:lnTo>
                    <a:pt x="97" y="62"/>
                  </a:lnTo>
                  <a:lnTo>
                    <a:pt x="48" y="123"/>
                  </a:lnTo>
                  <a:lnTo>
                    <a:pt x="0" y="62"/>
                  </a:lnTo>
                  <a:lnTo>
                    <a:pt x="4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74520" y="2260800"/>
              <a:ext cx="163440" cy="232560"/>
            </a:xfrm>
            <a:custGeom>
              <a:avLst/>
              <a:gdLst/>
              <a:ahLst/>
              <a:rect l="l" t="t" r="r" b="b"/>
              <a:pathLst>
                <a:path w="97" h="123">
                  <a:moveTo>
                    <a:pt x="49" y="0"/>
                  </a:moveTo>
                  <a:lnTo>
                    <a:pt x="97" y="62"/>
                  </a:lnTo>
                  <a:lnTo>
                    <a:pt x="49" y="123"/>
                  </a:lnTo>
                  <a:lnTo>
                    <a:pt x="0" y="62"/>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900120" y="1865880"/>
              <a:ext cx="164880" cy="232200"/>
            </a:xfrm>
            <a:custGeom>
              <a:avLst/>
              <a:gdLst/>
              <a:ahLst/>
              <a:rect l="l" t="t" r="r" b="b"/>
              <a:pathLst>
                <a:path w="98" h="123">
                  <a:moveTo>
                    <a:pt x="49" y="0"/>
                  </a:moveTo>
                  <a:lnTo>
                    <a:pt x="98" y="61"/>
                  </a:lnTo>
                  <a:lnTo>
                    <a:pt x="49" y="123"/>
                  </a:lnTo>
                  <a:lnTo>
                    <a:pt x="0" y="61"/>
                  </a:lnTo>
                  <a:lnTo>
                    <a:pt x="4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687920" y="396288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21</a:t>
              </a:r>
              <a:endParaRPr b="0" lang="en-US" sz="1800" spc="-1" strike="noStrike">
                <a:solidFill>
                  <a:srgbClr val="000000"/>
                </a:solidFill>
                <a:latin typeface="Times New Roman"/>
              </a:endParaRPr>
            </a:p>
          </p:txBody>
        </p:sp>
        <p:sp>
          <p:nvSpPr>
            <p:cNvPr id="355" name=""/>
            <p:cNvSpPr/>
            <p:nvPr/>
          </p:nvSpPr>
          <p:spPr>
            <a:xfrm>
              <a:off x="5213520" y="349416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35</a:t>
              </a:r>
              <a:endParaRPr b="0" lang="en-US" sz="1800" spc="-1" strike="noStrike">
                <a:solidFill>
                  <a:srgbClr val="000000"/>
                </a:solidFill>
                <a:latin typeface="Times New Roman"/>
              </a:endParaRPr>
            </a:p>
          </p:txBody>
        </p:sp>
        <p:sp>
          <p:nvSpPr>
            <p:cNvPr id="356" name=""/>
            <p:cNvSpPr/>
            <p:nvPr/>
          </p:nvSpPr>
          <p:spPr>
            <a:xfrm>
              <a:off x="5742000" y="307404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48</a:t>
              </a:r>
              <a:endParaRPr b="0" lang="en-US" sz="1800" spc="-1" strike="noStrike">
                <a:solidFill>
                  <a:srgbClr val="000000"/>
                </a:solidFill>
                <a:latin typeface="Times New Roman"/>
              </a:endParaRPr>
            </a:p>
          </p:txBody>
        </p:sp>
        <p:sp>
          <p:nvSpPr>
            <p:cNvPr id="357" name=""/>
            <p:cNvSpPr/>
            <p:nvPr/>
          </p:nvSpPr>
          <p:spPr>
            <a:xfrm>
              <a:off x="6157080" y="270144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60</a:t>
              </a:r>
              <a:endParaRPr b="0" lang="en-US" sz="1800" spc="-1" strike="noStrike">
                <a:solidFill>
                  <a:srgbClr val="000000"/>
                </a:solidFill>
                <a:latin typeface="Times New Roman"/>
              </a:endParaRPr>
            </a:p>
          </p:txBody>
        </p:sp>
        <p:sp>
          <p:nvSpPr>
            <p:cNvPr id="358" name=""/>
            <p:cNvSpPr/>
            <p:nvPr/>
          </p:nvSpPr>
          <p:spPr>
            <a:xfrm>
              <a:off x="6775560" y="228168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73</a:t>
              </a:r>
              <a:endParaRPr b="0" lang="en-US" sz="1800" spc="-1" strike="noStrike">
                <a:solidFill>
                  <a:srgbClr val="000000"/>
                </a:solidFill>
                <a:latin typeface="Times New Roman"/>
              </a:endParaRPr>
            </a:p>
          </p:txBody>
        </p:sp>
        <p:sp>
          <p:nvSpPr>
            <p:cNvPr id="359" name=""/>
            <p:cNvSpPr/>
            <p:nvPr/>
          </p:nvSpPr>
          <p:spPr>
            <a:xfrm>
              <a:off x="7301160" y="188460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85</a:t>
              </a:r>
              <a:endParaRPr b="0" lang="en-US" sz="1800" spc="-1" strike="noStrike">
                <a:solidFill>
                  <a:srgbClr val="000000"/>
                </a:solidFill>
                <a:latin typeface="Times New Roman"/>
              </a:endParaRPr>
            </a:p>
          </p:txBody>
        </p:sp>
        <p:sp>
          <p:nvSpPr>
            <p:cNvPr id="360" name=""/>
            <p:cNvSpPr/>
            <p:nvPr/>
          </p:nvSpPr>
          <p:spPr>
            <a:xfrm>
              <a:off x="2495160" y="452232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361" name=""/>
            <p:cNvSpPr/>
            <p:nvPr/>
          </p:nvSpPr>
          <p:spPr>
            <a:xfrm>
              <a:off x="2350080" y="387000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2</a:t>
              </a:r>
              <a:endParaRPr b="0" lang="en-US" sz="2000" spc="-1" strike="noStrike">
                <a:solidFill>
                  <a:srgbClr val="000000"/>
                </a:solidFill>
                <a:latin typeface="Times New Roman"/>
              </a:endParaRPr>
            </a:p>
          </p:txBody>
        </p:sp>
        <p:sp>
          <p:nvSpPr>
            <p:cNvPr id="362" name=""/>
            <p:cNvSpPr/>
            <p:nvPr/>
          </p:nvSpPr>
          <p:spPr>
            <a:xfrm>
              <a:off x="2350080" y="321768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4</a:t>
              </a:r>
              <a:endParaRPr b="0" lang="en-US" sz="2000" spc="-1" strike="noStrike">
                <a:solidFill>
                  <a:srgbClr val="000000"/>
                </a:solidFill>
                <a:latin typeface="Times New Roman"/>
              </a:endParaRPr>
            </a:p>
          </p:txBody>
        </p:sp>
        <p:sp>
          <p:nvSpPr>
            <p:cNvPr id="363" name=""/>
            <p:cNvSpPr/>
            <p:nvPr/>
          </p:nvSpPr>
          <p:spPr>
            <a:xfrm>
              <a:off x="2350080" y="258804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6</a:t>
              </a:r>
              <a:endParaRPr b="0" lang="en-US" sz="2000" spc="-1" strike="noStrike">
                <a:solidFill>
                  <a:srgbClr val="000000"/>
                </a:solidFill>
                <a:latin typeface="Times New Roman"/>
              </a:endParaRPr>
            </a:p>
          </p:txBody>
        </p:sp>
        <p:sp>
          <p:nvSpPr>
            <p:cNvPr id="364" name=""/>
            <p:cNvSpPr/>
            <p:nvPr/>
          </p:nvSpPr>
          <p:spPr>
            <a:xfrm>
              <a:off x="2350080" y="193572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8</a:t>
              </a:r>
              <a:endParaRPr b="0" lang="en-US" sz="2000" spc="-1" strike="noStrike">
                <a:solidFill>
                  <a:srgbClr val="000000"/>
                </a:solidFill>
                <a:latin typeface="Times New Roman"/>
              </a:endParaRPr>
            </a:p>
          </p:txBody>
        </p:sp>
        <p:sp>
          <p:nvSpPr>
            <p:cNvPr id="365" name=""/>
            <p:cNvSpPr/>
            <p:nvPr/>
          </p:nvSpPr>
          <p:spPr>
            <a:xfrm>
              <a:off x="2284560" y="1281240"/>
              <a:ext cx="3542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grpSp>
          <p:nvGrpSpPr>
            <p:cNvPr id="366" name=""/>
            <p:cNvGrpSpPr/>
            <p:nvPr/>
          </p:nvGrpSpPr>
          <p:grpSpPr>
            <a:xfrm>
              <a:off x="2725920" y="5061600"/>
              <a:ext cx="5503680" cy="305280"/>
              <a:chOff x="2725920" y="5061600"/>
              <a:chExt cx="5503680" cy="305280"/>
            </a:xfrm>
          </p:grpSpPr>
          <p:sp>
            <p:nvSpPr>
              <p:cNvPr id="367" name=""/>
              <p:cNvSpPr/>
              <p:nvPr/>
            </p:nvSpPr>
            <p:spPr>
              <a:xfrm>
                <a:off x="2725920" y="506160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368" name=""/>
              <p:cNvSpPr/>
              <p:nvPr/>
            </p:nvSpPr>
            <p:spPr>
              <a:xfrm>
                <a:off x="375336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a:t>
                </a:r>
                <a:endParaRPr b="0" lang="en-US" sz="2000" spc="-1" strike="noStrike">
                  <a:solidFill>
                    <a:srgbClr val="000000"/>
                  </a:solidFill>
                  <a:latin typeface="Times New Roman"/>
                </a:endParaRPr>
              </a:p>
            </p:txBody>
          </p:sp>
          <p:sp>
            <p:nvSpPr>
              <p:cNvPr id="369" name=""/>
              <p:cNvSpPr/>
              <p:nvPr/>
            </p:nvSpPr>
            <p:spPr>
              <a:xfrm>
                <a:off x="480420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370" name=""/>
              <p:cNvSpPr/>
              <p:nvPr/>
            </p:nvSpPr>
            <p:spPr>
              <a:xfrm>
                <a:off x="584100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0</a:t>
                </a:r>
                <a:endParaRPr b="0" lang="en-US" sz="2000" spc="-1" strike="noStrike">
                  <a:solidFill>
                    <a:srgbClr val="000000"/>
                  </a:solidFill>
                  <a:latin typeface="Times New Roman"/>
                </a:endParaRPr>
              </a:p>
            </p:txBody>
          </p:sp>
          <p:sp>
            <p:nvSpPr>
              <p:cNvPr id="371" name=""/>
              <p:cNvSpPr/>
              <p:nvPr/>
            </p:nvSpPr>
            <p:spPr>
              <a:xfrm>
                <a:off x="689328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a:t>
                </a:r>
                <a:endParaRPr b="0" lang="en-US" sz="2000" spc="-1" strike="noStrike">
                  <a:solidFill>
                    <a:srgbClr val="000000"/>
                  </a:solidFill>
                  <a:latin typeface="Times New Roman"/>
                </a:endParaRPr>
              </a:p>
            </p:txBody>
          </p:sp>
          <p:sp>
            <p:nvSpPr>
              <p:cNvPr id="372" name=""/>
              <p:cNvSpPr/>
              <p:nvPr/>
            </p:nvSpPr>
            <p:spPr>
              <a:xfrm>
                <a:off x="7945560" y="50616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a:t>
                </a:r>
                <a:endParaRPr b="0" lang="en-US" sz="2000" spc="-1" strike="noStrike">
                  <a:solidFill>
                    <a:srgbClr val="000000"/>
                  </a:solidFill>
                  <a:latin typeface="Times New Roman"/>
                </a:endParaRPr>
              </a:p>
            </p:txBody>
          </p:sp>
        </p:grpSp>
        <p:sp>
          <p:nvSpPr>
            <p:cNvPr id="373" name=""/>
            <p:cNvSpPr/>
            <p:nvPr/>
          </p:nvSpPr>
          <p:spPr>
            <a:xfrm>
              <a:off x="3794760" y="5689440"/>
              <a:ext cx="31158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an Fibre Diameter (µm)</a:t>
              </a:r>
              <a:endParaRPr b="0" lang="en-US" sz="2000" spc="-1" strike="noStrike">
                <a:solidFill>
                  <a:srgbClr val="000000"/>
                </a:solidFill>
                <a:latin typeface="Times New Roman"/>
              </a:endParaRPr>
            </a:p>
          </p:txBody>
        </p:sp>
        <p:sp>
          <p:nvSpPr>
            <p:cNvPr id="374" name=""/>
            <p:cNvSpPr/>
            <p:nvPr/>
          </p:nvSpPr>
          <p:spPr>
            <a:xfrm rot="16200000">
              <a:off x="274320" y="2612160"/>
              <a:ext cx="32558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5% Confidence Limit (µm)</a:t>
              </a:r>
              <a:endParaRPr b="0" lang="en-US" sz="2000" spc="-1" strike="noStrike">
                <a:solidFill>
                  <a:srgbClr val="000000"/>
                </a:solidFill>
                <a:latin typeface="Times New Roman"/>
              </a:endParaRPr>
            </a:p>
          </p:txBody>
        </p:sp>
        <p:sp>
          <p:nvSpPr>
            <p:cNvPr id="375" name=""/>
            <p:cNvSpPr/>
            <p:nvPr/>
          </p:nvSpPr>
          <p:spPr>
            <a:xfrm flipV="1">
              <a:off x="4175640" y="1473840"/>
              <a:ext cx="0" cy="3267720"/>
            </a:xfrm>
            <a:prstGeom prst="line">
              <a:avLst/>
            </a:prstGeom>
            <a:ln w="93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5631120" y="1473840"/>
              <a:ext cx="0" cy="3267720"/>
            </a:xfrm>
            <a:prstGeom prst="line">
              <a:avLst/>
            </a:prstGeom>
            <a:ln w="93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pulation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eers in the ba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fe jackets in aeroplan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Diameters of wool fibres</a:t>
            </a:r>
            <a:endParaRPr b="1" lang="en-US" sz="2800" spc="-1" strike="noStrike">
              <a:solidFill>
                <a:srgbClr val="ffffff"/>
              </a:solidFill>
              <a:latin typeface="Arial"/>
            </a:endParaRPr>
          </a:p>
        </p:txBody>
      </p:sp>
      <p:pic>
        <p:nvPicPr>
          <p:cNvPr id="51" name="" descr=""/>
          <p:cNvPicPr/>
          <p:nvPr/>
        </p:nvPicPr>
        <p:blipFill>
          <a:blip r:embed="rId1"/>
          <a:stretch/>
        </p:blipFill>
        <p:spPr>
          <a:xfrm>
            <a:off x="4191120" y="1066680"/>
            <a:ext cx="2133360" cy="1787760"/>
          </a:xfrm>
          <a:prstGeom prst="rect">
            <a:avLst/>
          </a:prstGeom>
          <a:ln w="0">
            <a:noFill/>
          </a:ln>
        </p:spPr>
      </p:pic>
      <p:grpSp>
        <p:nvGrpSpPr>
          <p:cNvPr id="52" name=""/>
          <p:cNvGrpSpPr/>
          <p:nvPr/>
        </p:nvGrpSpPr>
        <p:grpSpPr>
          <a:xfrm>
            <a:off x="6172200" y="762120"/>
            <a:ext cx="2971800" cy="3809520"/>
            <a:chOff x="6172200" y="762120"/>
            <a:chExt cx="2971800" cy="3809520"/>
          </a:xfrm>
        </p:grpSpPr>
        <p:grpSp>
          <p:nvGrpSpPr>
            <p:cNvPr id="53" name=""/>
            <p:cNvGrpSpPr/>
            <p:nvPr/>
          </p:nvGrpSpPr>
          <p:grpSpPr>
            <a:xfrm>
              <a:off x="6172200" y="2878200"/>
              <a:ext cx="2971800" cy="1693440"/>
              <a:chOff x="6172200" y="2878200"/>
              <a:chExt cx="2971800" cy="1693440"/>
            </a:xfrm>
          </p:grpSpPr>
          <p:grpSp>
            <p:nvGrpSpPr>
              <p:cNvPr id="54" name=""/>
              <p:cNvGrpSpPr/>
              <p:nvPr/>
            </p:nvGrpSpPr>
            <p:grpSpPr>
              <a:xfrm>
                <a:off x="6172200" y="2878200"/>
                <a:ext cx="2971800" cy="1693440"/>
                <a:chOff x="6172200" y="2878200"/>
                <a:chExt cx="2971800" cy="1693440"/>
              </a:xfrm>
            </p:grpSpPr>
            <p:grpSp>
              <p:nvGrpSpPr>
                <p:cNvPr id="55" name=""/>
                <p:cNvGrpSpPr/>
                <p:nvPr/>
              </p:nvGrpSpPr>
              <p:grpSpPr>
                <a:xfrm>
                  <a:off x="6172200" y="2878200"/>
                  <a:ext cx="2971800" cy="1693440"/>
                  <a:chOff x="6172200" y="2878200"/>
                  <a:chExt cx="2971800" cy="1693440"/>
                </a:xfrm>
              </p:grpSpPr>
              <p:sp>
                <p:nvSpPr>
                  <p:cNvPr id="56" name=""/>
                  <p:cNvSpPr/>
                  <p:nvPr/>
                </p:nvSpPr>
                <p:spPr>
                  <a:xfrm>
                    <a:off x="6172200" y="2878200"/>
                    <a:ext cx="2971800" cy="505440"/>
                  </a:xfrm>
                  <a:custGeom>
                    <a:avLst/>
                    <a:gdLst/>
                    <a:ahLst/>
                    <a:rect l="l" t="t" r="r" b="b"/>
                    <a:pathLst>
                      <a:path w="2766" h="536">
                        <a:moveTo>
                          <a:pt x="0" y="533"/>
                        </a:moveTo>
                        <a:lnTo>
                          <a:pt x="0" y="234"/>
                        </a:lnTo>
                        <a:lnTo>
                          <a:pt x="91" y="202"/>
                        </a:lnTo>
                        <a:lnTo>
                          <a:pt x="171" y="100"/>
                        </a:lnTo>
                        <a:lnTo>
                          <a:pt x="381" y="183"/>
                        </a:lnTo>
                        <a:lnTo>
                          <a:pt x="511" y="0"/>
                        </a:lnTo>
                        <a:lnTo>
                          <a:pt x="610" y="102"/>
                        </a:lnTo>
                        <a:lnTo>
                          <a:pt x="650" y="134"/>
                        </a:lnTo>
                        <a:lnTo>
                          <a:pt x="744" y="207"/>
                        </a:lnTo>
                        <a:lnTo>
                          <a:pt x="832" y="173"/>
                        </a:lnTo>
                        <a:lnTo>
                          <a:pt x="978" y="350"/>
                        </a:lnTo>
                        <a:lnTo>
                          <a:pt x="1073" y="222"/>
                        </a:lnTo>
                        <a:lnTo>
                          <a:pt x="1173" y="352"/>
                        </a:lnTo>
                        <a:lnTo>
                          <a:pt x="1313" y="115"/>
                        </a:lnTo>
                        <a:lnTo>
                          <a:pt x="1377" y="313"/>
                        </a:lnTo>
                        <a:lnTo>
                          <a:pt x="1541" y="179"/>
                        </a:lnTo>
                        <a:lnTo>
                          <a:pt x="1563" y="375"/>
                        </a:lnTo>
                        <a:lnTo>
                          <a:pt x="1692" y="141"/>
                        </a:lnTo>
                        <a:lnTo>
                          <a:pt x="1855" y="269"/>
                        </a:lnTo>
                        <a:lnTo>
                          <a:pt x="1954" y="132"/>
                        </a:lnTo>
                        <a:lnTo>
                          <a:pt x="2019" y="132"/>
                        </a:lnTo>
                        <a:lnTo>
                          <a:pt x="2124" y="234"/>
                        </a:lnTo>
                        <a:lnTo>
                          <a:pt x="2269" y="70"/>
                        </a:lnTo>
                        <a:lnTo>
                          <a:pt x="2476" y="260"/>
                        </a:lnTo>
                        <a:lnTo>
                          <a:pt x="2597" y="198"/>
                        </a:lnTo>
                        <a:lnTo>
                          <a:pt x="2714" y="249"/>
                        </a:lnTo>
                        <a:lnTo>
                          <a:pt x="2765" y="215"/>
                        </a:lnTo>
                        <a:lnTo>
                          <a:pt x="2765" y="535"/>
                        </a:lnTo>
                        <a:lnTo>
                          <a:pt x="0" y="53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6172200" y="3353400"/>
                    <a:ext cx="2971800" cy="1218240"/>
                  </a:xfrm>
                  <a:custGeom>
                    <a:avLst/>
                    <a:gdLst/>
                    <a:ahLst/>
                    <a:rect l="l" t="t" r="r" b="b"/>
                    <a:pathLst>
                      <a:path w="2766" h="1292">
                        <a:moveTo>
                          <a:pt x="0" y="0"/>
                        </a:moveTo>
                        <a:lnTo>
                          <a:pt x="0" y="1291"/>
                        </a:lnTo>
                        <a:lnTo>
                          <a:pt x="2765" y="1282"/>
                        </a:lnTo>
                        <a:lnTo>
                          <a:pt x="2765" y="2"/>
                        </a:lnTo>
                        <a:lnTo>
                          <a:pt x="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6223680" y="3662640"/>
                  <a:ext cx="2909880" cy="802080"/>
                  <a:chOff x="6223680" y="3662640"/>
                  <a:chExt cx="2909880" cy="802080"/>
                </a:xfrm>
              </p:grpSpPr>
              <p:sp>
                <p:nvSpPr>
                  <p:cNvPr id="59" name=""/>
                  <p:cNvSpPr/>
                  <p:nvPr/>
                </p:nvSpPr>
                <p:spPr>
                  <a:xfrm>
                    <a:off x="6249240" y="4208760"/>
                    <a:ext cx="294120" cy="104400"/>
                  </a:xfrm>
                  <a:custGeom>
                    <a:avLst/>
                    <a:gdLst/>
                    <a:ahLst/>
                    <a:rect l="l" t="t" r="r" b="b"/>
                    <a:pathLst>
                      <a:path w="274" h="111">
                        <a:moveTo>
                          <a:pt x="85" y="0"/>
                        </a:moveTo>
                        <a:lnTo>
                          <a:pt x="66" y="9"/>
                        </a:lnTo>
                        <a:lnTo>
                          <a:pt x="47" y="11"/>
                        </a:lnTo>
                        <a:lnTo>
                          <a:pt x="21" y="26"/>
                        </a:lnTo>
                        <a:lnTo>
                          <a:pt x="6" y="51"/>
                        </a:lnTo>
                        <a:lnTo>
                          <a:pt x="0" y="81"/>
                        </a:lnTo>
                        <a:lnTo>
                          <a:pt x="32" y="99"/>
                        </a:lnTo>
                        <a:lnTo>
                          <a:pt x="71" y="110"/>
                        </a:lnTo>
                        <a:lnTo>
                          <a:pt x="104" y="90"/>
                        </a:lnTo>
                        <a:lnTo>
                          <a:pt x="159" y="92"/>
                        </a:lnTo>
                        <a:lnTo>
                          <a:pt x="223" y="103"/>
                        </a:lnTo>
                        <a:lnTo>
                          <a:pt x="273" y="9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223680" y="4324680"/>
                    <a:ext cx="229680" cy="34560"/>
                  </a:xfrm>
                  <a:custGeom>
                    <a:avLst/>
                    <a:gdLst/>
                    <a:ahLst/>
                    <a:rect l="l" t="t" r="r" b="b"/>
                    <a:pathLst>
                      <a:path w="214" h="37">
                        <a:moveTo>
                          <a:pt x="0" y="25"/>
                        </a:moveTo>
                        <a:lnTo>
                          <a:pt x="31" y="32"/>
                        </a:lnTo>
                        <a:lnTo>
                          <a:pt x="91" y="36"/>
                        </a:lnTo>
                        <a:lnTo>
                          <a:pt x="117" y="16"/>
                        </a:lnTo>
                        <a:lnTo>
                          <a:pt x="141" y="32"/>
                        </a:lnTo>
                        <a:lnTo>
                          <a:pt x="176" y="16"/>
                        </a:lnTo>
                        <a:lnTo>
                          <a:pt x="213" y="0"/>
                        </a:lnTo>
                      </a:path>
                    </a:pathLst>
                  </a:custGeom>
                  <a:solidFill>
                    <a:srgbClr val="ccccff"/>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 name=""/>
                  <p:cNvSpPr/>
                  <p:nvPr/>
                </p:nvSpPr>
                <p:spPr>
                  <a:xfrm>
                    <a:off x="6544440" y="3864240"/>
                    <a:ext cx="257760" cy="43920"/>
                  </a:xfrm>
                  <a:custGeom>
                    <a:avLst/>
                    <a:gdLst/>
                    <a:ahLst/>
                    <a:rect l="l" t="t" r="r" b="b"/>
                    <a:pathLst>
                      <a:path w="240" h="47">
                        <a:moveTo>
                          <a:pt x="0" y="32"/>
                        </a:moveTo>
                        <a:lnTo>
                          <a:pt x="74" y="46"/>
                        </a:lnTo>
                        <a:lnTo>
                          <a:pt x="101" y="16"/>
                        </a:lnTo>
                        <a:lnTo>
                          <a:pt x="148" y="14"/>
                        </a:lnTo>
                        <a:lnTo>
                          <a:pt x="174" y="35"/>
                        </a:lnTo>
                        <a:lnTo>
                          <a:pt x="197" y="23"/>
                        </a:lnTo>
                        <a:lnTo>
                          <a:pt x="239" y="0"/>
                        </a:lnTo>
                      </a:path>
                    </a:pathLst>
                  </a:custGeom>
                  <a:solidFill>
                    <a:srgbClr val="cccc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 name=""/>
                  <p:cNvSpPr/>
                  <p:nvPr/>
                </p:nvSpPr>
                <p:spPr>
                  <a:xfrm>
                    <a:off x="6699240" y="3885840"/>
                    <a:ext cx="82800" cy="119520"/>
                  </a:xfrm>
                  <a:custGeom>
                    <a:avLst/>
                    <a:gdLst/>
                    <a:ahLst/>
                    <a:rect l="l" t="t" r="r" b="b"/>
                    <a:pathLst>
                      <a:path w="77" h="127">
                        <a:moveTo>
                          <a:pt x="0" y="126"/>
                        </a:moveTo>
                        <a:lnTo>
                          <a:pt x="14" y="97"/>
                        </a:lnTo>
                        <a:lnTo>
                          <a:pt x="33" y="80"/>
                        </a:lnTo>
                        <a:lnTo>
                          <a:pt x="46" y="71"/>
                        </a:lnTo>
                        <a:lnTo>
                          <a:pt x="59" y="57"/>
                        </a:lnTo>
                        <a:lnTo>
                          <a:pt x="69" y="27"/>
                        </a:lnTo>
                        <a:lnTo>
                          <a:pt x="76"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863760" y="3684240"/>
                    <a:ext cx="227520" cy="400680"/>
                  </a:xfrm>
                  <a:custGeom>
                    <a:avLst/>
                    <a:gdLst/>
                    <a:ahLst/>
                    <a:rect l="l" t="t" r="r" b="b"/>
                    <a:pathLst>
                      <a:path w="212" h="425">
                        <a:moveTo>
                          <a:pt x="80" y="0"/>
                        </a:moveTo>
                        <a:lnTo>
                          <a:pt x="47" y="33"/>
                        </a:lnTo>
                        <a:lnTo>
                          <a:pt x="28" y="53"/>
                        </a:lnTo>
                        <a:lnTo>
                          <a:pt x="12" y="87"/>
                        </a:lnTo>
                        <a:lnTo>
                          <a:pt x="0" y="111"/>
                        </a:lnTo>
                        <a:lnTo>
                          <a:pt x="3" y="164"/>
                        </a:lnTo>
                        <a:lnTo>
                          <a:pt x="11" y="224"/>
                        </a:lnTo>
                        <a:lnTo>
                          <a:pt x="41" y="235"/>
                        </a:lnTo>
                        <a:lnTo>
                          <a:pt x="74" y="244"/>
                        </a:lnTo>
                        <a:lnTo>
                          <a:pt x="93" y="260"/>
                        </a:lnTo>
                        <a:lnTo>
                          <a:pt x="120" y="284"/>
                        </a:lnTo>
                        <a:lnTo>
                          <a:pt x="142" y="300"/>
                        </a:lnTo>
                        <a:lnTo>
                          <a:pt x="176" y="313"/>
                        </a:lnTo>
                        <a:lnTo>
                          <a:pt x="160" y="369"/>
                        </a:lnTo>
                        <a:lnTo>
                          <a:pt x="148" y="413"/>
                        </a:lnTo>
                        <a:lnTo>
                          <a:pt x="183" y="424"/>
                        </a:lnTo>
                        <a:lnTo>
                          <a:pt x="211" y="417"/>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989400" y="3712680"/>
                    <a:ext cx="835560" cy="424080"/>
                  </a:xfrm>
                  <a:custGeom>
                    <a:avLst/>
                    <a:gdLst/>
                    <a:ahLst/>
                    <a:rect l="l" t="t" r="r" b="b"/>
                    <a:pathLst>
                      <a:path w="778" h="450">
                        <a:moveTo>
                          <a:pt x="108" y="0"/>
                        </a:moveTo>
                        <a:lnTo>
                          <a:pt x="67" y="4"/>
                        </a:lnTo>
                        <a:lnTo>
                          <a:pt x="37" y="15"/>
                        </a:lnTo>
                        <a:lnTo>
                          <a:pt x="16" y="38"/>
                        </a:lnTo>
                        <a:lnTo>
                          <a:pt x="5" y="71"/>
                        </a:lnTo>
                        <a:lnTo>
                          <a:pt x="0" y="111"/>
                        </a:lnTo>
                        <a:lnTo>
                          <a:pt x="5" y="144"/>
                        </a:lnTo>
                        <a:lnTo>
                          <a:pt x="18" y="161"/>
                        </a:lnTo>
                        <a:lnTo>
                          <a:pt x="46" y="177"/>
                        </a:lnTo>
                        <a:lnTo>
                          <a:pt x="63" y="181"/>
                        </a:lnTo>
                        <a:lnTo>
                          <a:pt x="82" y="179"/>
                        </a:lnTo>
                        <a:lnTo>
                          <a:pt x="92" y="181"/>
                        </a:lnTo>
                        <a:lnTo>
                          <a:pt x="97" y="210"/>
                        </a:lnTo>
                        <a:lnTo>
                          <a:pt x="97" y="237"/>
                        </a:lnTo>
                        <a:lnTo>
                          <a:pt x="116" y="250"/>
                        </a:lnTo>
                        <a:lnTo>
                          <a:pt x="165" y="272"/>
                        </a:lnTo>
                        <a:lnTo>
                          <a:pt x="176" y="263"/>
                        </a:lnTo>
                        <a:lnTo>
                          <a:pt x="190" y="257"/>
                        </a:lnTo>
                        <a:lnTo>
                          <a:pt x="208" y="268"/>
                        </a:lnTo>
                        <a:lnTo>
                          <a:pt x="226" y="276"/>
                        </a:lnTo>
                        <a:lnTo>
                          <a:pt x="243" y="283"/>
                        </a:lnTo>
                        <a:lnTo>
                          <a:pt x="241" y="312"/>
                        </a:lnTo>
                        <a:lnTo>
                          <a:pt x="234" y="345"/>
                        </a:lnTo>
                        <a:lnTo>
                          <a:pt x="266" y="378"/>
                        </a:lnTo>
                        <a:lnTo>
                          <a:pt x="349" y="449"/>
                        </a:lnTo>
                        <a:lnTo>
                          <a:pt x="450" y="440"/>
                        </a:lnTo>
                        <a:lnTo>
                          <a:pt x="609" y="398"/>
                        </a:lnTo>
                        <a:lnTo>
                          <a:pt x="636" y="343"/>
                        </a:lnTo>
                        <a:lnTo>
                          <a:pt x="703" y="336"/>
                        </a:lnTo>
                        <a:lnTo>
                          <a:pt x="777" y="365"/>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704000" y="4034880"/>
                    <a:ext cx="576720" cy="143280"/>
                  </a:xfrm>
                  <a:custGeom>
                    <a:avLst/>
                    <a:gdLst/>
                    <a:ahLst/>
                    <a:rect l="l" t="t" r="r" b="b"/>
                    <a:pathLst>
                      <a:path w="537" h="152">
                        <a:moveTo>
                          <a:pt x="0" y="138"/>
                        </a:moveTo>
                        <a:lnTo>
                          <a:pt x="18" y="120"/>
                        </a:lnTo>
                        <a:lnTo>
                          <a:pt x="38" y="107"/>
                        </a:lnTo>
                        <a:lnTo>
                          <a:pt x="68" y="127"/>
                        </a:lnTo>
                        <a:lnTo>
                          <a:pt x="103" y="151"/>
                        </a:lnTo>
                        <a:lnTo>
                          <a:pt x="138" y="140"/>
                        </a:lnTo>
                        <a:lnTo>
                          <a:pt x="165" y="135"/>
                        </a:lnTo>
                        <a:lnTo>
                          <a:pt x="180" y="124"/>
                        </a:lnTo>
                        <a:lnTo>
                          <a:pt x="207" y="111"/>
                        </a:lnTo>
                        <a:lnTo>
                          <a:pt x="232" y="102"/>
                        </a:lnTo>
                        <a:lnTo>
                          <a:pt x="272" y="109"/>
                        </a:lnTo>
                        <a:lnTo>
                          <a:pt x="305" y="118"/>
                        </a:lnTo>
                        <a:lnTo>
                          <a:pt x="319" y="120"/>
                        </a:lnTo>
                        <a:lnTo>
                          <a:pt x="366" y="87"/>
                        </a:lnTo>
                        <a:lnTo>
                          <a:pt x="419" y="56"/>
                        </a:lnTo>
                        <a:lnTo>
                          <a:pt x="476" y="56"/>
                        </a:lnTo>
                        <a:lnTo>
                          <a:pt x="536"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956360" y="3696480"/>
                    <a:ext cx="414360" cy="339480"/>
                  </a:xfrm>
                  <a:custGeom>
                    <a:avLst/>
                    <a:gdLst/>
                    <a:ahLst/>
                    <a:rect l="l" t="t" r="r" b="b"/>
                    <a:pathLst>
                      <a:path w="386" h="360">
                        <a:moveTo>
                          <a:pt x="0" y="359"/>
                        </a:moveTo>
                        <a:lnTo>
                          <a:pt x="45" y="343"/>
                        </a:lnTo>
                        <a:lnTo>
                          <a:pt x="73" y="335"/>
                        </a:lnTo>
                        <a:lnTo>
                          <a:pt x="111" y="308"/>
                        </a:lnTo>
                        <a:lnTo>
                          <a:pt x="169" y="299"/>
                        </a:lnTo>
                        <a:lnTo>
                          <a:pt x="236" y="275"/>
                        </a:lnTo>
                        <a:lnTo>
                          <a:pt x="283" y="261"/>
                        </a:lnTo>
                        <a:lnTo>
                          <a:pt x="316" y="219"/>
                        </a:lnTo>
                        <a:lnTo>
                          <a:pt x="336" y="204"/>
                        </a:lnTo>
                        <a:lnTo>
                          <a:pt x="349" y="195"/>
                        </a:lnTo>
                        <a:lnTo>
                          <a:pt x="379" y="129"/>
                        </a:lnTo>
                        <a:lnTo>
                          <a:pt x="384" y="100"/>
                        </a:lnTo>
                        <a:lnTo>
                          <a:pt x="385" y="73"/>
                        </a:lnTo>
                        <a:lnTo>
                          <a:pt x="381" y="55"/>
                        </a:lnTo>
                        <a:lnTo>
                          <a:pt x="372" y="40"/>
                        </a:lnTo>
                        <a:lnTo>
                          <a:pt x="354" y="40"/>
                        </a:lnTo>
                        <a:lnTo>
                          <a:pt x="334" y="16"/>
                        </a:lnTo>
                        <a:lnTo>
                          <a:pt x="306" y="0"/>
                        </a:lnTo>
                        <a:lnTo>
                          <a:pt x="269"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386200" y="3662640"/>
                    <a:ext cx="109080" cy="320760"/>
                  </a:xfrm>
                  <a:custGeom>
                    <a:avLst/>
                    <a:gdLst/>
                    <a:ahLst/>
                    <a:rect l="l" t="t" r="r" b="b"/>
                    <a:pathLst>
                      <a:path w="102" h="340">
                        <a:moveTo>
                          <a:pt x="23" y="339"/>
                        </a:moveTo>
                        <a:lnTo>
                          <a:pt x="53" y="281"/>
                        </a:lnTo>
                        <a:lnTo>
                          <a:pt x="83" y="233"/>
                        </a:lnTo>
                        <a:lnTo>
                          <a:pt x="77" y="202"/>
                        </a:lnTo>
                        <a:lnTo>
                          <a:pt x="72" y="157"/>
                        </a:lnTo>
                        <a:lnTo>
                          <a:pt x="84" y="111"/>
                        </a:lnTo>
                        <a:lnTo>
                          <a:pt x="101" y="71"/>
                        </a:lnTo>
                        <a:lnTo>
                          <a:pt x="79" y="40"/>
                        </a:lnTo>
                        <a:lnTo>
                          <a:pt x="50" y="0"/>
                        </a:lnTo>
                        <a:lnTo>
                          <a:pt x="0" y="11"/>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642880" y="3928320"/>
                    <a:ext cx="241560" cy="36720"/>
                  </a:xfrm>
                  <a:custGeom>
                    <a:avLst/>
                    <a:gdLst/>
                    <a:ahLst/>
                    <a:rect l="l" t="t" r="r" b="b"/>
                    <a:pathLst>
                      <a:path w="225" h="39">
                        <a:moveTo>
                          <a:pt x="0" y="7"/>
                        </a:moveTo>
                        <a:lnTo>
                          <a:pt x="24" y="0"/>
                        </a:lnTo>
                        <a:lnTo>
                          <a:pt x="40" y="9"/>
                        </a:lnTo>
                        <a:lnTo>
                          <a:pt x="84" y="38"/>
                        </a:lnTo>
                        <a:lnTo>
                          <a:pt x="105" y="31"/>
                        </a:lnTo>
                        <a:lnTo>
                          <a:pt x="128" y="27"/>
                        </a:lnTo>
                        <a:lnTo>
                          <a:pt x="224" y="34"/>
                        </a:lnTo>
                      </a:path>
                    </a:pathLst>
                  </a:custGeom>
                  <a:solidFill>
                    <a:srgbClr val="cccc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 name=""/>
                  <p:cNvSpPr/>
                  <p:nvPr/>
                </p:nvSpPr>
                <p:spPr>
                  <a:xfrm>
                    <a:off x="8582760" y="3977640"/>
                    <a:ext cx="256680" cy="57240"/>
                  </a:xfrm>
                  <a:custGeom>
                    <a:avLst/>
                    <a:gdLst/>
                    <a:ahLst/>
                    <a:rect l="l" t="t" r="r" b="b"/>
                    <a:pathLst>
                      <a:path w="239" h="61">
                        <a:moveTo>
                          <a:pt x="0" y="11"/>
                        </a:moveTo>
                        <a:lnTo>
                          <a:pt x="25" y="0"/>
                        </a:lnTo>
                        <a:lnTo>
                          <a:pt x="51" y="2"/>
                        </a:lnTo>
                        <a:lnTo>
                          <a:pt x="72" y="20"/>
                        </a:lnTo>
                        <a:lnTo>
                          <a:pt x="88" y="36"/>
                        </a:lnTo>
                        <a:lnTo>
                          <a:pt x="108" y="27"/>
                        </a:lnTo>
                        <a:lnTo>
                          <a:pt x="141" y="22"/>
                        </a:lnTo>
                        <a:lnTo>
                          <a:pt x="172" y="31"/>
                        </a:lnTo>
                        <a:lnTo>
                          <a:pt x="201" y="49"/>
                        </a:lnTo>
                        <a:lnTo>
                          <a:pt x="224" y="53"/>
                        </a:lnTo>
                        <a:lnTo>
                          <a:pt x="238" y="60"/>
                        </a:lnTo>
                      </a:path>
                    </a:pathLst>
                  </a:custGeom>
                  <a:solidFill>
                    <a:srgbClr val="cccc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 name=""/>
                  <p:cNvSpPr/>
                  <p:nvPr/>
                </p:nvSpPr>
                <p:spPr>
                  <a:xfrm>
                    <a:off x="8618040" y="4037760"/>
                    <a:ext cx="323280" cy="426960"/>
                  </a:xfrm>
                  <a:custGeom>
                    <a:avLst/>
                    <a:gdLst/>
                    <a:ahLst/>
                    <a:rect l="l" t="t" r="r" b="b"/>
                    <a:pathLst>
                      <a:path w="301" h="453">
                        <a:moveTo>
                          <a:pt x="0" y="0"/>
                        </a:moveTo>
                        <a:lnTo>
                          <a:pt x="42" y="49"/>
                        </a:lnTo>
                        <a:lnTo>
                          <a:pt x="67" y="77"/>
                        </a:lnTo>
                        <a:lnTo>
                          <a:pt x="84" y="106"/>
                        </a:lnTo>
                        <a:lnTo>
                          <a:pt x="108" y="141"/>
                        </a:lnTo>
                        <a:lnTo>
                          <a:pt x="127" y="192"/>
                        </a:lnTo>
                        <a:lnTo>
                          <a:pt x="158" y="258"/>
                        </a:lnTo>
                        <a:lnTo>
                          <a:pt x="189" y="278"/>
                        </a:lnTo>
                        <a:lnTo>
                          <a:pt x="221" y="298"/>
                        </a:lnTo>
                        <a:lnTo>
                          <a:pt x="247" y="366"/>
                        </a:lnTo>
                        <a:lnTo>
                          <a:pt x="300" y="452"/>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3720" y="4235760"/>
                    <a:ext cx="159840" cy="144000"/>
                  </a:xfrm>
                  <a:custGeom>
                    <a:avLst/>
                    <a:gdLst/>
                    <a:ahLst/>
                    <a:rect l="l" t="t" r="r" b="b"/>
                    <a:pathLst>
                      <a:path w="149" h="153">
                        <a:moveTo>
                          <a:pt x="0" y="104"/>
                        </a:moveTo>
                        <a:lnTo>
                          <a:pt x="20" y="108"/>
                        </a:lnTo>
                        <a:lnTo>
                          <a:pt x="39" y="115"/>
                        </a:lnTo>
                        <a:lnTo>
                          <a:pt x="58" y="121"/>
                        </a:lnTo>
                        <a:lnTo>
                          <a:pt x="83" y="126"/>
                        </a:lnTo>
                        <a:lnTo>
                          <a:pt x="117" y="152"/>
                        </a:lnTo>
                        <a:lnTo>
                          <a:pt x="126" y="143"/>
                        </a:lnTo>
                        <a:lnTo>
                          <a:pt x="139" y="132"/>
                        </a:lnTo>
                        <a:lnTo>
                          <a:pt x="145" y="117"/>
                        </a:lnTo>
                        <a:lnTo>
                          <a:pt x="148" y="82"/>
                        </a:lnTo>
                        <a:lnTo>
                          <a:pt x="145" y="53"/>
                        </a:lnTo>
                        <a:lnTo>
                          <a:pt x="141" y="29"/>
                        </a:lnTo>
                        <a:lnTo>
                          <a:pt x="133"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2" name=""/>
              <p:cNvGrpSpPr/>
              <p:nvPr/>
            </p:nvGrpSpPr>
            <p:grpSpPr>
              <a:xfrm>
                <a:off x="6368760" y="3721320"/>
                <a:ext cx="2736000" cy="604080"/>
                <a:chOff x="6368760" y="3721320"/>
                <a:chExt cx="2736000" cy="604080"/>
              </a:xfrm>
            </p:grpSpPr>
            <p:grpSp>
              <p:nvGrpSpPr>
                <p:cNvPr id="73" name=""/>
                <p:cNvGrpSpPr/>
                <p:nvPr/>
              </p:nvGrpSpPr>
              <p:grpSpPr>
                <a:xfrm>
                  <a:off x="6678000" y="3721320"/>
                  <a:ext cx="1993680" cy="218880"/>
                  <a:chOff x="6678000" y="3721320"/>
                  <a:chExt cx="1993680" cy="218880"/>
                </a:xfrm>
              </p:grpSpPr>
              <p:sp>
                <p:nvSpPr>
                  <p:cNvPr id="74" name=""/>
                  <p:cNvSpPr/>
                  <p:nvPr/>
                </p:nvSpPr>
                <p:spPr>
                  <a:xfrm>
                    <a:off x="6678000" y="3721320"/>
                    <a:ext cx="139320" cy="151560"/>
                  </a:xfrm>
                  <a:custGeom>
                    <a:avLst/>
                    <a:gdLst/>
                    <a:ahLst/>
                    <a:rect l="l" t="t" r="r" b="b"/>
                    <a:pathLst>
                      <a:path w="130" h="161">
                        <a:moveTo>
                          <a:pt x="0" y="0"/>
                        </a:moveTo>
                        <a:lnTo>
                          <a:pt x="43" y="6"/>
                        </a:lnTo>
                        <a:lnTo>
                          <a:pt x="72" y="12"/>
                        </a:lnTo>
                        <a:lnTo>
                          <a:pt x="93" y="28"/>
                        </a:lnTo>
                        <a:lnTo>
                          <a:pt x="105" y="48"/>
                        </a:lnTo>
                        <a:lnTo>
                          <a:pt x="113" y="76"/>
                        </a:lnTo>
                        <a:lnTo>
                          <a:pt x="122" y="112"/>
                        </a:lnTo>
                        <a:lnTo>
                          <a:pt x="129" y="130"/>
                        </a:lnTo>
                        <a:lnTo>
                          <a:pt x="115" y="128"/>
                        </a:lnTo>
                        <a:lnTo>
                          <a:pt x="99" y="134"/>
                        </a:lnTo>
                        <a:lnTo>
                          <a:pt x="77" y="146"/>
                        </a:lnTo>
                        <a:lnTo>
                          <a:pt x="48" y="160"/>
                        </a:lnTo>
                        <a:lnTo>
                          <a:pt x="41" y="152"/>
                        </a:lnTo>
                        <a:lnTo>
                          <a:pt x="32" y="110"/>
                        </a:lnTo>
                        <a:lnTo>
                          <a:pt x="15" y="54"/>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97800" y="3726720"/>
                    <a:ext cx="173880" cy="213480"/>
                  </a:xfrm>
                  <a:custGeom>
                    <a:avLst/>
                    <a:gdLst/>
                    <a:ahLst/>
                    <a:rect l="l" t="t" r="r" b="b"/>
                    <a:pathLst>
                      <a:path w="162" h="227">
                        <a:moveTo>
                          <a:pt x="161" y="0"/>
                        </a:moveTo>
                        <a:lnTo>
                          <a:pt x="107" y="8"/>
                        </a:lnTo>
                        <a:lnTo>
                          <a:pt x="71" y="16"/>
                        </a:lnTo>
                        <a:lnTo>
                          <a:pt x="46" y="39"/>
                        </a:lnTo>
                        <a:lnTo>
                          <a:pt x="30" y="67"/>
                        </a:lnTo>
                        <a:lnTo>
                          <a:pt x="19" y="108"/>
                        </a:lnTo>
                        <a:lnTo>
                          <a:pt x="8" y="159"/>
                        </a:lnTo>
                        <a:lnTo>
                          <a:pt x="0" y="183"/>
                        </a:lnTo>
                        <a:lnTo>
                          <a:pt x="17" y="181"/>
                        </a:lnTo>
                        <a:lnTo>
                          <a:pt x="37" y="189"/>
                        </a:lnTo>
                        <a:lnTo>
                          <a:pt x="65" y="208"/>
                        </a:lnTo>
                        <a:lnTo>
                          <a:pt x="101" y="226"/>
                        </a:lnTo>
                        <a:lnTo>
                          <a:pt x="110" y="216"/>
                        </a:lnTo>
                        <a:lnTo>
                          <a:pt x="121" y="155"/>
                        </a:lnTo>
                        <a:lnTo>
                          <a:pt x="142" y="75"/>
                        </a:lnTo>
                        <a:lnTo>
                          <a:pt x="161"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368760" y="3920040"/>
                  <a:ext cx="2736000" cy="405360"/>
                  <a:chOff x="6368760" y="3920040"/>
                  <a:chExt cx="2736000" cy="405360"/>
                </a:xfrm>
              </p:grpSpPr>
              <p:grpSp>
                <p:nvGrpSpPr>
                  <p:cNvPr id="77" name=""/>
                  <p:cNvGrpSpPr/>
                  <p:nvPr/>
                </p:nvGrpSpPr>
                <p:grpSpPr>
                  <a:xfrm>
                    <a:off x="6368760" y="3920040"/>
                    <a:ext cx="338400" cy="371520"/>
                    <a:chOff x="6368760" y="3920040"/>
                    <a:chExt cx="338400" cy="371520"/>
                  </a:xfrm>
                </p:grpSpPr>
                <p:grpSp>
                  <p:nvGrpSpPr>
                    <p:cNvPr id="78" name=""/>
                    <p:cNvGrpSpPr/>
                    <p:nvPr/>
                  </p:nvGrpSpPr>
                  <p:grpSpPr>
                    <a:xfrm>
                      <a:off x="6368760" y="3920040"/>
                      <a:ext cx="338400" cy="371520"/>
                      <a:chOff x="6368760" y="3920040"/>
                      <a:chExt cx="338400" cy="371520"/>
                    </a:xfrm>
                  </p:grpSpPr>
                  <p:grpSp>
                    <p:nvGrpSpPr>
                      <p:cNvPr id="79" name=""/>
                      <p:cNvGrpSpPr/>
                      <p:nvPr/>
                    </p:nvGrpSpPr>
                    <p:grpSpPr>
                      <a:xfrm>
                        <a:off x="6368760" y="3920040"/>
                        <a:ext cx="338400" cy="371520"/>
                        <a:chOff x="6368760" y="3920040"/>
                        <a:chExt cx="338400" cy="371520"/>
                      </a:xfrm>
                    </p:grpSpPr>
                    <p:sp>
                      <p:nvSpPr>
                        <p:cNvPr id="80" name=""/>
                        <p:cNvSpPr/>
                        <p:nvPr/>
                      </p:nvSpPr>
                      <p:spPr>
                        <a:xfrm>
                          <a:off x="6519240" y="4013280"/>
                          <a:ext cx="181440" cy="214560"/>
                        </a:xfrm>
                        <a:custGeom>
                          <a:avLst/>
                          <a:gdLst/>
                          <a:ahLst/>
                          <a:rect l="l" t="t" r="r" b="b"/>
                          <a:pathLst>
                            <a:path w="169" h="228">
                              <a:moveTo>
                                <a:pt x="151" y="0"/>
                              </a:moveTo>
                              <a:lnTo>
                                <a:pt x="134" y="20"/>
                              </a:lnTo>
                              <a:lnTo>
                                <a:pt x="56" y="108"/>
                              </a:lnTo>
                              <a:lnTo>
                                <a:pt x="20" y="112"/>
                              </a:lnTo>
                              <a:lnTo>
                                <a:pt x="0" y="154"/>
                              </a:lnTo>
                              <a:lnTo>
                                <a:pt x="11" y="225"/>
                              </a:lnTo>
                              <a:lnTo>
                                <a:pt x="48" y="227"/>
                              </a:lnTo>
                              <a:lnTo>
                                <a:pt x="113" y="183"/>
                              </a:lnTo>
                              <a:lnTo>
                                <a:pt x="161" y="117"/>
                              </a:lnTo>
                              <a:lnTo>
                                <a:pt x="168" y="79"/>
                              </a:lnTo>
                              <a:lnTo>
                                <a:pt x="151"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368760" y="3920040"/>
                          <a:ext cx="338400" cy="371520"/>
                        </a:xfrm>
                        <a:custGeom>
                          <a:avLst/>
                          <a:gdLst/>
                          <a:ahLst/>
                          <a:rect l="l" t="t" r="r" b="b"/>
                          <a:pathLst>
                            <a:path w="315" h="394">
                              <a:moveTo>
                                <a:pt x="0" y="343"/>
                              </a:moveTo>
                              <a:lnTo>
                                <a:pt x="17" y="277"/>
                              </a:lnTo>
                              <a:lnTo>
                                <a:pt x="41" y="200"/>
                              </a:lnTo>
                              <a:lnTo>
                                <a:pt x="51" y="184"/>
                              </a:lnTo>
                              <a:lnTo>
                                <a:pt x="64" y="165"/>
                              </a:lnTo>
                              <a:lnTo>
                                <a:pt x="76" y="151"/>
                              </a:lnTo>
                              <a:lnTo>
                                <a:pt x="89" y="143"/>
                              </a:lnTo>
                              <a:lnTo>
                                <a:pt x="102" y="149"/>
                              </a:lnTo>
                              <a:lnTo>
                                <a:pt x="110" y="167"/>
                              </a:lnTo>
                              <a:lnTo>
                                <a:pt x="116" y="173"/>
                              </a:lnTo>
                              <a:lnTo>
                                <a:pt x="128" y="178"/>
                              </a:lnTo>
                              <a:lnTo>
                                <a:pt x="154" y="173"/>
                              </a:lnTo>
                              <a:lnTo>
                                <a:pt x="161" y="195"/>
                              </a:lnTo>
                              <a:lnTo>
                                <a:pt x="173" y="171"/>
                              </a:lnTo>
                              <a:lnTo>
                                <a:pt x="187" y="147"/>
                              </a:lnTo>
                              <a:lnTo>
                                <a:pt x="218" y="116"/>
                              </a:lnTo>
                              <a:lnTo>
                                <a:pt x="220" y="105"/>
                              </a:lnTo>
                              <a:lnTo>
                                <a:pt x="249" y="77"/>
                              </a:lnTo>
                              <a:lnTo>
                                <a:pt x="256" y="50"/>
                              </a:lnTo>
                              <a:lnTo>
                                <a:pt x="265" y="15"/>
                              </a:lnTo>
                              <a:lnTo>
                                <a:pt x="272" y="0"/>
                              </a:lnTo>
                              <a:lnTo>
                                <a:pt x="281" y="7"/>
                              </a:lnTo>
                              <a:lnTo>
                                <a:pt x="291" y="22"/>
                              </a:lnTo>
                              <a:lnTo>
                                <a:pt x="299" y="37"/>
                              </a:lnTo>
                              <a:lnTo>
                                <a:pt x="297" y="68"/>
                              </a:lnTo>
                              <a:lnTo>
                                <a:pt x="293" y="101"/>
                              </a:lnTo>
                              <a:lnTo>
                                <a:pt x="278" y="127"/>
                              </a:lnTo>
                              <a:lnTo>
                                <a:pt x="253" y="169"/>
                              </a:lnTo>
                              <a:lnTo>
                                <a:pt x="226" y="198"/>
                              </a:lnTo>
                              <a:lnTo>
                                <a:pt x="208" y="217"/>
                              </a:lnTo>
                              <a:lnTo>
                                <a:pt x="197" y="222"/>
                              </a:lnTo>
                              <a:lnTo>
                                <a:pt x="186" y="224"/>
                              </a:lnTo>
                              <a:lnTo>
                                <a:pt x="175" y="220"/>
                              </a:lnTo>
                              <a:lnTo>
                                <a:pt x="167" y="222"/>
                              </a:lnTo>
                              <a:lnTo>
                                <a:pt x="159" y="233"/>
                              </a:lnTo>
                              <a:lnTo>
                                <a:pt x="154" y="248"/>
                              </a:lnTo>
                              <a:lnTo>
                                <a:pt x="152" y="266"/>
                              </a:lnTo>
                              <a:lnTo>
                                <a:pt x="154" y="281"/>
                              </a:lnTo>
                              <a:lnTo>
                                <a:pt x="158" y="305"/>
                              </a:lnTo>
                              <a:lnTo>
                                <a:pt x="170" y="310"/>
                              </a:lnTo>
                              <a:lnTo>
                                <a:pt x="190" y="303"/>
                              </a:lnTo>
                              <a:lnTo>
                                <a:pt x="213" y="281"/>
                              </a:lnTo>
                              <a:lnTo>
                                <a:pt x="241" y="266"/>
                              </a:lnTo>
                              <a:lnTo>
                                <a:pt x="275" y="235"/>
                              </a:lnTo>
                              <a:lnTo>
                                <a:pt x="298" y="200"/>
                              </a:lnTo>
                              <a:lnTo>
                                <a:pt x="309" y="160"/>
                              </a:lnTo>
                              <a:lnTo>
                                <a:pt x="314" y="180"/>
                              </a:lnTo>
                              <a:lnTo>
                                <a:pt x="312" y="206"/>
                              </a:lnTo>
                              <a:lnTo>
                                <a:pt x="309" y="228"/>
                              </a:lnTo>
                              <a:lnTo>
                                <a:pt x="296" y="255"/>
                              </a:lnTo>
                              <a:lnTo>
                                <a:pt x="280" y="279"/>
                              </a:lnTo>
                              <a:lnTo>
                                <a:pt x="265" y="292"/>
                              </a:lnTo>
                              <a:lnTo>
                                <a:pt x="239" y="329"/>
                              </a:lnTo>
                              <a:lnTo>
                                <a:pt x="219" y="345"/>
                              </a:lnTo>
                              <a:lnTo>
                                <a:pt x="195" y="371"/>
                              </a:lnTo>
                              <a:lnTo>
                                <a:pt x="174" y="382"/>
                              </a:lnTo>
                              <a:lnTo>
                                <a:pt x="143" y="378"/>
                              </a:lnTo>
                              <a:lnTo>
                                <a:pt x="121" y="391"/>
                              </a:lnTo>
                              <a:lnTo>
                                <a:pt x="105" y="393"/>
                              </a:lnTo>
                              <a:lnTo>
                                <a:pt x="94" y="378"/>
                              </a:lnTo>
                              <a:lnTo>
                                <a:pt x="75" y="371"/>
                              </a:lnTo>
                              <a:lnTo>
                                <a:pt x="67" y="356"/>
                              </a:lnTo>
                              <a:lnTo>
                                <a:pt x="69" y="375"/>
                              </a:lnTo>
                              <a:lnTo>
                                <a:pt x="64" y="382"/>
                              </a:lnTo>
                              <a:lnTo>
                                <a:pt x="56" y="384"/>
                              </a:lnTo>
                              <a:lnTo>
                                <a:pt x="43" y="384"/>
                              </a:lnTo>
                              <a:lnTo>
                                <a:pt x="30" y="380"/>
                              </a:lnTo>
                              <a:lnTo>
                                <a:pt x="17" y="375"/>
                              </a:lnTo>
                              <a:lnTo>
                                <a:pt x="6" y="362"/>
                              </a:lnTo>
                              <a:lnTo>
                                <a:pt x="0" y="343"/>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541560" y="4034160"/>
                          <a:ext cx="142920" cy="163080"/>
                        </a:xfrm>
                        <a:custGeom>
                          <a:avLst/>
                          <a:gdLst/>
                          <a:ahLst/>
                          <a:rect l="l" t="t" r="r" b="b"/>
                          <a:pathLst>
                            <a:path w="133" h="173">
                              <a:moveTo>
                                <a:pt x="0" y="123"/>
                              </a:moveTo>
                              <a:lnTo>
                                <a:pt x="20" y="172"/>
                              </a:lnTo>
                              <a:lnTo>
                                <a:pt x="33" y="112"/>
                              </a:lnTo>
                              <a:lnTo>
                                <a:pt x="47" y="150"/>
                              </a:lnTo>
                              <a:lnTo>
                                <a:pt x="58" y="101"/>
                              </a:lnTo>
                              <a:lnTo>
                                <a:pt x="77" y="130"/>
                              </a:lnTo>
                              <a:lnTo>
                                <a:pt x="85" y="66"/>
                              </a:lnTo>
                              <a:lnTo>
                                <a:pt x="97" y="93"/>
                              </a:lnTo>
                              <a:lnTo>
                                <a:pt x="99" y="77"/>
                              </a:lnTo>
                              <a:lnTo>
                                <a:pt x="112" y="104"/>
                              </a:lnTo>
                              <a:lnTo>
                                <a:pt x="114" y="29"/>
                              </a:lnTo>
                              <a:lnTo>
                                <a:pt x="132" y="73"/>
                              </a:lnTo>
                              <a:lnTo>
                                <a:pt x="129" y="0"/>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6449400" y="3961440"/>
                        <a:ext cx="209880" cy="277560"/>
                        <a:chOff x="6449400" y="3961440"/>
                        <a:chExt cx="209880" cy="277560"/>
                      </a:xfrm>
                    </p:grpSpPr>
                    <p:sp>
                      <p:nvSpPr>
                        <p:cNvPr id="84" name=""/>
                        <p:cNvSpPr/>
                        <p:nvPr/>
                      </p:nvSpPr>
                      <p:spPr>
                        <a:xfrm>
                          <a:off x="6638040" y="3961440"/>
                          <a:ext cx="21240" cy="38520"/>
                        </a:xfrm>
                        <a:custGeom>
                          <a:avLst/>
                          <a:gdLst/>
                          <a:ahLst/>
                          <a:rect l="l" t="t" r="r" b="b"/>
                          <a:pathLst>
                            <a:path w="20" h="41">
                              <a:moveTo>
                                <a:pt x="19" y="0"/>
                              </a:moveTo>
                              <a:lnTo>
                                <a:pt x="18" y="13"/>
                              </a:lnTo>
                              <a:lnTo>
                                <a:pt x="14" y="20"/>
                              </a:lnTo>
                              <a:lnTo>
                                <a:pt x="9" y="33"/>
                              </a:lnTo>
                              <a:lnTo>
                                <a:pt x="6" y="33"/>
                              </a:lnTo>
                              <a:lnTo>
                                <a:pt x="0" y="40"/>
                              </a:lnTo>
                            </a:path>
                          </a:pathLst>
                        </a:custGeom>
                        <a:solidFill>
                          <a:srgbClr val="ccccff"/>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5" name=""/>
                        <p:cNvSpPr/>
                        <p:nvPr/>
                      </p:nvSpPr>
                      <p:spPr>
                        <a:xfrm>
                          <a:off x="6513840" y="4177080"/>
                          <a:ext cx="16920" cy="61920"/>
                        </a:xfrm>
                        <a:custGeom>
                          <a:avLst/>
                          <a:gdLst/>
                          <a:ahLst/>
                          <a:rect l="l" t="t" r="r" b="b"/>
                          <a:pathLst>
                            <a:path w="16" h="66">
                              <a:moveTo>
                                <a:pt x="15" y="0"/>
                              </a:moveTo>
                              <a:lnTo>
                                <a:pt x="4" y="20"/>
                              </a:lnTo>
                              <a:lnTo>
                                <a:pt x="0" y="41"/>
                              </a:lnTo>
                              <a:lnTo>
                                <a:pt x="1" y="65"/>
                              </a:lnTo>
                            </a:path>
                          </a:pathLst>
                        </a:custGeom>
                        <a:solidFill>
                          <a:srgbClr val="cccc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 name=""/>
                        <p:cNvSpPr/>
                        <p:nvPr/>
                      </p:nvSpPr>
                      <p:spPr>
                        <a:xfrm>
                          <a:off x="6449400" y="4065840"/>
                          <a:ext cx="20160" cy="82800"/>
                        </a:xfrm>
                        <a:custGeom>
                          <a:avLst/>
                          <a:gdLst/>
                          <a:ahLst/>
                          <a:rect l="l" t="t" r="r" b="b"/>
                          <a:pathLst>
                            <a:path w="19" h="88">
                              <a:moveTo>
                                <a:pt x="18" y="0"/>
                              </a:moveTo>
                              <a:lnTo>
                                <a:pt x="9" y="11"/>
                              </a:lnTo>
                              <a:lnTo>
                                <a:pt x="3" y="24"/>
                              </a:lnTo>
                              <a:lnTo>
                                <a:pt x="0" y="41"/>
                              </a:lnTo>
                              <a:lnTo>
                                <a:pt x="0" y="65"/>
                              </a:lnTo>
                              <a:lnTo>
                                <a:pt x="3" y="87"/>
                              </a:lnTo>
                            </a:path>
                          </a:pathLst>
                        </a:custGeom>
                        <a:solidFill>
                          <a:srgbClr val="ccccf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6472800" y="4083840"/>
                      <a:ext cx="20160" cy="62280"/>
                      <a:chOff x="6472800" y="4083840"/>
                      <a:chExt cx="20160" cy="62280"/>
                    </a:xfrm>
                  </p:grpSpPr>
                  <p:sp>
                    <p:nvSpPr>
                      <p:cNvPr id="88" name=""/>
                      <p:cNvSpPr/>
                      <p:nvPr/>
                    </p:nvSpPr>
                    <p:spPr>
                      <a:xfrm>
                        <a:off x="6477120" y="4087440"/>
                        <a:ext cx="10440" cy="3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89" name=""/>
                      <p:cNvSpPr/>
                      <p:nvPr/>
                    </p:nvSpPr>
                    <p:spPr>
                      <a:xfrm>
                        <a:off x="6489720" y="4090320"/>
                        <a:ext cx="1800" cy="12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90" name=""/>
                      <p:cNvSpPr/>
                      <p:nvPr/>
                    </p:nvSpPr>
                    <p:spPr>
                      <a:xfrm>
                        <a:off x="6472800" y="4083840"/>
                        <a:ext cx="20160" cy="62280"/>
                      </a:xfrm>
                      <a:custGeom>
                        <a:avLst/>
                        <a:gdLst/>
                        <a:ahLst/>
                        <a:rect l="l" t="t" r="r" b="b"/>
                        <a:pathLst>
                          <a:path w="19" h="66">
                            <a:moveTo>
                              <a:pt x="18" y="2"/>
                            </a:moveTo>
                            <a:lnTo>
                              <a:pt x="10" y="0"/>
                            </a:lnTo>
                            <a:lnTo>
                              <a:pt x="4" y="7"/>
                            </a:lnTo>
                            <a:lnTo>
                              <a:pt x="0" y="20"/>
                            </a:lnTo>
                            <a:lnTo>
                              <a:pt x="0" y="33"/>
                            </a:lnTo>
                            <a:lnTo>
                              <a:pt x="2" y="48"/>
                            </a:lnTo>
                            <a:lnTo>
                              <a:pt x="7" y="65"/>
                            </a:lnTo>
                          </a:path>
                        </a:pathLst>
                      </a:custGeom>
                      <a:solidFill>
                        <a:srgbClr val="ccccff"/>
                      </a:solid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grpSp>
                <p:nvGrpSpPr>
                  <p:cNvPr id="91" name=""/>
                  <p:cNvGrpSpPr/>
                  <p:nvPr/>
                </p:nvGrpSpPr>
                <p:grpSpPr>
                  <a:xfrm>
                    <a:off x="8838360" y="4006800"/>
                    <a:ext cx="266400" cy="318600"/>
                    <a:chOff x="8838360" y="4006800"/>
                    <a:chExt cx="266400" cy="318600"/>
                  </a:xfrm>
                </p:grpSpPr>
                <p:grpSp>
                  <p:nvGrpSpPr>
                    <p:cNvPr id="92" name=""/>
                    <p:cNvGrpSpPr/>
                    <p:nvPr/>
                  </p:nvGrpSpPr>
                  <p:grpSpPr>
                    <a:xfrm>
                      <a:off x="8838360" y="4006800"/>
                      <a:ext cx="266400" cy="318600"/>
                      <a:chOff x="8838360" y="4006800"/>
                      <a:chExt cx="266400" cy="318600"/>
                    </a:xfrm>
                  </p:grpSpPr>
                  <p:sp>
                    <p:nvSpPr>
                      <p:cNvPr id="93" name=""/>
                      <p:cNvSpPr/>
                      <p:nvPr/>
                    </p:nvSpPr>
                    <p:spPr>
                      <a:xfrm>
                        <a:off x="8838360" y="4092480"/>
                        <a:ext cx="40680" cy="89280"/>
                      </a:xfrm>
                      <a:custGeom>
                        <a:avLst/>
                        <a:gdLst/>
                        <a:ahLst/>
                        <a:rect l="l" t="t" r="r" b="b"/>
                        <a:pathLst>
                          <a:path w="38" h="95">
                            <a:moveTo>
                              <a:pt x="5" y="0"/>
                            </a:moveTo>
                            <a:lnTo>
                              <a:pt x="0" y="66"/>
                            </a:lnTo>
                            <a:lnTo>
                              <a:pt x="11" y="57"/>
                            </a:lnTo>
                            <a:lnTo>
                              <a:pt x="11" y="94"/>
                            </a:lnTo>
                            <a:lnTo>
                              <a:pt x="37" y="81"/>
                            </a:lnTo>
                            <a:lnTo>
                              <a:pt x="5" y="0"/>
                            </a:lnTo>
                          </a:path>
                        </a:pathLst>
                      </a:custGeom>
                      <a:solidFill>
                        <a:srgbClr val="ccccff"/>
                      </a:solid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 name=""/>
                      <p:cNvSpPr/>
                      <p:nvPr/>
                    </p:nvSpPr>
                    <p:spPr>
                      <a:xfrm>
                        <a:off x="8840520" y="4006800"/>
                        <a:ext cx="264240" cy="318600"/>
                      </a:xfrm>
                      <a:custGeom>
                        <a:avLst/>
                        <a:gdLst/>
                        <a:ahLst/>
                        <a:rect l="l" t="t" r="r" b="b"/>
                        <a:pathLst>
                          <a:path w="246" h="338">
                            <a:moveTo>
                              <a:pt x="169" y="333"/>
                            </a:moveTo>
                            <a:lnTo>
                              <a:pt x="152" y="311"/>
                            </a:lnTo>
                            <a:lnTo>
                              <a:pt x="140" y="291"/>
                            </a:lnTo>
                            <a:lnTo>
                              <a:pt x="116" y="278"/>
                            </a:lnTo>
                            <a:lnTo>
                              <a:pt x="89" y="269"/>
                            </a:lnTo>
                            <a:lnTo>
                              <a:pt x="75" y="256"/>
                            </a:lnTo>
                            <a:lnTo>
                              <a:pt x="59" y="238"/>
                            </a:lnTo>
                            <a:lnTo>
                              <a:pt x="45" y="214"/>
                            </a:lnTo>
                            <a:lnTo>
                              <a:pt x="26" y="178"/>
                            </a:lnTo>
                            <a:lnTo>
                              <a:pt x="18" y="159"/>
                            </a:lnTo>
                            <a:lnTo>
                              <a:pt x="13" y="137"/>
                            </a:lnTo>
                            <a:lnTo>
                              <a:pt x="6" y="126"/>
                            </a:lnTo>
                            <a:lnTo>
                              <a:pt x="2" y="104"/>
                            </a:lnTo>
                            <a:lnTo>
                              <a:pt x="0" y="64"/>
                            </a:lnTo>
                            <a:lnTo>
                              <a:pt x="2" y="29"/>
                            </a:lnTo>
                            <a:lnTo>
                              <a:pt x="7" y="7"/>
                            </a:lnTo>
                            <a:lnTo>
                              <a:pt x="24" y="0"/>
                            </a:lnTo>
                            <a:lnTo>
                              <a:pt x="44" y="7"/>
                            </a:lnTo>
                            <a:lnTo>
                              <a:pt x="56" y="31"/>
                            </a:lnTo>
                            <a:lnTo>
                              <a:pt x="65" y="53"/>
                            </a:lnTo>
                            <a:lnTo>
                              <a:pt x="76" y="75"/>
                            </a:lnTo>
                            <a:lnTo>
                              <a:pt x="90" y="97"/>
                            </a:lnTo>
                            <a:lnTo>
                              <a:pt x="98" y="112"/>
                            </a:lnTo>
                            <a:lnTo>
                              <a:pt x="119" y="137"/>
                            </a:lnTo>
                            <a:lnTo>
                              <a:pt x="133" y="141"/>
                            </a:lnTo>
                            <a:lnTo>
                              <a:pt x="148" y="148"/>
                            </a:lnTo>
                            <a:lnTo>
                              <a:pt x="165" y="159"/>
                            </a:lnTo>
                            <a:lnTo>
                              <a:pt x="169" y="145"/>
                            </a:lnTo>
                            <a:lnTo>
                              <a:pt x="175" y="137"/>
                            </a:lnTo>
                            <a:lnTo>
                              <a:pt x="185" y="134"/>
                            </a:lnTo>
                            <a:lnTo>
                              <a:pt x="195" y="141"/>
                            </a:lnTo>
                            <a:lnTo>
                              <a:pt x="202" y="152"/>
                            </a:lnTo>
                            <a:lnTo>
                              <a:pt x="209" y="170"/>
                            </a:lnTo>
                            <a:lnTo>
                              <a:pt x="215" y="203"/>
                            </a:lnTo>
                            <a:lnTo>
                              <a:pt x="218" y="240"/>
                            </a:lnTo>
                            <a:lnTo>
                              <a:pt x="228" y="256"/>
                            </a:lnTo>
                            <a:lnTo>
                              <a:pt x="235" y="269"/>
                            </a:lnTo>
                            <a:lnTo>
                              <a:pt x="242" y="295"/>
                            </a:lnTo>
                            <a:lnTo>
                              <a:pt x="244" y="315"/>
                            </a:lnTo>
                            <a:lnTo>
                              <a:pt x="245" y="337"/>
                            </a:lnTo>
                            <a:lnTo>
                              <a:pt x="239" y="330"/>
                            </a:lnTo>
                            <a:lnTo>
                              <a:pt x="228" y="322"/>
                            </a:lnTo>
                            <a:lnTo>
                              <a:pt x="217" y="317"/>
                            </a:lnTo>
                            <a:lnTo>
                              <a:pt x="208" y="324"/>
                            </a:lnTo>
                            <a:lnTo>
                              <a:pt x="195" y="333"/>
                            </a:lnTo>
                            <a:lnTo>
                              <a:pt x="169" y="333"/>
                            </a:lnTo>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8881200" y="4045320"/>
                      <a:ext cx="159840" cy="188640"/>
                      <a:chOff x="8881200" y="4045320"/>
                      <a:chExt cx="159840" cy="188640"/>
                    </a:xfrm>
                  </p:grpSpPr>
                  <p:sp>
                    <p:nvSpPr>
                      <p:cNvPr id="96" name=""/>
                      <p:cNvSpPr/>
                      <p:nvPr/>
                    </p:nvSpPr>
                    <p:spPr>
                      <a:xfrm>
                        <a:off x="8993880" y="4156560"/>
                        <a:ext cx="47160" cy="77400"/>
                      </a:xfrm>
                      <a:custGeom>
                        <a:avLst/>
                        <a:gdLst/>
                        <a:ahLst/>
                        <a:rect l="l" t="t" r="r" b="b"/>
                        <a:pathLst>
                          <a:path w="44" h="82">
                            <a:moveTo>
                              <a:pt x="0" y="35"/>
                            </a:moveTo>
                            <a:lnTo>
                              <a:pt x="5" y="18"/>
                            </a:lnTo>
                            <a:lnTo>
                              <a:pt x="10" y="7"/>
                            </a:lnTo>
                            <a:lnTo>
                              <a:pt x="17" y="0"/>
                            </a:lnTo>
                            <a:lnTo>
                              <a:pt x="25" y="0"/>
                            </a:lnTo>
                            <a:lnTo>
                              <a:pt x="30" y="9"/>
                            </a:lnTo>
                            <a:lnTo>
                              <a:pt x="35" y="20"/>
                            </a:lnTo>
                            <a:lnTo>
                              <a:pt x="39" y="35"/>
                            </a:lnTo>
                            <a:lnTo>
                              <a:pt x="42" y="55"/>
                            </a:lnTo>
                            <a:lnTo>
                              <a:pt x="43" y="81"/>
                            </a:lnTo>
                          </a:path>
                        </a:pathLst>
                      </a:custGeom>
                      <a:solidFill>
                        <a:srgbClr val="cccc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7" name=""/>
                      <p:cNvSpPr/>
                      <p:nvPr/>
                    </p:nvSpPr>
                    <p:spPr>
                      <a:xfrm>
                        <a:off x="8881200" y="4045320"/>
                        <a:ext cx="30600" cy="36720"/>
                      </a:xfrm>
                      <a:custGeom>
                        <a:avLst/>
                        <a:gdLst/>
                        <a:ahLst/>
                        <a:rect l="l" t="t" r="r" b="b"/>
                        <a:pathLst>
                          <a:path w="29" h="39">
                            <a:moveTo>
                              <a:pt x="0" y="0"/>
                            </a:moveTo>
                            <a:lnTo>
                              <a:pt x="8" y="22"/>
                            </a:lnTo>
                            <a:lnTo>
                              <a:pt x="14" y="22"/>
                            </a:lnTo>
                            <a:lnTo>
                              <a:pt x="23" y="27"/>
                            </a:lnTo>
                            <a:lnTo>
                              <a:pt x="28" y="38"/>
                            </a:lnTo>
                          </a:path>
                        </a:pathLst>
                      </a:custGeom>
                      <a:solidFill>
                        <a:srgbClr val="ccccff"/>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grpSp>
        </p:grpSp>
        <p:grpSp>
          <p:nvGrpSpPr>
            <p:cNvPr id="98" name=""/>
            <p:cNvGrpSpPr/>
            <p:nvPr/>
          </p:nvGrpSpPr>
          <p:grpSpPr>
            <a:xfrm>
              <a:off x="7155000" y="762120"/>
              <a:ext cx="1517400" cy="3044880"/>
              <a:chOff x="7155000" y="762120"/>
              <a:chExt cx="1517400" cy="3044880"/>
            </a:xfrm>
          </p:grpSpPr>
          <p:grpSp>
            <p:nvGrpSpPr>
              <p:cNvPr id="99" name=""/>
              <p:cNvGrpSpPr/>
              <p:nvPr/>
            </p:nvGrpSpPr>
            <p:grpSpPr>
              <a:xfrm>
                <a:off x="7354080" y="843120"/>
                <a:ext cx="1318320" cy="2963520"/>
                <a:chOff x="7354080" y="843120"/>
                <a:chExt cx="1318320" cy="2963520"/>
              </a:xfrm>
            </p:grpSpPr>
            <p:sp>
              <p:nvSpPr>
                <p:cNvPr id="100" name=""/>
                <p:cNvSpPr/>
                <p:nvPr/>
              </p:nvSpPr>
              <p:spPr>
                <a:xfrm>
                  <a:off x="7354080" y="843120"/>
                  <a:ext cx="1318320" cy="2963520"/>
                </a:xfrm>
                <a:custGeom>
                  <a:avLst/>
                  <a:gdLst/>
                  <a:ahLst/>
                  <a:rect l="l" t="t" r="r" b="b"/>
                  <a:pathLst>
                    <a:path w="1018" h="2810">
                      <a:moveTo>
                        <a:pt x="1017" y="0"/>
                      </a:moveTo>
                      <a:lnTo>
                        <a:pt x="1017" y="138"/>
                      </a:lnTo>
                      <a:lnTo>
                        <a:pt x="433" y="510"/>
                      </a:lnTo>
                      <a:lnTo>
                        <a:pt x="421" y="520"/>
                      </a:lnTo>
                      <a:lnTo>
                        <a:pt x="403" y="535"/>
                      </a:lnTo>
                      <a:lnTo>
                        <a:pt x="394" y="550"/>
                      </a:lnTo>
                      <a:lnTo>
                        <a:pt x="389" y="1267"/>
                      </a:lnTo>
                      <a:lnTo>
                        <a:pt x="394" y="1729"/>
                      </a:lnTo>
                      <a:lnTo>
                        <a:pt x="421" y="2520"/>
                      </a:lnTo>
                      <a:lnTo>
                        <a:pt x="419" y="2539"/>
                      </a:lnTo>
                      <a:lnTo>
                        <a:pt x="416" y="2557"/>
                      </a:lnTo>
                      <a:lnTo>
                        <a:pt x="412" y="2576"/>
                      </a:lnTo>
                      <a:lnTo>
                        <a:pt x="404" y="2595"/>
                      </a:lnTo>
                      <a:lnTo>
                        <a:pt x="395" y="2614"/>
                      </a:lnTo>
                      <a:lnTo>
                        <a:pt x="386" y="2633"/>
                      </a:lnTo>
                      <a:lnTo>
                        <a:pt x="376" y="2647"/>
                      </a:lnTo>
                      <a:lnTo>
                        <a:pt x="363" y="2663"/>
                      </a:lnTo>
                      <a:lnTo>
                        <a:pt x="350" y="2678"/>
                      </a:lnTo>
                      <a:lnTo>
                        <a:pt x="337" y="2691"/>
                      </a:lnTo>
                      <a:lnTo>
                        <a:pt x="322" y="2704"/>
                      </a:lnTo>
                      <a:lnTo>
                        <a:pt x="299" y="2718"/>
                      </a:lnTo>
                      <a:lnTo>
                        <a:pt x="273" y="2728"/>
                      </a:lnTo>
                      <a:lnTo>
                        <a:pt x="262" y="2738"/>
                      </a:lnTo>
                      <a:lnTo>
                        <a:pt x="251" y="2754"/>
                      </a:lnTo>
                      <a:lnTo>
                        <a:pt x="237" y="2770"/>
                      </a:lnTo>
                      <a:lnTo>
                        <a:pt x="231" y="2776"/>
                      </a:lnTo>
                      <a:lnTo>
                        <a:pt x="220" y="2786"/>
                      </a:lnTo>
                      <a:lnTo>
                        <a:pt x="209" y="2793"/>
                      </a:lnTo>
                      <a:lnTo>
                        <a:pt x="199" y="2800"/>
                      </a:lnTo>
                      <a:lnTo>
                        <a:pt x="188" y="2805"/>
                      </a:lnTo>
                      <a:lnTo>
                        <a:pt x="180" y="2807"/>
                      </a:lnTo>
                      <a:lnTo>
                        <a:pt x="171" y="2809"/>
                      </a:lnTo>
                      <a:lnTo>
                        <a:pt x="164" y="2809"/>
                      </a:lnTo>
                      <a:lnTo>
                        <a:pt x="151" y="2808"/>
                      </a:lnTo>
                      <a:lnTo>
                        <a:pt x="136" y="2804"/>
                      </a:lnTo>
                      <a:lnTo>
                        <a:pt x="126" y="2798"/>
                      </a:lnTo>
                      <a:lnTo>
                        <a:pt x="115" y="2789"/>
                      </a:lnTo>
                      <a:lnTo>
                        <a:pt x="100" y="2776"/>
                      </a:lnTo>
                      <a:lnTo>
                        <a:pt x="89" y="2756"/>
                      </a:lnTo>
                      <a:lnTo>
                        <a:pt x="81" y="2735"/>
                      </a:lnTo>
                      <a:lnTo>
                        <a:pt x="75" y="2715"/>
                      </a:lnTo>
                      <a:lnTo>
                        <a:pt x="69" y="2691"/>
                      </a:lnTo>
                      <a:lnTo>
                        <a:pt x="61" y="2664"/>
                      </a:lnTo>
                      <a:lnTo>
                        <a:pt x="56" y="2633"/>
                      </a:lnTo>
                      <a:lnTo>
                        <a:pt x="51" y="2594"/>
                      </a:lnTo>
                      <a:lnTo>
                        <a:pt x="48" y="2564"/>
                      </a:lnTo>
                      <a:lnTo>
                        <a:pt x="44" y="2497"/>
                      </a:lnTo>
                      <a:lnTo>
                        <a:pt x="43" y="2310"/>
                      </a:lnTo>
                      <a:lnTo>
                        <a:pt x="35" y="1905"/>
                      </a:lnTo>
                      <a:lnTo>
                        <a:pt x="1" y="1070"/>
                      </a:lnTo>
                      <a:lnTo>
                        <a:pt x="0" y="1029"/>
                      </a:lnTo>
                      <a:lnTo>
                        <a:pt x="0" y="751"/>
                      </a:lnTo>
                      <a:lnTo>
                        <a:pt x="10" y="686"/>
                      </a:lnTo>
                      <a:lnTo>
                        <a:pt x="27" y="575"/>
                      </a:lnTo>
                      <a:lnTo>
                        <a:pt x="35" y="515"/>
                      </a:lnTo>
                      <a:lnTo>
                        <a:pt x="44" y="474"/>
                      </a:lnTo>
                      <a:lnTo>
                        <a:pt x="53" y="436"/>
                      </a:lnTo>
                      <a:lnTo>
                        <a:pt x="64" y="402"/>
                      </a:lnTo>
                      <a:lnTo>
                        <a:pt x="80" y="357"/>
                      </a:lnTo>
                      <a:lnTo>
                        <a:pt x="164" y="148"/>
                      </a:lnTo>
                      <a:lnTo>
                        <a:pt x="187" y="100"/>
                      </a:lnTo>
                      <a:lnTo>
                        <a:pt x="228" y="22"/>
                      </a:lnTo>
                      <a:lnTo>
                        <a:pt x="255" y="22"/>
                      </a:lnTo>
                      <a:lnTo>
                        <a:pt x="278" y="80"/>
                      </a:lnTo>
                      <a:lnTo>
                        <a:pt x="339" y="159"/>
                      </a:lnTo>
                      <a:lnTo>
                        <a:pt x="535" y="113"/>
                      </a:lnTo>
                      <a:lnTo>
                        <a:pt x="722" y="69"/>
                      </a:lnTo>
                      <a:lnTo>
                        <a:pt x="1017"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7607520" y="1360800"/>
                  <a:ext cx="217080" cy="2184840"/>
                  <a:chOff x="7607520" y="1360800"/>
                  <a:chExt cx="217080" cy="2184840"/>
                </a:xfrm>
              </p:grpSpPr>
              <p:sp>
                <p:nvSpPr>
                  <p:cNvPr id="102" name=""/>
                  <p:cNvSpPr/>
                  <p:nvPr/>
                </p:nvSpPr>
                <p:spPr>
                  <a:xfrm>
                    <a:off x="7615080" y="3492000"/>
                    <a:ext cx="209520" cy="53640"/>
                  </a:xfrm>
                  <a:custGeom>
                    <a:avLst/>
                    <a:gdLst/>
                    <a:ahLst/>
                    <a:rect l="l" t="t" r="r" b="b"/>
                    <a:pathLst>
                      <a:path w="162" h="51">
                        <a:moveTo>
                          <a:pt x="161" y="0"/>
                        </a:moveTo>
                        <a:lnTo>
                          <a:pt x="161" y="43"/>
                        </a:lnTo>
                        <a:lnTo>
                          <a:pt x="154" y="45"/>
                        </a:lnTo>
                        <a:lnTo>
                          <a:pt x="142" y="47"/>
                        </a:lnTo>
                        <a:lnTo>
                          <a:pt x="133" y="48"/>
                        </a:lnTo>
                        <a:lnTo>
                          <a:pt x="118" y="50"/>
                        </a:lnTo>
                        <a:lnTo>
                          <a:pt x="40" y="47"/>
                        </a:lnTo>
                        <a:lnTo>
                          <a:pt x="20" y="47"/>
                        </a:lnTo>
                        <a:lnTo>
                          <a:pt x="0" y="43"/>
                        </a:lnTo>
                        <a:lnTo>
                          <a:pt x="0" y="0"/>
                        </a:lnTo>
                        <a:lnTo>
                          <a:pt x="19" y="2"/>
                        </a:lnTo>
                        <a:lnTo>
                          <a:pt x="37" y="4"/>
                        </a:lnTo>
                        <a:lnTo>
                          <a:pt x="116" y="5"/>
                        </a:lnTo>
                        <a:lnTo>
                          <a:pt x="133" y="5"/>
                        </a:lnTo>
                        <a:lnTo>
                          <a:pt x="144" y="3"/>
                        </a:lnTo>
                        <a:lnTo>
                          <a:pt x="154" y="1"/>
                        </a:lnTo>
                        <a:lnTo>
                          <a:pt x="161" y="0"/>
                        </a:lnTo>
                      </a:path>
                    </a:pathLst>
                  </a:custGeom>
                  <a:solidFill>
                    <a:srgbClr val="fe9b03"/>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 name=""/>
                  <p:cNvSpPr/>
                  <p:nvPr/>
                </p:nvSpPr>
                <p:spPr>
                  <a:xfrm>
                    <a:off x="7607520" y="2897280"/>
                    <a:ext cx="210960" cy="54720"/>
                  </a:xfrm>
                  <a:custGeom>
                    <a:avLst/>
                    <a:gdLst/>
                    <a:ahLst/>
                    <a:rect l="l" t="t" r="r" b="b"/>
                    <a:pathLst>
                      <a:path w="163" h="52">
                        <a:moveTo>
                          <a:pt x="162" y="0"/>
                        </a:moveTo>
                        <a:lnTo>
                          <a:pt x="162" y="45"/>
                        </a:lnTo>
                        <a:lnTo>
                          <a:pt x="153" y="47"/>
                        </a:lnTo>
                        <a:lnTo>
                          <a:pt x="143" y="49"/>
                        </a:lnTo>
                        <a:lnTo>
                          <a:pt x="132" y="51"/>
                        </a:lnTo>
                        <a:lnTo>
                          <a:pt x="119" y="51"/>
                        </a:lnTo>
                        <a:lnTo>
                          <a:pt x="40" y="49"/>
                        </a:lnTo>
                        <a:lnTo>
                          <a:pt x="20" y="48"/>
                        </a:lnTo>
                        <a:lnTo>
                          <a:pt x="0" y="45"/>
                        </a:lnTo>
                        <a:lnTo>
                          <a:pt x="0" y="0"/>
                        </a:lnTo>
                        <a:lnTo>
                          <a:pt x="19" y="2"/>
                        </a:lnTo>
                        <a:lnTo>
                          <a:pt x="37" y="5"/>
                        </a:lnTo>
                        <a:lnTo>
                          <a:pt x="117" y="5"/>
                        </a:lnTo>
                        <a:lnTo>
                          <a:pt x="132" y="5"/>
                        </a:lnTo>
                        <a:lnTo>
                          <a:pt x="145" y="4"/>
                        </a:lnTo>
                        <a:lnTo>
                          <a:pt x="153" y="2"/>
                        </a:lnTo>
                        <a:lnTo>
                          <a:pt x="162" y="0"/>
                        </a:lnTo>
                      </a:path>
                    </a:pathLst>
                  </a:custGeom>
                  <a:solidFill>
                    <a:srgbClr val="fe9b03"/>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04" name=""/>
                  <p:cNvSpPr/>
                  <p:nvPr/>
                </p:nvSpPr>
                <p:spPr>
                  <a:xfrm>
                    <a:off x="7621560" y="1888920"/>
                    <a:ext cx="183960" cy="53640"/>
                  </a:xfrm>
                  <a:custGeom>
                    <a:avLst/>
                    <a:gdLst/>
                    <a:ahLst/>
                    <a:rect l="l" t="t" r="r" b="b"/>
                    <a:pathLst>
                      <a:path w="142" h="51">
                        <a:moveTo>
                          <a:pt x="141" y="0"/>
                        </a:moveTo>
                        <a:lnTo>
                          <a:pt x="141" y="44"/>
                        </a:lnTo>
                        <a:lnTo>
                          <a:pt x="134" y="47"/>
                        </a:lnTo>
                        <a:lnTo>
                          <a:pt x="124" y="49"/>
                        </a:lnTo>
                        <a:lnTo>
                          <a:pt x="115" y="50"/>
                        </a:lnTo>
                        <a:lnTo>
                          <a:pt x="99" y="50"/>
                        </a:lnTo>
                        <a:lnTo>
                          <a:pt x="20" y="49"/>
                        </a:lnTo>
                        <a:lnTo>
                          <a:pt x="0" y="48"/>
                        </a:lnTo>
                        <a:lnTo>
                          <a:pt x="0" y="2"/>
                        </a:lnTo>
                        <a:lnTo>
                          <a:pt x="17" y="4"/>
                        </a:lnTo>
                        <a:lnTo>
                          <a:pt x="98" y="5"/>
                        </a:lnTo>
                        <a:lnTo>
                          <a:pt x="115" y="5"/>
                        </a:lnTo>
                        <a:lnTo>
                          <a:pt x="125" y="3"/>
                        </a:lnTo>
                        <a:lnTo>
                          <a:pt x="134" y="2"/>
                        </a:lnTo>
                        <a:lnTo>
                          <a:pt x="141" y="0"/>
                        </a:lnTo>
                      </a:path>
                    </a:pathLst>
                  </a:custGeom>
                  <a:solidFill>
                    <a:srgbClr val="fe9b03"/>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5" name=""/>
                  <p:cNvSpPr/>
                  <p:nvPr/>
                </p:nvSpPr>
                <p:spPr>
                  <a:xfrm>
                    <a:off x="7607520" y="1360800"/>
                    <a:ext cx="183600" cy="53640"/>
                  </a:xfrm>
                  <a:custGeom>
                    <a:avLst/>
                    <a:gdLst/>
                    <a:ahLst/>
                    <a:rect l="l" t="t" r="r" b="b"/>
                    <a:pathLst>
                      <a:path w="142" h="51">
                        <a:moveTo>
                          <a:pt x="141" y="50"/>
                        </a:moveTo>
                        <a:lnTo>
                          <a:pt x="141" y="6"/>
                        </a:lnTo>
                        <a:lnTo>
                          <a:pt x="135" y="4"/>
                        </a:lnTo>
                        <a:lnTo>
                          <a:pt x="126" y="2"/>
                        </a:lnTo>
                        <a:lnTo>
                          <a:pt x="115" y="1"/>
                        </a:lnTo>
                        <a:lnTo>
                          <a:pt x="99" y="0"/>
                        </a:lnTo>
                        <a:lnTo>
                          <a:pt x="21" y="2"/>
                        </a:lnTo>
                        <a:lnTo>
                          <a:pt x="0" y="3"/>
                        </a:lnTo>
                        <a:lnTo>
                          <a:pt x="0" y="47"/>
                        </a:lnTo>
                        <a:lnTo>
                          <a:pt x="19" y="45"/>
                        </a:lnTo>
                        <a:lnTo>
                          <a:pt x="98" y="44"/>
                        </a:lnTo>
                        <a:lnTo>
                          <a:pt x="115" y="44"/>
                        </a:lnTo>
                        <a:lnTo>
                          <a:pt x="127" y="47"/>
                        </a:lnTo>
                        <a:lnTo>
                          <a:pt x="135" y="48"/>
                        </a:lnTo>
                        <a:lnTo>
                          <a:pt x="141" y="50"/>
                        </a:lnTo>
                      </a:path>
                    </a:pathLst>
                  </a:custGeom>
                  <a:solidFill>
                    <a:srgbClr val="fe9b03"/>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106" name=""/>
                <p:cNvGrpSpPr/>
                <p:nvPr/>
              </p:nvGrpSpPr>
              <p:grpSpPr>
                <a:xfrm>
                  <a:off x="7660800" y="1455840"/>
                  <a:ext cx="106200" cy="1979280"/>
                  <a:chOff x="7660800" y="1455840"/>
                  <a:chExt cx="106200" cy="1979280"/>
                </a:xfrm>
              </p:grpSpPr>
              <p:grpSp>
                <p:nvGrpSpPr>
                  <p:cNvPr id="107" name=""/>
                  <p:cNvGrpSpPr/>
                  <p:nvPr/>
                </p:nvGrpSpPr>
                <p:grpSpPr>
                  <a:xfrm>
                    <a:off x="7664400" y="1648800"/>
                    <a:ext cx="51120" cy="205200"/>
                    <a:chOff x="7664400" y="1648800"/>
                    <a:chExt cx="51120" cy="205200"/>
                  </a:xfrm>
                </p:grpSpPr>
                <p:sp>
                  <p:nvSpPr>
                    <p:cNvPr id="108" name=""/>
                    <p:cNvSpPr/>
                    <p:nvPr/>
                  </p:nvSpPr>
                  <p:spPr>
                    <a:xfrm>
                      <a:off x="7669440" y="1842480"/>
                      <a:ext cx="4608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09" name=""/>
                    <p:cNvSpPr/>
                    <p:nvPr/>
                  </p:nvSpPr>
                  <p:spPr>
                    <a:xfrm>
                      <a:off x="7669440" y="181188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0" name=""/>
                    <p:cNvSpPr/>
                    <p:nvPr/>
                  </p:nvSpPr>
                  <p:spPr>
                    <a:xfrm>
                      <a:off x="7668000" y="178056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1" name=""/>
                    <p:cNvSpPr/>
                    <p:nvPr/>
                  </p:nvSpPr>
                  <p:spPr>
                    <a:xfrm>
                      <a:off x="7668000" y="1746720"/>
                      <a:ext cx="4644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2" name=""/>
                    <p:cNvSpPr/>
                    <p:nvPr/>
                  </p:nvSpPr>
                  <p:spPr>
                    <a:xfrm>
                      <a:off x="7668000" y="1715040"/>
                      <a:ext cx="46440" cy="9000"/>
                    </a:xfrm>
                    <a:prstGeom prst="ellipse">
                      <a:avLst/>
                    </a:prstGeom>
                    <a:solidFill>
                      <a:srgbClr val="fe9b0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13" name=""/>
                    <p:cNvSpPr/>
                    <p:nvPr/>
                  </p:nvSpPr>
                  <p:spPr>
                    <a:xfrm>
                      <a:off x="7666920" y="168444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14" name=""/>
                    <p:cNvSpPr/>
                    <p:nvPr/>
                  </p:nvSpPr>
                  <p:spPr>
                    <a:xfrm>
                      <a:off x="7664400" y="1648800"/>
                      <a:ext cx="4752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15" name=""/>
                  <p:cNvGrpSpPr/>
                  <p:nvPr/>
                </p:nvGrpSpPr>
                <p:grpSpPr>
                  <a:xfrm>
                    <a:off x="7696800" y="2647440"/>
                    <a:ext cx="70200" cy="787680"/>
                    <a:chOff x="7696800" y="2647440"/>
                    <a:chExt cx="70200" cy="787680"/>
                  </a:xfrm>
                </p:grpSpPr>
                <p:grpSp>
                  <p:nvGrpSpPr>
                    <p:cNvPr id="116" name=""/>
                    <p:cNvGrpSpPr/>
                    <p:nvPr/>
                  </p:nvGrpSpPr>
                  <p:grpSpPr>
                    <a:xfrm>
                      <a:off x="7715880" y="3219480"/>
                      <a:ext cx="51120" cy="215640"/>
                      <a:chOff x="7715880" y="3219480"/>
                      <a:chExt cx="51120" cy="215640"/>
                    </a:xfrm>
                  </p:grpSpPr>
                  <p:sp>
                    <p:nvSpPr>
                      <p:cNvPr id="117" name=""/>
                      <p:cNvSpPr/>
                      <p:nvPr/>
                    </p:nvSpPr>
                    <p:spPr>
                      <a:xfrm>
                        <a:off x="7720920" y="3423960"/>
                        <a:ext cx="4608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8" name=""/>
                      <p:cNvSpPr/>
                      <p:nvPr/>
                    </p:nvSpPr>
                    <p:spPr>
                      <a:xfrm>
                        <a:off x="7720920" y="3387960"/>
                        <a:ext cx="46080" cy="12600"/>
                      </a:xfrm>
                      <a:prstGeom prst="ellipse">
                        <a:avLst/>
                      </a:prstGeom>
                      <a:solidFill>
                        <a:srgbClr val="fe9b0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9" name=""/>
                      <p:cNvSpPr/>
                      <p:nvPr/>
                    </p:nvSpPr>
                    <p:spPr>
                      <a:xfrm>
                        <a:off x="7719840" y="3355200"/>
                        <a:ext cx="4572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0" name=""/>
                      <p:cNvSpPr/>
                      <p:nvPr/>
                    </p:nvSpPr>
                    <p:spPr>
                      <a:xfrm>
                        <a:off x="7718400" y="3321720"/>
                        <a:ext cx="46080" cy="9360"/>
                      </a:xfrm>
                      <a:prstGeom prst="ellipse">
                        <a:avLst/>
                      </a:prstGeom>
                      <a:solidFill>
                        <a:srgbClr val="fe9b03"/>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1" name=""/>
                      <p:cNvSpPr/>
                      <p:nvPr/>
                    </p:nvSpPr>
                    <p:spPr>
                      <a:xfrm>
                        <a:off x="7718400" y="3285720"/>
                        <a:ext cx="4608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 name=""/>
                      <p:cNvSpPr/>
                      <p:nvPr/>
                    </p:nvSpPr>
                    <p:spPr>
                      <a:xfrm>
                        <a:off x="7718400" y="325296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3" name=""/>
                      <p:cNvSpPr/>
                      <p:nvPr/>
                    </p:nvSpPr>
                    <p:spPr>
                      <a:xfrm>
                        <a:off x="7715880" y="321948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24" name=""/>
                    <p:cNvGrpSpPr/>
                    <p:nvPr/>
                  </p:nvGrpSpPr>
                  <p:grpSpPr>
                    <a:xfrm>
                      <a:off x="7708320" y="2982600"/>
                      <a:ext cx="52200" cy="212760"/>
                      <a:chOff x="7708320" y="2982600"/>
                      <a:chExt cx="52200" cy="212760"/>
                    </a:xfrm>
                  </p:grpSpPr>
                  <p:sp>
                    <p:nvSpPr>
                      <p:cNvPr id="125" name=""/>
                      <p:cNvSpPr/>
                      <p:nvPr/>
                    </p:nvSpPr>
                    <p:spPr>
                      <a:xfrm>
                        <a:off x="7714440" y="318492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6" name=""/>
                      <p:cNvSpPr/>
                      <p:nvPr/>
                    </p:nvSpPr>
                    <p:spPr>
                      <a:xfrm>
                        <a:off x="7714440" y="315216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7" name=""/>
                      <p:cNvSpPr/>
                      <p:nvPr/>
                    </p:nvSpPr>
                    <p:spPr>
                      <a:xfrm>
                        <a:off x="7711920" y="3119400"/>
                        <a:ext cx="47160" cy="9360"/>
                      </a:xfrm>
                      <a:prstGeom prst="ellipse">
                        <a:avLst/>
                      </a:prstGeom>
                      <a:solidFill>
                        <a:srgbClr val="fe9b03"/>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28" name=""/>
                      <p:cNvSpPr/>
                      <p:nvPr/>
                    </p:nvSpPr>
                    <p:spPr>
                      <a:xfrm>
                        <a:off x="7710840" y="3083400"/>
                        <a:ext cx="4572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29" name=""/>
                      <p:cNvSpPr/>
                      <p:nvPr/>
                    </p:nvSpPr>
                    <p:spPr>
                      <a:xfrm>
                        <a:off x="7710840" y="3049920"/>
                        <a:ext cx="45720" cy="8280"/>
                      </a:xfrm>
                      <a:prstGeom prst="ellipse">
                        <a:avLst/>
                      </a:prstGeom>
                      <a:solidFill>
                        <a:srgbClr val="fe9b03"/>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130" name=""/>
                      <p:cNvSpPr/>
                      <p:nvPr/>
                    </p:nvSpPr>
                    <p:spPr>
                      <a:xfrm>
                        <a:off x="7710840" y="3013920"/>
                        <a:ext cx="45720" cy="12600"/>
                      </a:xfrm>
                      <a:prstGeom prst="ellipse">
                        <a:avLst/>
                      </a:prstGeom>
                      <a:solidFill>
                        <a:srgbClr val="fe9b0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31" name=""/>
                      <p:cNvSpPr/>
                      <p:nvPr/>
                    </p:nvSpPr>
                    <p:spPr>
                      <a:xfrm>
                        <a:off x="7708320" y="2982600"/>
                        <a:ext cx="446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32" name=""/>
                    <p:cNvGrpSpPr/>
                    <p:nvPr/>
                  </p:nvGrpSpPr>
                  <p:grpSpPr>
                    <a:xfrm>
                      <a:off x="7696800" y="2647440"/>
                      <a:ext cx="52200" cy="212400"/>
                      <a:chOff x="7696800" y="2647440"/>
                      <a:chExt cx="52200" cy="212400"/>
                    </a:xfrm>
                  </p:grpSpPr>
                  <p:sp>
                    <p:nvSpPr>
                      <p:cNvPr id="133" name=""/>
                      <p:cNvSpPr/>
                      <p:nvPr/>
                    </p:nvSpPr>
                    <p:spPr>
                      <a:xfrm>
                        <a:off x="7704360" y="2848680"/>
                        <a:ext cx="4464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34" name=""/>
                      <p:cNvSpPr/>
                      <p:nvPr/>
                    </p:nvSpPr>
                    <p:spPr>
                      <a:xfrm>
                        <a:off x="7704360" y="2817000"/>
                        <a:ext cx="446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35" name=""/>
                      <p:cNvSpPr/>
                      <p:nvPr/>
                    </p:nvSpPr>
                    <p:spPr>
                      <a:xfrm>
                        <a:off x="7700400" y="2783520"/>
                        <a:ext cx="4608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36" name=""/>
                      <p:cNvSpPr/>
                      <p:nvPr/>
                    </p:nvSpPr>
                    <p:spPr>
                      <a:xfrm>
                        <a:off x="7700400" y="2748600"/>
                        <a:ext cx="4608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7" name=""/>
                      <p:cNvSpPr/>
                      <p:nvPr/>
                    </p:nvSpPr>
                    <p:spPr>
                      <a:xfrm>
                        <a:off x="7698240" y="2715840"/>
                        <a:ext cx="4464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38" name=""/>
                      <p:cNvSpPr/>
                      <p:nvPr/>
                    </p:nvSpPr>
                    <p:spPr>
                      <a:xfrm>
                        <a:off x="7696800" y="2647440"/>
                        <a:ext cx="45000" cy="9000"/>
                      </a:xfrm>
                      <a:prstGeom prst="ellipse">
                        <a:avLst/>
                      </a:prstGeom>
                      <a:solidFill>
                        <a:srgbClr val="fe9b0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nvGrpSpPr>
                  <p:cNvPr id="139" name=""/>
                  <p:cNvGrpSpPr/>
                  <p:nvPr/>
                </p:nvGrpSpPr>
                <p:grpSpPr>
                  <a:xfrm>
                    <a:off x="7696800" y="2426040"/>
                    <a:ext cx="46440" cy="169560"/>
                    <a:chOff x="7696800" y="2426040"/>
                    <a:chExt cx="46440" cy="169560"/>
                  </a:xfrm>
                </p:grpSpPr>
                <p:sp>
                  <p:nvSpPr>
                    <p:cNvPr id="140" name=""/>
                    <p:cNvSpPr/>
                    <p:nvPr/>
                  </p:nvSpPr>
                  <p:spPr>
                    <a:xfrm>
                      <a:off x="7696800" y="2585160"/>
                      <a:ext cx="4500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1" name=""/>
                    <p:cNvSpPr/>
                    <p:nvPr/>
                  </p:nvSpPr>
                  <p:spPr>
                    <a:xfrm>
                      <a:off x="7696800" y="2552400"/>
                      <a:ext cx="45000" cy="11160"/>
                    </a:xfrm>
                    <a:prstGeom prst="ellipse">
                      <a:avLst/>
                    </a:prstGeom>
                    <a:solidFill>
                      <a:srgbClr val="fe9b0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42" name=""/>
                    <p:cNvSpPr/>
                    <p:nvPr/>
                  </p:nvSpPr>
                  <p:spPr>
                    <a:xfrm>
                      <a:off x="7698240" y="2521800"/>
                      <a:ext cx="45000" cy="9360"/>
                    </a:xfrm>
                    <a:prstGeom prst="ellipse">
                      <a:avLst/>
                    </a:prstGeom>
                    <a:solidFill>
                      <a:srgbClr val="fe9b03"/>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43" name=""/>
                    <p:cNvSpPr/>
                    <p:nvPr/>
                  </p:nvSpPr>
                  <p:spPr>
                    <a:xfrm>
                      <a:off x="7698240" y="2490120"/>
                      <a:ext cx="4500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4" name=""/>
                    <p:cNvSpPr/>
                    <p:nvPr/>
                  </p:nvSpPr>
                  <p:spPr>
                    <a:xfrm>
                      <a:off x="7698240" y="2458440"/>
                      <a:ext cx="4500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5" name=""/>
                    <p:cNvSpPr/>
                    <p:nvPr/>
                  </p:nvSpPr>
                  <p:spPr>
                    <a:xfrm>
                      <a:off x="7698240" y="2426040"/>
                      <a:ext cx="4500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nvGrpSpPr>
                  <p:cNvPr id="146" name=""/>
                  <p:cNvGrpSpPr/>
                  <p:nvPr/>
                </p:nvGrpSpPr>
                <p:grpSpPr>
                  <a:xfrm>
                    <a:off x="7660800" y="1455840"/>
                    <a:ext cx="51120" cy="170640"/>
                    <a:chOff x="7660800" y="1455840"/>
                    <a:chExt cx="51120" cy="170640"/>
                  </a:xfrm>
                </p:grpSpPr>
                <p:sp>
                  <p:nvSpPr>
                    <p:cNvPr id="147" name=""/>
                    <p:cNvSpPr/>
                    <p:nvPr/>
                  </p:nvSpPr>
                  <p:spPr>
                    <a:xfrm>
                      <a:off x="7664400" y="1613880"/>
                      <a:ext cx="47520" cy="12600"/>
                    </a:xfrm>
                    <a:prstGeom prst="ellipse">
                      <a:avLst/>
                    </a:prstGeom>
                    <a:solidFill>
                      <a:srgbClr val="fe9b03"/>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48" name=""/>
                    <p:cNvSpPr/>
                    <p:nvPr/>
                  </p:nvSpPr>
                  <p:spPr>
                    <a:xfrm>
                      <a:off x="7664400" y="1583280"/>
                      <a:ext cx="4752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49" name=""/>
                    <p:cNvSpPr/>
                    <p:nvPr/>
                  </p:nvSpPr>
                  <p:spPr>
                    <a:xfrm>
                      <a:off x="7661880" y="155268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50" name=""/>
                    <p:cNvSpPr/>
                    <p:nvPr/>
                  </p:nvSpPr>
                  <p:spPr>
                    <a:xfrm>
                      <a:off x="7661880" y="1519920"/>
                      <a:ext cx="46440" cy="10440"/>
                    </a:xfrm>
                    <a:prstGeom prst="ellipse">
                      <a:avLst/>
                    </a:prstGeom>
                    <a:solidFill>
                      <a:srgbClr val="fe9b03"/>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51" name=""/>
                    <p:cNvSpPr/>
                    <p:nvPr/>
                  </p:nvSpPr>
                  <p:spPr>
                    <a:xfrm>
                      <a:off x="7661880" y="1488240"/>
                      <a:ext cx="46440" cy="11520"/>
                    </a:xfrm>
                    <a:prstGeom prst="ellipse">
                      <a:avLst/>
                    </a:prstGeom>
                    <a:solidFill>
                      <a:srgbClr val="fe9b03"/>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52" name=""/>
                    <p:cNvSpPr/>
                    <p:nvPr/>
                  </p:nvSpPr>
                  <p:spPr>
                    <a:xfrm>
                      <a:off x="7660800" y="1455840"/>
                      <a:ext cx="46080" cy="9000"/>
                    </a:xfrm>
                    <a:prstGeom prst="ellipse">
                      <a:avLst/>
                    </a:prstGeom>
                    <a:solidFill>
                      <a:srgbClr val="fe9b03"/>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grpSp>
          <p:sp>
            <p:nvSpPr>
              <p:cNvPr id="153" name=""/>
              <p:cNvSpPr/>
              <p:nvPr/>
            </p:nvSpPr>
            <p:spPr>
              <a:xfrm>
                <a:off x="7466760" y="930960"/>
                <a:ext cx="738000" cy="2876040"/>
              </a:xfrm>
              <a:custGeom>
                <a:avLst/>
                <a:gdLst/>
                <a:ahLst/>
                <a:rect l="l" t="t" r="r" b="b"/>
                <a:pathLst>
                  <a:path w="570" h="2727">
                    <a:moveTo>
                      <a:pt x="569" y="0"/>
                    </a:moveTo>
                    <a:lnTo>
                      <a:pt x="230" y="228"/>
                    </a:lnTo>
                    <a:lnTo>
                      <a:pt x="197" y="250"/>
                    </a:lnTo>
                    <a:lnTo>
                      <a:pt x="188" y="257"/>
                    </a:lnTo>
                    <a:lnTo>
                      <a:pt x="181" y="263"/>
                    </a:lnTo>
                    <a:lnTo>
                      <a:pt x="171" y="271"/>
                    </a:lnTo>
                    <a:lnTo>
                      <a:pt x="164" y="280"/>
                    </a:lnTo>
                    <a:lnTo>
                      <a:pt x="157" y="290"/>
                    </a:lnTo>
                    <a:lnTo>
                      <a:pt x="151" y="302"/>
                    </a:lnTo>
                    <a:lnTo>
                      <a:pt x="145" y="315"/>
                    </a:lnTo>
                    <a:lnTo>
                      <a:pt x="141" y="328"/>
                    </a:lnTo>
                    <a:lnTo>
                      <a:pt x="139" y="345"/>
                    </a:lnTo>
                    <a:lnTo>
                      <a:pt x="135" y="369"/>
                    </a:lnTo>
                    <a:lnTo>
                      <a:pt x="153" y="2481"/>
                    </a:lnTo>
                    <a:lnTo>
                      <a:pt x="157" y="2526"/>
                    </a:lnTo>
                    <a:lnTo>
                      <a:pt x="163" y="2585"/>
                    </a:lnTo>
                    <a:lnTo>
                      <a:pt x="170" y="2659"/>
                    </a:lnTo>
                    <a:lnTo>
                      <a:pt x="162" y="2670"/>
                    </a:lnTo>
                    <a:lnTo>
                      <a:pt x="154" y="2681"/>
                    </a:lnTo>
                    <a:lnTo>
                      <a:pt x="143" y="2690"/>
                    </a:lnTo>
                    <a:lnTo>
                      <a:pt x="135" y="2701"/>
                    </a:lnTo>
                    <a:lnTo>
                      <a:pt x="122" y="2710"/>
                    </a:lnTo>
                    <a:lnTo>
                      <a:pt x="111" y="2717"/>
                    </a:lnTo>
                    <a:lnTo>
                      <a:pt x="95" y="2723"/>
                    </a:lnTo>
                    <a:lnTo>
                      <a:pt x="86" y="2725"/>
                    </a:lnTo>
                    <a:lnTo>
                      <a:pt x="74" y="2726"/>
                    </a:lnTo>
                    <a:lnTo>
                      <a:pt x="58" y="2724"/>
                    </a:lnTo>
                    <a:lnTo>
                      <a:pt x="49" y="2721"/>
                    </a:lnTo>
                    <a:lnTo>
                      <a:pt x="38" y="2713"/>
                    </a:lnTo>
                    <a:lnTo>
                      <a:pt x="22" y="2701"/>
                    </a:lnTo>
                    <a:lnTo>
                      <a:pt x="13" y="2693"/>
                    </a:lnTo>
                    <a:lnTo>
                      <a:pt x="9" y="2681"/>
                    </a:lnTo>
                    <a:lnTo>
                      <a:pt x="0" y="2665"/>
                    </a:lnTo>
                    <a:lnTo>
                      <a:pt x="18" y="2662"/>
                    </a:lnTo>
                    <a:lnTo>
                      <a:pt x="33" y="2658"/>
                    </a:lnTo>
                    <a:lnTo>
                      <a:pt x="47" y="2649"/>
                    </a:lnTo>
                    <a:lnTo>
                      <a:pt x="57" y="2643"/>
                    </a:lnTo>
                    <a:lnTo>
                      <a:pt x="67" y="2636"/>
                    </a:lnTo>
                    <a:lnTo>
                      <a:pt x="81" y="2626"/>
                    </a:lnTo>
                    <a:lnTo>
                      <a:pt x="91" y="2617"/>
                    </a:lnTo>
                    <a:lnTo>
                      <a:pt x="101" y="2606"/>
                    </a:lnTo>
                    <a:lnTo>
                      <a:pt x="111" y="2592"/>
                    </a:lnTo>
                    <a:lnTo>
                      <a:pt x="118" y="2580"/>
                    </a:lnTo>
                    <a:lnTo>
                      <a:pt x="126" y="2564"/>
                    </a:lnTo>
                    <a:lnTo>
                      <a:pt x="130" y="2546"/>
                    </a:lnTo>
                    <a:lnTo>
                      <a:pt x="126" y="2507"/>
                    </a:lnTo>
                    <a:lnTo>
                      <a:pt x="120" y="2481"/>
                    </a:lnTo>
                    <a:lnTo>
                      <a:pt x="120" y="2458"/>
                    </a:lnTo>
                    <a:lnTo>
                      <a:pt x="96" y="366"/>
                    </a:lnTo>
                    <a:lnTo>
                      <a:pt x="96" y="345"/>
                    </a:lnTo>
                    <a:lnTo>
                      <a:pt x="100" y="323"/>
                    </a:lnTo>
                    <a:lnTo>
                      <a:pt x="101" y="303"/>
                    </a:lnTo>
                    <a:lnTo>
                      <a:pt x="102" y="290"/>
                    </a:lnTo>
                    <a:lnTo>
                      <a:pt x="103" y="278"/>
                    </a:lnTo>
                    <a:lnTo>
                      <a:pt x="108" y="260"/>
                    </a:lnTo>
                    <a:lnTo>
                      <a:pt x="113" y="246"/>
                    </a:lnTo>
                    <a:lnTo>
                      <a:pt x="120" y="234"/>
                    </a:lnTo>
                    <a:lnTo>
                      <a:pt x="427" y="35"/>
                    </a:lnTo>
                    <a:lnTo>
                      <a:pt x="569"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7713000" y="3655080"/>
                <a:ext cx="50400" cy="65880"/>
                <a:chOff x="7713000" y="3655080"/>
                <a:chExt cx="50400" cy="65880"/>
              </a:xfrm>
            </p:grpSpPr>
            <p:sp>
              <p:nvSpPr>
                <p:cNvPr id="155" name=""/>
                <p:cNvSpPr/>
                <p:nvPr/>
              </p:nvSpPr>
              <p:spPr>
                <a:xfrm>
                  <a:off x="7719120" y="3655080"/>
                  <a:ext cx="43920" cy="15480"/>
                </a:xfrm>
                <a:custGeom>
                  <a:avLst/>
                  <a:gdLst/>
                  <a:ahLst/>
                  <a:rect l="l" t="t" r="r" b="b"/>
                  <a:pathLst>
                    <a:path w="34" h="15">
                      <a:moveTo>
                        <a:pt x="33" y="1"/>
                      </a:moveTo>
                      <a:lnTo>
                        <a:pt x="33" y="7"/>
                      </a:lnTo>
                      <a:lnTo>
                        <a:pt x="0" y="14"/>
                      </a:lnTo>
                      <a:lnTo>
                        <a:pt x="0" y="0"/>
                      </a:lnTo>
                      <a:lnTo>
                        <a:pt x="33" y="1"/>
                      </a:lnTo>
                    </a:path>
                  </a:pathLst>
                </a:custGeom>
                <a:solidFill>
                  <a:srgbClr val="fe9b03"/>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6" name=""/>
                <p:cNvSpPr/>
                <p:nvPr/>
              </p:nvSpPr>
              <p:spPr>
                <a:xfrm>
                  <a:off x="7719120" y="3670560"/>
                  <a:ext cx="43920" cy="25200"/>
                </a:xfrm>
                <a:custGeom>
                  <a:avLst/>
                  <a:gdLst/>
                  <a:ahLst/>
                  <a:rect l="l" t="t" r="r" b="b"/>
                  <a:pathLst>
                    <a:path w="34" h="24">
                      <a:moveTo>
                        <a:pt x="33" y="0"/>
                      </a:moveTo>
                      <a:lnTo>
                        <a:pt x="33" y="13"/>
                      </a:lnTo>
                      <a:lnTo>
                        <a:pt x="0" y="23"/>
                      </a:lnTo>
                      <a:lnTo>
                        <a:pt x="0" y="10"/>
                      </a:lnTo>
                      <a:lnTo>
                        <a:pt x="33" y="0"/>
                      </a:lnTo>
                    </a:path>
                  </a:pathLst>
                </a:custGeom>
                <a:solidFill>
                  <a:srgbClr val="fe9b0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7" name=""/>
                <p:cNvSpPr/>
                <p:nvPr/>
              </p:nvSpPr>
              <p:spPr>
                <a:xfrm>
                  <a:off x="7713000" y="3692880"/>
                  <a:ext cx="50400" cy="28080"/>
                </a:xfrm>
                <a:custGeom>
                  <a:avLst/>
                  <a:gdLst/>
                  <a:ahLst/>
                  <a:rect l="l" t="t" r="r" b="b"/>
                  <a:pathLst>
                    <a:path w="39" h="27">
                      <a:moveTo>
                        <a:pt x="38" y="0"/>
                      </a:moveTo>
                      <a:lnTo>
                        <a:pt x="38" y="7"/>
                      </a:lnTo>
                      <a:lnTo>
                        <a:pt x="31" y="11"/>
                      </a:lnTo>
                      <a:lnTo>
                        <a:pt x="23" y="16"/>
                      </a:lnTo>
                      <a:lnTo>
                        <a:pt x="19" y="19"/>
                      </a:lnTo>
                      <a:lnTo>
                        <a:pt x="12" y="21"/>
                      </a:lnTo>
                      <a:lnTo>
                        <a:pt x="0" y="26"/>
                      </a:lnTo>
                      <a:lnTo>
                        <a:pt x="0" y="23"/>
                      </a:lnTo>
                      <a:lnTo>
                        <a:pt x="3" y="17"/>
                      </a:lnTo>
                      <a:lnTo>
                        <a:pt x="3" y="11"/>
                      </a:lnTo>
                      <a:lnTo>
                        <a:pt x="38" y="0"/>
                      </a:lnTo>
                    </a:path>
                  </a:pathLst>
                </a:custGeom>
                <a:solidFill>
                  <a:srgbClr val="fe9b03"/>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58" name=""/>
              <p:cNvSpPr/>
              <p:nvPr/>
            </p:nvSpPr>
            <p:spPr>
              <a:xfrm rot="5400000">
                <a:off x="7653240" y="856080"/>
                <a:ext cx="16200" cy="21600"/>
              </a:xfrm>
              <a:custGeom>
                <a:avLst/>
                <a:gdLst/>
                <a:ahLst/>
                <a:rect l="l" t="t" r="r" b="b"/>
                <a:pathLst>
                  <a:path stroke="0" w="21600" h="21600">
                    <a:moveTo>
                      <a:pt x="9179" y="21478"/>
                    </a:moveTo>
                    <a:arcTo wR="10800" hR="10800" stAng="5917848" swAng="9878177"/>
                    <a:lnTo>
                      <a:pt x="10800" y="10800"/>
                    </a:lnTo>
                    <a:close/>
                  </a:path>
                  <a:path fill="none" w="21600" h="21600">
                    <a:moveTo>
                      <a:pt x="9179" y="21478"/>
                    </a:moveTo>
                    <a:arcTo wR="10800" hR="10800" stAng="5917848" swAng="9878177"/>
                  </a:path>
                </a:pathLst>
              </a:custGeom>
              <a:solidFill>
                <a:srgbClr val="fe9b03"/>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9" name=""/>
              <p:cNvSpPr/>
              <p:nvPr/>
            </p:nvSpPr>
            <p:spPr>
              <a:xfrm>
                <a:off x="7527960" y="2255400"/>
                <a:ext cx="131760" cy="327960"/>
              </a:xfrm>
              <a:custGeom>
                <a:avLst/>
                <a:gdLst/>
                <a:ahLst/>
                <a:rect l="l" t="t" r="r" b="b"/>
                <a:pathLst>
                  <a:path w="102" h="311">
                    <a:moveTo>
                      <a:pt x="77" y="0"/>
                    </a:moveTo>
                    <a:lnTo>
                      <a:pt x="65" y="82"/>
                    </a:lnTo>
                    <a:lnTo>
                      <a:pt x="69" y="126"/>
                    </a:lnTo>
                    <a:lnTo>
                      <a:pt x="82" y="170"/>
                    </a:lnTo>
                    <a:lnTo>
                      <a:pt x="86" y="198"/>
                    </a:lnTo>
                    <a:lnTo>
                      <a:pt x="98" y="226"/>
                    </a:lnTo>
                    <a:lnTo>
                      <a:pt x="101" y="246"/>
                    </a:lnTo>
                    <a:lnTo>
                      <a:pt x="98" y="263"/>
                    </a:lnTo>
                    <a:lnTo>
                      <a:pt x="92" y="278"/>
                    </a:lnTo>
                    <a:lnTo>
                      <a:pt x="82" y="291"/>
                    </a:lnTo>
                    <a:lnTo>
                      <a:pt x="69" y="301"/>
                    </a:lnTo>
                    <a:lnTo>
                      <a:pt x="42" y="310"/>
                    </a:lnTo>
                    <a:lnTo>
                      <a:pt x="10" y="294"/>
                    </a:lnTo>
                    <a:lnTo>
                      <a:pt x="0" y="166"/>
                    </a:lnTo>
                    <a:lnTo>
                      <a:pt x="8" y="128"/>
                    </a:lnTo>
                    <a:lnTo>
                      <a:pt x="15" y="101"/>
                    </a:lnTo>
                    <a:lnTo>
                      <a:pt x="34" y="56"/>
                    </a:lnTo>
                    <a:lnTo>
                      <a:pt x="77"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7155000" y="1879920"/>
                <a:ext cx="514800" cy="975600"/>
                <a:chOff x="7155000" y="1879920"/>
                <a:chExt cx="514800" cy="975600"/>
              </a:xfrm>
            </p:grpSpPr>
            <p:grpSp>
              <p:nvGrpSpPr>
                <p:cNvPr id="161" name=""/>
                <p:cNvGrpSpPr/>
                <p:nvPr/>
              </p:nvGrpSpPr>
              <p:grpSpPr>
                <a:xfrm>
                  <a:off x="7339680" y="1879920"/>
                  <a:ext cx="330120" cy="975600"/>
                  <a:chOff x="7339680" y="1879920"/>
                  <a:chExt cx="330120" cy="975600"/>
                </a:xfrm>
              </p:grpSpPr>
              <p:sp>
                <p:nvSpPr>
                  <p:cNvPr id="162" name=""/>
                  <p:cNvSpPr/>
                  <p:nvPr/>
                </p:nvSpPr>
                <p:spPr>
                  <a:xfrm>
                    <a:off x="7339680" y="1879920"/>
                    <a:ext cx="330120" cy="975600"/>
                  </a:xfrm>
                  <a:custGeom>
                    <a:avLst/>
                    <a:gdLst/>
                    <a:ahLst/>
                    <a:rect l="l" t="t" r="r" b="b"/>
                    <a:pathLst>
                      <a:path w="255" h="925">
                        <a:moveTo>
                          <a:pt x="217" y="232"/>
                        </a:moveTo>
                        <a:lnTo>
                          <a:pt x="203" y="195"/>
                        </a:lnTo>
                        <a:lnTo>
                          <a:pt x="179" y="164"/>
                        </a:lnTo>
                        <a:lnTo>
                          <a:pt x="166" y="130"/>
                        </a:lnTo>
                        <a:lnTo>
                          <a:pt x="154" y="88"/>
                        </a:lnTo>
                        <a:lnTo>
                          <a:pt x="134" y="52"/>
                        </a:lnTo>
                        <a:lnTo>
                          <a:pt x="116" y="25"/>
                        </a:lnTo>
                        <a:lnTo>
                          <a:pt x="104" y="13"/>
                        </a:lnTo>
                        <a:lnTo>
                          <a:pt x="89" y="5"/>
                        </a:lnTo>
                        <a:lnTo>
                          <a:pt x="78" y="1"/>
                        </a:lnTo>
                        <a:lnTo>
                          <a:pt x="63" y="0"/>
                        </a:lnTo>
                        <a:lnTo>
                          <a:pt x="47" y="12"/>
                        </a:lnTo>
                        <a:lnTo>
                          <a:pt x="38" y="23"/>
                        </a:lnTo>
                        <a:lnTo>
                          <a:pt x="33" y="40"/>
                        </a:lnTo>
                        <a:lnTo>
                          <a:pt x="27" y="59"/>
                        </a:lnTo>
                        <a:lnTo>
                          <a:pt x="20" y="90"/>
                        </a:lnTo>
                        <a:lnTo>
                          <a:pt x="12" y="129"/>
                        </a:lnTo>
                        <a:lnTo>
                          <a:pt x="8" y="156"/>
                        </a:lnTo>
                        <a:lnTo>
                          <a:pt x="4" y="254"/>
                        </a:lnTo>
                        <a:lnTo>
                          <a:pt x="4" y="328"/>
                        </a:lnTo>
                        <a:lnTo>
                          <a:pt x="0" y="433"/>
                        </a:lnTo>
                        <a:lnTo>
                          <a:pt x="4" y="526"/>
                        </a:lnTo>
                        <a:lnTo>
                          <a:pt x="4" y="742"/>
                        </a:lnTo>
                        <a:lnTo>
                          <a:pt x="12" y="803"/>
                        </a:lnTo>
                        <a:lnTo>
                          <a:pt x="19" y="826"/>
                        </a:lnTo>
                        <a:lnTo>
                          <a:pt x="30" y="855"/>
                        </a:lnTo>
                        <a:lnTo>
                          <a:pt x="45" y="880"/>
                        </a:lnTo>
                        <a:lnTo>
                          <a:pt x="66" y="900"/>
                        </a:lnTo>
                        <a:lnTo>
                          <a:pt x="91" y="920"/>
                        </a:lnTo>
                        <a:lnTo>
                          <a:pt x="120" y="924"/>
                        </a:lnTo>
                        <a:lnTo>
                          <a:pt x="134" y="920"/>
                        </a:lnTo>
                        <a:lnTo>
                          <a:pt x="157" y="908"/>
                        </a:lnTo>
                        <a:lnTo>
                          <a:pt x="179" y="886"/>
                        </a:lnTo>
                        <a:lnTo>
                          <a:pt x="195" y="865"/>
                        </a:lnTo>
                        <a:lnTo>
                          <a:pt x="209" y="840"/>
                        </a:lnTo>
                        <a:lnTo>
                          <a:pt x="220" y="810"/>
                        </a:lnTo>
                        <a:lnTo>
                          <a:pt x="226" y="780"/>
                        </a:lnTo>
                        <a:lnTo>
                          <a:pt x="221" y="761"/>
                        </a:lnTo>
                        <a:lnTo>
                          <a:pt x="234" y="750"/>
                        </a:lnTo>
                        <a:lnTo>
                          <a:pt x="246" y="722"/>
                        </a:lnTo>
                        <a:lnTo>
                          <a:pt x="250" y="688"/>
                        </a:lnTo>
                        <a:lnTo>
                          <a:pt x="254" y="641"/>
                        </a:lnTo>
                        <a:lnTo>
                          <a:pt x="246" y="585"/>
                        </a:lnTo>
                        <a:lnTo>
                          <a:pt x="217" y="232"/>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42200" y="1879920"/>
                    <a:ext cx="288360" cy="972360"/>
                  </a:xfrm>
                  <a:custGeom>
                    <a:avLst/>
                    <a:gdLst/>
                    <a:ahLst/>
                    <a:rect l="l" t="t" r="r" b="b"/>
                    <a:pathLst>
                      <a:path w="223" h="922">
                        <a:moveTo>
                          <a:pt x="222" y="230"/>
                        </a:moveTo>
                        <a:lnTo>
                          <a:pt x="203" y="236"/>
                        </a:lnTo>
                        <a:lnTo>
                          <a:pt x="175" y="240"/>
                        </a:lnTo>
                        <a:lnTo>
                          <a:pt x="155" y="241"/>
                        </a:lnTo>
                        <a:lnTo>
                          <a:pt x="129" y="237"/>
                        </a:lnTo>
                        <a:lnTo>
                          <a:pt x="103" y="230"/>
                        </a:lnTo>
                        <a:lnTo>
                          <a:pt x="84" y="220"/>
                        </a:lnTo>
                        <a:lnTo>
                          <a:pt x="70" y="211"/>
                        </a:lnTo>
                        <a:lnTo>
                          <a:pt x="67" y="181"/>
                        </a:lnTo>
                        <a:lnTo>
                          <a:pt x="64" y="154"/>
                        </a:lnTo>
                        <a:lnTo>
                          <a:pt x="65" y="125"/>
                        </a:lnTo>
                        <a:lnTo>
                          <a:pt x="68" y="108"/>
                        </a:lnTo>
                        <a:lnTo>
                          <a:pt x="76" y="72"/>
                        </a:lnTo>
                        <a:lnTo>
                          <a:pt x="79" y="50"/>
                        </a:lnTo>
                        <a:lnTo>
                          <a:pt x="85" y="31"/>
                        </a:lnTo>
                        <a:lnTo>
                          <a:pt x="89" y="6"/>
                        </a:lnTo>
                        <a:lnTo>
                          <a:pt x="81" y="2"/>
                        </a:lnTo>
                        <a:lnTo>
                          <a:pt x="68" y="0"/>
                        </a:lnTo>
                        <a:lnTo>
                          <a:pt x="58" y="1"/>
                        </a:lnTo>
                        <a:lnTo>
                          <a:pt x="52" y="3"/>
                        </a:lnTo>
                        <a:lnTo>
                          <a:pt x="45" y="8"/>
                        </a:lnTo>
                        <a:lnTo>
                          <a:pt x="39" y="19"/>
                        </a:lnTo>
                        <a:lnTo>
                          <a:pt x="32" y="36"/>
                        </a:lnTo>
                        <a:lnTo>
                          <a:pt x="25" y="56"/>
                        </a:lnTo>
                        <a:lnTo>
                          <a:pt x="17" y="85"/>
                        </a:lnTo>
                        <a:lnTo>
                          <a:pt x="9" y="122"/>
                        </a:lnTo>
                        <a:lnTo>
                          <a:pt x="6" y="158"/>
                        </a:lnTo>
                        <a:lnTo>
                          <a:pt x="4" y="318"/>
                        </a:lnTo>
                        <a:lnTo>
                          <a:pt x="0" y="443"/>
                        </a:lnTo>
                        <a:lnTo>
                          <a:pt x="5" y="529"/>
                        </a:lnTo>
                        <a:lnTo>
                          <a:pt x="5" y="737"/>
                        </a:lnTo>
                        <a:lnTo>
                          <a:pt x="9" y="790"/>
                        </a:lnTo>
                        <a:lnTo>
                          <a:pt x="14" y="813"/>
                        </a:lnTo>
                        <a:lnTo>
                          <a:pt x="21" y="837"/>
                        </a:lnTo>
                        <a:lnTo>
                          <a:pt x="33" y="858"/>
                        </a:lnTo>
                        <a:lnTo>
                          <a:pt x="44" y="877"/>
                        </a:lnTo>
                        <a:lnTo>
                          <a:pt x="60" y="898"/>
                        </a:lnTo>
                        <a:lnTo>
                          <a:pt x="78" y="911"/>
                        </a:lnTo>
                        <a:lnTo>
                          <a:pt x="93" y="920"/>
                        </a:lnTo>
                        <a:lnTo>
                          <a:pt x="115" y="921"/>
                        </a:lnTo>
                        <a:lnTo>
                          <a:pt x="132" y="919"/>
                        </a:lnTo>
                        <a:lnTo>
                          <a:pt x="154" y="904"/>
                        </a:lnTo>
                        <a:lnTo>
                          <a:pt x="137" y="895"/>
                        </a:lnTo>
                        <a:lnTo>
                          <a:pt x="115" y="881"/>
                        </a:lnTo>
                        <a:lnTo>
                          <a:pt x="107" y="869"/>
                        </a:lnTo>
                        <a:lnTo>
                          <a:pt x="100" y="854"/>
                        </a:lnTo>
                        <a:lnTo>
                          <a:pt x="100" y="822"/>
                        </a:lnTo>
                        <a:lnTo>
                          <a:pt x="97" y="790"/>
                        </a:lnTo>
                        <a:lnTo>
                          <a:pt x="143" y="527"/>
                        </a:lnTo>
                        <a:lnTo>
                          <a:pt x="144" y="498"/>
                        </a:lnTo>
                        <a:lnTo>
                          <a:pt x="154" y="456"/>
                        </a:lnTo>
                        <a:lnTo>
                          <a:pt x="174" y="415"/>
                        </a:lnTo>
                        <a:lnTo>
                          <a:pt x="187" y="397"/>
                        </a:lnTo>
                        <a:lnTo>
                          <a:pt x="204" y="372"/>
                        </a:lnTo>
                        <a:lnTo>
                          <a:pt x="204" y="369"/>
                        </a:lnTo>
                        <a:lnTo>
                          <a:pt x="211" y="316"/>
                        </a:lnTo>
                        <a:lnTo>
                          <a:pt x="218" y="271"/>
                        </a:lnTo>
                        <a:lnTo>
                          <a:pt x="222" y="23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155000" y="2432520"/>
                  <a:ext cx="188280" cy="286560"/>
                  <a:chOff x="7155000" y="2432520"/>
                  <a:chExt cx="188280" cy="286560"/>
                </a:xfrm>
              </p:grpSpPr>
              <p:grpSp>
                <p:nvGrpSpPr>
                  <p:cNvPr id="165" name=""/>
                  <p:cNvGrpSpPr/>
                  <p:nvPr/>
                </p:nvGrpSpPr>
                <p:grpSpPr>
                  <a:xfrm>
                    <a:off x="7155000" y="2432520"/>
                    <a:ext cx="188280" cy="286560"/>
                    <a:chOff x="7155000" y="2432520"/>
                    <a:chExt cx="188280" cy="286560"/>
                  </a:xfrm>
                </p:grpSpPr>
                <p:grpSp>
                  <p:nvGrpSpPr>
                    <p:cNvPr id="166" name=""/>
                    <p:cNvGrpSpPr/>
                    <p:nvPr/>
                  </p:nvGrpSpPr>
                  <p:grpSpPr>
                    <a:xfrm>
                      <a:off x="7207560" y="2432520"/>
                      <a:ext cx="135720" cy="56880"/>
                      <a:chOff x="7207560" y="2432520"/>
                      <a:chExt cx="135720" cy="56880"/>
                    </a:xfrm>
                  </p:grpSpPr>
                  <p:sp>
                    <p:nvSpPr>
                      <p:cNvPr id="167" name=""/>
                      <p:cNvSpPr/>
                      <p:nvPr/>
                    </p:nvSpPr>
                    <p:spPr>
                      <a:xfrm>
                        <a:off x="7207560" y="2432520"/>
                        <a:ext cx="135720" cy="56880"/>
                      </a:xfrm>
                      <a:custGeom>
                        <a:avLst/>
                        <a:gdLst/>
                        <a:ahLst/>
                        <a:rect l="l" t="t" r="r" b="b"/>
                        <a:pathLst>
                          <a:path w="105" h="54">
                            <a:moveTo>
                              <a:pt x="97" y="21"/>
                            </a:moveTo>
                            <a:lnTo>
                              <a:pt x="90" y="7"/>
                            </a:lnTo>
                            <a:lnTo>
                              <a:pt x="81" y="3"/>
                            </a:lnTo>
                            <a:lnTo>
                              <a:pt x="67" y="0"/>
                            </a:lnTo>
                            <a:lnTo>
                              <a:pt x="55" y="0"/>
                            </a:lnTo>
                            <a:lnTo>
                              <a:pt x="40" y="0"/>
                            </a:lnTo>
                            <a:lnTo>
                              <a:pt x="23" y="3"/>
                            </a:lnTo>
                            <a:lnTo>
                              <a:pt x="0" y="53"/>
                            </a:lnTo>
                            <a:lnTo>
                              <a:pt x="104" y="49"/>
                            </a:lnTo>
                            <a:lnTo>
                              <a:pt x="97" y="21"/>
                            </a:lnTo>
                          </a:path>
                        </a:pathLst>
                      </a:custGeom>
                      <a:solidFill>
                        <a:srgbClr val="fe9b0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 name=""/>
                      <p:cNvSpPr/>
                      <p:nvPr/>
                    </p:nvSpPr>
                    <p:spPr>
                      <a:xfrm>
                        <a:off x="7260480" y="2432520"/>
                        <a:ext cx="29880" cy="55800"/>
                      </a:xfrm>
                      <a:custGeom>
                        <a:avLst/>
                        <a:gdLst/>
                        <a:ahLst/>
                        <a:rect l="l" t="t" r="r" b="b"/>
                        <a:pathLst>
                          <a:path w="23" h="53">
                            <a:moveTo>
                              <a:pt x="22" y="0"/>
                            </a:moveTo>
                            <a:lnTo>
                              <a:pt x="21" y="50"/>
                            </a:lnTo>
                            <a:lnTo>
                              <a:pt x="0" y="52"/>
                            </a:lnTo>
                            <a:lnTo>
                              <a:pt x="8" y="0"/>
                            </a:lnTo>
                            <a:lnTo>
                              <a:pt x="15" y="0"/>
                            </a:lnTo>
                            <a:lnTo>
                              <a:pt x="22" y="0"/>
                            </a:lnTo>
                          </a:path>
                        </a:pathLst>
                      </a:custGeom>
                      <a:solidFill>
                        <a:srgbClr val="fe9b03"/>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 name=""/>
                      <p:cNvSpPr/>
                      <p:nvPr/>
                    </p:nvSpPr>
                    <p:spPr>
                      <a:xfrm>
                        <a:off x="7207560" y="2432520"/>
                        <a:ext cx="34560" cy="56880"/>
                      </a:xfrm>
                      <a:custGeom>
                        <a:avLst/>
                        <a:gdLst/>
                        <a:ahLst/>
                        <a:rect l="l" t="t" r="r" b="b"/>
                        <a:pathLst>
                          <a:path w="27" h="54">
                            <a:moveTo>
                              <a:pt x="26" y="0"/>
                            </a:moveTo>
                            <a:lnTo>
                              <a:pt x="14" y="53"/>
                            </a:lnTo>
                            <a:lnTo>
                              <a:pt x="7" y="52"/>
                            </a:lnTo>
                            <a:lnTo>
                              <a:pt x="0" y="53"/>
                            </a:lnTo>
                            <a:lnTo>
                              <a:pt x="17" y="3"/>
                            </a:lnTo>
                            <a:lnTo>
                              <a:pt x="26" y="0"/>
                            </a:lnTo>
                          </a:path>
                        </a:pathLst>
                      </a:custGeom>
                      <a:solidFill>
                        <a:srgbClr val="fe9b0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70" name=""/>
                    <p:cNvSpPr/>
                    <p:nvPr/>
                  </p:nvSpPr>
                  <p:spPr>
                    <a:xfrm>
                      <a:off x="7155000" y="2486160"/>
                      <a:ext cx="180720" cy="232920"/>
                    </a:xfrm>
                    <a:custGeom>
                      <a:avLst/>
                      <a:gdLst/>
                      <a:ahLst/>
                      <a:rect l="l" t="t" r="r" b="b"/>
                      <a:pathLst>
                        <a:path w="140" h="221">
                          <a:moveTo>
                            <a:pt x="139" y="0"/>
                          </a:moveTo>
                          <a:lnTo>
                            <a:pt x="79" y="1"/>
                          </a:lnTo>
                          <a:lnTo>
                            <a:pt x="56" y="2"/>
                          </a:lnTo>
                          <a:lnTo>
                            <a:pt x="44" y="2"/>
                          </a:lnTo>
                          <a:lnTo>
                            <a:pt x="31" y="6"/>
                          </a:lnTo>
                          <a:lnTo>
                            <a:pt x="18" y="28"/>
                          </a:lnTo>
                          <a:lnTo>
                            <a:pt x="11" y="48"/>
                          </a:lnTo>
                          <a:lnTo>
                            <a:pt x="6" y="65"/>
                          </a:lnTo>
                          <a:lnTo>
                            <a:pt x="0" y="106"/>
                          </a:lnTo>
                          <a:lnTo>
                            <a:pt x="0" y="147"/>
                          </a:lnTo>
                          <a:lnTo>
                            <a:pt x="6" y="181"/>
                          </a:lnTo>
                          <a:lnTo>
                            <a:pt x="10" y="197"/>
                          </a:lnTo>
                          <a:lnTo>
                            <a:pt x="16" y="211"/>
                          </a:lnTo>
                          <a:lnTo>
                            <a:pt x="25" y="217"/>
                          </a:lnTo>
                          <a:lnTo>
                            <a:pt x="40" y="219"/>
                          </a:lnTo>
                          <a:lnTo>
                            <a:pt x="74" y="220"/>
                          </a:lnTo>
                          <a:lnTo>
                            <a:pt x="106" y="220"/>
                          </a:lnTo>
                          <a:lnTo>
                            <a:pt x="118" y="220"/>
                          </a:lnTo>
                          <a:lnTo>
                            <a:pt x="105" y="147"/>
                          </a:lnTo>
                          <a:lnTo>
                            <a:pt x="107" y="89"/>
                          </a:lnTo>
                          <a:lnTo>
                            <a:pt x="122" y="38"/>
                          </a:lnTo>
                          <a:lnTo>
                            <a:pt x="139"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7155000" y="2488320"/>
                    <a:ext cx="153720" cy="230760"/>
                  </a:xfrm>
                  <a:custGeom>
                    <a:avLst/>
                    <a:gdLst/>
                    <a:ahLst/>
                    <a:rect l="l" t="t" r="r" b="b"/>
                    <a:pathLst>
                      <a:path w="119" h="219">
                        <a:moveTo>
                          <a:pt x="115" y="196"/>
                        </a:moveTo>
                        <a:lnTo>
                          <a:pt x="99" y="191"/>
                        </a:lnTo>
                        <a:lnTo>
                          <a:pt x="87" y="185"/>
                        </a:lnTo>
                        <a:lnTo>
                          <a:pt x="71" y="179"/>
                        </a:lnTo>
                        <a:lnTo>
                          <a:pt x="60" y="173"/>
                        </a:lnTo>
                        <a:lnTo>
                          <a:pt x="48" y="165"/>
                        </a:lnTo>
                        <a:lnTo>
                          <a:pt x="39" y="153"/>
                        </a:lnTo>
                        <a:lnTo>
                          <a:pt x="33" y="142"/>
                        </a:lnTo>
                        <a:lnTo>
                          <a:pt x="30" y="122"/>
                        </a:lnTo>
                        <a:lnTo>
                          <a:pt x="30" y="95"/>
                        </a:lnTo>
                        <a:lnTo>
                          <a:pt x="32" y="50"/>
                        </a:lnTo>
                        <a:lnTo>
                          <a:pt x="41" y="0"/>
                        </a:lnTo>
                        <a:lnTo>
                          <a:pt x="30" y="3"/>
                        </a:lnTo>
                        <a:lnTo>
                          <a:pt x="23" y="21"/>
                        </a:lnTo>
                        <a:lnTo>
                          <a:pt x="14" y="41"/>
                        </a:lnTo>
                        <a:lnTo>
                          <a:pt x="10" y="55"/>
                        </a:lnTo>
                        <a:lnTo>
                          <a:pt x="6" y="73"/>
                        </a:lnTo>
                        <a:lnTo>
                          <a:pt x="2" y="91"/>
                        </a:lnTo>
                        <a:lnTo>
                          <a:pt x="0" y="120"/>
                        </a:lnTo>
                        <a:lnTo>
                          <a:pt x="0" y="145"/>
                        </a:lnTo>
                        <a:lnTo>
                          <a:pt x="3" y="162"/>
                        </a:lnTo>
                        <a:lnTo>
                          <a:pt x="6" y="179"/>
                        </a:lnTo>
                        <a:lnTo>
                          <a:pt x="11" y="194"/>
                        </a:lnTo>
                        <a:lnTo>
                          <a:pt x="15" y="205"/>
                        </a:lnTo>
                        <a:lnTo>
                          <a:pt x="23" y="213"/>
                        </a:lnTo>
                        <a:lnTo>
                          <a:pt x="31" y="216"/>
                        </a:lnTo>
                        <a:lnTo>
                          <a:pt x="40" y="217"/>
                        </a:lnTo>
                        <a:lnTo>
                          <a:pt x="118" y="218"/>
                        </a:lnTo>
                        <a:lnTo>
                          <a:pt x="115" y="196"/>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7270920" y="2405160"/>
                  <a:ext cx="349200" cy="344520"/>
                  <a:chOff x="7270920" y="2405160"/>
                  <a:chExt cx="349200" cy="344520"/>
                </a:xfrm>
              </p:grpSpPr>
              <p:grpSp>
                <p:nvGrpSpPr>
                  <p:cNvPr id="173" name=""/>
                  <p:cNvGrpSpPr/>
                  <p:nvPr/>
                </p:nvGrpSpPr>
                <p:grpSpPr>
                  <a:xfrm>
                    <a:off x="7362720" y="2405160"/>
                    <a:ext cx="181080" cy="64080"/>
                    <a:chOff x="7362720" y="2405160"/>
                    <a:chExt cx="181080" cy="64080"/>
                  </a:xfrm>
                </p:grpSpPr>
                <p:sp>
                  <p:nvSpPr>
                    <p:cNvPr id="174" name=""/>
                    <p:cNvSpPr/>
                    <p:nvPr/>
                  </p:nvSpPr>
                  <p:spPr>
                    <a:xfrm>
                      <a:off x="7362720" y="2405160"/>
                      <a:ext cx="181080" cy="64080"/>
                    </a:xfrm>
                    <a:custGeom>
                      <a:avLst/>
                      <a:gdLst/>
                      <a:ahLst/>
                      <a:rect l="l" t="t" r="r" b="b"/>
                      <a:pathLst>
                        <a:path w="140" h="61">
                          <a:moveTo>
                            <a:pt x="107" y="5"/>
                          </a:moveTo>
                          <a:lnTo>
                            <a:pt x="116" y="8"/>
                          </a:lnTo>
                          <a:lnTo>
                            <a:pt x="139" y="54"/>
                          </a:lnTo>
                          <a:lnTo>
                            <a:pt x="0" y="60"/>
                          </a:lnTo>
                          <a:lnTo>
                            <a:pt x="34" y="4"/>
                          </a:lnTo>
                          <a:lnTo>
                            <a:pt x="60" y="0"/>
                          </a:lnTo>
                          <a:lnTo>
                            <a:pt x="74" y="0"/>
                          </a:lnTo>
                          <a:lnTo>
                            <a:pt x="92" y="1"/>
                          </a:lnTo>
                          <a:lnTo>
                            <a:pt x="107" y="5"/>
                          </a:lnTo>
                        </a:path>
                      </a:pathLst>
                    </a:custGeom>
                    <a:solidFill>
                      <a:srgbClr val="fe9b03"/>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5" name=""/>
                    <p:cNvSpPr/>
                    <p:nvPr/>
                  </p:nvSpPr>
                  <p:spPr>
                    <a:xfrm>
                      <a:off x="7397640" y="2405160"/>
                      <a:ext cx="108360" cy="58680"/>
                    </a:xfrm>
                    <a:custGeom>
                      <a:avLst/>
                      <a:gdLst/>
                      <a:ahLst/>
                      <a:rect l="l" t="t" r="r" b="b"/>
                      <a:pathLst>
                        <a:path w="84" h="56">
                          <a:moveTo>
                            <a:pt x="62" y="1"/>
                          </a:moveTo>
                          <a:lnTo>
                            <a:pt x="70" y="3"/>
                          </a:lnTo>
                          <a:lnTo>
                            <a:pt x="83" y="55"/>
                          </a:lnTo>
                          <a:lnTo>
                            <a:pt x="44" y="53"/>
                          </a:lnTo>
                          <a:lnTo>
                            <a:pt x="21" y="52"/>
                          </a:lnTo>
                          <a:lnTo>
                            <a:pt x="0" y="55"/>
                          </a:lnTo>
                          <a:lnTo>
                            <a:pt x="18" y="1"/>
                          </a:lnTo>
                          <a:lnTo>
                            <a:pt x="32" y="0"/>
                          </a:lnTo>
                          <a:lnTo>
                            <a:pt x="46" y="0"/>
                          </a:lnTo>
                          <a:lnTo>
                            <a:pt x="62" y="1"/>
                          </a:lnTo>
                        </a:path>
                      </a:pathLst>
                    </a:custGeom>
                    <a:solidFill>
                      <a:srgbClr val="fe9b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 name=""/>
                    <p:cNvSpPr/>
                    <p:nvPr/>
                  </p:nvSpPr>
                  <p:spPr>
                    <a:xfrm>
                      <a:off x="7450560" y="2405160"/>
                      <a:ext cx="29880" cy="58680"/>
                    </a:xfrm>
                    <a:custGeom>
                      <a:avLst/>
                      <a:gdLst/>
                      <a:ahLst/>
                      <a:rect l="l" t="t" r="r" b="b"/>
                      <a:pathLst>
                        <a:path w="23" h="56">
                          <a:moveTo>
                            <a:pt x="15" y="1"/>
                          </a:moveTo>
                          <a:lnTo>
                            <a:pt x="22" y="55"/>
                          </a:lnTo>
                          <a:lnTo>
                            <a:pt x="0" y="54"/>
                          </a:lnTo>
                          <a:lnTo>
                            <a:pt x="0" y="0"/>
                          </a:lnTo>
                          <a:lnTo>
                            <a:pt x="8" y="0"/>
                          </a:lnTo>
                          <a:lnTo>
                            <a:pt x="15" y="1"/>
                          </a:lnTo>
                        </a:path>
                      </a:pathLst>
                    </a:custGeom>
                    <a:solidFill>
                      <a:srgbClr val="fe9b0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a:off x="7362720" y="2406240"/>
                      <a:ext cx="54360" cy="59760"/>
                    </a:xfrm>
                    <a:custGeom>
                      <a:avLst/>
                      <a:gdLst/>
                      <a:ahLst/>
                      <a:rect l="l" t="t" r="r" b="b"/>
                      <a:pathLst>
                        <a:path w="42" h="57">
                          <a:moveTo>
                            <a:pt x="41" y="0"/>
                          </a:moveTo>
                          <a:lnTo>
                            <a:pt x="26" y="54"/>
                          </a:lnTo>
                          <a:lnTo>
                            <a:pt x="0" y="56"/>
                          </a:lnTo>
                          <a:lnTo>
                            <a:pt x="29" y="3"/>
                          </a:lnTo>
                          <a:lnTo>
                            <a:pt x="41" y="0"/>
                          </a:lnTo>
                        </a:path>
                      </a:pathLst>
                    </a:custGeom>
                    <a:solidFill>
                      <a:srgbClr val="fe9b03"/>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78" name=""/>
                  <p:cNvGrpSpPr/>
                  <p:nvPr/>
                </p:nvGrpSpPr>
                <p:grpSpPr>
                  <a:xfrm>
                    <a:off x="7270920" y="2467440"/>
                    <a:ext cx="349200" cy="282240"/>
                    <a:chOff x="7270920" y="2467440"/>
                    <a:chExt cx="349200" cy="282240"/>
                  </a:xfrm>
                </p:grpSpPr>
                <p:sp>
                  <p:nvSpPr>
                    <p:cNvPr id="179" name=""/>
                    <p:cNvSpPr/>
                    <p:nvPr/>
                  </p:nvSpPr>
                  <p:spPr>
                    <a:xfrm>
                      <a:off x="7301880" y="2467440"/>
                      <a:ext cx="318240" cy="282240"/>
                    </a:xfrm>
                    <a:custGeom>
                      <a:avLst/>
                      <a:gdLst/>
                      <a:ahLst/>
                      <a:rect l="l" t="t" r="r" b="b"/>
                      <a:pathLst>
                        <a:path w="246" h="268">
                          <a:moveTo>
                            <a:pt x="213" y="8"/>
                          </a:moveTo>
                          <a:lnTo>
                            <a:pt x="222" y="23"/>
                          </a:lnTo>
                          <a:lnTo>
                            <a:pt x="231" y="42"/>
                          </a:lnTo>
                          <a:lnTo>
                            <a:pt x="237" y="61"/>
                          </a:lnTo>
                          <a:lnTo>
                            <a:pt x="239" y="83"/>
                          </a:lnTo>
                          <a:lnTo>
                            <a:pt x="243" y="121"/>
                          </a:lnTo>
                          <a:lnTo>
                            <a:pt x="245" y="165"/>
                          </a:lnTo>
                          <a:lnTo>
                            <a:pt x="245" y="214"/>
                          </a:lnTo>
                          <a:lnTo>
                            <a:pt x="240" y="233"/>
                          </a:lnTo>
                          <a:lnTo>
                            <a:pt x="237" y="247"/>
                          </a:lnTo>
                          <a:lnTo>
                            <a:pt x="231" y="256"/>
                          </a:lnTo>
                          <a:lnTo>
                            <a:pt x="225" y="262"/>
                          </a:lnTo>
                          <a:lnTo>
                            <a:pt x="218" y="265"/>
                          </a:lnTo>
                          <a:lnTo>
                            <a:pt x="208" y="266"/>
                          </a:lnTo>
                          <a:lnTo>
                            <a:pt x="195" y="267"/>
                          </a:lnTo>
                          <a:lnTo>
                            <a:pt x="125" y="265"/>
                          </a:lnTo>
                          <a:lnTo>
                            <a:pt x="46" y="262"/>
                          </a:lnTo>
                          <a:lnTo>
                            <a:pt x="34" y="262"/>
                          </a:lnTo>
                          <a:lnTo>
                            <a:pt x="25" y="259"/>
                          </a:lnTo>
                          <a:lnTo>
                            <a:pt x="18" y="255"/>
                          </a:lnTo>
                          <a:lnTo>
                            <a:pt x="13" y="249"/>
                          </a:lnTo>
                          <a:lnTo>
                            <a:pt x="11" y="233"/>
                          </a:lnTo>
                          <a:lnTo>
                            <a:pt x="7" y="209"/>
                          </a:lnTo>
                          <a:lnTo>
                            <a:pt x="2" y="188"/>
                          </a:lnTo>
                          <a:lnTo>
                            <a:pt x="0" y="156"/>
                          </a:lnTo>
                          <a:lnTo>
                            <a:pt x="1" y="131"/>
                          </a:lnTo>
                          <a:lnTo>
                            <a:pt x="2" y="105"/>
                          </a:lnTo>
                          <a:lnTo>
                            <a:pt x="7" y="88"/>
                          </a:lnTo>
                          <a:lnTo>
                            <a:pt x="11" y="73"/>
                          </a:lnTo>
                          <a:lnTo>
                            <a:pt x="15" y="57"/>
                          </a:lnTo>
                          <a:lnTo>
                            <a:pt x="21" y="40"/>
                          </a:lnTo>
                          <a:lnTo>
                            <a:pt x="29" y="20"/>
                          </a:lnTo>
                          <a:lnTo>
                            <a:pt x="36" y="7"/>
                          </a:lnTo>
                          <a:lnTo>
                            <a:pt x="52" y="6"/>
                          </a:lnTo>
                          <a:lnTo>
                            <a:pt x="77" y="3"/>
                          </a:lnTo>
                          <a:lnTo>
                            <a:pt x="108" y="1"/>
                          </a:lnTo>
                          <a:lnTo>
                            <a:pt x="142" y="0"/>
                          </a:lnTo>
                          <a:lnTo>
                            <a:pt x="178" y="2"/>
                          </a:lnTo>
                          <a:lnTo>
                            <a:pt x="213" y="8"/>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01880" y="2473560"/>
                      <a:ext cx="263880" cy="276120"/>
                    </a:xfrm>
                    <a:custGeom>
                      <a:avLst/>
                      <a:gdLst/>
                      <a:ahLst/>
                      <a:rect l="l" t="t" r="r" b="b"/>
                      <a:pathLst>
                        <a:path w="204" h="262">
                          <a:moveTo>
                            <a:pt x="35" y="0"/>
                          </a:moveTo>
                          <a:lnTo>
                            <a:pt x="35" y="11"/>
                          </a:lnTo>
                          <a:lnTo>
                            <a:pt x="31" y="31"/>
                          </a:lnTo>
                          <a:lnTo>
                            <a:pt x="27" y="52"/>
                          </a:lnTo>
                          <a:lnTo>
                            <a:pt x="22" y="75"/>
                          </a:lnTo>
                          <a:lnTo>
                            <a:pt x="19" y="100"/>
                          </a:lnTo>
                          <a:lnTo>
                            <a:pt x="19" y="134"/>
                          </a:lnTo>
                          <a:lnTo>
                            <a:pt x="19" y="160"/>
                          </a:lnTo>
                          <a:lnTo>
                            <a:pt x="20" y="178"/>
                          </a:lnTo>
                          <a:lnTo>
                            <a:pt x="22" y="193"/>
                          </a:lnTo>
                          <a:lnTo>
                            <a:pt x="27" y="203"/>
                          </a:lnTo>
                          <a:lnTo>
                            <a:pt x="37" y="215"/>
                          </a:lnTo>
                          <a:lnTo>
                            <a:pt x="47" y="222"/>
                          </a:lnTo>
                          <a:lnTo>
                            <a:pt x="60" y="230"/>
                          </a:lnTo>
                          <a:lnTo>
                            <a:pt x="77" y="237"/>
                          </a:lnTo>
                          <a:lnTo>
                            <a:pt x="96" y="244"/>
                          </a:lnTo>
                          <a:lnTo>
                            <a:pt x="114" y="249"/>
                          </a:lnTo>
                          <a:lnTo>
                            <a:pt x="131" y="253"/>
                          </a:lnTo>
                          <a:lnTo>
                            <a:pt x="151" y="256"/>
                          </a:lnTo>
                          <a:lnTo>
                            <a:pt x="164" y="258"/>
                          </a:lnTo>
                          <a:lnTo>
                            <a:pt x="203" y="261"/>
                          </a:lnTo>
                          <a:lnTo>
                            <a:pt x="39" y="256"/>
                          </a:lnTo>
                          <a:lnTo>
                            <a:pt x="28" y="255"/>
                          </a:lnTo>
                          <a:lnTo>
                            <a:pt x="21" y="253"/>
                          </a:lnTo>
                          <a:lnTo>
                            <a:pt x="17" y="248"/>
                          </a:lnTo>
                          <a:lnTo>
                            <a:pt x="13" y="242"/>
                          </a:lnTo>
                          <a:lnTo>
                            <a:pt x="11" y="228"/>
                          </a:lnTo>
                          <a:lnTo>
                            <a:pt x="1" y="172"/>
                          </a:lnTo>
                          <a:lnTo>
                            <a:pt x="0" y="141"/>
                          </a:lnTo>
                          <a:lnTo>
                            <a:pt x="1" y="125"/>
                          </a:lnTo>
                          <a:lnTo>
                            <a:pt x="2" y="99"/>
                          </a:lnTo>
                          <a:lnTo>
                            <a:pt x="7" y="85"/>
                          </a:lnTo>
                          <a:lnTo>
                            <a:pt x="11" y="67"/>
                          </a:lnTo>
                          <a:lnTo>
                            <a:pt x="15" y="52"/>
                          </a:lnTo>
                          <a:lnTo>
                            <a:pt x="21" y="36"/>
                          </a:lnTo>
                          <a:lnTo>
                            <a:pt x="28" y="17"/>
                          </a:lnTo>
                          <a:lnTo>
                            <a:pt x="35"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7270920" y="2588400"/>
                      <a:ext cx="344160" cy="154080"/>
                      <a:chOff x="7270920" y="2588400"/>
                      <a:chExt cx="344160" cy="154080"/>
                    </a:xfrm>
                  </p:grpSpPr>
                  <p:sp>
                    <p:nvSpPr>
                      <p:cNvPr id="182" name=""/>
                      <p:cNvSpPr/>
                      <p:nvPr/>
                    </p:nvSpPr>
                    <p:spPr>
                      <a:xfrm flipH="1" flipV="1">
                        <a:off x="7274880" y="2653200"/>
                        <a:ext cx="33984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83" name=""/>
                      <p:cNvSpPr/>
                      <p:nvPr/>
                    </p:nvSpPr>
                    <p:spPr>
                      <a:xfrm flipH="1" flipV="1">
                        <a:off x="7287840" y="2724840"/>
                        <a:ext cx="3204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 name=""/>
                      <p:cNvSpPr/>
                      <p:nvPr/>
                    </p:nvSpPr>
                    <p:spPr>
                      <a:xfrm flipH="1">
                        <a:off x="7270920" y="2588400"/>
                        <a:ext cx="34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185" name=""/>
              <p:cNvGrpSpPr/>
              <p:nvPr/>
            </p:nvGrpSpPr>
            <p:grpSpPr>
              <a:xfrm>
                <a:off x="7428960" y="762120"/>
                <a:ext cx="1243080" cy="1740240"/>
                <a:chOff x="7428960" y="762120"/>
                <a:chExt cx="1243080" cy="1740240"/>
              </a:xfrm>
            </p:grpSpPr>
            <p:sp>
              <p:nvSpPr>
                <p:cNvPr id="186" name=""/>
                <p:cNvSpPr/>
                <p:nvPr/>
              </p:nvSpPr>
              <p:spPr>
                <a:xfrm>
                  <a:off x="7786080" y="843120"/>
                  <a:ext cx="885960" cy="572400"/>
                </a:xfrm>
                <a:custGeom>
                  <a:avLst/>
                  <a:gdLst/>
                  <a:ahLst/>
                  <a:rect l="l" t="t" r="r" b="b"/>
                  <a:pathLst>
                    <a:path w="684" h="543">
                      <a:moveTo>
                        <a:pt x="683" y="0"/>
                      </a:moveTo>
                      <a:lnTo>
                        <a:pt x="683" y="135"/>
                      </a:lnTo>
                      <a:lnTo>
                        <a:pt x="96" y="505"/>
                      </a:lnTo>
                      <a:lnTo>
                        <a:pt x="79" y="519"/>
                      </a:lnTo>
                      <a:lnTo>
                        <a:pt x="70" y="529"/>
                      </a:lnTo>
                      <a:lnTo>
                        <a:pt x="63" y="542"/>
                      </a:lnTo>
                      <a:lnTo>
                        <a:pt x="57" y="489"/>
                      </a:lnTo>
                      <a:lnTo>
                        <a:pt x="49" y="424"/>
                      </a:lnTo>
                      <a:lnTo>
                        <a:pt x="38" y="343"/>
                      </a:lnTo>
                      <a:lnTo>
                        <a:pt x="20" y="244"/>
                      </a:lnTo>
                      <a:lnTo>
                        <a:pt x="0" y="157"/>
                      </a:lnTo>
                      <a:lnTo>
                        <a:pt x="683"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7428960" y="762120"/>
                  <a:ext cx="700200" cy="1740240"/>
                  <a:chOff x="7428960" y="762120"/>
                  <a:chExt cx="700200" cy="1740240"/>
                </a:xfrm>
              </p:grpSpPr>
              <p:sp>
                <p:nvSpPr>
                  <p:cNvPr id="188" name=""/>
                  <p:cNvSpPr/>
                  <p:nvPr/>
                </p:nvSpPr>
                <p:spPr>
                  <a:xfrm>
                    <a:off x="7428960" y="1002600"/>
                    <a:ext cx="222840" cy="272880"/>
                  </a:xfrm>
                  <a:custGeom>
                    <a:avLst/>
                    <a:gdLst/>
                    <a:ahLst/>
                    <a:rect l="l" t="t" r="r" b="b"/>
                    <a:pathLst>
                      <a:path w="172" h="259">
                        <a:moveTo>
                          <a:pt x="171" y="221"/>
                        </a:moveTo>
                        <a:lnTo>
                          <a:pt x="141" y="218"/>
                        </a:lnTo>
                        <a:lnTo>
                          <a:pt x="109" y="216"/>
                        </a:lnTo>
                        <a:lnTo>
                          <a:pt x="82" y="220"/>
                        </a:lnTo>
                        <a:lnTo>
                          <a:pt x="57" y="225"/>
                        </a:lnTo>
                        <a:lnTo>
                          <a:pt x="36" y="233"/>
                        </a:lnTo>
                        <a:lnTo>
                          <a:pt x="20" y="241"/>
                        </a:lnTo>
                        <a:lnTo>
                          <a:pt x="12" y="248"/>
                        </a:lnTo>
                        <a:lnTo>
                          <a:pt x="0" y="258"/>
                        </a:lnTo>
                        <a:lnTo>
                          <a:pt x="15" y="213"/>
                        </a:lnTo>
                        <a:lnTo>
                          <a:pt x="33" y="166"/>
                        </a:lnTo>
                        <a:lnTo>
                          <a:pt x="62" y="94"/>
                        </a:lnTo>
                        <a:lnTo>
                          <a:pt x="80" y="45"/>
                        </a:lnTo>
                        <a:lnTo>
                          <a:pt x="96" y="28"/>
                        </a:lnTo>
                        <a:lnTo>
                          <a:pt x="109" y="18"/>
                        </a:lnTo>
                        <a:lnTo>
                          <a:pt x="121" y="11"/>
                        </a:lnTo>
                        <a:lnTo>
                          <a:pt x="130" y="8"/>
                        </a:lnTo>
                        <a:lnTo>
                          <a:pt x="150" y="0"/>
                        </a:lnTo>
                        <a:lnTo>
                          <a:pt x="151" y="30"/>
                        </a:lnTo>
                        <a:lnTo>
                          <a:pt x="142" y="100"/>
                        </a:lnTo>
                        <a:lnTo>
                          <a:pt x="143" y="136"/>
                        </a:lnTo>
                        <a:lnTo>
                          <a:pt x="142" y="166"/>
                        </a:lnTo>
                        <a:lnTo>
                          <a:pt x="141" y="184"/>
                        </a:lnTo>
                        <a:lnTo>
                          <a:pt x="143" y="192"/>
                        </a:lnTo>
                        <a:lnTo>
                          <a:pt x="149" y="200"/>
                        </a:lnTo>
                        <a:lnTo>
                          <a:pt x="152" y="207"/>
                        </a:lnTo>
                        <a:lnTo>
                          <a:pt x="159" y="214"/>
                        </a:lnTo>
                        <a:lnTo>
                          <a:pt x="171" y="221"/>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7615080" y="762120"/>
                    <a:ext cx="514080" cy="1740240"/>
                    <a:chOff x="7615080" y="762120"/>
                    <a:chExt cx="514080" cy="1740240"/>
                  </a:xfrm>
                </p:grpSpPr>
                <p:sp>
                  <p:nvSpPr>
                    <p:cNvPr id="190" name=""/>
                    <p:cNvSpPr/>
                    <p:nvPr/>
                  </p:nvSpPr>
                  <p:spPr>
                    <a:xfrm>
                      <a:off x="7625520" y="762120"/>
                      <a:ext cx="250920" cy="473400"/>
                    </a:xfrm>
                    <a:custGeom>
                      <a:avLst/>
                      <a:gdLst/>
                      <a:ahLst/>
                      <a:rect l="l" t="t" r="r" b="b"/>
                      <a:pathLst>
                        <a:path w="194" h="449">
                          <a:moveTo>
                            <a:pt x="182" y="0"/>
                          </a:moveTo>
                          <a:lnTo>
                            <a:pt x="189" y="46"/>
                          </a:lnTo>
                          <a:lnTo>
                            <a:pt x="193" y="85"/>
                          </a:lnTo>
                          <a:lnTo>
                            <a:pt x="119" y="244"/>
                          </a:lnTo>
                          <a:lnTo>
                            <a:pt x="31" y="448"/>
                          </a:lnTo>
                          <a:lnTo>
                            <a:pt x="22" y="443"/>
                          </a:lnTo>
                          <a:lnTo>
                            <a:pt x="14" y="436"/>
                          </a:lnTo>
                          <a:lnTo>
                            <a:pt x="7" y="426"/>
                          </a:lnTo>
                          <a:lnTo>
                            <a:pt x="1" y="414"/>
                          </a:lnTo>
                          <a:lnTo>
                            <a:pt x="0" y="401"/>
                          </a:lnTo>
                          <a:lnTo>
                            <a:pt x="0" y="325"/>
                          </a:lnTo>
                          <a:lnTo>
                            <a:pt x="9" y="261"/>
                          </a:lnTo>
                          <a:lnTo>
                            <a:pt x="11" y="223"/>
                          </a:lnTo>
                          <a:lnTo>
                            <a:pt x="182"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615080" y="1849680"/>
                      <a:ext cx="514080" cy="652680"/>
                    </a:xfrm>
                    <a:custGeom>
                      <a:avLst/>
                      <a:gdLst/>
                      <a:ahLst/>
                      <a:rect l="l" t="t" r="r" b="b"/>
                      <a:pathLst>
                        <a:path w="397" h="619">
                          <a:moveTo>
                            <a:pt x="396" y="0"/>
                          </a:moveTo>
                          <a:lnTo>
                            <a:pt x="396" y="6"/>
                          </a:lnTo>
                          <a:lnTo>
                            <a:pt x="396" y="112"/>
                          </a:lnTo>
                          <a:lnTo>
                            <a:pt x="269" y="273"/>
                          </a:lnTo>
                          <a:lnTo>
                            <a:pt x="184" y="387"/>
                          </a:lnTo>
                          <a:lnTo>
                            <a:pt x="106" y="498"/>
                          </a:lnTo>
                          <a:lnTo>
                            <a:pt x="41" y="618"/>
                          </a:lnTo>
                          <a:lnTo>
                            <a:pt x="28" y="589"/>
                          </a:lnTo>
                          <a:lnTo>
                            <a:pt x="18" y="547"/>
                          </a:lnTo>
                          <a:lnTo>
                            <a:pt x="8" y="512"/>
                          </a:lnTo>
                          <a:lnTo>
                            <a:pt x="0" y="442"/>
                          </a:lnTo>
                          <a:lnTo>
                            <a:pt x="5" y="387"/>
                          </a:lnTo>
                          <a:lnTo>
                            <a:pt x="18" y="309"/>
                          </a:lnTo>
                          <a:lnTo>
                            <a:pt x="23" y="257"/>
                          </a:lnTo>
                          <a:lnTo>
                            <a:pt x="62" y="243"/>
                          </a:lnTo>
                          <a:lnTo>
                            <a:pt x="396"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7689960" y="1950840"/>
                      <a:ext cx="159120" cy="310320"/>
                      <a:chOff x="7689960" y="1950840"/>
                      <a:chExt cx="159120" cy="310320"/>
                    </a:xfrm>
                  </p:grpSpPr>
                  <p:grpSp>
                    <p:nvGrpSpPr>
                      <p:cNvPr id="193" name=""/>
                      <p:cNvGrpSpPr/>
                      <p:nvPr/>
                    </p:nvGrpSpPr>
                    <p:grpSpPr>
                      <a:xfrm>
                        <a:off x="7689960" y="2013840"/>
                        <a:ext cx="50400" cy="247320"/>
                        <a:chOff x="7689960" y="2013840"/>
                        <a:chExt cx="50400" cy="247320"/>
                      </a:xfrm>
                    </p:grpSpPr>
                    <p:sp>
                      <p:nvSpPr>
                        <p:cNvPr id="194" name=""/>
                        <p:cNvSpPr/>
                        <p:nvPr/>
                      </p:nvSpPr>
                      <p:spPr>
                        <a:xfrm>
                          <a:off x="7689960" y="2013840"/>
                          <a:ext cx="50400" cy="243360"/>
                        </a:xfrm>
                        <a:custGeom>
                          <a:avLst/>
                          <a:gdLst/>
                          <a:ahLst/>
                          <a:rect l="l" t="t" r="r" b="b"/>
                          <a:pathLst>
                            <a:path w="39" h="231">
                              <a:moveTo>
                                <a:pt x="19" y="0"/>
                              </a:moveTo>
                              <a:lnTo>
                                <a:pt x="38" y="55"/>
                              </a:lnTo>
                              <a:lnTo>
                                <a:pt x="31" y="71"/>
                              </a:lnTo>
                              <a:lnTo>
                                <a:pt x="26" y="93"/>
                              </a:lnTo>
                              <a:lnTo>
                                <a:pt x="23" y="112"/>
                              </a:lnTo>
                              <a:lnTo>
                                <a:pt x="19" y="230"/>
                              </a:lnTo>
                              <a:lnTo>
                                <a:pt x="6" y="171"/>
                              </a:lnTo>
                              <a:lnTo>
                                <a:pt x="3" y="131"/>
                              </a:lnTo>
                              <a:lnTo>
                                <a:pt x="0" y="99"/>
                              </a:lnTo>
                              <a:lnTo>
                                <a:pt x="0" y="80"/>
                              </a:lnTo>
                              <a:lnTo>
                                <a:pt x="4" y="52"/>
                              </a:lnTo>
                              <a:lnTo>
                                <a:pt x="10" y="28"/>
                              </a:lnTo>
                              <a:lnTo>
                                <a:pt x="19"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691400" y="2074680"/>
                          <a:ext cx="48960" cy="186480"/>
                        </a:xfrm>
                        <a:custGeom>
                          <a:avLst/>
                          <a:gdLst/>
                          <a:ahLst/>
                          <a:rect l="l" t="t" r="r" b="b"/>
                          <a:pathLst>
                            <a:path w="38" h="177">
                              <a:moveTo>
                                <a:pt x="37" y="0"/>
                              </a:moveTo>
                              <a:lnTo>
                                <a:pt x="30" y="19"/>
                              </a:lnTo>
                              <a:lnTo>
                                <a:pt x="25" y="41"/>
                              </a:lnTo>
                              <a:lnTo>
                                <a:pt x="22" y="59"/>
                              </a:lnTo>
                              <a:lnTo>
                                <a:pt x="18" y="176"/>
                              </a:lnTo>
                              <a:lnTo>
                                <a:pt x="5" y="118"/>
                              </a:lnTo>
                              <a:lnTo>
                                <a:pt x="2" y="76"/>
                              </a:lnTo>
                              <a:lnTo>
                                <a:pt x="0" y="47"/>
                              </a:lnTo>
                              <a:lnTo>
                                <a:pt x="0" y="32"/>
                              </a:lnTo>
                              <a:lnTo>
                                <a:pt x="19" y="16"/>
                              </a:lnTo>
                              <a:lnTo>
                                <a:pt x="37"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7805160" y="1950840"/>
                        <a:ext cx="43920" cy="189720"/>
                        <a:chOff x="7805160" y="1950840"/>
                        <a:chExt cx="43920" cy="189720"/>
                      </a:xfrm>
                    </p:grpSpPr>
                    <p:sp>
                      <p:nvSpPr>
                        <p:cNvPr id="197" name=""/>
                        <p:cNvSpPr/>
                        <p:nvPr/>
                      </p:nvSpPr>
                      <p:spPr>
                        <a:xfrm>
                          <a:off x="7805160" y="1950840"/>
                          <a:ext cx="43920" cy="189720"/>
                        </a:xfrm>
                        <a:custGeom>
                          <a:avLst/>
                          <a:gdLst/>
                          <a:ahLst/>
                          <a:rect l="l" t="t" r="r" b="b"/>
                          <a:pathLst>
                            <a:path w="34" h="180">
                              <a:moveTo>
                                <a:pt x="33" y="54"/>
                              </a:moveTo>
                              <a:lnTo>
                                <a:pt x="26" y="88"/>
                              </a:lnTo>
                              <a:lnTo>
                                <a:pt x="24" y="115"/>
                              </a:lnTo>
                              <a:lnTo>
                                <a:pt x="20" y="131"/>
                              </a:lnTo>
                              <a:lnTo>
                                <a:pt x="17" y="149"/>
                              </a:lnTo>
                              <a:lnTo>
                                <a:pt x="13" y="179"/>
                              </a:lnTo>
                              <a:lnTo>
                                <a:pt x="4" y="143"/>
                              </a:lnTo>
                              <a:lnTo>
                                <a:pt x="0" y="116"/>
                              </a:lnTo>
                              <a:lnTo>
                                <a:pt x="0" y="90"/>
                              </a:lnTo>
                              <a:lnTo>
                                <a:pt x="4" y="65"/>
                              </a:lnTo>
                              <a:lnTo>
                                <a:pt x="8" y="41"/>
                              </a:lnTo>
                              <a:lnTo>
                                <a:pt x="15" y="18"/>
                              </a:lnTo>
                              <a:lnTo>
                                <a:pt x="21" y="0"/>
                              </a:lnTo>
                              <a:lnTo>
                                <a:pt x="30" y="25"/>
                              </a:lnTo>
                              <a:lnTo>
                                <a:pt x="33" y="54"/>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805160" y="2009880"/>
                          <a:ext cx="43920" cy="130680"/>
                        </a:xfrm>
                        <a:custGeom>
                          <a:avLst/>
                          <a:gdLst/>
                          <a:ahLst/>
                          <a:rect l="l" t="t" r="r" b="b"/>
                          <a:pathLst>
                            <a:path w="34" h="124">
                              <a:moveTo>
                                <a:pt x="33" y="0"/>
                              </a:moveTo>
                              <a:lnTo>
                                <a:pt x="26" y="34"/>
                              </a:lnTo>
                              <a:lnTo>
                                <a:pt x="24" y="61"/>
                              </a:lnTo>
                              <a:lnTo>
                                <a:pt x="20" y="76"/>
                              </a:lnTo>
                              <a:lnTo>
                                <a:pt x="17" y="93"/>
                              </a:lnTo>
                              <a:lnTo>
                                <a:pt x="13" y="123"/>
                              </a:lnTo>
                              <a:lnTo>
                                <a:pt x="4" y="87"/>
                              </a:lnTo>
                              <a:lnTo>
                                <a:pt x="0" y="62"/>
                              </a:lnTo>
                              <a:lnTo>
                                <a:pt x="2" y="37"/>
                              </a:lnTo>
                              <a:lnTo>
                                <a:pt x="3" y="31"/>
                              </a:lnTo>
                              <a:lnTo>
                                <a:pt x="33" y="0"/>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grpSp>
      <p:pic>
        <p:nvPicPr>
          <p:cNvPr id="199" name="" descr=""/>
          <p:cNvPicPr/>
          <p:nvPr/>
        </p:nvPicPr>
        <p:blipFill>
          <a:blip r:embed="rId2"/>
          <a:stretch/>
        </p:blipFill>
        <p:spPr>
          <a:xfrm>
            <a:off x="1219320" y="3886200"/>
            <a:ext cx="2286000" cy="2255760"/>
          </a:xfrm>
          <a:prstGeom prst="rect">
            <a:avLst/>
          </a:prstGeom>
          <a:ln w="0">
            <a:noFill/>
          </a:ln>
        </p:spPr>
      </p:pic>
      <p:sp>
        <p:nvSpPr>
          <p:cNvPr id="200" name=""/>
          <p:cNvSpPr/>
          <p:nvPr/>
        </p:nvSpPr>
        <p:spPr>
          <a:xfrm>
            <a:off x="7902000" y="6583320"/>
            <a:ext cx="1168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01"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066320" y="22824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sequences of lack of confidence in test methods or results</a:t>
            </a:r>
            <a:endParaRPr b="1" lang="en-US" sz="3200" spc="-1" strike="noStrike">
              <a:solidFill>
                <a:srgbClr val="fafd00"/>
              </a:solidFill>
              <a:latin typeface="Arial"/>
            </a:endParaRPr>
          </a:p>
        </p:txBody>
      </p:sp>
      <p:sp>
        <p:nvSpPr>
          <p:cNvPr id="20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roker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heck each sample</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uyer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ll up bal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Carry risk</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cessors:</a:t>
            </a:r>
            <a:r>
              <a:rPr b="1" lang="en-GB" sz="2800" spc="-1" strike="noStrike">
                <a:solidFill>
                  <a:srgbClr val="ffffff"/>
                </a:solidFill>
                <a:latin typeface="Arial"/>
              </a:rPr>
              <a:t>	</a:t>
            </a:r>
            <a:r>
              <a:rPr b="1" lang="en-GB" sz="2800" spc="-1" strike="noStrike">
                <a:solidFill>
                  <a:srgbClr val="ffffff"/>
                </a:solidFill>
                <a:latin typeface="Arial"/>
              </a:rPr>
              <a:t>Repeat testing</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Financial claim</a:t>
            </a:r>
            <a:endParaRPr b="1"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04" name=""/>
          <p:cNvGrpSpPr/>
          <p:nvPr/>
        </p:nvGrpSpPr>
        <p:grpSpPr>
          <a:xfrm>
            <a:off x="1295280" y="457200"/>
            <a:ext cx="7467480" cy="5334120"/>
            <a:chOff x="1295280" y="457200"/>
            <a:chExt cx="7467480" cy="5334120"/>
          </a:xfrm>
        </p:grpSpPr>
        <p:sp>
          <p:nvSpPr>
            <p:cNvPr id="205" name=""/>
            <p:cNvSpPr/>
            <p:nvPr/>
          </p:nvSpPr>
          <p:spPr>
            <a:xfrm>
              <a:off x="1415880" y="457200"/>
              <a:ext cx="7346880" cy="5334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90680" y="1082520"/>
              <a:ext cx="1447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cise</a:t>
              </a:r>
              <a:endParaRPr b="0" lang="en-US" sz="2800" spc="-1" strike="noStrike">
                <a:solidFill>
                  <a:srgbClr val="000000"/>
                </a:solidFill>
                <a:latin typeface="Times New Roman"/>
              </a:endParaRPr>
            </a:p>
          </p:txBody>
        </p:sp>
        <p:sp>
          <p:nvSpPr>
            <p:cNvPr id="207" name=""/>
            <p:cNvSpPr/>
            <p:nvPr/>
          </p:nvSpPr>
          <p:spPr>
            <a:xfrm>
              <a:off x="1390680" y="3397320"/>
              <a:ext cx="18424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ecise</a:t>
              </a:r>
              <a:endParaRPr b="0" lang="en-US" sz="2800" spc="-1" strike="noStrike">
                <a:solidFill>
                  <a:srgbClr val="000000"/>
                </a:solidFill>
                <a:latin typeface="Times New Roman"/>
              </a:endParaRPr>
            </a:p>
          </p:txBody>
        </p:sp>
        <p:grpSp>
          <p:nvGrpSpPr>
            <p:cNvPr id="208" name=""/>
            <p:cNvGrpSpPr/>
            <p:nvPr/>
          </p:nvGrpSpPr>
          <p:grpSpPr>
            <a:xfrm>
              <a:off x="1295280" y="633240"/>
              <a:ext cx="7329600" cy="4964040"/>
              <a:chOff x="1295280" y="633240"/>
              <a:chExt cx="7329600" cy="4964040"/>
            </a:xfrm>
          </p:grpSpPr>
          <p:sp>
            <p:nvSpPr>
              <p:cNvPr id="209" name=""/>
              <p:cNvSpPr/>
              <p:nvPr/>
            </p:nvSpPr>
            <p:spPr>
              <a:xfrm>
                <a:off x="4959360" y="920880"/>
                <a:ext cx="0" cy="428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295280" y="3159000"/>
                <a:ext cx="73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87120" y="633240"/>
                <a:ext cx="1703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curate</a:t>
                </a:r>
                <a:endParaRPr b="0" lang="en-US" sz="2800" spc="-1" strike="noStrike">
                  <a:solidFill>
                    <a:srgbClr val="000000"/>
                  </a:solidFill>
                  <a:latin typeface="Times New Roman"/>
                </a:endParaRPr>
              </a:p>
            </p:txBody>
          </p:sp>
          <p:sp>
            <p:nvSpPr>
              <p:cNvPr id="212" name=""/>
              <p:cNvSpPr/>
              <p:nvPr/>
            </p:nvSpPr>
            <p:spPr>
              <a:xfrm>
                <a:off x="6082560" y="693720"/>
                <a:ext cx="19616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accurate</a:t>
                </a:r>
                <a:endParaRPr b="0" lang="en-US" sz="2800" spc="-1" strike="noStrike">
                  <a:solidFill>
                    <a:srgbClr val="000000"/>
                  </a:solidFill>
                  <a:latin typeface="Times New Roman"/>
                </a:endParaRPr>
              </a:p>
            </p:txBody>
          </p:sp>
          <p:grpSp>
            <p:nvGrpSpPr>
              <p:cNvPr id="213" name=""/>
              <p:cNvGrpSpPr/>
              <p:nvPr/>
            </p:nvGrpSpPr>
            <p:grpSpPr>
              <a:xfrm>
                <a:off x="5978520" y="1235160"/>
                <a:ext cx="2207880" cy="1661760"/>
                <a:chOff x="5978520" y="1235160"/>
                <a:chExt cx="2207880" cy="1661760"/>
              </a:xfrm>
            </p:grpSpPr>
            <p:grpSp>
              <p:nvGrpSpPr>
                <p:cNvPr id="214" name=""/>
                <p:cNvGrpSpPr/>
                <p:nvPr/>
              </p:nvGrpSpPr>
              <p:grpSpPr>
                <a:xfrm>
                  <a:off x="5978520" y="1299240"/>
                  <a:ext cx="1574280" cy="1597680"/>
                  <a:chOff x="5978520" y="1299240"/>
                  <a:chExt cx="1574280" cy="1597680"/>
                </a:xfrm>
              </p:grpSpPr>
              <p:sp>
                <p:nvSpPr>
                  <p:cNvPr id="215" name=""/>
                  <p:cNvSpPr/>
                  <p:nvPr/>
                </p:nvSpPr>
                <p:spPr>
                  <a:xfrm>
                    <a:off x="5978520" y="1299240"/>
                    <a:ext cx="1574280" cy="1597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68600" y="1492200"/>
                    <a:ext cx="1193760" cy="121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548760" y="1878120"/>
                    <a:ext cx="433080" cy="439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7626960" y="1235160"/>
                  <a:ext cx="559440" cy="632160"/>
                  <a:chOff x="7626960" y="1235160"/>
                  <a:chExt cx="559440" cy="632160"/>
                </a:xfrm>
              </p:grpSpPr>
              <p:sp>
                <p:nvSpPr>
                  <p:cNvPr id="219" name=""/>
                  <p:cNvSpPr/>
                  <p:nvPr/>
                </p:nvSpPr>
                <p:spPr>
                  <a:xfrm>
                    <a:off x="7626960" y="13636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880040" y="129924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880040" y="16210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753320" y="16210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007120" y="149220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753320" y="123516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5" name=""/>
              <p:cNvGrpSpPr/>
              <p:nvPr/>
            </p:nvGrpSpPr>
            <p:grpSpPr>
              <a:xfrm>
                <a:off x="2555640" y="3807000"/>
                <a:ext cx="1638000" cy="1596960"/>
                <a:chOff x="2555640" y="3807000"/>
                <a:chExt cx="1638000" cy="1596960"/>
              </a:xfrm>
            </p:grpSpPr>
            <p:grpSp>
              <p:nvGrpSpPr>
                <p:cNvPr id="226" name=""/>
                <p:cNvGrpSpPr/>
                <p:nvPr/>
              </p:nvGrpSpPr>
              <p:grpSpPr>
                <a:xfrm>
                  <a:off x="2555640" y="3807000"/>
                  <a:ext cx="1575000" cy="1596960"/>
                  <a:chOff x="2555640" y="3807000"/>
                  <a:chExt cx="1575000" cy="1596960"/>
                </a:xfrm>
              </p:grpSpPr>
              <p:sp>
                <p:nvSpPr>
                  <p:cNvPr id="227" name=""/>
                  <p:cNvSpPr/>
                  <p:nvPr/>
                </p:nvSpPr>
                <p:spPr>
                  <a:xfrm>
                    <a:off x="2555640" y="3807000"/>
                    <a:ext cx="1575000" cy="1596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745720" y="3999600"/>
                    <a:ext cx="1194480" cy="12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26240" y="4385520"/>
                    <a:ext cx="433440" cy="4395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2872800" y="464292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443760" y="380700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97200" y="4192560"/>
                  <a:ext cx="17964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09080" y="393552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014360" y="464292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380040" y="502848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2619360" y="1170000"/>
                <a:ext cx="1574640" cy="1596960"/>
                <a:chOff x="2619360" y="1170000"/>
                <a:chExt cx="1574640" cy="1596960"/>
              </a:xfrm>
            </p:grpSpPr>
            <p:grpSp>
              <p:nvGrpSpPr>
                <p:cNvPr id="237" name=""/>
                <p:cNvGrpSpPr/>
                <p:nvPr/>
              </p:nvGrpSpPr>
              <p:grpSpPr>
                <a:xfrm>
                  <a:off x="2619360" y="1170000"/>
                  <a:ext cx="1574640" cy="1596960"/>
                  <a:chOff x="2619360" y="1170000"/>
                  <a:chExt cx="1574640" cy="1596960"/>
                </a:xfrm>
              </p:grpSpPr>
              <p:sp>
                <p:nvSpPr>
                  <p:cNvPr id="238" name=""/>
                  <p:cNvSpPr/>
                  <p:nvPr/>
                </p:nvSpPr>
                <p:spPr>
                  <a:xfrm>
                    <a:off x="2619360" y="1170000"/>
                    <a:ext cx="1574640" cy="15969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09440" y="1362600"/>
                    <a:ext cx="1194120" cy="12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189960" y="1748520"/>
                    <a:ext cx="433080" cy="439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3126240" y="1684080"/>
                  <a:ext cx="623160" cy="632160"/>
                  <a:chOff x="3126240" y="1684080"/>
                  <a:chExt cx="623160" cy="632160"/>
                </a:xfrm>
              </p:grpSpPr>
              <p:sp>
                <p:nvSpPr>
                  <p:cNvPr id="242" name=""/>
                  <p:cNvSpPr/>
                  <p:nvPr/>
                </p:nvSpPr>
                <p:spPr>
                  <a:xfrm>
                    <a:off x="3126240" y="1684080"/>
                    <a:ext cx="17964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316320" y="174816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6240" y="194112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443400" y="200556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569760" y="181260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52960" y="206964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6041880" y="3292560"/>
                <a:ext cx="2523960" cy="2304720"/>
                <a:chOff x="6041880" y="3292560"/>
                <a:chExt cx="2523960" cy="2304720"/>
              </a:xfrm>
            </p:grpSpPr>
            <p:sp>
              <p:nvSpPr>
                <p:cNvPr id="249" name=""/>
                <p:cNvSpPr/>
                <p:nvPr/>
              </p:nvSpPr>
              <p:spPr>
                <a:xfrm>
                  <a:off x="7182360" y="3292560"/>
                  <a:ext cx="17964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16320" y="367848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196480" y="432180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386560" y="348552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386560" y="5029200"/>
                  <a:ext cx="179280" cy="2462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6240" y="5350680"/>
                  <a:ext cx="179280" cy="2466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6041880" y="3678480"/>
                  <a:ext cx="1573560" cy="1597320"/>
                  <a:chOff x="6041880" y="3678480"/>
                  <a:chExt cx="1573560" cy="1597320"/>
                </a:xfrm>
              </p:grpSpPr>
              <p:sp>
                <p:nvSpPr>
                  <p:cNvPr id="256" name=""/>
                  <p:cNvSpPr/>
                  <p:nvPr/>
                </p:nvSpPr>
                <p:spPr>
                  <a:xfrm>
                    <a:off x="6041880" y="3678480"/>
                    <a:ext cx="1573560" cy="1597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231960" y="3871440"/>
                    <a:ext cx="1193040" cy="121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12120" y="4257360"/>
                    <a:ext cx="432720" cy="439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9"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193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here are a HUGE number of fibres in a sale lot.</a:t>
            </a:r>
            <a:endParaRPr b="1" lang="en-US" sz="3200" spc="-1" strike="noStrike">
              <a:solidFill>
                <a:srgbClr val="fafd00"/>
              </a:solidFill>
              <a:latin typeface="Arial"/>
            </a:endParaRPr>
          </a:p>
        </p:txBody>
      </p:sp>
      <p:sp>
        <p:nvSpPr>
          <p:cNvPr id="261" name="PlaceHolder 2"/>
          <p:cNvSpPr>
            <a:spLocks noGrp="1"/>
          </p:cNvSpPr>
          <p:nvPr>
            <p:ph/>
          </p:nvPr>
        </p:nvSpPr>
        <p:spPr>
          <a:xfrm>
            <a:off x="1295280" y="1066320"/>
            <a:ext cx="7772400" cy="4953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 bales per sale lot</a:t>
            </a:r>
            <a:br>
              <a:rPr sz="2800"/>
            </a:b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7 bales * 40 fleeces = 280 fleeces / lot</a:t>
            </a:r>
            <a:br>
              <a:rPr sz="2800"/>
            </a:br>
            <a:r>
              <a:rPr b="1" lang="en-GB"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280 fleeces * 54,000,000 fibres/fleece</a:t>
            </a:r>
            <a:endParaRPr b="1"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15,120,000,000 fibres/lot </a:t>
            </a:r>
            <a:r>
              <a:rPr b="0" lang="en-GB" sz="2400" spc="-1" strike="noStrike">
                <a:solidFill>
                  <a:srgbClr val="ffffff"/>
                </a:solidFill>
                <a:latin typeface="Arial"/>
              </a:rPr>
              <a:t>(rough estimat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 we get a REPRESENTATIVE sample?</a:t>
            </a:r>
            <a:endParaRPr b="1" lang="en-US" sz="2800" spc="-1" strike="noStrike">
              <a:solidFill>
                <a:srgbClr val="ffffff"/>
              </a:solidFill>
              <a:latin typeface="Arial"/>
            </a:endParaRPr>
          </a:p>
        </p:txBody>
      </p:sp>
      <p:sp>
        <p:nvSpPr>
          <p:cNvPr id="262"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3"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 Peter Auer</a:t>
            </a:r>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inciples of Sampling</a:t>
            </a:r>
            <a:endParaRPr b="1" lang="en-US" sz="3200" spc="-1" strike="noStrike">
              <a:solidFill>
                <a:srgbClr val="fafd00"/>
              </a:solidFill>
              <a:latin typeface="Arial"/>
            </a:endParaRPr>
          </a:p>
        </p:txBody>
      </p:sp>
      <p:sp>
        <p:nvSpPr>
          <p:cNvPr id="2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mple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biased (representativ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chieved by desig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qual cha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ign</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e from manipul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chines more consisten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 sample siz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pendent on population variability</a:t>
            </a:r>
            <a:endParaRPr b="1"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66" name=""/>
          <p:cNvGrpSpPr/>
          <p:nvPr/>
        </p:nvGrpSpPr>
        <p:grpSpPr>
          <a:xfrm>
            <a:off x="1243080" y="1387440"/>
            <a:ext cx="8052840" cy="4694400"/>
            <a:chOff x="1243080" y="1387440"/>
            <a:chExt cx="8052840" cy="4694400"/>
          </a:xfrm>
        </p:grpSpPr>
        <p:sp>
          <p:nvSpPr>
            <p:cNvPr id="267" name=""/>
            <p:cNvSpPr/>
            <p:nvPr/>
          </p:nvSpPr>
          <p:spPr>
            <a:xfrm>
              <a:off x="1243080" y="2521080"/>
              <a:ext cx="26028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43692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79064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34000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887560" y="2521080"/>
              <a:ext cx="261360" cy="34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779720" y="2400480"/>
              <a:ext cx="344160" cy="3612960"/>
            </a:xfrm>
            <a:custGeom>
              <a:avLst/>
              <a:gdLst/>
              <a:ahLst/>
              <a:rect l="l" t="t" r="r" b="b"/>
              <a:pathLst>
                <a:path w="217" h="2276">
                  <a:moveTo>
                    <a:pt x="14" y="14"/>
                  </a:moveTo>
                  <a:lnTo>
                    <a:pt x="0" y="58"/>
                  </a:lnTo>
                  <a:lnTo>
                    <a:pt x="0" y="101"/>
                  </a:lnTo>
                  <a:lnTo>
                    <a:pt x="0" y="144"/>
                  </a:lnTo>
                  <a:lnTo>
                    <a:pt x="0" y="187"/>
                  </a:lnTo>
                  <a:lnTo>
                    <a:pt x="0" y="230"/>
                  </a:lnTo>
                  <a:lnTo>
                    <a:pt x="0" y="274"/>
                  </a:lnTo>
                  <a:lnTo>
                    <a:pt x="0" y="317"/>
                  </a:lnTo>
                  <a:lnTo>
                    <a:pt x="0" y="360"/>
                  </a:lnTo>
                  <a:lnTo>
                    <a:pt x="0" y="403"/>
                  </a:lnTo>
                  <a:lnTo>
                    <a:pt x="0" y="446"/>
                  </a:lnTo>
                  <a:lnTo>
                    <a:pt x="0" y="490"/>
                  </a:lnTo>
                  <a:lnTo>
                    <a:pt x="0" y="533"/>
                  </a:lnTo>
                  <a:lnTo>
                    <a:pt x="0" y="576"/>
                  </a:lnTo>
                  <a:lnTo>
                    <a:pt x="0" y="619"/>
                  </a:lnTo>
                  <a:lnTo>
                    <a:pt x="0" y="662"/>
                  </a:lnTo>
                  <a:lnTo>
                    <a:pt x="0" y="706"/>
                  </a:lnTo>
                  <a:lnTo>
                    <a:pt x="0" y="749"/>
                  </a:lnTo>
                  <a:lnTo>
                    <a:pt x="0" y="792"/>
                  </a:lnTo>
                  <a:lnTo>
                    <a:pt x="0" y="835"/>
                  </a:lnTo>
                  <a:lnTo>
                    <a:pt x="0" y="878"/>
                  </a:lnTo>
                  <a:lnTo>
                    <a:pt x="0" y="922"/>
                  </a:lnTo>
                  <a:lnTo>
                    <a:pt x="0" y="965"/>
                  </a:lnTo>
                  <a:lnTo>
                    <a:pt x="0" y="1008"/>
                  </a:lnTo>
                  <a:lnTo>
                    <a:pt x="0" y="1051"/>
                  </a:lnTo>
                  <a:lnTo>
                    <a:pt x="0" y="1094"/>
                  </a:lnTo>
                  <a:lnTo>
                    <a:pt x="0" y="1138"/>
                  </a:lnTo>
                  <a:lnTo>
                    <a:pt x="0" y="1181"/>
                  </a:lnTo>
                  <a:lnTo>
                    <a:pt x="0" y="1224"/>
                  </a:lnTo>
                  <a:lnTo>
                    <a:pt x="0" y="1267"/>
                  </a:lnTo>
                  <a:lnTo>
                    <a:pt x="0" y="1310"/>
                  </a:lnTo>
                  <a:lnTo>
                    <a:pt x="0" y="1353"/>
                  </a:lnTo>
                  <a:lnTo>
                    <a:pt x="0" y="1397"/>
                  </a:lnTo>
                  <a:lnTo>
                    <a:pt x="0" y="1440"/>
                  </a:lnTo>
                  <a:lnTo>
                    <a:pt x="14" y="1483"/>
                  </a:lnTo>
                  <a:lnTo>
                    <a:pt x="14" y="1526"/>
                  </a:lnTo>
                  <a:lnTo>
                    <a:pt x="14" y="1569"/>
                  </a:lnTo>
                  <a:lnTo>
                    <a:pt x="14" y="1613"/>
                  </a:lnTo>
                  <a:lnTo>
                    <a:pt x="14" y="1656"/>
                  </a:lnTo>
                  <a:lnTo>
                    <a:pt x="14" y="1699"/>
                  </a:lnTo>
                  <a:lnTo>
                    <a:pt x="14" y="1742"/>
                  </a:lnTo>
                  <a:lnTo>
                    <a:pt x="14" y="1785"/>
                  </a:lnTo>
                  <a:lnTo>
                    <a:pt x="29" y="1829"/>
                  </a:lnTo>
                  <a:lnTo>
                    <a:pt x="29" y="1872"/>
                  </a:lnTo>
                  <a:lnTo>
                    <a:pt x="43" y="1915"/>
                  </a:lnTo>
                  <a:lnTo>
                    <a:pt x="58" y="1958"/>
                  </a:lnTo>
                  <a:lnTo>
                    <a:pt x="58" y="2001"/>
                  </a:lnTo>
                  <a:lnTo>
                    <a:pt x="72" y="2045"/>
                  </a:lnTo>
                  <a:lnTo>
                    <a:pt x="72" y="2088"/>
                  </a:lnTo>
                  <a:lnTo>
                    <a:pt x="86" y="2131"/>
                  </a:lnTo>
                  <a:lnTo>
                    <a:pt x="101" y="2174"/>
                  </a:lnTo>
                  <a:lnTo>
                    <a:pt x="115" y="2217"/>
                  </a:lnTo>
                  <a:lnTo>
                    <a:pt x="130" y="2261"/>
                  </a:lnTo>
                  <a:lnTo>
                    <a:pt x="173" y="2275"/>
                  </a:lnTo>
                  <a:lnTo>
                    <a:pt x="216" y="2275"/>
                  </a:lnTo>
                  <a:lnTo>
                    <a:pt x="216" y="2232"/>
                  </a:lnTo>
                  <a:lnTo>
                    <a:pt x="216" y="2189"/>
                  </a:lnTo>
                  <a:lnTo>
                    <a:pt x="216" y="2145"/>
                  </a:lnTo>
                  <a:lnTo>
                    <a:pt x="216" y="2102"/>
                  </a:lnTo>
                  <a:lnTo>
                    <a:pt x="202" y="2059"/>
                  </a:lnTo>
                  <a:lnTo>
                    <a:pt x="187" y="2016"/>
                  </a:lnTo>
                  <a:lnTo>
                    <a:pt x="173" y="1973"/>
                  </a:lnTo>
                  <a:lnTo>
                    <a:pt x="158" y="1929"/>
                  </a:lnTo>
                  <a:lnTo>
                    <a:pt x="144" y="1886"/>
                  </a:lnTo>
                  <a:lnTo>
                    <a:pt x="144" y="1843"/>
                  </a:lnTo>
                  <a:lnTo>
                    <a:pt x="144" y="1800"/>
                  </a:lnTo>
                  <a:lnTo>
                    <a:pt x="144" y="1757"/>
                  </a:lnTo>
                  <a:lnTo>
                    <a:pt x="144" y="1713"/>
                  </a:lnTo>
                  <a:lnTo>
                    <a:pt x="144" y="1670"/>
                  </a:lnTo>
                  <a:lnTo>
                    <a:pt x="130" y="1627"/>
                  </a:lnTo>
                  <a:lnTo>
                    <a:pt x="115" y="1584"/>
                  </a:lnTo>
                  <a:lnTo>
                    <a:pt x="115" y="1541"/>
                  </a:lnTo>
                  <a:lnTo>
                    <a:pt x="115" y="1497"/>
                  </a:lnTo>
                  <a:lnTo>
                    <a:pt x="115" y="1454"/>
                  </a:lnTo>
                  <a:lnTo>
                    <a:pt x="115" y="1411"/>
                  </a:lnTo>
                  <a:lnTo>
                    <a:pt x="115" y="1368"/>
                  </a:lnTo>
                  <a:lnTo>
                    <a:pt x="115" y="1325"/>
                  </a:lnTo>
                  <a:lnTo>
                    <a:pt x="115" y="1281"/>
                  </a:lnTo>
                  <a:lnTo>
                    <a:pt x="115" y="1238"/>
                  </a:lnTo>
                  <a:lnTo>
                    <a:pt x="115" y="1195"/>
                  </a:lnTo>
                  <a:lnTo>
                    <a:pt x="115" y="1152"/>
                  </a:lnTo>
                  <a:lnTo>
                    <a:pt x="115" y="1109"/>
                  </a:lnTo>
                  <a:lnTo>
                    <a:pt x="115" y="1066"/>
                  </a:lnTo>
                  <a:lnTo>
                    <a:pt x="115" y="1022"/>
                  </a:lnTo>
                  <a:lnTo>
                    <a:pt x="115" y="979"/>
                  </a:lnTo>
                  <a:lnTo>
                    <a:pt x="115" y="936"/>
                  </a:lnTo>
                  <a:lnTo>
                    <a:pt x="115" y="893"/>
                  </a:lnTo>
                  <a:lnTo>
                    <a:pt x="115" y="850"/>
                  </a:lnTo>
                  <a:lnTo>
                    <a:pt x="115" y="806"/>
                  </a:lnTo>
                  <a:lnTo>
                    <a:pt x="115" y="763"/>
                  </a:lnTo>
                  <a:lnTo>
                    <a:pt x="130" y="720"/>
                  </a:lnTo>
                  <a:lnTo>
                    <a:pt x="130" y="677"/>
                  </a:lnTo>
                  <a:lnTo>
                    <a:pt x="130" y="634"/>
                  </a:lnTo>
                  <a:lnTo>
                    <a:pt x="130" y="590"/>
                  </a:lnTo>
                  <a:lnTo>
                    <a:pt x="130" y="547"/>
                  </a:lnTo>
                  <a:lnTo>
                    <a:pt x="130" y="504"/>
                  </a:lnTo>
                  <a:lnTo>
                    <a:pt x="130" y="461"/>
                  </a:lnTo>
                  <a:lnTo>
                    <a:pt x="130" y="418"/>
                  </a:lnTo>
                  <a:lnTo>
                    <a:pt x="130" y="374"/>
                  </a:lnTo>
                  <a:lnTo>
                    <a:pt x="130" y="331"/>
                  </a:lnTo>
                  <a:lnTo>
                    <a:pt x="130" y="288"/>
                  </a:lnTo>
                  <a:lnTo>
                    <a:pt x="115" y="245"/>
                  </a:lnTo>
                  <a:lnTo>
                    <a:pt x="101" y="202"/>
                  </a:lnTo>
                  <a:lnTo>
                    <a:pt x="101" y="158"/>
                  </a:lnTo>
                  <a:lnTo>
                    <a:pt x="101" y="115"/>
                  </a:lnTo>
                  <a:lnTo>
                    <a:pt x="86" y="72"/>
                  </a:lnTo>
                  <a:lnTo>
                    <a:pt x="72" y="29"/>
                  </a:lnTo>
                  <a:lnTo>
                    <a:pt x="29" y="0"/>
                  </a:lnTo>
                  <a:lnTo>
                    <a:pt x="14" y="14"/>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556240" y="2446200"/>
              <a:ext cx="710640" cy="3635640"/>
            </a:xfrm>
            <a:custGeom>
              <a:avLst/>
              <a:gdLst/>
              <a:ahLst/>
              <a:rect l="l" t="t" r="r" b="b"/>
              <a:pathLst>
                <a:path w="448" h="2290">
                  <a:moveTo>
                    <a:pt x="30" y="43"/>
                  </a:moveTo>
                  <a:lnTo>
                    <a:pt x="41" y="86"/>
                  </a:lnTo>
                  <a:lnTo>
                    <a:pt x="41" y="130"/>
                  </a:lnTo>
                  <a:lnTo>
                    <a:pt x="20" y="173"/>
                  </a:lnTo>
                  <a:lnTo>
                    <a:pt x="10" y="216"/>
                  </a:lnTo>
                  <a:lnTo>
                    <a:pt x="0" y="259"/>
                  </a:lnTo>
                  <a:lnTo>
                    <a:pt x="0" y="302"/>
                  </a:lnTo>
                  <a:lnTo>
                    <a:pt x="0" y="346"/>
                  </a:lnTo>
                  <a:lnTo>
                    <a:pt x="0" y="389"/>
                  </a:lnTo>
                  <a:lnTo>
                    <a:pt x="0" y="432"/>
                  </a:lnTo>
                  <a:lnTo>
                    <a:pt x="0" y="475"/>
                  </a:lnTo>
                  <a:lnTo>
                    <a:pt x="0" y="518"/>
                  </a:lnTo>
                  <a:lnTo>
                    <a:pt x="0" y="561"/>
                  </a:lnTo>
                  <a:lnTo>
                    <a:pt x="0" y="605"/>
                  </a:lnTo>
                  <a:lnTo>
                    <a:pt x="0" y="648"/>
                  </a:lnTo>
                  <a:lnTo>
                    <a:pt x="0" y="691"/>
                  </a:lnTo>
                  <a:lnTo>
                    <a:pt x="0" y="734"/>
                  </a:lnTo>
                  <a:lnTo>
                    <a:pt x="0" y="777"/>
                  </a:lnTo>
                  <a:lnTo>
                    <a:pt x="0" y="821"/>
                  </a:lnTo>
                  <a:lnTo>
                    <a:pt x="0" y="878"/>
                  </a:lnTo>
                  <a:lnTo>
                    <a:pt x="0" y="921"/>
                  </a:lnTo>
                  <a:lnTo>
                    <a:pt x="0" y="965"/>
                  </a:lnTo>
                  <a:lnTo>
                    <a:pt x="0" y="1008"/>
                  </a:lnTo>
                  <a:lnTo>
                    <a:pt x="10" y="1051"/>
                  </a:lnTo>
                  <a:lnTo>
                    <a:pt x="10" y="1094"/>
                  </a:lnTo>
                  <a:lnTo>
                    <a:pt x="10" y="1137"/>
                  </a:lnTo>
                  <a:lnTo>
                    <a:pt x="10" y="1180"/>
                  </a:lnTo>
                  <a:lnTo>
                    <a:pt x="10" y="1224"/>
                  </a:lnTo>
                  <a:lnTo>
                    <a:pt x="20" y="1267"/>
                  </a:lnTo>
                  <a:lnTo>
                    <a:pt x="20" y="1310"/>
                  </a:lnTo>
                  <a:lnTo>
                    <a:pt x="20" y="1353"/>
                  </a:lnTo>
                  <a:lnTo>
                    <a:pt x="20" y="1396"/>
                  </a:lnTo>
                  <a:lnTo>
                    <a:pt x="20" y="1454"/>
                  </a:lnTo>
                  <a:lnTo>
                    <a:pt x="20" y="1497"/>
                  </a:lnTo>
                  <a:lnTo>
                    <a:pt x="20" y="1540"/>
                  </a:lnTo>
                  <a:lnTo>
                    <a:pt x="20" y="1584"/>
                  </a:lnTo>
                  <a:lnTo>
                    <a:pt x="20" y="1627"/>
                  </a:lnTo>
                  <a:lnTo>
                    <a:pt x="20" y="1684"/>
                  </a:lnTo>
                  <a:lnTo>
                    <a:pt x="20" y="1728"/>
                  </a:lnTo>
                  <a:lnTo>
                    <a:pt x="20" y="1771"/>
                  </a:lnTo>
                  <a:lnTo>
                    <a:pt x="20" y="1814"/>
                  </a:lnTo>
                  <a:lnTo>
                    <a:pt x="20" y="1857"/>
                  </a:lnTo>
                  <a:lnTo>
                    <a:pt x="20" y="1900"/>
                  </a:lnTo>
                  <a:lnTo>
                    <a:pt x="20" y="1943"/>
                  </a:lnTo>
                  <a:lnTo>
                    <a:pt x="20" y="1987"/>
                  </a:lnTo>
                  <a:lnTo>
                    <a:pt x="20" y="2030"/>
                  </a:lnTo>
                  <a:lnTo>
                    <a:pt x="20" y="2073"/>
                  </a:lnTo>
                  <a:lnTo>
                    <a:pt x="30" y="2116"/>
                  </a:lnTo>
                  <a:lnTo>
                    <a:pt x="30" y="2159"/>
                  </a:lnTo>
                  <a:lnTo>
                    <a:pt x="51" y="2203"/>
                  </a:lnTo>
                  <a:lnTo>
                    <a:pt x="81" y="2246"/>
                  </a:lnTo>
                  <a:lnTo>
                    <a:pt x="122" y="2260"/>
                  </a:lnTo>
                  <a:lnTo>
                    <a:pt x="183" y="2275"/>
                  </a:lnTo>
                  <a:lnTo>
                    <a:pt x="244" y="2289"/>
                  </a:lnTo>
                  <a:lnTo>
                    <a:pt x="274" y="2289"/>
                  </a:lnTo>
                  <a:lnTo>
                    <a:pt x="305" y="2260"/>
                  </a:lnTo>
                  <a:lnTo>
                    <a:pt x="335" y="2246"/>
                  </a:lnTo>
                  <a:lnTo>
                    <a:pt x="366" y="2246"/>
                  </a:lnTo>
                  <a:lnTo>
                    <a:pt x="406" y="2217"/>
                  </a:lnTo>
                  <a:lnTo>
                    <a:pt x="417" y="2174"/>
                  </a:lnTo>
                  <a:lnTo>
                    <a:pt x="417" y="2131"/>
                  </a:lnTo>
                  <a:lnTo>
                    <a:pt x="417" y="2087"/>
                  </a:lnTo>
                  <a:lnTo>
                    <a:pt x="427" y="2044"/>
                  </a:lnTo>
                  <a:lnTo>
                    <a:pt x="437" y="2001"/>
                  </a:lnTo>
                  <a:lnTo>
                    <a:pt x="437" y="1958"/>
                  </a:lnTo>
                  <a:lnTo>
                    <a:pt x="437" y="1915"/>
                  </a:lnTo>
                  <a:lnTo>
                    <a:pt x="437" y="1872"/>
                  </a:lnTo>
                  <a:lnTo>
                    <a:pt x="437" y="1828"/>
                  </a:lnTo>
                  <a:lnTo>
                    <a:pt x="437" y="1785"/>
                  </a:lnTo>
                  <a:lnTo>
                    <a:pt x="447" y="1742"/>
                  </a:lnTo>
                  <a:lnTo>
                    <a:pt x="447" y="1699"/>
                  </a:lnTo>
                  <a:lnTo>
                    <a:pt x="447" y="1656"/>
                  </a:lnTo>
                  <a:lnTo>
                    <a:pt x="447" y="1612"/>
                  </a:lnTo>
                  <a:lnTo>
                    <a:pt x="447" y="1569"/>
                  </a:lnTo>
                  <a:lnTo>
                    <a:pt x="447" y="1526"/>
                  </a:lnTo>
                  <a:lnTo>
                    <a:pt x="447" y="1483"/>
                  </a:lnTo>
                  <a:lnTo>
                    <a:pt x="447" y="1440"/>
                  </a:lnTo>
                  <a:lnTo>
                    <a:pt x="447" y="1396"/>
                  </a:lnTo>
                  <a:lnTo>
                    <a:pt x="447" y="1339"/>
                  </a:lnTo>
                  <a:lnTo>
                    <a:pt x="447" y="1296"/>
                  </a:lnTo>
                  <a:lnTo>
                    <a:pt x="447" y="1252"/>
                  </a:lnTo>
                  <a:lnTo>
                    <a:pt x="447" y="1209"/>
                  </a:lnTo>
                  <a:lnTo>
                    <a:pt x="447" y="1166"/>
                  </a:lnTo>
                  <a:lnTo>
                    <a:pt x="447" y="1123"/>
                  </a:lnTo>
                  <a:lnTo>
                    <a:pt x="447" y="1080"/>
                  </a:lnTo>
                  <a:lnTo>
                    <a:pt x="447" y="1037"/>
                  </a:lnTo>
                  <a:lnTo>
                    <a:pt x="447" y="993"/>
                  </a:lnTo>
                  <a:lnTo>
                    <a:pt x="437" y="950"/>
                  </a:lnTo>
                  <a:lnTo>
                    <a:pt x="427" y="907"/>
                  </a:lnTo>
                  <a:lnTo>
                    <a:pt x="417" y="864"/>
                  </a:lnTo>
                  <a:lnTo>
                    <a:pt x="406" y="821"/>
                  </a:lnTo>
                  <a:lnTo>
                    <a:pt x="396" y="777"/>
                  </a:lnTo>
                  <a:lnTo>
                    <a:pt x="396" y="734"/>
                  </a:lnTo>
                  <a:lnTo>
                    <a:pt x="396" y="691"/>
                  </a:lnTo>
                  <a:lnTo>
                    <a:pt x="396" y="648"/>
                  </a:lnTo>
                  <a:lnTo>
                    <a:pt x="396" y="605"/>
                  </a:lnTo>
                  <a:lnTo>
                    <a:pt x="396" y="561"/>
                  </a:lnTo>
                  <a:lnTo>
                    <a:pt x="396" y="518"/>
                  </a:lnTo>
                  <a:lnTo>
                    <a:pt x="396" y="461"/>
                  </a:lnTo>
                  <a:lnTo>
                    <a:pt x="396" y="403"/>
                  </a:lnTo>
                  <a:lnTo>
                    <a:pt x="396" y="317"/>
                  </a:lnTo>
                  <a:lnTo>
                    <a:pt x="396" y="274"/>
                  </a:lnTo>
                  <a:lnTo>
                    <a:pt x="396" y="230"/>
                  </a:lnTo>
                  <a:lnTo>
                    <a:pt x="396" y="187"/>
                  </a:lnTo>
                  <a:lnTo>
                    <a:pt x="396" y="144"/>
                  </a:lnTo>
                  <a:lnTo>
                    <a:pt x="386" y="101"/>
                  </a:lnTo>
                  <a:lnTo>
                    <a:pt x="356" y="86"/>
                  </a:lnTo>
                  <a:lnTo>
                    <a:pt x="335" y="43"/>
                  </a:lnTo>
                  <a:lnTo>
                    <a:pt x="305" y="29"/>
                  </a:lnTo>
                  <a:lnTo>
                    <a:pt x="274" y="14"/>
                  </a:lnTo>
                  <a:lnTo>
                    <a:pt x="244" y="0"/>
                  </a:lnTo>
                  <a:lnTo>
                    <a:pt x="213" y="0"/>
                  </a:lnTo>
                  <a:lnTo>
                    <a:pt x="183" y="0"/>
                  </a:lnTo>
                  <a:lnTo>
                    <a:pt x="152" y="0"/>
                  </a:lnTo>
                  <a:lnTo>
                    <a:pt x="122" y="0"/>
                  </a:lnTo>
                  <a:lnTo>
                    <a:pt x="81" y="0"/>
                  </a:lnTo>
                  <a:lnTo>
                    <a:pt x="51" y="14"/>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545240" y="2354400"/>
              <a:ext cx="732960" cy="3659040"/>
            </a:xfrm>
            <a:custGeom>
              <a:avLst/>
              <a:gdLst/>
              <a:ahLst/>
              <a:rect l="l" t="t" r="r" b="b"/>
              <a:pathLst>
                <a:path w="462" h="2305">
                  <a:moveTo>
                    <a:pt x="0" y="43"/>
                  </a:moveTo>
                  <a:lnTo>
                    <a:pt x="11" y="86"/>
                  </a:lnTo>
                  <a:lnTo>
                    <a:pt x="0" y="130"/>
                  </a:lnTo>
                  <a:lnTo>
                    <a:pt x="0" y="173"/>
                  </a:lnTo>
                  <a:lnTo>
                    <a:pt x="0" y="216"/>
                  </a:lnTo>
                  <a:lnTo>
                    <a:pt x="0" y="259"/>
                  </a:lnTo>
                  <a:lnTo>
                    <a:pt x="0" y="302"/>
                  </a:lnTo>
                  <a:lnTo>
                    <a:pt x="0" y="346"/>
                  </a:lnTo>
                  <a:lnTo>
                    <a:pt x="34" y="374"/>
                  </a:lnTo>
                  <a:lnTo>
                    <a:pt x="45" y="418"/>
                  </a:lnTo>
                  <a:lnTo>
                    <a:pt x="56" y="461"/>
                  </a:lnTo>
                  <a:lnTo>
                    <a:pt x="67" y="504"/>
                  </a:lnTo>
                  <a:lnTo>
                    <a:pt x="79" y="547"/>
                  </a:lnTo>
                  <a:lnTo>
                    <a:pt x="79" y="590"/>
                  </a:lnTo>
                  <a:lnTo>
                    <a:pt x="79" y="634"/>
                  </a:lnTo>
                  <a:lnTo>
                    <a:pt x="79" y="677"/>
                  </a:lnTo>
                  <a:lnTo>
                    <a:pt x="67" y="720"/>
                  </a:lnTo>
                  <a:lnTo>
                    <a:pt x="56" y="763"/>
                  </a:lnTo>
                  <a:lnTo>
                    <a:pt x="45" y="806"/>
                  </a:lnTo>
                  <a:lnTo>
                    <a:pt x="45" y="850"/>
                  </a:lnTo>
                  <a:lnTo>
                    <a:pt x="45" y="893"/>
                  </a:lnTo>
                  <a:lnTo>
                    <a:pt x="45" y="936"/>
                  </a:lnTo>
                  <a:lnTo>
                    <a:pt x="34" y="979"/>
                  </a:lnTo>
                  <a:lnTo>
                    <a:pt x="34" y="1022"/>
                  </a:lnTo>
                  <a:lnTo>
                    <a:pt x="34" y="1066"/>
                  </a:lnTo>
                  <a:lnTo>
                    <a:pt x="22" y="1109"/>
                  </a:lnTo>
                  <a:lnTo>
                    <a:pt x="22" y="1152"/>
                  </a:lnTo>
                  <a:lnTo>
                    <a:pt x="22" y="1195"/>
                  </a:lnTo>
                  <a:lnTo>
                    <a:pt x="22" y="1238"/>
                  </a:lnTo>
                  <a:lnTo>
                    <a:pt x="22" y="1282"/>
                  </a:lnTo>
                  <a:lnTo>
                    <a:pt x="22" y="1325"/>
                  </a:lnTo>
                  <a:lnTo>
                    <a:pt x="34" y="1368"/>
                  </a:lnTo>
                  <a:lnTo>
                    <a:pt x="45" y="1411"/>
                  </a:lnTo>
                  <a:lnTo>
                    <a:pt x="67" y="1454"/>
                  </a:lnTo>
                  <a:lnTo>
                    <a:pt x="90" y="1498"/>
                  </a:lnTo>
                  <a:lnTo>
                    <a:pt x="90" y="1541"/>
                  </a:lnTo>
                  <a:lnTo>
                    <a:pt x="90" y="1584"/>
                  </a:lnTo>
                  <a:lnTo>
                    <a:pt x="101" y="1627"/>
                  </a:lnTo>
                  <a:lnTo>
                    <a:pt x="101" y="1670"/>
                  </a:lnTo>
                  <a:lnTo>
                    <a:pt x="101" y="1714"/>
                  </a:lnTo>
                  <a:lnTo>
                    <a:pt x="101" y="1757"/>
                  </a:lnTo>
                  <a:lnTo>
                    <a:pt x="101" y="1800"/>
                  </a:lnTo>
                  <a:lnTo>
                    <a:pt x="101" y="1843"/>
                  </a:lnTo>
                  <a:lnTo>
                    <a:pt x="90" y="1886"/>
                  </a:lnTo>
                  <a:lnTo>
                    <a:pt x="67" y="1930"/>
                  </a:lnTo>
                  <a:lnTo>
                    <a:pt x="56" y="1973"/>
                  </a:lnTo>
                  <a:lnTo>
                    <a:pt x="56" y="2016"/>
                  </a:lnTo>
                  <a:lnTo>
                    <a:pt x="56" y="2059"/>
                  </a:lnTo>
                  <a:lnTo>
                    <a:pt x="56" y="2102"/>
                  </a:lnTo>
                  <a:lnTo>
                    <a:pt x="56" y="2146"/>
                  </a:lnTo>
                  <a:lnTo>
                    <a:pt x="56" y="2189"/>
                  </a:lnTo>
                  <a:lnTo>
                    <a:pt x="67" y="2232"/>
                  </a:lnTo>
                  <a:lnTo>
                    <a:pt x="101" y="2275"/>
                  </a:lnTo>
                  <a:lnTo>
                    <a:pt x="135" y="2304"/>
                  </a:lnTo>
                  <a:lnTo>
                    <a:pt x="169" y="2304"/>
                  </a:lnTo>
                  <a:lnTo>
                    <a:pt x="202" y="2304"/>
                  </a:lnTo>
                  <a:lnTo>
                    <a:pt x="236" y="2290"/>
                  </a:lnTo>
                  <a:lnTo>
                    <a:pt x="281" y="2290"/>
                  </a:lnTo>
                  <a:lnTo>
                    <a:pt x="315" y="2290"/>
                  </a:lnTo>
                  <a:lnTo>
                    <a:pt x="349" y="2290"/>
                  </a:lnTo>
                  <a:lnTo>
                    <a:pt x="382" y="2275"/>
                  </a:lnTo>
                  <a:lnTo>
                    <a:pt x="427" y="2261"/>
                  </a:lnTo>
                  <a:lnTo>
                    <a:pt x="450" y="2218"/>
                  </a:lnTo>
                  <a:lnTo>
                    <a:pt x="461" y="2174"/>
                  </a:lnTo>
                  <a:lnTo>
                    <a:pt x="461" y="2131"/>
                  </a:lnTo>
                  <a:lnTo>
                    <a:pt x="461" y="2088"/>
                  </a:lnTo>
                  <a:lnTo>
                    <a:pt x="461" y="2045"/>
                  </a:lnTo>
                  <a:lnTo>
                    <a:pt x="450" y="2002"/>
                  </a:lnTo>
                  <a:lnTo>
                    <a:pt x="439" y="1958"/>
                  </a:lnTo>
                  <a:lnTo>
                    <a:pt x="439" y="1915"/>
                  </a:lnTo>
                  <a:lnTo>
                    <a:pt x="416" y="1872"/>
                  </a:lnTo>
                  <a:lnTo>
                    <a:pt x="394" y="1829"/>
                  </a:lnTo>
                  <a:lnTo>
                    <a:pt x="382" y="1786"/>
                  </a:lnTo>
                  <a:lnTo>
                    <a:pt x="382" y="1742"/>
                  </a:lnTo>
                  <a:lnTo>
                    <a:pt x="382" y="1699"/>
                  </a:lnTo>
                  <a:lnTo>
                    <a:pt x="382" y="1656"/>
                  </a:lnTo>
                  <a:lnTo>
                    <a:pt x="382" y="1613"/>
                  </a:lnTo>
                  <a:lnTo>
                    <a:pt x="382" y="1570"/>
                  </a:lnTo>
                  <a:lnTo>
                    <a:pt x="382" y="1526"/>
                  </a:lnTo>
                  <a:lnTo>
                    <a:pt x="394" y="1483"/>
                  </a:lnTo>
                  <a:lnTo>
                    <a:pt x="416" y="1440"/>
                  </a:lnTo>
                  <a:lnTo>
                    <a:pt x="427" y="1397"/>
                  </a:lnTo>
                  <a:lnTo>
                    <a:pt x="439" y="1354"/>
                  </a:lnTo>
                  <a:lnTo>
                    <a:pt x="439" y="1310"/>
                  </a:lnTo>
                  <a:lnTo>
                    <a:pt x="439" y="1267"/>
                  </a:lnTo>
                  <a:lnTo>
                    <a:pt x="439" y="1224"/>
                  </a:lnTo>
                  <a:lnTo>
                    <a:pt x="439" y="1181"/>
                  </a:lnTo>
                  <a:lnTo>
                    <a:pt x="439" y="1138"/>
                  </a:lnTo>
                  <a:lnTo>
                    <a:pt x="439" y="1094"/>
                  </a:lnTo>
                  <a:lnTo>
                    <a:pt x="439" y="1051"/>
                  </a:lnTo>
                  <a:lnTo>
                    <a:pt x="439" y="1008"/>
                  </a:lnTo>
                  <a:lnTo>
                    <a:pt x="439" y="965"/>
                  </a:lnTo>
                  <a:lnTo>
                    <a:pt x="439" y="922"/>
                  </a:lnTo>
                  <a:lnTo>
                    <a:pt x="439" y="878"/>
                  </a:lnTo>
                  <a:lnTo>
                    <a:pt x="427" y="835"/>
                  </a:lnTo>
                  <a:lnTo>
                    <a:pt x="416" y="792"/>
                  </a:lnTo>
                  <a:lnTo>
                    <a:pt x="405" y="749"/>
                  </a:lnTo>
                  <a:lnTo>
                    <a:pt x="394" y="706"/>
                  </a:lnTo>
                  <a:lnTo>
                    <a:pt x="371" y="662"/>
                  </a:lnTo>
                  <a:lnTo>
                    <a:pt x="360" y="619"/>
                  </a:lnTo>
                  <a:lnTo>
                    <a:pt x="360" y="576"/>
                  </a:lnTo>
                  <a:lnTo>
                    <a:pt x="360" y="533"/>
                  </a:lnTo>
                  <a:lnTo>
                    <a:pt x="349" y="490"/>
                  </a:lnTo>
                  <a:lnTo>
                    <a:pt x="337" y="446"/>
                  </a:lnTo>
                  <a:lnTo>
                    <a:pt x="337" y="403"/>
                  </a:lnTo>
                  <a:lnTo>
                    <a:pt x="337" y="360"/>
                  </a:lnTo>
                  <a:lnTo>
                    <a:pt x="371" y="331"/>
                  </a:lnTo>
                  <a:lnTo>
                    <a:pt x="371" y="288"/>
                  </a:lnTo>
                  <a:lnTo>
                    <a:pt x="371" y="245"/>
                  </a:lnTo>
                  <a:lnTo>
                    <a:pt x="371" y="202"/>
                  </a:lnTo>
                  <a:lnTo>
                    <a:pt x="371" y="158"/>
                  </a:lnTo>
                  <a:lnTo>
                    <a:pt x="371" y="115"/>
                  </a:lnTo>
                  <a:lnTo>
                    <a:pt x="360" y="72"/>
                  </a:lnTo>
                  <a:lnTo>
                    <a:pt x="326" y="43"/>
                  </a:lnTo>
                  <a:lnTo>
                    <a:pt x="292" y="14"/>
                  </a:lnTo>
                  <a:lnTo>
                    <a:pt x="259" y="14"/>
                  </a:lnTo>
                  <a:lnTo>
                    <a:pt x="225" y="14"/>
                  </a:lnTo>
                  <a:lnTo>
                    <a:pt x="191" y="14"/>
                  </a:lnTo>
                  <a:lnTo>
                    <a:pt x="157" y="14"/>
                  </a:lnTo>
                  <a:lnTo>
                    <a:pt x="124" y="14"/>
                  </a:lnTo>
                  <a:lnTo>
                    <a:pt x="90" y="0"/>
                  </a:lnTo>
                  <a:lnTo>
                    <a:pt x="45" y="0"/>
                  </a:lnTo>
                  <a:lnTo>
                    <a:pt x="11" y="0"/>
                  </a:lnTo>
                  <a:lnTo>
                    <a:pt x="0" y="43"/>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282680" y="1387440"/>
              <a:ext cx="25268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No diameter variation</a:t>
              </a:r>
              <a:endParaRPr b="0" lang="en-US" sz="2800" spc="-1" strike="noStrike">
                <a:solidFill>
                  <a:srgbClr val="000000"/>
                </a:solidFill>
                <a:latin typeface="Times New Roman"/>
              </a:endParaRPr>
            </a:p>
          </p:txBody>
        </p:sp>
        <p:sp>
          <p:nvSpPr>
            <p:cNvPr id="276" name=""/>
            <p:cNvSpPr/>
            <p:nvPr/>
          </p:nvSpPr>
          <p:spPr>
            <a:xfrm>
              <a:off x="4330440" y="1387440"/>
              <a:ext cx="25272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Between fibre variation</a:t>
              </a:r>
              <a:endParaRPr b="0" lang="en-US" sz="2800" spc="-1" strike="noStrike">
                <a:solidFill>
                  <a:srgbClr val="000000"/>
                </a:solidFill>
                <a:latin typeface="Times New Roman"/>
              </a:endParaRPr>
            </a:p>
          </p:txBody>
        </p:sp>
        <p:sp>
          <p:nvSpPr>
            <p:cNvPr id="277" name=""/>
            <p:cNvSpPr/>
            <p:nvPr/>
          </p:nvSpPr>
          <p:spPr>
            <a:xfrm>
              <a:off x="7073640" y="1387440"/>
              <a:ext cx="22222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fffff"/>
                  </a:solidFill>
                  <a:latin typeface="Arial"/>
                </a:rPr>
                <a:t>Along fibre variation</a:t>
              </a:r>
              <a:endParaRPr b="0" lang="en-US" sz="2800" spc="-1" strike="noStrike">
                <a:solidFill>
                  <a:srgbClr val="000000"/>
                </a:solidFill>
                <a:latin typeface="Times New Roman"/>
              </a:endParaRPr>
            </a:p>
          </p:txBody>
        </p:sp>
      </p:grpSp>
      <p:sp>
        <p:nvSpPr>
          <p:cNvPr id="278"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79" name="PlaceHolder 1"/>
          <p:cNvSpPr>
            <a:spLocks noGrp="1"/>
          </p:cNvSpPr>
          <p:nvPr>
            <p:ph type="title"/>
          </p:nvPr>
        </p:nvSpPr>
        <p:spPr>
          <a:xfrm>
            <a:off x="1066320" y="304560"/>
            <a:ext cx="8001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atural Variation:</a:t>
            </a:r>
            <a:br>
              <a:rPr sz="3200"/>
            </a:br>
            <a:r>
              <a:rPr b="1" lang="en-GB" sz="3200" spc="-1" strike="noStrike">
                <a:solidFill>
                  <a:srgbClr val="fafd00"/>
                </a:solidFill>
                <a:latin typeface="Arial"/>
              </a:rPr>
              <a:t>22 micron wool fibres</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81"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ources of Variation</a:t>
            </a:r>
            <a:endParaRPr b="1" lang="en-US" sz="3200" spc="-1" strike="noStrike">
              <a:solidFill>
                <a:srgbClr val="fafd00"/>
              </a:solidFill>
              <a:latin typeface="Arial"/>
            </a:endParaRPr>
          </a:p>
        </p:txBody>
      </p:sp>
      <p:sp>
        <p:nvSpPr>
          <p:cNvPr id="28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aw material</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mpl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s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easurement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perator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abs</a:t>
            </a: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95280" y="1522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the Total Variance?</a:t>
            </a:r>
            <a:endParaRPr b="1" lang="en-US" sz="3200" spc="-1" strike="noStrike">
              <a:solidFill>
                <a:srgbClr val="fafd00"/>
              </a:solidFill>
              <a:latin typeface="Arial"/>
            </a:endParaRPr>
          </a:p>
        </p:txBody>
      </p:sp>
      <p:sp>
        <p:nvSpPr>
          <p:cNvPr id="284" name="PlaceHolder 2"/>
          <p:cNvSpPr>
            <a:spLocks noGrp="1"/>
          </p:cNvSpPr>
          <p:nvPr>
            <p:ph/>
          </p:nvPr>
        </p:nvSpPr>
        <p:spPr>
          <a:xfrm>
            <a:off x="1211040" y="1066680"/>
            <a:ext cx="7475400" cy="5105520"/>
          </a:xfrm>
          <a:prstGeom prst="rect">
            <a:avLst/>
          </a:prstGeom>
          <a:noFill/>
          <a:ln w="0">
            <a:noFill/>
          </a:ln>
        </p:spPr>
        <p:txBody>
          <a:bodyPr lIns="90360" rIns="90360" tIns="44280" bIns="4428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Total Variance = variance per bale + variance per core + variance per test + variance per sample + variance per fibre etc.</a:t>
            </a:r>
            <a:endParaRPr b="1" lang="en-US" sz="2600" spc="-1" strike="noStrike">
              <a:solidFill>
                <a:srgbClr val="ffffff"/>
              </a:solidFill>
              <a:latin typeface="Arial"/>
            </a:endParaRPr>
          </a:p>
          <a:p>
            <a:pPr lvl="1" marL="743040" indent="-28584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sum of the </a:t>
            </a:r>
            <a:r>
              <a:rPr b="1" lang="en-GB" sz="2200" spc="-1" strike="noStrike" u="sng">
                <a:solidFill>
                  <a:srgbClr val="ffffff"/>
                </a:solidFill>
                <a:uFillTx/>
                <a:latin typeface="Arial"/>
              </a:rPr>
              <a:t>fractional variances</a:t>
            </a:r>
            <a:endParaRPr b="1" lang="en-US" sz="2200" spc="-1" strike="noStrike">
              <a:solidFill>
                <a:srgbClr val="ffffff"/>
              </a:solidFill>
              <a:latin typeface="Arial"/>
            </a:endParaRPr>
          </a:p>
          <a:p>
            <a:pPr lvl="1" marL="743040" indent="-28584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pply known values to the formula</a:t>
            </a:r>
            <a:endParaRPr b="1" lang="en-US" sz="22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343080">
              <a:spcBef>
                <a:spcPts val="64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alculate precision</a:t>
            </a:r>
            <a:endParaRPr b="1" lang="en-US" sz="26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CISION = +/- 1.96 X   Total Vari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5% confidence</a:t>
            </a:r>
            <a:endParaRPr b="1" lang="en-US" sz="2400" spc="-1" strike="noStrike">
              <a:solidFill>
                <a:srgbClr val="ffffff"/>
              </a:solidFill>
              <a:latin typeface="Arial"/>
            </a:endParaRPr>
          </a:p>
        </p:txBody>
      </p:sp>
      <p:grpSp>
        <p:nvGrpSpPr>
          <p:cNvPr id="285" name=""/>
          <p:cNvGrpSpPr/>
          <p:nvPr/>
        </p:nvGrpSpPr>
        <p:grpSpPr>
          <a:xfrm>
            <a:off x="5486400" y="4723920"/>
            <a:ext cx="2438280" cy="381600"/>
            <a:chOff x="5486400" y="4723920"/>
            <a:chExt cx="2438280" cy="381600"/>
          </a:xfrm>
        </p:grpSpPr>
        <p:sp>
          <p:nvSpPr>
            <p:cNvPr id="286" name=""/>
            <p:cNvSpPr/>
            <p:nvPr/>
          </p:nvSpPr>
          <p:spPr>
            <a:xfrm>
              <a:off x="5562720" y="4724280"/>
              <a:ext cx="2361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5562720" y="4723920"/>
              <a:ext cx="0" cy="381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486400" y="4876920"/>
              <a:ext cx="76320" cy="2286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7770240" y="6400800"/>
            <a:ext cx="1312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ngus Ireland &amp; </a:t>
            </a:r>
            <a:br>
              <a:rPr sz="1200"/>
            </a:b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54:52Z</dcterms:created>
  <dc:creator>Peter Auer</dc:creator>
  <dc:description/>
  <dc:language>en-US</dc:language>
  <cp:lastModifiedBy>USER</cp:lastModifiedBy>
  <cp:lastPrinted>2000-02-08T02:32:38Z</cp:lastPrinted>
  <dcterms:modified xsi:type="dcterms:W3CDTF">2000-04-16T23:52:29Z</dcterms:modified>
  <cp:revision>11</cp:revision>
  <dc:subject/>
  <dc:title>Sampling Theory</dc:title>
</cp:coreProperties>
</file>