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A3F9-0AB8-426A-8253-889CE2B0B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tests performed on yarns.  This module covers those tests considered important to the understanding of the other modules used in this database.  Standards that are specifically used for wool fabrics are also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0EDE-71D1-4605-AA88-5A2565947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evenness is measured with respect to linear density and can refer to irregular (non-periodic) and regular (periodic) fault.  Periodic faults are of greater concern to fabric quality than is processing performance.  These faults result in unwanted fabric effects such as barre and stripiness.  These faults can be detected by using the Spectrograph analysis function of the Evenness Te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periodic or irregular faults such as slubs and neps will also cause faults in the final fabric.  Neps are small, tight collections of fibres and can cause apparent differential dyeing since they appear lighter in the final fabric.  Slubs are larger collections of fibres.  These irregular faults can all be measured in terms of occurrences per length of yarn by the Uster or similar instruments using capacitance principles.  Filtering is achieved using the sensitivity sett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andom events or non-periodic faults can be caused by residual VM particles and plastic which will dye differently and also mar the fabric appearance. For more information on the measurement of evenness see the “Evenness”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A0B4-410E-45CC-9023-8F30289AE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nsile properties of yarns are of interest in further processing such as weaving.  These can be measur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 of yarns of various tex (linear density) is compared by referring to their tenacity, not just the force required to break them.  Tenacity is the force per unit linear density.  For example, Yarn 1 is stronger than Yarn 2 in terms of the force required to break it, but without knowledge of the linear density of the yarns, the relative tenacities can’t be compa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such as cohesion and fibre strength obviously affect yarn tenacity.  Fibre strength can be controlled by fibre selection to a certain extent, and chemical treatments like dyeing can have a deleterious effect.  Fibre cohesion can be controlled by the level of twist applied to the yarn.  However, too much twist can lower yarn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strength is tested by breaking many lengths of yarn to obtain an estimation of the tenacity and the variation of the tenacity.  In many cases, it is the low values of tenacity which may ultimately affect the performance of the yarn in weaving and kni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evenness, with respect to linear density, is ultimately a measure of variation in the number of fibres in the yarn cross-section, caused by drafting waves or machine defects.  A place in the yarn with few fibres, is a weak spot in the yarn, and this may cause yarn breakage during processing depending on the severity of the linear density ch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faults such as slubs may also lead to yarn breakage during processing, although this may not be a tensile effect, but rather the yarn fault may be caught by guid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strength is more critical in weaving than knitting.  Yarn extensibility (expressed as % elongation at break) can affect things such as the wearability and endurance of fabr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wist level of a yarn may be analysed by taking a pre-determined length of yarn, untwisting it and retwisting it until it returns to its original length.  This is referred to as the untwist-retwist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such a machine is illustrated he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ulk of a yarn will affect how well it covers the space between other yarns in the fabric.  It can also indicate how much space a yarn occupies.  It can also affect fabric handle, however handle is a difficult property to measure in yarn form and is usually assessed by fabric te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RONZ Bulkometer is shown in cross-section.  Yarn doublings are placed in a channel topped with a standard weight.  The volume at a given pressure is measured from a graduated scale on the weight.  This test is used extensively in the carpet indust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F904-CFC4-4020-80EB-6910E84A0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yarn properties are determined to evaluate the behaviour of yarns during subsequent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rasion resistance can predict further processing performance where the yarn is subject to rubbing or similar actions.  The test is usually performed after sizing, whereby the yarns are coated to minimise processing breakage.  For example the Zweigle Staff Tester runs the yarn over itself and the fibre particles collected are weighed to determine abrasion resist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hairiness is a measure of how well the surface fibres are held into the yarn, a hairy yarn will produce a fabric with many protruding surface fibres.  These protruding fibres are usually removed by the finishing process of shearing, however a perfectly formed yarn will exhibit minimal hairiness.  Hairiness is measured optically by light scattered at edges of a yarn passing over the light source.  The amount of scattering is proportional to the hair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 friction can be altered by the addition of waxes to aid weaving and knitting.  The capstan principle is employed to assess the change in yarn frictional properties, eg. Schlafhorst Friction Tes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s listed have been developed specifically for testing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other tests which are used to test wool fabrics but these are not wool specific.  For example tensile and tear tests can be used on any type of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beyond the scope of this database to cover all of these tests.  For further information, contact organisations like International Standards Organisation (ISO), or Standards Australia (S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amp; Fabric Te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arn Evennes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iod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 in fabric appearance faul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rr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ripines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ed by Spectrograph fun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n-periodi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ubs, neps, VM, plastic</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fault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cted by Evenness tester settings</a:t>
            </a:r>
            <a:endParaRPr b="1" lang="en-US" sz="2400" spc="-1" strike="noStrike">
              <a:solidFill>
                <a:srgbClr val="ffffff"/>
              </a:solidFill>
              <a:latin typeface="Arial"/>
            </a:endParaRPr>
          </a:p>
        </p:txBody>
      </p:sp>
      <p:sp>
        <p:nvSpPr>
          <p:cNvPr id="5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nsile Properties</a:t>
            </a:r>
            <a:endParaRPr b="1" lang="en-US" sz="3200" spc="-1" strike="noStrike">
              <a:solidFill>
                <a:srgbClr val="fafd00"/>
              </a:solidFill>
              <a:latin typeface="Arial"/>
            </a:endParaRPr>
          </a:p>
        </p:txBody>
      </p:sp>
      <p:grpSp>
        <p:nvGrpSpPr>
          <p:cNvPr id="53" name=""/>
          <p:cNvGrpSpPr/>
          <p:nvPr/>
        </p:nvGrpSpPr>
        <p:grpSpPr>
          <a:xfrm>
            <a:off x="1447920" y="1143000"/>
            <a:ext cx="7226280" cy="4940280"/>
            <a:chOff x="1447920" y="1143000"/>
            <a:chExt cx="7226280" cy="4940280"/>
          </a:xfrm>
        </p:grpSpPr>
        <p:grpSp>
          <p:nvGrpSpPr>
            <p:cNvPr id="54" name=""/>
            <p:cNvGrpSpPr/>
            <p:nvPr/>
          </p:nvGrpSpPr>
          <p:grpSpPr>
            <a:xfrm>
              <a:off x="1447920" y="1143000"/>
              <a:ext cx="7226280" cy="4940280"/>
              <a:chOff x="1447920" y="1143000"/>
              <a:chExt cx="7226280" cy="4940280"/>
            </a:xfrm>
          </p:grpSpPr>
          <p:grpSp>
            <p:nvGrpSpPr>
              <p:cNvPr id="55" name=""/>
              <p:cNvGrpSpPr/>
              <p:nvPr/>
            </p:nvGrpSpPr>
            <p:grpSpPr>
              <a:xfrm>
                <a:off x="1447920" y="1143000"/>
                <a:ext cx="7226280" cy="4940280"/>
                <a:chOff x="1447920" y="1143000"/>
                <a:chExt cx="7226280" cy="4940280"/>
              </a:xfrm>
            </p:grpSpPr>
            <p:sp>
              <p:nvSpPr>
                <p:cNvPr id="56" name=""/>
                <p:cNvSpPr/>
                <p:nvPr/>
              </p:nvSpPr>
              <p:spPr>
                <a:xfrm>
                  <a:off x="1447920" y="1143000"/>
                  <a:ext cx="7226280" cy="494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1580040" y="1571760"/>
                  <a:ext cx="5385240" cy="4340880"/>
                  <a:chOff x="1580040" y="1571760"/>
                  <a:chExt cx="5385240" cy="4340880"/>
                </a:xfrm>
              </p:grpSpPr>
              <p:sp>
                <p:nvSpPr>
                  <p:cNvPr id="58" name=""/>
                  <p:cNvSpPr/>
                  <p:nvPr/>
                </p:nvSpPr>
                <p:spPr>
                  <a:xfrm>
                    <a:off x="3487320" y="5457960"/>
                    <a:ext cx="3477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NT EXTENSION</a:t>
                    </a:r>
                    <a:endParaRPr b="0" lang="en-US" sz="2400" spc="-1" strike="noStrike">
                      <a:solidFill>
                        <a:srgbClr val="000000"/>
                      </a:solidFill>
                      <a:latin typeface="Times New Roman"/>
                    </a:endParaRPr>
                  </a:p>
                </p:txBody>
              </p:sp>
              <p:sp>
                <p:nvSpPr>
                  <p:cNvPr id="59" name=""/>
                  <p:cNvSpPr/>
                  <p:nvPr/>
                </p:nvSpPr>
                <p:spPr>
                  <a:xfrm>
                    <a:off x="1580040" y="1571760"/>
                    <a:ext cx="104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AD</a:t>
                    </a:r>
                    <a:endParaRPr b="0" lang="en-US" sz="2400" spc="-1" strike="noStrike">
                      <a:solidFill>
                        <a:srgbClr val="000000"/>
                      </a:solidFill>
                      <a:latin typeface="Times New Roman"/>
                    </a:endParaRPr>
                  </a:p>
                </p:txBody>
              </p:sp>
            </p:grpSp>
          </p:grpSp>
          <p:grpSp>
            <p:nvGrpSpPr>
              <p:cNvPr id="60" name=""/>
              <p:cNvGrpSpPr/>
              <p:nvPr/>
            </p:nvGrpSpPr>
            <p:grpSpPr>
              <a:xfrm>
                <a:off x="2514600" y="1725840"/>
                <a:ext cx="4677840" cy="3740040"/>
                <a:chOff x="2514600" y="1725840"/>
                <a:chExt cx="4677840" cy="3740040"/>
              </a:xfrm>
            </p:grpSpPr>
            <p:sp>
              <p:nvSpPr>
                <p:cNvPr id="61" name=""/>
                <p:cNvSpPr/>
                <p:nvPr/>
              </p:nvSpPr>
              <p:spPr>
                <a:xfrm>
                  <a:off x="2667240" y="1725840"/>
                  <a:ext cx="0" cy="3178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92800" y="4929120"/>
                  <a:ext cx="4227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26672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4" name=""/>
                <p:cNvSpPr/>
                <p:nvPr/>
              </p:nvSpPr>
              <p:spPr>
                <a:xfrm flipV="1">
                  <a:off x="33800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flipV="1">
                  <a:off x="40942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6" name=""/>
                <p:cNvSpPr/>
                <p:nvPr/>
              </p:nvSpPr>
              <p:spPr>
                <a:xfrm flipV="1">
                  <a:off x="48056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7" name=""/>
                <p:cNvSpPr/>
                <p:nvPr/>
              </p:nvSpPr>
              <p:spPr>
                <a:xfrm flipV="1">
                  <a:off x="551844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8" name=""/>
                <p:cNvSpPr/>
                <p:nvPr/>
              </p:nvSpPr>
              <p:spPr>
                <a:xfrm flipV="1">
                  <a:off x="62326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V="1">
                  <a:off x="6945480" y="4849920"/>
                  <a:ext cx="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0" name=""/>
                <p:cNvSpPr/>
                <p:nvPr/>
              </p:nvSpPr>
              <p:spPr>
                <a:xfrm>
                  <a:off x="2738520" y="2714760"/>
                  <a:ext cx="2853000" cy="2216160"/>
                </a:xfrm>
                <a:custGeom>
                  <a:avLst/>
                  <a:gdLst/>
                  <a:ahLst/>
                  <a:rect l="l" t="t" r="r" b="b"/>
                  <a:pathLst>
                    <a:path w="1797" h="1396">
                      <a:moveTo>
                        <a:pt x="0" y="1395"/>
                      </a:moveTo>
                      <a:lnTo>
                        <a:pt x="45" y="1232"/>
                      </a:lnTo>
                      <a:lnTo>
                        <a:pt x="90" y="988"/>
                      </a:lnTo>
                      <a:lnTo>
                        <a:pt x="135" y="866"/>
                      </a:lnTo>
                      <a:lnTo>
                        <a:pt x="180" y="784"/>
                      </a:lnTo>
                      <a:lnTo>
                        <a:pt x="225" y="703"/>
                      </a:lnTo>
                      <a:lnTo>
                        <a:pt x="270" y="663"/>
                      </a:lnTo>
                      <a:lnTo>
                        <a:pt x="314" y="622"/>
                      </a:lnTo>
                      <a:lnTo>
                        <a:pt x="359" y="602"/>
                      </a:lnTo>
                      <a:lnTo>
                        <a:pt x="404" y="581"/>
                      </a:lnTo>
                      <a:lnTo>
                        <a:pt x="449" y="561"/>
                      </a:lnTo>
                      <a:lnTo>
                        <a:pt x="494" y="541"/>
                      </a:lnTo>
                      <a:lnTo>
                        <a:pt x="539" y="521"/>
                      </a:lnTo>
                      <a:lnTo>
                        <a:pt x="584" y="500"/>
                      </a:lnTo>
                      <a:lnTo>
                        <a:pt x="629" y="480"/>
                      </a:lnTo>
                      <a:lnTo>
                        <a:pt x="674" y="467"/>
                      </a:lnTo>
                      <a:lnTo>
                        <a:pt x="719" y="455"/>
                      </a:lnTo>
                      <a:lnTo>
                        <a:pt x="764" y="443"/>
                      </a:lnTo>
                      <a:lnTo>
                        <a:pt x="809" y="431"/>
                      </a:lnTo>
                      <a:lnTo>
                        <a:pt x="854" y="418"/>
                      </a:lnTo>
                      <a:lnTo>
                        <a:pt x="899" y="411"/>
                      </a:lnTo>
                      <a:lnTo>
                        <a:pt x="944" y="398"/>
                      </a:lnTo>
                      <a:lnTo>
                        <a:pt x="988" y="382"/>
                      </a:lnTo>
                      <a:lnTo>
                        <a:pt x="1033" y="366"/>
                      </a:lnTo>
                      <a:lnTo>
                        <a:pt x="1078" y="350"/>
                      </a:lnTo>
                      <a:lnTo>
                        <a:pt x="1123" y="329"/>
                      </a:lnTo>
                      <a:lnTo>
                        <a:pt x="1168" y="312"/>
                      </a:lnTo>
                      <a:lnTo>
                        <a:pt x="1213" y="296"/>
                      </a:lnTo>
                      <a:lnTo>
                        <a:pt x="1258" y="276"/>
                      </a:lnTo>
                      <a:lnTo>
                        <a:pt x="1302" y="256"/>
                      </a:lnTo>
                      <a:lnTo>
                        <a:pt x="1347" y="244"/>
                      </a:lnTo>
                      <a:lnTo>
                        <a:pt x="1392" y="227"/>
                      </a:lnTo>
                      <a:lnTo>
                        <a:pt x="1437" y="207"/>
                      </a:lnTo>
                      <a:lnTo>
                        <a:pt x="1482" y="182"/>
                      </a:lnTo>
                      <a:lnTo>
                        <a:pt x="1527" y="154"/>
                      </a:lnTo>
                      <a:lnTo>
                        <a:pt x="1572" y="126"/>
                      </a:lnTo>
                      <a:lnTo>
                        <a:pt x="1617" y="101"/>
                      </a:lnTo>
                      <a:lnTo>
                        <a:pt x="1661" y="76"/>
                      </a:lnTo>
                      <a:lnTo>
                        <a:pt x="1706" y="52"/>
                      </a:lnTo>
                      <a:lnTo>
                        <a:pt x="1751" y="28"/>
                      </a:lnTo>
                      <a:lnTo>
                        <a:pt x="1796"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514600" y="507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2" name=""/>
                <p:cNvSpPr/>
                <p:nvPr/>
              </p:nvSpPr>
              <p:spPr>
                <a:xfrm>
                  <a:off x="31636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3" name=""/>
                <p:cNvSpPr/>
                <p:nvPr/>
              </p:nvSpPr>
              <p:spPr>
                <a:xfrm>
                  <a:off x="38764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74" name=""/>
                <p:cNvSpPr/>
                <p:nvPr/>
              </p:nvSpPr>
              <p:spPr>
                <a:xfrm>
                  <a:off x="45892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30</a:t>
                  </a:r>
                  <a:endParaRPr b="0" lang="en-US" sz="2000" spc="-1" strike="noStrike">
                    <a:solidFill>
                      <a:srgbClr val="000000"/>
                    </a:solidFill>
                    <a:latin typeface="Times New Roman"/>
                  </a:endParaRPr>
                </a:p>
              </p:txBody>
            </p:sp>
            <p:sp>
              <p:nvSpPr>
                <p:cNvPr id="75" name=""/>
                <p:cNvSpPr/>
                <p:nvPr/>
              </p:nvSpPr>
              <p:spPr>
                <a:xfrm>
                  <a:off x="53020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76" name=""/>
                <p:cNvSpPr/>
                <p:nvPr/>
              </p:nvSpPr>
              <p:spPr>
                <a:xfrm>
                  <a:off x="60148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77" name=""/>
                <p:cNvSpPr/>
                <p:nvPr/>
              </p:nvSpPr>
              <p:spPr>
                <a:xfrm>
                  <a:off x="6727680" y="50720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grpSp>
        </p:grpSp>
        <p:sp>
          <p:nvSpPr>
            <p:cNvPr id="78" name=""/>
            <p:cNvSpPr/>
            <p:nvPr/>
          </p:nvSpPr>
          <p:spPr>
            <a:xfrm>
              <a:off x="2732040" y="3416400"/>
              <a:ext cx="2894040" cy="1506240"/>
            </a:xfrm>
            <a:custGeom>
              <a:avLst/>
              <a:gdLst/>
              <a:ahLst/>
              <a:rect l="l" t="t" r="r" b="b"/>
              <a:pathLst>
                <a:path w="2471" h="949">
                  <a:moveTo>
                    <a:pt x="0" y="948"/>
                  </a:moveTo>
                  <a:lnTo>
                    <a:pt x="45" y="826"/>
                  </a:lnTo>
                  <a:lnTo>
                    <a:pt x="90" y="744"/>
                  </a:lnTo>
                  <a:lnTo>
                    <a:pt x="135" y="622"/>
                  </a:lnTo>
                  <a:lnTo>
                    <a:pt x="180" y="582"/>
                  </a:lnTo>
                  <a:lnTo>
                    <a:pt x="225" y="541"/>
                  </a:lnTo>
                  <a:lnTo>
                    <a:pt x="270" y="525"/>
                  </a:lnTo>
                  <a:lnTo>
                    <a:pt x="314" y="512"/>
                  </a:lnTo>
                  <a:lnTo>
                    <a:pt x="359" y="501"/>
                  </a:lnTo>
                  <a:lnTo>
                    <a:pt x="404" y="488"/>
                  </a:lnTo>
                  <a:lnTo>
                    <a:pt x="449" y="476"/>
                  </a:lnTo>
                  <a:lnTo>
                    <a:pt x="494" y="463"/>
                  </a:lnTo>
                  <a:lnTo>
                    <a:pt x="539" y="452"/>
                  </a:lnTo>
                  <a:lnTo>
                    <a:pt x="584" y="440"/>
                  </a:lnTo>
                  <a:lnTo>
                    <a:pt x="629" y="427"/>
                  </a:lnTo>
                  <a:lnTo>
                    <a:pt x="674" y="415"/>
                  </a:lnTo>
                  <a:lnTo>
                    <a:pt x="719" y="402"/>
                  </a:lnTo>
                  <a:lnTo>
                    <a:pt x="764" y="391"/>
                  </a:lnTo>
                  <a:lnTo>
                    <a:pt x="809" y="386"/>
                  </a:lnTo>
                  <a:lnTo>
                    <a:pt x="854" y="382"/>
                  </a:lnTo>
                  <a:lnTo>
                    <a:pt x="899" y="378"/>
                  </a:lnTo>
                  <a:lnTo>
                    <a:pt x="944" y="370"/>
                  </a:lnTo>
                  <a:lnTo>
                    <a:pt x="988" y="366"/>
                  </a:lnTo>
                  <a:lnTo>
                    <a:pt x="1033" y="362"/>
                  </a:lnTo>
                  <a:lnTo>
                    <a:pt x="1078" y="358"/>
                  </a:lnTo>
                  <a:lnTo>
                    <a:pt x="1123" y="350"/>
                  </a:lnTo>
                  <a:lnTo>
                    <a:pt x="1168" y="337"/>
                  </a:lnTo>
                  <a:lnTo>
                    <a:pt x="1213" y="334"/>
                  </a:lnTo>
                  <a:lnTo>
                    <a:pt x="1258" y="326"/>
                  </a:lnTo>
                  <a:lnTo>
                    <a:pt x="1302" y="317"/>
                  </a:lnTo>
                  <a:lnTo>
                    <a:pt x="1347" y="309"/>
                  </a:lnTo>
                  <a:lnTo>
                    <a:pt x="1392" y="301"/>
                  </a:lnTo>
                  <a:lnTo>
                    <a:pt x="1437" y="297"/>
                  </a:lnTo>
                  <a:lnTo>
                    <a:pt x="1482" y="289"/>
                  </a:lnTo>
                  <a:lnTo>
                    <a:pt x="1527" y="281"/>
                  </a:lnTo>
                  <a:lnTo>
                    <a:pt x="1572" y="272"/>
                  </a:lnTo>
                  <a:lnTo>
                    <a:pt x="1617" y="260"/>
                  </a:lnTo>
                  <a:lnTo>
                    <a:pt x="1661" y="248"/>
                  </a:lnTo>
                  <a:lnTo>
                    <a:pt x="1706" y="236"/>
                  </a:lnTo>
                  <a:lnTo>
                    <a:pt x="1751" y="220"/>
                  </a:lnTo>
                  <a:lnTo>
                    <a:pt x="1796" y="211"/>
                  </a:lnTo>
                  <a:lnTo>
                    <a:pt x="1841" y="195"/>
                  </a:lnTo>
                  <a:lnTo>
                    <a:pt x="1886" y="179"/>
                  </a:lnTo>
                  <a:lnTo>
                    <a:pt x="1931" y="166"/>
                  </a:lnTo>
                  <a:lnTo>
                    <a:pt x="1976" y="146"/>
                  </a:lnTo>
                  <a:lnTo>
                    <a:pt x="2021" y="126"/>
                  </a:lnTo>
                  <a:lnTo>
                    <a:pt x="2066" y="110"/>
                  </a:lnTo>
                  <a:lnTo>
                    <a:pt x="2111" y="94"/>
                  </a:lnTo>
                  <a:lnTo>
                    <a:pt x="2156" y="77"/>
                  </a:lnTo>
                  <a:lnTo>
                    <a:pt x="2201" y="65"/>
                  </a:lnTo>
                  <a:lnTo>
                    <a:pt x="2246" y="49"/>
                  </a:lnTo>
                  <a:lnTo>
                    <a:pt x="2291" y="33"/>
                  </a:lnTo>
                  <a:lnTo>
                    <a:pt x="2335" y="16"/>
                  </a:lnTo>
                  <a:lnTo>
                    <a:pt x="2380" y="8"/>
                  </a:lnTo>
                  <a:lnTo>
                    <a:pt x="2425" y="4"/>
                  </a:lnTo>
                  <a:lnTo>
                    <a:pt x="2470" y="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88360" y="24098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arn 1</a:t>
              </a:r>
              <a:endParaRPr b="0" lang="en-US" sz="1600" spc="-1" strike="noStrike">
                <a:solidFill>
                  <a:srgbClr val="000000"/>
                </a:solidFill>
                <a:latin typeface="Times New Roman"/>
              </a:endParaRPr>
            </a:p>
          </p:txBody>
        </p:sp>
        <p:sp>
          <p:nvSpPr>
            <p:cNvPr id="80" name=""/>
            <p:cNvSpPr/>
            <p:nvPr/>
          </p:nvSpPr>
          <p:spPr>
            <a:xfrm>
              <a:off x="5704200" y="315576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Yarn 2</a:t>
              </a:r>
              <a:endParaRPr b="0" lang="en-US" sz="1600" spc="-1" strike="noStrike">
                <a:solidFill>
                  <a:srgbClr val="000000"/>
                </a:solidFill>
                <a:latin typeface="Times New Roman"/>
              </a:endParaRPr>
            </a:p>
          </p:txBody>
        </p:sp>
      </p:grpSp>
      <p:sp>
        <p:nvSpPr>
          <p:cNvPr id="8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ist Level</a:t>
            </a:r>
            <a:endParaRPr b="1" lang="en-US" sz="3200" spc="-1" strike="noStrike">
              <a:solidFill>
                <a:srgbClr val="fafd00"/>
              </a:solidFill>
              <a:latin typeface="Arial"/>
            </a:endParaRPr>
          </a:p>
        </p:txBody>
      </p:sp>
      <p:pic>
        <p:nvPicPr>
          <p:cNvPr id="83" name="Twstest2" descr=""/>
          <p:cNvPicPr/>
          <p:nvPr/>
        </p:nvPicPr>
        <p:blipFill>
          <a:blip r:embed="rId1">
            <a:lum contrast="6000"/>
          </a:blip>
          <a:srcRect l="0" t="1979" r="2724" b="0"/>
          <a:stretch/>
        </p:blipFill>
        <p:spPr>
          <a:xfrm>
            <a:off x="1219320" y="1905120"/>
            <a:ext cx="7772400" cy="3795480"/>
          </a:xfrm>
          <a:prstGeom prst="rect">
            <a:avLst/>
          </a:prstGeom>
          <a:ln w="0">
            <a:noFill/>
          </a:ln>
        </p:spPr>
      </p:pic>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twist / retwist method</a:t>
            </a:r>
            <a:endParaRPr b="1" lang="en-US" sz="2800" spc="-1" strike="noStrike">
              <a:solidFill>
                <a:srgbClr val="ffffff"/>
              </a:solidFill>
              <a:latin typeface="Arial"/>
            </a:endParaRPr>
          </a:p>
        </p:txBody>
      </p:sp>
      <p:sp>
        <p:nvSpPr>
          <p:cNvPr id="8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635120" y="3206880"/>
            <a:ext cx="168120" cy="204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768760" y="3206880"/>
            <a:ext cx="168120" cy="2044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16200" y="2749680"/>
            <a:ext cx="939600" cy="214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2000" y="1530360"/>
            <a:ext cx="108000" cy="1206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49440" y="2195640"/>
            <a:ext cx="3418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feb9"/>
                </a:solidFill>
                <a:latin typeface="Arial"/>
              </a:rPr>
              <a:t>Finite downward force</a:t>
            </a:r>
            <a:endParaRPr b="0" lang="en-US" sz="2400" spc="-1" strike="noStrike">
              <a:solidFill>
                <a:srgbClr val="000000"/>
              </a:solidFill>
              <a:latin typeface="Times New Roman"/>
            </a:endParaRPr>
          </a:p>
        </p:txBody>
      </p:sp>
      <p:sp>
        <p:nvSpPr>
          <p:cNvPr id="91" name=""/>
          <p:cNvSpPr/>
          <p:nvPr/>
        </p:nvSpPr>
        <p:spPr>
          <a:xfrm>
            <a:off x="4251600" y="4100400"/>
            <a:ext cx="3011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cfeb9"/>
                </a:solidFill>
                <a:latin typeface="Arial"/>
              </a:rPr>
              <a:t>Final volume varies</a:t>
            </a:r>
            <a:endParaRPr b="0" lang="en-US" sz="2400" spc="-1" strike="noStrike">
              <a:solidFill>
                <a:srgbClr val="000000"/>
              </a:solidFill>
              <a:latin typeface="Times New Roman"/>
            </a:endParaRPr>
          </a:p>
        </p:txBody>
      </p:sp>
      <p:sp>
        <p:nvSpPr>
          <p:cNvPr id="92" name=""/>
          <p:cNvSpPr/>
          <p:nvPr/>
        </p:nvSpPr>
        <p:spPr>
          <a:xfrm flipH="1">
            <a:off x="2889000" y="2444760"/>
            <a:ext cx="1384200" cy="29196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584440" y="4343400"/>
            <a:ext cx="1612800" cy="0"/>
          </a:xfrm>
          <a:prstGeom prst="line">
            <a:avLst/>
          </a:prstGeom>
          <a:ln w="12600">
            <a:solidFill>
              <a:srgbClr val="fcfeb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29560" y="5776920"/>
            <a:ext cx="6248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utput:</a:t>
            </a:r>
            <a:r>
              <a:rPr b="1" lang="en-US" sz="2400" spc="-1" strike="noStrike">
                <a:solidFill>
                  <a:srgbClr val="fafd00"/>
                </a:solidFill>
                <a:latin typeface="Arial"/>
              </a:rPr>
              <a:t>  </a:t>
            </a:r>
            <a:r>
              <a:rPr b="1" lang="en-US" sz="2400" spc="-1" strike="noStrike">
                <a:solidFill>
                  <a:srgbClr val="fcfeb9"/>
                </a:solidFill>
                <a:latin typeface="Arial"/>
              </a:rPr>
              <a:t>Volume at given pressure (1 kPa)</a:t>
            </a:r>
            <a:endParaRPr b="0" lang="en-US" sz="2400" spc="-1" strike="noStrike">
              <a:solidFill>
                <a:srgbClr val="000000"/>
              </a:solidFill>
              <a:latin typeface="Times New Roman"/>
            </a:endParaRPr>
          </a:p>
        </p:txBody>
      </p:sp>
      <p:sp>
        <p:nvSpPr>
          <p:cNvPr id="95" name=""/>
          <p:cNvSpPr/>
          <p:nvPr/>
        </p:nvSpPr>
        <p:spPr>
          <a:xfrm>
            <a:off x="1758960" y="5257800"/>
            <a:ext cx="1054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Yarn Bulk</a:t>
            </a:r>
            <a:endParaRPr b="0" lang="en-US" sz="3200" spc="-1" strike="noStrike">
              <a:solidFill>
                <a:srgbClr val="000000"/>
              </a:solidFill>
              <a:latin typeface="Times New Roman"/>
            </a:endParaRPr>
          </a:p>
        </p:txBody>
      </p:sp>
      <p:sp>
        <p:nvSpPr>
          <p:cNvPr id="9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 </a:t>
            </a:r>
            <a:endParaRPr b="1" lang="en-US" sz="3200" spc="-1" strike="noStrike">
              <a:solidFill>
                <a:srgbClr val="fafd00"/>
              </a:solidFill>
              <a:latin typeface="Arial"/>
            </a:endParaRPr>
          </a:p>
        </p:txBody>
      </p:sp>
      <p:grpSp>
        <p:nvGrpSpPr>
          <p:cNvPr id="98" name=""/>
          <p:cNvGrpSpPr/>
          <p:nvPr/>
        </p:nvGrpSpPr>
        <p:grpSpPr>
          <a:xfrm>
            <a:off x="1828800" y="5105520"/>
            <a:ext cx="914400" cy="152280"/>
            <a:chOff x="1828800" y="5105520"/>
            <a:chExt cx="914400" cy="152280"/>
          </a:xfrm>
        </p:grpSpPr>
        <p:sp>
          <p:nvSpPr>
            <p:cNvPr id="99" name=""/>
            <p:cNvSpPr/>
            <p:nvPr/>
          </p:nvSpPr>
          <p:spPr>
            <a:xfrm>
              <a:off x="18288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981080" y="5105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37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8600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38280" y="5105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905120" y="4952880"/>
            <a:ext cx="914400" cy="152280"/>
            <a:chOff x="1905120" y="4952880"/>
            <a:chExt cx="914400" cy="152280"/>
          </a:xfrm>
        </p:grpSpPr>
        <p:sp>
          <p:nvSpPr>
            <p:cNvPr id="106" name=""/>
            <p:cNvSpPr/>
            <p:nvPr/>
          </p:nvSpPr>
          <p:spPr>
            <a:xfrm>
              <a:off x="190512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057400" y="49528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1004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36232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14600" y="49528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67240" y="4952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1828800" y="4800600"/>
            <a:ext cx="914400" cy="152280"/>
            <a:chOff x="1828800" y="4800600"/>
            <a:chExt cx="914400" cy="152280"/>
          </a:xfrm>
        </p:grpSpPr>
        <p:sp>
          <p:nvSpPr>
            <p:cNvPr id="113" name=""/>
            <p:cNvSpPr/>
            <p:nvPr/>
          </p:nvSpPr>
          <p:spPr>
            <a:xfrm>
              <a:off x="18288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81080" y="4800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1337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38280" y="4800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90920" y="4800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1905120" y="4648320"/>
            <a:ext cx="914400" cy="152280"/>
            <a:chOff x="1905120" y="4648320"/>
            <a:chExt cx="914400" cy="152280"/>
          </a:xfrm>
        </p:grpSpPr>
        <p:sp>
          <p:nvSpPr>
            <p:cNvPr id="120" name=""/>
            <p:cNvSpPr/>
            <p:nvPr/>
          </p:nvSpPr>
          <p:spPr>
            <a:xfrm>
              <a:off x="190512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057400" y="4648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21004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232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514600" y="4648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67240" y="4648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828800" y="4495680"/>
            <a:ext cx="914400" cy="152280"/>
            <a:chOff x="1828800" y="4495680"/>
            <a:chExt cx="914400" cy="152280"/>
          </a:xfrm>
        </p:grpSpPr>
        <p:sp>
          <p:nvSpPr>
            <p:cNvPr id="127" name=""/>
            <p:cNvSpPr/>
            <p:nvPr/>
          </p:nvSpPr>
          <p:spPr>
            <a:xfrm>
              <a:off x="182880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981080" y="44956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13372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438280" y="449568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90920" y="4495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ther Yarn Properties</a:t>
            </a:r>
            <a:endParaRPr b="1" lang="en-US" sz="3200" spc="-1" strike="noStrike">
              <a:solidFill>
                <a:srgbClr val="fafd00"/>
              </a:solidFill>
              <a:latin typeface="Arial"/>
            </a:endParaRPr>
          </a:p>
        </p:txBody>
      </p:sp>
      <p:sp>
        <p:nvSpPr>
          <p:cNvPr id="135"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rasion Resista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etitive rubbing devic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irine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cal senso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pstan principle</a:t>
            </a:r>
            <a:endParaRPr b="1" lang="en-US" sz="2400" spc="-1" strike="noStrike">
              <a:solidFill>
                <a:srgbClr val="ffffff"/>
              </a:solidFill>
              <a:latin typeface="Arial"/>
            </a:endParaRPr>
          </a:p>
        </p:txBody>
      </p:sp>
      <p:sp>
        <p:nvSpPr>
          <p:cNvPr id="13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bric Testing</a:t>
            </a:r>
            <a:endParaRPr b="1" lang="en-US" sz="3200" spc="-1" strike="noStrike">
              <a:solidFill>
                <a:srgbClr val="fafd00"/>
              </a:solidFill>
              <a:latin typeface="Arial"/>
            </a:endParaRPr>
          </a:p>
        </p:txBody>
      </p:sp>
      <p:sp>
        <p:nvSpPr>
          <p:cNvPr id="138"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rimp of Yarn from Fabr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bric Weight</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abric Set</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mensional Stability</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rface Finish</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rease Retention</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mability</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eetle Resistanc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th Resistance</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sil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brasion Resistanc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illing</a:t>
            </a:r>
            <a:r>
              <a:rPr b="1" lang="en-AU" sz="1800" spc="-1" strike="noStrike">
                <a:solidFill>
                  <a:srgbClr val="ffffff"/>
                </a:solidFill>
                <a:latin typeface="Arial"/>
              </a:rPr>
              <a:t> </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p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andle</a:t>
            </a:r>
            <a:endParaRPr b="1" lang="en-US" sz="1800" spc="-1" strike="noStrike">
              <a:solidFill>
                <a:srgbClr val="ffffff"/>
              </a:solidFill>
              <a:latin typeface="Arial"/>
            </a:endParaRPr>
          </a:p>
        </p:txBody>
      </p:sp>
      <p:sp>
        <p:nvSpPr>
          <p:cNvPr id="139"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37-86(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22-82(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39-87(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50-94(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WTO-51-94(E)</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36-97</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49-93</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14-97</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RAFT TM-9-97</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34308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ot wool specific</a:t>
            </a:r>
            <a:endParaRPr b="1"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48:27Z</dcterms:created>
  <dc:creator>USER</dc:creator>
  <dc:description/>
  <dc:language>en-US</dc:language>
  <cp:lastModifiedBy>USER</cp:lastModifiedBy>
  <cp:lastPrinted>2000-02-03T09:09:47Z</cp:lastPrinted>
  <dcterms:modified xsi:type="dcterms:W3CDTF">2000-04-17T00:34:33Z</dcterms:modified>
  <cp:revision>4</cp:revision>
  <dc:subject/>
  <dc:title>Yarn &amp; Fabric Testing</dc:title>
</cp:coreProperties>
</file>