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5A1C-9B89-4B14-BC62-0597EDCD5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24A6-4792-4CC5-A551-9B371B84C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regain and its measurement is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oven-dry weight avoids the effect of the moisture content of wool during the determination of Wool Base (WB) and Vegetable Matter Base (VMB), which are then used in the derivation of Yield fig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BCBA-C8E7-4013-8F10-07349B233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in is defined as the amount of water in the wool expressed as a percentage of the oven-dry mass of the fibr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ain of wool is influenced by the relative humidity of the ambient atmosphere since the wool fibre is hygroscopic and absorbs water from the atmosp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the previous history of the wool will influence its weight, and stringent conditioning of wool samples is necessary to standardise the regain of wool samples befor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o simplify measurement conditions, all yield, WB and VMB determinations are made on figures derived for the oven-dry weight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easier and more accurate way of doing things, and the final figures are adjusted for standard regains to determine the invoice mass (sold mass) of the fibre.  The amount of these standard regains depends on the market for the fibre.  For further information see the “Yield”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AAD0-D61C-4087-9915-48A8D354C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p:nvPr/>
        </p:nvSpPr>
        <p:spPr>
          <a:xfrm>
            <a:off x="1066680" y="4487760"/>
            <a:ext cx="5029200" cy="384984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and Hearle (1962) “Physical Properties of Textile Fibres” Butterworth &amp; Co. Ltd.,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how the regain of wool is affected by the relative humidity of the atmosphere.  If there is more moisture in the atmosphere there will be more moisture in the wool.  The behaviour of other textile fibres is also graphed for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can absorb up to 40% of its dry weight without feeling wet, the water is actually retained in the non-crystalline or amorphous regions of the wool micro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water molecules bond to the protein structure by hydrogen bonding (one molecule per site).  Then more water molecules bond to these absorbed molecules (one molecule per absorbed molecule).  Finally, loosely attached water molecules with no restrictions on numbers, bond to the intermediate molecules.  This explains the shape of the observed cur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moisture absorption can be observed in changes in such properties as rigidity (internal H-bonding disturbed), electrical resistance and fibre dimensions (length and diameter).  These changes in moisture content can be reflected in changed textile performance (e.g. hygral expansion of fabric causing seam pucker in su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bsorbed water is able to be removed by the action of heat and air-flow to determine the oven-dry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during processing the regain of wool fibres is controlled ABOVE certain limits to ameliorate static electr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12FF-FF96-47DB-AF1E-11138450B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llustration of how the conditioned weight (C) can be derived from the oven-dry weight (D) and any standard regain (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actor [1 + (R%/100)] can be seen in any derivation for yield where a standard regain is used.  It appears as 100 + R since yield is a percentage fig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3D72-2E40-4E34-8B83-AF3CCA79B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The Direct Reading Regain Tester manual</a:t>
            </a:r>
            <a:r>
              <a:rPr b="0" lang="en-US" sz="1200" spc="-1" strike="noStrike">
                <a:solidFill>
                  <a:srgbClr val="000000"/>
                </a:solidFill>
                <a:latin typeface="Times New Roman"/>
              </a:rPr>
              <a:t>, National Instrument Co. Pty. Ltd., Jan. 19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machine that has been used extensively to measure the regain of wool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Reading Regain Tester (DRRT) is in three part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rst part is a can which holds the wool during weighing and drying.  The can has a mesh bottom to allow hot air to be blown through the wool sam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ond part is a weighing apparatus which returns a reading for Regain when the sealed can of wool is first weighed on it and then dried in the third part before being weighed agai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ird part is a drying device which forces hot air through the wool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able reading is obtained when the weighing part returns a steady fig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RT has been accepted as the industry standard for many years, despite the development of other methods using conductivity and resistance principles during that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Near Infra-Red Sensing is the latest development in the monitoring of the moisture content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principle is that Near IR energy is absorbed by the water molecules present which causes “stretching” vibrations of the O-H bonds in the molecule.  The signal caused by this event can be measured and is proportional to amount of water present.  Therefore, this method is a direct measurement of the moisture content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struments need to be calibrated using a calibration equation, but the technique is not sensitive to the effects caused by the chemical processing history of the wool, namely shrink-proofing.  These effects influence the results obtained using conductivity and resistance measurement techniq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velopment has been applied to at-line testing of scour output.  It has been included as part of the equipment of the latest ANDAR sc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que is faster and uses less wool than the DRRT method.  However, a knowledge of NIRS equipment is necessary since routine monitoring and maintenance of the calibration is required, </a:t>
            </a:r>
            <a:r>
              <a:rPr b="0" lang="en-AU" sz="1200" spc="-1" strike="noStrike">
                <a:solidFill>
                  <a:srgbClr val="000000"/>
                </a:solidFill>
                <a:latin typeface="Times New Roman"/>
              </a:rPr>
              <a:t>necessitating</a:t>
            </a:r>
            <a:r>
              <a:rPr b="0" lang="en-AU" sz="1200" spc="-1" strike="noStrike">
                <a:solidFill>
                  <a:srgbClr val="000000"/>
                </a:solidFill>
                <a:latin typeface="Times New Roman"/>
              </a:rPr>
              <a:t> perhaps a greater level of operator trai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standards use the concept of oven-dry mass in their determinations of various wool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ach case the wool samples must be dried to a constant weight at elevated temperatures to determine the oven-dry weight (using the DR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atter two cases, the invoice mass can be adjusted to various standard regains once the oven-dry mass is determ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amp; Oven-dry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ain = wt. of moisture    x 1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oven-dry weigh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ield, WB, VM 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n-dry weigh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voice Ma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regains applied</a:t>
            </a:r>
            <a:endParaRPr b="1" lang="en-US" sz="2400" spc="-1" strike="noStrike">
              <a:solidFill>
                <a:srgbClr val="ffffff"/>
              </a:solidFill>
              <a:latin typeface="Arial"/>
            </a:endParaRPr>
          </a:p>
        </p:txBody>
      </p:sp>
      <p:sp>
        <p:nvSpPr>
          <p:cNvPr id="50" name=""/>
          <p:cNvSpPr/>
          <p:nvPr/>
        </p:nvSpPr>
        <p:spPr>
          <a:xfrm>
            <a:off x="3048120" y="190512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s</a:t>
            </a:r>
            <a:endParaRPr b="1" lang="en-US" sz="3200" spc="-1" strike="noStrike">
              <a:solidFill>
                <a:srgbClr val="fafd00"/>
              </a:solidFill>
              <a:latin typeface="Arial"/>
            </a:endParaRPr>
          </a:p>
        </p:txBody>
      </p:sp>
      <p:sp>
        <p:nvSpPr>
          <p:cNvPr id="5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295280" y="1066680"/>
            <a:ext cx="7315200" cy="4648320"/>
            <a:chOff x="1295280" y="1066680"/>
            <a:chExt cx="7315200" cy="4648320"/>
          </a:xfrm>
        </p:grpSpPr>
        <p:pic>
          <p:nvPicPr>
            <p:cNvPr id="54" name="" descr=""/>
            <p:cNvPicPr/>
            <p:nvPr/>
          </p:nvPicPr>
          <p:blipFill>
            <a:blip r:embed="rId1"/>
            <a:stretch/>
          </p:blipFill>
          <p:spPr>
            <a:xfrm>
              <a:off x="1295280" y="1066680"/>
              <a:ext cx="7315200" cy="4648320"/>
            </a:xfrm>
            <a:prstGeom prst="rect">
              <a:avLst/>
            </a:prstGeom>
            <a:ln w="0">
              <a:noFill/>
            </a:ln>
          </p:spPr>
        </p:pic>
        <p:sp>
          <p:nvSpPr>
            <p:cNvPr id="55" name=""/>
            <p:cNvSpPr/>
            <p:nvPr/>
          </p:nvSpPr>
          <p:spPr>
            <a:xfrm flipV="1">
              <a:off x="333792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51404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752440" y="108612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692820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11400" y="458928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11400" y="390420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11400" y="321984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11400" y="253476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11400" y="184968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6629400" y="640080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Morton and Hearle (1962)</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vs. Humidit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371600" y="1523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ain (R%) = wt. of moisture (M) 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ven-dry weight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  =    R%    x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ditioned Weight (C)  = D  +     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D  +     R%   x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 = D ( 1 +  R%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   </a:t>
            </a:r>
            <a:endParaRPr b="1" lang="en-US" sz="2400" spc="-1" strike="noStrike">
              <a:solidFill>
                <a:srgbClr val="ffffff"/>
              </a:solidFill>
              <a:latin typeface="Arial"/>
            </a:endParaRPr>
          </a:p>
        </p:txBody>
      </p:sp>
      <p:grpSp>
        <p:nvGrpSpPr>
          <p:cNvPr id="67" name=""/>
          <p:cNvGrpSpPr/>
          <p:nvPr/>
        </p:nvGrpSpPr>
        <p:grpSpPr>
          <a:xfrm>
            <a:off x="2362320" y="1981080"/>
            <a:ext cx="4495680" cy="3048120"/>
            <a:chOff x="2362320" y="1981080"/>
            <a:chExt cx="4495680" cy="3048120"/>
          </a:xfrm>
        </p:grpSpPr>
        <p:sp>
          <p:nvSpPr>
            <p:cNvPr id="68" name=""/>
            <p:cNvSpPr/>
            <p:nvPr/>
          </p:nvSpPr>
          <p:spPr>
            <a:xfrm>
              <a:off x="6110280" y="4191120"/>
              <a:ext cx="67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24480" y="50292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81280" y="1981080"/>
              <a:ext cx="274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62320" y="28195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ation of Conditioned Weigh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 Reading Regain Tester</a:t>
            </a:r>
            <a:endParaRPr b="1" lang="en-US" sz="3200" spc="-1" strike="noStrike">
              <a:solidFill>
                <a:srgbClr val="fafd00"/>
              </a:solidFill>
              <a:latin typeface="Arial"/>
            </a:endParaRPr>
          </a:p>
        </p:txBody>
      </p:sp>
      <p:sp>
        <p:nvSpPr>
          <p:cNvPr id="75" name=""/>
          <p:cNvSpPr/>
          <p:nvPr/>
        </p:nvSpPr>
        <p:spPr>
          <a:xfrm>
            <a:off x="5472360" y="6400800"/>
            <a:ext cx="368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Direct Reading Regain Tester’ manual</a:t>
            </a:r>
            <a:endParaRPr b="0" lang="en-US" sz="1200" spc="-1" strike="noStrike">
              <a:solidFill>
                <a:srgbClr val="000000"/>
              </a:solidFill>
              <a:latin typeface="Times New Roman"/>
            </a:endParaRPr>
          </a:p>
        </p:txBody>
      </p:sp>
      <p:grpSp>
        <p:nvGrpSpPr>
          <p:cNvPr id="76" name=""/>
          <p:cNvGrpSpPr/>
          <p:nvPr/>
        </p:nvGrpSpPr>
        <p:grpSpPr>
          <a:xfrm>
            <a:off x="1268280" y="765000"/>
            <a:ext cx="7877160" cy="5330880"/>
            <a:chOff x="1268280" y="765000"/>
            <a:chExt cx="7877160" cy="5330880"/>
          </a:xfrm>
        </p:grpSpPr>
        <p:pic>
          <p:nvPicPr>
            <p:cNvPr id="77" name="REGAIN1" descr=""/>
            <p:cNvPicPr/>
            <p:nvPr/>
          </p:nvPicPr>
          <p:blipFill>
            <a:blip r:embed="rId1"/>
            <a:stretch/>
          </p:blipFill>
          <p:spPr>
            <a:xfrm>
              <a:off x="1268280" y="1146240"/>
              <a:ext cx="3548160" cy="4949640"/>
            </a:xfrm>
            <a:prstGeom prst="rect">
              <a:avLst/>
            </a:prstGeom>
            <a:ln w="0">
              <a:noFill/>
            </a:ln>
          </p:spPr>
        </p:pic>
        <p:pic>
          <p:nvPicPr>
            <p:cNvPr id="78" name="REGAIN2" descr=""/>
            <p:cNvPicPr/>
            <p:nvPr/>
          </p:nvPicPr>
          <p:blipFill>
            <a:blip r:embed="rId2"/>
            <a:stretch/>
          </p:blipFill>
          <p:spPr>
            <a:xfrm>
              <a:off x="5230800" y="1222200"/>
              <a:ext cx="3398760" cy="4345200"/>
            </a:xfrm>
            <a:prstGeom prst="rect">
              <a:avLst/>
            </a:prstGeom>
            <a:ln w="0">
              <a:noFill/>
            </a:ln>
          </p:spPr>
        </p:pic>
        <p:sp>
          <p:nvSpPr>
            <p:cNvPr id="79" name=""/>
            <p:cNvSpPr/>
            <p:nvPr/>
          </p:nvSpPr>
          <p:spPr>
            <a:xfrm>
              <a:off x="1425960" y="76500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Weighing apparatus</a:t>
              </a:r>
              <a:endParaRPr b="0" lang="en-US" sz="2400" spc="-1" strike="noStrike">
                <a:solidFill>
                  <a:srgbClr val="000000"/>
                </a:solidFill>
                <a:latin typeface="Times New Roman"/>
              </a:endParaRPr>
            </a:p>
          </p:txBody>
        </p:sp>
        <p:sp>
          <p:nvSpPr>
            <p:cNvPr id="80" name=""/>
            <p:cNvSpPr/>
            <p:nvPr/>
          </p:nvSpPr>
          <p:spPr>
            <a:xfrm>
              <a:off x="4848480" y="8413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an containing wool sample</a:t>
              </a:r>
              <a:endParaRPr b="0" lang="en-US" sz="2400" spc="-1" strike="noStrike">
                <a:solidFill>
                  <a:srgbClr val="000000"/>
                </a:solidFill>
                <a:latin typeface="Times New Roman"/>
              </a:endParaRPr>
            </a:p>
          </p:txBody>
        </p:sp>
        <p:sp>
          <p:nvSpPr>
            <p:cNvPr id="81" name=""/>
            <p:cNvSpPr/>
            <p:nvPr/>
          </p:nvSpPr>
          <p:spPr>
            <a:xfrm>
              <a:off x="7920000" y="4422600"/>
              <a:ext cx="112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Dryer</a:t>
              </a:r>
              <a:endParaRPr b="0" lang="en-US" sz="2400" spc="-1" strike="noStrike">
                <a:solidFill>
                  <a:srgbClr val="000000"/>
                </a:solidFill>
                <a:latin typeface="Times New Roman"/>
              </a:endParaRPr>
            </a:p>
          </p:txBody>
        </p:sp>
        <p:sp>
          <p:nvSpPr>
            <p:cNvPr id="82" name=""/>
            <p:cNvSpPr/>
            <p:nvPr/>
          </p:nvSpPr>
          <p:spPr>
            <a:xfrm flipH="1">
              <a:off x="3706920" y="1298520"/>
              <a:ext cx="1752480" cy="13716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83080" y="1298520"/>
              <a:ext cx="990720" cy="6094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test Devlopments</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ar Infra-Red Sens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nci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ar IR energy absorb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H “stretch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 proportional to moisture cont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libration requir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li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technolo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line sens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TWO-19-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nd vegetable matter base of core samples of raw woo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33-8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for the determination of oven-dry mass &amp; calculated invoice mass of scoured or carbonised woo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34-8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oven-dry mass, calculated invoice mass &amp; calculated merchant mass of wool top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12:33Z</dcterms:created>
  <dc:creator>USER</dc:creator>
  <dc:description/>
  <dc:language>en-US</dc:language>
  <cp:lastModifiedBy>USER</cp:lastModifiedBy>
  <cp:lastPrinted>2000-02-03T09:09:47Z</cp:lastPrinted>
  <dcterms:modified xsi:type="dcterms:W3CDTF">2000-04-16T23:48:35Z</dcterms:modified>
  <cp:revision>4</cp:revision>
  <dc:subject/>
  <dc:title>Regain &amp; Oven-dry Weight</dc:title>
</cp:coreProperties>
</file>