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58BD-816B-44A5-8065-14E018ECD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562040" y="533520"/>
            <a:ext cx="3657600" cy="2743200"/>
          </a:xfrm>
          <a:prstGeom prst="rect">
            <a:avLst/>
          </a:prstGeom>
          <a:ln w="0">
            <a:noFill/>
          </a:ln>
        </p:spPr>
      </p:sp>
      <p:sp>
        <p:nvSpPr>
          <p:cNvPr id="10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the concept of fibre curvature.  Items such as the definition of curvature, the measurement of curvature and its importance to the wool industry are cover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aul Swan,  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562040" y="533520"/>
            <a:ext cx="3657600" cy="2743200"/>
          </a:xfrm>
          <a:prstGeom prst="rect">
            <a:avLst/>
          </a:prstGeom>
          <a:ln w="0">
            <a:noFill/>
          </a:ln>
        </p:spPr>
      </p:sp>
      <p:sp>
        <p:nvSpPr>
          <p:cNvPr id="10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fibres vary in their crimp characteristics in several ways; along their length, between fibres, and between age groups (e.g. lambs wool versus adult wool).  As a result, when one looks at wool fibres under a microscope, variation in the degree of curvature always appears.  This can be quantified, in the same way we quantify the spread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in this slide shows a microscopic view of 0.5 mm fibre snippets on a glass slide (at around 30 times magnification).  These snippets were produced from a 22 micron woollen-spun yarn, by chopping the yarn in a guillotine.  Clearly visible is a wide range of curvature of the individual snippets.  This is no surprise given the different wools that would have been  blended to produce this yar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562040" y="533520"/>
            <a:ext cx="3657600" cy="2743200"/>
          </a:xfrm>
          <a:prstGeom prst="rect">
            <a:avLst/>
          </a:prstGeom>
          <a:ln w="0">
            <a:noFill/>
          </a:ln>
        </p:spPr>
      </p:sp>
      <p:sp>
        <p:nvSpPr>
          <p:cNvPr id="10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system automatically measures the distribution (or histogram) of fibre curvature, and produces a standardised measurement of the spread of curvature, called the </a:t>
            </a:r>
            <a:r>
              <a:rPr b="0" i="1" lang="en-GB" sz="1200" spc="-1" strike="noStrike">
                <a:solidFill>
                  <a:srgbClr val="000000"/>
                </a:solidFill>
                <a:latin typeface="Times New Roman"/>
              </a:rPr>
              <a:t>standard deviation</a:t>
            </a:r>
            <a:r>
              <a:rPr b="0" lang="en-GB" sz="1200" spc="-1" strike="noStrike">
                <a:solidFill>
                  <a:srgbClr val="000000"/>
                </a:solidFill>
                <a:latin typeface="Times New Roman"/>
              </a:rPr>
              <a:t>.  What this means is how spread out the histogram is – the higher the standard deviation, the broader the sprea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ve is an example of an OFDA curvature histogram.  According to the OFDA programming, the standard deviation equals the distance one has to travel on either side of the mean to encompass 66% of all of the observations.  So, if it is a more spread out distribution, one has to travel further to collect 66% of the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nteresting to note that the Laserscan, having only 9 possible curvature ‘bins’, does not produce this information on fibre curvature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Fine wool sample shown, the average fibre curvature is 94.7 º/mm, with a standard deviation of 47 º/mm. The curvature values are in 8 º/mm increments, starting at zero (i.e. straight fibres at the top), and increasing down th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emphasised that the term “standard deviation” is properly a measure of the variation of a population that is distributed normally, i.e. the same proportion of the population is found either side of the mean or average value.  Work to date would indicate that the distribution of fibre curvature is not normal.  Care should be exercised when using the term “standard deviation” to describe the variation in fibre curvature of a sa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562040" y="533520"/>
            <a:ext cx="3657600" cy="2743200"/>
          </a:xfrm>
          <a:prstGeom prst="rect">
            <a:avLst/>
          </a:prstGeom>
          <a:ln w="0">
            <a:noFill/>
          </a:ln>
        </p:spPr>
      </p:sp>
      <p:sp>
        <p:nvSpPr>
          <p:cNvPr id="10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curvature, there is a general relationship between the mean curvature and the standard deviation – as the average curvature goes up, so to does the standard deviation.  This is shown on the figure on this page.  The data set shown includes both Merino and Alpaca samples, as well as tops, yarns, an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viously, when trying to interpret the standard deviation of curvature, one needs to consider the value of the mean.  For example, for Superfine wools (curvatures generally &gt; 110 degrees/mm), one should expect to observe values for the standard deviation of in excess of 60 degrees.  For Alpaca (curvature generally &lt; 50 degrees/mm), our expectations as far as the standard deviation goes are much low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562040" y="533520"/>
            <a:ext cx="3657600" cy="2743200"/>
          </a:xfrm>
          <a:prstGeom prst="rect">
            <a:avLst/>
          </a:prstGeom>
          <a:ln w="0">
            <a:noFill/>
          </a:ln>
        </p:spPr>
      </p:sp>
      <p:sp>
        <p:nvSpPr>
          <p:cNvPr id="10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what possible use is the standard deviation of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conducted by the author while at CSIRO indicates that as the standard deviation of curvature increases, crimp definition (character) in greasy wool de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kes sense, since it is difficult to pack fibres close together (to form a deep crimp) if they vary in curv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monstrates this poi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562040" y="533520"/>
            <a:ext cx="3657600" cy="2743200"/>
          </a:xfrm>
          <a:prstGeom prst="rect">
            <a:avLst/>
          </a:prstGeom>
          <a:ln w="0">
            <a:noFill/>
          </a:ln>
        </p:spPr>
      </p:sp>
      <p:sp>
        <p:nvSpPr>
          <p:cNvPr id="1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orly aligned fibres make for poor character staples, blocky staples, and poorer early stage processing performance (the fibres are already entangled before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above graphically illustrates this concept, using actual microscope images of wool staples taken by the author while at CSI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 on the left is of reasonably good character, with fibre bundles peeling off the staple bulk.  A closer examination (far left) shows that the fibres are generally well aligned within this staple, which must occur to form a deep, readily seen crimp wave.  This is what is found in wools displaying excellent charac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 on the right is of poor character, and originates from the Northern Tablelands of NSW. The fibres within this ‘flat’ wool are poorly aligned, and of varying degrees of curvatur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562040" y="533520"/>
            <a:ext cx="3657600" cy="2743200"/>
          </a:xfrm>
          <a:prstGeom prst="rect">
            <a:avLst/>
          </a:prstGeom>
          <a:ln w="0">
            <a:noFill/>
          </a:ln>
        </p:spPr>
      </p:sp>
      <p:sp>
        <p:nvSpPr>
          <p:cNvPr id="1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the general rule is that whatever the curvature, the lower the standard deviation of curvature, the better (i.e. better character, better processing efficie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one must take account of the general relationship between the average curvature and the standard deviation of curvature.  This is shown schematically in the diagram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ny given mean curvature, high values of the standard deviation will tend to reflect the wools of flatter, less defined crimp character.  By comparison, at the same mean curvature, lower values of curvature will tend to reflect better, deeper crimp charac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562040" y="533520"/>
            <a:ext cx="3657600" cy="2743200"/>
          </a:xfrm>
          <a:prstGeom prst="rect">
            <a:avLst/>
          </a:prstGeom>
          <a:ln w="0">
            <a:noFill/>
          </a:ln>
        </p:spPr>
      </p:sp>
      <p:sp>
        <p:nvSpPr>
          <p:cNvPr id="1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a word of caution.  Curvature is a new technology, and consequently, the OFDA and Laserscan measurement techniques have yet to be perfected and international standards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etheless, it is not expected that this process will yield major changes to average values of fibre curvature; rather precision will most likely improve, and differences between laboratories, evident at present, should dimini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equently, it is important that caution be exercised with the use of measured fibre curvature at this stage.  Woolgrowers and wool processors are beginning an apprenticeship with what is a new and very powerful too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562040" y="533520"/>
            <a:ext cx="3657600" cy="2743200"/>
          </a:xfrm>
          <a:prstGeom prst="rect">
            <a:avLst/>
          </a:prstGeom>
          <a:ln w="0">
            <a:noFill/>
          </a:ln>
        </p:spPr>
      </p:sp>
      <p:sp>
        <p:nvSpPr>
          <p:cNvPr id="10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Rossouw, S.D. (1931), Journal of the Textile Institute, 22 T3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represents a new technology for measuring the crimp of wool fibres.  Unlike conventional assessments of wool crimp such a Quality Number, Curvature measurements can be applied at any stage of the wool-processing pipeline, from fleece to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vature is basically a measurement of how much the fibre bends along an average standard short length of the fibre.  To illustrate this, the figure in this slide represents a section of Merino wool fibre under the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note that wool fibres do not usually curve in one plane.  There is a certain amount of torsion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vature relates strongly to the old Quality Number system for greasy wool, which used to be the basis of wool trading.  In the Quality Number system the number of crimp waves along a length of the staple is estimated to assess how often the fibre crimps.  This relates to how fine the curves are along the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562040" y="533520"/>
            <a:ext cx="3657600" cy="2743200"/>
          </a:xfrm>
          <a:prstGeom prst="rect">
            <a:avLst/>
          </a:prstGeom>
          <a:ln w="0">
            <a:noFill/>
          </a:ln>
        </p:spPr>
      </p:sp>
      <p:sp>
        <p:nvSpPr>
          <p:cNvPr id="10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easure Fibre Curvature, imagine a section fibre being physically ’chopped’ into short sections, imaged, and then further subdivided by an image analysis system.  It is a simple matter then to measure how much the fibre curves or bends along its’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on this slide shows separate sections of 80’s and 56’s Quality Count fibres, superimposed with lines representing the points where the fibres are ‘chopped’.  Once fibres have been subdivided into short sections, it is a simple matter to measure the degree of curvature of the fib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562040" y="533520"/>
            <a:ext cx="3657600" cy="2743200"/>
          </a:xfrm>
          <a:prstGeom prst="rect">
            <a:avLst/>
          </a:prstGeom>
          <a:ln w="0">
            <a:noFill/>
          </a:ln>
        </p:spPr>
      </p:sp>
      <p:sp>
        <p:nvSpPr>
          <p:cNvPr id="10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shows magnified views of short (0.4 mm) sections of the “chopped” fibres (from the previou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of these fibre sections are the same length, but differ markedly in their degree of curvature.  The 80’s count section is much more highly curved than the 56’s count section, correlating to the number of crimps per inch along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pecify curvature, we measure the angle (Ø) specifying the fibre section.  This is expressed as degrees of curve per millimetre along the fib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562040" y="533520"/>
            <a:ext cx="3657600" cy="2743200"/>
          </a:xfrm>
          <a:prstGeom prst="rect">
            <a:avLst/>
          </a:prstGeom>
          <a:ln w="0">
            <a:noFill/>
          </a:ln>
        </p:spPr>
      </p:sp>
      <p:sp>
        <p:nvSpPr>
          <p:cNvPr id="10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bre Curvature relates closely to Quality Number and Staple Crimp Frequency.  Wools of high Quality Number have high fibre curvature, and vice versa.  For example, most strong wools have curvature of less than 80 degrees/mm, whereas most superfine wools have curvatures in excess of 110 degrees per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is relationship for a combined data set of Australian and New Zealand wools, where staple crimp frequency and fibre curvature are plotted.  These measurements were performed using the Optical Fibre Diameter Analyser (OFD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562040" y="533520"/>
            <a:ext cx="3657600" cy="2743200"/>
          </a:xfrm>
          <a:prstGeom prst="rect">
            <a:avLst/>
          </a:prstGeom>
          <a:ln w="0">
            <a:noFill/>
          </a:ln>
        </p:spPr>
      </p:sp>
      <p:sp>
        <p:nvSpPr>
          <p:cNvPr id="10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ly, there is a strong association between the mean fibre curvature and visual staple crimp frequency.  Wools of higher visual staple crimp frequency or count tend to have higher average fibre curvature.  This is because the individual fibres need to be more highly curved to make a shorter, more frequent wa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in this slide illustrates this point by showing the likely relationship between the Quality Number system, the number of crimps per inch, and Fibre curvature (as measured using the </a:t>
            </a:r>
            <a:r>
              <a:rPr b="0" i="1" lang="en-GB" sz="1200" spc="-1" strike="noStrike">
                <a:solidFill>
                  <a:srgbClr val="000000"/>
                </a:solidFill>
                <a:latin typeface="Times New Roman"/>
              </a:rPr>
              <a:t>New England Fibre Testing Pty. Ltd. </a:t>
            </a:r>
            <a:r>
              <a:rPr b="0" lang="en-GB" sz="1200" spc="-1" strike="noStrike">
                <a:solidFill>
                  <a:srgbClr val="000000"/>
                </a:solidFill>
                <a:latin typeface="Times New Roman"/>
              </a:rPr>
              <a:t>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auty of the curvature measurement is that it can be applied throughout the processing pipeline.  In this way, curvature will allow later stage processors greater control over fibre quality, and will help us re-establish the quality communication links from grower to tailor, so evident in the wool industry prior to the 196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while curvature is retained throughout the processing pipeline, the stresses imposed on the fibre need to be relaxed before the fibre curvature at different processing stages can be measured for comparison purpo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562040" y="533520"/>
            <a:ext cx="3657600" cy="2743200"/>
          </a:xfrm>
          <a:prstGeom prst="rect">
            <a:avLst/>
          </a:prstGeom>
          <a:ln w="0">
            <a:noFill/>
          </a:ln>
        </p:spPr>
      </p:sp>
      <p:sp>
        <p:nvSpPr>
          <p:cNvPr id="10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Curvature measurements have the potential to become a widely used fibre specifications throughout the wool processing pipe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because Fibre Curvatu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relates strongly to the curvature of the follicle in the skin, an important genetic lever</a:t>
            </a:r>
            <a:r>
              <a:rPr b="0" lang="en-AU" sz="1200" spc="-1" strike="noStrike">
                <a:solidFill>
                  <a:srgbClr val="000000"/>
                </a:solidFill>
                <a:latin typeface="Times New Roman"/>
              </a:rPr>
              <a:t>; since follicles of lower curvature produce quicker growing 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consequently relates to staple length and fleece weight</a:t>
            </a:r>
            <a:r>
              <a:rPr b="0" lang="en-AU" sz="1200" spc="-1" strike="noStrike">
                <a:solidFill>
                  <a:srgbClr val="000000"/>
                </a:solidFill>
                <a:latin typeface="Times New Roman"/>
              </a:rPr>
              <a:t>; since follicles of low curvature tend to produce longer staples and heavier fleec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ffects top making efficiency, and top tear ratio</a:t>
            </a:r>
            <a:r>
              <a:rPr b="0" lang="en-AU" sz="1200" spc="-1" strike="noStrike">
                <a:solidFill>
                  <a:srgbClr val="000000"/>
                </a:solidFill>
                <a:latin typeface="Times New Roman"/>
              </a:rPr>
              <a:t>; a reduction in fibre curvature at any micron is associated with increased efficiency</a:t>
            </a:r>
            <a:r>
              <a:rPr b="0" i="1" lang="en-A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fluences yarn spinning efficiency and yarn evenness and quality</a:t>
            </a:r>
            <a:r>
              <a:rPr b="0" lang="en-AU" sz="1200" spc="-1" strike="noStrike">
                <a:solidFill>
                  <a:srgbClr val="000000"/>
                </a:solidFill>
                <a:latin typeface="Times New Roman"/>
              </a:rPr>
              <a:t>; a reduction in fibre curvature at any micron improves yarn evennes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affects fabric thickness, handle, lustre, and efficiency of dyeing</a:t>
            </a:r>
            <a:r>
              <a:rPr b="0" lang="en-AU" sz="1200" spc="-1" strike="noStrike">
                <a:solidFill>
                  <a:srgbClr val="000000"/>
                </a:solidFill>
                <a:latin typeface="Times New Roman"/>
              </a:rPr>
              <a:t>; low curvature is associated with softer, sleeker, and of greater depth of sh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562040" y="533520"/>
            <a:ext cx="3657600" cy="2743200"/>
          </a:xfrm>
          <a:prstGeom prst="rect">
            <a:avLst/>
          </a:prstGeom>
          <a:ln w="0">
            <a:noFill/>
          </a:ln>
        </p:spPr>
      </p:sp>
      <p:sp>
        <p:nvSpPr>
          <p:cNvPr id="10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interpreting Curvature results, it is paramount that these be compared to the average diameter, to determine what is truly fine crimping or truly broad crimp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ove figure gives a rough idea of how processors might use the new curvature information.  Knowledge of the diameter:curvature combination for particular wools will tell processors of the suitability of the wool for particular uses, and provide useful clues as to how likely it is that the wool will be efficiently processed and so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creased usage of curvature measurements by industry will depend on a number of factor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bility of the wool growing industry to supply wool differentiated on Curvature in sufficient quantities to regularly meet the industrial needs of the topmake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retail products are available wherein the market advantage of differing fibre curvature is prove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processing advantages of low curvature wool can be demonstrated at the spinning stage, whereby spinners will specify Curvature in their orders for top.</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562040" y="533520"/>
            <a:ext cx="3657600" cy="2743200"/>
          </a:xfrm>
          <a:prstGeom prst="rect">
            <a:avLst/>
          </a:prstGeom>
          <a:ln w="0">
            <a:noFill/>
          </a:ln>
        </p:spPr>
      </p:sp>
      <p:sp>
        <p:nvSpPr>
          <p:cNvPr id="10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aul Swan, </a:t>
            </a:r>
            <a:r>
              <a:rPr b="0" lang="en-AU" sz="1200" spc="-1" strike="noStrike">
                <a:solidFill>
                  <a:srgbClr val="000000"/>
                </a:solidFill>
                <a:latin typeface="Times New Roman"/>
              </a:rPr>
              <a:t>Paul G. Swan and Associa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ple tool for assessing </a:t>
            </a:r>
            <a:r>
              <a:rPr b="0" i="1" lang="en-AU" sz="1200" spc="-1" strike="noStrike">
                <a:solidFill>
                  <a:srgbClr val="000000"/>
                </a:solidFill>
                <a:latin typeface="Times New Roman"/>
              </a:rPr>
              <a:t>adult</a:t>
            </a:r>
            <a:r>
              <a:rPr b="0" lang="en-AU" sz="1200" spc="-1" strike="noStrike">
                <a:solidFill>
                  <a:srgbClr val="000000"/>
                </a:solidFill>
                <a:latin typeface="Times New Roman"/>
              </a:rPr>
              <a:t> wool (&gt; 2 y/o) is shown in the this table, and roughly defines the Diameter:Curvature combinations for ‘true-to-type’ and potential </a:t>
            </a:r>
            <a:r>
              <a:rPr b="0" i="1" lang="en-AU" sz="1200" spc="-1" strike="noStrike">
                <a:solidFill>
                  <a:srgbClr val="000000"/>
                </a:solidFill>
                <a:latin typeface="Times New Roman"/>
              </a:rPr>
              <a:t>low curvature</a:t>
            </a:r>
            <a:r>
              <a:rPr b="0" i="1" lang="en-US" sz="1200" spc="-1" strike="noStrike">
                <a:solidFill>
                  <a:srgbClr val="000000"/>
                </a:solidFill>
                <a:latin typeface="Times New Roman"/>
              </a:rPr>
              <a:t> </a:t>
            </a:r>
            <a:r>
              <a:rPr b="0" lang="en-AU" sz="1200" spc="-1" strike="noStrike">
                <a:solidFill>
                  <a:srgbClr val="000000"/>
                </a:solidFill>
                <a:latin typeface="Times New Roman"/>
              </a:rPr>
              <a:t>wools.  This Table has been developed in conjunction with</a:t>
            </a:r>
            <a:r>
              <a:rPr b="0" lang="en-US" sz="1200" spc="-1" strike="noStrike">
                <a:solidFill>
                  <a:srgbClr val="000000"/>
                </a:solidFill>
                <a:latin typeface="Times New Roman"/>
              </a:rPr>
              <a:t> New England Fibre Testing Limited (Walcha) and </a:t>
            </a:r>
            <a:r>
              <a:rPr b="0" lang="en-AU" sz="1200" spc="-1" strike="noStrike">
                <a:solidFill>
                  <a:srgbClr val="000000"/>
                </a:solidFill>
                <a:latin typeface="Times New Roman"/>
              </a:rPr>
              <a:t>wool processors, and should </a:t>
            </a:r>
            <a:r>
              <a:rPr b="0" lang="en-US" sz="1200" spc="-1" strike="noStrike">
                <a:solidFill>
                  <a:srgbClr val="000000"/>
                </a:solidFill>
                <a:latin typeface="Times New Roman"/>
              </a:rPr>
              <a:t>enable processors</a:t>
            </a:r>
            <a:r>
              <a:rPr b="0" lang="en-AU" sz="1200" spc="-1" strike="noStrike">
                <a:solidFill>
                  <a:srgbClr val="000000"/>
                </a:solidFill>
                <a:latin typeface="Times New Roman"/>
              </a:rPr>
              <a:t> to identify desirable combinations of diameter and curvature in order to create distinctive product properties (handle, drape, brightness, coverage etc.) to target for particular market nic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lease note</a:t>
            </a:r>
            <a:r>
              <a:rPr b="0" lang="en-GB" sz="1200" spc="-1" strike="noStrike">
                <a:solidFill>
                  <a:srgbClr val="000000"/>
                </a:solidFill>
                <a:latin typeface="Times New Roman"/>
              </a:rPr>
              <a:t> that for immature sheep (still laying down bone and muscle), the fibre diameter is generally 1 – 2 microns lower than the eventual adult diameter, even though the crimp characteristics of the wool generally change little after weaning.  For this reason, the above relationship does not apply directly for young sheep – for any given fibre diameter, the curvature is usually 10 – 15 degrees per millimetre lower than that for adul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so important to note that particular combinations of measured diameter and curvature are not sufficient to identify </a:t>
            </a:r>
            <a:r>
              <a:rPr b="0" i="1" lang="en-GB" sz="1200" spc="-1" strike="noStrike">
                <a:solidFill>
                  <a:srgbClr val="000000"/>
                </a:solidFill>
                <a:latin typeface="Times New Roman"/>
              </a:rPr>
              <a:t>low curvature </a:t>
            </a:r>
            <a:r>
              <a:rPr b="0" lang="en-GB" sz="1200" spc="-1" strike="noStrike">
                <a:solidFill>
                  <a:srgbClr val="000000"/>
                </a:solidFill>
                <a:latin typeface="Times New Roman"/>
              </a:rPr>
              <a:t>wools – other attributes of the wool are also important.  Consider the case of doggy wool which has a low curvature for its’ diameter.  Manufacturers need additional information, other than simply diameter and curvature, to distinguish these very different wool types.  This is where the standard deviation of curvature can hel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aul Swan, Paul G. Swan and Associates.</a:t>
            </a:r>
            <a:endParaRPr b="0" lang="en-US" sz="1600" spc="-1" strike="noStrike">
              <a:solidFill>
                <a:srgbClr val="000000"/>
              </a:solidFill>
              <a:latin typeface="Times New Roman"/>
            </a:endParaRPr>
          </a:p>
        </p:txBody>
      </p:sp>
      <p:sp>
        <p:nvSpPr>
          <p:cNvPr id="48"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roducing :Fibre Curvatur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1600200" y="838080"/>
            <a:ext cx="7086600" cy="5193000"/>
          </a:xfrm>
          <a:prstGeom prst="rect">
            <a:avLst/>
          </a:prstGeom>
          <a:ln w="19080">
            <a:solidFill>
              <a:srgbClr val="000000"/>
            </a:solidFill>
            <a:miter/>
          </a:ln>
        </p:spPr>
      </p:pic>
      <p:sp>
        <p:nvSpPr>
          <p:cNvPr id="5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 deviation of curvature</a:t>
            </a:r>
            <a:endParaRPr b="1" lang="en-US" sz="3200" spc="-1" strike="noStrike">
              <a:solidFill>
                <a:srgbClr val="fafd00"/>
              </a:solidFill>
              <a:latin typeface="Arial"/>
            </a:endParaRPr>
          </a:p>
        </p:txBody>
      </p:sp>
      <p:sp>
        <p:nvSpPr>
          <p:cNvPr id="52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1600200" y="914400"/>
            <a:ext cx="7010280" cy="5514840"/>
          </a:xfrm>
          <a:prstGeom prst="rect">
            <a:avLst/>
          </a:prstGeom>
          <a:ln w="0">
            <a:noFill/>
          </a:ln>
        </p:spPr>
      </p:pic>
      <p:sp>
        <p:nvSpPr>
          <p:cNvPr id="5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FDA curvature histogram</a:t>
            </a:r>
            <a:endParaRPr b="1" lang="en-US" sz="3200" spc="-1" strike="noStrike">
              <a:solidFill>
                <a:srgbClr val="fafd00"/>
              </a:solidFill>
              <a:latin typeface="Arial"/>
            </a:endParaRPr>
          </a:p>
        </p:txBody>
      </p:sp>
      <p:sp>
        <p:nvSpPr>
          <p:cNvPr id="531"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2" name=""/>
          <p:cNvGrpSpPr/>
          <p:nvPr/>
        </p:nvGrpSpPr>
        <p:grpSpPr>
          <a:xfrm>
            <a:off x="1752480" y="838080"/>
            <a:ext cx="6635880" cy="5524560"/>
            <a:chOff x="1752480" y="838080"/>
            <a:chExt cx="6635880" cy="5524560"/>
          </a:xfrm>
        </p:grpSpPr>
        <p:sp>
          <p:nvSpPr>
            <p:cNvPr id="533" name=""/>
            <p:cNvSpPr/>
            <p:nvPr/>
          </p:nvSpPr>
          <p:spPr>
            <a:xfrm>
              <a:off x="1752480" y="838080"/>
              <a:ext cx="6635880" cy="552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592360" y="1128600"/>
              <a:ext cx="5492520" cy="43099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592360" y="481968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6" name=""/>
            <p:cNvSpPr/>
            <p:nvPr/>
          </p:nvSpPr>
          <p:spPr>
            <a:xfrm>
              <a:off x="2592360" y="421308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2592360" y="359388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2592360" y="297324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2592360" y="235404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2592360" y="174780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2592360" y="1128600"/>
              <a:ext cx="549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328140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96864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65768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4672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01956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70860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39764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084880" y="1128600"/>
              <a:ext cx="180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592360" y="1128600"/>
              <a:ext cx="5492520" cy="430992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592360" y="1128600"/>
              <a:ext cx="1440" cy="4309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538360" y="543852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2538360" y="48196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 name=""/>
            <p:cNvSpPr/>
            <p:nvPr/>
          </p:nvSpPr>
          <p:spPr>
            <a:xfrm>
              <a:off x="2538360" y="421308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2538360" y="35938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2538360" y="29732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2538360" y="235404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8" name=""/>
            <p:cNvSpPr/>
            <p:nvPr/>
          </p:nvSpPr>
          <p:spPr>
            <a:xfrm>
              <a:off x="2538360" y="17478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2538360" y="112860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592360" y="5438520"/>
              <a:ext cx="549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flipV="1">
              <a:off x="259236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2" name=""/>
            <p:cNvSpPr/>
            <p:nvPr/>
          </p:nvSpPr>
          <p:spPr>
            <a:xfrm flipV="1">
              <a:off x="328140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3" name=""/>
            <p:cNvSpPr/>
            <p:nvPr/>
          </p:nvSpPr>
          <p:spPr>
            <a:xfrm flipV="1">
              <a:off x="396864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4" name=""/>
            <p:cNvSpPr/>
            <p:nvPr/>
          </p:nvSpPr>
          <p:spPr>
            <a:xfrm flipV="1">
              <a:off x="465768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5" name=""/>
            <p:cNvSpPr/>
            <p:nvPr/>
          </p:nvSpPr>
          <p:spPr>
            <a:xfrm flipV="1">
              <a:off x="534672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6" name=""/>
            <p:cNvSpPr/>
            <p:nvPr/>
          </p:nvSpPr>
          <p:spPr>
            <a:xfrm flipV="1">
              <a:off x="601956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7" name=""/>
            <p:cNvSpPr/>
            <p:nvPr/>
          </p:nvSpPr>
          <p:spPr>
            <a:xfrm flipV="1">
              <a:off x="670860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8" name=""/>
            <p:cNvSpPr/>
            <p:nvPr/>
          </p:nvSpPr>
          <p:spPr>
            <a:xfrm flipV="1">
              <a:off x="7397640" y="543816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9" name=""/>
            <p:cNvSpPr/>
            <p:nvPr/>
          </p:nvSpPr>
          <p:spPr>
            <a:xfrm flipV="1">
              <a:off x="8084880" y="543816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0" name=""/>
            <p:cNvSpPr/>
            <p:nvPr/>
          </p:nvSpPr>
          <p:spPr>
            <a:xfrm>
              <a:off x="6269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 name=""/>
            <p:cNvSpPr/>
            <p:nvPr/>
          </p:nvSpPr>
          <p:spPr>
            <a:xfrm>
              <a:off x="644688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 name=""/>
            <p:cNvSpPr/>
            <p:nvPr/>
          </p:nvSpPr>
          <p:spPr>
            <a:xfrm>
              <a:off x="62546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3" name=""/>
            <p:cNvSpPr/>
            <p:nvPr/>
          </p:nvSpPr>
          <p:spPr>
            <a:xfrm>
              <a:off x="6019560" y="305568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 name=""/>
            <p:cNvSpPr/>
            <p:nvPr/>
          </p:nvSpPr>
          <p:spPr>
            <a:xfrm>
              <a:off x="603396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 name=""/>
            <p:cNvSpPr/>
            <p:nvPr/>
          </p:nvSpPr>
          <p:spPr>
            <a:xfrm>
              <a:off x="541476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599256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5730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8" name=""/>
            <p:cNvSpPr/>
            <p:nvPr/>
          </p:nvSpPr>
          <p:spPr>
            <a:xfrm>
              <a:off x="584172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 name=""/>
            <p:cNvSpPr/>
            <p:nvPr/>
          </p:nvSpPr>
          <p:spPr>
            <a:xfrm>
              <a:off x="5883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606240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 name=""/>
            <p:cNvSpPr/>
            <p:nvPr/>
          </p:nvSpPr>
          <p:spPr>
            <a:xfrm>
              <a:off x="5800680" y="3924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 name=""/>
            <p:cNvSpPr/>
            <p:nvPr/>
          </p:nvSpPr>
          <p:spPr>
            <a:xfrm>
              <a:off x="588312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3" name=""/>
            <p:cNvSpPr/>
            <p:nvPr/>
          </p:nvSpPr>
          <p:spPr>
            <a:xfrm>
              <a:off x="582768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 name=""/>
            <p:cNvSpPr/>
            <p:nvPr/>
          </p:nvSpPr>
          <p:spPr>
            <a:xfrm>
              <a:off x="613080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5" name=""/>
            <p:cNvSpPr/>
            <p:nvPr/>
          </p:nvSpPr>
          <p:spPr>
            <a:xfrm>
              <a:off x="5703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 name=""/>
            <p:cNvSpPr/>
            <p:nvPr/>
          </p:nvSpPr>
          <p:spPr>
            <a:xfrm>
              <a:off x="643392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7" name=""/>
            <p:cNvSpPr/>
            <p:nvPr/>
          </p:nvSpPr>
          <p:spPr>
            <a:xfrm>
              <a:off x="5400360" y="360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a:off x="63370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9" name=""/>
            <p:cNvSpPr/>
            <p:nvPr/>
          </p:nvSpPr>
          <p:spPr>
            <a:xfrm>
              <a:off x="60483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 name=""/>
            <p:cNvSpPr/>
            <p:nvPr/>
          </p:nvSpPr>
          <p:spPr>
            <a:xfrm>
              <a:off x="5648040" y="3924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1" name=""/>
            <p:cNvSpPr/>
            <p:nvPr/>
          </p:nvSpPr>
          <p:spPr>
            <a:xfrm>
              <a:off x="599256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 name=""/>
            <p:cNvSpPr/>
            <p:nvPr/>
          </p:nvSpPr>
          <p:spPr>
            <a:xfrm>
              <a:off x="5937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3" name=""/>
            <p:cNvSpPr/>
            <p:nvPr/>
          </p:nvSpPr>
          <p:spPr>
            <a:xfrm>
              <a:off x="59371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 name=""/>
            <p:cNvSpPr/>
            <p:nvPr/>
          </p:nvSpPr>
          <p:spPr>
            <a:xfrm>
              <a:off x="64879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 name=""/>
            <p:cNvSpPr/>
            <p:nvPr/>
          </p:nvSpPr>
          <p:spPr>
            <a:xfrm>
              <a:off x="570384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6" name=""/>
            <p:cNvSpPr/>
            <p:nvPr/>
          </p:nvSpPr>
          <p:spPr>
            <a:xfrm>
              <a:off x="588312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 name=""/>
            <p:cNvSpPr/>
            <p:nvPr/>
          </p:nvSpPr>
          <p:spPr>
            <a:xfrm>
              <a:off x="580068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 name=""/>
            <p:cNvSpPr/>
            <p:nvPr/>
          </p:nvSpPr>
          <p:spPr>
            <a:xfrm>
              <a:off x="5895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9" name=""/>
            <p:cNvSpPr/>
            <p:nvPr/>
          </p:nvSpPr>
          <p:spPr>
            <a:xfrm>
              <a:off x="599256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 name=""/>
            <p:cNvSpPr/>
            <p:nvPr/>
          </p:nvSpPr>
          <p:spPr>
            <a:xfrm>
              <a:off x="618624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 name=""/>
            <p:cNvSpPr/>
            <p:nvPr/>
          </p:nvSpPr>
          <p:spPr>
            <a:xfrm>
              <a:off x="59371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 name=""/>
            <p:cNvSpPr/>
            <p:nvPr/>
          </p:nvSpPr>
          <p:spPr>
            <a:xfrm>
              <a:off x="631008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4" name=""/>
            <p:cNvSpPr/>
            <p:nvPr/>
          </p:nvSpPr>
          <p:spPr>
            <a:xfrm>
              <a:off x="537372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 name=""/>
            <p:cNvSpPr/>
            <p:nvPr/>
          </p:nvSpPr>
          <p:spPr>
            <a:xfrm>
              <a:off x="58831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5951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7" name=""/>
            <p:cNvSpPr/>
            <p:nvPr/>
          </p:nvSpPr>
          <p:spPr>
            <a:xfrm>
              <a:off x="58006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59101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 name=""/>
            <p:cNvSpPr/>
            <p:nvPr/>
          </p:nvSpPr>
          <p:spPr>
            <a:xfrm>
              <a:off x="635148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 name=""/>
            <p:cNvSpPr/>
            <p:nvPr/>
          </p:nvSpPr>
          <p:spPr>
            <a:xfrm>
              <a:off x="60753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 name=""/>
            <p:cNvSpPr/>
            <p:nvPr/>
          </p:nvSpPr>
          <p:spPr>
            <a:xfrm>
              <a:off x="531792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2" name=""/>
            <p:cNvSpPr/>
            <p:nvPr/>
          </p:nvSpPr>
          <p:spPr>
            <a:xfrm>
              <a:off x="58546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 name=""/>
            <p:cNvSpPr/>
            <p:nvPr/>
          </p:nvSpPr>
          <p:spPr>
            <a:xfrm>
              <a:off x="62276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a:off x="63100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637848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77188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7" name=""/>
            <p:cNvSpPr/>
            <p:nvPr/>
          </p:nvSpPr>
          <p:spPr>
            <a:xfrm>
              <a:off x="57038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 name=""/>
            <p:cNvSpPr/>
            <p:nvPr/>
          </p:nvSpPr>
          <p:spPr>
            <a:xfrm>
              <a:off x="701172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63230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 name=""/>
            <p:cNvSpPr/>
            <p:nvPr/>
          </p:nvSpPr>
          <p:spPr>
            <a:xfrm>
              <a:off x="65023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 name=""/>
            <p:cNvSpPr/>
            <p:nvPr/>
          </p:nvSpPr>
          <p:spPr>
            <a:xfrm>
              <a:off x="64609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64879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3" name=""/>
            <p:cNvSpPr/>
            <p:nvPr/>
          </p:nvSpPr>
          <p:spPr>
            <a:xfrm>
              <a:off x="607536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4" name=""/>
            <p:cNvSpPr/>
            <p:nvPr/>
          </p:nvSpPr>
          <p:spPr>
            <a:xfrm>
              <a:off x="66816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5" name=""/>
            <p:cNvSpPr/>
            <p:nvPr/>
          </p:nvSpPr>
          <p:spPr>
            <a:xfrm>
              <a:off x="606240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6" name=""/>
            <p:cNvSpPr/>
            <p:nvPr/>
          </p:nvSpPr>
          <p:spPr>
            <a:xfrm>
              <a:off x="652932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633708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 name=""/>
            <p:cNvSpPr/>
            <p:nvPr/>
          </p:nvSpPr>
          <p:spPr>
            <a:xfrm>
              <a:off x="589572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9" name=""/>
            <p:cNvSpPr/>
            <p:nvPr/>
          </p:nvSpPr>
          <p:spPr>
            <a:xfrm>
              <a:off x="633708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577188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60069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2" name=""/>
            <p:cNvSpPr/>
            <p:nvPr/>
          </p:nvSpPr>
          <p:spPr>
            <a:xfrm>
              <a:off x="63784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3" name=""/>
            <p:cNvSpPr/>
            <p:nvPr/>
          </p:nvSpPr>
          <p:spPr>
            <a:xfrm>
              <a:off x="588312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4" name=""/>
            <p:cNvSpPr/>
            <p:nvPr/>
          </p:nvSpPr>
          <p:spPr>
            <a:xfrm>
              <a:off x="586872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5" name=""/>
            <p:cNvSpPr/>
            <p:nvPr/>
          </p:nvSpPr>
          <p:spPr>
            <a:xfrm>
              <a:off x="6460920" y="200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6" name=""/>
            <p:cNvSpPr/>
            <p:nvPr/>
          </p:nvSpPr>
          <p:spPr>
            <a:xfrm>
              <a:off x="552420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7" name=""/>
            <p:cNvSpPr/>
            <p:nvPr/>
          </p:nvSpPr>
          <p:spPr>
            <a:xfrm>
              <a:off x="52354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9" name=""/>
            <p:cNvSpPr/>
            <p:nvPr/>
          </p:nvSpPr>
          <p:spPr>
            <a:xfrm>
              <a:off x="6019560" y="312552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0" name=""/>
            <p:cNvSpPr/>
            <p:nvPr/>
          </p:nvSpPr>
          <p:spPr>
            <a:xfrm>
              <a:off x="54291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1" name=""/>
            <p:cNvSpPr/>
            <p:nvPr/>
          </p:nvSpPr>
          <p:spPr>
            <a:xfrm>
              <a:off x="61164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60483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3" name=""/>
            <p:cNvSpPr/>
            <p:nvPr/>
          </p:nvSpPr>
          <p:spPr>
            <a:xfrm>
              <a:off x="577188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4" name=""/>
            <p:cNvSpPr/>
            <p:nvPr/>
          </p:nvSpPr>
          <p:spPr>
            <a:xfrm>
              <a:off x="6667200" y="22572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643392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5978520" y="280800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7" name=""/>
            <p:cNvSpPr/>
            <p:nvPr/>
          </p:nvSpPr>
          <p:spPr>
            <a:xfrm>
              <a:off x="5978520" y="2876400"/>
              <a:ext cx="83880" cy="84240"/>
            </a:xfrm>
            <a:custGeom>
              <a:avLst/>
              <a:gdLst/>
              <a:ahLst/>
              <a:rect l="l" t="t" r="r" b="b"/>
              <a:pathLst>
                <a:path w="53" h="53">
                  <a:moveTo>
                    <a:pt x="26" y="0"/>
                  </a:moveTo>
                  <a:lnTo>
                    <a:pt x="53"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9" name=""/>
            <p:cNvSpPr/>
            <p:nvPr/>
          </p:nvSpPr>
          <p:spPr>
            <a:xfrm>
              <a:off x="577188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0" name=""/>
            <p:cNvSpPr/>
            <p:nvPr/>
          </p:nvSpPr>
          <p:spPr>
            <a:xfrm>
              <a:off x="63230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595152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2" name=""/>
            <p:cNvSpPr/>
            <p:nvPr/>
          </p:nvSpPr>
          <p:spPr>
            <a:xfrm>
              <a:off x="604836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3" name=""/>
            <p:cNvSpPr/>
            <p:nvPr/>
          </p:nvSpPr>
          <p:spPr>
            <a:xfrm>
              <a:off x="622764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4"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5"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6" name=""/>
            <p:cNvSpPr/>
            <p:nvPr/>
          </p:nvSpPr>
          <p:spPr>
            <a:xfrm>
              <a:off x="549720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7" name=""/>
            <p:cNvSpPr/>
            <p:nvPr/>
          </p:nvSpPr>
          <p:spPr>
            <a:xfrm>
              <a:off x="57038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8" name=""/>
            <p:cNvSpPr/>
            <p:nvPr/>
          </p:nvSpPr>
          <p:spPr>
            <a:xfrm>
              <a:off x="581328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9" name=""/>
            <p:cNvSpPr/>
            <p:nvPr/>
          </p:nvSpPr>
          <p:spPr>
            <a:xfrm>
              <a:off x="549720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0"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1" name=""/>
            <p:cNvSpPr/>
            <p:nvPr/>
          </p:nvSpPr>
          <p:spPr>
            <a:xfrm>
              <a:off x="632304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2" name=""/>
            <p:cNvSpPr/>
            <p:nvPr/>
          </p:nvSpPr>
          <p:spPr>
            <a:xfrm>
              <a:off x="6019560" y="2876400"/>
              <a:ext cx="84240" cy="84240"/>
            </a:xfrm>
            <a:custGeom>
              <a:avLst/>
              <a:gdLst/>
              <a:ahLst/>
              <a:rect l="l" t="t" r="r" b="b"/>
              <a:pathLst>
                <a:path w="53" h="53">
                  <a:moveTo>
                    <a:pt x="27" y="0"/>
                  </a:moveTo>
                  <a:lnTo>
                    <a:pt x="53" y="27"/>
                  </a:lnTo>
                  <a:lnTo>
                    <a:pt x="27" y="53"/>
                  </a:lnTo>
                  <a:lnTo>
                    <a:pt x="0" y="27"/>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3" name=""/>
            <p:cNvSpPr/>
            <p:nvPr/>
          </p:nvSpPr>
          <p:spPr>
            <a:xfrm>
              <a:off x="60894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4" name=""/>
            <p:cNvSpPr/>
            <p:nvPr/>
          </p:nvSpPr>
          <p:spPr>
            <a:xfrm>
              <a:off x="5676840" y="342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5"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6" name=""/>
            <p:cNvSpPr/>
            <p:nvPr/>
          </p:nvSpPr>
          <p:spPr>
            <a:xfrm>
              <a:off x="55656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5978520" y="305568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8" name=""/>
            <p:cNvSpPr/>
            <p:nvPr/>
          </p:nvSpPr>
          <p:spPr>
            <a:xfrm>
              <a:off x="588312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9" name=""/>
            <p:cNvSpPr/>
            <p:nvPr/>
          </p:nvSpPr>
          <p:spPr>
            <a:xfrm>
              <a:off x="60483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0" name=""/>
            <p:cNvSpPr/>
            <p:nvPr/>
          </p:nvSpPr>
          <p:spPr>
            <a:xfrm>
              <a:off x="6735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 name=""/>
            <p:cNvSpPr/>
            <p:nvPr/>
          </p:nvSpPr>
          <p:spPr>
            <a:xfrm>
              <a:off x="59515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2"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3" name=""/>
            <p:cNvSpPr/>
            <p:nvPr/>
          </p:nvSpPr>
          <p:spPr>
            <a:xfrm>
              <a:off x="68054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4" name=""/>
            <p:cNvSpPr/>
            <p:nvPr/>
          </p:nvSpPr>
          <p:spPr>
            <a:xfrm>
              <a:off x="6019560" y="317952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5" name=""/>
            <p:cNvSpPr/>
            <p:nvPr/>
          </p:nvSpPr>
          <p:spPr>
            <a:xfrm>
              <a:off x="632304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6" name=""/>
            <p:cNvSpPr/>
            <p:nvPr/>
          </p:nvSpPr>
          <p:spPr>
            <a:xfrm>
              <a:off x="66402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5978520" y="312552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8" name=""/>
            <p:cNvSpPr/>
            <p:nvPr/>
          </p:nvSpPr>
          <p:spPr>
            <a:xfrm>
              <a:off x="560700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79" name=""/>
            <p:cNvSpPr/>
            <p:nvPr/>
          </p:nvSpPr>
          <p:spPr>
            <a:xfrm>
              <a:off x="574488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652932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1" name=""/>
            <p:cNvSpPr/>
            <p:nvPr/>
          </p:nvSpPr>
          <p:spPr>
            <a:xfrm>
              <a:off x="60894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2" name=""/>
            <p:cNvSpPr/>
            <p:nvPr/>
          </p:nvSpPr>
          <p:spPr>
            <a:xfrm>
              <a:off x="5841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3" name=""/>
            <p:cNvSpPr/>
            <p:nvPr/>
          </p:nvSpPr>
          <p:spPr>
            <a:xfrm>
              <a:off x="625464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4" name=""/>
            <p:cNvSpPr/>
            <p:nvPr/>
          </p:nvSpPr>
          <p:spPr>
            <a:xfrm>
              <a:off x="6019560" y="293184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5" name=""/>
            <p:cNvSpPr/>
            <p:nvPr/>
          </p:nvSpPr>
          <p:spPr>
            <a:xfrm>
              <a:off x="639288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65293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7"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8" name=""/>
            <p:cNvSpPr/>
            <p:nvPr/>
          </p:nvSpPr>
          <p:spPr>
            <a:xfrm>
              <a:off x="560700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535932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0" name=""/>
            <p:cNvSpPr/>
            <p:nvPr/>
          </p:nvSpPr>
          <p:spPr>
            <a:xfrm>
              <a:off x="60483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1" name=""/>
            <p:cNvSpPr/>
            <p:nvPr/>
          </p:nvSpPr>
          <p:spPr>
            <a:xfrm>
              <a:off x="56070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611640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3" name=""/>
            <p:cNvSpPr/>
            <p:nvPr/>
          </p:nvSpPr>
          <p:spPr>
            <a:xfrm>
              <a:off x="632304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4" name=""/>
            <p:cNvSpPr/>
            <p:nvPr/>
          </p:nvSpPr>
          <p:spPr>
            <a:xfrm>
              <a:off x="595152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6186240" y="26287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618624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7" name=""/>
            <p:cNvSpPr/>
            <p:nvPr/>
          </p:nvSpPr>
          <p:spPr>
            <a:xfrm>
              <a:off x="5744880" y="312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591012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9" name=""/>
            <p:cNvSpPr/>
            <p:nvPr/>
          </p:nvSpPr>
          <p:spPr>
            <a:xfrm>
              <a:off x="6089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0" name=""/>
            <p:cNvSpPr/>
            <p:nvPr/>
          </p:nvSpPr>
          <p:spPr>
            <a:xfrm>
              <a:off x="6019560" y="280800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2"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3" name=""/>
            <p:cNvSpPr/>
            <p:nvPr/>
          </p:nvSpPr>
          <p:spPr>
            <a:xfrm>
              <a:off x="62546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4" name=""/>
            <p:cNvSpPr/>
            <p:nvPr/>
          </p:nvSpPr>
          <p:spPr>
            <a:xfrm>
              <a:off x="6914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5" name=""/>
            <p:cNvSpPr/>
            <p:nvPr/>
          </p:nvSpPr>
          <p:spPr>
            <a:xfrm>
              <a:off x="584172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6" name=""/>
            <p:cNvSpPr/>
            <p:nvPr/>
          </p:nvSpPr>
          <p:spPr>
            <a:xfrm>
              <a:off x="64609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540036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8" name=""/>
            <p:cNvSpPr/>
            <p:nvPr/>
          </p:nvSpPr>
          <p:spPr>
            <a:xfrm>
              <a:off x="659916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9" name=""/>
            <p:cNvSpPr/>
            <p:nvPr/>
          </p:nvSpPr>
          <p:spPr>
            <a:xfrm>
              <a:off x="615780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0" name=""/>
            <p:cNvSpPr/>
            <p:nvPr/>
          </p:nvSpPr>
          <p:spPr>
            <a:xfrm>
              <a:off x="58831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1" name=""/>
            <p:cNvSpPr/>
            <p:nvPr/>
          </p:nvSpPr>
          <p:spPr>
            <a:xfrm>
              <a:off x="6323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2" name=""/>
            <p:cNvSpPr/>
            <p:nvPr/>
          </p:nvSpPr>
          <p:spPr>
            <a:xfrm>
              <a:off x="62276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646092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4" name=""/>
            <p:cNvSpPr/>
            <p:nvPr/>
          </p:nvSpPr>
          <p:spPr>
            <a:xfrm>
              <a:off x="563544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5" name=""/>
            <p:cNvSpPr/>
            <p:nvPr/>
          </p:nvSpPr>
          <p:spPr>
            <a:xfrm>
              <a:off x="577188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6" name=""/>
            <p:cNvSpPr/>
            <p:nvPr/>
          </p:nvSpPr>
          <p:spPr>
            <a:xfrm>
              <a:off x="5400360" y="3055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7" name=""/>
            <p:cNvSpPr/>
            <p:nvPr/>
          </p:nvSpPr>
          <p:spPr>
            <a:xfrm>
              <a:off x="57038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8" name=""/>
            <p:cNvSpPr/>
            <p:nvPr/>
          </p:nvSpPr>
          <p:spPr>
            <a:xfrm>
              <a:off x="62960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9" name=""/>
            <p:cNvSpPr/>
            <p:nvPr/>
          </p:nvSpPr>
          <p:spPr>
            <a:xfrm>
              <a:off x="6019560" y="2808000"/>
              <a:ext cx="84240" cy="82800"/>
            </a:xfrm>
            <a:custGeom>
              <a:avLst/>
              <a:gdLst/>
              <a:ahLst/>
              <a:rect l="l" t="t" r="r" b="b"/>
              <a:pathLst>
                <a:path w="53" h="52">
                  <a:moveTo>
                    <a:pt x="27" y="0"/>
                  </a:moveTo>
                  <a:lnTo>
                    <a:pt x="53" y="26"/>
                  </a:lnTo>
                  <a:lnTo>
                    <a:pt x="27" y="52"/>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0" name=""/>
            <p:cNvSpPr/>
            <p:nvPr/>
          </p:nvSpPr>
          <p:spPr>
            <a:xfrm>
              <a:off x="646092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1" name=""/>
            <p:cNvSpPr/>
            <p:nvPr/>
          </p:nvSpPr>
          <p:spPr>
            <a:xfrm>
              <a:off x="61578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2" name=""/>
            <p:cNvSpPr/>
            <p:nvPr/>
          </p:nvSpPr>
          <p:spPr>
            <a:xfrm>
              <a:off x="62546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3" name=""/>
            <p:cNvSpPr/>
            <p:nvPr/>
          </p:nvSpPr>
          <p:spPr>
            <a:xfrm>
              <a:off x="643392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4" name=""/>
            <p:cNvSpPr/>
            <p:nvPr/>
          </p:nvSpPr>
          <p:spPr>
            <a:xfrm>
              <a:off x="68054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5" name=""/>
            <p:cNvSpPr/>
            <p:nvPr/>
          </p:nvSpPr>
          <p:spPr>
            <a:xfrm>
              <a:off x="604836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6" name=""/>
            <p:cNvSpPr/>
            <p:nvPr/>
          </p:nvSpPr>
          <p:spPr>
            <a:xfrm>
              <a:off x="588312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7" name=""/>
            <p:cNvSpPr/>
            <p:nvPr/>
          </p:nvSpPr>
          <p:spPr>
            <a:xfrm>
              <a:off x="6873840" y="2133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8" name=""/>
            <p:cNvSpPr/>
            <p:nvPr/>
          </p:nvSpPr>
          <p:spPr>
            <a:xfrm>
              <a:off x="650232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62960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0" name=""/>
            <p:cNvSpPr/>
            <p:nvPr/>
          </p:nvSpPr>
          <p:spPr>
            <a:xfrm>
              <a:off x="577188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1" name=""/>
            <p:cNvSpPr/>
            <p:nvPr/>
          </p:nvSpPr>
          <p:spPr>
            <a:xfrm>
              <a:off x="5883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2" name=""/>
            <p:cNvSpPr/>
            <p:nvPr/>
          </p:nvSpPr>
          <p:spPr>
            <a:xfrm>
              <a:off x="5429160" y="380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733" name=""/>
            <p:cNvGrpSpPr/>
            <p:nvPr/>
          </p:nvGrpSpPr>
          <p:grpSpPr>
            <a:xfrm>
              <a:off x="4849560" y="1514160"/>
              <a:ext cx="2548080" cy="2671920"/>
              <a:chOff x="4849560" y="1514160"/>
              <a:chExt cx="2548080" cy="2671920"/>
            </a:xfrm>
          </p:grpSpPr>
          <p:sp>
            <p:nvSpPr>
              <p:cNvPr id="734" name=""/>
              <p:cNvSpPr/>
              <p:nvPr/>
            </p:nvSpPr>
            <p:spPr>
              <a:xfrm>
                <a:off x="5470560" y="342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5" name=""/>
              <p:cNvSpPr/>
              <p:nvPr/>
            </p:nvSpPr>
            <p:spPr>
              <a:xfrm>
                <a:off x="618624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6" name=""/>
              <p:cNvSpPr/>
              <p:nvPr/>
            </p:nvSpPr>
            <p:spPr>
              <a:xfrm>
                <a:off x="6116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7" name=""/>
              <p:cNvSpPr/>
              <p:nvPr/>
            </p:nvSpPr>
            <p:spPr>
              <a:xfrm>
                <a:off x="5951520" y="2781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8" name=""/>
              <p:cNvSpPr/>
              <p:nvPr/>
            </p:nvSpPr>
            <p:spPr>
              <a:xfrm>
                <a:off x="608940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6089400" y="283500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0" name=""/>
              <p:cNvSpPr/>
              <p:nvPr/>
            </p:nvSpPr>
            <p:spPr>
              <a:xfrm>
                <a:off x="6157800" y="2890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1" name=""/>
              <p:cNvSpPr/>
              <p:nvPr/>
            </p:nvSpPr>
            <p:spPr>
              <a:xfrm>
                <a:off x="60483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2" name=""/>
              <p:cNvSpPr/>
              <p:nvPr/>
            </p:nvSpPr>
            <p:spPr>
              <a:xfrm>
                <a:off x="611640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62276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4" name=""/>
              <p:cNvSpPr/>
              <p:nvPr/>
            </p:nvSpPr>
            <p:spPr>
              <a:xfrm>
                <a:off x="5883120" y="30700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6048360" y="3014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6" name=""/>
              <p:cNvSpPr/>
              <p:nvPr/>
            </p:nvSpPr>
            <p:spPr>
              <a:xfrm>
                <a:off x="6157800" y="28224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7" name=""/>
              <p:cNvSpPr/>
              <p:nvPr/>
            </p:nvSpPr>
            <p:spPr>
              <a:xfrm>
                <a:off x="6089400" y="3028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8" name=""/>
              <p:cNvSpPr/>
              <p:nvPr/>
            </p:nvSpPr>
            <p:spPr>
              <a:xfrm>
                <a:off x="6048360" y="29462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9" name=""/>
              <p:cNvSpPr/>
              <p:nvPr/>
            </p:nvSpPr>
            <p:spPr>
              <a:xfrm>
                <a:off x="6254640" y="28224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0" name=""/>
              <p:cNvSpPr/>
              <p:nvPr/>
            </p:nvSpPr>
            <p:spPr>
              <a:xfrm>
                <a:off x="5924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560700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2" name=""/>
              <p:cNvSpPr/>
              <p:nvPr/>
            </p:nvSpPr>
            <p:spPr>
              <a:xfrm>
                <a:off x="585468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3" name=""/>
              <p:cNvSpPr/>
              <p:nvPr/>
            </p:nvSpPr>
            <p:spPr>
              <a:xfrm>
                <a:off x="67086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575928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537372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574488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5978520" y="317952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8" name=""/>
              <p:cNvSpPr/>
              <p:nvPr/>
            </p:nvSpPr>
            <p:spPr>
              <a:xfrm>
                <a:off x="5965560" y="3249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9" name=""/>
              <p:cNvSpPr/>
              <p:nvPr/>
            </p:nvSpPr>
            <p:spPr>
              <a:xfrm>
                <a:off x="5868720" y="3676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0" name=""/>
              <p:cNvSpPr/>
              <p:nvPr/>
            </p:nvSpPr>
            <p:spPr>
              <a:xfrm>
                <a:off x="56354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1" name=""/>
              <p:cNvSpPr/>
              <p:nvPr/>
            </p:nvSpPr>
            <p:spPr>
              <a:xfrm>
                <a:off x="66402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2" name=""/>
              <p:cNvSpPr/>
              <p:nvPr/>
            </p:nvSpPr>
            <p:spPr>
              <a:xfrm>
                <a:off x="5730840" y="385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3" name=""/>
              <p:cNvSpPr/>
              <p:nvPr/>
            </p:nvSpPr>
            <p:spPr>
              <a:xfrm>
                <a:off x="651672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4" name=""/>
              <p:cNvSpPr/>
              <p:nvPr/>
            </p:nvSpPr>
            <p:spPr>
              <a:xfrm>
                <a:off x="6006960" y="348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5" name=""/>
              <p:cNvSpPr/>
              <p:nvPr/>
            </p:nvSpPr>
            <p:spPr>
              <a:xfrm>
                <a:off x="5621040" y="3303360"/>
                <a:ext cx="8280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4946400" y="41036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508464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8" name=""/>
              <p:cNvSpPr/>
              <p:nvPr/>
            </p:nvSpPr>
            <p:spPr>
              <a:xfrm>
                <a:off x="595152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9" name=""/>
              <p:cNvSpPr/>
              <p:nvPr/>
            </p:nvSpPr>
            <p:spPr>
              <a:xfrm>
                <a:off x="5194080" y="348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 name=""/>
              <p:cNvSpPr/>
              <p:nvPr/>
            </p:nvSpPr>
            <p:spPr>
              <a:xfrm>
                <a:off x="570384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1" name=""/>
              <p:cNvSpPr/>
              <p:nvPr/>
            </p:nvSpPr>
            <p:spPr>
              <a:xfrm>
                <a:off x="64609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651672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3" name=""/>
              <p:cNvSpPr/>
              <p:nvPr/>
            </p:nvSpPr>
            <p:spPr>
              <a:xfrm>
                <a:off x="731520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4" name=""/>
              <p:cNvSpPr/>
              <p:nvPr/>
            </p:nvSpPr>
            <p:spPr>
              <a:xfrm>
                <a:off x="49878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540036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6" name=""/>
              <p:cNvSpPr/>
              <p:nvPr/>
            </p:nvSpPr>
            <p:spPr>
              <a:xfrm>
                <a:off x="523548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7" name=""/>
              <p:cNvSpPr/>
              <p:nvPr/>
            </p:nvSpPr>
            <p:spPr>
              <a:xfrm>
                <a:off x="51670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49608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540036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0" name=""/>
              <p:cNvSpPr/>
              <p:nvPr/>
            </p:nvSpPr>
            <p:spPr>
              <a:xfrm>
                <a:off x="523548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1" name=""/>
              <p:cNvSpPr/>
              <p:nvPr/>
            </p:nvSpPr>
            <p:spPr>
              <a:xfrm>
                <a:off x="502920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2" name=""/>
              <p:cNvSpPr/>
              <p:nvPr/>
            </p:nvSpPr>
            <p:spPr>
              <a:xfrm>
                <a:off x="496080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3" name=""/>
              <p:cNvSpPr/>
              <p:nvPr/>
            </p:nvSpPr>
            <p:spPr>
              <a:xfrm>
                <a:off x="5056200" y="3303360"/>
                <a:ext cx="83880" cy="84240"/>
              </a:xfrm>
              <a:custGeom>
                <a:avLst/>
                <a:gdLst/>
                <a:ahLst/>
                <a:rect l="l" t="t" r="r" b="b"/>
                <a:pathLst>
                  <a:path w="53" h="53">
                    <a:moveTo>
                      <a:pt x="27" y="0"/>
                    </a:moveTo>
                    <a:lnTo>
                      <a:pt x="53" y="26"/>
                    </a:lnTo>
                    <a:lnTo>
                      <a:pt x="27" y="53"/>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570384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5" name=""/>
              <p:cNvSpPr/>
              <p:nvPr/>
            </p:nvSpPr>
            <p:spPr>
              <a:xfrm>
                <a:off x="4849560" y="3676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5538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7" name=""/>
              <p:cNvSpPr/>
              <p:nvPr/>
            </p:nvSpPr>
            <p:spPr>
              <a:xfrm>
                <a:off x="535932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8" name=""/>
              <p:cNvSpPr/>
              <p:nvPr/>
            </p:nvSpPr>
            <p:spPr>
              <a:xfrm>
                <a:off x="553860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50990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0" name=""/>
              <p:cNvSpPr/>
              <p:nvPr/>
            </p:nvSpPr>
            <p:spPr>
              <a:xfrm>
                <a:off x="5744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1" name=""/>
              <p:cNvSpPr/>
              <p:nvPr/>
            </p:nvSpPr>
            <p:spPr>
              <a:xfrm>
                <a:off x="512604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2" name=""/>
              <p:cNvSpPr/>
              <p:nvPr/>
            </p:nvSpPr>
            <p:spPr>
              <a:xfrm>
                <a:off x="51940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4291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4" name=""/>
              <p:cNvSpPr/>
              <p:nvPr/>
            </p:nvSpPr>
            <p:spPr>
              <a:xfrm>
                <a:off x="54291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5359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540036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7" name=""/>
              <p:cNvSpPr/>
              <p:nvPr/>
            </p:nvSpPr>
            <p:spPr>
              <a:xfrm>
                <a:off x="530532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8" name=""/>
              <p:cNvSpPr/>
              <p:nvPr/>
            </p:nvSpPr>
            <p:spPr>
              <a:xfrm>
                <a:off x="5194080" y="3179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9" name=""/>
              <p:cNvSpPr/>
              <p:nvPr/>
            </p:nvSpPr>
            <p:spPr>
              <a:xfrm>
                <a:off x="519408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0" name=""/>
              <p:cNvSpPr/>
              <p:nvPr/>
            </p:nvSpPr>
            <p:spPr>
              <a:xfrm>
                <a:off x="5771880" y="22572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 name=""/>
              <p:cNvSpPr/>
              <p:nvPr/>
            </p:nvSpPr>
            <p:spPr>
              <a:xfrm>
                <a:off x="542916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3593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 name=""/>
              <p:cNvSpPr/>
              <p:nvPr/>
            </p:nvSpPr>
            <p:spPr>
              <a:xfrm>
                <a:off x="540036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4" name=""/>
              <p:cNvSpPr/>
              <p:nvPr/>
            </p:nvSpPr>
            <p:spPr>
              <a:xfrm>
                <a:off x="54705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5" name=""/>
              <p:cNvSpPr/>
              <p:nvPr/>
            </p:nvSpPr>
            <p:spPr>
              <a:xfrm>
                <a:off x="540036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6" name=""/>
              <p:cNvSpPr/>
              <p:nvPr/>
            </p:nvSpPr>
            <p:spPr>
              <a:xfrm>
                <a:off x="618624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7" name=""/>
              <p:cNvSpPr/>
              <p:nvPr/>
            </p:nvSpPr>
            <p:spPr>
              <a:xfrm>
                <a:off x="5703840" y="20779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8" name=""/>
              <p:cNvSpPr/>
              <p:nvPr/>
            </p:nvSpPr>
            <p:spPr>
              <a:xfrm>
                <a:off x="5676840" y="19540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9" name=""/>
              <p:cNvSpPr/>
              <p:nvPr/>
            </p:nvSpPr>
            <p:spPr>
              <a:xfrm>
                <a:off x="5056200" y="3303360"/>
                <a:ext cx="83880" cy="84240"/>
              </a:xfrm>
              <a:custGeom>
                <a:avLst/>
                <a:gdLst/>
                <a:ahLst/>
                <a:rect l="l" t="t" r="r" b="b"/>
                <a:pathLst>
                  <a:path w="53" h="53">
                    <a:moveTo>
                      <a:pt x="27" y="0"/>
                    </a:moveTo>
                    <a:lnTo>
                      <a:pt x="53" y="26"/>
                    </a:lnTo>
                    <a:lnTo>
                      <a:pt x="27" y="53"/>
                    </a:lnTo>
                    <a:lnTo>
                      <a:pt x="0" y="26"/>
                    </a:lnTo>
                    <a:lnTo>
                      <a:pt x="27"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549720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49878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2" name=""/>
              <p:cNvSpPr/>
              <p:nvPr/>
            </p:nvSpPr>
            <p:spPr>
              <a:xfrm>
                <a:off x="523548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3" name=""/>
              <p:cNvSpPr/>
              <p:nvPr/>
            </p:nvSpPr>
            <p:spPr>
              <a:xfrm>
                <a:off x="5607000" y="218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4" name=""/>
              <p:cNvSpPr/>
              <p:nvPr/>
            </p:nvSpPr>
            <p:spPr>
              <a:xfrm>
                <a:off x="542916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5" name=""/>
              <p:cNvSpPr/>
              <p:nvPr/>
            </p:nvSpPr>
            <p:spPr>
              <a:xfrm>
                <a:off x="526392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6" name=""/>
              <p:cNvSpPr/>
              <p:nvPr/>
            </p:nvSpPr>
            <p:spPr>
              <a:xfrm>
                <a:off x="567684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 name=""/>
              <p:cNvSpPr/>
              <p:nvPr/>
            </p:nvSpPr>
            <p:spPr>
              <a:xfrm>
                <a:off x="549720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8" name=""/>
              <p:cNvSpPr/>
              <p:nvPr/>
            </p:nvSpPr>
            <p:spPr>
              <a:xfrm>
                <a:off x="523548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9" name=""/>
              <p:cNvSpPr/>
              <p:nvPr/>
            </p:nvSpPr>
            <p:spPr>
              <a:xfrm>
                <a:off x="56070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4849560" y="3924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1" name=""/>
              <p:cNvSpPr/>
              <p:nvPr/>
            </p:nvSpPr>
            <p:spPr>
              <a:xfrm>
                <a:off x="581328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2" name=""/>
              <p:cNvSpPr/>
              <p:nvPr/>
            </p:nvSpPr>
            <p:spPr>
              <a:xfrm>
                <a:off x="526392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3" name=""/>
              <p:cNvSpPr/>
              <p:nvPr/>
            </p:nvSpPr>
            <p:spPr>
              <a:xfrm>
                <a:off x="5099040" y="32493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4" name=""/>
              <p:cNvSpPr/>
              <p:nvPr/>
            </p:nvSpPr>
            <p:spPr>
              <a:xfrm>
                <a:off x="526392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5978520" y="2189160"/>
                <a:ext cx="83880" cy="8244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6" name=""/>
              <p:cNvSpPr/>
              <p:nvPr/>
            </p:nvSpPr>
            <p:spPr>
              <a:xfrm>
                <a:off x="489096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7" name=""/>
              <p:cNvSpPr/>
              <p:nvPr/>
            </p:nvSpPr>
            <p:spPr>
              <a:xfrm>
                <a:off x="526392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8" name=""/>
              <p:cNvSpPr/>
              <p:nvPr/>
            </p:nvSpPr>
            <p:spPr>
              <a:xfrm>
                <a:off x="549720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 name=""/>
              <p:cNvSpPr/>
              <p:nvPr/>
            </p:nvSpPr>
            <p:spPr>
              <a:xfrm>
                <a:off x="523548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a:off x="535932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1" name=""/>
              <p:cNvSpPr/>
              <p:nvPr/>
            </p:nvSpPr>
            <p:spPr>
              <a:xfrm>
                <a:off x="542916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2" name=""/>
              <p:cNvSpPr/>
              <p:nvPr/>
            </p:nvSpPr>
            <p:spPr>
              <a:xfrm>
                <a:off x="563544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53323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4" name=""/>
              <p:cNvSpPr/>
              <p:nvPr/>
            </p:nvSpPr>
            <p:spPr>
              <a:xfrm>
                <a:off x="530532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50990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6" name=""/>
              <p:cNvSpPr/>
              <p:nvPr/>
            </p:nvSpPr>
            <p:spPr>
              <a:xfrm>
                <a:off x="530532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7" name=""/>
              <p:cNvSpPr/>
              <p:nvPr/>
            </p:nvSpPr>
            <p:spPr>
              <a:xfrm>
                <a:off x="5332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549720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9" name=""/>
              <p:cNvSpPr/>
              <p:nvPr/>
            </p:nvSpPr>
            <p:spPr>
              <a:xfrm>
                <a:off x="526392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0" name=""/>
              <p:cNvSpPr/>
              <p:nvPr/>
            </p:nvSpPr>
            <p:spPr>
              <a:xfrm>
                <a:off x="56354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1" name=""/>
              <p:cNvSpPr/>
              <p:nvPr/>
            </p:nvSpPr>
            <p:spPr>
              <a:xfrm>
                <a:off x="547056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2" name=""/>
              <p:cNvSpPr/>
              <p:nvPr/>
            </p:nvSpPr>
            <p:spPr>
              <a:xfrm>
                <a:off x="556560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5400360" y="300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4" name=""/>
              <p:cNvSpPr/>
              <p:nvPr/>
            </p:nvSpPr>
            <p:spPr>
              <a:xfrm>
                <a:off x="55386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530532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5029200" y="3359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7" name=""/>
              <p:cNvSpPr/>
              <p:nvPr/>
            </p:nvSpPr>
            <p:spPr>
              <a:xfrm>
                <a:off x="54705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8" name=""/>
              <p:cNvSpPr/>
              <p:nvPr/>
            </p:nvSpPr>
            <p:spPr>
              <a:xfrm>
                <a:off x="556560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9" name=""/>
              <p:cNvSpPr/>
              <p:nvPr/>
            </p:nvSpPr>
            <p:spPr>
              <a:xfrm>
                <a:off x="549720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0" name=""/>
              <p:cNvSpPr/>
              <p:nvPr/>
            </p:nvSpPr>
            <p:spPr>
              <a:xfrm>
                <a:off x="512604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55656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2" name=""/>
              <p:cNvSpPr/>
              <p:nvPr/>
            </p:nvSpPr>
            <p:spPr>
              <a:xfrm>
                <a:off x="547056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3" name=""/>
              <p:cNvSpPr/>
              <p:nvPr/>
            </p:nvSpPr>
            <p:spPr>
              <a:xfrm>
                <a:off x="549720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4" name=""/>
              <p:cNvSpPr/>
              <p:nvPr/>
            </p:nvSpPr>
            <p:spPr>
              <a:xfrm>
                <a:off x="6089400" y="280800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a:off x="6653160" y="20779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6" name=""/>
              <p:cNvSpPr/>
              <p:nvPr/>
            </p:nvSpPr>
            <p:spPr>
              <a:xfrm>
                <a:off x="5084640" y="355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5978520" y="238104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8" name=""/>
              <p:cNvSpPr/>
              <p:nvPr/>
            </p:nvSpPr>
            <p:spPr>
              <a:xfrm>
                <a:off x="5140080" y="3179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9" name=""/>
              <p:cNvSpPr/>
              <p:nvPr/>
            </p:nvSpPr>
            <p:spPr>
              <a:xfrm>
                <a:off x="56070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0" name=""/>
              <p:cNvSpPr/>
              <p:nvPr/>
            </p:nvSpPr>
            <p:spPr>
              <a:xfrm>
                <a:off x="6611760" y="188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1" name=""/>
              <p:cNvSpPr/>
              <p:nvPr/>
            </p:nvSpPr>
            <p:spPr>
              <a:xfrm>
                <a:off x="6970680" y="151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2" name=""/>
              <p:cNvSpPr/>
              <p:nvPr/>
            </p:nvSpPr>
            <p:spPr>
              <a:xfrm>
                <a:off x="6900840" y="158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3" name=""/>
              <p:cNvSpPr/>
              <p:nvPr/>
            </p:nvSpPr>
            <p:spPr>
              <a:xfrm>
                <a:off x="7011720" y="158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4" name=""/>
              <p:cNvSpPr/>
              <p:nvPr/>
            </p:nvSpPr>
            <p:spPr>
              <a:xfrm>
                <a:off x="544176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5" name=""/>
              <p:cNvSpPr/>
              <p:nvPr/>
            </p:nvSpPr>
            <p:spPr>
              <a:xfrm>
                <a:off x="542916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563544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7" name=""/>
              <p:cNvSpPr/>
              <p:nvPr/>
            </p:nvSpPr>
            <p:spPr>
              <a:xfrm>
                <a:off x="573084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8" name=""/>
              <p:cNvSpPr/>
              <p:nvPr/>
            </p:nvSpPr>
            <p:spPr>
              <a:xfrm>
                <a:off x="611640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69" name=""/>
              <p:cNvSpPr/>
              <p:nvPr/>
            </p:nvSpPr>
            <p:spPr>
              <a:xfrm>
                <a:off x="567684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0" name=""/>
              <p:cNvSpPr/>
              <p:nvPr/>
            </p:nvSpPr>
            <p:spPr>
              <a:xfrm>
                <a:off x="60339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 name=""/>
              <p:cNvSpPr/>
              <p:nvPr/>
            </p:nvSpPr>
            <p:spPr>
              <a:xfrm>
                <a:off x="56624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
              <p:cNvSpPr/>
              <p:nvPr/>
            </p:nvSpPr>
            <p:spPr>
              <a:xfrm>
                <a:off x="5813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3" name=""/>
              <p:cNvSpPr/>
              <p:nvPr/>
            </p:nvSpPr>
            <p:spPr>
              <a:xfrm>
                <a:off x="596556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a:off x="5676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5" name=""/>
              <p:cNvSpPr/>
              <p:nvPr/>
            </p:nvSpPr>
            <p:spPr>
              <a:xfrm>
                <a:off x="5771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6" name=""/>
              <p:cNvSpPr/>
              <p:nvPr/>
            </p:nvSpPr>
            <p:spPr>
              <a:xfrm>
                <a:off x="5992560" y="20779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
              <p:cNvSpPr/>
              <p:nvPr/>
            </p:nvSpPr>
            <p:spPr>
              <a:xfrm>
                <a:off x="606240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8" name=""/>
              <p:cNvSpPr/>
              <p:nvPr/>
            </p:nvSpPr>
            <p:spPr>
              <a:xfrm>
                <a:off x="595152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9" name=""/>
              <p:cNvSpPr/>
              <p:nvPr/>
            </p:nvSpPr>
            <p:spPr>
              <a:xfrm>
                <a:off x="5662440" y="3179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0" name=""/>
              <p:cNvSpPr/>
              <p:nvPr/>
            </p:nvSpPr>
            <p:spPr>
              <a:xfrm>
                <a:off x="568944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1" name=""/>
              <p:cNvSpPr/>
              <p:nvPr/>
            </p:nvSpPr>
            <p:spPr>
              <a:xfrm>
                <a:off x="56070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55116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3" name=""/>
              <p:cNvSpPr/>
              <p:nvPr/>
            </p:nvSpPr>
            <p:spPr>
              <a:xfrm>
                <a:off x="5580000" y="2876400"/>
                <a:ext cx="8244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a:off x="54417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5" name=""/>
              <p:cNvSpPr/>
              <p:nvPr/>
            </p:nvSpPr>
            <p:spPr>
              <a:xfrm>
                <a:off x="5744880" y="231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6" name=""/>
              <p:cNvSpPr/>
              <p:nvPr/>
            </p:nvSpPr>
            <p:spPr>
              <a:xfrm>
                <a:off x="592452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570384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a:off x="541476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9" name=""/>
              <p:cNvSpPr/>
              <p:nvPr/>
            </p:nvSpPr>
            <p:spPr>
              <a:xfrm>
                <a:off x="5717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0" name=""/>
              <p:cNvSpPr/>
              <p:nvPr/>
            </p:nvSpPr>
            <p:spPr>
              <a:xfrm>
                <a:off x="578628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1" name=""/>
              <p:cNvSpPr/>
              <p:nvPr/>
            </p:nvSpPr>
            <p:spPr>
              <a:xfrm>
                <a:off x="591012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2" name=""/>
              <p:cNvSpPr/>
              <p:nvPr/>
            </p:nvSpPr>
            <p:spPr>
              <a:xfrm>
                <a:off x="5978520" y="2133360"/>
                <a:ext cx="83880" cy="8280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3" name=""/>
              <p:cNvSpPr/>
              <p:nvPr/>
            </p:nvSpPr>
            <p:spPr>
              <a:xfrm>
                <a:off x="5648040" y="24368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5717880" y="2313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541476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6" name=""/>
              <p:cNvSpPr/>
              <p:nvPr/>
            </p:nvSpPr>
            <p:spPr>
              <a:xfrm>
                <a:off x="558000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5703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8" name=""/>
              <p:cNvSpPr/>
              <p:nvPr/>
            </p:nvSpPr>
            <p:spPr>
              <a:xfrm>
                <a:off x="555300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9" name=""/>
              <p:cNvSpPr/>
              <p:nvPr/>
            </p:nvSpPr>
            <p:spPr>
              <a:xfrm>
                <a:off x="56624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56624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1" name=""/>
              <p:cNvSpPr/>
              <p:nvPr/>
            </p:nvSpPr>
            <p:spPr>
              <a:xfrm>
                <a:off x="5565600" y="300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2" name=""/>
              <p:cNvSpPr/>
              <p:nvPr/>
            </p:nvSpPr>
            <p:spPr>
              <a:xfrm>
                <a:off x="55530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3" name=""/>
              <p:cNvSpPr/>
              <p:nvPr/>
            </p:nvSpPr>
            <p:spPr>
              <a:xfrm>
                <a:off x="5580000" y="2684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4" name=""/>
              <p:cNvSpPr/>
              <p:nvPr/>
            </p:nvSpPr>
            <p:spPr>
              <a:xfrm>
                <a:off x="5717880" y="27525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5580000" y="25048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 name=""/>
              <p:cNvSpPr/>
              <p:nvPr/>
            </p:nvSpPr>
            <p:spPr>
              <a:xfrm>
                <a:off x="542916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7" name=""/>
              <p:cNvSpPr/>
              <p:nvPr/>
            </p:nvSpPr>
            <p:spPr>
              <a:xfrm>
                <a:off x="5511600" y="312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8" name=""/>
              <p:cNvSpPr/>
              <p:nvPr/>
            </p:nvSpPr>
            <p:spPr>
              <a:xfrm>
                <a:off x="55800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09" name=""/>
              <p:cNvSpPr/>
              <p:nvPr/>
            </p:nvSpPr>
            <p:spPr>
              <a:xfrm>
                <a:off x="56624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0" name=""/>
              <p:cNvSpPr/>
              <p:nvPr/>
            </p:nvSpPr>
            <p:spPr>
              <a:xfrm>
                <a:off x="566244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1" name=""/>
              <p:cNvSpPr/>
              <p:nvPr/>
            </p:nvSpPr>
            <p:spPr>
              <a:xfrm>
                <a:off x="558000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2" name=""/>
              <p:cNvSpPr/>
              <p:nvPr/>
            </p:nvSpPr>
            <p:spPr>
              <a:xfrm>
                <a:off x="580068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5703840" y="29318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4" name=""/>
              <p:cNvSpPr/>
              <p:nvPr/>
            </p:nvSpPr>
            <p:spPr>
              <a:xfrm>
                <a:off x="5553000" y="2560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a:off x="58006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6" name=""/>
              <p:cNvSpPr/>
              <p:nvPr/>
            </p:nvSpPr>
            <p:spPr>
              <a:xfrm>
                <a:off x="5689440" y="27525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7" name=""/>
              <p:cNvSpPr/>
              <p:nvPr/>
            </p:nvSpPr>
            <p:spPr>
              <a:xfrm>
                <a:off x="5744880" y="2684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8" name=""/>
              <p:cNvSpPr/>
              <p:nvPr/>
            </p:nvSpPr>
            <p:spPr>
              <a:xfrm>
                <a:off x="563544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9" name=""/>
              <p:cNvSpPr/>
              <p:nvPr/>
            </p:nvSpPr>
            <p:spPr>
              <a:xfrm>
                <a:off x="551160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 name=""/>
              <p:cNvSpPr/>
              <p:nvPr/>
            </p:nvSpPr>
            <p:spPr>
              <a:xfrm>
                <a:off x="5744880" y="29318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 name=""/>
              <p:cNvSpPr/>
              <p:nvPr/>
            </p:nvSpPr>
            <p:spPr>
              <a:xfrm>
                <a:off x="593712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2" name=""/>
              <p:cNvSpPr/>
              <p:nvPr/>
            </p:nvSpPr>
            <p:spPr>
              <a:xfrm>
                <a:off x="575928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3" name=""/>
              <p:cNvSpPr/>
              <p:nvPr/>
            </p:nvSpPr>
            <p:spPr>
              <a:xfrm>
                <a:off x="5937120" y="26287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4" name=""/>
              <p:cNvSpPr/>
              <p:nvPr/>
            </p:nvSpPr>
            <p:spPr>
              <a:xfrm>
                <a:off x="593712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596556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6" name=""/>
              <p:cNvSpPr/>
              <p:nvPr/>
            </p:nvSpPr>
            <p:spPr>
              <a:xfrm>
                <a:off x="5744880" y="21333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7" name=""/>
              <p:cNvSpPr/>
              <p:nvPr/>
            </p:nvSpPr>
            <p:spPr>
              <a:xfrm>
                <a:off x="5883120" y="238104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8" name=""/>
              <p:cNvSpPr/>
              <p:nvPr/>
            </p:nvSpPr>
            <p:spPr>
              <a:xfrm>
                <a:off x="5771880" y="2876400"/>
                <a:ext cx="82800" cy="84240"/>
              </a:xfrm>
              <a:custGeom>
                <a:avLst/>
                <a:gdLst/>
                <a:ahLst/>
                <a:rect l="l" t="t" r="r" b="b"/>
                <a:pathLst>
                  <a:path w="52" h="53">
                    <a:moveTo>
                      <a:pt x="26" y="0"/>
                    </a:moveTo>
                    <a:lnTo>
                      <a:pt x="52" y="27"/>
                    </a:lnTo>
                    <a:lnTo>
                      <a:pt x="26" y="53"/>
                    </a:lnTo>
                    <a:lnTo>
                      <a:pt x="0" y="27"/>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9" name=""/>
              <p:cNvSpPr/>
              <p:nvPr/>
            </p:nvSpPr>
            <p:spPr>
              <a:xfrm>
                <a:off x="5703840" y="243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0" name=""/>
              <p:cNvSpPr/>
              <p:nvPr/>
            </p:nvSpPr>
            <p:spPr>
              <a:xfrm>
                <a:off x="5854680" y="22572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1" name=""/>
              <p:cNvSpPr/>
              <p:nvPr/>
            </p:nvSpPr>
            <p:spPr>
              <a:xfrm>
                <a:off x="5717880" y="238104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2" name=""/>
              <p:cNvSpPr/>
              <p:nvPr/>
            </p:nvSpPr>
            <p:spPr>
              <a:xfrm>
                <a:off x="6213240" y="25606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3" name=""/>
              <p:cNvSpPr/>
              <p:nvPr/>
            </p:nvSpPr>
            <p:spPr>
              <a:xfrm>
                <a:off x="5786280" y="2808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34" name=""/>
            <p:cNvSpPr/>
            <p:nvPr/>
          </p:nvSpPr>
          <p:spPr>
            <a:xfrm>
              <a:off x="5978520" y="2436840"/>
              <a:ext cx="83880" cy="82440"/>
            </a:xfrm>
            <a:custGeom>
              <a:avLst/>
              <a:gdLst/>
              <a:ahLst/>
              <a:rect l="l" t="t" r="r" b="b"/>
              <a:pathLst>
                <a:path w="53" h="52">
                  <a:moveTo>
                    <a:pt x="26" y="0"/>
                  </a:moveTo>
                  <a:lnTo>
                    <a:pt x="53"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a:off x="5895720" y="342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6" name=""/>
            <p:cNvSpPr/>
            <p:nvPr/>
          </p:nvSpPr>
          <p:spPr>
            <a:xfrm>
              <a:off x="5538600" y="3303360"/>
              <a:ext cx="82440" cy="84240"/>
            </a:xfrm>
            <a:custGeom>
              <a:avLst/>
              <a:gdLst/>
              <a:ahLst/>
              <a:rect l="l" t="t" r="r" b="b"/>
              <a:pathLst>
                <a:path w="52" h="53">
                  <a:moveTo>
                    <a:pt x="26" y="0"/>
                  </a:moveTo>
                  <a:lnTo>
                    <a:pt x="52" y="26"/>
                  </a:lnTo>
                  <a:lnTo>
                    <a:pt x="26" y="53"/>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a:off x="5910120" y="3055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8" name=""/>
            <p:cNvSpPr/>
            <p:nvPr/>
          </p:nvSpPr>
          <p:spPr>
            <a:xfrm>
              <a:off x="6557760" y="2313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9" name=""/>
            <p:cNvSpPr/>
            <p:nvPr/>
          </p:nvSpPr>
          <p:spPr>
            <a:xfrm>
              <a:off x="6364080" y="25048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418932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1" name=""/>
            <p:cNvSpPr/>
            <p:nvPr/>
          </p:nvSpPr>
          <p:spPr>
            <a:xfrm>
              <a:off x="4106880" y="360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a:off x="4259160" y="37303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3" name=""/>
            <p:cNvSpPr/>
            <p:nvPr/>
          </p:nvSpPr>
          <p:spPr>
            <a:xfrm>
              <a:off x="4286160" y="3606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4135320" y="367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5" name=""/>
            <p:cNvSpPr/>
            <p:nvPr/>
          </p:nvSpPr>
          <p:spPr>
            <a:xfrm>
              <a:off x="379080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6" name=""/>
            <p:cNvSpPr/>
            <p:nvPr/>
          </p:nvSpPr>
          <p:spPr>
            <a:xfrm>
              <a:off x="4024080" y="37303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7" name=""/>
            <p:cNvSpPr/>
            <p:nvPr/>
          </p:nvSpPr>
          <p:spPr>
            <a:xfrm>
              <a:off x="3378240" y="472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8" name=""/>
            <p:cNvSpPr/>
            <p:nvPr/>
          </p:nvSpPr>
          <p:spPr>
            <a:xfrm>
              <a:off x="33638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9" name=""/>
            <p:cNvSpPr/>
            <p:nvPr/>
          </p:nvSpPr>
          <p:spPr>
            <a:xfrm>
              <a:off x="33782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0" name=""/>
            <p:cNvSpPr/>
            <p:nvPr/>
          </p:nvSpPr>
          <p:spPr>
            <a:xfrm>
              <a:off x="333684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1" name=""/>
            <p:cNvSpPr/>
            <p:nvPr/>
          </p:nvSpPr>
          <p:spPr>
            <a:xfrm>
              <a:off x="3225600" y="497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2" name=""/>
            <p:cNvSpPr/>
            <p:nvPr/>
          </p:nvSpPr>
          <p:spPr>
            <a:xfrm>
              <a:off x="3693960" y="380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3" name=""/>
            <p:cNvSpPr/>
            <p:nvPr/>
          </p:nvSpPr>
          <p:spPr>
            <a:xfrm>
              <a:off x="318456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4" name=""/>
            <p:cNvSpPr/>
            <p:nvPr/>
          </p:nvSpPr>
          <p:spPr>
            <a:xfrm>
              <a:off x="3363840" y="47782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5" name=""/>
            <p:cNvSpPr/>
            <p:nvPr/>
          </p:nvSpPr>
          <p:spPr>
            <a:xfrm>
              <a:off x="318456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6" name=""/>
            <p:cNvSpPr/>
            <p:nvPr/>
          </p:nvSpPr>
          <p:spPr>
            <a:xfrm>
              <a:off x="3198600" y="4970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7" name=""/>
            <p:cNvSpPr/>
            <p:nvPr/>
          </p:nvSpPr>
          <p:spPr>
            <a:xfrm>
              <a:off x="3184560" y="49021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8" name=""/>
            <p:cNvSpPr/>
            <p:nvPr/>
          </p:nvSpPr>
          <p:spPr>
            <a:xfrm>
              <a:off x="337824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9" name=""/>
            <p:cNvSpPr/>
            <p:nvPr/>
          </p:nvSpPr>
          <p:spPr>
            <a:xfrm>
              <a:off x="3446280" y="417168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0" name=""/>
            <p:cNvSpPr/>
            <p:nvPr/>
          </p:nvSpPr>
          <p:spPr>
            <a:xfrm>
              <a:off x="352872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1" name=""/>
            <p:cNvSpPr/>
            <p:nvPr/>
          </p:nvSpPr>
          <p:spPr>
            <a:xfrm>
              <a:off x="329544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2" name=""/>
            <p:cNvSpPr/>
            <p:nvPr/>
          </p:nvSpPr>
          <p:spPr>
            <a:xfrm>
              <a:off x="3157560" y="49021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3" name=""/>
            <p:cNvSpPr/>
            <p:nvPr/>
          </p:nvSpPr>
          <p:spPr>
            <a:xfrm>
              <a:off x="341928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4" name=""/>
            <p:cNvSpPr/>
            <p:nvPr/>
          </p:nvSpPr>
          <p:spPr>
            <a:xfrm>
              <a:off x="4341600" y="33591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5" name=""/>
            <p:cNvSpPr/>
            <p:nvPr/>
          </p:nvSpPr>
          <p:spPr>
            <a:xfrm>
              <a:off x="3679560" y="435132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6" name=""/>
            <p:cNvSpPr/>
            <p:nvPr/>
          </p:nvSpPr>
          <p:spPr>
            <a:xfrm>
              <a:off x="398304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7" name=""/>
            <p:cNvSpPr/>
            <p:nvPr/>
          </p:nvSpPr>
          <p:spPr>
            <a:xfrm>
              <a:off x="372096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8" name=""/>
            <p:cNvSpPr/>
            <p:nvPr/>
          </p:nvSpPr>
          <p:spPr>
            <a:xfrm>
              <a:off x="3720960" y="42274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9" name=""/>
            <p:cNvSpPr/>
            <p:nvPr/>
          </p:nvSpPr>
          <p:spPr>
            <a:xfrm>
              <a:off x="367956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0"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1" name=""/>
            <p:cNvSpPr/>
            <p:nvPr/>
          </p:nvSpPr>
          <p:spPr>
            <a:xfrm>
              <a:off x="3983040" y="44067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2" name=""/>
            <p:cNvSpPr/>
            <p:nvPr/>
          </p:nvSpPr>
          <p:spPr>
            <a:xfrm>
              <a:off x="348768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3" name=""/>
            <p:cNvSpPr/>
            <p:nvPr/>
          </p:nvSpPr>
          <p:spPr>
            <a:xfrm>
              <a:off x="348768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4" name=""/>
            <p:cNvSpPr/>
            <p:nvPr/>
          </p:nvSpPr>
          <p:spPr>
            <a:xfrm>
              <a:off x="337824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5" name=""/>
            <p:cNvSpPr/>
            <p:nvPr/>
          </p:nvSpPr>
          <p:spPr>
            <a:xfrm>
              <a:off x="3625560" y="429552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6" name=""/>
            <p:cNvSpPr/>
            <p:nvPr/>
          </p:nvSpPr>
          <p:spPr>
            <a:xfrm>
              <a:off x="3790800" y="43513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7" name=""/>
            <p:cNvSpPr/>
            <p:nvPr/>
          </p:nvSpPr>
          <p:spPr>
            <a:xfrm>
              <a:off x="3900240" y="46544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8" name=""/>
            <p:cNvSpPr/>
            <p:nvPr/>
          </p:nvSpPr>
          <p:spPr>
            <a:xfrm>
              <a:off x="3666960" y="47228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9" name=""/>
            <p:cNvSpPr/>
            <p:nvPr/>
          </p:nvSpPr>
          <p:spPr>
            <a:xfrm>
              <a:off x="3927240" y="440676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0" name=""/>
            <p:cNvSpPr/>
            <p:nvPr/>
          </p:nvSpPr>
          <p:spPr>
            <a:xfrm>
              <a:off x="361152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1" name=""/>
            <p:cNvSpPr/>
            <p:nvPr/>
          </p:nvSpPr>
          <p:spPr>
            <a:xfrm>
              <a:off x="3859200" y="45990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2" name=""/>
            <p:cNvSpPr/>
            <p:nvPr/>
          </p:nvSpPr>
          <p:spPr>
            <a:xfrm>
              <a:off x="3378240" y="5273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3" name=""/>
            <p:cNvSpPr/>
            <p:nvPr/>
          </p:nvSpPr>
          <p:spPr>
            <a:xfrm>
              <a:off x="3914640" y="42274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4" name=""/>
            <p:cNvSpPr/>
            <p:nvPr/>
          </p:nvSpPr>
          <p:spPr>
            <a:xfrm>
              <a:off x="33782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5" name=""/>
            <p:cNvSpPr/>
            <p:nvPr/>
          </p:nvSpPr>
          <p:spPr>
            <a:xfrm>
              <a:off x="3240000" y="502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6" name=""/>
            <p:cNvSpPr/>
            <p:nvPr/>
          </p:nvSpPr>
          <p:spPr>
            <a:xfrm>
              <a:off x="3295440" y="527364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7" name=""/>
            <p:cNvSpPr/>
            <p:nvPr/>
          </p:nvSpPr>
          <p:spPr>
            <a:xfrm>
              <a:off x="3473280" y="44751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8" name=""/>
            <p:cNvSpPr/>
            <p:nvPr/>
          </p:nvSpPr>
          <p:spPr>
            <a:xfrm>
              <a:off x="3543120" y="509400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9" name=""/>
            <p:cNvSpPr/>
            <p:nvPr/>
          </p:nvSpPr>
          <p:spPr>
            <a:xfrm>
              <a:off x="3570120" y="45306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0" name=""/>
            <p:cNvSpPr/>
            <p:nvPr/>
          </p:nvSpPr>
          <p:spPr>
            <a:xfrm>
              <a:off x="33782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1" name=""/>
            <p:cNvSpPr/>
            <p:nvPr/>
          </p:nvSpPr>
          <p:spPr>
            <a:xfrm>
              <a:off x="3597120" y="484668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2" name=""/>
            <p:cNvSpPr/>
            <p:nvPr/>
          </p:nvSpPr>
          <p:spPr>
            <a:xfrm>
              <a:off x="384480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3"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4" name=""/>
            <p:cNvSpPr/>
            <p:nvPr/>
          </p:nvSpPr>
          <p:spPr>
            <a:xfrm>
              <a:off x="3873240" y="417168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5" name=""/>
            <p:cNvSpPr/>
            <p:nvPr/>
          </p:nvSpPr>
          <p:spPr>
            <a:xfrm>
              <a:off x="3528720" y="477828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6" name=""/>
            <p:cNvSpPr/>
            <p:nvPr/>
          </p:nvSpPr>
          <p:spPr>
            <a:xfrm>
              <a:off x="3336840" y="46544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7" name=""/>
            <p:cNvSpPr/>
            <p:nvPr/>
          </p:nvSpPr>
          <p:spPr>
            <a:xfrm>
              <a:off x="3927240" y="3800160"/>
              <a:ext cx="8280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8" name=""/>
            <p:cNvSpPr/>
            <p:nvPr/>
          </p:nvSpPr>
          <p:spPr>
            <a:xfrm>
              <a:off x="3240000" y="497016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99" name=""/>
            <p:cNvSpPr/>
            <p:nvPr/>
          </p:nvSpPr>
          <p:spPr>
            <a:xfrm>
              <a:off x="355572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0" name=""/>
            <p:cNvSpPr/>
            <p:nvPr/>
          </p:nvSpPr>
          <p:spPr>
            <a:xfrm>
              <a:off x="406548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1" name=""/>
            <p:cNvSpPr/>
            <p:nvPr/>
          </p:nvSpPr>
          <p:spPr>
            <a:xfrm>
              <a:off x="3956040" y="410364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2" name=""/>
            <p:cNvSpPr/>
            <p:nvPr/>
          </p:nvSpPr>
          <p:spPr>
            <a:xfrm>
              <a:off x="3803400" y="45990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3" name=""/>
            <p:cNvSpPr/>
            <p:nvPr/>
          </p:nvSpPr>
          <p:spPr>
            <a:xfrm>
              <a:off x="3968640" y="435132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4" name=""/>
            <p:cNvSpPr/>
            <p:nvPr/>
          </p:nvSpPr>
          <p:spPr>
            <a:xfrm>
              <a:off x="3968640" y="385596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5" name=""/>
            <p:cNvSpPr/>
            <p:nvPr/>
          </p:nvSpPr>
          <p:spPr>
            <a:xfrm>
              <a:off x="4024080" y="3979800"/>
              <a:ext cx="8280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6" name=""/>
            <p:cNvSpPr/>
            <p:nvPr/>
          </p:nvSpPr>
          <p:spPr>
            <a:xfrm>
              <a:off x="3956040" y="4295520"/>
              <a:ext cx="82440" cy="8280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7" name=""/>
            <p:cNvSpPr/>
            <p:nvPr/>
          </p:nvSpPr>
          <p:spPr>
            <a:xfrm>
              <a:off x="4010040" y="3979800"/>
              <a:ext cx="82440" cy="82440"/>
            </a:xfrm>
            <a:custGeom>
              <a:avLst/>
              <a:gdLst/>
              <a:ahLst/>
              <a:rect l="l" t="t" r="r" b="b"/>
              <a:pathLst>
                <a:path w="52" h="52">
                  <a:moveTo>
                    <a:pt x="26" y="0"/>
                  </a:moveTo>
                  <a:lnTo>
                    <a:pt x="52" y="26"/>
                  </a:lnTo>
                  <a:lnTo>
                    <a:pt x="26" y="52"/>
                  </a:lnTo>
                  <a:lnTo>
                    <a:pt x="0" y="26"/>
                  </a:lnTo>
                  <a:lnTo>
                    <a:pt x="26" y="0"/>
                  </a:lnTo>
                  <a:close/>
                </a:path>
              </a:pathLst>
            </a:custGeom>
            <a:solidFill>
              <a:srgbClr val="000080"/>
            </a:solidFill>
            <a:ln w="144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2261160" y="5329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09" name=""/>
            <p:cNvSpPr/>
            <p:nvPr/>
          </p:nvSpPr>
          <p:spPr>
            <a:xfrm>
              <a:off x="2261160" y="4708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p:txBody>
        </p:sp>
        <p:sp>
          <p:nvSpPr>
            <p:cNvPr id="1010" name=""/>
            <p:cNvSpPr/>
            <p:nvPr/>
          </p:nvSpPr>
          <p:spPr>
            <a:xfrm>
              <a:off x="2261160" y="41036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011" name=""/>
            <p:cNvSpPr/>
            <p:nvPr/>
          </p:nvSpPr>
          <p:spPr>
            <a:xfrm>
              <a:off x="2261160" y="3483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p:txBody>
        </p:sp>
        <p:sp>
          <p:nvSpPr>
            <p:cNvPr id="1012" name=""/>
            <p:cNvSpPr/>
            <p:nvPr/>
          </p:nvSpPr>
          <p:spPr>
            <a:xfrm>
              <a:off x="2261160" y="2863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0</a:t>
              </a:r>
              <a:endParaRPr b="0" lang="en-US" sz="1400" spc="-1" strike="noStrike">
                <a:solidFill>
                  <a:srgbClr val="000000"/>
                </a:solidFill>
                <a:latin typeface="Times New Roman"/>
              </a:endParaRPr>
            </a:p>
          </p:txBody>
        </p:sp>
        <p:sp>
          <p:nvSpPr>
            <p:cNvPr id="1013" name=""/>
            <p:cNvSpPr/>
            <p:nvPr/>
          </p:nvSpPr>
          <p:spPr>
            <a:xfrm>
              <a:off x="2261160" y="224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0</a:t>
              </a:r>
              <a:endParaRPr b="0" lang="en-US" sz="1400" spc="-1" strike="noStrike">
                <a:solidFill>
                  <a:srgbClr val="000000"/>
                </a:solidFill>
                <a:latin typeface="Times New Roman"/>
              </a:endParaRPr>
            </a:p>
          </p:txBody>
        </p:sp>
        <p:sp>
          <p:nvSpPr>
            <p:cNvPr id="1014" name=""/>
            <p:cNvSpPr/>
            <p:nvPr/>
          </p:nvSpPr>
          <p:spPr>
            <a:xfrm>
              <a:off x="2261160" y="16380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a:t>
              </a:r>
              <a:endParaRPr b="0" lang="en-US" sz="1400" spc="-1" strike="noStrike">
                <a:solidFill>
                  <a:srgbClr val="000000"/>
                </a:solidFill>
                <a:latin typeface="Times New Roman"/>
              </a:endParaRPr>
            </a:p>
          </p:txBody>
        </p:sp>
        <p:sp>
          <p:nvSpPr>
            <p:cNvPr id="1015" name=""/>
            <p:cNvSpPr/>
            <p:nvPr/>
          </p:nvSpPr>
          <p:spPr>
            <a:xfrm>
              <a:off x="2261160" y="10173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0</a:t>
              </a:r>
              <a:endParaRPr b="0" lang="en-US" sz="1400" spc="-1" strike="noStrike">
                <a:solidFill>
                  <a:srgbClr val="000000"/>
                </a:solidFill>
                <a:latin typeface="Times New Roman"/>
              </a:endParaRPr>
            </a:p>
          </p:txBody>
        </p:sp>
        <p:sp>
          <p:nvSpPr>
            <p:cNvPr id="1016" name=""/>
            <p:cNvSpPr/>
            <p:nvPr/>
          </p:nvSpPr>
          <p:spPr>
            <a:xfrm>
              <a:off x="2550240" y="5591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a:t>
              </a:r>
              <a:endParaRPr b="0" lang="en-US" sz="1400" spc="-1" strike="noStrike">
                <a:solidFill>
                  <a:srgbClr val="000000"/>
                </a:solidFill>
                <a:latin typeface="Times New Roman"/>
              </a:endParaRPr>
            </a:p>
          </p:txBody>
        </p:sp>
        <p:sp>
          <p:nvSpPr>
            <p:cNvPr id="1017" name=""/>
            <p:cNvSpPr/>
            <p:nvPr/>
          </p:nvSpPr>
          <p:spPr>
            <a:xfrm>
              <a:off x="318348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p:txBody>
        </p:sp>
        <p:sp>
          <p:nvSpPr>
            <p:cNvPr id="1018" name=""/>
            <p:cNvSpPr/>
            <p:nvPr/>
          </p:nvSpPr>
          <p:spPr>
            <a:xfrm>
              <a:off x="387252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0</a:t>
              </a:r>
              <a:endParaRPr b="0" lang="en-US" sz="1400" spc="-1" strike="noStrike">
                <a:solidFill>
                  <a:srgbClr val="000000"/>
                </a:solidFill>
                <a:latin typeface="Times New Roman"/>
              </a:endParaRPr>
            </a:p>
          </p:txBody>
        </p:sp>
        <p:sp>
          <p:nvSpPr>
            <p:cNvPr id="1019" name=""/>
            <p:cNvSpPr/>
            <p:nvPr/>
          </p:nvSpPr>
          <p:spPr>
            <a:xfrm>
              <a:off x="456012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0</a:t>
              </a:r>
              <a:endParaRPr b="0" lang="en-US" sz="1400" spc="-1" strike="noStrike">
                <a:solidFill>
                  <a:srgbClr val="000000"/>
                </a:solidFill>
                <a:latin typeface="Times New Roman"/>
              </a:endParaRPr>
            </a:p>
          </p:txBody>
        </p:sp>
        <p:sp>
          <p:nvSpPr>
            <p:cNvPr id="1020" name=""/>
            <p:cNvSpPr/>
            <p:nvPr/>
          </p:nvSpPr>
          <p:spPr>
            <a:xfrm>
              <a:off x="5248800" y="559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0</a:t>
              </a:r>
              <a:endParaRPr b="0" lang="en-US" sz="1400" spc="-1" strike="noStrike">
                <a:solidFill>
                  <a:srgbClr val="000000"/>
                </a:solidFill>
                <a:latin typeface="Times New Roman"/>
              </a:endParaRPr>
            </a:p>
          </p:txBody>
        </p:sp>
        <p:sp>
          <p:nvSpPr>
            <p:cNvPr id="1021" name=""/>
            <p:cNvSpPr/>
            <p:nvPr/>
          </p:nvSpPr>
          <p:spPr>
            <a:xfrm>
              <a:off x="588168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a:t>
              </a:r>
              <a:endParaRPr b="0" lang="en-US" sz="1400" spc="-1" strike="noStrike">
                <a:solidFill>
                  <a:srgbClr val="000000"/>
                </a:solidFill>
                <a:latin typeface="Times New Roman"/>
              </a:endParaRPr>
            </a:p>
          </p:txBody>
        </p:sp>
        <p:sp>
          <p:nvSpPr>
            <p:cNvPr id="1022" name=""/>
            <p:cNvSpPr/>
            <p:nvPr/>
          </p:nvSpPr>
          <p:spPr>
            <a:xfrm>
              <a:off x="656928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20</a:t>
              </a:r>
              <a:endParaRPr b="0" lang="en-US" sz="1400" spc="-1" strike="noStrike">
                <a:solidFill>
                  <a:srgbClr val="000000"/>
                </a:solidFill>
                <a:latin typeface="Times New Roman"/>
              </a:endParaRPr>
            </a:p>
          </p:txBody>
        </p:sp>
        <p:sp>
          <p:nvSpPr>
            <p:cNvPr id="1023" name=""/>
            <p:cNvSpPr/>
            <p:nvPr/>
          </p:nvSpPr>
          <p:spPr>
            <a:xfrm>
              <a:off x="725796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0</a:t>
              </a:r>
              <a:endParaRPr b="0" lang="en-US" sz="1400" spc="-1" strike="noStrike">
                <a:solidFill>
                  <a:srgbClr val="000000"/>
                </a:solidFill>
                <a:latin typeface="Times New Roman"/>
              </a:endParaRPr>
            </a:p>
          </p:txBody>
        </p:sp>
        <p:sp>
          <p:nvSpPr>
            <p:cNvPr id="1024" name=""/>
            <p:cNvSpPr/>
            <p:nvPr/>
          </p:nvSpPr>
          <p:spPr>
            <a:xfrm>
              <a:off x="7945560" y="55911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0</a:t>
              </a:r>
              <a:endParaRPr b="0" lang="en-US" sz="1400" spc="-1" strike="noStrike">
                <a:solidFill>
                  <a:srgbClr val="000000"/>
                </a:solidFill>
                <a:latin typeface="Times New Roman"/>
              </a:endParaRPr>
            </a:p>
          </p:txBody>
        </p:sp>
        <p:sp>
          <p:nvSpPr>
            <p:cNvPr id="1025" name=""/>
            <p:cNvSpPr/>
            <p:nvPr/>
          </p:nvSpPr>
          <p:spPr>
            <a:xfrm>
              <a:off x="3507480" y="5875200"/>
              <a:ext cx="390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an Fibre Curvature (deg/mm) </a:t>
              </a:r>
              <a:endParaRPr b="0" lang="en-US" sz="2000" spc="-1" strike="noStrike">
                <a:solidFill>
                  <a:srgbClr val="000000"/>
                </a:solidFill>
                <a:latin typeface="Times New Roman"/>
              </a:endParaRPr>
            </a:p>
          </p:txBody>
        </p:sp>
        <p:sp>
          <p:nvSpPr>
            <p:cNvPr id="1026" name=""/>
            <p:cNvSpPr/>
            <p:nvPr/>
          </p:nvSpPr>
          <p:spPr>
            <a:xfrm rot="16200000">
              <a:off x="-182520" y="3231360"/>
              <a:ext cx="4496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d. Deviation of Curvature (deg/mm)</a:t>
              </a:r>
              <a:endParaRPr b="0" lang="en-US" sz="2000" spc="-1" strike="noStrike">
                <a:solidFill>
                  <a:srgbClr val="000000"/>
                </a:solidFill>
                <a:latin typeface="Times New Roman"/>
              </a:endParaRPr>
            </a:p>
          </p:txBody>
        </p:sp>
        <p:sp>
          <p:nvSpPr>
            <p:cNvPr id="1027" name=""/>
            <p:cNvSpPr/>
            <p:nvPr/>
          </p:nvSpPr>
          <p:spPr>
            <a:xfrm>
              <a:off x="1752480" y="838080"/>
              <a:ext cx="6635880" cy="5524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Relationship between mean curvature &amp; SD</a:t>
            </a:r>
            <a:endParaRPr b="1" lang="en-US" sz="2800" spc="-1" strike="noStrike">
              <a:solidFill>
                <a:srgbClr val="fafd00"/>
              </a:solidFill>
              <a:latin typeface="Arial"/>
            </a:endParaRPr>
          </a:p>
        </p:txBody>
      </p:sp>
      <p:sp>
        <p:nvSpPr>
          <p:cNvPr id="102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30" name="" descr=""/>
          <p:cNvPicPr/>
          <p:nvPr/>
        </p:nvPicPr>
        <p:blipFill>
          <a:blip r:embed="rId1"/>
          <a:stretch/>
        </p:blipFill>
        <p:spPr>
          <a:xfrm>
            <a:off x="1143000" y="1033560"/>
            <a:ext cx="7924680" cy="4914720"/>
          </a:xfrm>
          <a:prstGeom prst="rect">
            <a:avLst/>
          </a:prstGeom>
          <a:ln w="0">
            <a:noFill/>
          </a:ln>
        </p:spPr>
      </p:pic>
      <p:sp>
        <p:nvSpPr>
          <p:cNvPr id="10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definition</a:t>
            </a:r>
            <a:endParaRPr b="1" lang="en-US" sz="3200" spc="-1" strike="noStrike">
              <a:solidFill>
                <a:srgbClr val="fafd00"/>
              </a:solidFill>
              <a:latin typeface="Arial"/>
            </a:endParaRPr>
          </a:p>
        </p:txBody>
      </p:sp>
      <p:sp>
        <p:nvSpPr>
          <p:cNvPr id="1032"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33" name=""/>
          <p:cNvGrpSpPr/>
          <p:nvPr/>
        </p:nvGrpSpPr>
        <p:grpSpPr>
          <a:xfrm>
            <a:off x="1143000" y="966960"/>
            <a:ext cx="8001000" cy="4900320"/>
            <a:chOff x="1143000" y="966960"/>
            <a:chExt cx="8001000" cy="4900320"/>
          </a:xfrm>
        </p:grpSpPr>
        <p:pic>
          <p:nvPicPr>
            <p:cNvPr id="1034" name="" descr=""/>
            <p:cNvPicPr/>
            <p:nvPr/>
          </p:nvPicPr>
          <p:blipFill>
            <a:blip r:embed="rId1"/>
            <a:stretch/>
          </p:blipFill>
          <p:spPr>
            <a:xfrm>
              <a:off x="1143000" y="966960"/>
              <a:ext cx="8001000" cy="4900320"/>
            </a:xfrm>
            <a:prstGeom prst="rect">
              <a:avLst/>
            </a:prstGeom>
            <a:ln w="0">
              <a:noFill/>
            </a:ln>
          </p:spPr>
        </p:pic>
        <p:sp>
          <p:nvSpPr>
            <p:cNvPr id="1035" name=""/>
            <p:cNvSpPr/>
            <p:nvPr/>
          </p:nvSpPr>
          <p:spPr>
            <a:xfrm>
              <a:off x="1603440" y="1219320"/>
              <a:ext cx="110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od</a:t>
              </a:r>
              <a:endParaRPr b="0" lang="en-US" sz="2800" spc="-1" strike="noStrike">
                <a:solidFill>
                  <a:srgbClr val="000000"/>
                </a:solidFill>
                <a:latin typeface="Times New Roman"/>
              </a:endParaRPr>
            </a:p>
          </p:txBody>
        </p:sp>
        <p:sp>
          <p:nvSpPr>
            <p:cNvPr id="1036" name=""/>
            <p:cNvSpPr/>
            <p:nvPr/>
          </p:nvSpPr>
          <p:spPr>
            <a:xfrm>
              <a:off x="7317720" y="121932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or</a:t>
              </a:r>
              <a:endParaRPr b="0" lang="en-US" sz="2800" spc="-1" strike="noStrike">
                <a:solidFill>
                  <a:srgbClr val="000000"/>
                </a:solidFill>
                <a:latin typeface="Times New Roman"/>
              </a:endParaRPr>
            </a:p>
          </p:txBody>
        </p:sp>
      </p:grpSp>
      <p:sp>
        <p:nvSpPr>
          <p:cNvPr id="103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alignment</a:t>
            </a:r>
            <a:endParaRPr b="1" lang="en-US" sz="3200" spc="-1" strike="noStrike">
              <a:solidFill>
                <a:srgbClr val="fafd00"/>
              </a:solidFill>
              <a:latin typeface="Arial"/>
            </a:endParaRPr>
          </a:p>
        </p:txBody>
      </p:sp>
      <p:sp>
        <p:nvSpPr>
          <p:cNvPr id="103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39" name=""/>
          <p:cNvGrpSpPr/>
          <p:nvPr/>
        </p:nvGrpSpPr>
        <p:grpSpPr>
          <a:xfrm>
            <a:off x="1752480" y="914400"/>
            <a:ext cx="6923160" cy="5183280"/>
            <a:chOff x="1752480" y="914400"/>
            <a:chExt cx="6923160" cy="5183280"/>
          </a:xfrm>
        </p:grpSpPr>
        <p:sp>
          <p:nvSpPr>
            <p:cNvPr id="1040" name=""/>
            <p:cNvSpPr/>
            <p:nvPr/>
          </p:nvSpPr>
          <p:spPr>
            <a:xfrm>
              <a:off x="1752480" y="914400"/>
              <a:ext cx="6923160" cy="5183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1" name=""/>
            <p:cNvGrpSpPr/>
            <p:nvPr/>
          </p:nvGrpSpPr>
          <p:grpSpPr>
            <a:xfrm>
              <a:off x="5607000" y="1833480"/>
              <a:ext cx="135000" cy="3056040"/>
              <a:chOff x="5607000" y="1833480"/>
              <a:chExt cx="135000" cy="3056040"/>
            </a:xfrm>
          </p:grpSpPr>
          <p:sp>
            <p:nvSpPr>
              <p:cNvPr id="1042" name=""/>
              <p:cNvSpPr/>
              <p:nvPr/>
            </p:nvSpPr>
            <p:spPr>
              <a:xfrm>
                <a:off x="5675400" y="1950840"/>
                <a:ext cx="1440" cy="282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607000" y="4673520"/>
                <a:ext cx="135000" cy="216000"/>
              </a:xfrm>
              <a:custGeom>
                <a:avLst/>
                <a:gdLst/>
                <a:ahLst/>
                <a:rect l="l" t="t" r="r" b="b"/>
                <a:pathLst>
                  <a:path w="170" h="270">
                    <a:moveTo>
                      <a:pt x="85" y="270"/>
                    </a:moveTo>
                    <a:lnTo>
                      <a:pt x="170" y="0"/>
                    </a:lnTo>
                    <a:lnTo>
                      <a:pt x="0" y="0"/>
                    </a:lnTo>
                    <a:lnTo>
                      <a:pt x="85" y="2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607000" y="1833480"/>
                <a:ext cx="135000" cy="216000"/>
              </a:xfrm>
              <a:custGeom>
                <a:avLst/>
                <a:gdLst/>
                <a:ahLst/>
                <a:rect l="l" t="t" r="r" b="b"/>
                <a:pathLst>
                  <a:path w="170" h="270">
                    <a:moveTo>
                      <a:pt x="85" y="0"/>
                    </a:moveTo>
                    <a:lnTo>
                      <a:pt x="0" y="270"/>
                    </a:lnTo>
                    <a:lnTo>
                      <a:pt x="170" y="27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3951360" y="1666800"/>
              <a:ext cx="3671640" cy="3143160"/>
              <a:chOff x="3951360" y="1666800"/>
              <a:chExt cx="3671640" cy="3143160"/>
            </a:xfrm>
          </p:grpSpPr>
          <p:sp>
            <p:nvSpPr>
              <p:cNvPr id="1046" name=""/>
              <p:cNvSpPr/>
              <p:nvPr/>
            </p:nvSpPr>
            <p:spPr>
              <a:xfrm>
                <a:off x="3951360" y="1666800"/>
                <a:ext cx="3671640" cy="3143160"/>
              </a:xfrm>
              <a:custGeom>
                <a:avLst/>
                <a:gdLst/>
                <a:ahLst/>
                <a:rect l="l" t="t" r="r" b="b"/>
                <a:pathLst>
                  <a:path w="4627" h="3960">
                    <a:moveTo>
                      <a:pt x="4578" y="82"/>
                    </a:moveTo>
                    <a:lnTo>
                      <a:pt x="4571" y="73"/>
                    </a:lnTo>
                    <a:lnTo>
                      <a:pt x="4560" y="64"/>
                    </a:lnTo>
                    <a:lnTo>
                      <a:pt x="4551" y="56"/>
                    </a:lnTo>
                    <a:lnTo>
                      <a:pt x="4539" y="47"/>
                    </a:lnTo>
                    <a:lnTo>
                      <a:pt x="4530" y="39"/>
                    </a:lnTo>
                    <a:lnTo>
                      <a:pt x="4518" y="35"/>
                    </a:lnTo>
                    <a:lnTo>
                      <a:pt x="4504" y="29"/>
                    </a:lnTo>
                    <a:lnTo>
                      <a:pt x="4492" y="23"/>
                    </a:lnTo>
                    <a:lnTo>
                      <a:pt x="4478" y="18"/>
                    </a:lnTo>
                    <a:lnTo>
                      <a:pt x="4462" y="14"/>
                    </a:lnTo>
                    <a:lnTo>
                      <a:pt x="4448" y="11"/>
                    </a:lnTo>
                    <a:lnTo>
                      <a:pt x="4431" y="8"/>
                    </a:lnTo>
                    <a:lnTo>
                      <a:pt x="4416" y="5"/>
                    </a:lnTo>
                    <a:lnTo>
                      <a:pt x="4398" y="3"/>
                    </a:lnTo>
                    <a:lnTo>
                      <a:pt x="4381" y="2"/>
                    </a:lnTo>
                    <a:lnTo>
                      <a:pt x="4362" y="2"/>
                    </a:lnTo>
                    <a:lnTo>
                      <a:pt x="4342" y="0"/>
                    </a:lnTo>
                    <a:lnTo>
                      <a:pt x="4321" y="2"/>
                    </a:lnTo>
                    <a:lnTo>
                      <a:pt x="4301" y="3"/>
                    </a:lnTo>
                    <a:lnTo>
                      <a:pt x="4281" y="6"/>
                    </a:lnTo>
                    <a:lnTo>
                      <a:pt x="4259" y="8"/>
                    </a:lnTo>
                    <a:lnTo>
                      <a:pt x="4236" y="11"/>
                    </a:lnTo>
                    <a:lnTo>
                      <a:pt x="4213" y="14"/>
                    </a:lnTo>
                    <a:lnTo>
                      <a:pt x="4192" y="18"/>
                    </a:lnTo>
                    <a:lnTo>
                      <a:pt x="4168" y="23"/>
                    </a:lnTo>
                    <a:lnTo>
                      <a:pt x="4142" y="27"/>
                    </a:lnTo>
                    <a:lnTo>
                      <a:pt x="4119" y="35"/>
                    </a:lnTo>
                    <a:lnTo>
                      <a:pt x="4094" y="41"/>
                    </a:lnTo>
                    <a:lnTo>
                      <a:pt x="4066" y="50"/>
                    </a:lnTo>
                    <a:lnTo>
                      <a:pt x="4041" y="58"/>
                    </a:lnTo>
                    <a:lnTo>
                      <a:pt x="4013" y="65"/>
                    </a:lnTo>
                    <a:lnTo>
                      <a:pt x="3985" y="74"/>
                    </a:lnTo>
                    <a:lnTo>
                      <a:pt x="3959" y="83"/>
                    </a:lnTo>
                    <a:lnTo>
                      <a:pt x="3929" y="94"/>
                    </a:lnTo>
                    <a:lnTo>
                      <a:pt x="3901" y="104"/>
                    </a:lnTo>
                    <a:lnTo>
                      <a:pt x="3870" y="115"/>
                    </a:lnTo>
                    <a:lnTo>
                      <a:pt x="3841" y="129"/>
                    </a:lnTo>
                    <a:lnTo>
                      <a:pt x="3811" y="139"/>
                    </a:lnTo>
                    <a:lnTo>
                      <a:pt x="3779" y="153"/>
                    </a:lnTo>
                    <a:lnTo>
                      <a:pt x="3746" y="166"/>
                    </a:lnTo>
                    <a:lnTo>
                      <a:pt x="3714" y="180"/>
                    </a:lnTo>
                    <a:lnTo>
                      <a:pt x="3682" y="194"/>
                    </a:lnTo>
                    <a:lnTo>
                      <a:pt x="3650" y="210"/>
                    </a:lnTo>
                    <a:lnTo>
                      <a:pt x="3615" y="225"/>
                    </a:lnTo>
                    <a:lnTo>
                      <a:pt x="3582" y="243"/>
                    </a:lnTo>
                    <a:lnTo>
                      <a:pt x="3549" y="260"/>
                    </a:lnTo>
                    <a:lnTo>
                      <a:pt x="3515" y="277"/>
                    </a:lnTo>
                    <a:lnTo>
                      <a:pt x="3481" y="296"/>
                    </a:lnTo>
                    <a:lnTo>
                      <a:pt x="3446" y="315"/>
                    </a:lnTo>
                    <a:lnTo>
                      <a:pt x="3409" y="333"/>
                    </a:lnTo>
                    <a:lnTo>
                      <a:pt x="3375" y="352"/>
                    </a:lnTo>
                    <a:lnTo>
                      <a:pt x="3337" y="372"/>
                    </a:lnTo>
                    <a:lnTo>
                      <a:pt x="3302" y="393"/>
                    </a:lnTo>
                    <a:lnTo>
                      <a:pt x="3266" y="413"/>
                    </a:lnTo>
                    <a:lnTo>
                      <a:pt x="3229" y="434"/>
                    </a:lnTo>
                    <a:lnTo>
                      <a:pt x="3191" y="455"/>
                    </a:lnTo>
                    <a:lnTo>
                      <a:pt x="3154" y="478"/>
                    </a:lnTo>
                    <a:lnTo>
                      <a:pt x="3116" y="500"/>
                    </a:lnTo>
                    <a:lnTo>
                      <a:pt x="3076" y="523"/>
                    </a:lnTo>
                    <a:lnTo>
                      <a:pt x="3039" y="547"/>
                    </a:lnTo>
                    <a:lnTo>
                      <a:pt x="2999" y="572"/>
                    </a:lnTo>
                    <a:lnTo>
                      <a:pt x="2963" y="594"/>
                    </a:lnTo>
                    <a:lnTo>
                      <a:pt x="2922" y="620"/>
                    </a:lnTo>
                    <a:lnTo>
                      <a:pt x="2884" y="646"/>
                    </a:lnTo>
                    <a:lnTo>
                      <a:pt x="2845" y="671"/>
                    </a:lnTo>
                    <a:lnTo>
                      <a:pt x="2807" y="698"/>
                    </a:lnTo>
                    <a:lnTo>
                      <a:pt x="2766" y="724"/>
                    </a:lnTo>
                    <a:lnTo>
                      <a:pt x="2727" y="751"/>
                    </a:lnTo>
                    <a:lnTo>
                      <a:pt x="2687" y="779"/>
                    </a:lnTo>
                    <a:lnTo>
                      <a:pt x="2646" y="807"/>
                    </a:lnTo>
                    <a:lnTo>
                      <a:pt x="2609" y="833"/>
                    </a:lnTo>
                    <a:lnTo>
                      <a:pt x="2566" y="863"/>
                    </a:lnTo>
                    <a:lnTo>
                      <a:pt x="2527" y="892"/>
                    </a:lnTo>
                    <a:lnTo>
                      <a:pt x="2486" y="921"/>
                    </a:lnTo>
                    <a:lnTo>
                      <a:pt x="2445" y="949"/>
                    </a:lnTo>
                    <a:lnTo>
                      <a:pt x="2406" y="978"/>
                    </a:lnTo>
                    <a:lnTo>
                      <a:pt x="2366" y="1008"/>
                    </a:lnTo>
                    <a:lnTo>
                      <a:pt x="2325" y="1040"/>
                    </a:lnTo>
                    <a:lnTo>
                      <a:pt x="2286" y="1069"/>
                    </a:lnTo>
                    <a:lnTo>
                      <a:pt x="2244" y="1101"/>
                    </a:lnTo>
                    <a:lnTo>
                      <a:pt x="2206" y="1131"/>
                    </a:lnTo>
                    <a:lnTo>
                      <a:pt x="2165" y="1163"/>
                    </a:lnTo>
                    <a:lnTo>
                      <a:pt x="2124" y="1196"/>
                    </a:lnTo>
                    <a:lnTo>
                      <a:pt x="2085" y="1226"/>
                    </a:lnTo>
                    <a:lnTo>
                      <a:pt x="2044" y="1259"/>
                    </a:lnTo>
                    <a:lnTo>
                      <a:pt x="2002" y="1291"/>
                    </a:lnTo>
                    <a:lnTo>
                      <a:pt x="1962" y="1323"/>
                    </a:lnTo>
                    <a:lnTo>
                      <a:pt x="1923" y="1356"/>
                    </a:lnTo>
                    <a:lnTo>
                      <a:pt x="1883" y="1389"/>
                    </a:lnTo>
                    <a:lnTo>
                      <a:pt x="1844" y="1423"/>
                    </a:lnTo>
                    <a:lnTo>
                      <a:pt x="1805" y="1456"/>
                    </a:lnTo>
                    <a:lnTo>
                      <a:pt x="1765" y="1489"/>
                    </a:lnTo>
                    <a:lnTo>
                      <a:pt x="1726" y="1522"/>
                    </a:lnTo>
                    <a:lnTo>
                      <a:pt x="1687" y="1554"/>
                    </a:lnTo>
                    <a:lnTo>
                      <a:pt x="1649" y="1589"/>
                    </a:lnTo>
                    <a:lnTo>
                      <a:pt x="1611" y="1624"/>
                    </a:lnTo>
                    <a:lnTo>
                      <a:pt x="1572" y="1657"/>
                    </a:lnTo>
                    <a:lnTo>
                      <a:pt x="1534" y="1690"/>
                    </a:lnTo>
                    <a:lnTo>
                      <a:pt x="1496" y="1725"/>
                    </a:lnTo>
                    <a:lnTo>
                      <a:pt x="1458" y="1760"/>
                    </a:lnTo>
                    <a:lnTo>
                      <a:pt x="1420" y="1794"/>
                    </a:lnTo>
                    <a:lnTo>
                      <a:pt x="1384" y="1829"/>
                    </a:lnTo>
                    <a:lnTo>
                      <a:pt x="1346" y="1864"/>
                    </a:lnTo>
                    <a:lnTo>
                      <a:pt x="1310" y="1897"/>
                    </a:lnTo>
                    <a:lnTo>
                      <a:pt x="1273" y="1932"/>
                    </a:lnTo>
                    <a:lnTo>
                      <a:pt x="1239" y="1967"/>
                    </a:lnTo>
                    <a:lnTo>
                      <a:pt x="1201" y="2001"/>
                    </a:lnTo>
                    <a:lnTo>
                      <a:pt x="1167" y="2036"/>
                    </a:lnTo>
                    <a:lnTo>
                      <a:pt x="1133" y="2069"/>
                    </a:lnTo>
                    <a:lnTo>
                      <a:pt x="1098" y="2104"/>
                    </a:lnTo>
                    <a:lnTo>
                      <a:pt x="1063" y="2139"/>
                    </a:lnTo>
                    <a:lnTo>
                      <a:pt x="1030" y="2172"/>
                    </a:lnTo>
                    <a:lnTo>
                      <a:pt x="996" y="2207"/>
                    </a:lnTo>
                    <a:lnTo>
                      <a:pt x="964" y="2243"/>
                    </a:lnTo>
                    <a:lnTo>
                      <a:pt x="933" y="2277"/>
                    </a:lnTo>
                    <a:lnTo>
                      <a:pt x="899" y="2311"/>
                    </a:lnTo>
                    <a:lnTo>
                      <a:pt x="866" y="2343"/>
                    </a:lnTo>
                    <a:lnTo>
                      <a:pt x="834" y="2378"/>
                    </a:lnTo>
                    <a:lnTo>
                      <a:pt x="804" y="2413"/>
                    </a:lnTo>
                    <a:lnTo>
                      <a:pt x="774" y="2446"/>
                    </a:lnTo>
                    <a:lnTo>
                      <a:pt x="745" y="2479"/>
                    </a:lnTo>
                    <a:lnTo>
                      <a:pt x="715" y="2511"/>
                    </a:lnTo>
                    <a:lnTo>
                      <a:pt x="686" y="2546"/>
                    </a:lnTo>
                    <a:lnTo>
                      <a:pt x="659" y="2577"/>
                    </a:lnTo>
                    <a:lnTo>
                      <a:pt x="630" y="2611"/>
                    </a:lnTo>
                    <a:lnTo>
                      <a:pt x="603" y="2644"/>
                    </a:lnTo>
                    <a:lnTo>
                      <a:pt x="575" y="2676"/>
                    </a:lnTo>
                    <a:lnTo>
                      <a:pt x="550" y="2709"/>
                    </a:lnTo>
                    <a:lnTo>
                      <a:pt x="524" y="2742"/>
                    </a:lnTo>
                    <a:lnTo>
                      <a:pt x="498" y="2774"/>
                    </a:lnTo>
                    <a:lnTo>
                      <a:pt x="474" y="2804"/>
                    </a:lnTo>
                    <a:lnTo>
                      <a:pt x="451" y="2837"/>
                    </a:lnTo>
                    <a:lnTo>
                      <a:pt x="426" y="2866"/>
                    </a:lnTo>
                    <a:lnTo>
                      <a:pt x="404" y="2898"/>
                    </a:lnTo>
                    <a:lnTo>
                      <a:pt x="380" y="2928"/>
                    </a:lnTo>
                    <a:lnTo>
                      <a:pt x="359" y="2958"/>
                    </a:lnTo>
                    <a:lnTo>
                      <a:pt x="336" y="2989"/>
                    </a:lnTo>
                    <a:lnTo>
                      <a:pt x="317" y="3017"/>
                    </a:lnTo>
                    <a:lnTo>
                      <a:pt x="297" y="3046"/>
                    </a:lnTo>
                    <a:lnTo>
                      <a:pt x="276" y="3075"/>
                    </a:lnTo>
                    <a:lnTo>
                      <a:pt x="256" y="3103"/>
                    </a:lnTo>
                    <a:lnTo>
                      <a:pt x="239" y="3132"/>
                    </a:lnTo>
                    <a:lnTo>
                      <a:pt x="221" y="3161"/>
                    </a:lnTo>
                    <a:lnTo>
                      <a:pt x="205" y="3187"/>
                    </a:lnTo>
                    <a:lnTo>
                      <a:pt x="188" y="3215"/>
                    </a:lnTo>
                    <a:lnTo>
                      <a:pt x="173" y="3242"/>
                    </a:lnTo>
                    <a:lnTo>
                      <a:pt x="158" y="3268"/>
                    </a:lnTo>
                    <a:lnTo>
                      <a:pt x="144" y="3295"/>
                    </a:lnTo>
                    <a:lnTo>
                      <a:pt x="130" y="3320"/>
                    </a:lnTo>
                    <a:lnTo>
                      <a:pt x="118" y="3345"/>
                    </a:lnTo>
                    <a:lnTo>
                      <a:pt x="105" y="3371"/>
                    </a:lnTo>
                    <a:lnTo>
                      <a:pt x="92" y="3395"/>
                    </a:lnTo>
                    <a:lnTo>
                      <a:pt x="82" y="3419"/>
                    </a:lnTo>
                    <a:lnTo>
                      <a:pt x="71" y="3442"/>
                    </a:lnTo>
                    <a:lnTo>
                      <a:pt x="64" y="3465"/>
                    </a:lnTo>
                    <a:lnTo>
                      <a:pt x="52" y="3487"/>
                    </a:lnTo>
                    <a:lnTo>
                      <a:pt x="46" y="3510"/>
                    </a:lnTo>
                    <a:lnTo>
                      <a:pt x="38" y="3531"/>
                    </a:lnTo>
                    <a:lnTo>
                      <a:pt x="30" y="3552"/>
                    </a:lnTo>
                    <a:lnTo>
                      <a:pt x="26" y="3572"/>
                    </a:lnTo>
                    <a:lnTo>
                      <a:pt x="18" y="3593"/>
                    </a:lnTo>
                    <a:lnTo>
                      <a:pt x="14" y="3613"/>
                    </a:lnTo>
                    <a:lnTo>
                      <a:pt x="9" y="3632"/>
                    </a:lnTo>
                    <a:lnTo>
                      <a:pt x="8" y="3649"/>
                    </a:lnTo>
                    <a:lnTo>
                      <a:pt x="3" y="3670"/>
                    </a:lnTo>
                    <a:lnTo>
                      <a:pt x="2" y="3687"/>
                    </a:lnTo>
                    <a:lnTo>
                      <a:pt x="2" y="3703"/>
                    </a:lnTo>
                    <a:lnTo>
                      <a:pt x="2" y="3720"/>
                    </a:lnTo>
                    <a:lnTo>
                      <a:pt x="0" y="3738"/>
                    </a:lnTo>
                    <a:lnTo>
                      <a:pt x="2" y="3753"/>
                    </a:lnTo>
                    <a:lnTo>
                      <a:pt x="3" y="3770"/>
                    </a:lnTo>
                    <a:lnTo>
                      <a:pt x="5" y="3784"/>
                    </a:lnTo>
                    <a:lnTo>
                      <a:pt x="8" y="3796"/>
                    </a:lnTo>
                    <a:lnTo>
                      <a:pt x="12" y="3811"/>
                    </a:lnTo>
                    <a:lnTo>
                      <a:pt x="15" y="3824"/>
                    </a:lnTo>
                    <a:lnTo>
                      <a:pt x="21" y="3835"/>
                    </a:lnTo>
                    <a:lnTo>
                      <a:pt x="27" y="3847"/>
                    </a:lnTo>
                    <a:lnTo>
                      <a:pt x="33" y="3858"/>
                    </a:lnTo>
                    <a:lnTo>
                      <a:pt x="41" y="3870"/>
                    </a:lnTo>
                    <a:lnTo>
                      <a:pt x="49" y="3879"/>
                    </a:lnTo>
                    <a:lnTo>
                      <a:pt x="56" y="3888"/>
                    </a:lnTo>
                    <a:lnTo>
                      <a:pt x="67" y="3897"/>
                    </a:lnTo>
                    <a:lnTo>
                      <a:pt x="76" y="3905"/>
                    </a:lnTo>
                    <a:lnTo>
                      <a:pt x="88" y="3914"/>
                    </a:lnTo>
                    <a:lnTo>
                      <a:pt x="97" y="3921"/>
                    </a:lnTo>
                    <a:lnTo>
                      <a:pt x="109" y="3926"/>
                    </a:lnTo>
                    <a:lnTo>
                      <a:pt x="123" y="3932"/>
                    </a:lnTo>
                    <a:lnTo>
                      <a:pt x="135" y="3938"/>
                    </a:lnTo>
                    <a:lnTo>
                      <a:pt x="149" y="3942"/>
                    </a:lnTo>
                    <a:lnTo>
                      <a:pt x="165" y="3947"/>
                    </a:lnTo>
                    <a:lnTo>
                      <a:pt x="179" y="3950"/>
                    </a:lnTo>
                    <a:lnTo>
                      <a:pt x="195" y="3953"/>
                    </a:lnTo>
                    <a:lnTo>
                      <a:pt x="211" y="3956"/>
                    </a:lnTo>
                    <a:lnTo>
                      <a:pt x="229" y="3957"/>
                    </a:lnTo>
                    <a:lnTo>
                      <a:pt x="245" y="3959"/>
                    </a:lnTo>
                    <a:lnTo>
                      <a:pt x="265" y="3959"/>
                    </a:lnTo>
                    <a:lnTo>
                      <a:pt x="285" y="3960"/>
                    </a:lnTo>
                    <a:lnTo>
                      <a:pt x="306" y="3959"/>
                    </a:lnTo>
                    <a:lnTo>
                      <a:pt x="326" y="3957"/>
                    </a:lnTo>
                    <a:lnTo>
                      <a:pt x="345" y="3954"/>
                    </a:lnTo>
                    <a:lnTo>
                      <a:pt x="368" y="3953"/>
                    </a:lnTo>
                    <a:lnTo>
                      <a:pt x="391" y="3950"/>
                    </a:lnTo>
                    <a:lnTo>
                      <a:pt x="413" y="3947"/>
                    </a:lnTo>
                    <a:lnTo>
                      <a:pt x="435" y="3942"/>
                    </a:lnTo>
                    <a:lnTo>
                      <a:pt x="459" y="3938"/>
                    </a:lnTo>
                    <a:lnTo>
                      <a:pt x="485" y="3933"/>
                    </a:lnTo>
                    <a:lnTo>
                      <a:pt x="507" y="3926"/>
                    </a:lnTo>
                    <a:lnTo>
                      <a:pt x="533" y="3920"/>
                    </a:lnTo>
                    <a:lnTo>
                      <a:pt x="560" y="3911"/>
                    </a:lnTo>
                    <a:lnTo>
                      <a:pt x="586" y="3903"/>
                    </a:lnTo>
                    <a:lnTo>
                      <a:pt x="613" y="3895"/>
                    </a:lnTo>
                    <a:lnTo>
                      <a:pt x="642" y="3886"/>
                    </a:lnTo>
                    <a:lnTo>
                      <a:pt x="668" y="3877"/>
                    </a:lnTo>
                    <a:lnTo>
                      <a:pt x="698" y="3867"/>
                    </a:lnTo>
                    <a:lnTo>
                      <a:pt x="725" y="3856"/>
                    </a:lnTo>
                    <a:lnTo>
                      <a:pt x="757" y="3846"/>
                    </a:lnTo>
                    <a:lnTo>
                      <a:pt x="786" y="3832"/>
                    </a:lnTo>
                    <a:lnTo>
                      <a:pt x="816" y="3821"/>
                    </a:lnTo>
                    <a:lnTo>
                      <a:pt x="848" y="3808"/>
                    </a:lnTo>
                    <a:lnTo>
                      <a:pt x="881" y="3794"/>
                    </a:lnTo>
                    <a:lnTo>
                      <a:pt x="913" y="3781"/>
                    </a:lnTo>
                    <a:lnTo>
                      <a:pt x="945" y="3767"/>
                    </a:lnTo>
                    <a:lnTo>
                      <a:pt x="977" y="3750"/>
                    </a:lnTo>
                    <a:lnTo>
                      <a:pt x="1011" y="3735"/>
                    </a:lnTo>
                    <a:lnTo>
                      <a:pt x="1045" y="3717"/>
                    </a:lnTo>
                    <a:lnTo>
                      <a:pt x="1078" y="3700"/>
                    </a:lnTo>
                    <a:lnTo>
                      <a:pt x="1111" y="3684"/>
                    </a:lnTo>
                    <a:lnTo>
                      <a:pt x="1146" y="3664"/>
                    </a:lnTo>
                    <a:lnTo>
                      <a:pt x="1181" y="3646"/>
                    </a:lnTo>
                    <a:lnTo>
                      <a:pt x="1217" y="3628"/>
                    </a:lnTo>
                    <a:lnTo>
                      <a:pt x="1252" y="3608"/>
                    </a:lnTo>
                    <a:lnTo>
                      <a:pt x="1290" y="3589"/>
                    </a:lnTo>
                    <a:lnTo>
                      <a:pt x="1325" y="3567"/>
                    </a:lnTo>
                    <a:lnTo>
                      <a:pt x="1361" y="3548"/>
                    </a:lnTo>
                    <a:lnTo>
                      <a:pt x="1397" y="3527"/>
                    </a:lnTo>
                    <a:lnTo>
                      <a:pt x="1435" y="3505"/>
                    </a:lnTo>
                    <a:lnTo>
                      <a:pt x="1473" y="3483"/>
                    </a:lnTo>
                    <a:lnTo>
                      <a:pt x="1511" y="3460"/>
                    </a:lnTo>
                    <a:lnTo>
                      <a:pt x="1550" y="3437"/>
                    </a:lnTo>
                    <a:lnTo>
                      <a:pt x="1588" y="3413"/>
                    </a:lnTo>
                    <a:lnTo>
                      <a:pt x="1628" y="3389"/>
                    </a:lnTo>
                    <a:lnTo>
                      <a:pt x="1664" y="3366"/>
                    </a:lnTo>
                    <a:lnTo>
                      <a:pt x="1705" y="3341"/>
                    </a:lnTo>
                    <a:lnTo>
                      <a:pt x="1743" y="3315"/>
                    </a:lnTo>
                    <a:lnTo>
                      <a:pt x="1782" y="3289"/>
                    </a:lnTo>
                    <a:lnTo>
                      <a:pt x="1820" y="3262"/>
                    </a:lnTo>
                    <a:lnTo>
                      <a:pt x="1861" y="3236"/>
                    </a:lnTo>
                    <a:lnTo>
                      <a:pt x="1900" y="3209"/>
                    </a:lnTo>
                    <a:lnTo>
                      <a:pt x="1939" y="3182"/>
                    </a:lnTo>
                    <a:lnTo>
                      <a:pt x="1980" y="3153"/>
                    </a:lnTo>
                    <a:lnTo>
                      <a:pt x="2018" y="3128"/>
                    </a:lnTo>
                    <a:lnTo>
                      <a:pt x="2061" y="3097"/>
                    </a:lnTo>
                    <a:lnTo>
                      <a:pt x="2100" y="3069"/>
                    </a:lnTo>
                    <a:lnTo>
                      <a:pt x="2141" y="3040"/>
                    </a:lnTo>
                    <a:lnTo>
                      <a:pt x="2182" y="3011"/>
                    </a:lnTo>
                    <a:lnTo>
                      <a:pt x="2221" y="2982"/>
                    </a:lnTo>
                    <a:lnTo>
                      <a:pt x="2260" y="2952"/>
                    </a:lnTo>
                    <a:lnTo>
                      <a:pt x="2301" y="2920"/>
                    </a:lnTo>
                    <a:lnTo>
                      <a:pt x="2341" y="2892"/>
                    </a:lnTo>
                    <a:lnTo>
                      <a:pt x="2383" y="2860"/>
                    </a:lnTo>
                    <a:lnTo>
                      <a:pt x="2421" y="2830"/>
                    </a:lnTo>
                    <a:lnTo>
                      <a:pt x="2462" y="2798"/>
                    </a:lnTo>
                    <a:lnTo>
                      <a:pt x="2503" y="2765"/>
                    </a:lnTo>
                    <a:lnTo>
                      <a:pt x="2542" y="2735"/>
                    </a:lnTo>
                    <a:lnTo>
                      <a:pt x="2583" y="2701"/>
                    </a:lnTo>
                    <a:lnTo>
                      <a:pt x="2625" y="2670"/>
                    </a:lnTo>
                    <a:lnTo>
                      <a:pt x="2665" y="2638"/>
                    </a:lnTo>
                    <a:lnTo>
                      <a:pt x="2704" y="2605"/>
                    </a:lnTo>
                    <a:lnTo>
                      <a:pt x="2743" y="2571"/>
                    </a:lnTo>
                    <a:lnTo>
                      <a:pt x="2783" y="2538"/>
                    </a:lnTo>
                    <a:lnTo>
                      <a:pt x="2822" y="2505"/>
                    </a:lnTo>
                    <a:lnTo>
                      <a:pt x="2861" y="2472"/>
                    </a:lnTo>
                    <a:lnTo>
                      <a:pt x="2901" y="2438"/>
                    </a:lnTo>
                    <a:lnTo>
                      <a:pt x="2940" y="2407"/>
                    </a:lnTo>
                    <a:lnTo>
                      <a:pt x="2978" y="2372"/>
                    </a:lnTo>
                    <a:lnTo>
                      <a:pt x="3016" y="2337"/>
                    </a:lnTo>
                    <a:lnTo>
                      <a:pt x="3055" y="2304"/>
                    </a:lnTo>
                    <a:lnTo>
                      <a:pt x="3093" y="2271"/>
                    </a:lnTo>
                    <a:lnTo>
                      <a:pt x="3131" y="2236"/>
                    </a:lnTo>
                    <a:lnTo>
                      <a:pt x="3169" y="2201"/>
                    </a:lnTo>
                    <a:lnTo>
                      <a:pt x="3207" y="2166"/>
                    </a:lnTo>
                    <a:lnTo>
                      <a:pt x="3243" y="2131"/>
                    </a:lnTo>
                    <a:lnTo>
                      <a:pt x="3281" y="2097"/>
                    </a:lnTo>
                    <a:lnTo>
                      <a:pt x="3317" y="2063"/>
                    </a:lnTo>
                    <a:lnTo>
                      <a:pt x="3353" y="2029"/>
                    </a:lnTo>
                    <a:lnTo>
                      <a:pt x="3388" y="1994"/>
                    </a:lnTo>
                    <a:lnTo>
                      <a:pt x="3426" y="1959"/>
                    </a:lnTo>
                    <a:lnTo>
                      <a:pt x="3459" y="1924"/>
                    </a:lnTo>
                    <a:lnTo>
                      <a:pt x="3494" y="1891"/>
                    </a:lnTo>
                    <a:lnTo>
                      <a:pt x="3529" y="1856"/>
                    </a:lnTo>
                    <a:lnTo>
                      <a:pt x="3564" y="1822"/>
                    </a:lnTo>
                    <a:lnTo>
                      <a:pt x="3597" y="1788"/>
                    </a:lnTo>
                    <a:lnTo>
                      <a:pt x="3630" y="1754"/>
                    </a:lnTo>
                    <a:lnTo>
                      <a:pt x="3662" y="1717"/>
                    </a:lnTo>
                    <a:lnTo>
                      <a:pt x="3694" y="1684"/>
                    </a:lnTo>
                    <a:lnTo>
                      <a:pt x="3727" y="1649"/>
                    </a:lnTo>
                    <a:lnTo>
                      <a:pt x="3761" y="1618"/>
                    </a:lnTo>
                    <a:lnTo>
                      <a:pt x="3792" y="1583"/>
                    </a:lnTo>
                    <a:lnTo>
                      <a:pt x="3823" y="1548"/>
                    </a:lnTo>
                    <a:lnTo>
                      <a:pt x="3853" y="1515"/>
                    </a:lnTo>
                    <a:lnTo>
                      <a:pt x="3882" y="1481"/>
                    </a:lnTo>
                    <a:lnTo>
                      <a:pt x="3912" y="1450"/>
                    </a:lnTo>
                    <a:lnTo>
                      <a:pt x="3941" y="1415"/>
                    </a:lnTo>
                    <a:lnTo>
                      <a:pt x="3968" y="1383"/>
                    </a:lnTo>
                    <a:lnTo>
                      <a:pt x="3997" y="1350"/>
                    </a:lnTo>
                    <a:lnTo>
                      <a:pt x="4024" y="1317"/>
                    </a:lnTo>
                    <a:lnTo>
                      <a:pt x="4051" y="1285"/>
                    </a:lnTo>
                    <a:lnTo>
                      <a:pt x="4077" y="1252"/>
                    </a:lnTo>
                    <a:lnTo>
                      <a:pt x="4103" y="1218"/>
                    </a:lnTo>
                    <a:lnTo>
                      <a:pt x="4129" y="1187"/>
                    </a:lnTo>
                    <a:lnTo>
                      <a:pt x="4153" y="1156"/>
                    </a:lnTo>
                    <a:lnTo>
                      <a:pt x="4175" y="1123"/>
                    </a:lnTo>
                    <a:lnTo>
                      <a:pt x="4201" y="1095"/>
                    </a:lnTo>
                    <a:lnTo>
                      <a:pt x="4222" y="1063"/>
                    </a:lnTo>
                    <a:lnTo>
                      <a:pt x="4247" y="1033"/>
                    </a:lnTo>
                    <a:lnTo>
                      <a:pt x="4268" y="1002"/>
                    </a:lnTo>
                    <a:lnTo>
                      <a:pt x="4291" y="972"/>
                    </a:lnTo>
                    <a:lnTo>
                      <a:pt x="4310" y="943"/>
                    </a:lnTo>
                    <a:lnTo>
                      <a:pt x="4330" y="915"/>
                    </a:lnTo>
                    <a:lnTo>
                      <a:pt x="4351" y="886"/>
                    </a:lnTo>
                    <a:lnTo>
                      <a:pt x="4371" y="857"/>
                    </a:lnTo>
                    <a:lnTo>
                      <a:pt x="4387" y="828"/>
                    </a:lnTo>
                    <a:lnTo>
                      <a:pt x="4406" y="800"/>
                    </a:lnTo>
                    <a:lnTo>
                      <a:pt x="4422" y="774"/>
                    </a:lnTo>
                    <a:lnTo>
                      <a:pt x="4439" y="745"/>
                    </a:lnTo>
                    <a:lnTo>
                      <a:pt x="4454" y="718"/>
                    </a:lnTo>
                    <a:lnTo>
                      <a:pt x="4469" y="692"/>
                    </a:lnTo>
                    <a:lnTo>
                      <a:pt x="4483" y="665"/>
                    </a:lnTo>
                    <a:lnTo>
                      <a:pt x="4496" y="641"/>
                    </a:lnTo>
                    <a:lnTo>
                      <a:pt x="4509" y="615"/>
                    </a:lnTo>
                    <a:lnTo>
                      <a:pt x="4522" y="590"/>
                    </a:lnTo>
                    <a:lnTo>
                      <a:pt x="4534" y="565"/>
                    </a:lnTo>
                    <a:lnTo>
                      <a:pt x="4545" y="541"/>
                    </a:lnTo>
                    <a:lnTo>
                      <a:pt x="4555" y="519"/>
                    </a:lnTo>
                    <a:lnTo>
                      <a:pt x="4563" y="496"/>
                    </a:lnTo>
                    <a:lnTo>
                      <a:pt x="4575" y="473"/>
                    </a:lnTo>
                    <a:lnTo>
                      <a:pt x="4581" y="451"/>
                    </a:lnTo>
                    <a:lnTo>
                      <a:pt x="4589" y="429"/>
                    </a:lnTo>
                    <a:lnTo>
                      <a:pt x="4596" y="408"/>
                    </a:lnTo>
                    <a:lnTo>
                      <a:pt x="4601" y="389"/>
                    </a:lnTo>
                    <a:lnTo>
                      <a:pt x="4608" y="367"/>
                    </a:lnTo>
                    <a:lnTo>
                      <a:pt x="4613" y="348"/>
                    </a:lnTo>
                    <a:lnTo>
                      <a:pt x="4618" y="328"/>
                    </a:lnTo>
                    <a:lnTo>
                      <a:pt x="4619" y="312"/>
                    </a:lnTo>
                    <a:lnTo>
                      <a:pt x="4624" y="290"/>
                    </a:lnTo>
                    <a:lnTo>
                      <a:pt x="4625" y="274"/>
                    </a:lnTo>
                    <a:lnTo>
                      <a:pt x="4625" y="257"/>
                    </a:lnTo>
                    <a:lnTo>
                      <a:pt x="4625" y="240"/>
                    </a:lnTo>
                    <a:lnTo>
                      <a:pt x="4627" y="222"/>
                    </a:lnTo>
                    <a:lnTo>
                      <a:pt x="4625" y="207"/>
                    </a:lnTo>
                    <a:lnTo>
                      <a:pt x="4624" y="191"/>
                    </a:lnTo>
                    <a:lnTo>
                      <a:pt x="4622" y="177"/>
                    </a:lnTo>
                    <a:lnTo>
                      <a:pt x="4619" y="165"/>
                    </a:lnTo>
                    <a:lnTo>
                      <a:pt x="4614" y="150"/>
                    </a:lnTo>
                    <a:lnTo>
                      <a:pt x="4611" y="136"/>
                    </a:lnTo>
                    <a:lnTo>
                      <a:pt x="4605" y="126"/>
                    </a:lnTo>
                    <a:lnTo>
                      <a:pt x="4599" y="114"/>
                    </a:lnTo>
                    <a:lnTo>
                      <a:pt x="4593" y="103"/>
                    </a:lnTo>
                    <a:lnTo>
                      <a:pt x="4586" y="91"/>
                    </a:lnTo>
                    <a:lnTo>
                      <a:pt x="4578" y="82"/>
                    </a:lnTo>
                    <a:close/>
                  </a:path>
                </a:pathLst>
              </a:custGeom>
              <a:solidFill>
                <a:srgbClr val="ff9966"/>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951360" y="1666800"/>
                <a:ext cx="3671640" cy="3143160"/>
              </a:xfrm>
              <a:custGeom>
                <a:avLst/>
                <a:gdLst/>
                <a:ahLst/>
                <a:rect l="l" t="t" r="r" b="b"/>
                <a:pathLst>
                  <a:path w="4627" h="3960">
                    <a:moveTo>
                      <a:pt x="4578" y="82"/>
                    </a:moveTo>
                    <a:lnTo>
                      <a:pt x="4571" y="73"/>
                    </a:lnTo>
                    <a:lnTo>
                      <a:pt x="4560" y="64"/>
                    </a:lnTo>
                    <a:lnTo>
                      <a:pt x="4551" y="56"/>
                    </a:lnTo>
                    <a:lnTo>
                      <a:pt x="4539" y="47"/>
                    </a:lnTo>
                    <a:lnTo>
                      <a:pt x="4530" y="39"/>
                    </a:lnTo>
                    <a:lnTo>
                      <a:pt x="4518" y="35"/>
                    </a:lnTo>
                    <a:lnTo>
                      <a:pt x="4504" y="29"/>
                    </a:lnTo>
                    <a:lnTo>
                      <a:pt x="4492" y="23"/>
                    </a:lnTo>
                    <a:lnTo>
                      <a:pt x="4478" y="18"/>
                    </a:lnTo>
                    <a:lnTo>
                      <a:pt x="4462" y="14"/>
                    </a:lnTo>
                    <a:lnTo>
                      <a:pt x="4448" y="11"/>
                    </a:lnTo>
                    <a:lnTo>
                      <a:pt x="4431" y="8"/>
                    </a:lnTo>
                    <a:lnTo>
                      <a:pt x="4416" y="5"/>
                    </a:lnTo>
                    <a:lnTo>
                      <a:pt x="4398" y="3"/>
                    </a:lnTo>
                    <a:lnTo>
                      <a:pt x="4381" y="2"/>
                    </a:lnTo>
                    <a:lnTo>
                      <a:pt x="4362" y="2"/>
                    </a:lnTo>
                    <a:lnTo>
                      <a:pt x="4342" y="0"/>
                    </a:lnTo>
                    <a:lnTo>
                      <a:pt x="4321" y="2"/>
                    </a:lnTo>
                    <a:lnTo>
                      <a:pt x="4301" y="3"/>
                    </a:lnTo>
                    <a:lnTo>
                      <a:pt x="4281" y="6"/>
                    </a:lnTo>
                    <a:lnTo>
                      <a:pt x="4259" y="8"/>
                    </a:lnTo>
                    <a:lnTo>
                      <a:pt x="4236" y="11"/>
                    </a:lnTo>
                    <a:lnTo>
                      <a:pt x="4213" y="14"/>
                    </a:lnTo>
                    <a:lnTo>
                      <a:pt x="4192" y="18"/>
                    </a:lnTo>
                    <a:lnTo>
                      <a:pt x="4168" y="23"/>
                    </a:lnTo>
                    <a:lnTo>
                      <a:pt x="4142" y="27"/>
                    </a:lnTo>
                    <a:lnTo>
                      <a:pt x="4119" y="35"/>
                    </a:lnTo>
                    <a:lnTo>
                      <a:pt x="4094" y="41"/>
                    </a:lnTo>
                    <a:lnTo>
                      <a:pt x="4066" y="50"/>
                    </a:lnTo>
                    <a:lnTo>
                      <a:pt x="4041" y="58"/>
                    </a:lnTo>
                    <a:lnTo>
                      <a:pt x="4013" y="65"/>
                    </a:lnTo>
                    <a:lnTo>
                      <a:pt x="3985" y="74"/>
                    </a:lnTo>
                    <a:lnTo>
                      <a:pt x="3959" y="83"/>
                    </a:lnTo>
                    <a:lnTo>
                      <a:pt x="3929" y="94"/>
                    </a:lnTo>
                    <a:lnTo>
                      <a:pt x="3901" y="104"/>
                    </a:lnTo>
                    <a:lnTo>
                      <a:pt x="3870" y="115"/>
                    </a:lnTo>
                    <a:lnTo>
                      <a:pt x="3841" y="129"/>
                    </a:lnTo>
                    <a:lnTo>
                      <a:pt x="3811" y="139"/>
                    </a:lnTo>
                    <a:lnTo>
                      <a:pt x="3779" y="153"/>
                    </a:lnTo>
                    <a:lnTo>
                      <a:pt x="3746" y="166"/>
                    </a:lnTo>
                    <a:lnTo>
                      <a:pt x="3714" y="180"/>
                    </a:lnTo>
                    <a:lnTo>
                      <a:pt x="3682" y="194"/>
                    </a:lnTo>
                    <a:lnTo>
                      <a:pt x="3650" y="210"/>
                    </a:lnTo>
                    <a:lnTo>
                      <a:pt x="3615" y="225"/>
                    </a:lnTo>
                    <a:lnTo>
                      <a:pt x="3582" y="243"/>
                    </a:lnTo>
                    <a:lnTo>
                      <a:pt x="3549" y="260"/>
                    </a:lnTo>
                    <a:lnTo>
                      <a:pt x="3515" y="277"/>
                    </a:lnTo>
                    <a:lnTo>
                      <a:pt x="3481" y="296"/>
                    </a:lnTo>
                    <a:lnTo>
                      <a:pt x="3446" y="315"/>
                    </a:lnTo>
                    <a:lnTo>
                      <a:pt x="3409" y="333"/>
                    </a:lnTo>
                    <a:lnTo>
                      <a:pt x="3375" y="352"/>
                    </a:lnTo>
                    <a:lnTo>
                      <a:pt x="3337" y="372"/>
                    </a:lnTo>
                    <a:lnTo>
                      <a:pt x="3302" y="393"/>
                    </a:lnTo>
                    <a:lnTo>
                      <a:pt x="3266" y="413"/>
                    </a:lnTo>
                    <a:lnTo>
                      <a:pt x="3229" y="434"/>
                    </a:lnTo>
                    <a:lnTo>
                      <a:pt x="3191" y="455"/>
                    </a:lnTo>
                    <a:lnTo>
                      <a:pt x="3154" y="478"/>
                    </a:lnTo>
                    <a:lnTo>
                      <a:pt x="3116" y="500"/>
                    </a:lnTo>
                    <a:lnTo>
                      <a:pt x="3076" y="523"/>
                    </a:lnTo>
                    <a:lnTo>
                      <a:pt x="3039" y="547"/>
                    </a:lnTo>
                    <a:lnTo>
                      <a:pt x="2999" y="572"/>
                    </a:lnTo>
                    <a:lnTo>
                      <a:pt x="2963" y="594"/>
                    </a:lnTo>
                    <a:lnTo>
                      <a:pt x="2922" y="620"/>
                    </a:lnTo>
                    <a:lnTo>
                      <a:pt x="2884" y="646"/>
                    </a:lnTo>
                    <a:lnTo>
                      <a:pt x="2845" y="671"/>
                    </a:lnTo>
                    <a:lnTo>
                      <a:pt x="2807" y="698"/>
                    </a:lnTo>
                    <a:lnTo>
                      <a:pt x="2766" y="724"/>
                    </a:lnTo>
                    <a:lnTo>
                      <a:pt x="2727" y="751"/>
                    </a:lnTo>
                    <a:lnTo>
                      <a:pt x="2687" y="779"/>
                    </a:lnTo>
                    <a:lnTo>
                      <a:pt x="2646" y="807"/>
                    </a:lnTo>
                    <a:lnTo>
                      <a:pt x="2609" y="833"/>
                    </a:lnTo>
                    <a:lnTo>
                      <a:pt x="2566" y="863"/>
                    </a:lnTo>
                    <a:lnTo>
                      <a:pt x="2527" y="892"/>
                    </a:lnTo>
                    <a:lnTo>
                      <a:pt x="2486" y="921"/>
                    </a:lnTo>
                    <a:lnTo>
                      <a:pt x="2445" y="949"/>
                    </a:lnTo>
                    <a:lnTo>
                      <a:pt x="2406" y="978"/>
                    </a:lnTo>
                    <a:lnTo>
                      <a:pt x="2366" y="1008"/>
                    </a:lnTo>
                    <a:lnTo>
                      <a:pt x="2325" y="1040"/>
                    </a:lnTo>
                    <a:lnTo>
                      <a:pt x="2286" y="1069"/>
                    </a:lnTo>
                    <a:lnTo>
                      <a:pt x="2244" y="1101"/>
                    </a:lnTo>
                    <a:lnTo>
                      <a:pt x="2206" y="1131"/>
                    </a:lnTo>
                    <a:lnTo>
                      <a:pt x="2165" y="1163"/>
                    </a:lnTo>
                    <a:lnTo>
                      <a:pt x="2124" y="1196"/>
                    </a:lnTo>
                    <a:lnTo>
                      <a:pt x="2085" y="1226"/>
                    </a:lnTo>
                    <a:lnTo>
                      <a:pt x="2044" y="1259"/>
                    </a:lnTo>
                    <a:lnTo>
                      <a:pt x="2002" y="1291"/>
                    </a:lnTo>
                    <a:lnTo>
                      <a:pt x="1962" y="1323"/>
                    </a:lnTo>
                    <a:lnTo>
                      <a:pt x="1923" y="1356"/>
                    </a:lnTo>
                    <a:lnTo>
                      <a:pt x="1883" y="1389"/>
                    </a:lnTo>
                    <a:lnTo>
                      <a:pt x="1844" y="1423"/>
                    </a:lnTo>
                    <a:lnTo>
                      <a:pt x="1805" y="1456"/>
                    </a:lnTo>
                    <a:lnTo>
                      <a:pt x="1765" y="1489"/>
                    </a:lnTo>
                    <a:lnTo>
                      <a:pt x="1726" y="1522"/>
                    </a:lnTo>
                    <a:lnTo>
                      <a:pt x="1687" y="1554"/>
                    </a:lnTo>
                    <a:lnTo>
                      <a:pt x="1649" y="1589"/>
                    </a:lnTo>
                    <a:lnTo>
                      <a:pt x="1611" y="1624"/>
                    </a:lnTo>
                    <a:lnTo>
                      <a:pt x="1572" y="1657"/>
                    </a:lnTo>
                    <a:lnTo>
                      <a:pt x="1534" y="1690"/>
                    </a:lnTo>
                    <a:lnTo>
                      <a:pt x="1496" y="1725"/>
                    </a:lnTo>
                    <a:lnTo>
                      <a:pt x="1458" y="1760"/>
                    </a:lnTo>
                    <a:lnTo>
                      <a:pt x="1420" y="1794"/>
                    </a:lnTo>
                    <a:lnTo>
                      <a:pt x="1384" y="1829"/>
                    </a:lnTo>
                    <a:lnTo>
                      <a:pt x="1346" y="1864"/>
                    </a:lnTo>
                    <a:lnTo>
                      <a:pt x="1310" y="1897"/>
                    </a:lnTo>
                    <a:lnTo>
                      <a:pt x="1273" y="1932"/>
                    </a:lnTo>
                    <a:lnTo>
                      <a:pt x="1239" y="1967"/>
                    </a:lnTo>
                    <a:lnTo>
                      <a:pt x="1201" y="2001"/>
                    </a:lnTo>
                    <a:lnTo>
                      <a:pt x="1167" y="2036"/>
                    </a:lnTo>
                    <a:lnTo>
                      <a:pt x="1133" y="2069"/>
                    </a:lnTo>
                    <a:lnTo>
                      <a:pt x="1098" y="2104"/>
                    </a:lnTo>
                    <a:lnTo>
                      <a:pt x="1063" y="2139"/>
                    </a:lnTo>
                    <a:lnTo>
                      <a:pt x="1030" y="2172"/>
                    </a:lnTo>
                    <a:lnTo>
                      <a:pt x="996" y="2207"/>
                    </a:lnTo>
                    <a:lnTo>
                      <a:pt x="964" y="2243"/>
                    </a:lnTo>
                    <a:lnTo>
                      <a:pt x="933" y="2277"/>
                    </a:lnTo>
                    <a:lnTo>
                      <a:pt x="899" y="2311"/>
                    </a:lnTo>
                    <a:lnTo>
                      <a:pt x="866" y="2343"/>
                    </a:lnTo>
                    <a:lnTo>
                      <a:pt x="834" y="2378"/>
                    </a:lnTo>
                    <a:lnTo>
                      <a:pt x="804" y="2413"/>
                    </a:lnTo>
                    <a:lnTo>
                      <a:pt x="774" y="2446"/>
                    </a:lnTo>
                    <a:lnTo>
                      <a:pt x="745" y="2479"/>
                    </a:lnTo>
                    <a:lnTo>
                      <a:pt x="715" y="2511"/>
                    </a:lnTo>
                    <a:lnTo>
                      <a:pt x="686" y="2546"/>
                    </a:lnTo>
                    <a:lnTo>
                      <a:pt x="659" y="2577"/>
                    </a:lnTo>
                    <a:lnTo>
                      <a:pt x="630" y="2611"/>
                    </a:lnTo>
                    <a:lnTo>
                      <a:pt x="603" y="2644"/>
                    </a:lnTo>
                    <a:lnTo>
                      <a:pt x="575" y="2676"/>
                    </a:lnTo>
                    <a:lnTo>
                      <a:pt x="550" y="2709"/>
                    </a:lnTo>
                    <a:lnTo>
                      <a:pt x="524" y="2742"/>
                    </a:lnTo>
                    <a:lnTo>
                      <a:pt x="498" y="2774"/>
                    </a:lnTo>
                    <a:lnTo>
                      <a:pt x="474" y="2804"/>
                    </a:lnTo>
                    <a:lnTo>
                      <a:pt x="451" y="2837"/>
                    </a:lnTo>
                    <a:lnTo>
                      <a:pt x="426" y="2866"/>
                    </a:lnTo>
                    <a:lnTo>
                      <a:pt x="404" y="2898"/>
                    </a:lnTo>
                    <a:lnTo>
                      <a:pt x="380" y="2928"/>
                    </a:lnTo>
                    <a:lnTo>
                      <a:pt x="359" y="2958"/>
                    </a:lnTo>
                    <a:lnTo>
                      <a:pt x="336" y="2989"/>
                    </a:lnTo>
                    <a:lnTo>
                      <a:pt x="317" y="3017"/>
                    </a:lnTo>
                    <a:lnTo>
                      <a:pt x="297" y="3046"/>
                    </a:lnTo>
                    <a:lnTo>
                      <a:pt x="276" y="3075"/>
                    </a:lnTo>
                    <a:lnTo>
                      <a:pt x="256" y="3103"/>
                    </a:lnTo>
                    <a:lnTo>
                      <a:pt x="239" y="3132"/>
                    </a:lnTo>
                    <a:lnTo>
                      <a:pt x="221" y="3161"/>
                    </a:lnTo>
                    <a:lnTo>
                      <a:pt x="205" y="3187"/>
                    </a:lnTo>
                    <a:lnTo>
                      <a:pt x="188" y="3215"/>
                    </a:lnTo>
                    <a:lnTo>
                      <a:pt x="173" y="3242"/>
                    </a:lnTo>
                    <a:lnTo>
                      <a:pt x="158" y="3268"/>
                    </a:lnTo>
                    <a:lnTo>
                      <a:pt x="144" y="3295"/>
                    </a:lnTo>
                    <a:lnTo>
                      <a:pt x="130" y="3320"/>
                    </a:lnTo>
                    <a:lnTo>
                      <a:pt x="118" y="3345"/>
                    </a:lnTo>
                    <a:lnTo>
                      <a:pt x="105" y="3371"/>
                    </a:lnTo>
                    <a:lnTo>
                      <a:pt x="92" y="3395"/>
                    </a:lnTo>
                    <a:lnTo>
                      <a:pt x="82" y="3419"/>
                    </a:lnTo>
                    <a:lnTo>
                      <a:pt x="71" y="3442"/>
                    </a:lnTo>
                    <a:lnTo>
                      <a:pt x="64" y="3465"/>
                    </a:lnTo>
                    <a:lnTo>
                      <a:pt x="52" y="3487"/>
                    </a:lnTo>
                    <a:lnTo>
                      <a:pt x="46" y="3510"/>
                    </a:lnTo>
                    <a:lnTo>
                      <a:pt x="38" y="3531"/>
                    </a:lnTo>
                    <a:lnTo>
                      <a:pt x="30" y="3552"/>
                    </a:lnTo>
                    <a:lnTo>
                      <a:pt x="26" y="3572"/>
                    </a:lnTo>
                    <a:lnTo>
                      <a:pt x="18" y="3593"/>
                    </a:lnTo>
                    <a:lnTo>
                      <a:pt x="14" y="3613"/>
                    </a:lnTo>
                    <a:lnTo>
                      <a:pt x="9" y="3632"/>
                    </a:lnTo>
                    <a:lnTo>
                      <a:pt x="8" y="3649"/>
                    </a:lnTo>
                    <a:lnTo>
                      <a:pt x="3" y="3670"/>
                    </a:lnTo>
                    <a:lnTo>
                      <a:pt x="2" y="3687"/>
                    </a:lnTo>
                    <a:lnTo>
                      <a:pt x="2" y="3703"/>
                    </a:lnTo>
                    <a:lnTo>
                      <a:pt x="2" y="3720"/>
                    </a:lnTo>
                    <a:lnTo>
                      <a:pt x="0" y="3738"/>
                    </a:lnTo>
                    <a:lnTo>
                      <a:pt x="2" y="3753"/>
                    </a:lnTo>
                    <a:lnTo>
                      <a:pt x="3" y="3770"/>
                    </a:lnTo>
                    <a:lnTo>
                      <a:pt x="5" y="3784"/>
                    </a:lnTo>
                    <a:lnTo>
                      <a:pt x="8" y="3796"/>
                    </a:lnTo>
                    <a:lnTo>
                      <a:pt x="12" y="3811"/>
                    </a:lnTo>
                    <a:lnTo>
                      <a:pt x="15" y="3824"/>
                    </a:lnTo>
                    <a:lnTo>
                      <a:pt x="21" y="3835"/>
                    </a:lnTo>
                    <a:lnTo>
                      <a:pt x="27" y="3847"/>
                    </a:lnTo>
                    <a:lnTo>
                      <a:pt x="33" y="3858"/>
                    </a:lnTo>
                    <a:lnTo>
                      <a:pt x="41" y="3870"/>
                    </a:lnTo>
                    <a:lnTo>
                      <a:pt x="49" y="3879"/>
                    </a:lnTo>
                    <a:lnTo>
                      <a:pt x="56" y="3888"/>
                    </a:lnTo>
                    <a:lnTo>
                      <a:pt x="67" y="3897"/>
                    </a:lnTo>
                    <a:lnTo>
                      <a:pt x="76" y="3905"/>
                    </a:lnTo>
                    <a:lnTo>
                      <a:pt x="88" y="3914"/>
                    </a:lnTo>
                    <a:lnTo>
                      <a:pt x="97" y="3921"/>
                    </a:lnTo>
                    <a:lnTo>
                      <a:pt x="109" y="3926"/>
                    </a:lnTo>
                    <a:lnTo>
                      <a:pt x="123" y="3932"/>
                    </a:lnTo>
                    <a:lnTo>
                      <a:pt x="135" y="3938"/>
                    </a:lnTo>
                    <a:lnTo>
                      <a:pt x="149" y="3942"/>
                    </a:lnTo>
                    <a:lnTo>
                      <a:pt x="165" y="3947"/>
                    </a:lnTo>
                    <a:lnTo>
                      <a:pt x="179" y="3950"/>
                    </a:lnTo>
                    <a:lnTo>
                      <a:pt x="195" y="3953"/>
                    </a:lnTo>
                    <a:lnTo>
                      <a:pt x="211" y="3956"/>
                    </a:lnTo>
                    <a:lnTo>
                      <a:pt x="229" y="3957"/>
                    </a:lnTo>
                    <a:lnTo>
                      <a:pt x="245" y="3959"/>
                    </a:lnTo>
                    <a:lnTo>
                      <a:pt x="265" y="3959"/>
                    </a:lnTo>
                    <a:lnTo>
                      <a:pt x="285" y="3960"/>
                    </a:lnTo>
                    <a:lnTo>
                      <a:pt x="306" y="3959"/>
                    </a:lnTo>
                    <a:lnTo>
                      <a:pt x="326" y="3957"/>
                    </a:lnTo>
                    <a:lnTo>
                      <a:pt x="345" y="3954"/>
                    </a:lnTo>
                    <a:lnTo>
                      <a:pt x="368" y="3953"/>
                    </a:lnTo>
                    <a:lnTo>
                      <a:pt x="391" y="3950"/>
                    </a:lnTo>
                    <a:lnTo>
                      <a:pt x="413" y="3947"/>
                    </a:lnTo>
                    <a:lnTo>
                      <a:pt x="435" y="3942"/>
                    </a:lnTo>
                    <a:lnTo>
                      <a:pt x="459" y="3938"/>
                    </a:lnTo>
                    <a:lnTo>
                      <a:pt x="485" y="3933"/>
                    </a:lnTo>
                    <a:lnTo>
                      <a:pt x="507" y="3926"/>
                    </a:lnTo>
                    <a:lnTo>
                      <a:pt x="533" y="3920"/>
                    </a:lnTo>
                    <a:lnTo>
                      <a:pt x="560" y="3911"/>
                    </a:lnTo>
                    <a:lnTo>
                      <a:pt x="586" y="3903"/>
                    </a:lnTo>
                    <a:lnTo>
                      <a:pt x="613" y="3895"/>
                    </a:lnTo>
                    <a:lnTo>
                      <a:pt x="642" y="3886"/>
                    </a:lnTo>
                    <a:lnTo>
                      <a:pt x="668" y="3877"/>
                    </a:lnTo>
                    <a:lnTo>
                      <a:pt x="698" y="3867"/>
                    </a:lnTo>
                    <a:lnTo>
                      <a:pt x="725" y="3856"/>
                    </a:lnTo>
                    <a:lnTo>
                      <a:pt x="757" y="3846"/>
                    </a:lnTo>
                    <a:lnTo>
                      <a:pt x="786" y="3832"/>
                    </a:lnTo>
                    <a:lnTo>
                      <a:pt x="816" y="3821"/>
                    </a:lnTo>
                    <a:lnTo>
                      <a:pt x="848" y="3808"/>
                    </a:lnTo>
                    <a:lnTo>
                      <a:pt x="881" y="3794"/>
                    </a:lnTo>
                    <a:lnTo>
                      <a:pt x="913" y="3781"/>
                    </a:lnTo>
                    <a:lnTo>
                      <a:pt x="945" y="3767"/>
                    </a:lnTo>
                    <a:lnTo>
                      <a:pt x="977" y="3750"/>
                    </a:lnTo>
                    <a:lnTo>
                      <a:pt x="1011" y="3735"/>
                    </a:lnTo>
                    <a:lnTo>
                      <a:pt x="1045" y="3717"/>
                    </a:lnTo>
                    <a:lnTo>
                      <a:pt x="1078" y="3700"/>
                    </a:lnTo>
                    <a:lnTo>
                      <a:pt x="1111" y="3684"/>
                    </a:lnTo>
                    <a:lnTo>
                      <a:pt x="1146" y="3664"/>
                    </a:lnTo>
                    <a:lnTo>
                      <a:pt x="1181" y="3646"/>
                    </a:lnTo>
                    <a:lnTo>
                      <a:pt x="1217" y="3628"/>
                    </a:lnTo>
                    <a:lnTo>
                      <a:pt x="1252" y="3608"/>
                    </a:lnTo>
                    <a:lnTo>
                      <a:pt x="1290" y="3589"/>
                    </a:lnTo>
                    <a:lnTo>
                      <a:pt x="1325" y="3567"/>
                    </a:lnTo>
                    <a:lnTo>
                      <a:pt x="1361" y="3548"/>
                    </a:lnTo>
                    <a:lnTo>
                      <a:pt x="1397" y="3527"/>
                    </a:lnTo>
                    <a:lnTo>
                      <a:pt x="1435" y="3505"/>
                    </a:lnTo>
                    <a:lnTo>
                      <a:pt x="1473" y="3483"/>
                    </a:lnTo>
                    <a:lnTo>
                      <a:pt x="1511" y="3460"/>
                    </a:lnTo>
                    <a:lnTo>
                      <a:pt x="1550" y="3437"/>
                    </a:lnTo>
                    <a:lnTo>
                      <a:pt x="1588" y="3413"/>
                    </a:lnTo>
                    <a:lnTo>
                      <a:pt x="1628" y="3389"/>
                    </a:lnTo>
                    <a:lnTo>
                      <a:pt x="1664" y="3366"/>
                    </a:lnTo>
                    <a:lnTo>
                      <a:pt x="1705" y="3341"/>
                    </a:lnTo>
                    <a:lnTo>
                      <a:pt x="1743" y="3315"/>
                    </a:lnTo>
                    <a:lnTo>
                      <a:pt x="1782" y="3289"/>
                    </a:lnTo>
                    <a:lnTo>
                      <a:pt x="1820" y="3262"/>
                    </a:lnTo>
                    <a:lnTo>
                      <a:pt x="1861" y="3236"/>
                    </a:lnTo>
                    <a:lnTo>
                      <a:pt x="1900" y="3209"/>
                    </a:lnTo>
                    <a:lnTo>
                      <a:pt x="1939" y="3182"/>
                    </a:lnTo>
                    <a:lnTo>
                      <a:pt x="1980" y="3153"/>
                    </a:lnTo>
                    <a:lnTo>
                      <a:pt x="2018" y="3128"/>
                    </a:lnTo>
                    <a:lnTo>
                      <a:pt x="2061" y="3097"/>
                    </a:lnTo>
                    <a:lnTo>
                      <a:pt x="2100" y="3069"/>
                    </a:lnTo>
                    <a:lnTo>
                      <a:pt x="2141" y="3040"/>
                    </a:lnTo>
                    <a:lnTo>
                      <a:pt x="2182" y="3011"/>
                    </a:lnTo>
                    <a:lnTo>
                      <a:pt x="2221" y="2982"/>
                    </a:lnTo>
                    <a:lnTo>
                      <a:pt x="2260" y="2952"/>
                    </a:lnTo>
                    <a:lnTo>
                      <a:pt x="2301" y="2920"/>
                    </a:lnTo>
                    <a:lnTo>
                      <a:pt x="2341" y="2892"/>
                    </a:lnTo>
                    <a:lnTo>
                      <a:pt x="2383" y="2860"/>
                    </a:lnTo>
                    <a:lnTo>
                      <a:pt x="2421" y="2830"/>
                    </a:lnTo>
                    <a:lnTo>
                      <a:pt x="2462" y="2798"/>
                    </a:lnTo>
                    <a:lnTo>
                      <a:pt x="2503" y="2765"/>
                    </a:lnTo>
                    <a:lnTo>
                      <a:pt x="2542" y="2735"/>
                    </a:lnTo>
                    <a:lnTo>
                      <a:pt x="2583" y="2701"/>
                    </a:lnTo>
                    <a:lnTo>
                      <a:pt x="2625" y="2670"/>
                    </a:lnTo>
                    <a:lnTo>
                      <a:pt x="2665" y="2638"/>
                    </a:lnTo>
                    <a:lnTo>
                      <a:pt x="2704" y="2605"/>
                    </a:lnTo>
                    <a:lnTo>
                      <a:pt x="2743" y="2571"/>
                    </a:lnTo>
                    <a:lnTo>
                      <a:pt x="2783" y="2538"/>
                    </a:lnTo>
                    <a:lnTo>
                      <a:pt x="2822" y="2505"/>
                    </a:lnTo>
                    <a:lnTo>
                      <a:pt x="2861" y="2472"/>
                    </a:lnTo>
                    <a:lnTo>
                      <a:pt x="2901" y="2438"/>
                    </a:lnTo>
                    <a:lnTo>
                      <a:pt x="2940" y="2407"/>
                    </a:lnTo>
                    <a:lnTo>
                      <a:pt x="2978" y="2372"/>
                    </a:lnTo>
                    <a:lnTo>
                      <a:pt x="3016" y="2337"/>
                    </a:lnTo>
                    <a:lnTo>
                      <a:pt x="3055" y="2304"/>
                    </a:lnTo>
                    <a:lnTo>
                      <a:pt x="3093" y="2271"/>
                    </a:lnTo>
                    <a:lnTo>
                      <a:pt x="3131" y="2236"/>
                    </a:lnTo>
                    <a:lnTo>
                      <a:pt x="3169" y="2201"/>
                    </a:lnTo>
                    <a:lnTo>
                      <a:pt x="3207" y="2166"/>
                    </a:lnTo>
                    <a:lnTo>
                      <a:pt x="3243" y="2131"/>
                    </a:lnTo>
                    <a:lnTo>
                      <a:pt x="3281" y="2097"/>
                    </a:lnTo>
                    <a:lnTo>
                      <a:pt x="3317" y="2063"/>
                    </a:lnTo>
                    <a:lnTo>
                      <a:pt x="3353" y="2029"/>
                    </a:lnTo>
                    <a:lnTo>
                      <a:pt x="3388" y="1994"/>
                    </a:lnTo>
                    <a:lnTo>
                      <a:pt x="3426" y="1959"/>
                    </a:lnTo>
                    <a:lnTo>
                      <a:pt x="3459" y="1924"/>
                    </a:lnTo>
                    <a:lnTo>
                      <a:pt x="3494" y="1891"/>
                    </a:lnTo>
                    <a:lnTo>
                      <a:pt x="3529" y="1856"/>
                    </a:lnTo>
                    <a:lnTo>
                      <a:pt x="3564" y="1822"/>
                    </a:lnTo>
                    <a:lnTo>
                      <a:pt x="3597" y="1788"/>
                    </a:lnTo>
                    <a:lnTo>
                      <a:pt x="3630" y="1754"/>
                    </a:lnTo>
                    <a:lnTo>
                      <a:pt x="3662" y="1717"/>
                    </a:lnTo>
                    <a:lnTo>
                      <a:pt x="3694" y="1684"/>
                    </a:lnTo>
                    <a:lnTo>
                      <a:pt x="3727" y="1649"/>
                    </a:lnTo>
                    <a:lnTo>
                      <a:pt x="3761" y="1618"/>
                    </a:lnTo>
                    <a:lnTo>
                      <a:pt x="3792" y="1583"/>
                    </a:lnTo>
                    <a:lnTo>
                      <a:pt x="3823" y="1548"/>
                    </a:lnTo>
                    <a:lnTo>
                      <a:pt x="3853" y="1515"/>
                    </a:lnTo>
                    <a:lnTo>
                      <a:pt x="3882" y="1481"/>
                    </a:lnTo>
                    <a:lnTo>
                      <a:pt x="3912" y="1450"/>
                    </a:lnTo>
                    <a:lnTo>
                      <a:pt x="3941" y="1415"/>
                    </a:lnTo>
                    <a:lnTo>
                      <a:pt x="3968" y="1383"/>
                    </a:lnTo>
                    <a:lnTo>
                      <a:pt x="3997" y="1350"/>
                    </a:lnTo>
                    <a:lnTo>
                      <a:pt x="4024" y="1317"/>
                    </a:lnTo>
                    <a:lnTo>
                      <a:pt x="4051" y="1285"/>
                    </a:lnTo>
                    <a:lnTo>
                      <a:pt x="4077" y="1252"/>
                    </a:lnTo>
                    <a:lnTo>
                      <a:pt x="4103" y="1218"/>
                    </a:lnTo>
                    <a:lnTo>
                      <a:pt x="4129" y="1187"/>
                    </a:lnTo>
                    <a:lnTo>
                      <a:pt x="4153" y="1156"/>
                    </a:lnTo>
                    <a:lnTo>
                      <a:pt x="4175" y="1123"/>
                    </a:lnTo>
                    <a:lnTo>
                      <a:pt x="4201" y="1095"/>
                    </a:lnTo>
                    <a:lnTo>
                      <a:pt x="4222" y="1063"/>
                    </a:lnTo>
                    <a:lnTo>
                      <a:pt x="4247" y="1033"/>
                    </a:lnTo>
                    <a:lnTo>
                      <a:pt x="4268" y="1002"/>
                    </a:lnTo>
                    <a:lnTo>
                      <a:pt x="4291" y="972"/>
                    </a:lnTo>
                    <a:lnTo>
                      <a:pt x="4310" y="943"/>
                    </a:lnTo>
                    <a:lnTo>
                      <a:pt x="4330" y="915"/>
                    </a:lnTo>
                    <a:lnTo>
                      <a:pt x="4351" y="886"/>
                    </a:lnTo>
                    <a:lnTo>
                      <a:pt x="4371" y="857"/>
                    </a:lnTo>
                    <a:lnTo>
                      <a:pt x="4387" y="828"/>
                    </a:lnTo>
                    <a:lnTo>
                      <a:pt x="4406" y="800"/>
                    </a:lnTo>
                    <a:lnTo>
                      <a:pt x="4422" y="774"/>
                    </a:lnTo>
                    <a:lnTo>
                      <a:pt x="4439" y="745"/>
                    </a:lnTo>
                    <a:lnTo>
                      <a:pt x="4454" y="718"/>
                    </a:lnTo>
                    <a:lnTo>
                      <a:pt x="4469" y="692"/>
                    </a:lnTo>
                    <a:lnTo>
                      <a:pt x="4483" y="665"/>
                    </a:lnTo>
                    <a:lnTo>
                      <a:pt x="4496" y="641"/>
                    </a:lnTo>
                    <a:lnTo>
                      <a:pt x="4509" y="615"/>
                    </a:lnTo>
                    <a:lnTo>
                      <a:pt x="4522" y="590"/>
                    </a:lnTo>
                    <a:lnTo>
                      <a:pt x="4534" y="565"/>
                    </a:lnTo>
                    <a:lnTo>
                      <a:pt x="4545" y="541"/>
                    </a:lnTo>
                    <a:lnTo>
                      <a:pt x="4555" y="519"/>
                    </a:lnTo>
                    <a:lnTo>
                      <a:pt x="4563" y="496"/>
                    </a:lnTo>
                    <a:lnTo>
                      <a:pt x="4575" y="473"/>
                    </a:lnTo>
                    <a:lnTo>
                      <a:pt x="4581" y="451"/>
                    </a:lnTo>
                    <a:lnTo>
                      <a:pt x="4589" y="429"/>
                    </a:lnTo>
                    <a:lnTo>
                      <a:pt x="4596" y="408"/>
                    </a:lnTo>
                    <a:lnTo>
                      <a:pt x="4601" y="389"/>
                    </a:lnTo>
                    <a:lnTo>
                      <a:pt x="4608" y="367"/>
                    </a:lnTo>
                    <a:lnTo>
                      <a:pt x="4613" y="348"/>
                    </a:lnTo>
                    <a:lnTo>
                      <a:pt x="4618" y="328"/>
                    </a:lnTo>
                    <a:lnTo>
                      <a:pt x="4619" y="312"/>
                    </a:lnTo>
                    <a:lnTo>
                      <a:pt x="4624" y="290"/>
                    </a:lnTo>
                    <a:lnTo>
                      <a:pt x="4625" y="274"/>
                    </a:lnTo>
                    <a:lnTo>
                      <a:pt x="4625" y="257"/>
                    </a:lnTo>
                    <a:lnTo>
                      <a:pt x="4625" y="240"/>
                    </a:lnTo>
                    <a:lnTo>
                      <a:pt x="4627" y="222"/>
                    </a:lnTo>
                    <a:lnTo>
                      <a:pt x="4625" y="207"/>
                    </a:lnTo>
                    <a:lnTo>
                      <a:pt x="4624" y="191"/>
                    </a:lnTo>
                    <a:lnTo>
                      <a:pt x="4622" y="177"/>
                    </a:lnTo>
                    <a:lnTo>
                      <a:pt x="4619" y="165"/>
                    </a:lnTo>
                    <a:lnTo>
                      <a:pt x="4614" y="150"/>
                    </a:lnTo>
                    <a:lnTo>
                      <a:pt x="4611" y="136"/>
                    </a:lnTo>
                    <a:lnTo>
                      <a:pt x="4605" y="126"/>
                    </a:lnTo>
                    <a:lnTo>
                      <a:pt x="4599" y="114"/>
                    </a:lnTo>
                    <a:lnTo>
                      <a:pt x="4593" y="103"/>
                    </a:lnTo>
                    <a:lnTo>
                      <a:pt x="4586" y="91"/>
                    </a:lnTo>
                    <a:lnTo>
                      <a:pt x="4578" y="82"/>
                    </a:lnTo>
                    <a:lnTo>
                      <a:pt x="4578" y="82"/>
                    </a:lnTo>
                    <a:lnTo>
                      <a:pt x="4542" y="112"/>
                    </a:lnTo>
                    <a:lnTo>
                      <a:pt x="4546" y="118"/>
                    </a:lnTo>
                    <a:lnTo>
                      <a:pt x="4555" y="133"/>
                    </a:lnTo>
                    <a:lnTo>
                      <a:pt x="4557" y="138"/>
                    </a:lnTo>
                    <a:lnTo>
                      <a:pt x="4563" y="147"/>
                    </a:lnTo>
                    <a:lnTo>
                      <a:pt x="4566" y="154"/>
                    </a:lnTo>
                    <a:lnTo>
                      <a:pt x="4568" y="162"/>
                    </a:lnTo>
                    <a:lnTo>
                      <a:pt x="4572" y="175"/>
                    </a:lnTo>
                    <a:lnTo>
                      <a:pt x="4575" y="188"/>
                    </a:lnTo>
                    <a:lnTo>
                      <a:pt x="4575" y="189"/>
                    </a:lnTo>
                    <a:lnTo>
                      <a:pt x="4577" y="212"/>
                    </a:lnTo>
                    <a:lnTo>
                      <a:pt x="4578" y="222"/>
                    </a:lnTo>
                    <a:lnTo>
                      <a:pt x="4577" y="240"/>
                    </a:lnTo>
                    <a:lnTo>
                      <a:pt x="4577" y="257"/>
                    </a:lnTo>
                    <a:lnTo>
                      <a:pt x="4577" y="274"/>
                    </a:lnTo>
                    <a:lnTo>
                      <a:pt x="4575" y="283"/>
                    </a:lnTo>
                    <a:lnTo>
                      <a:pt x="4571" y="304"/>
                    </a:lnTo>
                    <a:lnTo>
                      <a:pt x="4569" y="321"/>
                    </a:lnTo>
                    <a:lnTo>
                      <a:pt x="4566" y="337"/>
                    </a:lnTo>
                    <a:lnTo>
                      <a:pt x="4561" y="354"/>
                    </a:lnTo>
                    <a:lnTo>
                      <a:pt x="4554" y="373"/>
                    </a:lnTo>
                    <a:lnTo>
                      <a:pt x="4549" y="395"/>
                    </a:lnTo>
                    <a:lnTo>
                      <a:pt x="4543" y="413"/>
                    </a:lnTo>
                    <a:lnTo>
                      <a:pt x="4536" y="435"/>
                    </a:lnTo>
                    <a:lnTo>
                      <a:pt x="4530" y="455"/>
                    </a:lnTo>
                    <a:lnTo>
                      <a:pt x="4519" y="476"/>
                    </a:lnTo>
                    <a:lnTo>
                      <a:pt x="4510" y="500"/>
                    </a:lnTo>
                    <a:lnTo>
                      <a:pt x="4499" y="525"/>
                    </a:lnTo>
                    <a:lnTo>
                      <a:pt x="4490" y="546"/>
                    </a:lnTo>
                    <a:lnTo>
                      <a:pt x="4477" y="572"/>
                    </a:lnTo>
                    <a:lnTo>
                      <a:pt x="4465" y="594"/>
                    </a:lnTo>
                    <a:lnTo>
                      <a:pt x="4452" y="620"/>
                    </a:lnTo>
                    <a:lnTo>
                      <a:pt x="4440" y="643"/>
                    </a:lnTo>
                    <a:lnTo>
                      <a:pt x="4427" y="668"/>
                    </a:lnTo>
                    <a:lnTo>
                      <a:pt x="4412" y="694"/>
                    </a:lnTo>
                    <a:lnTo>
                      <a:pt x="4398" y="718"/>
                    </a:lnTo>
                    <a:lnTo>
                      <a:pt x="4380" y="750"/>
                    </a:lnTo>
                    <a:lnTo>
                      <a:pt x="4365" y="774"/>
                    </a:lnTo>
                    <a:lnTo>
                      <a:pt x="4345" y="804"/>
                    </a:lnTo>
                    <a:lnTo>
                      <a:pt x="4330" y="832"/>
                    </a:lnTo>
                    <a:lnTo>
                      <a:pt x="4312" y="857"/>
                    </a:lnTo>
                    <a:lnTo>
                      <a:pt x="4292" y="884"/>
                    </a:lnTo>
                    <a:lnTo>
                      <a:pt x="4271" y="916"/>
                    </a:lnTo>
                    <a:lnTo>
                      <a:pt x="4253" y="942"/>
                    </a:lnTo>
                    <a:lnTo>
                      <a:pt x="4230" y="972"/>
                    </a:lnTo>
                    <a:lnTo>
                      <a:pt x="4209" y="1004"/>
                    </a:lnTo>
                    <a:lnTo>
                      <a:pt x="4183" y="1034"/>
                    </a:lnTo>
                    <a:lnTo>
                      <a:pt x="4162" y="1066"/>
                    </a:lnTo>
                    <a:lnTo>
                      <a:pt x="4138" y="1093"/>
                    </a:lnTo>
                    <a:lnTo>
                      <a:pt x="4113" y="1128"/>
                    </a:lnTo>
                    <a:lnTo>
                      <a:pt x="4085" y="1164"/>
                    </a:lnTo>
                    <a:lnTo>
                      <a:pt x="4063" y="1190"/>
                    </a:lnTo>
                    <a:lnTo>
                      <a:pt x="4039" y="1221"/>
                    </a:lnTo>
                    <a:lnTo>
                      <a:pt x="4013" y="1255"/>
                    </a:lnTo>
                    <a:lnTo>
                      <a:pt x="3988" y="1285"/>
                    </a:lnTo>
                    <a:lnTo>
                      <a:pt x="3959" y="1320"/>
                    </a:lnTo>
                    <a:lnTo>
                      <a:pt x="3932" y="1351"/>
                    </a:lnTo>
                    <a:lnTo>
                      <a:pt x="3904" y="1383"/>
                    </a:lnTo>
                    <a:lnTo>
                      <a:pt x="3876" y="1418"/>
                    </a:lnTo>
                    <a:lnTo>
                      <a:pt x="3845" y="1450"/>
                    </a:lnTo>
                    <a:lnTo>
                      <a:pt x="3815" y="1485"/>
                    </a:lnTo>
                    <a:lnTo>
                      <a:pt x="3785" y="1518"/>
                    </a:lnTo>
                    <a:lnTo>
                      <a:pt x="3755" y="1553"/>
                    </a:lnTo>
                    <a:lnTo>
                      <a:pt x="3726" y="1583"/>
                    </a:lnTo>
                    <a:lnTo>
                      <a:pt x="3693" y="1614"/>
                    </a:lnTo>
                    <a:lnTo>
                      <a:pt x="3659" y="1651"/>
                    </a:lnTo>
                    <a:lnTo>
                      <a:pt x="3626" y="1684"/>
                    </a:lnTo>
                    <a:lnTo>
                      <a:pt x="3594" y="1722"/>
                    </a:lnTo>
                    <a:lnTo>
                      <a:pt x="3564" y="1754"/>
                    </a:lnTo>
                    <a:lnTo>
                      <a:pt x="3529" y="1787"/>
                    </a:lnTo>
                    <a:lnTo>
                      <a:pt x="3494" y="1822"/>
                    </a:lnTo>
                    <a:lnTo>
                      <a:pt x="3459" y="1856"/>
                    </a:lnTo>
                    <a:lnTo>
                      <a:pt x="3425" y="1890"/>
                    </a:lnTo>
                    <a:lnTo>
                      <a:pt x="3393" y="1924"/>
                    </a:lnTo>
                    <a:lnTo>
                      <a:pt x="3355" y="1958"/>
                    </a:lnTo>
                    <a:lnTo>
                      <a:pt x="3319" y="1994"/>
                    </a:lnTo>
                    <a:lnTo>
                      <a:pt x="3284" y="2029"/>
                    </a:lnTo>
                    <a:lnTo>
                      <a:pt x="3211" y="2094"/>
                    </a:lnTo>
                    <a:lnTo>
                      <a:pt x="3211" y="2094"/>
                    </a:lnTo>
                    <a:lnTo>
                      <a:pt x="3175" y="2130"/>
                    </a:lnTo>
                    <a:lnTo>
                      <a:pt x="3135" y="2165"/>
                    </a:lnTo>
                    <a:lnTo>
                      <a:pt x="3098" y="2199"/>
                    </a:lnTo>
                    <a:lnTo>
                      <a:pt x="3057" y="2237"/>
                    </a:lnTo>
                    <a:lnTo>
                      <a:pt x="3026" y="2264"/>
                    </a:lnTo>
                    <a:lnTo>
                      <a:pt x="2984" y="2301"/>
                    </a:lnTo>
                    <a:lnTo>
                      <a:pt x="2945" y="2336"/>
                    </a:lnTo>
                    <a:lnTo>
                      <a:pt x="2908" y="2370"/>
                    </a:lnTo>
                    <a:lnTo>
                      <a:pt x="2869" y="2402"/>
                    </a:lnTo>
                    <a:lnTo>
                      <a:pt x="2830" y="2435"/>
                    </a:lnTo>
                    <a:lnTo>
                      <a:pt x="2790" y="2469"/>
                    </a:lnTo>
                    <a:lnTo>
                      <a:pt x="2751" y="2502"/>
                    </a:lnTo>
                    <a:lnTo>
                      <a:pt x="2712" y="2535"/>
                    </a:lnTo>
                    <a:lnTo>
                      <a:pt x="2672" y="2568"/>
                    </a:lnTo>
                    <a:lnTo>
                      <a:pt x="2633" y="2602"/>
                    </a:lnTo>
                    <a:lnTo>
                      <a:pt x="2596" y="2632"/>
                    </a:lnTo>
                    <a:lnTo>
                      <a:pt x="2553" y="2664"/>
                    </a:lnTo>
                    <a:lnTo>
                      <a:pt x="2512" y="2697"/>
                    </a:lnTo>
                    <a:lnTo>
                      <a:pt x="2472" y="2727"/>
                    </a:lnTo>
                    <a:lnTo>
                      <a:pt x="2430" y="2762"/>
                    </a:lnTo>
                    <a:lnTo>
                      <a:pt x="2389" y="2794"/>
                    </a:lnTo>
                    <a:lnTo>
                      <a:pt x="2354" y="2821"/>
                    </a:lnTo>
                    <a:lnTo>
                      <a:pt x="2309" y="2855"/>
                    </a:lnTo>
                    <a:lnTo>
                      <a:pt x="2272" y="2881"/>
                    </a:lnTo>
                    <a:lnTo>
                      <a:pt x="2238" y="2908"/>
                    </a:lnTo>
                    <a:lnTo>
                      <a:pt x="2191" y="2945"/>
                    </a:lnTo>
                    <a:lnTo>
                      <a:pt x="2156" y="2970"/>
                    </a:lnTo>
                    <a:lnTo>
                      <a:pt x="2114" y="3001"/>
                    </a:lnTo>
                    <a:lnTo>
                      <a:pt x="2074" y="3028"/>
                    </a:lnTo>
                    <a:lnTo>
                      <a:pt x="2035" y="3057"/>
                    </a:lnTo>
                    <a:lnTo>
                      <a:pt x="1988" y="3090"/>
                    </a:lnTo>
                    <a:lnTo>
                      <a:pt x="1950" y="3115"/>
                    </a:lnTo>
                    <a:lnTo>
                      <a:pt x="1902" y="3150"/>
                    </a:lnTo>
                    <a:lnTo>
                      <a:pt x="1873" y="3170"/>
                    </a:lnTo>
                    <a:lnTo>
                      <a:pt x="1835" y="3196"/>
                    </a:lnTo>
                    <a:lnTo>
                      <a:pt x="1794" y="3221"/>
                    </a:lnTo>
                    <a:lnTo>
                      <a:pt x="1755" y="3249"/>
                    </a:lnTo>
                    <a:lnTo>
                      <a:pt x="1718" y="3273"/>
                    </a:lnTo>
                    <a:lnTo>
                      <a:pt x="1681" y="3300"/>
                    </a:lnTo>
                    <a:lnTo>
                      <a:pt x="1625" y="3335"/>
                    </a:lnTo>
                    <a:lnTo>
                      <a:pt x="1608" y="3344"/>
                    </a:lnTo>
                    <a:lnTo>
                      <a:pt x="1562" y="3372"/>
                    </a:lnTo>
                    <a:lnTo>
                      <a:pt x="1526" y="3395"/>
                    </a:lnTo>
                    <a:lnTo>
                      <a:pt x="1487" y="3418"/>
                    </a:lnTo>
                    <a:lnTo>
                      <a:pt x="1449" y="3442"/>
                    </a:lnTo>
                    <a:lnTo>
                      <a:pt x="1413" y="3463"/>
                    </a:lnTo>
                    <a:lnTo>
                      <a:pt x="1373" y="3484"/>
                    </a:lnTo>
                    <a:lnTo>
                      <a:pt x="1338" y="3505"/>
                    </a:lnTo>
                    <a:lnTo>
                      <a:pt x="1301" y="3525"/>
                    </a:lnTo>
                    <a:lnTo>
                      <a:pt x="1266" y="3546"/>
                    </a:lnTo>
                    <a:lnTo>
                      <a:pt x="1229" y="3566"/>
                    </a:lnTo>
                    <a:lnTo>
                      <a:pt x="1195" y="3586"/>
                    </a:lnTo>
                    <a:lnTo>
                      <a:pt x="1160" y="3602"/>
                    </a:lnTo>
                    <a:lnTo>
                      <a:pt x="1123" y="3622"/>
                    </a:lnTo>
                    <a:lnTo>
                      <a:pt x="1089" y="3642"/>
                    </a:lnTo>
                    <a:lnTo>
                      <a:pt x="1057" y="3657"/>
                    </a:lnTo>
                    <a:lnTo>
                      <a:pt x="1022" y="3675"/>
                    </a:lnTo>
                    <a:lnTo>
                      <a:pt x="990" y="3691"/>
                    </a:lnTo>
                    <a:lnTo>
                      <a:pt x="957" y="3707"/>
                    </a:lnTo>
                    <a:lnTo>
                      <a:pt x="925" y="3723"/>
                    </a:lnTo>
                    <a:lnTo>
                      <a:pt x="893" y="3737"/>
                    </a:lnTo>
                    <a:lnTo>
                      <a:pt x="862" y="3750"/>
                    </a:lnTo>
                    <a:lnTo>
                      <a:pt x="830" y="3762"/>
                    </a:lnTo>
                    <a:lnTo>
                      <a:pt x="798" y="3776"/>
                    </a:lnTo>
                    <a:lnTo>
                      <a:pt x="769" y="3787"/>
                    </a:lnTo>
                    <a:lnTo>
                      <a:pt x="739" y="3800"/>
                    </a:lnTo>
                    <a:lnTo>
                      <a:pt x="709" y="3811"/>
                    </a:lnTo>
                    <a:lnTo>
                      <a:pt x="683" y="3821"/>
                    </a:lnTo>
                    <a:lnTo>
                      <a:pt x="621" y="3843"/>
                    </a:lnTo>
                    <a:lnTo>
                      <a:pt x="630" y="3840"/>
                    </a:lnTo>
                    <a:lnTo>
                      <a:pt x="598" y="3849"/>
                    </a:lnTo>
                    <a:lnTo>
                      <a:pt x="572" y="3856"/>
                    </a:lnTo>
                    <a:lnTo>
                      <a:pt x="547" y="3864"/>
                    </a:lnTo>
                    <a:lnTo>
                      <a:pt x="521" y="3873"/>
                    </a:lnTo>
                    <a:lnTo>
                      <a:pt x="495" y="3879"/>
                    </a:lnTo>
                    <a:lnTo>
                      <a:pt x="472" y="3886"/>
                    </a:lnTo>
                    <a:lnTo>
                      <a:pt x="450" y="3891"/>
                    </a:lnTo>
                    <a:lnTo>
                      <a:pt x="426" y="3895"/>
                    </a:lnTo>
                    <a:lnTo>
                      <a:pt x="407" y="3898"/>
                    </a:lnTo>
                    <a:lnTo>
                      <a:pt x="385" y="3902"/>
                    </a:lnTo>
                    <a:lnTo>
                      <a:pt x="362" y="3905"/>
                    </a:lnTo>
                    <a:lnTo>
                      <a:pt x="339" y="3906"/>
                    </a:lnTo>
                    <a:lnTo>
                      <a:pt x="318" y="3909"/>
                    </a:lnTo>
                    <a:lnTo>
                      <a:pt x="303" y="3911"/>
                    </a:lnTo>
                    <a:lnTo>
                      <a:pt x="285" y="3912"/>
                    </a:lnTo>
                    <a:lnTo>
                      <a:pt x="265" y="3911"/>
                    </a:lnTo>
                    <a:lnTo>
                      <a:pt x="245" y="3911"/>
                    </a:lnTo>
                    <a:lnTo>
                      <a:pt x="233" y="3909"/>
                    </a:lnTo>
                    <a:lnTo>
                      <a:pt x="218" y="3908"/>
                    </a:lnTo>
                    <a:lnTo>
                      <a:pt x="212" y="3908"/>
                    </a:lnTo>
                    <a:lnTo>
                      <a:pt x="183" y="3902"/>
                    </a:lnTo>
                    <a:lnTo>
                      <a:pt x="179" y="3900"/>
                    </a:lnTo>
                    <a:lnTo>
                      <a:pt x="164" y="3897"/>
                    </a:lnTo>
                    <a:lnTo>
                      <a:pt x="153" y="3892"/>
                    </a:lnTo>
                    <a:lnTo>
                      <a:pt x="138" y="3886"/>
                    </a:lnTo>
                    <a:lnTo>
                      <a:pt x="132" y="3883"/>
                    </a:lnTo>
                    <a:lnTo>
                      <a:pt x="121" y="3879"/>
                    </a:lnTo>
                    <a:lnTo>
                      <a:pt x="117" y="3874"/>
                    </a:lnTo>
                    <a:lnTo>
                      <a:pt x="105" y="3865"/>
                    </a:lnTo>
                    <a:lnTo>
                      <a:pt x="97" y="3861"/>
                    </a:lnTo>
                    <a:lnTo>
                      <a:pt x="91" y="3855"/>
                    </a:lnTo>
                    <a:lnTo>
                      <a:pt x="85" y="3849"/>
                    </a:lnTo>
                    <a:lnTo>
                      <a:pt x="80" y="3843"/>
                    </a:lnTo>
                    <a:lnTo>
                      <a:pt x="71" y="3827"/>
                    </a:lnTo>
                    <a:lnTo>
                      <a:pt x="70" y="3823"/>
                    </a:lnTo>
                    <a:lnTo>
                      <a:pt x="64" y="3814"/>
                    </a:lnTo>
                    <a:lnTo>
                      <a:pt x="61" y="3806"/>
                    </a:lnTo>
                    <a:lnTo>
                      <a:pt x="59" y="3799"/>
                    </a:lnTo>
                    <a:lnTo>
                      <a:pt x="55" y="3785"/>
                    </a:lnTo>
                    <a:lnTo>
                      <a:pt x="52" y="3773"/>
                    </a:lnTo>
                    <a:lnTo>
                      <a:pt x="52" y="3772"/>
                    </a:lnTo>
                    <a:lnTo>
                      <a:pt x="50" y="3749"/>
                    </a:lnTo>
                    <a:lnTo>
                      <a:pt x="49" y="3738"/>
                    </a:lnTo>
                    <a:lnTo>
                      <a:pt x="50" y="3720"/>
                    </a:lnTo>
                    <a:lnTo>
                      <a:pt x="50" y="3703"/>
                    </a:lnTo>
                    <a:lnTo>
                      <a:pt x="50" y="3687"/>
                    </a:lnTo>
                    <a:lnTo>
                      <a:pt x="52" y="3678"/>
                    </a:lnTo>
                    <a:lnTo>
                      <a:pt x="56" y="3657"/>
                    </a:lnTo>
                    <a:lnTo>
                      <a:pt x="58" y="3640"/>
                    </a:lnTo>
                    <a:lnTo>
                      <a:pt x="61" y="3623"/>
                    </a:lnTo>
                    <a:lnTo>
                      <a:pt x="65" y="3607"/>
                    </a:lnTo>
                    <a:lnTo>
                      <a:pt x="73" y="3587"/>
                    </a:lnTo>
                    <a:lnTo>
                      <a:pt x="77" y="3566"/>
                    </a:lnTo>
                    <a:lnTo>
                      <a:pt x="83" y="3548"/>
                    </a:lnTo>
                    <a:lnTo>
                      <a:pt x="91" y="3525"/>
                    </a:lnTo>
                    <a:lnTo>
                      <a:pt x="97" y="3505"/>
                    </a:lnTo>
                    <a:lnTo>
                      <a:pt x="108" y="3484"/>
                    </a:lnTo>
                    <a:lnTo>
                      <a:pt x="117" y="3460"/>
                    </a:lnTo>
                    <a:lnTo>
                      <a:pt x="127" y="3436"/>
                    </a:lnTo>
                    <a:lnTo>
                      <a:pt x="136" y="3415"/>
                    </a:lnTo>
                    <a:lnTo>
                      <a:pt x="150" y="3389"/>
                    </a:lnTo>
                    <a:lnTo>
                      <a:pt x="162" y="3366"/>
                    </a:lnTo>
                    <a:lnTo>
                      <a:pt x="174" y="3341"/>
                    </a:lnTo>
                    <a:lnTo>
                      <a:pt x="186" y="3318"/>
                    </a:lnTo>
                    <a:lnTo>
                      <a:pt x="200" y="3292"/>
                    </a:lnTo>
                    <a:lnTo>
                      <a:pt x="215" y="3267"/>
                    </a:lnTo>
                    <a:lnTo>
                      <a:pt x="229" y="3242"/>
                    </a:lnTo>
                    <a:lnTo>
                      <a:pt x="247" y="3211"/>
                    </a:lnTo>
                    <a:lnTo>
                      <a:pt x="262" y="3187"/>
                    </a:lnTo>
                    <a:lnTo>
                      <a:pt x="282" y="3156"/>
                    </a:lnTo>
                    <a:lnTo>
                      <a:pt x="297" y="3129"/>
                    </a:lnTo>
                    <a:lnTo>
                      <a:pt x="315" y="3103"/>
                    </a:lnTo>
                    <a:lnTo>
                      <a:pt x="335" y="3076"/>
                    </a:lnTo>
                    <a:lnTo>
                      <a:pt x="356" y="3044"/>
                    </a:lnTo>
                    <a:lnTo>
                      <a:pt x="374" y="3019"/>
                    </a:lnTo>
                    <a:lnTo>
                      <a:pt x="397" y="2989"/>
                    </a:lnTo>
                    <a:lnTo>
                      <a:pt x="418" y="2957"/>
                    </a:lnTo>
                    <a:lnTo>
                      <a:pt x="444" y="2927"/>
                    </a:lnTo>
                    <a:lnTo>
                      <a:pt x="465" y="2895"/>
                    </a:lnTo>
                    <a:lnTo>
                      <a:pt x="489" y="2868"/>
                    </a:lnTo>
                    <a:lnTo>
                      <a:pt x="513" y="2833"/>
                    </a:lnTo>
                    <a:lnTo>
                      <a:pt x="542" y="2797"/>
                    </a:lnTo>
                    <a:lnTo>
                      <a:pt x="563" y="2771"/>
                    </a:lnTo>
                    <a:lnTo>
                      <a:pt x="588" y="2739"/>
                    </a:lnTo>
                    <a:lnTo>
                      <a:pt x="613" y="2706"/>
                    </a:lnTo>
                    <a:lnTo>
                      <a:pt x="639" y="2676"/>
                    </a:lnTo>
                    <a:lnTo>
                      <a:pt x="668" y="2641"/>
                    </a:lnTo>
                    <a:lnTo>
                      <a:pt x="695" y="2609"/>
                    </a:lnTo>
                    <a:lnTo>
                      <a:pt x="722" y="2577"/>
                    </a:lnTo>
                    <a:lnTo>
                      <a:pt x="751" y="2543"/>
                    </a:lnTo>
                    <a:lnTo>
                      <a:pt x="781" y="2511"/>
                    </a:lnTo>
                    <a:lnTo>
                      <a:pt x="812" y="2476"/>
                    </a:lnTo>
                    <a:lnTo>
                      <a:pt x="842" y="2443"/>
                    </a:lnTo>
                    <a:lnTo>
                      <a:pt x="872" y="2408"/>
                    </a:lnTo>
                    <a:lnTo>
                      <a:pt x="901" y="2378"/>
                    </a:lnTo>
                    <a:lnTo>
                      <a:pt x="934" y="2346"/>
                    </a:lnTo>
                    <a:lnTo>
                      <a:pt x="968" y="2310"/>
                    </a:lnTo>
                    <a:lnTo>
                      <a:pt x="1001" y="2277"/>
                    </a:lnTo>
                    <a:lnTo>
                      <a:pt x="1033" y="2239"/>
                    </a:lnTo>
                    <a:lnTo>
                      <a:pt x="1063" y="2207"/>
                    </a:lnTo>
                    <a:lnTo>
                      <a:pt x="1098" y="2174"/>
                    </a:lnTo>
                    <a:lnTo>
                      <a:pt x="1133" y="2139"/>
                    </a:lnTo>
                    <a:lnTo>
                      <a:pt x="1167" y="2104"/>
                    </a:lnTo>
                    <a:lnTo>
                      <a:pt x="1202" y="2071"/>
                    </a:lnTo>
                    <a:lnTo>
                      <a:pt x="1234" y="2036"/>
                    </a:lnTo>
                    <a:lnTo>
                      <a:pt x="1272" y="2003"/>
                    </a:lnTo>
                    <a:lnTo>
                      <a:pt x="1308" y="1967"/>
                    </a:lnTo>
                    <a:lnTo>
                      <a:pt x="1343" y="1932"/>
                    </a:lnTo>
                    <a:lnTo>
                      <a:pt x="1416" y="1867"/>
                    </a:lnTo>
                    <a:lnTo>
                      <a:pt x="1416" y="1867"/>
                    </a:lnTo>
                    <a:lnTo>
                      <a:pt x="1452" y="1831"/>
                    </a:lnTo>
                    <a:lnTo>
                      <a:pt x="1491" y="1796"/>
                    </a:lnTo>
                    <a:lnTo>
                      <a:pt x="1529" y="1761"/>
                    </a:lnTo>
                    <a:lnTo>
                      <a:pt x="1570" y="1723"/>
                    </a:lnTo>
                    <a:lnTo>
                      <a:pt x="1600" y="1696"/>
                    </a:lnTo>
                    <a:lnTo>
                      <a:pt x="1643" y="1660"/>
                    </a:lnTo>
                    <a:lnTo>
                      <a:pt x="1682" y="1625"/>
                    </a:lnTo>
                    <a:lnTo>
                      <a:pt x="1718" y="1590"/>
                    </a:lnTo>
                    <a:lnTo>
                      <a:pt x="1758" y="1559"/>
                    </a:lnTo>
                    <a:lnTo>
                      <a:pt x="1797" y="1525"/>
                    </a:lnTo>
                    <a:lnTo>
                      <a:pt x="1836" y="1492"/>
                    </a:lnTo>
                    <a:lnTo>
                      <a:pt x="1876" y="1459"/>
                    </a:lnTo>
                    <a:lnTo>
                      <a:pt x="1915" y="1426"/>
                    </a:lnTo>
                    <a:lnTo>
                      <a:pt x="1955" y="1392"/>
                    </a:lnTo>
                    <a:lnTo>
                      <a:pt x="1994" y="1359"/>
                    </a:lnTo>
                    <a:lnTo>
                      <a:pt x="2030" y="1329"/>
                    </a:lnTo>
                    <a:lnTo>
                      <a:pt x="2074" y="1297"/>
                    </a:lnTo>
                    <a:lnTo>
                      <a:pt x="2115" y="1264"/>
                    </a:lnTo>
                    <a:lnTo>
                      <a:pt x="2154" y="1234"/>
                    </a:lnTo>
                    <a:lnTo>
                      <a:pt x="2197" y="1199"/>
                    </a:lnTo>
                    <a:lnTo>
                      <a:pt x="2238" y="1167"/>
                    </a:lnTo>
                    <a:lnTo>
                      <a:pt x="2272" y="1140"/>
                    </a:lnTo>
                    <a:lnTo>
                      <a:pt x="2318" y="1105"/>
                    </a:lnTo>
                    <a:lnTo>
                      <a:pt x="2354" y="1079"/>
                    </a:lnTo>
                    <a:lnTo>
                      <a:pt x="2389" y="1052"/>
                    </a:lnTo>
                    <a:lnTo>
                      <a:pt x="2436" y="1016"/>
                    </a:lnTo>
                    <a:lnTo>
                      <a:pt x="2471" y="990"/>
                    </a:lnTo>
                    <a:lnTo>
                      <a:pt x="2513" y="960"/>
                    </a:lnTo>
                    <a:lnTo>
                      <a:pt x="2553" y="933"/>
                    </a:lnTo>
                    <a:lnTo>
                      <a:pt x="2592" y="904"/>
                    </a:lnTo>
                    <a:lnTo>
                      <a:pt x="2639" y="871"/>
                    </a:lnTo>
                    <a:lnTo>
                      <a:pt x="2677" y="845"/>
                    </a:lnTo>
                    <a:lnTo>
                      <a:pt x="2725" y="810"/>
                    </a:lnTo>
                    <a:lnTo>
                      <a:pt x="2754" y="791"/>
                    </a:lnTo>
                    <a:lnTo>
                      <a:pt x="2792" y="765"/>
                    </a:lnTo>
                    <a:lnTo>
                      <a:pt x="2833" y="739"/>
                    </a:lnTo>
                    <a:lnTo>
                      <a:pt x="2872" y="712"/>
                    </a:lnTo>
                    <a:lnTo>
                      <a:pt x="2908" y="688"/>
                    </a:lnTo>
                    <a:lnTo>
                      <a:pt x="2946" y="661"/>
                    </a:lnTo>
                    <a:lnTo>
                      <a:pt x="3002" y="626"/>
                    </a:lnTo>
                    <a:lnTo>
                      <a:pt x="3019" y="617"/>
                    </a:lnTo>
                    <a:lnTo>
                      <a:pt x="3064" y="588"/>
                    </a:lnTo>
                    <a:lnTo>
                      <a:pt x="3101" y="565"/>
                    </a:lnTo>
                    <a:lnTo>
                      <a:pt x="3140" y="543"/>
                    </a:lnTo>
                    <a:lnTo>
                      <a:pt x="3178" y="519"/>
                    </a:lnTo>
                    <a:lnTo>
                      <a:pt x="3214" y="497"/>
                    </a:lnTo>
                    <a:lnTo>
                      <a:pt x="3253" y="476"/>
                    </a:lnTo>
                    <a:lnTo>
                      <a:pt x="3288" y="455"/>
                    </a:lnTo>
                    <a:lnTo>
                      <a:pt x="3326" y="435"/>
                    </a:lnTo>
                    <a:lnTo>
                      <a:pt x="3361" y="414"/>
                    </a:lnTo>
                    <a:lnTo>
                      <a:pt x="3397" y="395"/>
                    </a:lnTo>
                    <a:lnTo>
                      <a:pt x="3432" y="375"/>
                    </a:lnTo>
                    <a:lnTo>
                      <a:pt x="3467" y="358"/>
                    </a:lnTo>
                    <a:lnTo>
                      <a:pt x="3503" y="339"/>
                    </a:lnTo>
                    <a:lnTo>
                      <a:pt x="3538" y="319"/>
                    </a:lnTo>
                    <a:lnTo>
                      <a:pt x="3570" y="304"/>
                    </a:lnTo>
                    <a:lnTo>
                      <a:pt x="3605" y="286"/>
                    </a:lnTo>
                    <a:lnTo>
                      <a:pt x="3637" y="269"/>
                    </a:lnTo>
                    <a:lnTo>
                      <a:pt x="3670" y="254"/>
                    </a:lnTo>
                    <a:lnTo>
                      <a:pt x="3702" y="237"/>
                    </a:lnTo>
                    <a:lnTo>
                      <a:pt x="3733" y="224"/>
                    </a:lnTo>
                    <a:lnTo>
                      <a:pt x="3765" y="210"/>
                    </a:lnTo>
                    <a:lnTo>
                      <a:pt x="3797" y="198"/>
                    </a:lnTo>
                    <a:lnTo>
                      <a:pt x="3829" y="185"/>
                    </a:lnTo>
                    <a:lnTo>
                      <a:pt x="3858" y="174"/>
                    </a:lnTo>
                    <a:lnTo>
                      <a:pt x="3888" y="160"/>
                    </a:lnTo>
                    <a:lnTo>
                      <a:pt x="3918" y="150"/>
                    </a:lnTo>
                    <a:lnTo>
                      <a:pt x="3944" y="139"/>
                    </a:lnTo>
                    <a:lnTo>
                      <a:pt x="4006" y="118"/>
                    </a:lnTo>
                    <a:lnTo>
                      <a:pt x="3997" y="121"/>
                    </a:lnTo>
                    <a:lnTo>
                      <a:pt x="4029" y="112"/>
                    </a:lnTo>
                    <a:lnTo>
                      <a:pt x="4054" y="104"/>
                    </a:lnTo>
                    <a:lnTo>
                      <a:pt x="4080" y="97"/>
                    </a:lnTo>
                    <a:lnTo>
                      <a:pt x="4106" y="88"/>
                    </a:lnTo>
                    <a:lnTo>
                      <a:pt x="4132" y="82"/>
                    </a:lnTo>
                    <a:lnTo>
                      <a:pt x="4154" y="74"/>
                    </a:lnTo>
                    <a:lnTo>
                      <a:pt x="4177" y="70"/>
                    </a:lnTo>
                    <a:lnTo>
                      <a:pt x="4201" y="65"/>
                    </a:lnTo>
                    <a:lnTo>
                      <a:pt x="4219" y="62"/>
                    </a:lnTo>
                    <a:lnTo>
                      <a:pt x="4242" y="59"/>
                    </a:lnTo>
                    <a:lnTo>
                      <a:pt x="4265" y="56"/>
                    </a:lnTo>
                    <a:lnTo>
                      <a:pt x="4287" y="55"/>
                    </a:lnTo>
                    <a:lnTo>
                      <a:pt x="4309" y="52"/>
                    </a:lnTo>
                    <a:lnTo>
                      <a:pt x="4324" y="50"/>
                    </a:lnTo>
                    <a:lnTo>
                      <a:pt x="4342" y="49"/>
                    </a:lnTo>
                    <a:lnTo>
                      <a:pt x="4362" y="50"/>
                    </a:lnTo>
                    <a:lnTo>
                      <a:pt x="4381" y="50"/>
                    </a:lnTo>
                    <a:lnTo>
                      <a:pt x="4393" y="52"/>
                    </a:lnTo>
                    <a:lnTo>
                      <a:pt x="4409" y="53"/>
                    </a:lnTo>
                    <a:lnTo>
                      <a:pt x="4415" y="53"/>
                    </a:lnTo>
                    <a:lnTo>
                      <a:pt x="4443" y="59"/>
                    </a:lnTo>
                    <a:lnTo>
                      <a:pt x="4448" y="61"/>
                    </a:lnTo>
                    <a:lnTo>
                      <a:pt x="4463" y="64"/>
                    </a:lnTo>
                    <a:lnTo>
                      <a:pt x="4474" y="68"/>
                    </a:lnTo>
                    <a:lnTo>
                      <a:pt x="4489" y="74"/>
                    </a:lnTo>
                    <a:lnTo>
                      <a:pt x="4495" y="77"/>
                    </a:lnTo>
                    <a:lnTo>
                      <a:pt x="4505" y="82"/>
                    </a:lnTo>
                    <a:lnTo>
                      <a:pt x="4510" y="86"/>
                    </a:lnTo>
                    <a:lnTo>
                      <a:pt x="4522" y="95"/>
                    </a:lnTo>
                    <a:lnTo>
                      <a:pt x="4530" y="100"/>
                    </a:lnTo>
                    <a:lnTo>
                      <a:pt x="4536" y="106"/>
                    </a:lnTo>
                    <a:lnTo>
                      <a:pt x="4542" y="112"/>
                    </a:lnTo>
                    <a:lnTo>
                      <a:pt x="4578" y="82"/>
                    </a:lnTo>
                    <a:close/>
                  </a:path>
                </a:pathLst>
              </a:custGeom>
              <a:solidFill>
                <a:srgbClr val="ff9966"/>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8" name=""/>
            <p:cNvGrpSpPr/>
            <p:nvPr/>
          </p:nvGrpSpPr>
          <p:grpSpPr>
            <a:xfrm>
              <a:off x="2082240" y="2836800"/>
              <a:ext cx="1439280" cy="1102680"/>
              <a:chOff x="2082240" y="2836800"/>
              <a:chExt cx="1439280" cy="1102680"/>
            </a:xfrm>
          </p:grpSpPr>
          <p:sp>
            <p:nvSpPr>
              <p:cNvPr id="1049" name=""/>
              <p:cNvSpPr/>
              <p:nvPr/>
            </p:nvSpPr>
            <p:spPr>
              <a:xfrm>
                <a:off x="2130840" y="2836800"/>
                <a:ext cx="1305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d. Dev.</a:t>
                </a:r>
                <a:endParaRPr b="0" lang="en-US" sz="2400" spc="-1" strike="noStrike">
                  <a:solidFill>
                    <a:srgbClr val="000000"/>
                  </a:solidFill>
                  <a:latin typeface="Times New Roman"/>
                </a:endParaRPr>
              </a:p>
            </p:txBody>
          </p:sp>
          <p:sp>
            <p:nvSpPr>
              <p:cNvPr id="1050" name=""/>
              <p:cNvSpPr/>
              <p:nvPr/>
            </p:nvSpPr>
            <p:spPr>
              <a:xfrm>
                <a:off x="2596320" y="3205080"/>
                <a:ext cx="288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a:t>
                </a:r>
                <a:endParaRPr b="0" lang="en-US" sz="2400" spc="-1" strike="noStrike">
                  <a:solidFill>
                    <a:srgbClr val="000000"/>
                  </a:solidFill>
                  <a:latin typeface="Times New Roman"/>
                </a:endParaRPr>
              </a:p>
            </p:txBody>
          </p:sp>
          <p:sp>
            <p:nvSpPr>
              <p:cNvPr id="1051" name=""/>
              <p:cNvSpPr/>
              <p:nvPr/>
            </p:nvSpPr>
            <p:spPr>
              <a:xfrm>
                <a:off x="2082240" y="3573360"/>
                <a:ext cx="1439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vature</a:t>
                </a:r>
                <a:endParaRPr b="0" lang="en-US" sz="2400" spc="-1" strike="noStrike">
                  <a:solidFill>
                    <a:srgbClr val="000000"/>
                  </a:solidFill>
                  <a:latin typeface="Times New Roman"/>
                </a:endParaRPr>
              </a:p>
            </p:txBody>
          </p:sp>
        </p:grpSp>
        <p:sp>
          <p:nvSpPr>
            <p:cNvPr id="1052" name=""/>
            <p:cNvSpPr/>
            <p:nvPr/>
          </p:nvSpPr>
          <p:spPr>
            <a:xfrm>
              <a:off x="4650480" y="5313240"/>
              <a:ext cx="272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erage Curvature</a:t>
              </a:r>
              <a:endParaRPr b="0" lang="en-US" sz="2400" spc="-1" strike="noStrike">
                <a:solidFill>
                  <a:srgbClr val="000000"/>
                </a:solidFill>
                <a:latin typeface="Times New Roman"/>
              </a:endParaRPr>
            </a:p>
          </p:txBody>
        </p:sp>
        <p:grpSp>
          <p:nvGrpSpPr>
            <p:cNvPr id="1053" name=""/>
            <p:cNvGrpSpPr/>
            <p:nvPr/>
          </p:nvGrpSpPr>
          <p:grpSpPr>
            <a:xfrm>
              <a:off x="5864040" y="4319640"/>
              <a:ext cx="1368720" cy="730080"/>
              <a:chOff x="5864040" y="4319640"/>
              <a:chExt cx="1368720" cy="730080"/>
            </a:xfrm>
          </p:grpSpPr>
          <p:sp>
            <p:nvSpPr>
              <p:cNvPr id="1054" name=""/>
              <p:cNvSpPr/>
              <p:nvPr/>
            </p:nvSpPr>
            <p:spPr>
              <a:xfrm>
                <a:off x="5864040" y="4319640"/>
                <a:ext cx="1368720" cy="7300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990040" y="434952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EPER</a:t>
                </a:r>
                <a:endParaRPr b="0" lang="en-US" sz="2100" spc="-1" strike="noStrike">
                  <a:solidFill>
                    <a:srgbClr val="000000"/>
                  </a:solidFill>
                  <a:latin typeface="Times New Roman"/>
                </a:endParaRPr>
              </a:p>
            </p:txBody>
          </p:sp>
          <p:sp>
            <p:nvSpPr>
              <p:cNvPr id="1056" name=""/>
              <p:cNvSpPr/>
              <p:nvPr/>
            </p:nvSpPr>
            <p:spPr>
              <a:xfrm>
                <a:off x="6175800" y="4673520"/>
                <a:ext cx="727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rimp</a:t>
                </a:r>
                <a:endParaRPr b="0" lang="en-US" sz="2100" spc="-1" strike="noStrike">
                  <a:solidFill>
                    <a:srgbClr val="000000"/>
                  </a:solidFill>
                  <a:latin typeface="Times New Roman"/>
                </a:endParaRPr>
              </a:p>
            </p:txBody>
          </p:sp>
        </p:grpSp>
        <p:grpSp>
          <p:nvGrpSpPr>
            <p:cNvPr id="1057" name=""/>
            <p:cNvGrpSpPr/>
            <p:nvPr/>
          </p:nvGrpSpPr>
          <p:grpSpPr>
            <a:xfrm>
              <a:off x="4091040" y="1612800"/>
              <a:ext cx="1379520" cy="730440"/>
              <a:chOff x="4091040" y="1612800"/>
              <a:chExt cx="1379520" cy="730440"/>
            </a:xfrm>
          </p:grpSpPr>
          <p:sp>
            <p:nvSpPr>
              <p:cNvPr id="1058" name=""/>
              <p:cNvSpPr/>
              <p:nvPr/>
            </p:nvSpPr>
            <p:spPr>
              <a:xfrm>
                <a:off x="4091040" y="1612800"/>
                <a:ext cx="1379520" cy="7304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62680" y="1643040"/>
                <a:ext cx="121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FLATTER</a:t>
                </a:r>
                <a:endParaRPr b="0" lang="en-US" sz="2100" spc="-1" strike="noStrike">
                  <a:solidFill>
                    <a:srgbClr val="000000"/>
                  </a:solidFill>
                  <a:latin typeface="Times New Roman"/>
                </a:endParaRPr>
              </a:p>
            </p:txBody>
          </p:sp>
          <p:sp>
            <p:nvSpPr>
              <p:cNvPr id="1060" name=""/>
              <p:cNvSpPr/>
              <p:nvPr/>
            </p:nvSpPr>
            <p:spPr>
              <a:xfrm>
                <a:off x="4407480" y="1966680"/>
                <a:ext cx="727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crimp</a:t>
                </a:r>
                <a:endParaRPr b="0" lang="en-US" sz="2100" spc="-1" strike="noStrike">
                  <a:solidFill>
                    <a:srgbClr val="000000"/>
                  </a:solidFill>
                  <a:latin typeface="Times New Roman"/>
                </a:endParaRPr>
              </a:p>
            </p:txBody>
          </p:sp>
        </p:grpSp>
        <p:sp>
          <p:nvSpPr>
            <p:cNvPr id="1061" name=""/>
            <p:cNvSpPr/>
            <p:nvPr/>
          </p:nvSpPr>
          <p:spPr>
            <a:xfrm rot="19140000">
              <a:off x="4598640" y="3114360"/>
              <a:ext cx="2291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 WOOLS</a:t>
              </a:r>
              <a:endParaRPr b="0" lang="en-US" sz="2000" spc="-1" strike="noStrike">
                <a:solidFill>
                  <a:srgbClr val="000000"/>
                </a:solidFill>
                <a:latin typeface="Times New Roman"/>
              </a:endParaRPr>
            </a:p>
          </p:txBody>
        </p:sp>
        <p:grpSp>
          <p:nvGrpSpPr>
            <p:cNvPr id="1062" name=""/>
            <p:cNvGrpSpPr/>
            <p:nvPr/>
          </p:nvGrpSpPr>
          <p:grpSpPr>
            <a:xfrm>
              <a:off x="3514680" y="1430280"/>
              <a:ext cx="168120" cy="3754440"/>
              <a:chOff x="3514680" y="1430280"/>
              <a:chExt cx="168120" cy="3754440"/>
            </a:xfrm>
          </p:grpSpPr>
          <p:sp>
            <p:nvSpPr>
              <p:cNvPr id="1063" name=""/>
              <p:cNvSpPr/>
              <p:nvPr/>
            </p:nvSpPr>
            <p:spPr>
              <a:xfrm>
                <a:off x="3598920" y="1576440"/>
                <a:ext cx="1440" cy="360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514680" y="1430280"/>
                <a:ext cx="168120" cy="263520"/>
              </a:xfrm>
              <a:custGeom>
                <a:avLst/>
                <a:gdLst/>
                <a:ahLst/>
                <a:rect l="l" t="t" r="r" b="b"/>
                <a:pathLst>
                  <a:path w="212" h="331">
                    <a:moveTo>
                      <a:pt x="106" y="0"/>
                    </a:moveTo>
                    <a:lnTo>
                      <a:pt x="0" y="331"/>
                    </a:lnTo>
                    <a:lnTo>
                      <a:pt x="212" y="331"/>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3598920" y="5091120"/>
              <a:ext cx="4383000" cy="168120"/>
              <a:chOff x="3598920" y="5091120"/>
              <a:chExt cx="4383000" cy="168120"/>
            </a:xfrm>
          </p:grpSpPr>
          <p:sp>
            <p:nvSpPr>
              <p:cNvPr id="1066" name=""/>
              <p:cNvSpPr/>
              <p:nvPr/>
            </p:nvSpPr>
            <p:spPr>
              <a:xfrm>
                <a:off x="3598920" y="5175000"/>
                <a:ext cx="423864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
              <p:cNvSpPr/>
              <p:nvPr/>
            </p:nvSpPr>
            <p:spPr>
              <a:xfrm>
                <a:off x="7707240" y="5091120"/>
                <a:ext cx="274680" cy="168120"/>
              </a:xfrm>
              <a:custGeom>
                <a:avLst/>
                <a:gdLst/>
                <a:ahLst/>
                <a:rect l="l" t="t" r="r" b="b"/>
                <a:pathLst>
                  <a:path w="345" h="213">
                    <a:moveTo>
                      <a:pt x="345" y="107"/>
                    </a:moveTo>
                    <a:lnTo>
                      <a:pt x="0" y="0"/>
                    </a:lnTo>
                    <a:lnTo>
                      <a:pt x="0" y="213"/>
                    </a:lnTo>
                    <a:lnTo>
                      <a:pt x="34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
            <p:cNvSpPr/>
            <p:nvPr/>
          </p:nvSpPr>
          <p:spPr>
            <a:xfrm>
              <a:off x="1935000" y="1195200"/>
              <a:ext cx="6235920" cy="4570560"/>
            </a:xfrm>
            <a:prstGeom prst="rect">
              <a:avLst/>
            </a:prstGeom>
            <a:noFill/>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rd of caution</a:t>
            </a:r>
            <a:endParaRPr b="1" lang="en-US" sz="3200" spc="-1" strike="noStrike">
              <a:solidFill>
                <a:srgbClr val="fafd00"/>
              </a:solidFill>
              <a:latin typeface="Arial"/>
            </a:endParaRPr>
          </a:p>
        </p:txBody>
      </p:sp>
      <p:sp>
        <p:nvSpPr>
          <p:cNvPr id="107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rvature is a new technology</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FDA and Laserscan measurement techniques to be perfect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ternational standards to be establish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re research required</a:t>
            </a:r>
            <a:endParaRPr b="1" lang="en-US" sz="2800" spc="-1" strike="noStrike">
              <a:solidFill>
                <a:srgbClr val="ffffff"/>
              </a:solidFill>
              <a:latin typeface="Arial"/>
            </a:endParaRPr>
          </a:p>
        </p:txBody>
      </p:sp>
      <p:sp>
        <p:nvSpPr>
          <p:cNvPr id="1072"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Curvature</a:t>
            </a:r>
            <a:endParaRPr b="1" lang="en-US" sz="3200" spc="-1" strike="noStrike">
              <a:solidFill>
                <a:srgbClr val="fafd00"/>
              </a:solidFill>
              <a:latin typeface="Arial"/>
            </a:endParaRPr>
          </a:p>
        </p:txBody>
      </p:sp>
      <p:pic>
        <p:nvPicPr>
          <p:cNvPr id="50" name="" descr=""/>
          <p:cNvPicPr/>
          <p:nvPr/>
        </p:nvPicPr>
        <p:blipFill>
          <a:blip r:embed="rId1"/>
          <a:stretch/>
        </p:blipFill>
        <p:spPr>
          <a:xfrm>
            <a:off x="3886200" y="990720"/>
            <a:ext cx="5029200" cy="5065560"/>
          </a:xfrm>
          <a:prstGeom prst="rect">
            <a:avLst/>
          </a:prstGeom>
          <a:ln w="19080">
            <a:solidFill>
              <a:srgbClr val="000000"/>
            </a:solidFill>
            <a:miter/>
          </a:ln>
        </p:spPr>
      </p:pic>
      <p:sp>
        <p:nvSpPr>
          <p:cNvPr id="51" name=""/>
          <p:cNvSpPr/>
          <p:nvPr/>
        </p:nvSpPr>
        <p:spPr>
          <a:xfrm>
            <a:off x="7385760" y="6324480"/>
            <a:ext cx="1762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Rossouw 1931</a:t>
            </a:r>
            <a:endParaRPr b="0" lang="en-US" sz="1200" spc="-1" strike="noStrike">
              <a:solidFill>
                <a:srgbClr val="000000"/>
              </a:solidFill>
              <a:latin typeface="Times New Roman"/>
            </a:endParaRPr>
          </a:p>
        </p:txBody>
      </p:sp>
      <p:sp>
        <p:nvSpPr>
          <p:cNvPr id="52" name=""/>
          <p:cNvSpPr/>
          <p:nvPr/>
        </p:nvSpPr>
        <p:spPr>
          <a:xfrm>
            <a:off x="1104480" y="2184480"/>
            <a:ext cx="2707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Section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Merino wool fi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arison of crimp frequency</a:t>
            </a:r>
            <a:endParaRPr b="1" lang="en-US" sz="3200" spc="-1" strike="noStrike">
              <a:solidFill>
                <a:srgbClr val="fafd00"/>
              </a:solidFill>
              <a:latin typeface="Arial"/>
            </a:endParaRPr>
          </a:p>
        </p:txBody>
      </p:sp>
      <p:pic>
        <p:nvPicPr>
          <p:cNvPr id="54" name="" descr=""/>
          <p:cNvPicPr/>
          <p:nvPr/>
        </p:nvPicPr>
        <p:blipFill>
          <a:blip r:embed="rId1"/>
          <a:srcRect l="0" t="7284" r="66435" b="23875"/>
          <a:stretch/>
        </p:blipFill>
        <p:spPr>
          <a:xfrm>
            <a:off x="2590920" y="1219320"/>
            <a:ext cx="4952880" cy="4539960"/>
          </a:xfrm>
          <a:prstGeom prst="rect">
            <a:avLst/>
          </a:prstGeom>
          <a:ln w="19080">
            <a:solidFill>
              <a:srgbClr val="000000"/>
            </a:solidFill>
            <a:miter/>
          </a:ln>
        </p:spPr>
      </p:pic>
      <p:sp>
        <p:nvSpPr>
          <p:cNvPr id="55"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752480" y="990720"/>
            <a:ext cx="6782040" cy="4819680"/>
          </a:xfrm>
          <a:prstGeom prst="rect">
            <a:avLst/>
          </a:prstGeom>
          <a:ln w="19080">
            <a:solidFill>
              <a:srgbClr val="000000"/>
            </a:solidFill>
            <a:miter/>
          </a:ln>
        </p:spPr>
      </p:pic>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gree of curvature</a:t>
            </a:r>
            <a:endParaRPr b="1" lang="en-US" sz="3200" spc="-1" strike="noStrike">
              <a:solidFill>
                <a:srgbClr val="fafd00"/>
              </a:solidFill>
              <a:latin typeface="Arial"/>
            </a:endParaRPr>
          </a:p>
        </p:txBody>
      </p:sp>
      <p:sp>
        <p:nvSpPr>
          <p:cNvPr id="5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673280" y="914400"/>
            <a:ext cx="7013520" cy="5224320"/>
            <a:chOff x="1673280" y="914400"/>
            <a:chExt cx="7013520" cy="5224320"/>
          </a:xfrm>
        </p:grpSpPr>
        <p:sp>
          <p:nvSpPr>
            <p:cNvPr id="60" name=""/>
            <p:cNvSpPr/>
            <p:nvPr/>
          </p:nvSpPr>
          <p:spPr>
            <a:xfrm>
              <a:off x="1673280" y="914400"/>
              <a:ext cx="7013520" cy="5224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936880" y="1257120"/>
              <a:ext cx="5410080" cy="3816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36880" y="459900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936880" y="412416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936880" y="364968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 name=""/>
            <p:cNvSpPr/>
            <p:nvPr/>
          </p:nvSpPr>
          <p:spPr>
            <a:xfrm>
              <a:off x="2936880" y="317484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936880" y="268272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 name=""/>
            <p:cNvSpPr/>
            <p:nvPr/>
          </p:nvSpPr>
          <p:spPr>
            <a:xfrm>
              <a:off x="2936880" y="2208240"/>
              <a:ext cx="5410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a:off x="2936880" y="173340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
            <p:cNvSpPr/>
            <p:nvPr/>
          </p:nvSpPr>
          <p:spPr>
            <a:xfrm>
              <a:off x="2936880" y="125712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401148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105160" y="1257120"/>
              <a:ext cx="180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18012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27236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34696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936880" y="1257120"/>
              <a:ext cx="5410080" cy="3816360"/>
            </a:xfrm>
            <a:prstGeom prst="rect">
              <a:avLst/>
            </a:prstGeom>
            <a:noFill/>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936880" y="1257120"/>
              <a:ext cx="1440" cy="381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862000" y="507348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2862000" y="459900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2862000" y="412416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862000" y="364968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2862000" y="317484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2862000" y="268272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2862000" y="2208240"/>
              <a:ext cx="74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862000" y="173340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 name=""/>
            <p:cNvSpPr/>
            <p:nvPr/>
          </p:nvSpPr>
          <p:spPr>
            <a:xfrm>
              <a:off x="2862000" y="1257120"/>
              <a:ext cx="74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 name=""/>
            <p:cNvSpPr/>
            <p:nvPr/>
          </p:nvSpPr>
          <p:spPr>
            <a:xfrm>
              <a:off x="2936880" y="5073480"/>
              <a:ext cx="5410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 name=""/>
            <p:cNvSpPr/>
            <p:nvPr/>
          </p:nvSpPr>
          <p:spPr>
            <a:xfrm flipV="1">
              <a:off x="293688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 name=""/>
            <p:cNvSpPr/>
            <p:nvPr/>
          </p:nvSpPr>
          <p:spPr>
            <a:xfrm flipV="1">
              <a:off x="401148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 name=""/>
            <p:cNvSpPr/>
            <p:nvPr/>
          </p:nvSpPr>
          <p:spPr>
            <a:xfrm flipV="1">
              <a:off x="5105160" y="5073480"/>
              <a:ext cx="180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 name=""/>
            <p:cNvSpPr/>
            <p:nvPr/>
          </p:nvSpPr>
          <p:spPr>
            <a:xfrm flipV="1">
              <a:off x="618012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1" name=""/>
            <p:cNvSpPr/>
            <p:nvPr/>
          </p:nvSpPr>
          <p:spPr>
            <a:xfrm flipV="1">
              <a:off x="727236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 name=""/>
            <p:cNvSpPr/>
            <p:nvPr/>
          </p:nvSpPr>
          <p:spPr>
            <a:xfrm flipV="1">
              <a:off x="8346960" y="5073480"/>
              <a:ext cx="1440" cy="6696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 name=""/>
            <p:cNvSpPr/>
            <p:nvPr/>
          </p:nvSpPr>
          <p:spPr>
            <a:xfrm>
              <a:off x="5952960" y="27972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406840" y="33051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1880" y="330516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02120" y="30272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744880" y="29113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1952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255920" y="3895560"/>
              <a:ext cx="114480" cy="96840"/>
            </a:xfrm>
            <a:custGeom>
              <a:avLst/>
              <a:gdLst/>
              <a:ahLst/>
              <a:rect l="l" t="t" r="r" b="b"/>
              <a:pathLst>
                <a:path w="72" h="61">
                  <a:moveTo>
                    <a:pt x="36" y="0"/>
                  </a:moveTo>
                  <a:lnTo>
                    <a:pt x="72"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21240" y="4140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744880" y="31575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425840" y="38289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30560" y="4059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22880" y="29113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16520" y="35830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89360" y="3763800"/>
              <a:ext cx="11412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952960" y="26989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406840" y="322272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41880" y="3763800"/>
              <a:ext cx="11412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21240" y="386244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859280" y="371484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55920" y="40593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917880" y="430380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95720" y="31575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689440" y="2978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462720" y="2093760"/>
              <a:ext cx="112680" cy="96840"/>
            </a:xfrm>
            <a:custGeom>
              <a:avLst/>
              <a:gdLst/>
              <a:ahLst/>
              <a:rect l="l" t="t" r="r" b="b"/>
              <a:pathLst>
                <a:path w="71" h="61">
                  <a:moveTo>
                    <a:pt x="35" y="0"/>
                  </a:moveTo>
                  <a:lnTo>
                    <a:pt x="71" y="30"/>
                  </a:lnTo>
                  <a:lnTo>
                    <a:pt x="35" y="61"/>
                  </a:lnTo>
                  <a:lnTo>
                    <a:pt x="0" y="30"/>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80120" y="284652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49600" y="287964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62720" y="219060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32200" y="281448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462720" y="227340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632200" y="26179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49600" y="289548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255920" y="335448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21240" y="327168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632200" y="26668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671720" y="32716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87680" y="338760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87680" y="358308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95720" y="24861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86080" y="319104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632200" y="28306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80120" y="230652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22880" y="22734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72360" y="1716120"/>
              <a:ext cx="11412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26240" y="27320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46560" y="31082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895720" y="31417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895720" y="29606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46560" y="26827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62720" y="291132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3480" y="32716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26240" y="26827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86080" y="32400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632200" y="319104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80120" y="296064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08840" y="21747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86080" y="32400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32200" y="291132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32200" y="33544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80120" y="31575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95720" y="304308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86080" y="283068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26240" y="245412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349600" y="319104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49600" y="309240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349600" y="29289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86080" y="30099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86080" y="305928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32200" y="29448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632200" y="317484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895720" y="289548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49600" y="302724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895720" y="291132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32200" y="32893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632200" y="32068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895720" y="32227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180120" y="3174840"/>
              <a:ext cx="112680" cy="96840"/>
            </a:xfrm>
            <a:custGeom>
              <a:avLst/>
              <a:gdLst/>
              <a:ahLst/>
              <a:rect l="l" t="t" r="r" b="b"/>
              <a:pathLst>
                <a:path w="71" h="61">
                  <a:moveTo>
                    <a:pt x="35" y="0"/>
                  </a:moveTo>
                  <a:lnTo>
                    <a:pt x="71" y="30"/>
                  </a:lnTo>
                  <a:lnTo>
                    <a:pt x="35" y="61"/>
                  </a:lnTo>
                  <a:lnTo>
                    <a:pt x="0" y="30"/>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80120" y="309240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462720" y="2732040"/>
              <a:ext cx="11268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49600" y="31575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62720" y="28623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895720" y="3108240"/>
              <a:ext cx="114480" cy="9864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349600" y="332100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895720" y="30099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6080" y="309240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62720" y="30765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49600" y="337032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726240" y="294480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180120" y="3059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26240" y="243684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62720" y="297828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086080" y="33051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32200" y="314172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895720" y="284652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80120" y="3009960"/>
              <a:ext cx="11268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086080" y="328932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632200" y="287964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63220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632200" y="255096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86080" y="31575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349600" y="333864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86080" y="31575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349600" y="292896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349600" y="294480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086080" y="2928960"/>
              <a:ext cx="113040" cy="9828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349600" y="2895480"/>
              <a:ext cx="11304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632200" y="30430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895720" y="2862360"/>
              <a:ext cx="114480" cy="98280"/>
            </a:xfrm>
            <a:custGeom>
              <a:avLst/>
              <a:gdLst/>
              <a:ahLst/>
              <a:rect l="l" t="t" r="r" b="b"/>
              <a:pathLst>
                <a:path w="72" h="62">
                  <a:moveTo>
                    <a:pt x="36" y="0"/>
                  </a:moveTo>
                  <a:lnTo>
                    <a:pt x="72"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632200" y="3174840"/>
              <a:ext cx="112680" cy="96840"/>
            </a:xfrm>
            <a:custGeom>
              <a:avLst/>
              <a:gdLst/>
              <a:ahLst/>
              <a:rect l="l" t="t" r="r" b="b"/>
              <a:pathLst>
                <a:path w="71" h="61">
                  <a:moveTo>
                    <a:pt x="36" y="0"/>
                  </a:moveTo>
                  <a:lnTo>
                    <a:pt x="71" y="30"/>
                  </a:lnTo>
                  <a:lnTo>
                    <a:pt x="36" y="61"/>
                  </a:lnTo>
                  <a:lnTo>
                    <a:pt x="0" y="30"/>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32200" y="3059280"/>
              <a:ext cx="11268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86080" y="2895480"/>
              <a:ext cx="113040" cy="98640"/>
            </a:xfrm>
            <a:custGeom>
              <a:avLst/>
              <a:gdLst/>
              <a:ahLst/>
              <a:rect l="l" t="t" r="r" b="b"/>
              <a:pathLst>
                <a:path w="71" h="62">
                  <a:moveTo>
                    <a:pt x="35" y="0"/>
                  </a:moveTo>
                  <a:lnTo>
                    <a:pt x="71" y="31"/>
                  </a:lnTo>
                  <a:lnTo>
                    <a:pt x="35" y="62"/>
                  </a:lnTo>
                  <a:lnTo>
                    <a:pt x="0" y="31"/>
                  </a:lnTo>
                  <a:lnTo>
                    <a:pt x="35"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632200" y="3043080"/>
              <a:ext cx="112680" cy="9864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49600" y="2994120"/>
              <a:ext cx="113040" cy="98280"/>
            </a:xfrm>
            <a:custGeom>
              <a:avLst/>
              <a:gdLst/>
              <a:ahLst/>
              <a:rect l="l" t="t" r="r" b="b"/>
              <a:pathLst>
                <a:path w="71" h="62">
                  <a:moveTo>
                    <a:pt x="36" y="0"/>
                  </a:moveTo>
                  <a:lnTo>
                    <a:pt x="71" y="31"/>
                  </a:lnTo>
                  <a:lnTo>
                    <a:pt x="36" y="62"/>
                  </a:lnTo>
                  <a:lnTo>
                    <a:pt x="0" y="31"/>
                  </a:lnTo>
                  <a:lnTo>
                    <a:pt x="36" y="0"/>
                  </a:lnTo>
                  <a:close/>
                </a:path>
              </a:pathLst>
            </a:custGeom>
            <a:solidFill>
              <a:srgbClr val="000080"/>
            </a:solidFill>
            <a:ln w="190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16120" y="49435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06" name=""/>
            <p:cNvSpPr/>
            <p:nvPr/>
          </p:nvSpPr>
          <p:spPr>
            <a:xfrm>
              <a:off x="2484360" y="44686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07" name=""/>
            <p:cNvSpPr/>
            <p:nvPr/>
          </p:nvSpPr>
          <p:spPr>
            <a:xfrm>
              <a:off x="2484360" y="3992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40</a:t>
              </a:r>
              <a:endParaRPr b="0" lang="en-US" sz="1700" spc="-1" strike="noStrike">
                <a:solidFill>
                  <a:srgbClr val="000000"/>
                </a:solidFill>
                <a:latin typeface="Times New Roman"/>
              </a:endParaRPr>
            </a:p>
          </p:txBody>
        </p:sp>
        <p:sp>
          <p:nvSpPr>
            <p:cNvPr id="208" name=""/>
            <p:cNvSpPr/>
            <p:nvPr/>
          </p:nvSpPr>
          <p:spPr>
            <a:xfrm>
              <a:off x="2484360" y="351792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60</a:t>
              </a:r>
              <a:endParaRPr b="0" lang="en-US" sz="1700" spc="-1" strike="noStrike">
                <a:solidFill>
                  <a:srgbClr val="000000"/>
                </a:solidFill>
                <a:latin typeface="Times New Roman"/>
              </a:endParaRPr>
            </a:p>
          </p:txBody>
        </p:sp>
        <p:sp>
          <p:nvSpPr>
            <p:cNvPr id="209" name=""/>
            <p:cNvSpPr/>
            <p:nvPr/>
          </p:nvSpPr>
          <p:spPr>
            <a:xfrm>
              <a:off x="2484360" y="30430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80</a:t>
              </a:r>
              <a:endParaRPr b="0" lang="en-US" sz="1700" spc="-1" strike="noStrike">
                <a:solidFill>
                  <a:srgbClr val="000000"/>
                </a:solidFill>
                <a:latin typeface="Times New Roman"/>
              </a:endParaRPr>
            </a:p>
          </p:txBody>
        </p:sp>
        <p:sp>
          <p:nvSpPr>
            <p:cNvPr id="210" name=""/>
            <p:cNvSpPr/>
            <p:nvPr/>
          </p:nvSpPr>
          <p:spPr>
            <a:xfrm>
              <a:off x="2352600" y="25509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0</a:t>
              </a:r>
              <a:endParaRPr b="0" lang="en-US" sz="1700" spc="-1" strike="noStrike">
                <a:solidFill>
                  <a:srgbClr val="000000"/>
                </a:solidFill>
                <a:latin typeface="Times New Roman"/>
              </a:endParaRPr>
            </a:p>
          </p:txBody>
        </p:sp>
        <p:sp>
          <p:nvSpPr>
            <p:cNvPr id="211" name=""/>
            <p:cNvSpPr/>
            <p:nvPr/>
          </p:nvSpPr>
          <p:spPr>
            <a:xfrm>
              <a:off x="2352600" y="207648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20</a:t>
              </a:r>
              <a:endParaRPr b="0" lang="en-US" sz="1700" spc="-1" strike="noStrike">
                <a:solidFill>
                  <a:srgbClr val="000000"/>
                </a:solidFill>
                <a:latin typeface="Times New Roman"/>
              </a:endParaRPr>
            </a:p>
          </p:txBody>
        </p:sp>
        <p:sp>
          <p:nvSpPr>
            <p:cNvPr id="212" name=""/>
            <p:cNvSpPr/>
            <p:nvPr/>
          </p:nvSpPr>
          <p:spPr>
            <a:xfrm>
              <a:off x="2352600" y="160164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40</a:t>
              </a:r>
              <a:endParaRPr b="0" lang="en-US" sz="1700" spc="-1" strike="noStrike">
                <a:solidFill>
                  <a:srgbClr val="000000"/>
                </a:solidFill>
                <a:latin typeface="Times New Roman"/>
              </a:endParaRPr>
            </a:p>
          </p:txBody>
        </p:sp>
        <p:sp>
          <p:nvSpPr>
            <p:cNvPr id="213" name=""/>
            <p:cNvSpPr/>
            <p:nvPr/>
          </p:nvSpPr>
          <p:spPr>
            <a:xfrm>
              <a:off x="2352600" y="112716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60</a:t>
              </a:r>
              <a:endParaRPr b="0" lang="en-US" sz="1700" spc="-1" strike="noStrike">
                <a:solidFill>
                  <a:srgbClr val="000000"/>
                </a:solidFill>
                <a:latin typeface="Times New Roman"/>
              </a:endParaRPr>
            </a:p>
          </p:txBody>
        </p:sp>
        <p:sp>
          <p:nvSpPr>
            <p:cNvPr id="214" name=""/>
            <p:cNvSpPr/>
            <p:nvPr/>
          </p:nvSpPr>
          <p:spPr>
            <a:xfrm>
              <a:off x="2879640" y="5254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15" name=""/>
            <p:cNvSpPr/>
            <p:nvPr/>
          </p:nvSpPr>
          <p:spPr>
            <a:xfrm>
              <a:off x="3954240" y="5254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216" name=""/>
            <p:cNvSpPr/>
            <p:nvPr/>
          </p:nvSpPr>
          <p:spPr>
            <a:xfrm>
              <a:off x="49734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17" name=""/>
            <p:cNvSpPr/>
            <p:nvPr/>
          </p:nvSpPr>
          <p:spPr>
            <a:xfrm>
              <a:off x="604656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218" name=""/>
            <p:cNvSpPr/>
            <p:nvPr/>
          </p:nvSpPr>
          <p:spPr>
            <a:xfrm>
              <a:off x="71406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19" name=""/>
            <p:cNvSpPr/>
            <p:nvPr/>
          </p:nvSpPr>
          <p:spPr>
            <a:xfrm>
              <a:off x="8215200" y="52545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5</a:t>
              </a:r>
              <a:endParaRPr b="0" lang="en-US" sz="1700" spc="-1" strike="noStrike">
                <a:solidFill>
                  <a:srgbClr val="000000"/>
                </a:solidFill>
                <a:latin typeface="Times New Roman"/>
              </a:endParaRPr>
            </a:p>
          </p:txBody>
        </p:sp>
        <p:sp>
          <p:nvSpPr>
            <p:cNvPr id="220" name=""/>
            <p:cNvSpPr/>
            <p:nvPr/>
          </p:nvSpPr>
          <p:spPr>
            <a:xfrm>
              <a:off x="3194280" y="5630760"/>
              <a:ext cx="493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ple crimp frequency (crimps per inch</a:t>
              </a:r>
              <a:r>
                <a:rPr b="1" lang="en-GB" sz="1700" spc="-1" strike="noStrike">
                  <a:solidFill>
                    <a:srgbClr val="000000"/>
                  </a:solidFill>
                  <a:latin typeface="Arial"/>
                </a:rPr>
                <a:t>)</a:t>
              </a:r>
              <a:endParaRPr b="0" lang="en-US" sz="1700" spc="-1" strike="noStrike">
                <a:solidFill>
                  <a:srgbClr val="000000"/>
                </a:solidFill>
                <a:latin typeface="Times New Roman"/>
              </a:endParaRPr>
            </a:p>
          </p:txBody>
        </p:sp>
        <p:sp>
          <p:nvSpPr>
            <p:cNvPr id="221" name=""/>
            <p:cNvSpPr/>
            <p:nvPr/>
          </p:nvSpPr>
          <p:spPr>
            <a:xfrm rot="16200000">
              <a:off x="80640" y="2936520"/>
              <a:ext cx="407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 fibre curvature (deg/mm)</a:t>
              </a:r>
              <a:endParaRPr b="0" lang="en-US" sz="2000" spc="-1" strike="noStrike">
                <a:solidFill>
                  <a:srgbClr val="000000"/>
                </a:solidFill>
                <a:latin typeface="Times New Roman"/>
              </a:endParaRPr>
            </a:p>
          </p:txBody>
        </p:sp>
        <p:sp>
          <p:nvSpPr>
            <p:cNvPr id="222" name=""/>
            <p:cNvSpPr/>
            <p:nvPr/>
          </p:nvSpPr>
          <p:spPr>
            <a:xfrm>
              <a:off x="1673280" y="914400"/>
              <a:ext cx="7013520" cy="5224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frequency vs curvature</a:t>
            </a:r>
            <a:endParaRPr b="1" lang="en-US" sz="3200" spc="-1" strike="noStrike">
              <a:solidFill>
                <a:srgbClr val="fafd00"/>
              </a:solidFill>
              <a:latin typeface="Arial"/>
            </a:endParaRPr>
          </a:p>
        </p:txBody>
      </p:sp>
      <p:sp>
        <p:nvSpPr>
          <p:cNvPr id="224"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25" name=""/>
          <p:cNvGrpSpPr/>
          <p:nvPr/>
        </p:nvGrpSpPr>
        <p:grpSpPr>
          <a:xfrm>
            <a:off x="1905120" y="1219320"/>
            <a:ext cx="6247440" cy="4947840"/>
            <a:chOff x="1905120" y="1219320"/>
            <a:chExt cx="6247440" cy="4947840"/>
          </a:xfrm>
        </p:grpSpPr>
        <p:grpSp>
          <p:nvGrpSpPr>
            <p:cNvPr id="226" name=""/>
            <p:cNvGrpSpPr/>
            <p:nvPr/>
          </p:nvGrpSpPr>
          <p:grpSpPr>
            <a:xfrm>
              <a:off x="1905120" y="1219320"/>
              <a:ext cx="6246720" cy="4488840"/>
              <a:chOff x="1905120" y="1219320"/>
              <a:chExt cx="6246720" cy="4488840"/>
            </a:xfrm>
          </p:grpSpPr>
          <p:sp>
            <p:nvSpPr>
              <p:cNvPr id="227" name=""/>
              <p:cNvSpPr/>
              <p:nvPr/>
            </p:nvSpPr>
            <p:spPr>
              <a:xfrm>
                <a:off x="1905120" y="1219320"/>
                <a:ext cx="175968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12200" y="1322640"/>
                <a:ext cx="8632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Quality</a:t>
                </a:r>
                <a:endParaRPr b="0" lang="en-US" sz="2000" spc="-1" strike="noStrike">
                  <a:solidFill>
                    <a:srgbClr val="000000"/>
                  </a:solidFill>
                  <a:latin typeface="Times New Roman"/>
                </a:endParaRPr>
              </a:p>
            </p:txBody>
          </p:sp>
          <p:sp>
            <p:nvSpPr>
              <p:cNvPr id="229" name=""/>
              <p:cNvSpPr/>
              <p:nvPr/>
            </p:nvSpPr>
            <p:spPr>
              <a:xfrm>
                <a:off x="1905120" y="1584720"/>
                <a:ext cx="175968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515680" y="1584720"/>
                <a:ext cx="410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a:t>
                </a:r>
                <a:endParaRPr b="0" lang="en-US" sz="2000" spc="-1" strike="noStrike">
                  <a:solidFill>
                    <a:srgbClr val="000000"/>
                  </a:solidFill>
                  <a:latin typeface="Times New Roman"/>
                </a:endParaRPr>
              </a:p>
            </p:txBody>
          </p:sp>
          <p:sp>
            <p:nvSpPr>
              <p:cNvPr id="231" name=""/>
              <p:cNvSpPr/>
              <p:nvPr/>
            </p:nvSpPr>
            <p:spPr>
              <a:xfrm>
                <a:off x="1905120" y="1906920"/>
                <a:ext cx="175968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664800" y="1219320"/>
                <a:ext cx="227340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77640" y="1322640"/>
                <a:ext cx="13143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 crimps</a:t>
                </a:r>
                <a:endParaRPr b="0" lang="en-US" sz="2000" spc="-1" strike="noStrike">
                  <a:solidFill>
                    <a:srgbClr val="000000"/>
                  </a:solidFill>
                  <a:latin typeface="Times New Roman"/>
                </a:endParaRPr>
              </a:p>
            </p:txBody>
          </p:sp>
          <p:sp>
            <p:nvSpPr>
              <p:cNvPr id="234" name=""/>
              <p:cNvSpPr/>
              <p:nvPr/>
            </p:nvSpPr>
            <p:spPr>
              <a:xfrm>
                <a:off x="3664800" y="1584720"/>
                <a:ext cx="227340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76000" y="1584720"/>
                <a:ext cx="9896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 inch</a:t>
                </a:r>
                <a:endParaRPr b="0" lang="en-US" sz="2000" spc="-1" strike="noStrike">
                  <a:solidFill>
                    <a:srgbClr val="000000"/>
                  </a:solidFill>
                  <a:latin typeface="Times New Roman"/>
                </a:endParaRPr>
              </a:p>
            </p:txBody>
          </p:sp>
          <p:sp>
            <p:nvSpPr>
              <p:cNvPr id="236" name=""/>
              <p:cNvSpPr/>
              <p:nvPr/>
            </p:nvSpPr>
            <p:spPr>
              <a:xfrm>
                <a:off x="3664800" y="1906920"/>
                <a:ext cx="227340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938200" y="1219320"/>
                <a:ext cx="2213640" cy="3654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629040" y="1322640"/>
                <a:ext cx="6224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bre</a:t>
                </a:r>
                <a:endParaRPr b="0" lang="en-US" sz="2000" spc="-1" strike="noStrike">
                  <a:solidFill>
                    <a:srgbClr val="000000"/>
                  </a:solidFill>
                  <a:latin typeface="Times New Roman"/>
                </a:endParaRPr>
              </a:p>
            </p:txBody>
          </p:sp>
          <p:sp>
            <p:nvSpPr>
              <p:cNvPr id="239" name=""/>
              <p:cNvSpPr/>
              <p:nvPr/>
            </p:nvSpPr>
            <p:spPr>
              <a:xfrm>
                <a:off x="5938200" y="1584720"/>
                <a:ext cx="2213640" cy="262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238800" y="1584720"/>
                <a:ext cx="12045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urvature</a:t>
                </a:r>
                <a:endParaRPr b="0" lang="en-US" sz="2000" spc="-1" strike="noStrike">
                  <a:solidFill>
                    <a:srgbClr val="000000"/>
                  </a:solidFill>
                  <a:latin typeface="Times New Roman"/>
                </a:endParaRPr>
              </a:p>
            </p:txBody>
          </p:sp>
          <p:sp>
            <p:nvSpPr>
              <p:cNvPr id="241" name=""/>
              <p:cNvSpPr/>
              <p:nvPr/>
            </p:nvSpPr>
            <p:spPr>
              <a:xfrm>
                <a:off x="5938200" y="1846800"/>
                <a:ext cx="2213640" cy="321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18520" y="1846800"/>
                <a:ext cx="860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243" name=""/>
              <p:cNvSpPr/>
              <p:nvPr/>
            </p:nvSpPr>
            <p:spPr>
              <a:xfrm>
                <a:off x="6639120" y="1820160"/>
                <a:ext cx="1562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a:t>
                </a:r>
                <a:endParaRPr b="0" lang="en-US" sz="2000" spc="-1" strike="noStrike">
                  <a:solidFill>
                    <a:srgbClr val="000000"/>
                  </a:solidFill>
                  <a:latin typeface="Times New Roman"/>
                </a:endParaRPr>
              </a:p>
            </p:txBody>
          </p:sp>
          <p:sp>
            <p:nvSpPr>
              <p:cNvPr id="244" name=""/>
              <p:cNvSpPr/>
              <p:nvPr/>
            </p:nvSpPr>
            <p:spPr>
              <a:xfrm>
                <a:off x="6749640" y="1846800"/>
                <a:ext cx="6073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m)</a:t>
                </a:r>
                <a:endParaRPr b="0" lang="en-US" sz="2000" spc="-1" strike="noStrike">
                  <a:solidFill>
                    <a:srgbClr val="000000"/>
                  </a:solidFill>
                  <a:latin typeface="Times New Roman"/>
                </a:endParaRPr>
              </a:p>
            </p:txBody>
          </p:sp>
          <p:sp>
            <p:nvSpPr>
              <p:cNvPr id="245" name=""/>
              <p:cNvSpPr/>
              <p:nvPr/>
            </p:nvSpPr>
            <p:spPr>
              <a:xfrm>
                <a:off x="1905120" y="2185200"/>
                <a:ext cx="174312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224080" y="2290680"/>
                <a:ext cx="948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s up</a:t>
                </a:r>
                <a:endParaRPr b="0" lang="en-US" sz="2000" spc="-1" strike="noStrike">
                  <a:solidFill>
                    <a:srgbClr val="000000"/>
                  </a:solidFill>
                  <a:latin typeface="Times New Roman"/>
                </a:endParaRPr>
              </a:p>
            </p:txBody>
          </p:sp>
          <p:sp>
            <p:nvSpPr>
              <p:cNvPr id="247" name=""/>
              <p:cNvSpPr/>
              <p:nvPr/>
            </p:nvSpPr>
            <p:spPr>
              <a:xfrm>
                <a:off x="3674880" y="2185200"/>
                <a:ext cx="226296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475880" y="2290680"/>
                <a:ext cx="50364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t; 23</a:t>
                </a:r>
                <a:endParaRPr b="0" lang="en-US" sz="2000" spc="-1" strike="noStrike">
                  <a:solidFill>
                    <a:srgbClr val="000000"/>
                  </a:solidFill>
                  <a:latin typeface="Times New Roman"/>
                </a:endParaRPr>
              </a:p>
            </p:txBody>
          </p:sp>
          <p:sp>
            <p:nvSpPr>
              <p:cNvPr id="249" name=""/>
              <p:cNvSpPr/>
              <p:nvPr/>
            </p:nvSpPr>
            <p:spPr>
              <a:xfrm>
                <a:off x="5938200" y="2185200"/>
                <a:ext cx="2213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586200" y="2290680"/>
                <a:ext cx="7156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gt; 140</a:t>
                </a:r>
                <a:endParaRPr b="0" lang="en-US" sz="2000" spc="-1" strike="noStrike">
                  <a:solidFill>
                    <a:srgbClr val="000000"/>
                  </a:solidFill>
                  <a:latin typeface="Times New Roman"/>
                </a:endParaRPr>
              </a:p>
            </p:txBody>
          </p:sp>
          <p:sp>
            <p:nvSpPr>
              <p:cNvPr id="251" name=""/>
              <p:cNvSpPr/>
              <p:nvPr/>
            </p:nvSpPr>
            <p:spPr>
              <a:xfrm>
                <a:off x="1905120" y="216900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 name=""/>
              <p:cNvSpPr/>
              <p:nvPr/>
            </p:nvSpPr>
            <p:spPr>
              <a:xfrm>
                <a:off x="3648240" y="21690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3" name=""/>
              <p:cNvSpPr/>
              <p:nvPr/>
            </p:nvSpPr>
            <p:spPr>
              <a:xfrm>
                <a:off x="3648240" y="21690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3648240" y="21690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5" name=""/>
              <p:cNvSpPr/>
              <p:nvPr/>
            </p:nvSpPr>
            <p:spPr>
              <a:xfrm>
                <a:off x="3648240" y="21690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6" name=""/>
              <p:cNvSpPr/>
              <p:nvPr/>
            </p:nvSpPr>
            <p:spPr>
              <a:xfrm>
                <a:off x="3648240" y="21690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3648240" y="21690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
              <p:cNvSpPr/>
              <p:nvPr/>
            </p:nvSpPr>
            <p:spPr>
              <a:xfrm>
                <a:off x="3674880" y="21690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
              <p:cNvSpPr/>
              <p:nvPr/>
            </p:nvSpPr>
            <p:spPr>
              <a:xfrm>
                <a:off x="3674880" y="21690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3674880" y="21690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1" name=""/>
              <p:cNvSpPr/>
              <p:nvPr/>
            </p:nvSpPr>
            <p:spPr>
              <a:xfrm>
                <a:off x="3700800" y="216900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
              <p:cNvSpPr/>
              <p:nvPr/>
            </p:nvSpPr>
            <p:spPr>
              <a:xfrm>
                <a:off x="3700800" y="216900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5938200" y="21690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4" name=""/>
              <p:cNvSpPr/>
              <p:nvPr/>
            </p:nvSpPr>
            <p:spPr>
              <a:xfrm>
                <a:off x="5938200" y="21690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5938200" y="21690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6" name=""/>
              <p:cNvSpPr/>
              <p:nvPr/>
            </p:nvSpPr>
            <p:spPr>
              <a:xfrm>
                <a:off x="5964120" y="216900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7" name=""/>
              <p:cNvSpPr/>
              <p:nvPr/>
            </p:nvSpPr>
            <p:spPr>
              <a:xfrm>
                <a:off x="5964120" y="216900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3648240" y="2185200"/>
                <a:ext cx="26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48240" y="2185200"/>
                <a:ext cx="3600" cy="42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905120" y="2629080"/>
                <a:ext cx="175968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497320" y="273240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0's</a:t>
                </a:r>
                <a:endParaRPr b="0" lang="en-US" sz="2000" spc="-1" strike="noStrike">
                  <a:solidFill>
                    <a:srgbClr val="000000"/>
                  </a:solidFill>
                  <a:latin typeface="Times New Roman"/>
                </a:endParaRPr>
              </a:p>
            </p:txBody>
          </p:sp>
          <p:sp>
            <p:nvSpPr>
              <p:cNvPr id="272" name=""/>
              <p:cNvSpPr/>
              <p:nvPr/>
            </p:nvSpPr>
            <p:spPr>
              <a:xfrm>
                <a:off x="3664800" y="2629080"/>
                <a:ext cx="227340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271040" y="273240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 – 22</a:t>
                </a:r>
                <a:endParaRPr b="0" lang="en-US" sz="2000" spc="-1" strike="noStrike">
                  <a:solidFill>
                    <a:srgbClr val="000000"/>
                  </a:solidFill>
                  <a:latin typeface="Times New Roman"/>
                </a:endParaRPr>
              </a:p>
            </p:txBody>
          </p:sp>
          <p:sp>
            <p:nvSpPr>
              <p:cNvPr id="274" name=""/>
              <p:cNvSpPr/>
              <p:nvPr/>
            </p:nvSpPr>
            <p:spPr>
              <a:xfrm>
                <a:off x="5938200" y="2629080"/>
                <a:ext cx="221364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359760" y="273240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0 - 140</a:t>
                </a:r>
                <a:endParaRPr b="0" lang="en-US" sz="2000" spc="-1" strike="noStrike">
                  <a:solidFill>
                    <a:srgbClr val="000000"/>
                  </a:solidFill>
                  <a:latin typeface="Times New Roman"/>
                </a:endParaRPr>
              </a:p>
            </p:txBody>
          </p:sp>
          <p:sp>
            <p:nvSpPr>
              <p:cNvPr id="276" name=""/>
              <p:cNvSpPr/>
              <p:nvPr/>
            </p:nvSpPr>
            <p:spPr>
              <a:xfrm>
                <a:off x="1905120" y="261252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7" name=""/>
              <p:cNvSpPr/>
              <p:nvPr/>
            </p:nvSpPr>
            <p:spPr>
              <a:xfrm>
                <a:off x="3648240" y="261252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 name=""/>
              <p:cNvSpPr/>
              <p:nvPr/>
            </p:nvSpPr>
            <p:spPr>
              <a:xfrm>
                <a:off x="3648240" y="261252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9" name=""/>
              <p:cNvSpPr/>
              <p:nvPr/>
            </p:nvSpPr>
            <p:spPr>
              <a:xfrm>
                <a:off x="3648240" y="261252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0" name=""/>
              <p:cNvSpPr/>
              <p:nvPr/>
            </p:nvSpPr>
            <p:spPr>
              <a:xfrm>
                <a:off x="3648240" y="261252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1" name=""/>
              <p:cNvSpPr/>
              <p:nvPr/>
            </p:nvSpPr>
            <p:spPr>
              <a:xfrm>
                <a:off x="3648240" y="2612520"/>
                <a:ext cx="26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a:off x="3648240" y="261252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3" name=""/>
              <p:cNvSpPr/>
              <p:nvPr/>
            </p:nvSpPr>
            <p:spPr>
              <a:xfrm>
                <a:off x="3674880" y="261252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4" name=""/>
              <p:cNvSpPr/>
              <p:nvPr/>
            </p:nvSpPr>
            <p:spPr>
              <a:xfrm>
                <a:off x="3674880" y="261252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3674880" y="261252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 name=""/>
              <p:cNvSpPr/>
              <p:nvPr/>
            </p:nvSpPr>
            <p:spPr>
              <a:xfrm>
                <a:off x="3700800" y="261252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7" name=""/>
              <p:cNvSpPr/>
              <p:nvPr/>
            </p:nvSpPr>
            <p:spPr>
              <a:xfrm>
                <a:off x="3700800" y="2612520"/>
                <a:ext cx="2237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5938200" y="261252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9" name=""/>
              <p:cNvSpPr/>
              <p:nvPr/>
            </p:nvSpPr>
            <p:spPr>
              <a:xfrm>
                <a:off x="5938200" y="261252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 name=""/>
              <p:cNvSpPr/>
              <p:nvPr/>
            </p:nvSpPr>
            <p:spPr>
              <a:xfrm>
                <a:off x="5938200" y="261252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1" name=""/>
              <p:cNvSpPr/>
              <p:nvPr/>
            </p:nvSpPr>
            <p:spPr>
              <a:xfrm>
                <a:off x="5964120" y="261252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2" name=""/>
              <p:cNvSpPr/>
              <p:nvPr/>
            </p:nvSpPr>
            <p:spPr>
              <a:xfrm>
                <a:off x="5964120" y="2612520"/>
                <a:ext cx="2187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1905120" y="3070800"/>
                <a:ext cx="17431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497320" y="317376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s</a:t>
                </a:r>
                <a:endParaRPr b="0" lang="en-US" sz="2000" spc="-1" strike="noStrike">
                  <a:solidFill>
                    <a:srgbClr val="000000"/>
                  </a:solidFill>
                  <a:latin typeface="Times New Roman"/>
                </a:endParaRPr>
              </a:p>
            </p:txBody>
          </p:sp>
          <p:sp>
            <p:nvSpPr>
              <p:cNvPr id="295" name=""/>
              <p:cNvSpPr/>
              <p:nvPr/>
            </p:nvSpPr>
            <p:spPr>
              <a:xfrm>
                <a:off x="3674880" y="3070800"/>
                <a:ext cx="226296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295880" y="317376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 - 19</a:t>
                </a:r>
                <a:endParaRPr b="0" lang="en-US" sz="2000" spc="-1" strike="noStrike">
                  <a:solidFill>
                    <a:srgbClr val="000000"/>
                  </a:solidFill>
                  <a:latin typeface="Times New Roman"/>
                </a:endParaRPr>
              </a:p>
            </p:txBody>
          </p:sp>
          <p:sp>
            <p:nvSpPr>
              <p:cNvPr id="297" name=""/>
              <p:cNvSpPr/>
              <p:nvPr/>
            </p:nvSpPr>
            <p:spPr>
              <a:xfrm>
                <a:off x="5938200" y="307080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359760" y="317376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 - 130</a:t>
                </a:r>
                <a:endParaRPr b="0" lang="en-US" sz="2000" spc="-1" strike="noStrike">
                  <a:solidFill>
                    <a:srgbClr val="000000"/>
                  </a:solidFill>
                  <a:latin typeface="Times New Roman"/>
                </a:endParaRPr>
              </a:p>
            </p:txBody>
          </p:sp>
          <p:sp>
            <p:nvSpPr>
              <p:cNvPr id="299" name=""/>
              <p:cNvSpPr/>
              <p:nvPr/>
            </p:nvSpPr>
            <p:spPr>
              <a:xfrm>
                <a:off x="1905120" y="305460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
              <p:cNvSpPr/>
              <p:nvPr/>
            </p:nvSpPr>
            <p:spPr>
              <a:xfrm>
                <a:off x="3648240" y="30546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1" name=""/>
              <p:cNvSpPr/>
              <p:nvPr/>
            </p:nvSpPr>
            <p:spPr>
              <a:xfrm>
                <a:off x="3648240" y="30546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 name=""/>
              <p:cNvSpPr/>
              <p:nvPr/>
            </p:nvSpPr>
            <p:spPr>
              <a:xfrm>
                <a:off x="3648240" y="30546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3" name=""/>
              <p:cNvSpPr/>
              <p:nvPr/>
            </p:nvSpPr>
            <p:spPr>
              <a:xfrm>
                <a:off x="3648240" y="305460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4" name=""/>
              <p:cNvSpPr/>
              <p:nvPr/>
            </p:nvSpPr>
            <p:spPr>
              <a:xfrm>
                <a:off x="3648240" y="305460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a:off x="3648240" y="305460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 name=""/>
              <p:cNvSpPr/>
              <p:nvPr/>
            </p:nvSpPr>
            <p:spPr>
              <a:xfrm>
                <a:off x="3674880" y="30546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 name=""/>
              <p:cNvSpPr/>
              <p:nvPr/>
            </p:nvSpPr>
            <p:spPr>
              <a:xfrm>
                <a:off x="3674880" y="30546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3674880" y="30546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9" name=""/>
              <p:cNvSpPr/>
              <p:nvPr/>
            </p:nvSpPr>
            <p:spPr>
              <a:xfrm>
                <a:off x="3700800" y="305460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
              <p:cNvSpPr/>
              <p:nvPr/>
            </p:nvSpPr>
            <p:spPr>
              <a:xfrm>
                <a:off x="3700800" y="305460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5938200" y="305460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
              <p:cNvSpPr/>
              <p:nvPr/>
            </p:nvSpPr>
            <p:spPr>
              <a:xfrm>
                <a:off x="5938200" y="305460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5938200" y="305460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4" name=""/>
              <p:cNvSpPr/>
              <p:nvPr/>
            </p:nvSpPr>
            <p:spPr>
              <a:xfrm>
                <a:off x="5964120" y="305460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5" name=""/>
              <p:cNvSpPr/>
              <p:nvPr/>
            </p:nvSpPr>
            <p:spPr>
              <a:xfrm>
                <a:off x="5964120" y="305460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3648240" y="307080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648240" y="307080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905120" y="3512880"/>
                <a:ext cx="175968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97320" y="361584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4's</a:t>
                </a:r>
                <a:endParaRPr b="0" lang="en-US" sz="2000" spc="-1" strike="noStrike">
                  <a:solidFill>
                    <a:srgbClr val="000000"/>
                  </a:solidFill>
                  <a:latin typeface="Times New Roman"/>
                </a:endParaRPr>
              </a:p>
            </p:txBody>
          </p:sp>
          <p:sp>
            <p:nvSpPr>
              <p:cNvPr id="320" name=""/>
              <p:cNvSpPr/>
              <p:nvPr/>
            </p:nvSpPr>
            <p:spPr>
              <a:xfrm>
                <a:off x="3664800" y="3512880"/>
                <a:ext cx="227340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95880" y="361584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 - 18</a:t>
                </a:r>
                <a:endParaRPr b="0" lang="en-US" sz="2000" spc="-1" strike="noStrike">
                  <a:solidFill>
                    <a:srgbClr val="000000"/>
                  </a:solidFill>
                  <a:latin typeface="Times New Roman"/>
                </a:endParaRPr>
              </a:p>
            </p:txBody>
          </p:sp>
          <p:sp>
            <p:nvSpPr>
              <p:cNvPr id="322" name=""/>
              <p:cNvSpPr/>
              <p:nvPr/>
            </p:nvSpPr>
            <p:spPr>
              <a:xfrm>
                <a:off x="5938200" y="3512880"/>
                <a:ext cx="221364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359760" y="361584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5 - 120</a:t>
                </a:r>
                <a:endParaRPr b="0" lang="en-US" sz="2000" spc="-1" strike="noStrike">
                  <a:solidFill>
                    <a:srgbClr val="000000"/>
                  </a:solidFill>
                  <a:latin typeface="Times New Roman"/>
                </a:endParaRPr>
              </a:p>
            </p:txBody>
          </p:sp>
          <p:sp>
            <p:nvSpPr>
              <p:cNvPr id="324" name=""/>
              <p:cNvSpPr/>
              <p:nvPr/>
            </p:nvSpPr>
            <p:spPr>
              <a:xfrm>
                <a:off x="1905120" y="3495960"/>
                <a:ext cx="17431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5" name=""/>
              <p:cNvSpPr/>
              <p:nvPr/>
            </p:nvSpPr>
            <p:spPr>
              <a:xfrm>
                <a:off x="3648240" y="349596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6" name=""/>
              <p:cNvSpPr/>
              <p:nvPr/>
            </p:nvSpPr>
            <p:spPr>
              <a:xfrm>
                <a:off x="3648240" y="349596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7" name=""/>
              <p:cNvSpPr/>
              <p:nvPr/>
            </p:nvSpPr>
            <p:spPr>
              <a:xfrm>
                <a:off x="3648240" y="349596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8" name=""/>
              <p:cNvSpPr/>
              <p:nvPr/>
            </p:nvSpPr>
            <p:spPr>
              <a:xfrm>
                <a:off x="3648240" y="349596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9" name=""/>
              <p:cNvSpPr/>
              <p:nvPr/>
            </p:nvSpPr>
            <p:spPr>
              <a:xfrm>
                <a:off x="3648240" y="349596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0" name=""/>
              <p:cNvSpPr/>
              <p:nvPr/>
            </p:nvSpPr>
            <p:spPr>
              <a:xfrm>
                <a:off x="3648240" y="3495960"/>
                <a:ext cx="360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1" name=""/>
              <p:cNvSpPr/>
              <p:nvPr/>
            </p:nvSpPr>
            <p:spPr>
              <a:xfrm>
                <a:off x="3674880" y="349596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2" name=""/>
              <p:cNvSpPr/>
              <p:nvPr/>
            </p:nvSpPr>
            <p:spPr>
              <a:xfrm>
                <a:off x="3674880" y="3495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3674880" y="349596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4" name=""/>
              <p:cNvSpPr/>
              <p:nvPr/>
            </p:nvSpPr>
            <p:spPr>
              <a:xfrm>
                <a:off x="3700800" y="3495960"/>
                <a:ext cx="22370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5" name=""/>
              <p:cNvSpPr/>
              <p:nvPr/>
            </p:nvSpPr>
            <p:spPr>
              <a:xfrm>
                <a:off x="3700800" y="3495960"/>
                <a:ext cx="22370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 name=""/>
              <p:cNvSpPr/>
              <p:nvPr/>
            </p:nvSpPr>
            <p:spPr>
              <a:xfrm>
                <a:off x="5938200" y="349596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 name=""/>
              <p:cNvSpPr/>
              <p:nvPr/>
            </p:nvSpPr>
            <p:spPr>
              <a:xfrm>
                <a:off x="5938200" y="3495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8" name=""/>
              <p:cNvSpPr/>
              <p:nvPr/>
            </p:nvSpPr>
            <p:spPr>
              <a:xfrm>
                <a:off x="5938200" y="349596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9" name=""/>
              <p:cNvSpPr/>
              <p:nvPr/>
            </p:nvSpPr>
            <p:spPr>
              <a:xfrm>
                <a:off x="5964120" y="349596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40" name=""/>
              <p:cNvSpPr/>
              <p:nvPr/>
            </p:nvSpPr>
            <p:spPr>
              <a:xfrm>
                <a:off x="5964120" y="349596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 name=""/>
              <p:cNvSpPr/>
              <p:nvPr/>
            </p:nvSpPr>
            <p:spPr>
              <a:xfrm>
                <a:off x="1905120" y="3954240"/>
                <a:ext cx="174312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534400" y="4059360"/>
                <a:ext cx="4258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0s</a:t>
                </a:r>
                <a:endParaRPr b="0" lang="en-US" sz="2000" spc="-1" strike="noStrike">
                  <a:solidFill>
                    <a:srgbClr val="000000"/>
                  </a:solidFill>
                  <a:latin typeface="Times New Roman"/>
                </a:endParaRPr>
              </a:p>
            </p:txBody>
          </p:sp>
          <p:sp>
            <p:nvSpPr>
              <p:cNvPr id="343" name=""/>
              <p:cNvSpPr/>
              <p:nvPr/>
            </p:nvSpPr>
            <p:spPr>
              <a:xfrm>
                <a:off x="3674880" y="3954240"/>
                <a:ext cx="226296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71040" y="405936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 – 17</a:t>
                </a:r>
                <a:endParaRPr b="0" lang="en-US" sz="2000" spc="-1" strike="noStrike">
                  <a:solidFill>
                    <a:srgbClr val="000000"/>
                  </a:solidFill>
                  <a:latin typeface="Times New Roman"/>
                </a:endParaRPr>
              </a:p>
            </p:txBody>
          </p:sp>
          <p:sp>
            <p:nvSpPr>
              <p:cNvPr id="345" name=""/>
              <p:cNvSpPr/>
              <p:nvPr/>
            </p:nvSpPr>
            <p:spPr>
              <a:xfrm>
                <a:off x="5938200" y="3954240"/>
                <a:ext cx="2213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359760" y="4059360"/>
                <a:ext cx="1076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 - 110</a:t>
                </a:r>
                <a:endParaRPr b="0" lang="en-US" sz="2000" spc="-1" strike="noStrike">
                  <a:solidFill>
                    <a:srgbClr val="000000"/>
                  </a:solidFill>
                  <a:latin typeface="Times New Roman"/>
                </a:endParaRPr>
              </a:p>
            </p:txBody>
          </p:sp>
          <p:sp>
            <p:nvSpPr>
              <p:cNvPr id="347" name=""/>
              <p:cNvSpPr/>
              <p:nvPr/>
            </p:nvSpPr>
            <p:spPr>
              <a:xfrm>
                <a:off x="1905120" y="3939840"/>
                <a:ext cx="17431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3648240" y="3939840"/>
                <a:ext cx="266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3648240" y="393984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0" name=""/>
              <p:cNvSpPr/>
              <p:nvPr/>
            </p:nvSpPr>
            <p:spPr>
              <a:xfrm>
                <a:off x="3648240" y="3939840"/>
                <a:ext cx="360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1" name=""/>
              <p:cNvSpPr/>
              <p:nvPr/>
            </p:nvSpPr>
            <p:spPr>
              <a:xfrm>
                <a:off x="3648240" y="3939840"/>
                <a:ext cx="266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3648240" y="393984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3" name=""/>
              <p:cNvSpPr/>
              <p:nvPr/>
            </p:nvSpPr>
            <p:spPr>
              <a:xfrm>
                <a:off x="3648240" y="3939840"/>
                <a:ext cx="360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3674880" y="3939840"/>
                <a:ext cx="259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3674880" y="393984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3674880" y="3939840"/>
                <a:ext cx="288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 name=""/>
              <p:cNvSpPr/>
              <p:nvPr/>
            </p:nvSpPr>
            <p:spPr>
              <a:xfrm>
                <a:off x="3700800" y="3939840"/>
                <a:ext cx="223704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700800" y="3939840"/>
                <a:ext cx="22370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9" name=""/>
              <p:cNvSpPr/>
              <p:nvPr/>
            </p:nvSpPr>
            <p:spPr>
              <a:xfrm>
                <a:off x="5938200" y="3939840"/>
                <a:ext cx="259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5938200" y="393984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1" name=""/>
              <p:cNvSpPr/>
              <p:nvPr/>
            </p:nvSpPr>
            <p:spPr>
              <a:xfrm>
                <a:off x="5938200" y="3939840"/>
                <a:ext cx="2880" cy="14400"/>
              </a:xfrm>
              <a:prstGeom prst="line">
                <a:avLst/>
              </a:prstGeom>
              <a:ln w="0">
                <a:solidFill>
                  <a:srgbClr val="80808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2" name=""/>
              <p:cNvSpPr/>
              <p:nvPr/>
            </p:nvSpPr>
            <p:spPr>
              <a:xfrm>
                <a:off x="5964120" y="3939840"/>
                <a:ext cx="2187720" cy="14400"/>
              </a:xfrm>
              <a:prstGeom prst="rect">
                <a:avLst/>
              </a:prstGeom>
              <a:solidFill>
                <a:srgbClr val="ffff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5964120" y="3939840"/>
                <a:ext cx="2187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 name=""/>
              <p:cNvSpPr/>
              <p:nvPr/>
            </p:nvSpPr>
            <p:spPr>
              <a:xfrm>
                <a:off x="3648240" y="3954240"/>
                <a:ext cx="26640" cy="4273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648240" y="3954240"/>
                <a:ext cx="3600" cy="42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05120" y="4397760"/>
                <a:ext cx="175968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97320" y="449892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4's</a:t>
                </a:r>
                <a:endParaRPr b="0" lang="en-US" sz="2000" spc="-1" strike="noStrike">
                  <a:solidFill>
                    <a:srgbClr val="000000"/>
                  </a:solidFill>
                  <a:latin typeface="Times New Roman"/>
                </a:endParaRPr>
              </a:p>
            </p:txBody>
          </p:sp>
          <p:sp>
            <p:nvSpPr>
              <p:cNvPr id="368" name=""/>
              <p:cNvSpPr/>
              <p:nvPr/>
            </p:nvSpPr>
            <p:spPr>
              <a:xfrm>
                <a:off x="3664800" y="4397760"/>
                <a:ext cx="227340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271040" y="449892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 – 15</a:t>
                </a:r>
                <a:endParaRPr b="0" lang="en-US" sz="2000" spc="-1" strike="noStrike">
                  <a:solidFill>
                    <a:srgbClr val="000000"/>
                  </a:solidFill>
                  <a:latin typeface="Times New Roman"/>
                </a:endParaRPr>
              </a:p>
            </p:txBody>
          </p:sp>
          <p:sp>
            <p:nvSpPr>
              <p:cNvPr id="370" name=""/>
              <p:cNvSpPr/>
              <p:nvPr/>
            </p:nvSpPr>
            <p:spPr>
              <a:xfrm>
                <a:off x="5938200" y="4397760"/>
                <a:ext cx="2213640" cy="4251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448680" y="4498920"/>
                <a:ext cx="9349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5 - 100</a:t>
                </a:r>
                <a:endParaRPr b="0" lang="en-US" sz="2000" spc="-1" strike="noStrike">
                  <a:solidFill>
                    <a:srgbClr val="000000"/>
                  </a:solidFill>
                  <a:latin typeface="Times New Roman"/>
                </a:endParaRPr>
              </a:p>
            </p:txBody>
          </p:sp>
          <p:sp>
            <p:nvSpPr>
              <p:cNvPr id="372" name=""/>
              <p:cNvSpPr/>
              <p:nvPr/>
            </p:nvSpPr>
            <p:spPr>
              <a:xfrm>
                <a:off x="1905120" y="438156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3" name=""/>
              <p:cNvSpPr/>
              <p:nvPr/>
            </p:nvSpPr>
            <p:spPr>
              <a:xfrm>
                <a:off x="3648240" y="43815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 name=""/>
              <p:cNvSpPr/>
              <p:nvPr/>
            </p:nvSpPr>
            <p:spPr>
              <a:xfrm>
                <a:off x="3648240" y="438156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3648240" y="438156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6" name=""/>
              <p:cNvSpPr/>
              <p:nvPr/>
            </p:nvSpPr>
            <p:spPr>
              <a:xfrm>
                <a:off x="3648240" y="43815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7" name=""/>
              <p:cNvSpPr/>
              <p:nvPr/>
            </p:nvSpPr>
            <p:spPr>
              <a:xfrm>
                <a:off x="3648240" y="4381560"/>
                <a:ext cx="266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3648240" y="438156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9" name=""/>
              <p:cNvSpPr/>
              <p:nvPr/>
            </p:nvSpPr>
            <p:spPr>
              <a:xfrm>
                <a:off x="3674880" y="43815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0" name=""/>
              <p:cNvSpPr/>
              <p:nvPr/>
            </p:nvSpPr>
            <p:spPr>
              <a:xfrm>
                <a:off x="3674880" y="438156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3674880" y="43815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2" name=""/>
              <p:cNvSpPr/>
              <p:nvPr/>
            </p:nvSpPr>
            <p:spPr>
              <a:xfrm>
                <a:off x="3700800" y="438156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3" name=""/>
              <p:cNvSpPr/>
              <p:nvPr/>
            </p:nvSpPr>
            <p:spPr>
              <a:xfrm>
                <a:off x="3700800" y="4381560"/>
                <a:ext cx="2237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 name=""/>
              <p:cNvSpPr/>
              <p:nvPr/>
            </p:nvSpPr>
            <p:spPr>
              <a:xfrm>
                <a:off x="5938200" y="43815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5" name=""/>
              <p:cNvSpPr/>
              <p:nvPr/>
            </p:nvSpPr>
            <p:spPr>
              <a:xfrm>
                <a:off x="5938200" y="4381560"/>
                <a:ext cx="25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5938200" y="43815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7" name=""/>
              <p:cNvSpPr/>
              <p:nvPr/>
            </p:nvSpPr>
            <p:spPr>
              <a:xfrm>
                <a:off x="5964120" y="438156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88" name=""/>
              <p:cNvSpPr/>
              <p:nvPr/>
            </p:nvSpPr>
            <p:spPr>
              <a:xfrm>
                <a:off x="5964120" y="4381560"/>
                <a:ext cx="2187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1905120" y="4839840"/>
                <a:ext cx="17431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97320" y="494280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s</a:t>
                </a:r>
                <a:endParaRPr b="0" lang="en-US" sz="2000" spc="-1" strike="noStrike">
                  <a:solidFill>
                    <a:srgbClr val="000000"/>
                  </a:solidFill>
                  <a:latin typeface="Times New Roman"/>
                </a:endParaRPr>
              </a:p>
            </p:txBody>
          </p:sp>
          <p:sp>
            <p:nvSpPr>
              <p:cNvPr id="391" name=""/>
              <p:cNvSpPr/>
              <p:nvPr/>
            </p:nvSpPr>
            <p:spPr>
              <a:xfrm>
                <a:off x="3674880" y="4839840"/>
                <a:ext cx="226296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271040" y="4942800"/>
                <a:ext cx="84960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 – 13</a:t>
                </a:r>
                <a:endParaRPr b="0" lang="en-US" sz="2000" spc="-1" strike="noStrike">
                  <a:solidFill>
                    <a:srgbClr val="000000"/>
                  </a:solidFill>
                  <a:latin typeface="Times New Roman"/>
                </a:endParaRPr>
              </a:p>
            </p:txBody>
          </p:sp>
          <p:sp>
            <p:nvSpPr>
              <p:cNvPr id="393" name=""/>
              <p:cNvSpPr/>
              <p:nvPr/>
            </p:nvSpPr>
            <p:spPr>
              <a:xfrm>
                <a:off x="5938200" y="483984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544080" y="494280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5 - 85</a:t>
                </a:r>
                <a:endParaRPr b="0" lang="en-US" sz="2000" spc="-1" strike="noStrike">
                  <a:solidFill>
                    <a:srgbClr val="000000"/>
                  </a:solidFill>
                  <a:latin typeface="Times New Roman"/>
                </a:endParaRPr>
              </a:p>
            </p:txBody>
          </p:sp>
          <p:sp>
            <p:nvSpPr>
              <p:cNvPr id="395" name=""/>
              <p:cNvSpPr/>
              <p:nvPr/>
            </p:nvSpPr>
            <p:spPr>
              <a:xfrm>
                <a:off x="1905120" y="4823280"/>
                <a:ext cx="17431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6" name=""/>
              <p:cNvSpPr/>
              <p:nvPr/>
            </p:nvSpPr>
            <p:spPr>
              <a:xfrm>
                <a:off x="3648240" y="482328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7" name=""/>
              <p:cNvSpPr/>
              <p:nvPr/>
            </p:nvSpPr>
            <p:spPr>
              <a:xfrm>
                <a:off x="3648240" y="482328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3648240" y="482328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 name=""/>
              <p:cNvSpPr/>
              <p:nvPr/>
            </p:nvSpPr>
            <p:spPr>
              <a:xfrm>
                <a:off x="3648240" y="482328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0" name=""/>
              <p:cNvSpPr/>
              <p:nvPr/>
            </p:nvSpPr>
            <p:spPr>
              <a:xfrm>
                <a:off x="3648240" y="4823280"/>
                <a:ext cx="266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3648240" y="482328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 name=""/>
              <p:cNvSpPr/>
              <p:nvPr/>
            </p:nvSpPr>
            <p:spPr>
              <a:xfrm>
                <a:off x="3674880" y="482328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3" name=""/>
              <p:cNvSpPr/>
              <p:nvPr/>
            </p:nvSpPr>
            <p:spPr>
              <a:xfrm>
                <a:off x="3674880" y="482328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3674880" y="482328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 name=""/>
              <p:cNvSpPr/>
              <p:nvPr/>
            </p:nvSpPr>
            <p:spPr>
              <a:xfrm>
                <a:off x="3700800" y="4823280"/>
                <a:ext cx="22370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6" name=""/>
              <p:cNvSpPr/>
              <p:nvPr/>
            </p:nvSpPr>
            <p:spPr>
              <a:xfrm>
                <a:off x="3700800" y="4823280"/>
                <a:ext cx="223704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5938200" y="482328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 name=""/>
              <p:cNvSpPr/>
              <p:nvPr/>
            </p:nvSpPr>
            <p:spPr>
              <a:xfrm>
                <a:off x="5938200" y="4823280"/>
                <a:ext cx="259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5938200" y="4823280"/>
                <a:ext cx="288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0" name=""/>
              <p:cNvSpPr/>
              <p:nvPr/>
            </p:nvSpPr>
            <p:spPr>
              <a:xfrm>
                <a:off x="5964120" y="482328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1" name=""/>
              <p:cNvSpPr/>
              <p:nvPr/>
            </p:nvSpPr>
            <p:spPr>
              <a:xfrm>
                <a:off x="5964120" y="4823280"/>
                <a:ext cx="2187720" cy="1800"/>
              </a:xfrm>
              <a:prstGeom prst="line">
                <a:avLst/>
              </a:prstGeom>
              <a:ln w="0">
                <a:solidFill>
                  <a:srgbClr val="80808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3648240" y="483984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648240" y="483984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905120" y="5281560"/>
                <a:ext cx="175968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497320" y="538704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6's</a:t>
                </a:r>
                <a:endParaRPr b="0" lang="en-US" sz="2000" spc="-1" strike="noStrike">
                  <a:solidFill>
                    <a:srgbClr val="000000"/>
                  </a:solidFill>
                  <a:latin typeface="Times New Roman"/>
                </a:endParaRPr>
              </a:p>
            </p:txBody>
          </p:sp>
          <p:sp>
            <p:nvSpPr>
              <p:cNvPr id="416" name=""/>
              <p:cNvSpPr/>
              <p:nvPr/>
            </p:nvSpPr>
            <p:spPr>
              <a:xfrm>
                <a:off x="3664800" y="5281560"/>
                <a:ext cx="227340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356000" y="5387040"/>
                <a:ext cx="70776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 – 10</a:t>
                </a:r>
                <a:endParaRPr b="0" lang="en-US" sz="2000" spc="-1" strike="noStrike">
                  <a:solidFill>
                    <a:srgbClr val="000000"/>
                  </a:solidFill>
                  <a:latin typeface="Times New Roman"/>
                </a:endParaRPr>
              </a:p>
            </p:txBody>
          </p:sp>
          <p:sp>
            <p:nvSpPr>
              <p:cNvPr id="418" name=""/>
              <p:cNvSpPr/>
              <p:nvPr/>
            </p:nvSpPr>
            <p:spPr>
              <a:xfrm>
                <a:off x="5938200" y="5281560"/>
                <a:ext cx="2213640" cy="426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544080" y="538704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5 - 75</a:t>
                </a:r>
                <a:endParaRPr b="0" lang="en-US" sz="2000" spc="-1" strike="noStrike">
                  <a:solidFill>
                    <a:srgbClr val="000000"/>
                  </a:solidFill>
                  <a:latin typeface="Times New Roman"/>
                </a:endParaRPr>
              </a:p>
            </p:txBody>
          </p:sp>
          <p:sp>
            <p:nvSpPr>
              <p:cNvPr id="420" name=""/>
              <p:cNvSpPr/>
              <p:nvPr/>
            </p:nvSpPr>
            <p:spPr>
              <a:xfrm>
                <a:off x="1905120" y="5265000"/>
                <a:ext cx="17431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1" name=""/>
              <p:cNvSpPr/>
              <p:nvPr/>
            </p:nvSpPr>
            <p:spPr>
              <a:xfrm>
                <a:off x="3648240" y="526500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2" name=""/>
              <p:cNvSpPr/>
              <p:nvPr/>
            </p:nvSpPr>
            <p:spPr>
              <a:xfrm>
                <a:off x="3648240" y="526500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3" name=""/>
              <p:cNvSpPr/>
              <p:nvPr/>
            </p:nvSpPr>
            <p:spPr>
              <a:xfrm>
                <a:off x="3648240" y="526500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4" name=""/>
              <p:cNvSpPr/>
              <p:nvPr/>
            </p:nvSpPr>
            <p:spPr>
              <a:xfrm>
                <a:off x="3648240" y="526500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5" name=""/>
              <p:cNvSpPr/>
              <p:nvPr/>
            </p:nvSpPr>
            <p:spPr>
              <a:xfrm>
                <a:off x="3648240" y="526500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6" name=""/>
              <p:cNvSpPr/>
              <p:nvPr/>
            </p:nvSpPr>
            <p:spPr>
              <a:xfrm>
                <a:off x="3648240" y="5265000"/>
                <a:ext cx="360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sp>
          <p:nvSpPr>
            <p:cNvPr id="427" name=""/>
            <p:cNvSpPr/>
            <p:nvPr/>
          </p:nvSpPr>
          <p:spPr>
            <a:xfrm>
              <a:off x="3675240" y="526500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8" name=""/>
            <p:cNvSpPr/>
            <p:nvPr/>
          </p:nvSpPr>
          <p:spPr>
            <a:xfrm>
              <a:off x="3675240" y="526500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a:off x="3675240" y="526500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0" name=""/>
            <p:cNvSpPr/>
            <p:nvPr/>
          </p:nvSpPr>
          <p:spPr>
            <a:xfrm>
              <a:off x="3701160" y="5265000"/>
              <a:ext cx="223740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1" name=""/>
            <p:cNvSpPr/>
            <p:nvPr/>
          </p:nvSpPr>
          <p:spPr>
            <a:xfrm>
              <a:off x="3701160" y="5265000"/>
              <a:ext cx="223740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2" name=""/>
            <p:cNvSpPr/>
            <p:nvPr/>
          </p:nvSpPr>
          <p:spPr>
            <a:xfrm>
              <a:off x="5938920" y="526500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3" name=""/>
            <p:cNvSpPr/>
            <p:nvPr/>
          </p:nvSpPr>
          <p:spPr>
            <a:xfrm>
              <a:off x="5938920" y="526500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4" name=""/>
            <p:cNvSpPr/>
            <p:nvPr/>
          </p:nvSpPr>
          <p:spPr>
            <a:xfrm>
              <a:off x="5938920" y="5265000"/>
              <a:ext cx="2880" cy="16560"/>
            </a:xfrm>
            <a:prstGeom prst="line">
              <a:avLst/>
            </a:prstGeom>
            <a:ln w="0">
              <a:solidFill>
                <a:srgbClr val="ffffff"/>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5" name=""/>
            <p:cNvSpPr/>
            <p:nvPr/>
          </p:nvSpPr>
          <p:spPr>
            <a:xfrm>
              <a:off x="5964840" y="526500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6" name=""/>
            <p:cNvSpPr/>
            <p:nvPr/>
          </p:nvSpPr>
          <p:spPr>
            <a:xfrm>
              <a:off x="5964840" y="526500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7" name=""/>
            <p:cNvSpPr/>
            <p:nvPr/>
          </p:nvSpPr>
          <p:spPr>
            <a:xfrm>
              <a:off x="1905120" y="5725800"/>
              <a:ext cx="174348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97680" y="5828760"/>
              <a:ext cx="48672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8's</a:t>
              </a:r>
              <a:endParaRPr b="0" lang="en-US" sz="2000" spc="-1" strike="noStrike">
                <a:solidFill>
                  <a:srgbClr val="000000"/>
                </a:solidFill>
                <a:latin typeface="Times New Roman"/>
              </a:endParaRPr>
            </a:p>
          </p:txBody>
        </p:sp>
        <p:sp>
          <p:nvSpPr>
            <p:cNvPr id="439" name=""/>
            <p:cNvSpPr/>
            <p:nvPr/>
          </p:nvSpPr>
          <p:spPr>
            <a:xfrm>
              <a:off x="3675240" y="5725800"/>
              <a:ext cx="226332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444920" y="5828760"/>
              <a:ext cx="5662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 – 8</a:t>
              </a:r>
              <a:endParaRPr b="0" lang="en-US" sz="2000" spc="-1" strike="noStrike">
                <a:solidFill>
                  <a:srgbClr val="000000"/>
                </a:solidFill>
                <a:latin typeface="Times New Roman"/>
              </a:endParaRPr>
            </a:p>
          </p:txBody>
        </p:sp>
        <p:sp>
          <p:nvSpPr>
            <p:cNvPr id="441" name=""/>
            <p:cNvSpPr/>
            <p:nvPr/>
          </p:nvSpPr>
          <p:spPr>
            <a:xfrm>
              <a:off x="5938920" y="5725800"/>
              <a:ext cx="2213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544800" y="5828760"/>
              <a:ext cx="793080" cy="305280"/>
            </a:xfrm>
            <a:prstGeom prst="rect">
              <a:avLst/>
            </a:prstGeom>
            <a:solidFill>
              <a:srgbClr val="ff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5 - 65</a:t>
              </a:r>
              <a:endParaRPr b="0" lang="en-US" sz="2000" spc="-1" strike="noStrike">
                <a:solidFill>
                  <a:srgbClr val="000000"/>
                </a:solidFill>
                <a:latin typeface="Times New Roman"/>
              </a:endParaRPr>
            </a:p>
          </p:txBody>
        </p:sp>
        <p:sp>
          <p:nvSpPr>
            <p:cNvPr id="443" name=""/>
            <p:cNvSpPr/>
            <p:nvPr/>
          </p:nvSpPr>
          <p:spPr>
            <a:xfrm>
              <a:off x="1905120" y="5708880"/>
              <a:ext cx="174348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4" name=""/>
            <p:cNvSpPr/>
            <p:nvPr/>
          </p:nvSpPr>
          <p:spPr>
            <a:xfrm>
              <a:off x="3648600" y="570888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5" name=""/>
            <p:cNvSpPr/>
            <p:nvPr/>
          </p:nvSpPr>
          <p:spPr>
            <a:xfrm>
              <a:off x="3648600" y="570888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6" name=""/>
            <p:cNvSpPr/>
            <p:nvPr/>
          </p:nvSpPr>
          <p:spPr>
            <a:xfrm>
              <a:off x="3648600" y="570888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7" name=""/>
            <p:cNvSpPr/>
            <p:nvPr/>
          </p:nvSpPr>
          <p:spPr>
            <a:xfrm>
              <a:off x="3648600" y="5708880"/>
              <a:ext cx="2664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8" name=""/>
            <p:cNvSpPr/>
            <p:nvPr/>
          </p:nvSpPr>
          <p:spPr>
            <a:xfrm>
              <a:off x="3648600" y="570888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9" name=""/>
            <p:cNvSpPr/>
            <p:nvPr/>
          </p:nvSpPr>
          <p:spPr>
            <a:xfrm>
              <a:off x="3648600" y="5708880"/>
              <a:ext cx="360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0" name=""/>
            <p:cNvSpPr/>
            <p:nvPr/>
          </p:nvSpPr>
          <p:spPr>
            <a:xfrm>
              <a:off x="3675240" y="570888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1" name=""/>
            <p:cNvSpPr/>
            <p:nvPr/>
          </p:nvSpPr>
          <p:spPr>
            <a:xfrm>
              <a:off x="3675240" y="570888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3675240" y="5708880"/>
              <a:ext cx="288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3701160" y="5708880"/>
              <a:ext cx="223740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4" name=""/>
            <p:cNvSpPr/>
            <p:nvPr/>
          </p:nvSpPr>
          <p:spPr>
            <a:xfrm>
              <a:off x="3701160" y="5708880"/>
              <a:ext cx="223740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5938920" y="5708880"/>
              <a:ext cx="259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6" name=""/>
            <p:cNvSpPr/>
            <p:nvPr/>
          </p:nvSpPr>
          <p:spPr>
            <a:xfrm>
              <a:off x="5938920" y="5708880"/>
              <a:ext cx="259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a:off x="5938920" y="5708880"/>
              <a:ext cx="2880" cy="16560"/>
            </a:xfrm>
            <a:prstGeom prst="line">
              <a:avLst/>
            </a:prstGeom>
            <a:ln w="0">
              <a:solidFill>
                <a:srgbClr val="80808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8" name=""/>
            <p:cNvSpPr/>
            <p:nvPr/>
          </p:nvSpPr>
          <p:spPr>
            <a:xfrm>
              <a:off x="5964840" y="5708880"/>
              <a:ext cx="2187720" cy="16560"/>
            </a:xfrm>
            <a:prstGeom prst="rect">
              <a:avLst/>
            </a:prstGeom>
            <a:solidFill>
              <a:srgbClr val="ffffcc"/>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9" name=""/>
            <p:cNvSpPr/>
            <p:nvPr/>
          </p:nvSpPr>
          <p:spPr>
            <a:xfrm>
              <a:off x="5964840" y="5708880"/>
              <a:ext cx="218772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0" name=""/>
            <p:cNvSpPr/>
            <p:nvPr/>
          </p:nvSpPr>
          <p:spPr>
            <a:xfrm>
              <a:off x="3648600" y="5725800"/>
              <a:ext cx="26640" cy="4248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648600" y="5725800"/>
              <a:ext cx="3600" cy="424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648600" y="61509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 name=""/>
            <p:cNvSpPr/>
            <p:nvPr/>
          </p:nvSpPr>
          <p:spPr>
            <a:xfrm>
              <a:off x="3648600" y="6150960"/>
              <a:ext cx="26640" cy="2160"/>
            </a:xfrm>
            <a:prstGeom prst="line">
              <a:avLst/>
            </a:prstGeom>
            <a:ln w="0">
              <a:solidFill>
                <a:srgbClr val="80808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a:off x="3648600" y="6150960"/>
              <a:ext cx="3600" cy="16200"/>
            </a:xfrm>
            <a:prstGeom prst="line">
              <a:avLst/>
            </a:prstGeom>
            <a:ln w="0">
              <a:solidFill>
                <a:srgbClr val="80808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5" name=""/>
            <p:cNvSpPr/>
            <p:nvPr/>
          </p:nvSpPr>
          <p:spPr>
            <a:xfrm>
              <a:off x="3648600" y="6150960"/>
              <a:ext cx="2664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6" name=""/>
            <p:cNvSpPr/>
            <p:nvPr/>
          </p:nvSpPr>
          <p:spPr>
            <a:xfrm>
              <a:off x="3648600" y="6150960"/>
              <a:ext cx="2664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7" name=""/>
            <p:cNvSpPr/>
            <p:nvPr/>
          </p:nvSpPr>
          <p:spPr>
            <a:xfrm>
              <a:off x="3648600" y="6150960"/>
              <a:ext cx="360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8" name=""/>
            <p:cNvSpPr/>
            <p:nvPr/>
          </p:nvSpPr>
          <p:spPr>
            <a:xfrm>
              <a:off x="3675240" y="6150960"/>
              <a:ext cx="22633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9" name=""/>
            <p:cNvSpPr/>
            <p:nvPr/>
          </p:nvSpPr>
          <p:spPr>
            <a:xfrm>
              <a:off x="3675240" y="6150960"/>
              <a:ext cx="22633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0" name=""/>
            <p:cNvSpPr/>
            <p:nvPr/>
          </p:nvSpPr>
          <p:spPr>
            <a:xfrm>
              <a:off x="5938920" y="6150960"/>
              <a:ext cx="259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1" name=""/>
            <p:cNvSpPr/>
            <p:nvPr/>
          </p:nvSpPr>
          <p:spPr>
            <a:xfrm>
              <a:off x="5938920" y="6150960"/>
              <a:ext cx="259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5938920" y="6150960"/>
              <a:ext cx="28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 name=""/>
            <p:cNvSpPr/>
            <p:nvPr/>
          </p:nvSpPr>
          <p:spPr>
            <a:xfrm>
              <a:off x="5964840" y="6150960"/>
              <a:ext cx="2187720" cy="16200"/>
            </a:xfrm>
            <a:prstGeom prst="rect">
              <a:avLst/>
            </a:prstGeom>
            <a:solidFill>
              <a:srgbClr val="ffffcc"/>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4" name=""/>
            <p:cNvSpPr/>
            <p:nvPr/>
          </p:nvSpPr>
          <p:spPr>
            <a:xfrm>
              <a:off x="5964840" y="6150960"/>
              <a:ext cx="2187720" cy="2160"/>
            </a:xfrm>
            <a:prstGeom prst="line">
              <a:avLst/>
            </a:prstGeom>
            <a:ln w="0">
              <a:solidFill>
                <a:srgbClr val="ffffff"/>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4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  &amp; fibre curvature</a:t>
            </a:r>
            <a:endParaRPr b="1" lang="en-US" sz="3200" spc="-1" strike="noStrike">
              <a:solidFill>
                <a:srgbClr val="fafd00"/>
              </a:solidFill>
              <a:latin typeface="Arial"/>
            </a:endParaRPr>
          </a:p>
        </p:txBody>
      </p:sp>
      <p:sp>
        <p:nvSpPr>
          <p:cNvPr id="476"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is fibre curvature important?</a:t>
            </a:r>
            <a:endParaRPr b="1" lang="en-US" sz="3200" spc="-1" strike="noStrike">
              <a:solidFill>
                <a:srgbClr val="fafd00"/>
              </a:solidFill>
              <a:latin typeface="Arial"/>
            </a:endParaRPr>
          </a:p>
        </p:txBody>
      </p:sp>
      <p:sp>
        <p:nvSpPr>
          <p:cNvPr id="4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es strongly to the curvature of the follicle in the skin, an important genetic lever</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es to staple length and fleece weight</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fects top making efficiency, and top tare ratio</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luences yarn spinning efficiency and yarn evenness and quality</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ffects fabric thickness, handle, lustre, and efficiency of dyeing</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80" name=""/>
          <p:cNvGrpSpPr/>
          <p:nvPr/>
        </p:nvGrpSpPr>
        <p:grpSpPr>
          <a:xfrm>
            <a:off x="1254600" y="838080"/>
            <a:ext cx="7492680" cy="5493960"/>
            <a:chOff x="1254600" y="838080"/>
            <a:chExt cx="7492680" cy="5493960"/>
          </a:xfrm>
        </p:grpSpPr>
        <p:sp>
          <p:nvSpPr>
            <p:cNvPr id="481" name=""/>
            <p:cNvSpPr/>
            <p:nvPr/>
          </p:nvSpPr>
          <p:spPr>
            <a:xfrm>
              <a:off x="1371600" y="838080"/>
              <a:ext cx="7375680" cy="54385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099040" y="2796840"/>
              <a:ext cx="1108080" cy="1104480"/>
            </a:xfrm>
            <a:custGeom>
              <a:avLst/>
              <a:gdLst/>
              <a:ahLst/>
              <a:rect l="l" t="t" r="r" b="b"/>
              <a:pathLst>
                <a:path w="698" h="696">
                  <a:moveTo>
                    <a:pt x="0" y="676"/>
                  </a:moveTo>
                  <a:lnTo>
                    <a:pt x="20" y="696"/>
                  </a:lnTo>
                  <a:lnTo>
                    <a:pt x="698" y="20"/>
                  </a:lnTo>
                  <a:lnTo>
                    <a:pt x="678" y="0"/>
                  </a:lnTo>
                  <a:lnTo>
                    <a:pt x="0" y="6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73920" y="2663640"/>
              <a:ext cx="258480" cy="258120"/>
            </a:xfrm>
            <a:custGeom>
              <a:avLst/>
              <a:gdLst/>
              <a:ahLst/>
              <a:rect l="l" t="t" r="r" b="b"/>
              <a:pathLst>
                <a:path w="163" h="163">
                  <a:moveTo>
                    <a:pt x="163" y="0"/>
                  </a:moveTo>
                  <a:lnTo>
                    <a:pt x="0" y="94"/>
                  </a:lnTo>
                  <a:lnTo>
                    <a:pt x="74" y="163"/>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973760" y="3768480"/>
              <a:ext cx="258480" cy="258480"/>
            </a:xfrm>
            <a:custGeom>
              <a:avLst/>
              <a:gdLst/>
              <a:ahLst/>
              <a:rect l="l" t="t" r="r" b="b"/>
              <a:pathLst>
                <a:path w="163" h="163">
                  <a:moveTo>
                    <a:pt x="0" y="163"/>
                  </a:moveTo>
                  <a:lnTo>
                    <a:pt x="163" y="74"/>
                  </a:lnTo>
                  <a:lnTo>
                    <a:pt x="89" y="0"/>
                  </a:lnTo>
                  <a:lnTo>
                    <a:pt x="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008240" y="3392280"/>
              <a:ext cx="3022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Garamond"/>
                </a:rPr>
                <a:t>True   to    Type</a:t>
              </a:r>
              <a:endParaRPr b="0" lang="en-US" sz="3100" spc="-1" strike="noStrike">
                <a:solidFill>
                  <a:srgbClr val="000000"/>
                </a:solidFill>
                <a:latin typeface="Times New Roman"/>
              </a:endParaRPr>
            </a:p>
          </p:txBody>
        </p:sp>
        <p:sp>
          <p:nvSpPr>
            <p:cNvPr id="486" name=""/>
            <p:cNvSpPr/>
            <p:nvPr/>
          </p:nvSpPr>
          <p:spPr>
            <a:xfrm>
              <a:off x="3392640" y="4051080"/>
              <a:ext cx="1595160" cy="126144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486240" y="4090680"/>
              <a:ext cx="1652400" cy="367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477960" y="409068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ly</a:t>
              </a:r>
              <a:endParaRPr b="0" lang="en-US" sz="1800" spc="-1" strike="noStrike">
                <a:solidFill>
                  <a:srgbClr val="000000"/>
                </a:solidFill>
                <a:latin typeface="Times New Roman"/>
              </a:endParaRPr>
            </a:p>
          </p:txBody>
        </p:sp>
        <p:sp>
          <p:nvSpPr>
            <p:cNvPr id="489" name=""/>
            <p:cNvSpPr/>
            <p:nvPr/>
          </p:nvSpPr>
          <p:spPr>
            <a:xfrm>
              <a:off x="3714840" y="4379760"/>
              <a:ext cx="114768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714120" y="4379760"/>
              <a:ext cx="89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ft and</a:t>
              </a:r>
              <a:endParaRPr b="0" lang="en-US" sz="1800" spc="-1" strike="noStrike">
                <a:solidFill>
                  <a:srgbClr val="000000"/>
                </a:solidFill>
                <a:latin typeface="Times New Roman"/>
              </a:endParaRPr>
            </a:p>
          </p:txBody>
        </p:sp>
        <p:sp>
          <p:nvSpPr>
            <p:cNvPr id="491" name=""/>
            <p:cNvSpPr/>
            <p:nvPr/>
          </p:nvSpPr>
          <p:spPr>
            <a:xfrm>
              <a:off x="3573360" y="4670280"/>
              <a:ext cx="145440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572640" y="46623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icient to</a:t>
              </a:r>
              <a:endParaRPr b="0" lang="en-US" sz="1800" spc="-1" strike="noStrike">
                <a:solidFill>
                  <a:srgbClr val="000000"/>
                </a:solidFill>
                <a:latin typeface="Times New Roman"/>
              </a:endParaRPr>
            </a:p>
          </p:txBody>
        </p:sp>
        <p:sp>
          <p:nvSpPr>
            <p:cNvPr id="493" name=""/>
            <p:cNvSpPr/>
            <p:nvPr/>
          </p:nvSpPr>
          <p:spPr>
            <a:xfrm>
              <a:off x="3722760" y="4952520"/>
              <a:ext cx="1131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723120" y="49525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95" name=""/>
            <p:cNvSpPr/>
            <p:nvPr/>
          </p:nvSpPr>
          <p:spPr>
            <a:xfrm>
              <a:off x="6411960" y="1331640"/>
              <a:ext cx="1619280" cy="1261800"/>
            </a:xfrm>
            <a:prstGeom prst="rect">
              <a:avLst/>
            </a:prstGeom>
            <a:solidFill>
              <a:srgbClr val="ffffcc"/>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513480" y="1371240"/>
              <a:ext cx="165888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513120" y="1371240"/>
              <a:ext cx="133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ingly</a:t>
              </a:r>
              <a:endParaRPr b="0" lang="en-US" sz="1800" spc="-1" strike="noStrike">
                <a:solidFill>
                  <a:srgbClr val="000000"/>
                </a:solidFill>
                <a:latin typeface="Times New Roman"/>
              </a:endParaRPr>
            </a:p>
          </p:txBody>
        </p:sp>
        <p:sp>
          <p:nvSpPr>
            <p:cNvPr id="498" name=""/>
            <p:cNvSpPr/>
            <p:nvPr/>
          </p:nvSpPr>
          <p:spPr>
            <a:xfrm>
              <a:off x="6648480" y="1660320"/>
              <a:ext cx="1374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640200" y="1652400"/>
              <a:ext cx="109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sh and</a:t>
              </a:r>
              <a:endParaRPr b="0" lang="en-US" sz="1800" spc="-1" strike="noStrike">
                <a:solidFill>
                  <a:srgbClr val="000000"/>
                </a:solidFill>
                <a:latin typeface="Times New Roman"/>
              </a:endParaRPr>
            </a:p>
          </p:txBody>
        </p:sp>
        <p:sp>
          <p:nvSpPr>
            <p:cNvPr id="500" name=""/>
            <p:cNvSpPr/>
            <p:nvPr/>
          </p:nvSpPr>
          <p:spPr>
            <a:xfrm>
              <a:off x="6505560" y="1942920"/>
              <a:ext cx="16826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496560" y="1942920"/>
              <a:ext cx="136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efficient to</a:t>
              </a:r>
              <a:endParaRPr b="0" lang="en-US" sz="1800" spc="-1" strike="noStrike">
                <a:solidFill>
                  <a:srgbClr val="000000"/>
                </a:solidFill>
                <a:latin typeface="Times New Roman"/>
              </a:endParaRPr>
            </a:p>
          </p:txBody>
        </p:sp>
        <p:sp>
          <p:nvSpPr>
            <p:cNvPr id="502" name=""/>
            <p:cNvSpPr/>
            <p:nvPr/>
          </p:nvSpPr>
          <p:spPr>
            <a:xfrm>
              <a:off x="6757920" y="2233440"/>
              <a:ext cx="1131840" cy="36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750360" y="223344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04" name=""/>
            <p:cNvSpPr/>
            <p:nvPr/>
          </p:nvSpPr>
          <p:spPr>
            <a:xfrm>
              <a:off x="1827360" y="2906280"/>
              <a:ext cx="1062000" cy="55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738080" y="2898360"/>
              <a:ext cx="10674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Fibre</a:t>
              </a:r>
              <a:endParaRPr b="0" lang="en-US" sz="3100" spc="-1" strike="noStrike">
                <a:solidFill>
                  <a:srgbClr val="000000"/>
                </a:solidFill>
                <a:latin typeface="Times New Roman"/>
              </a:endParaRPr>
            </a:p>
          </p:txBody>
        </p:sp>
        <p:sp>
          <p:nvSpPr>
            <p:cNvPr id="506" name=""/>
            <p:cNvSpPr/>
            <p:nvPr/>
          </p:nvSpPr>
          <p:spPr>
            <a:xfrm>
              <a:off x="1457280" y="3369960"/>
              <a:ext cx="1817640" cy="54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254600" y="3362040"/>
              <a:ext cx="205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Curvature</a:t>
              </a:r>
              <a:endParaRPr b="0" lang="en-US" sz="3100" spc="-1" strike="noStrike">
                <a:solidFill>
                  <a:srgbClr val="000000"/>
                </a:solidFill>
                <a:latin typeface="Times New Roman"/>
              </a:endParaRPr>
            </a:p>
          </p:txBody>
        </p:sp>
        <p:sp>
          <p:nvSpPr>
            <p:cNvPr id="508" name=""/>
            <p:cNvSpPr/>
            <p:nvPr/>
          </p:nvSpPr>
          <p:spPr>
            <a:xfrm>
              <a:off x="4665600" y="5775120"/>
              <a:ext cx="2917800" cy="55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420080" y="5767200"/>
              <a:ext cx="30456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Garamond"/>
                </a:rPr>
                <a:t>Fibre Diameter</a:t>
              </a:r>
              <a:endParaRPr b="0" lang="en-US" sz="3100" spc="-1" strike="noStrike">
                <a:solidFill>
                  <a:srgbClr val="000000"/>
                </a:solidFill>
                <a:latin typeface="Times New Roman"/>
              </a:endParaRPr>
            </a:p>
          </p:txBody>
        </p:sp>
        <p:sp>
          <p:nvSpPr>
            <p:cNvPr id="510" name=""/>
            <p:cNvSpPr/>
            <p:nvPr/>
          </p:nvSpPr>
          <p:spPr>
            <a:xfrm>
              <a:off x="3219480" y="1409400"/>
              <a:ext cx="71280" cy="40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147840" y="1230120"/>
              <a:ext cx="204840" cy="327960"/>
            </a:xfrm>
            <a:custGeom>
              <a:avLst/>
              <a:gdLst/>
              <a:ahLst/>
              <a:rect l="l" t="t" r="r" b="b"/>
              <a:pathLst>
                <a:path w="129" h="207">
                  <a:moveTo>
                    <a:pt x="65" y="0"/>
                  </a:moveTo>
                  <a:lnTo>
                    <a:pt x="0" y="207"/>
                  </a:lnTo>
                  <a:lnTo>
                    <a:pt x="129" y="20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251160" y="5430600"/>
              <a:ext cx="4913280" cy="6948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3" name=""/>
            <p:cNvSpPr/>
            <p:nvPr/>
          </p:nvSpPr>
          <p:spPr>
            <a:xfrm>
              <a:off x="7985160" y="5351040"/>
              <a:ext cx="352440" cy="212400"/>
            </a:xfrm>
            <a:custGeom>
              <a:avLst/>
              <a:gdLst/>
              <a:ahLst/>
              <a:rect l="l" t="t" r="r" b="b"/>
              <a:pathLst>
                <a:path w="222" h="134">
                  <a:moveTo>
                    <a:pt x="222" y="70"/>
                  </a:moveTo>
                  <a:lnTo>
                    <a:pt x="0" y="0"/>
                  </a:lnTo>
                  <a:lnTo>
                    <a:pt x="0" y="134"/>
                  </a:lnTo>
                  <a:lnTo>
                    <a:pt x="22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699000" y="1379160"/>
              <a:ext cx="3956040" cy="3854160"/>
            </a:xfrm>
            <a:custGeom>
              <a:avLst/>
              <a:gdLst/>
              <a:ahLst/>
              <a:rect l="l" t="t" r="r" b="b"/>
              <a:pathLst>
                <a:path w="2492" h="2428">
                  <a:moveTo>
                    <a:pt x="307" y="0"/>
                  </a:moveTo>
                  <a:lnTo>
                    <a:pt x="0" y="316"/>
                  </a:lnTo>
                  <a:lnTo>
                    <a:pt x="2184" y="2428"/>
                  </a:lnTo>
                  <a:lnTo>
                    <a:pt x="2492" y="2108"/>
                  </a:lnTo>
                  <a:lnTo>
                    <a:pt x="30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699000" y="1379160"/>
              <a:ext cx="3956040" cy="3854160"/>
            </a:xfrm>
            <a:custGeom>
              <a:avLst/>
              <a:gdLst/>
              <a:ahLst/>
              <a:rect l="l" t="t" r="r" b="b"/>
              <a:pathLst>
                <a:path w="2492" h="2428">
                  <a:moveTo>
                    <a:pt x="307" y="0"/>
                  </a:moveTo>
                  <a:lnTo>
                    <a:pt x="0" y="316"/>
                  </a:lnTo>
                  <a:lnTo>
                    <a:pt x="2184" y="2428"/>
                  </a:lnTo>
                  <a:lnTo>
                    <a:pt x="2492" y="2108"/>
                  </a:lnTo>
                  <a:lnTo>
                    <a:pt x="307" y="0"/>
                  </a:lnTo>
                  <a:lnTo>
                    <a:pt x="307" y="39"/>
                  </a:lnTo>
                  <a:lnTo>
                    <a:pt x="2452" y="2112"/>
                  </a:lnTo>
                  <a:lnTo>
                    <a:pt x="2184" y="2384"/>
                  </a:lnTo>
                  <a:lnTo>
                    <a:pt x="40" y="316"/>
                  </a:lnTo>
                  <a:lnTo>
                    <a:pt x="307" y="39"/>
                  </a:lnTo>
                  <a:lnTo>
                    <a:pt x="307" y="0"/>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2550600">
              <a:off x="4282560" y="3087000"/>
              <a:ext cx="28429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True - to - Type</a:t>
              </a:r>
              <a:endParaRPr b="0" lang="en-US" sz="3100" spc="-1" strike="noStrike">
                <a:solidFill>
                  <a:srgbClr val="000000"/>
                </a:solidFill>
                <a:latin typeface="Times New Roman"/>
              </a:endParaRPr>
            </a:p>
          </p:txBody>
        </p:sp>
      </p:grpSp>
      <p:sp>
        <p:nvSpPr>
          <p:cNvPr id="51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ow should fibre curvature be used?</a:t>
            </a:r>
            <a:endParaRPr b="1" lang="en-US" sz="3200" spc="-1" strike="noStrike">
              <a:solidFill>
                <a:srgbClr val="fafd00"/>
              </a:solidFill>
              <a:latin typeface="Arial"/>
            </a:endParaRPr>
          </a:p>
        </p:txBody>
      </p:sp>
      <p:sp>
        <p:nvSpPr>
          <p:cNvPr id="518"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1133640" y="1219320"/>
            <a:ext cx="7835400" cy="4867200"/>
            <a:chOff x="1133640" y="1219320"/>
            <a:chExt cx="7835400" cy="4867200"/>
          </a:xfrm>
        </p:grpSpPr>
        <p:sp>
          <p:nvSpPr>
            <p:cNvPr id="520" name=""/>
            <p:cNvSpPr/>
            <p:nvPr/>
          </p:nvSpPr>
          <p:spPr>
            <a:xfrm>
              <a:off x="1203840" y="1219320"/>
              <a:ext cx="7697160" cy="4746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1" name=""/>
            <p:cNvGraphicFramePr/>
            <p:nvPr/>
          </p:nvGraphicFramePr>
          <p:xfrm>
            <a:off x="2021040" y="1476000"/>
            <a:ext cx="6948000" cy="4610520"/>
          </p:xfrm>
          <a:graphic>
            <a:graphicData uri="http://schemas.openxmlformats.org/presentationml/2006/ole">
              <p:oleObj progId="Word.Document.12" r:id="rId1" spid="">
                <p:embed/>
                <p:pic>
                  <p:nvPicPr>
                    <p:cNvPr id="522" name="" descr=""/>
                    <p:cNvPicPr/>
                    <p:nvPr/>
                  </p:nvPicPr>
                  <p:blipFill>
                    <a:blip r:embed="rId2"/>
                    <a:stretch/>
                  </p:blipFill>
                  <p:spPr>
                    <a:xfrm>
                      <a:off x="2021040" y="1476000"/>
                      <a:ext cx="6948000" cy="4610520"/>
                    </a:xfrm>
                    <a:prstGeom prst="rect">
                      <a:avLst/>
                    </a:prstGeom>
                    <a:ln w="0">
                      <a:noFill/>
                    </a:ln>
                  </p:spPr>
                </p:pic>
              </p:oleObj>
            </a:graphicData>
          </a:graphic>
        </p:graphicFrame>
        <p:sp>
          <p:nvSpPr>
            <p:cNvPr id="523" name=""/>
            <p:cNvSpPr/>
            <p:nvPr/>
          </p:nvSpPr>
          <p:spPr>
            <a:xfrm>
              <a:off x="1133640" y="3295800"/>
              <a:ext cx="12034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b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urva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g / mm)</a:t>
              </a:r>
              <a:endParaRPr b="0" lang="en-US" sz="1600" spc="-1" strike="noStrike">
                <a:solidFill>
                  <a:srgbClr val="000000"/>
                </a:solidFill>
                <a:latin typeface="Times New Roman"/>
              </a:endParaRPr>
            </a:p>
          </p:txBody>
        </p:sp>
      </p:grpSp>
      <p:sp>
        <p:nvSpPr>
          <p:cNvPr id="52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ing wool</a:t>
            </a:r>
            <a:endParaRPr b="1" lang="en-US" sz="3200" spc="-1" strike="noStrike">
              <a:solidFill>
                <a:srgbClr val="fafd00"/>
              </a:solidFill>
              <a:latin typeface="Arial"/>
            </a:endParaRPr>
          </a:p>
        </p:txBody>
      </p:sp>
      <p:sp>
        <p:nvSpPr>
          <p:cNvPr id="525" name=""/>
          <p:cNvSpPr/>
          <p:nvPr/>
        </p:nvSpPr>
        <p:spPr>
          <a:xfrm>
            <a:off x="8152200" y="655308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aul Swa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4:02:23Z</dcterms:created>
  <dc:creator>USER</dc:creator>
  <dc:description/>
  <dc:language>en-US</dc:language>
  <cp:lastModifiedBy>select agreement</cp:lastModifiedBy>
  <cp:lastPrinted>2000-02-07T04:18:19Z</cp:lastPrinted>
  <dcterms:modified xsi:type="dcterms:W3CDTF">2000-03-07T23:40:04Z</dcterms:modified>
  <cp:revision>4</cp:revision>
  <dc:subject/>
  <dc:title>No Slide Title</dc:title>
</cp:coreProperties>
</file>