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9A22-4C90-4AB2-B4D8-987E66F97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DDC3-3649-4C66-8279-3380B01A0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s about the determination of Yield as applied to the trading and processing of wool, and the considerations inherent in this determination.  </a:t>
            </a:r>
            <a:r>
              <a:rPr b="0" lang="en-GB" sz="1200" spc="-1" strike="noStrike">
                <a:solidFill>
                  <a:srgbClr val="000000"/>
                </a:solidFill>
                <a:latin typeface="Times New Roman"/>
              </a:rPr>
              <a:t>This module has been aimed at understanding the reasons behind the formulae listed in the Stand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s being asked could be; How much fibre am I buying for my customer?  How much fibre will I end up with at the end of my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rmination of Yield depends on the derivation of figures for Wool Base (WB) and Vegetable Matter Base (VMB).  For further information see the “Determination of Wool Base and VM Base”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372C9-32E0-4A43-8608-F767EBCA7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ield is defined as the mass of usable wool fibre obtained from greasy wool after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undergoes a variety of processes, e.g. scouring or topmaking.  Therefore there are a number of different Yield figures which could apply to the same mass of greasy wool depending on its subsequent treatment, eg. Scoured Yield, or Top and Noil Yield.  Obviously a processor who just scours will be interested in the Scoured Yield, while a topmaker would be interested in the Top and Noil Yie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rther complication is that processors operate in different countries which have traditionally employed different figures to adjust the oven-dry weight back to a figure which reflects the weight of the fibre during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ield figure includes a Standard Regain (conditioned weight) PLUS additions for various processes (Yiel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FBD9-27C8-4C1C-95CB-4533B7A65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Yield figures are used by different sectors of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just consider wool fibre Yields, some take into account  VM content, i.e. scoured Yields, while others take in to consideration processing losses, i.e. processing allowance Yie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the calculation of the IWTO Clean Wool Content (CWC)  Yield requi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rived figure for Wool Base (WB)</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 alcohol extractables are 1.7%</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 ash content is  0.57%</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 regain is 1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gives a calculation of the theoretical card sliver Yield at a regain of 17% with standard residues of 2.27% allowed f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WTO CWC Yield figure thus obtained answers the ques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much wool could be obtained if the lot was scoured and carded without processing lo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1B17-0009-45E8-9454-EB3C34BF0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wool fibre Yields are calculated at various regains (R) and contaminant levels, e.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CSY:  R% = 16%, contaminants = 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TM: R% = 13.64%, contaminants = 2.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lumberger Combed Dry (SCH DRY) is a standard figure considering the almost universal use of these types of combs in the industry.  This is just one Theoretical Top and Noil Yield (TTNY) figure used in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TNY figures are more complex in their determination and take into account standard regains of the top and noil, a standard tear ratio (the ratio between top and noil produced), and standard total fatty matter content (TF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TNY calculations (WB x with single figure allowances) are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lumberger Combed Dry (1.0%TFM) </a:t>
            </a:r>
            <a:r>
              <a:rPr b="0" lang="en-GB" sz="1200" spc="-1" strike="noStrike">
                <a:solidFill>
                  <a:srgbClr val="000000"/>
                </a:solidFill>
                <a:latin typeface="Times New Roman"/>
              </a:rPr>
              <a:t>	</a:t>
            </a:r>
            <a:r>
              <a:rPr b="0" lang="en-GB" sz="1200" spc="-1" strike="noStrike">
                <a:solidFill>
                  <a:srgbClr val="000000"/>
                </a:solidFill>
                <a:latin typeface="Times New Roman"/>
              </a:rPr>
              <a:t>WB x 1.20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lumberger Combed in Oil (4.6%TFM) </a:t>
            </a:r>
            <a:r>
              <a:rPr b="0" lang="en-GB" sz="1200" spc="-1" strike="noStrike">
                <a:solidFill>
                  <a:srgbClr val="000000"/>
                </a:solidFill>
                <a:latin typeface="Times New Roman"/>
              </a:rPr>
              <a:t>	</a:t>
            </a:r>
            <a:r>
              <a:rPr b="0" lang="en-GB" sz="1200" spc="-1" strike="noStrike">
                <a:solidFill>
                  <a:srgbClr val="000000"/>
                </a:solidFill>
                <a:latin typeface="Times New Roman"/>
              </a:rPr>
              <a:t>WB x 1.25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ble Combed in Oil (4.6%TFM) </a:t>
            </a:r>
            <a:r>
              <a:rPr b="0" lang="en-GB" sz="1200" spc="-1" strike="noStrike">
                <a:solidFill>
                  <a:srgbClr val="000000"/>
                </a:solidFill>
                <a:latin typeface="Times New Roman"/>
              </a:rPr>
              <a:t>	</a:t>
            </a:r>
            <a:r>
              <a:rPr b="0" lang="en-GB" sz="1200" spc="-1" strike="noStrike">
                <a:solidFill>
                  <a:srgbClr val="000000"/>
                </a:solidFill>
                <a:latin typeface="Times New Roman"/>
              </a:rPr>
              <a:t>WB x 1.2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ble Combed Dry (1.0%TFM) </a:t>
            </a:r>
            <a:r>
              <a:rPr b="0" lang="en-GB" sz="1200" spc="-1" strike="noStrike">
                <a:solidFill>
                  <a:srgbClr val="000000"/>
                </a:solidFill>
                <a:latin typeface="Times New Roman"/>
              </a:rPr>
              <a:t>	</a:t>
            </a:r>
            <a:r>
              <a:rPr b="0" lang="en-GB" sz="1200" spc="-1" strike="noStrike">
                <a:solidFill>
                  <a:srgbClr val="000000"/>
                </a:solidFill>
                <a:latin typeface="Times New Roman"/>
              </a:rPr>
              <a:t>WB x 1.205</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7706-801C-4247-B432-DB03EDA16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formula describes how the IWTO scoured Yield is deter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regain figure can be placed in the formula, which has a standard allowance for residues of 2.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one example of a Wool and Vegetable Matter Yield.  These apply to the scouring industry and the product they produce, scoured wo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D399-7C0A-409B-B6B9-403BFC115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1"/>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graph shows how the amount of wool removed during processing (VA or vegetable allowance) changes according to the amount of vegetable matter excluding hardheads and twigs (VM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llows a regression eq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 =  5.2  -       40.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8 + VM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 (vegetable allowance) is used to determine some commercial Yields as shown in the following slides.</a:t>
            </a:r>
            <a:endParaRPr b="0" lang="en-US" sz="1200" spc="-1" strike="noStrike">
              <a:solidFill>
                <a:srgbClr val="000000"/>
              </a:solidFill>
              <a:latin typeface="Times New Roman"/>
            </a:endParaRPr>
          </a:p>
        </p:txBody>
      </p:sp>
      <p:sp>
        <p:nvSpPr>
          <p:cNvPr id="180" name=""/>
          <p:cNvSpPr/>
          <p:nvPr/>
        </p:nvSpPr>
        <p:spPr>
          <a:xfrm>
            <a:off x="1371600" y="4800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PlaceHolder 2"/>
          <p:cNvSpPr>
            <a:spLocks noGrp="1"/>
          </p:cNvSpPr>
          <p:nvPr>
            <p:ph type="sldImg"/>
          </p:nvPr>
        </p:nvSpPr>
        <p:spPr>
          <a:xfrm>
            <a:off x="1562040" y="533520"/>
            <a:ext cx="3657600" cy="27432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8C3B-1350-498A-A2AC-64CAD8E33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562040" y="533520"/>
            <a:ext cx="3657600" cy="2743200"/>
          </a:xfrm>
          <a:prstGeom prst="rect">
            <a:avLst/>
          </a:prstGeom>
          <a:ln w="0">
            <a:noFill/>
          </a:ln>
        </p:spPr>
      </p:sp>
      <p:sp>
        <p:nvSpPr>
          <p:cNvPr id="1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Commercial Yield can be calculated by allowing for processing losses on the theoretical Yield.  This allowance is called the processing allowance (P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ing allowance (PA) increases as VA increases (see previous graph), and therefore the commercially obtainable Yield falls with increasing seed and shive and spiral burr (defined as VM1).  Hard heads and twigs don’t feature in this calculation.  The fear with hard heads and twigs is that they will actually damage sensitive card equipment rather than lead to fibre lo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ing allowance (PA) is a reflection of the likely fibre losses to be encountered in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Australian Carbonising Yield</a:t>
            </a:r>
            <a:r>
              <a:rPr b="0" lang="en-GB" sz="1200" spc="-1" strike="noStrike">
                <a:solidFill>
                  <a:srgbClr val="000000"/>
                </a:solidFill>
                <a:latin typeface="Times New Roman"/>
              </a:rPr>
              <a:t> (A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other example of a Commercial Yield.  This particular Yield has been derived from  regression trials whereby it has been found that Carbonising Yield varies with both Wool Base and Vegetable Matter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Yield obviously applies to the carbonising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Y = 1.1972 WB + 0.162 VMB -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rmula shows that for a constant WB, an increasing VMB will result in an increasing Yield.  This may seem unusual, but is really just a reflection of the efficiency of the VM removal during carbonising which falls as VMB increa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9293-1370-4C02-A7D2-F9E2D9D80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562040" y="533520"/>
            <a:ext cx="3657600" cy="2743200"/>
          </a:xfrm>
          <a:prstGeom prst="rect">
            <a:avLst/>
          </a:prstGeom>
          <a:ln w="0">
            <a:noFill/>
          </a:ln>
        </p:spPr>
      </p:sp>
      <p:sp>
        <p:nvSpPr>
          <p:cNvPr id="1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ous formulae and calculations and tables are described fully in the above standar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093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ield Determin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at is Yield?</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ss of usable wool fibre obtained from greasy wool after process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ous process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ur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Scoured Yiel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bonis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arbonising Yiel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ard Sliver Yield</a:t>
            </a:r>
            <a:r>
              <a:rPr b="1" lang="en-GB" sz="2400" spc="-1" strike="noStrike">
                <a:solidFill>
                  <a:srgbClr val="ffffff"/>
                </a:solidFill>
                <a:latin typeface="Arial"/>
              </a:rPr>
              <a:t>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mak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Top and Noil Yield</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ous Yield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ous allowance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Fibre Yield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Clean Wool Content (CW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as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alcohol extractab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regai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CWC = WB x  117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97.73</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at are the standard levels used in this determination?</a:t>
            </a:r>
            <a:endParaRPr b="1" lang="en-US" sz="2800" spc="-1" strike="noStrike">
              <a:solidFill>
                <a:srgbClr val="ffffff"/>
              </a:solidFill>
              <a:latin typeface="Arial"/>
            </a:endParaRPr>
          </a:p>
        </p:txBody>
      </p:sp>
      <p:sp>
        <p:nvSpPr>
          <p:cNvPr id="54" name=""/>
          <p:cNvSpPr/>
          <p:nvPr/>
        </p:nvSpPr>
        <p:spPr>
          <a:xfrm>
            <a:off x="4952880" y="33526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Wool Fibre Yield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Japanese Clean Scoured Yield (JCS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TM Clean Wool Fibre Pres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oretical Card Sliver Yiel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oretical Top and Noil Yiel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lumberger Combed Dry (SCH DR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lumberger Combed in Oi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ble Combed in Oi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ble Combed Dry</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4800600" y="2819520"/>
            <a:ext cx="119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and Vegetable Matter Yields</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Scoured Yield at R% regai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SCD (R%) = WB x 100+R</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97.73</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4102200" y="1303200"/>
            <a:ext cx="138420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219320" y="1066680"/>
            <a:ext cx="7772400" cy="463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294920" y="1120680"/>
            <a:ext cx="7587720" cy="4520520"/>
            <a:chOff x="1294920" y="1120680"/>
            <a:chExt cx="7587720" cy="4520520"/>
          </a:xfrm>
        </p:grpSpPr>
        <p:grpSp>
          <p:nvGrpSpPr>
            <p:cNvPr id="66" name=""/>
            <p:cNvGrpSpPr/>
            <p:nvPr/>
          </p:nvGrpSpPr>
          <p:grpSpPr>
            <a:xfrm>
              <a:off x="1294920" y="1322280"/>
              <a:ext cx="323280" cy="3837240"/>
              <a:chOff x="1294920" y="1322280"/>
              <a:chExt cx="323280" cy="3837240"/>
            </a:xfrm>
          </p:grpSpPr>
          <p:sp>
            <p:nvSpPr>
              <p:cNvPr id="67" name=""/>
              <p:cNvSpPr/>
              <p:nvPr/>
            </p:nvSpPr>
            <p:spPr>
              <a:xfrm>
                <a:off x="1294920" y="4765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68" name=""/>
              <p:cNvSpPr/>
              <p:nvPr/>
            </p:nvSpPr>
            <p:spPr>
              <a:xfrm>
                <a:off x="1294920" y="3902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69" name=""/>
              <p:cNvSpPr/>
              <p:nvPr/>
            </p:nvSpPr>
            <p:spPr>
              <a:xfrm>
                <a:off x="1294920" y="3043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70" name=""/>
              <p:cNvSpPr/>
              <p:nvPr/>
            </p:nvSpPr>
            <p:spPr>
              <a:xfrm>
                <a:off x="1294920" y="2181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Times New Roman"/>
                </a:endParaRPr>
              </a:p>
            </p:txBody>
          </p:sp>
          <p:sp>
            <p:nvSpPr>
              <p:cNvPr id="71" name=""/>
              <p:cNvSpPr/>
              <p:nvPr/>
            </p:nvSpPr>
            <p:spPr>
              <a:xfrm>
                <a:off x="1294920" y="1322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grpSp>
        <p:grpSp>
          <p:nvGrpSpPr>
            <p:cNvPr id="72" name=""/>
            <p:cNvGrpSpPr/>
            <p:nvPr/>
          </p:nvGrpSpPr>
          <p:grpSpPr>
            <a:xfrm>
              <a:off x="1484280" y="1120680"/>
              <a:ext cx="7398360" cy="4520520"/>
              <a:chOff x="1484280" y="1120680"/>
              <a:chExt cx="7398360" cy="4520520"/>
            </a:xfrm>
          </p:grpSpPr>
          <p:sp>
            <p:nvSpPr>
              <p:cNvPr id="73" name=""/>
              <p:cNvSpPr/>
              <p:nvPr/>
            </p:nvSpPr>
            <p:spPr>
              <a:xfrm>
                <a:off x="160452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74" name=""/>
              <p:cNvSpPr/>
              <p:nvPr/>
            </p:nvSpPr>
            <p:spPr>
              <a:xfrm>
                <a:off x="194904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75" name=""/>
              <p:cNvSpPr/>
              <p:nvPr/>
            </p:nvSpPr>
            <p:spPr>
              <a:xfrm>
                <a:off x="229356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76" name=""/>
              <p:cNvSpPr/>
              <p:nvPr/>
            </p:nvSpPr>
            <p:spPr>
              <a:xfrm>
                <a:off x="263664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Times New Roman"/>
                </a:endParaRPr>
              </a:p>
            </p:txBody>
          </p:sp>
          <p:sp>
            <p:nvSpPr>
              <p:cNvPr id="77" name=""/>
              <p:cNvSpPr/>
              <p:nvPr/>
            </p:nvSpPr>
            <p:spPr>
              <a:xfrm>
                <a:off x="298260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78" name=""/>
              <p:cNvSpPr/>
              <p:nvPr/>
            </p:nvSpPr>
            <p:spPr>
              <a:xfrm>
                <a:off x="332712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79" name=""/>
              <p:cNvSpPr/>
              <p:nvPr/>
            </p:nvSpPr>
            <p:spPr>
              <a:xfrm>
                <a:off x="366984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80" name=""/>
              <p:cNvSpPr/>
              <p:nvPr/>
            </p:nvSpPr>
            <p:spPr>
              <a:xfrm>
                <a:off x="401292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a:t>
                </a:r>
                <a:endParaRPr b="0" lang="en-US" sz="2000" spc="-1" strike="noStrike">
                  <a:solidFill>
                    <a:srgbClr val="000000"/>
                  </a:solidFill>
                  <a:latin typeface="Times New Roman"/>
                </a:endParaRPr>
              </a:p>
            </p:txBody>
          </p:sp>
          <p:sp>
            <p:nvSpPr>
              <p:cNvPr id="81" name=""/>
              <p:cNvSpPr/>
              <p:nvPr/>
            </p:nvSpPr>
            <p:spPr>
              <a:xfrm>
                <a:off x="435888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82" name=""/>
              <p:cNvSpPr/>
              <p:nvPr/>
            </p:nvSpPr>
            <p:spPr>
              <a:xfrm>
                <a:off x="470340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a:t>
                </a:r>
                <a:endParaRPr b="0" lang="en-US" sz="2000" spc="-1" strike="noStrike">
                  <a:solidFill>
                    <a:srgbClr val="000000"/>
                  </a:solidFill>
                  <a:latin typeface="Times New Roman"/>
                </a:endParaRPr>
              </a:p>
            </p:txBody>
          </p:sp>
          <p:sp>
            <p:nvSpPr>
              <p:cNvPr id="83" name=""/>
              <p:cNvSpPr/>
              <p:nvPr/>
            </p:nvSpPr>
            <p:spPr>
              <a:xfrm>
                <a:off x="497484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84" name=""/>
              <p:cNvSpPr/>
              <p:nvPr/>
            </p:nvSpPr>
            <p:spPr>
              <a:xfrm>
                <a:off x="532224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a:t>
                </a:r>
                <a:endParaRPr b="0" lang="en-US" sz="2000" spc="-1" strike="noStrike">
                  <a:solidFill>
                    <a:srgbClr val="000000"/>
                  </a:solidFill>
                  <a:latin typeface="Times New Roman"/>
                </a:endParaRPr>
              </a:p>
            </p:txBody>
          </p:sp>
          <p:sp>
            <p:nvSpPr>
              <p:cNvPr id="85" name=""/>
              <p:cNvSpPr/>
              <p:nvPr/>
            </p:nvSpPr>
            <p:spPr>
              <a:xfrm>
                <a:off x="566532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a:t>
                </a:r>
                <a:endParaRPr b="0" lang="en-US" sz="2000" spc="-1" strike="noStrike">
                  <a:solidFill>
                    <a:srgbClr val="000000"/>
                  </a:solidFill>
                  <a:latin typeface="Times New Roman"/>
                </a:endParaRPr>
              </a:p>
            </p:txBody>
          </p:sp>
          <p:sp>
            <p:nvSpPr>
              <p:cNvPr id="86" name=""/>
              <p:cNvSpPr/>
              <p:nvPr/>
            </p:nvSpPr>
            <p:spPr>
              <a:xfrm>
                <a:off x="600660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3</a:t>
                </a:r>
                <a:endParaRPr b="0" lang="en-US" sz="2000" spc="-1" strike="noStrike">
                  <a:solidFill>
                    <a:srgbClr val="000000"/>
                  </a:solidFill>
                  <a:latin typeface="Times New Roman"/>
                </a:endParaRPr>
              </a:p>
            </p:txBody>
          </p:sp>
          <p:sp>
            <p:nvSpPr>
              <p:cNvPr id="87" name=""/>
              <p:cNvSpPr/>
              <p:nvPr/>
            </p:nvSpPr>
            <p:spPr>
              <a:xfrm>
                <a:off x="635436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4</a:t>
                </a:r>
                <a:endParaRPr b="0" lang="en-US" sz="2000" spc="-1" strike="noStrike">
                  <a:solidFill>
                    <a:srgbClr val="000000"/>
                  </a:solidFill>
                  <a:latin typeface="Times New Roman"/>
                </a:endParaRPr>
              </a:p>
            </p:txBody>
          </p:sp>
          <p:sp>
            <p:nvSpPr>
              <p:cNvPr id="88" name=""/>
              <p:cNvSpPr/>
              <p:nvPr/>
            </p:nvSpPr>
            <p:spPr>
              <a:xfrm>
                <a:off x="669888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89" name=""/>
              <p:cNvSpPr/>
              <p:nvPr/>
            </p:nvSpPr>
            <p:spPr>
              <a:xfrm>
                <a:off x="704484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6</a:t>
                </a:r>
                <a:endParaRPr b="0" lang="en-US" sz="2000" spc="-1" strike="noStrike">
                  <a:solidFill>
                    <a:srgbClr val="000000"/>
                  </a:solidFill>
                  <a:latin typeface="Times New Roman"/>
                </a:endParaRPr>
              </a:p>
            </p:txBody>
          </p:sp>
          <p:sp>
            <p:nvSpPr>
              <p:cNvPr id="90" name=""/>
              <p:cNvSpPr/>
              <p:nvPr/>
            </p:nvSpPr>
            <p:spPr>
              <a:xfrm>
                <a:off x="738612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7</a:t>
                </a:r>
                <a:endParaRPr b="0" lang="en-US" sz="2000" spc="-1" strike="noStrike">
                  <a:solidFill>
                    <a:srgbClr val="000000"/>
                  </a:solidFill>
                  <a:latin typeface="Times New Roman"/>
                </a:endParaRPr>
              </a:p>
            </p:txBody>
          </p:sp>
          <p:sp>
            <p:nvSpPr>
              <p:cNvPr id="91" name=""/>
              <p:cNvSpPr/>
              <p:nvPr/>
            </p:nvSpPr>
            <p:spPr>
              <a:xfrm>
                <a:off x="773064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a:t>
                </a:r>
                <a:endParaRPr b="0" lang="en-US" sz="2000" spc="-1" strike="noStrike">
                  <a:solidFill>
                    <a:srgbClr val="000000"/>
                  </a:solidFill>
                  <a:latin typeface="Times New Roman"/>
                </a:endParaRPr>
              </a:p>
            </p:txBody>
          </p:sp>
          <p:sp>
            <p:nvSpPr>
              <p:cNvPr id="92" name=""/>
              <p:cNvSpPr/>
              <p:nvPr/>
            </p:nvSpPr>
            <p:spPr>
              <a:xfrm>
                <a:off x="807516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a:t>
                </a:r>
                <a:endParaRPr b="0" lang="en-US" sz="2000" spc="-1" strike="noStrike">
                  <a:solidFill>
                    <a:srgbClr val="000000"/>
                  </a:solidFill>
                  <a:latin typeface="Times New Roman"/>
                </a:endParaRPr>
              </a:p>
            </p:txBody>
          </p:sp>
          <p:sp>
            <p:nvSpPr>
              <p:cNvPr id="93" name=""/>
              <p:cNvSpPr/>
              <p:nvPr/>
            </p:nvSpPr>
            <p:spPr>
              <a:xfrm>
                <a:off x="841788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94" name=""/>
              <p:cNvSpPr/>
              <p:nvPr/>
            </p:nvSpPr>
            <p:spPr>
              <a:xfrm>
                <a:off x="1751040" y="1711440"/>
                <a:ext cx="6888240" cy="3220920"/>
              </a:xfrm>
              <a:custGeom>
                <a:avLst/>
                <a:gdLst/>
                <a:ahLst/>
                <a:rect l="l" t="t" r="r" b="b"/>
                <a:pathLst>
                  <a:path w="5146" h="2402">
                    <a:moveTo>
                      <a:pt x="0" y="2401"/>
                    </a:moveTo>
                    <a:lnTo>
                      <a:pt x="257" y="2022"/>
                    </a:lnTo>
                    <a:lnTo>
                      <a:pt x="515" y="1721"/>
                    </a:lnTo>
                    <a:lnTo>
                      <a:pt x="772" y="1477"/>
                    </a:lnTo>
                    <a:lnTo>
                      <a:pt x="1029" y="1271"/>
                    </a:lnTo>
                    <a:lnTo>
                      <a:pt x="1286" y="1098"/>
                    </a:lnTo>
                    <a:lnTo>
                      <a:pt x="1544" y="951"/>
                    </a:lnTo>
                    <a:lnTo>
                      <a:pt x="1801" y="822"/>
                    </a:lnTo>
                    <a:lnTo>
                      <a:pt x="2058" y="712"/>
                    </a:lnTo>
                    <a:lnTo>
                      <a:pt x="2315" y="617"/>
                    </a:lnTo>
                    <a:lnTo>
                      <a:pt x="2573" y="527"/>
                    </a:lnTo>
                    <a:lnTo>
                      <a:pt x="2830" y="450"/>
                    </a:lnTo>
                    <a:lnTo>
                      <a:pt x="3087" y="379"/>
                    </a:lnTo>
                    <a:lnTo>
                      <a:pt x="3344" y="315"/>
                    </a:lnTo>
                    <a:lnTo>
                      <a:pt x="3602" y="258"/>
                    </a:lnTo>
                    <a:lnTo>
                      <a:pt x="3859" y="206"/>
                    </a:lnTo>
                    <a:lnTo>
                      <a:pt x="4116" y="161"/>
                    </a:lnTo>
                    <a:lnTo>
                      <a:pt x="4373" y="116"/>
                    </a:lnTo>
                    <a:lnTo>
                      <a:pt x="4631" y="71"/>
                    </a:lnTo>
                    <a:lnTo>
                      <a:pt x="4888" y="32"/>
                    </a:lnTo>
                    <a:lnTo>
                      <a:pt x="5145" y="0"/>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92360" y="4869000"/>
                <a:ext cx="120600" cy="12528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036880" y="4361040"/>
                <a:ext cx="122040" cy="12672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381400" y="3956040"/>
                <a:ext cx="120600" cy="12708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725560" y="3629160"/>
                <a:ext cx="120960" cy="12672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68640" y="3354480"/>
                <a:ext cx="120600" cy="12528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3160" y="3122640"/>
                <a:ext cx="120600" cy="12528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755880" y="2924280"/>
                <a:ext cx="122400" cy="12528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103640" y="2752560"/>
                <a:ext cx="120600" cy="12564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446720" y="2606760"/>
                <a:ext cx="120600" cy="12528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791240" y="2478240"/>
                <a:ext cx="122040" cy="123840"/>
              </a:xfrm>
              <a:custGeom>
                <a:avLst/>
                <a:gdLst/>
                <a:ahLst/>
                <a:rect l="l" t="t" r="r" b="b"/>
                <a:pathLst>
                  <a:path w="91" h="93">
                    <a:moveTo>
                      <a:pt x="0" y="92"/>
                    </a:moveTo>
                    <a:lnTo>
                      <a:pt x="0" y="0"/>
                    </a:lnTo>
                    <a:lnTo>
                      <a:pt x="90" y="0"/>
                    </a:lnTo>
                    <a:lnTo>
                      <a:pt x="90" y="92"/>
                    </a:lnTo>
                    <a:lnTo>
                      <a:pt x="0" y="92"/>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133960" y="2355840"/>
                <a:ext cx="120600" cy="12528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477040" y="2252520"/>
                <a:ext cx="122040" cy="12564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823000" y="2160720"/>
                <a:ext cx="120600" cy="123840"/>
              </a:xfrm>
              <a:custGeom>
                <a:avLst/>
                <a:gdLst/>
                <a:ahLst/>
                <a:rect l="l" t="t" r="r" b="b"/>
                <a:pathLst>
                  <a:path w="90" h="93">
                    <a:moveTo>
                      <a:pt x="0" y="92"/>
                    </a:moveTo>
                    <a:lnTo>
                      <a:pt x="0" y="0"/>
                    </a:lnTo>
                    <a:lnTo>
                      <a:pt x="89" y="0"/>
                    </a:lnTo>
                    <a:lnTo>
                      <a:pt x="89" y="92"/>
                    </a:lnTo>
                    <a:lnTo>
                      <a:pt x="0" y="92"/>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167520" y="2073240"/>
                <a:ext cx="120600" cy="123840"/>
              </a:xfrm>
              <a:custGeom>
                <a:avLst/>
                <a:gdLst/>
                <a:ahLst/>
                <a:rect l="l" t="t" r="r" b="b"/>
                <a:pathLst>
                  <a:path w="91" h="93">
                    <a:moveTo>
                      <a:pt x="0" y="92"/>
                    </a:moveTo>
                    <a:lnTo>
                      <a:pt x="0" y="0"/>
                    </a:lnTo>
                    <a:lnTo>
                      <a:pt x="90" y="0"/>
                    </a:lnTo>
                    <a:lnTo>
                      <a:pt x="90" y="92"/>
                    </a:lnTo>
                    <a:lnTo>
                      <a:pt x="0" y="92"/>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12040" y="1995480"/>
                <a:ext cx="122040" cy="12528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856560" y="1927080"/>
                <a:ext cx="120600" cy="12564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99280" y="1866960"/>
                <a:ext cx="120600" cy="123840"/>
              </a:xfrm>
              <a:custGeom>
                <a:avLst/>
                <a:gdLst/>
                <a:ahLst/>
                <a:rect l="l" t="t" r="r" b="b"/>
                <a:pathLst>
                  <a:path w="90" h="93">
                    <a:moveTo>
                      <a:pt x="0" y="92"/>
                    </a:moveTo>
                    <a:lnTo>
                      <a:pt x="0" y="0"/>
                    </a:lnTo>
                    <a:lnTo>
                      <a:pt x="89" y="0"/>
                    </a:lnTo>
                    <a:lnTo>
                      <a:pt x="89" y="92"/>
                    </a:lnTo>
                    <a:lnTo>
                      <a:pt x="0" y="92"/>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1806480"/>
                <a:ext cx="122400" cy="12564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888320" y="1744560"/>
                <a:ext cx="120600" cy="12564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232840" y="1693800"/>
                <a:ext cx="120600" cy="12708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578800" y="1650960"/>
                <a:ext cx="120600" cy="125280"/>
              </a:xfrm>
              <a:custGeom>
                <a:avLst/>
                <a:gdLst/>
                <a:ahLst/>
                <a:rect l="l" t="t" r="r" b="b"/>
                <a:pathLst>
                  <a:path w="91" h="93">
                    <a:moveTo>
                      <a:pt x="0" y="92"/>
                    </a:moveTo>
                    <a:lnTo>
                      <a:pt x="0" y="0"/>
                    </a:lnTo>
                    <a:lnTo>
                      <a:pt x="90" y="0"/>
                    </a:lnTo>
                    <a:lnTo>
                      <a:pt x="90" y="92"/>
                    </a:lnTo>
                    <a:lnTo>
                      <a:pt x="0" y="92"/>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669040" y="5186520"/>
                <a:ext cx="607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M1 % (excluding hard heads and twigs)</a:t>
                </a:r>
                <a:endParaRPr b="0" lang="en-US" sz="2400" spc="-1" strike="noStrike">
                  <a:solidFill>
                    <a:srgbClr val="000000"/>
                  </a:solidFill>
                  <a:latin typeface="Times New Roman"/>
                </a:endParaRPr>
              </a:p>
            </p:txBody>
          </p:sp>
          <p:sp>
            <p:nvSpPr>
              <p:cNvPr id="117" name=""/>
              <p:cNvSpPr/>
              <p:nvPr/>
            </p:nvSpPr>
            <p:spPr>
              <a:xfrm>
                <a:off x="1484280" y="1120680"/>
                <a:ext cx="830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A %</a:t>
                </a:r>
                <a:endParaRPr b="0" lang="en-US" sz="2000" spc="-1" strike="noStrike">
                  <a:solidFill>
                    <a:srgbClr val="000000"/>
                  </a:solidFill>
                  <a:latin typeface="Times New Roman"/>
                </a:endParaRPr>
              </a:p>
            </p:txBody>
          </p:sp>
          <p:sp>
            <p:nvSpPr>
              <p:cNvPr id="118" name=""/>
              <p:cNvSpPr/>
              <p:nvPr/>
            </p:nvSpPr>
            <p:spPr>
              <a:xfrm flipV="1">
                <a:off x="175104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9556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244152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78460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312912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347328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81780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416232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450540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84992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19588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553896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88312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622620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657216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691668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25976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60428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794844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829296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863748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609560" y="45007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609560" y="36399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09560" y="2781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09560" y="19191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609560" y="49309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9560" y="40687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609560" y="32097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09560" y="23493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09560" y="14889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598760" y="1488960"/>
                <a:ext cx="7194240" cy="3443400"/>
              </a:xfrm>
              <a:custGeom>
                <a:avLst/>
                <a:gdLst/>
                <a:ahLst/>
                <a:rect l="l" t="t" r="r" b="b"/>
                <a:pathLst>
                  <a:path w="5376" h="2568">
                    <a:moveTo>
                      <a:pt x="5375" y="0"/>
                    </a:moveTo>
                    <a:lnTo>
                      <a:pt x="0" y="0"/>
                    </a:lnTo>
                    <a:lnTo>
                      <a:pt x="0" y="2567"/>
                    </a:lnTo>
                    <a:lnTo>
                      <a:pt x="5375" y="2567"/>
                    </a:lnTo>
                    <a:lnTo>
                      <a:pt x="53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9"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Loss (VA) vs. VM1</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mercial Yields</a:t>
            </a:r>
            <a:endParaRPr b="1" lang="en-US" sz="3200" spc="-1" strike="noStrike">
              <a:solidFill>
                <a:srgbClr val="fafd00"/>
              </a:solidFill>
              <a:latin typeface="Arial"/>
            </a:endParaRPr>
          </a:p>
        </p:txBody>
      </p:sp>
      <p:sp>
        <p:nvSpPr>
          <p:cNvPr id="1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 Theoretical Yield - Processing Allowance (PA)</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lumberger</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400" spc="-1" strike="noStrike">
                <a:solidFill>
                  <a:srgbClr val="ffffff"/>
                </a:solidFill>
                <a:latin typeface="Arial"/>
              </a:rPr>
              <a:t>PA % = 2.5 + VA</a:t>
            </a:r>
            <a:endParaRPr b="1" lang="en-US" sz="2400" spc="-1" strike="noStrike">
              <a:solidFill>
                <a:srgbClr val="ffffff"/>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ble</a:t>
            </a:r>
            <a:endParaRPr b="1"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PA % = 2.0 + VA</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stralian Carbonising Yield</a:t>
            </a:r>
            <a:endParaRPr b="1" lang="en-US" sz="2400" spc="-1" strike="noStrike">
              <a:solidFill>
                <a:srgbClr val="ffffff"/>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Y = 1.1972 WB + 0.162 V - 5.12</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156"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19 - 95 (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wool base &amp; vegetable matter base of core samples of raw wool.</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NZS 1134 (1997)</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wool base &amp; vegetable matter base of core samples of raw wool.</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Core Test Regulation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1:16:51Z</dcterms:created>
  <dc:creator>USER</dc:creator>
  <dc:description/>
  <dc:language>en-US</dc:language>
  <cp:lastModifiedBy>USER</cp:lastModifiedBy>
  <cp:lastPrinted>2000-02-03T09:09:47Z</cp:lastPrinted>
  <dcterms:modified xsi:type="dcterms:W3CDTF">2000-04-13T05:31:37Z</dcterms:modified>
  <cp:revision>3</cp:revision>
  <dc:subject/>
  <dc:title>Yield Determination</dc:title>
</cp:coreProperties>
</file>