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5417D-E587-4F65-8391-988DFF5DA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435E-1508-4CE1-99AC-1B4A4A416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the concept of handle, this being the tactile properties of wool fibre. The role of fibre diameter and fibre curvature or crimp in determining handle is discussed. The relationship between diameter and curvature (crimp) is also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B82C-5A02-4B10-849E-D8E54C657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ndle is a term used to describe the tactile aspects of fibre and fabric.  It has both textural and compressional components.  Fibre diameter exerts a strong influence on the textural properties of the fibre whereas crimp frequency (and fibre curvature) exert a strong influence on the compressional properties of the fibre.  Handle is, therefore, in part a function of diameter and crim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Stevens, D. (1994). </a:t>
            </a:r>
            <a:r>
              <a:rPr b="0" lang="en-US" sz="1200" spc="-1" strike="noStrike">
                <a:solidFill>
                  <a:srgbClr val="000000"/>
                </a:solidFill>
                <a:latin typeface="Times New Roman"/>
              </a:rPr>
              <a:t>In “WOOLSPEC94: Specification of Australian Wool and its Implications for Marketing and Processing”. CSIRO Division of Wool Technology, H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3122E-0A1C-494F-BCE6-33D1A97C6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tevens, D. (1994). </a:t>
            </a:r>
            <a:r>
              <a:rPr b="0" lang="en-US" sz="1200" spc="-1" strike="noStrike">
                <a:solidFill>
                  <a:srgbClr val="000000"/>
                </a:solidFill>
                <a:latin typeface="Times New Roman"/>
              </a:rPr>
              <a:t>In “WOOLSPEC94: Specification of Australian Wool and its Implications for Marketing and Processing”. CSIRO Division of Wool Technology, H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 a mob of sheep, finer fleeces tend to feel softer than higher diameter fleeces.  At the same diameter, lower crimp frequencies tend to give a softer handle compared to higher crimp frequencies.  On this basis, the preferred combination from a handle point of view would be low micron and low crimp (curvature).  However, there is a trend for increasing crimp frequency with decreasing diameter within a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The relationship between fibre diameter and crimp curvature in fine and medium woo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 The expected spread in handle scores if softness were due to diameter alo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 The expected spread in handle scores if softness were due to crimp alo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 The actual spread in handle scor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FC3A-88CE-4E42-8292-E6E0F8BB3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tevens, D. (1994). </a:t>
            </a:r>
            <a:r>
              <a:rPr b="0" lang="en-US" sz="1200" spc="-1" strike="noStrike">
                <a:solidFill>
                  <a:srgbClr val="000000"/>
                </a:solidFill>
                <a:latin typeface="Times New Roman"/>
              </a:rPr>
              <a:t>In “WOOLSPEC94: Specification of Australian Wool and its Implications for Marketing and Processing”. CSIRO Division of Wool Technology, H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 a mob of sheep, finer fleeces tend to feel softer than higher diameter fleeces.  At the same diameter, lower crimp frequencies tend to give a softer handle compared to higher crimp frequencies.  On this basis, the preferred combination from a handle point of view would be low micron and low crimp (curvature).  However, there is a trend for increasing crimp frequency with decreasing diameter within a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76D58-5270-4945-B070-D6BDDDFC2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562040" y="533520"/>
            <a:ext cx="3657600" cy="2743200"/>
          </a:xfrm>
          <a:prstGeom prst="rect">
            <a:avLst/>
          </a:prstGeom>
          <a:ln w="0">
            <a:noFill/>
          </a:ln>
        </p:spPr>
      </p:sp>
      <p:sp>
        <p:nvSpPr>
          <p:cNvPr id="106"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fluence of fibre diameter and fibre crimp on wool handle can best be explained by considering a coiled spring.  Taking the first two springs in this figure, they are of similar levels of coiling, but one is of finer diameter than the other.  This spring would require less force to compress it.  Comparing the second and third springs, which are of similar diameter, the second one has fewer turns in the coil.  This will allow it to be more easily compressed than the third sp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at similar levels of fibre crimp, finer fibres are more easily compressed.  And at similar fibre diameters, lower crimped fibres are more easily compressed.  Thus having finer diameter and lower crimp should confer improved handle to the wool.  As a general trend, though, fibre crimp increases as fibre diameter decreases.  So the “softer than average” individuals are those who go against the trend, by having a level of crimp lower than expected given their diame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and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388880" y="1143000"/>
            <a:ext cx="147240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ffff99"/>
                </a:solidFill>
                <a:uFillTx/>
                <a:latin typeface="Arial"/>
              </a:rPr>
              <a:t>Texture</a:t>
            </a:r>
            <a:endParaRPr b="0" lang="en-US" sz="3000" spc="-1" strike="noStrike">
              <a:solidFill>
                <a:srgbClr val="000000"/>
              </a:solidFill>
              <a:latin typeface="Times New Roman"/>
            </a:endParaRPr>
          </a:p>
        </p:txBody>
      </p:sp>
      <p:sp>
        <p:nvSpPr>
          <p:cNvPr id="50" name=""/>
          <p:cNvSpPr/>
          <p:nvPr/>
        </p:nvSpPr>
        <p:spPr>
          <a:xfrm>
            <a:off x="5501160" y="1143000"/>
            <a:ext cx="242640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ffff99"/>
                </a:solidFill>
                <a:uFillTx/>
                <a:latin typeface="Arial"/>
              </a:rPr>
              <a:t>Compression</a:t>
            </a:r>
            <a:endParaRPr b="0" lang="en-US" sz="3000" spc="-1" strike="noStrike">
              <a:solidFill>
                <a:srgbClr val="000000"/>
              </a:solidFill>
              <a:latin typeface="Times New Roman"/>
            </a:endParaRPr>
          </a:p>
        </p:txBody>
      </p:sp>
      <p:sp>
        <p:nvSpPr>
          <p:cNvPr id="51" name=""/>
          <p:cNvSpPr/>
          <p:nvPr/>
        </p:nvSpPr>
        <p:spPr>
          <a:xfrm>
            <a:off x="7233480" y="6327720"/>
            <a:ext cx="17892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evens (1994)</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914400" y="75960"/>
            <a:ext cx="7215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andle</a:t>
            </a:r>
            <a:endParaRPr b="1" lang="en-US" sz="3200" spc="-1" strike="noStrike">
              <a:solidFill>
                <a:srgbClr val="fafd00"/>
              </a:solidFill>
              <a:latin typeface="Arial"/>
            </a:endParaRPr>
          </a:p>
        </p:txBody>
      </p:sp>
      <p:sp>
        <p:nvSpPr>
          <p:cNvPr id="53" name="PlaceHolder 2"/>
          <p:cNvSpPr>
            <a:spLocks noGrp="1"/>
          </p:cNvSpPr>
          <p:nvPr>
            <p:ph/>
          </p:nvPr>
        </p:nvSpPr>
        <p:spPr>
          <a:xfrm>
            <a:off x="1282320" y="1828800"/>
            <a:ext cx="3886200" cy="41148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JO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an diameter</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NO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iameter vari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damag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surfa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rimp</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ease, dust, VM</a:t>
            </a:r>
            <a:endParaRPr b="1" lang="en-US" sz="2000" spc="-1" strike="noStrike">
              <a:solidFill>
                <a:srgbClr val="ffffff"/>
              </a:solidFill>
              <a:latin typeface="Arial"/>
            </a:endParaRPr>
          </a:p>
        </p:txBody>
      </p:sp>
      <p:sp>
        <p:nvSpPr>
          <p:cNvPr id="54" name="PlaceHolder 3"/>
          <p:cNvSpPr>
            <a:spLocks noGrp="1"/>
          </p:cNvSpPr>
          <p:nvPr>
            <p:ph/>
          </p:nvPr>
        </p:nvSpPr>
        <p:spPr>
          <a:xfrm>
            <a:off x="5473800" y="1828800"/>
            <a:ext cx="3517920" cy="41148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JO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rimp frequency</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NO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an diame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eas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ple pliability (crimp definition)</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5" name=""/>
          <p:cNvGrpSpPr/>
          <p:nvPr/>
        </p:nvGrpSpPr>
        <p:grpSpPr>
          <a:xfrm>
            <a:off x="1295280" y="1371600"/>
            <a:ext cx="6167520" cy="4402080"/>
            <a:chOff x="1295280" y="1371600"/>
            <a:chExt cx="6167520" cy="4402080"/>
          </a:xfrm>
        </p:grpSpPr>
        <p:pic>
          <p:nvPicPr>
            <p:cNvPr id="56" name="handle%201" descr=""/>
            <p:cNvPicPr/>
            <p:nvPr/>
          </p:nvPicPr>
          <p:blipFill>
            <a:blip r:embed="rId1"/>
            <a:stretch/>
          </p:blipFill>
          <p:spPr>
            <a:xfrm>
              <a:off x="1295280" y="1371600"/>
              <a:ext cx="6167520" cy="4402080"/>
            </a:xfrm>
            <a:prstGeom prst="rect">
              <a:avLst/>
            </a:prstGeom>
            <a:ln w="0">
              <a:noFill/>
            </a:ln>
          </p:spPr>
        </p:pic>
        <p:sp>
          <p:nvSpPr>
            <p:cNvPr id="57" name=""/>
            <p:cNvSpPr/>
            <p:nvPr/>
          </p:nvSpPr>
          <p:spPr>
            <a:xfrm>
              <a:off x="2209680" y="4724280"/>
              <a:ext cx="1143000" cy="381240"/>
            </a:xfrm>
            <a:prstGeom prst="ellipse">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105160" y="1981080"/>
              <a:ext cx="762120" cy="685800"/>
            </a:xfrm>
            <a:prstGeom prst="ellipse">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867280" y="2286000"/>
              <a:ext cx="762120" cy="685800"/>
            </a:xfrm>
            <a:prstGeom prst="ellipse">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828800" y="4267080"/>
              <a:ext cx="1143000" cy="381240"/>
            </a:xfrm>
            <a:prstGeom prst="ellipse">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33760" y="4038480"/>
              <a:ext cx="1752840" cy="990720"/>
            </a:xfrm>
            <a:custGeom>
              <a:avLst/>
              <a:gdLst/>
              <a:ahLst/>
              <a:rect l="l" t="t" r="r" b="b"/>
              <a:pathLst>
                <a:path w="1104" h="624">
                  <a:moveTo>
                    <a:pt x="0" y="288"/>
                  </a:moveTo>
                  <a:lnTo>
                    <a:pt x="48" y="192"/>
                  </a:lnTo>
                  <a:lnTo>
                    <a:pt x="192" y="144"/>
                  </a:lnTo>
                  <a:lnTo>
                    <a:pt x="240" y="0"/>
                  </a:lnTo>
                  <a:cubicBezTo>
                    <a:pt x="304" y="64"/>
                    <a:pt x="367" y="129"/>
                    <a:pt x="432" y="192"/>
                  </a:cubicBezTo>
                  <a:cubicBezTo>
                    <a:pt x="441" y="200"/>
                    <a:pt x="461" y="214"/>
                    <a:pt x="461" y="214"/>
                  </a:cubicBezTo>
                  <a:lnTo>
                    <a:pt x="576" y="240"/>
                  </a:lnTo>
                  <a:lnTo>
                    <a:pt x="720" y="336"/>
                  </a:lnTo>
                  <a:lnTo>
                    <a:pt x="1104" y="624"/>
                  </a:lnTo>
                  <a:lnTo>
                    <a:pt x="576" y="576"/>
                  </a:lnTo>
                  <a:lnTo>
                    <a:pt x="336" y="528"/>
                  </a:lnTo>
                  <a:lnTo>
                    <a:pt x="336" y="432"/>
                  </a:lnTo>
                  <a:lnTo>
                    <a:pt x="0" y="288"/>
                  </a:lnTo>
                  <a:close/>
                </a:path>
              </a:pathLst>
            </a:custGeom>
            <a:solidFill>
              <a:srgbClr val="ffff99"/>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952880" y="4267080"/>
              <a:ext cx="1600200" cy="762120"/>
            </a:xfrm>
            <a:custGeom>
              <a:avLst/>
              <a:gdLst/>
              <a:ahLst/>
              <a:rect l="l" t="t" r="r" b="b"/>
              <a:pathLst>
                <a:path w="1008" h="480">
                  <a:moveTo>
                    <a:pt x="0" y="288"/>
                  </a:moveTo>
                  <a:lnTo>
                    <a:pt x="144" y="0"/>
                  </a:lnTo>
                  <a:lnTo>
                    <a:pt x="240" y="96"/>
                  </a:lnTo>
                  <a:lnTo>
                    <a:pt x="432" y="96"/>
                  </a:lnTo>
                  <a:lnTo>
                    <a:pt x="768" y="288"/>
                  </a:lnTo>
                  <a:lnTo>
                    <a:pt x="672" y="336"/>
                  </a:lnTo>
                  <a:lnTo>
                    <a:pt x="1008" y="432"/>
                  </a:lnTo>
                  <a:lnTo>
                    <a:pt x="672" y="480"/>
                  </a:lnTo>
                  <a:lnTo>
                    <a:pt x="336" y="384"/>
                  </a:lnTo>
                  <a:lnTo>
                    <a:pt x="0" y="288"/>
                  </a:lnTo>
                  <a:close/>
                </a:path>
              </a:pathLst>
            </a:custGeom>
            <a:solidFill>
              <a:srgbClr val="3333cc"/>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7772400" y="3657600"/>
            <a:ext cx="457200" cy="3808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96080" y="1600200"/>
            <a:ext cx="457200" cy="38088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756560" y="1981080"/>
            <a:ext cx="138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er than average</a:t>
            </a:r>
            <a:endParaRPr b="0" lang="en-US" sz="1800" spc="-1" strike="noStrike">
              <a:solidFill>
                <a:srgbClr val="000000"/>
              </a:solidFill>
              <a:latin typeface="Times New Roman"/>
            </a:endParaRPr>
          </a:p>
        </p:txBody>
      </p:sp>
      <p:sp>
        <p:nvSpPr>
          <p:cNvPr id="66" name=""/>
          <p:cNvSpPr/>
          <p:nvPr/>
        </p:nvSpPr>
        <p:spPr>
          <a:xfrm>
            <a:off x="7756560" y="4038480"/>
            <a:ext cx="138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sher than average</a:t>
            </a:r>
            <a:endParaRPr b="0" lang="en-US" sz="1800" spc="-1" strike="noStrike">
              <a:solidFill>
                <a:srgbClr val="000000"/>
              </a:solidFill>
              <a:latin typeface="Times New Roman"/>
            </a:endParaRPr>
          </a:p>
        </p:txBody>
      </p:sp>
      <p:sp>
        <p:nvSpPr>
          <p:cNvPr id="67" name=""/>
          <p:cNvSpPr/>
          <p:nvPr/>
        </p:nvSpPr>
        <p:spPr>
          <a:xfrm>
            <a:off x="7233480" y="6327720"/>
            <a:ext cx="17892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evens (1994)</a:t>
            </a:r>
            <a:endParaRPr b="0" lang="en-US" sz="1200" spc="-1" strike="noStrike">
              <a:solidFill>
                <a:srgbClr val="000000"/>
              </a:solidFill>
              <a:latin typeface="Times New Roman"/>
            </a:endParaRPr>
          </a:p>
        </p:txBody>
      </p:sp>
      <p:sp>
        <p:nvSpPr>
          <p:cNvPr id="6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andle:</a:t>
            </a:r>
            <a:br>
              <a:rPr sz="3200"/>
            </a:br>
            <a:r>
              <a:rPr b="1" lang="en-AU" sz="3200" spc="-1" strike="noStrike">
                <a:solidFill>
                  <a:srgbClr val="fafd00"/>
                </a:solidFill>
                <a:latin typeface="Arial"/>
              </a:rPr>
              <a:t>a function of diameter and curvature</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9" name="handle%202" descr=""/>
          <p:cNvPicPr/>
          <p:nvPr/>
        </p:nvPicPr>
        <p:blipFill>
          <a:blip r:embed="rId1"/>
          <a:stretch/>
        </p:blipFill>
        <p:spPr>
          <a:xfrm>
            <a:off x="1981080" y="1523880"/>
            <a:ext cx="6172200" cy="4429080"/>
          </a:xfrm>
          <a:prstGeom prst="rect">
            <a:avLst/>
          </a:prstGeom>
          <a:ln w="0">
            <a:noFill/>
          </a:ln>
        </p:spPr>
      </p:pic>
      <p:sp>
        <p:nvSpPr>
          <p:cNvPr id="70" name=""/>
          <p:cNvSpPr/>
          <p:nvPr/>
        </p:nvSpPr>
        <p:spPr>
          <a:xfrm>
            <a:off x="7233480" y="6327720"/>
            <a:ext cx="17892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evens (1994)</a:t>
            </a:r>
            <a:endParaRPr b="0" lang="en-US" sz="1200" spc="-1" strike="noStrike">
              <a:solidFill>
                <a:srgbClr val="000000"/>
              </a:solidFill>
              <a:latin typeface="Times New Roman"/>
            </a:endParaRPr>
          </a:p>
        </p:txBody>
      </p:sp>
      <p:sp>
        <p:nvSpPr>
          <p:cNvPr id="7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andle:</a:t>
            </a:r>
            <a:br>
              <a:rPr sz="3200"/>
            </a:br>
            <a:r>
              <a:rPr b="1" lang="en-AU" sz="3200" spc="-1" strike="noStrike">
                <a:solidFill>
                  <a:srgbClr val="fafd00"/>
                </a:solidFill>
                <a:latin typeface="Arial"/>
              </a:rPr>
              <a:t>a function of diameter and curvature</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2" name=""/>
          <p:cNvGrpSpPr/>
          <p:nvPr/>
        </p:nvGrpSpPr>
        <p:grpSpPr>
          <a:xfrm>
            <a:off x="1249200" y="152280"/>
            <a:ext cx="1798920" cy="5403960"/>
            <a:chOff x="1249200" y="152280"/>
            <a:chExt cx="1798920" cy="5403960"/>
          </a:xfrm>
        </p:grpSpPr>
        <p:sp>
          <p:nvSpPr>
            <p:cNvPr id="73" name=""/>
            <p:cNvSpPr/>
            <p:nvPr/>
          </p:nvSpPr>
          <p:spPr>
            <a:xfrm>
              <a:off x="1249200" y="1495440"/>
              <a:ext cx="1798920" cy="4060800"/>
            </a:xfrm>
            <a:custGeom>
              <a:avLst/>
              <a:gdLst/>
              <a:ahLst/>
              <a:rect l="l" t="t" r="r" b="b"/>
              <a:pathLst>
                <a:path w="1133" h="2558">
                  <a:moveTo>
                    <a:pt x="874" y="11"/>
                  </a:moveTo>
                  <a:lnTo>
                    <a:pt x="756" y="6"/>
                  </a:lnTo>
                  <a:lnTo>
                    <a:pt x="639" y="0"/>
                  </a:lnTo>
                  <a:lnTo>
                    <a:pt x="521" y="0"/>
                  </a:lnTo>
                  <a:lnTo>
                    <a:pt x="406" y="23"/>
                  </a:lnTo>
                  <a:lnTo>
                    <a:pt x="370" y="45"/>
                  </a:lnTo>
                  <a:lnTo>
                    <a:pt x="332" y="62"/>
                  </a:lnTo>
                  <a:lnTo>
                    <a:pt x="317" y="73"/>
                  </a:lnTo>
                  <a:lnTo>
                    <a:pt x="306" y="79"/>
                  </a:lnTo>
                  <a:lnTo>
                    <a:pt x="299" y="84"/>
                  </a:lnTo>
                  <a:lnTo>
                    <a:pt x="294" y="90"/>
                  </a:lnTo>
                  <a:lnTo>
                    <a:pt x="291" y="95"/>
                  </a:lnTo>
                  <a:lnTo>
                    <a:pt x="294" y="95"/>
                  </a:lnTo>
                  <a:lnTo>
                    <a:pt x="296" y="95"/>
                  </a:lnTo>
                  <a:lnTo>
                    <a:pt x="294" y="101"/>
                  </a:lnTo>
                  <a:lnTo>
                    <a:pt x="291" y="101"/>
                  </a:lnTo>
                  <a:lnTo>
                    <a:pt x="283" y="101"/>
                  </a:lnTo>
                  <a:lnTo>
                    <a:pt x="273" y="107"/>
                  </a:lnTo>
                  <a:lnTo>
                    <a:pt x="258" y="112"/>
                  </a:lnTo>
                  <a:lnTo>
                    <a:pt x="240" y="129"/>
                  </a:lnTo>
                  <a:lnTo>
                    <a:pt x="222" y="146"/>
                  </a:lnTo>
                  <a:lnTo>
                    <a:pt x="212" y="157"/>
                  </a:lnTo>
                  <a:lnTo>
                    <a:pt x="202" y="163"/>
                  </a:lnTo>
                  <a:lnTo>
                    <a:pt x="176" y="180"/>
                  </a:lnTo>
                  <a:lnTo>
                    <a:pt x="166" y="185"/>
                  </a:lnTo>
                  <a:lnTo>
                    <a:pt x="156" y="191"/>
                  </a:lnTo>
                  <a:lnTo>
                    <a:pt x="151" y="196"/>
                  </a:lnTo>
                  <a:lnTo>
                    <a:pt x="148" y="196"/>
                  </a:lnTo>
                  <a:lnTo>
                    <a:pt x="133" y="213"/>
                  </a:lnTo>
                  <a:lnTo>
                    <a:pt x="115" y="236"/>
                  </a:lnTo>
                  <a:lnTo>
                    <a:pt x="107" y="241"/>
                  </a:lnTo>
                  <a:lnTo>
                    <a:pt x="102" y="253"/>
                  </a:lnTo>
                  <a:lnTo>
                    <a:pt x="99" y="258"/>
                  </a:lnTo>
                  <a:lnTo>
                    <a:pt x="99" y="269"/>
                  </a:lnTo>
                  <a:lnTo>
                    <a:pt x="110" y="320"/>
                  </a:lnTo>
                  <a:lnTo>
                    <a:pt x="115" y="342"/>
                  </a:lnTo>
                  <a:lnTo>
                    <a:pt x="122" y="365"/>
                  </a:lnTo>
                  <a:lnTo>
                    <a:pt x="133" y="381"/>
                  </a:lnTo>
                  <a:lnTo>
                    <a:pt x="148" y="398"/>
                  </a:lnTo>
                  <a:lnTo>
                    <a:pt x="168" y="410"/>
                  </a:lnTo>
                  <a:lnTo>
                    <a:pt x="197" y="421"/>
                  </a:lnTo>
                  <a:lnTo>
                    <a:pt x="237" y="449"/>
                  </a:lnTo>
                  <a:lnTo>
                    <a:pt x="283" y="466"/>
                  </a:lnTo>
                  <a:lnTo>
                    <a:pt x="381" y="499"/>
                  </a:lnTo>
                  <a:lnTo>
                    <a:pt x="480" y="522"/>
                  </a:lnTo>
                  <a:lnTo>
                    <a:pt x="580" y="539"/>
                  </a:lnTo>
                  <a:lnTo>
                    <a:pt x="820" y="539"/>
                  </a:lnTo>
                  <a:lnTo>
                    <a:pt x="940" y="539"/>
                  </a:lnTo>
                  <a:lnTo>
                    <a:pt x="1060" y="527"/>
                  </a:lnTo>
                  <a:lnTo>
                    <a:pt x="1070" y="522"/>
                  </a:lnTo>
                  <a:lnTo>
                    <a:pt x="1076" y="516"/>
                  </a:lnTo>
                  <a:lnTo>
                    <a:pt x="1081" y="505"/>
                  </a:lnTo>
                  <a:lnTo>
                    <a:pt x="1083" y="494"/>
                  </a:lnTo>
                  <a:lnTo>
                    <a:pt x="1083" y="466"/>
                  </a:lnTo>
                  <a:lnTo>
                    <a:pt x="1083" y="438"/>
                  </a:lnTo>
                  <a:lnTo>
                    <a:pt x="1078" y="410"/>
                  </a:lnTo>
                  <a:lnTo>
                    <a:pt x="1070" y="381"/>
                  </a:lnTo>
                  <a:lnTo>
                    <a:pt x="1058" y="359"/>
                  </a:lnTo>
                  <a:lnTo>
                    <a:pt x="1040" y="348"/>
                  </a:lnTo>
                  <a:lnTo>
                    <a:pt x="1019" y="342"/>
                  </a:lnTo>
                  <a:lnTo>
                    <a:pt x="996" y="331"/>
                  </a:lnTo>
                  <a:lnTo>
                    <a:pt x="943" y="309"/>
                  </a:lnTo>
                  <a:lnTo>
                    <a:pt x="892" y="292"/>
                  </a:lnTo>
                  <a:lnTo>
                    <a:pt x="835" y="281"/>
                  </a:lnTo>
                  <a:lnTo>
                    <a:pt x="777" y="269"/>
                  </a:lnTo>
                  <a:lnTo>
                    <a:pt x="743" y="269"/>
                  </a:lnTo>
                  <a:lnTo>
                    <a:pt x="713" y="275"/>
                  </a:lnTo>
                  <a:lnTo>
                    <a:pt x="654" y="275"/>
                  </a:lnTo>
                  <a:lnTo>
                    <a:pt x="605" y="275"/>
                  </a:lnTo>
                  <a:lnTo>
                    <a:pt x="557" y="281"/>
                  </a:lnTo>
                  <a:lnTo>
                    <a:pt x="513" y="286"/>
                  </a:lnTo>
                  <a:lnTo>
                    <a:pt x="467" y="292"/>
                  </a:lnTo>
                  <a:lnTo>
                    <a:pt x="421" y="303"/>
                  </a:lnTo>
                  <a:lnTo>
                    <a:pt x="368" y="320"/>
                  </a:lnTo>
                  <a:lnTo>
                    <a:pt x="332" y="342"/>
                  </a:lnTo>
                  <a:lnTo>
                    <a:pt x="299" y="370"/>
                  </a:lnTo>
                  <a:lnTo>
                    <a:pt x="263" y="387"/>
                  </a:lnTo>
                  <a:lnTo>
                    <a:pt x="222" y="404"/>
                  </a:lnTo>
                  <a:lnTo>
                    <a:pt x="174" y="443"/>
                  </a:lnTo>
                  <a:lnTo>
                    <a:pt x="128" y="477"/>
                  </a:lnTo>
                  <a:lnTo>
                    <a:pt x="87" y="516"/>
                  </a:lnTo>
                  <a:lnTo>
                    <a:pt x="48" y="567"/>
                  </a:lnTo>
                  <a:lnTo>
                    <a:pt x="23" y="656"/>
                  </a:lnTo>
                  <a:lnTo>
                    <a:pt x="0" y="740"/>
                  </a:lnTo>
                  <a:lnTo>
                    <a:pt x="13" y="780"/>
                  </a:lnTo>
                  <a:lnTo>
                    <a:pt x="28" y="813"/>
                  </a:lnTo>
                  <a:lnTo>
                    <a:pt x="48" y="836"/>
                  </a:lnTo>
                  <a:lnTo>
                    <a:pt x="71" y="858"/>
                  </a:lnTo>
                  <a:lnTo>
                    <a:pt x="97" y="881"/>
                  </a:lnTo>
                  <a:lnTo>
                    <a:pt x="128" y="897"/>
                  </a:lnTo>
                  <a:lnTo>
                    <a:pt x="161" y="909"/>
                  </a:lnTo>
                  <a:lnTo>
                    <a:pt x="197" y="925"/>
                  </a:lnTo>
                  <a:lnTo>
                    <a:pt x="306" y="959"/>
                  </a:lnTo>
                  <a:lnTo>
                    <a:pt x="421" y="987"/>
                  </a:lnTo>
                  <a:lnTo>
                    <a:pt x="539" y="1015"/>
                  </a:lnTo>
                  <a:lnTo>
                    <a:pt x="654" y="1032"/>
                  </a:lnTo>
                  <a:lnTo>
                    <a:pt x="833" y="1032"/>
                  </a:lnTo>
                  <a:lnTo>
                    <a:pt x="1009" y="1021"/>
                  </a:lnTo>
                  <a:lnTo>
                    <a:pt x="1032" y="1015"/>
                  </a:lnTo>
                  <a:lnTo>
                    <a:pt x="1058" y="1010"/>
                  </a:lnTo>
                  <a:lnTo>
                    <a:pt x="1068" y="1004"/>
                  </a:lnTo>
                  <a:lnTo>
                    <a:pt x="1076" y="1004"/>
                  </a:lnTo>
                  <a:lnTo>
                    <a:pt x="1081" y="998"/>
                  </a:lnTo>
                  <a:lnTo>
                    <a:pt x="1083" y="998"/>
                  </a:lnTo>
                  <a:lnTo>
                    <a:pt x="1096" y="976"/>
                  </a:lnTo>
                  <a:lnTo>
                    <a:pt x="1104" y="954"/>
                  </a:lnTo>
                  <a:lnTo>
                    <a:pt x="1106" y="937"/>
                  </a:lnTo>
                  <a:lnTo>
                    <a:pt x="1106" y="914"/>
                  </a:lnTo>
                  <a:lnTo>
                    <a:pt x="1101" y="897"/>
                  </a:lnTo>
                  <a:lnTo>
                    <a:pt x="1093" y="881"/>
                  </a:lnTo>
                  <a:lnTo>
                    <a:pt x="1083" y="864"/>
                  </a:lnTo>
                  <a:lnTo>
                    <a:pt x="1068" y="847"/>
                  </a:lnTo>
                  <a:lnTo>
                    <a:pt x="1037" y="819"/>
                  </a:lnTo>
                  <a:lnTo>
                    <a:pt x="999" y="796"/>
                  </a:lnTo>
                  <a:lnTo>
                    <a:pt x="961" y="780"/>
                  </a:lnTo>
                  <a:lnTo>
                    <a:pt x="922" y="763"/>
                  </a:lnTo>
                  <a:lnTo>
                    <a:pt x="886" y="746"/>
                  </a:lnTo>
                  <a:lnTo>
                    <a:pt x="846" y="735"/>
                  </a:lnTo>
                  <a:lnTo>
                    <a:pt x="805" y="729"/>
                  </a:lnTo>
                  <a:lnTo>
                    <a:pt x="761" y="729"/>
                  </a:lnTo>
                  <a:lnTo>
                    <a:pt x="674" y="735"/>
                  </a:lnTo>
                  <a:lnTo>
                    <a:pt x="631" y="735"/>
                  </a:lnTo>
                  <a:lnTo>
                    <a:pt x="590" y="740"/>
                  </a:lnTo>
                  <a:lnTo>
                    <a:pt x="567" y="746"/>
                  </a:lnTo>
                  <a:lnTo>
                    <a:pt x="542" y="752"/>
                  </a:lnTo>
                  <a:lnTo>
                    <a:pt x="519" y="757"/>
                  </a:lnTo>
                  <a:lnTo>
                    <a:pt x="496" y="763"/>
                  </a:lnTo>
                  <a:lnTo>
                    <a:pt x="485" y="768"/>
                  </a:lnTo>
                  <a:lnTo>
                    <a:pt x="475" y="774"/>
                  </a:lnTo>
                  <a:lnTo>
                    <a:pt x="470" y="774"/>
                  </a:lnTo>
                  <a:lnTo>
                    <a:pt x="467" y="774"/>
                  </a:lnTo>
                  <a:lnTo>
                    <a:pt x="450" y="785"/>
                  </a:lnTo>
                  <a:lnTo>
                    <a:pt x="439" y="796"/>
                  </a:lnTo>
                  <a:lnTo>
                    <a:pt x="432" y="802"/>
                  </a:lnTo>
                  <a:lnTo>
                    <a:pt x="427" y="802"/>
                  </a:lnTo>
                  <a:lnTo>
                    <a:pt x="424" y="808"/>
                  </a:lnTo>
                  <a:lnTo>
                    <a:pt x="429" y="802"/>
                  </a:lnTo>
                  <a:lnTo>
                    <a:pt x="434" y="796"/>
                  </a:lnTo>
                  <a:lnTo>
                    <a:pt x="429" y="796"/>
                  </a:lnTo>
                  <a:lnTo>
                    <a:pt x="421" y="802"/>
                  </a:lnTo>
                  <a:lnTo>
                    <a:pt x="409" y="808"/>
                  </a:lnTo>
                  <a:lnTo>
                    <a:pt x="393" y="813"/>
                  </a:lnTo>
                  <a:lnTo>
                    <a:pt x="375" y="825"/>
                  </a:lnTo>
                  <a:lnTo>
                    <a:pt x="358" y="836"/>
                  </a:lnTo>
                  <a:lnTo>
                    <a:pt x="335" y="847"/>
                  </a:lnTo>
                  <a:lnTo>
                    <a:pt x="312" y="853"/>
                  </a:lnTo>
                  <a:lnTo>
                    <a:pt x="301" y="858"/>
                  </a:lnTo>
                  <a:lnTo>
                    <a:pt x="291" y="864"/>
                  </a:lnTo>
                  <a:lnTo>
                    <a:pt x="286" y="864"/>
                  </a:lnTo>
                  <a:lnTo>
                    <a:pt x="283" y="864"/>
                  </a:lnTo>
                  <a:lnTo>
                    <a:pt x="266" y="892"/>
                  </a:lnTo>
                  <a:lnTo>
                    <a:pt x="255" y="909"/>
                  </a:lnTo>
                  <a:lnTo>
                    <a:pt x="248" y="920"/>
                  </a:lnTo>
                  <a:lnTo>
                    <a:pt x="243" y="931"/>
                  </a:lnTo>
                  <a:lnTo>
                    <a:pt x="237" y="937"/>
                  </a:lnTo>
                  <a:lnTo>
                    <a:pt x="227" y="942"/>
                  </a:lnTo>
                  <a:lnTo>
                    <a:pt x="214" y="948"/>
                  </a:lnTo>
                  <a:lnTo>
                    <a:pt x="197" y="959"/>
                  </a:lnTo>
                  <a:lnTo>
                    <a:pt x="145" y="1032"/>
                  </a:lnTo>
                  <a:lnTo>
                    <a:pt x="120" y="1066"/>
                  </a:lnTo>
                  <a:lnTo>
                    <a:pt x="99" y="1105"/>
                  </a:lnTo>
                  <a:lnTo>
                    <a:pt x="92" y="1127"/>
                  </a:lnTo>
                  <a:lnTo>
                    <a:pt x="84" y="1155"/>
                  </a:lnTo>
                  <a:lnTo>
                    <a:pt x="76" y="1178"/>
                  </a:lnTo>
                  <a:lnTo>
                    <a:pt x="74" y="1183"/>
                  </a:lnTo>
                  <a:lnTo>
                    <a:pt x="74" y="1195"/>
                  </a:lnTo>
                  <a:lnTo>
                    <a:pt x="76" y="1217"/>
                  </a:lnTo>
                  <a:lnTo>
                    <a:pt x="79" y="1268"/>
                  </a:lnTo>
                  <a:lnTo>
                    <a:pt x="84" y="1324"/>
                  </a:lnTo>
                  <a:lnTo>
                    <a:pt x="92" y="1346"/>
                  </a:lnTo>
                  <a:lnTo>
                    <a:pt x="99" y="1368"/>
                  </a:lnTo>
                  <a:lnTo>
                    <a:pt x="110" y="1385"/>
                  </a:lnTo>
                  <a:lnTo>
                    <a:pt x="122" y="1402"/>
                  </a:lnTo>
                  <a:lnTo>
                    <a:pt x="148" y="1441"/>
                  </a:lnTo>
                  <a:lnTo>
                    <a:pt x="158" y="1458"/>
                  </a:lnTo>
                  <a:lnTo>
                    <a:pt x="171" y="1475"/>
                  </a:lnTo>
                  <a:lnTo>
                    <a:pt x="260" y="1526"/>
                  </a:lnTo>
                  <a:lnTo>
                    <a:pt x="355" y="1559"/>
                  </a:lnTo>
                  <a:lnTo>
                    <a:pt x="455" y="1582"/>
                  </a:lnTo>
                  <a:lnTo>
                    <a:pt x="554" y="1598"/>
                  </a:lnTo>
                  <a:lnTo>
                    <a:pt x="570" y="1598"/>
                  </a:lnTo>
                  <a:lnTo>
                    <a:pt x="593" y="1604"/>
                  </a:lnTo>
                  <a:lnTo>
                    <a:pt x="621" y="1604"/>
                  </a:lnTo>
                  <a:lnTo>
                    <a:pt x="651" y="1610"/>
                  </a:lnTo>
                  <a:lnTo>
                    <a:pt x="687" y="1615"/>
                  </a:lnTo>
                  <a:lnTo>
                    <a:pt x="726" y="1621"/>
                  </a:lnTo>
                  <a:lnTo>
                    <a:pt x="807" y="1626"/>
                  </a:lnTo>
                  <a:lnTo>
                    <a:pt x="892" y="1621"/>
                  </a:lnTo>
                  <a:lnTo>
                    <a:pt x="930" y="1621"/>
                  </a:lnTo>
                  <a:lnTo>
                    <a:pt x="968" y="1610"/>
                  </a:lnTo>
                  <a:lnTo>
                    <a:pt x="1004" y="1598"/>
                  </a:lnTo>
                  <a:lnTo>
                    <a:pt x="1035" y="1582"/>
                  </a:lnTo>
                  <a:lnTo>
                    <a:pt x="1063" y="1565"/>
                  </a:lnTo>
                  <a:lnTo>
                    <a:pt x="1083" y="1537"/>
                  </a:lnTo>
                  <a:lnTo>
                    <a:pt x="1083" y="1520"/>
                  </a:lnTo>
                  <a:lnTo>
                    <a:pt x="1081" y="1492"/>
                  </a:lnTo>
                  <a:lnTo>
                    <a:pt x="1078" y="1453"/>
                  </a:lnTo>
                  <a:lnTo>
                    <a:pt x="1073" y="1413"/>
                  </a:lnTo>
                  <a:lnTo>
                    <a:pt x="1065" y="1374"/>
                  </a:lnTo>
                  <a:lnTo>
                    <a:pt x="1055" y="1340"/>
                  </a:lnTo>
                  <a:lnTo>
                    <a:pt x="1040" y="1307"/>
                  </a:lnTo>
                  <a:lnTo>
                    <a:pt x="1022" y="1290"/>
                  </a:lnTo>
                  <a:lnTo>
                    <a:pt x="1012" y="1284"/>
                  </a:lnTo>
                  <a:lnTo>
                    <a:pt x="996" y="1279"/>
                  </a:lnTo>
                  <a:lnTo>
                    <a:pt x="963" y="1273"/>
                  </a:lnTo>
                  <a:lnTo>
                    <a:pt x="927" y="1262"/>
                  </a:lnTo>
                  <a:lnTo>
                    <a:pt x="912" y="1256"/>
                  </a:lnTo>
                  <a:lnTo>
                    <a:pt x="899" y="1256"/>
                  </a:lnTo>
                  <a:lnTo>
                    <a:pt x="838" y="1262"/>
                  </a:lnTo>
                  <a:lnTo>
                    <a:pt x="782" y="1268"/>
                  </a:lnTo>
                  <a:lnTo>
                    <a:pt x="672" y="1279"/>
                  </a:lnTo>
                  <a:lnTo>
                    <a:pt x="567" y="1296"/>
                  </a:lnTo>
                  <a:lnTo>
                    <a:pt x="457" y="1329"/>
                  </a:lnTo>
                  <a:lnTo>
                    <a:pt x="419" y="1352"/>
                  </a:lnTo>
                  <a:lnTo>
                    <a:pt x="381" y="1380"/>
                  </a:lnTo>
                  <a:lnTo>
                    <a:pt x="337" y="1397"/>
                  </a:lnTo>
                  <a:lnTo>
                    <a:pt x="296" y="1413"/>
                  </a:lnTo>
                  <a:lnTo>
                    <a:pt x="255" y="1441"/>
                  </a:lnTo>
                  <a:lnTo>
                    <a:pt x="220" y="1475"/>
                  </a:lnTo>
                  <a:lnTo>
                    <a:pt x="186" y="1503"/>
                  </a:lnTo>
                  <a:lnTo>
                    <a:pt x="156" y="1542"/>
                  </a:lnTo>
                  <a:lnTo>
                    <a:pt x="130" y="1582"/>
                  </a:lnTo>
                  <a:lnTo>
                    <a:pt x="107" y="1621"/>
                  </a:lnTo>
                  <a:lnTo>
                    <a:pt x="89" y="1666"/>
                  </a:lnTo>
                  <a:lnTo>
                    <a:pt x="74" y="1711"/>
                  </a:lnTo>
                  <a:lnTo>
                    <a:pt x="84" y="1761"/>
                  </a:lnTo>
                  <a:lnTo>
                    <a:pt x="97" y="1800"/>
                  </a:lnTo>
                  <a:lnTo>
                    <a:pt x="112" y="1834"/>
                  </a:lnTo>
                  <a:lnTo>
                    <a:pt x="128" y="1868"/>
                  </a:lnTo>
                  <a:lnTo>
                    <a:pt x="148" y="1901"/>
                  </a:lnTo>
                  <a:lnTo>
                    <a:pt x="171" y="1929"/>
                  </a:lnTo>
                  <a:lnTo>
                    <a:pt x="202" y="1963"/>
                  </a:lnTo>
                  <a:lnTo>
                    <a:pt x="235" y="1997"/>
                  </a:lnTo>
                  <a:lnTo>
                    <a:pt x="248" y="2008"/>
                  </a:lnTo>
                  <a:lnTo>
                    <a:pt x="268" y="2013"/>
                  </a:lnTo>
                  <a:lnTo>
                    <a:pt x="289" y="2025"/>
                  </a:lnTo>
                  <a:lnTo>
                    <a:pt x="312" y="2030"/>
                  </a:lnTo>
                  <a:lnTo>
                    <a:pt x="355" y="2041"/>
                  </a:lnTo>
                  <a:lnTo>
                    <a:pt x="375" y="2047"/>
                  </a:lnTo>
                  <a:lnTo>
                    <a:pt x="393" y="2053"/>
                  </a:lnTo>
                  <a:lnTo>
                    <a:pt x="490" y="2053"/>
                  </a:lnTo>
                  <a:lnTo>
                    <a:pt x="582" y="2053"/>
                  </a:lnTo>
                  <a:lnTo>
                    <a:pt x="669" y="2053"/>
                  </a:lnTo>
                  <a:lnTo>
                    <a:pt x="754" y="2053"/>
                  </a:lnTo>
                  <a:lnTo>
                    <a:pt x="835" y="2047"/>
                  </a:lnTo>
                  <a:lnTo>
                    <a:pt x="915" y="2036"/>
                  </a:lnTo>
                  <a:lnTo>
                    <a:pt x="999" y="2019"/>
                  </a:lnTo>
                  <a:lnTo>
                    <a:pt x="1083" y="1997"/>
                  </a:lnTo>
                  <a:lnTo>
                    <a:pt x="1104" y="1985"/>
                  </a:lnTo>
                  <a:lnTo>
                    <a:pt x="1111" y="1974"/>
                  </a:lnTo>
                  <a:lnTo>
                    <a:pt x="1119" y="1969"/>
                  </a:lnTo>
                  <a:lnTo>
                    <a:pt x="1127" y="1957"/>
                  </a:lnTo>
                  <a:lnTo>
                    <a:pt x="1132" y="1952"/>
                  </a:lnTo>
                  <a:lnTo>
                    <a:pt x="1132" y="1935"/>
                  </a:lnTo>
                  <a:lnTo>
                    <a:pt x="1127" y="1918"/>
                  </a:lnTo>
                  <a:lnTo>
                    <a:pt x="1114" y="1912"/>
                  </a:lnTo>
                  <a:lnTo>
                    <a:pt x="1099" y="1901"/>
                  </a:lnTo>
                  <a:lnTo>
                    <a:pt x="1078" y="1896"/>
                  </a:lnTo>
                  <a:lnTo>
                    <a:pt x="1060" y="1890"/>
                  </a:lnTo>
                  <a:lnTo>
                    <a:pt x="1045" y="1884"/>
                  </a:lnTo>
                  <a:lnTo>
                    <a:pt x="984" y="1851"/>
                  </a:lnTo>
                  <a:lnTo>
                    <a:pt x="922" y="1828"/>
                  </a:lnTo>
                  <a:lnTo>
                    <a:pt x="856" y="1812"/>
                  </a:lnTo>
                  <a:lnTo>
                    <a:pt x="787" y="1795"/>
                  </a:lnTo>
                  <a:lnTo>
                    <a:pt x="659" y="1800"/>
                  </a:lnTo>
                  <a:lnTo>
                    <a:pt x="529" y="1812"/>
                  </a:lnTo>
                  <a:lnTo>
                    <a:pt x="498" y="1817"/>
                  </a:lnTo>
                  <a:lnTo>
                    <a:pt x="467" y="1823"/>
                  </a:lnTo>
                  <a:lnTo>
                    <a:pt x="406" y="1845"/>
                  </a:lnTo>
                  <a:lnTo>
                    <a:pt x="365" y="1873"/>
                  </a:lnTo>
                  <a:lnTo>
                    <a:pt x="327" y="1896"/>
                  </a:lnTo>
                  <a:lnTo>
                    <a:pt x="286" y="1918"/>
                  </a:lnTo>
                  <a:lnTo>
                    <a:pt x="245" y="1946"/>
                  </a:lnTo>
                  <a:lnTo>
                    <a:pt x="227" y="1957"/>
                  </a:lnTo>
                  <a:lnTo>
                    <a:pt x="209" y="1969"/>
                  </a:lnTo>
                  <a:lnTo>
                    <a:pt x="199" y="1980"/>
                  </a:lnTo>
                  <a:lnTo>
                    <a:pt x="186" y="1985"/>
                  </a:lnTo>
                  <a:lnTo>
                    <a:pt x="176" y="1997"/>
                  </a:lnTo>
                  <a:lnTo>
                    <a:pt x="171" y="1997"/>
                  </a:lnTo>
                  <a:lnTo>
                    <a:pt x="166" y="2013"/>
                  </a:lnTo>
                  <a:lnTo>
                    <a:pt x="161" y="2025"/>
                  </a:lnTo>
                  <a:lnTo>
                    <a:pt x="158" y="2036"/>
                  </a:lnTo>
                  <a:lnTo>
                    <a:pt x="161" y="2025"/>
                  </a:lnTo>
                  <a:lnTo>
                    <a:pt x="161" y="2019"/>
                  </a:lnTo>
                  <a:lnTo>
                    <a:pt x="158" y="2019"/>
                  </a:lnTo>
                  <a:lnTo>
                    <a:pt x="153" y="2025"/>
                  </a:lnTo>
                  <a:lnTo>
                    <a:pt x="145" y="2030"/>
                  </a:lnTo>
                  <a:lnTo>
                    <a:pt x="135" y="2047"/>
                  </a:lnTo>
                  <a:lnTo>
                    <a:pt x="122" y="2069"/>
                  </a:lnTo>
                  <a:lnTo>
                    <a:pt x="115" y="2086"/>
                  </a:lnTo>
                  <a:lnTo>
                    <a:pt x="107" y="2109"/>
                  </a:lnTo>
                  <a:lnTo>
                    <a:pt x="105" y="2131"/>
                  </a:lnTo>
                  <a:lnTo>
                    <a:pt x="99" y="2154"/>
                  </a:lnTo>
                  <a:lnTo>
                    <a:pt x="102" y="2277"/>
                  </a:lnTo>
                  <a:lnTo>
                    <a:pt x="105" y="2339"/>
                  </a:lnTo>
                  <a:lnTo>
                    <a:pt x="112" y="2400"/>
                  </a:lnTo>
                  <a:lnTo>
                    <a:pt x="115" y="2406"/>
                  </a:lnTo>
                  <a:lnTo>
                    <a:pt x="120" y="2417"/>
                  </a:lnTo>
                  <a:lnTo>
                    <a:pt x="138" y="2440"/>
                  </a:lnTo>
                  <a:lnTo>
                    <a:pt x="158" y="2462"/>
                  </a:lnTo>
                  <a:lnTo>
                    <a:pt x="166" y="2468"/>
                  </a:lnTo>
                  <a:lnTo>
                    <a:pt x="171" y="2473"/>
                  </a:lnTo>
                  <a:lnTo>
                    <a:pt x="209" y="2501"/>
                  </a:lnTo>
                  <a:lnTo>
                    <a:pt x="255" y="2518"/>
                  </a:lnTo>
                  <a:lnTo>
                    <a:pt x="306" y="2535"/>
                  </a:lnTo>
                  <a:lnTo>
                    <a:pt x="358" y="2546"/>
                  </a:lnTo>
                  <a:lnTo>
                    <a:pt x="411" y="2552"/>
                  </a:lnTo>
                  <a:lnTo>
                    <a:pt x="462" y="2557"/>
                  </a:lnTo>
                  <a:lnTo>
                    <a:pt x="511" y="2557"/>
                  </a:lnTo>
                  <a:lnTo>
                    <a:pt x="554" y="2557"/>
                  </a:lnTo>
                  <a:lnTo>
                    <a:pt x="641" y="2557"/>
                  </a:lnTo>
                  <a:lnTo>
                    <a:pt x="726" y="2557"/>
                  </a:lnTo>
                </a:path>
              </a:pathLst>
            </a:custGeom>
            <a:noFill/>
            <a:ln cap="rnd" w="1260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rot="16200000">
              <a:off x="1781640" y="228600"/>
              <a:ext cx="838440" cy="685800"/>
            </a:xfrm>
            <a:prstGeom prst="rightArrow">
              <a:avLst>
                <a:gd name="adj1" fmla="val 50000"/>
                <a:gd name="adj2" fmla="val 30587"/>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3913200" y="152280"/>
            <a:ext cx="1801800" cy="5556240"/>
            <a:chOff x="3913200" y="152280"/>
            <a:chExt cx="1801800" cy="5556240"/>
          </a:xfrm>
        </p:grpSpPr>
        <p:sp>
          <p:nvSpPr>
            <p:cNvPr id="76" name=""/>
            <p:cNvSpPr/>
            <p:nvPr/>
          </p:nvSpPr>
          <p:spPr>
            <a:xfrm>
              <a:off x="3913200" y="1646280"/>
              <a:ext cx="1801800" cy="4062240"/>
            </a:xfrm>
            <a:custGeom>
              <a:avLst/>
              <a:gdLst/>
              <a:ahLst/>
              <a:rect l="l" t="t" r="r" b="b"/>
              <a:pathLst>
                <a:path w="1135" h="2559">
                  <a:moveTo>
                    <a:pt x="874" y="12"/>
                  </a:moveTo>
                  <a:lnTo>
                    <a:pt x="758" y="6"/>
                  </a:lnTo>
                  <a:lnTo>
                    <a:pt x="642" y="0"/>
                  </a:lnTo>
                  <a:lnTo>
                    <a:pt x="525" y="6"/>
                  </a:lnTo>
                  <a:lnTo>
                    <a:pt x="409" y="23"/>
                  </a:lnTo>
                  <a:lnTo>
                    <a:pt x="376" y="46"/>
                  </a:lnTo>
                  <a:lnTo>
                    <a:pt x="337" y="63"/>
                  </a:lnTo>
                  <a:lnTo>
                    <a:pt x="310" y="81"/>
                  </a:lnTo>
                  <a:lnTo>
                    <a:pt x="299" y="92"/>
                  </a:lnTo>
                  <a:lnTo>
                    <a:pt x="293" y="98"/>
                  </a:lnTo>
                  <a:lnTo>
                    <a:pt x="299" y="98"/>
                  </a:lnTo>
                  <a:lnTo>
                    <a:pt x="288" y="104"/>
                  </a:lnTo>
                  <a:lnTo>
                    <a:pt x="260" y="110"/>
                  </a:lnTo>
                  <a:lnTo>
                    <a:pt x="243" y="133"/>
                  </a:lnTo>
                  <a:lnTo>
                    <a:pt x="227" y="150"/>
                  </a:lnTo>
                  <a:lnTo>
                    <a:pt x="205" y="167"/>
                  </a:lnTo>
                  <a:lnTo>
                    <a:pt x="177" y="179"/>
                  </a:lnTo>
                  <a:lnTo>
                    <a:pt x="160" y="190"/>
                  </a:lnTo>
                  <a:lnTo>
                    <a:pt x="149" y="196"/>
                  </a:lnTo>
                  <a:lnTo>
                    <a:pt x="133" y="213"/>
                  </a:lnTo>
                  <a:lnTo>
                    <a:pt x="116" y="236"/>
                  </a:lnTo>
                  <a:lnTo>
                    <a:pt x="105" y="254"/>
                  </a:lnTo>
                  <a:lnTo>
                    <a:pt x="99" y="271"/>
                  </a:lnTo>
                  <a:lnTo>
                    <a:pt x="111" y="323"/>
                  </a:lnTo>
                  <a:lnTo>
                    <a:pt x="127" y="363"/>
                  </a:lnTo>
                  <a:lnTo>
                    <a:pt x="149" y="398"/>
                  </a:lnTo>
                  <a:lnTo>
                    <a:pt x="171" y="409"/>
                  </a:lnTo>
                  <a:lnTo>
                    <a:pt x="199" y="421"/>
                  </a:lnTo>
                  <a:lnTo>
                    <a:pt x="288" y="467"/>
                  </a:lnTo>
                  <a:lnTo>
                    <a:pt x="382" y="501"/>
                  </a:lnTo>
                  <a:lnTo>
                    <a:pt x="481" y="524"/>
                  </a:lnTo>
                  <a:lnTo>
                    <a:pt x="581" y="542"/>
                  </a:lnTo>
                  <a:lnTo>
                    <a:pt x="702" y="542"/>
                  </a:lnTo>
                  <a:lnTo>
                    <a:pt x="824" y="542"/>
                  </a:lnTo>
                  <a:lnTo>
                    <a:pt x="940" y="536"/>
                  </a:lnTo>
                  <a:lnTo>
                    <a:pt x="1062" y="530"/>
                  </a:lnTo>
                  <a:lnTo>
                    <a:pt x="1073" y="524"/>
                  </a:lnTo>
                  <a:lnTo>
                    <a:pt x="1079" y="519"/>
                  </a:lnTo>
                  <a:lnTo>
                    <a:pt x="1084" y="496"/>
                  </a:lnTo>
                  <a:lnTo>
                    <a:pt x="1084" y="438"/>
                  </a:lnTo>
                  <a:lnTo>
                    <a:pt x="1073" y="380"/>
                  </a:lnTo>
                  <a:lnTo>
                    <a:pt x="1056" y="357"/>
                  </a:lnTo>
                  <a:lnTo>
                    <a:pt x="1040" y="346"/>
                  </a:lnTo>
                  <a:lnTo>
                    <a:pt x="1023" y="340"/>
                  </a:lnTo>
                  <a:lnTo>
                    <a:pt x="1001" y="334"/>
                  </a:lnTo>
                  <a:lnTo>
                    <a:pt x="946" y="311"/>
                  </a:lnTo>
                  <a:lnTo>
                    <a:pt x="890" y="294"/>
                  </a:lnTo>
                  <a:lnTo>
                    <a:pt x="780" y="271"/>
                  </a:lnTo>
                  <a:lnTo>
                    <a:pt x="713" y="277"/>
                  </a:lnTo>
                  <a:lnTo>
                    <a:pt x="658" y="277"/>
                  </a:lnTo>
                  <a:lnTo>
                    <a:pt x="608" y="277"/>
                  </a:lnTo>
                  <a:lnTo>
                    <a:pt x="559" y="282"/>
                  </a:lnTo>
                  <a:lnTo>
                    <a:pt x="470" y="294"/>
                  </a:lnTo>
                  <a:lnTo>
                    <a:pt x="426" y="305"/>
                  </a:lnTo>
                  <a:lnTo>
                    <a:pt x="371" y="323"/>
                  </a:lnTo>
                  <a:lnTo>
                    <a:pt x="299" y="375"/>
                  </a:lnTo>
                  <a:lnTo>
                    <a:pt x="265" y="392"/>
                  </a:lnTo>
                  <a:lnTo>
                    <a:pt x="227" y="409"/>
                  </a:lnTo>
                  <a:lnTo>
                    <a:pt x="177" y="444"/>
                  </a:lnTo>
                  <a:lnTo>
                    <a:pt x="133" y="478"/>
                  </a:lnTo>
                  <a:lnTo>
                    <a:pt x="88" y="519"/>
                  </a:lnTo>
                  <a:lnTo>
                    <a:pt x="50" y="565"/>
                  </a:lnTo>
                  <a:lnTo>
                    <a:pt x="28" y="651"/>
                  </a:lnTo>
                  <a:lnTo>
                    <a:pt x="0" y="738"/>
                  </a:lnTo>
                  <a:lnTo>
                    <a:pt x="11" y="778"/>
                  </a:lnTo>
                  <a:lnTo>
                    <a:pt x="28" y="812"/>
                  </a:lnTo>
                  <a:lnTo>
                    <a:pt x="72" y="859"/>
                  </a:lnTo>
                  <a:lnTo>
                    <a:pt x="133" y="893"/>
                  </a:lnTo>
                  <a:lnTo>
                    <a:pt x="199" y="922"/>
                  </a:lnTo>
                  <a:lnTo>
                    <a:pt x="310" y="962"/>
                  </a:lnTo>
                  <a:lnTo>
                    <a:pt x="426" y="991"/>
                  </a:lnTo>
                  <a:lnTo>
                    <a:pt x="536" y="1020"/>
                  </a:lnTo>
                  <a:lnTo>
                    <a:pt x="653" y="1037"/>
                  </a:lnTo>
                  <a:lnTo>
                    <a:pt x="835" y="1031"/>
                  </a:lnTo>
                  <a:lnTo>
                    <a:pt x="1012" y="1020"/>
                  </a:lnTo>
                  <a:lnTo>
                    <a:pt x="1034" y="1014"/>
                  </a:lnTo>
                  <a:lnTo>
                    <a:pt x="1056" y="1008"/>
                  </a:lnTo>
                  <a:lnTo>
                    <a:pt x="1079" y="1003"/>
                  </a:lnTo>
                  <a:lnTo>
                    <a:pt x="1084" y="997"/>
                  </a:lnTo>
                  <a:lnTo>
                    <a:pt x="1106" y="957"/>
                  </a:lnTo>
                  <a:lnTo>
                    <a:pt x="1106" y="916"/>
                  </a:lnTo>
                  <a:lnTo>
                    <a:pt x="1095" y="882"/>
                  </a:lnTo>
                  <a:lnTo>
                    <a:pt x="1073" y="847"/>
                  </a:lnTo>
                  <a:lnTo>
                    <a:pt x="1040" y="824"/>
                  </a:lnTo>
                  <a:lnTo>
                    <a:pt x="1001" y="801"/>
                  </a:lnTo>
                  <a:lnTo>
                    <a:pt x="924" y="766"/>
                  </a:lnTo>
                  <a:lnTo>
                    <a:pt x="885" y="743"/>
                  </a:lnTo>
                  <a:lnTo>
                    <a:pt x="846" y="732"/>
                  </a:lnTo>
                  <a:lnTo>
                    <a:pt x="807" y="726"/>
                  </a:lnTo>
                  <a:lnTo>
                    <a:pt x="763" y="726"/>
                  </a:lnTo>
                  <a:lnTo>
                    <a:pt x="675" y="732"/>
                  </a:lnTo>
                  <a:lnTo>
                    <a:pt x="592" y="738"/>
                  </a:lnTo>
                  <a:lnTo>
                    <a:pt x="542" y="755"/>
                  </a:lnTo>
                  <a:lnTo>
                    <a:pt x="520" y="761"/>
                  </a:lnTo>
                  <a:lnTo>
                    <a:pt x="498" y="766"/>
                  </a:lnTo>
                  <a:lnTo>
                    <a:pt x="481" y="778"/>
                  </a:lnTo>
                  <a:lnTo>
                    <a:pt x="470" y="778"/>
                  </a:lnTo>
                  <a:lnTo>
                    <a:pt x="453" y="789"/>
                  </a:lnTo>
                  <a:lnTo>
                    <a:pt x="442" y="795"/>
                  </a:lnTo>
                  <a:lnTo>
                    <a:pt x="431" y="807"/>
                  </a:lnTo>
                  <a:lnTo>
                    <a:pt x="426" y="807"/>
                  </a:lnTo>
                  <a:lnTo>
                    <a:pt x="431" y="801"/>
                  </a:lnTo>
                  <a:lnTo>
                    <a:pt x="437" y="795"/>
                  </a:lnTo>
                  <a:lnTo>
                    <a:pt x="426" y="801"/>
                  </a:lnTo>
                  <a:lnTo>
                    <a:pt x="398" y="812"/>
                  </a:lnTo>
                  <a:lnTo>
                    <a:pt x="376" y="824"/>
                  </a:lnTo>
                  <a:lnTo>
                    <a:pt x="359" y="836"/>
                  </a:lnTo>
                  <a:lnTo>
                    <a:pt x="337" y="847"/>
                  </a:lnTo>
                  <a:lnTo>
                    <a:pt x="315" y="853"/>
                  </a:lnTo>
                  <a:lnTo>
                    <a:pt x="299" y="864"/>
                  </a:lnTo>
                  <a:lnTo>
                    <a:pt x="288" y="864"/>
                  </a:lnTo>
                  <a:lnTo>
                    <a:pt x="271" y="893"/>
                  </a:lnTo>
                  <a:lnTo>
                    <a:pt x="254" y="910"/>
                  </a:lnTo>
                  <a:lnTo>
                    <a:pt x="249" y="922"/>
                  </a:lnTo>
                  <a:lnTo>
                    <a:pt x="243" y="928"/>
                  </a:lnTo>
                  <a:lnTo>
                    <a:pt x="232" y="939"/>
                  </a:lnTo>
                  <a:lnTo>
                    <a:pt x="216" y="951"/>
                  </a:lnTo>
                  <a:lnTo>
                    <a:pt x="199" y="962"/>
                  </a:lnTo>
                  <a:lnTo>
                    <a:pt x="149" y="1037"/>
                  </a:lnTo>
                  <a:lnTo>
                    <a:pt x="99" y="1106"/>
                  </a:lnTo>
                  <a:lnTo>
                    <a:pt x="94" y="1129"/>
                  </a:lnTo>
                  <a:lnTo>
                    <a:pt x="83" y="1152"/>
                  </a:lnTo>
                  <a:lnTo>
                    <a:pt x="77" y="1175"/>
                  </a:lnTo>
                  <a:lnTo>
                    <a:pt x="77" y="1181"/>
                  </a:lnTo>
                  <a:lnTo>
                    <a:pt x="77" y="1193"/>
                  </a:lnTo>
                  <a:lnTo>
                    <a:pt x="77" y="1216"/>
                  </a:lnTo>
                  <a:lnTo>
                    <a:pt x="83" y="1268"/>
                  </a:lnTo>
                  <a:lnTo>
                    <a:pt x="88" y="1319"/>
                  </a:lnTo>
                  <a:lnTo>
                    <a:pt x="94" y="1348"/>
                  </a:lnTo>
                  <a:lnTo>
                    <a:pt x="99" y="1366"/>
                  </a:lnTo>
                  <a:lnTo>
                    <a:pt x="127" y="1406"/>
                  </a:lnTo>
                  <a:lnTo>
                    <a:pt x="149" y="1440"/>
                  </a:lnTo>
                  <a:lnTo>
                    <a:pt x="160" y="1464"/>
                  </a:lnTo>
                  <a:lnTo>
                    <a:pt x="171" y="1481"/>
                  </a:lnTo>
                  <a:lnTo>
                    <a:pt x="260" y="1527"/>
                  </a:lnTo>
                  <a:lnTo>
                    <a:pt x="359" y="1561"/>
                  </a:lnTo>
                  <a:lnTo>
                    <a:pt x="459" y="1585"/>
                  </a:lnTo>
                  <a:lnTo>
                    <a:pt x="559" y="1602"/>
                  </a:lnTo>
                  <a:lnTo>
                    <a:pt x="575" y="1602"/>
                  </a:lnTo>
                  <a:lnTo>
                    <a:pt x="597" y="1608"/>
                  </a:lnTo>
                  <a:lnTo>
                    <a:pt x="658" y="1613"/>
                  </a:lnTo>
                  <a:lnTo>
                    <a:pt x="730" y="1619"/>
                  </a:lnTo>
                  <a:lnTo>
                    <a:pt x="813" y="1625"/>
                  </a:lnTo>
                  <a:lnTo>
                    <a:pt x="896" y="1625"/>
                  </a:lnTo>
                  <a:lnTo>
                    <a:pt x="973" y="1613"/>
                  </a:lnTo>
                  <a:lnTo>
                    <a:pt x="1040" y="1585"/>
                  </a:lnTo>
                  <a:lnTo>
                    <a:pt x="1062" y="1561"/>
                  </a:lnTo>
                  <a:lnTo>
                    <a:pt x="1084" y="1538"/>
                  </a:lnTo>
                  <a:lnTo>
                    <a:pt x="1084" y="1521"/>
                  </a:lnTo>
                  <a:lnTo>
                    <a:pt x="1084" y="1492"/>
                  </a:lnTo>
                  <a:lnTo>
                    <a:pt x="1079" y="1458"/>
                  </a:lnTo>
                  <a:lnTo>
                    <a:pt x="1073" y="1417"/>
                  </a:lnTo>
                  <a:lnTo>
                    <a:pt x="1067" y="1377"/>
                  </a:lnTo>
                  <a:lnTo>
                    <a:pt x="1056" y="1343"/>
                  </a:lnTo>
                  <a:lnTo>
                    <a:pt x="1040" y="1308"/>
                  </a:lnTo>
                  <a:lnTo>
                    <a:pt x="1023" y="1291"/>
                  </a:lnTo>
                  <a:lnTo>
                    <a:pt x="1001" y="1279"/>
                  </a:lnTo>
                  <a:lnTo>
                    <a:pt x="962" y="1273"/>
                  </a:lnTo>
                  <a:lnTo>
                    <a:pt x="929" y="1262"/>
                  </a:lnTo>
                  <a:lnTo>
                    <a:pt x="902" y="1256"/>
                  </a:lnTo>
                  <a:lnTo>
                    <a:pt x="785" y="1268"/>
                  </a:lnTo>
                  <a:lnTo>
                    <a:pt x="675" y="1279"/>
                  </a:lnTo>
                  <a:lnTo>
                    <a:pt x="570" y="1296"/>
                  </a:lnTo>
                  <a:lnTo>
                    <a:pt x="459" y="1331"/>
                  </a:lnTo>
                  <a:lnTo>
                    <a:pt x="382" y="1383"/>
                  </a:lnTo>
                  <a:lnTo>
                    <a:pt x="343" y="1400"/>
                  </a:lnTo>
                  <a:lnTo>
                    <a:pt x="299" y="1417"/>
                  </a:lnTo>
                  <a:lnTo>
                    <a:pt x="221" y="1475"/>
                  </a:lnTo>
                  <a:lnTo>
                    <a:pt x="160" y="1538"/>
                  </a:lnTo>
                  <a:lnTo>
                    <a:pt x="111" y="1619"/>
                  </a:lnTo>
                  <a:lnTo>
                    <a:pt x="77" y="1711"/>
                  </a:lnTo>
                  <a:lnTo>
                    <a:pt x="88" y="1757"/>
                  </a:lnTo>
                  <a:lnTo>
                    <a:pt x="99" y="1798"/>
                  </a:lnTo>
                  <a:lnTo>
                    <a:pt x="133" y="1867"/>
                  </a:lnTo>
                  <a:lnTo>
                    <a:pt x="177" y="1930"/>
                  </a:lnTo>
                  <a:lnTo>
                    <a:pt x="205" y="1959"/>
                  </a:lnTo>
                  <a:lnTo>
                    <a:pt x="238" y="1994"/>
                  </a:lnTo>
                  <a:lnTo>
                    <a:pt x="249" y="2005"/>
                  </a:lnTo>
                  <a:lnTo>
                    <a:pt x="271" y="2017"/>
                  </a:lnTo>
                  <a:lnTo>
                    <a:pt x="310" y="2034"/>
                  </a:lnTo>
                  <a:lnTo>
                    <a:pt x="359" y="2045"/>
                  </a:lnTo>
                  <a:lnTo>
                    <a:pt x="398" y="2057"/>
                  </a:lnTo>
                  <a:lnTo>
                    <a:pt x="498" y="2057"/>
                  </a:lnTo>
                  <a:lnTo>
                    <a:pt x="586" y="2057"/>
                  </a:lnTo>
                  <a:lnTo>
                    <a:pt x="758" y="2051"/>
                  </a:lnTo>
                  <a:lnTo>
                    <a:pt x="835" y="2045"/>
                  </a:lnTo>
                  <a:lnTo>
                    <a:pt x="918" y="2034"/>
                  </a:lnTo>
                  <a:lnTo>
                    <a:pt x="1001" y="2017"/>
                  </a:lnTo>
                  <a:lnTo>
                    <a:pt x="1084" y="1994"/>
                  </a:lnTo>
                  <a:lnTo>
                    <a:pt x="1106" y="1982"/>
                  </a:lnTo>
                  <a:lnTo>
                    <a:pt x="1123" y="1971"/>
                  </a:lnTo>
                  <a:lnTo>
                    <a:pt x="1134" y="1953"/>
                  </a:lnTo>
                  <a:lnTo>
                    <a:pt x="1134" y="1936"/>
                  </a:lnTo>
                  <a:lnTo>
                    <a:pt x="1128" y="1919"/>
                  </a:lnTo>
                  <a:lnTo>
                    <a:pt x="1117" y="1913"/>
                  </a:lnTo>
                  <a:lnTo>
                    <a:pt x="1079" y="1896"/>
                  </a:lnTo>
                  <a:lnTo>
                    <a:pt x="1045" y="1884"/>
                  </a:lnTo>
                  <a:lnTo>
                    <a:pt x="984" y="1850"/>
                  </a:lnTo>
                  <a:lnTo>
                    <a:pt x="924" y="1827"/>
                  </a:lnTo>
                  <a:lnTo>
                    <a:pt x="857" y="1815"/>
                  </a:lnTo>
                  <a:lnTo>
                    <a:pt x="791" y="1798"/>
                  </a:lnTo>
                  <a:lnTo>
                    <a:pt x="664" y="1803"/>
                  </a:lnTo>
                  <a:lnTo>
                    <a:pt x="597" y="1803"/>
                  </a:lnTo>
                  <a:lnTo>
                    <a:pt x="531" y="1809"/>
                  </a:lnTo>
                  <a:lnTo>
                    <a:pt x="498" y="1815"/>
                  </a:lnTo>
                  <a:lnTo>
                    <a:pt x="470" y="1827"/>
                  </a:lnTo>
                  <a:lnTo>
                    <a:pt x="409" y="1850"/>
                  </a:lnTo>
                  <a:lnTo>
                    <a:pt x="332" y="1896"/>
                  </a:lnTo>
                  <a:lnTo>
                    <a:pt x="288" y="1919"/>
                  </a:lnTo>
                  <a:lnTo>
                    <a:pt x="249" y="1948"/>
                  </a:lnTo>
                  <a:lnTo>
                    <a:pt x="232" y="1959"/>
                  </a:lnTo>
                  <a:lnTo>
                    <a:pt x="210" y="1971"/>
                  </a:lnTo>
                  <a:lnTo>
                    <a:pt x="199" y="1976"/>
                  </a:lnTo>
                  <a:lnTo>
                    <a:pt x="188" y="1982"/>
                  </a:lnTo>
                  <a:lnTo>
                    <a:pt x="177" y="1994"/>
                  </a:lnTo>
                  <a:lnTo>
                    <a:pt x="171" y="1994"/>
                  </a:lnTo>
                  <a:lnTo>
                    <a:pt x="166" y="2011"/>
                  </a:lnTo>
                  <a:lnTo>
                    <a:pt x="160" y="2022"/>
                  </a:lnTo>
                  <a:lnTo>
                    <a:pt x="160" y="2034"/>
                  </a:lnTo>
                  <a:lnTo>
                    <a:pt x="160" y="2022"/>
                  </a:lnTo>
                  <a:lnTo>
                    <a:pt x="160" y="2017"/>
                  </a:lnTo>
                  <a:lnTo>
                    <a:pt x="149" y="2034"/>
                  </a:lnTo>
                  <a:lnTo>
                    <a:pt x="138" y="2045"/>
                  </a:lnTo>
                  <a:lnTo>
                    <a:pt x="127" y="2069"/>
                  </a:lnTo>
                  <a:lnTo>
                    <a:pt x="116" y="2086"/>
                  </a:lnTo>
                  <a:lnTo>
                    <a:pt x="111" y="2109"/>
                  </a:lnTo>
                  <a:lnTo>
                    <a:pt x="99" y="2155"/>
                  </a:lnTo>
                  <a:lnTo>
                    <a:pt x="105" y="2282"/>
                  </a:lnTo>
                  <a:lnTo>
                    <a:pt x="105" y="2339"/>
                  </a:lnTo>
                  <a:lnTo>
                    <a:pt x="111" y="2403"/>
                  </a:lnTo>
                  <a:lnTo>
                    <a:pt x="122" y="2420"/>
                  </a:lnTo>
                  <a:lnTo>
                    <a:pt x="144" y="2443"/>
                  </a:lnTo>
                  <a:lnTo>
                    <a:pt x="160" y="2460"/>
                  </a:lnTo>
                  <a:lnTo>
                    <a:pt x="171" y="2472"/>
                  </a:lnTo>
                  <a:lnTo>
                    <a:pt x="210" y="2501"/>
                  </a:lnTo>
                  <a:lnTo>
                    <a:pt x="254" y="2518"/>
                  </a:lnTo>
                  <a:lnTo>
                    <a:pt x="359" y="2547"/>
                  </a:lnTo>
                  <a:lnTo>
                    <a:pt x="465" y="2558"/>
                  </a:lnTo>
                  <a:lnTo>
                    <a:pt x="514" y="2558"/>
                  </a:lnTo>
                  <a:lnTo>
                    <a:pt x="559" y="2558"/>
                  </a:lnTo>
                  <a:lnTo>
                    <a:pt x="642" y="2558"/>
                  </a:lnTo>
                  <a:lnTo>
                    <a:pt x="730" y="2558"/>
                  </a:lnTo>
                </a:path>
              </a:pathLst>
            </a:custGeom>
            <a:noFill/>
            <a:ln cap="rnd" w="7632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rot="16200000">
              <a:off x="4505760" y="38160"/>
              <a:ext cx="838440" cy="1066680"/>
            </a:xfrm>
            <a:prstGeom prst="rightArrow">
              <a:avLst>
                <a:gd name="adj1" fmla="val 50000"/>
                <a:gd name="adj2" fmla="val 25019"/>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6518160" y="152280"/>
            <a:ext cx="1812960" cy="5946840"/>
            <a:chOff x="6518160" y="152280"/>
            <a:chExt cx="1812960" cy="5946840"/>
          </a:xfrm>
        </p:grpSpPr>
        <p:grpSp>
          <p:nvGrpSpPr>
            <p:cNvPr id="79" name=""/>
            <p:cNvGrpSpPr/>
            <p:nvPr/>
          </p:nvGrpSpPr>
          <p:grpSpPr>
            <a:xfrm>
              <a:off x="6518160" y="1424160"/>
              <a:ext cx="1812960" cy="4674960"/>
              <a:chOff x="6518160" y="1424160"/>
              <a:chExt cx="1812960" cy="4674960"/>
            </a:xfrm>
          </p:grpSpPr>
          <p:sp>
            <p:nvSpPr>
              <p:cNvPr id="80" name=""/>
              <p:cNvSpPr/>
              <p:nvPr/>
            </p:nvSpPr>
            <p:spPr>
              <a:xfrm>
                <a:off x="6518160" y="3697200"/>
                <a:ext cx="1793880" cy="2401920"/>
              </a:xfrm>
              <a:custGeom>
                <a:avLst/>
                <a:gdLst/>
                <a:ahLst/>
                <a:rect l="l" t="t" r="r" b="b"/>
                <a:pathLst>
                  <a:path w="1130" h="1513">
                    <a:moveTo>
                      <a:pt x="868" y="6"/>
                    </a:moveTo>
                    <a:lnTo>
                      <a:pt x="640" y="0"/>
                    </a:lnTo>
                    <a:lnTo>
                      <a:pt x="522" y="0"/>
                    </a:lnTo>
                    <a:lnTo>
                      <a:pt x="404" y="12"/>
                    </a:lnTo>
                    <a:lnTo>
                      <a:pt x="371" y="25"/>
                    </a:lnTo>
                    <a:lnTo>
                      <a:pt x="328" y="37"/>
                    </a:lnTo>
                    <a:lnTo>
                      <a:pt x="303" y="49"/>
                    </a:lnTo>
                    <a:lnTo>
                      <a:pt x="295" y="55"/>
                    </a:lnTo>
                    <a:lnTo>
                      <a:pt x="286" y="55"/>
                    </a:lnTo>
                    <a:lnTo>
                      <a:pt x="295" y="55"/>
                    </a:lnTo>
                    <a:lnTo>
                      <a:pt x="286" y="55"/>
                    </a:lnTo>
                    <a:lnTo>
                      <a:pt x="261" y="62"/>
                    </a:lnTo>
                    <a:lnTo>
                      <a:pt x="244" y="74"/>
                    </a:lnTo>
                    <a:lnTo>
                      <a:pt x="219" y="86"/>
                    </a:lnTo>
                    <a:lnTo>
                      <a:pt x="194" y="99"/>
                    </a:lnTo>
                    <a:lnTo>
                      <a:pt x="168" y="105"/>
                    </a:lnTo>
                    <a:lnTo>
                      <a:pt x="151" y="117"/>
                    </a:lnTo>
                    <a:lnTo>
                      <a:pt x="143" y="117"/>
                    </a:lnTo>
                    <a:lnTo>
                      <a:pt x="109" y="135"/>
                    </a:lnTo>
                    <a:lnTo>
                      <a:pt x="101" y="148"/>
                    </a:lnTo>
                    <a:lnTo>
                      <a:pt x="101" y="160"/>
                    </a:lnTo>
                    <a:lnTo>
                      <a:pt x="109" y="191"/>
                    </a:lnTo>
                    <a:lnTo>
                      <a:pt x="118" y="215"/>
                    </a:lnTo>
                    <a:lnTo>
                      <a:pt x="143" y="234"/>
                    </a:lnTo>
                    <a:lnTo>
                      <a:pt x="194" y="246"/>
                    </a:lnTo>
                    <a:lnTo>
                      <a:pt x="278" y="277"/>
                    </a:lnTo>
                    <a:lnTo>
                      <a:pt x="379" y="295"/>
                    </a:lnTo>
                    <a:lnTo>
                      <a:pt x="573" y="320"/>
                    </a:lnTo>
                    <a:lnTo>
                      <a:pt x="817" y="320"/>
                    </a:lnTo>
                    <a:lnTo>
                      <a:pt x="1053" y="314"/>
                    </a:lnTo>
                    <a:lnTo>
                      <a:pt x="1070" y="301"/>
                    </a:lnTo>
                    <a:lnTo>
                      <a:pt x="1079" y="289"/>
                    </a:lnTo>
                    <a:lnTo>
                      <a:pt x="1079" y="258"/>
                    </a:lnTo>
                    <a:lnTo>
                      <a:pt x="1070" y="221"/>
                    </a:lnTo>
                    <a:lnTo>
                      <a:pt x="1053" y="209"/>
                    </a:lnTo>
                    <a:lnTo>
                      <a:pt x="1037" y="203"/>
                    </a:lnTo>
                    <a:lnTo>
                      <a:pt x="994" y="197"/>
                    </a:lnTo>
                    <a:lnTo>
                      <a:pt x="944" y="185"/>
                    </a:lnTo>
                    <a:lnTo>
                      <a:pt x="885" y="172"/>
                    </a:lnTo>
                    <a:lnTo>
                      <a:pt x="834" y="166"/>
                    </a:lnTo>
                    <a:lnTo>
                      <a:pt x="775" y="160"/>
                    </a:lnTo>
                    <a:lnTo>
                      <a:pt x="708" y="160"/>
                    </a:lnTo>
                    <a:lnTo>
                      <a:pt x="657" y="166"/>
                    </a:lnTo>
                    <a:lnTo>
                      <a:pt x="556" y="166"/>
                    </a:lnTo>
                    <a:lnTo>
                      <a:pt x="472" y="172"/>
                    </a:lnTo>
                    <a:lnTo>
                      <a:pt x="371" y="191"/>
                    </a:lnTo>
                    <a:lnTo>
                      <a:pt x="295" y="215"/>
                    </a:lnTo>
                    <a:lnTo>
                      <a:pt x="219" y="240"/>
                    </a:lnTo>
                    <a:lnTo>
                      <a:pt x="126" y="277"/>
                    </a:lnTo>
                    <a:lnTo>
                      <a:pt x="84" y="301"/>
                    </a:lnTo>
                    <a:lnTo>
                      <a:pt x="50" y="332"/>
                    </a:lnTo>
                    <a:lnTo>
                      <a:pt x="16" y="387"/>
                    </a:lnTo>
                    <a:lnTo>
                      <a:pt x="0" y="437"/>
                    </a:lnTo>
                    <a:lnTo>
                      <a:pt x="25" y="473"/>
                    </a:lnTo>
                    <a:lnTo>
                      <a:pt x="67" y="504"/>
                    </a:lnTo>
                    <a:lnTo>
                      <a:pt x="126" y="529"/>
                    </a:lnTo>
                    <a:lnTo>
                      <a:pt x="194" y="541"/>
                    </a:lnTo>
                    <a:lnTo>
                      <a:pt x="303" y="566"/>
                    </a:lnTo>
                    <a:lnTo>
                      <a:pt x="421" y="584"/>
                    </a:lnTo>
                    <a:lnTo>
                      <a:pt x="649" y="609"/>
                    </a:lnTo>
                    <a:lnTo>
                      <a:pt x="826" y="609"/>
                    </a:lnTo>
                    <a:lnTo>
                      <a:pt x="1011" y="602"/>
                    </a:lnTo>
                    <a:lnTo>
                      <a:pt x="1037" y="602"/>
                    </a:lnTo>
                    <a:lnTo>
                      <a:pt x="1053" y="596"/>
                    </a:lnTo>
                    <a:lnTo>
                      <a:pt x="1070" y="590"/>
                    </a:lnTo>
                    <a:lnTo>
                      <a:pt x="1079" y="584"/>
                    </a:lnTo>
                    <a:lnTo>
                      <a:pt x="1104" y="559"/>
                    </a:lnTo>
                    <a:lnTo>
                      <a:pt x="1104" y="535"/>
                    </a:lnTo>
                    <a:lnTo>
                      <a:pt x="1096" y="516"/>
                    </a:lnTo>
                    <a:lnTo>
                      <a:pt x="1070" y="498"/>
                    </a:lnTo>
                    <a:lnTo>
                      <a:pt x="1037" y="480"/>
                    </a:lnTo>
                    <a:lnTo>
                      <a:pt x="994" y="467"/>
                    </a:lnTo>
                    <a:lnTo>
                      <a:pt x="919" y="449"/>
                    </a:lnTo>
                    <a:lnTo>
                      <a:pt x="843" y="430"/>
                    </a:lnTo>
                    <a:lnTo>
                      <a:pt x="758" y="424"/>
                    </a:lnTo>
                    <a:lnTo>
                      <a:pt x="674" y="430"/>
                    </a:lnTo>
                    <a:lnTo>
                      <a:pt x="590" y="437"/>
                    </a:lnTo>
                    <a:lnTo>
                      <a:pt x="564" y="437"/>
                    </a:lnTo>
                    <a:lnTo>
                      <a:pt x="539" y="443"/>
                    </a:lnTo>
                    <a:lnTo>
                      <a:pt x="514" y="449"/>
                    </a:lnTo>
                    <a:lnTo>
                      <a:pt x="489" y="449"/>
                    </a:lnTo>
                    <a:lnTo>
                      <a:pt x="472" y="455"/>
                    </a:lnTo>
                    <a:lnTo>
                      <a:pt x="463" y="455"/>
                    </a:lnTo>
                    <a:lnTo>
                      <a:pt x="438" y="467"/>
                    </a:lnTo>
                    <a:lnTo>
                      <a:pt x="421" y="473"/>
                    </a:lnTo>
                    <a:lnTo>
                      <a:pt x="430" y="473"/>
                    </a:lnTo>
                    <a:lnTo>
                      <a:pt x="438" y="467"/>
                    </a:lnTo>
                    <a:lnTo>
                      <a:pt x="421" y="473"/>
                    </a:lnTo>
                    <a:lnTo>
                      <a:pt x="396" y="480"/>
                    </a:lnTo>
                    <a:lnTo>
                      <a:pt x="379" y="486"/>
                    </a:lnTo>
                    <a:lnTo>
                      <a:pt x="354" y="492"/>
                    </a:lnTo>
                    <a:lnTo>
                      <a:pt x="328" y="498"/>
                    </a:lnTo>
                    <a:lnTo>
                      <a:pt x="303" y="498"/>
                    </a:lnTo>
                    <a:lnTo>
                      <a:pt x="286" y="504"/>
                    </a:lnTo>
                    <a:lnTo>
                      <a:pt x="278" y="504"/>
                    </a:lnTo>
                    <a:lnTo>
                      <a:pt x="261" y="523"/>
                    </a:lnTo>
                    <a:lnTo>
                      <a:pt x="253" y="535"/>
                    </a:lnTo>
                    <a:lnTo>
                      <a:pt x="244" y="547"/>
                    </a:lnTo>
                    <a:lnTo>
                      <a:pt x="227" y="553"/>
                    </a:lnTo>
                    <a:lnTo>
                      <a:pt x="219" y="559"/>
                    </a:lnTo>
                    <a:lnTo>
                      <a:pt x="194" y="566"/>
                    </a:lnTo>
                    <a:lnTo>
                      <a:pt x="143" y="609"/>
                    </a:lnTo>
                    <a:lnTo>
                      <a:pt x="101" y="652"/>
                    </a:lnTo>
                    <a:lnTo>
                      <a:pt x="92" y="664"/>
                    </a:lnTo>
                    <a:lnTo>
                      <a:pt x="84" y="676"/>
                    </a:lnTo>
                    <a:lnTo>
                      <a:pt x="75" y="688"/>
                    </a:lnTo>
                    <a:lnTo>
                      <a:pt x="75" y="695"/>
                    </a:lnTo>
                    <a:lnTo>
                      <a:pt x="75" y="713"/>
                    </a:lnTo>
                    <a:lnTo>
                      <a:pt x="75" y="744"/>
                    </a:lnTo>
                    <a:lnTo>
                      <a:pt x="84" y="781"/>
                    </a:lnTo>
                    <a:lnTo>
                      <a:pt x="101" y="805"/>
                    </a:lnTo>
                    <a:lnTo>
                      <a:pt x="118" y="830"/>
                    </a:lnTo>
                    <a:lnTo>
                      <a:pt x="143" y="848"/>
                    </a:lnTo>
                    <a:lnTo>
                      <a:pt x="160" y="861"/>
                    </a:lnTo>
                    <a:lnTo>
                      <a:pt x="168" y="873"/>
                    </a:lnTo>
                    <a:lnTo>
                      <a:pt x="261" y="897"/>
                    </a:lnTo>
                    <a:lnTo>
                      <a:pt x="354" y="916"/>
                    </a:lnTo>
                    <a:lnTo>
                      <a:pt x="556" y="940"/>
                    </a:lnTo>
                    <a:lnTo>
                      <a:pt x="590" y="940"/>
                    </a:lnTo>
                    <a:lnTo>
                      <a:pt x="649" y="947"/>
                    </a:lnTo>
                    <a:lnTo>
                      <a:pt x="725" y="953"/>
                    </a:lnTo>
                    <a:lnTo>
                      <a:pt x="809" y="959"/>
                    </a:lnTo>
                    <a:lnTo>
                      <a:pt x="885" y="959"/>
                    </a:lnTo>
                    <a:lnTo>
                      <a:pt x="969" y="953"/>
                    </a:lnTo>
                    <a:lnTo>
                      <a:pt x="1028" y="934"/>
                    </a:lnTo>
                    <a:lnTo>
                      <a:pt x="1079" y="910"/>
                    </a:lnTo>
                    <a:lnTo>
                      <a:pt x="1079" y="897"/>
                    </a:lnTo>
                    <a:lnTo>
                      <a:pt x="1079" y="879"/>
                    </a:lnTo>
                    <a:lnTo>
                      <a:pt x="1070" y="836"/>
                    </a:lnTo>
                    <a:lnTo>
                      <a:pt x="1053" y="787"/>
                    </a:lnTo>
                    <a:lnTo>
                      <a:pt x="1037" y="775"/>
                    </a:lnTo>
                    <a:lnTo>
                      <a:pt x="1020" y="762"/>
                    </a:lnTo>
                    <a:lnTo>
                      <a:pt x="994" y="756"/>
                    </a:lnTo>
                    <a:lnTo>
                      <a:pt x="961" y="750"/>
                    </a:lnTo>
                    <a:lnTo>
                      <a:pt x="927" y="744"/>
                    </a:lnTo>
                    <a:lnTo>
                      <a:pt x="893" y="738"/>
                    </a:lnTo>
                    <a:lnTo>
                      <a:pt x="775" y="744"/>
                    </a:lnTo>
                    <a:lnTo>
                      <a:pt x="674" y="750"/>
                    </a:lnTo>
                    <a:lnTo>
                      <a:pt x="564" y="762"/>
                    </a:lnTo>
                    <a:lnTo>
                      <a:pt x="455" y="781"/>
                    </a:lnTo>
                    <a:lnTo>
                      <a:pt x="379" y="811"/>
                    </a:lnTo>
                    <a:lnTo>
                      <a:pt x="295" y="836"/>
                    </a:lnTo>
                    <a:lnTo>
                      <a:pt x="219" y="873"/>
                    </a:lnTo>
                    <a:lnTo>
                      <a:pt x="151" y="910"/>
                    </a:lnTo>
                    <a:lnTo>
                      <a:pt x="109" y="953"/>
                    </a:lnTo>
                    <a:lnTo>
                      <a:pt x="75" y="1008"/>
                    </a:lnTo>
                    <a:lnTo>
                      <a:pt x="101" y="1057"/>
                    </a:lnTo>
                    <a:lnTo>
                      <a:pt x="126" y="1100"/>
                    </a:lnTo>
                    <a:lnTo>
                      <a:pt x="168" y="1137"/>
                    </a:lnTo>
                    <a:lnTo>
                      <a:pt x="236" y="1174"/>
                    </a:lnTo>
                    <a:lnTo>
                      <a:pt x="269" y="1186"/>
                    </a:lnTo>
                    <a:lnTo>
                      <a:pt x="312" y="1199"/>
                    </a:lnTo>
                    <a:lnTo>
                      <a:pt x="354" y="1205"/>
                    </a:lnTo>
                    <a:lnTo>
                      <a:pt x="396" y="1211"/>
                    </a:lnTo>
                    <a:lnTo>
                      <a:pt x="581" y="1211"/>
                    </a:lnTo>
                    <a:lnTo>
                      <a:pt x="750" y="1211"/>
                    </a:lnTo>
                    <a:lnTo>
                      <a:pt x="910" y="1199"/>
                    </a:lnTo>
                    <a:lnTo>
                      <a:pt x="1079" y="1174"/>
                    </a:lnTo>
                    <a:lnTo>
                      <a:pt x="1104" y="1168"/>
                    </a:lnTo>
                    <a:lnTo>
                      <a:pt x="1121" y="1162"/>
                    </a:lnTo>
                    <a:lnTo>
                      <a:pt x="1129" y="1149"/>
                    </a:lnTo>
                    <a:lnTo>
                      <a:pt x="1129" y="1143"/>
                    </a:lnTo>
                    <a:lnTo>
                      <a:pt x="1112" y="1131"/>
                    </a:lnTo>
                    <a:lnTo>
                      <a:pt x="1079" y="1119"/>
                    </a:lnTo>
                    <a:lnTo>
                      <a:pt x="1045" y="1113"/>
                    </a:lnTo>
                    <a:lnTo>
                      <a:pt x="986" y="1094"/>
                    </a:lnTo>
                    <a:lnTo>
                      <a:pt x="919" y="1076"/>
                    </a:lnTo>
                    <a:lnTo>
                      <a:pt x="851" y="1070"/>
                    </a:lnTo>
                    <a:lnTo>
                      <a:pt x="784" y="1057"/>
                    </a:lnTo>
                    <a:lnTo>
                      <a:pt x="657" y="1063"/>
                    </a:lnTo>
                    <a:lnTo>
                      <a:pt x="531" y="1070"/>
                    </a:lnTo>
                    <a:lnTo>
                      <a:pt x="463" y="1076"/>
                    </a:lnTo>
                    <a:lnTo>
                      <a:pt x="404" y="1088"/>
                    </a:lnTo>
                    <a:lnTo>
                      <a:pt x="328" y="1119"/>
                    </a:lnTo>
                    <a:lnTo>
                      <a:pt x="244" y="1143"/>
                    </a:lnTo>
                    <a:lnTo>
                      <a:pt x="227" y="1156"/>
                    </a:lnTo>
                    <a:lnTo>
                      <a:pt x="210" y="1162"/>
                    </a:lnTo>
                    <a:lnTo>
                      <a:pt x="185" y="1168"/>
                    </a:lnTo>
                    <a:lnTo>
                      <a:pt x="177" y="1174"/>
                    </a:lnTo>
                    <a:lnTo>
                      <a:pt x="168" y="1174"/>
                    </a:lnTo>
                    <a:lnTo>
                      <a:pt x="160" y="1192"/>
                    </a:lnTo>
                    <a:lnTo>
                      <a:pt x="160" y="1199"/>
                    </a:lnTo>
                    <a:lnTo>
                      <a:pt x="160" y="1192"/>
                    </a:lnTo>
                    <a:lnTo>
                      <a:pt x="160" y="1186"/>
                    </a:lnTo>
                    <a:lnTo>
                      <a:pt x="151" y="1186"/>
                    </a:lnTo>
                    <a:lnTo>
                      <a:pt x="143" y="1192"/>
                    </a:lnTo>
                    <a:lnTo>
                      <a:pt x="118" y="1217"/>
                    </a:lnTo>
                    <a:lnTo>
                      <a:pt x="109" y="1248"/>
                    </a:lnTo>
                    <a:lnTo>
                      <a:pt x="101" y="1272"/>
                    </a:lnTo>
                    <a:lnTo>
                      <a:pt x="101" y="1346"/>
                    </a:lnTo>
                    <a:lnTo>
                      <a:pt x="109" y="1414"/>
                    </a:lnTo>
                    <a:lnTo>
                      <a:pt x="118" y="1426"/>
                    </a:lnTo>
                    <a:lnTo>
                      <a:pt x="134" y="1438"/>
                    </a:lnTo>
                    <a:lnTo>
                      <a:pt x="160" y="1451"/>
                    </a:lnTo>
                    <a:lnTo>
                      <a:pt x="168" y="1457"/>
                    </a:lnTo>
                    <a:lnTo>
                      <a:pt x="210" y="1475"/>
                    </a:lnTo>
                    <a:lnTo>
                      <a:pt x="253" y="1487"/>
                    </a:lnTo>
                    <a:lnTo>
                      <a:pt x="354" y="1500"/>
                    </a:lnTo>
                    <a:lnTo>
                      <a:pt x="463" y="1506"/>
                    </a:lnTo>
                    <a:lnTo>
                      <a:pt x="556" y="1512"/>
                    </a:lnTo>
                    <a:lnTo>
                      <a:pt x="640" y="1512"/>
                    </a:lnTo>
                    <a:lnTo>
                      <a:pt x="725" y="1512"/>
                    </a:lnTo>
                  </a:path>
                </a:pathLst>
              </a:custGeom>
              <a:noFill/>
              <a:ln cap="rnd" w="7632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532560" y="1424160"/>
                <a:ext cx="1798560" cy="2400120"/>
              </a:xfrm>
              <a:custGeom>
                <a:avLst/>
                <a:gdLst/>
                <a:ahLst/>
                <a:rect l="l" t="t" r="r" b="b"/>
                <a:pathLst>
                  <a:path w="1133" h="1512">
                    <a:moveTo>
                      <a:pt x="879" y="1504"/>
                    </a:moveTo>
                    <a:lnTo>
                      <a:pt x="760" y="1507"/>
                    </a:lnTo>
                    <a:lnTo>
                      <a:pt x="642" y="1511"/>
                    </a:lnTo>
                    <a:lnTo>
                      <a:pt x="524" y="1507"/>
                    </a:lnTo>
                    <a:lnTo>
                      <a:pt x="406" y="1496"/>
                    </a:lnTo>
                    <a:lnTo>
                      <a:pt x="372" y="1484"/>
                    </a:lnTo>
                    <a:lnTo>
                      <a:pt x="338" y="1473"/>
                    </a:lnTo>
                    <a:lnTo>
                      <a:pt x="313" y="1461"/>
                    </a:lnTo>
                    <a:lnTo>
                      <a:pt x="296" y="1457"/>
                    </a:lnTo>
                    <a:lnTo>
                      <a:pt x="296" y="1453"/>
                    </a:lnTo>
                    <a:lnTo>
                      <a:pt x="287" y="1449"/>
                    </a:lnTo>
                    <a:lnTo>
                      <a:pt x="262" y="1446"/>
                    </a:lnTo>
                    <a:lnTo>
                      <a:pt x="245" y="1434"/>
                    </a:lnTo>
                    <a:lnTo>
                      <a:pt x="220" y="1422"/>
                    </a:lnTo>
                    <a:lnTo>
                      <a:pt x="203" y="1415"/>
                    </a:lnTo>
                    <a:lnTo>
                      <a:pt x="177" y="1403"/>
                    </a:lnTo>
                    <a:lnTo>
                      <a:pt x="160" y="1395"/>
                    </a:lnTo>
                    <a:lnTo>
                      <a:pt x="152" y="1391"/>
                    </a:lnTo>
                    <a:lnTo>
                      <a:pt x="135" y="1384"/>
                    </a:lnTo>
                    <a:lnTo>
                      <a:pt x="118" y="1372"/>
                    </a:lnTo>
                    <a:lnTo>
                      <a:pt x="101" y="1361"/>
                    </a:lnTo>
                    <a:lnTo>
                      <a:pt x="101" y="1349"/>
                    </a:lnTo>
                    <a:lnTo>
                      <a:pt x="110" y="1318"/>
                    </a:lnTo>
                    <a:lnTo>
                      <a:pt x="127" y="1295"/>
                    </a:lnTo>
                    <a:lnTo>
                      <a:pt x="144" y="1275"/>
                    </a:lnTo>
                    <a:lnTo>
                      <a:pt x="169" y="1272"/>
                    </a:lnTo>
                    <a:lnTo>
                      <a:pt x="194" y="1264"/>
                    </a:lnTo>
                    <a:lnTo>
                      <a:pt x="279" y="1233"/>
                    </a:lnTo>
                    <a:lnTo>
                      <a:pt x="380" y="1214"/>
                    </a:lnTo>
                    <a:lnTo>
                      <a:pt x="482" y="1198"/>
                    </a:lnTo>
                    <a:lnTo>
                      <a:pt x="583" y="1190"/>
                    </a:lnTo>
                    <a:lnTo>
                      <a:pt x="820" y="1190"/>
                    </a:lnTo>
                    <a:lnTo>
                      <a:pt x="938" y="1190"/>
                    </a:lnTo>
                    <a:lnTo>
                      <a:pt x="1056" y="1198"/>
                    </a:lnTo>
                    <a:lnTo>
                      <a:pt x="1065" y="1202"/>
                    </a:lnTo>
                    <a:lnTo>
                      <a:pt x="1073" y="1206"/>
                    </a:lnTo>
                    <a:lnTo>
                      <a:pt x="1082" y="1217"/>
                    </a:lnTo>
                    <a:lnTo>
                      <a:pt x="1082" y="1252"/>
                    </a:lnTo>
                    <a:lnTo>
                      <a:pt x="1073" y="1283"/>
                    </a:lnTo>
                    <a:lnTo>
                      <a:pt x="1056" y="1299"/>
                    </a:lnTo>
                    <a:lnTo>
                      <a:pt x="1039" y="1306"/>
                    </a:lnTo>
                    <a:lnTo>
                      <a:pt x="1022" y="1310"/>
                    </a:lnTo>
                    <a:lnTo>
                      <a:pt x="997" y="1314"/>
                    </a:lnTo>
                    <a:lnTo>
                      <a:pt x="946" y="1326"/>
                    </a:lnTo>
                    <a:lnTo>
                      <a:pt x="887" y="1337"/>
                    </a:lnTo>
                    <a:lnTo>
                      <a:pt x="836" y="1341"/>
                    </a:lnTo>
                    <a:lnTo>
                      <a:pt x="777" y="1349"/>
                    </a:lnTo>
                    <a:lnTo>
                      <a:pt x="710" y="1349"/>
                    </a:lnTo>
                    <a:lnTo>
                      <a:pt x="659" y="1349"/>
                    </a:lnTo>
                    <a:lnTo>
                      <a:pt x="558" y="1345"/>
                    </a:lnTo>
                    <a:lnTo>
                      <a:pt x="473" y="1337"/>
                    </a:lnTo>
                    <a:lnTo>
                      <a:pt x="372" y="1322"/>
                    </a:lnTo>
                    <a:lnTo>
                      <a:pt x="296" y="1291"/>
                    </a:lnTo>
                    <a:lnTo>
                      <a:pt x="262" y="1279"/>
                    </a:lnTo>
                    <a:lnTo>
                      <a:pt x="220" y="1272"/>
                    </a:lnTo>
                    <a:lnTo>
                      <a:pt x="127" y="1229"/>
                    </a:lnTo>
                    <a:lnTo>
                      <a:pt x="84" y="1202"/>
                    </a:lnTo>
                    <a:lnTo>
                      <a:pt x="51" y="1175"/>
                    </a:lnTo>
                    <a:lnTo>
                      <a:pt x="25" y="1125"/>
                    </a:lnTo>
                    <a:lnTo>
                      <a:pt x="0" y="1074"/>
                    </a:lnTo>
                    <a:lnTo>
                      <a:pt x="8" y="1051"/>
                    </a:lnTo>
                    <a:lnTo>
                      <a:pt x="25" y="1032"/>
                    </a:lnTo>
                    <a:lnTo>
                      <a:pt x="76" y="1001"/>
                    </a:lnTo>
                    <a:lnTo>
                      <a:pt x="127" y="982"/>
                    </a:lnTo>
                    <a:lnTo>
                      <a:pt x="194" y="962"/>
                    </a:lnTo>
                    <a:lnTo>
                      <a:pt x="304" y="943"/>
                    </a:lnTo>
                    <a:lnTo>
                      <a:pt x="422" y="924"/>
                    </a:lnTo>
                    <a:lnTo>
                      <a:pt x="651" y="901"/>
                    </a:lnTo>
                    <a:lnTo>
                      <a:pt x="836" y="901"/>
                    </a:lnTo>
                    <a:lnTo>
                      <a:pt x="1014" y="908"/>
                    </a:lnTo>
                    <a:lnTo>
                      <a:pt x="1039" y="912"/>
                    </a:lnTo>
                    <a:lnTo>
                      <a:pt x="1056" y="916"/>
                    </a:lnTo>
                    <a:lnTo>
                      <a:pt x="1073" y="920"/>
                    </a:lnTo>
                    <a:lnTo>
                      <a:pt x="1082" y="920"/>
                    </a:lnTo>
                    <a:lnTo>
                      <a:pt x="1107" y="947"/>
                    </a:lnTo>
                    <a:lnTo>
                      <a:pt x="1107" y="970"/>
                    </a:lnTo>
                    <a:lnTo>
                      <a:pt x="1098" y="989"/>
                    </a:lnTo>
                    <a:lnTo>
                      <a:pt x="1073" y="1009"/>
                    </a:lnTo>
                    <a:lnTo>
                      <a:pt x="1039" y="1024"/>
                    </a:lnTo>
                    <a:lnTo>
                      <a:pt x="997" y="1040"/>
                    </a:lnTo>
                    <a:lnTo>
                      <a:pt x="921" y="1059"/>
                    </a:lnTo>
                    <a:lnTo>
                      <a:pt x="887" y="1071"/>
                    </a:lnTo>
                    <a:lnTo>
                      <a:pt x="845" y="1078"/>
                    </a:lnTo>
                    <a:lnTo>
                      <a:pt x="760" y="1082"/>
                    </a:lnTo>
                    <a:lnTo>
                      <a:pt x="676" y="1078"/>
                    </a:lnTo>
                    <a:lnTo>
                      <a:pt x="591" y="1074"/>
                    </a:lnTo>
                    <a:lnTo>
                      <a:pt x="566" y="1071"/>
                    </a:lnTo>
                    <a:lnTo>
                      <a:pt x="541" y="1067"/>
                    </a:lnTo>
                    <a:lnTo>
                      <a:pt x="498" y="1059"/>
                    </a:lnTo>
                    <a:lnTo>
                      <a:pt x="482" y="1055"/>
                    </a:lnTo>
                    <a:lnTo>
                      <a:pt x="473" y="1051"/>
                    </a:lnTo>
                    <a:lnTo>
                      <a:pt x="439" y="1040"/>
                    </a:lnTo>
                    <a:lnTo>
                      <a:pt x="431" y="1036"/>
                    </a:lnTo>
                    <a:lnTo>
                      <a:pt x="431" y="1032"/>
                    </a:lnTo>
                    <a:lnTo>
                      <a:pt x="431" y="1036"/>
                    </a:lnTo>
                    <a:lnTo>
                      <a:pt x="439" y="1040"/>
                    </a:lnTo>
                    <a:lnTo>
                      <a:pt x="422" y="1036"/>
                    </a:lnTo>
                    <a:lnTo>
                      <a:pt x="397" y="1028"/>
                    </a:lnTo>
                    <a:lnTo>
                      <a:pt x="380" y="1024"/>
                    </a:lnTo>
                    <a:lnTo>
                      <a:pt x="355" y="1016"/>
                    </a:lnTo>
                    <a:lnTo>
                      <a:pt x="338" y="1013"/>
                    </a:lnTo>
                    <a:lnTo>
                      <a:pt x="313" y="1005"/>
                    </a:lnTo>
                    <a:lnTo>
                      <a:pt x="296" y="1001"/>
                    </a:lnTo>
                    <a:lnTo>
                      <a:pt x="287" y="1001"/>
                    </a:lnTo>
                    <a:lnTo>
                      <a:pt x="270" y="986"/>
                    </a:lnTo>
                    <a:lnTo>
                      <a:pt x="253" y="974"/>
                    </a:lnTo>
                    <a:lnTo>
                      <a:pt x="245" y="962"/>
                    </a:lnTo>
                    <a:lnTo>
                      <a:pt x="228" y="955"/>
                    </a:lnTo>
                    <a:lnTo>
                      <a:pt x="220" y="951"/>
                    </a:lnTo>
                    <a:lnTo>
                      <a:pt x="194" y="943"/>
                    </a:lnTo>
                    <a:lnTo>
                      <a:pt x="144" y="901"/>
                    </a:lnTo>
                    <a:lnTo>
                      <a:pt x="118" y="877"/>
                    </a:lnTo>
                    <a:lnTo>
                      <a:pt x="101" y="854"/>
                    </a:lnTo>
                    <a:lnTo>
                      <a:pt x="93" y="843"/>
                    </a:lnTo>
                    <a:lnTo>
                      <a:pt x="84" y="827"/>
                    </a:lnTo>
                    <a:lnTo>
                      <a:pt x="76" y="815"/>
                    </a:lnTo>
                    <a:lnTo>
                      <a:pt x="76" y="812"/>
                    </a:lnTo>
                    <a:lnTo>
                      <a:pt x="76" y="804"/>
                    </a:lnTo>
                    <a:lnTo>
                      <a:pt x="76" y="792"/>
                    </a:lnTo>
                    <a:lnTo>
                      <a:pt x="76" y="761"/>
                    </a:lnTo>
                    <a:lnTo>
                      <a:pt x="84" y="730"/>
                    </a:lnTo>
                    <a:lnTo>
                      <a:pt x="101" y="703"/>
                    </a:lnTo>
                    <a:lnTo>
                      <a:pt x="127" y="680"/>
                    </a:lnTo>
                    <a:lnTo>
                      <a:pt x="152" y="661"/>
                    </a:lnTo>
                    <a:lnTo>
                      <a:pt x="160" y="649"/>
                    </a:lnTo>
                    <a:lnTo>
                      <a:pt x="169" y="638"/>
                    </a:lnTo>
                    <a:lnTo>
                      <a:pt x="262" y="611"/>
                    </a:lnTo>
                    <a:lnTo>
                      <a:pt x="355" y="591"/>
                    </a:lnTo>
                    <a:lnTo>
                      <a:pt x="456" y="576"/>
                    </a:lnTo>
                    <a:lnTo>
                      <a:pt x="558" y="564"/>
                    </a:lnTo>
                    <a:lnTo>
                      <a:pt x="600" y="564"/>
                    </a:lnTo>
                    <a:lnTo>
                      <a:pt x="659" y="556"/>
                    </a:lnTo>
                    <a:lnTo>
                      <a:pt x="727" y="553"/>
                    </a:lnTo>
                    <a:lnTo>
                      <a:pt x="811" y="549"/>
                    </a:lnTo>
                    <a:lnTo>
                      <a:pt x="896" y="553"/>
                    </a:lnTo>
                    <a:lnTo>
                      <a:pt x="972" y="560"/>
                    </a:lnTo>
                    <a:lnTo>
                      <a:pt x="1039" y="576"/>
                    </a:lnTo>
                    <a:lnTo>
                      <a:pt x="1082" y="603"/>
                    </a:lnTo>
                    <a:lnTo>
                      <a:pt x="1082" y="614"/>
                    </a:lnTo>
                    <a:lnTo>
                      <a:pt x="1082" y="630"/>
                    </a:lnTo>
                    <a:lnTo>
                      <a:pt x="1073" y="649"/>
                    </a:lnTo>
                    <a:lnTo>
                      <a:pt x="1073" y="672"/>
                    </a:lnTo>
                    <a:lnTo>
                      <a:pt x="1065" y="696"/>
                    </a:lnTo>
                    <a:lnTo>
                      <a:pt x="1056" y="719"/>
                    </a:lnTo>
                    <a:lnTo>
                      <a:pt x="1039" y="734"/>
                    </a:lnTo>
                    <a:lnTo>
                      <a:pt x="1022" y="746"/>
                    </a:lnTo>
                    <a:lnTo>
                      <a:pt x="997" y="754"/>
                    </a:lnTo>
                    <a:lnTo>
                      <a:pt x="963" y="757"/>
                    </a:lnTo>
                    <a:lnTo>
                      <a:pt x="929" y="765"/>
                    </a:lnTo>
                    <a:lnTo>
                      <a:pt x="904" y="769"/>
                    </a:lnTo>
                    <a:lnTo>
                      <a:pt x="786" y="761"/>
                    </a:lnTo>
                    <a:lnTo>
                      <a:pt x="676" y="754"/>
                    </a:lnTo>
                    <a:lnTo>
                      <a:pt x="566" y="742"/>
                    </a:lnTo>
                    <a:lnTo>
                      <a:pt x="456" y="727"/>
                    </a:lnTo>
                    <a:lnTo>
                      <a:pt x="380" y="696"/>
                    </a:lnTo>
                    <a:lnTo>
                      <a:pt x="296" y="672"/>
                    </a:lnTo>
                    <a:lnTo>
                      <a:pt x="220" y="638"/>
                    </a:lnTo>
                    <a:lnTo>
                      <a:pt x="160" y="599"/>
                    </a:lnTo>
                    <a:lnTo>
                      <a:pt x="110" y="553"/>
                    </a:lnTo>
                    <a:lnTo>
                      <a:pt x="76" y="498"/>
                    </a:lnTo>
                    <a:lnTo>
                      <a:pt x="84" y="471"/>
                    </a:lnTo>
                    <a:lnTo>
                      <a:pt x="101" y="448"/>
                    </a:lnTo>
                    <a:lnTo>
                      <a:pt x="127" y="406"/>
                    </a:lnTo>
                    <a:lnTo>
                      <a:pt x="169" y="371"/>
                    </a:lnTo>
                    <a:lnTo>
                      <a:pt x="237" y="332"/>
                    </a:lnTo>
                    <a:lnTo>
                      <a:pt x="270" y="321"/>
                    </a:lnTo>
                    <a:lnTo>
                      <a:pt x="313" y="309"/>
                    </a:lnTo>
                    <a:lnTo>
                      <a:pt x="363" y="305"/>
                    </a:lnTo>
                    <a:lnTo>
                      <a:pt x="397" y="297"/>
                    </a:lnTo>
                    <a:lnTo>
                      <a:pt x="583" y="297"/>
                    </a:lnTo>
                    <a:lnTo>
                      <a:pt x="752" y="297"/>
                    </a:lnTo>
                    <a:lnTo>
                      <a:pt x="836" y="301"/>
                    </a:lnTo>
                    <a:lnTo>
                      <a:pt x="913" y="309"/>
                    </a:lnTo>
                    <a:lnTo>
                      <a:pt x="997" y="317"/>
                    </a:lnTo>
                    <a:lnTo>
                      <a:pt x="1082" y="332"/>
                    </a:lnTo>
                    <a:lnTo>
                      <a:pt x="1107" y="340"/>
                    </a:lnTo>
                    <a:lnTo>
                      <a:pt x="1124" y="348"/>
                    </a:lnTo>
                    <a:lnTo>
                      <a:pt x="1132" y="359"/>
                    </a:lnTo>
                    <a:lnTo>
                      <a:pt x="1132" y="367"/>
                    </a:lnTo>
                    <a:lnTo>
                      <a:pt x="1115" y="383"/>
                    </a:lnTo>
                    <a:lnTo>
                      <a:pt x="1082" y="390"/>
                    </a:lnTo>
                    <a:lnTo>
                      <a:pt x="1048" y="398"/>
                    </a:lnTo>
                    <a:lnTo>
                      <a:pt x="989" y="417"/>
                    </a:lnTo>
                    <a:lnTo>
                      <a:pt x="921" y="433"/>
                    </a:lnTo>
                    <a:lnTo>
                      <a:pt x="853" y="440"/>
                    </a:lnTo>
                    <a:lnTo>
                      <a:pt x="786" y="448"/>
                    </a:lnTo>
                    <a:lnTo>
                      <a:pt x="659" y="444"/>
                    </a:lnTo>
                    <a:lnTo>
                      <a:pt x="600" y="444"/>
                    </a:lnTo>
                    <a:lnTo>
                      <a:pt x="532" y="440"/>
                    </a:lnTo>
                    <a:lnTo>
                      <a:pt x="473" y="433"/>
                    </a:lnTo>
                    <a:lnTo>
                      <a:pt x="406" y="421"/>
                    </a:lnTo>
                    <a:lnTo>
                      <a:pt x="372" y="402"/>
                    </a:lnTo>
                    <a:lnTo>
                      <a:pt x="329" y="390"/>
                    </a:lnTo>
                    <a:lnTo>
                      <a:pt x="245" y="363"/>
                    </a:lnTo>
                    <a:lnTo>
                      <a:pt x="228" y="355"/>
                    </a:lnTo>
                    <a:lnTo>
                      <a:pt x="211" y="348"/>
                    </a:lnTo>
                    <a:lnTo>
                      <a:pt x="186" y="340"/>
                    </a:lnTo>
                    <a:lnTo>
                      <a:pt x="177" y="336"/>
                    </a:lnTo>
                    <a:lnTo>
                      <a:pt x="169" y="332"/>
                    </a:lnTo>
                    <a:lnTo>
                      <a:pt x="160" y="321"/>
                    </a:lnTo>
                    <a:lnTo>
                      <a:pt x="160" y="313"/>
                    </a:lnTo>
                    <a:lnTo>
                      <a:pt x="160" y="309"/>
                    </a:lnTo>
                    <a:lnTo>
                      <a:pt x="160" y="313"/>
                    </a:lnTo>
                    <a:lnTo>
                      <a:pt x="169" y="321"/>
                    </a:lnTo>
                    <a:lnTo>
                      <a:pt x="160" y="321"/>
                    </a:lnTo>
                    <a:lnTo>
                      <a:pt x="152" y="313"/>
                    </a:lnTo>
                    <a:lnTo>
                      <a:pt x="144" y="301"/>
                    </a:lnTo>
                    <a:lnTo>
                      <a:pt x="127" y="290"/>
                    </a:lnTo>
                    <a:lnTo>
                      <a:pt x="110" y="267"/>
                    </a:lnTo>
                    <a:lnTo>
                      <a:pt x="101" y="239"/>
                    </a:lnTo>
                    <a:lnTo>
                      <a:pt x="101" y="166"/>
                    </a:lnTo>
                    <a:lnTo>
                      <a:pt x="110" y="93"/>
                    </a:lnTo>
                    <a:lnTo>
                      <a:pt x="118" y="85"/>
                    </a:lnTo>
                    <a:lnTo>
                      <a:pt x="135" y="69"/>
                    </a:lnTo>
                    <a:lnTo>
                      <a:pt x="160" y="58"/>
                    </a:lnTo>
                    <a:lnTo>
                      <a:pt x="169" y="50"/>
                    </a:lnTo>
                    <a:lnTo>
                      <a:pt x="211" y="35"/>
                    </a:lnTo>
                    <a:lnTo>
                      <a:pt x="253" y="23"/>
                    </a:lnTo>
                    <a:lnTo>
                      <a:pt x="355" y="8"/>
                    </a:lnTo>
                    <a:lnTo>
                      <a:pt x="465" y="0"/>
                    </a:lnTo>
                    <a:lnTo>
                      <a:pt x="558" y="0"/>
                    </a:lnTo>
                    <a:lnTo>
                      <a:pt x="642" y="0"/>
                    </a:lnTo>
                    <a:lnTo>
                      <a:pt x="727" y="0"/>
                    </a:lnTo>
                  </a:path>
                </a:pathLst>
              </a:custGeom>
              <a:noFill/>
              <a:ln cap="rnd" w="7632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059680" y="3678120"/>
                <a:ext cx="158760" cy="142920"/>
              </a:xfrm>
              <a:custGeom>
                <a:avLst/>
                <a:gdLst/>
                <a:ahLst/>
                <a:rect l="l" t="t" r="r" b="b"/>
                <a:pathLst>
                  <a:path w="100" h="90">
                    <a:moveTo>
                      <a:pt x="8" y="0"/>
                    </a:moveTo>
                    <a:lnTo>
                      <a:pt x="41" y="8"/>
                    </a:lnTo>
                    <a:lnTo>
                      <a:pt x="58" y="16"/>
                    </a:lnTo>
                    <a:lnTo>
                      <a:pt x="82" y="20"/>
                    </a:lnTo>
                    <a:lnTo>
                      <a:pt x="82" y="24"/>
                    </a:lnTo>
                    <a:lnTo>
                      <a:pt x="91" y="31"/>
                    </a:lnTo>
                    <a:lnTo>
                      <a:pt x="91" y="43"/>
                    </a:lnTo>
                    <a:lnTo>
                      <a:pt x="99" y="62"/>
                    </a:lnTo>
                    <a:lnTo>
                      <a:pt x="74" y="74"/>
                    </a:lnTo>
                    <a:lnTo>
                      <a:pt x="58" y="81"/>
                    </a:lnTo>
                    <a:lnTo>
                      <a:pt x="41" y="89"/>
                    </a:lnTo>
                    <a:lnTo>
                      <a:pt x="24" y="89"/>
                    </a:lnTo>
                    <a:lnTo>
                      <a:pt x="0" y="89"/>
                    </a:lnTo>
                  </a:path>
                </a:pathLst>
              </a:custGeom>
              <a:noFill/>
              <a:ln cap="rnd" w="7632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859880" y="3851280"/>
                <a:ext cx="220320" cy="1440"/>
              </a:xfrm>
              <a:custGeom>
                <a:avLst/>
                <a:gdLst/>
                <a:ahLst/>
                <a:rect l="l" t="t" r="r" b="b"/>
                <a:pathLst>
                  <a:path w="139" h="1">
                    <a:moveTo>
                      <a:pt x="0" y="0"/>
                    </a:moveTo>
                    <a:lnTo>
                      <a:pt x="73" y="0"/>
                    </a:lnTo>
                    <a:lnTo>
                      <a:pt x="138" y="0"/>
                    </a:lnTo>
                  </a:path>
                </a:pathLst>
              </a:custGeom>
              <a:noFill/>
              <a:ln cap="rnd" w="76320">
                <a:solidFill>
                  <a:srgbClr val="ffff99"/>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a:off x="7902720" y="3683160"/>
                <a:ext cx="222120" cy="1440"/>
              </a:xfrm>
              <a:custGeom>
                <a:avLst/>
                <a:gdLst/>
                <a:ahLst/>
                <a:rect l="l" t="t" r="r" b="b"/>
                <a:pathLst>
                  <a:path w="140" h="1">
                    <a:moveTo>
                      <a:pt x="0" y="0"/>
                    </a:moveTo>
                    <a:lnTo>
                      <a:pt x="74" y="0"/>
                    </a:lnTo>
                    <a:lnTo>
                      <a:pt x="139" y="0"/>
                    </a:lnTo>
                  </a:path>
                </a:pathLst>
              </a:custGeom>
              <a:noFill/>
              <a:ln cap="rnd" w="76320">
                <a:solidFill>
                  <a:srgbClr val="ffff99"/>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85" name=""/>
            <p:cNvSpPr/>
            <p:nvPr/>
          </p:nvSpPr>
          <p:spPr>
            <a:xfrm flipH="1" rot="16200000">
              <a:off x="7124400" y="-190440"/>
              <a:ext cx="838440" cy="1524240"/>
            </a:xfrm>
            <a:prstGeom prst="rightArrow">
              <a:avLst>
                <a:gd name="adj1" fmla="val 50000"/>
                <a:gd name="adj2" fmla="val 25019"/>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8076960" y="6553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4:25:10Z</dcterms:created>
  <dc:creator>USER</dc:creator>
  <dc:description/>
  <dc:language>en-US</dc:language>
  <cp:lastModifiedBy>Hdaily</cp:lastModifiedBy>
  <cp:lastPrinted>2000-02-03T09:09:47Z</cp:lastPrinted>
  <dcterms:modified xsi:type="dcterms:W3CDTF">2000-06-15T09:39:54Z</dcterms:modified>
  <cp:revision>3</cp:revision>
  <dc:subject/>
  <dc:title>Handle</dc:title>
</cp:coreProperties>
</file>