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6B5B-8668-4FD5-A720-42B466BD5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4A50-FC4B-4980-9925-2F01FF522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module examines within-fleece gradients for diameter variation, measured as either the standard deviation of diameter in the wool sample or the along-staple variation in diameter. Non-genetic sources of variation in these measurements are also discussed.  The influence of skin folds on diameter variation is mentio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DD76-9BB7-476B-94DA-83065CD3C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arrows indicate a gradient from least to most.  There are significant gradients in diameter variation across the body.  There is an anteroposterior increase in the standard deviation of diameter, and a lesser increase dorso-ventrally.  This reflects the gradients in average fibre diameter.  Along-staple variation in diameter may also increase towards the rear of the she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nnual changes in diameter variation can be substantial, depending on seasonality of pas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ool sampled from the crest of a skin fold or wrinkle also tends to be higher in mean and variation of diameter, compared to wool sampled from smooth sk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enney, G.D. (1990).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Aust. J. Exp. Agric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46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livier, J.J., Cloete, S.W.P. and Bezuidenhout, A.G. (1993).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S. Afr. J. Anim. Sci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2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utton, J.M., Williams, A.J., Nicol, H.I. And Thornberry, K.J. (1995).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Wool Tech. Sheep. Breed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:18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Brad Crook, The University of New Eng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Within-fleece Gradients in Diameter Variatio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Within-fleece gradient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8240" y="4194000"/>
            <a:ext cx="292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57080" y="5029200"/>
            <a:ext cx="69555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tween-year variation significant for FD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reased variation on skin folds / wrink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41840" y="4194000"/>
            <a:ext cx="338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ong-stapl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410080" y="1219320"/>
            <a:ext cx="3657600" cy="2819160"/>
          </a:xfrm>
          <a:custGeom>
            <a:avLst/>
            <a:gdLst/>
            <a:ahLst/>
            <a:rect l="l" t="t" r="r" b="b"/>
            <a:pathLst>
              <a:path w="994" h="726">
                <a:moveTo>
                  <a:pt x="264" y="39"/>
                </a:moveTo>
                <a:lnTo>
                  <a:pt x="262" y="43"/>
                </a:lnTo>
                <a:lnTo>
                  <a:pt x="258" y="47"/>
                </a:lnTo>
                <a:lnTo>
                  <a:pt x="256" y="50"/>
                </a:lnTo>
                <a:lnTo>
                  <a:pt x="253" y="54"/>
                </a:lnTo>
                <a:lnTo>
                  <a:pt x="251" y="58"/>
                </a:lnTo>
                <a:lnTo>
                  <a:pt x="247" y="62"/>
                </a:lnTo>
                <a:lnTo>
                  <a:pt x="245" y="65"/>
                </a:lnTo>
                <a:lnTo>
                  <a:pt x="242" y="69"/>
                </a:lnTo>
                <a:lnTo>
                  <a:pt x="239" y="72"/>
                </a:lnTo>
                <a:lnTo>
                  <a:pt x="237" y="77"/>
                </a:lnTo>
                <a:lnTo>
                  <a:pt x="250" y="78"/>
                </a:lnTo>
                <a:lnTo>
                  <a:pt x="261" y="83"/>
                </a:lnTo>
                <a:lnTo>
                  <a:pt x="272" y="90"/>
                </a:lnTo>
                <a:lnTo>
                  <a:pt x="282" y="98"/>
                </a:lnTo>
                <a:lnTo>
                  <a:pt x="292" y="106"/>
                </a:lnTo>
                <a:lnTo>
                  <a:pt x="302" y="114"/>
                </a:lnTo>
                <a:lnTo>
                  <a:pt x="313" y="121"/>
                </a:lnTo>
                <a:lnTo>
                  <a:pt x="324" y="125"/>
                </a:lnTo>
                <a:lnTo>
                  <a:pt x="337" y="126"/>
                </a:lnTo>
                <a:lnTo>
                  <a:pt x="352" y="123"/>
                </a:lnTo>
                <a:lnTo>
                  <a:pt x="403" y="119"/>
                </a:lnTo>
                <a:lnTo>
                  <a:pt x="456" y="114"/>
                </a:lnTo>
                <a:lnTo>
                  <a:pt x="510" y="108"/>
                </a:lnTo>
                <a:lnTo>
                  <a:pt x="565" y="103"/>
                </a:lnTo>
                <a:lnTo>
                  <a:pt x="620" y="98"/>
                </a:lnTo>
                <a:lnTo>
                  <a:pt x="676" y="95"/>
                </a:lnTo>
                <a:lnTo>
                  <a:pt x="731" y="93"/>
                </a:lnTo>
                <a:lnTo>
                  <a:pt x="785" y="94"/>
                </a:lnTo>
                <a:lnTo>
                  <a:pt x="839" y="98"/>
                </a:lnTo>
                <a:lnTo>
                  <a:pt x="890" y="106"/>
                </a:lnTo>
                <a:lnTo>
                  <a:pt x="901" y="115"/>
                </a:lnTo>
                <a:lnTo>
                  <a:pt x="911" y="123"/>
                </a:lnTo>
                <a:lnTo>
                  <a:pt x="923" y="130"/>
                </a:lnTo>
                <a:lnTo>
                  <a:pt x="935" y="136"/>
                </a:lnTo>
                <a:lnTo>
                  <a:pt x="946" y="144"/>
                </a:lnTo>
                <a:lnTo>
                  <a:pt x="958" y="151"/>
                </a:lnTo>
                <a:lnTo>
                  <a:pt x="967" y="159"/>
                </a:lnTo>
                <a:lnTo>
                  <a:pt x="976" y="169"/>
                </a:lnTo>
                <a:lnTo>
                  <a:pt x="982" y="181"/>
                </a:lnTo>
                <a:lnTo>
                  <a:pt x="986" y="195"/>
                </a:lnTo>
                <a:lnTo>
                  <a:pt x="986" y="208"/>
                </a:lnTo>
                <a:lnTo>
                  <a:pt x="988" y="223"/>
                </a:lnTo>
                <a:lnTo>
                  <a:pt x="990" y="238"/>
                </a:lnTo>
                <a:lnTo>
                  <a:pt x="992" y="253"/>
                </a:lnTo>
                <a:lnTo>
                  <a:pt x="993" y="268"/>
                </a:lnTo>
                <a:lnTo>
                  <a:pt x="992" y="281"/>
                </a:lnTo>
                <a:lnTo>
                  <a:pt x="990" y="294"/>
                </a:lnTo>
                <a:lnTo>
                  <a:pt x="984" y="306"/>
                </a:lnTo>
                <a:lnTo>
                  <a:pt x="974" y="316"/>
                </a:lnTo>
                <a:lnTo>
                  <a:pt x="960" y="324"/>
                </a:lnTo>
                <a:lnTo>
                  <a:pt x="958" y="318"/>
                </a:lnTo>
                <a:lnTo>
                  <a:pt x="955" y="313"/>
                </a:lnTo>
                <a:lnTo>
                  <a:pt x="952" y="307"/>
                </a:lnTo>
                <a:lnTo>
                  <a:pt x="950" y="302"/>
                </a:lnTo>
                <a:lnTo>
                  <a:pt x="947" y="296"/>
                </a:lnTo>
                <a:lnTo>
                  <a:pt x="944" y="291"/>
                </a:lnTo>
                <a:lnTo>
                  <a:pt x="942" y="286"/>
                </a:lnTo>
                <a:lnTo>
                  <a:pt x="939" y="281"/>
                </a:lnTo>
                <a:lnTo>
                  <a:pt x="937" y="277"/>
                </a:lnTo>
                <a:lnTo>
                  <a:pt x="935" y="273"/>
                </a:lnTo>
                <a:lnTo>
                  <a:pt x="939" y="287"/>
                </a:lnTo>
                <a:lnTo>
                  <a:pt x="940" y="301"/>
                </a:lnTo>
                <a:lnTo>
                  <a:pt x="940" y="316"/>
                </a:lnTo>
                <a:lnTo>
                  <a:pt x="937" y="330"/>
                </a:lnTo>
                <a:lnTo>
                  <a:pt x="935" y="345"/>
                </a:lnTo>
                <a:lnTo>
                  <a:pt x="932" y="360"/>
                </a:lnTo>
                <a:lnTo>
                  <a:pt x="929" y="375"/>
                </a:lnTo>
                <a:lnTo>
                  <a:pt x="927" y="388"/>
                </a:lnTo>
                <a:lnTo>
                  <a:pt x="927" y="403"/>
                </a:lnTo>
                <a:lnTo>
                  <a:pt x="929" y="416"/>
                </a:lnTo>
                <a:lnTo>
                  <a:pt x="929" y="422"/>
                </a:lnTo>
                <a:lnTo>
                  <a:pt x="929" y="428"/>
                </a:lnTo>
                <a:lnTo>
                  <a:pt x="927" y="433"/>
                </a:lnTo>
                <a:lnTo>
                  <a:pt x="925" y="438"/>
                </a:lnTo>
                <a:lnTo>
                  <a:pt x="922" y="443"/>
                </a:lnTo>
                <a:lnTo>
                  <a:pt x="919" y="447"/>
                </a:lnTo>
                <a:lnTo>
                  <a:pt x="916" y="452"/>
                </a:lnTo>
                <a:lnTo>
                  <a:pt x="911" y="457"/>
                </a:lnTo>
                <a:lnTo>
                  <a:pt x="907" y="462"/>
                </a:lnTo>
                <a:lnTo>
                  <a:pt x="903" y="467"/>
                </a:lnTo>
                <a:lnTo>
                  <a:pt x="908" y="467"/>
                </a:lnTo>
                <a:lnTo>
                  <a:pt x="912" y="468"/>
                </a:lnTo>
                <a:lnTo>
                  <a:pt x="916" y="470"/>
                </a:lnTo>
                <a:lnTo>
                  <a:pt x="920" y="473"/>
                </a:lnTo>
                <a:lnTo>
                  <a:pt x="923" y="477"/>
                </a:lnTo>
                <a:lnTo>
                  <a:pt x="927" y="480"/>
                </a:lnTo>
                <a:lnTo>
                  <a:pt x="930" y="484"/>
                </a:lnTo>
                <a:lnTo>
                  <a:pt x="933" y="487"/>
                </a:lnTo>
                <a:lnTo>
                  <a:pt x="936" y="491"/>
                </a:lnTo>
                <a:lnTo>
                  <a:pt x="938" y="495"/>
                </a:lnTo>
                <a:lnTo>
                  <a:pt x="944" y="515"/>
                </a:lnTo>
                <a:lnTo>
                  <a:pt x="944" y="534"/>
                </a:lnTo>
                <a:lnTo>
                  <a:pt x="940" y="551"/>
                </a:lnTo>
                <a:lnTo>
                  <a:pt x="933" y="567"/>
                </a:lnTo>
                <a:lnTo>
                  <a:pt x="924" y="582"/>
                </a:lnTo>
                <a:lnTo>
                  <a:pt x="915" y="597"/>
                </a:lnTo>
                <a:lnTo>
                  <a:pt x="906" y="612"/>
                </a:lnTo>
                <a:lnTo>
                  <a:pt x="899" y="627"/>
                </a:lnTo>
                <a:lnTo>
                  <a:pt x="895" y="644"/>
                </a:lnTo>
                <a:lnTo>
                  <a:pt x="894" y="662"/>
                </a:lnTo>
                <a:lnTo>
                  <a:pt x="885" y="667"/>
                </a:lnTo>
                <a:lnTo>
                  <a:pt x="878" y="675"/>
                </a:lnTo>
                <a:lnTo>
                  <a:pt x="874" y="684"/>
                </a:lnTo>
                <a:lnTo>
                  <a:pt x="869" y="694"/>
                </a:lnTo>
                <a:lnTo>
                  <a:pt x="864" y="703"/>
                </a:lnTo>
                <a:lnTo>
                  <a:pt x="860" y="711"/>
                </a:lnTo>
                <a:lnTo>
                  <a:pt x="853" y="716"/>
                </a:lnTo>
                <a:lnTo>
                  <a:pt x="845" y="721"/>
                </a:lnTo>
                <a:lnTo>
                  <a:pt x="834" y="721"/>
                </a:lnTo>
                <a:lnTo>
                  <a:pt x="819" y="718"/>
                </a:lnTo>
                <a:lnTo>
                  <a:pt x="806" y="718"/>
                </a:lnTo>
                <a:lnTo>
                  <a:pt x="811" y="703"/>
                </a:lnTo>
                <a:lnTo>
                  <a:pt x="815" y="689"/>
                </a:lnTo>
                <a:lnTo>
                  <a:pt x="819" y="675"/>
                </a:lnTo>
                <a:lnTo>
                  <a:pt x="822" y="662"/>
                </a:lnTo>
                <a:lnTo>
                  <a:pt x="824" y="649"/>
                </a:lnTo>
                <a:lnTo>
                  <a:pt x="828" y="636"/>
                </a:lnTo>
                <a:lnTo>
                  <a:pt x="832" y="623"/>
                </a:lnTo>
                <a:lnTo>
                  <a:pt x="836" y="610"/>
                </a:lnTo>
                <a:lnTo>
                  <a:pt x="840" y="597"/>
                </a:lnTo>
                <a:lnTo>
                  <a:pt x="846" y="583"/>
                </a:lnTo>
                <a:lnTo>
                  <a:pt x="838" y="579"/>
                </a:lnTo>
                <a:lnTo>
                  <a:pt x="832" y="574"/>
                </a:lnTo>
                <a:lnTo>
                  <a:pt x="829" y="568"/>
                </a:lnTo>
                <a:lnTo>
                  <a:pt x="827" y="561"/>
                </a:lnTo>
                <a:lnTo>
                  <a:pt x="825" y="554"/>
                </a:lnTo>
                <a:lnTo>
                  <a:pt x="824" y="548"/>
                </a:lnTo>
                <a:lnTo>
                  <a:pt x="821" y="542"/>
                </a:lnTo>
                <a:lnTo>
                  <a:pt x="817" y="538"/>
                </a:lnTo>
                <a:lnTo>
                  <a:pt x="811" y="535"/>
                </a:lnTo>
                <a:lnTo>
                  <a:pt x="802" y="533"/>
                </a:lnTo>
                <a:lnTo>
                  <a:pt x="798" y="522"/>
                </a:lnTo>
                <a:lnTo>
                  <a:pt x="792" y="515"/>
                </a:lnTo>
                <a:lnTo>
                  <a:pt x="783" y="509"/>
                </a:lnTo>
                <a:lnTo>
                  <a:pt x="773" y="505"/>
                </a:lnTo>
                <a:lnTo>
                  <a:pt x="763" y="502"/>
                </a:lnTo>
                <a:lnTo>
                  <a:pt x="754" y="498"/>
                </a:lnTo>
                <a:lnTo>
                  <a:pt x="744" y="493"/>
                </a:lnTo>
                <a:lnTo>
                  <a:pt x="736" y="488"/>
                </a:lnTo>
                <a:lnTo>
                  <a:pt x="730" y="480"/>
                </a:lnTo>
                <a:lnTo>
                  <a:pt x="727" y="470"/>
                </a:lnTo>
                <a:lnTo>
                  <a:pt x="712" y="484"/>
                </a:lnTo>
                <a:lnTo>
                  <a:pt x="696" y="491"/>
                </a:lnTo>
                <a:lnTo>
                  <a:pt x="679" y="494"/>
                </a:lnTo>
                <a:lnTo>
                  <a:pt x="662" y="495"/>
                </a:lnTo>
                <a:lnTo>
                  <a:pt x="645" y="493"/>
                </a:lnTo>
                <a:lnTo>
                  <a:pt x="628" y="491"/>
                </a:lnTo>
                <a:lnTo>
                  <a:pt x="609" y="490"/>
                </a:lnTo>
                <a:lnTo>
                  <a:pt x="592" y="492"/>
                </a:lnTo>
                <a:lnTo>
                  <a:pt x="576" y="497"/>
                </a:lnTo>
                <a:lnTo>
                  <a:pt x="559" y="508"/>
                </a:lnTo>
                <a:lnTo>
                  <a:pt x="549" y="510"/>
                </a:lnTo>
                <a:lnTo>
                  <a:pt x="538" y="512"/>
                </a:lnTo>
                <a:lnTo>
                  <a:pt x="526" y="513"/>
                </a:lnTo>
                <a:lnTo>
                  <a:pt x="515" y="515"/>
                </a:lnTo>
                <a:lnTo>
                  <a:pt x="504" y="517"/>
                </a:lnTo>
                <a:lnTo>
                  <a:pt x="493" y="519"/>
                </a:lnTo>
                <a:lnTo>
                  <a:pt x="483" y="521"/>
                </a:lnTo>
                <a:lnTo>
                  <a:pt x="472" y="523"/>
                </a:lnTo>
                <a:lnTo>
                  <a:pt x="462" y="526"/>
                </a:lnTo>
                <a:lnTo>
                  <a:pt x="453" y="530"/>
                </a:lnTo>
                <a:lnTo>
                  <a:pt x="445" y="525"/>
                </a:lnTo>
                <a:lnTo>
                  <a:pt x="437" y="523"/>
                </a:lnTo>
                <a:lnTo>
                  <a:pt x="431" y="523"/>
                </a:lnTo>
                <a:lnTo>
                  <a:pt x="426" y="526"/>
                </a:lnTo>
                <a:lnTo>
                  <a:pt x="420" y="531"/>
                </a:lnTo>
                <a:lnTo>
                  <a:pt x="416" y="536"/>
                </a:lnTo>
                <a:lnTo>
                  <a:pt x="413" y="543"/>
                </a:lnTo>
                <a:lnTo>
                  <a:pt x="411" y="550"/>
                </a:lnTo>
                <a:lnTo>
                  <a:pt x="408" y="556"/>
                </a:lnTo>
                <a:lnTo>
                  <a:pt x="405" y="562"/>
                </a:lnTo>
                <a:lnTo>
                  <a:pt x="409" y="569"/>
                </a:lnTo>
                <a:lnTo>
                  <a:pt x="410" y="577"/>
                </a:lnTo>
                <a:lnTo>
                  <a:pt x="410" y="586"/>
                </a:lnTo>
                <a:lnTo>
                  <a:pt x="409" y="594"/>
                </a:lnTo>
                <a:lnTo>
                  <a:pt x="407" y="603"/>
                </a:lnTo>
                <a:lnTo>
                  <a:pt x="406" y="612"/>
                </a:lnTo>
                <a:lnTo>
                  <a:pt x="405" y="620"/>
                </a:lnTo>
                <a:lnTo>
                  <a:pt x="404" y="629"/>
                </a:lnTo>
                <a:lnTo>
                  <a:pt x="405" y="638"/>
                </a:lnTo>
                <a:lnTo>
                  <a:pt x="405" y="646"/>
                </a:lnTo>
                <a:lnTo>
                  <a:pt x="404" y="653"/>
                </a:lnTo>
                <a:lnTo>
                  <a:pt x="402" y="660"/>
                </a:lnTo>
                <a:lnTo>
                  <a:pt x="401" y="667"/>
                </a:lnTo>
                <a:lnTo>
                  <a:pt x="399" y="675"/>
                </a:lnTo>
                <a:lnTo>
                  <a:pt x="398" y="681"/>
                </a:lnTo>
                <a:lnTo>
                  <a:pt x="397" y="689"/>
                </a:lnTo>
                <a:lnTo>
                  <a:pt x="395" y="696"/>
                </a:lnTo>
                <a:lnTo>
                  <a:pt x="394" y="703"/>
                </a:lnTo>
                <a:lnTo>
                  <a:pt x="392" y="710"/>
                </a:lnTo>
                <a:lnTo>
                  <a:pt x="391" y="718"/>
                </a:lnTo>
                <a:lnTo>
                  <a:pt x="387" y="720"/>
                </a:lnTo>
                <a:lnTo>
                  <a:pt x="382" y="722"/>
                </a:lnTo>
                <a:lnTo>
                  <a:pt x="378" y="724"/>
                </a:lnTo>
                <a:lnTo>
                  <a:pt x="373" y="724"/>
                </a:lnTo>
                <a:lnTo>
                  <a:pt x="367" y="725"/>
                </a:lnTo>
                <a:lnTo>
                  <a:pt x="362" y="725"/>
                </a:lnTo>
                <a:lnTo>
                  <a:pt x="356" y="725"/>
                </a:lnTo>
                <a:lnTo>
                  <a:pt x="351" y="724"/>
                </a:lnTo>
                <a:lnTo>
                  <a:pt x="345" y="724"/>
                </a:lnTo>
                <a:lnTo>
                  <a:pt x="339" y="724"/>
                </a:lnTo>
                <a:lnTo>
                  <a:pt x="336" y="714"/>
                </a:lnTo>
                <a:lnTo>
                  <a:pt x="336" y="704"/>
                </a:lnTo>
                <a:lnTo>
                  <a:pt x="338" y="694"/>
                </a:lnTo>
                <a:lnTo>
                  <a:pt x="342" y="683"/>
                </a:lnTo>
                <a:lnTo>
                  <a:pt x="347" y="672"/>
                </a:lnTo>
                <a:lnTo>
                  <a:pt x="351" y="662"/>
                </a:lnTo>
                <a:lnTo>
                  <a:pt x="352" y="650"/>
                </a:lnTo>
                <a:lnTo>
                  <a:pt x="350" y="640"/>
                </a:lnTo>
                <a:lnTo>
                  <a:pt x="344" y="629"/>
                </a:lnTo>
                <a:lnTo>
                  <a:pt x="331" y="620"/>
                </a:lnTo>
                <a:lnTo>
                  <a:pt x="332" y="610"/>
                </a:lnTo>
                <a:lnTo>
                  <a:pt x="331" y="602"/>
                </a:lnTo>
                <a:lnTo>
                  <a:pt x="327" y="594"/>
                </a:lnTo>
                <a:lnTo>
                  <a:pt x="322" y="586"/>
                </a:lnTo>
                <a:lnTo>
                  <a:pt x="317" y="578"/>
                </a:lnTo>
                <a:lnTo>
                  <a:pt x="312" y="570"/>
                </a:lnTo>
                <a:lnTo>
                  <a:pt x="308" y="562"/>
                </a:lnTo>
                <a:lnTo>
                  <a:pt x="305" y="553"/>
                </a:lnTo>
                <a:lnTo>
                  <a:pt x="305" y="543"/>
                </a:lnTo>
                <a:lnTo>
                  <a:pt x="308" y="533"/>
                </a:lnTo>
                <a:lnTo>
                  <a:pt x="298" y="529"/>
                </a:lnTo>
                <a:lnTo>
                  <a:pt x="289" y="525"/>
                </a:lnTo>
                <a:lnTo>
                  <a:pt x="279" y="520"/>
                </a:lnTo>
                <a:lnTo>
                  <a:pt x="268" y="515"/>
                </a:lnTo>
                <a:lnTo>
                  <a:pt x="259" y="509"/>
                </a:lnTo>
                <a:lnTo>
                  <a:pt x="251" y="503"/>
                </a:lnTo>
                <a:lnTo>
                  <a:pt x="242" y="496"/>
                </a:lnTo>
                <a:lnTo>
                  <a:pt x="235" y="488"/>
                </a:lnTo>
                <a:lnTo>
                  <a:pt x="229" y="480"/>
                </a:lnTo>
                <a:lnTo>
                  <a:pt x="224" y="470"/>
                </a:lnTo>
                <a:lnTo>
                  <a:pt x="220" y="450"/>
                </a:lnTo>
                <a:lnTo>
                  <a:pt x="213" y="431"/>
                </a:lnTo>
                <a:lnTo>
                  <a:pt x="205" y="413"/>
                </a:lnTo>
                <a:lnTo>
                  <a:pt x="195" y="395"/>
                </a:lnTo>
                <a:lnTo>
                  <a:pt x="186" y="378"/>
                </a:lnTo>
                <a:lnTo>
                  <a:pt x="176" y="360"/>
                </a:lnTo>
                <a:lnTo>
                  <a:pt x="169" y="342"/>
                </a:lnTo>
                <a:lnTo>
                  <a:pt x="163" y="323"/>
                </a:lnTo>
                <a:lnTo>
                  <a:pt x="158" y="303"/>
                </a:lnTo>
                <a:lnTo>
                  <a:pt x="158" y="282"/>
                </a:lnTo>
                <a:lnTo>
                  <a:pt x="159" y="276"/>
                </a:lnTo>
                <a:lnTo>
                  <a:pt x="157" y="270"/>
                </a:lnTo>
                <a:lnTo>
                  <a:pt x="153" y="265"/>
                </a:lnTo>
                <a:lnTo>
                  <a:pt x="149" y="261"/>
                </a:lnTo>
                <a:lnTo>
                  <a:pt x="142" y="256"/>
                </a:lnTo>
                <a:lnTo>
                  <a:pt x="136" y="251"/>
                </a:lnTo>
                <a:lnTo>
                  <a:pt x="130" y="246"/>
                </a:lnTo>
                <a:lnTo>
                  <a:pt x="125" y="241"/>
                </a:lnTo>
                <a:lnTo>
                  <a:pt x="121" y="235"/>
                </a:lnTo>
                <a:lnTo>
                  <a:pt x="119" y="228"/>
                </a:lnTo>
                <a:lnTo>
                  <a:pt x="108" y="228"/>
                </a:lnTo>
                <a:lnTo>
                  <a:pt x="96" y="227"/>
                </a:lnTo>
                <a:lnTo>
                  <a:pt x="83" y="227"/>
                </a:lnTo>
                <a:lnTo>
                  <a:pt x="71" y="227"/>
                </a:lnTo>
                <a:lnTo>
                  <a:pt x="58" y="225"/>
                </a:lnTo>
                <a:lnTo>
                  <a:pt x="45" y="223"/>
                </a:lnTo>
                <a:lnTo>
                  <a:pt x="33" y="220"/>
                </a:lnTo>
                <a:lnTo>
                  <a:pt x="22" y="214"/>
                </a:lnTo>
                <a:lnTo>
                  <a:pt x="12" y="207"/>
                </a:lnTo>
                <a:lnTo>
                  <a:pt x="3" y="199"/>
                </a:lnTo>
                <a:lnTo>
                  <a:pt x="2" y="184"/>
                </a:lnTo>
                <a:lnTo>
                  <a:pt x="5" y="171"/>
                </a:lnTo>
                <a:lnTo>
                  <a:pt x="11" y="159"/>
                </a:lnTo>
                <a:lnTo>
                  <a:pt x="19" y="149"/>
                </a:lnTo>
                <a:lnTo>
                  <a:pt x="28" y="139"/>
                </a:lnTo>
                <a:lnTo>
                  <a:pt x="36" y="128"/>
                </a:lnTo>
                <a:lnTo>
                  <a:pt x="44" y="116"/>
                </a:lnTo>
                <a:lnTo>
                  <a:pt x="49" y="105"/>
                </a:lnTo>
                <a:lnTo>
                  <a:pt x="51" y="91"/>
                </a:lnTo>
                <a:lnTo>
                  <a:pt x="48" y="77"/>
                </a:lnTo>
                <a:lnTo>
                  <a:pt x="43" y="73"/>
                </a:lnTo>
                <a:lnTo>
                  <a:pt x="37" y="70"/>
                </a:lnTo>
                <a:lnTo>
                  <a:pt x="31" y="67"/>
                </a:lnTo>
                <a:lnTo>
                  <a:pt x="24" y="65"/>
                </a:lnTo>
                <a:lnTo>
                  <a:pt x="19" y="62"/>
                </a:lnTo>
                <a:lnTo>
                  <a:pt x="14" y="59"/>
                </a:lnTo>
                <a:lnTo>
                  <a:pt x="9" y="56"/>
                </a:lnTo>
                <a:lnTo>
                  <a:pt x="5" y="52"/>
                </a:lnTo>
                <a:lnTo>
                  <a:pt x="1" y="46"/>
                </a:lnTo>
                <a:lnTo>
                  <a:pt x="0" y="39"/>
                </a:lnTo>
                <a:lnTo>
                  <a:pt x="16" y="37"/>
                </a:lnTo>
                <a:lnTo>
                  <a:pt x="33" y="33"/>
                </a:lnTo>
                <a:lnTo>
                  <a:pt x="51" y="26"/>
                </a:lnTo>
                <a:lnTo>
                  <a:pt x="68" y="18"/>
                </a:lnTo>
                <a:lnTo>
                  <a:pt x="86" y="11"/>
                </a:lnTo>
                <a:lnTo>
                  <a:pt x="104" y="4"/>
                </a:lnTo>
                <a:lnTo>
                  <a:pt x="121" y="1"/>
                </a:lnTo>
                <a:lnTo>
                  <a:pt x="140" y="0"/>
                </a:lnTo>
                <a:lnTo>
                  <a:pt x="158" y="4"/>
                </a:lnTo>
                <a:lnTo>
                  <a:pt x="176" y="14"/>
                </a:lnTo>
                <a:lnTo>
                  <a:pt x="178" y="13"/>
                </a:lnTo>
                <a:lnTo>
                  <a:pt x="181" y="14"/>
                </a:lnTo>
                <a:lnTo>
                  <a:pt x="184" y="14"/>
                </a:lnTo>
                <a:lnTo>
                  <a:pt x="187" y="15"/>
                </a:lnTo>
                <a:lnTo>
                  <a:pt x="190" y="17"/>
                </a:lnTo>
                <a:lnTo>
                  <a:pt x="192" y="19"/>
                </a:lnTo>
                <a:lnTo>
                  <a:pt x="194" y="22"/>
                </a:lnTo>
                <a:lnTo>
                  <a:pt x="196" y="24"/>
                </a:lnTo>
                <a:lnTo>
                  <a:pt x="197" y="27"/>
                </a:lnTo>
                <a:lnTo>
                  <a:pt x="198" y="31"/>
                </a:lnTo>
                <a:lnTo>
                  <a:pt x="264" y="39"/>
                </a:lnTo>
              </a:path>
            </a:pathLst>
          </a:custGeom>
          <a:solidFill>
            <a:srgbClr val="ffffff"/>
          </a:solidFill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219320" y="1295280"/>
            <a:ext cx="3657600" cy="2819520"/>
          </a:xfrm>
          <a:custGeom>
            <a:avLst/>
            <a:gdLst/>
            <a:ahLst/>
            <a:rect l="l" t="t" r="r" b="b"/>
            <a:pathLst>
              <a:path w="994" h="726">
                <a:moveTo>
                  <a:pt x="264" y="39"/>
                </a:moveTo>
                <a:lnTo>
                  <a:pt x="262" y="43"/>
                </a:lnTo>
                <a:lnTo>
                  <a:pt x="258" y="47"/>
                </a:lnTo>
                <a:lnTo>
                  <a:pt x="256" y="50"/>
                </a:lnTo>
                <a:lnTo>
                  <a:pt x="253" y="54"/>
                </a:lnTo>
                <a:lnTo>
                  <a:pt x="251" y="58"/>
                </a:lnTo>
                <a:lnTo>
                  <a:pt x="247" y="62"/>
                </a:lnTo>
                <a:lnTo>
                  <a:pt x="245" y="65"/>
                </a:lnTo>
                <a:lnTo>
                  <a:pt x="242" y="69"/>
                </a:lnTo>
                <a:lnTo>
                  <a:pt x="239" y="72"/>
                </a:lnTo>
                <a:lnTo>
                  <a:pt x="237" y="77"/>
                </a:lnTo>
                <a:lnTo>
                  <a:pt x="250" y="78"/>
                </a:lnTo>
                <a:lnTo>
                  <a:pt x="261" y="83"/>
                </a:lnTo>
                <a:lnTo>
                  <a:pt x="272" y="90"/>
                </a:lnTo>
                <a:lnTo>
                  <a:pt x="282" y="98"/>
                </a:lnTo>
                <a:lnTo>
                  <a:pt x="292" y="106"/>
                </a:lnTo>
                <a:lnTo>
                  <a:pt x="302" y="114"/>
                </a:lnTo>
                <a:lnTo>
                  <a:pt x="313" y="121"/>
                </a:lnTo>
                <a:lnTo>
                  <a:pt x="324" y="125"/>
                </a:lnTo>
                <a:lnTo>
                  <a:pt x="337" y="126"/>
                </a:lnTo>
                <a:lnTo>
                  <a:pt x="352" y="123"/>
                </a:lnTo>
                <a:lnTo>
                  <a:pt x="403" y="119"/>
                </a:lnTo>
                <a:lnTo>
                  <a:pt x="456" y="114"/>
                </a:lnTo>
                <a:lnTo>
                  <a:pt x="510" y="108"/>
                </a:lnTo>
                <a:lnTo>
                  <a:pt x="565" y="103"/>
                </a:lnTo>
                <a:lnTo>
                  <a:pt x="620" y="98"/>
                </a:lnTo>
                <a:lnTo>
                  <a:pt x="676" y="95"/>
                </a:lnTo>
                <a:lnTo>
                  <a:pt x="731" y="93"/>
                </a:lnTo>
                <a:lnTo>
                  <a:pt x="785" y="94"/>
                </a:lnTo>
                <a:lnTo>
                  <a:pt x="839" y="98"/>
                </a:lnTo>
                <a:lnTo>
                  <a:pt x="890" y="106"/>
                </a:lnTo>
                <a:lnTo>
                  <a:pt x="901" y="115"/>
                </a:lnTo>
                <a:lnTo>
                  <a:pt x="911" y="123"/>
                </a:lnTo>
                <a:lnTo>
                  <a:pt x="923" y="130"/>
                </a:lnTo>
                <a:lnTo>
                  <a:pt x="935" y="136"/>
                </a:lnTo>
                <a:lnTo>
                  <a:pt x="946" y="144"/>
                </a:lnTo>
                <a:lnTo>
                  <a:pt x="958" y="151"/>
                </a:lnTo>
                <a:lnTo>
                  <a:pt x="967" y="159"/>
                </a:lnTo>
                <a:lnTo>
                  <a:pt x="976" y="169"/>
                </a:lnTo>
                <a:lnTo>
                  <a:pt x="982" y="181"/>
                </a:lnTo>
                <a:lnTo>
                  <a:pt x="986" y="195"/>
                </a:lnTo>
                <a:lnTo>
                  <a:pt x="986" y="208"/>
                </a:lnTo>
                <a:lnTo>
                  <a:pt x="988" y="223"/>
                </a:lnTo>
                <a:lnTo>
                  <a:pt x="990" y="238"/>
                </a:lnTo>
                <a:lnTo>
                  <a:pt x="992" y="253"/>
                </a:lnTo>
                <a:lnTo>
                  <a:pt x="993" y="268"/>
                </a:lnTo>
                <a:lnTo>
                  <a:pt x="992" y="281"/>
                </a:lnTo>
                <a:lnTo>
                  <a:pt x="990" y="294"/>
                </a:lnTo>
                <a:lnTo>
                  <a:pt x="984" y="306"/>
                </a:lnTo>
                <a:lnTo>
                  <a:pt x="974" y="316"/>
                </a:lnTo>
                <a:lnTo>
                  <a:pt x="960" y="324"/>
                </a:lnTo>
                <a:lnTo>
                  <a:pt x="958" y="318"/>
                </a:lnTo>
                <a:lnTo>
                  <a:pt x="955" y="313"/>
                </a:lnTo>
                <a:lnTo>
                  <a:pt x="952" y="307"/>
                </a:lnTo>
                <a:lnTo>
                  <a:pt x="950" y="302"/>
                </a:lnTo>
                <a:lnTo>
                  <a:pt x="947" y="296"/>
                </a:lnTo>
                <a:lnTo>
                  <a:pt x="944" y="291"/>
                </a:lnTo>
                <a:lnTo>
                  <a:pt x="942" y="286"/>
                </a:lnTo>
                <a:lnTo>
                  <a:pt x="939" y="281"/>
                </a:lnTo>
                <a:lnTo>
                  <a:pt x="937" y="277"/>
                </a:lnTo>
                <a:lnTo>
                  <a:pt x="935" y="273"/>
                </a:lnTo>
                <a:lnTo>
                  <a:pt x="939" y="287"/>
                </a:lnTo>
                <a:lnTo>
                  <a:pt x="940" y="301"/>
                </a:lnTo>
                <a:lnTo>
                  <a:pt x="940" y="316"/>
                </a:lnTo>
                <a:lnTo>
                  <a:pt x="937" y="330"/>
                </a:lnTo>
                <a:lnTo>
                  <a:pt x="935" y="345"/>
                </a:lnTo>
                <a:lnTo>
                  <a:pt x="932" y="360"/>
                </a:lnTo>
                <a:lnTo>
                  <a:pt x="929" y="375"/>
                </a:lnTo>
                <a:lnTo>
                  <a:pt x="927" y="388"/>
                </a:lnTo>
                <a:lnTo>
                  <a:pt x="927" y="403"/>
                </a:lnTo>
                <a:lnTo>
                  <a:pt x="929" y="416"/>
                </a:lnTo>
                <a:lnTo>
                  <a:pt x="929" y="422"/>
                </a:lnTo>
                <a:lnTo>
                  <a:pt x="929" y="428"/>
                </a:lnTo>
                <a:lnTo>
                  <a:pt x="927" y="433"/>
                </a:lnTo>
                <a:lnTo>
                  <a:pt x="925" y="438"/>
                </a:lnTo>
                <a:lnTo>
                  <a:pt x="922" y="443"/>
                </a:lnTo>
                <a:lnTo>
                  <a:pt x="919" y="447"/>
                </a:lnTo>
                <a:lnTo>
                  <a:pt x="916" y="452"/>
                </a:lnTo>
                <a:lnTo>
                  <a:pt x="911" y="457"/>
                </a:lnTo>
                <a:lnTo>
                  <a:pt x="907" y="462"/>
                </a:lnTo>
                <a:lnTo>
                  <a:pt x="903" y="467"/>
                </a:lnTo>
                <a:lnTo>
                  <a:pt x="908" y="467"/>
                </a:lnTo>
                <a:lnTo>
                  <a:pt x="912" y="468"/>
                </a:lnTo>
                <a:lnTo>
                  <a:pt x="916" y="470"/>
                </a:lnTo>
                <a:lnTo>
                  <a:pt x="920" y="473"/>
                </a:lnTo>
                <a:lnTo>
                  <a:pt x="923" y="477"/>
                </a:lnTo>
                <a:lnTo>
                  <a:pt x="927" y="480"/>
                </a:lnTo>
                <a:lnTo>
                  <a:pt x="930" y="484"/>
                </a:lnTo>
                <a:lnTo>
                  <a:pt x="933" y="487"/>
                </a:lnTo>
                <a:lnTo>
                  <a:pt x="936" y="491"/>
                </a:lnTo>
                <a:lnTo>
                  <a:pt x="938" y="495"/>
                </a:lnTo>
                <a:lnTo>
                  <a:pt x="944" y="515"/>
                </a:lnTo>
                <a:lnTo>
                  <a:pt x="944" y="534"/>
                </a:lnTo>
                <a:lnTo>
                  <a:pt x="940" y="551"/>
                </a:lnTo>
                <a:lnTo>
                  <a:pt x="933" y="567"/>
                </a:lnTo>
                <a:lnTo>
                  <a:pt x="924" y="582"/>
                </a:lnTo>
                <a:lnTo>
                  <a:pt x="915" y="597"/>
                </a:lnTo>
                <a:lnTo>
                  <a:pt x="906" y="612"/>
                </a:lnTo>
                <a:lnTo>
                  <a:pt x="899" y="627"/>
                </a:lnTo>
                <a:lnTo>
                  <a:pt x="895" y="644"/>
                </a:lnTo>
                <a:lnTo>
                  <a:pt x="894" y="662"/>
                </a:lnTo>
                <a:lnTo>
                  <a:pt x="885" y="667"/>
                </a:lnTo>
                <a:lnTo>
                  <a:pt x="878" y="675"/>
                </a:lnTo>
                <a:lnTo>
                  <a:pt x="874" y="684"/>
                </a:lnTo>
                <a:lnTo>
                  <a:pt x="869" y="694"/>
                </a:lnTo>
                <a:lnTo>
                  <a:pt x="864" y="703"/>
                </a:lnTo>
                <a:lnTo>
                  <a:pt x="860" y="711"/>
                </a:lnTo>
                <a:lnTo>
                  <a:pt x="853" y="716"/>
                </a:lnTo>
                <a:lnTo>
                  <a:pt x="845" y="721"/>
                </a:lnTo>
                <a:lnTo>
                  <a:pt x="834" y="721"/>
                </a:lnTo>
                <a:lnTo>
                  <a:pt x="819" y="718"/>
                </a:lnTo>
                <a:lnTo>
                  <a:pt x="806" y="718"/>
                </a:lnTo>
                <a:lnTo>
                  <a:pt x="811" y="703"/>
                </a:lnTo>
                <a:lnTo>
                  <a:pt x="815" y="689"/>
                </a:lnTo>
                <a:lnTo>
                  <a:pt x="819" y="675"/>
                </a:lnTo>
                <a:lnTo>
                  <a:pt x="822" y="662"/>
                </a:lnTo>
                <a:lnTo>
                  <a:pt x="824" y="649"/>
                </a:lnTo>
                <a:lnTo>
                  <a:pt x="828" y="636"/>
                </a:lnTo>
                <a:lnTo>
                  <a:pt x="832" y="623"/>
                </a:lnTo>
                <a:lnTo>
                  <a:pt x="836" y="610"/>
                </a:lnTo>
                <a:lnTo>
                  <a:pt x="840" y="597"/>
                </a:lnTo>
                <a:lnTo>
                  <a:pt x="846" y="583"/>
                </a:lnTo>
                <a:lnTo>
                  <a:pt x="838" y="579"/>
                </a:lnTo>
                <a:lnTo>
                  <a:pt x="832" y="574"/>
                </a:lnTo>
                <a:lnTo>
                  <a:pt x="829" y="568"/>
                </a:lnTo>
                <a:lnTo>
                  <a:pt x="827" y="561"/>
                </a:lnTo>
                <a:lnTo>
                  <a:pt x="825" y="554"/>
                </a:lnTo>
                <a:lnTo>
                  <a:pt x="824" y="548"/>
                </a:lnTo>
                <a:lnTo>
                  <a:pt x="821" y="542"/>
                </a:lnTo>
                <a:lnTo>
                  <a:pt x="817" y="538"/>
                </a:lnTo>
                <a:lnTo>
                  <a:pt x="811" y="535"/>
                </a:lnTo>
                <a:lnTo>
                  <a:pt x="802" y="533"/>
                </a:lnTo>
                <a:lnTo>
                  <a:pt x="798" y="522"/>
                </a:lnTo>
                <a:lnTo>
                  <a:pt x="792" y="515"/>
                </a:lnTo>
                <a:lnTo>
                  <a:pt x="783" y="509"/>
                </a:lnTo>
                <a:lnTo>
                  <a:pt x="773" y="505"/>
                </a:lnTo>
                <a:lnTo>
                  <a:pt x="763" y="502"/>
                </a:lnTo>
                <a:lnTo>
                  <a:pt x="754" y="498"/>
                </a:lnTo>
                <a:lnTo>
                  <a:pt x="744" y="493"/>
                </a:lnTo>
                <a:lnTo>
                  <a:pt x="736" y="488"/>
                </a:lnTo>
                <a:lnTo>
                  <a:pt x="730" y="480"/>
                </a:lnTo>
                <a:lnTo>
                  <a:pt x="727" y="470"/>
                </a:lnTo>
                <a:lnTo>
                  <a:pt x="712" y="484"/>
                </a:lnTo>
                <a:lnTo>
                  <a:pt x="696" y="491"/>
                </a:lnTo>
                <a:lnTo>
                  <a:pt x="679" y="494"/>
                </a:lnTo>
                <a:lnTo>
                  <a:pt x="662" y="495"/>
                </a:lnTo>
                <a:lnTo>
                  <a:pt x="645" y="493"/>
                </a:lnTo>
                <a:lnTo>
                  <a:pt x="628" y="491"/>
                </a:lnTo>
                <a:lnTo>
                  <a:pt x="609" y="490"/>
                </a:lnTo>
                <a:lnTo>
                  <a:pt x="592" y="492"/>
                </a:lnTo>
                <a:lnTo>
                  <a:pt x="576" y="497"/>
                </a:lnTo>
                <a:lnTo>
                  <a:pt x="559" y="508"/>
                </a:lnTo>
                <a:lnTo>
                  <a:pt x="549" y="510"/>
                </a:lnTo>
                <a:lnTo>
                  <a:pt x="538" y="512"/>
                </a:lnTo>
                <a:lnTo>
                  <a:pt x="526" y="513"/>
                </a:lnTo>
                <a:lnTo>
                  <a:pt x="515" y="515"/>
                </a:lnTo>
                <a:lnTo>
                  <a:pt x="504" y="517"/>
                </a:lnTo>
                <a:lnTo>
                  <a:pt x="493" y="519"/>
                </a:lnTo>
                <a:lnTo>
                  <a:pt x="483" y="521"/>
                </a:lnTo>
                <a:lnTo>
                  <a:pt x="472" y="523"/>
                </a:lnTo>
                <a:lnTo>
                  <a:pt x="462" y="526"/>
                </a:lnTo>
                <a:lnTo>
                  <a:pt x="453" y="530"/>
                </a:lnTo>
                <a:lnTo>
                  <a:pt x="445" y="525"/>
                </a:lnTo>
                <a:lnTo>
                  <a:pt x="437" y="523"/>
                </a:lnTo>
                <a:lnTo>
                  <a:pt x="431" y="523"/>
                </a:lnTo>
                <a:lnTo>
                  <a:pt x="426" y="526"/>
                </a:lnTo>
                <a:lnTo>
                  <a:pt x="420" y="531"/>
                </a:lnTo>
                <a:lnTo>
                  <a:pt x="416" y="536"/>
                </a:lnTo>
                <a:lnTo>
                  <a:pt x="413" y="543"/>
                </a:lnTo>
                <a:lnTo>
                  <a:pt x="411" y="550"/>
                </a:lnTo>
                <a:lnTo>
                  <a:pt x="408" y="556"/>
                </a:lnTo>
                <a:lnTo>
                  <a:pt x="405" y="562"/>
                </a:lnTo>
                <a:lnTo>
                  <a:pt x="409" y="569"/>
                </a:lnTo>
                <a:lnTo>
                  <a:pt x="410" y="577"/>
                </a:lnTo>
                <a:lnTo>
                  <a:pt x="410" y="586"/>
                </a:lnTo>
                <a:lnTo>
                  <a:pt x="409" y="594"/>
                </a:lnTo>
                <a:lnTo>
                  <a:pt x="407" y="603"/>
                </a:lnTo>
                <a:lnTo>
                  <a:pt x="406" y="612"/>
                </a:lnTo>
                <a:lnTo>
                  <a:pt x="405" y="620"/>
                </a:lnTo>
                <a:lnTo>
                  <a:pt x="404" y="629"/>
                </a:lnTo>
                <a:lnTo>
                  <a:pt x="405" y="638"/>
                </a:lnTo>
                <a:lnTo>
                  <a:pt x="405" y="646"/>
                </a:lnTo>
                <a:lnTo>
                  <a:pt x="404" y="653"/>
                </a:lnTo>
                <a:lnTo>
                  <a:pt x="402" y="660"/>
                </a:lnTo>
                <a:lnTo>
                  <a:pt x="401" y="667"/>
                </a:lnTo>
                <a:lnTo>
                  <a:pt x="399" y="675"/>
                </a:lnTo>
                <a:lnTo>
                  <a:pt x="398" y="681"/>
                </a:lnTo>
                <a:lnTo>
                  <a:pt x="397" y="689"/>
                </a:lnTo>
                <a:lnTo>
                  <a:pt x="395" y="696"/>
                </a:lnTo>
                <a:lnTo>
                  <a:pt x="394" y="703"/>
                </a:lnTo>
                <a:lnTo>
                  <a:pt x="392" y="710"/>
                </a:lnTo>
                <a:lnTo>
                  <a:pt x="391" y="718"/>
                </a:lnTo>
                <a:lnTo>
                  <a:pt x="387" y="720"/>
                </a:lnTo>
                <a:lnTo>
                  <a:pt x="382" y="722"/>
                </a:lnTo>
                <a:lnTo>
                  <a:pt x="378" y="724"/>
                </a:lnTo>
                <a:lnTo>
                  <a:pt x="373" y="724"/>
                </a:lnTo>
                <a:lnTo>
                  <a:pt x="367" y="725"/>
                </a:lnTo>
                <a:lnTo>
                  <a:pt x="362" y="725"/>
                </a:lnTo>
                <a:lnTo>
                  <a:pt x="356" y="725"/>
                </a:lnTo>
                <a:lnTo>
                  <a:pt x="351" y="724"/>
                </a:lnTo>
                <a:lnTo>
                  <a:pt x="345" y="724"/>
                </a:lnTo>
                <a:lnTo>
                  <a:pt x="339" y="724"/>
                </a:lnTo>
                <a:lnTo>
                  <a:pt x="336" y="714"/>
                </a:lnTo>
                <a:lnTo>
                  <a:pt x="336" y="704"/>
                </a:lnTo>
                <a:lnTo>
                  <a:pt x="338" y="694"/>
                </a:lnTo>
                <a:lnTo>
                  <a:pt x="342" y="683"/>
                </a:lnTo>
                <a:lnTo>
                  <a:pt x="347" y="672"/>
                </a:lnTo>
                <a:lnTo>
                  <a:pt x="351" y="662"/>
                </a:lnTo>
                <a:lnTo>
                  <a:pt x="352" y="650"/>
                </a:lnTo>
                <a:lnTo>
                  <a:pt x="350" y="640"/>
                </a:lnTo>
                <a:lnTo>
                  <a:pt x="344" y="629"/>
                </a:lnTo>
                <a:lnTo>
                  <a:pt x="331" y="620"/>
                </a:lnTo>
                <a:lnTo>
                  <a:pt x="332" y="610"/>
                </a:lnTo>
                <a:lnTo>
                  <a:pt x="331" y="602"/>
                </a:lnTo>
                <a:lnTo>
                  <a:pt x="327" y="594"/>
                </a:lnTo>
                <a:lnTo>
                  <a:pt x="322" y="586"/>
                </a:lnTo>
                <a:lnTo>
                  <a:pt x="317" y="578"/>
                </a:lnTo>
                <a:lnTo>
                  <a:pt x="312" y="570"/>
                </a:lnTo>
                <a:lnTo>
                  <a:pt x="308" y="562"/>
                </a:lnTo>
                <a:lnTo>
                  <a:pt x="305" y="553"/>
                </a:lnTo>
                <a:lnTo>
                  <a:pt x="305" y="543"/>
                </a:lnTo>
                <a:lnTo>
                  <a:pt x="308" y="533"/>
                </a:lnTo>
                <a:lnTo>
                  <a:pt x="298" y="529"/>
                </a:lnTo>
                <a:lnTo>
                  <a:pt x="289" y="525"/>
                </a:lnTo>
                <a:lnTo>
                  <a:pt x="279" y="520"/>
                </a:lnTo>
                <a:lnTo>
                  <a:pt x="268" y="515"/>
                </a:lnTo>
                <a:lnTo>
                  <a:pt x="259" y="509"/>
                </a:lnTo>
                <a:lnTo>
                  <a:pt x="251" y="503"/>
                </a:lnTo>
                <a:lnTo>
                  <a:pt x="242" y="496"/>
                </a:lnTo>
                <a:lnTo>
                  <a:pt x="235" y="488"/>
                </a:lnTo>
                <a:lnTo>
                  <a:pt x="229" y="480"/>
                </a:lnTo>
                <a:lnTo>
                  <a:pt x="224" y="470"/>
                </a:lnTo>
                <a:lnTo>
                  <a:pt x="220" y="450"/>
                </a:lnTo>
                <a:lnTo>
                  <a:pt x="213" y="431"/>
                </a:lnTo>
                <a:lnTo>
                  <a:pt x="205" y="413"/>
                </a:lnTo>
                <a:lnTo>
                  <a:pt x="195" y="395"/>
                </a:lnTo>
                <a:lnTo>
                  <a:pt x="186" y="378"/>
                </a:lnTo>
                <a:lnTo>
                  <a:pt x="176" y="360"/>
                </a:lnTo>
                <a:lnTo>
                  <a:pt x="169" y="342"/>
                </a:lnTo>
                <a:lnTo>
                  <a:pt x="163" y="323"/>
                </a:lnTo>
                <a:lnTo>
                  <a:pt x="158" y="303"/>
                </a:lnTo>
                <a:lnTo>
                  <a:pt x="158" y="282"/>
                </a:lnTo>
                <a:lnTo>
                  <a:pt x="159" y="276"/>
                </a:lnTo>
                <a:lnTo>
                  <a:pt x="157" y="270"/>
                </a:lnTo>
                <a:lnTo>
                  <a:pt x="153" y="265"/>
                </a:lnTo>
                <a:lnTo>
                  <a:pt x="149" y="261"/>
                </a:lnTo>
                <a:lnTo>
                  <a:pt x="142" y="256"/>
                </a:lnTo>
                <a:lnTo>
                  <a:pt x="136" y="251"/>
                </a:lnTo>
                <a:lnTo>
                  <a:pt x="130" y="246"/>
                </a:lnTo>
                <a:lnTo>
                  <a:pt x="125" y="241"/>
                </a:lnTo>
                <a:lnTo>
                  <a:pt x="121" y="235"/>
                </a:lnTo>
                <a:lnTo>
                  <a:pt x="119" y="228"/>
                </a:lnTo>
                <a:lnTo>
                  <a:pt x="108" y="228"/>
                </a:lnTo>
                <a:lnTo>
                  <a:pt x="96" y="227"/>
                </a:lnTo>
                <a:lnTo>
                  <a:pt x="83" y="227"/>
                </a:lnTo>
                <a:lnTo>
                  <a:pt x="71" y="227"/>
                </a:lnTo>
                <a:lnTo>
                  <a:pt x="58" y="225"/>
                </a:lnTo>
                <a:lnTo>
                  <a:pt x="45" y="223"/>
                </a:lnTo>
                <a:lnTo>
                  <a:pt x="33" y="220"/>
                </a:lnTo>
                <a:lnTo>
                  <a:pt x="22" y="214"/>
                </a:lnTo>
                <a:lnTo>
                  <a:pt x="12" y="207"/>
                </a:lnTo>
                <a:lnTo>
                  <a:pt x="3" y="199"/>
                </a:lnTo>
                <a:lnTo>
                  <a:pt x="2" y="184"/>
                </a:lnTo>
                <a:lnTo>
                  <a:pt x="5" y="171"/>
                </a:lnTo>
                <a:lnTo>
                  <a:pt x="11" y="159"/>
                </a:lnTo>
                <a:lnTo>
                  <a:pt x="19" y="149"/>
                </a:lnTo>
                <a:lnTo>
                  <a:pt x="28" y="139"/>
                </a:lnTo>
                <a:lnTo>
                  <a:pt x="36" y="128"/>
                </a:lnTo>
                <a:lnTo>
                  <a:pt x="44" y="116"/>
                </a:lnTo>
                <a:lnTo>
                  <a:pt x="49" y="105"/>
                </a:lnTo>
                <a:lnTo>
                  <a:pt x="51" y="91"/>
                </a:lnTo>
                <a:lnTo>
                  <a:pt x="48" y="77"/>
                </a:lnTo>
                <a:lnTo>
                  <a:pt x="43" y="73"/>
                </a:lnTo>
                <a:lnTo>
                  <a:pt x="37" y="70"/>
                </a:lnTo>
                <a:lnTo>
                  <a:pt x="31" y="67"/>
                </a:lnTo>
                <a:lnTo>
                  <a:pt x="24" y="65"/>
                </a:lnTo>
                <a:lnTo>
                  <a:pt x="19" y="62"/>
                </a:lnTo>
                <a:lnTo>
                  <a:pt x="14" y="59"/>
                </a:lnTo>
                <a:lnTo>
                  <a:pt x="9" y="56"/>
                </a:lnTo>
                <a:lnTo>
                  <a:pt x="5" y="52"/>
                </a:lnTo>
                <a:lnTo>
                  <a:pt x="1" y="46"/>
                </a:lnTo>
                <a:lnTo>
                  <a:pt x="0" y="39"/>
                </a:lnTo>
                <a:lnTo>
                  <a:pt x="16" y="37"/>
                </a:lnTo>
                <a:lnTo>
                  <a:pt x="33" y="33"/>
                </a:lnTo>
                <a:lnTo>
                  <a:pt x="51" y="26"/>
                </a:lnTo>
                <a:lnTo>
                  <a:pt x="68" y="18"/>
                </a:lnTo>
                <a:lnTo>
                  <a:pt x="86" y="11"/>
                </a:lnTo>
                <a:lnTo>
                  <a:pt x="104" y="4"/>
                </a:lnTo>
                <a:lnTo>
                  <a:pt x="121" y="1"/>
                </a:lnTo>
                <a:lnTo>
                  <a:pt x="140" y="0"/>
                </a:lnTo>
                <a:lnTo>
                  <a:pt x="158" y="4"/>
                </a:lnTo>
                <a:lnTo>
                  <a:pt x="176" y="14"/>
                </a:lnTo>
                <a:lnTo>
                  <a:pt x="178" y="13"/>
                </a:lnTo>
                <a:lnTo>
                  <a:pt x="181" y="14"/>
                </a:lnTo>
                <a:lnTo>
                  <a:pt x="184" y="14"/>
                </a:lnTo>
                <a:lnTo>
                  <a:pt x="187" y="15"/>
                </a:lnTo>
                <a:lnTo>
                  <a:pt x="190" y="17"/>
                </a:lnTo>
                <a:lnTo>
                  <a:pt x="192" y="19"/>
                </a:lnTo>
                <a:lnTo>
                  <a:pt x="194" y="22"/>
                </a:lnTo>
                <a:lnTo>
                  <a:pt x="196" y="24"/>
                </a:lnTo>
                <a:lnTo>
                  <a:pt x="197" y="27"/>
                </a:lnTo>
                <a:lnTo>
                  <a:pt x="198" y="31"/>
                </a:lnTo>
                <a:lnTo>
                  <a:pt x="264" y="39"/>
                </a:lnTo>
              </a:path>
            </a:pathLst>
          </a:custGeom>
          <a:solidFill>
            <a:srgbClr val="ffffff"/>
          </a:solidFill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2133720"/>
            <a:ext cx="914400" cy="380880"/>
          </a:xfrm>
          <a:prstGeom prst="leftArrow">
            <a:avLst>
              <a:gd name="adj1" fmla="val 50000"/>
              <a:gd name="adj2" fmla="val 6001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2133720"/>
            <a:ext cx="1905120" cy="380880"/>
          </a:xfrm>
          <a:prstGeom prst="leftArrow">
            <a:avLst>
              <a:gd name="adj1" fmla="val 50000"/>
              <a:gd name="adj2" fmla="val 12504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1942920" y="2171520"/>
            <a:ext cx="838080" cy="304920"/>
          </a:xfrm>
          <a:prstGeom prst="rightArrow">
            <a:avLst>
              <a:gd name="adj1" fmla="val 50000"/>
              <a:gd name="adj2" fmla="val 68891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38800" y="643428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Brad Cr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03:11:42Z</dcterms:created>
  <dc:creator>USER</dc:creator>
  <dc:description/>
  <dc:language>en-US</dc:language>
  <cp:lastModifiedBy>Hdaily</cp:lastModifiedBy>
  <cp:lastPrinted>2000-02-03T09:09:47Z</cp:lastPrinted>
  <dcterms:modified xsi:type="dcterms:W3CDTF">2000-06-14T22:32:38Z</dcterms:modified>
  <cp:revision>3</cp:revision>
  <dc:subject/>
  <dc:title>Within-fleece Gradients in Diameter Variation</dc:title>
</cp:coreProperties>
</file>