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A54E-7D65-4F67-A83F-8C7411FA7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0F11-BA6A-4765-9ED2-A1D498389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mechanisms whereby copper deficiency impacts on ruminant production.  It discusses some of the factors influencing the occurrence of deficiency, in particular the interaction between the relative availability of copper, molybdenum and sulf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C52D-AF6E-416A-98B5-756FAFD6D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per deficiency causes a whole range of different problems in grazing sheep.  This includes “swayback”, a condition seen only in sheep and possibly also goats, involving loss of nervous control of the hindquarters and resulting in death.  Fragile bones can develop due to the role of copper in catalysing the collagen cross-links which give bones their strength and flexibility.  Copper deficiency also causes anaemia in a number of animal species, including sheep, this is through reduced activity of ceruloplasmin, an enzyme needed to convert Fe</a:t>
            </a:r>
            <a:r>
              <a:rPr b="0" lang="en-GB" sz="1200" spc="-1" strike="noStrike" baseline="30000">
                <a:solidFill>
                  <a:srgbClr val="000000"/>
                </a:solidFill>
                <a:latin typeface="Times New Roman"/>
              </a:rPr>
              <a:t>3+ </a:t>
            </a:r>
            <a:r>
              <a:rPr b="0" lang="en-GB" sz="1200" spc="-1" strike="noStrike">
                <a:solidFill>
                  <a:srgbClr val="000000"/>
                </a:solidFill>
                <a:latin typeface="Times New Roman"/>
              </a:rPr>
              <a:t>to Fe</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Conversion to Fe</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is needed to facilitate iron transport in plasma.  Thus there may be large stores of iron in the liver, but copper deficiency prevents this from being distributed to the sites where it is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heep and to some extent cattle, severe copper deficiency can result in loss of pigmentation as copper is required in the formation of the black pigment, melanin.  This can cause black wool to turn white.  It also affects crimp formation in wool as it is involved in the formation of chemical bonds in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per deficiency arises from low copper soils, though these are relatively infrequent.  The major occurrence of copper deficiency arises from the interaction of copper with molybdenum and sulfur.  High intakes of iron can also reduce the availability of cop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4F4F-843D-49E1-839D-1FAD5D0B8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Developed from lecture notes prepared by Professor Jeff Gawthorne, Murdoch University, Pe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per-Molybdenum-Sulfur interaction only occurs in ruminants.  Cu, Mo and S are consumed in the diet and released into a soluble form.  Sulfate or sulfur from plant protein are then converted to sulfide in the rumen.  This combines with copper to produce a precipitate that is excreted out as it cannot be absorbed.  In addition, thiomolybdate forms from the reaction of sulfide with molybdate and this then binds Cu, forming an insoluble copper thiomolybdate.  Some thiomolybdates will also be absorbed and may combine with Cu within the animal, further reducing Cu st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copper deficiency can be induced even if there is sufficient copper available in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1892-71E6-462B-BF8E-8292E0ACD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Cu-Mo-S interaction from a practical point of view.  As sulfur availability increases, copper availability decreases, but the rate of decrease is dependent on molybdenum availability.  At higher Mo availability, copper availability is reduced but is less dependent on sulfur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pasture represents around 2 mg molybdenum per kg DM and 1-2 gm sulfur per kg D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3972-F66F-4E37-8DE1-82B747060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limatic, seasonal and cultural practices influence the mineral status of pas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il type and climate will determine the types and amounts of minerals available.  Soils initially resemble the parent rock in composition, but climate affects mineral availability via leaching, redistribution through profile, soil pH and drain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of the year and plant maturity also affect mineral availability.  Concentrations of phosphorus, sodium, potassium, sulfur, iodine and zinc decline as plants mature, whereas there is little change in calcium and magnesium.  Some minerals are not required for plant growth and thus any factors which stimulate plant growth (e.g. Spring, fertiliser application) can dilute the concentration of these minerals in herb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tiliser may raise mineral levels directly.  But the increase in pasture productivity may also dilute the concentration of minerals in herbage.  Change in soil pH may also affect mineral availability (cations increase as pH goes down).  Pasture species may affect mineral availability in herbage, with differences between legumes and grasses, tropical and temperate, weeds and pasture species.  For example, capeweed contains relatively high levels of some minerals compared to improved pasture species, so weed management may reduce availability of these miner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feeds also differ in mineral content. For example, cereal grains are high in phosphorus but low in calcium, so may require mineral supplements when feeding high levels of grain. Rainfall can affect mineral availability via leaching of minerals from soil or stimulating plant growth. Location, in terms of proximity to the ocean, can also influence mineral availability. Iodine and sodium are particularly affect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pper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266840" y="457200"/>
            <a:ext cx="663084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pper</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Effec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aybac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gile bon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emi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igment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wool crimp</a:t>
            </a:r>
            <a:endParaRPr b="1" lang="en-US" sz="24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Occurrenc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copper soi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molybdenum and sulfur intak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iron intak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
          <p:cNvSpPr/>
          <p:nvPr/>
        </p:nvSpPr>
        <p:spPr>
          <a:xfrm>
            <a:off x="7988400" y="655308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123920" y="1219320"/>
            <a:ext cx="8102880" cy="4465800"/>
            <a:chOff x="1123920" y="1219320"/>
            <a:chExt cx="8102880" cy="4465800"/>
          </a:xfrm>
        </p:grpSpPr>
        <p:sp>
          <p:nvSpPr>
            <p:cNvPr id="55" name=""/>
            <p:cNvSpPr/>
            <p:nvPr/>
          </p:nvSpPr>
          <p:spPr>
            <a:xfrm>
              <a:off x="1123920" y="1828800"/>
              <a:ext cx="128124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et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Mo</a:t>
              </a:r>
              <a:endParaRPr b="0" lang="en-US" sz="2400" spc="-1" strike="noStrike">
                <a:solidFill>
                  <a:srgbClr val="000000"/>
                </a:solidFill>
                <a:latin typeface="Times New Roman"/>
              </a:endParaRPr>
            </a:p>
          </p:txBody>
        </p:sp>
        <p:grpSp>
          <p:nvGrpSpPr>
            <p:cNvPr id="56" name=""/>
            <p:cNvGrpSpPr/>
            <p:nvPr/>
          </p:nvGrpSpPr>
          <p:grpSpPr>
            <a:xfrm>
              <a:off x="2470320" y="1219320"/>
              <a:ext cx="5865120" cy="3354120"/>
              <a:chOff x="2470320" y="1219320"/>
              <a:chExt cx="5865120" cy="3354120"/>
            </a:xfrm>
          </p:grpSpPr>
          <p:sp>
            <p:nvSpPr>
              <p:cNvPr id="57" name=""/>
              <p:cNvSpPr/>
              <p:nvPr/>
            </p:nvSpPr>
            <p:spPr>
              <a:xfrm>
                <a:off x="2470320" y="1219320"/>
                <a:ext cx="4535640" cy="3273480"/>
              </a:xfrm>
              <a:custGeom>
                <a:avLst/>
                <a:gdLst/>
                <a:ahLst/>
                <a:rect l="l" t="t" r="r" b="b"/>
                <a:pathLst>
                  <a:path w="3094" h="2062">
                    <a:moveTo>
                      <a:pt x="0" y="646"/>
                    </a:moveTo>
                    <a:lnTo>
                      <a:pt x="92" y="614"/>
                    </a:lnTo>
                    <a:lnTo>
                      <a:pt x="131" y="614"/>
                    </a:lnTo>
                    <a:lnTo>
                      <a:pt x="187" y="614"/>
                    </a:lnTo>
                    <a:lnTo>
                      <a:pt x="205" y="564"/>
                    </a:lnTo>
                    <a:lnTo>
                      <a:pt x="244" y="540"/>
                    </a:lnTo>
                    <a:lnTo>
                      <a:pt x="244" y="490"/>
                    </a:lnTo>
                    <a:lnTo>
                      <a:pt x="281" y="416"/>
                    </a:lnTo>
                    <a:lnTo>
                      <a:pt x="301" y="343"/>
                    </a:lnTo>
                    <a:lnTo>
                      <a:pt x="319" y="269"/>
                    </a:lnTo>
                    <a:lnTo>
                      <a:pt x="357" y="246"/>
                    </a:lnTo>
                    <a:lnTo>
                      <a:pt x="394" y="195"/>
                    </a:lnTo>
                    <a:lnTo>
                      <a:pt x="451" y="172"/>
                    </a:lnTo>
                    <a:lnTo>
                      <a:pt x="508" y="147"/>
                    </a:lnTo>
                    <a:lnTo>
                      <a:pt x="564" y="147"/>
                    </a:lnTo>
                    <a:lnTo>
                      <a:pt x="621" y="98"/>
                    </a:lnTo>
                    <a:lnTo>
                      <a:pt x="677" y="98"/>
                    </a:lnTo>
                    <a:lnTo>
                      <a:pt x="734" y="73"/>
                    </a:lnTo>
                    <a:lnTo>
                      <a:pt x="791" y="73"/>
                    </a:lnTo>
                    <a:lnTo>
                      <a:pt x="847" y="50"/>
                    </a:lnTo>
                    <a:lnTo>
                      <a:pt x="904" y="73"/>
                    </a:lnTo>
                    <a:lnTo>
                      <a:pt x="960" y="73"/>
                    </a:lnTo>
                    <a:lnTo>
                      <a:pt x="1017" y="50"/>
                    </a:lnTo>
                    <a:lnTo>
                      <a:pt x="1074" y="25"/>
                    </a:lnTo>
                    <a:lnTo>
                      <a:pt x="1130" y="25"/>
                    </a:lnTo>
                    <a:lnTo>
                      <a:pt x="1187" y="25"/>
                    </a:lnTo>
                    <a:lnTo>
                      <a:pt x="1225" y="25"/>
                    </a:lnTo>
                    <a:lnTo>
                      <a:pt x="1282" y="25"/>
                    </a:lnTo>
                    <a:lnTo>
                      <a:pt x="1338" y="0"/>
                    </a:lnTo>
                    <a:lnTo>
                      <a:pt x="1395" y="25"/>
                    </a:lnTo>
                    <a:lnTo>
                      <a:pt x="1452" y="25"/>
                    </a:lnTo>
                    <a:lnTo>
                      <a:pt x="1508" y="50"/>
                    </a:lnTo>
                    <a:lnTo>
                      <a:pt x="1565" y="50"/>
                    </a:lnTo>
                    <a:lnTo>
                      <a:pt x="1621" y="50"/>
                    </a:lnTo>
                    <a:lnTo>
                      <a:pt x="1678" y="50"/>
                    </a:lnTo>
                    <a:lnTo>
                      <a:pt x="1734" y="50"/>
                    </a:lnTo>
                    <a:lnTo>
                      <a:pt x="1791" y="98"/>
                    </a:lnTo>
                    <a:lnTo>
                      <a:pt x="1848" y="98"/>
                    </a:lnTo>
                    <a:lnTo>
                      <a:pt x="1904" y="123"/>
                    </a:lnTo>
                    <a:lnTo>
                      <a:pt x="1961" y="147"/>
                    </a:lnTo>
                    <a:lnTo>
                      <a:pt x="2017" y="147"/>
                    </a:lnTo>
                    <a:lnTo>
                      <a:pt x="2074" y="172"/>
                    </a:lnTo>
                    <a:lnTo>
                      <a:pt x="2131" y="195"/>
                    </a:lnTo>
                    <a:lnTo>
                      <a:pt x="2168" y="246"/>
                    </a:lnTo>
                    <a:lnTo>
                      <a:pt x="2224" y="246"/>
                    </a:lnTo>
                    <a:lnTo>
                      <a:pt x="2281" y="269"/>
                    </a:lnTo>
                    <a:lnTo>
                      <a:pt x="2338" y="294"/>
                    </a:lnTo>
                    <a:lnTo>
                      <a:pt x="2394" y="343"/>
                    </a:lnTo>
                    <a:lnTo>
                      <a:pt x="2451" y="393"/>
                    </a:lnTo>
                    <a:lnTo>
                      <a:pt x="2507" y="441"/>
                    </a:lnTo>
                    <a:lnTo>
                      <a:pt x="2545" y="515"/>
                    </a:lnTo>
                    <a:lnTo>
                      <a:pt x="2583" y="540"/>
                    </a:lnTo>
                    <a:lnTo>
                      <a:pt x="2621" y="614"/>
                    </a:lnTo>
                    <a:lnTo>
                      <a:pt x="2640" y="687"/>
                    </a:lnTo>
                    <a:lnTo>
                      <a:pt x="2696" y="761"/>
                    </a:lnTo>
                    <a:lnTo>
                      <a:pt x="2753" y="810"/>
                    </a:lnTo>
                    <a:lnTo>
                      <a:pt x="2753" y="883"/>
                    </a:lnTo>
                    <a:lnTo>
                      <a:pt x="2790" y="957"/>
                    </a:lnTo>
                    <a:lnTo>
                      <a:pt x="2828" y="1031"/>
                    </a:lnTo>
                    <a:lnTo>
                      <a:pt x="2828" y="1104"/>
                    </a:lnTo>
                    <a:lnTo>
                      <a:pt x="2810" y="1178"/>
                    </a:lnTo>
                    <a:lnTo>
                      <a:pt x="2866" y="1227"/>
                    </a:lnTo>
                    <a:lnTo>
                      <a:pt x="2904" y="1300"/>
                    </a:lnTo>
                    <a:lnTo>
                      <a:pt x="2960" y="1300"/>
                    </a:lnTo>
                    <a:lnTo>
                      <a:pt x="2979" y="1374"/>
                    </a:lnTo>
                    <a:lnTo>
                      <a:pt x="3017" y="1448"/>
                    </a:lnTo>
                    <a:lnTo>
                      <a:pt x="3073" y="1496"/>
                    </a:lnTo>
                    <a:lnTo>
                      <a:pt x="3093" y="1546"/>
                    </a:lnTo>
                    <a:lnTo>
                      <a:pt x="3054" y="1595"/>
                    </a:lnTo>
                    <a:lnTo>
                      <a:pt x="3036" y="1669"/>
                    </a:lnTo>
                    <a:lnTo>
                      <a:pt x="2997" y="1694"/>
                    </a:lnTo>
                    <a:lnTo>
                      <a:pt x="2941" y="1694"/>
                    </a:lnTo>
                    <a:lnTo>
                      <a:pt x="2884" y="1742"/>
                    </a:lnTo>
                    <a:lnTo>
                      <a:pt x="2828" y="1791"/>
                    </a:lnTo>
                    <a:lnTo>
                      <a:pt x="2771" y="1669"/>
                    </a:lnTo>
                    <a:lnTo>
                      <a:pt x="2790" y="1742"/>
                    </a:lnTo>
                    <a:lnTo>
                      <a:pt x="2753" y="1816"/>
                    </a:lnTo>
                    <a:lnTo>
                      <a:pt x="2715" y="1841"/>
                    </a:lnTo>
                    <a:lnTo>
                      <a:pt x="2658" y="1865"/>
                    </a:lnTo>
                    <a:lnTo>
                      <a:pt x="2621" y="1915"/>
                    </a:lnTo>
                    <a:lnTo>
                      <a:pt x="2564" y="1915"/>
                    </a:lnTo>
                    <a:lnTo>
                      <a:pt x="2507" y="1915"/>
                    </a:lnTo>
                    <a:lnTo>
                      <a:pt x="2451" y="1963"/>
                    </a:lnTo>
                    <a:lnTo>
                      <a:pt x="2413" y="2037"/>
                    </a:lnTo>
                    <a:lnTo>
                      <a:pt x="2375" y="2037"/>
                    </a:lnTo>
                    <a:lnTo>
                      <a:pt x="2318" y="2061"/>
                    </a:lnTo>
                    <a:lnTo>
                      <a:pt x="2262" y="2061"/>
                    </a:lnTo>
                    <a:lnTo>
                      <a:pt x="2205" y="2061"/>
                    </a:lnTo>
                    <a:lnTo>
                      <a:pt x="2149" y="2012"/>
                    </a:lnTo>
                    <a:lnTo>
                      <a:pt x="2092" y="2012"/>
                    </a:lnTo>
                    <a:lnTo>
                      <a:pt x="2035" y="1988"/>
                    </a:lnTo>
                    <a:lnTo>
                      <a:pt x="1979" y="1988"/>
                    </a:lnTo>
                    <a:lnTo>
                      <a:pt x="1866" y="1988"/>
                    </a:lnTo>
                    <a:lnTo>
                      <a:pt x="1715" y="1988"/>
                    </a:lnTo>
                    <a:lnTo>
                      <a:pt x="1583" y="1988"/>
                    </a:lnTo>
                    <a:lnTo>
                      <a:pt x="1526" y="1988"/>
                    </a:lnTo>
                    <a:lnTo>
                      <a:pt x="1470" y="2012"/>
                    </a:lnTo>
                    <a:lnTo>
                      <a:pt x="1413" y="2012"/>
                    </a:lnTo>
                    <a:lnTo>
                      <a:pt x="1356" y="2012"/>
                    </a:lnTo>
                    <a:lnTo>
                      <a:pt x="1300" y="2012"/>
                    </a:lnTo>
                    <a:lnTo>
                      <a:pt x="1243" y="2012"/>
                    </a:lnTo>
                    <a:lnTo>
                      <a:pt x="1187" y="1988"/>
                    </a:lnTo>
                    <a:lnTo>
                      <a:pt x="1130" y="2012"/>
                    </a:lnTo>
                    <a:lnTo>
                      <a:pt x="1074" y="1988"/>
                    </a:lnTo>
                    <a:lnTo>
                      <a:pt x="941" y="1988"/>
                    </a:lnTo>
                    <a:lnTo>
                      <a:pt x="885" y="1988"/>
                    </a:lnTo>
                    <a:lnTo>
                      <a:pt x="828" y="1963"/>
                    </a:lnTo>
                    <a:lnTo>
                      <a:pt x="771" y="1938"/>
                    </a:lnTo>
                    <a:lnTo>
                      <a:pt x="640" y="1938"/>
                    </a:lnTo>
                    <a:lnTo>
                      <a:pt x="602" y="1938"/>
                    </a:lnTo>
                    <a:lnTo>
                      <a:pt x="545" y="1915"/>
                    </a:lnTo>
                    <a:lnTo>
                      <a:pt x="488" y="1890"/>
                    </a:lnTo>
                    <a:lnTo>
                      <a:pt x="451" y="1694"/>
                    </a:lnTo>
                    <a:lnTo>
                      <a:pt x="451" y="1767"/>
                    </a:lnTo>
                    <a:lnTo>
                      <a:pt x="451" y="1841"/>
                    </a:lnTo>
                    <a:lnTo>
                      <a:pt x="394" y="1865"/>
                    </a:lnTo>
                    <a:lnTo>
                      <a:pt x="338" y="1865"/>
                    </a:lnTo>
                    <a:lnTo>
                      <a:pt x="187" y="1841"/>
                    </a:lnTo>
                    <a:lnTo>
                      <a:pt x="168" y="1791"/>
                    </a:lnTo>
                    <a:lnTo>
                      <a:pt x="149" y="1717"/>
                    </a:lnTo>
                    <a:lnTo>
                      <a:pt x="131" y="1644"/>
                    </a:lnTo>
                    <a:lnTo>
                      <a:pt x="131" y="1570"/>
                    </a:lnTo>
                    <a:lnTo>
                      <a:pt x="112" y="1399"/>
                    </a:lnTo>
                    <a:lnTo>
                      <a:pt x="112" y="1349"/>
                    </a:lnTo>
                    <a:lnTo>
                      <a:pt x="112" y="1275"/>
                    </a:lnTo>
                    <a:lnTo>
                      <a:pt x="112" y="1202"/>
                    </a:lnTo>
                    <a:lnTo>
                      <a:pt x="131" y="1128"/>
                    </a:lnTo>
                    <a:lnTo>
                      <a:pt x="131" y="1056"/>
                    </a:lnTo>
                    <a:lnTo>
                      <a:pt x="112" y="1006"/>
                    </a:lnTo>
                    <a:lnTo>
                      <a:pt x="55" y="9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771600" y="3870360"/>
                <a:ext cx="1425960" cy="156960"/>
              </a:xfrm>
              <a:custGeom>
                <a:avLst/>
                <a:gdLst/>
                <a:ahLst/>
                <a:rect l="l" t="t" r="r" b="b"/>
                <a:pathLst>
                  <a:path w="973" h="99">
                    <a:moveTo>
                      <a:pt x="0" y="38"/>
                    </a:moveTo>
                    <a:lnTo>
                      <a:pt x="83" y="48"/>
                    </a:lnTo>
                    <a:lnTo>
                      <a:pt x="140" y="48"/>
                    </a:lnTo>
                    <a:lnTo>
                      <a:pt x="197" y="24"/>
                    </a:lnTo>
                    <a:lnTo>
                      <a:pt x="253" y="0"/>
                    </a:lnTo>
                    <a:lnTo>
                      <a:pt x="310" y="0"/>
                    </a:lnTo>
                    <a:lnTo>
                      <a:pt x="367" y="0"/>
                    </a:lnTo>
                    <a:lnTo>
                      <a:pt x="423" y="24"/>
                    </a:lnTo>
                    <a:lnTo>
                      <a:pt x="462" y="73"/>
                    </a:lnTo>
                    <a:lnTo>
                      <a:pt x="518" y="98"/>
                    </a:lnTo>
                    <a:lnTo>
                      <a:pt x="575" y="98"/>
                    </a:lnTo>
                    <a:lnTo>
                      <a:pt x="632" y="98"/>
                    </a:lnTo>
                    <a:lnTo>
                      <a:pt x="688" y="73"/>
                    </a:lnTo>
                    <a:lnTo>
                      <a:pt x="745" y="48"/>
                    </a:lnTo>
                    <a:lnTo>
                      <a:pt x="802" y="24"/>
                    </a:lnTo>
                    <a:lnTo>
                      <a:pt x="858" y="0"/>
                    </a:lnTo>
                    <a:lnTo>
                      <a:pt x="915" y="0"/>
                    </a:lnTo>
                    <a:lnTo>
                      <a:pt x="97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453360" y="4154400"/>
                <a:ext cx="1882080" cy="419040"/>
              </a:xfrm>
              <a:custGeom>
                <a:avLst/>
                <a:gdLst/>
                <a:ahLst/>
                <a:rect l="l" t="t" r="r" b="b"/>
                <a:pathLst>
                  <a:path w="1284" h="264">
                    <a:moveTo>
                      <a:pt x="0" y="0"/>
                    </a:moveTo>
                    <a:lnTo>
                      <a:pt x="93" y="66"/>
                    </a:lnTo>
                    <a:lnTo>
                      <a:pt x="150" y="115"/>
                    </a:lnTo>
                    <a:lnTo>
                      <a:pt x="207" y="90"/>
                    </a:lnTo>
                    <a:lnTo>
                      <a:pt x="263" y="115"/>
                    </a:lnTo>
                    <a:lnTo>
                      <a:pt x="320" y="115"/>
                    </a:lnTo>
                    <a:lnTo>
                      <a:pt x="377" y="115"/>
                    </a:lnTo>
                    <a:lnTo>
                      <a:pt x="433" y="90"/>
                    </a:lnTo>
                    <a:lnTo>
                      <a:pt x="490" y="90"/>
                    </a:lnTo>
                    <a:lnTo>
                      <a:pt x="546" y="115"/>
                    </a:lnTo>
                    <a:lnTo>
                      <a:pt x="603" y="164"/>
                    </a:lnTo>
                    <a:lnTo>
                      <a:pt x="660" y="212"/>
                    </a:lnTo>
                    <a:lnTo>
                      <a:pt x="716" y="212"/>
                    </a:lnTo>
                    <a:lnTo>
                      <a:pt x="773" y="237"/>
                    </a:lnTo>
                    <a:lnTo>
                      <a:pt x="830" y="237"/>
                    </a:lnTo>
                    <a:lnTo>
                      <a:pt x="886" y="263"/>
                    </a:lnTo>
                    <a:lnTo>
                      <a:pt x="943" y="237"/>
                    </a:lnTo>
                    <a:lnTo>
                      <a:pt x="999" y="237"/>
                    </a:lnTo>
                    <a:lnTo>
                      <a:pt x="1056" y="189"/>
                    </a:lnTo>
                    <a:lnTo>
                      <a:pt x="1113" y="189"/>
                    </a:lnTo>
                    <a:lnTo>
                      <a:pt x="1169" y="140"/>
                    </a:lnTo>
                    <a:lnTo>
                      <a:pt x="1226" y="115"/>
                    </a:lnTo>
                    <a:lnTo>
                      <a:pt x="1283" y="9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2554560" y="1812960"/>
              <a:ext cx="23536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microbes </a:t>
              </a:r>
              <a:endParaRPr b="0" lang="en-US" sz="2400" spc="-1" strike="noStrike">
                <a:solidFill>
                  <a:srgbClr val="000000"/>
                </a:solidFill>
                <a:latin typeface="Times New Roman"/>
              </a:endParaRPr>
            </a:p>
          </p:txBody>
        </p:sp>
        <p:sp>
          <p:nvSpPr>
            <p:cNvPr id="61" name=""/>
            <p:cNvSpPr/>
            <p:nvPr/>
          </p:nvSpPr>
          <p:spPr>
            <a:xfrm>
              <a:off x="4835520" y="2057400"/>
              <a:ext cx="220680" cy="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043240" y="1812960"/>
              <a:ext cx="1417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r>
                <a:rPr b="1" lang="en-US" sz="2400" spc="-1" strike="noStrike" baseline="30000">
                  <a:solidFill>
                    <a:srgbClr val="ffffff"/>
                  </a:solidFill>
                  <a:latin typeface="Arial"/>
                </a:rPr>
                <a:t>2-</a:t>
              </a:r>
              <a:r>
                <a:rPr b="1" lang="en-US" sz="2400" spc="-1" strike="noStrike">
                  <a:solidFill>
                    <a:srgbClr val="ffffff"/>
                  </a:solidFill>
                  <a:latin typeface="Arial"/>
                </a:rPr>
                <a:t>+ Cu</a:t>
              </a:r>
              <a:r>
                <a:rPr b="1"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3" name=""/>
            <p:cNvSpPr/>
            <p:nvPr/>
          </p:nvSpPr>
          <p:spPr>
            <a:xfrm>
              <a:off x="5511960" y="2247840"/>
              <a:ext cx="0" cy="22860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092920" y="2422440"/>
              <a:ext cx="79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CuS</a:t>
              </a:r>
              <a:endParaRPr b="0" lang="en-US" sz="2400" spc="-1" strike="noStrike">
                <a:solidFill>
                  <a:srgbClr val="000000"/>
                </a:solidFill>
                <a:latin typeface="Times New Roman"/>
              </a:endParaRPr>
            </a:p>
          </p:txBody>
        </p:sp>
        <p:sp>
          <p:nvSpPr>
            <p:cNvPr id="65" name=""/>
            <p:cNvSpPr/>
            <p:nvPr/>
          </p:nvSpPr>
          <p:spPr>
            <a:xfrm>
              <a:off x="2634480" y="3565440"/>
              <a:ext cx="11206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O</a:t>
              </a:r>
              <a:r>
                <a:rPr b="1" lang="en-US" sz="2400" spc="-1" strike="noStrike" baseline="-25000">
                  <a:solidFill>
                    <a:srgbClr val="ffffff"/>
                  </a:solidFill>
                  <a:latin typeface="Arial"/>
                </a:rPr>
                <a:t>4</a:t>
              </a:r>
              <a:r>
                <a:rPr b="1"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6" name=""/>
            <p:cNvSpPr/>
            <p:nvPr/>
          </p:nvSpPr>
          <p:spPr>
            <a:xfrm>
              <a:off x="3770280" y="3809880"/>
              <a:ext cx="219240" cy="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28400" y="3641760"/>
              <a:ext cx="200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a:t>
              </a:r>
              <a:r>
                <a:rPr b="1" lang="en-US" sz="2400" spc="-1" strike="noStrike" baseline="-25000">
                  <a:solidFill>
                    <a:srgbClr val="ffffff"/>
                  </a:solidFill>
                  <a:latin typeface="Arial"/>
                </a:rPr>
                <a:t>4</a:t>
              </a:r>
              <a:r>
                <a:rPr b="1" lang="en-US" sz="2400" spc="-1" strike="noStrike" baseline="30000">
                  <a:solidFill>
                    <a:srgbClr val="ffffff"/>
                  </a:solidFill>
                  <a:latin typeface="Arial"/>
                </a:rPr>
                <a:t>2- </a:t>
              </a:r>
              <a:r>
                <a:rPr b="1" lang="en-US" sz="2400" spc="-1" strike="noStrike">
                  <a:solidFill>
                    <a:srgbClr val="ffffff"/>
                  </a:solidFill>
                  <a:latin typeface="Arial"/>
                </a:rPr>
                <a:t>+ Cu</a:t>
              </a:r>
              <a:r>
                <a:rPr b="1"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8" name=""/>
            <p:cNvSpPr/>
            <p:nvPr/>
          </p:nvSpPr>
          <p:spPr>
            <a:xfrm flipV="1">
              <a:off x="5035680" y="3352320"/>
              <a:ext cx="0" cy="30492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76520" y="2955960"/>
              <a:ext cx="157644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CuMoS</a:t>
              </a:r>
              <a:r>
                <a:rPr b="1" lang="en-US" sz="2400" spc="-1" strike="noStrike" baseline="-25000">
                  <a:solidFill>
                    <a:srgbClr val="ff9933"/>
                  </a:solidFill>
                  <a:latin typeface="Arial"/>
                </a:rPr>
                <a:t>4</a:t>
              </a:r>
              <a:r>
                <a:rPr b="1" lang="en-US" sz="2400" spc="-1" strike="noStrike" baseline="30000">
                  <a:solidFill>
                    <a:srgbClr val="ff9933"/>
                  </a:solidFill>
                  <a:latin typeface="Arial"/>
                </a:rPr>
                <a:t>2-</a:t>
              </a:r>
              <a:r>
                <a:rPr b="1"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70" name=""/>
            <p:cNvSpPr/>
            <p:nvPr/>
          </p:nvSpPr>
          <p:spPr>
            <a:xfrm>
              <a:off x="5475240" y="2668680"/>
              <a:ext cx="1025280" cy="228528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50760">
              <a:solidFill>
                <a:srgbClr val="ff9933"/>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648480" y="4038480"/>
              <a:ext cx="1950840" cy="723960"/>
            </a:xfrm>
            <a:custGeom>
              <a:avLst/>
              <a:gdLst/>
              <a:ahLst/>
              <a:rect l="l" t="t" r="r" b="b"/>
              <a:pathLst>
                <a:path w="1331" h="456">
                  <a:moveTo>
                    <a:pt x="0" y="0"/>
                  </a:moveTo>
                  <a:lnTo>
                    <a:pt x="80" y="22"/>
                  </a:lnTo>
                  <a:lnTo>
                    <a:pt x="132" y="38"/>
                  </a:lnTo>
                  <a:lnTo>
                    <a:pt x="166" y="72"/>
                  </a:lnTo>
                  <a:lnTo>
                    <a:pt x="202" y="72"/>
                  </a:lnTo>
                  <a:lnTo>
                    <a:pt x="254" y="88"/>
                  </a:lnTo>
                  <a:lnTo>
                    <a:pt x="306" y="88"/>
                  </a:lnTo>
                  <a:lnTo>
                    <a:pt x="358" y="72"/>
                  </a:lnTo>
                  <a:lnTo>
                    <a:pt x="410" y="72"/>
                  </a:lnTo>
                  <a:lnTo>
                    <a:pt x="462" y="88"/>
                  </a:lnTo>
                  <a:lnTo>
                    <a:pt x="514" y="88"/>
                  </a:lnTo>
                  <a:lnTo>
                    <a:pt x="566" y="88"/>
                  </a:lnTo>
                  <a:lnTo>
                    <a:pt x="618" y="88"/>
                  </a:lnTo>
                  <a:lnTo>
                    <a:pt x="670" y="88"/>
                  </a:lnTo>
                  <a:lnTo>
                    <a:pt x="722" y="88"/>
                  </a:lnTo>
                  <a:lnTo>
                    <a:pt x="774" y="88"/>
                  </a:lnTo>
                  <a:lnTo>
                    <a:pt x="826" y="88"/>
                  </a:lnTo>
                  <a:lnTo>
                    <a:pt x="879" y="88"/>
                  </a:lnTo>
                  <a:lnTo>
                    <a:pt x="931" y="88"/>
                  </a:lnTo>
                  <a:lnTo>
                    <a:pt x="983" y="88"/>
                  </a:lnTo>
                  <a:lnTo>
                    <a:pt x="1035" y="72"/>
                  </a:lnTo>
                  <a:lnTo>
                    <a:pt x="1087" y="72"/>
                  </a:lnTo>
                  <a:lnTo>
                    <a:pt x="1139" y="72"/>
                  </a:lnTo>
                  <a:lnTo>
                    <a:pt x="1191" y="72"/>
                  </a:lnTo>
                  <a:lnTo>
                    <a:pt x="1243" y="72"/>
                  </a:lnTo>
                  <a:lnTo>
                    <a:pt x="1295" y="105"/>
                  </a:lnTo>
                  <a:lnTo>
                    <a:pt x="1312" y="155"/>
                  </a:lnTo>
                  <a:lnTo>
                    <a:pt x="1312" y="205"/>
                  </a:lnTo>
                  <a:lnTo>
                    <a:pt x="1330" y="255"/>
                  </a:lnTo>
                  <a:lnTo>
                    <a:pt x="1312" y="305"/>
                  </a:lnTo>
                  <a:lnTo>
                    <a:pt x="1312" y="355"/>
                  </a:lnTo>
                  <a:lnTo>
                    <a:pt x="1312" y="405"/>
                  </a:lnTo>
                  <a:lnTo>
                    <a:pt x="1295" y="455"/>
                  </a:lnTo>
                </a:path>
              </a:pathLst>
            </a:custGeom>
            <a:noFill/>
            <a:ln cap="rnd" w="50760">
              <a:solidFill>
                <a:srgbClr val="ff9933"/>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143480" y="4861080"/>
              <a:ext cx="20138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Insoluble C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compounds</a:t>
              </a:r>
              <a:endParaRPr b="0" lang="en-US" sz="2400" spc="-1" strike="noStrike">
                <a:solidFill>
                  <a:srgbClr val="000000"/>
                </a:solidFill>
                <a:latin typeface="Times New Roman"/>
              </a:endParaRPr>
            </a:p>
          </p:txBody>
        </p:sp>
        <p:sp>
          <p:nvSpPr>
            <p:cNvPr id="73" name=""/>
            <p:cNvSpPr/>
            <p:nvPr/>
          </p:nvSpPr>
          <p:spPr>
            <a:xfrm>
              <a:off x="6573960" y="1829160"/>
              <a:ext cx="1320480" cy="19803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99"/>
              </a:solidFill>
              <a:custDash>
                <a:ds d="499000" sp="201000"/>
              </a:custDash>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00800" y="1295280"/>
              <a:ext cx="2826000" cy="874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Cu and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S</a:t>
              </a:r>
              <a:r>
                <a:rPr b="1" lang="en-US" sz="2400" spc="-1" strike="noStrike" baseline="-25000">
                  <a:solidFill>
                    <a:srgbClr val="ffffff"/>
                  </a:solidFill>
                  <a:latin typeface="Arial"/>
                </a:rPr>
                <a:t>4</a:t>
              </a:r>
              <a:r>
                <a:rPr b="1" lang="en-US" sz="2400" spc="-1" strike="noStrike" baseline="30000">
                  <a:solidFill>
                    <a:srgbClr val="ffffff"/>
                  </a:solidFill>
                  <a:latin typeface="Arial"/>
                </a:rPr>
                <a:t>2-</a:t>
              </a:r>
              <a:r>
                <a:rPr b="1" lang="en-US" sz="2400" spc="-1" strike="noStrike">
                  <a:solidFill>
                    <a:srgbClr val="ffffff"/>
                  </a:solidFill>
                  <a:latin typeface="Arial"/>
                </a:rPr>
                <a:t> absorbed</a:t>
              </a:r>
              <a:endParaRPr b="0" lang="en-US" sz="2400" spc="-1" strike="noStrike">
                <a:solidFill>
                  <a:srgbClr val="000000"/>
                </a:solidFill>
                <a:latin typeface="Times New Roman"/>
              </a:endParaRPr>
            </a:p>
          </p:txBody>
        </p:sp>
        <p:sp>
          <p:nvSpPr>
            <p:cNvPr id="75" name=""/>
            <p:cNvSpPr/>
            <p:nvPr/>
          </p:nvSpPr>
          <p:spPr>
            <a:xfrm>
              <a:off x="5329080" y="3201840"/>
              <a:ext cx="1025280" cy="152388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50760">
              <a:solidFill>
                <a:srgbClr val="ff9933"/>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921120" y="4662360"/>
              <a:ext cx="1387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men</a:t>
              </a:r>
              <a:endParaRPr b="0" lang="en-US" sz="2800" spc="-1" strike="noStrike">
                <a:solidFill>
                  <a:srgbClr val="000000"/>
                </a:solidFill>
                <a:latin typeface="Times New Roman"/>
              </a:endParaRPr>
            </a:p>
          </p:txBody>
        </p:sp>
        <p:sp>
          <p:nvSpPr>
            <p:cNvPr id="77" name=""/>
            <p:cNvSpPr/>
            <p:nvPr/>
          </p:nvSpPr>
          <p:spPr>
            <a:xfrm>
              <a:off x="1663560" y="2592360"/>
              <a:ext cx="1320480" cy="1371240"/>
            </a:xfrm>
            <a:custGeom>
              <a:avLst/>
              <a:gdLst/>
              <a:ahLst/>
              <a:rect l="l" t="t" r="r" b="b"/>
              <a:pathLst>
                <a:path stroke="0" w="21600" h="21600">
                  <a:moveTo>
                    <a:pt x="10776" y="0"/>
                  </a:moveTo>
                  <a:arcTo wR="10800" hR="10800" stAng="-5407639" swAng="5407639"/>
                  <a:lnTo>
                    <a:pt x="10800" y="10800"/>
                  </a:lnTo>
                  <a:close/>
                </a:path>
                <a:path fill="none" w="21600" h="21600">
                  <a:moveTo>
                    <a:pt x="10776" y="0"/>
                  </a:moveTo>
                  <a:arcTo wR="10800" hR="10800" stAng="-5407639" swAng="5407639"/>
                </a:path>
              </a:pathLst>
            </a:custGeom>
            <a:noFill/>
            <a:ln cap="rnd" w="50760">
              <a:solidFill>
                <a:srgbClr val="ffff99"/>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89400" y="2133720"/>
              <a:ext cx="132012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99"/>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1266840" y="76320"/>
            <a:ext cx="66308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Cu x S x Mo interaction</a:t>
            </a:r>
            <a:endParaRPr b="1" lang="en-US" sz="3200" spc="-1" strike="noStrike">
              <a:solidFill>
                <a:srgbClr val="fafd00"/>
              </a:solidFill>
              <a:latin typeface="Arial"/>
            </a:endParaRPr>
          </a:p>
        </p:txBody>
      </p:sp>
      <p:sp>
        <p:nvSpPr>
          <p:cNvPr id="81" name=""/>
          <p:cNvSpPr/>
          <p:nvPr/>
        </p:nvSpPr>
        <p:spPr>
          <a:xfrm>
            <a:off x="7443360" y="6400800"/>
            <a:ext cx="1703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awthorne, 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2" name=""/>
          <p:cNvGrpSpPr/>
          <p:nvPr/>
        </p:nvGrpSpPr>
        <p:grpSpPr>
          <a:xfrm>
            <a:off x="1143000" y="152280"/>
            <a:ext cx="7927920" cy="5986080"/>
            <a:chOff x="1143000" y="152280"/>
            <a:chExt cx="7927920" cy="5986080"/>
          </a:xfrm>
        </p:grpSpPr>
        <p:sp>
          <p:nvSpPr>
            <p:cNvPr id="83" name=""/>
            <p:cNvSpPr/>
            <p:nvPr/>
          </p:nvSpPr>
          <p:spPr>
            <a:xfrm>
              <a:off x="219204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84" name=""/>
            <p:cNvSpPr/>
            <p:nvPr/>
          </p:nvSpPr>
          <p:spPr>
            <a:xfrm>
              <a:off x="320724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85" name=""/>
            <p:cNvSpPr/>
            <p:nvPr/>
          </p:nvSpPr>
          <p:spPr>
            <a:xfrm>
              <a:off x="422352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000000"/>
                </a:solidFill>
                <a:latin typeface="Times New Roman"/>
              </a:endParaRPr>
            </a:p>
          </p:txBody>
        </p:sp>
        <p:sp>
          <p:nvSpPr>
            <p:cNvPr id="86" name=""/>
            <p:cNvSpPr/>
            <p:nvPr/>
          </p:nvSpPr>
          <p:spPr>
            <a:xfrm>
              <a:off x="525204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a:t>
              </a:r>
              <a:endParaRPr b="0" lang="en-US" sz="2400" spc="-1" strike="noStrike">
                <a:solidFill>
                  <a:srgbClr val="000000"/>
                </a:solidFill>
                <a:latin typeface="Times New Roman"/>
              </a:endParaRPr>
            </a:p>
          </p:txBody>
        </p:sp>
        <p:sp>
          <p:nvSpPr>
            <p:cNvPr id="87" name=""/>
            <p:cNvSpPr/>
            <p:nvPr/>
          </p:nvSpPr>
          <p:spPr>
            <a:xfrm>
              <a:off x="626832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0" lang="en-US" sz="2400" spc="-1" strike="noStrike">
                <a:solidFill>
                  <a:srgbClr val="000000"/>
                </a:solidFill>
                <a:latin typeface="Times New Roman"/>
              </a:endParaRPr>
            </a:p>
          </p:txBody>
        </p:sp>
        <p:sp>
          <p:nvSpPr>
            <p:cNvPr id="88" name=""/>
            <p:cNvSpPr/>
            <p:nvPr/>
          </p:nvSpPr>
          <p:spPr>
            <a:xfrm>
              <a:off x="729828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5</a:t>
              </a:r>
              <a:endParaRPr b="0" lang="en-US" sz="2400" spc="-1" strike="noStrike">
                <a:solidFill>
                  <a:srgbClr val="000000"/>
                </a:solidFill>
                <a:latin typeface="Times New Roman"/>
              </a:endParaRPr>
            </a:p>
          </p:txBody>
        </p:sp>
        <p:sp>
          <p:nvSpPr>
            <p:cNvPr id="89" name=""/>
            <p:cNvSpPr/>
            <p:nvPr/>
          </p:nvSpPr>
          <p:spPr>
            <a:xfrm>
              <a:off x="831420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000000"/>
                </a:solidFill>
                <a:latin typeface="Times New Roman"/>
              </a:endParaRPr>
            </a:p>
          </p:txBody>
        </p:sp>
        <p:sp>
          <p:nvSpPr>
            <p:cNvPr id="90" name=""/>
            <p:cNvSpPr/>
            <p:nvPr/>
          </p:nvSpPr>
          <p:spPr>
            <a:xfrm>
              <a:off x="1595160" y="46353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91" name=""/>
            <p:cNvSpPr/>
            <p:nvPr/>
          </p:nvSpPr>
          <p:spPr>
            <a:xfrm>
              <a:off x="1595160" y="372744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1595160" y="2833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93" name=""/>
            <p:cNvSpPr/>
            <p:nvPr/>
          </p:nvSpPr>
          <p:spPr>
            <a:xfrm>
              <a:off x="1595160" y="194004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94" name=""/>
            <p:cNvSpPr/>
            <p:nvPr/>
          </p:nvSpPr>
          <p:spPr>
            <a:xfrm>
              <a:off x="1595160" y="10461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95" name=""/>
            <p:cNvSpPr/>
            <p:nvPr/>
          </p:nvSpPr>
          <p:spPr>
            <a:xfrm>
              <a:off x="1595160" y="1522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96" name=""/>
            <p:cNvSpPr/>
            <p:nvPr/>
          </p:nvSpPr>
          <p:spPr>
            <a:xfrm flipV="1">
              <a:off x="191700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7" name=""/>
            <p:cNvSpPr/>
            <p:nvPr/>
          </p:nvSpPr>
          <p:spPr>
            <a:xfrm flipV="1">
              <a:off x="243180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94768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9" name=""/>
            <p:cNvSpPr/>
            <p:nvPr/>
          </p:nvSpPr>
          <p:spPr>
            <a:xfrm flipV="1">
              <a:off x="344916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96360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1" name=""/>
            <p:cNvSpPr/>
            <p:nvPr/>
          </p:nvSpPr>
          <p:spPr>
            <a:xfrm flipV="1">
              <a:off x="497988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2" name=""/>
            <p:cNvSpPr/>
            <p:nvPr/>
          </p:nvSpPr>
          <p:spPr>
            <a:xfrm flipV="1">
              <a:off x="549468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00948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 name=""/>
            <p:cNvSpPr/>
            <p:nvPr/>
          </p:nvSpPr>
          <p:spPr>
            <a:xfrm flipV="1">
              <a:off x="651060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02540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6" name=""/>
            <p:cNvSpPr/>
            <p:nvPr/>
          </p:nvSpPr>
          <p:spPr>
            <a:xfrm flipV="1">
              <a:off x="804132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7" name=""/>
            <p:cNvSpPr/>
            <p:nvPr/>
          </p:nvSpPr>
          <p:spPr>
            <a:xfrm flipV="1">
              <a:off x="855612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907092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9" name=""/>
            <p:cNvSpPr/>
            <p:nvPr/>
          </p:nvSpPr>
          <p:spPr>
            <a:xfrm>
              <a:off x="1917000" y="5259240"/>
              <a:ext cx="7153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17000" y="52592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917000" y="479916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17000" y="435132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917000" y="390528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17000" y="34574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17000" y="300996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17000" y="256392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17000" y="211608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917000" y="16700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17000" y="122220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17000" y="77616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17000" y="32868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1917000" y="328680"/>
              <a:ext cx="0" cy="493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431800" y="776160"/>
              <a:ext cx="6124320" cy="29559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431800" y="2116080"/>
              <a:ext cx="6124320" cy="2062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31800" y="3457440"/>
              <a:ext cx="6124320" cy="8082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44760" y="34113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27" name=""/>
            <p:cNvSpPr/>
            <p:nvPr/>
          </p:nvSpPr>
          <p:spPr>
            <a:xfrm>
              <a:off x="5144760" y="26319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128" name=""/>
            <p:cNvSpPr/>
            <p:nvPr/>
          </p:nvSpPr>
          <p:spPr>
            <a:xfrm>
              <a:off x="5131440" y="16765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29" name=""/>
            <p:cNvSpPr/>
            <p:nvPr/>
          </p:nvSpPr>
          <p:spPr>
            <a:xfrm rot="16200000">
              <a:off x="-356040" y="2940840"/>
              <a:ext cx="3457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per availability (%)</a:t>
              </a:r>
              <a:endParaRPr b="0" lang="en-US" sz="2400" spc="-1" strike="noStrike">
                <a:solidFill>
                  <a:srgbClr val="000000"/>
                </a:solidFill>
                <a:latin typeface="Times New Roman"/>
              </a:endParaRPr>
            </a:p>
          </p:txBody>
        </p:sp>
        <p:sp>
          <p:nvSpPr>
            <p:cNvPr id="130" name=""/>
            <p:cNvSpPr/>
            <p:nvPr/>
          </p:nvSpPr>
          <p:spPr>
            <a:xfrm>
              <a:off x="3107880" y="5678640"/>
              <a:ext cx="41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lfur in herbage (g/kg DM)</a:t>
              </a:r>
              <a:endParaRPr b="0" lang="en-US" sz="2400" spc="-1" strike="noStrike">
                <a:solidFill>
                  <a:srgbClr val="000000"/>
                </a:solidFill>
                <a:latin typeface="Times New Roman"/>
              </a:endParaRPr>
            </a:p>
          </p:txBody>
        </p:sp>
        <p:sp>
          <p:nvSpPr>
            <p:cNvPr id="131" name=""/>
            <p:cNvSpPr/>
            <p:nvPr/>
          </p:nvSpPr>
          <p:spPr>
            <a:xfrm>
              <a:off x="4186440" y="1131840"/>
              <a:ext cx="45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rbage molybdenum (mg/kg)</a:t>
              </a:r>
              <a:endParaRPr b="0" lang="en-US" sz="2400" spc="-1" strike="noStrike">
                <a:solidFill>
                  <a:srgbClr val="000000"/>
                </a:solidFill>
                <a:latin typeface="Times New Roman"/>
              </a:endParaRPr>
            </a:p>
          </p:txBody>
        </p:sp>
        <p:sp>
          <p:nvSpPr>
            <p:cNvPr id="132" name=""/>
            <p:cNvSpPr/>
            <p:nvPr/>
          </p:nvSpPr>
          <p:spPr>
            <a:xfrm flipV="1">
              <a:off x="4469760" y="51814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7513560" y="51814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34" name=""/>
          <p:cNvSpPr/>
          <p:nvPr/>
        </p:nvSpPr>
        <p:spPr>
          <a:xfrm>
            <a:off x="7988400" y="655308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5" name=""/>
          <p:cNvSpPr/>
          <p:nvPr/>
        </p:nvSpPr>
        <p:spPr>
          <a:xfrm>
            <a:off x="1255680" y="530280"/>
            <a:ext cx="66326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36" name=""/>
          <p:cNvSpPr/>
          <p:nvPr/>
        </p:nvSpPr>
        <p:spPr>
          <a:xfrm>
            <a:off x="7988400" y="655308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incidence of mineral deficiencies</a:t>
            </a:r>
            <a:endParaRPr b="1" lang="en-US" sz="3200" spc="-1" strike="noStrike">
              <a:solidFill>
                <a:srgbClr val="fafd00"/>
              </a:solidFill>
              <a:latin typeface="Arial"/>
            </a:endParaRPr>
          </a:p>
        </p:txBody>
      </p:sp>
      <p:sp>
        <p:nvSpPr>
          <p:cNvPr id="138"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Primary facto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ent roc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mat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9"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Secondary factor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f the year</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rtiliser</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d pasture</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rainfall/temperature</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from the ocean</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ementary feeding</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l/faeces consump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4:41:41Z</dcterms:created>
  <dc:creator>USER</dc:creator>
  <dc:description/>
  <dc:language>en-US</dc:language>
  <cp:lastModifiedBy>Hdaily</cp:lastModifiedBy>
  <cp:lastPrinted>2000-02-03T09:09:47Z</cp:lastPrinted>
  <dcterms:modified xsi:type="dcterms:W3CDTF">2000-06-15T10:40:51Z</dcterms:modified>
  <cp:revision>2</cp:revision>
  <dc:subject/>
  <dc:title>Copper Deficiency</dc:title>
</cp:coreProperties>
</file>