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F2A5-2216-4F6D-A3FC-75087284B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7679-3AAE-49E4-8BF2-0693D6291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incubated colour test as a means of identifying susceptible genotypes when environmental factors are not conducive to discolouration.  The relationships between determinants of discolouration and the colour forming during incubation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0BA3-5918-4576-A443-F041ADAAE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bination of moisture and warm temperature is required for discolouration to occur. Susceptible sheep can only express their susceptibility if the environmental conditions are conducive to discolouration.  It could therefore be expected that greater levels of discolouration would be found in areas with a summer-dominant rainfall patter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62D1-A631-491D-90BE-15FBCF865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samples can be given an artificial challenge for discolouration by incubating the sample at high temperature (40°C) and humidity.  This simulates the climatic factors required to induce discolouration in susceptible flee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the traits associated with susceptibility to discolouration has a high phenotypic correlation with the level of discolouration achieved after incubation.  The absorbance of the wool extract at 430 nm is the measure of discolouration, a high absorbance value reflecting a higher level of discolou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cubated Colour Tes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9320" y="533520"/>
            <a:ext cx="7772400" cy="579096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pression of discolouration depends on warm temperatures and high humid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re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mperature dependent e.g. Maillard reaction</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bial activ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and temperature dependent</a:t>
            </a:r>
            <a:endParaRPr b="1" lang="en-US" sz="20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e of colour absorption by fib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ster in wet conditions than in dry</a:t>
            </a:r>
            <a:endParaRPr b="1" lang="en-US" sz="2000" spc="-1" strike="noStrike">
              <a:solidFill>
                <a:srgbClr val="ffffff"/>
              </a:solidFill>
              <a:latin typeface="Arial"/>
            </a:endParaRPr>
          </a:p>
        </p:txBody>
      </p:sp>
      <p:sp>
        <p:nvSpPr>
          <p:cNvPr id="50"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514240"/>
            <a:ext cx="33530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ubated Colour</a:t>
            </a:r>
            <a:endParaRPr b="1" lang="en-US" sz="3200" spc="-1" strike="noStrike">
              <a:solidFill>
                <a:srgbClr val="fafd00"/>
              </a:solidFill>
              <a:latin typeface="Arial"/>
            </a:endParaRPr>
          </a:p>
        </p:txBody>
      </p:sp>
      <p:sp>
        <p:nvSpPr>
          <p:cNvPr id="52" name=""/>
          <p:cNvSpPr/>
          <p:nvPr/>
        </p:nvSpPr>
        <p:spPr>
          <a:xfrm>
            <a:off x="7080480" y="640080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itken et al. (1994)</a:t>
            </a:r>
            <a:endParaRPr b="0" lang="en-US" sz="1200" spc="-1" strike="noStrike">
              <a:solidFill>
                <a:srgbClr val="000000"/>
              </a:solidFill>
              <a:latin typeface="Times New Roman"/>
            </a:endParaRPr>
          </a:p>
        </p:txBody>
      </p:sp>
      <p:grpSp>
        <p:nvGrpSpPr>
          <p:cNvPr id="53" name=""/>
          <p:cNvGrpSpPr/>
          <p:nvPr/>
        </p:nvGrpSpPr>
        <p:grpSpPr>
          <a:xfrm>
            <a:off x="3891240" y="152280"/>
            <a:ext cx="4093560" cy="5834520"/>
            <a:chOff x="3891240" y="152280"/>
            <a:chExt cx="4093560" cy="5834520"/>
          </a:xfrm>
        </p:grpSpPr>
        <p:grpSp>
          <p:nvGrpSpPr>
            <p:cNvPr id="54" name=""/>
            <p:cNvGrpSpPr/>
            <p:nvPr/>
          </p:nvGrpSpPr>
          <p:grpSpPr>
            <a:xfrm>
              <a:off x="4052880" y="676440"/>
              <a:ext cx="838080" cy="2209320"/>
              <a:chOff x="4052880" y="676440"/>
              <a:chExt cx="838080" cy="2209320"/>
            </a:xfrm>
          </p:grpSpPr>
          <p:grpSp>
            <p:nvGrpSpPr>
              <p:cNvPr id="55" name=""/>
              <p:cNvGrpSpPr/>
              <p:nvPr/>
            </p:nvGrpSpPr>
            <p:grpSpPr>
              <a:xfrm>
                <a:off x="4159080" y="676440"/>
                <a:ext cx="657360" cy="1990440"/>
                <a:chOff x="4159080" y="676440"/>
                <a:chExt cx="657360" cy="1990440"/>
              </a:xfrm>
            </p:grpSpPr>
            <p:sp>
              <p:nvSpPr>
                <p:cNvPr id="56" name=""/>
                <p:cNvSpPr/>
                <p:nvPr/>
              </p:nvSpPr>
              <p:spPr>
                <a:xfrm>
                  <a:off x="439884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3836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4159080" y="676440"/>
                  <a:ext cx="657360" cy="1990440"/>
                  <a:chOff x="4159080" y="676440"/>
                  <a:chExt cx="657360" cy="1990440"/>
                </a:xfrm>
              </p:grpSpPr>
              <p:sp>
                <p:nvSpPr>
                  <p:cNvPr id="59" name=""/>
                  <p:cNvSpPr/>
                  <p:nvPr/>
                </p:nvSpPr>
                <p:spPr>
                  <a:xfrm>
                    <a:off x="415908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956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7824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45752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7668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18000" y="6764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3860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9872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 name=""/>
              <p:cNvGrpSpPr/>
              <p:nvPr/>
            </p:nvGrpSpPr>
            <p:grpSpPr>
              <a:xfrm>
                <a:off x="4052880" y="853920"/>
                <a:ext cx="838080" cy="2031840"/>
                <a:chOff x="4052880" y="853920"/>
                <a:chExt cx="838080" cy="2031840"/>
              </a:xfrm>
            </p:grpSpPr>
            <p:sp>
              <p:nvSpPr>
                <p:cNvPr id="68" name=""/>
                <p:cNvSpPr/>
                <p:nvPr/>
              </p:nvSpPr>
              <p:spPr>
                <a:xfrm>
                  <a:off x="4059000" y="26632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052880" y="853920"/>
                  <a:ext cx="838080" cy="2031840"/>
                  <a:chOff x="4052880" y="853920"/>
                  <a:chExt cx="838080" cy="2031840"/>
                </a:xfrm>
              </p:grpSpPr>
              <p:sp>
                <p:nvSpPr>
                  <p:cNvPr id="70" name=""/>
                  <p:cNvSpPr/>
                  <p:nvPr/>
                </p:nvSpPr>
                <p:spPr>
                  <a:xfrm>
                    <a:off x="405288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9096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78080" y="28857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3" name=""/>
            <p:cNvGrpSpPr/>
            <p:nvPr/>
          </p:nvGrpSpPr>
          <p:grpSpPr>
            <a:xfrm>
              <a:off x="7054560" y="3191040"/>
              <a:ext cx="657360" cy="1990440"/>
              <a:chOff x="7054560" y="3191040"/>
              <a:chExt cx="657360" cy="1990440"/>
            </a:xfrm>
          </p:grpSpPr>
          <p:sp>
            <p:nvSpPr>
              <p:cNvPr id="74" name=""/>
              <p:cNvSpPr/>
              <p:nvPr/>
            </p:nvSpPr>
            <p:spPr>
              <a:xfrm>
                <a:off x="729432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34200" y="31910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054560" y="3191040"/>
                <a:ext cx="657360" cy="1990440"/>
                <a:chOff x="7054560" y="3191040"/>
                <a:chExt cx="657360" cy="1990440"/>
              </a:xfrm>
            </p:grpSpPr>
            <p:sp>
              <p:nvSpPr>
                <p:cNvPr id="77" name=""/>
                <p:cNvSpPr/>
                <p:nvPr/>
              </p:nvSpPr>
              <p:spPr>
                <a:xfrm>
                  <a:off x="705456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1504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17372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5300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47216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1348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53408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9456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38160">
                  <a:solidFill>
                    <a:srgbClr val="a3f2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 name=""/>
            <p:cNvGrpSpPr/>
            <p:nvPr/>
          </p:nvGrpSpPr>
          <p:grpSpPr>
            <a:xfrm>
              <a:off x="6948360" y="3368520"/>
              <a:ext cx="838080" cy="2032200"/>
              <a:chOff x="6948360" y="3368520"/>
              <a:chExt cx="838080" cy="2032200"/>
            </a:xfrm>
          </p:grpSpPr>
          <p:sp>
            <p:nvSpPr>
              <p:cNvPr id="86" name=""/>
              <p:cNvSpPr/>
              <p:nvPr/>
            </p:nvSpPr>
            <p:spPr>
              <a:xfrm>
                <a:off x="6954840" y="5178240"/>
                <a:ext cx="825480" cy="2160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6948360" y="3368520"/>
                <a:ext cx="838080" cy="2032200"/>
                <a:chOff x="6948360" y="3368520"/>
                <a:chExt cx="838080" cy="2032200"/>
              </a:xfrm>
            </p:grpSpPr>
            <p:sp>
              <p:nvSpPr>
                <p:cNvPr id="88" name=""/>
                <p:cNvSpPr/>
                <p:nvPr/>
              </p:nvSpPr>
              <p:spPr>
                <a:xfrm>
                  <a:off x="6948360" y="3368520"/>
                  <a:ext cx="0" cy="200664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440" y="3368520"/>
                  <a:ext cx="0" cy="200664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73920" y="540072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 name=""/>
            <p:cNvGrpSpPr/>
            <p:nvPr/>
          </p:nvGrpSpPr>
          <p:grpSpPr>
            <a:xfrm>
              <a:off x="4052880" y="3191040"/>
              <a:ext cx="838080" cy="2209320"/>
              <a:chOff x="4052880" y="3191040"/>
              <a:chExt cx="838080" cy="2209320"/>
            </a:xfrm>
          </p:grpSpPr>
          <p:grpSp>
            <p:nvGrpSpPr>
              <p:cNvPr id="92" name=""/>
              <p:cNvGrpSpPr/>
              <p:nvPr/>
            </p:nvGrpSpPr>
            <p:grpSpPr>
              <a:xfrm>
                <a:off x="4159080" y="3191040"/>
                <a:ext cx="657360" cy="1990440"/>
                <a:chOff x="4159080" y="3191040"/>
                <a:chExt cx="657360" cy="1990440"/>
              </a:xfrm>
            </p:grpSpPr>
            <p:sp>
              <p:nvSpPr>
                <p:cNvPr id="93" name=""/>
                <p:cNvSpPr/>
                <p:nvPr/>
              </p:nvSpPr>
              <p:spPr>
                <a:xfrm>
                  <a:off x="439884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3836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159080" y="3191040"/>
                  <a:ext cx="657360" cy="1990440"/>
                  <a:chOff x="4159080" y="3191040"/>
                  <a:chExt cx="657360" cy="1990440"/>
                </a:xfrm>
              </p:grpSpPr>
              <p:sp>
                <p:nvSpPr>
                  <p:cNvPr id="96" name=""/>
                  <p:cNvSpPr/>
                  <p:nvPr/>
                </p:nvSpPr>
                <p:spPr>
                  <a:xfrm>
                    <a:off x="415908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1956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27824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57520" y="31910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6680" y="31910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0" y="31910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38600" y="31910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98720" y="31910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052880" y="3368520"/>
                <a:ext cx="838080" cy="2031840"/>
                <a:chOff x="4052880" y="3368520"/>
                <a:chExt cx="838080" cy="2031840"/>
              </a:xfrm>
            </p:grpSpPr>
            <p:sp>
              <p:nvSpPr>
                <p:cNvPr id="105" name=""/>
                <p:cNvSpPr/>
                <p:nvPr/>
              </p:nvSpPr>
              <p:spPr>
                <a:xfrm>
                  <a:off x="4059000" y="51778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052880" y="3368520"/>
                  <a:ext cx="838080" cy="2031840"/>
                  <a:chOff x="4052880" y="3368520"/>
                  <a:chExt cx="838080" cy="2031840"/>
                </a:xfrm>
              </p:grpSpPr>
              <p:sp>
                <p:nvSpPr>
                  <p:cNvPr id="107" name=""/>
                  <p:cNvSpPr/>
                  <p:nvPr/>
                </p:nvSpPr>
                <p:spPr>
                  <a:xfrm>
                    <a:off x="4052880" y="33685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90960" y="33685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78080" y="54003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0" name=""/>
            <p:cNvGrpSpPr/>
            <p:nvPr/>
          </p:nvGrpSpPr>
          <p:grpSpPr>
            <a:xfrm>
              <a:off x="6948360" y="676440"/>
              <a:ext cx="838080" cy="2209320"/>
              <a:chOff x="6948360" y="676440"/>
              <a:chExt cx="838080" cy="2209320"/>
            </a:xfrm>
          </p:grpSpPr>
          <p:grpSp>
            <p:nvGrpSpPr>
              <p:cNvPr id="111" name=""/>
              <p:cNvGrpSpPr/>
              <p:nvPr/>
            </p:nvGrpSpPr>
            <p:grpSpPr>
              <a:xfrm>
                <a:off x="7054560" y="676440"/>
                <a:ext cx="657360" cy="1990440"/>
                <a:chOff x="7054560" y="676440"/>
                <a:chExt cx="657360" cy="1990440"/>
              </a:xfrm>
            </p:grpSpPr>
            <p:sp>
              <p:nvSpPr>
                <p:cNvPr id="112" name=""/>
                <p:cNvSpPr/>
                <p:nvPr/>
              </p:nvSpPr>
              <p:spPr>
                <a:xfrm>
                  <a:off x="729432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34200" y="676440"/>
                  <a:ext cx="11880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54560" y="676440"/>
                  <a:ext cx="657360" cy="1990440"/>
                  <a:chOff x="7054560" y="676440"/>
                  <a:chExt cx="657360" cy="1990440"/>
                </a:xfrm>
              </p:grpSpPr>
              <p:sp>
                <p:nvSpPr>
                  <p:cNvPr id="115" name=""/>
                  <p:cNvSpPr/>
                  <p:nvPr/>
                </p:nvSpPr>
                <p:spPr>
                  <a:xfrm>
                    <a:off x="705456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1504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7372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5300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72160" y="676440"/>
                    <a:ext cx="120600" cy="1990440"/>
                  </a:xfrm>
                  <a:custGeom>
                    <a:avLst/>
                    <a:gdLst/>
                    <a:ahLst/>
                    <a:rect l="l" t="t" r="r" b="b"/>
                    <a:pathLst>
                      <a:path w="76" h="1254">
                        <a:moveTo>
                          <a:pt x="61" y="0"/>
                        </a:moveTo>
                        <a:lnTo>
                          <a:pt x="41" y="32"/>
                        </a:lnTo>
                        <a:lnTo>
                          <a:pt x="8" y="74"/>
                        </a:lnTo>
                        <a:lnTo>
                          <a:pt x="8" y="116"/>
                        </a:lnTo>
                        <a:lnTo>
                          <a:pt x="8" y="158"/>
                        </a:lnTo>
                        <a:lnTo>
                          <a:pt x="41" y="189"/>
                        </a:lnTo>
                        <a:lnTo>
                          <a:pt x="67" y="211"/>
                        </a:lnTo>
                        <a:lnTo>
                          <a:pt x="67" y="253"/>
                        </a:lnTo>
                        <a:lnTo>
                          <a:pt x="67" y="295"/>
                        </a:lnTo>
                        <a:lnTo>
                          <a:pt x="41" y="326"/>
                        </a:lnTo>
                        <a:lnTo>
                          <a:pt x="17" y="411"/>
                        </a:lnTo>
                        <a:lnTo>
                          <a:pt x="17" y="453"/>
                        </a:lnTo>
                        <a:lnTo>
                          <a:pt x="41" y="495"/>
                        </a:lnTo>
                        <a:lnTo>
                          <a:pt x="67" y="537"/>
                        </a:lnTo>
                        <a:lnTo>
                          <a:pt x="75" y="579"/>
                        </a:lnTo>
                        <a:lnTo>
                          <a:pt x="50" y="611"/>
                        </a:lnTo>
                        <a:lnTo>
                          <a:pt x="25" y="621"/>
                        </a:lnTo>
                        <a:lnTo>
                          <a:pt x="0" y="653"/>
                        </a:lnTo>
                        <a:lnTo>
                          <a:pt x="0" y="705"/>
                        </a:lnTo>
                        <a:lnTo>
                          <a:pt x="0" y="737"/>
                        </a:lnTo>
                        <a:lnTo>
                          <a:pt x="41" y="779"/>
                        </a:lnTo>
                        <a:lnTo>
                          <a:pt x="50" y="811"/>
                        </a:lnTo>
                        <a:lnTo>
                          <a:pt x="67" y="853"/>
                        </a:lnTo>
                        <a:lnTo>
                          <a:pt x="41" y="863"/>
                        </a:lnTo>
                        <a:lnTo>
                          <a:pt x="25" y="895"/>
                        </a:lnTo>
                        <a:lnTo>
                          <a:pt x="25" y="937"/>
                        </a:lnTo>
                        <a:lnTo>
                          <a:pt x="17" y="979"/>
                        </a:lnTo>
                        <a:lnTo>
                          <a:pt x="17" y="1011"/>
                        </a:lnTo>
                        <a:lnTo>
                          <a:pt x="34" y="1053"/>
                        </a:lnTo>
                        <a:lnTo>
                          <a:pt x="50" y="1095"/>
                        </a:lnTo>
                        <a:lnTo>
                          <a:pt x="58"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413480" y="676440"/>
                    <a:ext cx="119160" cy="1990440"/>
                  </a:xfrm>
                  <a:custGeom>
                    <a:avLst/>
                    <a:gdLst/>
                    <a:ahLst/>
                    <a:rect l="l" t="t" r="r" b="b"/>
                    <a:pathLst>
                      <a:path w="75" h="1254">
                        <a:moveTo>
                          <a:pt x="61" y="0"/>
                        </a:moveTo>
                        <a:lnTo>
                          <a:pt x="41" y="32"/>
                        </a:lnTo>
                        <a:lnTo>
                          <a:pt x="8" y="74"/>
                        </a:lnTo>
                        <a:lnTo>
                          <a:pt x="8" y="116"/>
                        </a:lnTo>
                        <a:lnTo>
                          <a:pt x="8" y="158"/>
                        </a:lnTo>
                        <a:lnTo>
                          <a:pt x="41" y="189"/>
                        </a:lnTo>
                        <a:lnTo>
                          <a:pt x="66" y="211"/>
                        </a:lnTo>
                        <a:lnTo>
                          <a:pt x="66" y="253"/>
                        </a:lnTo>
                        <a:lnTo>
                          <a:pt x="66" y="295"/>
                        </a:lnTo>
                        <a:lnTo>
                          <a:pt x="41" y="326"/>
                        </a:lnTo>
                        <a:lnTo>
                          <a:pt x="17" y="411"/>
                        </a:lnTo>
                        <a:lnTo>
                          <a:pt x="17" y="453"/>
                        </a:lnTo>
                        <a:lnTo>
                          <a:pt x="41" y="495"/>
                        </a:lnTo>
                        <a:lnTo>
                          <a:pt x="66" y="537"/>
                        </a:lnTo>
                        <a:lnTo>
                          <a:pt x="74" y="579"/>
                        </a:lnTo>
                        <a:lnTo>
                          <a:pt x="50" y="611"/>
                        </a:lnTo>
                        <a:lnTo>
                          <a:pt x="24" y="621"/>
                        </a:lnTo>
                        <a:lnTo>
                          <a:pt x="0" y="653"/>
                        </a:lnTo>
                        <a:lnTo>
                          <a:pt x="0" y="705"/>
                        </a:lnTo>
                        <a:lnTo>
                          <a:pt x="0" y="737"/>
                        </a:lnTo>
                        <a:lnTo>
                          <a:pt x="41" y="779"/>
                        </a:lnTo>
                        <a:lnTo>
                          <a:pt x="50" y="811"/>
                        </a:lnTo>
                        <a:lnTo>
                          <a:pt x="66" y="853"/>
                        </a:lnTo>
                        <a:lnTo>
                          <a:pt x="41" y="863"/>
                        </a:lnTo>
                        <a:lnTo>
                          <a:pt x="24" y="895"/>
                        </a:lnTo>
                        <a:lnTo>
                          <a:pt x="24" y="937"/>
                        </a:lnTo>
                        <a:lnTo>
                          <a:pt x="17" y="979"/>
                        </a:lnTo>
                        <a:lnTo>
                          <a:pt x="17" y="1011"/>
                        </a:lnTo>
                        <a:lnTo>
                          <a:pt x="33" y="1053"/>
                        </a:lnTo>
                        <a:lnTo>
                          <a:pt x="50" y="1095"/>
                        </a:lnTo>
                        <a:lnTo>
                          <a:pt x="57" y="1158"/>
                        </a:lnTo>
                        <a:lnTo>
                          <a:pt x="41"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34080" y="676440"/>
                    <a:ext cx="11772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594560" y="676440"/>
                    <a:ext cx="117360" cy="1990440"/>
                  </a:xfrm>
                  <a:custGeom>
                    <a:avLst/>
                    <a:gdLst/>
                    <a:ahLst/>
                    <a:rect l="l" t="t" r="r" b="b"/>
                    <a:pathLst>
                      <a:path w="74" h="1254">
                        <a:moveTo>
                          <a:pt x="60" y="0"/>
                        </a:moveTo>
                        <a:lnTo>
                          <a:pt x="40" y="32"/>
                        </a:lnTo>
                        <a:lnTo>
                          <a:pt x="8" y="74"/>
                        </a:lnTo>
                        <a:lnTo>
                          <a:pt x="8" y="116"/>
                        </a:lnTo>
                        <a:lnTo>
                          <a:pt x="8" y="158"/>
                        </a:lnTo>
                        <a:lnTo>
                          <a:pt x="40" y="189"/>
                        </a:lnTo>
                        <a:lnTo>
                          <a:pt x="65" y="211"/>
                        </a:lnTo>
                        <a:lnTo>
                          <a:pt x="65" y="253"/>
                        </a:lnTo>
                        <a:lnTo>
                          <a:pt x="65" y="295"/>
                        </a:lnTo>
                        <a:lnTo>
                          <a:pt x="40" y="326"/>
                        </a:lnTo>
                        <a:lnTo>
                          <a:pt x="16" y="411"/>
                        </a:lnTo>
                        <a:lnTo>
                          <a:pt x="16" y="453"/>
                        </a:lnTo>
                        <a:lnTo>
                          <a:pt x="40" y="495"/>
                        </a:lnTo>
                        <a:lnTo>
                          <a:pt x="65" y="537"/>
                        </a:lnTo>
                        <a:lnTo>
                          <a:pt x="73" y="579"/>
                        </a:lnTo>
                        <a:lnTo>
                          <a:pt x="49" y="611"/>
                        </a:lnTo>
                        <a:lnTo>
                          <a:pt x="24" y="621"/>
                        </a:lnTo>
                        <a:lnTo>
                          <a:pt x="0" y="653"/>
                        </a:lnTo>
                        <a:lnTo>
                          <a:pt x="0" y="705"/>
                        </a:lnTo>
                        <a:lnTo>
                          <a:pt x="0" y="737"/>
                        </a:lnTo>
                        <a:lnTo>
                          <a:pt x="40" y="779"/>
                        </a:lnTo>
                        <a:lnTo>
                          <a:pt x="49" y="811"/>
                        </a:lnTo>
                        <a:lnTo>
                          <a:pt x="65" y="853"/>
                        </a:lnTo>
                        <a:lnTo>
                          <a:pt x="40" y="863"/>
                        </a:lnTo>
                        <a:lnTo>
                          <a:pt x="24" y="895"/>
                        </a:lnTo>
                        <a:lnTo>
                          <a:pt x="24" y="937"/>
                        </a:lnTo>
                        <a:lnTo>
                          <a:pt x="16" y="979"/>
                        </a:lnTo>
                        <a:lnTo>
                          <a:pt x="16" y="1011"/>
                        </a:lnTo>
                        <a:lnTo>
                          <a:pt x="33" y="1053"/>
                        </a:lnTo>
                        <a:lnTo>
                          <a:pt x="49" y="1095"/>
                        </a:lnTo>
                        <a:lnTo>
                          <a:pt x="57" y="1158"/>
                        </a:lnTo>
                        <a:lnTo>
                          <a:pt x="40" y="1200"/>
                        </a:lnTo>
                        <a:lnTo>
                          <a:pt x="8" y="1221"/>
                        </a:lnTo>
                        <a:lnTo>
                          <a:pt x="8" y="12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6948360" y="853920"/>
                <a:ext cx="838080" cy="2031840"/>
                <a:chOff x="6948360" y="853920"/>
                <a:chExt cx="838080" cy="2031840"/>
              </a:xfrm>
            </p:grpSpPr>
            <p:sp>
              <p:nvSpPr>
                <p:cNvPr id="124" name=""/>
                <p:cNvSpPr/>
                <p:nvPr/>
              </p:nvSpPr>
              <p:spPr>
                <a:xfrm>
                  <a:off x="6954840" y="2663280"/>
                  <a:ext cx="825480" cy="2156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6948360" y="853920"/>
                  <a:ext cx="838080" cy="2031840"/>
                  <a:chOff x="6948360" y="853920"/>
                  <a:chExt cx="838080" cy="2031840"/>
                </a:xfrm>
              </p:grpSpPr>
              <p:sp>
                <p:nvSpPr>
                  <p:cNvPr id="126" name=""/>
                  <p:cNvSpPr/>
                  <p:nvPr/>
                </p:nvSpPr>
                <p:spPr>
                  <a:xfrm>
                    <a:off x="694836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86440" y="853920"/>
                    <a:ext cx="0" cy="200628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73920" y="2885760"/>
                    <a:ext cx="787320" cy="0"/>
                  </a:xfrm>
                  <a:prstGeom prst="line">
                    <a:avLst/>
                  </a:prstGeom>
                  <a:ln w="507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29" name=""/>
            <p:cNvSpPr/>
            <p:nvPr/>
          </p:nvSpPr>
          <p:spPr>
            <a:xfrm>
              <a:off x="5289840" y="2841480"/>
              <a:ext cx="12711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40°C</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100% RH</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5-7 days</a:t>
              </a:r>
              <a:endParaRPr b="0" lang="en-US" sz="2000" spc="-1" strike="noStrike">
                <a:solidFill>
                  <a:srgbClr val="000000"/>
                </a:solidFill>
                <a:latin typeface="Times New Roman"/>
              </a:endParaRPr>
            </a:p>
          </p:txBody>
        </p:sp>
        <p:sp>
          <p:nvSpPr>
            <p:cNvPr id="130" name=""/>
            <p:cNvSpPr/>
            <p:nvPr/>
          </p:nvSpPr>
          <p:spPr>
            <a:xfrm>
              <a:off x="4119480" y="152280"/>
              <a:ext cx="3782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Resistant to discolouration</a:t>
              </a:r>
              <a:endParaRPr b="0" lang="en-US" sz="2200" spc="-1" strike="noStrike">
                <a:solidFill>
                  <a:srgbClr val="000000"/>
                </a:solidFill>
                <a:latin typeface="Times New Roman"/>
              </a:endParaRPr>
            </a:p>
          </p:txBody>
        </p:sp>
        <p:sp>
          <p:nvSpPr>
            <p:cNvPr id="131" name=""/>
            <p:cNvSpPr/>
            <p:nvPr/>
          </p:nvSpPr>
          <p:spPr>
            <a:xfrm>
              <a:off x="3891240" y="5562720"/>
              <a:ext cx="4093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Susceptible to discolouration</a:t>
              </a:r>
              <a:endParaRPr b="0" lang="en-US" sz="2200" spc="-1" strike="noStrike">
                <a:solidFill>
                  <a:srgbClr val="000000"/>
                </a:solidFill>
                <a:latin typeface="Times New Roman"/>
              </a:endParaRPr>
            </a:p>
          </p:txBody>
        </p:sp>
        <p:sp>
          <p:nvSpPr>
            <p:cNvPr id="132" name=""/>
            <p:cNvSpPr/>
            <p:nvPr/>
          </p:nvSpPr>
          <p:spPr>
            <a:xfrm>
              <a:off x="5018040" y="167652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18040" y="434340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s</a:t>
            </a:r>
            <a:endParaRPr b="1" lang="en-US" sz="3200" spc="-1" strike="noStrike">
              <a:solidFill>
                <a:srgbClr val="fafd00"/>
              </a:solidFill>
              <a:latin typeface="Arial"/>
            </a:endParaRPr>
          </a:p>
        </p:txBody>
      </p:sp>
      <p:grpSp>
        <p:nvGrpSpPr>
          <p:cNvPr id="135" name=""/>
          <p:cNvGrpSpPr/>
          <p:nvPr/>
        </p:nvGrpSpPr>
        <p:grpSpPr>
          <a:xfrm>
            <a:off x="1371600" y="990720"/>
            <a:ext cx="6553080" cy="5029920"/>
            <a:chOff x="1371600" y="990720"/>
            <a:chExt cx="6553080" cy="5029920"/>
          </a:xfrm>
        </p:grpSpPr>
        <p:sp>
          <p:nvSpPr>
            <p:cNvPr id="136" name=""/>
            <p:cNvSpPr/>
            <p:nvPr/>
          </p:nvSpPr>
          <p:spPr>
            <a:xfrm>
              <a:off x="5546880" y="990720"/>
              <a:ext cx="2303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t-incub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orbance#</a:t>
              </a:r>
              <a:endParaRPr b="0" lang="en-US" sz="2400" spc="-1" strike="noStrike">
                <a:solidFill>
                  <a:srgbClr val="000000"/>
                </a:solidFill>
                <a:latin typeface="Times New Roman"/>
              </a:endParaRPr>
            </a:p>
          </p:txBody>
        </p:sp>
        <p:sp>
          <p:nvSpPr>
            <p:cNvPr id="137" name=""/>
            <p:cNvSpPr/>
            <p:nvPr/>
          </p:nvSpPr>
          <p:spPr>
            <a:xfrm>
              <a:off x="6124320" y="207000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85</a:t>
              </a:r>
              <a:endParaRPr b="0" lang="en-US" sz="2400" spc="-1" strike="noStrike">
                <a:solidFill>
                  <a:srgbClr val="000000"/>
                </a:solidFill>
                <a:latin typeface="Times New Roman"/>
              </a:endParaRPr>
            </a:p>
          </p:txBody>
        </p:sp>
        <p:sp>
          <p:nvSpPr>
            <p:cNvPr id="138" name=""/>
            <p:cNvSpPr/>
            <p:nvPr/>
          </p:nvSpPr>
          <p:spPr>
            <a:xfrm>
              <a:off x="6077880" y="2606760"/>
              <a:ext cx="78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72</a:t>
              </a:r>
              <a:endParaRPr b="0" lang="en-US" sz="2400" spc="-1" strike="noStrike">
                <a:solidFill>
                  <a:srgbClr val="000000"/>
                </a:solidFill>
                <a:latin typeface="Times New Roman"/>
              </a:endParaRPr>
            </a:p>
          </p:txBody>
        </p:sp>
        <p:sp>
          <p:nvSpPr>
            <p:cNvPr id="139" name=""/>
            <p:cNvSpPr/>
            <p:nvPr/>
          </p:nvSpPr>
          <p:spPr>
            <a:xfrm>
              <a:off x="6165360" y="327672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95</a:t>
              </a:r>
              <a:endParaRPr b="0" lang="en-US" sz="2400" spc="-1" strike="noStrike">
                <a:solidFill>
                  <a:srgbClr val="000000"/>
                </a:solidFill>
                <a:latin typeface="Times New Roman"/>
              </a:endParaRPr>
            </a:p>
          </p:txBody>
        </p:sp>
        <p:sp>
          <p:nvSpPr>
            <p:cNvPr id="140" name=""/>
            <p:cNvSpPr/>
            <p:nvPr/>
          </p:nvSpPr>
          <p:spPr>
            <a:xfrm>
              <a:off x="6148080" y="420696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74</a:t>
              </a:r>
              <a:endParaRPr b="0" lang="en-US" sz="2400" spc="-1" strike="noStrike">
                <a:solidFill>
                  <a:srgbClr val="000000"/>
                </a:solidFill>
                <a:latin typeface="Times New Roman"/>
              </a:endParaRPr>
            </a:p>
          </p:txBody>
        </p:sp>
        <p:sp>
          <p:nvSpPr>
            <p:cNvPr id="141" name=""/>
            <p:cNvSpPr/>
            <p:nvPr/>
          </p:nvSpPr>
          <p:spPr>
            <a:xfrm>
              <a:off x="6077880" y="4892760"/>
              <a:ext cx="780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0.20</a:t>
              </a:r>
              <a:endParaRPr b="0" lang="en-US" sz="2400" spc="-1" strike="noStrike">
                <a:solidFill>
                  <a:srgbClr val="000000"/>
                </a:solidFill>
                <a:latin typeface="Times New Roman"/>
              </a:endParaRPr>
            </a:p>
          </p:txBody>
        </p:sp>
        <p:sp>
          <p:nvSpPr>
            <p:cNvPr id="142" name=""/>
            <p:cNvSpPr/>
            <p:nvPr/>
          </p:nvSpPr>
          <p:spPr>
            <a:xfrm>
              <a:off x="1676880" y="1158840"/>
              <a:ext cx="213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incubation</a:t>
              </a:r>
              <a:endParaRPr b="0" lang="en-US" sz="2400" spc="-1" strike="noStrike">
                <a:solidFill>
                  <a:srgbClr val="000000"/>
                </a:solidFill>
                <a:latin typeface="Times New Roman"/>
              </a:endParaRPr>
            </a:p>
          </p:txBody>
        </p:sp>
        <p:sp>
          <p:nvSpPr>
            <p:cNvPr id="143" name=""/>
            <p:cNvSpPr/>
            <p:nvPr/>
          </p:nvSpPr>
          <p:spPr>
            <a:xfrm>
              <a:off x="1649880" y="2070000"/>
              <a:ext cx="2475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 (%)</a:t>
              </a:r>
              <a:endParaRPr b="0" lang="en-US" sz="2400" spc="-1" strike="noStrike">
                <a:solidFill>
                  <a:srgbClr val="000000"/>
                </a:solidFill>
                <a:latin typeface="Times New Roman"/>
              </a:endParaRPr>
            </a:p>
          </p:txBody>
        </p:sp>
        <p:sp>
          <p:nvSpPr>
            <p:cNvPr id="144" name=""/>
            <p:cNvSpPr/>
            <p:nvPr/>
          </p:nvSpPr>
          <p:spPr>
            <a:xfrm>
              <a:off x="1650240" y="256212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suint ratio</a:t>
              </a:r>
              <a:endParaRPr b="0" lang="en-US" sz="2400" spc="-1" strike="noStrike">
                <a:solidFill>
                  <a:srgbClr val="000000"/>
                </a:solidFill>
                <a:latin typeface="Times New Roman"/>
              </a:endParaRPr>
            </a:p>
          </p:txBody>
        </p:sp>
        <p:sp>
          <p:nvSpPr>
            <p:cNvPr id="145" name=""/>
            <p:cNvSpPr/>
            <p:nvPr/>
          </p:nvSpPr>
          <p:spPr>
            <a:xfrm>
              <a:off x="1675440" y="3276720"/>
              <a:ext cx="271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content</a:t>
              </a:r>
              <a:endParaRPr b="0" lang="en-US" sz="2400" spc="-1" strike="noStrike">
                <a:solidFill>
                  <a:srgbClr val="000000"/>
                </a:solidFill>
                <a:latin typeface="Times New Roman"/>
              </a:endParaRPr>
            </a:p>
          </p:txBody>
        </p:sp>
        <p:sp>
          <p:nvSpPr>
            <p:cNvPr id="146" name=""/>
            <p:cNvSpPr/>
            <p:nvPr/>
          </p:nvSpPr>
          <p:spPr>
            <a:xfrm>
              <a:off x="1689840" y="3597120"/>
              <a:ext cx="210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suint (mg/g)</a:t>
              </a:r>
              <a:endParaRPr b="0" lang="en-US" sz="2400" spc="-1" strike="noStrike">
                <a:solidFill>
                  <a:srgbClr val="000000"/>
                </a:solidFill>
                <a:latin typeface="Times New Roman"/>
              </a:endParaRPr>
            </a:p>
          </p:txBody>
        </p:sp>
        <p:sp>
          <p:nvSpPr>
            <p:cNvPr id="147" name=""/>
            <p:cNvSpPr/>
            <p:nvPr/>
          </p:nvSpPr>
          <p:spPr>
            <a:xfrm>
              <a:off x="1675080" y="420696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suint pH</a:t>
              </a:r>
              <a:endParaRPr b="0" lang="en-US" sz="2400" spc="-1" strike="noStrike">
                <a:solidFill>
                  <a:srgbClr val="000000"/>
                </a:solidFill>
                <a:latin typeface="Times New Roman"/>
              </a:endParaRPr>
            </a:p>
          </p:txBody>
        </p:sp>
        <p:sp>
          <p:nvSpPr>
            <p:cNvPr id="148" name=""/>
            <p:cNvSpPr/>
            <p:nvPr/>
          </p:nvSpPr>
          <p:spPr>
            <a:xfrm>
              <a:off x="1650960" y="4892760"/>
              <a:ext cx="125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a:t>
              </a:r>
              <a:endParaRPr b="0" lang="en-US" sz="2400" spc="-1" strike="noStrike">
                <a:solidFill>
                  <a:srgbClr val="000000"/>
                </a:solidFill>
                <a:latin typeface="Times New Roman"/>
              </a:endParaRPr>
            </a:p>
          </p:txBody>
        </p:sp>
        <p:sp>
          <p:nvSpPr>
            <p:cNvPr id="149" name=""/>
            <p:cNvSpPr/>
            <p:nvPr/>
          </p:nvSpPr>
          <p:spPr>
            <a:xfrm>
              <a:off x="1714320" y="5654520"/>
              <a:ext cx="27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µm)</a:t>
              </a:r>
              <a:endParaRPr b="0" lang="en-US" sz="2400" spc="-1" strike="noStrike">
                <a:solidFill>
                  <a:srgbClr val="000000"/>
                </a:solidFill>
                <a:latin typeface="Times New Roman"/>
              </a:endParaRPr>
            </a:p>
          </p:txBody>
        </p:sp>
        <p:sp>
          <p:nvSpPr>
            <p:cNvPr id="150" name=""/>
            <p:cNvSpPr/>
            <p:nvPr/>
          </p:nvSpPr>
          <p:spPr>
            <a:xfrm>
              <a:off x="6179760" y="563724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0.69</a:t>
              </a:r>
              <a:endParaRPr b="0" lang="en-US" sz="2400" spc="-1" strike="noStrike">
                <a:solidFill>
                  <a:srgbClr val="000000"/>
                </a:solidFill>
                <a:latin typeface="Times New Roman"/>
              </a:endParaRPr>
            </a:p>
          </p:txBody>
        </p:sp>
        <p:sp>
          <p:nvSpPr>
            <p:cNvPr id="151" name=""/>
            <p:cNvSpPr/>
            <p:nvPr/>
          </p:nvSpPr>
          <p:spPr>
            <a:xfrm>
              <a:off x="1371600" y="1828800"/>
              <a:ext cx="655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7004520" y="632772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itken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13:58Z</dcterms:created>
  <dc:creator>USER</dc:creator>
  <dc:description/>
  <dc:language>en-US</dc:language>
  <cp:lastModifiedBy>Hdaily</cp:lastModifiedBy>
  <cp:lastPrinted>2000-02-03T09:09:47Z</cp:lastPrinted>
  <dcterms:modified xsi:type="dcterms:W3CDTF">2000-06-22T03:06:00Z</dcterms:modified>
  <cp:revision>3</cp:revision>
  <dc:subject/>
  <dc:title>Incubated Colour Test</dc:title>
</cp:coreProperties>
</file>