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71AC-0427-4355-8A22-B3359DA8E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48FE-90FF-4ED8-9D4B-0093B3E69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presents the various strategies available to the producer for controlling blowfl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6D24-F8D8-4A34-83AE-303E05BE4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onventional control strategies are aimed at modifying the host phenotype to reduce the incidence of breech strike in all sheep (via mulesing and docking) and pizzle strike in wethers (via pizzle dropping).  Shearing prior to the main fly period provides effective control of body strike, while crutching of ewes and ringing of wethers and rams prior to fly waves are effective in controlling breech and pizzle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couring (diarrhoea) can also facilitate breech strike, controlling parasitic and nutritional scours in stock will reduce the incidence of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3462-B8C2-40C5-8565-19923C0F1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esing and tail docking in sheep reduces the incidence of breech stri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A407-70EC-4685-8653-DD56E712C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onventional control measures target the pathogen.  Modelling studies have shown that fly populations are much more sensitive to factors affecting adult fly mortality than larval mortality, so the main strategy is to target the adult 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treatment of the host has been widely used in the control of flystrike.  There are a number of classes of pesticide available for use, varying in their mode of effect and the degree of pathogen resistance that has developed.  Both the insect growth regulators and insect development inhibitors operate by way of larval development.  Synthetic pyrethroids act as oviposition suppressants, deterring the female from depositing her eggs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y traps may provide a useful strategy for controlling adult fly numbers in som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alue of controlling carrion is uncertain, given that secondary fly maggots out compete and kill primary fly maggots. This strategy is unlikely to have a major effect on population size of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although it would reduce the size of secondary fly popul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59F7-3775-4B46-878C-C3BBC99E9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ntrol measures associated with the host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Genetic selection</a:t>
            </a:r>
            <a:r>
              <a:rPr b="0" lang="en-AU" sz="1200" spc="-1" strike="noStrike">
                <a:solidFill>
                  <a:srgbClr val="000000"/>
                </a:solidFill>
                <a:latin typeface="Times New Roman"/>
              </a:rPr>
              <a:t> - exploiting genetic variation in susceptibility to body strike via selection for resistance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Vaccination </a:t>
            </a:r>
            <a:r>
              <a:rPr b="0" lang="en-AU" sz="1200" spc="-1" strike="noStrike">
                <a:solidFill>
                  <a:srgbClr val="000000"/>
                </a:solidFill>
                <a:latin typeface="Times New Roman"/>
              </a:rPr>
              <a:t>- there are two approaches: vaccinate against fly antigens such as peritrophic membrane antigens in the gut of the fly; vaccinate against fleece rot, though this is hampered by the diversity of strains of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There is still substantial progress to be made in the development of effective vacc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A446-D5B8-402E-943D-0557DBFB5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ntrol measures associated with the pathogen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use of Ivomec sustained release compounds in controlling breech strike via reduction in scours, and residual presence of ivermectin in da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Use of </a:t>
            </a:r>
            <a:r>
              <a:rPr b="0" i="1" lang="en-AU" sz="1200" spc="-1" strike="noStrike">
                <a:solidFill>
                  <a:srgbClr val="000000"/>
                </a:solidFill>
                <a:latin typeface="Times New Roman"/>
              </a:rPr>
              <a:t>Bacillus thuringiensis</a:t>
            </a:r>
            <a:r>
              <a:rPr b="0" lang="en-AU" sz="1200" spc="-1" strike="noStrike">
                <a:solidFill>
                  <a:srgbClr val="000000"/>
                </a:solidFill>
                <a:latin typeface="Times New Roman"/>
              </a:rPr>
              <a:t> toxins - this organism is a normal inhabitant of the sheep skin and there is scope for use of its toxins as a natural control of flystrike.  However, it does not have the same degree of persistence in the fleece as do the synthetic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Biological control of adults - still some way to go in the development of these methods as commercia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Releasing sterile males - relies on the principle that female flies tend to mate once, such that if she mates to a sterile male, no viable eggs will be laid.  This has been used to eradicate screw worm fly from some areas around the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Releasing males with defective genes - a very expensive approach, and does not work adequat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Genetic engineering - to enable the host or skin bacteria to produce inhibitory products such as</a:t>
            </a:r>
            <a:r>
              <a:rPr b="0" i="1" lang="en-AU" sz="1200" spc="-1" strike="noStrike">
                <a:solidFill>
                  <a:srgbClr val="000000"/>
                </a:solidFill>
                <a:latin typeface="Times New Roman"/>
              </a:rPr>
              <a:t> </a:t>
            </a:r>
            <a:r>
              <a:rPr b="0" lang="en-AU" sz="1200" spc="-1" strike="noStrike">
                <a:solidFill>
                  <a:srgbClr val="000000"/>
                </a:solidFill>
                <a:latin typeface="Times New Roman"/>
              </a:rPr>
              <a:t>chitenase to disrupt the development and activity of insect pe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Strategies for Controlling Blowfly Strike in Sheep</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ventional control measur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es replacement stock (reduces breech strike by 90%)</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ck tail to correct length (below 3rd joint)</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zzle drop wethers</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parasitic and nutritional scours</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before main fly period</a:t>
            </a:r>
            <a:endParaRPr b="1" lang="en-US" sz="2400" spc="-1" strike="noStrike">
              <a:solidFill>
                <a:srgbClr val="ffffff"/>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utch ewes and ring wethers just prior to fly wav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0"/>
            <a:ext cx="4876560" cy="3292560"/>
          </a:xfrm>
          <a:prstGeom prst="rect">
            <a:avLst/>
          </a:prstGeom>
          <a:ln w="0">
            <a:noFill/>
          </a:ln>
        </p:spPr>
      </p:pic>
      <p:pic>
        <p:nvPicPr>
          <p:cNvPr id="53" name="" descr=""/>
          <p:cNvPicPr/>
          <p:nvPr/>
        </p:nvPicPr>
        <p:blipFill>
          <a:blip r:embed="rId2"/>
          <a:stretch/>
        </p:blipFill>
        <p:spPr>
          <a:xfrm>
            <a:off x="5486400" y="2438280"/>
            <a:ext cx="3618000" cy="3799080"/>
          </a:xfrm>
          <a:prstGeom prst="rect">
            <a:avLst/>
          </a:prstGeom>
          <a:ln w="0">
            <a:noFill/>
          </a:ln>
        </p:spPr>
      </p:pic>
      <p:sp>
        <p:nvSpPr>
          <p:cNvPr id="54"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5" name=""/>
          <p:cNvSpPr/>
          <p:nvPr/>
        </p:nvSpPr>
        <p:spPr>
          <a:xfrm>
            <a:off x="6157080" y="6969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esing</a:t>
            </a:r>
            <a:endParaRPr b="0" lang="en-US" sz="2000" spc="-1" strike="noStrike">
              <a:solidFill>
                <a:srgbClr val="000000"/>
              </a:solidFill>
              <a:latin typeface="Times New Roman"/>
            </a:endParaRPr>
          </a:p>
        </p:txBody>
      </p:sp>
      <p:sp>
        <p:nvSpPr>
          <p:cNvPr id="56" name=""/>
          <p:cNvSpPr/>
          <p:nvPr/>
        </p:nvSpPr>
        <p:spPr>
          <a:xfrm>
            <a:off x="3734640" y="5181480"/>
            <a:ext cx="16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il do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8" name="PlaceHolder 1"/>
          <p:cNvSpPr>
            <a:spLocks noGrp="1"/>
          </p:cNvSpPr>
          <p:nvPr>
            <p:ph/>
          </p:nvPr>
        </p:nvSpPr>
        <p:spPr>
          <a:xfrm>
            <a:off x="1219320" y="304560"/>
            <a:ext cx="7772400" cy="518148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hogen</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treatment of host</a:t>
            </a:r>
            <a:endParaRPr b="1" lang="en-US" sz="24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ganophosphates - resistance widespread</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ect growth regulators e.g. Vetrazin® - no resistance</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nthetic pyrethroids - oviposition suppresants</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vomec (Jetamec®) - worked but was withdrawn from market</a:t>
            </a:r>
            <a:endParaRPr b="1" lang="en-US" sz="2000" spc="-1" strike="noStrike">
              <a:solidFill>
                <a:srgbClr val="ffffff"/>
              </a:solidFill>
              <a:latin typeface="Arial"/>
            </a:endParaRPr>
          </a:p>
          <a:p>
            <a:pPr lvl="2" marL="1108440" indent="-2214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ect development inhibitors - newest class</a:t>
            </a:r>
            <a:endParaRPr b="1" lang="en-US" sz="20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y traps - may be useful in arid area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Environment</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y wave prediction from climatic measurements</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carr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potential control measures</a:t>
            </a:r>
            <a:endParaRPr b="1" lang="en-US" sz="3200" spc="-1" strike="noStrike">
              <a:solidFill>
                <a:srgbClr val="fafd00"/>
              </a:solidFill>
              <a:latin typeface="Arial"/>
            </a:endParaRPr>
          </a:p>
        </p:txBody>
      </p:sp>
      <p:sp>
        <p:nvSpPr>
          <p:cNvPr id="6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ost</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der use of genetic selection for resistance (direct and indirect)</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ccin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ainst fly antigens - still a way to go</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ainst fleece rot - problems with diversity of strains of </a:t>
            </a:r>
            <a:r>
              <a:rPr b="1" i="1" lang="en-GB" sz="2000" spc="-1" strike="noStrike">
                <a:solidFill>
                  <a:srgbClr val="ffffff"/>
                </a:solidFill>
                <a:latin typeface="Arial"/>
              </a:rPr>
              <a:t>P. aeruginosa</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3" name="PlaceHolder 1"/>
          <p:cNvSpPr>
            <a:spLocks noGrp="1"/>
          </p:cNvSpPr>
          <p:nvPr>
            <p:ph/>
          </p:nvPr>
        </p:nvSpPr>
        <p:spPr>
          <a:xfrm>
            <a:off x="1295280" y="456840"/>
            <a:ext cx="7772400" cy="518148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hogen</a:t>
            </a:r>
            <a:endParaRPr b="1" lang="en-US" sz="28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 of Ivermectin slow release capsule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 of </a:t>
            </a:r>
            <a:r>
              <a:rPr b="1" i="1" lang="en-GB" sz="2400" spc="-1" strike="noStrike">
                <a:solidFill>
                  <a:srgbClr val="ffffff"/>
                </a:solidFill>
                <a:latin typeface="Arial"/>
              </a:rPr>
              <a:t>Bacillus thuringiensis</a:t>
            </a:r>
            <a:r>
              <a:rPr b="1" lang="en-GB" sz="2400" spc="-1" strike="noStrike">
                <a:solidFill>
                  <a:srgbClr val="ffffff"/>
                </a:solidFill>
                <a:latin typeface="Arial"/>
              </a:rPr>
              <a:t> toxin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ological control of adults using the microsporidium </a:t>
            </a:r>
            <a:r>
              <a:rPr b="1" i="1" lang="en-GB" sz="2400" spc="-1" strike="noStrike">
                <a:solidFill>
                  <a:srgbClr val="ffffff"/>
                </a:solidFill>
                <a:latin typeface="Arial"/>
              </a:rPr>
              <a:t>Octosporea muscaedomesticae</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rile male release</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les carrying defective genes</a:t>
            </a:r>
            <a:endParaRPr b="1" lang="en-US" sz="2400" spc="-1" strike="noStrike">
              <a:solidFill>
                <a:srgbClr val="ffffff"/>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tic engineering of sheep or normal skin bacte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27:48Z</dcterms:created>
  <dc:creator>USER</dc:creator>
  <dc:description/>
  <dc:language>en-US</dc:language>
  <cp:lastModifiedBy>Hdaily</cp:lastModifiedBy>
  <cp:lastPrinted>2000-02-03T09:09:47Z</cp:lastPrinted>
  <dcterms:modified xsi:type="dcterms:W3CDTF">2000-06-20T01:38:33Z</dcterms:modified>
  <cp:revision>5</cp:revision>
  <dc:subject/>
  <dc:title>  Strategies for Controlling Blowfly Strike in Sheep</dc:title>
</cp:coreProperties>
</file>