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2ED6-5DA2-4FAC-9293-BDBFD1B44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75EA-F36E-4F4E-BE4E-3A847FBA0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basic introduction to intrinsic fibre strength.  Brief mention is made of how intrinsic strength may influence measur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D2EF-E4B1-4ACB-8197-4BF117016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considering the fibre diameter (FD) profile parameters, minimum fibre diameter and rate of change of fibre diameter, and how, in combination, they relate to staple strength (SS), it becomes apparent that there are other sources of variation in staple strength which have not been accounted for.  At best, diameter profile parameters account for 60% of the variation in staple strength within a mob.  Furthermore, for fibres of the same diameter at the point of break (POB), there can be large differences in the breaking load.  This suggests that differences in the inherent strength of the fibre material may also constitute a source of variation in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ubject is reviewed by: Hynd, P.I. and Schlink, T.C. (1992). In “Management for Wool Quality in Mediterranean Environments”, ed. P.T.Doyle, J.A.Fortune and N.R.Adams., Department of Agriculture WA, p. 9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632F-A971-4EFE-BE3E-C0819459C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 fibre strength is defined as the force required to break a fibre, divided by the cross-sectional area at the point of break.  Thus it is a measurement of strength that is adjusted for the amount of material present at the breaking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fibre 1 has a lower cross-sectional area compared to fibres 2 and 3, the latter two having the same cross-sectional area. More force is required to break fibre 2 compared to fibre 1, but when adjusted for differences in cross-sectional area, the fibre strengths are similar (much the same as correcting for differences in average linear density).  Fibre 3, on the other hand, requires less force to break compared to fibre 2, even though they both have the same cross-sectional area.  This implies that the strength of the fibre material at the point of break is inherently weaker for fibre 3 compared to fibre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9500-C1DA-473A-99B6-1F76CEF69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tex of the wool fibre contains two main cortical cell types - orthocortex and paracortex - which differ in their chemical composition and arrangement of structura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proportions of ortho- and para- cortex in the fibre can vary throughout the growth period and can alter with changes in nutrition.  So chemical and structural changes along the length of the fibre exi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note</a:t>
            </a:r>
            <a:r>
              <a:rPr b="0" lang="en-GB" sz="1200" spc="-1" strike="noStrike">
                <a:solidFill>
                  <a:srgbClr val="000000"/>
                </a:solidFill>
                <a:latin typeface="Times New Roman"/>
              </a:rPr>
              <a:t>: finer fibres contain a higher proportion of paracortical cel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3454-6A1C-4C07-953C-0321E607F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 (1993). In “Merino Sheep Breeding - Some Directions for the Future”, ed. D.R. Gifford, SARDI, p 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mpson (1993) cites some evidence to suggest a reduction in SS as % paracortex increases. Paracortical cells contain more disulphide cross-links which could make them stronger BUT may also make them less elastic (more brittle).  Later work by Thompson (unpub.) showed no significant relationship between cortical cell type % and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A827-BA3A-4DFC-91BE-119CE2A4F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nsford, K.A. and Kennedy, J.P. (1990).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18</a:t>
            </a:r>
            <a:r>
              <a:rPr b="0" lang="en-GB" sz="1200" spc="-1" strike="noStrike">
                <a:solidFill>
                  <a:srgbClr val="000000"/>
                </a:solidFill>
                <a:latin typeface="Times New Roman"/>
              </a:rPr>
              <a:t>: 4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sford and Kennedy (1990) found no significant associations between cortical cell type % and SS in Merin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Intrinsic Fibre Streng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insic Fibre Strength</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nimum FD and rate of change in FD cannot account for all variation in S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s of same FD at POB can differ markedly in breaking loa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ggests differences in the inherent strength of fibre materi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emical compos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rangement of cell types</a:t>
            </a:r>
            <a:endParaRPr b="1" lang="en-US" sz="2400" spc="-1" strike="noStrike">
              <a:solidFill>
                <a:srgbClr val="ffffff"/>
              </a:solidFill>
              <a:latin typeface="Arial"/>
            </a:endParaRPr>
          </a:p>
        </p:txBody>
      </p:sp>
      <p:sp>
        <p:nvSpPr>
          <p:cNvPr id="5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400800" y="2365200"/>
            <a:ext cx="0" cy="98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1207800" y="1219320"/>
            <a:ext cx="7783920" cy="4724280"/>
            <a:chOff x="1207800" y="1219320"/>
            <a:chExt cx="7783920" cy="4724280"/>
          </a:xfrm>
        </p:grpSpPr>
        <p:sp>
          <p:nvSpPr>
            <p:cNvPr id="54" name=""/>
            <p:cNvSpPr/>
            <p:nvPr/>
          </p:nvSpPr>
          <p:spPr>
            <a:xfrm>
              <a:off x="7162920" y="2286000"/>
              <a:ext cx="1828800" cy="1752480"/>
            </a:xfrm>
            <a:prstGeom prst="rightArrow">
              <a:avLst>
                <a:gd name="adj1" fmla="val 50000"/>
                <a:gd name="adj2" fmla="val 5220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38880" y="1219320"/>
              <a:ext cx="1600200" cy="761760"/>
            </a:xfrm>
            <a:prstGeom prst="rightArrow">
              <a:avLst>
                <a:gd name="adj1" fmla="val 50000"/>
                <a:gd name="adj2" fmla="val 1050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162920" y="4648320"/>
              <a:ext cx="1600200" cy="761760"/>
            </a:xfrm>
            <a:prstGeom prst="rightArrow">
              <a:avLst>
                <a:gd name="adj1" fmla="val 50000"/>
                <a:gd name="adj2" fmla="val 10508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07800" y="12952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1</a:t>
              </a:r>
              <a:endParaRPr b="0" lang="en-US" sz="3000" spc="-1" strike="noStrike">
                <a:solidFill>
                  <a:srgbClr val="000000"/>
                </a:solidFill>
                <a:latin typeface="Times New Roman"/>
              </a:endParaRPr>
            </a:p>
          </p:txBody>
        </p:sp>
        <p:sp>
          <p:nvSpPr>
            <p:cNvPr id="58" name=""/>
            <p:cNvSpPr/>
            <p:nvPr/>
          </p:nvSpPr>
          <p:spPr>
            <a:xfrm>
              <a:off x="1207800" y="28828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2</a:t>
              </a:r>
              <a:endParaRPr b="0" lang="en-US" sz="3000" spc="-1" strike="noStrike">
                <a:solidFill>
                  <a:srgbClr val="000000"/>
                </a:solidFill>
                <a:latin typeface="Times New Roman"/>
              </a:endParaRPr>
            </a:p>
          </p:txBody>
        </p:sp>
        <p:sp>
          <p:nvSpPr>
            <p:cNvPr id="59" name=""/>
            <p:cNvSpPr/>
            <p:nvPr/>
          </p:nvSpPr>
          <p:spPr>
            <a:xfrm>
              <a:off x="1207800" y="472428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3</a:t>
              </a:r>
              <a:endParaRPr b="0" lang="en-US" sz="3000" spc="-1" strike="noStrike">
                <a:solidFill>
                  <a:srgbClr val="000000"/>
                </a:solidFill>
                <a:latin typeface="Times New Roman"/>
              </a:endParaRPr>
            </a:p>
          </p:txBody>
        </p:sp>
        <p:grpSp>
          <p:nvGrpSpPr>
            <p:cNvPr id="60" name=""/>
            <p:cNvGrpSpPr/>
            <p:nvPr/>
          </p:nvGrpSpPr>
          <p:grpSpPr>
            <a:xfrm>
              <a:off x="1752480" y="1295280"/>
              <a:ext cx="5028840" cy="685800"/>
              <a:chOff x="1752480" y="1295280"/>
              <a:chExt cx="5028840" cy="685800"/>
            </a:xfrm>
          </p:grpSpPr>
          <p:sp>
            <p:nvSpPr>
              <p:cNvPr id="61" name=""/>
              <p:cNvSpPr/>
              <p:nvPr/>
            </p:nvSpPr>
            <p:spPr>
              <a:xfrm>
                <a:off x="1939680" y="12952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39680" y="19810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52480" y="1295280"/>
                <a:ext cx="304920" cy="68580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6324840" y="1295280"/>
                <a:ext cx="456480" cy="685440"/>
                <a:chOff x="6324840" y="1295280"/>
                <a:chExt cx="456480" cy="685440"/>
              </a:xfrm>
            </p:grpSpPr>
            <p:sp>
              <p:nvSpPr>
                <p:cNvPr id="65" name=""/>
                <p:cNvSpPr/>
                <p:nvPr/>
              </p:nvSpPr>
              <p:spPr>
                <a:xfrm>
                  <a:off x="6324840" y="1295280"/>
                  <a:ext cx="45648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6324840" y="1296000"/>
                  <a:ext cx="45648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1676520" y="2438280"/>
              <a:ext cx="5257440" cy="1523880"/>
              <a:chOff x="1676520" y="2438280"/>
              <a:chExt cx="5257440" cy="1523880"/>
            </a:xfrm>
          </p:grpSpPr>
          <p:sp>
            <p:nvSpPr>
              <p:cNvPr id="68" name=""/>
              <p:cNvSpPr/>
              <p:nvPr/>
            </p:nvSpPr>
            <p:spPr>
              <a:xfrm>
                <a:off x="1676520" y="2438280"/>
                <a:ext cx="457200" cy="15238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40040" y="243828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40040" y="396216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6477480" y="2438280"/>
                <a:ext cx="456480" cy="1523880"/>
                <a:chOff x="6477480" y="2438280"/>
                <a:chExt cx="456480" cy="1523880"/>
              </a:xfrm>
            </p:grpSpPr>
            <p:sp>
              <p:nvSpPr>
                <p:cNvPr id="72" name=""/>
                <p:cNvSpPr/>
                <p:nvPr/>
              </p:nvSpPr>
              <p:spPr>
                <a:xfrm>
                  <a:off x="6477480" y="2438280"/>
                  <a:ext cx="4564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477480" y="2437920"/>
                  <a:ext cx="4564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1676520" y="4419720"/>
              <a:ext cx="5257440" cy="1523880"/>
              <a:chOff x="1676520" y="4419720"/>
              <a:chExt cx="5257440" cy="1523880"/>
            </a:xfrm>
          </p:grpSpPr>
          <p:sp>
            <p:nvSpPr>
              <p:cNvPr id="75" name=""/>
              <p:cNvSpPr/>
              <p:nvPr/>
            </p:nvSpPr>
            <p:spPr>
              <a:xfrm>
                <a:off x="1676520" y="4419720"/>
                <a:ext cx="457200" cy="15238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40040" y="441972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40040" y="594360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6477480" y="4419720"/>
                <a:ext cx="456480" cy="1523880"/>
                <a:chOff x="6477480" y="4419720"/>
                <a:chExt cx="456480" cy="1523880"/>
              </a:xfrm>
            </p:grpSpPr>
            <p:sp>
              <p:nvSpPr>
                <p:cNvPr id="79" name=""/>
                <p:cNvSpPr/>
                <p:nvPr/>
              </p:nvSpPr>
              <p:spPr>
                <a:xfrm>
                  <a:off x="6477480" y="4419720"/>
                  <a:ext cx="45648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477480" y="4419360"/>
                  <a:ext cx="4564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8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insic Fibr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tical cell types</a:t>
            </a:r>
            <a:endParaRPr b="1" lang="en-US" sz="3200" spc="-1" strike="noStrike">
              <a:solidFill>
                <a:srgbClr val="fafd00"/>
              </a:solidFill>
              <a:latin typeface="Arial"/>
            </a:endParaRPr>
          </a:p>
        </p:txBody>
      </p:sp>
      <p:sp>
        <p:nvSpPr>
          <p:cNvPr id="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rthocortex and paracorte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ically and structurally differe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may decline with increasing % of paracortex BUT not conclusiv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proportions can vary along the fibre and can be influenced by nutr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are chemically and structurally variable along their length, but is this importan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have higher % paracortical cell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es this explain why finer fibres may be weaker?</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6" name="ortho-SS" descr=""/>
          <p:cNvPicPr/>
          <p:nvPr/>
        </p:nvPicPr>
        <p:blipFill>
          <a:blip r:embed="rId1"/>
          <a:stretch/>
        </p:blipFill>
        <p:spPr>
          <a:xfrm>
            <a:off x="2133720" y="1143000"/>
            <a:ext cx="6019560" cy="4886280"/>
          </a:xfrm>
          <a:prstGeom prst="rect">
            <a:avLst/>
          </a:prstGeom>
          <a:ln w="0">
            <a:noFill/>
          </a:ln>
        </p:spPr>
      </p:pic>
      <p:sp>
        <p:nvSpPr>
          <p:cNvPr id="87" name=""/>
          <p:cNvSpPr/>
          <p:nvPr/>
        </p:nvSpPr>
        <p:spPr>
          <a:xfrm>
            <a:off x="7190640" y="6324480"/>
            <a:ext cx="1957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ompson (1993)</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vs % paracortical cell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9" name="ortho-SS%202" descr=""/>
          <p:cNvPicPr/>
          <p:nvPr/>
        </p:nvPicPr>
        <p:blipFill>
          <a:blip r:embed="rId1"/>
          <a:srcRect l="0" t="0" r="0" b="3805"/>
          <a:stretch/>
        </p:blipFill>
        <p:spPr>
          <a:xfrm>
            <a:off x="1143000" y="1654200"/>
            <a:ext cx="7927920" cy="3298680"/>
          </a:xfrm>
          <a:prstGeom prst="rect">
            <a:avLst/>
          </a:prstGeom>
          <a:ln w="0">
            <a:noFill/>
          </a:ln>
        </p:spPr>
      </p:pic>
      <p:sp>
        <p:nvSpPr>
          <p:cNvPr id="90" name=""/>
          <p:cNvSpPr/>
          <p:nvPr/>
        </p:nvSpPr>
        <p:spPr>
          <a:xfrm>
            <a:off x="6236640" y="6324480"/>
            <a:ext cx="2801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ansford and Kennedy (1990)</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vs cortical cell typ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19:33Z</dcterms:created>
  <dc:creator>USER</dc:creator>
  <dc:description/>
  <dc:language>en-US</dc:language>
  <cp:lastModifiedBy>Hdaily</cp:lastModifiedBy>
  <cp:lastPrinted>2000-03-13T02:32:16Z</cp:lastPrinted>
  <dcterms:modified xsi:type="dcterms:W3CDTF">2000-06-21T04:35:30Z</dcterms:modified>
  <cp:revision>2</cp:revision>
  <dc:subject/>
  <dc:title>Staple Strength: The Potential Role of Intrinsic Fibre Strength</dc:title>
</cp:coreProperties>
</file>