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CFFE-CDA2-478F-BCE9-FB3070773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32A9-F3AE-4DEA-9567-3CCA489C0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summarised overview of Merino breeding and genetics research undertaken over the last 60 years.  This summary is based on two references that provide a very comprehensive history of breeding and genetics in the wool industry: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 and Turner, H.N. (1977). </a:t>
            </a:r>
            <a:r>
              <a:rPr b="0" i="1" lang="en-US" sz="1200" spc="-1" strike="noStrike">
                <a:solidFill>
                  <a:srgbClr val="000000"/>
                </a:solidFill>
                <a:latin typeface="Times New Roman"/>
              </a:rPr>
              <a:t>Anim. Breed. Abstr</a:t>
            </a:r>
            <a:r>
              <a:rPr b="0" lang="en-US" sz="1200" spc="-1" strike="noStrike">
                <a:solidFill>
                  <a:srgbClr val="000000"/>
                </a:solidFill>
                <a:latin typeface="Times New Roman"/>
              </a:rPr>
              <a:t>. </a:t>
            </a:r>
            <a:r>
              <a:rPr b="1" lang="en-US" sz="1200" spc="-1" strike="noStrike">
                <a:solidFill>
                  <a:srgbClr val="000000"/>
                </a:solidFill>
                <a:latin typeface="Times New Roman"/>
              </a:rPr>
              <a:t>45</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A55C-2949-4566-ACBF-58D35548E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ing research during this period focussed mainly on the effects of skin folds on Merino productivity, the value of crimp frequency as an indicator of average fibre diameter and increased efficiency of objective measurement, as opposed to visual assessment, at sel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778B-76A9-40A6-A75E-454EDCFD9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ces in productivity (wool, body, reproduction) among sheep breeds and between Merino strains and bloodlines were qua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ucture of the Australian Merino industry was documented, in terms of the regional distribution of ram breeding flocks, the hierarchical structure of the stud industry and the relationship between the various registered stud fl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timates were obtained on the repeatability, heritability and genetic correlations between measured and visually assessed production traits (wool, body and reproduction) in Merinos. Parameters were estimated in different environments and using different strains and bloodlines.  Selection experiments were established to examine the direct and correlated responses to selection on the basis of specific crite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basis of horn development was examined and shown to be controlled by a single gene. Development of Poll strains advan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basis of pigmentation patterns in Merino sheep was also studi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2459-57A5-4D40-8B07-FE692323F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eriod, surveys were conducted focussing on the breeding practices undertaken by the stud industry, including the rate of adoption of objective measurement.  Many breeders were not using measurements due in part to only moderate repeatabilities of these measurements at an early age, requiring animals to be tested at more than one year of age to get a reliable measure of their adult performance.  This stimulated interest in traits that could be measured early, as indicators of lifetime performance.  Of particular interest were skin and follicle traits, but none were shown to be of practical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structure of the stud Merino industry is an example of a closed nucleus breeding scheme, in that there is only one direction for flow of genes, this being from the top tier down.  There is no consideration given to allowing superior genes from further down the hierarchy to flow back into the top tier.  Open nucleus breeding schemes - in which the top tier or nucleus is open to gene flow from lower tiers - were considered in the 1970’s and were shown, at least theoretically, to enable higher rates of genetic progress and reduce the rate of inbreeding.  The optimal structure for an open nucleus scheme is to have around 10% of the entire flock as the breeding nucleus, with up to half of the nucleus breeding ewes being sourced from lower ti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056B-4C15-456E-B33F-60F1E476C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gene (the Booroola gene) influencing reproduction rate was discovered during this period, in a selection line established for improving ewe reproductive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able attention was also given to genetic variation in resistance to diseases such as flystrike, fleece rot, dermatophilosis and internal parasites.  This research indicated low to moderate heritabilities for resistance to each of these diseases, such that the incidence of these diseases could be reduced over time through an appropriately designed breeding program.  The additional benefit seen to result from this was reduced reliance on chemical control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n from theoretical and numerical developments in the definition of breeding objectives and selection indexes, practical methods for formally defining the breeding objectives in the stud Merino industry were exa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search flocks were established to provide more reliable and relevant estimates of genetic parameters, covering a wider range of production traits (including both subjectively assessed and objectively measured wool quality attributes).  More importantly, these flocks were derived from relevant industry sources to address breeder concerns that previous research had been based on sheep that were not considered to be representative of acceptable sheep types.  Rigorous genetic designs were put in place as were larger flock sizes to accommodate more accurate estimation of genetic parameters.  Also, the age of animals at measurement / sampling was consistent with current industry practice and additional data was collected on breeding ew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F7BB-27B1-4D13-9037-DB367A34E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990’s showed a renewed interest in the complementary role and value of classer assessments in relation to index selection and the development of methods for incorporating subjective information into the selection ind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selection experiments were initiated, but rather than looking at single trait selection as in the 1950’s, attention was given to selection strategies, including index selection with varying micron premiums (Trangie QPLU$ flock) and a comparison of alternative strategies such as performance recording, traditional classer-based and soft-rolling skin approaches (SA Selection Demonstration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for providing across-flock comparisons - either at the bloodline level (combined wether trials) or individual sire level (central test and on-farm sire evaluation) - were developed, enabling both commercial woolgrowers and ram breeders to make more strategic and sound decisions regarding the sourcing of new genetic material in line with their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nge of personalised breeding services were initiated to accommodate individual breeder requir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rino Breeding and Genetics Research:</a:t>
            </a:r>
            <a:br>
              <a:rPr sz="3200"/>
            </a:br>
            <a:r>
              <a:rPr b="1" lang="en-AU" sz="3200" spc="-1" strike="noStrike">
                <a:solidFill>
                  <a:srgbClr val="fafd00"/>
                </a:solidFill>
                <a:latin typeface="Arial"/>
              </a:rPr>
              <a:t>Past to Pres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30’s and 1940’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wrink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rimp frequenc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uracy of visual sel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160040" y="6324480"/>
            <a:ext cx="186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50’s and 1960’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 breed comparison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rino strain and bloodline comparison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ud industry structur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rameter estimates &amp; selection experiment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heritance of horns in Merino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velopment of Poll Merino</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tic basis of pigmentation patter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160040" y="6324480"/>
            <a:ext cx="186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70’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rvey of stud breeding practi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tes of adoption of objective measurement</a:t>
            </a:r>
            <a:endParaRPr b="1" lang="en-US" sz="2400" spc="-1" strike="noStrike">
              <a:solidFill>
                <a:srgbClr val="ffffff"/>
              </a:solidFill>
              <a:latin typeface="Arial"/>
            </a:endParaRPr>
          </a:p>
          <a:p>
            <a:pPr lvl="2" marL="1143000" indent="-228600">
              <a:lnSpc>
                <a:spcPct val="100000"/>
              </a:lnSpc>
              <a:spcBef>
                <a:spcPts val="499"/>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15% of studs using measurements and only on a small proportion of ram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asurements of skin follicle trai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rly-age criteria for wool production potent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t strong enough to be of practical us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cleus (group) breeding schem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80’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tic improvement in reproductive r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covery of major (Booroola) ge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tic improvement in disease resist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ece rot, flystrike and internal parasit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mal definition of breeding objectives and index-based sele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stablishment of large research (resource) flocks</a:t>
            </a:r>
            <a:endParaRPr b="1" lang="en-US" sz="2800" spc="-1" strike="noStrike">
              <a:solidFill>
                <a:srgbClr val="ffffff"/>
              </a:solidFill>
              <a:latin typeface="Arial"/>
            </a:endParaRPr>
          </a:p>
        </p:txBody>
      </p:sp>
      <p:sp>
        <p:nvSpPr>
          <p:cNvPr id="60" name=""/>
          <p:cNvSpPr/>
          <p:nvPr/>
        </p:nvSpPr>
        <p:spPr>
          <a:xfrm>
            <a:off x="7160040" y="6324480"/>
            <a:ext cx="186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7160040" y="6324480"/>
            <a:ext cx="186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90’s</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gration of visual assessment and index selection</a:t>
            </a:r>
            <a:endParaRPr b="1" lang="en-US" sz="24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ection experiment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alidation of alternative selection strategies / breeding system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ross-flock comparison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bined wether trial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e evaluation scheme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sonalised breeding service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OWER Wool Breeding Service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dvanced Breeding Services (NSW Ag.)</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LECT Breeding Services (CSIRO)</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23:23:10Z</dcterms:created>
  <dc:creator>USER</dc:creator>
  <dc:description/>
  <dc:language>en-US</dc:language>
  <cp:lastModifiedBy>Hdaily</cp:lastModifiedBy>
  <cp:lastPrinted>2000-02-03T09:09:47Z</cp:lastPrinted>
  <dcterms:modified xsi:type="dcterms:W3CDTF">2000-06-15T10:24:00Z</dcterms:modified>
  <cp:revision>6</cp:revision>
  <dc:subject/>
  <dc:title>Merino Breeding and Genetics Research: Past to Present</dc:title>
</cp:coreProperties>
</file>