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969D7-3381-4E8D-B80D-CB5BD5CFB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2D19-21A3-4682-AA56-12F8D9580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562040" y="533520"/>
            <a:ext cx="3657600" cy="2743200"/>
          </a:xfrm>
          <a:prstGeom prst="rect">
            <a:avLst/>
          </a:prstGeom>
          <a:ln w="0">
            <a:noFill/>
          </a:ln>
        </p:spPr>
      </p:sp>
      <p:sp>
        <p:nvSpPr>
          <p:cNvPr id="2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ntroduces a number of genetic terms, an understanding of which is required to fully grasp the developments in Merino breeding programs towards optimising genetic gains across the industry.  These terms are: repeatability, heritability, selection differential, estimated breeding value, genetic correlation and selection ind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A8537-F712-44E1-BFDE-449353A11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562040" y="533520"/>
            <a:ext cx="3657600" cy="2743200"/>
          </a:xfrm>
          <a:prstGeom prst="rect">
            <a:avLst/>
          </a:prstGeom>
          <a:ln w="0">
            <a:noFill/>
          </a:ln>
        </p:spPr>
      </p:sp>
      <p:sp>
        <p:nvSpPr>
          <p:cNvPr id="2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ability indicates the extent to which performance at one point in time (e.g. age, sampling time) relates to performance at a subsequent point in time.  For example, to what extent does the hogget ranking first on fleece weight, retain this rank at the following 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lications of repeatability are in terms of </a:t>
            </a:r>
            <a:r>
              <a:rPr b="1" lang="en-US" sz="1200" spc="-1" strike="noStrike" u="sng">
                <a:solidFill>
                  <a:srgbClr val="000000"/>
                </a:solidFill>
                <a:uFillTx/>
                <a:latin typeface="Times New Roman"/>
              </a:rPr>
              <a:t>current</a:t>
            </a:r>
            <a:r>
              <a:rPr b="0" lang="en-US" sz="1200" spc="-1" strike="noStrike">
                <a:solidFill>
                  <a:srgbClr val="000000"/>
                </a:solidFill>
                <a:latin typeface="Times New Roman"/>
              </a:rPr>
              <a:t> flock performance.  For example, does selection of the top ranking individuals (or culling of low ranking individuals) for hogget fleece weight result in improved fleece weights of these animals as adul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0AF00-91D5-43C0-A67D-CBB42E88F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562040" y="533520"/>
            <a:ext cx="3657600" cy="2743200"/>
          </a:xfrm>
          <a:prstGeom prst="rect">
            <a:avLst/>
          </a:prstGeom>
          <a:ln w="0">
            <a:noFill/>
          </a:ln>
        </p:spPr>
      </p:sp>
      <p:sp>
        <p:nvSpPr>
          <p:cNvPr id="2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served performance of an individual in terms of fleece weight, fibre diameter, style and so on, is a function of its genes (genotype) and non-genetic factors that can influence performance (e.g. birth type, age of dam).  Only the genetic component is passed on to progeny.  The heritability expresses the proportion of phenotypic variation arising from additive genetic var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o what extent is the superiority of an individual ram in terms of fleece weight, passed on to his progen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9082A-80AF-41F0-BA4E-B401D846F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562040" y="533520"/>
            <a:ext cx="3657600" cy="2743200"/>
          </a:xfrm>
          <a:prstGeom prst="rect">
            <a:avLst/>
          </a:prstGeom>
          <a:ln w="0">
            <a:noFill/>
          </a:ln>
        </p:spPr>
      </p:sp>
      <p:sp>
        <p:nvSpPr>
          <p:cNvPr id="2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hieve genetic progress, a difference must be established between the individuals selected and the unselected group from which they came.  This difference is termed the selection differential.  If the selected group, on average, do not differ from the average of the original group, then genetic change in average flock performance over time will not resul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254D-1488-49B0-A38F-EE7B350C4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562040" y="533520"/>
            <a:ext cx="3657600" cy="2743200"/>
          </a:xfrm>
          <a:prstGeom prst="rect">
            <a:avLst/>
          </a:prstGeom>
          <a:ln w="0">
            <a:noFill/>
          </a:ln>
        </p:spPr>
      </p:sp>
      <p:sp>
        <p:nvSpPr>
          <p:cNvPr id="2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of selection is to choose those individuals capable of maximising genetic progress in the breeding objective.  A major consideration then is the information to be used to ascertain the genetic merit of an individu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performance for a trait such as fleece weight does not provide useful information, unless we know how this performance compares to the average fleece weight of the unselected group.  The selection differential at least gives an indication of superiority, although only at the phenotypic level.  If we know the heritability of the trait in question, then combined with phenotypic superiority, this provides an estimate of the individual’s breeding value.  This is more meaningful than phenotype alon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52013-CBE5-4F2A-83B4-D40A03D3F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562040" y="533520"/>
            <a:ext cx="3657600" cy="2743200"/>
          </a:xfrm>
          <a:prstGeom prst="rect">
            <a:avLst/>
          </a:prstGeom>
          <a:ln w="0">
            <a:noFill/>
          </a:ln>
        </p:spPr>
      </p:sp>
      <p:sp>
        <p:nvSpPr>
          <p:cNvPr id="2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correlation provides an estimate of the extent to which two traits are controlled by the same set of genes.  If the goal is to genetically change one trait, the genetic correlation indicates the extent to which other traits are also likely to be changed as a resu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mportantly, genetic correlations mean that genetic merit in a trait in the breeding objective can be estimated from performance in another correlated trait measured at selection, without needing the former trait to be measured.  An example of this would be using testicle size at ram selection, for a breeding objective including ewe reproductive performance.  So the selection criteria can differ from the traits in the breeding objective if there are genetic correlations between them.  In other words, the selection criteria provide indirect information on the trait(s) in the breeding objec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FE246-0A06-458C-BC45-7EABA661B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562040" y="533520"/>
            <a:ext cx="3657600" cy="2743200"/>
          </a:xfrm>
          <a:prstGeom prst="rect">
            <a:avLst/>
          </a:prstGeom>
          <a:ln w="0">
            <a:noFill/>
          </a:ln>
        </p:spPr>
      </p:sp>
      <p:sp>
        <p:nvSpPr>
          <p:cNvPr id="2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erformance information is available for more than one trait, genetic correlations can provide additional information on genetic merit for any one trait.  For example, fleece weight and fibre diameter are genetically correlated.  An individual’s performance for fleece weight tells us something about its genetic merit for fleece weight.  But its performance for fibre diameter can also provide additional information on its genetic merit for fleece weight, and vice versa.  The estimated breeding value for fleece weight is therefore a function of these different sources of genetic information and is far more meaningful than just fleece weight records alo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C49D2-095D-43EB-9908-7DCBD9F34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562040" y="533520"/>
            <a:ext cx="3657600" cy="2743200"/>
          </a:xfrm>
          <a:prstGeom prst="rect">
            <a:avLst/>
          </a:prstGeom>
          <a:ln w="0">
            <a:noFill/>
          </a:ln>
        </p:spPr>
      </p:sp>
      <p:sp>
        <p:nvSpPr>
          <p:cNvPr id="3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all traits in the breeding objective should be of economic importance. So if we know an individual’s estimated breeding value for each trait, as well as the relative economic weight appropriate to each trait, we can express the total genetic merit of the individual in economic terms.  This is achieved by way of a selection index (a function of estimated breeding values weighted according to economic values).  In practice, individual index values are expressed relative to the average index value, set at 100.  Alternatively, individuals can be ranked from highest to lowest index valu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asic Genetic Terminology as Applied to Merino Breed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036800" y="1306440"/>
            <a:ext cx="7877880" cy="4866120"/>
            <a:chOff x="1036800" y="1306440"/>
            <a:chExt cx="7877880" cy="4866120"/>
          </a:xfrm>
        </p:grpSpPr>
        <p:sp>
          <p:nvSpPr>
            <p:cNvPr id="50" name=""/>
            <p:cNvSpPr/>
            <p:nvPr/>
          </p:nvSpPr>
          <p:spPr>
            <a:xfrm>
              <a:off x="1036800" y="2906640"/>
              <a:ext cx="693360" cy="457200"/>
            </a:xfrm>
            <a:prstGeom prst="ellipse">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1044720" y="1306440"/>
              <a:ext cx="7869960" cy="4866120"/>
              <a:chOff x="1044720" y="1306440"/>
              <a:chExt cx="7869960" cy="4866120"/>
            </a:xfrm>
          </p:grpSpPr>
          <p:sp>
            <p:nvSpPr>
              <p:cNvPr id="52" name=""/>
              <p:cNvSpPr/>
              <p:nvPr/>
            </p:nvSpPr>
            <p:spPr>
              <a:xfrm>
                <a:off x="2960280" y="5729040"/>
                <a:ext cx="693360" cy="42084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797160" y="5653080"/>
                <a:ext cx="353520" cy="45720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687640" y="2909880"/>
                <a:ext cx="353520" cy="380880"/>
              </a:xfrm>
              <a:prstGeom prst="ellipse">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
              <p:cNvGrpSpPr/>
              <p:nvPr/>
            </p:nvGrpSpPr>
            <p:grpSpPr>
              <a:xfrm>
                <a:off x="1358280" y="1306440"/>
                <a:ext cx="4423680" cy="1526760"/>
                <a:chOff x="1358280" y="1306440"/>
                <a:chExt cx="4423680" cy="1526760"/>
              </a:xfrm>
            </p:grpSpPr>
            <p:grpSp>
              <p:nvGrpSpPr>
                <p:cNvPr id="56" name=""/>
                <p:cNvGrpSpPr/>
                <p:nvPr/>
              </p:nvGrpSpPr>
              <p:grpSpPr>
                <a:xfrm>
                  <a:off x="1358280" y="1306440"/>
                  <a:ext cx="4423680" cy="1485360"/>
                  <a:chOff x="1358280" y="1306440"/>
                  <a:chExt cx="4423680" cy="1485360"/>
                </a:xfrm>
              </p:grpSpPr>
              <p:sp>
                <p:nvSpPr>
                  <p:cNvPr id="57" name=""/>
                  <p:cNvSpPr/>
                  <p:nvPr/>
                </p:nvSpPr>
                <p:spPr>
                  <a:xfrm>
                    <a:off x="1358280" y="1318680"/>
                    <a:ext cx="2250720" cy="1473120"/>
                  </a:xfrm>
                  <a:custGeom>
                    <a:avLst/>
                    <a:gdLst/>
                    <a:ahLst/>
                    <a:rect l="l" t="t" r="r" b="b"/>
                    <a:pathLst>
                      <a:path w="1418" h="928">
                        <a:moveTo>
                          <a:pt x="0" y="927"/>
                        </a:moveTo>
                        <a:lnTo>
                          <a:pt x="75" y="917"/>
                        </a:lnTo>
                        <a:lnTo>
                          <a:pt x="147" y="907"/>
                        </a:lnTo>
                        <a:lnTo>
                          <a:pt x="291" y="884"/>
                        </a:lnTo>
                        <a:lnTo>
                          <a:pt x="356" y="857"/>
                        </a:lnTo>
                        <a:lnTo>
                          <a:pt x="389" y="844"/>
                        </a:lnTo>
                        <a:lnTo>
                          <a:pt x="425" y="834"/>
                        </a:lnTo>
                        <a:lnTo>
                          <a:pt x="444" y="827"/>
                        </a:lnTo>
                        <a:lnTo>
                          <a:pt x="464" y="820"/>
                        </a:lnTo>
                        <a:lnTo>
                          <a:pt x="480" y="810"/>
                        </a:lnTo>
                        <a:lnTo>
                          <a:pt x="497" y="800"/>
                        </a:lnTo>
                        <a:lnTo>
                          <a:pt x="506" y="790"/>
                        </a:lnTo>
                        <a:lnTo>
                          <a:pt x="513" y="784"/>
                        </a:lnTo>
                        <a:lnTo>
                          <a:pt x="523" y="774"/>
                        </a:lnTo>
                        <a:lnTo>
                          <a:pt x="526" y="774"/>
                        </a:lnTo>
                        <a:lnTo>
                          <a:pt x="532" y="770"/>
                        </a:lnTo>
                        <a:lnTo>
                          <a:pt x="542" y="764"/>
                        </a:lnTo>
                        <a:lnTo>
                          <a:pt x="559" y="757"/>
                        </a:lnTo>
                        <a:lnTo>
                          <a:pt x="598" y="717"/>
                        </a:lnTo>
                        <a:lnTo>
                          <a:pt x="643" y="677"/>
                        </a:lnTo>
                        <a:lnTo>
                          <a:pt x="689" y="643"/>
                        </a:lnTo>
                        <a:lnTo>
                          <a:pt x="738" y="607"/>
                        </a:lnTo>
                        <a:lnTo>
                          <a:pt x="754" y="593"/>
                        </a:lnTo>
                        <a:lnTo>
                          <a:pt x="771" y="577"/>
                        </a:lnTo>
                        <a:lnTo>
                          <a:pt x="784" y="563"/>
                        </a:lnTo>
                        <a:lnTo>
                          <a:pt x="787" y="560"/>
                        </a:lnTo>
                        <a:lnTo>
                          <a:pt x="787" y="557"/>
                        </a:lnTo>
                        <a:lnTo>
                          <a:pt x="800" y="537"/>
                        </a:lnTo>
                        <a:lnTo>
                          <a:pt x="813" y="520"/>
                        </a:lnTo>
                        <a:lnTo>
                          <a:pt x="833" y="503"/>
                        </a:lnTo>
                        <a:lnTo>
                          <a:pt x="859" y="490"/>
                        </a:lnTo>
                        <a:lnTo>
                          <a:pt x="872" y="463"/>
                        </a:lnTo>
                        <a:lnTo>
                          <a:pt x="882" y="437"/>
                        </a:lnTo>
                        <a:lnTo>
                          <a:pt x="895" y="423"/>
                        </a:lnTo>
                        <a:lnTo>
                          <a:pt x="911" y="407"/>
                        </a:lnTo>
                        <a:lnTo>
                          <a:pt x="927" y="393"/>
                        </a:lnTo>
                        <a:lnTo>
                          <a:pt x="931" y="387"/>
                        </a:lnTo>
                        <a:lnTo>
                          <a:pt x="934" y="387"/>
                        </a:lnTo>
                        <a:lnTo>
                          <a:pt x="937" y="377"/>
                        </a:lnTo>
                        <a:lnTo>
                          <a:pt x="944" y="363"/>
                        </a:lnTo>
                        <a:lnTo>
                          <a:pt x="957" y="350"/>
                        </a:lnTo>
                        <a:lnTo>
                          <a:pt x="973" y="333"/>
                        </a:lnTo>
                        <a:lnTo>
                          <a:pt x="986" y="320"/>
                        </a:lnTo>
                        <a:lnTo>
                          <a:pt x="993" y="313"/>
                        </a:lnTo>
                        <a:lnTo>
                          <a:pt x="1009" y="286"/>
                        </a:lnTo>
                        <a:lnTo>
                          <a:pt x="1035" y="260"/>
                        </a:lnTo>
                        <a:lnTo>
                          <a:pt x="1058" y="236"/>
                        </a:lnTo>
                        <a:lnTo>
                          <a:pt x="1078" y="210"/>
                        </a:lnTo>
                        <a:lnTo>
                          <a:pt x="1084" y="196"/>
                        </a:lnTo>
                        <a:lnTo>
                          <a:pt x="1087" y="190"/>
                        </a:lnTo>
                        <a:lnTo>
                          <a:pt x="1094" y="180"/>
                        </a:lnTo>
                        <a:lnTo>
                          <a:pt x="1100" y="173"/>
                        </a:lnTo>
                        <a:lnTo>
                          <a:pt x="1107" y="166"/>
                        </a:lnTo>
                        <a:lnTo>
                          <a:pt x="1120" y="153"/>
                        </a:lnTo>
                        <a:lnTo>
                          <a:pt x="1140" y="136"/>
                        </a:lnTo>
                        <a:lnTo>
                          <a:pt x="1143" y="133"/>
                        </a:lnTo>
                        <a:lnTo>
                          <a:pt x="1146" y="126"/>
                        </a:lnTo>
                        <a:lnTo>
                          <a:pt x="1162" y="110"/>
                        </a:lnTo>
                        <a:lnTo>
                          <a:pt x="1179" y="93"/>
                        </a:lnTo>
                        <a:lnTo>
                          <a:pt x="1182" y="90"/>
                        </a:lnTo>
                        <a:lnTo>
                          <a:pt x="1185" y="86"/>
                        </a:lnTo>
                        <a:lnTo>
                          <a:pt x="1211" y="73"/>
                        </a:lnTo>
                        <a:lnTo>
                          <a:pt x="1231" y="66"/>
                        </a:lnTo>
                        <a:lnTo>
                          <a:pt x="1241" y="60"/>
                        </a:lnTo>
                        <a:lnTo>
                          <a:pt x="1251" y="56"/>
                        </a:lnTo>
                        <a:lnTo>
                          <a:pt x="1257" y="53"/>
                        </a:lnTo>
                        <a:lnTo>
                          <a:pt x="1264" y="50"/>
                        </a:lnTo>
                        <a:lnTo>
                          <a:pt x="1277" y="43"/>
                        </a:lnTo>
                        <a:lnTo>
                          <a:pt x="1296" y="33"/>
                        </a:lnTo>
                        <a:lnTo>
                          <a:pt x="1326" y="23"/>
                        </a:lnTo>
                        <a:lnTo>
                          <a:pt x="1358" y="20"/>
                        </a:lnTo>
                        <a:lnTo>
                          <a:pt x="1391" y="13"/>
                        </a:lnTo>
                        <a:lnTo>
                          <a:pt x="1404" y="10"/>
                        </a:lnTo>
                        <a:lnTo>
                          <a:pt x="1417" y="0"/>
                        </a:lnTo>
                      </a:path>
                    </a:pathLst>
                  </a:custGeom>
                  <a:noFill/>
                  <a:ln cap="rnd" w="127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607560" y="1306440"/>
                    <a:ext cx="2174400" cy="1474560"/>
                  </a:xfrm>
                  <a:custGeom>
                    <a:avLst/>
                    <a:gdLst/>
                    <a:ahLst/>
                    <a:rect l="l" t="t" r="r" b="b"/>
                    <a:pathLst>
                      <a:path w="1370" h="929">
                        <a:moveTo>
                          <a:pt x="1369" y="928"/>
                        </a:moveTo>
                        <a:lnTo>
                          <a:pt x="1227" y="908"/>
                        </a:lnTo>
                        <a:lnTo>
                          <a:pt x="1085" y="885"/>
                        </a:lnTo>
                        <a:lnTo>
                          <a:pt x="1025" y="858"/>
                        </a:lnTo>
                        <a:lnTo>
                          <a:pt x="993" y="845"/>
                        </a:lnTo>
                        <a:lnTo>
                          <a:pt x="960" y="835"/>
                        </a:lnTo>
                        <a:lnTo>
                          <a:pt x="938" y="825"/>
                        </a:lnTo>
                        <a:lnTo>
                          <a:pt x="922" y="818"/>
                        </a:lnTo>
                        <a:lnTo>
                          <a:pt x="905" y="812"/>
                        </a:lnTo>
                        <a:lnTo>
                          <a:pt x="889" y="802"/>
                        </a:lnTo>
                        <a:lnTo>
                          <a:pt x="878" y="792"/>
                        </a:lnTo>
                        <a:lnTo>
                          <a:pt x="873" y="785"/>
                        </a:lnTo>
                        <a:lnTo>
                          <a:pt x="867" y="775"/>
                        </a:lnTo>
                        <a:lnTo>
                          <a:pt x="856" y="772"/>
                        </a:lnTo>
                        <a:lnTo>
                          <a:pt x="845" y="765"/>
                        </a:lnTo>
                        <a:lnTo>
                          <a:pt x="829" y="758"/>
                        </a:lnTo>
                        <a:lnTo>
                          <a:pt x="791" y="719"/>
                        </a:lnTo>
                        <a:lnTo>
                          <a:pt x="747" y="679"/>
                        </a:lnTo>
                        <a:lnTo>
                          <a:pt x="654" y="605"/>
                        </a:lnTo>
                        <a:lnTo>
                          <a:pt x="638" y="592"/>
                        </a:lnTo>
                        <a:lnTo>
                          <a:pt x="622" y="576"/>
                        </a:lnTo>
                        <a:lnTo>
                          <a:pt x="611" y="562"/>
                        </a:lnTo>
                        <a:lnTo>
                          <a:pt x="605" y="559"/>
                        </a:lnTo>
                        <a:lnTo>
                          <a:pt x="605" y="556"/>
                        </a:lnTo>
                        <a:lnTo>
                          <a:pt x="594" y="536"/>
                        </a:lnTo>
                        <a:lnTo>
                          <a:pt x="584" y="519"/>
                        </a:lnTo>
                        <a:lnTo>
                          <a:pt x="562" y="502"/>
                        </a:lnTo>
                        <a:lnTo>
                          <a:pt x="534" y="489"/>
                        </a:lnTo>
                        <a:lnTo>
                          <a:pt x="524" y="466"/>
                        </a:lnTo>
                        <a:lnTo>
                          <a:pt x="513" y="439"/>
                        </a:lnTo>
                        <a:lnTo>
                          <a:pt x="502" y="423"/>
                        </a:lnTo>
                        <a:lnTo>
                          <a:pt x="491" y="406"/>
                        </a:lnTo>
                        <a:lnTo>
                          <a:pt x="474" y="396"/>
                        </a:lnTo>
                        <a:lnTo>
                          <a:pt x="469" y="389"/>
                        </a:lnTo>
                        <a:lnTo>
                          <a:pt x="464" y="376"/>
                        </a:lnTo>
                        <a:lnTo>
                          <a:pt x="453" y="363"/>
                        </a:lnTo>
                        <a:lnTo>
                          <a:pt x="442" y="349"/>
                        </a:lnTo>
                        <a:lnTo>
                          <a:pt x="425" y="333"/>
                        </a:lnTo>
                        <a:lnTo>
                          <a:pt x="414" y="320"/>
                        </a:lnTo>
                        <a:lnTo>
                          <a:pt x="409" y="313"/>
                        </a:lnTo>
                        <a:lnTo>
                          <a:pt x="393" y="286"/>
                        </a:lnTo>
                        <a:lnTo>
                          <a:pt x="371" y="263"/>
                        </a:lnTo>
                        <a:lnTo>
                          <a:pt x="344" y="240"/>
                        </a:lnTo>
                        <a:lnTo>
                          <a:pt x="327" y="213"/>
                        </a:lnTo>
                        <a:lnTo>
                          <a:pt x="322" y="200"/>
                        </a:lnTo>
                        <a:lnTo>
                          <a:pt x="316" y="190"/>
                        </a:lnTo>
                        <a:lnTo>
                          <a:pt x="311" y="180"/>
                        </a:lnTo>
                        <a:lnTo>
                          <a:pt x="305" y="177"/>
                        </a:lnTo>
                        <a:lnTo>
                          <a:pt x="294" y="167"/>
                        </a:lnTo>
                        <a:lnTo>
                          <a:pt x="284" y="157"/>
                        </a:lnTo>
                        <a:lnTo>
                          <a:pt x="267" y="137"/>
                        </a:lnTo>
                        <a:lnTo>
                          <a:pt x="267" y="133"/>
                        </a:lnTo>
                        <a:lnTo>
                          <a:pt x="262" y="127"/>
                        </a:lnTo>
                        <a:lnTo>
                          <a:pt x="245" y="110"/>
                        </a:lnTo>
                        <a:lnTo>
                          <a:pt x="229" y="93"/>
                        </a:lnTo>
                        <a:lnTo>
                          <a:pt x="224" y="90"/>
                        </a:lnTo>
                        <a:lnTo>
                          <a:pt x="224" y="87"/>
                        </a:lnTo>
                        <a:lnTo>
                          <a:pt x="196" y="74"/>
                        </a:lnTo>
                        <a:lnTo>
                          <a:pt x="180" y="67"/>
                        </a:lnTo>
                        <a:lnTo>
                          <a:pt x="169" y="60"/>
                        </a:lnTo>
                        <a:lnTo>
                          <a:pt x="164" y="57"/>
                        </a:lnTo>
                        <a:lnTo>
                          <a:pt x="147" y="50"/>
                        </a:lnTo>
                        <a:lnTo>
                          <a:pt x="131" y="44"/>
                        </a:lnTo>
                        <a:lnTo>
                          <a:pt x="114" y="34"/>
                        </a:lnTo>
                        <a:lnTo>
                          <a:pt x="87" y="24"/>
                        </a:lnTo>
                        <a:lnTo>
                          <a:pt x="54" y="20"/>
                        </a:lnTo>
                        <a:lnTo>
                          <a:pt x="22" y="14"/>
                        </a:lnTo>
                        <a:lnTo>
                          <a:pt x="11" y="10"/>
                        </a:lnTo>
                        <a:lnTo>
                          <a:pt x="0" y="0"/>
                        </a:lnTo>
                      </a:path>
                    </a:pathLst>
                  </a:custGeom>
                  <a:noFill/>
                  <a:ln cap="rnd" w="127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1388160" y="1393560"/>
                  <a:ext cx="4365000" cy="1439640"/>
                  <a:chOff x="1388160" y="1393560"/>
                  <a:chExt cx="4365000" cy="1439640"/>
                </a:xfrm>
              </p:grpSpPr>
              <p:sp>
                <p:nvSpPr>
                  <p:cNvPr id="60" name=""/>
                  <p:cNvSpPr/>
                  <p:nvPr/>
                </p:nvSpPr>
                <p:spPr>
                  <a:xfrm>
                    <a:off x="3645000" y="1393560"/>
                    <a:ext cx="0" cy="1414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388160" y="2833200"/>
                    <a:ext cx="4365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2" name=""/>
              <p:cNvGrpSpPr/>
              <p:nvPr/>
            </p:nvGrpSpPr>
            <p:grpSpPr>
              <a:xfrm>
                <a:off x="1044720" y="2862360"/>
                <a:ext cx="4982040" cy="491040"/>
                <a:chOff x="1044720" y="2862360"/>
                <a:chExt cx="4982040" cy="491040"/>
              </a:xfrm>
            </p:grpSpPr>
            <p:sp>
              <p:nvSpPr>
                <p:cNvPr id="63" name=""/>
                <p:cNvSpPr/>
                <p:nvPr/>
              </p:nvSpPr>
              <p:spPr>
                <a:xfrm>
                  <a:off x="5676120" y="286236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64" name=""/>
                <p:cNvSpPr/>
                <p:nvPr/>
              </p:nvSpPr>
              <p:spPr>
                <a:xfrm>
                  <a:off x="1044720" y="289872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0</a:t>
                  </a:r>
                  <a:endParaRPr b="0" lang="en-US" sz="2400" spc="-1" strike="noStrike">
                    <a:solidFill>
                      <a:srgbClr val="000000"/>
                    </a:solidFill>
                    <a:latin typeface="Times New Roman"/>
                  </a:endParaRPr>
                </a:p>
              </p:txBody>
            </p:sp>
            <p:sp>
              <p:nvSpPr>
                <p:cNvPr id="65" name=""/>
                <p:cNvSpPr/>
                <p:nvPr/>
              </p:nvSpPr>
              <p:spPr>
                <a:xfrm flipH="1">
                  <a:off x="1726560" y="3138120"/>
                  <a:ext cx="39859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 name=""/>
              <p:cNvSpPr/>
              <p:nvPr/>
            </p:nvSpPr>
            <p:spPr>
              <a:xfrm>
                <a:off x="6075360" y="2822400"/>
                <a:ext cx="1059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NK</a:t>
                </a:r>
                <a:endParaRPr b="0" lang="en-US" sz="2400" spc="-1" strike="noStrike">
                  <a:solidFill>
                    <a:srgbClr val="000000"/>
                  </a:solidFill>
                  <a:latin typeface="Times New Roman"/>
                </a:endParaRPr>
              </a:p>
            </p:txBody>
          </p:sp>
          <p:grpSp>
            <p:nvGrpSpPr>
              <p:cNvPr id="67" name=""/>
              <p:cNvGrpSpPr/>
              <p:nvPr/>
            </p:nvGrpSpPr>
            <p:grpSpPr>
              <a:xfrm>
                <a:off x="2963160" y="3517920"/>
                <a:ext cx="4038480" cy="2058480"/>
                <a:chOff x="2963160" y="3517920"/>
                <a:chExt cx="4038480" cy="2058480"/>
              </a:xfrm>
            </p:grpSpPr>
            <p:grpSp>
              <p:nvGrpSpPr>
                <p:cNvPr id="68" name=""/>
                <p:cNvGrpSpPr/>
                <p:nvPr/>
              </p:nvGrpSpPr>
              <p:grpSpPr>
                <a:xfrm>
                  <a:off x="2963160" y="3517920"/>
                  <a:ext cx="4038480" cy="2001240"/>
                  <a:chOff x="2963160" y="3517920"/>
                  <a:chExt cx="4038480" cy="2001240"/>
                </a:xfrm>
              </p:grpSpPr>
              <p:sp>
                <p:nvSpPr>
                  <p:cNvPr id="69" name=""/>
                  <p:cNvSpPr/>
                  <p:nvPr/>
                </p:nvSpPr>
                <p:spPr>
                  <a:xfrm>
                    <a:off x="2963160" y="3538440"/>
                    <a:ext cx="2052720" cy="1980720"/>
                  </a:xfrm>
                  <a:custGeom>
                    <a:avLst/>
                    <a:gdLst/>
                    <a:ahLst/>
                    <a:rect l="l" t="t" r="r" b="b"/>
                    <a:pathLst>
                      <a:path w="1293" h="1248">
                        <a:moveTo>
                          <a:pt x="0" y="1247"/>
                        </a:moveTo>
                        <a:lnTo>
                          <a:pt x="131" y="1223"/>
                        </a:lnTo>
                        <a:lnTo>
                          <a:pt x="262" y="1186"/>
                        </a:lnTo>
                        <a:lnTo>
                          <a:pt x="323" y="1156"/>
                        </a:lnTo>
                        <a:lnTo>
                          <a:pt x="384" y="1119"/>
                        </a:lnTo>
                        <a:lnTo>
                          <a:pt x="421" y="1101"/>
                        </a:lnTo>
                        <a:lnTo>
                          <a:pt x="435" y="1089"/>
                        </a:lnTo>
                        <a:lnTo>
                          <a:pt x="449" y="1077"/>
                        </a:lnTo>
                        <a:lnTo>
                          <a:pt x="459" y="1064"/>
                        </a:lnTo>
                        <a:lnTo>
                          <a:pt x="468" y="1052"/>
                        </a:lnTo>
                        <a:lnTo>
                          <a:pt x="473" y="1040"/>
                        </a:lnTo>
                        <a:lnTo>
                          <a:pt x="482" y="1034"/>
                        </a:lnTo>
                        <a:lnTo>
                          <a:pt x="491" y="1028"/>
                        </a:lnTo>
                        <a:lnTo>
                          <a:pt x="505" y="1022"/>
                        </a:lnTo>
                        <a:lnTo>
                          <a:pt x="543" y="967"/>
                        </a:lnTo>
                        <a:lnTo>
                          <a:pt x="585" y="912"/>
                        </a:lnTo>
                        <a:lnTo>
                          <a:pt x="627" y="864"/>
                        </a:lnTo>
                        <a:lnTo>
                          <a:pt x="674" y="815"/>
                        </a:lnTo>
                        <a:lnTo>
                          <a:pt x="688" y="797"/>
                        </a:lnTo>
                        <a:lnTo>
                          <a:pt x="702" y="772"/>
                        </a:lnTo>
                        <a:lnTo>
                          <a:pt x="711" y="754"/>
                        </a:lnTo>
                        <a:lnTo>
                          <a:pt x="716" y="748"/>
                        </a:lnTo>
                        <a:lnTo>
                          <a:pt x="726" y="718"/>
                        </a:lnTo>
                        <a:lnTo>
                          <a:pt x="740" y="693"/>
                        </a:lnTo>
                        <a:lnTo>
                          <a:pt x="758" y="675"/>
                        </a:lnTo>
                        <a:lnTo>
                          <a:pt x="782" y="657"/>
                        </a:lnTo>
                        <a:lnTo>
                          <a:pt x="796" y="620"/>
                        </a:lnTo>
                        <a:lnTo>
                          <a:pt x="805" y="590"/>
                        </a:lnTo>
                        <a:lnTo>
                          <a:pt x="814" y="566"/>
                        </a:lnTo>
                        <a:lnTo>
                          <a:pt x="829" y="541"/>
                        </a:lnTo>
                        <a:lnTo>
                          <a:pt x="843" y="523"/>
                        </a:lnTo>
                        <a:lnTo>
                          <a:pt x="847" y="517"/>
                        </a:lnTo>
                        <a:lnTo>
                          <a:pt x="857" y="505"/>
                        </a:lnTo>
                        <a:lnTo>
                          <a:pt x="861" y="486"/>
                        </a:lnTo>
                        <a:lnTo>
                          <a:pt x="875" y="468"/>
                        </a:lnTo>
                        <a:lnTo>
                          <a:pt x="889" y="444"/>
                        </a:lnTo>
                        <a:lnTo>
                          <a:pt x="899" y="426"/>
                        </a:lnTo>
                        <a:lnTo>
                          <a:pt x="903" y="419"/>
                        </a:lnTo>
                        <a:lnTo>
                          <a:pt x="922" y="383"/>
                        </a:lnTo>
                        <a:lnTo>
                          <a:pt x="946" y="346"/>
                        </a:lnTo>
                        <a:lnTo>
                          <a:pt x="964" y="316"/>
                        </a:lnTo>
                        <a:lnTo>
                          <a:pt x="983" y="280"/>
                        </a:lnTo>
                        <a:lnTo>
                          <a:pt x="988" y="261"/>
                        </a:lnTo>
                        <a:lnTo>
                          <a:pt x="992" y="249"/>
                        </a:lnTo>
                        <a:lnTo>
                          <a:pt x="997" y="237"/>
                        </a:lnTo>
                        <a:lnTo>
                          <a:pt x="1011" y="219"/>
                        </a:lnTo>
                        <a:lnTo>
                          <a:pt x="1025" y="200"/>
                        </a:lnTo>
                        <a:lnTo>
                          <a:pt x="1039" y="176"/>
                        </a:lnTo>
                        <a:lnTo>
                          <a:pt x="1044" y="164"/>
                        </a:lnTo>
                        <a:lnTo>
                          <a:pt x="1063" y="146"/>
                        </a:lnTo>
                        <a:lnTo>
                          <a:pt x="1077" y="121"/>
                        </a:lnTo>
                        <a:lnTo>
                          <a:pt x="1081" y="115"/>
                        </a:lnTo>
                        <a:lnTo>
                          <a:pt x="1081" y="109"/>
                        </a:lnTo>
                        <a:lnTo>
                          <a:pt x="1105" y="97"/>
                        </a:lnTo>
                        <a:lnTo>
                          <a:pt x="1119" y="85"/>
                        </a:lnTo>
                        <a:lnTo>
                          <a:pt x="1133" y="79"/>
                        </a:lnTo>
                        <a:lnTo>
                          <a:pt x="1138" y="73"/>
                        </a:lnTo>
                        <a:lnTo>
                          <a:pt x="1152" y="60"/>
                        </a:lnTo>
                        <a:lnTo>
                          <a:pt x="1161" y="54"/>
                        </a:lnTo>
                        <a:lnTo>
                          <a:pt x="1180" y="42"/>
                        </a:lnTo>
                        <a:lnTo>
                          <a:pt x="1208" y="30"/>
                        </a:lnTo>
                        <a:lnTo>
                          <a:pt x="1241" y="24"/>
                        </a:lnTo>
                        <a:lnTo>
                          <a:pt x="1269" y="18"/>
                        </a:lnTo>
                        <a:lnTo>
                          <a:pt x="1292" y="0"/>
                        </a:lnTo>
                      </a:path>
                    </a:pathLst>
                  </a:custGeom>
                  <a:noFill/>
                  <a:ln cap="rnd" w="127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015880" y="3517920"/>
                    <a:ext cx="1985760" cy="1987200"/>
                  </a:xfrm>
                  <a:custGeom>
                    <a:avLst/>
                    <a:gdLst/>
                    <a:ahLst/>
                    <a:rect l="l" t="t" r="r" b="b"/>
                    <a:pathLst>
                      <a:path w="1251" h="1252">
                        <a:moveTo>
                          <a:pt x="1250" y="1251"/>
                        </a:moveTo>
                        <a:lnTo>
                          <a:pt x="1183" y="1239"/>
                        </a:lnTo>
                        <a:lnTo>
                          <a:pt x="1123" y="1227"/>
                        </a:lnTo>
                        <a:lnTo>
                          <a:pt x="996" y="1190"/>
                        </a:lnTo>
                        <a:lnTo>
                          <a:pt x="936" y="1160"/>
                        </a:lnTo>
                        <a:lnTo>
                          <a:pt x="876" y="1124"/>
                        </a:lnTo>
                        <a:lnTo>
                          <a:pt x="842" y="1105"/>
                        </a:lnTo>
                        <a:lnTo>
                          <a:pt x="809" y="1081"/>
                        </a:lnTo>
                        <a:lnTo>
                          <a:pt x="802" y="1069"/>
                        </a:lnTo>
                        <a:lnTo>
                          <a:pt x="796" y="1057"/>
                        </a:lnTo>
                        <a:lnTo>
                          <a:pt x="789" y="1045"/>
                        </a:lnTo>
                        <a:lnTo>
                          <a:pt x="782" y="1039"/>
                        </a:lnTo>
                        <a:lnTo>
                          <a:pt x="755" y="1020"/>
                        </a:lnTo>
                        <a:lnTo>
                          <a:pt x="682" y="917"/>
                        </a:lnTo>
                        <a:lnTo>
                          <a:pt x="595" y="820"/>
                        </a:lnTo>
                        <a:lnTo>
                          <a:pt x="582" y="802"/>
                        </a:lnTo>
                        <a:lnTo>
                          <a:pt x="568" y="778"/>
                        </a:lnTo>
                        <a:lnTo>
                          <a:pt x="562" y="753"/>
                        </a:lnTo>
                        <a:lnTo>
                          <a:pt x="555" y="747"/>
                        </a:lnTo>
                        <a:lnTo>
                          <a:pt x="542" y="717"/>
                        </a:lnTo>
                        <a:lnTo>
                          <a:pt x="535" y="699"/>
                        </a:lnTo>
                        <a:lnTo>
                          <a:pt x="515" y="680"/>
                        </a:lnTo>
                        <a:lnTo>
                          <a:pt x="488" y="662"/>
                        </a:lnTo>
                        <a:lnTo>
                          <a:pt x="468" y="589"/>
                        </a:lnTo>
                        <a:lnTo>
                          <a:pt x="461" y="571"/>
                        </a:lnTo>
                        <a:lnTo>
                          <a:pt x="448" y="547"/>
                        </a:lnTo>
                        <a:lnTo>
                          <a:pt x="435" y="529"/>
                        </a:lnTo>
                        <a:lnTo>
                          <a:pt x="428" y="523"/>
                        </a:lnTo>
                        <a:lnTo>
                          <a:pt x="421" y="504"/>
                        </a:lnTo>
                        <a:lnTo>
                          <a:pt x="415" y="486"/>
                        </a:lnTo>
                        <a:lnTo>
                          <a:pt x="401" y="468"/>
                        </a:lnTo>
                        <a:lnTo>
                          <a:pt x="388" y="444"/>
                        </a:lnTo>
                        <a:lnTo>
                          <a:pt x="381" y="425"/>
                        </a:lnTo>
                        <a:lnTo>
                          <a:pt x="375" y="419"/>
                        </a:lnTo>
                        <a:lnTo>
                          <a:pt x="354" y="383"/>
                        </a:lnTo>
                        <a:lnTo>
                          <a:pt x="334" y="353"/>
                        </a:lnTo>
                        <a:lnTo>
                          <a:pt x="314" y="322"/>
                        </a:lnTo>
                        <a:lnTo>
                          <a:pt x="301" y="286"/>
                        </a:lnTo>
                        <a:lnTo>
                          <a:pt x="294" y="268"/>
                        </a:lnTo>
                        <a:lnTo>
                          <a:pt x="288" y="255"/>
                        </a:lnTo>
                        <a:lnTo>
                          <a:pt x="281" y="243"/>
                        </a:lnTo>
                        <a:lnTo>
                          <a:pt x="268" y="225"/>
                        </a:lnTo>
                        <a:lnTo>
                          <a:pt x="261" y="207"/>
                        </a:lnTo>
                        <a:lnTo>
                          <a:pt x="241" y="183"/>
                        </a:lnTo>
                        <a:lnTo>
                          <a:pt x="234" y="170"/>
                        </a:lnTo>
                        <a:lnTo>
                          <a:pt x="221" y="152"/>
                        </a:lnTo>
                        <a:lnTo>
                          <a:pt x="207" y="128"/>
                        </a:lnTo>
                        <a:lnTo>
                          <a:pt x="201" y="122"/>
                        </a:lnTo>
                        <a:lnTo>
                          <a:pt x="201" y="116"/>
                        </a:lnTo>
                        <a:lnTo>
                          <a:pt x="181" y="98"/>
                        </a:lnTo>
                        <a:lnTo>
                          <a:pt x="161" y="85"/>
                        </a:lnTo>
                        <a:lnTo>
                          <a:pt x="147" y="73"/>
                        </a:lnTo>
                        <a:lnTo>
                          <a:pt x="134" y="67"/>
                        </a:lnTo>
                        <a:lnTo>
                          <a:pt x="121" y="55"/>
                        </a:lnTo>
                        <a:lnTo>
                          <a:pt x="107" y="43"/>
                        </a:lnTo>
                        <a:lnTo>
                          <a:pt x="80" y="31"/>
                        </a:lnTo>
                        <a:lnTo>
                          <a:pt x="54" y="25"/>
                        </a:lnTo>
                        <a:lnTo>
                          <a:pt x="27" y="19"/>
                        </a:lnTo>
                        <a:lnTo>
                          <a:pt x="0" y="0"/>
                        </a:lnTo>
                      </a:path>
                    </a:pathLst>
                  </a:custGeom>
                  <a:noFill/>
                  <a:ln cap="rnd" w="127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2988720" y="3622320"/>
                  <a:ext cx="3984480" cy="1954080"/>
                  <a:chOff x="2988720" y="3622320"/>
                  <a:chExt cx="3984480" cy="1954080"/>
                </a:xfrm>
              </p:grpSpPr>
              <p:sp>
                <p:nvSpPr>
                  <p:cNvPr id="72" name=""/>
                  <p:cNvSpPr/>
                  <p:nvPr/>
                </p:nvSpPr>
                <p:spPr>
                  <a:xfrm>
                    <a:off x="5049360" y="3622320"/>
                    <a:ext cx="0" cy="1928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988720" y="5576400"/>
                    <a:ext cx="398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4" name=""/>
              <p:cNvGrpSpPr/>
              <p:nvPr/>
            </p:nvGrpSpPr>
            <p:grpSpPr>
              <a:xfrm>
                <a:off x="2981520" y="5681520"/>
                <a:ext cx="4155120" cy="491040"/>
                <a:chOff x="2981520" y="5681520"/>
                <a:chExt cx="4155120" cy="491040"/>
              </a:xfrm>
            </p:grpSpPr>
            <p:sp>
              <p:nvSpPr>
                <p:cNvPr id="75" name=""/>
                <p:cNvSpPr/>
                <p:nvPr/>
              </p:nvSpPr>
              <p:spPr>
                <a:xfrm>
                  <a:off x="6786000" y="56815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76" name=""/>
                <p:cNvSpPr/>
                <p:nvPr/>
              </p:nvSpPr>
              <p:spPr>
                <a:xfrm>
                  <a:off x="2981520" y="571788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0</a:t>
                  </a:r>
                  <a:endParaRPr b="0" lang="en-US" sz="2400" spc="-1" strike="noStrike">
                    <a:solidFill>
                      <a:srgbClr val="000000"/>
                    </a:solidFill>
                    <a:latin typeface="Times New Roman"/>
                  </a:endParaRPr>
                </a:p>
              </p:txBody>
            </p:sp>
            <p:sp>
              <p:nvSpPr>
                <p:cNvPr id="77" name=""/>
                <p:cNvSpPr/>
                <p:nvPr/>
              </p:nvSpPr>
              <p:spPr>
                <a:xfrm flipH="1">
                  <a:off x="3663000" y="5957640"/>
                  <a:ext cx="31590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 name=""/>
              <p:cNvSpPr/>
              <p:nvPr/>
            </p:nvSpPr>
            <p:spPr>
              <a:xfrm>
                <a:off x="7370640" y="5641920"/>
                <a:ext cx="1059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NK</a:t>
                </a:r>
                <a:endParaRPr b="0" lang="en-US" sz="2400" spc="-1" strike="noStrike">
                  <a:solidFill>
                    <a:srgbClr val="000000"/>
                  </a:solidFill>
                  <a:latin typeface="Times New Roman"/>
                </a:endParaRPr>
              </a:p>
            </p:txBody>
          </p:sp>
          <p:grpSp>
            <p:nvGrpSpPr>
              <p:cNvPr id="79" name=""/>
              <p:cNvGrpSpPr/>
              <p:nvPr/>
            </p:nvGrpSpPr>
            <p:grpSpPr>
              <a:xfrm>
                <a:off x="7684200" y="1898640"/>
                <a:ext cx="1176480" cy="554040"/>
                <a:chOff x="7684200" y="1898640"/>
                <a:chExt cx="1176480" cy="554040"/>
              </a:xfrm>
            </p:grpSpPr>
            <p:sp>
              <p:nvSpPr>
                <p:cNvPr id="80" name=""/>
                <p:cNvSpPr/>
                <p:nvPr/>
              </p:nvSpPr>
              <p:spPr>
                <a:xfrm>
                  <a:off x="7716240" y="1898640"/>
                  <a:ext cx="1144440" cy="554040"/>
                </a:xfrm>
                <a:prstGeom prst="rect">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684200" y="192744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 1</a:t>
                  </a:r>
                  <a:endParaRPr b="0" lang="en-US" sz="2400" spc="-1" strike="noStrike">
                    <a:solidFill>
                      <a:srgbClr val="000000"/>
                    </a:solidFill>
                    <a:latin typeface="Times New Roman"/>
                  </a:endParaRPr>
                </a:p>
              </p:txBody>
            </p:sp>
          </p:grpSp>
          <p:grpSp>
            <p:nvGrpSpPr>
              <p:cNvPr id="82" name=""/>
              <p:cNvGrpSpPr/>
              <p:nvPr/>
            </p:nvGrpSpPr>
            <p:grpSpPr>
              <a:xfrm>
                <a:off x="7700400" y="4717800"/>
                <a:ext cx="1214280" cy="554040"/>
                <a:chOff x="7700400" y="4717800"/>
                <a:chExt cx="1214280" cy="554040"/>
              </a:xfrm>
            </p:grpSpPr>
            <p:sp>
              <p:nvSpPr>
                <p:cNvPr id="83" name=""/>
                <p:cNvSpPr/>
                <p:nvPr/>
              </p:nvSpPr>
              <p:spPr>
                <a:xfrm>
                  <a:off x="7700400" y="4717800"/>
                  <a:ext cx="1214280" cy="554040"/>
                </a:xfrm>
                <a:prstGeom prst="rect">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738200" y="480348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 2</a:t>
                  </a:r>
                  <a:endParaRPr b="0" lang="en-US" sz="2400" spc="-1" strike="noStrike">
                    <a:solidFill>
                      <a:srgbClr val="000000"/>
                    </a:solidFill>
                    <a:latin typeface="Times New Roman"/>
                  </a:endParaRPr>
                </a:p>
              </p:txBody>
            </p:sp>
          </p:grpSp>
          <p:sp>
            <p:nvSpPr>
              <p:cNvPr id="85" name=""/>
              <p:cNvSpPr/>
              <p:nvPr/>
            </p:nvSpPr>
            <p:spPr>
              <a:xfrm flipH="1" rot="16200000">
                <a:off x="7351560" y="3328920"/>
                <a:ext cx="1981080" cy="533160"/>
              </a:xfrm>
              <a:prstGeom prst="rightArrow">
                <a:avLst>
                  <a:gd name="adj1" fmla="val 50000"/>
                  <a:gd name="adj2" fmla="val 9296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87640" y="3166920"/>
                <a:ext cx="0" cy="2765520"/>
              </a:xfrm>
              <a:prstGeom prst="line">
                <a:avLst/>
              </a:prstGeom>
              <a:ln w="255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226600" y="3166920"/>
                <a:ext cx="3146040" cy="2765520"/>
              </a:xfrm>
              <a:prstGeom prst="line">
                <a:avLst/>
              </a:prstGeom>
              <a:ln w="255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8" name=""/>
          <p:cNvSpPr/>
          <p:nvPr/>
        </p:nvSpPr>
        <p:spPr>
          <a:xfrm>
            <a:off x="1097280" y="765000"/>
            <a:ext cx="5536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henotypic variation in fleece weight</a:t>
            </a:r>
            <a:endParaRPr b="0" lang="en-US" sz="2400" spc="-1" strike="noStrike">
              <a:solidFill>
                <a:srgbClr val="000000"/>
              </a:solidFill>
              <a:latin typeface="Times New Roman"/>
            </a:endParaRPr>
          </a:p>
        </p:txBody>
      </p:sp>
      <p:sp>
        <p:nvSpPr>
          <p:cNvPr id="89" name=""/>
          <p:cNvSpPr/>
          <p:nvPr/>
        </p:nvSpPr>
        <p:spPr>
          <a:xfrm>
            <a:off x="807696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9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peatability</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1" name=""/>
          <p:cNvGrpSpPr/>
          <p:nvPr/>
        </p:nvGrpSpPr>
        <p:grpSpPr>
          <a:xfrm>
            <a:off x="844560" y="750960"/>
            <a:ext cx="8305920" cy="5420880"/>
            <a:chOff x="844560" y="750960"/>
            <a:chExt cx="8305920" cy="5420880"/>
          </a:xfrm>
        </p:grpSpPr>
        <p:sp>
          <p:nvSpPr>
            <p:cNvPr id="92" name=""/>
            <p:cNvSpPr/>
            <p:nvPr/>
          </p:nvSpPr>
          <p:spPr>
            <a:xfrm>
              <a:off x="844560" y="2971800"/>
              <a:ext cx="693720" cy="45684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560920" y="2971800"/>
              <a:ext cx="354240" cy="380520"/>
            </a:xfrm>
            <a:prstGeom prst="ellipse">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1231920" y="1368360"/>
              <a:ext cx="4424400" cy="1526400"/>
              <a:chOff x="1231920" y="1368360"/>
              <a:chExt cx="4424400" cy="1526400"/>
            </a:xfrm>
          </p:grpSpPr>
          <p:grpSp>
            <p:nvGrpSpPr>
              <p:cNvPr id="95" name=""/>
              <p:cNvGrpSpPr/>
              <p:nvPr/>
            </p:nvGrpSpPr>
            <p:grpSpPr>
              <a:xfrm>
                <a:off x="1231920" y="1368360"/>
                <a:ext cx="4424400" cy="1485000"/>
                <a:chOff x="1231920" y="1368360"/>
                <a:chExt cx="4424400" cy="1485000"/>
              </a:xfrm>
            </p:grpSpPr>
            <p:sp>
              <p:nvSpPr>
                <p:cNvPr id="96" name=""/>
                <p:cNvSpPr/>
                <p:nvPr/>
              </p:nvSpPr>
              <p:spPr>
                <a:xfrm>
                  <a:off x="1231920" y="1380600"/>
                  <a:ext cx="2251080" cy="1472760"/>
                </a:xfrm>
                <a:custGeom>
                  <a:avLst/>
                  <a:gdLst/>
                  <a:ahLst/>
                  <a:rect l="l" t="t" r="r" b="b"/>
                  <a:pathLst>
                    <a:path w="1418" h="928">
                      <a:moveTo>
                        <a:pt x="0" y="927"/>
                      </a:moveTo>
                      <a:lnTo>
                        <a:pt x="75" y="917"/>
                      </a:lnTo>
                      <a:lnTo>
                        <a:pt x="147" y="907"/>
                      </a:lnTo>
                      <a:lnTo>
                        <a:pt x="291" y="884"/>
                      </a:lnTo>
                      <a:lnTo>
                        <a:pt x="356" y="857"/>
                      </a:lnTo>
                      <a:lnTo>
                        <a:pt x="389" y="844"/>
                      </a:lnTo>
                      <a:lnTo>
                        <a:pt x="425" y="834"/>
                      </a:lnTo>
                      <a:lnTo>
                        <a:pt x="444" y="827"/>
                      </a:lnTo>
                      <a:lnTo>
                        <a:pt x="464" y="820"/>
                      </a:lnTo>
                      <a:lnTo>
                        <a:pt x="480" y="810"/>
                      </a:lnTo>
                      <a:lnTo>
                        <a:pt x="497" y="800"/>
                      </a:lnTo>
                      <a:lnTo>
                        <a:pt x="506" y="790"/>
                      </a:lnTo>
                      <a:lnTo>
                        <a:pt x="513" y="784"/>
                      </a:lnTo>
                      <a:lnTo>
                        <a:pt x="523" y="774"/>
                      </a:lnTo>
                      <a:lnTo>
                        <a:pt x="526" y="774"/>
                      </a:lnTo>
                      <a:lnTo>
                        <a:pt x="532" y="770"/>
                      </a:lnTo>
                      <a:lnTo>
                        <a:pt x="542" y="764"/>
                      </a:lnTo>
                      <a:lnTo>
                        <a:pt x="559" y="757"/>
                      </a:lnTo>
                      <a:lnTo>
                        <a:pt x="598" y="717"/>
                      </a:lnTo>
                      <a:lnTo>
                        <a:pt x="643" y="677"/>
                      </a:lnTo>
                      <a:lnTo>
                        <a:pt x="689" y="643"/>
                      </a:lnTo>
                      <a:lnTo>
                        <a:pt x="738" y="607"/>
                      </a:lnTo>
                      <a:lnTo>
                        <a:pt x="754" y="593"/>
                      </a:lnTo>
                      <a:lnTo>
                        <a:pt x="771" y="577"/>
                      </a:lnTo>
                      <a:lnTo>
                        <a:pt x="784" y="563"/>
                      </a:lnTo>
                      <a:lnTo>
                        <a:pt x="787" y="560"/>
                      </a:lnTo>
                      <a:lnTo>
                        <a:pt x="787" y="557"/>
                      </a:lnTo>
                      <a:lnTo>
                        <a:pt x="800" y="537"/>
                      </a:lnTo>
                      <a:lnTo>
                        <a:pt x="813" y="520"/>
                      </a:lnTo>
                      <a:lnTo>
                        <a:pt x="833" y="503"/>
                      </a:lnTo>
                      <a:lnTo>
                        <a:pt x="859" y="490"/>
                      </a:lnTo>
                      <a:lnTo>
                        <a:pt x="872" y="463"/>
                      </a:lnTo>
                      <a:lnTo>
                        <a:pt x="882" y="437"/>
                      </a:lnTo>
                      <a:lnTo>
                        <a:pt x="895" y="423"/>
                      </a:lnTo>
                      <a:lnTo>
                        <a:pt x="911" y="407"/>
                      </a:lnTo>
                      <a:lnTo>
                        <a:pt x="927" y="393"/>
                      </a:lnTo>
                      <a:lnTo>
                        <a:pt x="931" y="387"/>
                      </a:lnTo>
                      <a:lnTo>
                        <a:pt x="934" y="387"/>
                      </a:lnTo>
                      <a:lnTo>
                        <a:pt x="937" y="377"/>
                      </a:lnTo>
                      <a:lnTo>
                        <a:pt x="944" y="363"/>
                      </a:lnTo>
                      <a:lnTo>
                        <a:pt x="957" y="350"/>
                      </a:lnTo>
                      <a:lnTo>
                        <a:pt x="973" y="333"/>
                      </a:lnTo>
                      <a:lnTo>
                        <a:pt x="986" y="320"/>
                      </a:lnTo>
                      <a:lnTo>
                        <a:pt x="993" y="313"/>
                      </a:lnTo>
                      <a:lnTo>
                        <a:pt x="1009" y="286"/>
                      </a:lnTo>
                      <a:lnTo>
                        <a:pt x="1035" y="260"/>
                      </a:lnTo>
                      <a:lnTo>
                        <a:pt x="1058" y="236"/>
                      </a:lnTo>
                      <a:lnTo>
                        <a:pt x="1078" y="210"/>
                      </a:lnTo>
                      <a:lnTo>
                        <a:pt x="1084" y="196"/>
                      </a:lnTo>
                      <a:lnTo>
                        <a:pt x="1087" y="190"/>
                      </a:lnTo>
                      <a:lnTo>
                        <a:pt x="1094" y="180"/>
                      </a:lnTo>
                      <a:lnTo>
                        <a:pt x="1100" y="173"/>
                      </a:lnTo>
                      <a:lnTo>
                        <a:pt x="1107" y="166"/>
                      </a:lnTo>
                      <a:lnTo>
                        <a:pt x="1120" y="153"/>
                      </a:lnTo>
                      <a:lnTo>
                        <a:pt x="1140" y="136"/>
                      </a:lnTo>
                      <a:lnTo>
                        <a:pt x="1143" y="133"/>
                      </a:lnTo>
                      <a:lnTo>
                        <a:pt x="1146" y="126"/>
                      </a:lnTo>
                      <a:lnTo>
                        <a:pt x="1162" y="110"/>
                      </a:lnTo>
                      <a:lnTo>
                        <a:pt x="1179" y="93"/>
                      </a:lnTo>
                      <a:lnTo>
                        <a:pt x="1182" y="90"/>
                      </a:lnTo>
                      <a:lnTo>
                        <a:pt x="1185" y="86"/>
                      </a:lnTo>
                      <a:lnTo>
                        <a:pt x="1211" y="73"/>
                      </a:lnTo>
                      <a:lnTo>
                        <a:pt x="1231" y="66"/>
                      </a:lnTo>
                      <a:lnTo>
                        <a:pt x="1241" y="60"/>
                      </a:lnTo>
                      <a:lnTo>
                        <a:pt x="1251" y="56"/>
                      </a:lnTo>
                      <a:lnTo>
                        <a:pt x="1257" y="53"/>
                      </a:lnTo>
                      <a:lnTo>
                        <a:pt x="1264" y="50"/>
                      </a:lnTo>
                      <a:lnTo>
                        <a:pt x="1277" y="43"/>
                      </a:lnTo>
                      <a:lnTo>
                        <a:pt x="1296" y="33"/>
                      </a:lnTo>
                      <a:lnTo>
                        <a:pt x="1326" y="23"/>
                      </a:lnTo>
                      <a:lnTo>
                        <a:pt x="1358" y="20"/>
                      </a:lnTo>
                      <a:lnTo>
                        <a:pt x="1391" y="13"/>
                      </a:lnTo>
                      <a:lnTo>
                        <a:pt x="1404" y="10"/>
                      </a:lnTo>
                      <a:lnTo>
                        <a:pt x="1417" y="0"/>
                      </a:lnTo>
                    </a:path>
                  </a:pathLst>
                </a:custGeom>
                <a:noFill/>
                <a:ln cap="rnd" w="127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481560" y="1368360"/>
                  <a:ext cx="2174760" cy="1474200"/>
                </a:xfrm>
                <a:custGeom>
                  <a:avLst/>
                  <a:gdLst/>
                  <a:ahLst/>
                  <a:rect l="l" t="t" r="r" b="b"/>
                  <a:pathLst>
                    <a:path w="1370" h="929">
                      <a:moveTo>
                        <a:pt x="1369" y="928"/>
                      </a:moveTo>
                      <a:lnTo>
                        <a:pt x="1227" y="908"/>
                      </a:lnTo>
                      <a:lnTo>
                        <a:pt x="1085" y="885"/>
                      </a:lnTo>
                      <a:lnTo>
                        <a:pt x="1025" y="858"/>
                      </a:lnTo>
                      <a:lnTo>
                        <a:pt x="993" y="845"/>
                      </a:lnTo>
                      <a:lnTo>
                        <a:pt x="960" y="835"/>
                      </a:lnTo>
                      <a:lnTo>
                        <a:pt x="938" y="825"/>
                      </a:lnTo>
                      <a:lnTo>
                        <a:pt x="922" y="818"/>
                      </a:lnTo>
                      <a:lnTo>
                        <a:pt x="905" y="812"/>
                      </a:lnTo>
                      <a:lnTo>
                        <a:pt x="889" y="802"/>
                      </a:lnTo>
                      <a:lnTo>
                        <a:pt x="878" y="792"/>
                      </a:lnTo>
                      <a:lnTo>
                        <a:pt x="873" y="785"/>
                      </a:lnTo>
                      <a:lnTo>
                        <a:pt x="867" y="775"/>
                      </a:lnTo>
                      <a:lnTo>
                        <a:pt x="856" y="772"/>
                      </a:lnTo>
                      <a:lnTo>
                        <a:pt x="845" y="765"/>
                      </a:lnTo>
                      <a:lnTo>
                        <a:pt x="829" y="758"/>
                      </a:lnTo>
                      <a:lnTo>
                        <a:pt x="791" y="719"/>
                      </a:lnTo>
                      <a:lnTo>
                        <a:pt x="747" y="679"/>
                      </a:lnTo>
                      <a:lnTo>
                        <a:pt x="654" y="605"/>
                      </a:lnTo>
                      <a:lnTo>
                        <a:pt x="638" y="592"/>
                      </a:lnTo>
                      <a:lnTo>
                        <a:pt x="622" y="576"/>
                      </a:lnTo>
                      <a:lnTo>
                        <a:pt x="611" y="562"/>
                      </a:lnTo>
                      <a:lnTo>
                        <a:pt x="605" y="559"/>
                      </a:lnTo>
                      <a:lnTo>
                        <a:pt x="605" y="556"/>
                      </a:lnTo>
                      <a:lnTo>
                        <a:pt x="594" y="536"/>
                      </a:lnTo>
                      <a:lnTo>
                        <a:pt x="584" y="519"/>
                      </a:lnTo>
                      <a:lnTo>
                        <a:pt x="562" y="502"/>
                      </a:lnTo>
                      <a:lnTo>
                        <a:pt x="534" y="489"/>
                      </a:lnTo>
                      <a:lnTo>
                        <a:pt x="524" y="466"/>
                      </a:lnTo>
                      <a:lnTo>
                        <a:pt x="513" y="439"/>
                      </a:lnTo>
                      <a:lnTo>
                        <a:pt x="502" y="423"/>
                      </a:lnTo>
                      <a:lnTo>
                        <a:pt x="491" y="406"/>
                      </a:lnTo>
                      <a:lnTo>
                        <a:pt x="474" y="396"/>
                      </a:lnTo>
                      <a:lnTo>
                        <a:pt x="469" y="389"/>
                      </a:lnTo>
                      <a:lnTo>
                        <a:pt x="464" y="376"/>
                      </a:lnTo>
                      <a:lnTo>
                        <a:pt x="453" y="363"/>
                      </a:lnTo>
                      <a:lnTo>
                        <a:pt x="442" y="349"/>
                      </a:lnTo>
                      <a:lnTo>
                        <a:pt x="425" y="333"/>
                      </a:lnTo>
                      <a:lnTo>
                        <a:pt x="414" y="320"/>
                      </a:lnTo>
                      <a:lnTo>
                        <a:pt x="409" y="313"/>
                      </a:lnTo>
                      <a:lnTo>
                        <a:pt x="393" y="286"/>
                      </a:lnTo>
                      <a:lnTo>
                        <a:pt x="371" y="263"/>
                      </a:lnTo>
                      <a:lnTo>
                        <a:pt x="344" y="240"/>
                      </a:lnTo>
                      <a:lnTo>
                        <a:pt x="327" y="213"/>
                      </a:lnTo>
                      <a:lnTo>
                        <a:pt x="322" y="200"/>
                      </a:lnTo>
                      <a:lnTo>
                        <a:pt x="316" y="190"/>
                      </a:lnTo>
                      <a:lnTo>
                        <a:pt x="311" y="180"/>
                      </a:lnTo>
                      <a:lnTo>
                        <a:pt x="305" y="177"/>
                      </a:lnTo>
                      <a:lnTo>
                        <a:pt x="294" y="167"/>
                      </a:lnTo>
                      <a:lnTo>
                        <a:pt x="284" y="157"/>
                      </a:lnTo>
                      <a:lnTo>
                        <a:pt x="267" y="137"/>
                      </a:lnTo>
                      <a:lnTo>
                        <a:pt x="267" y="133"/>
                      </a:lnTo>
                      <a:lnTo>
                        <a:pt x="262" y="127"/>
                      </a:lnTo>
                      <a:lnTo>
                        <a:pt x="245" y="110"/>
                      </a:lnTo>
                      <a:lnTo>
                        <a:pt x="229" y="93"/>
                      </a:lnTo>
                      <a:lnTo>
                        <a:pt x="224" y="90"/>
                      </a:lnTo>
                      <a:lnTo>
                        <a:pt x="224" y="87"/>
                      </a:lnTo>
                      <a:lnTo>
                        <a:pt x="196" y="74"/>
                      </a:lnTo>
                      <a:lnTo>
                        <a:pt x="180" y="67"/>
                      </a:lnTo>
                      <a:lnTo>
                        <a:pt x="169" y="60"/>
                      </a:lnTo>
                      <a:lnTo>
                        <a:pt x="164" y="57"/>
                      </a:lnTo>
                      <a:lnTo>
                        <a:pt x="147" y="50"/>
                      </a:lnTo>
                      <a:lnTo>
                        <a:pt x="131" y="44"/>
                      </a:lnTo>
                      <a:lnTo>
                        <a:pt x="114" y="34"/>
                      </a:lnTo>
                      <a:lnTo>
                        <a:pt x="87" y="24"/>
                      </a:lnTo>
                      <a:lnTo>
                        <a:pt x="54" y="20"/>
                      </a:lnTo>
                      <a:lnTo>
                        <a:pt x="22" y="14"/>
                      </a:lnTo>
                      <a:lnTo>
                        <a:pt x="11" y="10"/>
                      </a:lnTo>
                      <a:lnTo>
                        <a:pt x="0" y="0"/>
                      </a:lnTo>
                    </a:path>
                  </a:pathLst>
                </a:custGeom>
                <a:noFill/>
                <a:ln cap="rnd" w="127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1262160" y="1455120"/>
                <a:ext cx="4365720" cy="1439640"/>
                <a:chOff x="1262160" y="1455120"/>
                <a:chExt cx="4365720" cy="1439640"/>
              </a:xfrm>
            </p:grpSpPr>
            <p:sp>
              <p:nvSpPr>
                <p:cNvPr id="99" name=""/>
                <p:cNvSpPr/>
                <p:nvPr/>
              </p:nvSpPr>
              <p:spPr>
                <a:xfrm>
                  <a:off x="3519720" y="1455120"/>
                  <a:ext cx="0" cy="1414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262160" y="2894760"/>
                  <a:ext cx="4365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1" name=""/>
            <p:cNvSpPr/>
            <p:nvPr/>
          </p:nvSpPr>
          <p:spPr>
            <a:xfrm>
              <a:off x="1097280" y="750960"/>
              <a:ext cx="5536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henotypic variation in fleece weight</a:t>
              </a:r>
              <a:endParaRPr b="0" lang="en-US" sz="2400" spc="-1" strike="noStrike">
                <a:solidFill>
                  <a:srgbClr val="000000"/>
                </a:solidFill>
                <a:latin typeface="Times New Roman"/>
              </a:endParaRPr>
            </a:p>
          </p:txBody>
        </p:sp>
        <p:grpSp>
          <p:nvGrpSpPr>
            <p:cNvPr id="102" name=""/>
            <p:cNvGrpSpPr/>
            <p:nvPr/>
          </p:nvGrpSpPr>
          <p:grpSpPr>
            <a:xfrm>
              <a:off x="918000" y="2923920"/>
              <a:ext cx="4982760" cy="491040"/>
              <a:chOff x="918000" y="2923920"/>
              <a:chExt cx="4982760" cy="491040"/>
            </a:xfrm>
          </p:grpSpPr>
          <p:sp>
            <p:nvSpPr>
              <p:cNvPr id="103" name=""/>
              <p:cNvSpPr/>
              <p:nvPr/>
            </p:nvSpPr>
            <p:spPr>
              <a:xfrm>
                <a:off x="5550120" y="2923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104" name=""/>
              <p:cNvSpPr/>
              <p:nvPr/>
            </p:nvSpPr>
            <p:spPr>
              <a:xfrm>
                <a:off x="918000" y="2960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0</a:t>
                </a:r>
                <a:endParaRPr b="0" lang="en-US" sz="2400" spc="-1" strike="noStrike">
                  <a:solidFill>
                    <a:srgbClr val="000000"/>
                  </a:solidFill>
                  <a:latin typeface="Times New Roman"/>
                </a:endParaRPr>
              </a:p>
            </p:txBody>
          </p:sp>
          <p:sp>
            <p:nvSpPr>
              <p:cNvPr id="105" name=""/>
              <p:cNvSpPr/>
              <p:nvPr/>
            </p:nvSpPr>
            <p:spPr>
              <a:xfrm flipH="1">
                <a:off x="1599840" y="3200040"/>
                <a:ext cx="39862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5949000" y="2884320"/>
              <a:ext cx="1059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NK</a:t>
              </a:r>
              <a:endParaRPr b="0" lang="en-US" sz="2400" spc="-1" strike="noStrike">
                <a:solidFill>
                  <a:srgbClr val="000000"/>
                </a:solidFill>
                <a:latin typeface="Times New Roman"/>
              </a:endParaRPr>
            </a:p>
          </p:txBody>
        </p:sp>
        <p:grpSp>
          <p:nvGrpSpPr>
            <p:cNvPr id="107" name=""/>
            <p:cNvGrpSpPr/>
            <p:nvPr/>
          </p:nvGrpSpPr>
          <p:grpSpPr>
            <a:xfrm>
              <a:off x="2684520" y="3579480"/>
              <a:ext cx="4038120" cy="2058480"/>
              <a:chOff x="2684520" y="3579480"/>
              <a:chExt cx="4038120" cy="2058480"/>
            </a:xfrm>
          </p:grpSpPr>
          <p:grpSp>
            <p:nvGrpSpPr>
              <p:cNvPr id="108" name=""/>
              <p:cNvGrpSpPr/>
              <p:nvPr/>
            </p:nvGrpSpPr>
            <p:grpSpPr>
              <a:xfrm>
                <a:off x="2684520" y="3579480"/>
                <a:ext cx="4038120" cy="2001240"/>
                <a:chOff x="2684520" y="3579480"/>
                <a:chExt cx="4038120" cy="2001240"/>
              </a:xfrm>
            </p:grpSpPr>
            <p:sp>
              <p:nvSpPr>
                <p:cNvPr id="109" name=""/>
                <p:cNvSpPr/>
                <p:nvPr/>
              </p:nvSpPr>
              <p:spPr>
                <a:xfrm>
                  <a:off x="2684520" y="3599640"/>
                  <a:ext cx="2052360" cy="1981080"/>
                </a:xfrm>
                <a:custGeom>
                  <a:avLst/>
                  <a:gdLst/>
                  <a:ahLst/>
                  <a:rect l="l" t="t" r="r" b="b"/>
                  <a:pathLst>
                    <a:path w="1293" h="1248">
                      <a:moveTo>
                        <a:pt x="0" y="1247"/>
                      </a:moveTo>
                      <a:lnTo>
                        <a:pt x="131" y="1223"/>
                      </a:lnTo>
                      <a:lnTo>
                        <a:pt x="262" y="1186"/>
                      </a:lnTo>
                      <a:lnTo>
                        <a:pt x="323" y="1156"/>
                      </a:lnTo>
                      <a:lnTo>
                        <a:pt x="384" y="1119"/>
                      </a:lnTo>
                      <a:lnTo>
                        <a:pt x="421" y="1101"/>
                      </a:lnTo>
                      <a:lnTo>
                        <a:pt x="435" y="1089"/>
                      </a:lnTo>
                      <a:lnTo>
                        <a:pt x="449" y="1077"/>
                      </a:lnTo>
                      <a:lnTo>
                        <a:pt x="459" y="1064"/>
                      </a:lnTo>
                      <a:lnTo>
                        <a:pt x="468" y="1052"/>
                      </a:lnTo>
                      <a:lnTo>
                        <a:pt x="473" y="1040"/>
                      </a:lnTo>
                      <a:lnTo>
                        <a:pt x="482" y="1034"/>
                      </a:lnTo>
                      <a:lnTo>
                        <a:pt x="491" y="1028"/>
                      </a:lnTo>
                      <a:lnTo>
                        <a:pt x="505" y="1022"/>
                      </a:lnTo>
                      <a:lnTo>
                        <a:pt x="543" y="967"/>
                      </a:lnTo>
                      <a:lnTo>
                        <a:pt x="585" y="912"/>
                      </a:lnTo>
                      <a:lnTo>
                        <a:pt x="627" y="864"/>
                      </a:lnTo>
                      <a:lnTo>
                        <a:pt x="674" y="815"/>
                      </a:lnTo>
                      <a:lnTo>
                        <a:pt x="688" y="797"/>
                      </a:lnTo>
                      <a:lnTo>
                        <a:pt x="702" y="772"/>
                      </a:lnTo>
                      <a:lnTo>
                        <a:pt x="711" y="754"/>
                      </a:lnTo>
                      <a:lnTo>
                        <a:pt x="716" y="748"/>
                      </a:lnTo>
                      <a:lnTo>
                        <a:pt x="726" y="718"/>
                      </a:lnTo>
                      <a:lnTo>
                        <a:pt x="740" y="693"/>
                      </a:lnTo>
                      <a:lnTo>
                        <a:pt x="758" y="675"/>
                      </a:lnTo>
                      <a:lnTo>
                        <a:pt x="782" y="657"/>
                      </a:lnTo>
                      <a:lnTo>
                        <a:pt x="796" y="620"/>
                      </a:lnTo>
                      <a:lnTo>
                        <a:pt x="805" y="590"/>
                      </a:lnTo>
                      <a:lnTo>
                        <a:pt x="814" y="566"/>
                      </a:lnTo>
                      <a:lnTo>
                        <a:pt x="829" y="541"/>
                      </a:lnTo>
                      <a:lnTo>
                        <a:pt x="843" y="523"/>
                      </a:lnTo>
                      <a:lnTo>
                        <a:pt x="847" y="517"/>
                      </a:lnTo>
                      <a:lnTo>
                        <a:pt x="857" y="505"/>
                      </a:lnTo>
                      <a:lnTo>
                        <a:pt x="861" y="486"/>
                      </a:lnTo>
                      <a:lnTo>
                        <a:pt x="875" y="468"/>
                      </a:lnTo>
                      <a:lnTo>
                        <a:pt x="889" y="444"/>
                      </a:lnTo>
                      <a:lnTo>
                        <a:pt x="899" y="426"/>
                      </a:lnTo>
                      <a:lnTo>
                        <a:pt x="903" y="419"/>
                      </a:lnTo>
                      <a:lnTo>
                        <a:pt x="922" y="383"/>
                      </a:lnTo>
                      <a:lnTo>
                        <a:pt x="946" y="346"/>
                      </a:lnTo>
                      <a:lnTo>
                        <a:pt x="964" y="316"/>
                      </a:lnTo>
                      <a:lnTo>
                        <a:pt x="983" y="280"/>
                      </a:lnTo>
                      <a:lnTo>
                        <a:pt x="988" y="261"/>
                      </a:lnTo>
                      <a:lnTo>
                        <a:pt x="992" y="249"/>
                      </a:lnTo>
                      <a:lnTo>
                        <a:pt x="997" y="237"/>
                      </a:lnTo>
                      <a:lnTo>
                        <a:pt x="1011" y="219"/>
                      </a:lnTo>
                      <a:lnTo>
                        <a:pt x="1025" y="200"/>
                      </a:lnTo>
                      <a:lnTo>
                        <a:pt x="1039" y="176"/>
                      </a:lnTo>
                      <a:lnTo>
                        <a:pt x="1044" y="164"/>
                      </a:lnTo>
                      <a:lnTo>
                        <a:pt x="1063" y="146"/>
                      </a:lnTo>
                      <a:lnTo>
                        <a:pt x="1077" y="121"/>
                      </a:lnTo>
                      <a:lnTo>
                        <a:pt x="1081" y="115"/>
                      </a:lnTo>
                      <a:lnTo>
                        <a:pt x="1081" y="109"/>
                      </a:lnTo>
                      <a:lnTo>
                        <a:pt x="1105" y="97"/>
                      </a:lnTo>
                      <a:lnTo>
                        <a:pt x="1119" y="85"/>
                      </a:lnTo>
                      <a:lnTo>
                        <a:pt x="1133" y="79"/>
                      </a:lnTo>
                      <a:lnTo>
                        <a:pt x="1138" y="73"/>
                      </a:lnTo>
                      <a:lnTo>
                        <a:pt x="1152" y="60"/>
                      </a:lnTo>
                      <a:lnTo>
                        <a:pt x="1161" y="54"/>
                      </a:lnTo>
                      <a:lnTo>
                        <a:pt x="1180" y="42"/>
                      </a:lnTo>
                      <a:lnTo>
                        <a:pt x="1208" y="30"/>
                      </a:lnTo>
                      <a:lnTo>
                        <a:pt x="1241" y="24"/>
                      </a:lnTo>
                      <a:lnTo>
                        <a:pt x="1269" y="18"/>
                      </a:lnTo>
                      <a:lnTo>
                        <a:pt x="1292" y="0"/>
                      </a:lnTo>
                    </a:path>
                  </a:pathLst>
                </a:custGeom>
                <a:noFill/>
                <a:ln cap="rnd" w="127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736880" y="3579480"/>
                  <a:ext cx="1985760" cy="1987200"/>
                </a:xfrm>
                <a:custGeom>
                  <a:avLst/>
                  <a:gdLst/>
                  <a:ahLst/>
                  <a:rect l="l" t="t" r="r" b="b"/>
                  <a:pathLst>
                    <a:path w="1251" h="1252">
                      <a:moveTo>
                        <a:pt x="1250" y="1251"/>
                      </a:moveTo>
                      <a:lnTo>
                        <a:pt x="1183" y="1239"/>
                      </a:lnTo>
                      <a:lnTo>
                        <a:pt x="1123" y="1227"/>
                      </a:lnTo>
                      <a:lnTo>
                        <a:pt x="996" y="1190"/>
                      </a:lnTo>
                      <a:lnTo>
                        <a:pt x="936" y="1160"/>
                      </a:lnTo>
                      <a:lnTo>
                        <a:pt x="876" y="1124"/>
                      </a:lnTo>
                      <a:lnTo>
                        <a:pt x="842" y="1105"/>
                      </a:lnTo>
                      <a:lnTo>
                        <a:pt x="809" y="1081"/>
                      </a:lnTo>
                      <a:lnTo>
                        <a:pt x="802" y="1069"/>
                      </a:lnTo>
                      <a:lnTo>
                        <a:pt x="796" y="1057"/>
                      </a:lnTo>
                      <a:lnTo>
                        <a:pt x="789" y="1045"/>
                      </a:lnTo>
                      <a:lnTo>
                        <a:pt x="782" y="1039"/>
                      </a:lnTo>
                      <a:lnTo>
                        <a:pt x="755" y="1020"/>
                      </a:lnTo>
                      <a:lnTo>
                        <a:pt x="682" y="917"/>
                      </a:lnTo>
                      <a:lnTo>
                        <a:pt x="595" y="820"/>
                      </a:lnTo>
                      <a:lnTo>
                        <a:pt x="582" y="802"/>
                      </a:lnTo>
                      <a:lnTo>
                        <a:pt x="568" y="778"/>
                      </a:lnTo>
                      <a:lnTo>
                        <a:pt x="562" y="753"/>
                      </a:lnTo>
                      <a:lnTo>
                        <a:pt x="555" y="747"/>
                      </a:lnTo>
                      <a:lnTo>
                        <a:pt x="542" y="717"/>
                      </a:lnTo>
                      <a:lnTo>
                        <a:pt x="535" y="699"/>
                      </a:lnTo>
                      <a:lnTo>
                        <a:pt x="515" y="680"/>
                      </a:lnTo>
                      <a:lnTo>
                        <a:pt x="488" y="662"/>
                      </a:lnTo>
                      <a:lnTo>
                        <a:pt x="468" y="589"/>
                      </a:lnTo>
                      <a:lnTo>
                        <a:pt x="461" y="571"/>
                      </a:lnTo>
                      <a:lnTo>
                        <a:pt x="448" y="547"/>
                      </a:lnTo>
                      <a:lnTo>
                        <a:pt x="435" y="529"/>
                      </a:lnTo>
                      <a:lnTo>
                        <a:pt x="428" y="523"/>
                      </a:lnTo>
                      <a:lnTo>
                        <a:pt x="421" y="504"/>
                      </a:lnTo>
                      <a:lnTo>
                        <a:pt x="415" y="486"/>
                      </a:lnTo>
                      <a:lnTo>
                        <a:pt x="401" y="468"/>
                      </a:lnTo>
                      <a:lnTo>
                        <a:pt x="388" y="444"/>
                      </a:lnTo>
                      <a:lnTo>
                        <a:pt x="381" y="425"/>
                      </a:lnTo>
                      <a:lnTo>
                        <a:pt x="375" y="419"/>
                      </a:lnTo>
                      <a:lnTo>
                        <a:pt x="354" y="383"/>
                      </a:lnTo>
                      <a:lnTo>
                        <a:pt x="334" y="353"/>
                      </a:lnTo>
                      <a:lnTo>
                        <a:pt x="314" y="322"/>
                      </a:lnTo>
                      <a:lnTo>
                        <a:pt x="301" y="286"/>
                      </a:lnTo>
                      <a:lnTo>
                        <a:pt x="294" y="268"/>
                      </a:lnTo>
                      <a:lnTo>
                        <a:pt x="288" y="255"/>
                      </a:lnTo>
                      <a:lnTo>
                        <a:pt x="281" y="243"/>
                      </a:lnTo>
                      <a:lnTo>
                        <a:pt x="268" y="225"/>
                      </a:lnTo>
                      <a:lnTo>
                        <a:pt x="261" y="207"/>
                      </a:lnTo>
                      <a:lnTo>
                        <a:pt x="241" y="183"/>
                      </a:lnTo>
                      <a:lnTo>
                        <a:pt x="234" y="170"/>
                      </a:lnTo>
                      <a:lnTo>
                        <a:pt x="221" y="152"/>
                      </a:lnTo>
                      <a:lnTo>
                        <a:pt x="207" y="128"/>
                      </a:lnTo>
                      <a:lnTo>
                        <a:pt x="201" y="122"/>
                      </a:lnTo>
                      <a:lnTo>
                        <a:pt x="201" y="116"/>
                      </a:lnTo>
                      <a:lnTo>
                        <a:pt x="181" y="98"/>
                      </a:lnTo>
                      <a:lnTo>
                        <a:pt x="161" y="85"/>
                      </a:lnTo>
                      <a:lnTo>
                        <a:pt x="147" y="73"/>
                      </a:lnTo>
                      <a:lnTo>
                        <a:pt x="134" y="67"/>
                      </a:lnTo>
                      <a:lnTo>
                        <a:pt x="121" y="55"/>
                      </a:lnTo>
                      <a:lnTo>
                        <a:pt x="107" y="43"/>
                      </a:lnTo>
                      <a:lnTo>
                        <a:pt x="80" y="31"/>
                      </a:lnTo>
                      <a:lnTo>
                        <a:pt x="54" y="25"/>
                      </a:lnTo>
                      <a:lnTo>
                        <a:pt x="27" y="19"/>
                      </a:lnTo>
                      <a:lnTo>
                        <a:pt x="0" y="0"/>
                      </a:lnTo>
                    </a:path>
                  </a:pathLst>
                </a:custGeom>
                <a:noFill/>
                <a:ln cap="rnd" w="127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2709720" y="3684240"/>
                <a:ext cx="3984120" cy="1953720"/>
                <a:chOff x="2709720" y="3684240"/>
                <a:chExt cx="3984120" cy="1953720"/>
              </a:xfrm>
            </p:grpSpPr>
            <p:sp>
              <p:nvSpPr>
                <p:cNvPr id="112" name=""/>
                <p:cNvSpPr/>
                <p:nvPr/>
              </p:nvSpPr>
              <p:spPr>
                <a:xfrm>
                  <a:off x="4770000" y="3684240"/>
                  <a:ext cx="0" cy="1928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709720" y="5637960"/>
                  <a:ext cx="3984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4" name=""/>
            <p:cNvSpPr/>
            <p:nvPr/>
          </p:nvSpPr>
          <p:spPr>
            <a:xfrm flipH="1">
              <a:off x="2658600" y="6019560"/>
              <a:ext cx="40863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939360" y="5703840"/>
              <a:ext cx="1059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NK</a:t>
              </a:r>
              <a:endParaRPr b="0" lang="en-US" sz="2400" spc="-1" strike="noStrike">
                <a:solidFill>
                  <a:srgbClr val="000000"/>
                </a:solidFill>
                <a:latin typeface="Times New Roman"/>
              </a:endParaRPr>
            </a:p>
          </p:txBody>
        </p:sp>
        <p:sp>
          <p:nvSpPr>
            <p:cNvPr id="116" name=""/>
            <p:cNvSpPr/>
            <p:nvPr/>
          </p:nvSpPr>
          <p:spPr>
            <a:xfrm>
              <a:off x="7197840" y="1960560"/>
              <a:ext cx="1655640" cy="553680"/>
            </a:xfrm>
            <a:prstGeom prst="rect">
              <a:avLst/>
            </a:prstGeom>
            <a:solidFill>
              <a:srgbClr val="88aa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455960" y="1989000"/>
              <a:ext cx="1077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MS</a:t>
              </a:r>
              <a:endParaRPr b="0" lang="en-US" sz="2400" spc="-1" strike="noStrike">
                <a:solidFill>
                  <a:srgbClr val="000000"/>
                </a:solidFill>
                <a:latin typeface="Times New Roman"/>
              </a:endParaRPr>
            </a:p>
          </p:txBody>
        </p:sp>
        <p:grpSp>
          <p:nvGrpSpPr>
            <p:cNvPr id="118" name=""/>
            <p:cNvGrpSpPr/>
            <p:nvPr/>
          </p:nvGrpSpPr>
          <p:grpSpPr>
            <a:xfrm>
              <a:off x="7101000" y="4779720"/>
              <a:ext cx="1757160" cy="553680"/>
              <a:chOff x="7101000" y="4779720"/>
              <a:chExt cx="1757160" cy="553680"/>
            </a:xfrm>
          </p:grpSpPr>
          <p:sp>
            <p:nvSpPr>
              <p:cNvPr id="119" name=""/>
              <p:cNvSpPr/>
              <p:nvPr/>
            </p:nvSpPr>
            <p:spPr>
              <a:xfrm>
                <a:off x="7101000" y="4779720"/>
                <a:ext cx="1757160" cy="553680"/>
              </a:xfrm>
              <a:prstGeom prst="rect">
                <a:avLst/>
              </a:prstGeom>
              <a:solidFill>
                <a:srgbClr val="88aa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139160" y="4865040"/>
                <a:ext cx="1703880" cy="454680"/>
              </a:xfrm>
              <a:prstGeom prst="rect">
                <a:avLst/>
              </a:prstGeom>
              <a:solidFill>
                <a:srgbClr val="88aaf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GENY</a:t>
                </a:r>
                <a:endParaRPr b="0" lang="en-US" sz="2400" spc="-1" strike="noStrike">
                  <a:solidFill>
                    <a:srgbClr val="000000"/>
                  </a:solidFill>
                  <a:latin typeface="Times New Roman"/>
                </a:endParaRPr>
              </a:p>
            </p:txBody>
          </p:sp>
        </p:grpSp>
        <p:sp>
          <p:nvSpPr>
            <p:cNvPr id="121" name=""/>
            <p:cNvSpPr/>
            <p:nvPr/>
          </p:nvSpPr>
          <p:spPr>
            <a:xfrm flipH="1" rot="16200000">
              <a:off x="6986880" y="3390480"/>
              <a:ext cx="1980720" cy="533520"/>
            </a:xfrm>
            <a:prstGeom prst="rightArrow">
              <a:avLst>
                <a:gd name="adj1" fmla="val 50000"/>
                <a:gd name="adj2" fmla="val 9288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86600" y="5790960"/>
              <a:ext cx="349200" cy="380880"/>
            </a:xfrm>
            <a:prstGeom prst="ellipse">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11320" y="3427200"/>
              <a:ext cx="916200" cy="1071360"/>
            </a:xfrm>
            <a:custGeom>
              <a:avLst/>
              <a:gdLst/>
              <a:ahLst/>
              <a:rect l="l" t="t" r="r" b="b"/>
              <a:pathLst>
                <a:path w="577" h="675">
                  <a:moveTo>
                    <a:pt x="576" y="484"/>
                  </a:moveTo>
                  <a:lnTo>
                    <a:pt x="403" y="674"/>
                  </a:lnTo>
                  <a:lnTo>
                    <a:pt x="403" y="584"/>
                  </a:lnTo>
                  <a:lnTo>
                    <a:pt x="331" y="584"/>
                  </a:lnTo>
                  <a:lnTo>
                    <a:pt x="264" y="579"/>
                  </a:lnTo>
                  <a:lnTo>
                    <a:pt x="203" y="559"/>
                  </a:lnTo>
                  <a:lnTo>
                    <a:pt x="147" y="534"/>
                  </a:lnTo>
                  <a:lnTo>
                    <a:pt x="98" y="499"/>
                  </a:lnTo>
                  <a:lnTo>
                    <a:pt x="56" y="454"/>
                  </a:lnTo>
                  <a:lnTo>
                    <a:pt x="26" y="409"/>
                  </a:lnTo>
                  <a:lnTo>
                    <a:pt x="8" y="354"/>
                  </a:lnTo>
                  <a:lnTo>
                    <a:pt x="0" y="294"/>
                  </a:lnTo>
                  <a:lnTo>
                    <a:pt x="0" y="0"/>
                  </a:lnTo>
                  <a:lnTo>
                    <a:pt x="173" y="0"/>
                  </a:lnTo>
                  <a:lnTo>
                    <a:pt x="173" y="294"/>
                  </a:lnTo>
                  <a:lnTo>
                    <a:pt x="177" y="314"/>
                  </a:lnTo>
                  <a:lnTo>
                    <a:pt x="184" y="329"/>
                  </a:lnTo>
                  <a:lnTo>
                    <a:pt x="200" y="344"/>
                  </a:lnTo>
                  <a:lnTo>
                    <a:pt x="218" y="359"/>
                  </a:lnTo>
                  <a:lnTo>
                    <a:pt x="245" y="369"/>
                  </a:lnTo>
                  <a:lnTo>
                    <a:pt x="271" y="379"/>
                  </a:lnTo>
                  <a:lnTo>
                    <a:pt x="331" y="384"/>
                  </a:lnTo>
                  <a:lnTo>
                    <a:pt x="403" y="384"/>
                  </a:lnTo>
                  <a:lnTo>
                    <a:pt x="403" y="294"/>
                  </a:lnTo>
                  <a:lnTo>
                    <a:pt x="576" y="484"/>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913360" y="5790960"/>
              <a:ext cx="349200" cy="380880"/>
            </a:xfrm>
            <a:prstGeom prst="ellipse">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272200" y="5790960"/>
              <a:ext cx="349200" cy="380880"/>
            </a:xfrm>
            <a:prstGeom prst="ellipse">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662360" y="5790960"/>
              <a:ext cx="349200" cy="380880"/>
            </a:xfrm>
            <a:prstGeom prst="ellipse">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909880" y="5790960"/>
              <a:ext cx="349200" cy="38088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094200" y="5790960"/>
              <a:ext cx="349200" cy="38088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29200" y="5790960"/>
              <a:ext cx="349200" cy="38088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923000" y="5790960"/>
              <a:ext cx="349200" cy="38088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007280" y="4395600"/>
              <a:ext cx="28818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What % of superior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is passed to progeny?</a:t>
              </a:r>
              <a:endParaRPr b="0" lang="en-US" sz="2000" spc="-1" strike="noStrike">
                <a:solidFill>
                  <a:srgbClr val="000000"/>
                </a:solidFill>
                <a:latin typeface="Times New Roman"/>
              </a:endParaRPr>
            </a:p>
          </p:txBody>
        </p:sp>
        <p:sp>
          <p:nvSpPr>
            <p:cNvPr id="132" name=""/>
            <p:cNvSpPr/>
            <p:nvPr/>
          </p:nvSpPr>
          <p:spPr>
            <a:xfrm>
              <a:off x="3994560" y="1284120"/>
              <a:ext cx="5155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But what % is due to </a:t>
              </a:r>
              <a:r>
                <a:rPr b="1" i="1" lang="en-GB" sz="2000" spc="-1" strike="noStrike" u="sng">
                  <a:solidFill>
                    <a:srgbClr val="ffffff"/>
                  </a:solidFill>
                  <a:uFillTx/>
                  <a:latin typeface="Arial"/>
                </a:rPr>
                <a:t>GENETIC</a:t>
              </a:r>
              <a:r>
                <a:rPr b="1" i="1" lang="en-GB" sz="2000" spc="-1" strike="noStrike">
                  <a:solidFill>
                    <a:srgbClr val="ffffff"/>
                  </a:solidFill>
                  <a:latin typeface="Arial"/>
                </a:rPr>
                <a:t> variation?</a:t>
              </a:r>
              <a:endParaRPr b="0" lang="en-US" sz="2000" spc="-1" strike="noStrike">
                <a:solidFill>
                  <a:srgbClr val="000000"/>
                </a:solidFill>
                <a:latin typeface="Times New Roman"/>
              </a:endParaRPr>
            </a:p>
          </p:txBody>
        </p:sp>
      </p:grpSp>
      <p:sp>
        <p:nvSpPr>
          <p:cNvPr id="13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eritability</a:t>
            </a:r>
            <a:endParaRPr b="1" lang="en-US" sz="3200" spc="-1" strike="noStrike">
              <a:solidFill>
                <a:srgbClr val="fafd00"/>
              </a:solidFill>
              <a:latin typeface="Arial"/>
            </a:endParaRPr>
          </a:p>
        </p:txBody>
      </p:sp>
      <p:sp>
        <p:nvSpPr>
          <p:cNvPr id="134" name=""/>
          <p:cNvSpPr/>
          <p:nvPr/>
        </p:nvSpPr>
        <p:spPr>
          <a:xfrm>
            <a:off x="807696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35" name=""/>
          <p:cNvGrpSpPr/>
          <p:nvPr/>
        </p:nvGrpSpPr>
        <p:grpSpPr>
          <a:xfrm>
            <a:off x="1097280" y="990720"/>
            <a:ext cx="7591680" cy="5255280"/>
            <a:chOff x="1097280" y="990720"/>
            <a:chExt cx="7591680" cy="5255280"/>
          </a:xfrm>
        </p:grpSpPr>
        <p:grpSp>
          <p:nvGrpSpPr>
            <p:cNvPr id="136" name=""/>
            <p:cNvGrpSpPr/>
            <p:nvPr/>
          </p:nvGrpSpPr>
          <p:grpSpPr>
            <a:xfrm>
              <a:off x="1287360" y="1608120"/>
              <a:ext cx="4424400" cy="1527120"/>
              <a:chOff x="1287360" y="1608120"/>
              <a:chExt cx="4424400" cy="1527120"/>
            </a:xfrm>
          </p:grpSpPr>
          <p:grpSp>
            <p:nvGrpSpPr>
              <p:cNvPr id="137" name=""/>
              <p:cNvGrpSpPr/>
              <p:nvPr/>
            </p:nvGrpSpPr>
            <p:grpSpPr>
              <a:xfrm>
                <a:off x="1287360" y="1608120"/>
                <a:ext cx="4424400" cy="1486080"/>
                <a:chOff x="1287360" y="1608120"/>
                <a:chExt cx="4424400" cy="1486080"/>
              </a:xfrm>
            </p:grpSpPr>
            <p:sp>
              <p:nvSpPr>
                <p:cNvPr id="138" name=""/>
                <p:cNvSpPr/>
                <p:nvPr/>
              </p:nvSpPr>
              <p:spPr>
                <a:xfrm>
                  <a:off x="1287360" y="1620720"/>
                  <a:ext cx="2251080" cy="1473480"/>
                </a:xfrm>
                <a:custGeom>
                  <a:avLst/>
                  <a:gdLst/>
                  <a:ahLst/>
                  <a:rect l="l" t="t" r="r" b="b"/>
                  <a:pathLst>
                    <a:path w="1418" h="928">
                      <a:moveTo>
                        <a:pt x="0" y="927"/>
                      </a:moveTo>
                      <a:lnTo>
                        <a:pt x="75" y="917"/>
                      </a:lnTo>
                      <a:lnTo>
                        <a:pt x="147" y="907"/>
                      </a:lnTo>
                      <a:lnTo>
                        <a:pt x="291" y="884"/>
                      </a:lnTo>
                      <a:lnTo>
                        <a:pt x="356" y="857"/>
                      </a:lnTo>
                      <a:lnTo>
                        <a:pt x="389" y="844"/>
                      </a:lnTo>
                      <a:lnTo>
                        <a:pt x="425" y="834"/>
                      </a:lnTo>
                      <a:lnTo>
                        <a:pt x="444" y="827"/>
                      </a:lnTo>
                      <a:lnTo>
                        <a:pt x="464" y="820"/>
                      </a:lnTo>
                      <a:lnTo>
                        <a:pt x="480" y="810"/>
                      </a:lnTo>
                      <a:lnTo>
                        <a:pt x="497" y="800"/>
                      </a:lnTo>
                      <a:lnTo>
                        <a:pt x="506" y="790"/>
                      </a:lnTo>
                      <a:lnTo>
                        <a:pt x="513" y="784"/>
                      </a:lnTo>
                      <a:lnTo>
                        <a:pt x="523" y="774"/>
                      </a:lnTo>
                      <a:lnTo>
                        <a:pt x="526" y="774"/>
                      </a:lnTo>
                      <a:lnTo>
                        <a:pt x="532" y="770"/>
                      </a:lnTo>
                      <a:lnTo>
                        <a:pt x="542" y="764"/>
                      </a:lnTo>
                      <a:lnTo>
                        <a:pt x="559" y="757"/>
                      </a:lnTo>
                      <a:lnTo>
                        <a:pt x="598" y="717"/>
                      </a:lnTo>
                      <a:lnTo>
                        <a:pt x="643" y="677"/>
                      </a:lnTo>
                      <a:lnTo>
                        <a:pt x="689" y="643"/>
                      </a:lnTo>
                      <a:lnTo>
                        <a:pt x="738" y="607"/>
                      </a:lnTo>
                      <a:lnTo>
                        <a:pt x="754" y="593"/>
                      </a:lnTo>
                      <a:lnTo>
                        <a:pt x="771" y="577"/>
                      </a:lnTo>
                      <a:lnTo>
                        <a:pt x="784" y="563"/>
                      </a:lnTo>
                      <a:lnTo>
                        <a:pt x="787" y="560"/>
                      </a:lnTo>
                      <a:lnTo>
                        <a:pt x="787" y="557"/>
                      </a:lnTo>
                      <a:lnTo>
                        <a:pt x="800" y="537"/>
                      </a:lnTo>
                      <a:lnTo>
                        <a:pt x="813" y="520"/>
                      </a:lnTo>
                      <a:lnTo>
                        <a:pt x="833" y="503"/>
                      </a:lnTo>
                      <a:lnTo>
                        <a:pt x="859" y="490"/>
                      </a:lnTo>
                      <a:lnTo>
                        <a:pt x="872" y="463"/>
                      </a:lnTo>
                      <a:lnTo>
                        <a:pt x="882" y="437"/>
                      </a:lnTo>
                      <a:lnTo>
                        <a:pt x="895" y="423"/>
                      </a:lnTo>
                      <a:lnTo>
                        <a:pt x="911" y="407"/>
                      </a:lnTo>
                      <a:lnTo>
                        <a:pt x="927" y="393"/>
                      </a:lnTo>
                      <a:lnTo>
                        <a:pt x="931" y="387"/>
                      </a:lnTo>
                      <a:lnTo>
                        <a:pt x="934" y="387"/>
                      </a:lnTo>
                      <a:lnTo>
                        <a:pt x="937" y="377"/>
                      </a:lnTo>
                      <a:lnTo>
                        <a:pt x="944" y="363"/>
                      </a:lnTo>
                      <a:lnTo>
                        <a:pt x="957" y="350"/>
                      </a:lnTo>
                      <a:lnTo>
                        <a:pt x="973" y="333"/>
                      </a:lnTo>
                      <a:lnTo>
                        <a:pt x="986" y="320"/>
                      </a:lnTo>
                      <a:lnTo>
                        <a:pt x="993" y="313"/>
                      </a:lnTo>
                      <a:lnTo>
                        <a:pt x="1009" y="286"/>
                      </a:lnTo>
                      <a:lnTo>
                        <a:pt x="1035" y="260"/>
                      </a:lnTo>
                      <a:lnTo>
                        <a:pt x="1058" y="236"/>
                      </a:lnTo>
                      <a:lnTo>
                        <a:pt x="1078" y="210"/>
                      </a:lnTo>
                      <a:lnTo>
                        <a:pt x="1084" y="196"/>
                      </a:lnTo>
                      <a:lnTo>
                        <a:pt x="1087" y="190"/>
                      </a:lnTo>
                      <a:lnTo>
                        <a:pt x="1094" y="180"/>
                      </a:lnTo>
                      <a:lnTo>
                        <a:pt x="1100" y="173"/>
                      </a:lnTo>
                      <a:lnTo>
                        <a:pt x="1107" y="166"/>
                      </a:lnTo>
                      <a:lnTo>
                        <a:pt x="1120" y="153"/>
                      </a:lnTo>
                      <a:lnTo>
                        <a:pt x="1140" y="136"/>
                      </a:lnTo>
                      <a:lnTo>
                        <a:pt x="1143" y="133"/>
                      </a:lnTo>
                      <a:lnTo>
                        <a:pt x="1146" y="126"/>
                      </a:lnTo>
                      <a:lnTo>
                        <a:pt x="1162" y="110"/>
                      </a:lnTo>
                      <a:lnTo>
                        <a:pt x="1179" y="93"/>
                      </a:lnTo>
                      <a:lnTo>
                        <a:pt x="1182" y="90"/>
                      </a:lnTo>
                      <a:lnTo>
                        <a:pt x="1185" y="86"/>
                      </a:lnTo>
                      <a:lnTo>
                        <a:pt x="1211" y="73"/>
                      </a:lnTo>
                      <a:lnTo>
                        <a:pt x="1231" y="66"/>
                      </a:lnTo>
                      <a:lnTo>
                        <a:pt x="1241" y="60"/>
                      </a:lnTo>
                      <a:lnTo>
                        <a:pt x="1251" y="56"/>
                      </a:lnTo>
                      <a:lnTo>
                        <a:pt x="1257" y="53"/>
                      </a:lnTo>
                      <a:lnTo>
                        <a:pt x="1264" y="50"/>
                      </a:lnTo>
                      <a:lnTo>
                        <a:pt x="1277" y="43"/>
                      </a:lnTo>
                      <a:lnTo>
                        <a:pt x="1296" y="33"/>
                      </a:lnTo>
                      <a:lnTo>
                        <a:pt x="1326" y="23"/>
                      </a:lnTo>
                      <a:lnTo>
                        <a:pt x="1358" y="20"/>
                      </a:lnTo>
                      <a:lnTo>
                        <a:pt x="1391" y="13"/>
                      </a:lnTo>
                      <a:lnTo>
                        <a:pt x="1404" y="10"/>
                      </a:lnTo>
                      <a:lnTo>
                        <a:pt x="1417" y="0"/>
                      </a:lnTo>
                    </a:path>
                  </a:pathLst>
                </a:custGeom>
                <a:noFill/>
                <a:ln cap="rnd" w="127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537000" y="1608120"/>
                  <a:ext cx="2174760" cy="1474920"/>
                </a:xfrm>
                <a:custGeom>
                  <a:avLst/>
                  <a:gdLst/>
                  <a:ahLst/>
                  <a:rect l="l" t="t" r="r" b="b"/>
                  <a:pathLst>
                    <a:path w="1370" h="929">
                      <a:moveTo>
                        <a:pt x="1369" y="928"/>
                      </a:moveTo>
                      <a:lnTo>
                        <a:pt x="1227" y="908"/>
                      </a:lnTo>
                      <a:lnTo>
                        <a:pt x="1085" y="885"/>
                      </a:lnTo>
                      <a:lnTo>
                        <a:pt x="1025" y="858"/>
                      </a:lnTo>
                      <a:lnTo>
                        <a:pt x="993" y="845"/>
                      </a:lnTo>
                      <a:lnTo>
                        <a:pt x="960" y="835"/>
                      </a:lnTo>
                      <a:lnTo>
                        <a:pt x="938" y="825"/>
                      </a:lnTo>
                      <a:lnTo>
                        <a:pt x="922" y="818"/>
                      </a:lnTo>
                      <a:lnTo>
                        <a:pt x="905" y="812"/>
                      </a:lnTo>
                      <a:lnTo>
                        <a:pt x="889" y="802"/>
                      </a:lnTo>
                      <a:lnTo>
                        <a:pt x="878" y="792"/>
                      </a:lnTo>
                      <a:lnTo>
                        <a:pt x="873" y="785"/>
                      </a:lnTo>
                      <a:lnTo>
                        <a:pt x="867" y="775"/>
                      </a:lnTo>
                      <a:lnTo>
                        <a:pt x="856" y="772"/>
                      </a:lnTo>
                      <a:lnTo>
                        <a:pt x="845" y="765"/>
                      </a:lnTo>
                      <a:lnTo>
                        <a:pt x="829" y="758"/>
                      </a:lnTo>
                      <a:lnTo>
                        <a:pt x="791" y="719"/>
                      </a:lnTo>
                      <a:lnTo>
                        <a:pt x="747" y="679"/>
                      </a:lnTo>
                      <a:lnTo>
                        <a:pt x="654" y="605"/>
                      </a:lnTo>
                      <a:lnTo>
                        <a:pt x="638" y="592"/>
                      </a:lnTo>
                      <a:lnTo>
                        <a:pt x="622" y="576"/>
                      </a:lnTo>
                      <a:lnTo>
                        <a:pt x="611" y="562"/>
                      </a:lnTo>
                      <a:lnTo>
                        <a:pt x="605" y="559"/>
                      </a:lnTo>
                      <a:lnTo>
                        <a:pt x="605" y="556"/>
                      </a:lnTo>
                      <a:lnTo>
                        <a:pt x="594" y="536"/>
                      </a:lnTo>
                      <a:lnTo>
                        <a:pt x="584" y="519"/>
                      </a:lnTo>
                      <a:lnTo>
                        <a:pt x="562" y="502"/>
                      </a:lnTo>
                      <a:lnTo>
                        <a:pt x="534" y="489"/>
                      </a:lnTo>
                      <a:lnTo>
                        <a:pt x="524" y="466"/>
                      </a:lnTo>
                      <a:lnTo>
                        <a:pt x="513" y="439"/>
                      </a:lnTo>
                      <a:lnTo>
                        <a:pt x="502" y="423"/>
                      </a:lnTo>
                      <a:lnTo>
                        <a:pt x="491" y="406"/>
                      </a:lnTo>
                      <a:lnTo>
                        <a:pt x="474" y="396"/>
                      </a:lnTo>
                      <a:lnTo>
                        <a:pt x="469" y="389"/>
                      </a:lnTo>
                      <a:lnTo>
                        <a:pt x="464" y="376"/>
                      </a:lnTo>
                      <a:lnTo>
                        <a:pt x="453" y="363"/>
                      </a:lnTo>
                      <a:lnTo>
                        <a:pt x="442" y="349"/>
                      </a:lnTo>
                      <a:lnTo>
                        <a:pt x="425" y="333"/>
                      </a:lnTo>
                      <a:lnTo>
                        <a:pt x="414" y="320"/>
                      </a:lnTo>
                      <a:lnTo>
                        <a:pt x="409" y="313"/>
                      </a:lnTo>
                      <a:lnTo>
                        <a:pt x="393" y="286"/>
                      </a:lnTo>
                      <a:lnTo>
                        <a:pt x="371" y="263"/>
                      </a:lnTo>
                      <a:lnTo>
                        <a:pt x="344" y="240"/>
                      </a:lnTo>
                      <a:lnTo>
                        <a:pt x="327" y="213"/>
                      </a:lnTo>
                      <a:lnTo>
                        <a:pt x="322" y="200"/>
                      </a:lnTo>
                      <a:lnTo>
                        <a:pt x="316" y="190"/>
                      </a:lnTo>
                      <a:lnTo>
                        <a:pt x="311" y="180"/>
                      </a:lnTo>
                      <a:lnTo>
                        <a:pt x="305" y="177"/>
                      </a:lnTo>
                      <a:lnTo>
                        <a:pt x="294" y="167"/>
                      </a:lnTo>
                      <a:lnTo>
                        <a:pt x="284" y="157"/>
                      </a:lnTo>
                      <a:lnTo>
                        <a:pt x="267" y="137"/>
                      </a:lnTo>
                      <a:lnTo>
                        <a:pt x="267" y="133"/>
                      </a:lnTo>
                      <a:lnTo>
                        <a:pt x="262" y="127"/>
                      </a:lnTo>
                      <a:lnTo>
                        <a:pt x="245" y="110"/>
                      </a:lnTo>
                      <a:lnTo>
                        <a:pt x="229" y="93"/>
                      </a:lnTo>
                      <a:lnTo>
                        <a:pt x="224" y="90"/>
                      </a:lnTo>
                      <a:lnTo>
                        <a:pt x="224" y="87"/>
                      </a:lnTo>
                      <a:lnTo>
                        <a:pt x="196" y="74"/>
                      </a:lnTo>
                      <a:lnTo>
                        <a:pt x="180" y="67"/>
                      </a:lnTo>
                      <a:lnTo>
                        <a:pt x="169" y="60"/>
                      </a:lnTo>
                      <a:lnTo>
                        <a:pt x="164" y="57"/>
                      </a:lnTo>
                      <a:lnTo>
                        <a:pt x="147" y="50"/>
                      </a:lnTo>
                      <a:lnTo>
                        <a:pt x="131" y="44"/>
                      </a:lnTo>
                      <a:lnTo>
                        <a:pt x="114" y="34"/>
                      </a:lnTo>
                      <a:lnTo>
                        <a:pt x="87" y="24"/>
                      </a:lnTo>
                      <a:lnTo>
                        <a:pt x="54" y="20"/>
                      </a:lnTo>
                      <a:lnTo>
                        <a:pt x="22" y="14"/>
                      </a:lnTo>
                      <a:lnTo>
                        <a:pt x="11" y="10"/>
                      </a:lnTo>
                      <a:lnTo>
                        <a:pt x="0" y="0"/>
                      </a:lnTo>
                    </a:path>
                  </a:pathLst>
                </a:custGeom>
                <a:noFill/>
                <a:ln cap="rnd" w="127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1317600" y="1695600"/>
                <a:ext cx="4365360" cy="1439640"/>
                <a:chOff x="1317600" y="1695600"/>
                <a:chExt cx="4365360" cy="1439640"/>
              </a:xfrm>
            </p:grpSpPr>
            <p:sp>
              <p:nvSpPr>
                <p:cNvPr id="141" name=""/>
                <p:cNvSpPr/>
                <p:nvPr/>
              </p:nvSpPr>
              <p:spPr>
                <a:xfrm>
                  <a:off x="3574800" y="1695600"/>
                  <a:ext cx="0" cy="1414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317600" y="3135240"/>
                  <a:ext cx="4365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1097280" y="990720"/>
              <a:ext cx="5536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henotypic variation in fleece weight</a:t>
              </a:r>
              <a:endParaRPr b="0" lang="en-US" sz="2400" spc="-1" strike="noStrike">
                <a:solidFill>
                  <a:srgbClr val="000000"/>
                </a:solidFill>
                <a:latin typeface="Times New Roman"/>
              </a:endParaRPr>
            </a:p>
          </p:txBody>
        </p:sp>
        <p:sp>
          <p:nvSpPr>
            <p:cNvPr id="144" name=""/>
            <p:cNvSpPr/>
            <p:nvPr/>
          </p:nvSpPr>
          <p:spPr>
            <a:xfrm>
              <a:off x="4794120" y="2754360"/>
              <a:ext cx="228600" cy="325440"/>
            </a:xfrm>
            <a:prstGeom prst="ellipse">
              <a:avLst/>
            </a:prstGeom>
            <a:solidFill>
              <a:srgbClr val="f9fd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022720" y="2809800"/>
              <a:ext cx="228600" cy="325440"/>
            </a:xfrm>
            <a:prstGeom prst="ellipse">
              <a:avLst/>
            </a:prstGeom>
            <a:solidFill>
              <a:srgbClr val="f9fd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251320" y="2830680"/>
              <a:ext cx="228600" cy="325440"/>
            </a:xfrm>
            <a:prstGeom prst="ellipse">
              <a:avLst/>
            </a:prstGeom>
            <a:solidFill>
              <a:srgbClr val="f9fd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479920" y="2830680"/>
              <a:ext cx="228600" cy="325440"/>
            </a:xfrm>
            <a:prstGeom prst="ellipse">
              <a:avLst/>
            </a:prstGeom>
            <a:solidFill>
              <a:srgbClr val="f9fd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70440" y="2906640"/>
              <a:ext cx="228600" cy="325440"/>
            </a:xfrm>
            <a:prstGeom prst="ellipse">
              <a:avLst/>
            </a:prstGeom>
            <a:solidFill>
              <a:srgbClr val="f9fd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099040" y="2906640"/>
              <a:ext cx="228600" cy="325440"/>
            </a:xfrm>
            <a:prstGeom prst="ellipse">
              <a:avLst/>
            </a:prstGeom>
            <a:solidFill>
              <a:srgbClr val="f9fd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327640" y="2906640"/>
              <a:ext cx="228600" cy="325440"/>
            </a:xfrm>
            <a:prstGeom prst="ellipse">
              <a:avLst/>
            </a:prstGeom>
            <a:solidFill>
              <a:srgbClr val="f9fd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641840" y="2906640"/>
              <a:ext cx="228600" cy="325440"/>
            </a:xfrm>
            <a:prstGeom prst="ellipse">
              <a:avLst/>
            </a:prstGeom>
            <a:solidFill>
              <a:srgbClr val="f9fd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4491000" y="3895560"/>
              <a:ext cx="1373040" cy="763920"/>
              <a:chOff x="4491000" y="3895560"/>
              <a:chExt cx="1373040" cy="763920"/>
            </a:xfrm>
          </p:grpSpPr>
          <p:grpSp>
            <p:nvGrpSpPr>
              <p:cNvPr id="153" name=""/>
              <p:cNvGrpSpPr/>
              <p:nvPr/>
            </p:nvGrpSpPr>
            <p:grpSpPr>
              <a:xfrm>
                <a:off x="4491000" y="3895560"/>
                <a:ext cx="1373040" cy="744480"/>
                <a:chOff x="4491000" y="3895560"/>
                <a:chExt cx="1373040" cy="744480"/>
              </a:xfrm>
            </p:grpSpPr>
            <p:sp>
              <p:nvSpPr>
                <p:cNvPr id="154" name=""/>
                <p:cNvSpPr/>
                <p:nvPr/>
              </p:nvSpPr>
              <p:spPr>
                <a:xfrm>
                  <a:off x="4491000" y="3900240"/>
                  <a:ext cx="698400" cy="739800"/>
                </a:xfrm>
                <a:custGeom>
                  <a:avLst/>
                  <a:gdLst/>
                  <a:ahLst/>
                  <a:rect l="l" t="t" r="r" b="b"/>
                  <a:pathLst>
                    <a:path w="440" h="466">
                      <a:moveTo>
                        <a:pt x="0" y="465"/>
                      </a:moveTo>
                      <a:lnTo>
                        <a:pt x="45" y="455"/>
                      </a:lnTo>
                      <a:lnTo>
                        <a:pt x="89" y="445"/>
                      </a:lnTo>
                      <a:lnTo>
                        <a:pt x="109" y="431"/>
                      </a:lnTo>
                      <a:lnTo>
                        <a:pt x="129" y="416"/>
                      </a:lnTo>
                      <a:lnTo>
                        <a:pt x="143" y="411"/>
                      </a:lnTo>
                      <a:lnTo>
                        <a:pt x="153" y="401"/>
                      </a:lnTo>
                      <a:lnTo>
                        <a:pt x="158" y="392"/>
                      </a:lnTo>
                      <a:lnTo>
                        <a:pt x="163" y="387"/>
                      </a:lnTo>
                      <a:lnTo>
                        <a:pt x="173" y="382"/>
                      </a:lnTo>
                      <a:lnTo>
                        <a:pt x="198" y="343"/>
                      </a:lnTo>
                      <a:lnTo>
                        <a:pt x="227" y="303"/>
                      </a:lnTo>
                      <a:lnTo>
                        <a:pt x="232" y="299"/>
                      </a:lnTo>
                      <a:lnTo>
                        <a:pt x="237" y="289"/>
                      </a:lnTo>
                      <a:lnTo>
                        <a:pt x="242" y="284"/>
                      </a:lnTo>
                      <a:lnTo>
                        <a:pt x="242" y="279"/>
                      </a:lnTo>
                      <a:lnTo>
                        <a:pt x="252" y="259"/>
                      </a:lnTo>
                      <a:lnTo>
                        <a:pt x="267" y="245"/>
                      </a:lnTo>
                      <a:lnTo>
                        <a:pt x="271" y="235"/>
                      </a:lnTo>
                      <a:lnTo>
                        <a:pt x="271" y="220"/>
                      </a:lnTo>
                      <a:lnTo>
                        <a:pt x="281" y="206"/>
                      </a:lnTo>
                      <a:lnTo>
                        <a:pt x="286" y="201"/>
                      </a:lnTo>
                      <a:lnTo>
                        <a:pt x="286" y="196"/>
                      </a:lnTo>
                      <a:lnTo>
                        <a:pt x="291" y="191"/>
                      </a:lnTo>
                      <a:lnTo>
                        <a:pt x="291" y="181"/>
                      </a:lnTo>
                      <a:lnTo>
                        <a:pt x="301" y="166"/>
                      </a:lnTo>
                      <a:lnTo>
                        <a:pt x="306" y="162"/>
                      </a:lnTo>
                      <a:lnTo>
                        <a:pt x="306" y="157"/>
                      </a:lnTo>
                      <a:lnTo>
                        <a:pt x="321" y="132"/>
                      </a:lnTo>
                      <a:lnTo>
                        <a:pt x="331" y="108"/>
                      </a:lnTo>
                      <a:lnTo>
                        <a:pt x="336" y="98"/>
                      </a:lnTo>
                      <a:lnTo>
                        <a:pt x="340" y="88"/>
                      </a:lnTo>
                      <a:lnTo>
                        <a:pt x="340" y="83"/>
                      </a:lnTo>
                      <a:lnTo>
                        <a:pt x="350" y="69"/>
                      </a:lnTo>
                      <a:lnTo>
                        <a:pt x="355" y="64"/>
                      </a:lnTo>
                      <a:lnTo>
                        <a:pt x="360" y="59"/>
                      </a:lnTo>
                      <a:lnTo>
                        <a:pt x="365" y="49"/>
                      </a:lnTo>
                      <a:lnTo>
                        <a:pt x="365" y="44"/>
                      </a:lnTo>
                      <a:lnTo>
                        <a:pt x="380" y="34"/>
                      </a:lnTo>
                      <a:lnTo>
                        <a:pt x="385" y="29"/>
                      </a:lnTo>
                      <a:lnTo>
                        <a:pt x="390" y="29"/>
                      </a:lnTo>
                      <a:lnTo>
                        <a:pt x="400" y="20"/>
                      </a:lnTo>
                      <a:lnTo>
                        <a:pt x="409" y="15"/>
                      </a:lnTo>
                      <a:lnTo>
                        <a:pt x="419" y="10"/>
                      </a:lnTo>
                      <a:lnTo>
                        <a:pt x="429" y="10"/>
                      </a:lnTo>
                      <a:lnTo>
                        <a:pt x="439" y="0"/>
                      </a:lnTo>
                    </a:path>
                  </a:pathLst>
                </a:custGeom>
                <a:noFill/>
                <a:ln cap="rnd" w="127080">
                  <a:solidFill>
                    <a:srgbClr val="eb84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186520" y="3895560"/>
                  <a:ext cx="677520" cy="739800"/>
                </a:xfrm>
                <a:custGeom>
                  <a:avLst/>
                  <a:gdLst/>
                  <a:ahLst/>
                  <a:rect l="l" t="t" r="r" b="b"/>
                  <a:pathLst>
                    <a:path w="427" h="466">
                      <a:moveTo>
                        <a:pt x="426" y="465"/>
                      </a:moveTo>
                      <a:lnTo>
                        <a:pt x="381" y="455"/>
                      </a:lnTo>
                      <a:lnTo>
                        <a:pt x="336" y="445"/>
                      </a:lnTo>
                      <a:lnTo>
                        <a:pt x="319" y="431"/>
                      </a:lnTo>
                      <a:lnTo>
                        <a:pt x="297" y="416"/>
                      </a:lnTo>
                      <a:lnTo>
                        <a:pt x="286" y="411"/>
                      </a:lnTo>
                      <a:lnTo>
                        <a:pt x="275" y="401"/>
                      </a:lnTo>
                      <a:lnTo>
                        <a:pt x="275" y="392"/>
                      </a:lnTo>
                      <a:lnTo>
                        <a:pt x="269" y="387"/>
                      </a:lnTo>
                      <a:lnTo>
                        <a:pt x="258" y="382"/>
                      </a:lnTo>
                      <a:lnTo>
                        <a:pt x="230" y="343"/>
                      </a:lnTo>
                      <a:lnTo>
                        <a:pt x="202" y="304"/>
                      </a:lnTo>
                      <a:lnTo>
                        <a:pt x="196" y="299"/>
                      </a:lnTo>
                      <a:lnTo>
                        <a:pt x="196" y="289"/>
                      </a:lnTo>
                      <a:lnTo>
                        <a:pt x="190" y="284"/>
                      </a:lnTo>
                      <a:lnTo>
                        <a:pt x="190" y="279"/>
                      </a:lnTo>
                      <a:lnTo>
                        <a:pt x="185" y="269"/>
                      </a:lnTo>
                      <a:lnTo>
                        <a:pt x="179" y="260"/>
                      </a:lnTo>
                      <a:lnTo>
                        <a:pt x="168" y="245"/>
                      </a:lnTo>
                      <a:lnTo>
                        <a:pt x="162" y="235"/>
                      </a:lnTo>
                      <a:lnTo>
                        <a:pt x="162" y="221"/>
                      </a:lnTo>
                      <a:lnTo>
                        <a:pt x="151" y="206"/>
                      </a:lnTo>
                      <a:lnTo>
                        <a:pt x="146" y="201"/>
                      </a:lnTo>
                      <a:lnTo>
                        <a:pt x="146" y="196"/>
                      </a:lnTo>
                      <a:lnTo>
                        <a:pt x="146" y="191"/>
                      </a:lnTo>
                      <a:lnTo>
                        <a:pt x="140" y="181"/>
                      </a:lnTo>
                      <a:lnTo>
                        <a:pt x="134" y="167"/>
                      </a:lnTo>
                      <a:lnTo>
                        <a:pt x="129" y="162"/>
                      </a:lnTo>
                      <a:lnTo>
                        <a:pt x="129" y="157"/>
                      </a:lnTo>
                      <a:lnTo>
                        <a:pt x="118" y="133"/>
                      </a:lnTo>
                      <a:lnTo>
                        <a:pt x="101" y="108"/>
                      </a:lnTo>
                      <a:lnTo>
                        <a:pt x="101" y="98"/>
                      </a:lnTo>
                      <a:lnTo>
                        <a:pt x="95" y="89"/>
                      </a:lnTo>
                      <a:lnTo>
                        <a:pt x="95" y="84"/>
                      </a:lnTo>
                      <a:lnTo>
                        <a:pt x="84" y="69"/>
                      </a:lnTo>
                      <a:lnTo>
                        <a:pt x="84" y="64"/>
                      </a:lnTo>
                      <a:lnTo>
                        <a:pt x="78" y="59"/>
                      </a:lnTo>
                      <a:lnTo>
                        <a:pt x="73" y="49"/>
                      </a:lnTo>
                      <a:lnTo>
                        <a:pt x="67" y="44"/>
                      </a:lnTo>
                      <a:lnTo>
                        <a:pt x="56" y="35"/>
                      </a:lnTo>
                      <a:lnTo>
                        <a:pt x="50" y="30"/>
                      </a:lnTo>
                      <a:lnTo>
                        <a:pt x="45" y="25"/>
                      </a:lnTo>
                      <a:lnTo>
                        <a:pt x="33" y="20"/>
                      </a:lnTo>
                      <a:lnTo>
                        <a:pt x="28" y="15"/>
                      </a:lnTo>
                      <a:lnTo>
                        <a:pt x="17" y="10"/>
                      </a:lnTo>
                      <a:lnTo>
                        <a:pt x="11" y="10"/>
                      </a:lnTo>
                      <a:lnTo>
                        <a:pt x="0" y="0"/>
                      </a:lnTo>
                    </a:path>
                  </a:pathLst>
                </a:custGeom>
                <a:noFill/>
                <a:ln cap="rnd" w="127080">
                  <a:solidFill>
                    <a:srgbClr val="eb84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4518000" y="3954600"/>
                <a:ext cx="1317600" cy="704880"/>
                <a:chOff x="4518000" y="3954600"/>
                <a:chExt cx="1317600" cy="704880"/>
              </a:xfrm>
            </p:grpSpPr>
            <p:sp>
              <p:nvSpPr>
                <p:cNvPr id="157" name=""/>
                <p:cNvSpPr/>
                <p:nvPr/>
              </p:nvSpPr>
              <p:spPr>
                <a:xfrm>
                  <a:off x="5199120" y="3954600"/>
                  <a:ext cx="0" cy="67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518000" y="4659480"/>
                  <a:ext cx="1317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9" name=""/>
            <p:cNvSpPr/>
            <p:nvPr/>
          </p:nvSpPr>
          <p:spPr>
            <a:xfrm>
              <a:off x="6010200" y="2909880"/>
              <a:ext cx="768600" cy="1419120"/>
            </a:xfrm>
            <a:custGeom>
              <a:avLst/>
              <a:gdLst/>
              <a:ahLst/>
              <a:rect l="l" t="t" r="r" b="b"/>
              <a:pathLst>
                <a:path w="484" h="894">
                  <a:moveTo>
                    <a:pt x="0" y="0"/>
                  </a:moveTo>
                  <a:lnTo>
                    <a:pt x="98" y="4"/>
                  </a:lnTo>
                  <a:lnTo>
                    <a:pt x="189" y="23"/>
                  </a:lnTo>
                  <a:lnTo>
                    <a:pt x="268" y="55"/>
                  </a:lnTo>
                  <a:lnTo>
                    <a:pt x="339" y="91"/>
                  </a:lnTo>
                  <a:lnTo>
                    <a:pt x="398" y="142"/>
                  </a:lnTo>
                  <a:lnTo>
                    <a:pt x="444" y="192"/>
                  </a:lnTo>
                  <a:lnTo>
                    <a:pt x="476" y="252"/>
                  </a:lnTo>
                  <a:lnTo>
                    <a:pt x="483" y="316"/>
                  </a:lnTo>
                  <a:lnTo>
                    <a:pt x="483" y="499"/>
                  </a:lnTo>
                  <a:lnTo>
                    <a:pt x="476" y="549"/>
                  </a:lnTo>
                  <a:lnTo>
                    <a:pt x="457" y="600"/>
                  </a:lnTo>
                  <a:lnTo>
                    <a:pt x="431" y="641"/>
                  </a:lnTo>
                  <a:lnTo>
                    <a:pt x="392" y="687"/>
                  </a:lnTo>
                  <a:lnTo>
                    <a:pt x="346" y="724"/>
                  </a:lnTo>
                  <a:lnTo>
                    <a:pt x="294" y="756"/>
                  </a:lnTo>
                  <a:lnTo>
                    <a:pt x="228" y="783"/>
                  </a:lnTo>
                  <a:lnTo>
                    <a:pt x="163" y="801"/>
                  </a:lnTo>
                  <a:lnTo>
                    <a:pt x="163" y="893"/>
                  </a:lnTo>
                  <a:lnTo>
                    <a:pt x="0" y="728"/>
                  </a:lnTo>
                  <a:lnTo>
                    <a:pt x="163" y="527"/>
                  </a:lnTo>
                  <a:lnTo>
                    <a:pt x="163" y="618"/>
                  </a:lnTo>
                  <a:lnTo>
                    <a:pt x="268" y="586"/>
                  </a:lnTo>
                  <a:lnTo>
                    <a:pt x="352" y="540"/>
                  </a:lnTo>
                  <a:lnTo>
                    <a:pt x="418" y="481"/>
                  </a:lnTo>
                  <a:lnTo>
                    <a:pt x="463" y="407"/>
                  </a:lnTo>
                  <a:lnTo>
                    <a:pt x="431" y="362"/>
                  </a:lnTo>
                  <a:lnTo>
                    <a:pt x="392" y="316"/>
                  </a:lnTo>
                  <a:lnTo>
                    <a:pt x="346" y="275"/>
                  </a:lnTo>
                  <a:lnTo>
                    <a:pt x="287" y="243"/>
                  </a:lnTo>
                  <a:lnTo>
                    <a:pt x="222" y="215"/>
                  </a:lnTo>
                  <a:lnTo>
                    <a:pt x="157" y="197"/>
                  </a:lnTo>
                  <a:lnTo>
                    <a:pt x="78" y="183"/>
                  </a:lnTo>
                  <a:lnTo>
                    <a:pt x="0" y="178"/>
                  </a:lnTo>
                  <a:lnTo>
                    <a:pt x="0" y="0"/>
                  </a:lnTo>
                </a:path>
              </a:pathLst>
            </a:custGeom>
            <a:solidFill>
              <a:srgbClr val="f9fda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914880" y="3063960"/>
              <a:ext cx="17740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lec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ividuals</a:t>
              </a:r>
              <a:endParaRPr b="0" lang="en-US" sz="2400" spc="-1" strike="noStrike">
                <a:solidFill>
                  <a:srgbClr val="000000"/>
                </a:solidFill>
                <a:latin typeface="Times New Roman"/>
              </a:endParaRPr>
            </a:p>
          </p:txBody>
        </p:sp>
        <p:sp>
          <p:nvSpPr>
            <p:cNvPr id="161" name=""/>
            <p:cNvSpPr/>
            <p:nvPr/>
          </p:nvSpPr>
          <p:spPr>
            <a:xfrm flipH="1">
              <a:off x="3527280" y="5421240"/>
              <a:ext cx="1727280" cy="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575160" y="3189240"/>
              <a:ext cx="0" cy="2181240"/>
            </a:xfrm>
            <a:prstGeom prst="line">
              <a:avLst/>
            </a:prstGeom>
            <a:ln w="507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203800" y="4713120"/>
              <a:ext cx="0" cy="657360"/>
            </a:xfrm>
            <a:prstGeom prst="line">
              <a:avLst/>
            </a:prstGeom>
            <a:ln w="507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875680" y="5791320"/>
              <a:ext cx="3182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lection differential</a:t>
              </a:r>
              <a:endParaRPr b="0" lang="en-US" sz="2400" spc="-1" strike="noStrike">
                <a:solidFill>
                  <a:srgbClr val="000000"/>
                </a:solidFill>
                <a:latin typeface="Times New Roman"/>
              </a:endParaRPr>
            </a:p>
          </p:txBody>
        </p:sp>
      </p:grpSp>
      <p:sp>
        <p:nvSpPr>
          <p:cNvPr id="165" name=""/>
          <p:cNvSpPr/>
          <p:nvPr/>
        </p:nvSpPr>
        <p:spPr>
          <a:xfrm>
            <a:off x="807696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election Differential</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67" name=""/>
          <p:cNvGrpSpPr/>
          <p:nvPr/>
        </p:nvGrpSpPr>
        <p:grpSpPr>
          <a:xfrm>
            <a:off x="1070280" y="228600"/>
            <a:ext cx="8005320" cy="5943600"/>
            <a:chOff x="1070280" y="228600"/>
            <a:chExt cx="8005320" cy="5943600"/>
          </a:xfrm>
        </p:grpSpPr>
        <p:grpSp>
          <p:nvGrpSpPr>
            <p:cNvPr id="168" name=""/>
            <p:cNvGrpSpPr/>
            <p:nvPr/>
          </p:nvGrpSpPr>
          <p:grpSpPr>
            <a:xfrm>
              <a:off x="1147680" y="1000080"/>
              <a:ext cx="4040280" cy="2058840"/>
              <a:chOff x="1147680" y="1000080"/>
              <a:chExt cx="4040280" cy="2058840"/>
            </a:xfrm>
          </p:grpSpPr>
          <p:grpSp>
            <p:nvGrpSpPr>
              <p:cNvPr id="169" name=""/>
              <p:cNvGrpSpPr/>
              <p:nvPr/>
            </p:nvGrpSpPr>
            <p:grpSpPr>
              <a:xfrm>
                <a:off x="1147680" y="1000080"/>
                <a:ext cx="4040280" cy="2001600"/>
                <a:chOff x="1147680" y="1000080"/>
                <a:chExt cx="4040280" cy="2001600"/>
              </a:xfrm>
            </p:grpSpPr>
            <p:sp>
              <p:nvSpPr>
                <p:cNvPr id="170" name=""/>
                <p:cNvSpPr/>
                <p:nvPr/>
              </p:nvSpPr>
              <p:spPr>
                <a:xfrm>
                  <a:off x="1147680" y="1015920"/>
                  <a:ext cx="2054520" cy="1985760"/>
                </a:xfrm>
                <a:custGeom>
                  <a:avLst/>
                  <a:gdLst/>
                  <a:ahLst/>
                  <a:rect l="l" t="t" r="r" b="b"/>
                  <a:pathLst>
                    <a:path w="1294" h="1251">
                      <a:moveTo>
                        <a:pt x="0" y="1250"/>
                      </a:moveTo>
                      <a:lnTo>
                        <a:pt x="69" y="1240"/>
                      </a:lnTo>
                      <a:lnTo>
                        <a:pt x="132" y="1226"/>
                      </a:lnTo>
                      <a:lnTo>
                        <a:pt x="198" y="1209"/>
                      </a:lnTo>
                      <a:lnTo>
                        <a:pt x="264" y="1192"/>
                      </a:lnTo>
                      <a:lnTo>
                        <a:pt x="294" y="1175"/>
                      </a:lnTo>
                      <a:lnTo>
                        <a:pt x="324" y="1155"/>
                      </a:lnTo>
                      <a:lnTo>
                        <a:pt x="354" y="1138"/>
                      </a:lnTo>
                      <a:lnTo>
                        <a:pt x="386" y="1124"/>
                      </a:lnTo>
                      <a:lnTo>
                        <a:pt x="404" y="1114"/>
                      </a:lnTo>
                      <a:lnTo>
                        <a:pt x="422" y="1104"/>
                      </a:lnTo>
                      <a:lnTo>
                        <a:pt x="437" y="1090"/>
                      </a:lnTo>
                      <a:lnTo>
                        <a:pt x="452" y="1077"/>
                      </a:lnTo>
                      <a:lnTo>
                        <a:pt x="461" y="1063"/>
                      </a:lnTo>
                      <a:lnTo>
                        <a:pt x="467" y="1053"/>
                      </a:lnTo>
                      <a:lnTo>
                        <a:pt x="476" y="1046"/>
                      </a:lnTo>
                      <a:lnTo>
                        <a:pt x="479" y="1043"/>
                      </a:lnTo>
                      <a:lnTo>
                        <a:pt x="485" y="1039"/>
                      </a:lnTo>
                      <a:lnTo>
                        <a:pt x="494" y="1033"/>
                      </a:lnTo>
                      <a:lnTo>
                        <a:pt x="506" y="1022"/>
                      </a:lnTo>
                      <a:lnTo>
                        <a:pt x="545" y="968"/>
                      </a:lnTo>
                      <a:lnTo>
                        <a:pt x="587" y="917"/>
                      </a:lnTo>
                      <a:lnTo>
                        <a:pt x="629" y="866"/>
                      </a:lnTo>
                      <a:lnTo>
                        <a:pt x="674" y="819"/>
                      </a:lnTo>
                      <a:lnTo>
                        <a:pt x="689" y="798"/>
                      </a:lnTo>
                      <a:lnTo>
                        <a:pt x="701" y="778"/>
                      </a:lnTo>
                      <a:lnTo>
                        <a:pt x="713" y="757"/>
                      </a:lnTo>
                      <a:lnTo>
                        <a:pt x="716" y="754"/>
                      </a:lnTo>
                      <a:lnTo>
                        <a:pt x="716" y="751"/>
                      </a:lnTo>
                      <a:lnTo>
                        <a:pt x="728" y="720"/>
                      </a:lnTo>
                      <a:lnTo>
                        <a:pt x="742" y="700"/>
                      </a:lnTo>
                      <a:lnTo>
                        <a:pt x="760" y="679"/>
                      </a:lnTo>
                      <a:lnTo>
                        <a:pt x="784" y="659"/>
                      </a:lnTo>
                      <a:lnTo>
                        <a:pt x="796" y="625"/>
                      </a:lnTo>
                      <a:lnTo>
                        <a:pt x="805" y="591"/>
                      </a:lnTo>
                      <a:lnTo>
                        <a:pt x="817" y="571"/>
                      </a:lnTo>
                      <a:lnTo>
                        <a:pt x="832" y="547"/>
                      </a:lnTo>
                      <a:lnTo>
                        <a:pt x="844" y="530"/>
                      </a:lnTo>
                      <a:lnTo>
                        <a:pt x="850" y="526"/>
                      </a:lnTo>
                      <a:lnTo>
                        <a:pt x="850" y="523"/>
                      </a:lnTo>
                      <a:lnTo>
                        <a:pt x="856" y="506"/>
                      </a:lnTo>
                      <a:lnTo>
                        <a:pt x="862" y="489"/>
                      </a:lnTo>
                      <a:lnTo>
                        <a:pt x="874" y="469"/>
                      </a:lnTo>
                      <a:lnTo>
                        <a:pt x="889" y="445"/>
                      </a:lnTo>
                      <a:lnTo>
                        <a:pt x="898" y="428"/>
                      </a:lnTo>
                      <a:lnTo>
                        <a:pt x="904" y="425"/>
                      </a:lnTo>
                      <a:lnTo>
                        <a:pt x="904" y="421"/>
                      </a:lnTo>
                      <a:lnTo>
                        <a:pt x="922" y="384"/>
                      </a:lnTo>
                      <a:lnTo>
                        <a:pt x="943" y="353"/>
                      </a:lnTo>
                      <a:lnTo>
                        <a:pt x="964" y="319"/>
                      </a:lnTo>
                      <a:lnTo>
                        <a:pt x="982" y="285"/>
                      </a:lnTo>
                      <a:lnTo>
                        <a:pt x="988" y="268"/>
                      </a:lnTo>
                      <a:lnTo>
                        <a:pt x="994" y="255"/>
                      </a:lnTo>
                      <a:lnTo>
                        <a:pt x="997" y="248"/>
                      </a:lnTo>
                      <a:lnTo>
                        <a:pt x="1000" y="241"/>
                      </a:lnTo>
                      <a:lnTo>
                        <a:pt x="1003" y="234"/>
                      </a:lnTo>
                      <a:lnTo>
                        <a:pt x="1012" y="224"/>
                      </a:lnTo>
                      <a:lnTo>
                        <a:pt x="1024" y="207"/>
                      </a:lnTo>
                      <a:lnTo>
                        <a:pt x="1039" y="183"/>
                      </a:lnTo>
                      <a:lnTo>
                        <a:pt x="1042" y="180"/>
                      </a:lnTo>
                      <a:lnTo>
                        <a:pt x="1045" y="170"/>
                      </a:lnTo>
                      <a:lnTo>
                        <a:pt x="1060" y="149"/>
                      </a:lnTo>
                      <a:lnTo>
                        <a:pt x="1075" y="126"/>
                      </a:lnTo>
                      <a:lnTo>
                        <a:pt x="1078" y="115"/>
                      </a:lnTo>
                      <a:lnTo>
                        <a:pt x="1081" y="112"/>
                      </a:lnTo>
                      <a:lnTo>
                        <a:pt x="1105" y="95"/>
                      </a:lnTo>
                      <a:lnTo>
                        <a:pt x="1122" y="85"/>
                      </a:lnTo>
                      <a:lnTo>
                        <a:pt x="1131" y="78"/>
                      </a:lnTo>
                      <a:lnTo>
                        <a:pt x="1140" y="75"/>
                      </a:lnTo>
                      <a:lnTo>
                        <a:pt x="1146" y="71"/>
                      </a:lnTo>
                      <a:lnTo>
                        <a:pt x="1152" y="65"/>
                      </a:lnTo>
                      <a:lnTo>
                        <a:pt x="1164" y="58"/>
                      </a:lnTo>
                      <a:lnTo>
                        <a:pt x="1182" y="44"/>
                      </a:lnTo>
                      <a:lnTo>
                        <a:pt x="1209" y="31"/>
                      </a:lnTo>
                      <a:lnTo>
                        <a:pt x="1239" y="24"/>
                      </a:lnTo>
                      <a:lnTo>
                        <a:pt x="1269" y="17"/>
                      </a:lnTo>
                      <a:lnTo>
                        <a:pt x="1281" y="10"/>
                      </a:lnTo>
                      <a:lnTo>
                        <a:pt x="1293" y="0"/>
                      </a:lnTo>
                    </a:path>
                  </a:pathLst>
                </a:custGeom>
                <a:noFill/>
                <a:ln cap="rnd" w="127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197160" y="1000080"/>
                  <a:ext cx="1990800" cy="1987560"/>
                </a:xfrm>
                <a:custGeom>
                  <a:avLst/>
                  <a:gdLst/>
                  <a:ahLst/>
                  <a:rect l="l" t="t" r="r" b="b"/>
                  <a:pathLst>
                    <a:path w="1254" h="1252">
                      <a:moveTo>
                        <a:pt x="1253" y="1251"/>
                      </a:moveTo>
                      <a:lnTo>
                        <a:pt x="1188" y="1241"/>
                      </a:lnTo>
                      <a:lnTo>
                        <a:pt x="1123" y="1227"/>
                      </a:lnTo>
                      <a:lnTo>
                        <a:pt x="998" y="1193"/>
                      </a:lnTo>
                      <a:lnTo>
                        <a:pt x="968" y="1177"/>
                      </a:lnTo>
                      <a:lnTo>
                        <a:pt x="938" y="1156"/>
                      </a:lnTo>
                      <a:lnTo>
                        <a:pt x="908" y="1139"/>
                      </a:lnTo>
                      <a:lnTo>
                        <a:pt x="878" y="1126"/>
                      </a:lnTo>
                      <a:lnTo>
                        <a:pt x="863" y="1116"/>
                      </a:lnTo>
                      <a:lnTo>
                        <a:pt x="844" y="1106"/>
                      </a:lnTo>
                      <a:lnTo>
                        <a:pt x="829" y="1092"/>
                      </a:lnTo>
                      <a:lnTo>
                        <a:pt x="814" y="1078"/>
                      </a:lnTo>
                      <a:lnTo>
                        <a:pt x="804" y="1065"/>
                      </a:lnTo>
                      <a:lnTo>
                        <a:pt x="799" y="1055"/>
                      </a:lnTo>
                      <a:lnTo>
                        <a:pt x="794" y="1045"/>
                      </a:lnTo>
                      <a:lnTo>
                        <a:pt x="784" y="1038"/>
                      </a:lnTo>
                      <a:lnTo>
                        <a:pt x="774" y="1031"/>
                      </a:lnTo>
                      <a:lnTo>
                        <a:pt x="759" y="1024"/>
                      </a:lnTo>
                      <a:lnTo>
                        <a:pt x="724" y="967"/>
                      </a:lnTo>
                      <a:lnTo>
                        <a:pt x="684" y="916"/>
                      </a:lnTo>
                      <a:lnTo>
                        <a:pt x="599" y="818"/>
                      </a:lnTo>
                      <a:lnTo>
                        <a:pt x="584" y="798"/>
                      </a:lnTo>
                      <a:lnTo>
                        <a:pt x="574" y="777"/>
                      </a:lnTo>
                      <a:lnTo>
                        <a:pt x="564" y="757"/>
                      </a:lnTo>
                      <a:lnTo>
                        <a:pt x="559" y="754"/>
                      </a:lnTo>
                      <a:lnTo>
                        <a:pt x="559" y="750"/>
                      </a:lnTo>
                      <a:lnTo>
                        <a:pt x="549" y="720"/>
                      </a:lnTo>
                      <a:lnTo>
                        <a:pt x="534" y="700"/>
                      </a:lnTo>
                      <a:lnTo>
                        <a:pt x="519" y="679"/>
                      </a:lnTo>
                      <a:lnTo>
                        <a:pt x="494" y="659"/>
                      </a:lnTo>
                      <a:lnTo>
                        <a:pt x="484" y="625"/>
                      </a:lnTo>
                      <a:lnTo>
                        <a:pt x="474" y="591"/>
                      </a:lnTo>
                      <a:lnTo>
                        <a:pt x="464" y="571"/>
                      </a:lnTo>
                      <a:lnTo>
                        <a:pt x="449" y="547"/>
                      </a:lnTo>
                      <a:lnTo>
                        <a:pt x="434" y="531"/>
                      </a:lnTo>
                      <a:lnTo>
                        <a:pt x="429" y="527"/>
                      </a:lnTo>
                      <a:lnTo>
                        <a:pt x="429" y="524"/>
                      </a:lnTo>
                      <a:lnTo>
                        <a:pt x="424" y="507"/>
                      </a:lnTo>
                      <a:lnTo>
                        <a:pt x="419" y="490"/>
                      </a:lnTo>
                      <a:lnTo>
                        <a:pt x="404" y="470"/>
                      </a:lnTo>
                      <a:lnTo>
                        <a:pt x="389" y="446"/>
                      </a:lnTo>
                      <a:lnTo>
                        <a:pt x="379" y="429"/>
                      </a:lnTo>
                      <a:lnTo>
                        <a:pt x="374" y="426"/>
                      </a:lnTo>
                      <a:lnTo>
                        <a:pt x="374" y="422"/>
                      </a:lnTo>
                      <a:lnTo>
                        <a:pt x="359" y="385"/>
                      </a:lnTo>
                      <a:lnTo>
                        <a:pt x="339" y="355"/>
                      </a:lnTo>
                      <a:lnTo>
                        <a:pt x="319" y="321"/>
                      </a:lnTo>
                      <a:lnTo>
                        <a:pt x="299" y="284"/>
                      </a:lnTo>
                      <a:lnTo>
                        <a:pt x="294" y="267"/>
                      </a:lnTo>
                      <a:lnTo>
                        <a:pt x="289" y="257"/>
                      </a:lnTo>
                      <a:lnTo>
                        <a:pt x="284" y="246"/>
                      </a:lnTo>
                      <a:lnTo>
                        <a:pt x="284" y="243"/>
                      </a:lnTo>
                      <a:lnTo>
                        <a:pt x="279" y="236"/>
                      </a:lnTo>
                      <a:lnTo>
                        <a:pt x="274" y="223"/>
                      </a:lnTo>
                      <a:lnTo>
                        <a:pt x="264" y="209"/>
                      </a:lnTo>
                      <a:lnTo>
                        <a:pt x="249" y="182"/>
                      </a:lnTo>
                      <a:lnTo>
                        <a:pt x="244" y="179"/>
                      </a:lnTo>
                      <a:lnTo>
                        <a:pt x="239" y="172"/>
                      </a:lnTo>
                      <a:lnTo>
                        <a:pt x="224" y="148"/>
                      </a:lnTo>
                      <a:lnTo>
                        <a:pt x="209" y="125"/>
                      </a:lnTo>
                      <a:lnTo>
                        <a:pt x="204" y="118"/>
                      </a:lnTo>
                      <a:lnTo>
                        <a:pt x="204" y="115"/>
                      </a:lnTo>
                      <a:lnTo>
                        <a:pt x="179" y="98"/>
                      </a:lnTo>
                      <a:lnTo>
                        <a:pt x="164" y="87"/>
                      </a:lnTo>
                      <a:lnTo>
                        <a:pt x="154" y="81"/>
                      </a:lnTo>
                      <a:lnTo>
                        <a:pt x="149" y="74"/>
                      </a:lnTo>
                      <a:lnTo>
                        <a:pt x="139" y="67"/>
                      </a:lnTo>
                      <a:lnTo>
                        <a:pt x="124" y="57"/>
                      </a:lnTo>
                      <a:lnTo>
                        <a:pt x="109" y="47"/>
                      </a:lnTo>
                      <a:lnTo>
                        <a:pt x="94" y="40"/>
                      </a:lnTo>
                      <a:lnTo>
                        <a:pt x="80" y="33"/>
                      </a:lnTo>
                      <a:lnTo>
                        <a:pt x="55" y="27"/>
                      </a:lnTo>
                      <a:lnTo>
                        <a:pt x="25" y="16"/>
                      </a:lnTo>
                      <a:lnTo>
                        <a:pt x="10" y="10"/>
                      </a:lnTo>
                      <a:lnTo>
                        <a:pt x="0" y="0"/>
                      </a:lnTo>
                    </a:path>
                  </a:pathLst>
                </a:custGeom>
                <a:noFill/>
                <a:ln cap="rnd" w="127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1174680" y="1104840"/>
                <a:ext cx="3984840" cy="1954080"/>
                <a:chOff x="1174680" y="1104840"/>
                <a:chExt cx="3984840" cy="1954080"/>
              </a:xfrm>
            </p:grpSpPr>
            <p:sp>
              <p:nvSpPr>
                <p:cNvPr id="173" name=""/>
                <p:cNvSpPr/>
                <p:nvPr/>
              </p:nvSpPr>
              <p:spPr>
                <a:xfrm>
                  <a:off x="3235320" y="1104840"/>
                  <a:ext cx="0" cy="1928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174680" y="3058920"/>
                  <a:ext cx="398484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5" name=""/>
            <p:cNvSpPr/>
            <p:nvPr/>
          </p:nvSpPr>
          <p:spPr>
            <a:xfrm>
              <a:off x="1070280" y="228600"/>
              <a:ext cx="433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henotypic variation in GFW</a:t>
              </a:r>
              <a:endParaRPr b="0" lang="en-US" sz="2400" spc="-1" strike="noStrike">
                <a:solidFill>
                  <a:srgbClr val="000000"/>
                </a:solidFill>
                <a:latin typeface="Times New Roman"/>
              </a:endParaRPr>
            </a:p>
          </p:txBody>
        </p:sp>
        <p:sp>
          <p:nvSpPr>
            <p:cNvPr id="176" name=""/>
            <p:cNvSpPr/>
            <p:nvPr/>
          </p:nvSpPr>
          <p:spPr>
            <a:xfrm>
              <a:off x="2811600" y="3276720"/>
              <a:ext cx="790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kg</a:t>
              </a:r>
              <a:endParaRPr b="0" lang="en-US" sz="2400" spc="-1" strike="noStrike">
                <a:solidFill>
                  <a:srgbClr val="000000"/>
                </a:solidFill>
                <a:latin typeface="Times New Roman"/>
              </a:endParaRPr>
            </a:p>
          </p:txBody>
        </p:sp>
        <p:sp>
          <p:nvSpPr>
            <p:cNvPr id="177" name=""/>
            <p:cNvSpPr/>
            <p:nvPr/>
          </p:nvSpPr>
          <p:spPr>
            <a:xfrm>
              <a:off x="4498920" y="2678040"/>
              <a:ext cx="380880" cy="381240"/>
            </a:xfrm>
            <a:prstGeom prst="ellipse">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654440" y="1919160"/>
              <a:ext cx="1219320" cy="762120"/>
            </a:xfrm>
            <a:custGeom>
              <a:avLst/>
              <a:gdLst/>
              <a:ahLst/>
              <a:rect l="l" t="t" r="r" b="b"/>
              <a:pathLst>
                <a:path w="768" h="480">
                  <a:moveTo>
                    <a:pt x="767" y="132"/>
                  </a:moveTo>
                  <a:lnTo>
                    <a:pt x="500" y="0"/>
                  </a:lnTo>
                  <a:lnTo>
                    <a:pt x="500" y="113"/>
                  </a:lnTo>
                  <a:lnTo>
                    <a:pt x="437" y="113"/>
                  </a:lnTo>
                  <a:lnTo>
                    <a:pt x="352" y="116"/>
                  </a:lnTo>
                  <a:lnTo>
                    <a:pt x="267" y="126"/>
                  </a:lnTo>
                  <a:lnTo>
                    <a:pt x="193" y="138"/>
                  </a:lnTo>
                  <a:lnTo>
                    <a:pt x="130" y="159"/>
                  </a:lnTo>
                  <a:lnTo>
                    <a:pt x="73" y="181"/>
                  </a:lnTo>
                  <a:lnTo>
                    <a:pt x="34" y="205"/>
                  </a:lnTo>
                  <a:lnTo>
                    <a:pt x="11" y="236"/>
                  </a:lnTo>
                  <a:lnTo>
                    <a:pt x="0" y="267"/>
                  </a:lnTo>
                  <a:lnTo>
                    <a:pt x="0" y="479"/>
                  </a:lnTo>
                  <a:lnTo>
                    <a:pt x="68" y="479"/>
                  </a:lnTo>
                  <a:lnTo>
                    <a:pt x="68" y="267"/>
                  </a:lnTo>
                  <a:lnTo>
                    <a:pt x="73" y="245"/>
                  </a:lnTo>
                  <a:lnTo>
                    <a:pt x="96" y="224"/>
                  </a:lnTo>
                  <a:lnTo>
                    <a:pt x="130" y="205"/>
                  </a:lnTo>
                  <a:lnTo>
                    <a:pt x="176" y="187"/>
                  </a:lnTo>
                  <a:lnTo>
                    <a:pt x="233" y="172"/>
                  </a:lnTo>
                  <a:lnTo>
                    <a:pt x="295" y="162"/>
                  </a:lnTo>
                  <a:lnTo>
                    <a:pt x="363" y="156"/>
                  </a:lnTo>
                  <a:lnTo>
                    <a:pt x="437" y="153"/>
                  </a:lnTo>
                  <a:lnTo>
                    <a:pt x="500" y="153"/>
                  </a:lnTo>
                  <a:lnTo>
                    <a:pt x="500" y="267"/>
                  </a:lnTo>
                  <a:lnTo>
                    <a:pt x="767" y="132"/>
                  </a:lnTo>
                </a:path>
              </a:pathLst>
            </a:custGeom>
            <a:solidFill>
              <a:srgbClr val="f5fc6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056280" y="1905120"/>
              <a:ext cx="790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 kg</a:t>
              </a:r>
              <a:endParaRPr b="0" lang="en-US" sz="2400" spc="-1" strike="noStrike">
                <a:solidFill>
                  <a:srgbClr val="000000"/>
                </a:solidFill>
                <a:latin typeface="Times New Roman"/>
              </a:endParaRPr>
            </a:p>
          </p:txBody>
        </p:sp>
        <p:sp>
          <p:nvSpPr>
            <p:cNvPr id="180" name=""/>
            <p:cNvSpPr/>
            <p:nvPr/>
          </p:nvSpPr>
          <p:spPr>
            <a:xfrm>
              <a:off x="5334120" y="2392200"/>
              <a:ext cx="3741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redicted superiority = +3 kg</a:t>
              </a:r>
              <a:endParaRPr b="0" lang="en-US" sz="2200" spc="-1" strike="noStrike">
                <a:solidFill>
                  <a:srgbClr val="000000"/>
                </a:solidFill>
                <a:latin typeface="Times New Roman"/>
              </a:endParaRPr>
            </a:p>
          </p:txBody>
        </p:sp>
        <p:sp>
          <p:nvSpPr>
            <p:cNvPr id="181" name=""/>
            <p:cNvSpPr/>
            <p:nvPr/>
          </p:nvSpPr>
          <p:spPr>
            <a:xfrm>
              <a:off x="1711440" y="4708440"/>
              <a:ext cx="6576120" cy="60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EBV</a:t>
              </a:r>
              <a:r>
                <a:rPr b="0" lang="en-GB" sz="3000" spc="-1" strike="noStrike" baseline="-25000">
                  <a:solidFill>
                    <a:srgbClr val="ffffff"/>
                  </a:solidFill>
                  <a:latin typeface="Arial"/>
                </a:rPr>
                <a:t>GFW</a:t>
              </a:r>
              <a:r>
                <a:rPr b="0" lang="en-GB" sz="3000" spc="-1" strike="noStrike">
                  <a:solidFill>
                    <a:srgbClr val="ffffff"/>
                  </a:solidFill>
                  <a:latin typeface="Arial"/>
                </a:rPr>
                <a:t> = h</a:t>
              </a:r>
              <a:r>
                <a:rPr b="0" lang="en-GB" sz="3000" spc="-1" strike="noStrike" baseline="30000">
                  <a:solidFill>
                    <a:srgbClr val="ffffff"/>
                  </a:solidFill>
                  <a:latin typeface="Arial"/>
                </a:rPr>
                <a:t>2</a:t>
              </a:r>
              <a:r>
                <a:rPr b="0" lang="en-GB" sz="3000" spc="-1" strike="noStrike" baseline="-25000">
                  <a:solidFill>
                    <a:srgbClr val="ffffff"/>
                  </a:solidFill>
                  <a:latin typeface="Arial"/>
                </a:rPr>
                <a:t>GFW</a:t>
              </a:r>
              <a:r>
                <a:rPr b="0" lang="en-GB" sz="3000" spc="-1" strike="noStrike">
                  <a:solidFill>
                    <a:srgbClr val="ffffff"/>
                  </a:solidFill>
                  <a:latin typeface="Arial"/>
                </a:rPr>
                <a:t> x predicted superiority</a:t>
              </a:r>
              <a:endParaRPr b="0" lang="en-US" sz="3000" spc="-1" strike="noStrike">
                <a:solidFill>
                  <a:srgbClr val="000000"/>
                </a:solidFill>
                <a:latin typeface="Times New Roman"/>
              </a:endParaRPr>
            </a:p>
          </p:txBody>
        </p:sp>
        <p:sp>
          <p:nvSpPr>
            <p:cNvPr id="182" name=""/>
            <p:cNvSpPr/>
            <p:nvPr/>
          </p:nvSpPr>
          <p:spPr>
            <a:xfrm>
              <a:off x="6365880" y="2982960"/>
              <a:ext cx="954000" cy="1601640"/>
            </a:xfrm>
            <a:custGeom>
              <a:avLst/>
              <a:gdLst/>
              <a:ahLst/>
              <a:rect l="l" t="t" r="r" b="b"/>
              <a:pathLst>
                <a:path w="601" h="1009">
                  <a:moveTo>
                    <a:pt x="600" y="0"/>
                  </a:moveTo>
                  <a:lnTo>
                    <a:pt x="600" y="504"/>
                  </a:lnTo>
                  <a:lnTo>
                    <a:pt x="0" y="504"/>
                  </a:lnTo>
                  <a:lnTo>
                    <a:pt x="0" y="1008"/>
                  </a:lnTo>
                </a:path>
              </a:pathLst>
            </a:custGeom>
            <a:noFill/>
            <a:ln cap="rnd" w="255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rot="16200000">
              <a:off x="1908000" y="3668760"/>
              <a:ext cx="647640" cy="1180800"/>
            </a:xfrm>
            <a:prstGeom prst="rightArrow">
              <a:avLst>
                <a:gd name="adj1" fmla="val 50000"/>
                <a:gd name="adj2" fmla="val 25019"/>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rot="16200000">
              <a:off x="6078960" y="1440000"/>
              <a:ext cx="647640" cy="152280"/>
            </a:xfrm>
            <a:prstGeom prst="rightArrow">
              <a:avLst>
                <a:gd name="adj1" fmla="val 50000"/>
                <a:gd name="adj2" fmla="val 106403"/>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5" name=""/>
            <p:cNvSpPr/>
            <p:nvPr/>
          </p:nvSpPr>
          <p:spPr>
            <a:xfrm flipH="1" rot="16200000">
              <a:off x="7813440" y="1801800"/>
              <a:ext cx="648000" cy="495360"/>
            </a:xfrm>
            <a:prstGeom prst="rightArrow">
              <a:avLst>
                <a:gd name="adj1" fmla="val 50000"/>
                <a:gd name="adj2" fmla="val 32727"/>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389240" y="5638680"/>
              <a:ext cx="493560" cy="5335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891800" y="5703840"/>
              <a:ext cx="5652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ormation on genetic merit of individual</a:t>
              </a:r>
              <a:endParaRPr b="0" lang="en-US" sz="2400" spc="-1" strike="noStrike">
                <a:solidFill>
                  <a:srgbClr val="000000"/>
                </a:solidFill>
                <a:latin typeface="Times New Roman"/>
              </a:endParaRPr>
            </a:p>
          </p:txBody>
        </p:sp>
      </p:grpSp>
      <p:sp>
        <p:nvSpPr>
          <p:cNvPr id="188" name=""/>
          <p:cNvSpPr/>
          <p:nvPr/>
        </p:nvSpPr>
        <p:spPr>
          <a:xfrm>
            <a:off x="807696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89" name=""/>
          <p:cNvGrpSpPr/>
          <p:nvPr/>
        </p:nvGrpSpPr>
        <p:grpSpPr>
          <a:xfrm>
            <a:off x="1118880" y="838080"/>
            <a:ext cx="8058960" cy="5320440"/>
            <a:chOff x="1118880" y="838080"/>
            <a:chExt cx="8058960" cy="5320440"/>
          </a:xfrm>
        </p:grpSpPr>
        <p:grpSp>
          <p:nvGrpSpPr>
            <p:cNvPr id="190" name=""/>
            <p:cNvGrpSpPr/>
            <p:nvPr/>
          </p:nvGrpSpPr>
          <p:grpSpPr>
            <a:xfrm>
              <a:off x="1118880" y="2131920"/>
              <a:ext cx="8058960" cy="4026600"/>
              <a:chOff x="1118880" y="2131920"/>
              <a:chExt cx="8058960" cy="4026600"/>
            </a:xfrm>
          </p:grpSpPr>
          <p:grpSp>
            <p:nvGrpSpPr>
              <p:cNvPr id="191" name=""/>
              <p:cNvGrpSpPr/>
              <p:nvPr/>
            </p:nvGrpSpPr>
            <p:grpSpPr>
              <a:xfrm>
                <a:off x="1715760" y="2390760"/>
                <a:ext cx="3924000" cy="3247920"/>
                <a:chOff x="1715760" y="2390760"/>
                <a:chExt cx="3924000" cy="3247920"/>
              </a:xfrm>
            </p:grpSpPr>
            <p:sp>
              <p:nvSpPr>
                <p:cNvPr id="192" name=""/>
                <p:cNvSpPr/>
                <p:nvPr/>
              </p:nvSpPr>
              <p:spPr>
                <a:xfrm>
                  <a:off x="1715760" y="2390760"/>
                  <a:ext cx="0" cy="3222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742400" y="5638680"/>
                  <a:ext cx="3897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4" name=""/>
              <p:cNvSpPr/>
              <p:nvPr/>
            </p:nvSpPr>
            <p:spPr>
              <a:xfrm>
                <a:off x="5161680" y="3294000"/>
                <a:ext cx="215280" cy="211320"/>
              </a:xfrm>
              <a:prstGeom prst="ellipse">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5" name=""/>
              <p:cNvGrpSpPr/>
              <p:nvPr/>
            </p:nvGrpSpPr>
            <p:grpSpPr>
              <a:xfrm>
                <a:off x="1859040" y="3768840"/>
                <a:ext cx="3086280" cy="1641240"/>
                <a:chOff x="1859040" y="3768840"/>
                <a:chExt cx="3086280" cy="1641240"/>
              </a:xfrm>
            </p:grpSpPr>
            <p:sp>
              <p:nvSpPr>
                <p:cNvPr id="196" name=""/>
                <p:cNvSpPr/>
                <p:nvPr/>
              </p:nvSpPr>
              <p:spPr>
                <a:xfrm>
                  <a:off x="3653640" y="4149720"/>
                  <a:ext cx="215280" cy="21132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730040" y="4208400"/>
                  <a:ext cx="215280" cy="21132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730040" y="3768840"/>
                  <a:ext cx="215280" cy="21096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299480" y="3827520"/>
                  <a:ext cx="215280" cy="21096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868920" y="4530600"/>
                  <a:ext cx="215280" cy="21132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222720" y="3997440"/>
                  <a:ext cx="215280" cy="21096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227480" y="4149720"/>
                  <a:ext cx="215280" cy="21132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792160" y="4894200"/>
                  <a:ext cx="215280" cy="21132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576880" y="4530600"/>
                  <a:ext cx="215280" cy="21132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294720" y="4683240"/>
                  <a:ext cx="215280" cy="21096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859040" y="4683240"/>
                  <a:ext cx="215280" cy="21096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361600" y="5199120"/>
                  <a:ext cx="215280" cy="21096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 name=""/>
              <p:cNvSpPr/>
              <p:nvPr/>
            </p:nvSpPr>
            <p:spPr>
              <a:xfrm>
                <a:off x="2349360" y="5703840"/>
                <a:ext cx="2926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it 1 (phenotype)</a:t>
                </a:r>
                <a:endParaRPr b="0" lang="en-US" sz="2400" spc="-1" strike="noStrike">
                  <a:solidFill>
                    <a:srgbClr val="000000"/>
                  </a:solidFill>
                  <a:latin typeface="Times New Roman"/>
                </a:endParaRPr>
              </a:p>
            </p:txBody>
          </p:sp>
          <p:sp>
            <p:nvSpPr>
              <p:cNvPr id="209" name=""/>
              <p:cNvSpPr/>
              <p:nvPr/>
            </p:nvSpPr>
            <p:spPr>
              <a:xfrm rot="16140000">
                <a:off x="-91080" y="3634200"/>
                <a:ext cx="2926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it 2 (phenotype)</a:t>
                </a:r>
                <a:endParaRPr b="0" lang="en-US" sz="2400" spc="-1" strike="noStrike">
                  <a:solidFill>
                    <a:srgbClr val="000000"/>
                  </a:solidFill>
                  <a:latin typeface="Times New Roman"/>
                </a:endParaRPr>
              </a:p>
            </p:txBody>
          </p:sp>
          <p:sp>
            <p:nvSpPr>
              <p:cNvPr id="210" name=""/>
              <p:cNvSpPr/>
              <p:nvPr/>
            </p:nvSpPr>
            <p:spPr>
              <a:xfrm>
                <a:off x="5562720" y="3024360"/>
                <a:ext cx="3615120" cy="1764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o what extent wil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election of individuals of</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igh performance for trait 1,</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give rise to progeny of high</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erformance for trait 2?</a:t>
                </a:r>
                <a:endParaRPr b="0" lang="en-US" sz="2200" spc="-1" strike="noStrike">
                  <a:solidFill>
                    <a:srgbClr val="000000"/>
                  </a:solidFill>
                  <a:latin typeface="Times New Roman"/>
                </a:endParaRPr>
              </a:p>
            </p:txBody>
          </p:sp>
          <p:sp>
            <p:nvSpPr>
              <p:cNvPr id="211" name=""/>
              <p:cNvSpPr/>
              <p:nvPr/>
            </p:nvSpPr>
            <p:spPr>
              <a:xfrm>
                <a:off x="5085360" y="2131920"/>
                <a:ext cx="1906560" cy="843120"/>
              </a:xfrm>
              <a:custGeom>
                <a:avLst/>
                <a:gdLst/>
                <a:ahLst/>
                <a:rect l="l" t="t" r="r" b="b"/>
                <a:pathLst>
                  <a:path w="1275" h="531">
                    <a:moveTo>
                      <a:pt x="0" y="530"/>
                    </a:moveTo>
                    <a:lnTo>
                      <a:pt x="7" y="422"/>
                    </a:lnTo>
                    <a:lnTo>
                      <a:pt x="33" y="323"/>
                    </a:lnTo>
                    <a:lnTo>
                      <a:pt x="79" y="233"/>
                    </a:lnTo>
                    <a:lnTo>
                      <a:pt x="105" y="191"/>
                    </a:lnTo>
                    <a:lnTo>
                      <a:pt x="132" y="155"/>
                    </a:lnTo>
                    <a:lnTo>
                      <a:pt x="165" y="119"/>
                    </a:lnTo>
                    <a:lnTo>
                      <a:pt x="204" y="89"/>
                    </a:lnTo>
                    <a:lnTo>
                      <a:pt x="243" y="62"/>
                    </a:lnTo>
                    <a:lnTo>
                      <a:pt x="283" y="42"/>
                    </a:lnTo>
                    <a:lnTo>
                      <a:pt x="322" y="24"/>
                    </a:lnTo>
                    <a:lnTo>
                      <a:pt x="368" y="12"/>
                    </a:lnTo>
                    <a:lnTo>
                      <a:pt x="414" y="3"/>
                    </a:lnTo>
                    <a:lnTo>
                      <a:pt x="460" y="0"/>
                    </a:lnTo>
                    <a:lnTo>
                      <a:pt x="716" y="0"/>
                    </a:lnTo>
                    <a:lnTo>
                      <a:pt x="749" y="3"/>
                    </a:lnTo>
                    <a:lnTo>
                      <a:pt x="788" y="6"/>
                    </a:lnTo>
                    <a:lnTo>
                      <a:pt x="821" y="15"/>
                    </a:lnTo>
                    <a:lnTo>
                      <a:pt x="854" y="27"/>
                    </a:lnTo>
                    <a:lnTo>
                      <a:pt x="920" y="57"/>
                    </a:lnTo>
                    <a:lnTo>
                      <a:pt x="979" y="98"/>
                    </a:lnTo>
                    <a:lnTo>
                      <a:pt x="1031" y="149"/>
                    </a:lnTo>
                    <a:lnTo>
                      <a:pt x="1077" y="209"/>
                    </a:lnTo>
                    <a:lnTo>
                      <a:pt x="1116" y="278"/>
                    </a:lnTo>
                    <a:lnTo>
                      <a:pt x="1143" y="353"/>
                    </a:lnTo>
                    <a:lnTo>
                      <a:pt x="1274" y="353"/>
                    </a:lnTo>
                    <a:lnTo>
                      <a:pt x="1038" y="530"/>
                    </a:lnTo>
                    <a:lnTo>
                      <a:pt x="755" y="353"/>
                    </a:lnTo>
                    <a:lnTo>
                      <a:pt x="887" y="353"/>
                    </a:lnTo>
                    <a:lnTo>
                      <a:pt x="867" y="296"/>
                    </a:lnTo>
                    <a:lnTo>
                      <a:pt x="834" y="242"/>
                    </a:lnTo>
                    <a:lnTo>
                      <a:pt x="801" y="191"/>
                    </a:lnTo>
                    <a:lnTo>
                      <a:pt x="769" y="146"/>
                    </a:lnTo>
                    <a:lnTo>
                      <a:pt x="729" y="107"/>
                    </a:lnTo>
                    <a:lnTo>
                      <a:pt x="683" y="74"/>
                    </a:lnTo>
                    <a:lnTo>
                      <a:pt x="637" y="45"/>
                    </a:lnTo>
                    <a:lnTo>
                      <a:pt x="585" y="24"/>
                    </a:lnTo>
                    <a:lnTo>
                      <a:pt x="552" y="39"/>
                    </a:lnTo>
                    <a:lnTo>
                      <a:pt x="519" y="54"/>
                    </a:lnTo>
                    <a:lnTo>
                      <a:pt x="453" y="98"/>
                    </a:lnTo>
                    <a:lnTo>
                      <a:pt x="401" y="152"/>
                    </a:lnTo>
                    <a:lnTo>
                      <a:pt x="355" y="215"/>
                    </a:lnTo>
                    <a:lnTo>
                      <a:pt x="316" y="284"/>
                    </a:lnTo>
                    <a:lnTo>
                      <a:pt x="289" y="362"/>
                    </a:lnTo>
                    <a:lnTo>
                      <a:pt x="270" y="443"/>
                    </a:lnTo>
                    <a:lnTo>
                      <a:pt x="263" y="530"/>
                    </a:lnTo>
                    <a:lnTo>
                      <a:pt x="0" y="530"/>
                    </a:lnTo>
                  </a:path>
                </a:pathLst>
              </a:custGeom>
              <a:solidFill>
                <a:srgbClr val="f5fc6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 name=""/>
            <p:cNvSpPr/>
            <p:nvPr/>
          </p:nvSpPr>
          <p:spPr>
            <a:xfrm>
              <a:off x="1483560" y="838080"/>
              <a:ext cx="705168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extent to which two traits are controlle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y the same set of genes</a:t>
              </a:r>
              <a:endParaRPr b="0" lang="en-US" sz="2800" spc="-1" strike="noStrike">
                <a:solidFill>
                  <a:srgbClr val="000000"/>
                </a:solidFill>
                <a:latin typeface="Times New Roman"/>
              </a:endParaRPr>
            </a:p>
          </p:txBody>
        </p:sp>
      </p:grpSp>
      <p:sp>
        <p:nvSpPr>
          <p:cNvPr id="213" name=""/>
          <p:cNvSpPr/>
          <p:nvPr/>
        </p:nvSpPr>
        <p:spPr>
          <a:xfrm>
            <a:off x="807696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21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enetic Correlation</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15" name=""/>
          <p:cNvGrpSpPr/>
          <p:nvPr/>
        </p:nvGrpSpPr>
        <p:grpSpPr>
          <a:xfrm>
            <a:off x="1117080" y="152280"/>
            <a:ext cx="8002080" cy="3125880"/>
            <a:chOff x="1117080" y="152280"/>
            <a:chExt cx="8002080" cy="3125880"/>
          </a:xfrm>
        </p:grpSpPr>
        <p:grpSp>
          <p:nvGrpSpPr>
            <p:cNvPr id="216" name=""/>
            <p:cNvGrpSpPr/>
            <p:nvPr/>
          </p:nvGrpSpPr>
          <p:grpSpPr>
            <a:xfrm>
              <a:off x="1138320" y="1292400"/>
              <a:ext cx="3510000" cy="1450800"/>
              <a:chOff x="1138320" y="1292400"/>
              <a:chExt cx="3510000" cy="1450800"/>
            </a:xfrm>
          </p:grpSpPr>
          <p:grpSp>
            <p:nvGrpSpPr>
              <p:cNvPr id="217" name=""/>
              <p:cNvGrpSpPr/>
              <p:nvPr/>
            </p:nvGrpSpPr>
            <p:grpSpPr>
              <a:xfrm>
                <a:off x="1138320" y="1292400"/>
                <a:ext cx="3510000" cy="1411200"/>
                <a:chOff x="1138320" y="1292400"/>
                <a:chExt cx="3510000" cy="1411200"/>
              </a:xfrm>
            </p:grpSpPr>
            <p:sp>
              <p:nvSpPr>
                <p:cNvPr id="218" name=""/>
                <p:cNvSpPr/>
                <p:nvPr/>
              </p:nvSpPr>
              <p:spPr>
                <a:xfrm>
                  <a:off x="1138320" y="1301760"/>
                  <a:ext cx="1785960" cy="1401840"/>
                </a:xfrm>
                <a:custGeom>
                  <a:avLst/>
                  <a:gdLst/>
                  <a:ahLst/>
                  <a:rect l="l" t="t" r="r" b="b"/>
                  <a:pathLst>
                    <a:path w="1125" h="883">
                      <a:moveTo>
                        <a:pt x="0" y="882"/>
                      </a:moveTo>
                      <a:lnTo>
                        <a:pt x="59" y="874"/>
                      </a:lnTo>
                      <a:lnTo>
                        <a:pt x="116" y="863"/>
                      </a:lnTo>
                      <a:lnTo>
                        <a:pt x="173" y="852"/>
                      </a:lnTo>
                      <a:lnTo>
                        <a:pt x="232" y="841"/>
                      </a:lnTo>
                      <a:lnTo>
                        <a:pt x="257" y="828"/>
                      </a:lnTo>
                      <a:lnTo>
                        <a:pt x="282" y="814"/>
                      </a:lnTo>
                      <a:lnTo>
                        <a:pt x="310" y="803"/>
                      </a:lnTo>
                      <a:lnTo>
                        <a:pt x="337" y="792"/>
                      </a:lnTo>
                      <a:lnTo>
                        <a:pt x="367" y="779"/>
                      </a:lnTo>
                      <a:lnTo>
                        <a:pt x="381" y="770"/>
                      </a:lnTo>
                      <a:lnTo>
                        <a:pt x="394" y="762"/>
                      </a:lnTo>
                      <a:lnTo>
                        <a:pt x="402" y="751"/>
                      </a:lnTo>
                      <a:lnTo>
                        <a:pt x="407" y="746"/>
                      </a:lnTo>
                      <a:lnTo>
                        <a:pt x="413" y="738"/>
                      </a:lnTo>
                      <a:lnTo>
                        <a:pt x="417" y="735"/>
                      </a:lnTo>
                      <a:lnTo>
                        <a:pt x="423" y="732"/>
                      </a:lnTo>
                      <a:lnTo>
                        <a:pt x="430" y="727"/>
                      </a:lnTo>
                      <a:lnTo>
                        <a:pt x="442" y="721"/>
                      </a:lnTo>
                      <a:lnTo>
                        <a:pt x="474" y="683"/>
                      </a:lnTo>
                      <a:lnTo>
                        <a:pt x="510" y="645"/>
                      </a:lnTo>
                      <a:lnTo>
                        <a:pt x="545" y="612"/>
                      </a:lnTo>
                      <a:lnTo>
                        <a:pt x="585" y="577"/>
                      </a:lnTo>
                      <a:lnTo>
                        <a:pt x="598" y="563"/>
                      </a:lnTo>
                      <a:lnTo>
                        <a:pt x="611" y="547"/>
                      </a:lnTo>
                      <a:lnTo>
                        <a:pt x="619" y="533"/>
                      </a:lnTo>
                      <a:lnTo>
                        <a:pt x="623" y="531"/>
                      </a:lnTo>
                      <a:lnTo>
                        <a:pt x="623" y="528"/>
                      </a:lnTo>
                      <a:lnTo>
                        <a:pt x="634" y="509"/>
                      </a:lnTo>
                      <a:lnTo>
                        <a:pt x="646" y="493"/>
                      </a:lnTo>
                      <a:lnTo>
                        <a:pt x="661" y="479"/>
                      </a:lnTo>
                      <a:lnTo>
                        <a:pt x="672" y="474"/>
                      </a:lnTo>
                      <a:lnTo>
                        <a:pt x="682" y="465"/>
                      </a:lnTo>
                      <a:lnTo>
                        <a:pt x="701" y="416"/>
                      </a:lnTo>
                      <a:lnTo>
                        <a:pt x="705" y="411"/>
                      </a:lnTo>
                      <a:lnTo>
                        <a:pt x="710" y="403"/>
                      </a:lnTo>
                      <a:lnTo>
                        <a:pt x="722" y="386"/>
                      </a:lnTo>
                      <a:lnTo>
                        <a:pt x="735" y="375"/>
                      </a:lnTo>
                      <a:lnTo>
                        <a:pt x="737" y="373"/>
                      </a:lnTo>
                      <a:lnTo>
                        <a:pt x="739" y="370"/>
                      </a:lnTo>
                      <a:lnTo>
                        <a:pt x="743" y="356"/>
                      </a:lnTo>
                      <a:lnTo>
                        <a:pt x="745" y="351"/>
                      </a:lnTo>
                      <a:lnTo>
                        <a:pt x="749" y="346"/>
                      </a:lnTo>
                      <a:lnTo>
                        <a:pt x="760" y="332"/>
                      </a:lnTo>
                      <a:lnTo>
                        <a:pt x="773" y="316"/>
                      </a:lnTo>
                      <a:lnTo>
                        <a:pt x="783" y="302"/>
                      </a:lnTo>
                      <a:lnTo>
                        <a:pt x="785" y="299"/>
                      </a:lnTo>
                      <a:lnTo>
                        <a:pt x="787" y="297"/>
                      </a:lnTo>
                      <a:lnTo>
                        <a:pt x="794" y="283"/>
                      </a:lnTo>
                      <a:lnTo>
                        <a:pt x="802" y="272"/>
                      </a:lnTo>
                      <a:lnTo>
                        <a:pt x="821" y="250"/>
                      </a:lnTo>
                      <a:lnTo>
                        <a:pt x="840" y="226"/>
                      </a:lnTo>
                      <a:lnTo>
                        <a:pt x="848" y="215"/>
                      </a:lnTo>
                      <a:lnTo>
                        <a:pt x="855" y="201"/>
                      </a:lnTo>
                      <a:lnTo>
                        <a:pt x="859" y="188"/>
                      </a:lnTo>
                      <a:lnTo>
                        <a:pt x="863" y="179"/>
                      </a:lnTo>
                      <a:lnTo>
                        <a:pt x="869" y="171"/>
                      </a:lnTo>
                      <a:lnTo>
                        <a:pt x="872" y="166"/>
                      </a:lnTo>
                      <a:lnTo>
                        <a:pt x="878" y="158"/>
                      </a:lnTo>
                      <a:lnTo>
                        <a:pt x="888" y="147"/>
                      </a:lnTo>
                      <a:lnTo>
                        <a:pt x="901" y="128"/>
                      </a:lnTo>
                      <a:lnTo>
                        <a:pt x="903" y="125"/>
                      </a:lnTo>
                      <a:lnTo>
                        <a:pt x="907" y="120"/>
                      </a:lnTo>
                      <a:lnTo>
                        <a:pt x="922" y="106"/>
                      </a:lnTo>
                      <a:lnTo>
                        <a:pt x="935" y="90"/>
                      </a:lnTo>
                      <a:lnTo>
                        <a:pt x="939" y="84"/>
                      </a:lnTo>
                      <a:lnTo>
                        <a:pt x="941" y="81"/>
                      </a:lnTo>
                      <a:lnTo>
                        <a:pt x="954" y="76"/>
                      </a:lnTo>
                      <a:lnTo>
                        <a:pt x="962" y="70"/>
                      </a:lnTo>
                      <a:lnTo>
                        <a:pt x="977" y="62"/>
                      </a:lnTo>
                      <a:lnTo>
                        <a:pt x="985" y="57"/>
                      </a:lnTo>
                      <a:lnTo>
                        <a:pt x="991" y="54"/>
                      </a:lnTo>
                      <a:lnTo>
                        <a:pt x="996" y="49"/>
                      </a:lnTo>
                      <a:lnTo>
                        <a:pt x="1002" y="46"/>
                      </a:lnTo>
                      <a:lnTo>
                        <a:pt x="1012" y="41"/>
                      </a:lnTo>
                      <a:lnTo>
                        <a:pt x="1027" y="32"/>
                      </a:lnTo>
                      <a:lnTo>
                        <a:pt x="1052" y="24"/>
                      </a:lnTo>
                      <a:lnTo>
                        <a:pt x="1078" y="19"/>
                      </a:lnTo>
                      <a:lnTo>
                        <a:pt x="1103" y="13"/>
                      </a:lnTo>
                      <a:lnTo>
                        <a:pt x="1113" y="8"/>
                      </a:lnTo>
                      <a:lnTo>
                        <a:pt x="1124" y="0"/>
                      </a:lnTo>
                    </a:path>
                  </a:pathLst>
                </a:custGeom>
                <a:noFill/>
                <a:ln cap="rnd" w="127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921040" y="1292400"/>
                  <a:ext cx="1727280" cy="1401480"/>
                </a:xfrm>
                <a:custGeom>
                  <a:avLst/>
                  <a:gdLst/>
                  <a:ahLst/>
                  <a:rect l="l" t="t" r="r" b="b"/>
                  <a:pathLst>
                    <a:path w="1088" h="883">
                      <a:moveTo>
                        <a:pt x="1087" y="882"/>
                      </a:moveTo>
                      <a:lnTo>
                        <a:pt x="1029" y="874"/>
                      </a:lnTo>
                      <a:lnTo>
                        <a:pt x="976" y="863"/>
                      </a:lnTo>
                      <a:lnTo>
                        <a:pt x="922" y="852"/>
                      </a:lnTo>
                      <a:lnTo>
                        <a:pt x="864" y="841"/>
                      </a:lnTo>
                      <a:lnTo>
                        <a:pt x="837" y="828"/>
                      </a:lnTo>
                      <a:lnTo>
                        <a:pt x="814" y="814"/>
                      </a:lnTo>
                      <a:lnTo>
                        <a:pt x="787" y="803"/>
                      </a:lnTo>
                      <a:lnTo>
                        <a:pt x="760" y="792"/>
                      </a:lnTo>
                      <a:lnTo>
                        <a:pt x="730" y="779"/>
                      </a:lnTo>
                      <a:lnTo>
                        <a:pt x="718" y="771"/>
                      </a:lnTo>
                      <a:lnTo>
                        <a:pt x="707" y="760"/>
                      </a:lnTo>
                      <a:lnTo>
                        <a:pt x="699" y="752"/>
                      </a:lnTo>
                      <a:lnTo>
                        <a:pt x="691" y="744"/>
                      </a:lnTo>
                      <a:lnTo>
                        <a:pt x="687" y="738"/>
                      </a:lnTo>
                      <a:lnTo>
                        <a:pt x="680" y="733"/>
                      </a:lnTo>
                      <a:lnTo>
                        <a:pt x="672" y="727"/>
                      </a:lnTo>
                      <a:lnTo>
                        <a:pt x="661" y="722"/>
                      </a:lnTo>
                      <a:lnTo>
                        <a:pt x="630" y="684"/>
                      </a:lnTo>
                      <a:lnTo>
                        <a:pt x="595" y="646"/>
                      </a:lnTo>
                      <a:lnTo>
                        <a:pt x="518" y="578"/>
                      </a:lnTo>
                      <a:lnTo>
                        <a:pt x="507" y="565"/>
                      </a:lnTo>
                      <a:lnTo>
                        <a:pt x="495" y="548"/>
                      </a:lnTo>
                      <a:lnTo>
                        <a:pt x="488" y="535"/>
                      </a:lnTo>
                      <a:lnTo>
                        <a:pt x="484" y="532"/>
                      </a:lnTo>
                      <a:lnTo>
                        <a:pt x="484" y="529"/>
                      </a:lnTo>
                      <a:lnTo>
                        <a:pt x="476" y="508"/>
                      </a:lnTo>
                      <a:lnTo>
                        <a:pt x="465" y="491"/>
                      </a:lnTo>
                      <a:lnTo>
                        <a:pt x="449" y="478"/>
                      </a:lnTo>
                      <a:lnTo>
                        <a:pt x="426" y="464"/>
                      </a:lnTo>
                      <a:lnTo>
                        <a:pt x="419" y="442"/>
                      </a:lnTo>
                      <a:lnTo>
                        <a:pt x="411" y="418"/>
                      </a:lnTo>
                      <a:lnTo>
                        <a:pt x="403" y="402"/>
                      </a:lnTo>
                      <a:lnTo>
                        <a:pt x="388" y="385"/>
                      </a:lnTo>
                      <a:lnTo>
                        <a:pt x="376" y="375"/>
                      </a:lnTo>
                      <a:lnTo>
                        <a:pt x="372" y="372"/>
                      </a:lnTo>
                      <a:lnTo>
                        <a:pt x="372" y="369"/>
                      </a:lnTo>
                      <a:lnTo>
                        <a:pt x="369" y="358"/>
                      </a:lnTo>
                      <a:lnTo>
                        <a:pt x="361" y="345"/>
                      </a:lnTo>
                      <a:lnTo>
                        <a:pt x="349" y="331"/>
                      </a:lnTo>
                      <a:lnTo>
                        <a:pt x="338" y="315"/>
                      </a:lnTo>
                      <a:lnTo>
                        <a:pt x="330" y="301"/>
                      </a:lnTo>
                      <a:lnTo>
                        <a:pt x="326" y="299"/>
                      </a:lnTo>
                      <a:lnTo>
                        <a:pt x="326" y="296"/>
                      </a:lnTo>
                      <a:lnTo>
                        <a:pt x="311" y="271"/>
                      </a:lnTo>
                      <a:lnTo>
                        <a:pt x="296" y="250"/>
                      </a:lnTo>
                      <a:lnTo>
                        <a:pt x="276" y="225"/>
                      </a:lnTo>
                      <a:lnTo>
                        <a:pt x="261" y="201"/>
                      </a:lnTo>
                      <a:lnTo>
                        <a:pt x="257" y="187"/>
                      </a:lnTo>
                      <a:lnTo>
                        <a:pt x="253" y="179"/>
                      </a:lnTo>
                      <a:lnTo>
                        <a:pt x="250" y="174"/>
                      </a:lnTo>
                      <a:lnTo>
                        <a:pt x="246" y="171"/>
                      </a:lnTo>
                      <a:lnTo>
                        <a:pt x="242" y="166"/>
                      </a:lnTo>
                      <a:lnTo>
                        <a:pt x="234" y="157"/>
                      </a:lnTo>
                      <a:lnTo>
                        <a:pt x="226" y="147"/>
                      </a:lnTo>
                      <a:lnTo>
                        <a:pt x="211" y="130"/>
                      </a:lnTo>
                      <a:lnTo>
                        <a:pt x="211" y="128"/>
                      </a:lnTo>
                      <a:lnTo>
                        <a:pt x="207" y="122"/>
                      </a:lnTo>
                      <a:lnTo>
                        <a:pt x="196" y="106"/>
                      </a:lnTo>
                      <a:lnTo>
                        <a:pt x="180" y="90"/>
                      </a:lnTo>
                      <a:lnTo>
                        <a:pt x="177" y="84"/>
                      </a:lnTo>
                      <a:lnTo>
                        <a:pt x="177" y="81"/>
                      </a:lnTo>
                      <a:lnTo>
                        <a:pt x="157" y="71"/>
                      </a:lnTo>
                      <a:lnTo>
                        <a:pt x="142" y="62"/>
                      </a:lnTo>
                      <a:lnTo>
                        <a:pt x="134" y="57"/>
                      </a:lnTo>
                      <a:lnTo>
                        <a:pt x="127" y="54"/>
                      </a:lnTo>
                      <a:lnTo>
                        <a:pt x="115" y="46"/>
                      </a:lnTo>
                      <a:lnTo>
                        <a:pt x="107" y="41"/>
                      </a:lnTo>
                      <a:lnTo>
                        <a:pt x="92" y="33"/>
                      </a:lnTo>
                      <a:lnTo>
                        <a:pt x="81" y="27"/>
                      </a:lnTo>
                      <a:lnTo>
                        <a:pt x="69" y="22"/>
                      </a:lnTo>
                      <a:lnTo>
                        <a:pt x="42" y="19"/>
                      </a:lnTo>
                      <a:lnTo>
                        <a:pt x="19" y="14"/>
                      </a:lnTo>
                      <a:lnTo>
                        <a:pt x="8" y="8"/>
                      </a:lnTo>
                      <a:lnTo>
                        <a:pt x="0" y="0"/>
                      </a:lnTo>
                    </a:path>
                  </a:pathLst>
                </a:custGeom>
                <a:noFill/>
                <a:ln cap="rnd" w="127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1168560" y="1374840"/>
                <a:ext cx="3451320" cy="1368360"/>
                <a:chOff x="1168560" y="1374840"/>
                <a:chExt cx="3451320" cy="1368360"/>
              </a:xfrm>
            </p:grpSpPr>
            <p:sp>
              <p:nvSpPr>
                <p:cNvPr id="221" name=""/>
                <p:cNvSpPr/>
                <p:nvPr/>
              </p:nvSpPr>
              <p:spPr>
                <a:xfrm>
                  <a:off x="2953080" y="1374840"/>
                  <a:ext cx="0" cy="1342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168560" y="2743200"/>
                  <a:ext cx="3451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3" name=""/>
            <p:cNvGrpSpPr/>
            <p:nvPr/>
          </p:nvGrpSpPr>
          <p:grpSpPr>
            <a:xfrm>
              <a:off x="6184800" y="760320"/>
              <a:ext cx="2901960" cy="2059200"/>
              <a:chOff x="6184800" y="760320"/>
              <a:chExt cx="2901960" cy="2059200"/>
            </a:xfrm>
          </p:grpSpPr>
          <p:grpSp>
            <p:nvGrpSpPr>
              <p:cNvPr id="224" name=""/>
              <p:cNvGrpSpPr/>
              <p:nvPr/>
            </p:nvGrpSpPr>
            <p:grpSpPr>
              <a:xfrm>
                <a:off x="6184800" y="760320"/>
                <a:ext cx="2901960" cy="2001960"/>
                <a:chOff x="6184800" y="760320"/>
                <a:chExt cx="2901960" cy="2001960"/>
              </a:xfrm>
            </p:grpSpPr>
            <p:sp>
              <p:nvSpPr>
                <p:cNvPr id="225" name=""/>
                <p:cNvSpPr/>
                <p:nvPr/>
              </p:nvSpPr>
              <p:spPr>
                <a:xfrm>
                  <a:off x="6184800" y="777960"/>
                  <a:ext cx="1477800" cy="1984320"/>
                </a:xfrm>
                <a:custGeom>
                  <a:avLst/>
                  <a:gdLst/>
                  <a:ahLst/>
                  <a:rect l="l" t="t" r="r" b="b"/>
                  <a:pathLst>
                    <a:path w="931" h="1250">
                      <a:moveTo>
                        <a:pt x="0" y="1249"/>
                      </a:moveTo>
                      <a:lnTo>
                        <a:pt x="51" y="1238"/>
                      </a:lnTo>
                      <a:lnTo>
                        <a:pt x="95" y="1224"/>
                      </a:lnTo>
                      <a:lnTo>
                        <a:pt x="139" y="1207"/>
                      </a:lnTo>
                      <a:lnTo>
                        <a:pt x="191" y="1191"/>
                      </a:lnTo>
                      <a:lnTo>
                        <a:pt x="212" y="1174"/>
                      </a:lnTo>
                      <a:lnTo>
                        <a:pt x="234" y="1154"/>
                      </a:lnTo>
                      <a:lnTo>
                        <a:pt x="256" y="1138"/>
                      </a:lnTo>
                      <a:lnTo>
                        <a:pt x="278" y="1124"/>
                      </a:lnTo>
                      <a:lnTo>
                        <a:pt x="293" y="1113"/>
                      </a:lnTo>
                      <a:lnTo>
                        <a:pt x="308" y="1102"/>
                      </a:lnTo>
                      <a:lnTo>
                        <a:pt x="315" y="1090"/>
                      </a:lnTo>
                      <a:lnTo>
                        <a:pt x="330" y="1076"/>
                      </a:lnTo>
                      <a:lnTo>
                        <a:pt x="337" y="1063"/>
                      </a:lnTo>
                      <a:lnTo>
                        <a:pt x="344" y="1054"/>
                      </a:lnTo>
                      <a:lnTo>
                        <a:pt x="344" y="1049"/>
                      </a:lnTo>
                      <a:lnTo>
                        <a:pt x="344" y="1043"/>
                      </a:lnTo>
                      <a:lnTo>
                        <a:pt x="352" y="1038"/>
                      </a:lnTo>
                      <a:lnTo>
                        <a:pt x="359" y="1029"/>
                      </a:lnTo>
                      <a:lnTo>
                        <a:pt x="366" y="1021"/>
                      </a:lnTo>
                      <a:lnTo>
                        <a:pt x="396" y="965"/>
                      </a:lnTo>
                      <a:lnTo>
                        <a:pt x="425" y="915"/>
                      </a:lnTo>
                      <a:lnTo>
                        <a:pt x="483" y="815"/>
                      </a:lnTo>
                      <a:lnTo>
                        <a:pt x="491" y="807"/>
                      </a:lnTo>
                      <a:lnTo>
                        <a:pt x="498" y="798"/>
                      </a:lnTo>
                      <a:lnTo>
                        <a:pt x="505" y="776"/>
                      </a:lnTo>
                      <a:lnTo>
                        <a:pt x="520" y="757"/>
                      </a:lnTo>
                      <a:lnTo>
                        <a:pt x="520" y="751"/>
                      </a:lnTo>
                      <a:lnTo>
                        <a:pt x="520" y="748"/>
                      </a:lnTo>
                      <a:lnTo>
                        <a:pt x="527" y="720"/>
                      </a:lnTo>
                      <a:lnTo>
                        <a:pt x="535" y="695"/>
                      </a:lnTo>
                      <a:lnTo>
                        <a:pt x="549" y="679"/>
                      </a:lnTo>
                      <a:lnTo>
                        <a:pt x="564" y="659"/>
                      </a:lnTo>
                      <a:lnTo>
                        <a:pt x="571" y="623"/>
                      </a:lnTo>
                      <a:lnTo>
                        <a:pt x="579" y="590"/>
                      </a:lnTo>
                      <a:lnTo>
                        <a:pt x="586" y="567"/>
                      </a:lnTo>
                      <a:lnTo>
                        <a:pt x="601" y="545"/>
                      </a:lnTo>
                      <a:lnTo>
                        <a:pt x="608" y="528"/>
                      </a:lnTo>
                      <a:lnTo>
                        <a:pt x="615" y="523"/>
                      </a:lnTo>
                      <a:lnTo>
                        <a:pt x="615" y="520"/>
                      </a:lnTo>
                      <a:lnTo>
                        <a:pt x="615" y="503"/>
                      </a:lnTo>
                      <a:lnTo>
                        <a:pt x="622" y="487"/>
                      </a:lnTo>
                      <a:lnTo>
                        <a:pt x="630" y="467"/>
                      </a:lnTo>
                      <a:lnTo>
                        <a:pt x="637" y="445"/>
                      </a:lnTo>
                      <a:lnTo>
                        <a:pt x="652" y="428"/>
                      </a:lnTo>
                      <a:lnTo>
                        <a:pt x="652" y="423"/>
                      </a:lnTo>
                      <a:lnTo>
                        <a:pt x="652" y="420"/>
                      </a:lnTo>
                      <a:lnTo>
                        <a:pt x="666" y="384"/>
                      </a:lnTo>
                      <a:lnTo>
                        <a:pt x="681" y="350"/>
                      </a:lnTo>
                      <a:lnTo>
                        <a:pt x="696" y="320"/>
                      </a:lnTo>
                      <a:lnTo>
                        <a:pt x="710" y="284"/>
                      </a:lnTo>
                      <a:lnTo>
                        <a:pt x="718" y="264"/>
                      </a:lnTo>
                      <a:lnTo>
                        <a:pt x="718" y="253"/>
                      </a:lnTo>
                      <a:lnTo>
                        <a:pt x="718" y="245"/>
                      </a:lnTo>
                      <a:lnTo>
                        <a:pt x="718" y="239"/>
                      </a:lnTo>
                      <a:lnTo>
                        <a:pt x="725" y="233"/>
                      </a:lnTo>
                      <a:lnTo>
                        <a:pt x="725" y="222"/>
                      </a:lnTo>
                      <a:lnTo>
                        <a:pt x="732" y="206"/>
                      </a:lnTo>
                      <a:lnTo>
                        <a:pt x="740" y="194"/>
                      </a:lnTo>
                      <a:lnTo>
                        <a:pt x="747" y="181"/>
                      </a:lnTo>
                      <a:lnTo>
                        <a:pt x="747" y="178"/>
                      </a:lnTo>
                      <a:lnTo>
                        <a:pt x="754" y="169"/>
                      </a:lnTo>
                      <a:lnTo>
                        <a:pt x="754" y="158"/>
                      </a:lnTo>
                      <a:lnTo>
                        <a:pt x="762" y="147"/>
                      </a:lnTo>
                      <a:lnTo>
                        <a:pt x="769" y="133"/>
                      </a:lnTo>
                      <a:lnTo>
                        <a:pt x="769" y="122"/>
                      </a:lnTo>
                      <a:lnTo>
                        <a:pt x="776" y="114"/>
                      </a:lnTo>
                      <a:lnTo>
                        <a:pt x="776" y="111"/>
                      </a:lnTo>
                      <a:lnTo>
                        <a:pt x="798" y="94"/>
                      </a:lnTo>
                      <a:lnTo>
                        <a:pt x="806" y="86"/>
                      </a:lnTo>
                      <a:lnTo>
                        <a:pt x="813" y="78"/>
                      </a:lnTo>
                      <a:lnTo>
                        <a:pt x="820" y="75"/>
                      </a:lnTo>
                      <a:lnTo>
                        <a:pt x="827" y="64"/>
                      </a:lnTo>
                      <a:lnTo>
                        <a:pt x="835" y="55"/>
                      </a:lnTo>
                      <a:lnTo>
                        <a:pt x="849" y="44"/>
                      </a:lnTo>
                      <a:lnTo>
                        <a:pt x="857" y="36"/>
                      </a:lnTo>
                      <a:lnTo>
                        <a:pt x="871" y="30"/>
                      </a:lnTo>
                      <a:lnTo>
                        <a:pt x="893" y="25"/>
                      </a:lnTo>
                      <a:lnTo>
                        <a:pt x="908" y="16"/>
                      </a:lnTo>
                      <a:lnTo>
                        <a:pt x="923" y="11"/>
                      </a:lnTo>
                      <a:lnTo>
                        <a:pt x="930" y="0"/>
                      </a:lnTo>
                    </a:path>
                  </a:pathLst>
                </a:custGeom>
                <a:noFill/>
                <a:ln cap="rnd" w="127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653240" y="760320"/>
                  <a:ext cx="1433520" cy="1987560"/>
                </a:xfrm>
                <a:custGeom>
                  <a:avLst/>
                  <a:gdLst/>
                  <a:ahLst/>
                  <a:rect l="l" t="t" r="r" b="b"/>
                  <a:pathLst>
                    <a:path w="903" h="1252">
                      <a:moveTo>
                        <a:pt x="902" y="1251"/>
                      </a:moveTo>
                      <a:lnTo>
                        <a:pt x="849" y="1240"/>
                      </a:lnTo>
                      <a:lnTo>
                        <a:pt x="806" y="1226"/>
                      </a:lnTo>
                      <a:lnTo>
                        <a:pt x="762" y="1209"/>
                      </a:lnTo>
                      <a:lnTo>
                        <a:pt x="718" y="1193"/>
                      </a:lnTo>
                      <a:lnTo>
                        <a:pt x="692" y="1176"/>
                      </a:lnTo>
                      <a:lnTo>
                        <a:pt x="674" y="1157"/>
                      </a:lnTo>
                      <a:lnTo>
                        <a:pt x="657" y="1138"/>
                      </a:lnTo>
                      <a:lnTo>
                        <a:pt x="631" y="1124"/>
                      </a:lnTo>
                      <a:lnTo>
                        <a:pt x="613" y="1104"/>
                      </a:lnTo>
                      <a:lnTo>
                        <a:pt x="596" y="1093"/>
                      </a:lnTo>
                      <a:lnTo>
                        <a:pt x="587" y="1079"/>
                      </a:lnTo>
                      <a:lnTo>
                        <a:pt x="578" y="1066"/>
                      </a:lnTo>
                      <a:lnTo>
                        <a:pt x="578" y="1057"/>
                      </a:lnTo>
                      <a:lnTo>
                        <a:pt x="578" y="1049"/>
                      </a:lnTo>
                      <a:lnTo>
                        <a:pt x="569" y="1046"/>
                      </a:lnTo>
                      <a:lnTo>
                        <a:pt x="569" y="1038"/>
                      </a:lnTo>
                      <a:lnTo>
                        <a:pt x="560" y="1032"/>
                      </a:lnTo>
                      <a:lnTo>
                        <a:pt x="552" y="1024"/>
                      </a:lnTo>
                      <a:lnTo>
                        <a:pt x="525" y="969"/>
                      </a:lnTo>
                      <a:lnTo>
                        <a:pt x="490" y="916"/>
                      </a:lnTo>
                      <a:lnTo>
                        <a:pt x="429" y="819"/>
                      </a:lnTo>
                      <a:lnTo>
                        <a:pt x="429" y="811"/>
                      </a:lnTo>
                      <a:lnTo>
                        <a:pt x="420" y="800"/>
                      </a:lnTo>
                      <a:lnTo>
                        <a:pt x="412" y="778"/>
                      </a:lnTo>
                      <a:lnTo>
                        <a:pt x="412" y="767"/>
                      </a:lnTo>
                      <a:lnTo>
                        <a:pt x="403" y="758"/>
                      </a:lnTo>
                      <a:lnTo>
                        <a:pt x="403" y="753"/>
                      </a:lnTo>
                      <a:lnTo>
                        <a:pt x="403" y="750"/>
                      </a:lnTo>
                      <a:lnTo>
                        <a:pt x="394" y="722"/>
                      </a:lnTo>
                      <a:lnTo>
                        <a:pt x="385" y="697"/>
                      </a:lnTo>
                      <a:lnTo>
                        <a:pt x="377" y="678"/>
                      </a:lnTo>
                      <a:lnTo>
                        <a:pt x="359" y="659"/>
                      </a:lnTo>
                      <a:lnTo>
                        <a:pt x="350" y="625"/>
                      </a:lnTo>
                      <a:lnTo>
                        <a:pt x="342" y="592"/>
                      </a:lnTo>
                      <a:lnTo>
                        <a:pt x="333" y="570"/>
                      </a:lnTo>
                      <a:lnTo>
                        <a:pt x="324" y="548"/>
                      </a:lnTo>
                      <a:lnTo>
                        <a:pt x="315" y="531"/>
                      </a:lnTo>
                      <a:lnTo>
                        <a:pt x="307" y="526"/>
                      </a:lnTo>
                      <a:lnTo>
                        <a:pt x="307" y="523"/>
                      </a:lnTo>
                      <a:lnTo>
                        <a:pt x="307" y="506"/>
                      </a:lnTo>
                      <a:lnTo>
                        <a:pt x="307" y="490"/>
                      </a:lnTo>
                      <a:lnTo>
                        <a:pt x="298" y="468"/>
                      </a:lnTo>
                      <a:lnTo>
                        <a:pt x="289" y="448"/>
                      </a:lnTo>
                      <a:lnTo>
                        <a:pt x="280" y="432"/>
                      </a:lnTo>
                      <a:lnTo>
                        <a:pt x="272" y="426"/>
                      </a:lnTo>
                      <a:lnTo>
                        <a:pt x="272" y="423"/>
                      </a:lnTo>
                      <a:lnTo>
                        <a:pt x="263" y="387"/>
                      </a:lnTo>
                      <a:lnTo>
                        <a:pt x="245" y="354"/>
                      </a:lnTo>
                      <a:lnTo>
                        <a:pt x="228" y="321"/>
                      </a:lnTo>
                      <a:lnTo>
                        <a:pt x="219" y="285"/>
                      </a:lnTo>
                      <a:lnTo>
                        <a:pt x="210" y="266"/>
                      </a:lnTo>
                      <a:lnTo>
                        <a:pt x="210" y="255"/>
                      </a:lnTo>
                      <a:lnTo>
                        <a:pt x="210" y="246"/>
                      </a:lnTo>
                      <a:lnTo>
                        <a:pt x="210" y="241"/>
                      </a:lnTo>
                      <a:lnTo>
                        <a:pt x="210" y="235"/>
                      </a:lnTo>
                      <a:lnTo>
                        <a:pt x="201" y="224"/>
                      </a:lnTo>
                      <a:lnTo>
                        <a:pt x="193" y="207"/>
                      </a:lnTo>
                      <a:lnTo>
                        <a:pt x="193" y="196"/>
                      </a:lnTo>
                      <a:lnTo>
                        <a:pt x="184" y="183"/>
                      </a:lnTo>
                      <a:lnTo>
                        <a:pt x="184" y="180"/>
                      </a:lnTo>
                      <a:lnTo>
                        <a:pt x="175" y="171"/>
                      </a:lnTo>
                      <a:lnTo>
                        <a:pt x="166" y="160"/>
                      </a:lnTo>
                      <a:lnTo>
                        <a:pt x="166" y="149"/>
                      </a:lnTo>
                      <a:lnTo>
                        <a:pt x="158" y="135"/>
                      </a:lnTo>
                      <a:lnTo>
                        <a:pt x="158" y="124"/>
                      </a:lnTo>
                      <a:lnTo>
                        <a:pt x="149" y="116"/>
                      </a:lnTo>
                      <a:lnTo>
                        <a:pt x="149" y="113"/>
                      </a:lnTo>
                      <a:lnTo>
                        <a:pt x="131" y="97"/>
                      </a:lnTo>
                      <a:lnTo>
                        <a:pt x="123" y="86"/>
                      </a:lnTo>
                      <a:lnTo>
                        <a:pt x="114" y="80"/>
                      </a:lnTo>
                      <a:lnTo>
                        <a:pt x="114" y="75"/>
                      </a:lnTo>
                      <a:lnTo>
                        <a:pt x="105" y="66"/>
                      </a:lnTo>
                      <a:lnTo>
                        <a:pt x="96" y="58"/>
                      </a:lnTo>
                      <a:lnTo>
                        <a:pt x="79" y="47"/>
                      </a:lnTo>
                      <a:lnTo>
                        <a:pt x="70" y="39"/>
                      </a:lnTo>
                      <a:lnTo>
                        <a:pt x="61" y="33"/>
                      </a:lnTo>
                      <a:lnTo>
                        <a:pt x="44" y="28"/>
                      </a:lnTo>
                      <a:lnTo>
                        <a:pt x="18" y="16"/>
                      </a:lnTo>
                      <a:lnTo>
                        <a:pt x="9" y="11"/>
                      </a:lnTo>
                      <a:lnTo>
                        <a:pt x="0" y="0"/>
                      </a:lnTo>
                    </a:path>
                  </a:pathLst>
                </a:custGeom>
                <a:noFill/>
                <a:ln cap="rnd" w="127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6216480" y="865080"/>
                <a:ext cx="2841480" cy="1954440"/>
                <a:chOff x="6216480" y="865080"/>
                <a:chExt cx="2841480" cy="1954440"/>
              </a:xfrm>
            </p:grpSpPr>
            <p:sp>
              <p:nvSpPr>
                <p:cNvPr id="228" name=""/>
                <p:cNvSpPr/>
                <p:nvPr/>
              </p:nvSpPr>
              <p:spPr>
                <a:xfrm>
                  <a:off x="7684920" y="865080"/>
                  <a:ext cx="0" cy="1928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216480" y="2819520"/>
                  <a:ext cx="284148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0" name=""/>
            <p:cNvSpPr/>
            <p:nvPr/>
          </p:nvSpPr>
          <p:spPr>
            <a:xfrm>
              <a:off x="1117080" y="152280"/>
              <a:ext cx="39837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Phenotypic variation in GFW</a:t>
              </a:r>
              <a:endParaRPr b="0" lang="en-US" sz="2200" spc="-1" strike="noStrike">
                <a:solidFill>
                  <a:srgbClr val="000000"/>
                </a:solidFill>
                <a:latin typeface="Times New Roman"/>
              </a:endParaRPr>
            </a:p>
          </p:txBody>
        </p:sp>
        <p:sp>
          <p:nvSpPr>
            <p:cNvPr id="231" name=""/>
            <p:cNvSpPr/>
            <p:nvPr/>
          </p:nvSpPr>
          <p:spPr>
            <a:xfrm>
              <a:off x="5414400" y="171360"/>
              <a:ext cx="37047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Phenotypic variation in FD</a:t>
              </a:r>
              <a:endParaRPr b="0" lang="en-US" sz="2200" spc="-1" strike="noStrike">
                <a:solidFill>
                  <a:srgbClr val="000000"/>
                </a:solidFill>
                <a:latin typeface="Times New Roman"/>
              </a:endParaRPr>
            </a:p>
          </p:txBody>
        </p:sp>
        <p:sp>
          <p:nvSpPr>
            <p:cNvPr id="232" name=""/>
            <p:cNvSpPr/>
            <p:nvPr/>
          </p:nvSpPr>
          <p:spPr>
            <a:xfrm>
              <a:off x="4037040" y="1523880"/>
              <a:ext cx="2592360" cy="1754280"/>
            </a:xfrm>
            <a:custGeom>
              <a:avLst/>
              <a:gdLst/>
              <a:ahLst/>
              <a:rect l="l" t="t" r="r" b="b"/>
              <a:pathLst>
                <a:path w="1633" h="1105">
                  <a:moveTo>
                    <a:pt x="816" y="1104"/>
                  </a:moveTo>
                  <a:lnTo>
                    <a:pt x="994" y="952"/>
                  </a:lnTo>
                  <a:lnTo>
                    <a:pt x="906" y="952"/>
                  </a:lnTo>
                  <a:lnTo>
                    <a:pt x="906" y="298"/>
                  </a:lnTo>
                  <a:lnTo>
                    <a:pt x="1495" y="298"/>
                  </a:lnTo>
                  <a:lnTo>
                    <a:pt x="1495" y="395"/>
                  </a:lnTo>
                  <a:lnTo>
                    <a:pt x="1632" y="198"/>
                  </a:lnTo>
                  <a:lnTo>
                    <a:pt x="1495" y="0"/>
                  </a:lnTo>
                  <a:lnTo>
                    <a:pt x="1495" y="98"/>
                  </a:lnTo>
                  <a:lnTo>
                    <a:pt x="137" y="98"/>
                  </a:lnTo>
                  <a:lnTo>
                    <a:pt x="137" y="0"/>
                  </a:lnTo>
                  <a:lnTo>
                    <a:pt x="0" y="198"/>
                  </a:lnTo>
                  <a:lnTo>
                    <a:pt x="137" y="395"/>
                  </a:lnTo>
                  <a:lnTo>
                    <a:pt x="137" y="298"/>
                  </a:lnTo>
                  <a:lnTo>
                    <a:pt x="726" y="298"/>
                  </a:lnTo>
                  <a:lnTo>
                    <a:pt x="726" y="952"/>
                  </a:lnTo>
                  <a:lnTo>
                    <a:pt x="638" y="952"/>
                  </a:lnTo>
                  <a:lnTo>
                    <a:pt x="816" y="1104"/>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654360" y="2362320"/>
              <a:ext cx="381240" cy="338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684920" y="2421000"/>
              <a:ext cx="381240" cy="33804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5" name=""/>
          <p:cNvGrpSpPr/>
          <p:nvPr/>
        </p:nvGrpSpPr>
        <p:grpSpPr>
          <a:xfrm>
            <a:off x="1139760" y="3265560"/>
            <a:ext cx="7775280" cy="3211560"/>
            <a:chOff x="1139760" y="3265560"/>
            <a:chExt cx="7775280" cy="3211560"/>
          </a:xfrm>
        </p:grpSpPr>
        <p:sp>
          <p:nvSpPr>
            <p:cNvPr id="236" name=""/>
            <p:cNvSpPr/>
            <p:nvPr/>
          </p:nvSpPr>
          <p:spPr>
            <a:xfrm>
              <a:off x="2815920" y="5472000"/>
              <a:ext cx="4724640" cy="928800"/>
            </a:xfrm>
            <a:prstGeom prst="rect">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485160" y="3265560"/>
              <a:ext cx="39747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netic correlation betwe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W and FD</a:t>
              </a:r>
              <a:endParaRPr b="0" lang="en-US" sz="2400" spc="-1" strike="noStrike">
                <a:solidFill>
                  <a:srgbClr val="000000"/>
                </a:solidFill>
                <a:latin typeface="Times New Roman"/>
              </a:endParaRPr>
            </a:p>
          </p:txBody>
        </p:sp>
        <p:grpSp>
          <p:nvGrpSpPr>
            <p:cNvPr id="238" name=""/>
            <p:cNvGrpSpPr/>
            <p:nvPr/>
          </p:nvGrpSpPr>
          <p:grpSpPr>
            <a:xfrm>
              <a:off x="1139760" y="4098960"/>
              <a:ext cx="6858000" cy="1082520"/>
              <a:chOff x="1139760" y="4098960"/>
              <a:chExt cx="6858000" cy="1082520"/>
            </a:xfrm>
          </p:grpSpPr>
          <p:sp>
            <p:nvSpPr>
              <p:cNvPr id="239" name=""/>
              <p:cNvSpPr/>
              <p:nvPr/>
            </p:nvSpPr>
            <p:spPr>
              <a:xfrm>
                <a:off x="1139760" y="4098960"/>
                <a:ext cx="6858000" cy="1082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191240" y="4332240"/>
                <a:ext cx="6701040" cy="539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EBV</a:t>
                </a:r>
                <a:r>
                  <a:rPr b="1" lang="en-GB" sz="2600" spc="-1" strike="noStrike" baseline="-25000">
                    <a:solidFill>
                      <a:srgbClr val="000000"/>
                    </a:solidFill>
                    <a:latin typeface="Arial"/>
                  </a:rPr>
                  <a:t>GFW</a:t>
                </a:r>
                <a:r>
                  <a:rPr b="1" lang="en-GB" sz="2600" spc="-1" strike="noStrike">
                    <a:solidFill>
                      <a:srgbClr val="000000"/>
                    </a:solidFill>
                    <a:latin typeface="Arial"/>
                  </a:rPr>
                  <a:t> = h</a:t>
                </a:r>
                <a:r>
                  <a:rPr b="1" lang="en-GB" sz="2600" spc="-1" strike="noStrike" baseline="30000">
                    <a:solidFill>
                      <a:srgbClr val="000000"/>
                    </a:solidFill>
                    <a:latin typeface="Arial"/>
                  </a:rPr>
                  <a:t>2</a:t>
                </a:r>
                <a:r>
                  <a:rPr b="1" lang="en-GB" sz="2600" spc="-1" strike="noStrike" baseline="-25000">
                    <a:solidFill>
                      <a:srgbClr val="000000"/>
                    </a:solidFill>
                    <a:latin typeface="Arial"/>
                  </a:rPr>
                  <a:t>GFW</a:t>
                </a:r>
                <a:r>
                  <a:rPr b="1" lang="en-GB" sz="2600" spc="-1" strike="noStrike">
                    <a:solidFill>
                      <a:srgbClr val="000000"/>
                    </a:solidFill>
                    <a:latin typeface="Arial"/>
                  </a:rPr>
                  <a:t> x predicted superiority FW</a:t>
                </a:r>
                <a:endParaRPr b="0" lang="en-US" sz="2600" spc="-1" strike="noStrike">
                  <a:solidFill>
                    <a:srgbClr val="000000"/>
                  </a:solidFill>
                  <a:latin typeface="Times New Roman"/>
                </a:endParaRPr>
              </a:p>
            </p:txBody>
          </p:sp>
        </p:grpSp>
        <p:sp>
          <p:nvSpPr>
            <p:cNvPr id="241" name=""/>
            <p:cNvSpPr/>
            <p:nvPr/>
          </p:nvSpPr>
          <p:spPr>
            <a:xfrm>
              <a:off x="3027240" y="5595840"/>
              <a:ext cx="450216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ƒ (predicted superiority FD)</a:t>
              </a:r>
              <a:endParaRPr b="0" lang="en-US" sz="2600" spc="-1" strike="noStrike">
                <a:solidFill>
                  <a:srgbClr val="000000"/>
                </a:solidFill>
                <a:latin typeface="Times New Roman"/>
              </a:endParaRPr>
            </a:p>
          </p:txBody>
        </p:sp>
        <p:sp>
          <p:nvSpPr>
            <p:cNvPr id="242" name=""/>
            <p:cNvSpPr/>
            <p:nvPr/>
          </p:nvSpPr>
          <p:spPr>
            <a:xfrm>
              <a:off x="7692840" y="3409920"/>
              <a:ext cx="1222200" cy="3067200"/>
            </a:xfrm>
            <a:custGeom>
              <a:avLst/>
              <a:gdLst/>
              <a:ahLst/>
              <a:rect l="l" t="t" r="r" b="b"/>
              <a:pathLst>
                <a:path w="1106" h="1932">
                  <a:moveTo>
                    <a:pt x="0" y="0"/>
                  </a:moveTo>
                  <a:lnTo>
                    <a:pt x="116" y="7"/>
                  </a:lnTo>
                  <a:lnTo>
                    <a:pt x="224" y="13"/>
                  </a:lnTo>
                  <a:lnTo>
                    <a:pt x="332" y="32"/>
                  </a:lnTo>
                  <a:lnTo>
                    <a:pt x="431" y="58"/>
                  </a:lnTo>
                  <a:lnTo>
                    <a:pt x="620" y="128"/>
                  </a:lnTo>
                  <a:lnTo>
                    <a:pt x="781" y="218"/>
                  </a:lnTo>
                  <a:lnTo>
                    <a:pt x="916" y="326"/>
                  </a:lnTo>
                  <a:lnTo>
                    <a:pt x="970" y="390"/>
                  </a:lnTo>
                  <a:lnTo>
                    <a:pt x="1015" y="454"/>
                  </a:lnTo>
                  <a:lnTo>
                    <a:pt x="1060" y="524"/>
                  </a:lnTo>
                  <a:lnTo>
                    <a:pt x="1087" y="595"/>
                  </a:lnTo>
                  <a:lnTo>
                    <a:pt x="1096" y="665"/>
                  </a:lnTo>
                  <a:lnTo>
                    <a:pt x="1105" y="742"/>
                  </a:lnTo>
                  <a:lnTo>
                    <a:pt x="1105" y="1010"/>
                  </a:lnTo>
                  <a:lnTo>
                    <a:pt x="1087" y="1132"/>
                  </a:lnTo>
                  <a:lnTo>
                    <a:pt x="1051" y="1247"/>
                  </a:lnTo>
                  <a:lnTo>
                    <a:pt x="988" y="1356"/>
                  </a:lnTo>
                  <a:lnTo>
                    <a:pt x="898" y="1451"/>
                  </a:lnTo>
                  <a:lnTo>
                    <a:pt x="781" y="1541"/>
                  </a:lnTo>
                  <a:lnTo>
                    <a:pt x="656" y="1618"/>
                  </a:lnTo>
                  <a:lnTo>
                    <a:pt x="503" y="1675"/>
                  </a:lnTo>
                  <a:lnTo>
                    <a:pt x="341" y="1720"/>
                  </a:lnTo>
                  <a:lnTo>
                    <a:pt x="341" y="1931"/>
                  </a:lnTo>
                  <a:lnTo>
                    <a:pt x="0" y="1624"/>
                  </a:lnTo>
                  <a:lnTo>
                    <a:pt x="341" y="1240"/>
                  </a:lnTo>
                  <a:lnTo>
                    <a:pt x="341" y="1451"/>
                  </a:lnTo>
                  <a:lnTo>
                    <a:pt x="485" y="1413"/>
                  </a:lnTo>
                  <a:lnTo>
                    <a:pt x="611" y="1362"/>
                  </a:lnTo>
                  <a:lnTo>
                    <a:pt x="728" y="1304"/>
                  </a:lnTo>
                  <a:lnTo>
                    <a:pt x="835" y="1234"/>
                  </a:lnTo>
                  <a:lnTo>
                    <a:pt x="925" y="1157"/>
                  </a:lnTo>
                  <a:lnTo>
                    <a:pt x="997" y="1068"/>
                  </a:lnTo>
                  <a:lnTo>
                    <a:pt x="1051" y="972"/>
                  </a:lnTo>
                  <a:lnTo>
                    <a:pt x="1087" y="876"/>
                  </a:lnTo>
                  <a:lnTo>
                    <a:pt x="1033" y="748"/>
                  </a:lnTo>
                  <a:lnTo>
                    <a:pt x="952" y="633"/>
                  </a:lnTo>
                  <a:lnTo>
                    <a:pt x="835" y="531"/>
                  </a:lnTo>
                  <a:lnTo>
                    <a:pt x="710" y="441"/>
                  </a:lnTo>
                  <a:lnTo>
                    <a:pt x="548" y="371"/>
                  </a:lnTo>
                  <a:lnTo>
                    <a:pt x="377" y="313"/>
                  </a:lnTo>
                  <a:lnTo>
                    <a:pt x="197" y="281"/>
                  </a:lnTo>
                  <a:lnTo>
                    <a:pt x="0" y="269"/>
                  </a:lnTo>
                  <a:lnTo>
                    <a:pt x="0" y="0"/>
                  </a:lnTo>
                </a:path>
              </a:pathLst>
            </a:custGeom>
            <a:solidFill>
              <a:srgbClr val="fa9ca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492440" y="4983120"/>
              <a:ext cx="609480" cy="623880"/>
            </a:xfrm>
            <a:prstGeom prst="plus">
              <a:avLst>
                <a:gd name="adj" fmla="val 40866"/>
              </a:avLst>
            </a:prstGeom>
            <a:solidFill>
              <a:srgbClr val="88aa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6200000">
              <a:off x="1453680" y="4731840"/>
              <a:ext cx="1111320" cy="1612800"/>
            </a:xfrm>
            <a:prstGeom prst="rightArrow">
              <a:avLst>
                <a:gd name="adj1" fmla="val 50000"/>
                <a:gd name="adj2" fmla="val 37181"/>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807696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46" name=""/>
          <p:cNvGrpSpPr/>
          <p:nvPr/>
        </p:nvGrpSpPr>
        <p:grpSpPr>
          <a:xfrm>
            <a:off x="1034640" y="990720"/>
            <a:ext cx="7805520" cy="4187880"/>
            <a:chOff x="1034640" y="990720"/>
            <a:chExt cx="7805520" cy="4187880"/>
          </a:xfrm>
        </p:grpSpPr>
        <p:sp>
          <p:nvSpPr>
            <p:cNvPr id="247" name=""/>
            <p:cNvSpPr/>
            <p:nvPr/>
          </p:nvSpPr>
          <p:spPr>
            <a:xfrm>
              <a:off x="1379520" y="1582560"/>
              <a:ext cx="1306080" cy="539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EBV</a:t>
              </a:r>
              <a:r>
                <a:rPr b="1" lang="en-GB" sz="2600" spc="-1" strike="noStrike" baseline="-25000">
                  <a:solidFill>
                    <a:srgbClr val="ffffff"/>
                  </a:solidFill>
                  <a:latin typeface="Arial"/>
                </a:rPr>
                <a:t>GFW</a:t>
              </a:r>
              <a:endParaRPr b="0" lang="en-US" sz="2600" spc="-1" strike="noStrike">
                <a:solidFill>
                  <a:srgbClr val="000000"/>
                </a:solidFill>
                <a:latin typeface="Times New Roman"/>
              </a:endParaRPr>
            </a:p>
          </p:txBody>
        </p:sp>
        <p:sp>
          <p:nvSpPr>
            <p:cNvPr id="248" name=""/>
            <p:cNvSpPr/>
            <p:nvPr/>
          </p:nvSpPr>
          <p:spPr>
            <a:xfrm>
              <a:off x="1366560" y="2881440"/>
              <a:ext cx="1115640" cy="539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EBV</a:t>
              </a:r>
              <a:r>
                <a:rPr b="1" lang="en-GB" sz="2600" spc="-1" strike="noStrike" baseline="-25000">
                  <a:solidFill>
                    <a:srgbClr val="ffffff"/>
                  </a:solidFill>
                  <a:latin typeface="Arial"/>
                </a:rPr>
                <a:t>FD</a:t>
              </a:r>
              <a:endParaRPr b="0" lang="en-US" sz="2600" spc="-1" strike="noStrike">
                <a:solidFill>
                  <a:srgbClr val="000000"/>
                </a:solidFill>
                <a:latin typeface="Times New Roman"/>
              </a:endParaRPr>
            </a:p>
          </p:txBody>
        </p:sp>
        <p:sp>
          <p:nvSpPr>
            <p:cNvPr id="249" name=""/>
            <p:cNvSpPr/>
            <p:nvPr/>
          </p:nvSpPr>
          <p:spPr>
            <a:xfrm>
              <a:off x="1370520" y="4221000"/>
              <a:ext cx="1179720" cy="539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EBV</a:t>
              </a:r>
              <a:r>
                <a:rPr b="1" lang="en-GB" sz="2600" spc="-1" strike="noStrike" baseline="-25000">
                  <a:solidFill>
                    <a:srgbClr val="ffffff"/>
                  </a:solidFill>
                  <a:latin typeface="Arial"/>
                </a:rPr>
                <a:t>BW</a:t>
              </a:r>
              <a:endParaRPr b="0" lang="en-US" sz="2600" spc="-1" strike="noStrike">
                <a:solidFill>
                  <a:srgbClr val="000000"/>
                </a:solidFill>
                <a:latin typeface="Times New Roman"/>
              </a:endParaRPr>
            </a:p>
          </p:txBody>
        </p:sp>
        <p:sp>
          <p:nvSpPr>
            <p:cNvPr id="250" name=""/>
            <p:cNvSpPr/>
            <p:nvPr/>
          </p:nvSpPr>
          <p:spPr>
            <a:xfrm>
              <a:off x="3589200" y="1585800"/>
              <a:ext cx="1306080" cy="539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REV</a:t>
              </a:r>
              <a:r>
                <a:rPr b="1" lang="en-GB" sz="2600" spc="-1" strike="noStrike" baseline="-25000">
                  <a:solidFill>
                    <a:srgbClr val="ffffff"/>
                  </a:solidFill>
                  <a:latin typeface="Arial"/>
                </a:rPr>
                <a:t>GFW</a:t>
              </a:r>
              <a:endParaRPr b="0" lang="en-US" sz="2600" spc="-1" strike="noStrike">
                <a:solidFill>
                  <a:srgbClr val="000000"/>
                </a:solidFill>
                <a:latin typeface="Times New Roman"/>
              </a:endParaRPr>
            </a:p>
          </p:txBody>
        </p:sp>
        <p:sp>
          <p:nvSpPr>
            <p:cNvPr id="251" name=""/>
            <p:cNvSpPr/>
            <p:nvPr/>
          </p:nvSpPr>
          <p:spPr>
            <a:xfrm>
              <a:off x="3576600" y="2925720"/>
              <a:ext cx="1115640" cy="539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REV</a:t>
              </a:r>
              <a:r>
                <a:rPr b="1" lang="en-GB" sz="2600" spc="-1" strike="noStrike" baseline="-25000">
                  <a:solidFill>
                    <a:srgbClr val="ffffff"/>
                  </a:solidFill>
                  <a:latin typeface="Arial"/>
                </a:rPr>
                <a:t>FD</a:t>
              </a:r>
              <a:endParaRPr b="0" lang="en-US" sz="2600" spc="-1" strike="noStrike">
                <a:solidFill>
                  <a:srgbClr val="000000"/>
                </a:solidFill>
                <a:latin typeface="Times New Roman"/>
              </a:endParaRPr>
            </a:p>
          </p:txBody>
        </p:sp>
        <p:sp>
          <p:nvSpPr>
            <p:cNvPr id="252" name=""/>
            <p:cNvSpPr/>
            <p:nvPr/>
          </p:nvSpPr>
          <p:spPr>
            <a:xfrm>
              <a:off x="3580200" y="4221000"/>
              <a:ext cx="1179720" cy="539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REV</a:t>
              </a:r>
              <a:r>
                <a:rPr b="1" lang="en-GB" sz="2600" spc="-1" strike="noStrike" baseline="-25000">
                  <a:solidFill>
                    <a:srgbClr val="ffffff"/>
                  </a:solidFill>
                  <a:latin typeface="Arial"/>
                </a:rPr>
                <a:t>BW</a:t>
              </a:r>
              <a:endParaRPr b="0" lang="en-US" sz="2600" spc="-1" strike="noStrike">
                <a:solidFill>
                  <a:srgbClr val="000000"/>
                </a:solidFill>
                <a:latin typeface="Times New Roman"/>
              </a:endParaRPr>
            </a:p>
          </p:txBody>
        </p:sp>
        <p:sp>
          <p:nvSpPr>
            <p:cNvPr id="253" name=""/>
            <p:cNvSpPr/>
            <p:nvPr/>
          </p:nvSpPr>
          <p:spPr>
            <a:xfrm rot="19080000">
              <a:off x="2885760" y="1593360"/>
              <a:ext cx="457200" cy="489240"/>
            </a:xfrm>
            <a:prstGeom prst="plus">
              <a:avLst>
                <a:gd name="adj" fmla="val 41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rot="19080000">
              <a:off x="2885760" y="2936520"/>
              <a:ext cx="457200" cy="488880"/>
            </a:xfrm>
            <a:prstGeom prst="plus">
              <a:avLst>
                <a:gd name="adj" fmla="val 41995"/>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rot="19080000">
              <a:off x="2885760" y="4231800"/>
              <a:ext cx="457200" cy="489240"/>
            </a:xfrm>
            <a:prstGeom prst="plus">
              <a:avLst>
                <a:gd name="adj" fmla="val 41995"/>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849480" y="990720"/>
              <a:ext cx="379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endParaRPr b="0" lang="en-US" sz="2800" spc="-1" strike="noStrike">
                <a:solidFill>
                  <a:srgbClr val="000000"/>
                </a:solidFill>
                <a:latin typeface="Times New Roman"/>
              </a:endParaRPr>
            </a:p>
          </p:txBody>
        </p:sp>
        <p:sp>
          <p:nvSpPr>
            <p:cNvPr id="257" name=""/>
            <p:cNvSpPr/>
            <p:nvPr/>
          </p:nvSpPr>
          <p:spPr>
            <a:xfrm>
              <a:off x="4751280" y="2311560"/>
              <a:ext cx="1766880" cy="479160"/>
            </a:xfrm>
            <a:prstGeom prst="line">
              <a:avLst/>
            </a:prstGeom>
            <a:ln w="25560">
              <a:solidFill>
                <a:srgbClr val="edf9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4749480" y="3357360"/>
              <a:ext cx="1766880" cy="898200"/>
            </a:xfrm>
            <a:prstGeom prst="line">
              <a:avLst/>
            </a:prstGeom>
            <a:ln w="25560">
              <a:solidFill>
                <a:srgbClr val="edf9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749480" y="3121200"/>
              <a:ext cx="1766880" cy="0"/>
            </a:xfrm>
            <a:prstGeom prst="line">
              <a:avLst/>
            </a:prstGeom>
            <a:ln w="25560">
              <a:solidFill>
                <a:srgbClr val="edf9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836040" y="2332080"/>
              <a:ext cx="2004120" cy="1916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VERALL</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GENETIC</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MERIT</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n $)</a:t>
              </a:r>
              <a:endParaRPr b="0" lang="en-US" sz="3000" spc="-1" strike="noStrike">
                <a:solidFill>
                  <a:srgbClr val="000000"/>
                </a:solidFill>
                <a:latin typeface="Times New Roman"/>
              </a:endParaRPr>
            </a:p>
          </p:txBody>
        </p:sp>
        <p:sp>
          <p:nvSpPr>
            <p:cNvPr id="261" name=""/>
            <p:cNvSpPr/>
            <p:nvPr/>
          </p:nvSpPr>
          <p:spPr>
            <a:xfrm>
              <a:off x="1034640" y="2255760"/>
              <a:ext cx="4039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t>
              </a:r>
              <a:endParaRPr b="0" lang="en-US" sz="3000" spc="-1" strike="noStrike">
                <a:solidFill>
                  <a:srgbClr val="000000"/>
                </a:solidFill>
                <a:latin typeface="Times New Roman"/>
              </a:endParaRPr>
            </a:p>
          </p:txBody>
        </p:sp>
        <p:sp>
          <p:nvSpPr>
            <p:cNvPr id="262" name=""/>
            <p:cNvSpPr/>
            <p:nvPr/>
          </p:nvSpPr>
          <p:spPr>
            <a:xfrm>
              <a:off x="1034640" y="3551400"/>
              <a:ext cx="4039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t>
              </a:r>
              <a:endParaRPr b="0" lang="en-US" sz="3000" spc="-1" strike="noStrike">
                <a:solidFill>
                  <a:srgbClr val="000000"/>
                </a:solidFill>
                <a:latin typeface="Times New Roman"/>
              </a:endParaRPr>
            </a:p>
          </p:txBody>
        </p:sp>
        <p:sp>
          <p:nvSpPr>
            <p:cNvPr id="263" name=""/>
            <p:cNvSpPr/>
            <p:nvPr/>
          </p:nvSpPr>
          <p:spPr>
            <a:xfrm rot="16200000">
              <a:off x="7502400" y="1701720"/>
              <a:ext cx="673200" cy="457200"/>
            </a:xfrm>
            <a:prstGeom prst="rightArrow">
              <a:avLst>
                <a:gd name="adj1" fmla="val 50000"/>
                <a:gd name="adj2" fmla="val 3682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371360" y="1146240"/>
              <a:ext cx="925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nk</a:t>
              </a:r>
              <a:endParaRPr b="0" lang="en-US" sz="2400" spc="-1" strike="noStrike">
                <a:solidFill>
                  <a:srgbClr val="000000"/>
                </a:solidFill>
                <a:latin typeface="Times New Roman"/>
              </a:endParaRPr>
            </a:p>
          </p:txBody>
        </p:sp>
        <p:sp>
          <p:nvSpPr>
            <p:cNvPr id="265" name=""/>
            <p:cNvSpPr/>
            <p:nvPr/>
          </p:nvSpPr>
          <p:spPr>
            <a:xfrm flipH="1" rot="16200000">
              <a:off x="7419600" y="4530600"/>
              <a:ext cx="838440" cy="457200"/>
            </a:xfrm>
            <a:prstGeom prst="rightArrow">
              <a:avLst>
                <a:gd name="adj1" fmla="val 50000"/>
                <a:gd name="adj2" fmla="val 4588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6098040" y="5105520"/>
            <a:ext cx="29595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lative to avera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0)</a:t>
            </a:r>
            <a:endParaRPr b="0" lang="en-US" sz="2400" spc="-1" strike="noStrike">
              <a:solidFill>
                <a:srgbClr val="000000"/>
              </a:solidFill>
              <a:latin typeface="Times New Roman"/>
            </a:endParaRPr>
          </a:p>
        </p:txBody>
      </p:sp>
      <p:sp>
        <p:nvSpPr>
          <p:cNvPr id="267" name=""/>
          <p:cNvSpPr/>
          <p:nvPr/>
        </p:nvSpPr>
        <p:spPr>
          <a:xfrm>
            <a:off x="807696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2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election Index</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22:55:21Z</dcterms:created>
  <dc:creator>USER</dc:creator>
  <dc:description/>
  <dc:language>en-US</dc:language>
  <cp:lastModifiedBy>Hdaily</cp:lastModifiedBy>
  <cp:lastPrinted>2000-02-03T09:09:47Z</cp:lastPrinted>
  <dcterms:modified xsi:type="dcterms:W3CDTF">2000-06-15T07:38:19Z</dcterms:modified>
  <cp:revision>4</cp:revision>
  <dc:subject/>
  <dc:title>Basic Genetic Terminology as Applied to Merino Breeding</dc:title>
</cp:coreProperties>
</file>