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4067-FDB8-43D7-8938-6F08C9A6F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37DE-BB57-4C0D-9113-055015319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the environmental and host-specific factors which influence the incidence of louse infestation.  It provides a basis for understanding the various control strategies available to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1449-BA2B-44A0-B5EC-F0BF73C2F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moisture are the two critical environmental factors influencing the incidence and severity of lice infestation by </a:t>
            </a:r>
            <a:r>
              <a:rPr b="0" i="1" lang="en-US" sz="1200" spc="-1" strike="noStrike">
                <a:solidFill>
                  <a:srgbClr val="000000"/>
                </a:solidFill>
                <a:latin typeface="Times New Roman"/>
              </a:rPr>
              <a:t>Bovicola ovis</a:t>
            </a:r>
            <a:r>
              <a:rPr b="0" lang="en-US" sz="1200" spc="-1" strike="noStrike">
                <a:solidFill>
                  <a:srgbClr val="000000"/>
                </a:solidFill>
                <a:latin typeface="Times New Roman"/>
              </a:rPr>
              <a:t> - the body louse.  Of the two, temperature is the most critical and can be used strategically in controlling lice infestation via choice of shearing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77E6-5718-4022-9716-13063D260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sensitivity of lice to high temperatures, shearing at a time when the skin will be exposed to high temperatures will reduce the survival rate of adult lice remaining on the sk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46C3-26C4-4D2F-ABE2-002698AD4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B. ovis</a:t>
            </a:r>
            <a:r>
              <a:rPr b="0" lang="en-AU" sz="1200" spc="-1" strike="noStrike">
                <a:solidFill>
                  <a:srgbClr val="000000"/>
                </a:solidFill>
                <a:latin typeface="Times New Roman"/>
              </a:rPr>
              <a:t> is theoretically easy to eradicate from farms, but this has never been achieved on a state scale.  In theory (and practice) eradication can be achieved by a single effective treatment to all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rol is based solely upon chemical treatment of all animals with organophosphates (dip, spray or jet), synthetic pyrethroids (backline, dip, spray or jet), insect growth regulators and insect development inhibitors (backline).  But this reliance on chemical treatments raises issues of residues and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effectiveness, off shears treatments (backline, dip or spray) are more effective than short wool treatments (dip or spray) which in turn are more effective than long wool treatments (dip or j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vention of re-infestation is a major aspect of contr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2856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Factors Affecting the Incidence of Lice Infestation</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nvironmental factor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emperature </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B. ovis</a:t>
            </a:r>
            <a:r>
              <a:rPr b="1" lang="en-GB" sz="2400" spc="-1" strike="noStrike">
                <a:solidFill>
                  <a:srgbClr val="ffffff"/>
                </a:solidFill>
                <a:latin typeface="Arial"/>
              </a:rPr>
              <a:t> is very sensitive to changes in temperature </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um is 37°C</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37 °C no egg production, &gt;39°C egg production reduced, 45 °C for 18 hr causes death irrespective of humidity</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oistur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ce are susceptible to drowning on a wet skin - up to 90% of adults can drown during a thunderstorm</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gs fail to hatch at a relative humidity of 90%</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1143000" y="4632480"/>
            <a:ext cx="8001000" cy="1618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e to temperature and shearing effects there is a marked seasonal variation in numbers. Few lice are found after shearing, numbers remain low over summer, then increase from autumn through winter until the next shearing. Increases in numbers can be interrupted by soaking thunderstorms.</a:t>
            </a:r>
            <a:endParaRPr b="0" lang="en-US" sz="2000" spc="-1" strike="noStrike">
              <a:solidFill>
                <a:srgbClr val="000000"/>
              </a:solidFill>
              <a:latin typeface="Times New Roman"/>
            </a:endParaRPr>
          </a:p>
        </p:txBody>
      </p:sp>
      <p:sp>
        <p:nvSpPr>
          <p:cNvPr id="53"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hear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moves most eggs, 30-50 of the adults and exposes remainder to high skin temperatu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mer skin temperatures in shorn sheep are often in the range 45-55°C </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Wool cov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ffects lice survival by effects on skin temperature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ss cover allows greater penetration of solar radiation and greater variation in skin temperatu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longer the staple the better for lice</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571840" y="304920"/>
            <a:ext cx="4591080" cy="5857920"/>
          </a:xfrm>
          <a:prstGeom prst="rect">
            <a:avLst/>
          </a:prstGeom>
          <a:ln w="0">
            <a:noFill/>
          </a:ln>
        </p:spPr>
      </p:pic>
      <p:sp>
        <p:nvSpPr>
          <p:cNvPr id="57" name=""/>
          <p:cNvSpPr/>
          <p:nvPr/>
        </p:nvSpPr>
        <p:spPr>
          <a:xfrm>
            <a:off x="7301880" y="643104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43:14Z</dcterms:created>
  <dc:creator>USER</dc:creator>
  <dc:description/>
  <dc:language>en-US</dc:language>
  <cp:lastModifiedBy>Hdaily</cp:lastModifiedBy>
  <cp:lastPrinted>2000-02-03T09:09:47Z</cp:lastPrinted>
  <dcterms:modified xsi:type="dcterms:W3CDTF">2000-06-20T01:14:27Z</dcterms:modified>
  <cp:revision>3</cp:revision>
  <dc:subject/>
  <dc:title>  Factors Affecting the Incidence of Lice Infestation</dc:title>
</cp:coreProperties>
</file>