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06A9-3DF7-432A-99E8-6D5DC2207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7EFD-54DD-45AE-96AC-2D72D9347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mechanisms whereby cobalt deficiency impacts on ruminant production. It identifies those regions throughout Australia most prone to cobalt deficiency and discusses some of the factors influencing the occurrence of deficienc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907A-408E-4D2F-87EF-5DAF77605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oils Analysis and Interpretive Manual, ed. CSIRO, p3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s susceptible to cobalt deficiency occur in most states of Australia.  But while the deficiency-prone areas appear to be relatively small, the local consequences of deficiency can be catastrophic.  For example, the areas in south west WA deficient in cobalt are also characterised by high sheep and cattle numbers, making it a critical region for improving cobalt availability.  In the early 1920’s, it was near impossible to raise sheep and cattle in these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E497-CB1B-43B8-AD0F-DBDC1F409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562040" y="533520"/>
            <a:ext cx="3657600" cy="2743200"/>
          </a:xfrm>
          <a:prstGeom prst="rect">
            <a:avLst/>
          </a:prstGeom>
          <a:ln w="0">
            <a:noFill/>
          </a:ln>
        </p:spPr>
      </p:sp>
      <p:sp>
        <p:nvSpPr>
          <p:cNvPr id="1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function of cobalt in ruminants is in the synthesis of vitamin B12, the active form of cobalt.  It provides a unique demonstration of symbiosis between mineral, rumen microbes and the animal.  Microbes convert dietary cobalt into vitamin B12 in the rumen and vitamin is then absorbed by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gastrics are unable to produce vitamin B12 from cobalt and therefore it must provided directly in their diet. In practice, microbes within the monogastric gut would also produce some vitamin B12 from cobalt, but of insufficient quantities for normal physiological function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8FDD-781F-4655-9B3F-34A422C42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562040" y="533520"/>
            <a:ext cx="3657600" cy="2743200"/>
          </a:xfrm>
          <a:prstGeom prst="rect">
            <a:avLst/>
          </a:prstGeom>
          <a:ln w="0">
            <a:noFill/>
          </a:ln>
        </p:spPr>
      </p:sp>
      <p:sp>
        <p:nvSpPr>
          <p:cNvPr id="1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common symptom of cobalt deficiency is appetite loss, even in the face of high feed availability.  This can therefore result in live weight loss and reduced wool growth rate. Anaemia is another sympt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dy or volcanic soils are largely deficient in cobalt.  These soils are characteristic of large parts of south west W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most likely to occur on lush green pastures.  Plants do not require cobalt for growth, so the uptake of cobalt by pastures is not proportional to plant growth.  Therefore strategies which increase pasture productivity will dilute the concentration of cobalt in the herbage, increasing the chance of cobalt deficiency.  The likelihood of deficiency is therefore also greater in spring than other s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ith most minerals, rapidly growing sheep or reproducing sheep have higher requirements for cobalt and so are more prone to deficiency than dry, mature shee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792E-5CAD-48C3-81E8-B2064C400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562040" y="533520"/>
            <a:ext cx="3657600" cy="2743200"/>
          </a:xfrm>
          <a:prstGeom prst="rect">
            <a:avLst/>
          </a:prstGeom>
          <a:ln w="0">
            <a:noFill/>
          </a:ln>
        </p:spPr>
      </p:sp>
      <p:sp>
        <p:nvSpPr>
          <p:cNvPr id="1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chemical action of vitamin B12 is well known.  The above reaction is one of five sequential steps responsible for the conversion of propionate to glucose.  Glucose is necessary to supply the special needs of the brain and red blood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ity of the enzyme </a:t>
            </a:r>
            <a:r>
              <a:rPr b="0" i="1" lang="en-US" sz="1200" spc="-1" strike="noStrike">
                <a:solidFill>
                  <a:srgbClr val="000000"/>
                </a:solidFill>
                <a:latin typeface="Times New Roman"/>
              </a:rPr>
              <a:t>methylmalonyl CoA mutase</a:t>
            </a:r>
            <a:r>
              <a:rPr b="0" lang="en-US" sz="1200" spc="-1" strike="noStrike">
                <a:solidFill>
                  <a:srgbClr val="000000"/>
                </a:solidFill>
                <a:latin typeface="Times New Roman"/>
              </a:rPr>
              <a:t> is dependent on vitamin B12.  When cobalt is deficient, vitamin B12 becomes rate-limiting and propionate builds up.  This signals the brain that sufficient energy is available and causes a depression in appetite.  This reduction in feed intake can then impact on sheep produ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4B6B-552D-45B2-BE3E-461DD6139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562040" y="533520"/>
            <a:ext cx="3657600" cy="2743200"/>
          </a:xfrm>
          <a:prstGeom prst="rect">
            <a:avLst/>
          </a:prstGeom>
          <a:ln w="0">
            <a:noFill/>
          </a:ln>
        </p:spPr>
      </p:sp>
      <p:sp>
        <p:nvSpPr>
          <p:cNvPr id="1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balt is also required in methionine and folate metabolism.  The enzyme </a:t>
            </a:r>
            <a:r>
              <a:rPr b="0" i="1" lang="en-US" sz="1200" spc="-1" strike="noStrike">
                <a:solidFill>
                  <a:srgbClr val="000000"/>
                </a:solidFill>
                <a:latin typeface="Times New Roman"/>
              </a:rPr>
              <a:t>methionine</a:t>
            </a:r>
            <a:r>
              <a:rPr b="0" lang="en-US" sz="1200" spc="-1" strike="noStrike">
                <a:solidFill>
                  <a:srgbClr val="000000"/>
                </a:solidFill>
                <a:latin typeface="Times New Roman"/>
              </a:rPr>
              <a:t> </a:t>
            </a:r>
            <a:r>
              <a:rPr b="0" i="1" lang="en-US" sz="1200" spc="-1" strike="noStrike">
                <a:solidFill>
                  <a:srgbClr val="000000"/>
                </a:solidFill>
                <a:latin typeface="Times New Roman"/>
              </a:rPr>
              <a:t>synthase</a:t>
            </a:r>
            <a:r>
              <a:rPr b="0" lang="en-US" sz="1200" spc="-1" strike="noStrike">
                <a:solidFill>
                  <a:srgbClr val="000000"/>
                </a:solidFill>
                <a:latin typeface="Times New Roman"/>
              </a:rPr>
              <a:t> is necessary for the regeneration and conservation of methionine, a major limiting amino acid in the sheep.  As sulfur-containing amino acids are rate-limiting for wool growth, modifying the activity of </a:t>
            </a:r>
            <a:r>
              <a:rPr b="0" i="1" lang="en-US" sz="1200" spc="-1" strike="noStrike">
                <a:solidFill>
                  <a:srgbClr val="000000"/>
                </a:solidFill>
                <a:latin typeface="Times New Roman"/>
              </a:rPr>
              <a:t>methionine synthase</a:t>
            </a:r>
            <a:r>
              <a:rPr b="0" lang="en-US" sz="1200" spc="-1" strike="noStrike">
                <a:solidFill>
                  <a:srgbClr val="000000"/>
                </a:solidFill>
                <a:latin typeface="Times New Roman"/>
              </a:rPr>
              <a:t> via cobalt availability may influence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12 deficiency also causes a dramatic decrease in the concentration of folate in the liver.  As folate is required for cell division, many processes where active cell division is taking place are slowed.  This offers an explanation for the anaemia associated with cobalt deficiency, as the rate of red blood cell division is re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balt Deficienc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CO_MAP" descr=""/>
          <p:cNvPicPr/>
          <p:nvPr/>
        </p:nvPicPr>
        <p:blipFill>
          <a:blip r:embed="rId1"/>
          <a:stretch/>
        </p:blipFill>
        <p:spPr>
          <a:xfrm>
            <a:off x="1981080" y="380880"/>
            <a:ext cx="5943600" cy="5700960"/>
          </a:xfrm>
          <a:prstGeom prst="rect">
            <a:avLst/>
          </a:prstGeom>
          <a:ln w="0">
            <a:noFill/>
          </a:ln>
        </p:spPr>
      </p:pic>
      <p:sp>
        <p:nvSpPr>
          <p:cNvPr id="50" name=""/>
          <p:cNvSpPr/>
          <p:nvPr/>
        </p:nvSpPr>
        <p:spPr>
          <a:xfrm>
            <a:off x="5766840" y="6400800"/>
            <a:ext cx="3342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oils Analysis and Interpretive Manu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155240" y="609480"/>
            <a:ext cx="8162640" cy="5447160"/>
            <a:chOff x="1155240" y="609480"/>
            <a:chExt cx="8162640" cy="5447160"/>
          </a:xfrm>
        </p:grpSpPr>
        <p:grpSp>
          <p:nvGrpSpPr>
            <p:cNvPr id="52" name=""/>
            <p:cNvGrpSpPr/>
            <p:nvPr/>
          </p:nvGrpSpPr>
          <p:grpSpPr>
            <a:xfrm>
              <a:off x="5380560" y="1684440"/>
              <a:ext cx="2605320" cy="3120840"/>
              <a:chOff x="5380560" y="1684440"/>
              <a:chExt cx="2605320" cy="3120840"/>
            </a:xfrm>
          </p:grpSpPr>
          <p:sp>
            <p:nvSpPr>
              <p:cNvPr id="53" name=""/>
              <p:cNvSpPr/>
              <p:nvPr/>
            </p:nvSpPr>
            <p:spPr>
              <a:xfrm>
                <a:off x="6948360" y="3943440"/>
                <a:ext cx="353880" cy="379440"/>
              </a:xfrm>
              <a:custGeom>
                <a:avLst/>
                <a:gdLst/>
                <a:ahLst/>
                <a:rect l="l" t="t" r="r" b="b"/>
                <a:pathLst>
                  <a:path w="262" h="239">
                    <a:moveTo>
                      <a:pt x="114" y="47"/>
                    </a:moveTo>
                    <a:lnTo>
                      <a:pt x="103" y="87"/>
                    </a:lnTo>
                    <a:lnTo>
                      <a:pt x="89" y="120"/>
                    </a:lnTo>
                    <a:lnTo>
                      <a:pt x="75" y="141"/>
                    </a:lnTo>
                    <a:lnTo>
                      <a:pt x="58" y="163"/>
                    </a:lnTo>
                    <a:lnTo>
                      <a:pt x="35" y="187"/>
                    </a:lnTo>
                    <a:lnTo>
                      <a:pt x="13" y="215"/>
                    </a:lnTo>
                    <a:lnTo>
                      <a:pt x="0" y="232"/>
                    </a:lnTo>
                    <a:lnTo>
                      <a:pt x="34" y="231"/>
                    </a:lnTo>
                    <a:lnTo>
                      <a:pt x="66" y="226"/>
                    </a:lnTo>
                    <a:lnTo>
                      <a:pt x="89" y="217"/>
                    </a:lnTo>
                    <a:lnTo>
                      <a:pt x="98" y="208"/>
                    </a:lnTo>
                    <a:lnTo>
                      <a:pt x="87" y="238"/>
                    </a:lnTo>
                    <a:lnTo>
                      <a:pt x="188" y="226"/>
                    </a:lnTo>
                    <a:lnTo>
                      <a:pt x="202" y="193"/>
                    </a:lnTo>
                    <a:lnTo>
                      <a:pt x="218" y="158"/>
                    </a:lnTo>
                    <a:lnTo>
                      <a:pt x="231" y="107"/>
                    </a:lnTo>
                    <a:lnTo>
                      <a:pt x="246" y="55"/>
                    </a:lnTo>
                    <a:lnTo>
                      <a:pt x="251" y="40"/>
                    </a:lnTo>
                    <a:lnTo>
                      <a:pt x="254" y="24"/>
                    </a:lnTo>
                    <a:lnTo>
                      <a:pt x="261" y="0"/>
                    </a:lnTo>
                    <a:lnTo>
                      <a:pt x="114" y="47"/>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80560" y="1684440"/>
                <a:ext cx="2563560" cy="3120840"/>
              </a:xfrm>
              <a:custGeom>
                <a:avLst/>
                <a:gdLst/>
                <a:ahLst/>
                <a:rect l="l" t="t" r="r" b="b"/>
                <a:pathLst>
                  <a:path w="1898" h="1966">
                    <a:moveTo>
                      <a:pt x="784" y="33"/>
                    </a:moveTo>
                    <a:lnTo>
                      <a:pt x="717" y="49"/>
                    </a:lnTo>
                    <a:lnTo>
                      <a:pt x="637" y="75"/>
                    </a:lnTo>
                    <a:lnTo>
                      <a:pt x="569" y="105"/>
                    </a:lnTo>
                    <a:lnTo>
                      <a:pt x="498" y="141"/>
                    </a:lnTo>
                    <a:lnTo>
                      <a:pt x="442" y="176"/>
                    </a:lnTo>
                    <a:lnTo>
                      <a:pt x="393" y="211"/>
                    </a:lnTo>
                    <a:lnTo>
                      <a:pt x="364" y="235"/>
                    </a:lnTo>
                    <a:lnTo>
                      <a:pt x="337" y="261"/>
                    </a:lnTo>
                    <a:lnTo>
                      <a:pt x="309" y="291"/>
                    </a:lnTo>
                    <a:lnTo>
                      <a:pt x="294" y="311"/>
                    </a:lnTo>
                    <a:lnTo>
                      <a:pt x="264" y="280"/>
                    </a:lnTo>
                    <a:lnTo>
                      <a:pt x="228" y="247"/>
                    </a:lnTo>
                    <a:lnTo>
                      <a:pt x="213" y="235"/>
                    </a:lnTo>
                    <a:lnTo>
                      <a:pt x="196" y="245"/>
                    </a:lnTo>
                    <a:lnTo>
                      <a:pt x="174" y="264"/>
                    </a:lnTo>
                    <a:lnTo>
                      <a:pt x="152" y="289"/>
                    </a:lnTo>
                    <a:lnTo>
                      <a:pt x="126" y="322"/>
                    </a:lnTo>
                    <a:lnTo>
                      <a:pt x="103" y="353"/>
                    </a:lnTo>
                    <a:lnTo>
                      <a:pt x="78" y="391"/>
                    </a:lnTo>
                    <a:lnTo>
                      <a:pt x="55" y="436"/>
                    </a:lnTo>
                    <a:lnTo>
                      <a:pt x="36" y="481"/>
                    </a:lnTo>
                    <a:lnTo>
                      <a:pt x="20" y="538"/>
                    </a:lnTo>
                    <a:lnTo>
                      <a:pt x="9" y="585"/>
                    </a:lnTo>
                    <a:lnTo>
                      <a:pt x="3" y="622"/>
                    </a:lnTo>
                    <a:lnTo>
                      <a:pt x="0" y="656"/>
                    </a:lnTo>
                    <a:lnTo>
                      <a:pt x="0" y="679"/>
                    </a:lnTo>
                    <a:lnTo>
                      <a:pt x="12" y="693"/>
                    </a:lnTo>
                    <a:lnTo>
                      <a:pt x="31" y="698"/>
                    </a:lnTo>
                    <a:lnTo>
                      <a:pt x="52" y="691"/>
                    </a:lnTo>
                    <a:lnTo>
                      <a:pt x="78" y="680"/>
                    </a:lnTo>
                    <a:lnTo>
                      <a:pt x="98" y="660"/>
                    </a:lnTo>
                    <a:lnTo>
                      <a:pt x="131" y="633"/>
                    </a:lnTo>
                    <a:lnTo>
                      <a:pt x="91" y="685"/>
                    </a:lnTo>
                    <a:lnTo>
                      <a:pt x="94" y="703"/>
                    </a:lnTo>
                    <a:lnTo>
                      <a:pt x="106" y="715"/>
                    </a:lnTo>
                    <a:lnTo>
                      <a:pt x="123" y="719"/>
                    </a:lnTo>
                    <a:lnTo>
                      <a:pt x="135" y="741"/>
                    </a:lnTo>
                    <a:lnTo>
                      <a:pt x="116" y="741"/>
                    </a:lnTo>
                    <a:lnTo>
                      <a:pt x="99" y="745"/>
                    </a:lnTo>
                    <a:lnTo>
                      <a:pt x="82" y="755"/>
                    </a:lnTo>
                    <a:lnTo>
                      <a:pt x="68" y="766"/>
                    </a:lnTo>
                    <a:lnTo>
                      <a:pt x="51" y="789"/>
                    </a:lnTo>
                    <a:lnTo>
                      <a:pt x="34" y="819"/>
                    </a:lnTo>
                    <a:lnTo>
                      <a:pt x="24" y="842"/>
                    </a:lnTo>
                    <a:lnTo>
                      <a:pt x="16" y="866"/>
                    </a:lnTo>
                    <a:lnTo>
                      <a:pt x="8" y="906"/>
                    </a:lnTo>
                    <a:lnTo>
                      <a:pt x="7" y="964"/>
                    </a:lnTo>
                    <a:lnTo>
                      <a:pt x="9" y="1014"/>
                    </a:lnTo>
                    <a:lnTo>
                      <a:pt x="20" y="1066"/>
                    </a:lnTo>
                    <a:lnTo>
                      <a:pt x="34" y="1106"/>
                    </a:lnTo>
                    <a:lnTo>
                      <a:pt x="62" y="1155"/>
                    </a:lnTo>
                    <a:lnTo>
                      <a:pt x="91" y="1190"/>
                    </a:lnTo>
                    <a:lnTo>
                      <a:pt x="120" y="1215"/>
                    </a:lnTo>
                    <a:lnTo>
                      <a:pt x="150" y="1239"/>
                    </a:lnTo>
                    <a:lnTo>
                      <a:pt x="166" y="1263"/>
                    </a:lnTo>
                    <a:lnTo>
                      <a:pt x="191" y="1293"/>
                    </a:lnTo>
                    <a:lnTo>
                      <a:pt x="227" y="1332"/>
                    </a:lnTo>
                    <a:lnTo>
                      <a:pt x="260" y="1363"/>
                    </a:lnTo>
                    <a:lnTo>
                      <a:pt x="335" y="1426"/>
                    </a:lnTo>
                    <a:lnTo>
                      <a:pt x="380" y="1456"/>
                    </a:lnTo>
                    <a:lnTo>
                      <a:pt x="420" y="1478"/>
                    </a:lnTo>
                    <a:lnTo>
                      <a:pt x="432" y="1512"/>
                    </a:lnTo>
                    <a:lnTo>
                      <a:pt x="440" y="1563"/>
                    </a:lnTo>
                    <a:lnTo>
                      <a:pt x="443" y="1600"/>
                    </a:lnTo>
                    <a:lnTo>
                      <a:pt x="438" y="1645"/>
                    </a:lnTo>
                    <a:lnTo>
                      <a:pt x="429" y="1685"/>
                    </a:lnTo>
                    <a:lnTo>
                      <a:pt x="411" y="1734"/>
                    </a:lnTo>
                    <a:lnTo>
                      <a:pt x="396" y="1767"/>
                    </a:lnTo>
                    <a:lnTo>
                      <a:pt x="373" y="1807"/>
                    </a:lnTo>
                    <a:lnTo>
                      <a:pt x="354" y="1839"/>
                    </a:lnTo>
                    <a:lnTo>
                      <a:pt x="399" y="1832"/>
                    </a:lnTo>
                    <a:lnTo>
                      <a:pt x="420" y="1825"/>
                    </a:lnTo>
                    <a:lnTo>
                      <a:pt x="428" y="1825"/>
                    </a:lnTo>
                    <a:lnTo>
                      <a:pt x="426" y="1838"/>
                    </a:lnTo>
                    <a:lnTo>
                      <a:pt x="414" y="1861"/>
                    </a:lnTo>
                    <a:lnTo>
                      <a:pt x="453" y="1855"/>
                    </a:lnTo>
                    <a:lnTo>
                      <a:pt x="488" y="1842"/>
                    </a:lnTo>
                    <a:lnTo>
                      <a:pt x="543" y="1820"/>
                    </a:lnTo>
                    <a:lnTo>
                      <a:pt x="583" y="1806"/>
                    </a:lnTo>
                    <a:lnTo>
                      <a:pt x="555" y="1859"/>
                    </a:lnTo>
                    <a:lnTo>
                      <a:pt x="534" y="1899"/>
                    </a:lnTo>
                    <a:lnTo>
                      <a:pt x="513" y="1936"/>
                    </a:lnTo>
                    <a:lnTo>
                      <a:pt x="574" y="1922"/>
                    </a:lnTo>
                    <a:lnTo>
                      <a:pt x="582" y="1930"/>
                    </a:lnTo>
                    <a:lnTo>
                      <a:pt x="594" y="1965"/>
                    </a:lnTo>
                    <a:lnTo>
                      <a:pt x="687" y="1912"/>
                    </a:lnTo>
                    <a:lnTo>
                      <a:pt x="743" y="1880"/>
                    </a:lnTo>
                    <a:lnTo>
                      <a:pt x="753" y="1846"/>
                    </a:lnTo>
                    <a:lnTo>
                      <a:pt x="763" y="1814"/>
                    </a:lnTo>
                    <a:lnTo>
                      <a:pt x="774" y="1782"/>
                    </a:lnTo>
                    <a:lnTo>
                      <a:pt x="791" y="1747"/>
                    </a:lnTo>
                    <a:lnTo>
                      <a:pt x="818" y="1705"/>
                    </a:lnTo>
                    <a:lnTo>
                      <a:pt x="847" y="1669"/>
                    </a:lnTo>
                    <a:lnTo>
                      <a:pt x="882" y="1629"/>
                    </a:lnTo>
                    <a:lnTo>
                      <a:pt x="912" y="1604"/>
                    </a:lnTo>
                    <a:lnTo>
                      <a:pt x="939" y="1584"/>
                    </a:lnTo>
                    <a:lnTo>
                      <a:pt x="976" y="1563"/>
                    </a:lnTo>
                    <a:lnTo>
                      <a:pt x="1008" y="1549"/>
                    </a:lnTo>
                    <a:lnTo>
                      <a:pt x="1038" y="1539"/>
                    </a:lnTo>
                    <a:lnTo>
                      <a:pt x="1102" y="1528"/>
                    </a:lnTo>
                    <a:lnTo>
                      <a:pt x="1160" y="1517"/>
                    </a:lnTo>
                    <a:lnTo>
                      <a:pt x="1222" y="1501"/>
                    </a:lnTo>
                    <a:lnTo>
                      <a:pt x="1282" y="1483"/>
                    </a:lnTo>
                    <a:lnTo>
                      <a:pt x="1331" y="1466"/>
                    </a:lnTo>
                    <a:lnTo>
                      <a:pt x="1345" y="1468"/>
                    </a:lnTo>
                    <a:lnTo>
                      <a:pt x="1356" y="1472"/>
                    </a:lnTo>
                    <a:lnTo>
                      <a:pt x="1364" y="1483"/>
                    </a:lnTo>
                    <a:lnTo>
                      <a:pt x="1368" y="1497"/>
                    </a:lnTo>
                    <a:lnTo>
                      <a:pt x="1366" y="1513"/>
                    </a:lnTo>
                    <a:lnTo>
                      <a:pt x="1361" y="1538"/>
                    </a:lnTo>
                    <a:lnTo>
                      <a:pt x="1349" y="1583"/>
                    </a:lnTo>
                    <a:lnTo>
                      <a:pt x="1338" y="1614"/>
                    </a:lnTo>
                    <a:lnTo>
                      <a:pt x="1321" y="1647"/>
                    </a:lnTo>
                    <a:lnTo>
                      <a:pt x="1304" y="1673"/>
                    </a:lnTo>
                    <a:lnTo>
                      <a:pt x="1291" y="1685"/>
                    </a:lnTo>
                    <a:lnTo>
                      <a:pt x="1283" y="1702"/>
                    </a:lnTo>
                    <a:lnTo>
                      <a:pt x="1299" y="1703"/>
                    </a:lnTo>
                    <a:lnTo>
                      <a:pt x="1321" y="1696"/>
                    </a:lnTo>
                    <a:lnTo>
                      <a:pt x="1364" y="1682"/>
                    </a:lnTo>
                    <a:lnTo>
                      <a:pt x="1355" y="1720"/>
                    </a:lnTo>
                    <a:lnTo>
                      <a:pt x="1384" y="1711"/>
                    </a:lnTo>
                    <a:lnTo>
                      <a:pt x="1415" y="1700"/>
                    </a:lnTo>
                    <a:lnTo>
                      <a:pt x="1437" y="1690"/>
                    </a:lnTo>
                    <a:lnTo>
                      <a:pt x="1466" y="1674"/>
                    </a:lnTo>
                    <a:lnTo>
                      <a:pt x="1490" y="1659"/>
                    </a:lnTo>
                    <a:lnTo>
                      <a:pt x="1511" y="1647"/>
                    </a:lnTo>
                    <a:lnTo>
                      <a:pt x="1520" y="1612"/>
                    </a:lnTo>
                    <a:lnTo>
                      <a:pt x="1531" y="1575"/>
                    </a:lnTo>
                    <a:lnTo>
                      <a:pt x="1568" y="1494"/>
                    </a:lnTo>
                    <a:lnTo>
                      <a:pt x="1605" y="1419"/>
                    </a:lnTo>
                    <a:lnTo>
                      <a:pt x="1677" y="1267"/>
                    </a:lnTo>
                    <a:lnTo>
                      <a:pt x="1729" y="1169"/>
                    </a:lnTo>
                    <a:lnTo>
                      <a:pt x="1770" y="1095"/>
                    </a:lnTo>
                    <a:lnTo>
                      <a:pt x="1796" y="1048"/>
                    </a:lnTo>
                    <a:lnTo>
                      <a:pt x="1812" y="1009"/>
                    </a:lnTo>
                    <a:lnTo>
                      <a:pt x="1830" y="961"/>
                    </a:lnTo>
                    <a:lnTo>
                      <a:pt x="1839" y="930"/>
                    </a:lnTo>
                    <a:lnTo>
                      <a:pt x="1846" y="891"/>
                    </a:lnTo>
                    <a:lnTo>
                      <a:pt x="1850" y="859"/>
                    </a:lnTo>
                    <a:lnTo>
                      <a:pt x="1853" y="824"/>
                    </a:lnTo>
                    <a:lnTo>
                      <a:pt x="1854" y="756"/>
                    </a:lnTo>
                    <a:lnTo>
                      <a:pt x="1848" y="704"/>
                    </a:lnTo>
                    <a:lnTo>
                      <a:pt x="1840" y="667"/>
                    </a:lnTo>
                    <a:lnTo>
                      <a:pt x="1826" y="640"/>
                    </a:lnTo>
                    <a:lnTo>
                      <a:pt x="1805" y="612"/>
                    </a:lnTo>
                    <a:lnTo>
                      <a:pt x="1822" y="614"/>
                    </a:lnTo>
                    <a:lnTo>
                      <a:pt x="1840" y="607"/>
                    </a:lnTo>
                    <a:lnTo>
                      <a:pt x="1855" y="598"/>
                    </a:lnTo>
                    <a:lnTo>
                      <a:pt x="1868" y="585"/>
                    </a:lnTo>
                    <a:lnTo>
                      <a:pt x="1879" y="571"/>
                    </a:lnTo>
                    <a:lnTo>
                      <a:pt x="1888" y="552"/>
                    </a:lnTo>
                    <a:lnTo>
                      <a:pt x="1894" y="533"/>
                    </a:lnTo>
                    <a:lnTo>
                      <a:pt x="1897" y="507"/>
                    </a:lnTo>
                    <a:lnTo>
                      <a:pt x="1892" y="490"/>
                    </a:lnTo>
                    <a:lnTo>
                      <a:pt x="1884" y="475"/>
                    </a:lnTo>
                    <a:lnTo>
                      <a:pt x="1873" y="464"/>
                    </a:lnTo>
                    <a:lnTo>
                      <a:pt x="1857" y="457"/>
                    </a:lnTo>
                    <a:lnTo>
                      <a:pt x="1843" y="453"/>
                    </a:lnTo>
                    <a:lnTo>
                      <a:pt x="1826" y="452"/>
                    </a:lnTo>
                    <a:lnTo>
                      <a:pt x="1811" y="460"/>
                    </a:lnTo>
                    <a:lnTo>
                      <a:pt x="1796" y="469"/>
                    </a:lnTo>
                    <a:lnTo>
                      <a:pt x="1784" y="480"/>
                    </a:lnTo>
                    <a:lnTo>
                      <a:pt x="1773" y="496"/>
                    </a:lnTo>
                    <a:lnTo>
                      <a:pt x="1764" y="506"/>
                    </a:lnTo>
                    <a:lnTo>
                      <a:pt x="1740" y="446"/>
                    </a:lnTo>
                    <a:lnTo>
                      <a:pt x="1722" y="400"/>
                    </a:lnTo>
                    <a:lnTo>
                      <a:pt x="1703" y="360"/>
                    </a:lnTo>
                    <a:lnTo>
                      <a:pt x="1683" y="323"/>
                    </a:lnTo>
                    <a:lnTo>
                      <a:pt x="1654" y="282"/>
                    </a:lnTo>
                    <a:lnTo>
                      <a:pt x="1618" y="240"/>
                    </a:lnTo>
                    <a:lnTo>
                      <a:pt x="1572" y="200"/>
                    </a:lnTo>
                    <a:lnTo>
                      <a:pt x="1523" y="159"/>
                    </a:lnTo>
                    <a:lnTo>
                      <a:pt x="1476" y="127"/>
                    </a:lnTo>
                    <a:lnTo>
                      <a:pt x="1426" y="99"/>
                    </a:lnTo>
                    <a:lnTo>
                      <a:pt x="1375" y="70"/>
                    </a:lnTo>
                    <a:lnTo>
                      <a:pt x="1317" y="49"/>
                    </a:lnTo>
                    <a:lnTo>
                      <a:pt x="1264" y="33"/>
                    </a:lnTo>
                    <a:lnTo>
                      <a:pt x="1198" y="18"/>
                    </a:lnTo>
                    <a:lnTo>
                      <a:pt x="1109" y="3"/>
                    </a:lnTo>
                    <a:lnTo>
                      <a:pt x="1045" y="0"/>
                    </a:lnTo>
                    <a:lnTo>
                      <a:pt x="974" y="1"/>
                    </a:lnTo>
                    <a:lnTo>
                      <a:pt x="896" y="9"/>
                    </a:lnTo>
                    <a:lnTo>
                      <a:pt x="847" y="19"/>
                    </a:lnTo>
                    <a:lnTo>
                      <a:pt x="784" y="33"/>
                    </a:lnTo>
                  </a:path>
                </a:pathLst>
              </a:custGeom>
              <a:solidFill>
                <a:srgbClr val="f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5453280" y="3014640"/>
                <a:ext cx="514440" cy="449280"/>
                <a:chOff x="5453280" y="3014640"/>
                <a:chExt cx="514440" cy="449280"/>
              </a:xfrm>
            </p:grpSpPr>
            <p:sp>
              <p:nvSpPr>
                <p:cNvPr id="56" name=""/>
                <p:cNvSpPr/>
                <p:nvPr/>
              </p:nvSpPr>
              <p:spPr>
                <a:xfrm>
                  <a:off x="5453280" y="3014640"/>
                  <a:ext cx="514440" cy="449280"/>
                </a:xfrm>
                <a:custGeom>
                  <a:avLst/>
                  <a:gdLst/>
                  <a:ahLst/>
                  <a:rect l="l" t="t" r="r" b="b"/>
                  <a:pathLst>
                    <a:path w="381" h="283">
                      <a:moveTo>
                        <a:pt x="111" y="0"/>
                      </a:moveTo>
                      <a:lnTo>
                        <a:pt x="86" y="11"/>
                      </a:lnTo>
                      <a:lnTo>
                        <a:pt x="64" y="21"/>
                      </a:lnTo>
                      <a:lnTo>
                        <a:pt x="43" y="36"/>
                      </a:lnTo>
                      <a:lnTo>
                        <a:pt x="24" y="55"/>
                      </a:lnTo>
                      <a:lnTo>
                        <a:pt x="11" y="73"/>
                      </a:lnTo>
                      <a:lnTo>
                        <a:pt x="3" y="95"/>
                      </a:lnTo>
                      <a:lnTo>
                        <a:pt x="0" y="123"/>
                      </a:lnTo>
                      <a:lnTo>
                        <a:pt x="2" y="151"/>
                      </a:lnTo>
                      <a:lnTo>
                        <a:pt x="11" y="177"/>
                      </a:lnTo>
                      <a:lnTo>
                        <a:pt x="29" y="200"/>
                      </a:lnTo>
                      <a:lnTo>
                        <a:pt x="50" y="225"/>
                      </a:lnTo>
                      <a:lnTo>
                        <a:pt x="71" y="242"/>
                      </a:lnTo>
                      <a:lnTo>
                        <a:pt x="94" y="257"/>
                      </a:lnTo>
                      <a:lnTo>
                        <a:pt x="120" y="268"/>
                      </a:lnTo>
                      <a:lnTo>
                        <a:pt x="152" y="277"/>
                      </a:lnTo>
                      <a:lnTo>
                        <a:pt x="186" y="282"/>
                      </a:lnTo>
                      <a:lnTo>
                        <a:pt x="216" y="282"/>
                      </a:lnTo>
                      <a:lnTo>
                        <a:pt x="248" y="276"/>
                      </a:lnTo>
                      <a:lnTo>
                        <a:pt x="281" y="263"/>
                      </a:lnTo>
                      <a:lnTo>
                        <a:pt x="312" y="247"/>
                      </a:lnTo>
                      <a:lnTo>
                        <a:pt x="335" y="233"/>
                      </a:lnTo>
                      <a:lnTo>
                        <a:pt x="355" y="214"/>
                      </a:lnTo>
                      <a:lnTo>
                        <a:pt x="366" y="197"/>
                      </a:lnTo>
                      <a:lnTo>
                        <a:pt x="376" y="177"/>
                      </a:lnTo>
                      <a:lnTo>
                        <a:pt x="380" y="154"/>
                      </a:lnTo>
                      <a:lnTo>
                        <a:pt x="379" y="126"/>
                      </a:lnTo>
                      <a:lnTo>
                        <a:pt x="373" y="106"/>
                      </a:lnTo>
                      <a:lnTo>
                        <a:pt x="366" y="83"/>
                      </a:lnTo>
                      <a:lnTo>
                        <a:pt x="355" y="65"/>
                      </a:lnTo>
                      <a:lnTo>
                        <a:pt x="339" y="45"/>
                      </a:lnTo>
                      <a:lnTo>
                        <a:pt x="324" y="33"/>
                      </a:lnTo>
                      <a:lnTo>
                        <a:pt x="298" y="20"/>
                      </a:lnTo>
                      <a:lnTo>
                        <a:pt x="273" y="8"/>
                      </a:lnTo>
                      <a:lnTo>
                        <a:pt x="253" y="5"/>
                      </a:lnTo>
                      <a:lnTo>
                        <a:pt x="241" y="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561280" y="3211560"/>
                  <a:ext cx="3348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8" name=""/>
                <p:cNvSpPr/>
                <p:nvPr/>
              </p:nvSpPr>
              <p:spPr>
                <a:xfrm>
                  <a:off x="5689440" y="3218040"/>
                  <a:ext cx="2952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59" name=""/>
              <p:cNvSpPr/>
              <p:nvPr/>
            </p:nvSpPr>
            <p:spPr>
              <a:xfrm>
                <a:off x="5846400" y="2835360"/>
                <a:ext cx="321480" cy="127080"/>
              </a:xfrm>
              <a:custGeom>
                <a:avLst/>
                <a:gdLst/>
                <a:ahLst/>
                <a:rect l="l" t="t" r="r" b="b"/>
                <a:pathLst>
                  <a:path w="238" h="80">
                    <a:moveTo>
                      <a:pt x="3" y="49"/>
                    </a:moveTo>
                    <a:lnTo>
                      <a:pt x="9" y="31"/>
                    </a:lnTo>
                    <a:lnTo>
                      <a:pt x="22" y="14"/>
                    </a:lnTo>
                    <a:lnTo>
                      <a:pt x="34" y="4"/>
                    </a:lnTo>
                    <a:lnTo>
                      <a:pt x="50" y="3"/>
                    </a:lnTo>
                    <a:lnTo>
                      <a:pt x="70" y="5"/>
                    </a:lnTo>
                    <a:lnTo>
                      <a:pt x="87" y="1"/>
                    </a:lnTo>
                    <a:lnTo>
                      <a:pt x="104" y="0"/>
                    </a:lnTo>
                    <a:lnTo>
                      <a:pt x="118" y="0"/>
                    </a:lnTo>
                    <a:lnTo>
                      <a:pt x="133" y="4"/>
                    </a:lnTo>
                    <a:lnTo>
                      <a:pt x="152" y="12"/>
                    </a:lnTo>
                    <a:lnTo>
                      <a:pt x="168" y="21"/>
                    </a:lnTo>
                    <a:lnTo>
                      <a:pt x="185" y="32"/>
                    </a:lnTo>
                    <a:lnTo>
                      <a:pt x="202" y="46"/>
                    </a:lnTo>
                    <a:lnTo>
                      <a:pt x="217" y="61"/>
                    </a:lnTo>
                    <a:lnTo>
                      <a:pt x="222" y="64"/>
                    </a:lnTo>
                    <a:lnTo>
                      <a:pt x="230" y="64"/>
                    </a:lnTo>
                    <a:lnTo>
                      <a:pt x="234" y="58"/>
                    </a:lnTo>
                    <a:lnTo>
                      <a:pt x="236" y="53"/>
                    </a:lnTo>
                    <a:lnTo>
                      <a:pt x="237" y="62"/>
                    </a:lnTo>
                    <a:lnTo>
                      <a:pt x="234" y="71"/>
                    </a:lnTo>
                    <a:lnTo>
                      <a:pt x="230" y="77"/>
                    </a:lnTo>
                    <a:lnTo>
                      <a:pt x="220" y="79"/>
                    </a:lnTo>
                    <a:lnTo>
                      <a:pt x="209" y="74"/>
                    </a:lnTo>
                    <a:lnTo>
                      <a:pt x="198" y="62"/>
                    </a:lnTo>
                    <a:lnTo>
                      <a:pt x="188" y="53"/>
                    </a:lnTo>
                    <a:lnTo>
                      <a:pt x="175" y="43"/>
                    </a:lnTo>
                    <a:lnTo>
                      <a:pt x="153" y="32"/>
                    </a:lnTo>
                    <a:lnTo>
                      <a:pt x="126" y="24"/>
                    </a:lnTo>
                    <a:lnTo>
                      <a:pt x="103" y="23"/>
                    </a:lnTo>
                    <a:lnTo>
                      <a:pt x="82" y="25"/>
                    </a:lnTo>
                    <a:lnTo>
                      <a:pt x="62" y="30"/>
                    </a:lnTo>
                    <a:lnTo>
                      <a:pt x="41" y="40"/>
                    </a:lnTo>
                    <a:lnTo>
                      <a:pt x="28" y="48"/>
                    </a:lnTo>
                    <a:lnTo>
                      <a:pt x="18" y="55"/>
                    </a:lnTo>
                    <a:lnTo>
                      <a:pt x="12" y="60"/>
                    </a:lnTo>
                    <a:lnTo>
                      <a:pt x="6" y="62"/>
                    </a:lnTo>
                    <a:lnTo>
                      <a:pt x="0" y="58"/>
                    </a:lnTo>
                    <a:lnTo>
                      <a:pt x="3" y="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51920" y="2809800"/>
                <a:ext cx="111960" cy="88920"/>
              </a:xfrm>
              <a:custGeom>
                <a:avLst/>
                <a:gdLst/>
                <a:ahLst/>
                <a:rect l="l" t="t" r="r" b="b"/>
                <a:pathLst>
                  <a:path w="83" h="56">
                    <a:moveTo>
                      <a:pt x="0" y="13"/>
                    </a:moveTo>
                    <a:lnTo>
                      <a:pt x="16" y="13"/>
                    </a:lnTo>
                    <a:lnTo>
                      <a:pt x="30" y="11"/>
                    </a:lnTo>
                    <a:lnTo>
                      <a:pt x="40" y="6"/>
                    </a:lnTo>
                    <a:lnTo>
                      <a:pt x="47" y="3"/>
                    </a:lnTo>
                    <a:lnTo>
                      <a:pt x="56" y="0"/>
                    </a:lnTo>
                    <a:lnTo>
                      <a:pt x="63" y="0"/>
                    </a:lnTo>
                    <a:lnTo>
                      <a:pt x="68" y="3"/>
                    </a:lnTo>
                    <a:lnTo>
                      <a:pt x="73" y="10"/>
                    </a:lnTo>
                    <a:lnTo>
                      <a:pt x="76" y="18"/>
                    </a:lnTo>
                    <a:lnTo>
                      <a:pt x="79" y="30"/>
                    </a:lnTo>
                    <a:lnTo>
                      <a:pt x="82" y="46"/>
                    </a:lnTo>
                    <a:lnTo>
                      <a:pt x="82" y="55"/>
                    </a:lnTo>
                    <a:lnTo>
                      <a:pt x="76" y="51"/>
                    </a:lnTo>
                    <a:lnTo>
                      <a:pt x="73" y="43"/>
                    </a:lnTo>
                    <a:lnTo>
                      <a:pt x="67" y="38"/>
                    </a:lnTo>
                    <a:lnTo>
                      <a:pt x="57" y="37"/>
                    </a:lnTo>
                    <a:lnTo>
                      <a:pt x="42" y="34"/>
                    </a:lnTo>
                    <a:lnTo>
                      <a:pt x="26" y="32"/>
                    </a:lnTo>
                    <a:lnTo>
                      <a:pt x="15" y="30"/>
                    </a:lnTo>
                    <a:lnTo>
                      <a:pt x="11" y="30"/>
                    </a:lnTo>
                    <a:lnTo>
                      <a:pt x="6" y="30"/>
                    </a:lnTo>
                    <a:lnTo>
                      <a:pt x="0" y="13"/>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61" name=""/>
              <p:cNvGrpSpPr/>
              <p:nvPr/>
            </p:nvGrpSpPr>
            <p:grpSpPr>
              <a:xfrm>
                <a:off x="5443920" y="3297240"/>
                <a:ext cx="801000" cy="311040"/>
                <a:chOff x="5443920" y="3297240"/>
                <a:chExt cx="801000" cy="311040"/>
              </a:xfrm>
            </p:grpSpPr>
            <p:sp>
              <p:nvSpPr>
                <p:cNvPr id="62" name=""/>
                <p:cNvSpPr/>
                <p:nvPr/>
              </p:nvSpPr>
              <p:spPr>
                <a:xfrm>
                  <a:off x="5443920" y="3357720"/>
                  <a:ext cx="22680" cy="69840"/>
                </a:xfrm>
                <a:custGeom>
                  <a:avLst/>
                  <a:gdLst/>
                  <a:ahLst/>
                  <a:rect l="l" t="t" r="r" b="b"/>
                  <a:pathLst>
                    <a:path w="17" h="44">
                      <a:moveTo>
                        <a:pt x="16" y="0"/>
                      </a:moveTo>
                      <a:lnTo>
                        <a:pt x="5" y="19"/>
                      </a:lnTo>
                      <a:lnTo>
                        <a:pt x="0" y="4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 name=""/>
                <p:cNvSpPr/>
                <p:nvPr/>
              </p:nvSpPr>
              <p:spPr>
                <a:xfrm>
                  <a:off x="5446440" y="3376800"/>
                  <a:ext cx="777960" cy="231480"/>
                </a:xfrm>
                <a:custGeom>
                  <a:avLst/>
                  <a:gdLst/>
                  <a:ahLst/>
                  <a:rect l="l" t="t" r="r" b="b"/>
                  <a:pathLst>
                    <a:path w="576" h="146">
                      <a:moveTo>
                        <a:pt x="0" y="18"/>
                      </a:moveTo>
                      <a:lnTo>
                        <a:pt x="16" y="37"/>
                      </a:lnTo>
                      <a:lnTo>
                        <a:pt x="36" y="58"/>
                      </a:lnTo>
                      <a:lnTo>
                        <a:pt x="57" y="76"/>
                      </a:lnTo>
                      <a:lnTo>
                        <a:pt x="81" y="93"/>
                      </a:lnTo>
                      <a:lnTo>
                        <a:pt x="111" y="110"/>
                      </a:lnTo>
                      <a:lnTo>
                        <a:pt x="146" y="124"/>
                      </a:lnTo>
                      <a:lnTo>
                        <a:pt x="185" y="134"/>
                      </a:lnTo>
                      <a:lnTo>
                        <a:pt x="221" y="141"/>
                      </a:lnTo>
                      <a:lnTo>
                        <a:pt x="253" y="145"/>
                      </a:lnTo>
                      <a:lnTo>
                        <a:pt x="294" y="143"/>
                      </a:lnTo>
                      <a:lnTo>
                        <a:pt x="338" y="136"/>
                      </a:lnTo>
                      <a:lnTo>
                        <a:pt x="376" y="126"/>
                      </a:lnTo>
                      <a:lnTo>
                        <a:pt x="416" y="112"/>
                      </a:lnTo>
                      <a:lnTo>
                        <a:pt x="461" y="89"/>
                      </a:lnTo>
                      <a:lnTo>
                        <a:pt x="493" y="72"/>
                      </a:lnTo>
                      <a:lnTo>
                        <a:pt x="521" y="49"/>
                      </a:lnTo>
                      <a:lnTo>
                        <a:pt x="545" y="25"/>
                      </a:lnTo>
                      <a:lnTo>
                        <a:pt x="567" y="0"/>
                      </a:lnTo>
                      <a:lnTo>
                        <a:pt x="575"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173280" y="3297240"/>
                  <a:ext cx="71640" cy="158760"/>
                </a:xfrm>
                <a:custGeom>
                  <a:avLst/>
                  <a:gdLst/>
                  <a:ahLst/>
                  <a:rect l="l" t="t" r="r" b="b"/>
                  <a:pathLst>
                    <a:path w="53" h="100">
                      <a:moveTo>
                        <a:pt x="0" y="0"/>
                      </a:moveTo>
                      <a:lnTo>
                        <a:pt x="14" y="4"/>
                      </a:lnTo>
                      <a:lnTo>
                        <a:pt x="30" y="17"/>
                      </a:lnTo>
                      <a:lnTo>
                        <a:pt x="43" y="33"/>
                      </a:lnTo>
                      <a:lnTo>
                        <a:pt x="49" y="47"/>
                      </a:lnTo>
                      <a:lnTo>
                        <a:pt x="52" y="66"/>
                      </a:lnTo>
                      <a:lnTo>
                        <a:pt x="52" y="82"/>
                      </a:lnTo>
                      <a:lnTo>
                        <a:pt x="50" y="9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
              <p:cNvSpPr/>
              <p:nvPr/>
            </p:nvSpPr>
            <p:spPr>
              <a:xfrm>
                <a:off x="6101640" y="4179960"/>
                <a:ext cx="102600" cy="395280"/>
              </a:xfrm>
              <a:custGeom>
                <a:avLst/>
                <a:gdLst/>
                <a:ahLst/>
                <a:rect l="l" t="t" r="r" b="b"/>
                <a:pathLst>
                  <a:path w="76" h="249">
                    <a:moveTo>
                      <a:pt x="5" y="248"/>
                    </a:moveTo>
                    <a:lnTo>
                      <a:pt x="51" y="237"/>
                    </a:lnTo>
                    <a:lnTo>
                      <a:pt x="60" y="215"/>
                    </a:lnTo>
                    <a:lnTo>
                      <a:pt x="65" y="202"/>
                    </a:lnTo>
                    <a:lnTo>
                      <a:pt x="70" y="178"/>
                    </a:lnTo>
                    <a:lnTo>
                      <a:pt x="75" y="155"/>
                    </a:lnTo>
                    <a:lnTo>
                      <a:pt x="75" y="124"/>
                    </a:lnTo>
                    <a:lnTo>
                      <a:pt x="73" y="99"/>
                    </a:lnTo>
                    <a:lnTo>
                      <a:pt x="67" y="70"/>
                    </a:lnTo>
                    <a:lnTo>
                      <a:pt x="60" y="48"/>
                    </a:lnTo>
                    <a:lnTo>
                      <a:pt x="43" y="21"/>
                    </a:lnTo>
                    <a:lnTo>
                      <a:pt x="32" y="9"/>
                    </a:lnTo>
                    <a:lnTo>
                      <a:pt x="20" y="0"/>
                    </a:lnTo>
                    <a:lnTo>
                      <a:pt x="0" y="2"/>
                    </a:lnTo>
                    <a:lnTo>
                      <a:pt x="20" y="24"/>
                    </a:lnTo>
                    <a:lnTo>
                      <a:pt x="34" y="50"/>
                    </a:lnTo>
                    <a:lnTo>
                      <a:pt x="43" y="85"/>
                    </a:lnTo>
                    <a:lnTo>
                      <a:pt x="46" y="106"/>
                    </a:lnTo>
                    <a:lnTo>
                      <a:pt x="46" y="133"/>
                    </a:lnTo>
                    <a:lnTo>
                      <a:pt x="43" y="162"/>
                    </a:lnTo>
                    <a:lnTo>
                      <a:pt x="40" y="182"/>
                    </a:lnTo>
                    <a:lnTo>
                      <a:pt x="35" y="203"/>
                    </a:lnTo>
                    <a:lnTo>
                      <a:pt x="24" y="224"/>
                    </a:lnTo>
                    <a:lnTo>
                      <a:pt x="5" y="2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172640" y="3640320"/>
                <a:ext cx="336240" cy="457200"/>
              </a:xfrm>
              <a:custGeom>
                <a:avLst/>
                <a:gdLst/>
                <a:ahLst/>
                <a:rect l="l" t="t" r="r" b="b"/>
                <a:pathLst>
                  <a:path w="249" h="288">
                    <a:moveTo>
                      <a:pt x="0" y="233"/>
                    </a:moveTo>
                    <a:lnTo>
                      <a:pt x="50" y="213"/>
                    </a:lnTo>
                    <a:lnTo>
                      <a:pt x="84" y="194"/>
                    </a:lnTo>
                    <a:lnTo>
                      <a:pt x="114" y="174"/>
                    </a:lnTo>
                    <a:lnTo>
                      <a:pt x="151" y="144"/>
                    </a:lnTo>
                    <a:lnTo>
                      <a:pt x="182" y="113"/>
                    </a:lnTo>
                    <a:lnTo>
                      <a:pt x="206" y="81"/>
                    </a:lnTo>
                    <a:lnTo>
                      <a:pt x="223" y="56"/>
                    </a:lnTo>
                    <a:lnTo>
                      <a:pt x="233" y="30"/>
                    </a:lnTo>
                    <a:lnTo>
                      <a:pt x="248" y="0"/>
                    </a:lnTo>
                    <a:lnTo>
                      <a:pt x="244" y="75"/>
                    </a:lnTo>
                    <a:lnTo>
                      <a:pt x="232" y="48"/>
                    </a:lnTo>
                    <a:lnTo>
                      <a:pt x="228" y="67"/>
                    </a:lnTo>
                    <a:lnTo>
                      <a:pt x="220" y="87"/>
                    </a:lnTo>
                    <a:lnTo>
                      <a:pt x="208" y="112"/>
                    </a:lnTo>
                    <a:lnTo>
                      <a:pt x="194" y="131"/>
                    </a:lnTo>
                    <a:lnTo>
                      <a:pt x="175" y="154"/>
                    </a:lnTo>
                    <a:lnTo>
                      <a:pt x="143" y="181"/>
                    </a:lnTo>
                    <a:lnTo>
                      <a:pt x="102" y="216"/>
                    </a:lnTo>
                    <a:lnTo>
                      <a:pt x="71" y="246"/>
                    </a:lnTo>
                    <a:lnTo>
                      <a:pt x="50" y="272"/>
                    </a:lnTo>
                    <a:lnTo>
                      <a:pt x="39" y="287"/>
                    </a:lnTo>
                    <a:lnTo>
                      <a:pt x="39" y="269"/>
                    </a:lnTo>
                    <a:lnTo>
                      <a:pt x="39" y="255"/>
                    </a:lnTo>
                    <a:lnTo>
                      <a:pt x="32" y="245"/>
                    </a:lnTo>
                    <a:lnTo>
                      <a:pt x="25" y="238"/>
                    </a:lnTo>
                    <a:lnTo>
                      <a:pt x="13" y="236"/>
                    </a:lnTo>
                    <a:lnTo>
                      <a:pt x="0" y="2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 name=""/>
              <p:cNvGrpSpPr/>
              <p:nvPr/>
            </p:nvGrpSpPr>
            <p:grpSpPr>
              <a:xfrm>
                <a:off x="7764480" y="2489400"/>
                <a:ext cx="221400" cy="212400"/>
                <a:chOff x="7764480" y="2489400"/>
                <a:chExt cx="221400" cy="212400"/>
              </a:xfrm>
            </p:grpSpPr>
            <p:sp>
              <p:nvSpPr>
                <p:cNvPr id="68" name=""/>
                <p:cNvSpPr/>
                <p:nvPr/>
              </p:nvSpPr>
              <p:spPr>
                <a:xfrm>
                  <a:off x="7764480" y="2489400"/>
                  <a:ext cx="110520" cy="85680"/>
                </a:xfrm>
                <a:custGeom>
                  <a:avLst/>
                  <a:gdLst/>
                  <a:ahLst/>
                  <a:rect l="l" t="t" r="r" b="b"/>
                  <a:pathLst>
                    <a:path w="82" h="54">
                      <a:moveTo>
                        <a:pt x="0" y="0"/>
                      </a:moveTo>
                      <a:lnTo>
                        <a:pt x="4" y="11"/>
                      </a:lnTo>
                      <a:lnTo>
                        <a:pt x="10" y="20"/>
                      </a:lnTo>
                      <a:lnTo>
                        <a:pt x="20" y="34"/>
                      </a:lnTo>
                      <a:lnTo>
                        <a:pt x="35" y="43"/>
                      </a:lnTo>
                      <a:lnTo>
                        <a:pt x="49" y="47"/>
                      </a:lnTo>
                      <a:lnTo>
                        <a:pt x="66" y="42"/>
                      </a:lnTo>
                      <a:lnTo>
                        <a:pt x="74" y="30"/>
                      </a:lnTo>
                      <a:lnTo>
                        <a:pt x="74" y="23"/>
                      </a:lnTo>
                      <a:lnTo>
                        <a:pt x="81" y="33"/>
                      </a:lnTo>
                      <a:lnTo>
                        <a:pt x="80" y="43"/>
                      </a:lnTo>
                      <a:lnTo>
                        <a:pt x="78" y="53"/>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7823880" y="2604960"/>
                  <a:ext cx="162000" cy="96840"/>
                </a:xfrm>
                <a:custGeom>
                  <a:avLst/>
                  <a:gdLst/>
                  <a:ahLst/>
                  <a:rect l="l" t="t" r="r" b="b"/>
                  <a:pathLst>
                    <a:path w="120" h="61">
                      <a:moveTo>
                        <a:pt x="62" y="0"/>
                      </a:moveTo>
                      <a:lnTo>
                        <a:pt x="71" y="11"/>
                      </a:lnTo>
                      <a:lnTo>
                        <a:pt x="80" y="18"/>
                      </a:lnTo>
                      <a:lnTo>
                        <a:pt x="90" y="21"/>
                      </a:lnTo>
                      <a:lnTo>
                        <a:pt x="105" y="24"/>
                      </a:lnTo>
                      <a:lnTo>
                        <a:pt x="119" y="24"/>
                      </a:lnTo>
                      <a:lnTo>
                        <a:pt x="105" y="41"/>
                      </a:lnTo>
                      <a:lnTo>
                        <a:pt x="93" y="53"/>
                      </a:lnTo>
                      <a:lnTo>
                        <a:pt x="77" y="60"/>
                      </a:lnTo>
                      <a:lnTo>
                        <a:pt x="57" y="60"/>
                      </a:lnTo>
                      <a:lnTo>
                        <a:pt x="36" y="55"/>
                      </a:lnTo>
                      <a:lnTo>
                        <a:pt x="13" y="46"/>
                      </a:lnTo>
                      <a:lnTo>
                        <a:pt x="0" y="35"/>
                      </a:lnTo>
                      <a:lnTo>
                        <a:pt x="21" y="33"/>
                      </a:lnTo>
                      <a:lnTo>
                        <a:pt x="36" y="25"/>
                      </a:lnTo>
                      <a:lnTo>
                        <a:pt x="51" y="13"/>
                      </a:lnTo>
                      <a:lnTo>
                        <a:pt x="62" y="0"/>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6232680" y="2235240"/>
                <a:ext cx="447120" cy="689040"/>
              </a:xfrm>
              <a:custGeom>
                <a:avLst/>
                <a:gdLst/>
                <a:ahLst/>
                <a:rect l="l" t="t" r="r" b="b"/>
                <a:pathLst>
                  <a:path w="331" h="434">
                    <a:moveTo>
                      <a:pt x="44" y="89"/>
                    </a:moveTo>
                    <a:lnTo>
                      <a:pt x="0" y="112"/>
                    </a:lnTo>
                    <a:lnTo>
                      <a:pt x="10" y="142"/>
                    </a:lnTo>
                    <a:lnTo>
                      <a:pt x="29" y="186"/>
                    </a:lnTo>
                    <a:lnTo>
                      <a:pt x="47" y="224"/>
                    </a:lnTo>
                    <a:lnTo>
                      <a:pt x="72" y="270"/>
                    </a:lnTo>
                    <a:lnTo>
                      <a:pt x="95" y="308"/>
                    </a:lnTo>
                    <a:lnTo>
                      <a:pt x="123" y="346"/>
                    </a:lnTo>
                    <a:lnTo>
                      <a:pt x="181" y="433"/>
                    </a:lnTo>
                    <a:lnTo>
                      <a:pt x="241" y="336"/>
                    </a:lnTo>
                    <a:lnTo>
                      <a:pt x="265" y="295"/>
                    </a:lnTo>
                    <a:lnTo>
                      <a:pt x="289" y="258"/>
                    </a:lnTo>
                    <a:lnTo>
                      <a:pt x="302" y="203"/>
                    </a:lnTo>
                    <a:lnTo>
                      <a:pt x="313" y="151"/>
                    </a:lnTo>
                    <a:lnTo>
                      <a:pt x="330" y="35"/>
                    </a:lnTo>
                    <a:lnTo>
                      <a:pt x="307" y="17"/>
                    </a:lnTo>
                    <a:lnTo>
                      <a:pt x="288" y="8"/>
                    </a:lnTo>
                    <a:lnTo>
                      <a:pt x="270" y="4"/>
                    </a:lnTo>
                    <a:lnTo>
                      <a:pt x="246" y="0"/>
                    </a:lnTo>
                    <a:lnTo>
                      <a:pt x="216" y="1"/>
                    </a:lnTo>
                    <a:lnTo>
                      <a:pt x="188" y="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1452960" y="609480"/>
              <a:ext cx="3075120" cy="3100680"/>
              <a:chOff x="1452960" y="609480"/>
              <a:chExt cx="3075120" cy="3100680"/>
            </a:xfrm>
          </p:grpSpPr>
          <p:grpSp>
            <p:nvGrpSpPr>
              <p:cNvPr id="72" name=""/>
              <p:cNvGrpSpPr/>
              <p:nvPr/>
            </p:nvGrpSpPr>
            <p:grpSpPr>
              <a:xfrm>
                <a:off x="4333680" y="866880"/>
                <a:ext cx="194400" cy="258840"/>
                <a:chOff x="4333680" y="866880"/>
                <a:chExt cx="194400" cy="258840"/>
              </a:xfrm>
            </p:grpSpPr>
            <p:sp>
              <p:nvSpPr>
                <p:cNvPr id="73" name=""/>
                <p:cNvSpPr/>
                <p:nvPr/>
              </p:nvSpPr>
              <p:spPr>
                <a:xfrm>
                  <a:off x="4333680" y="866880"/>
                  <a:ext cx="194400" cy="258840"/>
                </a:xfrm>
                <a:custGeom>
                  <a:avLst/>
                  <a:gdLst/>
                  <a:ahLst/>
                  <a:rect l="l" t="t" r="r" b="b"/>
                  <a:pathLst>
                    <a:path w="144" h="163">
                      <a:moveTo>
                        <a:pt x="24" y="159"/>
                      </a:moveTo>
                      <a:lnTo>
                        <a:pt x="58" y="162"/>
                      </a:lnTo>
                      <a:lnTo>
                        <a:pt x="90" y="153"/>
                      </a:lnTo>
                      <a:lnTo>
                        <a:pt x="117" y="128"/>
                      </a:lnTo>
                      <a:lnTo>
                        <a:pt x="136" y="93"/>
                      </a:lnTo>
                      <a:lnTo>
                        <a:pt x="141" y="57"/>
                      </a:lnTo>
                      <a:lnTo>
                        <a:pt x="143" y="25"/>
                      </a:lnTo>
                      <a:lnTo>
                        <a:pt x="143" y="0"/>
                      </a:lnTo>
                      <a:lnTo>
                        <a:pt x="102" y="8"/>
                      </a:lnTo>
                      <a:lnTo>
                        <a:pt x="58" y="25"/>
                      </a:lnTo>
                      <a:lnTo>
                        <a:pt x="15" y="55"/>
                      </a:lnTo>
                      <a:lnTo>
                        <a:pt x="0" y="78"/>
                      </a:lnTo>
                      <a:lnTo>
                        <a:pt x="24" y="159"/>
                      </a:lnTo>
                    </a:path>
                  </a:pathLst>
                </a:custGeom>
                <a:solidFill>
                  <a:srgbClr val="bf7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377960" y="916200"/>
                  <a:ext cx="92880" cy="136440"/>
                </a:xfrm>
                <a:custGeom>
                  <a:avLst/>
                  <a:gdLst/>
                  <a:ahLst/>
                  <a:rect l="l" t="t" r="r" b="b"/>
                  <a:pathLst>
                    <a:path w="69" h="86">
                      <a:moveTo>
                        <a:pt x="10" y="85"/>
                      </a:moveTo>
                      <a:lnTo>
                        <a:pt x="28" y="85"/>
                      </a:lnTo>
                      <a:lnTo>
                        <a:pt x="42" y="81"/>
                      </a:lnTo>
                      <a:lnTo>
                        <a:pt x="56" y="67"/>
                      </a:lnTo>
                      <a:lnTo>
                        <a:pt x="65" y="50"/>
                      </a:lnTo>
                      <a:lnTo>
                        <a:pt x="68" y="31"/>
                      </a:lnTo>
                      <a:lnTo>
                        <a:pt x="68" y="13"/>
                      </a:lnTo>
                      <a:lnTo>
                        <a:pt x="68" y="0"/>
                      </a:lnTo>
                      <a:lnTo>
                        <a:pt x="49" y="4"/>
                      </a:lnTo>
                      <a:lnTo>
                        <a:pt x="28" y="13"/>
                      </a:lnTo>
                      <a:lnTo>
                        <a:pt x="7" y="30"/>
                      </a:lnTo>
                      <a:lnTo>
                        <a:pt x="0" y="42"/>
                      </a:lnTo>
                      <a:lnTo>
                        <a:pt x="10" y="85"/>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324320" y="1195560"/>
                <a:ext cx="79560" cy="54000"/>
              </a:xfrm>
              <a:custGeom>
                <a:avLst/>
                <a:gdLst/>
                <a:ahLst/>
                <a:rect l="l" t="t" r="r" b="b"/>
                <a:pathLst>
                  <a:path w="59" h="34">
                    <a:moveTo>
                      <a:pt x="58" y="7"/>
                    </a:moveTo>
                    <a:lnTo>
                      <a:pt x="48" y="3"/>
                    </a:lnTo>
                    <a:lnTo>
                      <a:pt x="35" y="0"/>
                    </a:lnTo>
                    <a:lnTo>
                      <a:pt x="20" y="3"/>
                    </a:lnTo>
                    <a:lnTo>
                      <a:pt x="13" y="8"/>
                    </a:lnTo>
                    <a:lnTo>
                      <a:pt x="7" y="14"/>
                    </a:lnTo>
                    <a:lnTo>
                      <a:pt x="3" y="26"/>
                    </a:lnTo>
                    <a:lnTo>
                      <a:pt x="0" y="32"/>
                    </a:lnTo>
                    <a:lnTo>
                      <a:pt x="15" y="33"/>
                    </a:lnTo>
                    <a:lnTo>
                      <a:pt x="30" y="31"/>
                    </a:lnTo>
                    <a:lnTo>
                      <a:pt x="45" y="26"/>
                    </a:lnTo>
                    <a:lnTo>
                      <a:pt x="54" y="17"/>
                    </a:lnTo>
                    <a:lnTo>
                      <a:pt x="58" y="7"/>
                    </a:lnTo>
                  </a:path>
                </a:pathLst>
              </a:custGeom>
              <a:solidFill>
                <a:srgbClr val="7f5f3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a:off x="1452960" y="822240"/>
                <a:ext cx="3051000" cy="2887920"/>
              </a:xfrm>
              <a:custGeom>
                <a:avLst/>
                <a:gdLst/>
                <a:ahLst/>
                <a:rect l="l" t="t" r="r" b="b"/>
                <a:pathLst>
                  <a:path w="2259" h="1819">
                    <a:moveTo>
                      <a:pt x="1633" y="124"/>
                    </a:moveTo>
                    <a:lnTo>
                      <a:pt x="1537" y="124"/>
                    </a:lnTo>
                    <a:lnTo>
                      <a:pt x="1414" y="141"/>
                    </a:lnTo>
                    <a:lnTo>
                      <a:pt x="1249" y="172"/>
                    </a:lnTo>
                    <a:lnTo>
                      <a:pt x="1160" y="192"/>
                    </a:lnTo>
                    <a:lnTo>
                      <a:pt x="1073" y="214"/>
                    </a:lnTo>
                    <a:lnTo>
                      <a:pt x="996" y="233"/>
                    </a:lnTo>
                    <a:lnTo>
                      <a:pt x="926" y="248"/>
                    </a:lnTo>
                    <a:lnTo>
                      <a:pt x="858" y="255"/>
                    </a:lnTo>
                    <a:lnTo>
                      <a:pt x="775" y="257"/>
                    </a:lnTo>
                    <a:lnTo>
                      <a:pt x="636" y="244"/>
                    </a:lnTo>
                    <a:lnTo>
                      <a:pt x="540" y="214"/>
                    </a:lnTo>
                    <a:lnTo>
                      <a:pt x="466" y="197"/>
                    </a:lnTo>
                    <a:lnTo>
                      <a:pt x="413" y="184"/>
                    </a:lnTo>
                    <a:lnTo>
                      <a:pt x="362" y="174"/>
                    </a:lnTo>
                    <a:lnTo>
                      <a:pt x="326" y="169"/>
                    </a:lnTo>
                    <a:lnTo>
                      <a:pt x="297" y="167"/>
                    </a:lnTo>
                    <a:lnTo>
                      <a:pt x="263" y="171"/>
                    </a:lnTo>
                    <a:lnTo>
                      <a:pt x="228" y="179"/>
                    </a:lnTo>
                    <a:lnTo>
                      <a:pt x="182" y="199"/>
                    </a:lnTo>
                    <a:lnTo>
                      <a:pt x="140" y="220"/>
                    </a:lnTo>
                    <a:lnTo>
                      <a:pt x="105" y="244"/>
                    </a:lnTo>
                    <a:lnTo>
                      <a:pt x="79" y="267"/>
                    </a:lnTo>
                    <a:lnTo>
                      <a:pt x="50" y="300"/>
                    </a:lnTo>
                    <a:lnTo>
                      <a:pt x="24" y="343"/>
                    </a:lnTo>
                    <a:lnTo>
                      <a:pt x="4" y="415"/>
                    </a:lnTo>
                    <a:lnTo>
                      <a:pt x="0" y="497"/>
                    </a:lnTo>
                    <a:lnTo>
                      <a:pt x="21" y="598"/>
                    </a:lnTo>
                    <a:lnTo>
                      <a:pt x="55" y="722"/>
                    </a:lnTo>
                    <a:lnTo>
                      <a:pt x="102" y="896"/>
                    </a:lnTo>
                    <a:lnTo>
                      <a:pt x="107" y="1160"/>
                    </a:lnTo>
                    <a:lnTo>
                      <a:pt x="89" y="1340"/>
                    </a:lnTo>
                    <a:lnTo>
                      <a:pt x="149" y="1519"/>
                    </a:lnTo>
                    <a:lnTo>
                      <a:pt x="163" y="1597"/>
                    </a:lnTo>
                    <a:lnTo>
                      <a:pt x="167" y="1706"/>
                    </a:lnTo>
                    <a:lnTo>
                      <a:pt x="132" y="1790"/>
                    </a:lnTo>
                    <a:lnTo>
                      <a:pt x="184" y="1808"/>
                    </a:lnTo>
                    <a:lnTo>
                      <a:pt x="281" y="1795"/>
                    </a:lnTo>
                    <a:lnTo>
                      <a:pt x="294" y="1639"/>
                    </a:lnTo>
                    <a:lnTo>
                      <a:pt x="311" y="1791"/>
                    </a:lnTo>
                    <a:lnTo>
                      <a:pt x="350" y="1816"/>
                    </a:lnTo>
                    <a:lnTo>
                      <a:pt x="420" y="1818"/>
                    </a:lnTo>
                    <a:lnTo>
                      <a:pt x="477" y="1800"/>
                    </a:lnTo>
                    <a:lnTo>
                      <a:pt x="494" y="1775"/>
                    </a:lnTo>
                    <a:lnTo>
                      <a:pt x="439" y="1639"/>
                    </a:lnTo>
                    <a:lnTo>
                      <a:pt x="433" y="1527"/>
                    </a:lnTo>
                    <a:lnTo>
                      <a:pt x="456" y="1434"/>
                    </a:lnTo>
                    <a:lnTo>
                      <a:pt x="485" y="1340"/>
                    </a:lnTo>
                    <a:lnTo>
                      <a:pt x="524" y="1237"/>
                    </a:lnTo>
                    <a:lnTo>
                      <a:pt x="608" y="1126"/>
                    </a:lnTo>
                    <a:lnTo>
                      <a:pt x="670" y="1049"/>
                    </a:lnTo>
                    <a:lnTo>
                      <a:pt x="776" y="1019"/>
                    </a:lnTo>
                    <a:lnTo>
                      <a:pt x="874" y="1049"/>
                    </a:lnTo>
                    <a:lnTo>
                      <a:pt x="972" y="1070"/>
                    </a:lnTo>
                    <a:lnTo>
                      <a:pt x="1047" y="1070"/>
                    </a:lnTo>
                    <a:lnTo>
                      <a:pt x="1138" y="1045"/>
                    </a:lnTo>
                    <a:lnTo>
                      <a:pt x="1241" y="999"/>
                    </a:lnTo>
                    <a:lnTo>
                      <a:pt x="1296" y="974"/>
                    </a:lnTo>
                    <a:lnTo>
                      <a:pt x="1312" y="999"/>
                    </a:lnTo>
                    <a:lnTo>
                      <a:pt x="1334" y="1049"/>
                    </a:lnTo>
                    <a:lnTo>
                      <a:pt x="1286" y="1153"/>
                    </a:lnTo>
                    <a:lnTo>
                      <a:pt x="1259" y="1222"/>
                    </a:lnTo>
                    <a:lnTo>
                      <a:pt x="1245" y="1369"/>
                    </a:lnTo>
                    <a:lnTo>
                      <a:pt x="1228" y="1445"/>
                    </a:lnTo>
                    <a:lnTo>
                      <a:pt x="1227" y="1504"/>
                    </a:lnTo>
                    <a:lnTo>
                      <a:pt x="1236" y="1605"/>
                    </a:lnTo>
                    <a:lnTo>
                      <a:pt x="1252" y="1685"/>
                    </a:lnTo>
                    <a:lnTo>
                      <a:pt x="1288" y="1687"/>
                    </a:lnTo>
                    <a:lnTo>
                      <a:pt x="1330" y="1689"/>
                    </a:lnTo>
                    <a:lnTo>
                      <a:pt x="1373" y="1682"/>
                    </a:lnTo>
                    <a:lnTo>
                      <a:pt x="1410" y="1668"/>
                    </a:lnTo>
                    <a:lnTo>
                      <a:pt x="1426" y="1652"/>
                    </a:lnTo>
                    <a:lnTo>
                      <a:pt x="1436" y="1630"/>
                    </a:lnTo>
                    <a:lnTo>
                      <a:pt x="1388" y="1562"/>
                    </a:lnTo>
                    <a:lnTo>
                      <a:pt x="1371" y="1526"/>
                    </a:lnTo>
                    <a:lnTo>
                      <a:pt x="1360" y="1485"/>
                    </a:lnTo>
                    <a:lnTo>
                      <a:pt x="1358" y="1408"/>
                    </a:lnTo>
                    <a:lnTo>
                      <a:pt x="1368" y="1340"/>
                    </a:lnTo>
                    <a:lnTo>
                      <a:pt x="1397" y="1249"/>
                    </a:lnTo>
                    <a:lnTo>
                      <a:pt x="1428" y="1169"/>
                    </a:lnTo>
                    <a:lnTo>
                      <a:pt x="1497" y="1023"/>
                    </a:lnTo>
                    <a:lnTo>
                      <a:pt x="1556" y="862"/>
                    </a:lnTo>
                    <a:lnTo>
                      <a:pt x="1612" y="713"/>
                    </a:lnTo>
                    <a:lnTo>
                      <a:pt x="1672" y="645"/>
                    </a:lnTo>
                    <a:lnTo>
                      <a:pt x="1751" y="581"/>
                    </a:lnTo>
                    <a:lnTo>
                      <a:pt x="1816" y="517"/>
                    </a:lnTo>
                    <a:lnTo>
                      <a:pt x="1866" y="487"/>
                    </a:lnTo>
                    <a:lnTo>
                      <a:pt x="1924" y="462"/>
                    </a:lnTo>
                    <a:lnTo>
                      <a:pt x="1962" y="466"/>
                    </a:lnTo>
                    <a:lnTo>
                      <a:pt x="1994" y="505"/>
                    </a:lnTo>
                    <a:lnTo>
                      <a:pt x="2034" y="539"/>
                    </a:lnTo>
                    <a:lnTo>
                      <a:pt x="2084" y="560"/>
                    </a:lnTo>
                    <a:lnTo>
                      <a:pt x="2127" y="564"/>
                    </a:lnTo>
                    <a:lnTo>
                      <a:pt x="2153" y="560"/>
                    </a:lnTo>
                    <a:lnTo>
                      <a:pt x="2186" y="551"/>
                    </a:lnTo>
                    <a:lnTo>
                      <a:pt x="2212" y="539"/>
                    </a:lnTo>
                    <a:lnTo>
                      <a:pt x="2238" y="517"/>
                    </a:lnTo>
                    <a:lnTo>
                      <a:pt x="2250" y="496"/>
                    </a:lnTo>
                    <a:lnTo>
                      <a:pt x="2256" y="466"/>
                    </a:lnTo>
                    <a:lnTo>
                      <a:pt x="2258" y="438"/>
                    </a:lnTo>
                    <a:lnTo>
                      <a:pt x="2249" y="402"/>
                    </a:lnTo>
                    <a:lnTo>
                      <a:pt x="2234" y="378"/>
                    </a:lnTo>
                    <a:lnTo>
                      <a:pt x="2215" y="353"/>
                    </a:lnTo>
                    <a:lnTo>
                      <a:pt x="2196" y="329"/>
                    </a:lnTo>
                    <a:lnTo>
                      <a:pt x="2193" y="304"/>
                    </a:lnTo>
                    <a:lnTo>
                      <a:pt x="2185" y="287"/>
                    </a:lnTo>
                    <a:lnTo>
                      <a:pt x="2168" y="274"/>
                    </a:lnTo>
                    <a:lnTo>
                      <a:pt x="2187" y="254"/>
                    </a:lnTo>
                    <a:lnTo>
                      <a:pt x="2186" y="235"/>
                    </a:lnTo>
                    <a:lnTo>
                      <a:pt x="2180" y="214"/>
                    </a:lnTo>
                    <a:lnTo>
                      <a:pt x="2170" y="197"/>
                    </a:lnTo>
                    <a:lnTo>
                      <a:pt x="2177" y="172"/>
                    </a:lnTo>
                    <a:lnTo>
                      <a:pt x="2182" y="150"/>
                    </a:lnTo>
                    <a:lnTo>
                      <a:pt x="2192" y="107"/>
                    </a:lnTo>
                    <a:lnTo>
                      <a:pt x="2175" y="64"/>
                    </a:lnTo>
                    <a:lnTo>
                      <a:pt x="2145" y="35"/>
                    </a:lnTo>
                    <a:lnTo>
                      <a:pt x="2111" y="25"/>
                    </a:lnTo>
                    <a:lnTo>
                      <a:pt x="2053" y="12"/>
                    </a:lnTo>
                    <a:lnTo>
                      <a:pt x="2004" y="2"/>
                    </a:lnTo>
                    <a:lnTo>
                      <a:pt x="1964" y="0"/>
                    </a:lnTo>
                    <a:lnTo>
                      <a:pt x="1926" y="10"/>
                    </a:lnTo>
                    <a:lnTo>
                      <a:pt x="1862" y="39"/>
                    </a:lnTo>
                    <a:lnTo>
                      <a:pt x="1841" y="43"/>
                    </a:lnTo>
                    <a:lnTo>
                      <a:pt x="1807" y="45"/>
                    </a:lnTo>
                    <a:lnTo>
                      <a:pt x="1754" y="43"/>
                    </a:lnTo>
                    <a:lnTo>
                      <a:pt x="1726" y="36"/>
                    </a:lnTo>
                    <a:lnTo>
                      <a:pt x="1688" y="23"/>
                    </a:lnTo>
                    <a:lnTo>
                      <a:pt x="1640" y="10"/>
                    </a:lnTo>
                    <a:lnTo>
                      <a:pt x="1614" y="12"/>
                    </a:lnTo>
                    <a:lnTo>
                      <a:pt x="1596" y="19"/>
                    </a:lnTo>
                    <a:lnTo>
                      <a:pt x="1585" y="33"/>
                    </a:lnTo>
                    <a:lnTo>
                      <a:pt x="1585" y="56"/>
                    </a:lnTo>
                    <a:lnTo>
                      <a:pt x="1598" y="82"/>
                    </a:lnTo>
                    <a:lnTo>
                      <a:pt x="1633" y="124"/>
                    </a:lnTo>
                  </a:path>
                </a:pathLst>
              </a:custGeom>
              <a:solidFill>
                <a:srgbClr val="bf7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630520" y="2475000"/>
                <a:ext cx="356400" cy="911160"/>
              </a:xfrm>
              <a:custGeom>
                <a:avLst/>
                <a:gdLst/>
                <a:ahLst/>
                <a:rect l="l" t="t" r="r" b="b"/>
                <a:pathLst>
                  <a:path w="264" h="574">
                    <a:moveTo>
                      <a:pt x="88" y="19"/>
                    </a:moveTo>
                    <a:lnTo>
                      <a:pt x="74" y="147"/>
                    </a:lnTo>
                    <a:lnTo>
                      <a:pt x="53" y="209"/>
                    </a:lnTo>
                    <a:lnTo>
                      <a:pt x="28" y="260"/>
                    </a:lnTo>
                    <a:lnTo>
                      <a:pt x="9" y="314"/>
                    </a:lnTo>
                    <a:lnTo>
                      <a:pt x="0" y="384"/>
                    </a:lnTo>
                    <a:lnTo>
                      <a:pt x="1" y="433"/>
                    </a:lnTo>
                    <a:lnTo>
                      <a:pt x="17" y="513"/>
                    </a:lnTo>
                    <a:lnTo>
                      <a:pt x="23" y="557"/>
                    </a:lnTo>
                    <a:lnTo>
                      <a:pt x="54" y="568"/>
                    </a:lnTo>
                    <a:lnTo>
                      <a:pt x="92" y="573"/>
                    </a:lnTo>
                    <a:lnTo>
                      <a:pt x="129" y="566"/>
                    </a:lnTo>
                    <a:lnTo>
                      <a:pt x="159" y="555"/>
                    </a:lnTo>
                    <a:lnTo>
                      <a:pt x="169" y="536"/>
                    </a:lnTo>
                    <a:lnTo>
                      <a:pt x="145" y="476"/>
                    </a:lnTo>
                    <a:lnTo>
                      <a:pt x="129" y="397"/>
                    </a:lnTo>
                    <a:lnTo>
                      <a:pt x="122" y="324"/>
                    </a:lnTo>
                    <a:lnTo>
                      <a:pt x="127" y="262"/>
                    </a:lnTo>
                    <a:lnTo>
                      <a:pt x="181" y="177"/>
                    </a:lnTo>
                    <a:lnTo>
                      <a:pt x="234" y="72"/>
                    </a:lnTo>
                    <a:lnTo>
                      <a:pt x="263" y="0"/>
                    </a:lnTo>
                    <a:lnTo>
                      <a:pt x="88" y="19"/>
                    </a:lnTo>
                  </a:path>
                </a:pathLst>
              </a:custGeom>
              <a:solidFill>
                <a:srgbClr val="9f7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60360" y="2181240"/>
                <a:ext cx="1215360" cy="668520"/>
              </a:xfrm>
              <a:custGeom>
                <a:avLst/>
                <a:gdLst/>
                <a:ahLst/>
                <a:rect l="l" t="t" r="r" b="b"/>
                <a:pathLst>
                  <a:path w="900" h="421">
                    <a:moveTo>
                      <a:pt x="0" y="377"/>
                    </a:moveTo>
                    <a:lnTo>
                      <a:pt x="19" y="386"/>
                    </a:lnTo>
                    <a:lnTo>
                      <a:pt x="39" y="392"/>
                    </a:lnTo>
                    <a:lnTo>
                      <a:pt x="51" y="411"/>
                    </a:lnTo>
                    <a:lnTo>
                      <a:pt x="61" y="420"/>
                    </a:lnTo>
                    <a:lnTo>
                      <a:pt x="77" y="416"/>
                    </a:lnTo>
                    <a:lnTo>
                      <a:pt x="77" y="396"/>
                    </a:lnTo>
                    <a:lnTo>
                      <a:pt x="77" y="377"/>
                    </a:lnTo>
                    <a:lnTo>
                      <a:pt x="111" y="375"/>
                    </a:lnTo>
                    <a:lnTo>
                      <a:pt x="123" y="384"/>
                    </a:lnTo>
                    <a:lnTo>
                      <a:pt x="145" y="404"/>
                    </a:lnTo>
                    <a:lnTo>
                      <a:pt x="159" y="405"/>
                    </a:lnTo>
                    <a:lnTo>
                      <a:pt x="174" y="400"/>
                    </a:lnTo>
                    <a:lnTo>
                      <a:pt x="168" y="377"/>
                    </a:lnTo>
                    <a:lnTo>
                      <a:pt x="160" y="351"/>
                    </a:lnTo>
                    <a:lnTo>
                      <a:pt x="181" y="341"/>
                    </a:lnTo>
                    <a:lnTo>
                      <a:pt x="205" y="332"/>
                    </a:lnTo>
                    <a:lnTo>
                      <a:pt x="227" y="316"/>
                    </a:lnTo>
                    <a:lnTo>
                      <a:pt x="248" y="295"/>
                    </a:lnTo>
                    <a:lnTo>
                      <a:pt x="260" y="272"/>
                    </a:lnTo>
                    <a:lnTo>
                      <a:pt x="264" y="257"/>
                    </a:lnTo>
                    <a:lnTo>
                      <a:pt x="317" y="267"/>
                    </a:lnTo>
                    <a:lnTo>
                      <a:pt x="358" y="275"/>
                    </a:lnTo>
                    <a:lnTo>
                      <a:pt x="400" y="279"/>
                    </a:lnTo>
                    <a:lnTo>
                      <a:pt x="449" y="283"/>
                    </a:lnTo>
                    <a:lnTo>
                      <a:pt x="504" y="281"/>
                    </a:lnTo>
                    <a:lnTo>
                      <a:pt x="575" y="275"/>
                    </a:lnTo>
                    <a:lnTo>
                      <a:pt x="702" y="241"/>
                    </a:lnTo>
                    <a:lnTo>
                      <a:pt x="765" y="214"/>
                    </a:lnTo>
                    <a:lnTo>
                      <a:pt x="835" y="187"/>
                    </a:lnTo>
                    <a:lnTo>
                      <a:pt x="899" y="152"/>
                    </a:lnTo>
                    <a:lnTo>
                      <a:pt x="899" y="0"/>
                    </a:lnTo>
                    <a:lnTo>
                      <a:pt x="8" y="0"/>
                    </a:lnTo>
                    <a:lnTo>
                      <a:pt x="0" y="377"/>
                    </a:lnTo>
                  </a:path>
                </a:pathLst>
              </a:custGeom>
              <a:solidFill>
                <a:srgbClr val="9f7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938960" y="1033560"/>
                <a:ext cx="1677240" cy="2593800"/>
              </a:xfrm>
              <a:custGeom>
                <a:avLst/>
                <a:gdLst/>
                <a:ahLst/>
                <a:rect l="l" t="t" r="r" b="b"/>
                <a:pathLst>
                  <a:path w="1242" h="1634">
                    <a:moveTo>
                      <a:pt x="0" y="1480"/>
                    </a:moveTo>
                    <a:lnTo>
                      <a:pt x="17" y="1633"/>
                    </a:lnTo>
                    <a:lnTo>
                      <a:pt x="102" y="1633"/>
                    </a:lnTo>
                    <a:lnTo>
                      <a:pt x="125" y="1622"/>
                    </a:lnTo>
                    <a:lnTo>
                      <a:pt x="78" y="1520"/>
                    </a:lnTo>
                    <a:lnTo>
                      <a:pt x="76" y="1381"/>
                    </a:lnTo>
                    <a:lnTo>
                      <a:pt x="97" y="1297"/>
                    </a:lnTo>
                    <a:lnTo>
                      <a:pt x="119" y="1220"/>
                    </a:lnTo>
                    <a:lnTo>
                      <a:pt x="190" y="1052"/>
                    </a:lnTo>
                    <a:lnTo>
                      <a:pt x="230" y="987"/>
                    </a:lnTo>
                    <a:lnTo>
                      <a:pt x="307" y="933"/>
                    </a:lnTo>
                    <a:lnTo>
                      <a:pt x="387" y="876"/>
                    </a:lnTo>
                    <a:lnTo>
                      <a:pt x="427" y="872"/>
                    </a:lnTo>
                    <a:lnTo>
                      <a:pt x="497" y="903"/>
                    </a:lnTo>
                    <a:lnTo>
                      <a:pt x="547" y="928"/>
                    </a:lnTo>
                    <a:lnTo>
                      <a:pt x="597" y="939"/>
                    </a:lnTo>
                    <a:lnTo>
                      <a:pt x="654" y="941"/>
                    </a:lnTo>
                    <a:lnTo>
                      <a:pt x="709" y="932"/>
                    </a:lnTo>
                    <a:lnTo>
                      <a:pt x="771" y="906"/>
                    </a:lnTo>
                    <a:lnTo>
                      <a:pt x="831" y="866"/>
                    </a:lnTo>
                    <a:lnTo>
                      <a:pt x="899" y="826"/>
                    </a:lnTo>
                    <a:lnTo>
                      <a:pt x="933" y="809"/>
                    </a:lnTo>
                    <a:lnTo>
                      <a:pt x="972" y="894"/>
                    </a:lnTo>
                    <a:lnTo>
                      <a:pt x="979" y="917"/>
                    </a:lnTo>
                    <a:lnTo>
                      <a:pt x="967" y="979"/>
                    </a:lnTo>
                    <a:lnTo>
                      <a:pt x="955" y="1018"/>
                    </a:lnTo>
                    <a:lnTo>
                      <a:pt x="940" y="1057"/>
                    </a:lnTo>
                    <a:lnTo>
                      <a:pt x="928" y="1092"/>
                    </a:lnTo>
                    <a:lnTo>
                      <a:pt x="921" y="1144"/>
                    </a:lnTo>
                    <a:lnTo>
                      <a:pt x="910" y="1246"/>
                    </a:lnTo>
                    <a:lnTo>
                      <a:pt x="916" y="1355"/>
                    </a:lnTo>
                    <a:lnTo>
                      <a:pt x="916" y="1457"/>
                    </a:lnTo>
                    <a:lnTo>
                      <a:pt x="921" y="1480"/>
                    </a:lnTo>
                    <a:lnTo>
                      <a:pt x="937" y="1530"/>
                    </a:lnTo>
                    <a:lnTo>
                      <a:pt x="965" y="1529"/>
                    </a:lnTo>
                    <a:lnTo>
                      <a:pt x="995" y="1521"/>
                    </a:lnTo>
                    <a:lnTo>
                      <a:pt x="1028" y="1502"/>
                    </a:lnTo>
                    <a:lnTo>
                      <a:pt x="955" y="1344"/>
                    </a:lnTo>
                    <a:lnTo>
                      <a:pt x="948" y="1305"/>
                    </a:lnTo>
                    <a:lnTo>
                      <a:pt x="950" y="1263"/>
                    </a:lnTo>
                    <a:lnTo>
                      <a:pt x="983" y="1167"/>
                    </a:lnTo>
                    <a:lnTo>
                      <a:pt x="1032" y="1081"/>
                    </a:lnTo>
                    <a:lnTo>
                      <a:pt x="1080" y="991"/>
                    </a:lnTo>
                    <a:lnTo>
                      <a:pt x="1154" y="809"/>
                    </a:lnTo>
                    <a:lnTo>
                      <a:pt x="1234" y="581"/>
                    </a:lnTo>
                    <a:lnTo>
                      <a:pt x="1241" y="506"/>
                    </a:lnTo>
                    <a:lnTo>
                      <a:pt x="1228" y="440"/>
                    </a:lnTo>
                    <a:lnTo>
                      <a:pt x="1211" y="411"/>
                    </a:lnTo>
                    <a:lnTo>
                      <a:pt x="1227" y="376"/>
                    </a:lnTo>
                    <a:lnTo>
                      <a:pt x="1239" y="332"/>
                    </a:lnTo>
                    <a:lnTo>
                      <a:pt x="1235" y="294"/>
                    </a:lnTo>
                    <a:lnTo>
                      <a:pt x="1211" y="257"/>
                    </a:lnTo>
                    <a:lnTo>
                      <a:pt x="1182" y="250"/>
                    </a:lnTo>
                    <a:lnTo>
                      <a:pt x="1149" y="260"/>
                    </a:lnTo>
                    <a:lnTo>
                      <a:pt x="1133" y="243"/>
                    </a:lnTo>
                    <a:lnTo>
                      <a:pt x="1114" y="223"/>
                    </a:lnTo>
                    <a:lnTo>
                      <a:pt x="1096" y="206"/>
                    </a:lnTo>
                    <a:lnTo>
                      <a:pt x="1081" y="180"/>
                    </a:lnTo>
                    <a:lnTo>
                      <a:pt x="1076" y="142"/>
                    </a:lnTo>
                    <a:lnTo>
                      <a:pt x="1098" y="97"/>
                    </a:lnTo>
                    <a:lnTo>
                      <a:pt x="1115" y="43"/>
                    </a:lnTo>
                    <a:lnTo>
                      <a:pt x="1116" y="0"/>
                    </a:lnTo>
                    <a:lnTo>
                      <a:pt x="1008" y="17"/>
                    </a:lnTo>
                    <a:lnTo>
                      <a:pt x="915" y="34"/>
                    </a:lnTo>
                    <a:lnTo>
                      <a:pt x="870" y="44"/>
                    </a:lnTo>
                    <a:lnTo>
                      <a:pt x="892" y="88"/>
                    </a:lnTo>
                    <a:lnTo>
                      <a:pt x="933" y="138"/>
                    </a:lnTo>
                    <a:lnTo>
                      <a:pt x="937" y="197"/>
                    </a:lnTo>
                    <a:lnTo>
                      <a:pt x="921" y="251"/>
                    </a:lnTo>
                    <a:lnTo>
                      <a:pt x="939" y="343"/>
                    </a:lnTo>
                    <a:lnTo>
                      <a:pt x="937" y="397"/>
                    </a:lnTo>
                    <a:lnTo>
                      <a:pt x="921" y="445"/>
                    </a:lnTo>
                    <a:lnTo>
                      <a:pt x="878" y="493"/>
                    </a:lnTo>
                    <a:lnTo>
                      <a:pt x="847" y="554"/>
                    </a:lnTo>
                    <a:lnTo>
                      <a:pt x="825" y="612"/>
                    </a:lnTo>
                    <a:lnTo>
                      <a:pt x="804" y="665"/>
                    </a:lnTo>
                    <a:lnTo>
                      <a:pt x="768" y="701"/>
                    </a:lnTo>
                    <a:lnTo>
                      <a:pt x="699" y="695"/>
                    </a:lnTo>
                    <a:lnTo>
                      <a:pt x="634" y="666"/>
                    </a:lnTo>
                    <a:lnTo>
                      <a:pt x="593" y="620"/>
                    </a:lnTo>
                    <a:lnTo>
                      <a:pt x="570" y="561"/>
                    </a:lnTo>
                    <a:lnTo>
                      <a:pt x="575" y="502"/>
                    </a:lnTo>
                    <a:lnTo>
                      <a:pt x="581" y="462"/>
                    </a:lnTo>
                    <a:lnTo>
                      <a:pt x="535" y="417"/>
                    </a:lnTo>
                    <a:lnTo>
                      <a:pt x="507" y="325"/>
                    </a:lnTo>
                    <a:lnTo>
                      <a:pt x="506" y="269"/>
                    </a:lnTo>
                    <a:lnTo>
                      <a:pt x="490" y="223"/>
                    </a:lnTo>
                    <a:lnTo>
                      <a:pt x="453" y="194"/>
                    </a:lnTo>
                    <a:lnTo>
                      <a:pt x="404" y="173"/>
                    </a:lnTo>
                    <a:lnTo>
                      <a:pt x="350" y="155"/>
                    </a:lnTo>
                    <a:lnTo>
                      <a:pt x="314" y="151"/>
                    </a:lnTo>
                    <a:lnTo>
                      <a:pt x="284" y="161"/>
                    </a:lnTo>
                    <a:lnTo>
                      <a:pt x="280" y="188"/>
                    </a:lnTo>
                    <a:lnTo>
                      <a:pt x="290" y="217"/>
                    </a:lnTo>
                    <a:lnTo>
                      <a:pt x="322" y="239"/>
                    </a:lnTo>
                    <a:lnTo>
                      <a:pt x="365" y="269"/>
                    </a:lnTo>
                    <a:lnTo>
                      <a:pt x="331" y="286"/>
                    </a:lnTo>
                    <a:lnTo>
                      <a:pt x="296" y="298"/>
                    </a:lnTo>
                    <a:lnTo>
                      <a:pt x="250" y="309"/>
                    </a:lnTo>
                    <a:lnTo>
                      <a:pt x="230" y="331"/>
                    </a:lnTo>
                    <a:lnTo>
                      <a:pt x="224" y="363"/>
                    </a:lnTo>
                    <a:lnTo>
                      <a:pt x="222" y="434"/>
                    </a:lnTo>
                    <a:lnTo>
                      <a:pt x="190" y="474"/>
                    </a:lnTo>
                    <a:lnTo>
                      <a:pt x="124" y="534"/>
                    </a:lnTo>
                    <a:lnTo>
                      <a:pt x="87" y="582"/>
                    </a:lnTo>
                    <a:lnTo>
                      <a:pt x="67" y="632"/>
                    </a:lnTo>
                    <a:lnTo>
                      <a:pt x="73" y="708"/>
                    </a:lnTo>
                    <a:lnTo>
                      <a:pt x="86" y="798"/>
                    </a:lnTo>
                    <a:lnTo>
                      <a:pt x="51" y="991"/>
                    </a:lnTo>
                    <a:lnTo>
                      <a:pt x="0" y="1480"/>
                    </a:lnTo>
                  </a:path>
                </a:pathLst>
              </a:custGeom>
              <a:solidFill>
                <a:srgbClr val="ffb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
              <p:cNvGrpSpPr/>
              <p:nvPr/>
            </p:nvGrpSpPr>
            <p:grpSpPr>
              <a:xfrm>
                <a:off x="3940560" y="1168560"/>
                <a:ext cx="165960" cy="112680"/>
                <a:chOff x="3940560" y="1168560"/>
                <a:chExt cx="165960" cy="112680"/>
              </a:xfrm>
            </p:grpSpPr>
            <p:sp>
              <p:nvSpPr>
                <p:cNvPr id="81" name=""/>
                <p:cNvSpPr/>
                <p:nvPr/>
              </p:nvSpPr>
              <p:spPr>
                <a:xfrm>
                  <a:off x="3940560" y="1168560"/>
                  <a:ext cx="165960" cy="112680"/>
                </a:xfrm>
                <a:custGeom>
                  <a:avLst/>
                  <a:gdLst/>
                  <a:ahLst/>
                  <a:rect l="l" t="t" r="r" b="b"/>
                  <a:pathLst>
                    <a:path w="123" h="71">
                      <a:moveTo>
                        <a:pt x="0" y="14"/>
                      </a:moveTo>
                      <a:lnTo>
                        <a:pt x="20" y="4"/>
                      </a:lnTo>
                      <a:lnTo>
                        <a:pt x="47" y="0"/>
                      </a:lnTo>
                      <a:lnTo>
                        <a:pt x="79" y="4"/>
                      </a:lnTo>
                      <a:lnTo>
                        <a:pt x="95" y="17"/>
                      </a:lnTo>
                      <a:lnTo>
                        <a:pt x="105" y="28"/>
                      </a:lnTo>
                      <a:lnTo>
                        <a:pt x="116" y="51"/>
                      </a:lnTo>
                      <a:lnTo>
                        <a:pt x="122" y="66"/>
                      </a:lnTo>
                      <a:lnTo>
                        <a:pt x="90" y="70"/>
                      </a:lnTo>
                      <a:lnTo>
                        <a:pt x="59" y="64"/>
                      </a:lnTo>
                      <a:lnTo>
                        <a:pt x="28" y="55"/>
                      </a:lnTo>
                      <a:lnTo>
                        <a:pt x="8" y="34"/>
                      </a:lnTo>
                      <a:lnTo>
                        <a:pt x="0" y="14"/>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976920" y="1192320"/>
                  <a:ext cx="103680" cy="69840"/>
                </a:xfrm>
                <a:custGeom>
                  <a:avLst/>
                  <a:gdLst/>
                  <a:ahLst/>
                  <a:rect l="l" t="t" r="r" b="b"/>
                  <a:pathLst>
                    <a:path w="77" h="44">
                      <a:moveTo>
                        <a:pt x="0" y="8"/>
                      </a:moveTo>
                      <a:lnTo>
                        <a:pt x="12" y="2"/>
                      </a:lnTo>
                      <a:lnTo>
                        <a:pt x="29" y="0"/>
                      </a:lnTo>
                      <a:lnTo>
                        <a:pt x="49" y="2"/>
                      </a:lnTo>
                      <a:lnTo>
                        <a:pt x="60" y="10"/>
                      </a:lnTo>
                      <a:lnTo>
                        <a:pt x="66" y="17"/>
                      </a:lnTo>
                      <a:lnTo>
                        <a:pt x="73" y="32"/>
                      </a:lnTo>
                      <a:lnTo>
                        <a:pt x="76" y="41"/>
                      </a:lnTo>
                      <a:lnTo>
                        <a:pt x="56" y="43"/>
                      </a:lnTo>
                      <a:lnTo>
                        <a:pt x="36" y="40"/>
                      </a:lnTo>
                      <a:lnTo>
                        <a:pt x="17" y="34"/>
                      </a:lnTo>
                      <a:lnTo>
                        <a:pt x="5" y="20"/>
                      </a:lnTo>
                      <a:lnTo>
                        <a:pt x="0" y="8"/>
                      </a:lnTo>
                    </a:path>
                  </a:pathLst>
                </a:custGeom>
                <a:solidFill>
                  <a:srgbClr val="ffffd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 name=""/>
                <p:cNvSpPr/>
                <p:nvPr/>
              </p:nvSpPr>
              <p:spPr>
                <a:xfrm>
                  <a:off x="4007880" y="1200240"/>
                  <a:ext cx="37440" cy="46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84" name=""/>
              <p:cNvSpPr/>
              <p:nvPr/>
            </p:nvSpPr>
            <p:spPr>
              <a:xfrm>
                <a:off x="4098600" y="903240"/>
                <a:ext cx="379440" cy="638280"/>
              </a:xfrm>
              <a:custGeom>
                <a:avLst/>
                <a:gdLst/>
                <a:ahLst/>
                <a:rect l="l" t="t" r="r" b="b"/>
                <a:pathLst>
                  <a:path w="281" h="402">
                    <a:moveTo>
                      <a:pt x="25" y="6"/>
                    </a:moveTo>
                    <a:lnTo>
                      <a:pt x="47" y="0"/>
                    </a:lnTo>
                    <a:lnTo>
                      <a:pt x="72" y="8"/>
                    </a:lnTo>
                    <a:lnTo>
                      <a:pt x="104" y="21"/>
                    </a:lnTo>
                    <a:lnTo>
                      <a:pt x="123" y="51"/>
                    </a:lnTo>
                    <a:lnTo>
                      <a:pt x="133" y="74"/>
                    </a:lnTo>
                    <a:lnTo>
                      <a:pt x="151" y="79"/>
                    </a:lnTo>
                    <a:lnTo>
                      <a:pt x="169" y="96"/>
                    </a:lnTo>
                    <a:lnTo>
                      <a:pt x="178" y="105"/>
                    </a:lnTo>
                    <a:lnTo>
                      <a:pt x="186" y="121"/>
                    </a:lnTo>
                    <a:lnTo>
                      <a:pt x="180" y="148"/>
                    </a:lnTo>
                    <a:lnTo>
                      <a:pt x="163" y="173"/>
                    </a:lnTo>
                    <a:lnTo>
                      <a:pt x="176" y="194"/>
                    </a:lnTo>
                    <a:lnTo>
                      <a:pt x="182" y="226"/>
                    </a:lnTo>
                    <a:lnTo>
                      <a:pt x="231" y="299"/>
                    </a:lnTo>
                    <a:lnTo>
                      <a:pt x="256" y="331"/>
                    </a:lnTo>
                    <a:lnTo>
                      <a:pt x="271" y="365"/>
                    </a:lnTo>
                    <a:lnTo>
                      <a:pt x="280" y="401"/>
                    </a:lnTo>
                    <a:lnTo>
                      <a:pt x="256" y="395"/>
                    </a:lnTo>
                    <a:lnTo>
                      <a:pt x="225" y="397"/>
                    </a:lnTo>
                    <a:lnTo>
                      <a:pt x="180" y="401"/>
                    </a:lnTo>
                    <a:lnTo>
                      <a:pt x="156" y="397"/>
                    </a:lnTo>
                    <a:lnTo>
                      <a:pt x="89" y="345"/>
                    </a:lnTo>
                    <a:lnTo>
                      <a:pt x="39" y="288"/>
                    </a:lnTo>
                    <a:lnTo>
                      <a:pt x="31" y="245"/>
                    </a:lnTo>
                    <a:lnTo>
                      <a:pt x="39" y="194"/>
                    </a:lnTo>
                    <a:lnTo>
                      <a:pt x="46" y="156"/>
                    </a:lnTo>
                    <a:lnTo>
                      <a:pt x="38" y="130"/>
                    </a:lnTo>
                    <a:lnTo>
                      <a:pt x="19" y="120"/>
                    </a:lnTo>
                    <a:lnTo>
                      <a:pt x="10" y="96"/>
                    </a:lnTo>
                    <a:lnTo>
                      <a:pt x="0" y="62"/>
                    </a:lnTo>
                    <a:lnTo>
                      <a:pt x="4" y="34"/>
                    </a:lnTo>
                    <a:lnTo>
                      <a:pt x="11" y="15"/>
                    </a:lnTo>
                    <a:lnTo>
                      <a:pt x="25" y="6"/>
                    </a:lnTo>
                  </a:path>
                </a:pathLst>
              </a:custGeom>
              <a:solidFill>
                <a:srgbClr val="ffb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632760" y="890640"/>
                <a:ext cx="191520" cy="119160"/>
              </a:xfrm>
              <a:custGeom>
                <a:avLst/>
                <a:gdLst/>
                <a:ahLst/>
                <a:rect l="l" t="t" r="r" b="b"/>
                <a:pathLst>
                  <a:path w="142" h="75">
                    <a:moveTo>
                      <a:pt x="105" y="27"/>
                    </a:moveTo>
                    <a:lnTo>
                      <a:pt x="58" y="6"/>
                    </a:lnTo>
                    <a:lnTo>
                      <a:pt x="11" y="0"/>
                    </a:lnTo>
                    <a:lnTo>
                      <a:pt x="0" y="9"/>
                    </a:lnTo>
                    <a:lnTo>
                      <a:pt x="7" y="30"/>
                    </a:lnTo>
                    <a:lnTo>
                      <a:pt x="37" y="61"/>
                    </a:lnTo>
                    <a:lnTo>
                      <a:pt x="66" y="74"/>
                    </a:lnTo>
                    <a:lnTo>
                      <a:pt x="96" y="61"/>
                    </a:lnTo>
                    <a:lnTo>
                      <a:pt x="123" y="46"/>
                    </a:lnTo>
                    <a:lnTo>
                      <a:pt x="141" y="46"/>
                    </a:lnTo>
                    <a:lnTo>
                      <a:pt x="105" y="27"/>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500920" y="1974960"/>
                <a:ext cx="414360" cy="436680"/>
              </a:xfrm>
              <a:custGeom>
                <a:avLst/>
                <a:gdLst/>
                <a:ahLst/>
                <a:rect l="l" t="t" r="r" b="b"/>
                <a:pathLst>
                  <a:path w="307" h="275">
                    <a:moveTo>
                      <a:pt x="188" y="124"/>
                    </a:moveTo>
                    <a:lnTo>
                      <a:pt x="159" y="96"/>
                    </a:lnTo>
                    <a:lnTo>
                      <a:pt x="132" y="47"/>
                    </a:lnTo>
                    <a:lnTo>
                      <a:pt x="102" y="17"/>
                    </a:lnTo>
                    <a:lnTo>
                      <a:pt x="62" y="0"/>
                    </a:lnTo>
                    <a:lnTo>
                      <a:pt x="34" y="5"/>
                    </a:lnTo>
                    <a:lnTo>
                      <a:pt x="11" y="22"/>
                    </a:lnTo>
                    <a:lnTo>
                      <a:pt x="0" y="39"/>
                    </a:lnTo>
                    <a:lnTo>
                      <a:pt x="0" y="71"/>
                    </a:lnTo>
                    <a:lnTo>
                      <a:pt x="11" y="102"/>
                    </a:lnTo>
                    <a:lnTo>
                      <a:pt x="22" y="137"/>
                    </a:lnTo>
                    <a:lnTo>
                      <a:pt x="45" y="182"/>
                    </a:lnTo>
                    <a:lnTo>
                      <a:pt x="75" y="218"/>
                    </a:lnTo>
                    <a:lnTo>
                      <a:pt x="119" y="255"/>
                    </a:lnTo>
                    <a:lnTo>
                      <a:pt x="154" y="265"/>
                    </a:lnTo>
                    <a:lnTo>
                      <a:pt x="198" y="273"/>
                    </a:lnTo>
                    <a:lnTo>
                      <a:pt x="226" y="274"/>
                    </a:lnTo>
                    <a:lnTo>
                      <a:pt x="267" y="273"/>
                    </a:lnTo>
                    <a:lnTo>
                      <a:pt x="290" y="256"/>
                    </a:lnTo>
                    <a:lnTo>
                      <a:pt x="302" y="240"/>
                    </a:lnTo>
                    <a:lnTo>
                      <a:pt x="306" y="222"/>
                    </a:lnTo>
                    <a:lnTo>
                      <a:pt x="296" y="197"/>
                    </a:lnTo>
                    <a:lnTo>
                      <a:pt x="268" y="166"/>
                    </a:lnTo>
                    <a:lnTo>
                      <a:pt x="232" y="146"/>
                    </a:lnTo>
                    <a:lnTo>
                      <a:pt x="188" y="124"/>
                    </a:lnTo>
                  </a:path>
                </a:pathLst>
              </a:custGeom>
              <a:solidFill>
                <a:srgbClr val="bf7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4272840" y="1550880"/>
                <a:ext cx="191160" cy="122400"/>
                <a:chOff x="4272840" y="1550880"/>
                <a:chExt cx="191160" cy="122400"/>
              </a:xfrm>
            </p:grpSpPr>
            <p:sp>
              <p:nvSpPr>
                <p:cNvPr id="88" name=""/>
                <p:cNvSpPr/>
                <p:nvPr/>
              </p:nvSpPr>
              <p:spPr>
                <a:xfrm>
                  <a:off x="4272840" y="1617840"/>
                  <a:ext cx="181800" cy="55440"/>
                </a:xfrm>
                <a:custGeom>
                  <a:avLst/>
                  <a:gdLst/>
                  <a:ahLst/>
                  <a:rect l="l" t="t" r="r" b="b"/>
                  <a:pathLst>
                    <a:path w="135" h="35">
                      <a:moveTo>
                        <a:pt x="134" y="7"/>
                      </a:moveTo>
                      <a:lnTo>
                        <a:pt x="93" y="0"/>
                      </a:lnTo>
                      <a:lnTo>
                        <a:pt x="59" y="8"/>
                      </a:lnTo>
                      <a:lnTo>
                        <a:pt x="40" y="14"/>
                      </a:lnTo>
                      <a:lnTo>
                        <a:pt x="12" y="19"/>
                      </a:lnTo>
                      <a:lnTo>
                        <a:pt x="0" y="27"/>
                      </a:lnTo>
                      <a:lnTo>
                        <a:pt x="40" y="34"/>
                      </a:lnTo>
                      <a:lnTo>
                        <a:pt x="76" y="34"/>
                      </a:lnTo>
                      <a:lnTo>
                        <a:pt x="108" y="23"/>
                      </a:lnTo>
                      <a:lnTo>
                        <a:pt x="134" y="7"/>
                      </a:lnTo>
                    </a:path>
                  </a:pathLst>
                </a:custGeom>
                <a:solidFill>
                  <a:srgbClr val="7f5f3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 name=""/>
                <p:cNvSpPr/>
                <p:nvPr/>
              </p:nvSpPr>
              <p:spPr>
                <a:xfrm>
                  <a:off x="4293000" y="1558800"/>
                  <a:ext cx="57960" cy="27000"/>
                </a:xfrm>
                <a:custGeom>
                  <a:avLst/>
                  <a:gdLst/>
                  <a:ahLst/>
                  <a:rect l="l" t="t" r="r" b="b"/>
                  <a:pathLst>
                    <a:path w="43" h="17">
                      <a:moveTo>
                        <a:pt x="32" y="1"/>
                      </a:moveTo>
                      <a:lnTo>
                        <a:pt x="10" y="0"/>
                      </a:lnTo>
                      <a:lnTo>
                        <a:pt x="0" y="3"/>
                      </a:lnTo>
                      <a:lnTo>
                        <a:pt x="5" y="12"/>
                      </a:lnTo>
                      <a:lnTo>
                        <a:pt x="22" y="16"/>
                      </a:lnTo>
                      <a:lnTo>
                        <a:pt x="42" y="14"/>
                      </a:lnTo>
                      <a:lnTo>
                        <a:pt x="32" y="1"/>
                      </a:lnTo>
                    </a:path>
                  </a:pathLst>
                </a:custGeom>
                <a:solidFill>
                  <a:srgbClr val="3f1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 name=""/>
                <p:cNvSpPr/>
                <p:nvPr/>
              </p:nvSpPr>
              <p:spPr>
                <a:xfrm>
                  <a:off x="4430520" y="1550880"/>
                  <a:ext cx="33480" cy="28800"/>
                </a:xfrm>
                <a:custGeom>
                  <a:avLst/>
                  <a:gdLst/>
                  <a:ahLst/>
                  <a:rect l="l" t="t" r="r" b="b"/>
                  <a:pathLst>
                    <a:path w="25" h="18">
                      <a:moveTo>
                        <a:pt x="6" y="1"/>
                      </a:moveTo>
                      <a:lnTo>
                        <a:pt x="18" y="0"/>
                      </a:lnTo>
                      <a:lnTo>
                        <a:pt x="24" y="4"/>
                      </a:lnTo>
                      <a:lnTo>
                        <a:pt x="22" y="12"/>
                      </a:lnTo>
                      <a:lnTo>
                        <a:pt x="11" y="17"/>
                      </a:lnTo>
                      <a:lnTo>
                        <a:pt x="0" y="15"/>
                      </a:lnTo>
                      <a:lnTo>
                        <a:pt x="6" y="1"/>
                      </a:lnTo>
                    </a:path>
                  </a:pathLst>
                </a:custGeom>
                <a:solidFill>
                  <a:srgbClr val="3f1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91" name=""/>
              <p:cNvGrpSpPr/>
              <p:nvPr/>
            </p:nvGrpSpPr>
            <p:grpSpPr>
              <a:xfrm>
                <a:off x="3831120" y="609480"/>
                <a:ext cx="289080" cy="352440"/>
                <a:chOff x="3831120" y="609480"/>
                <a:chExt cx="289080" cy="352440"/>
              </a:xfrm>
            </p:grpSpPr>
            <p:sp>
              <p:nvSpPr>
                <p:cNvPr id="92" name=""/>
                <p:cNvSpPr/>
                <p:nvPr/>
              </p:nvSpPr>
              <p:spPr>
                <a:xfrm>
                  <a:off x="3831120" y="609480"/>
                  <a:ext cx="289080" cy="352440"/>
                </a:xfrm>
                <a:custGeom>
                  <a:avLst/>
                  <a:gdLst/>
                  <a:ahLst/>
                  <a:rect l="l" t="t" r="r" b="b"/>
                  <a:pathLst>
                    <a:path w="214" h="222">
                      <a:moveTo>
                        <a:pt x="31" y="197"/>
                      </a:moveTo>
                      <a:lnTo>
                        <a:pt x="12" y="158"/>
                      </a:lnTo>
                      <a:lnTo>
                        <a:pt x="1" y="120"/>
                      </a:lnTo>
                      <a:lnTo>
                        <a:pt x="0" y="96"/>
                      </a:lnTo>
                      <a:lnTo>
                        <a:pt x="8" y="75"/>
                      </a:lnTo>
                      <a:lnTo>
                        <a:pt x="25" y="60"/>
                      </a:lnTo>
                      <a:lnTo>
                        <a:pt x="43" y="53"/>
                      </a:lnTo>
                      <a:lnTo>
                        <a:pt x="59" y="51"/>
                      </a:lnTo>
                      <a:lnTo>
                        <a:pt x="104" y="47"/>
                      </a:lnTo>
                      <a:lnTo>
                        <a:pt x="134" y="41"/>
                      </a:lnTo>
                      <a:lnTo>
                        <a:pt x="172" y="23"/>
                      </a:lnTo>
                      <a:lnTo>
                        <a:pt x="213" y="0"/>
                      </a:lnTo>
                      <a:lnTo>
                        <a:pt x="198" y="27"/>
                      </a:lnTo>
                      <a:lnTo>
                        <a:pt x="185" y="48"/>
                      </a:lnTo>
                      <a:lnTo>
                        <a:pt x="169" y="59"/>
                      </a:lnTo>
                      <a:lnTo>
                        <a:pt x="155" y="70"/>
                      </a:lnTo>
                      <a:lnTo>
                        <a:pt x="136" y="82"/>
                      </a:lnTo>
                      <a:lnTo>
                        <a:pt x="115" y="101"/>
                      </a:lnTo>
                      <a:lnTo>
                        <a:pt x="107" y="114"/>
                      </a:lnTo>
                      <a:lnTo>
                        <a:pt x="100" y="128"/>
                      </a:lnTo>
                      <a:lnTo>
                        <a:pt x="97" y="140"/>
                      </a:lnTo>
                      <a:lnTo>
                        <a:pt x="100" y="154"/>
                      </a:lnTo>
                      <a:lnTo>
                        <a:pt x="110" y="166"/>
                      </a:lnTo>
                      <a:lnTo>
                        <a:pt x="132" y="176"/>
                      </a:lnTo>
                      <a:lnTo>
                        <a:pt x="123" y="197"/>
                      </a:lnTo>
                      <a:lnTo>
                        <a:pt x="97" y="215"/>
                      </a:lnTo>
                      <a:lnTo>
                        <a:pt x="80" y="221"/>
                      </a:lnTo>
                      <a:lnTo>
                        <a:pt x="59" y="217"/>
                      </a:lnTo>
                      <a:lnTo>
                        <a:pt x="31" y="197"/>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67480" y="696960"/>
                  <a:ext cx="184680" cy="250920"/>
                </a:xfrm>
                <a:custGeom>
                  <a:avLst/>
                  <a:gdLst/>
                  <a:ahLst/>
                  <a:rect l="l" t="t" r="r" b="b"/>
                  <a:pathLst>
                    <a:path w="137" h="158">
                      <a:moveTo>
                        <a:pt x="20" y="129"/>
                      </a:moveTo>
                      <a:lnTo>
                        <a:pt x="7" y="103"/>
                      </a:lnTo>
                      <a:lnTo>
                        <a:pt x="0" y="78"/>
                      </a:lnTo>
                      <a:lnTo>
                        <a:pt x="0" y="63"/>
                      </a:lnTo>
                      <a:lnTo>
                        <a:pt x="4" y="49"/>
                      </a:lnTo>
                      <a:lnTo>
                        <a:pt x="16" y="39"/>
                      </a:lnTo>
                      <a:lnTo>
                        <a:pt x="27" y="34"/>
                      </a:lnTo>
                      <a:lnTo>
                        <a:pt x="38" y="34"/>
                      </a:lnTo>
                      <a:lnTo>
                        <a:pt x="67" y="31"/>
                      </a:lnTo>
                      <a:lnTo>
                        <a:pt x="86" y="26"/>
                      </a:lnTo>
                      <a:lnTo>
                        <a:pt x="111" y="15"/>
                      </a:lnTo>
                      <a:lnTo>
                        <a:pt x="136" y="0"/>
                      </a:lnTo>
                      <a:lnTo>
                        <a:pt x="125" y="14"/>
                      </a:lnTo>
                      <a:lnTo>
                        <a:pt x="110" y="26"/>
                      </a:lnTo>
                      <a:lnTo>
                        <a:pt x="104" y="33"/>
                      </a:lnTo>
                      <a:lnTo>
                        <a:pt x="91" y="40"/>
                      </a:lnTo>
                      <a:lnTo>
                        <a:pt x="82" y="50"/>
                      </a:lnTo>
                      <a:lnTo>
                        <a:pt x="74" y="66"/>
                      </a:lnTo>
                      <a:lnTo>
                        <a:pt x="68" y="74"/>
                      </a:lnTo>
                      <a:lnTo>
                        <a:pt x="66" y="86"/>
                      </a:lnTo>
                      <a:lnTo>
                        <a:pt x="67" y="92"/>
                      </a:lnTo>
                      <a:lnTo>
                        <a:pt x="68" y="99"/>
                      </a:lnTo>
                      <a:lnTo>
                        <a:pt x="74" y="106"/>
                      </a:lnTo>
                      <a:lnTo>
                        <a:pt x="101" y="123"/>
                      </a:lnTo>
                      <a:lnTo>
                        <a:pt x="94" y="142"/>
                      </a:lnTo>
                      <a:lnTo>
                        <a:pt x="75" y="151"/>
                      </a:lnTo>
                      <a:lnTo>
                        <a:pt x="58" y="157"/>
                      </a:lnTo>
                      <a:lnTo>
                        <a:pt x="38" y="142"/>
                      </a:lnTo>
                      <a:lnTo>
                        <a:pt x="20" y="129"/>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260600" y="633600"/>
                <a:ext cx="222840" cy="314280"/>
                <a:chOff x="4260600" y="633600"/>
                <a:chExt cx="222840" cy="314280"/>
              </a:xfrm>
            </p:grpSpPr>
            <p:sp>
              <p:nvSpPr>
                <p:cNvPr id="95" name=""/>
                <p:cNvSpPr/>
                <p:nvPr/>
              </p:nvSpPr>
              <p:spPr>
                <a:xfrm>
                  <a:off x="4260600" y="633600"/>
                  <a:ext cx="222840" cy="314280"/>
                </a:xfrm>
                <a:custGeom>
                  <a:avLst/>
                  <a:gdLst/>
                  <a:ahLst/>
                  <a:rect l="l" t="t" r="r" b="b"/>
                  <a:pathLst>
                    <a:path w="165" h="198">
                      <a:moveTo>
                        <a:pt x="79" y="0"/>
                      </a:moveTo>
                      <a:lnTo>
                        <a:pt x="105" y="12"/>
                      </a:lnTo>
                      <a:lnTo>
                        <a:pt x="130" y="26"/>
                      </a:lnTo>
                      <a:lnTo>
                        <a:pt x="156" y="49"/>
                      </a:lnTo>
                      <a:lnTo>
                        <a:pt x="164" y="74"/>
                      </a:lnTo>
                      <a:lnTo>
                        <a:pt x="164" y="94"/>
                      </a:lnTo>
                      <a:lnTo>
                        <a:pt x="158" y="114"/>
                      </a:lnTo>
                      <a:lnTo>
                        <a:pt x="143" y="134"/>
                      </a:lnTo>
                      <a:lnTo>
                        <a:pt x="115" y="154"/>
                      </a:lnTo>
                      <a:lnTo>
                        <a:pt x="92" y="178"/>
                      </a:lnTo>
                      <a:lnTo>
                        <a:pt x="81" y="195"/>
                      </a:lnTo>
                      <a:lnTo>
                        <a:pt x="62" y="197"/>
                      </a:lnTo>
                      <a:lnTo>
                        <a:pt x="32" y="184"/>
                      </a:lnTo>
                      <a:lnTo>
                        <a:pt x="9" y="165"/>
                      </a:lnTo>
                      <a:lnTo>
                        <a:pt x="0" y="142"/>
                      </a:lnTo>
                      <a:lnTo>
                        <a:pt x="12" y="132"/>
                      </a:lnTo>
                      <a:lnTo>
                        <a:pt x="54" y="125"/>
                      </a:lnTo>
                      <a:lnTo>
                        <a:pt x="73" y="113"/>
                      </a:lnTo>
                      <a:lnTo>
                        <a:pt x="89" y="94"/>
                      </a:lnTo>
                      <a:lnTo>
                        <a:pt x="94" y="67"/>
                      </a:lnTo>
                      <a:lnTo>
                        <a:pt x="94" y="35"/>
                      </a:lnTo>
                      <a:lnTo>
                        <a:pt x="79" y="0"/>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302360" y="687600"/>
                  <a:ext cx="177840" cy="258480"/>
                </a:xfrm>
                <a:custGeom>
                  <a:avLst/>
                  <a:gdLst/>
                  <a:ahLst/>
                  <a:rect l="l" t="t" r="r" b="b"/>
                  <a:pathLst>
                    <a:path w="132" h="163">
                      <a:moveTo>
                        <a:pt x="85" y="0"/>
                      </a:moveTo>
                      <a:lnTo>
                        <a:pt x="105" y="14"/>
                      </a:lnTo>
                      <a:lnTo>
                        <a:pt x="121" y="25"/>
                      </a:lnTo>
                      <a:lnTo>
                        <a:pt x="131" y="47"/>
                      </a:lnTo>
                      <a:lnTo>
                        <a:pt x="128" y="67"/>
                      </a:lnTo>
                      <a:lnTo>
                        <a:pt x="117" y="89"/>
                      </a:lnTo>
                      <a:lnTo>
                        <a:pt x="99" y="106"/>
                      </a:lnTo>
                      <a:lnTo>
                        <a:pt x="78" y="126"/>
                      </a:lnTo>
                      <a:lnTo>
                        <a:pt x="66" y="141"/>
                      </a:lnTo>
                      <a:lnTo>
                        <a:pt x="49" y="160"/>
                      </a:lnTo>
                      <a:lnTo>
                        <a:pt x="31" y="162"/>
                      </a:lnTo>
                      <a:lnTo>
                        <a:pt x="15" y="153"/>
                      </a:lnTo>
                      <a:lnTo>
                        <a:pt x="3" y="141"/>
                      </a:lnTo>
                      <a:lnTo>
                        <a:pt x="0" y="127"/>
                      </a:lnTo>
                      <a:lnTo>
                        <a:pt x="13" y="117"/>
                      </a:lnTo>
                      <a:lnTo>
                        <a:pt x="38" y="111"/>
                      </a:lnTo>
                      <a:lnTo>
                        <a:pt x="53" y="102"/>
                      </a:lnTo>
                      <a:lnTo>
                        <a:pt x="74" y="89"/>
                      </a:lnTo>
                      <a:lnTo>
                        <a:pt x="89" y="67"/>
                      </a:lnTo>
                      <a:lnTo>
                        <a:pt x="99" y="40"/>
                      </a:lnTo>
                      <a:lnTo>
                        <a:pt x="95" y="21"/>
                      </a:lnTo>
                      <a:lnTo>
                        <a:pt x="85" y="0"/>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3996000" y="1397160"/>
                <a:ext cx="110520" cy="164880"/>
              </a:xfrm>
              <a:custGeom>
                <a:avLst/>
                <a:gdLst/>
                <a:ahLst/>
                <a:rect l="l" t="t" r="r" b="b"/>
                <a:pathLst>
                  <a:path w="82" h="104">
                    <a:moveTo>
                      <a:pt x="81" y="103"/>
                    </a:moveTo>
                    <a:lnTo>
                      <a:pt x="43" y="62"/>
                    </a:lnTo>
                    <a:lnTo>
                      <a:pt x="15" y="26"/>
                    </a:lnTo>
                    <a:lnTo>
                      <a:pt x="0" y="0"/>
                    </a:lnTo>
                    <a:lnTo>
                      <a:pt x="81" y="10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774080" y="2225880"/>
                <a:ext cx="71640" cy="1220760"/>
              </a:xfrm>
              <a:custGeom>
                <a:avLst/>
                <a:gdLst/>
                <a:ahLst/>
                <a:rect l="l" t="t" r="r" b="b"/>
                <a:pathLst>
                  <a:path w="53" h="769">
                    <a:moveTo>
                      <a:pt x="52" y="768"/>
                    </a:moveTo>
                    <a:lnTo>
                      <a:pt x="39" y="623"/>
                    </a:lnTo>
                    <a:lnTo>
                      <a:pt x="21" y="520"/>
                    </a:lnTo>
                    <a:lnTo>
                      <a:pt x="0" y="423"/>
                    </a:lnTo>
                    <a:lnTo>
                      <a:pt x="34" y="294"/>
                    </a:lnTo>
                    <a:lnTo>
                      <a:pt x="30" y="98"/>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1575720" y="1136880"/>
                <a:ext cx="380520" cy="1858680"/>
                <a:chOff x="1575720" y="1136880"/>
                <a:chExt cx="380520" cy="1858680"/>
              </a:xfrm>
            </p:grpSpPr>
            <p:sp>
              <p:nvSpPr>
                <p:cNvPr id="100" name=""/>
                <p:cNvSpPr/>
                <p:nvPr/>
              </p:nvSpPr>
              <p:spPr>
                <a:xfrm>
                  <a:off x="1575720" y="1136880"/>
                  <a:ext cx="380520" cy="1547640"/>
                </a:xfrm>
                <a:custGeom>
                  <a:avLst/>
                  <a:gdLst/>
                  <a:ahLst/>
                  <a:rect l="l" t="t" r="r" b="b"/>
                  <a:pathLst>
                    <a:path w="282" h="975">
                      <a:moveTo>
                        <a:pt x="281" y="11"/>
                      </a:moveTo>
                      <a:lnTo>
                        <a:pt x="231" y="4"/>
                      </a:lnTo>
                      <a:lnTo>
                        <a:pt x="192" y="0"/>
                      </a:lnTo>
                      <a:lnTo>
                        <a:pt x="163" y="5"/>
                      </a:lnTo>
                      <a:lnTo>
                        <a:pt x="134" y="12"/>
                      </a:lnTo>
                      <a:lnTo>
                        <a:pt x="108" y="24"/>
                      </a:lnTo>
                      <a:lnTo>
                        <a:pt x="78" y="50"/>
                      </a:lnTo>
                      <a:lnTo>
                        <a:pt x="60" y="73"/>
                      </a:lnTo>
                      <a:lnTo>
                        <a:pt x="43" y="98"/>
                      </a:lnTo>
                      <a:lnTo>
                        <a:pt x="29" y="129"/>
                      </a:lnTo>
                      <a:lnTo>
                        <a:pt x="18" y="164"/>
                      </a:lnTo>
                      <a:lnTo>
                        <a:pt x="6" y="206"/>
                      </a:lnTo>
                      <a:lnTo>
                        <a:pt x="1" y="248"/>
                      </a:lnTo>
                      <a:lnTo>
                        <a:pt x="0" y="329"/>
                      </a:lnTo>
                      <a:lnTo>
                        <a:pt x="22" y="477"/>
                      </a:lnTo>
                      <a:lnTo>
                        <a:pt x="68" y="629"/>
                      </a:lnTo>
                      <a:lnTo>
                        <a:pt x="98" y="796"/>
                      </a:lnTo>
                      <a:lnTo>
                        <a:pt x="102" y="872"/>
                      </a:lnTo>
                      <a:lnTo>
                        <a:pt x="90" y="927"/>
                      </a:lnTo>
                      <a:lnTo>
                        <a:pt x="72" y="974"/>
                      </a:lnTo>
                      <a:lnTo>
                        <a:pt x="123" y="932"/>
                      </a:lnTo>
                      <a:lnTo>
                        <a:pt x="153" y="966"/>
                      </a:lnTo>
                      <a:lnTo>
                        <a:pt x="118" y="787"/>
                      </a:lnTo>
                      <a:lnTo>
                        <a:pt x="89" y="602"/>
                      </a:lnTo>
                      <a:lnTo>
                        <a:pt x="56" y="446"/>
                      </a:lnTo>
                      <a:lnTo>
                        <a:pt x="43" y="301"/>
                      </a:lnTo>
                      <a:lnTo>
                        <a:pt x="60" y="212"/>
                      </a:lnTo>
                      <a:lnTo>
                        <a:pt x="81" y="113"/>
                      </a:lnTo>
                      <a:lnTo>
                        <a:pt x="106" y="63"/>
                      </a:lnTo>
                      <a:lnTo>
                        <a:pt x="145" y="32"/>
                      </a:lnTo>
                      <a:lnTo>
                        <a:pt x="208" y="24"/>
                      </a:lnTo>
                      <a:lnTo>
                        <a:pt x="281" y="11"/>
                      </a:lnTo>
                    </a:path>
                  </a:pathLst>
                </a:custGeom>
                <a:solidFill>
                  <a:srgbClr val="ffb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653840" y="2613240"/>
                  <a:ext cx="145440" cy="382320"/>
                </a:xfrm>
                <a:custGeom>
                  <a:avLst/>
                  <a:gdLst/>
                  <a:ahLst/>
                  <a:rect l="l" t="t" r="r" b="b"/>
                  <a:pathLst>
                    <a:path w="108" h="241">
                      <a:moveTo>
                        <a:pt x="64" y="0"/>
                      </a:moveTo>
                      <a:lnTo>
                        <a:pt x="17" y="42"/>
                      </a:lnTo>
                      <a:lnTo>
                        <a:pt x="0" y="71"/>
                      </a:lnTo>
                      <a:lnTo>
                        <a:pt x="23" y="57"/>
                      </a:lnTo>
                      <a:lnTo>
                        <a:pt x="0" y="119"/>
                      </a:lnTo>
                      <a:lnTo>
                        <a:pt x="27" y="97"/>
                      </a:lnTo>
                      <a:lnTo>
                        <a:pt x="8" y="183"/>
                      </a:lnTo>
                      <a:lnTo>
                        <a:pt x="41" y="151"/>
                      </a:lnTo>
                      <a:lnTo>
                        <a:pt x="50" y="204"/>
                      </a:lnTo>
                      <a:lnTo>
                        <a:pt x="88" y="240"/>
                      </a:lnTo>
                      <a:lnTo>
                        <a:pt x="87" y="182"/>
                      </a:lnTo>
                      <a:lnTo>
                        <a:pt x="107" y="113"/>
                      </a:lnTo>
                      <a:lnTo>
                        <a:pt x="92" y="32"/>
                      </a:lnTo>
                      <a:lnTo>
                        <a:pt x="64" y="0"/>
                      </a:lnTo>
                    </a:path>
                  </a:pathLst>
                </a:custGeom>
                <a:solidFill>
                  <a:srgbClr val="ffb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34760" y="1157400"/>
                  <a:ext cx="313200" cy="1482840"/>
                </a:xfrm>
                <a:custGeom>
                  <a:avLst/>
                  <a:gdLst/>
                  <a:ahLst/>
                  <a:rect l="l" t="t" r="r" b="b"/>
                  <a:pathLst>
                    <a:path w="232" h="934">
                      <a:moveTo>
                        <a:pt x="104" y="933"/>
                      </a:moveTo>
                      <a:lnTo>
                        <a:pt x="98" y="744"/>
                      </a:lnTo>
                      <a:lnTo>
                        <a:pt x="68" y="573"/>
                      </a:lnTo>
                      <a:lnTo>
                        <a:pt x="52" y="472"/>
                      </a:lnTo>
                      <a:lnTo>
                        <a:pt x="44" y="386"/>
                      </a:lnTo>
                      <a:lnTo>
                        <a:pt x="40" y="300"/>
                      </a:lnTo>
                      <a:lnTo>
                        <a:pt x="47" y="224"/>
                      </a:lnTo>
                      <a:lnTo>
                        <a:pt x="60" y="155"/>
                      </a:lnTo>
                      <a:lnTo>
                        <a:pt x="75" y="104"/>
                      </a:lnTo>
                      <a:lnTo>
                        <a:pt x="94" y="73"/>
                      </a:lnTo>
                      <a:lnTo>
                        <a:pt x="118" y="50"/>
                      </a:lnTo>
                      <a:lnTo>
                        <a:pt x="148" y="31"/>
                      </a:lnTo>
                      <a:lnTo>
                        <a:pt x="184" y="15"/>
                      </a:lnTo>
                      <a:lnTo>
                        <a:pt x="231" y="0"/>
                      </a:lnTo>
                      <a:lnTo>
                        <a:pt x="179" y="3"/>
                      </a:lnTo>
                      <a:lnTo>
                        <a:pt x="143" y="7"/>
                      </a:lnTo>
                      <a:lnTo>
                        <a:pt x="101" y="18"/>
                      </a:lnTo>
                      <a:lnTo>
                        <a:pt x="69" y="38"/>
                      </a:lnTo>
                      <a:lnTo>
                        <a:pt x="49" y="62"/>
                      </a:lnTo>
                      <a:lnTo>
                        <a:pt x="35" y="92"/>
                      </a:lnTo>
                      <a:lnTo>
                        <a:pt x="19" y="154"/>
                      </a:lnTo>
                      <a:lnTo>
                        <a:pt x="8" y="215"/>
                      </a:lnTo>
                      <a:lnTo>
                        <a:pt x="0" y="270"/>
                      </a:lnTo>
                      <a:lnTo>
                        <a:pt x="1" y="335"/>
                      </a:lnTo>
                      <a:lnTo>
                        <a:pt x="4" y="392"/>
                      </a:lnTo>
                      <a:lnTo>
                        <a:pt x="18" y="471"/>
                      </a:lnTo>
                      <a:lnTo>
                        <a:pt x="44" y="582"/>
                      </a:lnTo>
                      <a:lnTo>
                        <a:pt x="73" y="770"/>
                      </a:lnTo>
                      <a:lnTo>
                        <a:pt x="104" y="933"/>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3" name=""/>
            <p:cNvSpPr/>
            <p:nvPr/>
          </p:nvSpPr>
          <p:spPr>
            <a:xfrm>
              <a:off x="4143960" y="2454120"/>
              <a:ext cx="1132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balt</a:t>
              </a:r>
              <a:endParaRPr b="0" lang="en-US" sz="2400" spc="-1" strike="noStrike">
                <a:solidFill>
                  <a:srgbClr val="000000"/>
                </a:solidFill>
                <a:latin typeface="Times New Roman"/>
              </a:endParaRPr>
            </a:p>
          </p:txBody>
        </p:sp>
        <p:sp>
          <p:nvSpPr>
            <p:cNvPr id="104" name=""/>
            <p:cNvSpPr/>
            <p:nvPr/>
          </p:nvSpPr>
          <p:spPr>
            <a:xfrm>
              <a:off x="4483440" y="2851200"/>
              <a:ext cx="907200" cy="60948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flipV="1">
              <a:off x="4417560" y="1784520"/>
              <a:ext cx="194400" cy="76176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82760" y="1638360"/>
              <a:ext cx="1027080" cy="749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369840" y="2857680"/>
              <a:ext cx="1025640" cy="749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3315600" y="1327320"/>
              <a:ext cx="778320" cy="53316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2477520" y="1599840"/>
              <a:ext cx="210600" cy="30492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1758240" y="1326960"/>
              <a:ext cx="519480" cy="68580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1283040" y="1295280"/>
              <a:ext cx="421200" cy="243864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823480" y="1768320"/>
              <a:ext cx="56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Co</a:t>
              </a:r>
              <a:endParaRPr b="0" lang="en-US" sz="2400" spc="-1" strike="noStrike">
                <a:solidFill>
                  <a:srgbClr val="000000"/>
                </a:solidFill>
                <a:latin typeface="Times New Roman"/>
              </a:endParaRPr>
            </a:p>
          </p:txBody>
        </p:sp>
        <p:sp>
          <p:nvSpPr>
            <p:cNvPr id="113" name=""/>
            <p:cNvSpPr/>
            <p:nvPr/>
          </p:nvSpPr>
          <p:spPr>
            <a:xfrm>
              <a:off x="2263320" y="1844640"/>
              <a:ext cx="59040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B</a:t>
              </a:r>
              <a:r>
                <a:rPr b="1" lang="en-US" sz="2400" spc="-1" strike="noStrike" baseline="-25000">
                  <a:solidFill>
                    <a:srgbClr val="000000"/>
                  </a:solidFill>
                  <a:latin typeface="Univers (W1)"/>
                </a:rPr>
                <a:t>12</a:t>
              </a:r>
              <a:endParaRPr b="0" lang="en-US" sz="2400" spc="-1" strike="noStrike">
                <a:solidFill>
                  <a:srgbClr val="000000"/>
                </a:solidFill>
                <a:latin typeface="Times New Roman"/>
              </a:endParaRPr>
            </a:p>
          </p:txBody>
        </p:sp>
        <p:sp>
          <p:nvSpPr>
            <p:cNvPr id="114" name=""/>
            <p:cNvSpPr/>
            <p:nvPr/>
          </p:nvSpPr>
          <p:spPr>
            <a:xfrm>
              <a:off x="2458440" y="1235160"/>
              <a:ext cx="59040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B</a:t>
              </a:r>
              <a:r>
                <a:rPr b="1" lang="en-US" sz="2400" spc="-1" strike="noStrike" baseline="-25000">
                  <a:solidFill>
                    <a:srgbClr val="000000"/>
                  </a:solidFill>
                  <a:latin typeface="Univers (W1)"/>
                </a:rPr>
                <a:t>12</a:t>
              </a:r>
              <a:endParaRPr b="0" lang="en-US" sz="2400" spc="-1" strike="noStrike">
                <a:solidFill>
                  <a:srgbClr val="000000"/>
                </a:solidFill>
                <a:latin typeface="Times New Roman"/>
              </a:endParaRPr>
            </a:p>
          </p:txBody>
        </p:sp>
        <p:sp>
          <p:nvSpPr>
            <p:cNvPr id="115" name=""/>
            <p:cNvSpPr/>
            <p:nvPr/>
          </p:nvSpPr>
          <p:spPr>
            <a:xfrm flipH="1">
              <a:off x="2601720" y="1981080"/>
              <a:ext cx="324720" cy="76320"/>
            </a:xfrm>
            <a:prstGeom prst="line">
              <a:avLst/>
            </a:prstGeom>
            <a:ln w="50760">
              <a:solidFill>
                <a:srgbClr val="fafd00"/>
              </a:solidFill>
              <a:miter/>
              <a:tailEnd len="med"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6" name=""/>
            <p:cNvSpPr/>
            <p:nvPr/>
          </p:nvSpPr>
          <p:spPr>
            <a:xfrm>
              <a:off x="1155240" y="3733920"/>
              <a:ext cx="1789560" cy="874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bal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tamin B</a:t>
              </a:r>
              <a:r>
                <a:rPr b="1" lang="en-US" sz="2400" spc="-1" strike="noStrike" baseline="-25000">
                  <a:solidFill>
                    <a:srgbClr val="ffffff"/>
                  </a:solidFill>
                  <a:latin typeface="Arial"/>
                </a:rPr>
                <a:t>12</a:t>
              </a:r>
              <a:endParaRPr b="0" lang="en-US" sz="2400" spc="-1" strike="noStrike">
                <a:solidFill>
                  <a:srgbClr val="000000"/>
                </a:solidFill>
                <a:latin typeface="Times New Roman"/>
              </a:endParaRPr>
            </a:p>
          </p:txBody>
        </p:sp>
        <p:sp>
          <p:nvSpPr>
            <p:cNvPr id="117" name=""/>
            <p:cNvSpPr/>
            <p:nvPr/>
          </p:nvSpPr>
          <p:spPr>
            <a:xfrm flipV="1">
              <a:off x="5844240" y="3308040"/>
              <a:ext cx="519480" cy="22860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04920" y="2987640"/>
              <a:ext cx="56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Co</a:t>
              </a:r>
              <a:endParaRPr b="0" lang="en-US" sz="2400" spc="-1" strike="noStrike">
                <a:solidFill>
                  <a:srgbClr val="000000"/>
                </a:solidFill>
                <a:latin typeface="Times New Roman"/>
              </a:endParaRPr>
            </a:p>
          </p:txBody>
        </p:sp>
        <p:sp>
          <p:nvSpPr>
            <p:cNvPr id="119" name=""/>
            <p:cNvSpPr/>
            <p:nvPr/>
          </p:nvSpPr>
          <p:spPr>
            <a:xfrm flipV="1">
              <a:off x="7401240" y="2622600"/>
              <a:ext cx="389160" cy="53352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54840" y="2698920"/>
              <a:ext cx="583920" cy="167616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099640" y="4282920"/>
              <a:ext cx="1218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balt </a:t>
              </a:r>
              <a:endParaRPr b="0" lang="en-US" sz="2400" spc="-1" strike="noStrike">
                <a:solidFill>
                  <a:srgbClr val="000000"/>
                </a:solidFill>
                <a:latin typeface="Times New Roman"/>
              </a:endParaRPr>
            </a:p>
          </p:txBody>
        </p:sp>
        <p:sp>
          <p:nvSpPr>
            <p:cNvPr id="122" name=""/>
            <p:cNvSpPr/>
            <p:nvPr/>
          </p:nvSpPr>
          <p:spPr>
            <a:xfrm flipV="1">
              <a:off x="6947640" y="2470320"/>
              <a:ext cx="0" cy="38088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34880" y="2073240"/>
              <a:ext cx="56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Co</a:t>
              </a:r>
              <a:endParaRPr b="0" lang="en-US" sz="2400" spc="-1" strike="noStrike">
                <a:solidFill>
                  <a:srgbClr val="000000"/>
                </a:solidFill>
                <a:latin typeface="Times New Roman"/>
              </a:endParaRPr>
            </a:p>
          </p:txBody>
        </p:sp>
        <p:sp>
          <p:nvSpPr>
            <p:cNvPr id="124" name=""/>
            <p:cNvSpPr/>
            <p:nvPr/>
          </p:nvSpPr>
          <p:spPr>
            <a:xfrm>
              <a:off x="4233240" y="4816440"/>
              <a:ext cx="4916520" cy="1240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practice microbes in gut of monogastrics would also produce some B</a:t>
              </a:r>
              <a:r>
                <a:rPr b="1" lang="en-US" sz="2400" spc="-1" strike="noStrike" baseline="-25000">
                  <a:solidFill>
                    <a:srgbClr val="ffffff"/>
                  </a:solidFill>
                  <a:latin typeface="Arial"/>
                </a:rPr>
                <a:t>12</a:t>
              </a:r>
              <a:endParaRPr b="0" lang="en-US" sz="2400" spc="-1" strike="noStrike">
                <a:solidFill>
                  <a:srgbClr val="000000"/>
                </a:solidFill>
                <a:latin typeface="Times New Roman"/>
              </a:endParaRPr>
            </a:p>
          </p:txBody>
        </p:sp>
      </p:grpSp>
      <p:sp>
        <p:nvSpPr>
          <p:cNvPr id="125" name=""/>
          <p:cNvSpPr/>
          <p:nvPr/>
        </p:nvSpPr>
        <p:spPr>
          <a:xfrm>
            <a:off x="784872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6" name=""/>
          <p:cNvSpPr/>
          <p:nvPr/>
        </p:nvSpPr>
        <p:spPr>
          <a:xfrm>
            <a:off x="1195560" y="533520"/>
            <a:ext cx="663228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127" name=""/>
          <p:cNvSpPr/>
          <p:nvPr/>
        </p:nvSpPr>
        <p:spPr>
          <a:xfrm>
            <a:off x="784872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balt deficiency</a:t>
            </a:r>
            <a:endParaRPr b="1" lang="en-US" sz="3200" spc="-1" strike="noStrike">
              <a:solidFill>
                <a:srgbClr val="fafd00"/>
              </a:solidFill>
              <a:latin typeface="Arial"/>
            </a:endParaRPr>
          </a:p>
        </p:txBody>
      </p:sp>
      <p:sp>
        <p:nvSpPr>
          <p:cNvPr id="129"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ffects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 of appetite (was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 of weigh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wool growt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emia</a:t>
            </a:r>
            <a:endParaRPr b="1" lang="en-US" sz="2400" spc="-1" strike="noStrike">
              <a:solidFill>
                <a:srgbClr val="ffffff"/>
              </a:solidFill>
              <a:latin typeface="Arial"/>
            </a:endParaRPr>
          </a:p>
        </p:txBody>
      </p:sp>
      <p:sp>
        <p:nvSpPr>
          <p:cNvPr id="130"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ccurrenc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ndy or volcanic soil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ush green pastu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pidly growing or reproducing shee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1" name=""/>
          <p:cNvGrpSpPr/>
          <p:nvPr/>
        </p:nvGrpSpPr>
        <p:grpSpPr>
          <a:xfrm>
            <a:off x="1069560" y="1752480"/>
            <a:ext cx="8072640" cy="3719520"/>
            <a:chOff x="1069560" y="1752480"/>
            <a:chExt cx="8072640" cy="3719520"/>
          </a:xfrm>
        </p:grpSpPr>
        <p:sp>
          <p:nvSpPr>
            <p:cNvPr id="132" name=""/>
            <p:cNvSpPr/>
            <p:nvPr/>
          </p:nvSpPr>
          <p:spPr>
            <a:xfrm>
              <a:off x="1082520" y="1752480"/>
              <a:ext cx="2039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ionate</a:t>
              </a:r>
              <a:endParaRPr b="0" lang="en-US" sz="2800" spc="-1" strike="noStrike">
                <a:solidFill>
                  <a:srgbClr val="000000"/>
                </a:solidFill>
                <a:latin typeface="Times New Roman"/>
              </a:endParaRPr>
            </a:p>
          </p:txBody>
        </p:sp>
        <p:sp>
          <p:nvSpPr>
            <p:cNvPr id="133" name=""/>
            <p:cNvSpPr/>
            <p:nvPr/>
          </p:nvSpPr>
          <p:spPr>
            <a:xfrm>
              <a:off x="4099680" y="1752480"/>
              <a:ext cx="2649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ionyl CoA</a:t>
              </a:r>
              <a:endParaRPr b="0" lang="en-US" sz="2800" spc="-1" strike="noStrike">
                <a:solidFill>
                  <a:srgbClr val="000000"/>
                </a:solidFill>
                <a:latin typeface="Times New Roman"/>
              </a:endParaRPr>
            </a:p>
          </p:txBody>
        </p:sp>
        <p:sp>
          <p:nvSpPr>
            <p:cNvPr id="134" name=""/>
            <p:cNvSpPr/>
            <p:nvPr/>
          </p:nvSpPr>
          <p:spPr>
            <a:xfrm>
              <a:off x="3678120" y="3352680"/>
              <a:ext cx="3481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ylmalonyl CoA</a:t>
              </a:r>
              <a:endParaRPr b="0" lang="en-US" sz="2800" spc="-1" strike="noStrike">
                <a:solidFill>
                  <a:srgbClr val="000000"/>
                </a:solidFill>
                <a:latin typeface="Times New Roman"/>
              </a:endParaRPr>
            </a:p>
          </p:txBody>
        </p:sp>
        <p:sp>
          <p:nvSpPr>
            <p:cNvPr id="135" name=""/>
            <p:cNvSpPr/>
            <p:nvPr/>
          </p:nvSpPr>
          <p:spPr>
            <a:xfrm>
              <a:off x="3193920" y="2043000"/>
              <a:ext cx="844560" cy="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94320" y="5243400"/>
              <a:ext cx="844560" cy="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029200" y="2347920"/>
              <a:ext cx="0" cy="91440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58200" y="4952880"/>
              <a:ext cx="247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cinyl CoA</a:t>
              </a:r>
              <a:endParaRPr b="0" lang="en-US" sz="2800" spc="-1" strike="noStrike">
                <a:solidFill>
                  <a:srgbClr val="000000"/>
                </a:solidFill>
                <a:latin typeface="Times New Roman"/>
              </a:endParaRPr>
            </a:p>
          </p:txBody>
        </p:sp>
        <p:sp>
          <p:nvSpPr>
            <p:cNvPr id="139" name=""/>
            <p:cNvSpPr/>
            <p:nvPr/>
          </p:nvSpPr>
          <p:spPr>
            <a:xfrm>
              <a:off x="5029200" y="3871800"/>
              <a:ext cx="0" cy="91440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180200" y="4952880"/>
              <a:ext cx="1962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A Cycle</a:t>
              </a:r>
              <a:endParaRPr b="0" lang="en-US" sz="2800" spc="-1" strike="noStrike">
                <a:solidFill>
                  <a:srgbClr val="000000"/>
                </a:solidFill>
                <a:latin typeface="Times New Roman"/>
              </a:endParaRPr>
            </a:p>
          </p:txBody>
        </p:sp>
        <p:sp>
          <p:nvSpPr>
            <p:cNvPr id="141" name=""/>
            <p:cNvSpPr/>
            <p:nvPr/>
          </p:nvSpPr>
          <p:spPr>
            <a:xfrm>
              <a:off x="1069560" y="4006800"/>
              <a:ext cx="34815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ethylmalonyl Co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utase</a:t>
              </a:r>
              <a:endParaRPr b="0" lang="en-US" sz="2800" spc="-1" strike="noStrike">
                <a:solidFill>
                  <a:srgbClr val="000000"/>
                </a:solidFill>
                <a:latin typeface="Times New Roman"/>
              </a:endParaRPr>
            </a:p>
          </p:txBody>
        </p:sp>
      </p:grpSp>
      <p:sp>
        <p:nvSpPr>
          <p:cNvPr id="142" name=""/>
          <p:cNvSpPr/>
          <p:nvPr/>
        </p:nvSpPr>
        <p:spPr>
          <a:xfrm>
            <a:off x="1055520" y="304920"/>
            <a:ext cx="663120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143" name=""/>
          <p:cNvSpPr/>
          <p:nvPr/>
        </p:nvSpPr>
        <p:spPr>
          <a:xfrm>
            <a:off x="784872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14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balt is required for energy metabolism</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 name=""/>
          <p:cNvSpPr/>
          <p:nvPr/>
        </p:nvSpPr>
        <p:spPr>
          <a:xfrm>
            <a:off x="703440" y="228600"/>
            <a:ext cx="7457760" cy="105264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grpSp>
        <p:nvGrpSpPr>
          <p:cNvPr id="146" name=""/>
          <p:cNvGrpSpPr/>
          <p:nvPr/>
        </p:nvGrpSpPr>
        <p:grpSpPr>
          <a:xfrm>
            <a:off x="1067760" y="1447920"/>
            <a:ext cx="8155440" cy="4770720"/>
            <a:chOff x="1067760" y="1447920"/>
            <a:chExt cx="8155440" cy="4770720"/>
          </a:xfrm>
        </p:grpSpPr>
        <p:sp>
          <p:nvSpPr>
            <p:cNvPr id="147" name=""/>
            <p:cNvSpPr/>
            <p:nvPr/>
          </p:nvSpPr>
          <p:spPr>
            <a:xfrm>
              <a:off x="5500440" y="1447920"/>
              <a:ext cx="184320" cy="36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5927400" y="1554120"/>
              <a:ext cx="152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ionine</a:t>
              </a:r>
              <a:endParaRPr b="0" lang="en-US" sz="2000" spc="-1" strike="noStrike">
                <a:solidFill>
                  <a:srgbClr val="000000"/>
                </a:solidFill>
                <a:latin typeface="Times New Roman"/>
              </a:endParaRPr>
            </a:p>
          </p:txBody>
        </p:sp>
        <p:sp>
          <p:nvSpPr>
            <p:cNvPr id="149" name=""/>
            <p:cNvSpPr/>
            <p:nvPr/>
          </p:nvSpPr>
          <p:spPr>
            <a:xfrm>
              <a:off x="5856120" y="2697120"/>
              <a:ext cx="3367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denosyl homocysteine</a:t>
              </a:r>
              <a:endParaRPr b="0" lang="en-US" sz="2000" spc="-1" strike="noStrike">
                <a:solidFill>
                  <a:srgbClr val="000000"/>
                </a:solidFill>
                <a:latin typeface="Times New Roman"/>
              </a:endParaRPr>
            </a:p>
          </p:txBody>
        </p:sp>
        <p:sp>
          <p:nvSpPr>
            <p:cNvPr id="150" name=""/>
            <p:cNvSpPr/>
            <p:nvPr/>
          </p:nvSpPr>
          <p:spPr>
            <a:xfrm>
              <a:off x="5857200" y="3840120"/>
              <a:ext cx="1925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mocysteine</a:t>
              </a:r>
              <a:endParaRPr b="0" lang="en-US" sz="2000" spc="-1" strike="noStrike">
                <a:solidFill>
                  <a:srgbClr val="000000"/>
                </a:solidFill>
                <a:latin typeface="Times New Roman"/>
              </a:endParaRPr>
            </a:p>
          </p:txBody>
        </p:sp>
        <p:sp>
          <p:nvSpPr>
            <p:cNvPr id="151" name=""/>
            <p:cNvSpPr/>
            <p:nvPr/>
          </p:nvSpPr>
          <p:spPr>
            <a:xfrm>
              <a:off x="5856840" y="490680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ystathione</a:t>
              </a:r>
              <a:endParaRPr b="0" lang="en-US" sz="2000" spc="-1" strike="noStrike">
                <a:solidFill>
                  <a:srgbClr val="000000"/>
                </a:solidFill>
                <a:latin typeface="Times New Roman"/>
              </a:endParaRPr>
            </a:p>
          </p:txBody>
        </p:sp>
        <p:sp>
          <p:nvSpPr>
            <p:cNvPr id="152" name=""/>
            <p:cNvSpPr/>
            <p:nvPr/>
          </p:nvSpPr>
          <p:spPr>
            <a:xfrm>
              <a:off x="5928480" y="5821200"/>
              <a:ext cx="1247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ysteine</a:t>
              </a:r>
              <a:endParaRPr b="0" lang="en-US" sz="2000" spc="-1" strike="noStrike">
                <a:solidFill>
                  <a:srgbClr val="000000"/>
                </a:solidFill>
                <a:latin typeface="Times New Roman"/>
              </a:endParaRPr>
            </a:p>
          </p:txBody>
        </p:sp>
        <p:sp>
          <p:nvSpPr>
            <p:cNvPr id="153" name=""/>
            <p:cNvSpPr/>
            <p:nvPr/>
          </p:nvSpPr>
          <p:spPr>
            <a:xfrm>
              <a:off x="6648120" y="2073240"/>
              <a:ext cx="0" cy="68580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648120" y="3139920"/>
              <a:ext cx="0" cy="83844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653160" y="4282920"/>
              <a:ext cx="0" cy="68580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653160" y="5349960"/>
              <a:ext cx="0" cy="53316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4819320" y="1846440"/>
              <a:ext cx="1971720" cy="2437560"/>
              <a:chOff x="4819320" y="1846440"/>
              <a:chExt cx="1971720" cy="2437560"/>
            </a:xfrm>
          </p:grpSpPr>
          <p:sp>
            <p:nvSpPr>
              <p:cNvPr id="158" name=""/>
              <p:cNvSpPr/>
              <p:nvPr/>
            </p:nvSpPr>
            <p:spPr>
              <a:xfrm>
                <a:off x="4819320" y="1997280"/>
                <a:ext cx="168948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19320" y="1846440"/>
                <a:ext cx="1971720" cy="2437560"/>
              </a:xfrm>
              <a:custGeom>
                <a:avLst/>
                <a:gdLst/>
                <a:ahLst/>
                <a:rect l="l" t="t" r="r" b="b"/>
                <a:pathLst>
                  <a:path stroke="0" w="21600" h="21600">
                    <a:moveTo>
                      <a:pt x="0" y="10800"/>
                    </a:moveTo>
                    <a:arcTo wR="10800" hR="10800" stAng="10800000" swAng="5394884"/>
                    <a:lnTo>
                      <a:pt x="10800" y="10800"/>
                    </a:lnTo>
                    <a:close/>
                  </a:path>
                  <a:path fill="none" w="21600" h="21600">
                    <a:moveTo>
                      <a:pt x="0" y="10800"/>
                    </a:moveTo>
                    <a:arcTo wR="10800" hR="10800" stAng="10800000" swAng="5394884"/>
                  </a:path>
                </a:pathLst>
              </a:custGeom>
              <a:noFill/>
              <a:ln cap="rnd" w="50760">
                <a:solidFill>
                  <a:srgbClr val="ff66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3059280" y="1846440"/>
              <a:ext cx="1688400" cy="2133000"/>
            </a:xfrm>
            <a:custGeom>
              <a:avLst/>
              <a:gdLst/>
              <a:ahLst/>
              <a:rect l="l" t="t" r="r" b="b"/>
              <a:pathLst>
                <a:path stroke="0" w="21600" h="21600">
                  <a:moveTo>
                    <a:pt x="10781" y="0"/>
                  </a:moveTo>
                  <a:arcTo wR="10800" hR="10800" stAng="-5405968" swAng="5405968"/>
                  <a:lnTo>
                    <a:pt x="10800" y="10800"/>
                  </a:lnTo>
                  <a:close/>
                </a:path>
                <a:path fill="none" w="21600" h="21600">
                  <a:moveTo>
                    <a:pt x="10781" y="0"/>
                  </a:moveTo>
                  <a:arcTo wR="10800" hR="10800" stAng="-5405968" swAng="5405968"/>
                </a:path>
              </a:pathLst>
            </a:custGeom>
            <a:noFill/>
            <a:ln cap="rnd" w="50760">
              <a:solidFill>
                <a:srgbClr val="ff66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79920" y="1692000"/>
              <a:ext cx="1967760" cy="243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94400" y="1630440"/>
              <a:ext cx="2181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trahydrafolate</a:t>
              </a:r>
              <a:endParaRPr b="0" lang="en-US" sz="2000" spc="-1" strike="noStrike">
                <a:solidFill>
                  <a:srgbClr val="000000"/>
                </a:solidFill>
                <a:latin typeface="Times New Roman"/>
              </a:endParaRPr>
            </a:p>
          </p:txBody>
        </p:sp>
        <p:sp>
          <p:nvSpPr>
            <p:cNvPr id="163" name=""/>
            <p:cNvSpPr/>
            <p:nvPr/>
          </p:nvSpPr>
          <p:spPr>
            <a:xfrm>
              <a:off x="1067760" y="4221000"/>
              <a:ext cx="3144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Methytetrahydrafolate</a:t>
              </a:r>
              <a:endParaRPr b="0" lang="en-US" sz="2000" spc="-1" strike="noStrike">
                <a:solidFill>
                  <a:srgbClr val="000000"/>
                </a:solidFill>
                <a:latin typeface="Times New Roman"/>
              </a:endParaRPr>
            </a:p>
          </p:txBody>
        </p:sp>
        <p:sp>
          <p:nvSpPr>
            <p:cNvPr id="164" name=""/>
            <p:cNvSpPr/>
            <p:nvPr/>
          </p:nvSpPr>
          <p:spPr>
            <a:xfrm>
              <a:off x="1242720" y="2697120"/>
              <a:ext cx="2702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ethionine synthase</a:t>
              </a:r>
              <a:endParaRPr b="0" lang="en-US" sz="2000" spc="-1" strike="noStrike">
                <a:solidFill>
                  <a:srgbClr val="000000"/>
                </a:solidFill>
                <a:latin typeface="Times New Roman"/>
              </a:endParaRPr>
            </a:p>
          </p:txBody>
        </p:sp>
      </p:grpSp>
      <p:sp>
        <p:nvSpPr>
          <p:cNvPr id="16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balt is required in methionine and folate metabolism</a:t>
            </a:r>
            <a:endParaRPr b="1" lang="en-US" sz="3200" spc="-1" strike="noStrike">
              <a:solidFill>
                <a:srgbClr val="fafd00"/>
              </a:solidFill>
              <a:latin typeface="Arial"/>
            </a:endParaRPr>
          </a:p>
        </p:txBody>
      </p:sp>
      <p:sp>
        <p:nvSpPr>
          <p:cNvPr id="166" name=""/>
          <p:cNvSpPr/>
          <p:nvPr/>
        </p:nvSpPr>
        <p:spPr>
          <a:xfrm>
            <a:off x="784872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3:19:04Z</dcterms:created>
  <dc:creator>USER</dc:creator>
  <dc:description/>
  <dc:language>en-US</dc:language>
  <cp:lastModifiedBy>Hdaily</cp:lastModifiedBy>
  <cp:lastPrinted>2000-02-03T09:09:47Z</cp:lastPrinted>
  <dcterms:modified xsi:type="dcterms:W3CDTF">2000-06-15T10:31:13Z</dcterms:modified>
  <cp:revision>2</cp:revision>
  <dc:subject/>
  <dc:title>Cobalt Deficiency</dc:title>
</cp:coreProperties>
</file>