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5212-0A19-4B07-817F-8FB625139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D18B-BBE7-4981-AE2C-C89371495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iodine deficiency impacts on ruminant production.  It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A6DF-FBC6-474C-AFD0-3CDBFDD0E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deficiency is nowhere near as widespread in Australia as is cobalt and selenium deficiency, and is restricted mainly to areas on the east coast, but not severely s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is a constituent of two thyroid hormones - T4 and T3.  Iodine is also required for protein synthesis, energy metabolism, cell differentiation and metabolic rate.  It is one of the key elements in the bod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9B19-0652-45FF-A8DD-5A71FCD4D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effects of iodine deficiency is enlargement of the thyroid gland (i.e. formation of goitre), as the gland tries to increase T4 and T3 production.  This in turn can depress metabolism of adipose tissue required for heat production, thereby increasing susceptibility to cold.  As this is critical in lambs, increased lamb mortality can result from iodine deficiency.  Reduced foetal size and impaired physical and mental development can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ciency is more prevalent in low iodine soils, these being those associated with recent glaciation and in mountainous areas, where leaching of iodine is greater and iodine levels are already low.  It is also associated with areas located a long distance from the sea.  Most iodine is in the sea and tends to volatilise out of the sea, being carried in rain that falls on the coast but not further in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pasture species (certain clovers and brassicas) contain substance called goitrogens which can either compete with iodine at the absorption site in the thyroid (i.e. reduced efficiency of iodine utilisation) or block the conversion of iodine into the thyroid hormones.  The first effect can be overcome by providing more iodine, but the second effect can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ikely that most problems in the last 10-20 years in Australia relating to iodine are likely to be goitrogen-related rather than true deficien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304920"/>
            <a:ext cx="78102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85680" y="1714680"/>
            <a:ext cx="7175520" cy="4152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219320" y="380196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nd is required for protein synthesis and energy metabolism </a:t>
            </a:r>
            <a:endParaRPr b="0" lang="en-US" sz="2800" spc="-1" strike="noStrike">
              <a:solidFill>
                <a:srgbClr val="000000"/>
              </a:solidFill>
              <a:latin typeface="Times New Roman"/>
            </a:endParaRPr>
          </a:p>
        </p:txBody>
      </p:sp>
      <p:sp>
        <p:nvSpPr>
          <p:cNvPr id="52" name=""/>
          <p:cNvSpPr/>
          <p:nvPr/>
        </p:nvSpPr>
        <p:spPr>
          <a:xfrm>
            <a:off x="79246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 functions as a constituent of:</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yroxine  (T4)</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3’-Triiodothyronine (T3)</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1266840" y="380880"/>
            <a:ext cx="663084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a:t>
            </a:r>
            <a:endParaRPr b="1" lang="en-US" sz="3200" spc="-1" strike="noStrike">
              <a:solidFill>
                <a:srgbClr val="fafd00"/>
              </a:solidFill>
              <a:latin typeface="Arial"/>
            </a:endParaRPr>
          </a:p>
        </p:txBody>
      </p:sp>
      <p:sp>
        <p:nvSpPr>
          <p:cNvPr id="57"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larged thyroi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sceptible to col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mb (infant) morta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etal siz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al disorders</a:t>
            </a:r>
            <a:endParaRPr b="1" lang="en-US" sz="2400" spc="-1" strike="noStrike">
              <a:solidFill>
                <a:srgbClr val="ffffff"/>
              </a:solidFill>
              <a:latin typeface="Arial"/>
            </a:endParaRPr>
          </a:p>
        </p:txBody>
      </p:sp>
      <p:sp>
        <p:nvSpPr>
          <p:cNvPr id="58"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oil iodin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glaci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ntainous area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distance from the se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itrogens in herbag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
          <p:cNvSpPr/>
          <p:nvPr/>
        </p:nvSpPr>
        <p:spPr>
          <a:xfrm>
            <a:off x="79246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35:39Z</dcterms:created>
  <dc:creator>USER</dc:creator>
  <dc:description/>
  <dc:language>en-US</dc:language>
  <cp:lastModifiedBy>Hdaily</cp:lastModifiedBy>
  <cp:lastPrinted>2000-02-03T09:09:47Z</cp:lastPrinted>
  <dcterms:modified xsi:type="dcterms:W3CDTF">2000-06-15T10:54:55Z</dcterms:modified>
  <cp:revision>2</cp:revision>
  <dc:subject/>
  <dc:title>Iodine Deficiency</dc:title>
</cp:coreProperties>
</file>