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721D-6B9C-498A-A2B8-E3C760938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7389-43B6-41D9-9707-3A0991924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fibre length variation within a staple and how this can influence staple strength.  The major context of this is the presence of shed fibres with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2D55-4F67-40F3-8A6A-56C480EC0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variation in crimped fibre length may increase the potential for some fibres in the staple to be held by one clamp only.  These fibres that do not traverse the whole distance between the clamps will contribute to the linear density of the staple, but will not bear the load when the clamps move apart in the staple strength testing procedure.  So linear density overestimates the amount of load-bearing material in the staple and thus measurements of staple strength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length variation exists within all staples, with some staples having higher than average variation.  Another source of fibre length variation is shed fibres, resulting from shut-down of part of the follicle population while other follicles continue to produce a fibre.  Shed fibres may or may not be held by a clamp during staple strength measuremen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4179-285F-4C0C-A052-77FE6E25D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T. (1998). Follicle shutdown and staple strength.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increased length variation within the staple and consequently, lowe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canning electron micrographs show the difference between fibres that have been broken and fibres that have been shed from the follicle.   The magnification of the photos are different and both fibres actually have the same fibre diameter at the point of break.  When examining staples and fleeces for shed fibres the staples are washed in a solvent and then hot water and stained with picric acid (yellow) and eosin (pink).  The fibres are then examined with a microscope and the proportion of fibres with IRS (inner root sheath) (stains pink) still attached to the fibre is estimated.  These fibres have been shed from follicles which have shutdown and look like the fibre in the right hand pho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186D-2665-445A-926A-5997239C0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chlink, T.C. and Dollin, A.E. (1995).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erino sheep, the incidence of shedding under normal grazing conditions is generally low (&lt;1%) and linked more to seasonal changes in feed, physiological condition and stress. However, Schlink and Dollin (1995) found the incidence to range from 0 to 30% in adult Merino wethers in the Mediterranean environment of WA, under conditions resulting in body weight loss during late summer.  Those wethers with high levels of shed fibres produced the lowest staple strengths.  But note that at levels &lt;5% shed fibres, staple strength still ranged from as low as 20 to as high as 60 N/ktex.  So obviously other causal factors are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C3AD-1E26-40DB-BF00-8AF8CB4D1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chlink, T.C. and Dollin, A.E. (1995).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figure refers to non-supplemented pregnant and lactating Merino ewes, lambing in autumn.  The strong exponential decline in staple strength with an increase in shed fibre level is evi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al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Potential Role of Length Vari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ed length variability</a:t>
            </a:r>
            <a:endParaRPr b="1" lang="en-US" sz="3200" spc="-1" strike="noStrike">
              <a:solidFill>
                <a:srgbClr val="fafd00"/>
              </a:solidFill>
              <a:latin typeface="Arial"/>
            </a:endParaRPr>
          </a:p>
        </p:txBody>
      </p:sp>
      <p:sp>
        <p:nvSpPr>
          <p:cNvPr id="50" name=""/>
          <p:cNvSpPr/>
          <p:nvPr/>
        </p:nvSpPr>
        <p:spPr>
          <a:xfrm>
            <a:off x="747360" y="235584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79f"/>
                </a:solidFill>
                <a:latin typeface="Arial"/>
              </a:rPr>
              <a:t>1</a:t>
            </a:r>
            <a:endParaRPr b="0" lang="en-US" sz="3000" spc="-1" strike="noStrike">
              <a:solidFill>
                <a:srgbClr val="000000"/>
              </a:solidFill>
              <a:latin typeface="Times New Roman"/>
            </a:endParaRPr>
          </a:p>
        </p:txBody>
      </p:sp>
      <p:sp>
        <p:nvSpPr>
          <p:cNvPr id="51" name=""/>
          <p:cNvSpPr/>
          <p:nvPr/>
        </p:nvSpPr>
        <p:spPr>
          <a:xfrm>
            <a:off x="747360" y="502272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79f"/>
                </a:solidFill>
                <a:latin typeface="Arial"/>
              </a:rPr>
              <a:t>2</a:t>
            </a:r>
            <a:endParaRPr b="0" lang="en-US" sz="3000" spc="-1" strike="noStrike">
              <a:solidFill>
                <a:srgbClr val="000000"/>
              </a:solidFill>
              <a:latin typeface="Times New Roman"/>
            </a:endParaRPr>
          </a:p>
        </p:txBody>
      </p:sp>
      <p:grpSp>
        <p:nvGrpSpPr>
          <p:cNvPr id="52" name=""/>
          <p:cNvGrpSpPr/>
          <p:nvPr/>
        </p:nvGrpSpPr>
        <p:grpSpPr>
          <a:xfrm>
            <a:off x="2157480" y="1295280"/>
            <a:ext cx="5995800" cy="4483080"/>
            <a:chOff x="2157480" y="1295280"/>
            <a:chExt cx="5995800" cy="4483080"/>
          </a:xfrm>
        </p:grpSpPr>
        <p:sp>
          <p:nvSpPr>
            <p:cNvPr id="53" name=""/>
            <p:cNvSpPr/>
            <p:nvPr/>
          </p:nvSpPr>
          <p:spPr>
            <a:xfrm>
              <a:off x="2898720" y="14731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98720" y="292104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98720" y="17017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98720" y="19303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98720" y="2158920"/>
              <a:ext cx="447192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898720" y="2311560"/>
              <a:ext cx="447192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98720" y="2540160"/>
              <a:ext cx="447192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898720" y="2768760"/>
              <a:ext cx="447192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57480" y="1295280"/>
              <a:ext cx="735120" cy="189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89720" y="1295280"/>
              <a:ext cx="735120" cy="189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6080000">
              <a:off x="1967760" y="186984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4" name=""/>
            <p:cNvSpPr/>
            <p:nvPr/>
          </p:nvSpPr>
          <p:spPr>
            <a:xfrm rot="16080000">
              <a:off x="7201800" y="194616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5" name=""/>
            <p:cNvSpPr/>
            <p:nvPr/>
          </p:nvSpPr>
          <p:spPr>
            <a:xfrm>
              <a:off x="2863800" y="5359320"/>
              <a:ext cx="2970360" cy="122400"/>
            </a:xfrm>
            <a:custGeom>
              <a:avLst/>
              <a:gdLst/>
              <a:ahLst/>
              <a:rect l="l" t="t" r="r" b="b"/>
              <a:pathLst>
                <a:path w="1871" h="77">
                  <a:moveTo>
                    <a:pt x="0" y="43"/>
                  </a:moveTo>
                  <a:lnTo>
                    <a:pt x="29" y="32"/>
                  </a:lnTo>
                  <a:lnTo>
                    <a:pt x="37" y="13"/>
                  </a:lnTo>
                  <a:lnTo>
                    <a:pt x="61" y="6"/>
                  </a:lnTo>
                  <a:lnTo>
                    <a:pt x="85" y="6"/>
                  </a:lnTo>
                  <a:lnTo>
                    <a:pt x="117" y="6"/>
                  </a:lnTo>
                  <a:lnTo>
                    <a:pt x="142" y="19"/>
                  </a:lnTo>
                  <a:lnTo>
                    <a:pt x="166" y="38"/>
                  </a:lnTo>
                  <a:lnTo>
                    <a:pt x="190" y="45"/>
                  </a:lnTo>
                  <a:lnTo>
                    <a:pt x="214" y="51"/>
                  </a:lnTo>
                  <a:lnTo>
                    <a:pt x="238" y="51"/>
                  </a:lnTo>
                  <a:lnTo>
                    <a:pt x="262" y="51"/>
                  </a:lnTo>
                  <a:lnTo>
                    <a:pt x="295" y="38"/>
                  </a:lnTo>
                  <a:lnTo>
                    <a:pt x="318" y="32"/>
                  </a:lnTo>
                  <a:lnTo>
                    <a:pt x="375" y="19"/>
                  </a:lnTo>
                  <a:lnTo>
                    <a:pt x="399" y="0"/>
                  </a:lnTo>
                  <a:lnTo>
                    <a:pt x="423" y="0"/>
                  </a:lnTo>
                  <a:lnTo>
                    <a:pt x="455" y="38"/>
                  </a:lnTo>
                  <a:lnTo>
                    <a:pt x="479" y="45"/>
                  </a:lnTo>
                  <a:lnTo>
                    <a:pt x="512" y="57"/>
                  </a:lnTo>
                  <a:lnTo>
                    <a:pt x="536" y="63"/>
                  </a:lnTo>
                  <a:lnTo>
                    <a:pt x="559" y="63"/>
                  </a:lnTo>
                  <a:lnTo>
                    <a:pt x="584" y="57"/>
                  </a:lnTo>
                  <a:lnTo>
                    <a:pt x="608" y="38"/>
                  </a:lnTo>
                  <a:lnTo>
                    <a:pt x="632" y="25"/>
                  </a:lnTo>
                  <a:lnTo>
                    <a:pt x="664" y="25"/>
                  </a:lnTo>
                  <a:lnTo>
                    <a:pt x="688" y="25"/>
                  </a:lnTo>
                  <a:lnTo>
                    <a:pt x="712" y="25"/>
                  </a:lnTo>
                  <a:lnTo>
                    <a:pt x="737" y="25"/>
                  </a:lnTo>
                  <a:lnTo>
                    <a:pt x="761" y="38"/>
                  </a:lnTo>
                  <a:lnTo>
                    <a:pt x="784" y="51"/>
                  </a:lnTo>
                  <a:lnTo>
                    <a:pt x="809" y="63"/>
                  </a:lnTo>
                  <a:lnTo>
                    <a:pt x="833" y="63"/>
                  </a:lnTo>
                  <a:lnTo>
                    <a:pt x="857" y="63"/>
                  </a:lnTo>
                  <a:lnTo>
                    <a:pt x="881" y="63"/>
                  </a:lnTo>
                  <a:lnTo>
                    <a:pt x="905" y="51"/>
                  </a:lnTo>
                  <a:lnTo>
                    <a:pt x="938" y="32"/>
                  </a:lnTo>
                  <a:lnTo>
                    <a:pt x="970" y="25"/>
                  </a:lnTo>
                  <a:lnTo>
                    <a:pt x="994" y="13"/>
                  </a:lnTo>
                  <a:lnTo>
                    <a:pt x="1042" y="13"/>
                  </a:lnTo>
                  <a:lnTo>
                    <a:pt x="1066" y="6"/>
                  </a:lnTo>
                  <a:lnTo>
                    <a:pt x="1099" y="6"/>
                  </a:lnTo>
                  <a:lnTo>
                    <a:pt x="1122" y="13"/>
                  </a:lnTo>
                  <a:lnTo>
                    <a:pt x="1138" y="32"/>
                  </a:lnTo>
                  <a:lnTo>
                    <a:pt x="1163" y="51"/>
                  </a:lnTo>
                  <a:lnTo>
                    <a:pt x="1187" y="70"/>
                  </a:lnTo>
                  <a:lnTo>
                    <a:pt x="1211" y="70"/>
                  </a:lnTo>
                  <a:lnTo>
                    <a:pt x="1243" y="70"/>
                  </a:lnTo>
                  <a:lnTo>
                    <a:pt x="1291" y="70"/>
                  </a:lnTo>
                  <a:lnTo>
                    <a:pt x="1316" y="63"/>
                  </a:lnTo>
                  <a:lnTo>
                    <a:pt x="1340" y="45"/>
                  </a:lnTo>
                  <a:lnTo>
                    <a:pt x="1363" y="25"/>
                  </a:lnTo>
                  <a:lnTo>
                    <a:pt x="1388" y="25"/>
                  </a:lnTo>
                  <a:lnTo>
                    <a:pt x="1436" y="19"/>
                  </a:lnTo>
                  <a:lnTo>
                    <a:pt x="1460" y="13"/>
                  </a:lnTo>
                  <a:lnTo>
                    <a:pt x="1484" y="13"/>
                  </a:lnTo>
                  <a:lnTo>
                    <a:pt x="1517" y="38"/>
                  </a:lnTo>
                  <a:lnTo>
                    <a:pt x="1541" y="51"/>
                  </a:lnTo>
                  <a:lnTo>
                    <a:pt x="1557" y="70"/>
                  </a:lnTo>
                  <a:lnTo>
                    <a:pt x="1581" y="76"/>
                  </a:lnTo>
                  <a:lnTo>
                    <a:pt x="1605" y="76"/>
                  </a:lnTo>
                  <a:lnTo>
                    <a:pt x="1621" y="57"/>
                  </a:lnTo>
                  <a:lnTo>
                    <a:pt x="1645" y="45"/>
                  </a:lnTo>
                  <a:lnTo>
                    <a:pt x="1662" y="25"/>
                  </a:lnTo>
                  <a:lnTo>
                    <a:pt x="1685" y="25"/>
                  </a:lnTo>
                  <a:lnTo>
                    <a:pt x="1709" y="25"/>
                  </a:lnTo>
                  <a:lnTo>
                    <a:pt x="1734" y="25"/>
                  </a:lnTo>
                  <a:lnTo>
                    <a:pt x="1758" y="32"/>
                  </a:lnTo>
                  <a:lnTo>
                    <a:pt x="1774" y="51"/>
                  </a:lnTo>
                  <a:lnTo>
                    <a:pt x="1798" y="63"/>
                  </a:lnTo>
                  <a:lnTo>
                    <a:pt x="1822" y="76"/>
                  </a:lnTo>
                  <a:lnTo>
                    <a:pt x="1846" y="76"/>
                  </a:lnTo>
                  <a:lnTo>
                    <a:pt x="1870" y="76"/>
                  </a:lnTo>
                </a:path>
              </a:pathLst>
            </a:custGeom>
            <a:noFill/>
            <a:ln cap="rnd" w="507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901960" y="406404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01960" y="5511960"/>
              <a:ext cx="4494240" cy="21240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01960" y="4292640"/>
              <a:ext cx="3255840" cy="198360"/>
            </a:xfrm>
            <a:custGeom>
              <a:avLst/>
              <a:gdLst/>
              <a:ahLst/>
              <a:rect l="l" t="t" r="r" b="b"/>
              <a:pathLst>
                <a:path w="2051" h="125">
                  <a:moveTo>
                    <a:pt x="0" y="71"/>
                  </a:moveTo>
                  <a:lnTo>
                    <a:pt x="32" y="52"/>
                  </a:lnTo>
                  <a:lnTo>
                    <a:pt x="40" y="21"/>
                  </a:lnTo>
                  <a:lnTo>
                    <a:pt x="67" y="10"/>
                  </a:lnTo>
                  <a:lnTo>
                    <a:pt x="94" y="10"/>
                  </a:lnTo>
                  <a:lnTo>
                    <a:pt x="129" y="10"/>
                  </a:lnTo>
                  <a:lnTo>
                    <a:pt x="155" y="31"/>
                  </a:lnTo>
                  <a:lnTo>
                    <a:pt x="182" y="62"/>
                  </a:lnTo>
                  <a:lnTo>
                    <a:pt x="208" y="73"/>
                  </a:lnTo>
                  <a:lnTo>
                    <a:pt x="235" y="83"/>
                  </a:lnTo>
                  <a:lnTo>
                    <a:pt x="261" y="83"/>
                  </a:lnTo>
                  <a:lnTo>
                    <a:pt x="287" y="83"/>
                  </a:lnTo>
                  <a:lnTo>
                    <a:pt x="323" y="62"/>
                  </a:lnTo>
                  <a:lnTo>
                    <a:pt x="349" y="52"/>
                  </a:lnTo>
                  <a:lnTo>
                    <a:pt x="411" y="31"/>
                  </a:lnTo>
                  <a:lnTo>
                    <a:pt x="437" y="0"/>
                  </a:lnTo>
                  <a:lnTo>
                    <a:pt x="463" y="0"/>
                  </a:lnTo>
                  <a:lnTo>
                    <a:pt x="499" y="62"/>
                  </a:lnTo>
                  <a:lnTo>
                    <a:pt x="525" y="73"/>
                  </a:lnTo>
                  <a:lnTo>
                    <a:pt x="561" y="93"/>
                  </a:lnTo>
                  <a:lnTo>
                    <a:pt x="587" y="103"/>
                  </a:lnTo>
                  <a:lnTo>
                    <a:pt x="613" y="103"/>
                  </a:lnTo>
                  <a:lnTo>
                    <a:pt x="640" y="93"/>
                  </a:lnTo>
                  <a:lnTo>
                    <a:pt x="666" y="62"/>
                  </a:lnTo>
                  <a:lnTo>
                    <a:pt x="693" y="41"/>
                  </a:lnTo>
                  <a:lnTo>
                    <a:pt x="728" y="41"/>
                  </a:lnTo>
                  <a:lnTo>
                    <a:pt x="754" y="41"/>
                  </a:lnTo>
                  <a:lnTo>
                    <a:pt x="781" y="41"/>
                  </a:lnTo>
                  <a:lnTo>
                    <a:pt x="808" y="41"/>
                  </a:lnTo>
                  <a:lnTo>
                    <a:pt x="834" y="62"/>
                  </a:lnTo>
                  <a:lnTo>
                    <a:pt x="860" y="83"/>
                  </a:lnTo>
                  <a:lnTo>
                    <a:pt x="887" y="103"/>
                  </a:lnTo>
                  <a:lnTo>
                    <a:pt x="913" y="103"/>
                  </a:lnTo>
                  <a:lnTo>
                    <a:pt x="939" y="103"/>
                  </a:lnTo>
                  <a:lnTo>
                    <a:pt x="966" y="103"/>
                  </a:lnTo>
                  <a:lnTo>
                    <a:pt x="992" y="83"/>
                  </a:lnTo>
                  <a:lnTo>
                    <a:pt x="1028" y="52"/>
                  </a:lnTo>
                  <a:lnTo>
                    <a:pt x="1063" y="41"/>
                  </a:lnTo>
                  <a:lnTo>
                    <a:pt x="1089" y="21"/>
                  </a:lnTo>
                  <a:lnTo>
                    <a:pt x="1142" y="21"/>
                  </a:lnTo>
                  <a:lnTo>
                    <a:pt x="1169" y="10"/>
                  </a:lnTo>
                  <a:lnTo>
                    <a:pt x="1204" y="10"/>
                  </a:lnTo>
                  <a:lnTo>
                    <a:pt x="1230" y="21"/>
                  </a:lnTo>
                  <a:lnTo>
                    <a:pt x="1248" y="52"/>
                  </a:lnTo>
                  <a:lnTo>
                    <a:pt x="1275" y="83"/>
                  </a:lnTo>
                  <a:lnTo>
                    <a:pt x="1301" y="114"/>
                  </a:lnTo>
                  <a:lnTo>
                    <a:pt x="1327" y="114"/>
                  </a:lnTo>
                  <a:lnTo>
                    <a:pt x="1363" y="114"/>
                  </a:lnTo>
                  <a:lnTo>
                    <a:pt x="1415" y="114"/>
                  </a:lnTo>
                  <a:lnTo>
                    <a:pt x="1442" y="103"/>
                  </a:lnTo>
                  <a:lnTo>
                    <a:pt x="1468" y="73"/>
                  </a:lnTo>
                  <a:lnTo>
                    <a:pt x="1495" y="41"/>
                  </a:lnTo>
                  <a:lnTo>
                    <a:pt x="1522" y="41"/>
                  </a:lnTo>
                  <a:lnTo>
                    <a:pt x="1574" y="31"/>
                  </a:lnTo>
                  <a:lnTo>
                    <a:pt x="1601" y="21"/>
                  </a:lnTo>
                  <a:lnTo>
                    <a:pt x="1627" y="21"/>
                  </a:lnTo>
                  <a:lnTo>
                    <a:pt x="1663" y="62"/>
                  </a:lnTo>
                  <a:lnTo>
                    <a:pt x="1689" y="83"/>
                  </a:lnTo>
                  <a:lnTo>
                    <a:pt x="1706" y="114"/>
                  </a:lnTo>
                  <a:lnTo>
                    <a:pt x="1733" y="124"/>
                  </a:lnTo>
                  <a:lnTo>
                    <a:pt x="1760" y="124"/>
                  </a:lnTo>
                  <a:lnTo>
                    <a:pt x="1777" y="93"/>
                  </a:lnTo>
                  <a:lnTo>
                    <a:pt x="1803" y="73"/>
                  </a:lnTo>
                  <a:lnTo>
                    <a:pt x="1822" y="41"/>
                  </a:lnTo>
                  <a:lnTo>
                    <a:pt x="1848" y="41"/>
                  </a:lnTo>
                  <a:lnTo>
                    <a:pt x="1874" y="41"/>
                  </a:lnTo>
                  <a:lnTo>
                    <a:pt x="1901" y="41"/>
                  </a:lnTo>
                  <a:lnTo>
                    <a:pt x="1927" y="52"/>
                  </a:lnTo>
                  <a:lnTo>
                    <a:pt x="1944" y="83"/>
                  </a:lnTo>
                  <a:lnTo>
                    <a:pt x="1971" y="103"/>
                  </a:lnTo>
                  <a:lnTo>
                    <a:pt x="1998" y="124"/>
                  </a:lnTo>
                  <a:lnTo>
                    <a:pt x="2024" y="124"/>
                  </a:lnTo>
                  <a:lnTo>
                    <a:pt x="2050" y="124"/>
                  </a:lnTo>
                </a:path>
              </a:pathLst>
            </a:custGeom>
            <a:noFill/>
            <a:ln cap="rnd" w="507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01960" y="452124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901960" y="474984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901960" y="490212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901960" y="5130720"/>
              <a:ext cx="4494240" cy="212760"/>
            </a:xfrm>
            <a:custGeom>
              <a:avLst/>
              <a:gdLst/>
              <a:ahLst/>
              <a:rect l="l" t="t" r="r" b="b"/>
              <a:pathLst>
                <a:path w="2831" h="134">
                  <a:moveTo>
                    <a:pt x="0" y="76"/>
                  </a:moveTo>
                  <a:lnTo>
                    <a:pt x="44" y="56"/>
                  </a:lnTo>
                  <a:lnTo>
                    <a:pt x="56" y="22"/>
                  </a:lnTo>
                  <a:lnTo>
                    <a:pt x="92" y="11"/>
                  </a:lnTo>
                  <a:lnTo>
                    <a:pt x="129" y="11"/>
                  </a:lnTo>
                  <a:lnTo>
                    <a:pt x="177" y="11"/>
                  </a:lnTo>
                  <a:lnTo>
                    <a:pt x="215" y="33"/>
                  </a:lnTo>
                  <a:lnTo>
                    <a:pt x="251" y="67"/>
                  </a:lnTo>
                  <a:lnTo>
                    <a:pt x="287" y="78"/>
                  </a:lnTo>
                  <a:lnTo>
                    <a:pt x="324" y="89"/>
                  </a:lnTo>
                  <a:lnTo>
                    <a:pt x="360" y="89"/>
                  </a:lnTo>
                  <a:lnTo>
                    <a:pt x="396" y="89"/>
                  </a:lnTo>
                  <a:lnTo>
                    <a:pt x="446" y="67"/>
                  </a:lnTo>
                  <a:lnTo>
                    <a:pt x="482" y="56"/>
                  </a:lnTo>
                  <a:lnTo>
                    <a:pt x="567" y="33"/>
                  </a:lnTo>
                  <a:lnTo>
                    <a:pt x="603" y="0"/>
                  </a:lnTo>
                  <a:lnTo>
                    <a:pt x="640" y="0"/>
                  </a:lnTo>
                  <a:lnTo>
                    <a:pt x="689" y="67"/>
                  </a:lnTo>
                  <a:lnTo>
                    <a:pt x="725" y="78"/>
                  </a:lnTo>
                  <a:lnTo>
                    <a:pt x="774" y="100"/>
                  </a:lnTo>
                  <a:lnTo>
                    <a:pt x="810" y="111"/>
                  </a:lnTo>
                  <a:lnTo>
                    <a:pt x="847" y="111"/>
                  </a:lnTo>
                  <a:lnTo>
                    <a:pt x="884" y="100"/>
                  </a:lnTo>
                  <a:lnTo>
                    <a:pt x="920" y="67"/>
                  </a:lnTo>
                  <a:lnTo>
                    <a:pt x="956" y="44"/>
                  </a:lnTo>
                  <a:lnTo>
                    <a:pt x="1005" y="44"/>
                  </a:lnTo>
                  <a:lnTo>
                    <a:pt x="1042" y="44"/>
                  </a:lnTo>
                  <a:lnTo>
                    <a:pt x="1078" y="44"/>
                  </a:lnTo>
                  <a:lnTo>
                    <a:pt x="1115" y="44"/>
                  </a:lnTo>
                  <a:lnTo>
                    <a:pt x="1151" y="67"/>
                  </a:lnTo>
                  <a:lnTo>
                    <a:pt x="1187" y="89"/>
                  </a:lnTo>
                  <a:lnTo>
                    <a:pt x="1224" y="111"/>
                  </a:lnTo>
                  <a:lnTo>
                    <a:pt x="1261" y="111"/>
                  </a:lnTo>
                  <a:lnTo>
                    <a:pt x="1297" y="111"/>
                  </a:lnTo>
                  <a:lnTo>
                    <a:pt x="1334" y="111"/>
                  </a:lnTo>
                  <a:lnTo>
                    <a:pt x="1370" y="89"/>
                  </a:lnTo>
                  <a:lnTo>
                    <a:pt x="1419" y="56"/>
                  </a:lnTo>
                  <a:lnTo>
                    <a:pt x="1468" y="44"/>
                  </a:lnTo>
                  <a:lnTo>
                    <a:pt x="1504" y="22"/>
                  </a:lnTo>
                  <a:lnTo>
                    <a:pt x="1577" y="22"/>
                  </a:lnTo>
                  <a:lnTo>
                    <a:pt x="1613" y="11"/>
                  </a:lnTo>
                  <a:lnTo>
                    <a:pt x="1663" y="11"/>
                  </a:lnTo>
                  <a:lnTo>
                    <a:pt x="1699" y="22"/>
                  </a:lnTo>
                  <a:lnTo>
                    <a:pt x="1723" y="56"/>
                  </a:lnTo>
                  <a:lnTo>
                    <a:pt x="1760" y="89"/>
                  </a:lnTo>
                  <a:lnTo>
                    <a:pt x="1796" y="122"/>
                  </a:lnTo>
                  <a:lnTo>
                    <a:pt x="1832" y="122"/>
                  </a:lnTo>
                  <a:lnTo>
                    <a:pt x="1882" y="122"/>
                  </a:lnTo>
                  <a:lnTo>
                    <a:pt x="1954" y="122"/>
                  </a:lnTo>
                  <a:lnTo>
                    <a:pt x="1991" y="111"/>
                  </a:lnTo>
                  <a:lnTo>
                    <a:pt x="2027" y="78"/>
                  </a:lnTo>
                  <a:lnTo>
                    <a:pt x="2063" y="44"/>
                  </a:lnTo>
                  <a:lnTo>
                    <a:pt x="2101" y="44"/>
                  </a:lnTo>
                  <a:lnTo>
                    <a:pt x="2173" y="33"/>
                  </a:lnTo>
                  <a:lnTo>
                    <a:pt x="2210" y="22"/>
                  </a:lnTo>
                  <a:lnTo>
                    <a:pt x="2246" y="22"/>
                  </a:lnTo>
                  <a:lnTo>
                    <a:pt x="2296" y="67"/>
                  </a:lnTo>
                  <a:lnTo>
                    <a:pt x="2332" y="89"/>
                  </a:lnTo>
                  <a:lnTo>
                    <a:pt x="2356" y="122"/>
                  </a:lnTo>
                  <a:lnTo>
                    <a:pt x="2392" y="133"/>
                  </a:lnTo>
                  <a:lnTo>
                    <a:pt x="2429" y="133"/>
                  </a:lnTo>
                  <a:lnTo>
                    <a:pt x="2453" y="100"/>
                  </a:lnTo>
                  <a:lnTo>
                    <a:pt x="2489" y="78"/>
                  </a:lnTo>
                  <a:lnTo>
                    <a:pt x="2515" y="44"/>
                  </a:lnTo>
                  <a:lnTo>
                    <a:pt x="2551" y="44"/>
                  </a:lnTo>
                  <a:lnTo>
                    <a:pt x="2587" y="44"/>
                  </a:lnTo>
                  <a:lnTo>
                    <a:pt x="2624" y="44"/>
                  </a:lnTo>
                  <a:lnTo>
                    <a:pt x="2660" y="56"/>
                  </a:lnTo>
                  <a:lnTo>
                    <a:pt x="2684" y="89"/>
                  </a:lnTo>
                  <a:lnTo>
                    <a:pt x="2720" y="111"/>
                  </a:lnTo>
                  <a:lnTo>
                    <a:pt x="2758" y="133"/>
                  </a:lnTo>
                  <a:lnTo>
                    <a:pt x="2794" y="133"/>
                  </a:lnTo>
                  <a:lnTo>
                    <a:pt x="2830"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57480" y="3886200"/>
              <a:ext cx="738000" cy="189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415280" y="3886200"/>
              <a:ext cx="738000" cy="189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6080000">
              <a:off x="7225560" y="45370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76" name=""/>
            <p:cNvSpPr/>
            <p:nvPr/>
          </p:nvSpPr>
          <p:spPr>
            <a:xfrm rot="16080000">
              <a:off x="1967760" y="461304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grpSp>
      <p:sp>
        <p:nvSpPr>
          <p:cNvPr id="77"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1143000" y="7632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79" name=""/>
          <p:cNvGrpSpPr/>
          <p:nvPr/>
        </p:nvGrpSpPr>
        <p:grpSpPr>
          <a:xfrm>
            <a:off x="1523880" y="914400"/>
            <a:ext cx="7162920" cy="5416560"/>
            <a:chOff x="1523880" y="914400"/>
            <a:chExt cx="7162920" cy="5416560"/>
          </a:xfrm>
        </p:grpSpPr>
        <p:sp>
          <p:nvSpPr>
            <p:cNvPr id="80" name=""/>
            <p:cNvSpPr/>
            <p:nvPr/>
          </p:nvSpPr>
          <p:spPr>
            <a:xfrm>
              <a:off x="1523880" y="5867280"/>
              <a:ext cx="7162920" cy="463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BROKEN FIBRE</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HED FIBRE</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523880" y="914400"/>
              <a:ext cx="3733920" cy="4952880"/>
            </a:xfrm>
            <a:prstGeom prst="rect">
              <a:avLst/>
            </a:prstGeom>
            <a:ln w="0">
              <a:noFill/>
            </a:ln>
          </p:spPr>
        </p:pic>
        <p:pic>
          <p:nvPicPr>
            <p:cNvPr id="82" name="" descr=""/>
            <p:cNvPicPr/>
            <p:nvPr/>
          </p:nvPicPr>
          <p:blipFill>
            <a:blip r:embed="rId2"/>
            <a:stretch/>
          </p:blipFill>
          <p:spPr>
            <a:xfrm>
              <a:off x="5181480" y="914400"/>
              <a:ext cx="3505320" cy="4952880"/>
            </a:xfrm>
            <a:prstGeom prst="rect">
              <a:avLst/>
            </a:prstGeom>
            <a:ln w="0">
              <a:noFill/>
            </a:ln>
          </p:spPr>
        </p:pic>
      </p:gr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nds</a:t>
            </a:r>
            <a:endParaRPr b="1" lang="en-US" sz="3200" spc="-1" strike="noStrike">
              <a:solidFill>
                <a:srgbClr val="fafd00"/>
              </a:solidFill>
              <a:latin typeface="Arial"/>
            </a:endParaRPr>
          </a:p>
        </p:txBody>
      </p:sp>
      <p:sp>
        <p:nvSpPr>
          <p:cNvPr id="84" name=""/>
          <p:cNvSpPr/>
          <p:nvPr/>
        </p:nvSpPr>
        <p:spPr>
          <a:xfrm>
            <a:off x="7263360" y="6324480"/>
            <a:ext cx="1800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Times New Roman"/>
              </a:rPr>
              <a:t>Source: Schlink, T. (1998)</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5" name="shed%20fibres%201" descr=""/>
          <p:cNvPicPr/>
          <p:nvPr/>
        </p:nvPicPr>
        <p:blipFill>
          <a:blip r:embed="rId1"/>
          <a:stretch/>
        </p:blipFill>
        <p:spPr>
          <a:xfrm>
            <a:off x="1752480" y="990720"/>
            <a:ext cx="6629400" cy="4879800"/>
          </a:xfrm>
          <a:prstGeom prst="rect">
            <a:avLst/>
          </a:prstGeom>
          <a:ln w="0">
            <a:noFill/>
          </a:ln>
        </p:spPr>
      </p:pic>
      <p:sp>
        <p:nvSpPr>
          <p:cNvPr id="86" name=""/>
          <p:cNvSpPr/>
          <p:nvPr/>
        </p:nvSpPr>
        <p:spPr>
          <a:xfrm>
            <a:off x="6624360" y="6400800"/>
            <a:ext cx="2449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chlink and Dollin (1995)</a:t>
            </a:r>
            <a:endParaRPr b="0" lang="en-US" sz="1200" spc="-1" strike="noStrike">
              <a:solidFill>
                <a:srgbClr val="000000"/>
              </a:solidFill>
              <a:latin typeface="Times New Roman"/>
            </a:endParaRPr>
          </a:p>
        </p:txBody>
      </p:sp>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and fibre shedding</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8" name="shed%20fibres%202" descr=""/>
          <p:cNvPicPr/>
          <p:nvPr/>
        </p:nvPicPr>
        <p:blipFill>
          <a:blip r:embed="rId1"/>
          <a:stretch/>
        </p:blipFill>
        <p:spPr>
          <a:xfrm>
            <a:off x="1752480" y="990720"/>
            <a:ext cx="6705720" cy="4819680"/>
          </a:xfrm>
          <a:prstGeom prst="rect">
            <a:avLst/>
          </a:prstGeom>
          <a:ln w="0">
            <a:noFill/>
          </a:ln>
        </p:spPr>
      </p:pic>
      <p:sp>
        <p:nvSpPr>
          <p:cNvPr id="89" name=""/>
          <p:cNvSpPr/>
          <p:nvPr/>
        </p:nvSpPr>
        <p:spPr>
          <a:xfrm>
            <a:off x="6586560" y="6324480"/>
            <a:ext cx="2449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chlink and Dollin (1995)</a:t>
            </a:r>
            <a:endParaRPr b="0" lang="en-US" sz="12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and fibre shedding</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2:06:32Z</dcterms:created>
  <dc:creator>USER</dc:creator>
  <dc:description/>
  <dc:language>en-US</dc:language>
  <cp:lastModifiedBy>Hdaily</cp:lastModifiedBy>
  <cp:lastPrinted>2000-02-03T09:09:47Z</cp:lastPrinted>
  <dcterms:modified xsi:type="dcterms:W3CDTF">2000-06-21T04:42:53Z</dcterms:modified>
  <cp:revision>3</cp:revision>
  <dc:subject/>
  <dc:title>Staple Strength: The Potential Role of Length Variation</dc:title>
</cp:coreProperties>
</file>