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E10-ABB9-45F9-823B-B15FD437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describes some of the skin-based traits that have been examined in relation to potential selection criteria for wool production and quality.  These traits are: follicle density, S:P ratio, DpDs ratio, follicle depth, follicle evenness and follicle curvature.  Simple diagrams are provided to explain each of these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nsity refers to the number of follicles contained within a given area of skin, usually expressed as number per mm</a:t>
            </a:r>
            <a:r>
              <a:rPr b="0" lang="en-A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:P ratio refers to the number of secondary follicles per primary follicle in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figure, the sample on the left is characterised by high density and S:P ratio compared to the sample on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atitudinal (horizont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pDs ratio refers to the ratio of mean primary fibre diameter to mean secondary fibre diameter.  A ratio of 1 implies that both primary and secondary fibres have the same mean diameter.  A ratio &gt;1 implies that primary fibres are on average coarser than secondary fibres, while a ratio &lt;1 implies the oppo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atitudinal (horizont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pth refers to the distance between the skin surface and the follicl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evenness refers to the degree to which all follicles are at a similar depth beneath the skin surface. This can be measured via variation in follicle depth, or it can be scored on a scale of 5 by referring to a set of diagrammatic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the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and Jackson, N. (1988). Structural studies of sheep, cattle and goat skin. CSIRO Division of Animal Production, Blackt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curvature refers to the angle or bend present along the follicle shaft.  It can be measured or scored on a scale of 1 to 5 by referring to a set of diagrammatic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nformation is obtained from longitudinal (vertical) sectioning through a skin biops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A Definition of Skin-based Trai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density and S:P ratio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13800" y="4987800"/>
            <a:ext cx="3282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3.7 follicles per mm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:P = 3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52280" y="4987800"/>
            <a:ext cx="3282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7.6 follicles per mm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:P = 2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19320" y="1600200"/>
            <a:ext cx="3886200" cy="3200400"/>
            <a:chOff x="1219320" y="1600200"/>
            <a:chExt cx="3886200" cy="3200400"/>
          </a:xfrm>
        </p:grpSpPr>
        <p:sp>
          <p:nvSpPr>
            <p:cNvPr id="58" name=""/>
            <p:cNvSpPr/>
            <p:nvPr/>
          </p:nvSpPr>
          <p:spPr>
            <a:xfrm>
              <a:off x="1219320" y="1600200"/>
              <a:ext cx="388620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292400" y="2057400"/>
              <a:ext cx="3776040" cy="257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609560"/>
            <a:ext cx="3849840" cy="32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pDs ratio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42640" y="990720"/>
            <a:ext cx="8003880" cy="4266360"/>
            <a:chOff x="1142640" y="990720"/>
            <a:chExt cx="8003880" cy="4266360"/>
          </a:xfrm>
        </p:grpSpPr>
        <p:grpSp>
          <p:nvGrpSpPr>
            <p:cNvPr id="65" name=""/>
            <p:cNvGrpSpPr/>
            <p:nvPr/>
          </p:nvGrpSpPr>
          <p:grpSpPr>
            <a:xfrm>
              <a:off x="1142640" y="990720"/>
              <a:ext cx="3769200" cy="4234680"/>
              <a:chOff x="1142640" y="990720"/>
              <a:chExt cx="3769200" cy="4234680"/>
            </a:xfrm>
          </p:grpSpPr>
          <p:sp>
            <p:nvSpPr>
              <p:cNvPr id="66" name=""/>
              <p:cNvSpPr/>
              <p:nvPr/>
            </p:nvSpPr>
            <p:spPr>
              <a:xfrm>
                <a:off x="1333080" y="4486320"/>
                <a:ext cx="3577680" cy="112680"/>
              </a:xfrm>
              <a:custGeom>
                <a:avLst/>
                <a:gdLst/>
                <a:ahLst/>
                <a:rect l="l" t="t" r="r" b="b"/>
                <a:pathLst>
                  <a:path w="2554" h="71">
                    <a:moveTo>
                      <a:pt x="0" y="71"/>
                    </a:moveTo>
                    <a:lnTo>
                      <a:pt x="82" y="0"/>
                    </a:lnTo>
                    <a:lnTo>
                      <a:pt x="2473" y="0"/>
                    </a:lnTo>
                    <a:lnTo>
                      <a:pt x="2554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33080" y="1111320"/>
                <a:ext cx="114840" cy="3487680"/>
              </a:xfrm>
              <a:custGeom>
                <a:avLst/>
                <a:gdLst/>
                <a:ahLst/>
                <a:rect l="l" t="t" r="r" b="b"/>
                <a:pathLst>
                  <a:path w="82" h="2197">
                    <a:moveTo>
                      <a:pt x="0" y="2197"/>
                    </a:moveTo>
                    <a:lnTo>
                      <a:pt x="0" y="0"/>
                    </a:lnTo>
                    <a:lnTo>
                      <a:pt x="82" y="70"/>
                    </a:lnTo>
                    <a:lnTo>
                      <a:pt x="82" y="2126"/>
                    </a:lnTo>
                    <a:lnTo>
                      <a:pt x="0" y="2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47920" y="1222200"/>
                <a:ext cx="3349080" cy="326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3080" y="4486320"/>
                <a:ext cx="3464280" cy="112680"/>
              </a:xfrm>
              <a:custGeom>
                <a:avLst/>
                <a:gdLst/>
                <a:ahLst/>
                <a:rect l="l" t="t" r="r" b="b"/>
                <a:pathLst>
                  <a:path w="761" h="14">
                    <a:moveTo>
                      <a:pt x="0" y="14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33080" y="4127400"/>
                <a:ext cx="3464280" cy="87480"/>
              </a:xfrm>
              <a:custGeom>
                <a:avLst/>
                <a:gdLst/>
                <a:ahLst/>
                <a:rect l="l" t="t" r="r" b="b"/>
                <a:pathLst>
                  <a:path w="761" h="11">
                    <a:moveTo>
                      <a:pt x="0" y="11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080" y="3759120"/>
                <a:ext cx="3464280" cy="63720"/>
              </a:xfrm>
              <a:custGeom>
                <a:avLst/>
                <a:gdLst/>
                <a:ahLst/>
                <a:rect l="l" t="t" r="r" b="b"/>
                <a:pathLst>
                  <a:path w="761" h="8">
                    <a:moveTo>
                      <a:pt x="0" y="8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33080" y="3398760"/>
                <a:ext cx="3464280" cy="39600"/>
              </a:xfrm>
              <a:custGeom>
                <a:avLst/>
                <a:gdLst/>
                <a:ahLst/>
                <a:rect l="l" t="t" r="r" b="b"/>
                <a:pathLst>
                  <a:path w="761" h="5">
                    <a:moveTo>
                      <a:pt x="0" y="5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33080" y="3038400"/>
                <a:ext cx="3464280" cy="7920"/>
              </a:xfrm>
              <a:custGeom>
                <a:avLst/>
                <a:gdLst/>
                <a:ahLst/>
                <a:rect l="l" t="t" r="r" b="b"/>
                <a:pathLst>
                  <a:path w="761" h="1">
                    <a:moveTo>
                      <a:pt x="0" y="1"/>
                    </a:moveTo>
                    <a:lnTo>
                      <a:pt x="25" y="0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33080" y="2662200"/>
                <a:ext cx="3464280" cy="7920"/>
              </a:xfrm>
              <a:custGeom>
                <a:avLst/>
                <a:gdLst/>
                <a:ahLst/>
                <a:rect l="l" t="t" r="r" b="b"/>
                <a:pathLst>
                  <a:path w="761" h="1">
                    <a:moveTo>
                      <a:pt x="0" y="0"/>
                    </a:moveTo>
                    <a:lnTo>
                      <a:pt x="25" y="1"/>
                    </a:lnTo>
                    <a:lnTo>
                      <a:pt x="761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33080" y="2270160"/>
                <a:ext cx="3464280" cy="41400"/>
              </a:xfrm>
              <a:custGeom>
                <a:avLst/>
                <a:gdLst/>
                <a:ahLst/>
                <a:rect l="l" t="t" r="r" b="b"/>
                <a:pathLst>
                  <a:path w="761" h="5">
                    <a:moveTo>
                      <a:pt x="0" y="0"/>
                    </a:moveTo>
                    <a:lnTo>
                      <a:pt x="25" y="5"/>
                    </a:lnTo>
                    <a:lnTo>
                      <a:pt x="761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33080" y="1886040"/>
                <a:ext cx="3464280" cy="65160"/>
              </a:xfrm>
              <a:custGeom>
                <a:avLst/>
                <a:gdLst/>
                <a:ahLst/>
                <a:rect l="l" t="t" r="r" b="b"/>
                <a:pathLst>
                  <a:path w="761" h="8">
                    <a:moveTo>
                      <a:pt x="0" y="0"/>
                    </a:moveTo>
                    <a:lnTo>
                      <a:pt x="25" y="8"/>
                    </a:lnTo>
                    <a:lnTo>
                      <a:pt x="76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33080" y="1495440"/>
                <a:ext cx="3464280" cy="87120"/>
              </a:xfrm>
              <a:custGeom>
                <a:avLst/>
                <a:gdLst/>
                <a:ahLst/>
                <a:rect l="l" t="t" r="r" b="b"/>
                <a:pathLst>
                  <a:path w="761" h="11">
                    <a:moveTo>
                      <a:pt x="0" y="0"/>
                    </a:moveTo>
                    <a:lnTo>
                      <a:pt x="25" y="11"/>
                    </a:lnTo>
                    <a:lnTo>
                      <a:pt x="76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33080" y="1111320"/>
                <a:ext cx="3464280" cy="110880"/>
              </a:xfrm>
              <a:custGeom>
                <a:avLst/>
                <a:gdLst/>
                <a:ahLst/>
                <a:rect l="l" t="t" r="r" b="b"/>
                <a:pathLst>
                  <a:path w="761" h="14">
                    <a:moveTo>
                      <a:pt x="0" y="0"/>
                    </a:moveTo>
                    <a:lnTo>
                      <a:pt x="25" y="14"/>
                    </a:lnTo>
                    <a:lnTo>
                      <a:pt x="76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33080" y="4486320"/>
                <a:ext cx="3577680" cy="112680"/>
              </a:xfrm>
              <a:custGeom>
                <a:avLst/>
                <a:gdLst/>
                <a:ahLst/>
                <a:rect l="l" t="t" r="r" b="b"/>
                <a:pathLst>
                  <a:path w="2554" h="71">
                    <a:moveTo>
                      <a:pt x="2473" y="0"/>
                    </a:moveTo>
                    <a:lnTo>
                      <a:pt x="2554" y="71"/>
                    </a:lnTo>
                    <a:lnTo>
                      <a:pt x="0" y="71"/>
                    </a:lnTo>
                    <a:lnTo>
                      <a:pt x="82" y="0"/>
                    </a:lnTo>
                    <a:lnTo>
                      <a:pt x="2473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33080" y="1111320"/>
                <a:ext cx="114840" cy="3487680"/>
              </a:xfrm>
              <a:custGeom>
                <a:avLst/>
                <a:gdLst/>
                <a:ahLst/>
                <a:rect l="l" t="t" r="r" b="b"/>
                <a:pathLst>
                  <a:path w="82" h="2197">
                    <a:moveTo>
                      <a:pt x="0" y="2197"/>
                    </a:moveTo>
                    <a:lnTo>
                      <a:pt x="0" y="0"/>
                    </a:lnTo>
                    <a:lnTo>
                      <a:pt x="82" y="70"/>
                    </a:lnTo>
                    <a:lnTo>
                      <a:pt x="82" y="2126"/>
                    </a:lnTo>
                    <a:lnTo>
                      <a:pt x="0" y="2197"/>
                    </a:lnTo>
                    <a:close/>
                  </a:path>
                </a:pathLst>
              </a:custGeom>
              <a:noFill/>
              <a:ln w="4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47920" y="1222200"/>
                <a:ext cx="3349080" cy="3264120"/>
              </a:xfrm>
              <a:prstGeom prst="rect">
                <a:avLst/>
              </a:prstGeom>
              <a:noFill/>
              <a:ln w="4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33080" y="4599000"/>
                <a:ext cx="357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330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2944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3048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264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2176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220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1880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1516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15480" y="4599000"/>
                <a:ext cx="144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10760" y="4599000"/>
                <a:ext cx="1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580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608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586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568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528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4916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5020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476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45440" y="4735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75880" y="4286160"/>
                <a:ext cx="12600" cy="241560"/>
              </a:xfrm>
              <a:custGeom>
                <a:avLst/>
                <a:gdLst/>
                <a:ahLst/>
                <a:rect l="l" t="t" r="r" b="b"/>
                <a:pathLst>
                  <a:path w="9" h="152">
                    <a:moveTo>
                      <a:pt x="0" y="152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9" y="137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29920" y="4303800"/>
                <a:ext cx="345600" cy="2239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29920" y="4286160"/>
                <a:ext cx="358560" cy="17640"/>
              </a:xfrm>
              <a:custGeom>
                <a:avLst/>
                <a:gdLst/>
                <a:ahLst/>
                <a:rect l="l" t="t" r="r" b="b"/>
                <a:pathLst>
                  <a:path w="256" h="11">
                    <a:moveTo>
                      <a:pt x="247" y="11"/>
                    </a:moveTo>
                    <a:lnTo>
                      <a:pt x="256" y="0"/>
                    </a:lnTo>
                    <a:lnTo>
                      <a:pt x="13" y="0"/>
                    </a:lnTo>
                    <a:lnTo>
                      <a:pt x="0" y="11"/>
                    </a:lnTo>
                    <a:lnTo>
                      <a:pt x="247" y="11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52800" y="3695760"/>
                <a:ext cx="13680" cy="831960"/>
              </a:xfrm>
              <a:custGeom>
                <a:avLst/>
                <a:gdLst/>
                <a:ahLst/>
                <a:rect l="l" t="t" r="r" b="b"/>
                <a:pathLst>
                  <a:path w="10" h="524">
                    <a:moveTo>
                      <a:pt x="0" y="524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509"/>
                    </a:lnTo>
                    <a:lnTo>
                      <a:pt x="0" y="524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06840" y="3711600"/>
                <a:ext cx="345600" cy="8161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06840" y="3695760"/>
                <a:ext cx="359640" cy="15840"/>
              </a:xfrm>
              <a:custGeom>
                <a:avLst/>
                <a:gdLst/>
                <a:ahLst/>
                <a:rect l="l" t="t" r="r" b="b"/>
                <a:pathLst>
                  <a:path w="257" h="10">
                    <a:moveTo>
                      <a:pt x="247" y="10"/>
                    </a:moveTo>
                    <a:lnTo>
                      <a:pt x="257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35120" y="2111400"/>
                <a:ext cx="3960" cy="2416320"/>
              </a:xfrm>
              <a:custGeom>
                <a:avLst/>
                <a:gdLst/>
                <a:ahLst/>
                <a:rect l="l" t="t" r="r" b="b"/>
                <a:pathLst>
                  <a:path w="3" h="1522">
                    <a:moveTo>
                      <a:pt x="0" y="1522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3" y="1507"/>
                    </a:lnTo>
                    <a:lnTo>
                      <a:pt x="0" y="152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89160" y="2111400"/>
                <a:ext cx="345600" cy="24163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13480" y="1366920"/>
                <a:ext cx="3960" cy="3160800"/>
              </a:xfrm>
              <a:custGeom>
                <a:avLst/>
                <a:gdLst/>
                <a:ahLst/>
                <a:rect l="l" t="t" r="r" b="b"/>
                <a:pathLst>
                  <a:path w="3" h="1991">
                    <a:moveTo>
                      <a:pt x="0" y="1991"/>
                    </a:moveTo>
                    <a:lnTo>
                      <a:pt x="0" y="0"/>
                    </a:lnTo>
                    <a:lnTo>
                      <a:pt x="3" y="15"/>
                    </a:lnTo>
                    <a:lnTo>
                      <a:pt x="3" y="1976"/>
                    </a:lnTo>
                    <a:lnTo>
                      <a:pt x="0" y="1991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67160" y="1366920"/>
                <a:ext cx="345960" cy="3160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10520" y="4375080"/>
                <a:ext cx="344160" cy="15264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04760" y="4359240"/>
                <a:ext cx="5400" cy="168480"/>
              </a:xfrm>
              <a:custGeom>
                <a:avLst/>
                <a:gdLst/>
                <a:ahLst/>
                <a:rect l="l" t="t" r="r" b="b"/>
                <a:pathLst>
                  <a:path w="4" h="106">
                    <a:moveTo>
                      <a:pt x="0" y="91"/>
                    </a:moveTo>
                    <a:lnTo>
                      <a:pt x="0" y="0"/>
                    </a:lnTo>
                    <a:lnTo>
                      <a:pt x="4" y="10"/>
                    </a:lnTo>
                    <a:lnTo>
                      <a:pt x="4" y="106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04760" y="4359240"/>
                <a:ext cx="349920" cy="15840"/>
              </a:xfrm>
              <a:custGeom>
                <a:avLst/>
                <a:gdLst/>
                <a:ahLst/>
                <a:rect l="l" t="t" r="r" b="b"/>
                <a:pathLst>
                  <a:path w="250" h="10">
                    <a:moveTo>
                      <a:pt x="250" y="10"/>
                    </a:moveTo>
                    <a:lnTo>
                      <a:pt x="24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250" y="10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32160" y="3854520"/>
                <a:ext cx="345600" cy="6732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27840" y="3846600"/>
                <a:ext cx="3960" cy="681120"/>
              </a:xfrm>
              <a:custGeom>
                <a:avLst/>
                <a:gdLst/>
                <a:ahLst/>
                <a:rect l="l" t="t" r="r" b="b"/>
                <a:pathLst>
                  <a:path w="3" h="429">
                    <a:moveTo>
                      <a:pt x="0" y="414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3" y="429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27840" y="3846600"/>
                <a:ext cx="349920" cy="7920"/>
              </a:xfrm>
              <a:custGeom>
                <a:avLst/>
                <a:gdLst/>
                <a:ahLst/>
                <a:rect l="l" t="t" r="r" b="b"/>
                <a:pathLst>
                  <a:path w="250" h="5">
                    <a:moveTo>
                      <a:pt x="250" y="5"/>
                    </a:moveTo>
                    <a:lnTo>
                      <a:pt x="24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250" y="5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95440" y="2590920"/>
                <a:ext cx="1440" cy="1936800"/>
              </a:xfrm>
              <a:custGeom>
                <a:avLst/>
                <a:gdLst/>
                <a:ahLst/>
                <a:rect l="l" t="t" r="r" b="b"/>
                <a:pathLst>
                  <a:path w="0" h="1220">
                    <a:moveTo>
                      <a:pt x="0" y="122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205"/>
                    </a:lnTo>
                    <a:lnTo>
                      <a:pt x="0" y="1220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49480" y="2590920"/>
                <a:ext cx="345600" cy="1936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21840" y="452772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0" y="35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2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61840" y="4543560"/>
                <a:ext cx="359640" cy="3960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61840" y="4527720"/>
                <a:ext cx="372600" cy="15840"/>
              </a:xfrm>
              <a:custGeom>
                <a:avLst/>
                <a:gdLst/>
                <a:ahLst/>
                <a:rect l="l" t="t" r="r" b="b"/>
                <a:pathLst>
                  <a:path w="266" h="10">
                    <a:moveTo>
                      <a:pt x="257" y="10"/>
                    </a:moveTo>
                    <a:lnTo>
                      <a:pt x="266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2440" y="4446720"/>
                <a:ext cx="8280" cy="136440"/>
              </a:xfrm>
              <a:custGeom>
                <a:avLst/>
                <a:gdLst/>
                <a:ahLst/>
                <a:rect l="l" t="t" r="r" b="b"/>
                <a:pathLst>
                  <a:path w="6" h="86">
                    <a:moveTo>
                      <a:pt x="0" y="86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6" y="7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58200" y="4470480"/>
                <a:ext cx="353880" cy="1126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58200" y="4446720"/>
                <a:ext cx="362520" cy="23760"/>
              </a:xfrm>
              <a:custGeom>
                <a:avLst/>
                <a:gdLst/>
                <a:ahLst/>
                <a:rect l="l" t="t" r="r" b="b"/>
                <a:pathLst>
                  <a:path w="259" h="15">
                    <a:moveTo>
                      <a:pt x="253" y="15"/>
                    </a:moveTo>
                    <a:lnTo>
                      <a:pt x="259" y="0"/>
                    </a:lnTo>
                    <a:lnTo>
                      <a:pt x="9" y="0"/>
                    </a:lnTo>
                    <a:lnTo>
                      <a:pt x="0" y="15"/>
                    </a:lnTo>
                    <a:lnTo>
                      <a:pt x="253" y="1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8800" y="4406760"/>
                <a:ext cx="1440" cy="176400"/>
              </a:xfrm>
              <a:custGeom>
                <a:avLst/>
                <a:gdLst/>
                <a:ahLst/>
                <a:rect l="l" t="t" r="r" b="b"/>
                <a:pathLst>
                  <a:path w="0" h="111">
                    <a:moveTo>
                      <a:pt x="0" y="111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49160" y="4430880"/>
                <a:ext cx="359640" cy="1522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49160" y="4406760"/>
                <a:ext cx="359640" cy="24120"/>
              </a:xfrm>
              <a:custGeom>
                <a:avLst/>
                <a:gdLst/>
                <a:ahLst/>
                <a:rect l="l" t="t" r="r" b="b"/>
                <a:pathLst>
                  <a:path w="257" h="15">
                    <a:moveTo>
                      <a:pt x="257" y="15"/>
                    </a:moveTo>
                    <a:lnTo>
                      <a:pt x="257" y="0"/>
                    </a:lnTo>
                    <a:lnTo>
                      <a:pt x="6" y="0"/>
                    </a:lnTo>
                    <a:lnTo>
                      <a:pt x="0" y="15"/>
                    </a:lnTo>
                    <a:lnTo>
                      <a:pt x="257" y="1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36120" y="4543560"/>
                <a:ext cx="360000" cy="3960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36120" y="4527720"/>
                <a:ext cx="360000" cy="15840"/>
              </a:xfrm>
              <a:custGeom>
                <a:avLst/>
                <a:gdLst/>
                <a:ahLst/>
                <a:rect l="l" t="t" r="r" b="b"/>
                <a:pathLst>
                  <a:path w="257" h="10">
                    <a:moveTo>
                      <a:pt x="257" y="10"/>
                    </a:moveTo>
                    <a:lnTo>
                      <a:pt x="25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0120" y="4446720"/>
                <a:ext cx="1080" cy="136440"/>
              </a:xfrm>
              <a:custGeom>
                <a:avLst/>
                <a:gdLst/>
                <a:ahLst/>
                <a:rect l="l" t="t" r="r" b="b"/>
                <a:pathLst>
                  <a:path w="0" h="86">
                    <a:moveTo>
                      <a:pt x="0" y="86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5520" y="4470480"/>
                <a:ext cx="354240" cy="11268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45520" y="4446720"/>
                <a:ext cx="354240" cy="2376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1333080" y="1111320"/>
                <a:ext cx="1440" cy="348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96720" y="459900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296720" y="421488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296720" y="38228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296720" y="343836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296720" y="304632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296720" y="2662200"/>
                <a:ext cx="36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96720" y="227016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296720" y="18860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296720" y="149544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1296720" y="1111320"/>
                <a:ext cx="36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10680" y="4478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2640" y="40957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42640" y="3703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2640" y="33195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42640" y="29275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2640" y="25430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42640" y="215100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42640" y="17668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42640" y="13748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2640" y="9907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8160" y="4981680"/>
                <a:ext cx="135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iameter (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58920" y="1065240"/>
              <a:ext cx="4287600" cy="4191840"/>
              <a:chOff x="4858920" y="1065240"/>
              <a:chExt cx="4287600" cy="4191840"/>
            </a:xfrm>
          </p:grpSpPr>
          <p:sp>
            <p:nvSpPr>
              <p:cNvPr id="157" name=""/>
              <p:cNvSpPr/>
              <p:nvPr/>
            </p:nvSpPr>
            <p:spPr>
              <a:xfrm>
                <a:off x="5046840" y="4533840"/>
                <a:ext cx="4098240" cy="90720"/>
              </a:xfrm>
              <a:custGeom>
                <a:avLst/>
                <a:gdLst/>
                <a:ahLst/>
                <a:rect l="l" t="t" r="r" b="b"/>
                <a:pathLst>
                  <a:path w="2926" h="57">
                    <a:moveTo>
                      <a:pt x="0" y="57"/>
                    </a:moveTo>
                    <a:lnTo>
                      <a:pt x="73" y="0"/>
                    </a:lnTo>
                    <a:lnTo>
                      <a:pt x="2853" y="0"/>
                    </a:lnTo>
                    <a:lnTo>
                      <a:pt x="2926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46840" y="1160640"/>
                <a:ext cx="101880" cy="3463920"/>
              </a:xfrm>
              <a:custGeom>
                <a:avLst/>
                <a:gdLst/>
                <a:ahLst/>
                <a:rect l="l" t="t" r="r" b="b"/>
                <a:pathLst>
                  <a:path w="73" h="2182">
                    <a:moveTo>
                      <a:pt x="0" y="2182"/>
                    </a:moveTo>
                    <a:lnTo>
                      <a:pt x="0" y="0"/>
                    </a:lnTo>
                    <a:lnTo>
                      <a:pt x="73" y="57"/>
                    </a:lnTo>
                    <a:lnTo>
                      <a:pt x="73" y="2125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48720" y="1251000"/>
                <a:ext cx="3894120" cy="32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6840" y="4533840"/>
                <a:ext cx="3996000" cy="90720"/>
              </a:xfrm>
              <a:custGeom>
                <a:avLst/>
                <a:gdLst/>
                <a:ahLst/>
                <a:rect l="l" t="t" r="r" b="b"/>
                <a:pathLst>
                  <a:path w="905" h="14">
                    <a:moveTo>
                      <a:pt x="0" y="14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6840" y="4170240"/>
                <a:ext cx="3996000" cy="69840"/>
              </a:xfrm>
              <a:custGeom>
                <a:avLst/>
                <a:gdLst/>
                <a:ahLst/>
                <a:rect l="l" t="t" r="r" b="b"/>
                <a:pathLst>
                  <a:path w="905" h="11">
                    <a:moveTo>
                      <a:pt x="0" y="11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46840" y="3807000"/>
                <a:ext cx="3996000" cy="44280"/>
              </a:xfrm>
              <a:custGeom>
                <a:avLst/>
                <a:gdLst/>
                <a:ahLst/>
                <a:rect l="l" t="t" r="r" b="b"/>
                <a:pathLst>
                  <a:path w="905" h="7">
                    <a:moveTo>
                      <a:pt x="0" y="7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46840" y="3441600"/>
                <a:ext cx="3996000" cy="25560"/>
              </a:xfrm>
              <a:custGeom>
                <a:avLst/>
                <a:gdLst/>
                <a:ahLst/>
                <a:rect l="l" t="t" r="r" b="b"/>
                <a:pathLst>
                  <a:path w="905" h="4">
                    <a:moveTo>
                      <a:pt x="0" y="4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46840" y="3078000"/>
                <a:ext cx="3996000" cy="6480"/>
              </a:xfrm>
              <a:custGeom>
                <a:avLst/>
                <a:gdLst/>
                <a:ahLst/>
                <a:rect l="l" t="t" r="r" b="b"/>
                <a:pathLst>
                  <a:path w="905" h="1">
                    <a:moveTo>
                      <a:pt x="0" y="1"/>
                    </a:moveTo>
                    <a:lnTo>
                      <a:pt x="23" y="0"/>
                    </a:lnTo>
                    <a:lnTo>
                      <a:pt x="9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46840" y="2700360"/>
                <a:ext cx="3996000" cy="6480"/>
              </a:xfrm>
              <a:custGeom>
                <a:avLst/>
                <a:gdLst/>
                <a:ahLst/>
                <a:rect l="l" t="t" r="r" b="b"/>
                <a:pathLst>
                  <a:path w="905" h="1">
                    <a:moveTo>
                      <a:pt x="0" y="0"/>
                    </a:moveTo>
                    <a:lnTo>
                      <a:pt x="23" y="1"/>
                    </a:lnTo>
                    <a:lnTo>
                      <a:pt x="905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46840" y="2317680"/>
                <a:ext cx="3996000" cy="25560"/>
              </a:xfrm>
              <a:custGeom>
                <a:avLst/>
                <a:gdLst/>
                <a:ahLst/>
                <a:rect l="l" t="t" r="r" b="b"/>
                <a:pathLst>
                  <a:path w="905" h="4">
                    <a:moveTo>
                      <a:pt x="0" y="0"/>
                    </a:moveTo>
                    <a:lnTo>
                      <a:pt x="23" y="4"/>
                    </a:lnTo>
                    <a:lnTo>
                      <a:pt x="9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46840" y="1933560"/>
                <a:ext cx="3996000" cy="44640"/>
              </a:xfrm>
              <a:custGeom>
                <a:avLst/>
                <a:gdLst/>
                <a:ahLst/>
                <a:rect l="l" t="t" r="r" b="b"/>
                <a:pathLst>
                  <a:path w="905" h="7">
                    <a:moveTo>
                      <a:pt x="0" y="0"/>
                    </a:moveTo>
                    <a:lnTo>
                      <a:pt x="23" y="7"/>
                    </a:lnTo>
                    <a:lnTo>
                      <a:pt x="90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46840" y="1544760"/>
                <a:ext cx="3996000" cy="69840"/>
              </a:xfrm>
              <a:custGeom>
                <a:avLst/>
                <a:gdLst/>
                <a:ahLst/>
                <a:rect l="l" t="t" r="r" b="b"/>
                <a:pathLst>
                  <a:path w="905" h="11">
                    <a:moveTo>
                      <a:pt x="0" y="0"/>
                    </a:moveTo>
                    <a:lnTo>
                      <a:pt x="23" y="11"/>
                    </a:lnTo>
                    <a:lnTo>
                      <a:pt x="905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46840" y="1160640"/>
                <a:ext cx="3996000" cy="90360"/>
              </a:xfrm>
              <a:custGeom>
                <a:avLst/>
                <a:gdLst/>
                <a:ahLst/>
                <a:rect l="l" t="t" r="r" b="b"/>
                <a:pathLst>
                  <a:path w="905" h="14">
                    <a:moveTo>
                      <a:pt x="0" y="0"/>
                    </a:moveTo>
                    <a:lnTo>
                      <a:pt x="23" y="14"/>
                    </a:lnTo>
                    <a:lnTo>
                      <a:pt x="90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46840" y="4533840"/>
                <a:ext cx="4098240" cy="90720"/>
              </a:xfrm>
              <a:custGeom>
                <a:avLst/>
                <a:gdLst/>
                <a:ahLst/>
                <a:rect l="l" t="t" r="r" b="b"/>
                <a:pathLst>
                  <a:path w="2926" h="57">
                    <a:moveTo>
                      <a:pt x="2853" y="0"/>
                    </a:moveTo>
                    <a:lnTo>
                      <a:pt x="2926" y="57"/>
                    </a:lnTo>
                    <a:lnTo>
                      <a:pt x="0" y="57"/>
                    </a:lnTo>
                    <a:lnTo>
                      <a:pt x="73" y="0"/>
                    </a:lnTo>
                    <a:lnTo>
                      <a:pt x="2853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6840" y="1160640"/>
                <a:ext cx="101880" cy="3463920"/>
              </a:xfrm>
              <a:custGeom>
                <a:avLst/>
                <a:gdLst/>
                <a:ahLst/>
                <a:rect l="l" t="t" r="r" b="b"/>
                <a:pathLst>
                  <a:path w="73" h="2182">
                    <a:moveTo>
                      <a:pt x="0" y="2182"/>
                    </a:moveTo>
                    <a:lnTo>
                      <a:pt x="0" y="0"/>
                    </a:lnTo>
                    <a:lnTo>
                      <a:pt x="73" y="57"/>
                    </a:lnTo>
                    <a:lnTo>
                      <a:pt x="73" y="2125"/>
                    </a:lnTo>
                    <a:lnTo>
                      <a:pt x="0" y="2182"/>
                    </a:lnTo>
                    <a:close/>
                  </a:path>
                </a:pathLst>
              </a:custGeom>
              <a:noFill/>
              <a:ln w="46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48720" y="1251000"/>
                <a:ext cx="3894120" cy="3282840"/>
              </a:xfrm>
              <a:prstGeom prst="rect">
                <a:avLst/>
              </a:prstGeom>
              <a:noFill/>
              <a:ln w="4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46840" y="4624560"/>
                <a:ext cx="409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4684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8704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315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7176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1124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5540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59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3652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8068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1980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6036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04880" y="4624560"/>
                <a:ext cx="108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5080" y="4624560"/>
                <a:ext cx="1440" cy="5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541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9468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3344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65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85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728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036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09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829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260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56620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05320" y="473868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27720" y="4330800"/>
                <a:ext cx="16560" cy="234720"/>
              </a:xfrm>
              <a:custGeom>
                <a:avLst/>
                <a:gdLst/>
                <a:ahLst/>
                <a:rect l="l" t="t" r="r" b="b"/>
                <a:pathLst>
                  <a:path w="12" h="148">
                    <a:moveTo>
                      <a:pt x="0" y="148"/>
                    </a:moveTo>
                    <a:lnTo>
                      <a:pt x="0" y="8"/>
                    </a:lnTo>
                    <a:lnTo>
                      <a:pt x="12" y="0"/>
                    </a:lnTo>
                    <a:lnTo>
                      <a:pt x="12" y="13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26400" y="4343400"/>
                <a:ext cx="300960" cy="2221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26400" y="4330800"/>
                <a:ext cx="317880" cy="12600"/>
              </a:xfrm>
              <a:custGeom>
                <a:avLst/>
                <a:gdLst/>
                <a:ahLst/>
                <a:rect l="l" t="t" r="r" b="b"/>
                <a:pathLst>
                  <a:path w="227" h="8">
                    <a:moveTo>
                      <a:pt x="215" y="8"/>
                    </a:moveTo>
                    <a:lnTo>
                      <a:pt x="227" y="0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215" y="8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8200" y="3741840"/>
                <a:ext cx="12240" cy="823680"/>
              </a:xfrm>
              <a:custGeom>
                <a:avLst/>
                <a:gdLst/>
                <a:ahLst/>
                <a:rect l="l" t="t" r="r" b="b"/>
                <a:pathLst>
                  <a:path w="9" h="519">
                    <a:moveTo>
                      <a:pt x="0" y="519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9" y="507"/>
                    </a:lnTo>
                    <a:lnTo>
                      <a:pt x="0" y="519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58680" y="3747960"/>
                <a:ext cx="299520" cy="81756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58680" y="3741840"/>
                <a:ext cx="312120" cy="6120"/>
              </a:xfrm>
              <a:custGeom>
                <a:avLst/>
                <a:gdLst/>
                <a:ahLst/>
                <a:rect l="l" t="t" r="r" b="b"/>
                <a:pathLst>
                  <a:path w="223" h="4">
                    <a:moveTo>
                      <a:pt x="214" y="4"/>
                    </a:moveTo>
                    <a:lnTo>
                      <a:pt x="223" y="0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14" y="4"/>
                    </a:lnTo>
                    <a:close/>
                  </a:path>
                </a:pathLst>
              </a:custGeom>
              <a:solidFill>
                <a:srgbClr val="264db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88680" y="2151000"/>
                <a:ext cx="9720" cy="2414520"/>
              </a:xfrm>
              <a:custGeom>
                <a:avLst/>
                <a:gdLst/>
                <a:ahLst/>
                <a:rect l="l" t="t" r="r" b="b"/>
                <a:pathLst>
                  <a:path w="7" h="1521">
                    <a:moveTo>
                      <a:pt x="0" y="1521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1509"/>
                    </a:lnTo>
                    <a:lnTo>
                      <a:pt x="0" y="1521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9160" y="2151000"/>
                <a:ext cx="299520" cy="241452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20960" y="1403280"/>
                <a:ext cx="3960" cy="3162240"/>
              </a:xfrm>
              <a:custGeom>
                <a:avLst/>
                <a:gdLst/>
                <a:ahLst/>
                <a:rect l="l" t="t" r="r" b="b"/>
                <a:pathLst>
                  <a:path w="3" h="1992">
                    <a:moveTo>
                      <a:pt x="0" y="1992"/>
                    </a:moveTo>
                    <a:lnTo>
                      <a:pt x="0" y="0"/>
                    </a:lnTo>
                    <a:lnTo>
                      <a:pt x="3" y="12"/>
                    </a:lnTo>
                    <a:lnTo>
                      <a:pt x="3" y="1980"/>
                    </a:lnTo>
                    <a:lnTo>
                      <a:pt x="0" y="1992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19640" y="1403280"/>
                <a:ext cx="301320" cy="316224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51440" y="2630520"/>
                <a:ext cx="3960" cy="1935000"/>
              </a:xfrm>
              <a:custGeom>
                <a:avLst/>
                <a:gdLst/>
                <a:ahLst/>
                <a:rect l="l" t="t" r="r" b="b"/>
                <a:pathLst>
                  <a:path w="3" h="1219">
                    <a:moveTo>
                      <a:pt x="0" y="1219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3" y="1207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51920" y="2630520"/>
                <a:ext cx="299520" cy="19350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09880" y="4400640"/>
                <a:ext cx="1080" cy="164880"/>
              </a:xfrm>
              <a:custGeom>
                <a:avLst/>
                <a:gdLst/>
                <a:ahLst/>
                <a:rect l="l" t="t" r="r" b="b"/>
                <a:pathLst>
                  <a:path w="0" h="104">
                    <a:moveTo>
                      <a:pt x="0" y="10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10000" y="4419720"/>
                <a:ext cx="299520" cy="14580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10000" y="4400640"/>
                <a:ext cx="299520" cy="19080"/>
              </a:xfrm>
              <a:prstGeom prst="rect">
                <a:avLst/>
              </a:prstGeom>
              <a:solidFill>
                <a:srgbClr val="264db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83360" y="3889440"/>
                <a:ext cx="1440" cy="676080"/>
              </a:xfrm>
              <a:custGeom>
                <a:avLst/>
                <a:gdLst/>
                <a:ahLst/>
                <a:rect l="l" t="t" r="r" b="b"/>
                <a:pathLst>
                  <a:path w="0" h="426">
                    <a:moveTo>
                      <a:pt x="0" y="42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414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1a33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2040" y="3895560"/>
                <a:ext cx="300960" cy="669960"/>
              </a:xfrm>
              <a:prstGeom prst="rect">
                <a:avLst/>
              </a:prstGeom>
              <a:solidFill>
                <a:srgbClr val="3366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2040" y="3889440"/>
                <a:ext cx="300960" cy="6120"/>
              </a:xfrm>
              <a:prstGeom prst="rect">
                <a:avLst/>
              </a:prstGeom>
              <a:solidFill>
                <a:srgbClr val="264db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02600" y="4552920"/>
                <a:ext cx="8280" cy="586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13"/>
                    </a:lnTo>
                    <a:lnTo>
                      <a:pt x="6" y="0"/>
                    </a:lnTo>
                    <a:lnTo>
                      <a:pt x="6" y="2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94440" y="4573440"/>
                <a:ext cx="307800" cy="3816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4440" y="4552920"/>
                <a:ext cx="316440" cy="20520"/>
              </a:xfrm>
              <a:custGeom>
                <a:avLst/>
                <a:gdLst/>
                <a:ahLst/>
                <a:rect l="l" t="t" r="r" b="b"/>
                <a:pathLst>
                  <a:path w="226" h="13">
                    <a:moveTo>
                      <a:pt x="220" y="13"/>
                    </a:moveTo>
                    <a:lnTo>
                      <a:pt x="226" y="0"/>
                    </a:lnTo>
                    <a:lnTo>
                      <a:pt x="9" y="0"/>
                    </a:lnTo>
                    <a:lnTo>
                      <a:pt x="0" y="13"/>
                    </a:lnTo>
                    <a:lnTo>
                      <a:pt x="220" y="13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43160" y="4476600"/>
                <a:ext cx="3960" cy="135000"/>
              </a:xfrm>
              <a:custGeom>
                <a:avLst/>
                <a:gdLst/>
                <a:ahLst/>
                <a:rect l="l" t="t" r="r" b="b"/>
                <a:pathLst>
                  <a:path w="3" h="85">
                    <a:moveTo>
                      <a:pt x="0" y="85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3" y="73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33200" y="4495680"/>
                <a:ext cx="309600" cy="1159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33200" y="4476600"/>
                <a:ext cx="313560" cy="19080"/>
              </a:xfrm>
              <a:custGeom>
                <a:avLst/>
                <a:gdLst/>
                <a:ahLst/>
                <a:rect l="l" t="t" r="r" b="b"/>
                <a:pathLst>
                  <a:path w="224" h="12">
                    <a:moveTo>
                      <a:pt x="221" y="12"/>
                    </a:moveTo>
                    <a:lnTo>
                      <a:pt x="224" y="0"/>
                    </a:lnTo>
                    <a:lnTo>
                      <a:pt x="7" y="0"/>
                    </a:lnTo>
                    <a:lnTo>
                      <a:pt x="0" y="12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48760" y="4573440"/>
                <a:ext cx="309600" cy="3816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44800" y="4552920"/>
                <a:ext cx="3960" cy="586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25"/>
                    </a:moveTo>
                    <a:lnTo>
                      <a:pt x="0" y="0"/>
                    </a:lnTo>
                    <a:lnTo>
                      <a:pt x="3" y="13"/>
                    </a:lnTo>
                    <a:lnTo>
                      <a:pt x="3" y="3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444800" y="4552920"/>
                <a:ext cx="313560" cy="20520"/>
              </a:xfrm>
              <a:custGeom>
                <a:avLst/>
                <a:gdLst/>
                <a:ahLst/>
                <a:rect l="l" t="t" r="r" b="b"/>
                <a:pathLst>
                  <a:path w="224" h="13">
                    <a:moveTo>
                      <a:pt x="224" y="13"/>
                    </a:moveTo>
                    <a:lnTo>
                      <a:pt x="218" y="0"/>
                    </a:lnTo>
                    <a:lnTo>
                      <a:pt x="0" y="0"/>
                    </a:lnTo>
                    <a:lnTo>
                      <a:pt x="3" y="13"/>
                    </a:lnTo>
                    <a:lnTo>
                      <a:pt x="224" y="13"/>
                    </a:lnTo>
                    <a:close/>
                  </a:path>
                </a:pathLst>
              </a:custGeom>
              <a:solidFill>
                <a:srgbClr val="bfb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418160" y="4476600"/>
                <a:ext cx="144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8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10000" y="4495680"/>
                <a:ext cx="307800" cy="1159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10000" y="4476600"/>
                <a:ext cx="307800" cy="1908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83360" y="4438800"/>
                <a:ext cx="1440" cy="172800"/>
              </a:xfrm>
              <a:custGeom>
                <a:avLst/>
                <a:gdLst/>
                <a:ahLst/>
                <a:rect l="l" t="t" r="r" b="b"/>
                <a:pathLst>
                  <a:path w="0" h="109">
                    <a:moveTo>
                      <a:pt x="0" y="10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8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73760" y="4457880"/>
                <a:ext cx="309240" cy="153720"/>
              </a:xfrm>
              <a:prstGeom prst="rect">
                <a:avLst/>
              </a:pr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73760" y="4438800"/>
                <a:ext cx="309240" cy="19080"/>
              </a:xfrm>
              <a:prstGeom prst="rect">
                <a:avLst/>
              </a:prstGeom>
              <a:solidFill>
                <a:srgbClr val="bfb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046840" y="1160640"/>
                <a:ext cx="1080" cy="346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007240" y="46245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007240" y="42400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007240" y="385128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007240" y="34671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007240" y="30844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007240" y="27003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5007240" y="2317680"/>
                <a:ext cx="39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007240" y="19335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007240" y="154476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007240" y="1160640"/>
                <a:ext cx="3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23720" y="4527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58920" y="41450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8920" y="37544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58920" y="33717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58920" y="29876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58920" y="26049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8920" y="22208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58920" y="183816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8920" y="144792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58920" y="1065240"/>
                <a:ext cx="22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86280" y="5013360"/>
                <a:ext cx="135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Diameter (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3352680" y="5257800"/>
            <a:ext cx="38124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57913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5320" y="5253120"/>
            <a:ext cx="22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condary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4960" y="5862600"/>
            <a:ext cx="189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imary f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74400" y="1295280"/>
            <a:ext cx="20026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pDs = 1.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24680" y="1295280"/>
            <a:ext cx="1917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pDs = 1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6960" y="64771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depth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68560" y="1854360"/>
            <a:ext cx="3936960" cy="3279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30080" y="5267160"/>
            <a:ext cx="105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1520" y="5267160"/>
            <a:ext cx="1522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ha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181480" y="1828800"/>
            <a:ext cx="3886200" cy="3276720"/>
            <a:chOff x="5181480" y="1828800"/>
            <a:chExt cx="3886200" cy="3276720"/>
          </a:xfrm>
        </p:grpSpPr>
        <p:sp>
          <p:nvSpPr>
            <p:cNvPr id="268" name=""/>
            <p:cNvSpPr/>
            <p:nvPr/>
          </p:nvSpPr>
          <p:spPr>
            <a:xfrm>
              <a:off x="5181480" y="1828800"/>
              <a:ext cx="3886200" cy="32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5181480" y="2133720"/>
              <a:ext cx="3759120" cy="23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Unevennes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19320" y="1562040"/>
            <a:ext cx="3657600" cy="29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092560" y="914400"/>
            <a:ext cx="3975120" cy="4557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252440" y="4734000"/>
            <a:ext cx="36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venness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2760" y="5562720"/>
            <a:ext cx="362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evenness scor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809880" cy="3279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84640" y="1600200"/>
            <a:ext cx="4059360" cy="3289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40000" y="501336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rvature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02160" y="501336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rvature sco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39520" y="6324480"/>
            <a:ext cx="2834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2:29:30Z</dcterms:created>
  <dc:creator>USER</dc:creator>
  <dc:description/>
  <dc:language>en-US</dc:language>
  <cp:lastModifiedBy>Hdaily</cp:lastModifiedBy>
  <cp:lastPrinted>2000-02-03T09:09:47Z</cp:lastPrinted>
  <dcterms:modified xsi:type="dcterms:W3CDTF">2000-06-21T01:46:34Z</dcterms:modified>
  <cp:revision>3</cp:revision>
  <dc:subject/>
  <dc:title>No Slide Title</dc:title>
</cp:coreProperties>
</file>