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D752-E802-463A-9290-7438882D0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0FAE-E1FF-40EC-8A17-250DCFFB6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diagnosis, treatment and control of liver fluke infections i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38E2-09F2-4F3E-834B-C2A673811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ture fluke cause damage to the liver but do not produce eggs.  Thus acute liver fluke can occur before eggs appear in the faeces.  A range of blood tests are available to assess liver damage but they do not indicate the cause of the damage.  Diagnosis of acute liver fluke is based on post-mortem (PM) examination.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liver fluke can be diagnosed by faecal egg count (FEC), as the eggs have a characteristic shape.  Post-mortem examination also used in diagnosis of this disease.</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ymnea tomentosa</a:t>
            </a:r>
            <a:r>
              <a:rPr b="0" lang="en-US" sz="1200" spc="-1" strike="noStrike">
                <a:solidFill>
                  <a:srgbClr val="000000"/>
                </a:solidFill>
                <a:latin typeface="Times New Roman"/>
              </a:rPr>
              <a:t> can also be identified by its characteristic cone-shaped shell.</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reatments available for liver fluke, but they vary in the level of control provided over each stage of the parasite.  For example, Tricarbendazole is the most effective control over all stages of liver fluke, whereas Closantel is effective against mature fluke and immature fluke 6 weeks after entering the liver.  Other treatments are only effective for controlling adult fluke.</a:t>
            </a:r>
            <a:endParaRPr b="0" lang="en-US" sz="1200" spc="-1" strike="noStrike">
              <a:solidFill>
                <a:srgbClr val="000000"/>
              </a:solidFill>
              <a:latin typeface="Times New Roman"/>
            </a:endParaRPr>
          </a:p>
        </p:txBody>
      </p:sp>
      <p:sp>
        <p:nvSpPr>
          <p:cNvPr id="62"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651A-6CD5-41BC-8BDC-C19C59846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luke control program has three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Strategic drenching</a:t>
            </a:r>
            <a:r>
              <a:rPr b="0" lang="en-US" sz="1200" spc="-1" strike="noStrike">
                <a:solidFill>
                  <a:srgbClr val="000000"/>
                </a:solidFill>
                <a:latin typeface="Times New Roman"/>
              </a:rPr>
              <a:t> - to reduce pasture contamination and to reduce liver damage; drenching in autumn through to early winter removes fluke before they mature and produce eggs; drenching with Fasinex at the end of February, mid-May and end of July effectively eliminates pasture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Grazing management</a:t>
            </a:r>
            <a:r>
              <a:rPr b="0" lang="en-US" sz="1200" spc="-1" strike="noStrike">
                <a:solidFill>
                  <a:srgbClr val="000000"/>
                </a:solidFill>
                <a:latin typeface="Times New Roman"/>
              </a:rPr>
              <a:t> - as cattle build up stronger immunity to liver fluke and are less affected by acute liver fluke than sheep, grazing affected pastures with adult cattle in summer is one strategy for reducing contamin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Snail control</a:t>
            </a:r>
            <a:r>
              <a:rPr b="0" lang="en-US" sz="1200" spc="-1" strike="noStrike">
                <a:solidFill>
                  <a:srgbClr val="000000"/>
                </a:solidFill>
                <a:latin typeface="Times New Roman"/>
              </a:rPr>
              <a:t> - chemical control of the snail is not economically feasible, as the snail breeds prolifically; eradication of the snail involves destruction of their habitat, requiring drainage of the area - this may not be feasible for water conservation reasons; fencing off highly contaminated areas is another strateg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agnosis, Treatment and Control of Liver Fluke in Sheep</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agnosis and treatment</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Diagnosi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ute disease occurs before eggs appear in the faeces so diagnosis is based on P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onic disease can be diagnosed by FEC and P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rect identification of </a:t>
            </a:r>
            <a:r>
              <a:rPr b="1" i="1" lang="en-GB" sz="2000" spc="-1" strike="noStrike">
                <a:solidFill>
                  <a:srgbClr val="ffffff"/>
                </a:solidFill>
                <a:latin typeface="Arial"/>
              </a:rPr>
              <a:t>Lymnea tomentosa</a:t>
            </a:r>
            <a:r>
              <a:rPr b="1" lang="en-GB" sz="2000" spc="-1" strike="noStrike">
                <a:solidFill>
                  <a:srgbClr val="ffffff"/>
                </a:solidFill>
                <a:latin typeface="Arial"/>
              </a:rPr>
              <a:t> help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reat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icarbendazole (Fasinex®) controls all stag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osantel (Seponver®) and Nitroxynil (Trodax®) are effective from 7 weeks onwar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bendazole (Valbazen®) and Oxyclosanide (Nilzan®) are only effective against mature fluke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ol</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trategic drenching to reduce contamination</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ey drench Autumn/early winter to kill adult fluke from last season</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mKill, late August for all sheep, weaners in April/May</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Grazing management</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e adult cattle in flukey area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aze sheep for no more than 8 weeks in these areas and drench on removal</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nce off worst area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nail control</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mical methods not feasible</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inage</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1:36:11Z</dcterms:created>
  <dc:creator>USER</dc:creator>
  <dc:description/>
  <dc:language>en-US</dc:language>
  <cp:lastModifiedBy>Hdaily</cp:lastModifiedBy>
  <cp:lastPrinted>2000-02-03T09:09:47Z</cp:lastPrinted>
  <dcterms:modified xsi:type="dcterms:W3CDTF">2000-06-20T22:59:36Z</dcterms:modified>
  <cp:revision>3</cp:revision>
  <dc:subject/>
  <dc:title>  Diagnosis, Treatment and Control of Liver Fluke in Sheep</dc:title>
</cp:coreProperties>
</file>