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5763-EBEC-4B85-B881-2562705AC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fines fibre assemblies and examines which fibre distribution is the most desirable in any fibre assembly of stapl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ssoc. Prof. Xungai Wang, Deakin University and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assembly is a general term used to describe many of the products of various textile processes, ie slivers, rovings and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a fibre assembly of staple fibres consists of discrete fibres aligned in the direction of the assembly axis.  Each fibre in the assembly has a fibre leading end (FLE) and a fibre trailing end (F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important fibre features are the length variation of the fibres, which can affect drafting performance and evenness of the drafted fibre assembly, and the fibre diameter which influences the number of fibres in the cross-section of any comparable fibre assembly. The number of fibres in the cross section of a fibre assembly has the greatest effect on the evenness of th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on these effects see the modules, “Drafting Principles” and “Even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of the Perfect sliver needs to be expxlored.  In this fibre assembly, a FLE always meets a FTE.  The fibres are also perfect fibres, each having the same diameter and length.  As a consequence of this arrangement and these fibre properties there are always the same number of fibres in the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ituation is impossible to achieve, since fibres can’t be arranged end to end, and fibre properties vary in reality.  More importantly, it is not even desirable to achieve this arrangement; the fibre assembly has no coherence.  If this assembly was drafted it would fall apa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this concept is useful to picture what a perfect fibre assembly looks like, it is useless in pract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assembly being striven for is characterised by a RANDOM arrangement of fibres (FLE or FTE are randomised throughout th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overlap and give the structure coherence, and there is not always the same number of fibres in the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fact the distribution of FLE’s is characterised by a normal distribution according to the laws of probability.  This means that 50% of the time there are less fibres than average in the cross section, and more fibres than average in the cross-section for the other 50% of th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st this is the ideal sliver, it is not achievable with any current drafting technolog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alistic fibre assembly is illustra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chanical factors such as imperfect drafting systems, and faulty machinery lead to the fibre distribution being random sometimes, but often the distribution is non-random along the assembly length.  These non-random groups of fibres are referred to as drafting wa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f too many short fibres in a fibre assembly often leads to drafting waves when the assembly is drafted, since the short fibres are difficult to control during draf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ype of arrangement has implications for drafting and the evenness of textile products.  For more information see the modules, “Drafting Principles” and “Evenn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Assemblies:</a:t>
            </a:r>
            <a:br>
              <a:rPr sz="3200"/>
            </a:br>
            <a:r>
              <a:rPr b="1" lang="en-GB" sz="3200" spc="-1" strike="noStrike">
                <a:solidFill>
                  <a:srgbClr val="fafd00"/>
                </a:solidFill>
                <a:latin typeface="Arial"/>
              </a:rPr>
              <a:t>Slivers, Rovings, Yar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soc. Prof. Xungai Wang, Deakin Universit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fini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ibre Assembly</a:t>
            </a:r>
            <a:endParaRPr b="1" lang="en-US" sz="26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iver (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ov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ortant Fibre Featu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Leading Ends (F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Trailing Ends (F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ngth vari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s draft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s number of fibres in cross-section</a:t>
            </a:r>
            <a:endParaRPr b="1" lang="en-US" sz="2000" spc="-1" strike="noStrike">
              <a:solidFill>
                <a:srgbClr val="ffffff"/>
              </a:solidFill>
              <a:latin typeface="Arial"/>
            </a:endParaRPr>
          </a:p>
        </p:txBody>
      </p:sp>
      <p:sp>
        <p:nvSpPr>
          <p:cNvPr id="51" name=""/>
          <p:cNvSpPr/>
          <p:nvPr/>
        </p:nvSpPr>
        <p:spPr>
          <a:xfrm>
            <a:off x="7005960" y="650700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1143000" y="4365720"/>
            <a:ext cx="7924680" cy="1197000"/>
          </a:xfrm>
          <a:prstGeom prst="rect">
            <a:avLst/>
          </a:prstGeom>
          <a:ln w="0">
            <a:noFill/>
          </a:ln>
        </p:spPr>
      </p:pic>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erfect sliver</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TE always joins F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fect fibr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me diameter &amp; length</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ways the same number of fibres in cross s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OSSIBLE to achiev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LESS in practice</a:t>
            </a:r>
            <a:endParaRPr b="1" lang="en-US" sz="2400" spc="-1" strike="noStrike">
              <a:solidFill>
                <a:srgbClr val="ffffff"/>
              </a:solidFill>
              <a:latin typeface="Arial"/>
            </a:endParaRPr>
          </a:p>
        </p:txBody>
      </p:sp>
      <p:sp>
        <p:nvSpPr>
          <p:cNvPr id="57" name=""/>
          <p:cNvSpPr/>
          <p:nvPr/>
        </p:nvSpPr>
        <p:spPr>
          <a:xfrm>
            <a:off x="7005960" y="650700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deal Sliver</a:t>
            </a:r>
            <a:endParaRPr b="1" lang="en-US" sz="3200" spc="-1" strike="noStrike">
              <a:solidFill>
                <a:srgbClr val="fafd00"/>
              </a:solidFill>
              <a:latin typeface="Arial"/>
            </a:endParaRPr>
          </a:p>
        </p:txBody>
      </p:sp>
      <p:sp>
        <p:nvSpPr>
          <p:cNvPr id="61" name="PlaceHolder 2"/>
          <p:cNvSpPr>
            <a:spLocks noGrp="1"/>
          </p:cNvSpPr>
          <p:nvPr>
            <p:ph/>
          </p:nvPr>
        </p:nvSpPr>
        <p:spPr>
          <a:xfrm>
            <a:off x="1294920" y="838080"/>
            <a:ext cx="769788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NDOM F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always the same number of fibres in cross s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tribution of FL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ws of probabilit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ndom distributio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OSSIBLE to achieve with current technology</a:t>
            </a:r>
            <a:endParaRPr b="1" lang="en-US" sz="2400" spc="-1" strike="noStrike">
              <a:solidFill>
                <a:srgbClr val="ffffff"/>
              </a:solidFill>
              <a:latin typeface="Arial"/>
            </a:endParaRPr>
          </a:p>
        </p:txBody>
      </p:sp>
      <p:pic>
        <p:nvPicPr>
          <p:cNvPr id="62" name="" descr=""/>
          <p:cNvPicPr/>
          <p:nvPr/>
        </p:nvPicPr>
        <p:blipFill>
          <a:blip r:embed="rId1"/>
          <a:stretch/>
        </p:blipFill>
        <p:spPr>
          <a:xfrm>
            <a:off x="1143000" y="4594320"/>
            <a:ext cx="7924680" cy="1197000"/>
          </a:xfrm>
          <a:prstGeom prst="rect">
            <a:avLst/>
          </a:prstGeom>
          <a:ln w="0">
            <a:noFill/>
          </a:ln>
        </p:spPr>
      </p:pic>
      <p:sp>
        <p:nvSpPr>
          <p:cNvPr id="63" name=""/>
          <p:cNvSpPr/>
          <p:nvPr/>
        </p:nvSpPr>
        <p:spPr>
          <a:xfrm>
            <a:off x="7005960" y="650700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al sliver</a:t>
            </a:r>
            <a:endParaRPr b="1" lang="en-US" sz="3200" spc="-1" strike="noStrike">
              <a:solidFill>
                <a:srgbClr val="fafd00"/>
              </a:solidFill>
              <a:latin typeface="Arial"/>
            </a:endParaRPr>
          </a:p>
        </p:txBody>
      </p:sp>
      <p:sp>
        <p:nvSpPr>
          <p:cNvPr id="67" name="PlaceHolder 2"/>
          <p:cNvSpPr>
            <a:spLocks noGrp="1"/>
          </p:cNvSpPr>
          <p:nvPr>
            <p:ph/>
          </p:nvPr>
        </p:nvSpPr>
        <p:spPr>
          <a:xfrm>
            <a:off x="1305000" y="922320"/>
            <a:ext cx="7472160" cy="4587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ndom FLE (sometim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random groups of F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ING WAVE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l 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even diame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even length</a:t>
            </a:r>
            <a:endParaRPr b="1" lang="en-US" sz="2400" spc="-1" strike="noStrike">
              <a:solidFill>
                <a:srgbClr val="ffffff"/>
              </a:solidFill>
              <a:latin typeface="Arial"/>
            </a:endParaRPr>
          </a:p>
        </p:txBody>
      </p:sp>
      <p:pic>
        <p:nvPicPr>
          <p:cNvPr id="68" name="" descr=""/>
          <p:cNvPicPr/>
          <p:nvPr/>
        </p:nvPicPr>
        <p:blipFill>
          <a:blip r:embed="rId1"/>
          <a:stretch/>
        </p:blipFill>
        <p:spPr>
          <a:xfrm>
            <a:off x="1219320" y="4307040"/>
            <a:ext cx="7699320" cy="1255680"/>
          </a:xfrm>
          <a:prstGeom prst="rect">
            <a:avLst/>
          </a:prstGeom>
          <a:ln w="0">
            <a:noFill/>
          </a:ln>
        </p:spPr>
      </p:pic>
      <p:sp>
        <p:nvSpPr>
          <p:cNvPr id="69" name=""/>
          <p:cNvSpPr/>
          <p:nvPr/>
        </p:nvSpPr>
        <p:spPr>
          <a:xfrm>
            <a:off x="7005960" y="650700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1:48:39Z</dcterms:created>
  <dc:creator>USER</dc:creator>
  <dc:description/>
  <dc:language>en-US</dc:language>
  <cp:lastModifiedBy>Hdaily</cp:lastModifiedBy>
  <cp:lastPrinted>2000-02-03T09:09:47Z</cp:lastPrinted>
  <dcterms:modified xsi:type="dcterms:W3CDTF">2000-03-16T00:38:39Z</dcterms:modified>
  <cp:revision>3</cp:revision>
  <dc:subject/>
  <dc:title> Fibre Assemblies: Slivers, Rovings, Yarns</dc:title>
</cp:coreProperties>
</file>