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309F-54F0-4CD6-8E27-7C1A10BE0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presents examples of recent developments in synthetic fibre technology as applied to consumer apparel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development of various fibre profiles has been driven by the need to develop fabrics with different handle characteristics.  Initially nylon and polyester fibres had a round X-section.  Altering this changed the bending properties of the fi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production of the fibres in these examples has utilised various methods to achieve ultra-fine filaments.  Each method produces fibres with different X-sectional shape, different textures, and different linear dens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following slides contain </a:t>
            </a:r>
            <a:r>
              <a:rPr b="0" lang="en-AU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 scales which give a idea of the extent of the diameter reductions achieved with this technology.  Generally, the fibre profile and production method is evident from the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Competing Fibres</a:t>
            </a:r>
            <a:br>
              <a:rPr sz="3200"/>
            </a:b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“Shingosen”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Peter Auer, The University of New South W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Profil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0" name="nonO_Xsection" descr=""/>
          <p:cNvPicPr/>
          <p:nvPr/>
        </p:nvPicPr>
        <p:blipFill>
          <a:blip r:embed="rId1"/>
          <a:stretch/>
        </p:blipFill>
        <p:spPr>
          <a:xfrm>
            <a:off x="1981080" y="958680"/>
            <a:ext cx="6324840" cy="511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Ultra-fine filamen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3" name="uf_4types" descr=""/>
          <p:cNvPicPr/>
          <p:nvPr/>
        </p:nvPicPr>
        <p:blipFill>
          <a:blip r:embed="rId1"/>
          <a:stretch/>
        </p:blipFill>
        <p:spPr>
          <a:xfrm>
            <a:off x="1905120" y="911160"/>
            <a:ext cx="6553080" cy="541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447920"/>
            <a:ext cx="28958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Suede-type artificial leather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6" name="uf_leather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4357800" cy="6086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167616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Peach Skin Type Shingose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9" name="uts" descr=""/>
          <p:cNvPicPr/>
          <p:nvPr/>
        </p:nvPicPr>
        <p:blipFill>
          <a:blip r:embed="rId1"/>
          <a:srcRect l="0" t="0" r="0" b="2631"/>
          <a:stretch/>
        </p:blipFill>
        <p:spPr>
          <a:xfrm>
            <a:off x="4343400" y="228600"/>
            <a:ext cx="4676760" cy="6172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152388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New Silky Type Shingose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2" name="sillook" descr=""/>
          <p:cNvPicPr/>
          <p:nvPr/>
        </p:nvPicPr>
        <p:blipFill>
          <a:blip r:embed="rId1"/>
          <a:stretch/>
        </p:blipFill>
        <p:spPr>
          <a:xfrm>
            <a:off x="4495680" y="136440"/>
            <a:ext cx="4419720" cy="6188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959440" y="657072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malor" descr=""/>
          <p:cNvPicPr/>
          <p:nvPr/>
        </p:nvPicPr>
        <p:blipFill>
          <a:blip r:embed="rId1"/>
          <a:srcRect l="3126" t="0" r="0" b="2947"/>
          <a:stretch/>
        </p:blipFill>
        <p:spPr>
          <a:xfrm>
            <a:off x="4419720" y="0"/>
            <a:ext cx="4724280" cy="6172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67652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New Spun Type Shingose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eo" descr=""/>
          <p:cNvPicPr/>
          <p:nvPr/>
        </p:nvPicPr>
        <p:blipFill>
          <a:blip r:embed="rId1"/>
          <a:stretch/>
        </p:blipFill>
        <p:spPr>
          <a:xfrm>
            <a:off x="4781520" y="285840"/>
            <a:ext cx="4362480" cy="6191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0200" y="205740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Dry Touch Type Shingo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Major Referenc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kamoto, M. &amp; Kajiwara, K. (1995), Engineering Future Products: Prospects for Applications for the New Materials and Processing, Proc. 76th World Conference of the Textile Institute, The Textile Institu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02:32:05Z</dcterms:created>
  <dc:creator>Peter Auer</dc:creator>
  <dc:description/>
  <dc:language>en-US</dc:language>
  <cp:lastModifiedBy>Hdaily</cp:lastModifiedBy>
  <cp:lastPrinted>2000-02-03T09:09:47Z</cp:lastPrinted>
  <dcterms:modified xsi:type="dcterms:W3CDTF">2000-03-21T03:53:05Z</dcterms:modified>
  <cp:revision>2</cp:revision>
  <dc:subject/>
  <dc:title>Competing Fibres “Shingosen”</dc:title>
</cp:coreProperties>
</file>