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691B-248C-4706-8FD9-9A013065E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at the possible configuration of a top-making mill.  It also looks at the variables in a top-making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Ms. J. Turk, G.H. Michell &amp; Sons Pty. Lt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562040" y="533520"/>
            <a:ext cx="3657600" cy="2743200"/>
          </a:xfrm>
          <a:prstGeom prst="rect">
            <a:avLst/>
          </a:prstGeom>
          <a:ln w="0">
            <a:noFill/>
          </a:ln>
        </p:spPr>
      </p:sp>
      <p:sp>
        <p:nvSpPr>
          <p:cNvPr id="6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provided as an example of the configuration of a top-making mill.  The actual configuration is subject to a number of variab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meter of the wool being processed will have an effect on the way the mill configures its machinery, the amount of machinery used and the speed and settings of those mach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ttings on the cards have an effect on the speed of processing.  The card configuration itself will have an effect, e.g. whether the card is a single or double doffing machine, or is 2m, 3m or 3.5 m wide.  Comb speed and gauge settings also play an important ro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example above it is assumed that the mill is processing 23 micron wool.  One 3-stage scour would supply wool to three or four 2.5m wide double doffer cards.  These in turn would feed wool to a total of 10 GC15 preparer gillboxes.  These would be arranged in three rows, 3 in each of the first and second rows and 4 in the last row.  The first 6 gills would supply sliver to single baller cans, and the last 4 gills would ball the sliver for combing.  In this processing line there would be 30 PB32 combs suppling combed sliver to 7 GC15 finisher gillboxes which either ball or create bumps of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figuration of the machinery is also dependent on the size of the batches being processed.  Typical batch sizes at Michells are 300-400 bales, however Michells like to process big batches which allow for better efficiency.  Michells runs more machinery than mentioned in this example thus allowing for more flexibility in process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B095-F02D-4254-9E29-A7B5BE52E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a:t>
            </a:r>
            <a:r>
              <a:rPr b="0" lang="en-GB" sz="1000" spc="-1" strike="noStrike">
                <a:solidFill>
                  <a:srgbClr val="000000"/>
                </a:solidFill>
                <a:latin typeface="Times New Roman"/>
              </a:rPr>
              <a:t>Ms. J. Turk, G.H. Michell &amp; Sons Pty. Lt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ll variables all play a part in the quality of the final product and are consequently important factors in processing contro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ool which is obtained from the wool stockpile is packed in highly compressed tri-packs where the wool can be stuck together, especially in cold environments.  The wool in these tri-packs goes through a steaming process to get the wool apart for ease of opening.  The steaming process has to be carefully controlled so that no discoloration occur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ool lots are blended together to form a homogeneous batch with very little variation.  This is performed by computers which select the order of bale entry to the scour.  Care must be taken in the scouring process to avoid fibre entanglement and the detergents and water flow must be regulated to produce clean wool without causing environmental problems or incurring unnecessary costs.  The carding/combing lubricant applied after scouring plays a large role in avoiding unnecessary fibre breakage in processing.  Selection of the right lubricant can lead to increases in the Hauteur of the final top.</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oisture content of the scoured wool must be controlled, as wool that is too wet causes lapping around the rollers and excessive fibre breakage, and also wet wool will not allow for the efficient removal of VM.  The production rate of the card, feed and/or speed, plays an important role in the quality of the carded produc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verage fibre length of the combed sliver and the noil produced is altered by the gauge setting on the comb.  The material handling between steps in the processing line is important to further blend and align the fibres.  Through the different processes hooks are put into and taken out of the fibres, sliver reversal from one step to the next is vital to removing these hook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sually a mill will process similar wool through a particular processing line so that minimal changes or adjustments need to be made to the speed or settings on the processing machines.  Changing machinery is expensive.  This is why a mill may have a fine wool processing line separate from their other lin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more information regarding the above mentioned parameters see modules, “Blending Fibres”, “An Introduction to Scouring”, “Fundamental Processes in Aqueous Scouring”, “Fibre Entanglement in Scouring”, “Carding Principles”, “High Speed Carding”, “Combing Principles”, “Drafting Principles” and “Gilling”.</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making:</a:t>
            </a:r>
            <a:br>
              <a:rPr sz="3200"/>
            </a:br>
            <a:r>
              <a:rPr b="1" lang="en-AU" sz="3200" spc="-1" strike="noStrike">
                <a:solidFill>
                  <a:srgbClr val="fafd00"/>
                </a:solidFill>
                <a:latin typeface="Arial"/>
              </a:rPr>
              <a:t>Mill Configuration &amp; Variab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s. J. Turk, G.H. Michell &amp; Sons Pty. Ltd.</a:t>
            </a: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ll Configuration (example)</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rd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parer Gillbox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b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isher Gillboxe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tch Sizes</a:t>
            </a:r>
            <a:endParaRPr b="1" lang="en-US" sz="2400" spc="-1" strike="noStrike">
              <a:solidFill>
                <a:srgbClr val="ffffff"/>
              </a:solidFill>
              <a:latin typeface="Arial"/>
            </a:endParaRPr>
          </a:p>
        </p:txBody>
      </p:sp>
      <p:sp>
        <p:nvSpPr>
          <p:cNvPr id="5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 or 4</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0 - 400 bal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 2000 ba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ill Variables</a:t>
            </a:r>
            <a:endParaRPr b="1" lang="en-US" sz="3200" spc="-1" strike="noStrike">
              <a:solidFill>
                <a:srgbClr val="fafd00"/>
              </a:solidFill>
              <a:latin typeface="Arial"/>
            </a:endParaRPr>
          </a:p>
        </p:txBody>
      </p:sp>
      <p:sp>
        <p:nvSpPr>
          <p:cNvPr id="5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en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i-pack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en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ur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nimise entangle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terg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ils (synthetic)</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isture cont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eed (HS)</a:t>
            </a:r>
            <a:endParaRPr b="1" lang="en-US" sz="2000" spc="-1" strike="noStrike">
              <a:solidFill>
                <a:srgbClr val="ffffff"/>
              </a:solidFill>
              <a:latin typeface="Arial"/>
            </a:endParaRPr>
          </a:p>
        </p:txBody>
      </p:sp>
      <p:sp>
        <p:nvSpPr>
          <p:cNvPr id="5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tachment sett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terial handl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ver reversal vital</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cessing lin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nge for different wool</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chine setting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nimise changes</a:t>
            </a:r>
            <a:endParaRPr b="1" lang="en-US" sz="2000" spc="-1" strike="noStrike">
              <a:solidFill>
                <a:srgbClr val="ffffff"/>
              </a:solidFill>
              <a:latin typeface="Arial"/>
            </a:endParaRPr>
          </a:p>
        </p:txBody>
      </p:sp>
      <p:sp>
        <p:nvSpPr>
          <p:cNvPr id="56"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3:02:49Z</dcterms:created>
  <dc:creator>USER</dc:creator>
  <dc:description/>
  <dc:language>en-US</dc:language>
  <cp:lastModifiedBy>Hdaily</cp:lastModifiedBy>
  <cp:lastPrinted>2000-02-03T09:09:47Z</cp:lastPrinted>
  <dcterms:modified xsi:type="dcterms:W3CDTF">2000-03-21T00:58:09Z</dcterms:modified>
  <cp:revision>3</cp:revision>
  <dc:subject/>
  <dc:title>No Slide Title</dc:title>
</cp:coreProperties>
</file>