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8EA1-DB4A-468A-8993-21B75FE36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the drafting of fibre assemblies.  The principles in this module can be applied to the roller drafting of slivers and rovings comprising discrete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is module is used in conjunction with the modules “Fibre Assemblies” and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562040" y="533520"/>
            <a:ext cx="3657600" cy="2743200"/>
          </a:xfrm>
          <a:prstGeom prst="rect">
            <a:avLst/>
          </a:prstGeom>
          <a:ln w="0">
            <a:noFill/>
          </a:ln>
        </p:spPr>
      </p:sp>
      <p:sp>
        <p:nvSpPr>
          <p:cNvPr id="2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in the drafting zone between rollers do not travel at the same speed as the back rollers all the time.  This can lead to problems with evenness embodied in drafting waves in the fibre assembly.  The main fibres out of control are shor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effects could be alleviated if the pressure distribution on the fibres was increased and fibre control was max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various mechanisms to achieve this control.  Drafting rollers in the short staple system are spaced very closely, therefore the fibre control mechanisms have to be small.  An example of a pressure bar is shown on this slide.  This increases fibre control when cotton fibres are being draf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sted system processes long staple fibres which uses a longer ratch setting.  Therefore larger fibre control mechanisms can be employed in some processes such as pins in gillboxes (refer to “Gilling” module).  Alternatively, false twist devices are used in woollen spinning (refer to “Yarn Production”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fibre control mechanism used in ring spinning is the apron system also shown in this slide.  This is used in the drafting zone of spinning fram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entioned earlier, drawing entails doubling and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w of Doubling says that the variation in linear density of the input slivers (CV</a:t>
            </a:r>
            <a:r>
              <a:rPr b="0" lang="en-AU" sz="1200" spc="-1" strike="noStrike" baseline="-25000">
                <a:solidFill>
                  <a:srgbClr val="000000"/>
                </a:solidFill>
                <a:latin typeface="Times New Roman"/>
              </a:rPr>
              <a:t>in</a:t>
            </a:r>
            <a:r>
              <a:rPr b="0" lang="en-AU" sz="1200" spc="-1" strike="noStrike">
                <a:solidFill>
                  <a:srgbClr val="000000"/>
                </a:solidFill>
                <a:latin typeface="Times New Roman"/>
              </a:rPr>
              <a:t>) will be the average of the linear density of all the slivers divided by the square root of the number of slivers doubl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because some of the thick spots in a sliver may be matched against thin spots in other slivers, so the overall variation in linear density will fall if more than one sliver is being drafted.  Another way of looking at this is that after doubling, the number of fibres increases in the cross section, which improves the evenness of the doubled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 evenness of the output sliver will be increased by using doublings.  The more doublings the better.  This concept is seen many times in early stage processing, in gilling, in combing, in finisher gilling, in drawing for exam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simply by using doublings the evenness can be minimised, but the process has limits due to another phenomen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ust be remembered that each drafting operation ADDS variation in linear density, because it reduces the fibre number in the assembly cross section,  and adds other drafting de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embodied in the Law of Addition shown on this slide.  The variation in linear density of the final sliver will be increased because the machine is adding variation.  The amount of variation is a function of each machine, and is different for each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9B4C-33C9-40A0-A4BD-3EF75C009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aim of drafting is the attenuation of a fibre assembly, which makes a fibre assembly thinner and long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rafting, fibres slide past one another. This can straighten some fibres that have hooked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rms drawing and drafting are often used synonymously.  Strictly speaking, drawing entails doubling and drafting.  Doubling (combining slivers together) is used to blend slivers together to improve the evenness.  But drafting always increases irregularity, mainly because of the reduced number of fibres in the cross section of the drafted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fting can be achieved in a number of ways.  The simplest form of drafting is to attenuate the fibres manually, i.e. hand drafting such as that carried out by the hand-spinner before twist is applied to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orm of drafting can use teeth to attenuate the fibre assembly. Carding is a form of toothed drafting, where the pins or teeth on the rollers are acting on the fibre assembly, drawing it out from clump of fibres to become a long, thin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far the most common form of drafting  in textile processing is roller drafting.  This will be explained in more detail on the following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elements of roller drafting are illustrated in this slide.  For simplicity we will talk about slivers as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sets of rollers, back and front.  The input sliver feeds through the back rollers (BR) and are drafted by the front rollers (FR).  FR must be going faster than BR for drafting to occur.  The draft displayed above would be estimated to be DX / X = D.  The line across the rollers where they meet is called the nip, formed by the contact between the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ance between the roller nips is referred to as the ratch setting.  This distance is determined by the length of fibres being drafted.  Adjustments of ratch settings are possible on most drafting arrangements.  The space between the rollers is commonly referred to as the drafting zone.  Some machines have several drafting zo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of perfect roller drafting is very important.  This states that a fibre should move at the speed of the back rollers until its fibre leading end (FLE) reaches the front rollers.  Once it reaches the front rollers it should be instantly accelerated to the speed of the front rollers.  The fibre will be under the influence of the front rollers until the fibre trailing end (FTE) leaves the front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is phenomenon occurred then drafting would be no trouble, however not all fibres in the drafting zone behave according to the requirements of perfect roller drafting.  Fibre control is often necessary to improve this situation, as will be discussed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draft can be measur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accurate method is to find the ratio between the linear densities of the input and  output materials.  This is referred to as the material draft or real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ft can be estimated by comparing the roller surface speeds, or the roller rotational speeds.  In the second instance, the roller diameter need to be the same for a direct comparison.  This is also referred to as the machin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terial and mechanical drafts often differ slightly, because of irregular drafting caused by fibre and machine facto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irregular drafting are covered o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irregular drafting can be grouped into those caused by machine factors and those caused by fibre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or electrical defects in the machinery can lead to variation in the actual nip position, or rollers can change speed intermittently or regularly, or rollers may be eccentric or out of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ause of irregular drafting may be slippage between the fibres and the rollers.  This would cause the real draft to be less than the machin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factors such as poor fibre alignment and the presence of short fibres may also cause irregular drafting.  Fibres are effectively placed out of turn during drafting by these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 of irregular drafting is that the evenness (as measured by the linear density variation) will not be as good as anticipated.  This variation in the number of fibres in the cross-section of the fibre assembly may lead to strength variation, especially in yarns (since less fibres support lower tensile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effects will be expanded further o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ler eccentricity can be caused by rollers wearing out, or by the surface of the roller varying in distance from the shaft.  It is a major mechanical cause of irregular drafting.  Whatever the cause of the eccentricity, it leads to periodic irregularity in the fibre assembly which is repeated every roller ro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velength of the irregularity is defined as the distance between repeats, and would equate to the circumference of the offending roller if it was the front roller.  The irregularity wavelength would be the circumference times the draft if it was the back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simple enough if only one machine is involved, say a gillbox.  However if multiple machines are involved in a process, say multiple gillings, then the final wavelength will be the roller circumference multiplied by the various drafts involved on each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wavelengths can be identified by the use of analysis tools like the Spectrograph function on the Uster Evenness Tester.  For more information see the “Evenness”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slivers contain fibres of differing lengths.  The ratch setting is set to be just longer than the longest fibres to avoid fibre breakage.  Therefore long fibres are effectively under control by the back rollers until the FLE reaches the front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shorter fibres are not controlled once they leave the back rollers, and can be subject to fibre migration caused by longer fibres moving past them as they are being drafted forward.  Similarly the fibres may be retarded by slow-moving fibres and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hort fibres are referred to as “floating fibres” or “swimming fibres”, and are a major cause of irregular drafting and the formation of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equency of these drafting waves has been measured to be about 2.5 times the mean fibre length (m.f.l.) in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fting waves distort the distribution of the the number of fibres in the cross-section of a fibre assembly beyond that expected by probability alo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ffect adding to assembly irregularity is the sliver elasticity effect.  Slivers are elastic over small strains due to the presence of fibre crimp, fibre entanglement and poor fibre orientation.  This means that a sliver will stretch without effect when a small force is a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when the elasticity of the sliver is exceeded, the whole fibre assembly will move forward, a so-called “stick-slip”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another cause of irregular drafting which can lead to drafting waves of similar frequency to that found with floating fib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variation from perfect roller drafting can be caused by the pressure on the fibres in the drafting zone being less than id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is slide illustrates the ideal pressure distribution (solid black line), where pressure is maintained on the fibres as long as possible before and after the back rollers.  Ideally, the pressure near the front rollers should be more concentrated so that fibres can be accelerated instantaneously when they approach the front roller nip, as required by perfect roller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ctual practice, rollers have a very narrow nip zone back and front as shown by the dotted red line.  So the pressure is high only at one point.  After the back roller nip the pressure drops off very quickly in the drafting zone without some artificial mechan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needs to be some way of changing this pressure distribution towards the ideal.  Some of the various mechanisms are discussed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ft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943600" y="2022480"/>
            <a:ext cx="2743200" cy="1711080"/>
            <a:chOff x="5943600" y="2022480"/>
            <a:chExt cx="2743200" cy="1711080"/>
          </a:xfrm>
        </p:grpSpPr>
        <p:pic>
          <p:nvPicPr>
            <p:cNvPr id="155" name="PRESSBAR" descr=""/>
            <p:cNvPicPr/>
            <p:nvPr/>
          </p:nvPicPr>
          <p:blipFill>
            <a:blip r:embed="rId1"/>
            <a:stretch/>
          </p:blipFill>
          <p:spPr>
            <a:xfrm>
              <a:off x="5943600" y="2022480"/>
              <a:ext cx="2743200" cy="1711080"/>
            </a:xfrm>
            <a:prstGeom prst="rect">
              <a:avLst/>
            </a:prstGeom>
            <a:ln w="0">
              <a:noFill/>
            </a:ln>
          </p:spPr>
        </p:pic>
        <p:sp>
          <p:nvSpPr>
            <p:cNvPr id="156" name=""/>
            <p:cNvSpPr/>
            <p:nvPr/>
          </p:nvSpPr>
          <p:spPr>
            <a:xfrm>
              <a:off x="7012800" y="316548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pressure bar</a:t>
              </a:r>
              <a:endParaRPr b="0" lang="en-US" sz="1600" spc="-1" strike="noStrike">
                <a:solidFill>
                  <a:srgbClr val="000000"/>
                </a:solidFill>
                <a:latin typeface="Times New Roman"/>
              </a:endParaRPr>
            </a:p>
          </p:txBody>
        </p:sp>
        <p:sp>
          <p:nvSpPr>
            <p:cNvPr id="157" name=""/>
            <p:cNvSpPr/>
            <p:nvPr/>
          </p:nvSpPr>
          <p:spPr>
            <a:xfrm flipH="1" flipV="1">
              <a:off x="6858000" y="2707920"/>
              <a:ext cx="304560" cy="5331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1371600" y="3048120"/>
            <a:ext cx="3886200" cy="2950920"/>
            <a:chOff x="1371600" y="3048120"/>
            <a:chExt cx="3886200" cy="2950920"/>
          </a:xfrm>
        </p:grpSpPr>
        <p:pic>
          <p:nvPicPr>
            <p:cNvPr id="159" name="APRONROL" descr=""/>
            <p:cNvPicPr/>
            <p:nvPr/>
          </p:nvPicPr>
          <p:blipFill>
            <a:blip r:embed="rId2"/>
            <a:stretch/>
          </p:blipFill>
          <p:spPr>
            <a:xfrm>
              <a:off x="1371600" y="3048120"/>
              <a:ext cx="3886200" cy="2950920"/>
            </a:xfrm>
            <a:prstGeom prst="rect">
              <a:avLst/>
            </a:prstGeom>
            <a:ln w="0">
              <a:noFill/>
            </a:ln>
          </p:spPr>
        </p:pic>
        <p:sp>
          <p:nvSpPr>
            <p:cNvPr id="160" name=""/>
            <p:cNvSpPr/>
            <p:nvPr/>
          </p:nvSpPr>
          <p:spPr>
            <a:xfrm>
              <a:off x="4114800" y="4038480"/>
              <a:ext cx="914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733920" y="4572000"/>
              <a:ext cx="914400" cy="76320"/>
            </a:xfrm>
            <a:prstGeom prst="line">
              <a:avLst/>
            </a:prstGeom>
            <a:ln w="38160">
              <a:solidFill>
                <a:srgbClr val="ff66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1676520" y="43434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48006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ontrol in Roller Drafting</a:t>
            </a:r>
            <a:endParaRPr b="1" lang="en-US" sz="3200" spc="-1" strike="noStrike">
              <a:solidFill>
                <a:srgbClr val="fafd00"/>
              </a:solidFill>
              <a:latin typeface="Arial"/>
            </a:endParaRPr>
          </a:p>
        </p:txBody>
      </p:sp>
      <p:sp>
        <p:nvSpPr>
          <p:cNvPr id="166"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drafting wav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ontrol of short fibr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7"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chanis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ssure ba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drawframe</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rsted gillbox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r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rsted ring spinn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len ring spinning</a:t>
            </a:r>
            <a:endParaRPr b="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676520" y="3429000"/>
            <a:ext cx="6933960" cy="2209680"/>
            <a:chOff x="1676520" y="3429000"/>
            <a:chExt cx="6933960" cy="2209680"/>
          </a:xfrm>
        </p:grpSpPr>
        <p:sp>
          <p:nvSpPr>
            <p:cNvPr id="171" name=""/>
            <p:cNvSpPr/>
            <p:nvPr/>
          </p:nvSpPr>
          <p:spPr>
            <a:xfrm>
              <a:off x="1676520" y="3429000"/>
              <a:ext cx="693396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976040" y="3730320"/>
              <a:ext cx="3509280" cy="1526040"/>
              <a:chOff x="1976040" y="3730320"/>
              <a:chExt cx="3509280" cy="1526040"/>
            </a:xfrm>
          </p:grpSpPr>
          <p:sp>
            <p:nvSpPr>
              <p:cNvPr id="173" name=""/>
              <p:cNvSpPr/>
              <p:nvPr/>
            </p:nvSpPr>
            <p:spPr>
              <a:xfrm>
                <a:off x="3338640" y="3730320"/>
                <a:ext cx="699840" cy="6735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75960" y="4081320"/>
                <a:ext cx="5400" cy="15120"/>
              </a:xfrm>
              <a:prstGeom prst="ellipse">
                <a:avLst/>
              </a:prstGeom>
              <a:no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75" name=""/>
              <p:cNvSpPr/>
              <p:nvPr/>
            </p:nvSpPr>
            <p:spPr>
              <a:xfrm>
                <a:off x="3338640" y="4511520"/>
                <a:ext cx="699840" cy="731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42280" y="4507920"/>
                <a:ext cx="137232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 name=""/>
              <p:cNvSpPr/>
              <p:nvPr/>
            </p:nvSpPr>
            <p:spPr>
              <a:xfrm flipV="1">
                <a:off x="1992960" y="4594320"/>
                <a:ext cx="1284840" cy="66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976040" y="3952080"/>
                <a:ext cx="1323720" cy="351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906000" y="4490280"/>
                <a:ext cx="157932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80" name=""/>
            <p:cNvSpPr/>
            <p:nvPr/>
          </p:nvSpPr>
          <p:spPr>
            <a:xfrm>
              <a:off x="5816880" y="3812760"/>
              <a:ext cx="204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V (in) = CV</a:t>
              </a:r>
              <a:endParaRPr b="0" lang="en-US" sz="2800" spc="-1" strike="noStrike">
                <a:solidFill>
                  <a:srgbClr val="000000"/>
                </a:solidFill>
                <a:latin typeface="Times New Roman"/>
              </a:endParaRPr>
            </a:p>
          </p:txBody>
        </p:sp>
        <p:sp>
          <p:nvSpPr>
            <p:cNvPr id="181" name=""/>
            <p:cNvSpPr/>
            <p:nvPr/>
          </p:nvSpPr>
          <p:spPr>
            <a:xfrm>
              <a:off x="7626240" y="447984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
              </a:r>
              <a:endParaRPr b="0" lang="en-US" sz="2800" spc="-1" strike="noStrike">
                <a:solidFill>
                  <a:srgbClr val="000000"/>
                </a:solidFill>
                <a:latin typeface="Times New Roman"/>
              </a:endParaRPr>
            </a:p>
          </p:txBody>
        </p:sp>
        <p:sp>
          <p:nvSpPr>
            <p:cNvPr id="182" name=""/>
            <p:cNvSpPr/>
            <p:nvPr/>
          </p:nvSpPr>
          <p:spPr>
            <a:xfrm>
              <a:off x="7411680" y="4524120"/>
              <a:ext cx="588600" cy="380520"/>
            </a:xfrm>
            <a:custGeom>
              <a:avLst/>
              <a:gdLst/>
              <a:ahLst/>
              <a:rect l="l" t="t" r="r" b="b"/>
              <a:pathLst>
                <a:path w="300" h="177">
                  <a:moveTo>
                    <a:pt x="0" y="79"/>
                  </a:moveTo>
                  <a:lnTo>
                    <a:pt x="0" y="88"/>
                  </a:lnTo>
                  <a:lnTo>
                    <a:pt x="22" y="176"/>
                  </a:lnTo>
                  <a:lnTo>
                    <a:pt x="45" y="0"/>
                  </a:lnTo>
                  <a:lnTo>
                    <a:pt x="299"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91160" y="3698640"/>
              <a:ext cx="423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459560" y="4342680"/>
              <a:ext cx="5407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w of Doubling</a:t>
            </a:r>
            <a:endParaRPr b="1" lang="en-US" sz="3200" spc="-1" strike="noStrike">
              <a:solidFill>
                <a:srgbClr val="fafd00"/>
              </a:solidFill>
              <a:latin typeface="Arial"/>
            </a:endParaRPr>
          </a:p>
        </p:txBody>
      </p:sp>
      <p:sp>
        <p:nvSpPr>
          <p:cNvPr id="1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tiple sliver in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all CV of input </a:t>
            </a:r>
            <a:r>
              <a:rPr b="1" lang="en-GB" sz="2400" spc="-1" strike="noStrike">
                <a:solidFill>
                  <a:srgbClr val="ffff99"/>
                </a:solidFill>
                <a:latin typeface="Arial"/>
              </a:rPr>
              <a:t>decreas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sliver out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s the evenness</a:t>
            </a:r>
            <a:endParaRPr b="1" lang="en-US" sz="2400" spc="-1" strike="noStrike">
              <a:solidFill>
                <a:srgbClr val="ffffff"/>
              </a:solidFill>
              <a:latin typeface="Arial"/>
            </a:endParaRPr>
          </a:p>
        </p:txBody>
      </p:sp>
      <p:sp>
        <p:nvSpPr>
          <p:cNvPr id="18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8" name=""/>
          <p:cNvGrpSpPr/>
          <p:nvPr/>
        </p:nvGrpSpPr>
        <p:grpSpPr>
          <a:xfrm>
            <a:off x="1905120" y="3352680"/>
            <a:ext cx="6387840" cy="2577960"/>
            <a:chOff x="1905120" y="3352680"/>
            <a:chExt cx="6387840" cy="2577960"/>
          </a:xfrm>
        </p:grpSpPr>
        <p:sp>
          <p:nvSpPr>
            <p:cNvPr id="189" name=""/>
            <p:cNvSpPr/>
            <p:nvPr/>
          </p:nvSpPr>
          <p:spPr>
            <a:xfrm>
              <a:off x="1905120" y="3352680"/>
              <a:ext cx="6387840" cy="257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2139840" y="3651120"/>
              <a:ext cx="5786280" cy="2066040"/>
              <a:chOff x="2139840" y="3651120"/>
              <a:chExt cx="5786280" cy="2066040"/>
            </a:xfrm>
          </p:grpSpPr>
          <p:grpSp>
            <p:nvGrpSpPr>
              <p:cNvPr id="191" name=""/>
              <p:cNvGrpSpPr/>
              <p:nvPr/>
            </p:nvGrpSpPr>
            <p:grpSpPr>
              <a:xfrm>
                <a:off x="2139840" y="3651120"/>
                <a:ext cx="5786280" cy="1309680"/>
                <a:chOff x="2139840" y="3651120"/>
                <a:chExt cx="5786280" cy="1309680"/>
              </a:xfrm>
            </p:grpSpPr>
            <p:sp>
              <p:nvSpPr>
                <p:cNvPr id="192" name=""/>
                <p:cNvSpPr/>
                <p:nvPr/>
              </p:nvSpPr>
              <p:spPr>
                <a:xfrm>
                  <a:off x="3379680" y="4047840"/>
                  <a:ext cx="52236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27440" y="4281120"/>
                  <a:ext cx="11160" cy="792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4" name=""/>
                <p:cNvSpPr/>
                <p:nvPr/>
              </p:nvSpPr>
              <p:spPr>
                <a:xfrm>
                  <a:off x="3379680" y="4503600"/>
                  <a:ext cx="52236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942160" y="4047840"/>
                  <a:ext cx="52200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91360" y="4281120"/>
                  <a:ext cx="9360" cy="792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7" name=""/>
                <p:cNvSpPr/>
                <p:nvPr/>
              </p:nvSpPr>
              <p:spPr>
                <a:xfrm>
                  <a:off x="5942160" y="4503600"/>
                  <a:ext cx="5220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39840" y="4495680"/>
                  <a:ext cx="114300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9" name=""/>
                <p:cNvSpPr/>
                <p:nvPr/>
              </p:nvSpPr>
              <p:spPr>
                <a:xfrm>
                  <a:off x="2816280" y="4360680"/>
                  <a:ext cx="603360" cy="269640"/>
                </a:xfrm>
                <a:custGeom>
                  <a:avLst/>
                  <a:gdLst/>
                  <a:ahLst/>
                  <a:rect l="l" t="t" r="r" b="b"/>
                  <a:pathLst>
                    <a:path w="380" h="170">
                      <a:moveTo>
                        <a:pt x="0" y="0"/>
                      </a:moveTo>
                      <a:lnTo>
                        <a:pt x="379"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846600" y="4495680"/>
                  <a:ext cx="215892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1" name=""/>
                <p:cNvSpPr/>
                <p:nvPr/>
              </p:nvSpPr>
              <p:spPr>
                <a:xfrm>
                  <a:off x="5537160" y="4360680"/>
                  <a:ext cx="604800" cy="269640"/>
                </a:xfrm>
                <a:custGeom>
                  <a:avLst/>
                  <a:gdLst/>
                  <a:ahLst/>
                  <a:rect l="l" t="t" r="r" b="b"/>
                  <a:pathLst>
                    <a:path w="381" h="170">
                      <a:moveTo>
                        <a:pt x="0" y="0"/>
                      </a:moveTo>
                      <a:lnTo>
                        <a:pt x="380"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426360" y="4495680"/>
                  <a:ext cx="114300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3" name=""/>
                <p:cNvSpPr/>
                <p:nvPr/>
              </p:nvSpPr>
              <p:spPr>
                <a:xfrm>
                  <a:off x="7101000" y="4360680"/>
                  <a:ext cx="604800" cy="269640"/>
                </a:xfrm>
                <a:custGeom>
                  <a:avLst/>
                  <a:gdLst/>
                  <a:ahLst/>
                  <a:rect l="l" t="t" r="r" b="b"/>
                  <a:pathLst>
                    <a:path w="381" h="170">
                      <a:moveTo>
                        <a:pt x="0" y="0"/>
                      </a:moveTo>
                      <a:lnTo>
                        <a:pt x="380"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300400" y="36511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in)</a:t>
                  </a:r>
                  <a:endParaRPr b="0" lang="en-US" sz="2400" spc="-1" strike="noStrike">
                    <a:solidFill>
                      <a:srgbClr val="000000"/>
                    </a:solidFill>
                    <a:latin typeface="Times New Roman"/>
                  </a:endParaRPr>
                </a:p>
              </p:txBody>
            </p:sp>
            <p:sp>
              <p:nvSpPr>
                <p:cNvPr id="205" name=""/>
                <p:cNvSpPr/>
                <p:nvPr/>
              </p:nvSpPr>
              <p:spPr>
                <a:xfrm>
                  <a:off x="4334040" y="3651120"/>
                  <a:ext cx="160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added)</a:t>
                  </a:r>
                  <a:endParaRPr b="0" lang="en-US" sz="2400" spc="-1" strike="noStrike">
                    <a:solidFill>
                      <a:srgbClr val="000000"/>
                    </a:solidFill>
                    <a:latin typeface="Times New Roman"/>
                  </a:endParaRPr>
                </a:p>
              </p:txBody>
            </p:sp>
            <p:sp>
              <p:nvSpPr>
                <p:cNvPr id="206" name=""/>
                <p:cNvSpPr/>
                <p:nvPr/>
              </p:nvSpPr>
              <p:spPr>
                <a:xfrm>
                  <a:off x="6739560" y="365112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out)</a:t>
                  </a:r>
                  <a:endParaRPr b="0" lang="en-US" sz="2400" spc="-1" strike="noStrike">
                    <a:solidFill>
                      <a:srgbClr val="000000"/>
                    </a:solidFill>
                    <a:latin typeface="Times New Roman"/>
                  </a:endParaRPr>
                </a:p>
              </p:txBody>
            </p:sp>
          </p:grpSp>
          <p:grpSp>
            <p:nvGrpSpPr>
              <p:cNvPr id="207" name=""/>
              <p:cNvGrpSpPr/>
              <p:nvPr/>
            </p:nvGrpSpPr>
            <p:grpSpPr>
              <a:xfrm>
                <a:off x="2568600" y="5105160"/>
                <a:ext cx="5158080" cy="612000"/>
                <a:chOff x="2568600" y="5105160"/>
                <a:chExt cx="5158080" cy="612000"/>
              </a:xfrm>
            </p:grpSpPr>
            <p:sp>
              <p:nvSpPr>
                <p:cNvPr id="208" name=""/>
                <p:cNvSpPr/>
                <p:nvPr/>
              </p:nvSpPr>
              <p:spPr>
                <a:xfrm>
                  <a:off x="2568600" y="5351040"/>
                  <a:ext cx="5158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out)   =  CV  (in)  +  CV  (added)</a:t>
                  </a:r>
                  <a:endParaRPr b="0" lang="en-US" sz="2400" spc="-1" strike="noStrike">
                    <a:solidFill>
                      <a:srgbClr val="000000"/>
                    </a:solidFill>
                    <a:latin typeface="Times New Roman"/>
                  </a:endParaRPr>
                </a:p>
              </p:txBody>
            </p:sp>
            <p:sp>
              <p:nvSpPr>
                <p:cNvPr id="209" name=""/>
                <p:cNvSpPr/>
                <p:nvPr/>
              </p:nvSpPr>
              <p:spPr>
                <a:xfrm>
                  <a:off x="303948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0" name=""/>
                <p:cNvSpPr/>
                <p:nvPr/>
              </p:nvSpPr>
              <p:spPr>
                <a:xfrm>
                  <a:off x="489204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1" name=""/>
                <p:cNvSpPr/>
                <p:nvPr/>
              </p:nvSpPr>
              <p:spPr>
                <a:xfrm>
                  <a:off x="653040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grpSp>
        </p:grpSp>
      </p:grpSp>
      <p:sp>
        <p:nvSpPr>
          <p:cNvPr id="2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w of Addition</a:t>
            </a:r>
            <a:endParaRPr b="1" lang="en-US" sz="3200" spc="-1" strike="noStrike">
              <a:solidFill>
                <a:srgbClr val="fafd00"/>
              </a:solidFill>
              <a:latin typeface="Arial"/>
            </a:endParaRPr>
          </a:p>
        </p:txBody>
      </p:sp>
      <p:sp>
        <p:nvSpPr>
          <p:cNvPr id="2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ch machine adds a certain amount to the irregularity of the finished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ing adds unevennes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d fibre no, imperfect drafting</a:t>
            </a:r>
            <a:endParaRPr b="1" lang="en-US" sz="2400" spc="-1" strike="noStrike">
              <a:solidFill>
                <a:srgbClr val="ffffff"/>
              </a:solidFill>
              <a:latin typeface="Arial"/>
            </a:endParaRPr>
          </a:p>
        </p:txBody>
      </p:sp>
      <p:sp>
        <p:nvSpPr>
          <p:cNvPr id="21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ims of Draft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enuation of a fibre assemb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aighte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amp; Drawing def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s of Dra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othed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ller Drafting</a:t>
            </a:r>
            <a:endParaRPr b="1" lang="en-US" sz="2400" spc="-1" strike="noStrike">
              <a:solidFill>
                <a:srgbClr val="ffffff"/>
              </a:solidFill>
              <a:latin typeface="Arial"/>
            </a:endParaRPr>
          </a:p>
        </p:txBody>
      </p:sp>
      <p:sp>
        <p:nvSpPr>
          <p:cNvPr id="5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447920" y="3276720"/>
            <a:ext cx="7173360" cy="2590560"/>
            <a:chOff x="1447920" y="3276720"/>
            <a:chExt cx="7173360" cy="2590560"/>
          </a:xfrm>
        </p:grpSpPr>
        <p:grpSp>
          <p:nvGrpSpPr>
            <p:cNvPr id="55" name=""/>
            <p:cNvGrpSpPr/>
            <p:nvPr/>
          </p:nvGrpSpPr>
          <p:grpSpPr>
            <a:xfrm>
              <a:off x="1447920" y="3276720"/>
              <a:ext cx="7086240" cy="2590560"/>
              <a:chOff x="1447920" y="3276720"/>
              <a:chExt cx="7086240" cy="2590560"/>
            </a:xfrm>
          </p:grpSpPr>
          <p:sp>
            <p:nvSpPr>
              <p:cNvPr id="56" name=""/>
              <p:cNvSpPr/>
              <p:nvPr/>
            </p:nvSpPr>
            <p:spPr>
              <a:xfrm>
                <a:off x="1447920" y="3276720"/>
                <a:ext cx="7086240" cy="259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611720" y="3354480"/>
                <a:ext cx="6630120" cy="2497680"/>
                <a:chOff x="1611720" y="3354480"/>
                <a:chExt cx="6630120" cy="2497680"/>
              </a:xfrm>
            </p:grpSpPr>
            <p:sp>
              <p:nvSpPr>
                <p:cNvPr id="58" name=""/>
                <p:cNvSpPr/>
                <p:nvPr/>
              </p:nvSpPr>
              <p:spPr>
                <a:xfrm>
                  <a:off x="3485520" y="3354480"/>
                  <a:ext cx="78732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85520" y="4102200"/>
                  <a:ext cx="78732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88280" y="3354480"/>
                  <a:ext cx="78588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8280" y="4102200"/>
                  <a:ext cx="78588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11720" y="4065840"/>
                  <a:ext cx="1850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16800" y="3936600"/>
                  <a:ext cx="642600" cy="305640"/>
                </a:xfrm>
                <a:custGeom>
                  <a:avLst/>
                  <a:gdLst/>
                  <a:ahLst/>
                  <a:rect l="l" t="t" r="r" b="b"/>
                  <a:pathLst>
                    <a:path w="439" h="220">
                      <a:moveTo>
                        <a:pt x="0" y="0"/>
                      </a:moveTo>
                      <a:lnTo>
                        <a:pt x="438" y="109"/>
                      </a:lnTo>
                      <a:lnTo>
                        <a:pt x="0" y="2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463640" y="4088160"/>
                  <a:ext cx="19396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 name=""/>
                <p:cNvSpPr/>
                <p:nvPr/>
              </p:nvSpPr>
              <p:spPr>
                <a:xfrm>
                  <a:off x="7256880" y="4088160"/>
                  <a:ext cx="881280" cy="1080"/>
                </a:xfrm>
                <a:prstGeom prst="line">
                  <a:avLst/>
                </a:prstGeom>
                <a:ln w="507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 name=""/>
                <p:cNvSpPr/>
                <p:nvPr/>
              </p:nvSpPr>
              <p:spPr>
                <a:xfrm>
                  <a:off x="3634560" y="5149800"/>
                  <a:ext cx="171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ck rollers</a:t>
                  </a:r>
                  <a:endParaRPr b="0" lang="en-US" sz="2400" spc="-1" strike="noStrike">
                    <a:solidFill>
                      <a:srgbClr val="000000"/>
                    </a:solidFill>
                    <a:latin typeface="Times New Roman"/>
                  </a:endParaRPr>
                </a:p>
              </p:txBody>
            </p:sp>
            <p:sp>
              <p:nvSpPr>
                <p:cNvPr id="67" name=""/>
                <p:cNvSpPr/>
                <p:nvPr/>
              </p:nvSpPr>
              <p:spPr>
                <a:xfrm>
                  <a:off x="3634200" y="5486040"/>
                  <a:ext cx="1431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ed = X</a:t>
                  </a:r>
                  <a:endParaRPr b="0" lang="en-US" sz="2400" spc="-1" strike="noStrike">
                    <a:solidFill>
                      <a:srgbClr val="000000"/>
                    </a:solidFill>
                    <a:latin typeface="Times New Roman"/>
                  </a:endParaRPr>
                </a:p>
              </p:txBody>
            </p:sp>
            <p:sp>
              <p:nvSpPr>
                <p:cNvPr id="68" name=""/>
                <p:cNvSpPr/>
                <p:nvPr/>
              </p:nvSpPr>
              <p:spPr>
                <a:xfrm>
                  <a:off x="6528240" y="5149800"/>
                  <a:ext cx="171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nt rollers</a:t>
                  </a:r>
                  <a:endParaRPr b="0" lang="en-US" sz="2400" spc="-1" strike="noStrike">
                    <a:solidFill>
                      <a:srgbClr val="000000"/>
                    </a:solidFill>
                    <a:latin typeface="Times New Roman"/>
                  </a:endParaRPr>
                </a:p>
              </p:txBody>
            </p:sp>
            <p:sp>
              <p:nvSpPr>
                <p:cNvPr id="69" name=""/>
                <p:cNvSpPr/>
                <p:nvPr/>
              </p:nvSpPr>
              <p:spPr>
                <a:xfrm>
                  <a:off x="6530040" y="5486040"/>
                  <a:ext cx="1651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ed = DX</a:t>
                  </a:r>
                  <a:endParaRPr b="0" lang="en-US" sz="2400" spc="-1" strike="noStrike">
                    <a:solidFill>
                      <a:srgbClr val="000000"/>
                    </a:solidFill>
                    <a:latin typeface="Times New Roman"/>
                  </a:endParaRPr>
                </a:p>
              </p:txBody>
            </p:sp>
            <p:sp>
              <p:nvSpPr>
                <p:cNvPr id="70" name=""/>
                <p:cNvSpPr/>
                <p:nvPr/>
              </p:nvSpPr>
              <p:spPr>
                <a:xfrm>
                  <a:off x="4407120" y="3501720"/>
                  <a:ext cx="55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Arial"/>
                    </a:rPr>
                    <a:t>FTE</a:t>
                  </a:r>
                  <a:endParaRPr b="0" lang="en-US" sz="2300" spc="-1" strike="noStrike">
                    <a:solidFill>
                      <a:srgbClr val="000000"/>
                    </a:solidFill>
                    <a:latin typeface="Times New Roman"/>
                  </a:endParaRPr>
                </a:p>
              </p:txBody>
            </p:sp>
            <p:sp>
              <p:nvSpPr>
                <p:cNvPr id="71" name=""/>
                <p:cNvSpPr/>
                <p:nvPr/>
              </p:nvSpPr>
              <p:spPr>
                <a:xfrm>
                  <a:off x="5920200" y="3501720"/>
                  <a:ext cx="55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Arial"/>
                    </a:rPr>
                    <a:t>FLE</a:t>
                  </a:r>
                  <a:endParaRPr b="0" lang="en-US" sz="2300" spc="-1" strike="noStrike">
                    <a:solidFill>
                      <a:srgbClr val="000000"/>
                    </a:solidFill>
                    <a:latin typeface="Times New Roman"/>
                  </a:endParaRPr>
                </a:p>
              </p:txBody>
            </p:sp>
          </p:grpSp>
        </p:grpSp>
        <p:sp>
          <p:nvSpPr>
            <p:cNvPr id="72" name=""/>
            <p:cNvSpPr/>
            <p:nvPr/>
          </p:nvSpPr>
          <p:spPr>
            <a:xfrm>
              <a:off x="1523880" y="4082760"/>
              <a:ext cx="138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put slivers</a:t>
              </a:r>
              <a:endParaRPr b="0" lang="en-US" sz="1600" spc="-1" strike="noStrike">
                <a:solidFill>
                  <a:srgbClr val="000000"/>
                </a:solidFill>
                <a:latin typeface="Times New Roman"/>
              </a:endParaRPr>
            </a:p>
          </p:txBody>
        </p:sp>
        <p:sp>
          <p:nvSpPr>
            <p:cNvPr id="73" name=""/>
            <p:cNvSpPr/>
            <p:nvPr/>
          </p:nvSpPr>
          <p:spPr>
            <a:xfrm>
              <a:off x="7162560" y="4082760"/>
              <a:ext cx="14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output sliver</a:t>
              </a:r>
              <a:endParaRPr b="0" lang="en-US" sz="1600" spc="-1" strike="noStrike">
                <a:solidFill>
                  <a:srgbClr val="000000"/>
                </a:solidFill>
                <a:latin typeface="Times New Roman"/>
              </a:endParaRPr>
            </a:p>
          </p:txBody>
        </p:sp>
      </p:grpSp>
      <p:sp>
        <p:nvSpPr>
          <p:cNvPr id="7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Elements of Roller Drafting</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o sets of roll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zone (ratch set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fect Roller Draft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aft Measurement</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terial draf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put linear density  / output linear dens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erial draft or “real draf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draf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 surface speed / BR surface 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io of the roller rotational spee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machine draf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 estimat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terial draft &lt; mechanical draft</a:t>
            </a:r>
            <a:endParaRPr b="1" lang="en-US" sz="2800" spc="-1" strike="noStrike">
              <a:solidFill>
                <a:srgbClr val="ffffff"/>
              </a:solidFill>
              <a:latin typeface="Arial"/>
            </a:endParaRPr>
          </a:p>
        </p:txBody>
      </p:sp>
      <p:sp>
        <p:nvSpPr>
          <p:cNvPr id="79"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rregular Drafting</a:t>
            </a:r>
            <a:endParaRPr b="1" lang="en-US" sz="3200" spc="-1" strike="noStrike">
              <a:solidFill>
                <a:srgbClr val="fafd00"/>
              </a:solidFill>
              <a:latin typeface="Arial"/>
            </a:endParaRPr>
          </a:p>
        </p:txBody>
      </p:sp>
      <p:sp>
        <p:nvSpPr>
          <p:cNvPr id="8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Fa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tion in nip posi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speed vari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eccentri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ppage between fibre and roll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ck of 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ngth varia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Fa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 variation (short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entanglement (poor alignmen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143000" y="3962520"/>
            <a:ext cx="7924680" cy="1942200"/>
            <a:chOff x="1143000" y="3962520"/>
            <a:chExt cx="7924680" cy="1942200"/>
          </a:xfrm>
        </p:grpSpPr>
        <p:grpSp>
          <p:nvGrpSpPr>
            <p:cNvPr id="89" name=""/>
            <p:cNvGrpSpPr/>
            <p:nvPr/>
          </p:nvGrpSpPr>
          <p:grpSpPr>
            <a:xfrm>
              <a:off x="1143000" y="3962520"/>
              <a:ext cx="7924680" cy="1942200"/>
              <a:chOff x="1143000" y="3962520"/>
              <a:chExt cx="7924680" cy="1942200"/>
            </a:xfrm>
          </p:grpSpPr>
          <p:sp>
            <p:nvSpPr>
              <p:cNvPr id="90" name=""/>
              <p:cNvSpPr/>
              <p:nvPr/>
            </p:nvSpPr>
            <p:spPr>
              <a:xfrm>
                <a:off x="1143000" y="3962520"/>
                <a:ext cx="7924680" cy="181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6400" y="5267160"/>
                <a:ext cx="433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Symbol"/>
                    <a:ea typeface="Symbol"/>
                  </a:rPr>
                  <a:t></a:t>
                </a:r>
                <a:endParaRPr b="0" lang="en-US" sz="3600" spc="-1" strike="noStrike">
                  <a:solidFill>
                    <a:srgbClr val="000000"/>
                  </a:solidFill>
                  <a:latin typeface="Times New Roman"/>
                </a:endParaRPr>
              </a:p>
            </p:txBody>
          </p:sp>
        </p:grpSp>
        <p:grpSp>
          <p:nvGrpSpPr>
            <p:cNvPr id="92" name=""/>
            <p:cNvGrpSpPr/>
            <p:nvPr/>
          </p:nvGrpSpPr>
          <p:grpSpPr>
            <a:xfrm>
              <a:off x="1203840" y="4180320"/>
              <a:ext cx="7839360" cy="1670400"/>
              <a:chOff x="1203840" y="4180320"/>
              <a:chExt cx="7839360" cy="1670400"/>
            </a:xfrm>
          </p:grpSpPr>
          <p:sp>
            <p:nvSpPr>
              <p:cNvPr id="93" name=""/>
              <p:cNvSpPr/>
              <p:nvPr/>
            </p:nvSpPr>
            <p:spPr>
              <a:xfrm>
                <a:off x="2422440" y="4180320"/>
                <a:ext cx="537120" cy="516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22440" y="4769280"/>
                <a:ext cx="537120" cy="516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57240" y="4180320"/>
                <a:ext cx="537480" cy="516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20240" y="4761000"/>
                <a:ext cx="537120" cy="516600"/>
              </a:xfrm>
              <a:prstGeom prst="ellipse">
                <a:avLst/>
              </a:prstGeom>
              <a:blipFill rotWithShape="0">
                <a:blip r:embed="rId1"/>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18760" y="4745880"/>
                <a:ext cx="616680" cy="0"/>
              </a:xfrm>
              <a:prstGeom prst="line">
                <a:avLst/>
              </a:prstGeom>
              <a:ln w="38160">
                <a:solidFill>
                  <a:srgbClr val="ff9b7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94680" y="5351400"/>
                <a:ext cx="1964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00"/>
                    </a:solidFill>
                    <a:latin typeface="Arial"/>
                  </a:rPr>
                  <a:t>back rollers</a:t>
                </a:r>
                <a:endParaRPr b="0" lang="en-US" sz="2500" spc="-1" strike="noStrike">
                  <a:solidFill>
                    <a:srgbClr val="000000"/>
                  </a:solidFill>
                  <a:latin typeface="Times New Roman"/>
                </a:endParaRPr>
              </a:p>
            </p:txBody>
          </p:sp>
          <p:sp>
            <p:nvSpPr>
              <p:cNvPr id="99" name=""/>
              <p:cNvSpPr/>
              <p:nvPr/>
            </p:nvSpPr>
            <p:spPr>
              <a:xfrm>
                <a:off x="4156920" y="5350320"/>
                <a:ext cx="19616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00"/>
                    </a:solidFill>
                    <a:latin typeface="Arial"/>
                  </a:rPr>
                  <a:t>front rollers</a:t>
                </a:r>
                <a:endParaRPr b="0" lang="en-US" sz="2500" spc="-1" strike="noStrike">
                  <a:solidFill>
                    <a:srgbClr val="000000"/>
                  </a:solidFill>
                  <a:latin typeface="Times New Roman"/>
                </a:endParaRPr>
              </a:p>
            </p:txBody>
          </p:sp>
          <p:sp>
            <p:nvSpPr>
              <p:cNvPr id="100" name=""/>
              <p:cNvSpPr/>
              <p:nvPr/>
            </p:nvSpPr>
            <p:spPr>
              <a:xfrm>
                <a:off x="5866200" y="4502520"/>
                <a:ext cx="3177000" cy="192960"/>
              </a:xfrm>
              <a:custGeom>
                <a:avLst/>
                <a:gdLst/>
                <a:ahLst/>
                <a:rect l="l" t="t" r="r" b="b"/>
                <a:pathLst>
                  <a:path w="2287" h="142">
                    <a:moveTo>
                      <a:pt x="0" y="5"/>
                    </a:moveTo>
                    <a:lnTo>
                      <a:pt x="144" y="5"/>
                    </a:lnTo>
                    <a:lnTo>
                      <a:pt x="275" y="5"/>
                    </a:lnTo>
                    <a:lnTo>
                      <a:pt x="355" y="1"/>
                    </a:lnTo>
                    <a:lnTo>
                      <a:pt x="398" y="0"/>
                    </a:lnTo>
                    <a:lnTo>
                      <a:pt x="434" y="5"/>
                    </a:lnTo>
                    <a:lnTo>
                      <a:pt x="478" y="35"/>
                    </a:lnTo>
                    <a:lnTo>
                      <a:pt x="506" y="80"/>
                    </a:lnTo>
                    <a:lnTo>
                      <a:pt x="550" y="125"/>
                    </a:lnTo>
                    <a:lnTo>
                      <a:pt x="568" y="129"/>
                    </a:lnTo>
                    <a:lnTo>
                      <a:pt x="592" y="129"/>
                    </a:lnTo>
                    <a:lnTo>
                      <a:pt x="637" y="125"/>
                    </a:lnTo>
                    <a:lnTo>
                      <a:pt x="676" y="125"/>
                    </a:lnTo>
                    <a:lnTo>
                      <a:pt x="699" y="125"/>
                    </a:lnTo>
                    <a:lnTo>
                      <a:pt x="723" y="126"/>
                    </a:lnTo>
                    <a:lnTo>
                      <a:pt x="771" y="126"/>
                    </a:lnTo>
                    <a:lnTo>
                      <a:pt x="792" y="126"/>
                    </a:lnTo>
                    <a:lnTo>
                      <a:pt x="810" y="125"/>
                    </a:lnTo>
                    <a:lnTo>
                      <a:pt x="869" y="123"/>
                    </a:lnTo>
                    <a:lnTo>
                      <a:pt x="926" y="110"/>
                    </a:lnTo>
                    <a:lnTo>
                      <a:pt x="955" y="65"/>
                    </a:lnTo>
                    <a:lnTo>
                      <a:pt x="1013" y="19"/>
                    </a:lnTo>
                    <a:lnTo>
                      <a:pt x="1071" y="5"/>
                    </a:lnTo>
                    <a:lnTo>
                      <a:pt x="1107" y="4"/>
                    </a:lnTo>
                    <a:lnTo>
                      <a:pt x="1143" y="5"/>
                    </a:lnTo>
                    <a:lnTo>
                      <a:pt x="1244" y="5"/>
                    </a:lnTo>
                    <a:lnTo>
                      <a:pt x="1295" y="4"/>
                    </a:lnTo>
                    <a:lnTo>
                      <a:pt x="1323" y="4"/>
                    </a:lnTo>
                    <a:lnTo>
                      <a:pt x="1346" y="5"/>
                    </a:lnTo>
                    <a:lnTo>
                      <a:pt x="1389" y="19"/>
                    </a:lnTo>
                    <a:lnTo>
                      <a:pt x="1432" y="35"/>
                    </a:lnTo>
                    <a:lnTo>
                      <a:pt x="1446" y="80"/>
                    </a:lnTo>
                    <a:lnTo>
                      <a:pt x="1490" y="95"/>
                    </a:lnTo>
                    <a:lnTo>
                      <a:pt x="1577" y="125"/>
                    </a:lnTo>
                    <a:lnTo>
                      <a:pt x="1722" y="140"/>
                    </a:lnTo>
                    <a:lnTo>
                      <a:pt x="1779" y="141"/>
                    </a:lnTo>
                    <a:lnTo>
                      <a:pt x="1837" y="140"/>
                    </a:lnTo>
                    <a:lnTo>
                      <a:pt x="1881" y="140"/>
                    </a:lnTo>
                    <a:lnTo>
                      <a:pt x="1939" y="110"/>
                    </a:lnTo>
                    <a:lnTo>
                      <a:pt x="1982" y="65"/>
                    </a:lnTo>
                    <a:lnTo>
                      <a:pt x="2069" y="50"/>
                    </a:lnTo>
                    <a:lnTo>
                      <a:pt x="2098" y="19"/>
                    </a:lnTo>
                    <a:lnTo>
                      <a:pt x="2170" y="5"/>
                    </a:lnTo>
                    <a:lnTo>
                      <a:pt x="2238" y="4"/>
                    </a:lnTo>
                    <a:lnTo>
                      <a:pt x="2271" y="4"/>
                    </a:lnTo>
                    <a:lnTo>
                      <a:pt x="228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66200" y="4928400"/>
                <a:ext cx="3177000" cy="191880"/>
              </a:xfrm>
              <a:custGeom>
                <a:avLst/>
                <a:gdLst/>
                <a:ahLst/>
                <a:rect l="l" t="t" r="r" b="b"/>
                <a:pathLst>
                  <a:path w="2287" h="141">
                    <a:moveTo>
                      <a:pt x="0" y="135"/>
                    </a:moveTo>
                    <a:lnTo>
                      <a:pt x="144" y="135"/>
                    </a:lnTo>
                    <a:lnTo>
                      <a:pt x="275" y="135"/>
                    </a:lnTo>
                    <a:lnTo>
                      <a:pt x="310" y="136"/>
                    </a:lnTo>
                    <a:lnTo>
                      <a:pt x="355" y="139"/>
                    </a:lnTo>
                    <a:lnTo>
                      <a:pt x="398" y="140"/>
                    </a:lnTo>
                    <a:lnTo>
                      <a:pt x="434" y="135"/>
                    </a:lnTo>
                    <a:lnTo>
                      <a:pt x="478" y="105"/>
                    </a:lnTo>
                    <a:lnTo>
                      <a:pt x="506" y="60"/>
                    </a:lnTo>
                    <a:lnTo>
                      <a:pt x="550" y="15"/>
                    </a:lnTo>
                    <a:lnTo>
                      <a:pt x="568" y="12"/>
                    </a:lnTo>
                    <a:lnTo>
                      <a:pt x="592" y="12"/>
                    </a:lnTo>
                    <a:lnTo>
                      <a:pt x="637" y="15"/>
                    </a:lnTo>
                    <a:lnTo>
                      <a:pt x="723" y="15"/>
                    </a:lnTo>
                    <a:lnTo>
                      <a:pt x="771" y="15"/>
                    </a:lnTo>
                    <a:lnTo>
                      <a:pt x="792" y="15"/>
                    </a:lnTo>
                    <a:lnTo>
                      <a:pt x="810" y="15"/>
                    </a:lnTo>
                    <a:lnTo>
                      <a:pt x="869" y="17"/>
                    </a:lnTo>
                    <a:lnTo>
                      <a:pt x="926" y="30"/>
                    </a:lnTo>
                    <a:lnTo>
                      <a:pt x="955" y="76"/>
                    </a:lnTo>
                    <a:lnTo>
                      <a:pt x="1013" y="120"/>
                    </a:lnTo>
                    <a:lnTo>
                      <a:pt x="1071" y="135"/>
                    </a:lnTo>
                    <a:lnTo>
                      <a:pt x="1107" y="136"/>
                    </a:lnTo>
                    <a:lnTo>
                      <a:pt x="1143" y="135"/>
                    </a:lnTo>
                    <a:lnTo>
                      <a:pt x="1244" y="135"/>
                    </a:lnTo>
                    <a:lnTo>
                      <a:pt x="1267" y="135"/>
                    </a:lnTo>
                    <a:lnTo>
                      <a:pt x="1295" y="136"/>
                    </a:lnTo>
                    <a:lnTo>
                      <a:pt x="1323" y="136"/>
                    </a:lnTo>
                    <a:lnTo>
                      <a:pt x="1346" y="135"/>
                    </a:lnTo>
                    <a:lnTo>
                      <a:pt x="1389" y="120"/>
                    </a:lnTo>
                    <a:lnTo>
                      <a:pt x="1432" y="105"/>
                    </a:lnTo>
                    <a:lnTo>
                      <a:pt x="1446" y="60"/>
                    </a:lnTo>
                    <a:lnTo>
                      <a:pt x="1490" y="45"/>
                    </a:lnTo>
                    <a:lnTo>
                      <a:pt x="1577" y="15"/>
                    </a:lnTo>
                    <a:lnTo>
                      <a:pt x="1722" y="0"/>
                    </a:lnTo>
                    <a:lnTo>
                      <a:pt x="1779" y="0"/>
                    </a:lnTo>
                    <a:lnTo>
                      <a:pt x="1810" y="0"/>
                    </a:lnTo>
                    <a:lnTo>
                      <a:pt x="1837" y="0"/>
                    </a:lnTo>
                    <a:lnTo>
                      <a:pt x="1881" y="0"/>
                    </a:lnTo>
                    <a:lnTo>
                      <a:pt x="1939" y="30"/>
                    </a:lnTo>
                    <a:lnTo>
                      <a:pt x="1982" y="76"/>
                    </a:lnTo>
                    <a:lnTo>
                      <a:pt x="2069" y="90"/>
                    </a:lnTo>
                    <a:lnTo>
                      <a:pt x="2098" y="120"/>
                    </a:lnTo>
                    <a:lnTo>
                      <a:pt x="2170" y="135"/>
                    </a:lnTo>
                    <a:lnTo>
                      <a:pt x="2238" y="136"/>
                    </a:lnTo>
                    <a:lnTo>
                      <a:pt x="2286" y="1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90080" y="5540400"/>
                <a:ext cx="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3" name=""/>
              <p:cNvSpPr/>
              <p:nvPr/>
            </p:nvSpPr>
            <p:spPr>
              <a:xfrm>
                <a:off x="7894800" y="5540400"/>
                <a:ext cx="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4" name=""/>
              <p:cNvSpPr/>
              <p:nvPr/>
            </p:nvSpPr>
            <p:spPr>
              <a:xfrm>
                <a:off x="6466320" y="5208480"/>
                <a:ext cx="0" cy="642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33320" y="5208480"/>
                <a:ext cx="0" cy="642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03840" y="4490280"/>
                <a:ext cx="1322280" cy="511560"/>
              </a:xfrm>
              <a:prstGeom prst="rightArrow">
                <a:avLst>
                  <a:gd name="adj1" fmla="val 50000"/>
                  <a:gd name="adj2" fmla="val 12925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6480" y="4745880"/>
                <a:ext cx="1644840" cy="0"/>
              </a:xfrm>
              <a:prstGeom prst="line">
                <a:avLst/>
              </a:prstGeom>
              <a:ln w="101520">
                <a:solidFill>
                  <a:srgbClr val="ff7a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478200" y="5399280"/>
              <a:ext cx="1444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oller Eccentricity</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iodic irregularity (unevenn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eats every roller rot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velength (</a:t>
            </a:r>
            <a:r>
              <a:rPr b="1" lang="en-GB" sz="2800" spc="-1" strike="noStrike">
                <a:solidFill>
                  <a:srgbClr val="ffffff"/>
                </a:solidFill>
                <a:latin typeface="Symbol"/>
                <a:ea typeface="Symbol"/>
              </a:rPr>
              <a:t></a:t>
            </a:r>
            <a:r>
              <a:rPr b="1" lang="en-GB" sz="2800" spc="-1" strike="noStrike">
                <a:solidFill>
                  <a:srgbClr val="ffffff"/>
                </a:solidFill>
                <a:latin typeface="Arial"/>
              </a:rPr>
              <a:t>) is distance between repea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ntified by evenness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trographs</a:t>
            </a:r>
            <a:endParaRPr b="1" lang="en-US" sz="2400" spc="-1" strike="noStrike">
              <a:solidFill>
                <a:srgbClr val="ffffff"/>
              </a:solidFill>
              <a:latin typeface="Arial"/>
            </a:endParaRPr>
          </a:p>
        </p:txBody>
      </p:sp>
      <p:sp>
        <p:nvSpPr>
          <p:cNvPr id="11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loating Fibre Effect</a:t>
            </a:r>
            <a:endParaRPr b="1" lang="en-US" sz="3200" spc="-1" strike="noStrike">
              <a:solidFill>
                <a:srgbClr val="fafd00"/>
              </a:solidFill>
              <a:latin typeface="Arial"/>
            </a:endParaRPr>
          </a:p>
        </p:txBody>
      </p:sp>
      <p:sp>
        <p:nvSpPr>
          <p:cNvPr id="11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 vari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ng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ffectively controlle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er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T under positive contro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OATING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action with other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ow-moving (slow them dow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st-moving (speed them up)</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ast conta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ick spot, followed by a thin spo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 WAV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rox. 2.5x m.f.l.</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1143000" y="4572000"/>
            <a:ext cx="7988400" cy="1294920"/>
            <a:chOff x="1143000" y="4572000"/>
            <a:chExt cx="7988400" cy="1294920"/>
          </a:xfrm>
        </p:grpSpPr>
        <p:sp>
          <p:nvSpPr>
            <p:cNvPr id="118" name=""/>
            <p:cNvSpPr/>
            <p:nvPr/>
          </p:nvSpPr>
          <p:spPr>
            <a:xfrm>
              <a:off x="1713600" y="4572000"/>
              <a:ext cx="957600" cy="941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43000" y="5545800"/>
              <a:ext cx="7988400" cy="32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59680" y="4891680"/>
              <a:ext cx="4715640" cy="447480"/>
            </a:xfrm>
            <a:custGeom>
              <a:avLst/>
              <a:gdLst/>
              <a:ahLst/>
              <a:rect l="l" t="t" r="r" b="b"/>
              <a:pathLst>
                <a:path w="3339" h="323">
                  <a:moveTo>
                    <a:pt x="0" y="87"/>
                  </a:moveTo>
                  <a:lnTo>
                    <a:pt x="88" y="20"/>
                  </a:lnTo>
                  <a:lnTo>
                    <a:pt x="176" y="4"/>
                  </a:lnTo>
                  <a:lnTo>
                    <a:pt x="212" y="1"/>
                  </a:lnTo>
                  <a:lnTo>
                    <a:pt x="231" y="0"/>
                  </a:lnTo>
                  <a:lnTo>
                    <a:pt x="247" y="4"/>
                  </a:lnTo>
                  <a:lnTo>
                    <a:pt x="278" y="40"/>
                  </a:lnTo>
                  <a:lnTo>
                    <a:pt x="300" y="87"/>
                  </a:lnTo>
                  <a:lnTo>
                    <a:pt x="327" y="170"/>
                  </a:lnTo>
                  <a:lnTo>
                    <a:pt x="335" y="216"/>
                  </a:lnTo>
                  <a:lnTo>
                    <a:pt x="337" y="237"/>
                  </a:lnTo>
                  <a:lnTo>
                    <a:pt x="335" y="255"/>
                  </a:lnTo>
                  <a:lnTo>
                    <a:pt x="305" y="290"/>
                  </a:lnTo>
                  <a:lnTo>
                    <a:pt x="282" y="322"/>
                  </a:lnTo>
                  <a:lnTo>
                    <a:pt x="248" y="313"/>
                  </a:lnTo>
                  <a:lnTo>
                    <a:pt x="226" y="314"/>
                  </a:lnTo>
                  <a:lnTo>
                    <a:pt x="211" y="322"/>
                  </a:lnTo>
                  <a:lnTo>
                    <a:pt x="194" y="289"/>
                  </a:lnTo>
                  <a:lnTo>
                    <a:pt x="176" y="255"/>
                  </a:lnTo>
                  <a:lnTo>
                    <a:pt x="170" y="238"/>
                  </a:lnTo>
                  <a:lnTo>
                    <a:pt x="173" y="209"/>
                  </a:lnTo>
                  <a:lnTo>
                    <a:pt x="178" y="178"/>
                  </a:lnTo>
                  <a:lnTo>
                    <a:pt x="176" y="154"/>
                  </a:lnTo>
                  <a:lnTo>
                    <a:pt x="211" y="104"/>
                  </a:lnTo>
                  <a:lnTo>
                    <a:pt x="261" y="57"/>
                  </a:lnTo>
                  <a:lnTo>
                    <a:pt x="318" y="20"/>
                  </a:lnTo>
                  <a:lnTo>
                    <a:pt x="340" y="19"/>
                  </a:lnTo>
                  <a:lnTo>
                    <a:pt x="369" y="25"/>
                  </a:lnTo>
                  <a:lnTo>
                    <a:pt x="423" y="37"/>
                  </a:lnTo>
                  <a:lnTo>
                    <a:pt x="460" y="34"/>
                  </a:lnTo>
                  <a:lnTo>
                    <a:pt x="479" y="34"/>
                  </a:lnTo>
                  <a:lnTo>
                    <a:pt x="495" y="37"/>
                  </a:lnTo>
                  <a:lnTo>
                    <a:pt x="520" y="87"/>
                  </a:lnTo>
                  <a:lnTo>
                    <a:pt x="547" y="137"/>
                  </a:lnTo>
                  <a:lnTo>
                    <a:pt x="541" y="154"/>
                  </a:lnTo>
                  <a:lnTo>
                    <a:pt x="542" y="178"/>
                  </a:lnTo>
                  <a:lnTo>
                    <a:pt x="547" y="222"/>
                  </a:lnTo>
                  <a:lnTo>
                    <a:pt x="547" y="289"/>
                  </a:lnTo>
                  <a:lnTo>
                    <a:pt x="512" y="322"/>
                  </a:lnTo>
                  <a:lnTo>
                    <a:pt x="459" y="305"/>
                  </a:lnTo>
                  <a:lnTo>
                    <a:pt x="432" y="264"/>
                  </a:lnTo>
                  <a:lnTo>
                    <a:pt x="422" y="239"/>
                  </a:lnTo>
                  <a:lnTo>
                    <a:pt x="423" y="222"/>
                  </a:lnTo>
                  <a:lnTo>
                    <a:pt x="419" y="211"/>
                  </a:lnTo>
                  <a:lnTo>
                    <a:pt x="420" y="191"/>
                  </a:lnTo>
                  <a:lnTo>
                    <a:pt x="423" y="154"/>
                  </a:lnTo>
                  <a:lnTo>
                    <a:pt x="477" y="121"/>
                  </a:lnTo>
                  <a:lnTo>
                    <a:pt x="512" y="87"/>
                  </a:lnTo>
                  <a:lnTo>
                    <a:pt x="618" y="54"/>
                  </a:lnTo>
                  <a:lnTo>
                    <a:pt x="672" y="48"/>
                  </a:lnTo>
                  <a:lnTo>
                    <a:pt x="702" y="48"/>
                  </a:lnTo>
                  <a:lnTo>
                    <a:pt x="724" y="54"/>
                  </a:lnTo>
                  <a:lnTo>
                    <a:pt x="759" y="112"/>
                  </a:lnTo>
                  <a:lnTo>
                    <a:pt x="794" y="171"/>
                  </a:lnTo>
                  <a:lnTo>
                    <a:pt x="791" y="193"/>
                  </a:lnTo>
                  <a:lnTo>
                    <a:pt x="797" y="224"/>
                  </a:lnTo>
                  <a:lnTo>
                    <a:pt x="800" y="252"/>
                  </a:lnTo>
                  <a:lnTo>
                    <a:pt x="794" y="272"/>
                  </a:lnTo>
                  <a:lnTo>
                    <a:pt x="777" y="322"/>
                  </a:lnTo>
                  <a:lnTo>
                    <a:pt x="746" y="318"/>
                  </a:lnTo>
                  <a:lnTo>
                    <a:pt x="709" y="296"/>
                  </a:lnTo>
                  <a:lnTo>
                    <a:pt x="653" y="238"/>
                  </a:lnTo>
                  <a:lnTo>
                    <a:pt x="650" y="217"/>
                  </a:lnTo>
                  <a:lnTo>
                    <a:pt x="654" y="188"/>
                  </a:lnTo>
                  <a:lnTo>
                    <a:pt x="671" y="137"/>
                  </a:lnTo>
                  <a:lnTo>
                    <a:pt x="741" y="70"/>
                  </a:lnTo>
                  <a:lnTo>
                    <a:pt x="865" y="54"/>
                  </a:lnTo>
                  <a:lnTo>
                    <a:pt x="938" y="46"/>
                  </a:lnTo>
                  <a:lnTo>
                    <a:pt x="977" y="44"/>
                  </a:lnTo>
                  <a:lnTo>
                    <a:pt x="1007" y="54"/>
                  </a:lnTo>
                  <a:lnTo>
                    <a:pt x="1025" y="121"/>
                  </a:lnTo>
                  <a:lnTo>
                    <a:pt x="1018" y="147"/>
                  </a:lnTo>
                  <a:lnTo>
                    <a:pt x="1023" y="185"/>
                  </a:lnTo>
                  <a:lnTo>
                    <a:pt x="1028" y="220"/>
                  </a:lnTo>
                  <a:lnTo>
                    <a:pt x="1025" y="238"/>
                  </a:lnTo>
                  <a:lnTo>
                    <a:pt x="984" y="280"/>
                  </a:lnTo>
                  <a:lnTo>
                    <a:pt x="948" y="300"/>
                  </a:lnTo>
                  <a:lnTo>
                    <a:pt x="918" y="305"/>
                  </a:lnTo>
                  <a:lnTo>
                    <a:pt x="899" y="282"/>
                  </a:lnTo>
                  <a:lnTo>
                    <a:pt x="889" y="239"/>
                  </a:lnTo>
                  <a:lnTo>
                    <a:pt x="883" y="154"/>
                  </a:lnTo>
                  <a:lnTo>
                    <a:pt x="900" y="70"/>
                  </a:lnTo>
                  <a:lnTo>
                    <a:pt x="975" y="53"/>
                  </a:lnTo>
                  <a:lnTo>
                    <a:pt x="998" y="53"/>
                  </a:lnTo>
                  <a:lnTo>
                    <a:pt x="1022" y="53"/>
                  </a:lnTo>
                  <a:lnTo>
                    <a:pt x="1060" y="54"/>
                  </a:lnTo>
                  <a:lnTo>
                    <a:pt x="1113" y="50"/>
                  </a:lnTo>
                  <a:lnTo>
                    <a:pt x="1143" y="49"/>
                  </a:lnTo>
                  <a:lnTo>
                    <a:pt x="1166" y="54"/>
                  </a:lnTo>
                  <a:lnTo>
                    <a:pt x="1210" y="93"/>
                  </a:lnTo>
                  <a:lnTo>
                    <a:pt x="1254" y="137"/>
                  </a:lnTo>
                  <a:lnTo>
                    <a:pt x="1395" y="187"/>
                  </a:lnTo>
                  <a:lnTo>
                    <a:pt x="1522" y="195"/>
                  </a:lnTo>
                  <a:lnTo>
                    <a:pt x="1677" y="187"/>
                  </a:lnTo>
                  <a:lnTo>
                    <a:pt x="1832" y="177"/>
                  </a:lnTo>
                  <a:lnTo>
                    <a:pt x="1901" y="172"/>
                  </a:lnTo>
                  <a:lnTo>
                    <a:pt x="1932" y="172"/>
                  </a:lnTo>
                  <a:lnTo>
                    <a:pt x="1961" y="171"/>
                  </a:lnTo>
                  <a:lnTo>
                    <a:pt x="2014" y="171"/>
                  </a:lnTo>
                  <a:lnTo>
                    <a:pt x="2076" y="173"/>
                  </a:lnTo>
                  <a:lnTo>
                    <a:pt x="2216" y="178"/>
                  </a:lnTo>
                  <a:lnTo>
                    <a:pt x="2473" y="187"/>
                  </a:lnTo>
                  <a:lnTo>
                    <a:pt x="2986" y="189"/>
                  </a:lnTo>
                  <a:lnTo>
                    <a:pt x="3338" y="187"/>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35560" y="5050800"/>
              <a:ext cx="420840" cy="206280"/>
            </a:xfrm>
            <a:custGeom>
              <a:avLst/>
              <a:gdLst/>
              <a:ahLst/>
              <a:rect l="l" t="t" r="r" b="b"/>
              <a:pathLst>
                <a:path w="298" h="149">
                  <a:moveTo>
                    <a:pt x="0" y="0"/>
                  </a:moveTo>
                  <a:lnTo>
                    <a:pt x="297" y="72"/>
                  </a:lnTo>
                  <a:lnTo>
                    <a:pt x="1" y="148"/>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liver Elasticity Effect</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ivers are elastic over small stra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rim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entangl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or fibre orient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stick-slip”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WAV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2.5x m.f.l.</a:t>
            </a:r>
            <a:endParaRPr b="1" lang="en-US" sz="2400" spc="-1" strike="noStrike">
              <a:solidFill>
                <a:srgbClr val="ffffff"/>
              </a:solidFill>
              <a:latin typeface="Arial"/>
            </a:endParaRPr>
          </a:p>
        </p:txBody>
      </p:sp>
      <p:sp>
        <p:nvSpPr>
          <p:cNvPr id="12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deal Pressure Distribution</a:t>
            </a:r>
            <a:endParaRPr b="1" lang="en-US" sz="3200" spc="-1" strike="noStrike">
              <a:solidFill>
                <a:srgbClr val="fafd00"/>
              </a:solidFill>
              <a:latin typeface="Arial"/>
            </a:endParaRPr>
          </a:p>
        </p:txBody>
      </p:sp>
      <p:sp>
        <p:nvSpPr>
          <p:cNvPr id="12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ck rollers (B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tain pressure as long as possib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dually decrease pressure near FR</a:t>
            </a:r>
            <a:endParaRPr b="1" lang="en-US" sz="2000" spc="-1" strike="noStrike">
              <a:solidFill>
                <a:srgbClr val="ffffff"/>
              </a:solidFill>
              <a:latin typeface="Arial"/>
            </a:endParaRPr>
          </a:p>
        </p:txBody>
      </p:sp>
      <p:sp>
        <p:nvSpPr>
          <p:cNvPr id="12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nt rollers (F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concentrated pressure</a:t>
            </a:r>
            <a:endParaRPr b="1" lang="en-US" sz="2000" spc="-1" strike="noStrike">
              <a:solidFill>
                <a:srgbClr val="ffffff"/>
              </a:solidFill>
              <a:latin typeface="Arial"/>
            </a:endParaRPr>
          </a:p>
        </p:txBody>
      </p:sp>
      <p:grpSp>
        <p:nvGrpSpPr>
          <p:cNvPr id="130" name=""/>
          <p:cNvGrpSpPr/>
          <p:nvPr/>
        </p:nvGrpSpPr>
        <p:grpSpPr>
          <a:xfrm>
            <a:off x="1219320" y="3048120"/>
            <a:ext cx="7848000" cy="3036240"/>
            <a:chOff x="1219320" y="3048120"/>
            <a:chExt cx="7848000" cy="3036240"/>
          </a:xfrm>
        </p:grpSpPr>
        <p:sp>
          <p:nvSpPr>
            <p:cNvPr id="131" name=""/>
            <p:cNvSpPr/>
            <p:nvPr/>
          </p:nvSpPr>
          <p:spPr>
            <a:xfrm>
              <a:off x="1219320" y="3048120"/>
              <a:ext cx="7848000" cy="30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1349280" y="3082680"/>
              <a:ext cx="6964200" cy="2730240"/>
              <a:chOff x="1349280" y="3082680"/>
              <a:chExt cx="6964200" cy="2730240"/>
            </a:xfrm>
          </p:grpSpPr>
          <p:grpSp>
            <p:nvGrpSpPr>
              <p:cNvPr id="133" name=""/>
              <p:cNvGrpSpPr/>
              <p:nvPr/>
            </p:nvGrpSpPr>
            <p:grpSpPr>
              <a:xfrm>
                <a:off x="1349280" y="3131640"/>
                <a:ext cx="6964200" cy="2681280"/>
                <a:chOff x="1349280" y="3131640"/>
                <a:chExt cx="6964200" cy="2681280"/>
              </a:xfrm>
            </p:grpSpPr>
            <p:sp>
              <p:nvSpPr>
                <p:cNvPr id="134" name=""/>
                <p:cNvSpPr/>
                <p:nvPr/>
              </p:nvSpPr>
              <p:spPr>
                <a:xfrm>
                  <a:off x="3015360" y="32706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5" name=""/>
                <p:cNvSpPr/>
                <p:nvPr/>
              </p:nvSpPr>
              <p:spPr>
                <a:xfrm>
                  <a:off x="3015360" y="38322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6" name=""/>
                <p:cNvSpPr/>
                <p:nvPr/>
              </p:nvSpPr>
              <p:spPr>
                <a:xfrm>
                  <a:off x="3015360" y="3971520"/>
                  <a:ext cx="144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37" name=""/>
                <p:cNvSpPr/>
                <p:nvPr/>
              </p:nvSpPr>
              <p:spPr>
                <a:xfrm>
                  <a:off x="3015360" y="523404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8" name=""/>
                <p:cNvSpPr/>
                <p:nvPr/>
              </p:nvSpPr>
              <p:spPr>
                <a:xfrm>
                  <a:off x="7488360" y="313164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9" name=""/>
                <p:cNvSpPr/>
                <p:nvPr/>
              </p:nvSpPr>
              <p:spPr>
                <a:xfrm>
                  <a:off x="7488360" y="32706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0" name=""/>
                <p:cNvSpPr/>
                <p:nvPr/>
              </p:nvSpPr>
              <p:spPr>
                <a:xfrm>
                  <a:off x="2192400" y="5538240"/>
                  <a:ext cx="134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ck roll nip</a:t>
                  </a:r>
                  <a:endParaRPr b="0" lang="en-US" sz="1800" spc="-1" strike="noStrike">
                    <a:solidFill>
                      <a:srgbClr val="000000"/>
                    </a:solidFill>
                    <a:latin typeface="Times New Roman"/>
                  </a:endParaRPr>
                </a:p>
              </p:txBody>
            </p:sp>
            <p:sp>
              <p:nvSpPr>
                <p:cNvPr id="141" name=""/>
                <p:cNvSpPr/>
                <p:nvPr/>
              </p:nvSpPr>
              <p:spPr>
                <a:xfrm>
                  <a:off x="6962400" y="5538240"/>
                  <a:ext cx="135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nt roll nip</a:t>
                  </a:r>
                  <a:endParaRPr b="0" lang="en-US" sz="1800" spc="-1" strike="noStrike">
                    <a:solidFill>
                      <a:srgbClr val="000000"/>
                    </a:solidFill>
                    <a:latin typeface="Times New Roman"/>
                  </a:endParaRPr>
                </a:p>
              </p:txBody>
            </p:sp>
            <p:sp>
              <p:nvSpPr>
                <p:cNvPr id="142" name=""/>
                <p:cNvSpPr/>
                <p:nvPr/>
              </p:nvSpPr>
              <p:spPr>
                <a:xfrm>
                  <a:off x="1349280" y="3197880"/>
                  <a:ext cx="6749640" cy="2325960"/>
                </a:xfrm>
                <a:custGeom>
                  <a:avLst/>
                  <a:gdLst/>
                  <a:ahLst/>
                  <a:rect l="l" t="t" r="r" b="b"/>
                  <a:pathLst>
                    <a:path w="3626" h="803">
                      <a:moveTo>
                        <a:pt x="0" y="791"/>
                      </a:moveTo>
                      <a:lnTo>
                        <a:pt x="108" y="586"/>
                      </a:lnTo>
                      <a:lnTo>
                        <a:pt x="226" y="435"/>
                      </a:lnTo>
                      <a:lnTo>
                        <a:pt x="293" y="366"/>
                      </a:lnTo>
                      <a:lnTo>
                        <a:pt x="367" y="305"/>
                      </a:lnTo>
                      <a:lnTo>
                        <a:pt x="440" y="280"/>
                      </a:lnTo>
                      <a:lnTo>
                        <a:pt x="518" y="262"/>
                      </a:lnTo>
                      <a:lnTo>
                        <a:pt x="658" y="241"/>
                      </a:lnTo>
                      <a:lnTo>
                        <a:pt x="739" y="239"/>
                      </a:lnTo>
                      <a:lnTo>
                        <a:pt x="761" y="239"/>
                      </a:lnTo>
                      <a:lnTo>
                        <a:pt x="783" y="239"/>
                      </a:lnTo>
                      <a:lnTo>
                        <a:pt x="820" y="241"/>
                      </a:lnTo>
                      <a:lnTo>
                        <a:pt x="981" y="252"/>
                      </a:lnTo>
                      <a:lnTo>
                        <a:pt x="1122" y="305"/>
                      </a:lnTo>
                      <a:lnTo>
                        <a:pt x="1208" y="381"/>
                      </a:lnTo>
                      <a:lnTo>
                        <a:pt x="1327" y="478"/>
                      </a:lnTo>
                      <a:lnTo>
                        <a:pt x="1499" y="543"/>
                      </a:lnTo>
                      <a:lnTo>
                        <a:pt x="1737" y="597"/>
                      </a:lnTo>
                      <a:lnTo>
                        <a:pt x="1953" y="651"/>
                      </a:lnTo>
                      <a:lnTo>
                        <a:pt x="2158" y="705"/>
                      </a:lnTo>
                      <a:lnTo>
                        <a:pt x="2341" y="716"/>
                      </a:lnTo>
                      <a:lnTo>
                        <a:pt x="2568" y="770"/>
                      </a:lnTo>
                      <a:lnTo>
                        <a:pt x="2740" y="780"/>
                      </a:lnTo>
                      <a:lnTo>
                        <a:pt x="2832" y="787"/>
                      </a:lnTo>
                      <a:lnTo>
                        <a:pt x="2881" y="790"/>
                      </a:lnTo>
                      <a:lnTo>
                        <a:pt x="2904" y="790"/>
                      </a:lnTo>
                      <a:lnTo>
                        <a:pt x="2924" y="791"/>
                      </a:lnTo>
                      <a:lnTo>
                        <a:pt x="2988" y="780"/>
                      </a:lnTo>
                      <a:lnTo>
                        <a:pt x="3014" y="741"/>
                      </a:lnTo>
                      <a:lnTo>
                        <a:pt x="3032" y="694"/>
                      </a:lnTo>
                      <a:lnTo>
                        <a:pt x="3064" y="576"/>
                      </a:lnTo>
                      <a:lnTo>
                        <a:pt x="3107" y="446"/>
                      </a:lnTo>
                      <a:lnTo>
                        <a:pt x="3128" y="284"/>
                      </a:lnTo>
                      <a:lnTo>
                        <a:pt x="3150" y="176"/>
                      </a:lnTo>
                      <a:lnTo>
                        <a:pt x="3183" y="68"/>
                      </a:lnTo>
                      <a:lnTo>
                        <a:pt x="3226" y="14"/>
                      </a:lnTo>
                      <a:lnTo>
                        <a:pt x="3312" y="3"/>
                      </a:lnTo>
                      <a:lnTo>
                        <a:pt x="3345" y="0"/>
                      </a:lnTo>
                      <a:lnTo>
                        <a:pt x="3362" y="0"/>
                      </a:lnTo>
                      <a:lnTo>
                        <a:pt x="3377" y="3"/>
                      </a:lnTo>
                      <a:lnTo>
                        <a:pt x="3420" y="46"/>
                      </a:lnTo>
                      <a:lnTo>
                        <a:pt x="3452" y="111"/>
                      </a:lnTo>
                      <a:lnTo>
                        <a:pt x="3463" y="219"/>
                      </a:lnTo>
                      <a:lnTo>
                        <a:pt x="3484" y="337"/>
                      </a:lnTo>
                      <a:lnTo>
                        <a:pt x="3496" y="467"/>
                      </a:lnTo>
                      <a:lnTo>
                        <a:pt x="3539" y="597"/>
                      </a:lnTo>
                      <a:lnTo>
                        <a:pt x="3560" y="705"/>
                      </a:lnTo>
                      <a:lnTo>
                        <a:pt x="3581" y="758"/>
                      </a:lnTo>
                      <a:lnTo>
                        <a:pt x="3614" y="802"/>
                      </a:lnTo>
                      <a:lnTo>
                        <a:pt x="3625" y="80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80160" y="3965760"/>
                  <a:ext cx="1656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4" name=""/>
                <p:cNvSpPr/>
                <p:nvPr/>
              </p:nvSpPr>
              <p:spPr>
                <a:xfrm>
                  <a:off x="4382640" y="37602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al</a:t>
                  </a:r>
                  <a:endParaRPr b="0" lang="en-US" sz="2400" spc="-1" strike="noStrike">
                    <a:solidFill>
                      <a:srgbClr val="000000"/>
                    </a:solidFill>
                    <a:latin typeface="Times New Roman"/>
                  </a:endParaRPr>
                </a:p>
              </p:txBody>
            </p:sp>
            <p:sp>
              <p:nvSpPr>
                <p:cNvPr id="145" name=""/>
                <p:cNvSpPr/>
                <p:nvPr/>
              </p:nvSpPr>
              <p:spPr>
                <a:xfrm>
                  <a:off x="4564800" y="542844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a:t>
                  </a:r>
                  <a:endParaRPr b="0" lang="en-US" sz="2400" spc="-1" strike="noStrike">
                    <a:solidFill>
                      <a:srgbClr val="000000"/>
                    </a:solidFill>
                    <a:latin typeface="Times New Roman"/>
                  </a:endParaRPr>
                </a:p>
              </p:txBody>
            </p:sp>
            <p:sp>
              <p:nvSpPr>
                <p:cNvPr id="146" name=""/>
                <p:cNvSpPr/>
                <p:nvPr/>
              </p:nvSpPr>
              <p:spPr>
                <a:xfrm flipH="1">
                  <a:off x="3921480" y="4278240"/>
                  <a:ext cx="461160" cy="20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19680" y="4333680"/>
                  <a:ext cx="212040" cy="199440"/>
                </a:xfrm>
                <a:custGeom>
                  <a:avLst/>
                  <a:gdLst/>
                  <a:ahLst/>
                  <a:rect l="l" t="t" r="r" b="b"/>
                  <a:pathLst>
                    <a:path w="114" h="69">
                      <a:moveTo>
                        <a:pt x="113" y="51"/>
                      </a:moveTo>
                      <a:lnTo>
                        <a:pt x="0" y="68"/>
                      </a:lnTo>
                      <a:lnTo>
                        <a:pt x="91" y="0"/>
                      </a:lnTo>
                      <a:lnTo>
                        <a:pt x="113" y="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2998440" y="3221640"/>
                <a:ext cx="0" cy="240948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66400" y="3082680"/>
                <a:ext cx="0" cy="241020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87720" y="4009680"/>
                <a:ext cx="2682000" cy="1411200"/>
              </a:xfrm>
              <a:custGeom>
                <a:avLst/>
                <a:gdLst/>
                <a:ahLst/>
                <a:rect l="l" t="t" r="r" b="b"/>
                <a:pathLst>
                  <a:path w="1441" h="487">
                    <a:moveTo>
                      <a:pt x="0" y="0"/>
                    </a:moveTo>
                    <a:lnTo>
                      <a:pt x="9" y="51"/>
                    </a:lnTo>
                    <a:lnTo>
                      <a:pt x="54" y="111"/>
                    </a:lnTo>
                    <a:lnTo>
                      <a:pt x="84" y="171"/>
                    </a:lnTo>
                    <a:lnTo>
                      <a:pt x="99" y="216"/>
                    </a:lnTo>
                    <a:lnTo>
                      <a:pt x="99" y="261"/>
                    </a:lnTo>
                    <a:lnTo>
                      <a:pt x="99" y="306"/>
                    </a:lnTo>
                    <a:lnTo>
                      <a:pt x="144" y="321"/>
                    </a:lnTo>
                    <a:lnTo>
                      <a:pt x="189" y="366"/>
                    </a:lnTo>
                    <a:lnTo>
                      <a:pt x="234" y="366"/>
                    </a:lnTo>
                    <a:lnTo>
                      <a:pt x="279" y="366"/>
                    </a:lnTo>
                    <a:lnTo>
                      <a:pt x="324" y="366"/>
                    </a:lnTo>
                    <a:lnTo>
                      <a:pt x="369" y="381"/>
                    </a:lnTo>
                    <a:lnTo>
                      <a:pt x="414" y="396"/>
                    </a:lnTo>
                    <a:lnTo>
                      <a:pt x="459" y="411"/>
                    </a:lnTo>
                    <a:lnTo>
                      <a:pt x="504" y="426"/>
                    </a:lnTo>
                    <a:lnTo>
                      <a:pt x="549" y="441"/>
                    </a:lnTo>
                    <a:lnTo>
                      <a:pt x="594" y="441"/>
                    </a:lnTo>
                    <a:lnTo>
                      <a:pt x="639" y="456"/>
                    </a:lnTo>
                    <a:lnTo>
                      <a:pt x="684" y="471"/>
                    </a:lnTo>
                    <a:lnTo>
                      <a:pt x="729" y="486"/>
                    </a:lnTo>
                    <a:lnTo>
                      <a:pt x="774" y="486"/>
                    </a:lnTo>
                    <a:lnTo>
                      <a:pt x="819" y="486"/>
                    </a:lnTo>
                    <a:lnTo>
                      <a:pt x="879" y="486"/>
                    </a:lnTo>
                    <a:lnTo>
                      <a:pt x="924" y="486"/>
                    </a:lnTo>
                    <a:lnTo>
                      <a:pt x="969" y="486"/>
                    </a:lnTo>
                    <a:lnTo>
                      <a:pt x="1014" y="486"/>
                    </a:lnTo>
                    <a:lnTo>
                      <a:pt x="1059" y="486"/>
                    </a:lnTo>
                    <a:lnTo>
                      <a:pt x="1104" y="486"/>
                    </a:lnTo>
                    <a:lnTo>
                      <a:pt x="1149" y="486"/>
                    </a:lnTo>
                    <a:lnTo>
                      <a:pt x="1194" y="486"/>
                    </a:lnTo>
                    <a:lnTo>
                      <a:pt x="1239" y="486"/>
                    </a:lnTo>
                    <a:lnTo>
                      <a:pt x="1284" y="486"/>
                    </a:lnTo>
                    <a:lnTo>
                      <a:pt x="1329" y="486"/>
                    </a:lnTo>
                    <a:lnTo>
                      <a:pt x="1374" y="486"/>
                    </a:lnTo>
                    <a:lnTo>
                      <a:pt x="1419" y="486"/>
                    </a:lnTo>
                    <a:lnTo>
                      <a:pt x="1440" y="480"/>
                    </a:lnTo>
                    <a:lnTo>
                      <a:pt x="1440" y="480"/>
                    </a:lnTo>
                  </a:path>
                </a:pathLst>
              </a:custGeom>
              <a:noFill/>
              <a:ln cap="rnd" w="50760">
                <a:solidFill>
                  <a:srgbClr val="fc0128"/>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0:17:08Z</dcterms:created>
  <dc:creator>USER</dc:creator>
  <dc:description/>
  <dc:language>en-US</dc:language>
  <cp:lastModifiedBy>Hdaily</cp:lastModifiedBy>
  <cp:lastPrinted>2000-02-03T09:09:47Z</cp:lastPrinted>
  <dcterms:modified xsi:type="dcterms:W3CDTF">2000-03-15T22:40:44Z</dcterms:modified>
  <cp:revision>3</cp:revision>
  <dc:subject/>
  <dc:title>Drafting Principles</dc:title>
</cp:coreProperties>
</file>