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A933-6FD5-41AD-8436-ED5DCCDDD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is included as a “snapshot” of some other fibres that compete against wool.  It is not intended to be a complete list, just a quick look at some information on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upo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olmax™ is a specially profiled nylon fibre developed by Dupont.  It has been rated as the fastest drying fibre, interestingly not against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four channel profile of the fibre is designed to increase the “wicking” behaviour of the fibre, and pull moisture away from the body as it sw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other competing fibre in the active wear market is marketed as Thermolactyl™ by Damart, a French company founded in 185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molactyl™ was developed in the 1950’s, and is most likely to be a textured nylon fibre, although this wasn’t clear from the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ts are claimed to be cold and damp-proof because of barrier and moisture transmission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 interesting feature of this fibre is the claim that it generates warmth through the device of static electricity, or charge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with Coolmax™, the drying time of this fibre is promoted, but again it is not compared to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molactyl™ is claimed to conserve more heat than either wool or co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Competing Fibres on the Interne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Peter Auer, The University of New South W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CoolMax</a:t>
            </a:r>
            <a:r>
              <a:rPr b="1" lang="en-AU" sz="32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astest d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ot rated against w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ulls sweat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signed to brea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coolmax_fabric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19920" y="914400"/>
            <a:ext cx="282420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detail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371600" y="2971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1440" y="6400800"/>
            <a:ext cx="230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upo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How Thermolactyl Work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5" name="thermo1zoom" descr=""/>
          <p:cNvPicPr/>
          <p:nvPr/>
        </p:nvPicPr>
        <p:blipFill>
          <a:blip r:embed="rId1"/>
          <a:srcRect l="0" t="19917" r="0" b="0"/>
          <a:stretch/>
        </p:blipFill>
        <p:spPr>
          <a:xfrm>
            <a:off x="1905120" y="785880"/>
            <a:ext cx="6629400" cy="531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70280" y="632448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boelectricity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960" y="635472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odium" descr=""/>
          <p:cNvPicPr/>
          <p:nvPr/>
        </p:nvPicPr>
        <p:blipFill>
          <a:blip r:embed="rId1"/>
          <a:stretch/>
        </p:blipFill>
        <p:spPr>
          <a:xfrm>
            <a:off x="1905120" y="212760"/>
            <a:ext cx="6248160" cy="595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7640" y="632448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sist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6476760" cy="589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93960" y="632448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3:55:12Z</dcterms:created>
  <dc:creator>USER</dc:creator>
  <dc:description/>
  <dc:language>en-US</dc:language>
  <cp:lastModifiedBy>Hdaily</cp:lastModifiedBy>
  <cp:lastPrinted>2000-02-03T09:09:47Z</cp:lastPrinted>
  <dcterms:modified xsi:type="dcterms:W3CDTF">2000-05-12T04:16:32Z</dcterms:modified>
  <cp:revision>2</cp:revision>
  <dc:subject/>
  <dc:title>Competing Fibres on the Internet</dc:title>
</cp:coreProperties>
</file>