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6EE7-E0F8-4625-910B-61F775A76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562040" y="533520"/>
            <a:ext cx="3657600" cy="2743200"/>
          </a:xfrm>
          <a:prstGeom prst="rect">
            <a:avLst/>
          </a:prstGeom>
          <a:ln w="0">
            <a:noFill/>
          </a:ln>
        </p:spPr>
      </p:sp>
      <p:sp>
        <p:nvSpPr>
          <p:cNvPr id="2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 general overview of scouring systems.  It examines the general features of scouring systems, and gives examples of a number of ways these features are embodied in modern scours.  The variables available to the modern scourer are also discussed in some det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562040" y="533520"/>
            <a:ext cx="3657600" cy="2743200"/>
          </a:xfrm>
          <a:prstGeom prst="rect">
            <a:avLst/>
          </a:prstGeom>
          <a:ln w="0">
            <a:noFill/>
          </a:ln>
        </p:spPr>
      </p:sp>
      <p:sp>
        <p:nvSpPr>
          <p:cNvPr id="2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main features of a scouring systems are listed in this slide.  The scour medium may be water which would define the systems as an aqueous scouring system.  Alternatively the scour medium may be an organic solvent which would make the system a solvent scouring syste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scour medium initially achieves the function of wetting the fibre.  The surface of the wool fibre is naturally hydrophobic, even though wool can absorb up to 40% of its own weight without feeling wet.  The opened wool needs to be "wet out" before it can be effectively scoured.  In some systems this is accomplished in a separate section of the scour.  Once the wool is wet the various additives in the wool liquor can act to remove the contaminan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solvent scouring system will still wet the fibres since there is usually an aqueous phase included in these systems.  Generally the solvent acts to dissolve the wool wax, not to clean the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cour vessels are essential to contain the scour medium and additives (referred to as the scour liquor) and the wool being cleaned. </a:t>
            </a:r>
            <a:r>
              <a:rPr b="0" lang="en-AU" sz="1100" spc="-1" strike="noStrike">
                <a:solidFill>
                  <a:srgbClr val="000000"/>
                </a:solidFill>
                <a:latin typeface="Courier-WP"/>
              </a:rPr>
              <a:t>A scouring bowl can perform </a:t>
            </a:r>
            <a:r>
              <a:rPr b="1" lang="en-AU" sz="1100" spc="-1" strike="noStrike">
                <a:solidFill>
                  <a:srgbClr val="000000"/>
                </a:solidFill>
                <a:latin typeface="Courier-WP"/>
              </a:rPr>
              <a:t>three</a:t>
            </a:r>
            <a:r>
              <a:rPr b="0" lang="en-AU" sz="1100" spc="-1" strike="noStrike">
                <a:solidFill>
                  <a:srgbClr val="000000"/>
                </a:solidFill>
                <a:latin typeface="Courier-WP"/>
              </a:rPr>
              <a:t> functions: </a:t>
            </a:r>
            <a:r>
              <a:rPr b="1" lang="en-AU" sz="1100" spc="-1" strike="noStrike">
                <a:solidFill>
                  <a:srgbClr val="000000"/>
                </a:solidFill>
                <a:latin typeface="Courier-WP"/>
              </a:rPr>
              <a:t>desuinting</a:t>
            </a:r>
            <a:r>
              <a:rPr b="0" lang="en-AU" sz="1100" spc="-1" strike="noStrike">
                <a:solidFill>
                  <a:srgbClr val="000000"/>
                </a:solidFill>
                <a:latin typeface="Courier-WP"/>
              </a:rPr>
              <a:t>, </a:t>
            </a:r>
            <a:r>
              <a:rPr b="1" lang="en-AU" sz="1100" spc="-1" strike="noStrike">
                <a:solidFill>
                  <a:srgbClr val="000000"/>
                </a:solidFill>
                <a:latin typeface="Courier-WP"/>
              </a:rPr>
              <a:t>scouring</a:t>
            </a:r>
            <a:r>
              <a:rPr b="0" lang="en-AU" sz="1100" spc="-1" strike="noStrike">
                <a:solidFill>
                  <a:srgbClr val="000000"/>
                </a:solidFill>
                <a:latin typeface="Courier-WP"/>
              </a:rPr>
              <a:t> or </a:t>
            </a:r>
            <a:r>
              <a:rPr b="1" lang="en-AU" sz="1100" spc="-1" strike="noStrike">
                <a:solidFill>
                  <a:srgbClr val="000000"/>
                </a:solidFill>
                <a:latin typeface="Courier-WP"/>
              </a:rPr>
              <a:t>rinsing</a:t>
            </a:r>
            <a:r>
              <a:rPr b="0" lang="en-AU" sz="1100" spc="-1" strike="noStrike">
                <a:solidFill>
                  <a:srgbClr val="000000"/>
                </a:solidFill>
                <a:latin typeface="Courier-WP"/>
              </a:rPr>
              <a:t>.  A desuinting bowl removes most of the water-soluble contaminants, as well as some dirt.  A scouring bowl which contains detergent removes contaminants partly by the actions of dissolving and emulsification.  The rinsing bowl is designed to remove contaminants which have been displaced by the scouring liquor, along with more particulate matter.  No detergent is added to the rinsing bow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wool must be transported through the scour by some means.  Care is taken transporting the wool through the scour since this adds to the amount of agitation the wool experiences.  This can be achieved through the use of rakes or drums, and generally some sort of conveyor belt is used to transport the wool between scour bowl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most cases the liquor impregnated wool is squeezed through compressible rollers.  This is where the most mechanical action is applied to achieve the removal of contaminants from the wool.  It is a vital action which prevents the transfer of contaminants between scour bowls.  This is a point where the action of the rollers can add to the amount of entanglement experienced by the wool.</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ourier-WP"/>
              </a:rPr>
              <a:t>The principle of counter-current flow is used in most modern scours.  This flow, which sees the scour liquor from the last bowl going to the first bowl aids the removal of contaminants, as well as keeping the scour running longer before the scour liquor</a:t>
            </a:r>
            <a:r>
              <a:rPr b="1" lang="en-AU" sz="1100" spc="-1" strike="noStrike">
                <a:solidFill>
                  <a:srgbClr val="000000"/>
                </a:solidFill>
                <a:latin typeface="Courier-WP"/>
              </a:rPr>
              <a:t> </a:t>
            </a:r>
            <a:r>
              <a:rPr b="0" lang="en-AU" sz="1100" spc="-1" strike="noStrike">
                <a:solidFill>
                  <a:srgbClr val="000000"/>
                </a:solidFill>
                <a:latin typeface="Courier-WP"/>
              </a:rPr>
              <a:t>has to be changed in the bow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562040" y="533520"/>
            <a:ext cx="3657600" cy="2743200"/>
          </a:xfrm>
          <a:prstGeom prst="rect">
            <a:avLst/>
          </a:prstGeom>
          <a:ln w="0">
            <a:noFill/>
          </a:ln>
        </p:spPr>
      </p:sp>
      <p:sp>
        <p:nvSpPr>
          <p:cNvPr id="2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scour has a number of ancillary featu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couring is a semi-continuous operation with fairly long runs of up to 100 tonnes with many bales of wool involved.  The wool in these bales needs to be opened or separated, and strictly speaking, opening is a pre-scour operation.  Whereas wool from a farm pack is not dense enough to be a problem, the use of export tri-packs means that the wool usually arrives at the scour in a compressed form.  The wool needs to be opened before it can be scour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number of machines exist to open the wool by usually softening the wool using steam.  It is of note that a prolonged storage time may cause further oxidation of the wool wax, making opening more difficult.  This may have implications for contaminant remova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t the opening stage there is an opportunity to blend the lots in a consignment.  The bales may be opened and placed in an Accumulator whereby the entire consignment is blended before entering the scour. Another method of lot blending is for the scouring of bales in a pre-determined sequenc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lternatively blending may occur after the drying process. In some cases the production from the entire consignment is layered back and forth in an Accumulator.  Subsequently, wool is removed from the Accumulator from top to bottom, resulting in further blend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wool must be dried and returned to a suitable regain before further processing.  The level of regain  appears to have little to do with the Hauteur (average fibre length) of subsequent tops, but rather more to do with the quantity and type of the VM remaining in the sliver after carding.  Therefore the regain is generally around 10-14% for minimum residual VM, but should be lower if burr is a proble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rying is an expensive operation and on-line regain monitoring is usual.  In this way the regain can be controlled by dryer variation or scour feed rate vari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costs of water and solvent are significant in scouring.  The efficiency of the recovery cycle is critical especially for solvent systems with the inherent dangers of that scour medium in terms of health and safet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s concern for the environmental effects of industry has grown, so has the importance of effluent minimisation.  The recent increase in scouring activity in Australia is partly a result of the cost of effluent control and disposal in other parts of the world.</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562040" y="533520"/>
            <a:ext cx="3657600" cy="2743200"/>
          </a:xfrm>
          <a:prstGeom prst="rect">
            <a:avLst/>
          </a:prstGeom>
          <a:ln w="0">
            <a:noFill/>
          </a:ln>
        </p:spPr>
      </p:sp>
      <p:sp>
        <p:nvSpPr>
          <p:cNvPr id="2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are a number of variables that can be used to achieve the aim of cleaning the wool fibre in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Nonionic surfactants</a:t>
            </a:r>
            <a:r>
              <a:rPr b="0" lang="en-AU" sz="1100" spc="-1" strike="noStrike">
                <a:solidFill>
                  <a:srgbClr val="000000"/>
                </a:solidFill>
                <a:latin typeface="Times New Roman"/>
              </a:rPr>
              <a:t> are now the standard for scouring, having been introduced in 1950's.  In Australia the most commonly used detergent is the ICI product Lissapol TN450. This is a condensate of nonyl phenol with 8.5 moles of ethylene oxide.  This particular chemical has proved the most cost effective over many years.  Recent usage of a more environmentally friendly surfactant, Softinol, has increas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Builders</a:t>
            </a:r>
            <a:r>
              <a:rPr b="0" lang="en-AU" sz="1100" spc="-1" strike="noStrike">
                <a:solidFill>
                  <a:srgbClr val="000000"/>
                </a:solidFill>
                <a:latin typeface="Times New Roman"/>
              </a:rPr>
              <a:t> are additives employed to increase the efficiency of the detergent.  They are usually inorganic salts such as sodium sulphate or sodium carbonate (soda ash).  Soda ash has been shown to be more effective since it leads to alkaline conditions.  Suint is also a source of inorganic ions and therefore can act as a builder.  Inorganic ions can also have an effect on surfactant efficienc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or the nonionic detergent used, a temperature of 65-70</a:t>
            </a:r>
            <a:r>
              <a:rPr b="0" lang="en-AU" sz="1100" spc="-1" strike="noStrike" baseline="30000">
                <a:solidFill>
                  <a:srgbClr val="000000"/>
                </a:solidFill>
                <a:latin typeface="Times New Roman"/>
              </a:rPr>
              <a:t>°</a:t>
            </a:r>
            <a:r>
              <a:rPr b="0" lang="en-AU" sz="1100" spc="-1" strike="noStrike">
                <a:solidFill>
                  <a:srgbClr val="000000"/>
                </a:solidFill>
                <a:latin typeface="Times New Roman"/>
              </a:rPr>
              <a:t>C would be recommended for the first </a:t>
            </a:r>
            <a:r>
              <a:rPr b="1" lang="en-AU" sz="1100" spc="-1" strike="noStrike">
                <a:solidFill>
                  <a:srgbClr val="000000"/>
                </a:solidFill>
                <a:latin typeface="Times New Roman"/>
              </a:rPr>
              <a:t>scour</a:t>
            </a:r>
            <a:r>
              <a:rPr b="0" lang="en-AU" sz="1100" spc="-1" strike="noStrike">
                <a:solidFill>
                  <a:srgbClr val="000000"/>
                </a:solidFill>
                <a:latin typeface="Times New Roman"/>
              </a:rPr>
              <a:t> bowl, decreasing by about 1-2</a:t>
            </a:r>
            <a:r>
              <a:rPr b="0" lang="en-AU" sz="1100" spc="-1" strike="noStrike" baseline="30000">
                <a:solidFill>
                  <a:srgbClr val="000000"/>
                </a:solidFill>
                <a:latin typeface="Times New Roman"/>
              </a:rPr>
              <a:t>°</a:t>
            </a:r>
            <a:r>
              <a:rPr b="0" lang="en-AU" sz="1100" spc="-1" strike="noStrike">
                <a:solidFill>
                  <a:srgbClr val="000000"/>
                </a:solidFill>
                <a:latin typeface="Times New Roman"/>
              </a:rPr>
              <a:t>C for each succeeding scour bowl.  Too high a temperature can lead to wool damage, while too low a temperature results in poor scouring and poor squeezing efficienc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inse bowls should be warm (40-50</a:t>
            </a:r>
            <a:r>
              <a:rPr b="0" lang="en-AU" sz="1100" spc="-1" strike="noStrike" baseline="30000">
                <a:solidFill>
                  <a:srgbClr val="000000"/>
                </a:solidFill>
                <a:latin typeface="Times New Roman"/>
              </a:rPr>
              <a:t>°</a:t>
            </a:r>
            <a:r>
              <a:rPr b="0" lang="en-AU" sz="1100" spc="-1" strike="noStrike">
                <a:solidFill>
                  <a:srgbClr val="000000"/>
                </a:solidFill>
                <a:latin typeface="Times New Roman"/>
              </a:rPr>
              <a:t>C) to improve the removal of contaminants and increase the squeezing efficienc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Old scouring methods using soap and soda ash were affected by water hardness caused by the presence of Mg</a:t>
            </a:r>
            <a:r>
              <a:rPr b="0" lang="en-AU" sz="1100" spc="-1" strike="noStrike" baseline="30000">
                <a:solidFill>
                  <a:srgbClr val="000000"/>
                </a:solidFill>
                <a:latin typeface="Times New Roman"/>
              </a:rPr>
              <a:t>2+</a:t>
            </a:r>
            <a:r>
              <a:rPr b="0" lang="en-AU" sz="1100" spc="-1" strike="noStrike">
                <a:solidFill>
                  <a:srgbClr val="000000"/>
                </a:solidFill>
                <a:latin typeface="Times New Roman"/>
              </a:rPr>
              <a:t> and Ca</a:t>
            </a:r>
            <a:r>
              <a:rPr b="0" lang="en-AU" sz="1100" spc="-1" strike="noStrike" baseline="30000">
                <a:solidFill>
                  <a:srgbClr val="000000"/>
                </a:solidFill>
                <a:latin typeface="Times New Roman"/>
              </a:rPr>
              <a:t>2+</a:t>
            </a:r>
            <a:r>
              <a:rPr b="0" lang="en-AU" sz="1100" spc="-1" strike="noStrike">
                <a:solidFill>
                  <a:srgbClr val="000000"/>
                </a:solidFill>
                <a:latin typeface="Times New Roman"/>
              </a:rPr>
              <a:t>.  These multi-valent (charged) ions can lead to the redeposition of scoured contaminants, however this should not be a problem when using a nonionic surfactant.  The presence of Fe</a:t>
            </a:r>
            <a:r>
              <a:rPr b="0" lang="en-AU" sz="1100" spc="-1" strike="noStrike" baseline="30000">
                <a:solidFill>
                  <a:srgbClr val="000000"/>
                </a:solidFill>
                <a:latin typeface="Times New Roman"/>
              </a:rPr>
              <a:t>3+</a:t>
            </a:r>
            <a:r>
              <a:rPr b="0" lang="en-AU" sz="1100" spc="-1" strike="noStrike">
                <a:solidFill>
                  <a:srgbClr val="000000"/>
                </a:solidFill>
                <a:latin typeface="Times New Roman"/>
              </a:rPr>
              <a:t> can also lead to later problems in dye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eed rate variation can be used to control the regain of the scoured wool.  Other physical variables such as the wool mat thickness, wool transport mechanisms, squeeze roll pressure and relative speeds of rollers are also available.  Developments in these areas may lead to even better controls of scouring in the futu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following slide looks at some of the features of a scour bowl.  The slide after that introduces the concept of multi-stage scouring, which is a feature of the module on “Siroscour” technology, but demonstrates in this context  how the function of scour bowls can vary.</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9C6B-D4F3-4643-9469-1C1ADDAFE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p:nvPr/>
        </p:nvSpPr>
        <p:spPr>
          <a:xfrm>
            <a:off x="3884760" y="7920"/>
            <a:ext cx="29732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0" y="792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sldImg"/>
          </p:nvPr>
        </p:nvSpPr>
        <p:spPr>
          <a:xfrm>
            <a:off x="1562040" y="533520"/>
            <a:ext cx="3657600" cy="2743200"/>
          </a:xfrm>
          <a:prstGeom prst="rect">
            <a:avLst/>
          </a:prstGeom>
          <a:ln w="0">
            <a:noFill/>
          </a:ln>
        </p:spPr>
      </p:sp>
      <p:sp>
        <p:nvSpPr>
          <p:cNvPr id="2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urce: “Fibre Entanglement in Scouring” lecture given by Dr. Jock Christoe in the Wool CRC undergraduate progra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 is transported between bowls by an interstage conveyor.  It is pushed into the bowl by the recirculating scouring liquor being pumped into the bowl through the spray box.</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Dunkers are used to wet out and submerge the wool as it enters a bowl.  In some scours they may be positioned along the bowl to improve the scouring action.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four methods used to transport wool through a bowl, namely swing rakes, harrows, triple-crank rakes and suction-drums.  The last of these systems was developed by Fleissner GMB.  In this system the wool mat essentially “floats” across the water before being sucked onto perforated suction-drums.  The other transport systems use pins or tines to push the wool through the scouring liquor.  One could argue that they are simply the mechanisation of the actions of pitchforks that were used in the early scouring systems. The swing rake has a very severe action that most closely resembles the action of a pitch fork.  Most modern scouring lines use triple-crank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t the end of a bowl the wool is pushed up an incline of the false bottom until it reaches the breast from which it descends to the nip of the squeezing rollers.  Some scourers believe that the water level in the bowl needs to be adjusted so that the flow of the scouring liquor over the breast carries the wool with it.  Others believe that the level should be adjusted so that the wool flowing down the incline to the nip of the squeezing rollers should contain as little water as possible.  The mechanical system for transferring the wool over the breast is essentially that of repetitively pushing the wool as a mat for some time until it topples over and down into the nip.</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ost scouring lines have a separate mechanical system to the main rakes for transferring the wool from the bowl to the squeezing rollers. These include Belgian lifts, swing rakes, head rakes and extensions to the main rakes (this was common with harrows in which the tines were progressively shortened to allow the wool to be pushed up the incline of the false bottom).</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ourier-WP"/>
              </a:rPr>
              <a:t>Bowls can have a number of configurations, eg. long bowl or mini bowl, and are now made of stainless steel.</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562040" y="533520"/>
            <a:ext cx="3657600" cy="2743200"/>
          </a:xfrm>
          <a:prstGeom prst="rect">
            <a:avLst/>
          </a:prstGeom>
          <a:ln w="0">
            <a:noFill/>
          </a:ln>
        </p:spPr>
      </p:sp>
      <p:sp>
        <p:nvSpPr>
          <p:cNvPr id="2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how bowl arrangements have developed over the years along with an understanding of the chemistry of scouring to make scouring more effic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ventional Hot scouring system in this slide is certainly old technology.  It would be unlikely that this type of bowl arrangement would exist in a modern scouring pl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Conventional Hot system the wool is scoured in the first three bowls and then rinsed in the next two.  This arrangement doesn’t allow any time for the hard-to-remove contaminant fraction to swell, and hence be more amenable to deterg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ventional Suint system shown here is called a 2-stage process.  In the first stage the easy-to-remove contaminants are removed, then the wool is allowed to soak and the remaining contaminants have time to swell.  The second stage involves another scour bowl and rinse bowl which removes a great portion of the hard-to-remove contamin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ified Suint bowl is the latest addition to modern scouring practice thus making this a 3-stage system.  The modified suint bowl is warm (about 25</a:t>
            </a:r>
            <a:r>
              <a:rPr b="0" lang="en-AU" sz="1200" spc="-1" strike="noStrike" baseline="30000">
                <a:solidFill>
                  <a:srgbClr val="000000"/>
                </a:solidFill>
                <a:latin typeface="Times New Roman"/>
              </a:rPr>
              <a:t>o</a:t>
            </a:r>
            <a:r>
              <a:rPr b="0" lang="en-AU" sz="1200" spc="-1" strike="noStrike">
                <a:solidFill>
                  <a:srgbClr val="000000"/>
                </a:solidFill>
                <a:latin typeface="Times New Roman"/>
              </a:rPr>
              <a:t>C), and contains detergent and  alkali.  This is the first stage of the system whereby up to 50% of the dirt is removed from the wool.  This dirt would otherwise interfere with detergency.  No wool wax is removed in this bowl.  The next two stage are similar to the Conventional Suint system.  The second stage takes out the easy-to-remove fraction, and is the source of high quality wool wax.  The third stage takes out most of the hard-to-remove fra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562040" y="533520"/>
            <a:ext cx="3657600" cy="2743200"/>
          </a:xfrm>
          <a:prstGeom prst="rect">
            <a:avLst/>
          </a:prstGeom>
          <a:ln w="0">
            <a:noFill/>
          </a:ln>
        </p:spPr>
      </p:sp>
      <p:sp>
        <p:nvSpPr>
          <p:cNvPr id="2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ini-bowl picture reproduced from “Woolscouring and Allied Technology, Second Edition”, R. G. Stewart (1985) WRONZ, Christchurch N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ntional” system featured in the previou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ni-bowl system was developed by WRONZ, but has not been widely adop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ction-drum system was developed by Fleissner GMB.  In this system the wool mat essentially “floats” across the water before being sucked onto perforated suction-dru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mmary of results obtained in a series of comparative scouring and topmaking  trials using the scouring systems mentioned above may be found in the module “Siroscour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olvent scouring system used in this comparative trial uses the De Smet scouring principles.  No comparative data is available for the WoolTech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562040" y="533520"/>
            <a:ext cx="3657600" cy="2743200"/>
          </a:xfrm>
          <a:prstGeom prst="rect">
            <a:avLst/>
          </a:prstGeom>
          <a:ln w="0">
            <a:noFill/>
          </a:ln>
        </p:spPr>
      </p:sp>
      <p:sp>
        <p:nvSpPr>
          <p:cNvPr id="2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ritten by: </a:t>
            </a:r>
            <a:r>
              <a:rPr b="0" lang="en-AU" sz="1000" spc="-1" strike="noStrike">
                <a:solidFill>
                  <a:srgbClr val="000000"/>
                </a:solidFill>
                <a:latin typeface="Times New Roman"/>
              </a:rPr>
              <a:t>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Papers from Top-Tech ‘96, seminar presented by CSIRO, Division of Wool Technolog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Geelong, Nov. 1996.</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1. Scouring: Fibre Surface Cleanliness vs Entanglement, G.A. Robinson, p28.</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2.The Management of Entanglement, B.V. Harrowfield, p62</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3. Fundamentals of Felting, M.G. Huson, p67.</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4. Entanglement and Wool Scouring: The Scourer’s Dilemma, J.R. Christoe, p70.</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5.Siroscour: Study of Technical Innovation, B.O. Bateup and J.R. Christoe, p419.</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Papers from Woolspec’94, seminar on Specification of Australian Wool and its Implication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for Marketing and Processing, presented by CSIRO, Division of Wool Technology, Ryde, Nov. 1994</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1. Processing Factors and Product Quality in Early Stage Processing, G.A. Robinson, Q1.</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2. Style and Processing Effects, D. Stevens and D.W. Crowe, E1.</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Papers from Wool Scouring and Worsted Carding: New Approaches, a symposium</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held by CSIRO Division of Textile Industry, Geelong, Nov 1986</a:t>
            </a:r>
            <a:r>
              <a:rPr b="0" lang="en-AU"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1.Objectives of the Scouring Process, J.R. Christoe, p3.</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2.The Nature of Scoured Wool and its Preparation for Carding, G.A. Robinson, p38.</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3.The Removal of Entanglements in Carding, B.V. Harrowfield, G.A. Robinson and J.R. Eley, p64.</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Other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1. Some Constraints on the Pre-Export Scouring of Australian Wool, Judith M. Bennett, W.T.S.B. Sept/Oct 1981, p122.</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2.The Effects of Wool Fibre Properties on Processing Performance and Yarn and Fabric Properties, L. Hunter, i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oc. 6th Quinquennial International Wool Textile Research Conf., Pretoria, 1980, Vol III, p133</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couring System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FORK" descr=""/>
          <p:cNvPicPr/>
          <p:nvPr/>
        </p:nvPicPr>
        <p:blipFill>
          <a:blip r:embed="rId1"/>
          <a:stretch/>
        </p:blipFill>
        <p:spPr>
          <a:xfrm>
            <a:off x="4800600" y="3352680"/>
            <a:ext cx="3581280" cy="2413080"/>
          </a:xfrm>
          <a:prstGeom prst="rect">
            <a:avLst/>
          </a:prstGeom>
          <a:ln w="0">
            <a:noFill/>
          </a:ln>
        </p:spPr>
      </p:pic>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in Features</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 mediu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queou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lve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 vessel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owl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Transpor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k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rum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veyor belt</a:t>
            </a:r>
            <a:endParaRPr b="1" lang="en-US" sz="2000" spc="-1" strike="noStrike">
              <a:solidFill>
                <a:srgbClr val="ffffff"/>
              </a:solidFill>
              <a:latin typeface="Arial"/>
            </a:endParaRPr>
          </a:p>
        </p:txBody>
      </p:sp>
      <p:sp>
        <p:nvSpPr>
          <p:cNvPr id="5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lied Agit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queeze roller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unter Current Flow</a:t>
            </a:r>
            <a:endParaRPr b="1" lang="en-US" sz="2400" spc="-1" strike="noStrike">
              <a:solidFill>
                <a:srgbClr val="ffffff"/>
              </a:solidFill>
              <a:latin typeface="Arial"/>
            </a:endParaRPr>
          </a:p>
        </p:txBody>
      </p:sp>
      <p:sp>
        <p:nvSpPr>
          <p:cNvPr id="53"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cillary Features</a:t>
            </a:r>
            <a:endParaRPr b="1" lang="en-US" sz="3200" spc="-1" strike="noStrike">
              <a:solidFill>
                <a:srgbClr val="fafd00"/>
              </a:solidFill>
              <a:latin typeface="Arial"/>
            </a:endParaRPr>
          </a:p>
        </p:txBody>
      </p:sp>
      <p:sp>
        <p:nvSpPr>
          <p:cNvPr id="56"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en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scour</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end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fo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ccumulator</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ry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rol regain</a:t>
            </a:r>
            <a:endParaRPr b="1" lang="en-US" sz="2000" spc="-1" strike="noStrike">
              <a:solidFill>
                <a:srgbClr val="ffffff"/>
              </a:solidFill>
              <a:latin typeface="Arial"/>
            </a:endParaRPr>
          </a:p>
        </p:txBody>
      </p:sp>
      <p:sp>
        <p:nvSpPr>
          <p:cNvPr id="57"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overy Syste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a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lve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luent Contr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parat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centrat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cour Variable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1000"/>
          </a:bodyPr>
          <a:p>
            <a:pPr marL="312120" indent="-31212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tergents and Builders</a:t>
            </a:r>
            <a:endParaRPr b="1" lang="en-US" sz="2800" spc="-1" strike="noStrike">
              <a:solidFill>
                <a:srgbClr val="ffffff"/>
              </a:solidFill>
              <a:latin typeface="Arial"/>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2120" indent="-31212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mperature</a:t>
            </a:r>
            <a:endParaRPr b="1" lang="en-US" sz="2800" spc="-1" strike="noStrike">
              <a:solidFill>
                <a:srgbClr val="ffffff"/>
              </a:solidFill>
              <a:latin typeface="Arial"/>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2120" indent="-31212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ter Quality</a:t>
            </a:r>
            <a:endParaRPr b="1" lang="en-US" sz="2800" spc="-1" strike="noStrike">
              <a:solidFill>
                <a:srgbClr val="ffffff"/>
              </a:solidFill>
              <a:latin typeface="Arial"/>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2120" indent="-31212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ther Physical Variables</a:t>
            </a:r>
            <a:endParaRPr b="1" lang="en-US" sz="2800" spc="-1" strike="noStrike">
              <a:solidFill>
                <a:srgbClr val="ffffff"/>
              </a:solidFill>
              <a:latin typeface="Arial"/>
            </a:endParaRPr>
          </a:p>
          <a:p>
            <a:pPr lvl="1" marL="676080" indent="-2599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 feed rate</a:t>
            </a:r>
            <a:endParaRPr b="1" lang="en-US" sz="2400" spc="-1" strike="noStrike">
              <a:solidFill>
                <a:srgbClr val="ffffff"/>
              </a:solidFill>
              <a:latin typeface="Arial"/>
            </a:endParaRPr>
          </a:p>
          <a:p>
            <a:pPr lvl="1" marL="676080" indent="-2599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mat thickness</a:t>
            </a:r>
            <a:endParaRPr b="1" lang="en-US" sz="2400" spc="-1" strike="noStrike">
              <a:solidFill>
                <a:srgbClr val="ffffff"/>
              </a:solidFill>
              <a:latin typeface="Arial"/>
            </a:endParaRPr>
          </a:p>
          <a:p>
            <a:pPr lvl="1" marL="676080" indent="-2599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transport</a:t>
            </a:r>
            <a:endParaRPr b="1" lang="en-US" sz="2400" spc="-1" strike="noStrike">
              <a:solidFill>
                <a:srgbClr val="ffffff"/>
              </a:solidFill>
              <a:latin typeface="Arial"/>
            </a:endParaRPr>
          </a:p>
          <a:p>
            <a:pPr lvl="1" marL="676080" indent="-2599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queeze roller pressure</a:t>
            </a:r>
            <a:endParaRPr b="1" lang="en-US" sz="2400" spc="-1" strike="noStrike">
              <a:solidFill>
                <a:srgbClr val="ffffff"/>
              </a:solidFill>
              <a:latin typeface="Arial"/>
            </a:endParaRPr>
          </a:p>
          <a:p>
            <a:pPr lvl="1" marL="676080" indent="-2599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ive roller speeds</a:t>
            </a:r>
            <a:endParaRPr b="1" lang="en-US" sz="2400" spc="-1" strike="noStrike">
              <a:solidFill>
                <a:srgbClr val="ffffff"/>
              </a:solidFill>
              <a:latin typeface="Arial"/>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2120" indent="-31212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owl Arrangement</a:t>
            </a:r>
            <a:endParaRPr b="1" lang="en-US" sz="2800" spc="-1" strike="noStrike">
              <a:solidFill>
                <a:srgbClr val="ffffff"/>
              </a:solidFill>
              <a:latin typeface="Arial"/>
            </a:endParaRPr>
          </a:p>
        </p:txBody>
      </p:sp>
      <p:sp>
        <p:nvSpPr>
          <p:cNvPr id="60"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143000" y="1219320"/>
            <a:ext cx="7940520" cy="4254480"/>
            <a:chOff x="1143000" y="1219320"/>
            <a:chExt cx="7940520" cy="4254480"/>
          </a:xfrm>
        </p:grpSpPr>
        <p:sp>
          <p:nvSpPr>
            <p:cNvPr id="64" name=""/>
            <p:cNvSpPr/>
            <p:nvPr/>
          </p:nvSpPr>
          <p:spPr>
            <a:xfrm>
              <a:off x="1143000" y="1219320"/>
              <a:ext cx="7935480" cy="425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250640" y="1376640"/>
              <a:ext cx="7832880" cy="3979800"/>
              <a:chOff x="1250640" y="1376640"/>
              <a:chExt cx="7832880" cy="3979800"/>
            </a:xfrm>
          </p:grpSpPr>
          <p:sp>
            <p:nvSpPr>
              <p:cNvPr id="66" name=""/>
              <p:cNvSpPr/>
              <p:nvPr/>
            </p:nvSpPr>
            <p:spPr>
              <a:xfrm>
                <a:off x="1250640" y="1376640"/>
                <a:ext cx="7751520" cy="397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7976520" y="2979720"/>
                <a:ext cx="853200" cy="724320"/>
                <a:chOff x="7976520" y="2979720"/>
                <a:chExt cx="853200" cy="724320"/>
              </a:xfrm>
            </p:grpSpPr>
            <p:sp>
              <p:nvSpPr>
                <p:cNvPr id="68" name=""/>
                <p:cNvSpPr/>
                <p:nvPr/>
              </p:nvSpPr>
              <p:spPr>
                <a:xfrm>
                  <a:off x="7976520" y="3486240"/>
                  <a:ext cx="191880" cy="185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8144280" y="3156120"/>
                  <a:ext cx="685440" cy="5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8036640" y="2979720"/>
                  <a:ext cx="685440" cy="5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1899720" y="3314880"/>
                <a:ext cx="477792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198560" y="2694240"/>
                <a:ext cx="840960" cy="1665360"/>
                <a:chOff x="7198560" y="2694240"/>
                <a:chExt cx="840960" cy="1665360"/>
              </a:xfrm>
            </p:grpSpPr>
            <p:sp>
              <p:nvSpPr>
                <p:cNvPr id="73" name=""/>
                <p:cNvSpPr/>
                <p:nvPr/>
              </p:nvSpPr>
              <p:spPr>
                <a:xfrm>
                  <a:off x="7198560" y="3540240"/>
                  <a:ext cx="840960" cy="819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198560" y="2694240"/>
                  <a:ext cx="840960" cy="820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1912320" y="3116520"/>
                <a:ext cx="336240" cy="538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01120" y="3667320"/>
                <a:ext cx="36176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992200" y="3278520"/>
                <a:ext cx="648720" cy="4255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717600" y="3356280"/>
                <a:ext cx="649080" cy="1332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2481840" y="3123000"/>
                <a:ext cx="3002040" cy="352440"/>
                <a:chOff x="2481840" y="3123000"/>
                <a:chExt cx="3002040" cy="352440"/>
              </a:xfrm>
            </p:grpSpPr>
            <p:sp>
              <p:nvSpPr>
                <p:cNvPr id="80" name=""/>
                <p:cNvSpPr/>
                <p:nvPr/>
              </p:nvSpPr>
              <p:spPr>
                <a:xfrm>
                  <a:off x="2754720" y="3123000"/>
                  <a:ext cx="266832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 name=""/>
                <p:cNvSpPr/>
                <p:nvPr/>
              </p:nvSpPr>
              <p:spPr>
                <a:xfrm>
                  <a:off x="5013720" y="32007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601080" y="32007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53600" y="32007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42480" y="32007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880" y="32007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2961000" y="3208680"/>
                  <a:ext cx="310680" cy="266760"/>
                  <a:chOff x="2961000" y="3208680"/>
                  <a:chExt cx="310680" cy="266760"/>
                </a:xfrm>
              </p:grpSpPr>
              <p:sp>
                <p:nvSpPr>
                  <p:cNvPr id="87" name=""/>
                  <p:cNvSpPr/>
                  <p:nvPr/>
                </p:nvSpPr>
                <p:spPr>
                  <a:xfrm>
                    <a:off x="3175200" y="3208680"/>
                    <a:ext cx="0" cy="101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2961000" y="3432240"/>
                    <a:ext cx="310680" cy="43200"/>
                    <a:chOff x="2961000" y="3432240"/>
                    <a:chExt cx="310680" cy="43200"/>
                  </a:xfrm>
                </p:grpSpPr>
                <p:sp>
                  <p:nvSpPr>
                    <p:cNvPr id="89" name=""/>
                    <p:cNvSpPr/>
                    <p:nvPr/>
                  </p:nvSpPr>
                  <p:spPr>
                    <a:xfrm flipH="1">
                      <a:off x="2961000" y="3437280"/>
                      <a:ext cx="28692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3225960" y="3432240"/>
                      <a:ext cx="4572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91" name=""/>
                <p:cNvGrpSpPr/>
                <p:nvPr/>
              </p:nvGrpSpPr>
              <p:grpSpPr>
                <a:xfrm>
                  <a:off x="2481840" y="3200760"/>
                  <a:ext cx="312480" cy="268200"/>
                  <a:chOff x="2481840" y="3200760"/>
                  <a:chExt cx="312480" cy="268200"/>
                </a:xfrm>
              </p:grpSpPr>
              <p:sp>
                <p:nvSpPr>
                  <p:cNvPr id="92" name=""/>
                  <p:cNvSpPr/>
                  <p:nvPr/>
                </p:nvSpPr>
                <p:spPr>
                  <a:xfrm>
                    <a:off x="2696040" y="3200760"/>
                    <a:ext cx="0" cy="102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2481840" y="3424320"/>
                    <a:ext cx="312480" cy="44640"/>
                    <a:chOff x="2481840" y="3424320"/>
                    <a:chExt cx="312480" cy="44640"/>
                  </a:xfrm>
                </p:grpSpPr>
                <p:sp>
                  <p:nvSpPr>
                    <p:cNvPr id="94" name=""/>
                    <p:cNvSpPr/>
                    <p:nvPr/>
                  </p:nvSpPr>
                  <p:spPr>
                    <a:xfrm flipH="1">
                      <a:off x="2481840" y="3429360"/>
                      <a:ext cx="28692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5" name=""/>
                    <p:cNvSpPr/>
                    <p:nvPr/>
                  </p:nvSpPr>
                  <p:spPr>
                    <a:xfrm>
                      <a:off x="2746800" y="3424320"/>
                      <a:ext cx="47520" cy="38160"/>
                    </a:xfrm>
                    <a:prstGeom prst="line">
                      <a:avLst/>
                    </a:prstGeom>
                    <a:ln w="507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grpSp>
            <p:nvGrpSpPr>
              <p:cNvPr id="96" name=""/>
              <p:cNvGrpSpPr/>
              <p:nvPr/>
            </p:nvGrpSpPr>
            <p:grpSpPr>
              <a:xfrm>
                <a:off x="5877720" y="3071880"/>
                <a:ext cx="794880" cy="249480"/>
                <a:chOff x="5877720" y="3071880"/>
                <a:chExt cx="794880" cy="249480"/>
              </a:xfrm>
            </p:grpSpPr>
            <p:sp>
              <p:nvSpPr>
                <p:cNvPr id="97" name=""/>
                <p:cNvSpPr/>
                <p:nvPr/>
              </p:nvSpPr>
              <p:spPr>
                <a:xfrm>
                  <a:off x="5877720" y="3159360"/>
                  <a:ext cx="0" cy="16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85600" y="316584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9" name=""/>
                <p:cNvSpPr/>
                <p:nvPr/>
              </p:nvSpPr>
              <p:spPr>
                <a:xfrm>
                  <a:off x="6667920" y="3140280"/>
                  <a:ext cx="4680" cy="30240"/>
                </a:xfrm>
                <a:prstGeom prst="line">
                  <a:avLst/>
                </a:prstGeom>
                <a:ln w="507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0" name=""/>
                <p:cNvSpPr/>
                <p:nvPr/>
              </p:nvSpPr>
              <p:spPr>
                <a:xfrm>
                  <a:off x="5952240" y="3071880"/>
                  <a:ext cx="671040" cy="8280"/>
                </a:xfrm>
                <a:prstGeom prst="line">
                  <a:avLst/>
                </a:prstGeom>
                <a:ln w="507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sp>
            <p:nvSpPr>
              <p:cNvPr id="101" name=""/>
              <p:cNvSpPr/>
              <p:nvPr/>
            </p:nvSpPr>
            <p:spPr>
              <a:xfrm>
                <a:off x="1408680" y="2041920"/>
                <a:ext cx="1815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1</a:t>
                </a:r>
                <a:r>
                  <a:rPr b="1" lang="en-GB" sz="2000" spc="-1" strike="noStrike">
                    <a:solidFill>
                      <a:srgbClr val="000000"/>
                    </a:solidFill>
                    <a:latin typeface="Arial"/>
                  </a:rPr>
                  <a:t>. </a:t>
                </a:r>
                <a:r>
                  <a:rPr b="1" lang="en-GB" sz="1800" spc="-1" strike="noStrike">
                    <a:solidFill>
                      <a:srgbClr val="000000"/>
                    </a:solidFill>
                    <a:latin typeface="Arial"/>
                  </a:rPr>
                  <a:t>SPRAY</a:t>
                </a:r>
                <a:r>
                  <a:rPr b="1" lang="en-GB" sz="2000" spc="-1" strike="noStrike">
                    <a:solidFill>
                      <a:srgbClr val="000000"/>
                    </a:solidFill>
                    <a:latin typeface="Arial"/>
                  </a:rPr>
                  <a:t> </a:t>
                </a:r>
                <a:r>
                  <a:rPr b="1" lang="en-GB" sz="1800" spc="-1" strike="noStrike">
                    <a:solidFill>
                      <a:srgbClr val="000000"/>
                    </a:solidFill>
                    <a:latin typeface="Arial"/>
                  </a:rPr>
                  <a:t>BOX</a:t>
                </a:r>
                <a:endParaRPr b="0" lang="en-US" sz="1800" spc="-1" strike="noStrike">
                  <a:solidFill>
                    <a:srgbClr val="000000"/>
                  </a:solidFill>
                  <a:latin typeface="Times New Roman"/>
                </a:endParaRPr>
              </a:p>
            </p:txBody>
          </p:sp>
          <p:sp>
            <p:nvSpPr>
              <p:cNvPr id="102" name=""/>
              <p:cNvSpPr/>
              <p:nvPr/>
            </p:nvSpPr>
            <p:spPr>
              <a:xfrm flipH="1">
                <a:off x="2553480" y="2318040"/>
                <a:ext cx="306000" cy="66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058480" y="2694240"/>
                <a:ext cx="190080" cy="185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1324800" y="2740320"/>
                <a:ext cx="83016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1432440" y="2916360"/>
                <a:ext cx="828360" cy="39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49160" y="1617840"/>
                <a:ext cx="1591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2</a:t>
                </a:r>
                <a:r>
                  <a:rPr b="1" lang="en-GB" sz="2000" spc="-1" strike="noStrike">
                    <a:solidFill>
                      <a:srgbClr val="000000"/>
                    </a:solidFill>
                    <a:latin typeface="Arial"/>
                  </a:rPr>
                  <a:t>. </a:t>
                </a:r>
                <a:r>
                  <a:rPr b="1" lang="en-GB" sz="1800" spc="-1" strike="noStrike">
                    <a:solidFill>
                      <a:srgbClr val="000000"/>
                    </a:solidFill>
                    <a:latin typeface="Arial"/>
                  </a:rPr>
                  <a:t>DUNKERS</a:t>
                </a:r>
                <a:endParaRPr b="0" lang="en-US" sz="1800" spc="-1" strike="noStrike">
                  <a:solidFill>
                    <a:srgbClr val="000000"/>
                  </a:solidFill>
                  <a:latin typeface="Times New Roman"/>
                </a:endParaRPr>
              </a:p>
            </p:txBody>
          </p:sp>
          <p:sp>
            <p:nvSpPr>
              <p:cNvPr id="107" name=""/>
              <p:cNvSpPr/>
              <p:nvPr/>
            </p:nvSpPr>
            <p:spPr>
              <a:xfrm>
                <a:off x="3580920" y="2273400"/>
                <a:ext cx="1261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3</a:t>
                </a:r>
                <a:r>
                  <a:rPr b="1" lang="en-GB" sz="2000" spc="-1" strike="noStrike">
                    <a:solidFill>
                      <a:srgbClr val="000000"/>
                    </a:solidFill>
                    <a:latin typeface="Arial"/>
                  </a:rPr>
                  <a:t>. </a:t>
                </a:r>
                <a:r>
                  <a:rPr b="1" lang="en-GB" sz="1800" spc="-1" strike="noStrike">
                    <a:solidFill>
                      <a:srgbClr val="000000"/>
                    </a:solidFill>
                    <a:latin typeface="Arial"/>
                  </a:rPr>
                  <a:t>RAKES</a:t>
                </a:r>
                <a:endParaRPr b="0" lang="en-US" sz="1800" spc="-1" strike="noStrike">
                  <a:solidFill>
                    <a:srgbClr val="000000"/>
                  </a:solidFill>
                  <a:latin typeface="Times New Roman"/>
                </a:endParaRPr>
              </a:p>
            </p:txBody>
          </p:sp>
          <p:sp>
            <p:nvSpPr>
              <p:cNvPr id="108" name=""/>
              <p:cNvSpPr/>
              <p:nvPr/>
            </p:nvSpPr>
            <p:spPr>
              <a:xfrm flipH="1">
                <a:off x="2808720" y="2176560"/>
                <a:ext cx="48564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47560" y="2670480"/>
                <a:ext cx="518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73960" y="1856160"/>
                <a:ext cx="1964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4</a:t>
                </a:r>
                <a:r>
                  <a:rPr b="1" lang="en-GB" sz="2000" spc="-1" strike="noStrike">
                    <a:solidFill>
                      <a:srgbClr val="000000"/>
                    </a:solidFill>
                    <a:latin typeface="Arial"/>
                  </a:rPr>
                  <a:t>. </a:t>
                </a:r>
                <a:r>
                  <a:rPr b="1" lang="en-GB" sz="1800" spc="-1" strike="noStrike">
                    <a:solidFill>
                      <a:srgbClr val="000000"/>
                    </a:solidFill>
                    <a:latin typeface="Arial"/>
                  </a:rPr>
                  <a:t>BOWL LEVEL</a:t>
                </a:r>
                <a:endParaRPr b="0" lang="en-US" sz="1800" spc="-1" strike="noStrike">
                  <a:solidFill>
                    <a:srgbClr val="000000"/>
                  </a:solidFill>
                  <a:latin typeface="Times New Roman"/>
                </a:endParaRPr>
              </a:p>
            </p:txBody>
          </p:sp>
          <p:sp>
            <p:nvSpPr>
              <p:cNvPr id="111" name=""/>
              <p:cNvSpPr/>
              <p:nvPr/>
            </p:nvSpPr>
            <p:spPr>
              <a:xfrm>
                <a:off x="5287320" y="2300400"/>
                <a:ext cx="360000" cy="97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728680" y="1544760"/>
                <a:ext cx="1424880" cy="668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5</a:t>
                </a:r>
                <a:r>
                  <a:rPr b="1" lang="en-GB" sz="2000" spc="-1" strike="noStrike">
                    <a:solidFill>
                      <a:srgbClr val="000000"/>
                    </a:solidFill>
                    <a:latin typeface="Arial"/>
                  </a:rPr>
                  <a:t>. </a:t>
                </a:r>
                <a:r>
                  <a:rPr b="1" lang="en-GB" sz="1800" spc="-1" strike="noStrike">
                    <a:solidFill>
                      <a:srgbClr val="000000"/>
                    </a:solidFill>
                    <a:latin typeface="Arial"/>
                  </a:rPr>
                  <a:t>WO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FER</a:t>
                </a:r>
                <a:endParaRPr b="0" lang="en-US" sz="1800" spc="-1" strike="noStrike">
                  <a:solidFill>
                    <a:srgbClr val="000000"/>
                  </a:solidFill>
                  <a:latin typeface="Times New Roman"/>
                </a:endParaRPr>
              </a:p>
            </p:txBody>
          </p:sp>
          <p:sp>
            <p:nvSpPr>
              <p:cNvPr id="113" name=""/>
              <p:cNvSpPr/>
              <p:nvPr/>
            </p:nvSpPr>
            <p:spPr>
              <a:xfrm>
                <a:off x="6073200" y="2216520"/>
                <a:ext cx="369360" cy="81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534000" y="2267280"/>
                <a:ext cx="1555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6</a:t>
                </a:r>
                <a:r>
                  <a:rPr b="1" lang="en-GB" sz="2000" spc="-1" strike="noStrike">
                    <a:solidFill>
                      <a:srgbClr val="000000"/>
                    </a:solidFill>
                    <a:latin typeface="Arial"/>
                  </a:rPr>
                  <a:t>. </a:t>
                </a:r>
                <a:r>
                  <a:rPr b="1" lang="en-GB" sz="1800" spc="-1" strike="noStrike">
                    <a:solidFill>
                      <a:srgbClr val="000000"/>
                    </a:solidFill>
                    <a:latin typeface="Arial"/>
                  </a:rPr>
                  <a:t>SQUEEZE</a:t>
                </a:r>
                <a:endParaRPr b="0" lang="en-US" sz="1800" spc="-1" strike="noStrike">
                  <a:solidFill>
                    <a:srgbClr val="000000"/>
                  </a:solidFill>
                  <a:latin typeface="Times New Roman"/>
                </a:endParaRPr>
              </a:p>
            </p:txBody>
          </p:sp>
          <p:sp>
            <p:nvSpPr>
              <p:cNvPr id="115" name=""/>
              <p:cNvSpPr/>
              <p:nvPr/>
            </p:nvSpPr>
            <p:spPr>
              <a:xfrm>
                <a:off x="6763680" y="2584800"/>
                <a:ext cx="487080" cy="81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312680" y="1733760"/>
                <a:ext cx="177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290a"/>
                    </a:solidFill>
                    <a:latin typeface="Arial"/>
                  </a:rPr>
                  <a:t>7</a:t>
                </a:r>
                <a:r>
                  <a:rPr b="1" lang="en-GB" sz="2000" spc="-1" strike="noStrike">
                    <a:solidFill>
                      <a:srgbClr val="000000"/>
                    </a:solidFill>
                    <a:latin typeface="Arial"/>
                  </a:rPr>
                  <a:t>. </a:t>
                </a:r>
                <a:r>
                  <a:rPr b="1" lang="en-GB" sz="1800" spc="-1" strike="noStrike">
                    <a:solidFill>
                      <a:srgbClr val="000000"/>
                    </a:solidFill>
                    <a:latin typeface="Arial"/>
                  </a:rPr>
                  <a:t>CONVEYOR</a:t>
                </a:r>
                <a:endParaRPr b="0" lang="en-US" sz="1800" spc="-1" strike="noStrike">
                  <a:solidFill>
                    <a:srgbClr val="000000"/>
                  </a:solidFill>
                  <a:latin typeface="Times New Roman"/>
                </a:endParaRPr>
              </a:p>
            </p:txBody>
          </p:sp>
          <p:sp>
            <p:nvSpPr>
              <p:cNvPr id="117" name=""/>
              <p:cNvSpPr/>
              <p:nvPr/>
            </p:nvSpPr>
            <p:spPr>
              <a:xfrm>
                <a:off x="8360640" y="2070360"/>
                <a:ext cx="0" cy="94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29280" y="3476520"/>
                <a:ext cx="2908800" cy="180720"/>
                <a:chOff x="2429280" y="3476520"/>
                <a:chExt cx="2908800" cy="180720"/>
              </a:xfrm>
            </p:grpSpPr>
            <p:grpSp>
              <p:nvGrpSpPr>
                <p:cNvPr id="119" name=""/>
                <p:cNvGrpSpPr/>
                <p:nvPr/>
              </p:nvGrpSpPr>
              <p:grpSpPr>
                <a:xfrm>
                  <a:off x="3825720" y="3485880"/>
                  <a:ext cx="1512360" cy="171360"/>
                  <a:chOff x="3825720" y="3485880"/>
                  <a:chExt cx="1512360" cy="171360"/>
                </a:xfrm>
              </p:grpSpPr>
              <p:grpSp>
                <p:nvGrpSpPr>
                  <p:cNvPr id="120" name=""/>
                  <p:cNvGrpSpPr/>
                  <p:nvPr/>
                </p:nvGrpSpPr>
                <p:grpSpPr>
                  <a:xfrm>
                    <a:off x="4519800" y="3489840"/>
                    <a:ext cx="818280" cy="167400"/>
                    <a:chOff x="4519800" y="3489840"/>
                    <a:chExt cx="818280" cy="167400"/>
                  </a:xfrm>
                </p:grpSpPr>
                <p:grpSp>
                  <p:nvGrpSpPr>
                    <p:cNvPr id="121" name=""/>
                    <p:cNvGrpSpPr/>
                    <p:nvPr/>
                  </p:nvGrpSpPr>
                  <p:grpSpPr>
                    <a:xfrm>
                      <a:off x="4890960" y="3490200"/>
                      <a:ext cx="447120" cy="163800"/>
                      <a:chOff x="4890960" y="3490200"/>
                      <a:chExt cx="447120" cy="163800"/>
                    </a:xfrm>
                  </p:grpSpPr>
                  <p:sp>
                    <p:nvSpPr>
                      <p:cNvPr id="122" name=""/>
                      <p:cNvSpPr/>
                      <p:nvPr/>
                    </p:nvSpPr>
                    <p:spPr>
                      <a:xfrm rot="21240000">
                        <a:off x="5061600" y="3503520"/>
                        <a:ext cx="26964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21240000">
                        <a:off x="4897080" y="3503880"/>
                        <a:ext cx="26784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4519800" y="3489840"/>
                      <a:ext cx="450360" cy="167400"/>
                      <a:chOff x="4519800" y="3489840"/>
                      <a:chExt cx="450360" cy="167400"/>
                    </a:xfrm>
                  </p:grpSpPr>
                  <p:sp>
                    <p:nvSpPr>
                      <p:cNvPr id="125" name=""/>
                      <p:cNvSpPr/>
                      <p:nvPr/>
                    </p:nvSpPr>
                    <p:spPr>
                      <a:xfrm rot="21240000">
                        <a:off x="4694040" y="3503520"/>
                        <a:ext cx="2696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21240000">
                        <a:off x="4525920" y="3503520"/>
                        <a:ext cx="27108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7" name=""/>
                  <p:cNvGrpSpPr/>
                  <p:nvPr/>
                </p:nvGrpSpPr>
                <p:grpSpPr>
                  <a:xfrm>
                    <a:off x="3825720" y="3485880"/>
                    <a:ext cx="816480" cy="166320"/>
                    <a:chOff x="3825720" y="3485880"/>
                    <a:chExt cx="816480" cy="166320"/>
                  </a:xfrm>
                </p:grpSpPr>
                <p:grpSp>
                  <p:nvGrpSpPr>
                    <p:cNvPr id="128" name=""/>
                    <p:cNvGrpSpPr/>
                    <p:nvPr/>
                  </p:nvGrpSpPr>
                  <p:grpSpPr>
                    <a:xfrm>
                      <a:off x="4192200" y="3487680"/>
                      <a:ext cx="450000" cy="164520"/>
                      <a:chOff x="4192200" y="3487680"/>
                      <a:chExt cx="450000" cy="164520"/>
                    </a:xfrm>
                  </p:grpSpPr>
                  <p:sp>
                    <p:nvSpPr>
                      <p:cNvPr id="129" name=""/>
                      <p:cNvSpPr/>
                      <p:nvPr/>
                    </p:nvSpPr>
                    <p:spPr>
                      <a:xfrm rot="21300000">
                        <a:off x="4362480" y="3502080"/>
                        <a:ext cx="27396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21300000">
                        <a:off x="4197600" y="3499200"/>
                        <a:ext cx="2743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3825720" y="3485880"/>
                      <a:ext cx="445680" cy="164520"/>
                      <a:chOff x="3825720" y="3485880"/>
                      <a:chExt cx="445680" cy="164520"/>
                    </a:xfrm>
                  </p:grpSpPr>
                  <p:sp>
                    <p:nvSpPr>
                      <p:cNvPr id="132" name=""/>
                      <p:cNvSpPr/>
                      <p:nvPr/>
                    </p:nvSpPr>
                    <p:spPr>
                      <a:xfrm rot="21300000">
                        <a:off x="3997440" y="3498840"/>
                        <a:ext cx="26820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21300000">
                        <a:off x="3831120" y="3497040"/>
                        <a:ext cx="26964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34" name=""/>
                <p:cNvGrpSpPr/>
                <p:nvPr/>
              </p:nvGrpSpPr>
              <p:grpSpPr>
                <a:xfrm>
                  <a:off x="2429280" y="3476520"/>
                  <a:ext cx="1515240" cy="171000"/>
                  <a:chOff x="2429280" y="3476520"/>
                  <a:chExt cx="1515240" cy="171000"/>
                </a:xfrm>
              </p:grpSpPr>
              <p:grpSp>
                <p:nvGrpSpPr>
                  <p:cNvPr id="135" name=""/>
                  <p:cNvGrpSpPr/>
                  <p:nvPr/>
                </p:nvGrpSpPr>
                <p:grpSpPr>
                  <a:xfrm>
                    <a:off x="3126240" y="3480480"/>
                    <a:ext cx="818280" cy="167040"/>
                    <a:chOff x="3126240" y="3480480"/>
                    <a:chExt cx="818280" cy="167040"/>
                  </a:xfrm>
                </p:grpSpPr>
                <p:grpSp>
                  <p:nvGrpSpPr>
                    <p:cNvPr id="136" name=""/>
                    <p:cNvGrpSpPr/>
                    <p:nvPr/>
                  </p:nvGrpSpPr>
                  <p:grpSpPr>
                    <a:xfrm>
                      <a:off x="3495600" y="3480480"/>
                      <a:ext cx="448920" cy="167040"/>
                      <a:chOff x="3495600" y="3480480"/>
                      <a:chExt cx="448920" cy="167040"/>
                    </a:xfrm>
                  </p:grpSpPr>
                  <p:sp>
                    <p:nvSpPr>
                      <p:cNvPr id="137" name=""/>
                      <p:cNvSpPr/>
                      <p:nvPr/>
                    </p:nvSpPr>
                    <p:spPr>
                      <a:xfrm rot="21240000">
                        <a:off x="3668040" y="3495600"/>
                        <a:ext cx="26964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21240000">
                        <a:off x="3502080" y="3493800"/>
                        <a:ext cx="2696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3126240" y="3481920"/>
                      <a:ext cx="448920" cy="165600"/>
                      <a:chOff x="3126240" y="3481920"/>
                      <a:chExt cx="448920" cy="165600"/>
                    </a:xfrm>
                  </p:grpSpPr>
                  <p:sp>
                    <p:nvSpPr>
                      <p:cNvPr id="140" name=""/>
                      <p:cNvSpPr/>
                      <p:nvPr/>
                    </p:nvSpPr>
                    <p:spPr>
                      <a:xfrm rot="21240000">
                        <a:off x="3300120" y="3495960"/>
                        <a:ext cx="26820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1240000">
                        <a:off x="3132360" y="3495600"/>
                        <a:ext cx="27108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2429280" y="3476520"/>
                    <a:ext cx="819720" cy="169200"/>
                    <a:chOff x="2429280" y="3476520"/>
                    <a:chExt cx="819720" cy="169200"/>
                  </a:xfrm>
                </p:grpSpPr>
                <p:grpSp>
                  <p:nvGrpSpPr>
                    <p:cNvPr id="143" name=""/>
                    <p:cNvGrpSpPr/>
                    <p:nvPr/>
                  </p:nvGrpSpPr>
                  <p:grpSpPr>
                    <a:xfrm>
                      <a:off x="2798280" y="3477960"/>
                      <a:ext cx="450720" cy="167760"/>
                      <a:chOff x="2798280" y="3477960"/>
                      <a:chExt cx="450720" cy="167760"/>
                    </a:xfrm>
                  </p:grpSpPr>
                  <p:sp>
                    <p:nvSpPr>
                      <p:cNvPr id="144" name=""/>
                      <p:cNvSpPr/>
                      <p:nvPr/>
                    </p:nvSpPr>
                    <p:spPr>
                      <a:xfrm rot="21300000">
                        <a:off x="2968920" y="3494160"/>
                        <a:ext cx="2743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21300000">
                        <a:off x="2803680" y="3489480"/>
                        <a:ext cx="27288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2429280" y="3476520"/>
                      <a:ext cx="449640" cy="166320"/>
                      <a:chOff x="2429280" y="3476520"/>
                      <a:chExt cx="449640" cy="166320"/>
                    </a:xfrm>
                  </p:grpSpPr>
                  <p:sp>
                    <p:nvSpPr>
                      <p:cNvPr id="147" name=""/>
                      <p:cNvSpPr/>
                      <p:nvPr/>
                    </p:nvSpPr>
                    <p:spPr>
                      <a:xfrm rot="21300000">
                        <a:off x="2598840" y="3489480"/>
                        <a:ext cx="27432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21300000">
                        <a:off x="2434680" y="3488040"/>
                        <a:ext cx="272520" cy="1378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49" name=""/>
              <p:cNvGrpSpPr/>
              <p:nvPr/>
            </p:nvGrpSpPr>
            <p:grpSpPr>
              <a:xfrm>
                <a:off x="5191920" y="3489840"/>
                <a:ext cx="817920" cy="167400"/>
                <a:chOff x="5191920" y="3489840"/>
                <a:chExt cx="817920" cy="167400"/>
              </a:xfrm>
            </p:grpSpPr>
            <p:grpSp>
              <p:nvGrpSpPr>
                <p:cNvPr id="150" name=""/>
                <p:cNvGrpSpPr/>
                <p:nvPr/>
              </p:nvGrpSpPr>
              <p:grpSpPr>
                <a:xfrm>
                  <a:off x="5559840" y="3489840"/>
                  <a:ext cx="450000" cy="164160"/>
                  <a:chOff x="5559840" y="3489840"/>
                  <a:chExt cx="450000" cy="164160"/>
                </a:xfrm>
              </p:grpSpPr>
              <p:sp>
                <p:nvSpPr>
                  <p:cNvPr id="151" name=""/>
                  <p:cNvSpPr/>
                  <p:nvPr/>
                </p:nvSpPr>
                <p:spPr>
                  <a:xfrm rot="21240000">
                    <a:off x="5732280" y="3503520"/>
                    <a:ext cx="27108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21240000">
                    <a:off x="5565960" y="3503520"/>
                    <a:ext cx="26964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5191920" y="3490200"/>
                  <a:ext cx="448920" cy="167040"/>
                  <a:chOff x="5191920" y="3490200"/>
                  <a:chExt cx="448920" cy="167040"/>
                </a:xfrm>
              </p:grpSpPr>
              <p:sp>
                <p:nvSpPr>
                  <p:cNvPr id="154" name=""/>
                  <p:cNvSpPr/>
                  <p:nvPr/>
                </p:nvSpPr>
                <p:spPr>
                  <a:xfrm rot="21240000">
                    <a:off x="5364720" y="3503520"/>
                    <a:ext cx="26964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21240000">
                    <a:off x="5198040" y="3503520"/>
                    <a:ext cx="26964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6" name=""/>
              <p:cNvGrpSpPr/>
              <p:nvPr/>
            </p:nvGrpSpPr>
            <p:grpSpPr>
              <a:xfrm>
                <a:off x="6618600" y="3161160"/>
                <a:ext cx="801720" cy="390600"/>
                <a:chOff x="6618600" y="3161160"/>
                <a:chExt cx="801720" cy="390600"/>
              </a:xfrm>
            </p:grpSpPr>
            <p:grpSp>
              <p:nvGrpSpPr>
                <p:cNvPr id="157" name=""/>
                <p:cNvGrpSpPr/>
                <p:nvPr/>
              </p:nvGrpSpPr>
              <p:grpSpPr>
                <a:xfrm>
                  <a:off x="6962760" y="3287880"/>
                  <a:ext cx="457560" cy="263880"/>
                  <a:chOff x="6962760" y="3287880"/>
                  <a:chExt cx="457560" cy="263880"/>
                </a:xfrm>
              </p:grpSpPr>
              <p:sp>
                <p:nvSpPr>
                  <p:cNvPr id="158" name=""/>
                  <p:cNvSpPr/>
                  <p:nvPr/>
                </p:nvSpPr>
                <p:spPr>
                  <a:xfrm rot="900000">
                    <a:off x="7129800" y="3380040"/>
                    <a:ext cx="27720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900000">
                    <a:off x="6976080" y="3321360"/>
                    <a:ext cx="27900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6618600" y="3161160"/>
                  <a:ext cx="458280" cy="268200"/>
                  <a:chOff x="6618600" y="3161160"/>
                  <a:chExt cx="458280" cy="268200"/>
                </a:xfrm>
              </p:grpSpPr>
              <p:sp>
                <p:nvSpPr>
                  <p:cNvPr id="161" name=""/>
                  <p:cNvSpPr/>
                  <p:nvPr/>
                </p:nvSpPr>
                <p:spPr>
                  <a:xfrm rot="900000">
                    <a:off x="6787080" y="3251520"/>
                    <a:ext cx="275760" cy="1443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900000">
                    <a:off x="6631560" y="3193920"/>
                    <a:ext cx="2743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 name=""/>
              <p:cNvGrpSpPr/>
              <p:nvPr/>
            </p:nvGrpSpPr>
            <p:grpSpPr>
              <a:xfrm>
                <a:off x="2457000" y="3202200"/>
                <a:ext cx="168480" cy="444600"/>
                <a:chOff x="2457000" y="3202200"/>
                <a:chExt cx="168480" cy="444600"/>
              </a:xfrm>
            </p:grpSpPr>
            <p:sp>
              <p:nvSpPr>
                <p:cNvPr id="164" name=""/>
                <p:cNvSpPr/>
                <p:nvPr/>
              </p:nvSpPr>
              <p:spPr>
                <a:xfrm rot="5040000">
                  <a:off x="2405160" y="3436920"/>
                  <a:ext cx="268200" cy="137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5040000">
                  <a:off x="2405880" y="3274560"/>
                  <a:ext cx="271440" cy="139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364840" y="3036960"/>
                <a:ext cx="166680" cy="444960"/>
                <a:chOff x="2364840" y="3036960"/>
                <a:chExt cx="166680" cy="444960"/>
              </a:xfrm>
            </p:grpSpPr>
            <p:sp>
              <p:nvSpPr>
                <p:cNvPr id="167" name=""/>
                <p:cNvSpPr/>
                <p:nvPr/>
              </p:nvSpPr>
              <p:spPr>
                <a:xfrm rot="5040000">
                  <a:off x="2313000" y="3270600"/>
                  <a:ext cx="270000" cy="1393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rot="5040000">
                  <a:off x="2313360" y="3110040"/>
                  <a:ext cx="270000" cy="1360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2300400" y="2770920"/>
                <a:ext cx="165240" cy="444600"/>
                <a:chOff x="2300400" y="2770920"/>
                <a:chExt cx="165240" cy="444600"/>
              </a:xfrm>
            </p:grpSpPr>
            <p:sp>
              <p:nvSpPr>
                <p:cNvPr id="170" name=""/>
                <p:cNvSpPr/>
                <p:nvPr/>
              </p:nvSpPr>
              <p:spPr>
                <a:xfrm rot="5700000">
                  <a:off x="2245680" y="2842560"/>
                  <a:ext cx="271440" cy="1393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5700000">
                  <a:off x="2248560" y="3004560"/>
                  <a:ext cx="270000" cy="1407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5862240" y="3197880"/>
                <a:ext cx="797040" cy="461160"/>
                <a:chOff x="5862240" y="3197880"/>
                <a:chExt cx="797040" cy="461160"/>
              </a:xfrm>
            </p:grpSpPr>
            <p:grpSp>
              <p:nvGrpSpPr>
                <p:cNvPr id="173" name=""/>
                <p:cNvGrpSpPr/>
                <p:nvPr/>
              </p:nvGrpSpPr>
              <p:grpSpPr>
                <a:xfrm>
                  <a:off x="6200280" y="3197880"/>
                  <a:ext cx="459000" cy="317160"/>
                  <a:chOff x="6200280" y="3197880"/>
                  <a:chExt cx="459000" cy="317160"/>
                </a:xfrm>
              </p:grpSpPr>
              <p:sp>
                <p:nvSpPr>
                  <p:cNvPr id="174" name=""/>
                  <p:cNvSpPr/>
                  <p:nvPr/>
                </p:nvSpPr>
                <p:spPr>
                  <a:xfrm rot="19860000">
                    <a:off x="6367320" y="3255840"/>
                    <a:ext cx="275760" cy="1364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19860000">
                    <a:off x="6216840" y="3317760"/>
                    <a:ext cx="27288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5862240" y="3339000"/>
                  <a:ext cx="457560" cy="320040"/>
                  <a:chOff x="5862240" y="3339000"/>
                  <a:chExt cx="457560" cy="320040"/>
                </a:xfrm>
              </p:grpSpPr>
              <p:sp>
                <p:nvSpPr>
                  <p:cNvPr id="177" name=""/>
                  <p:cNvSpPr/>
                  <p:nvPr/>
                </p:nvSpPr>
                <p:spPr>
                  <a:xfrm rot="19860000">
                    <a:off x="6031440" y="3395520"/>
                    <a:ext cx="27108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19860000">
                    <a:off x="5879160" y="3460680"/>
                    <a:ext cx="27108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9" name=""/>
              <p:cNvGrpSpPr/>
              <p:nvPr/>
            </p:nvGrpSpPr>
            <p:grpSpPr>
              <a:xfrm>
                <a:off x="7915680" y="2961720"/>
                <a:ext cx="741600" cy="578520"/>
                <a:chOff x="7915680" y="2961720"/>
                <a:chExt cx="741600" cy="578520"/>
              </a:xfrm>
            </p:grpSpPr>
            <p:grpSp>
              <p:nvGrpSpPr>
                <p:cNvPr id="180" name=""/>
                <p:cNvGrpSpPr/>
                <p:nvPr/>
              </p:nvGrpSpPr>
              <p:grpSpPr>
                <a:xfrm>
                  <a:off x="8220240" y="2961720"/>
                  <a:ext cx="437040" cy="374040"/>
                  <a:chOff x="8220240" y="2961720"/>
                  <a:chExt cx="437040" cy="374040"/>
                </a:xfrm>
              </p:grpSpPr>
              <p:sp>
                <p:nvSpPr>
                  <p:cNvPr id="181" name=""/>
                  <p:cNvSpPr/>
                  <p:nvPr/>
                </p:nvSpPr>
                <p:spPr>
                  <a:xfrm rot="19200000">
                    <a:off x="8367840" y="3033720"/>
                    <a:ext cx="27612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19200000">
                    <a:off x="8232840" y="3124080"/>
                    <a:ext cx="274320" cy="1396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7915680" y="3166560"/>
                  <a:ext cx="439560" cy="373680"/>
                  <a:chOff x="7915680" y="3166560"/>
                  <a:chExt cx="439560" cy="373680"/>
                </a:xfrm>
              </p:grpSpPr>
              <p:sp>
                <p:nvSpPr>
                  <p:cNvPr id="184" name=""/>
                  <p:cNvSpPr/>
                  <p:nvPr/>
                </p:nvSpPr>
                <p:spPr>
                  <a:xfrm rot="19200000">
                    <a:off x="8069760" y="3236760"/>
                    <a:ext cx="27108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9200000">
                    <a:off x="7930080" y="3325680"/>
                    <a:ext cx="271080" cy="1443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6" name=""/>
              <p:cNvGrpSpPr/>
              <p:nvPr/>
            </p:nvGrpSpPr>
            <p:grpSpPr>
              <a:xfrm>
                <a:off x="1534320" y="2472840"/>
                <a:ext cx="762840" cy="536400"/>
                <a:chOff x="1534320" y="2472840"/>
                <a:chExt cx="762840" cy="536400"/>
              </a:xfrm>
            </p:grpSpPr>
            <p:grpSp>
              <p:nvGrpSpPr>
                <p:cNvPr id="187" name=""/>
                <p:cNvGrpSpPr/>
                <p:nvPr/>
              </p:nvGrpSpPr>
              <p:grpSpPr>
                <a:xfrm>
                  <a:off x="1851840" y="2472840"/>
                  <a:ext cx="445320" cy="353160"/>
                  <a:chOff x="1851840" y="2472840"/>
                  <a:chExt cx="445320" cy="353160"/>
                </a:xfrm>
              </p:grpSpPr>
              <p:sp>
                <p:nvSpPr>
                  <p:cNvPr id="188" name=""/>
                  <p:cNvSpPr/>
                  <p:nvPr/>
                </p:nvSpPr>
                <p:spPr>
                  <a:xfrm rot="19440000">
                    <a:off x="2008440" y="2540160"/>
                    <a:ext cx="274320" cy="13824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19440000">
                    <a:off x="1867320" y="2617560"/>
                    <a:ext cx="272880" cy="14148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1534320" y="2656080"/>
                  <a:ext cx="445320" cy="353160"/>
                  <a:chOff x="1534320" y="2656080"/>
                  <a:chExt cx="445320" cy="353160"/>
                </a:xfrm>
              </p:grpSpPr>
              <p:sp>
                <p:nvSpPr>
                  <p:cNvPr id="191" name=""/>
                  <p:cNvSpPr/>
                  <p:nvPr/>
                </p:nvSpPr>
                <p:spPr>
                  <a:xfrm rot="19440000">
                    <a:off x="1695960" y="2720880"/>
                    <a:ext cx="267840" cy="1411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9440000">
                    <a:off x="1550160" y="2800080"/>
                    <a:ext cx="271440" cy="14292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3" name=""/>
              <p:cNvSpPr/>
              <p:nvPr/>
            </p:nvSpPr>
            <p:spPr>
              <a:xfrm rot="5880000">
                <a:off x="2213280" y="2667240"/>
                <a:ext cx="272880" cy="139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3540000">
                <a:off x="2153520" y="2582280"/>
                <a:ext cx="270000" cy="140760"/>
              </a:xfrm>
              <a:prstGeom prst="ellipse">
                <a:avLst/>
              </a:prstGeom>
              <a:noFill/>
              <a:ln w="255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2227680" y="3351600"/>
                <a:ext cx="448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99720" y="3314880"/>
                <a:ext cx="4779360" cy="1200240"/>
              </a:xfrm>
              <a:custGeom>
                <a:avLst/>
                <a:gdLst/>
                <a:ahLst/>
                <a:rect l="l" t="t" r="r" b="b"/>
                <a:pathLst>
                  <a:path w="3011" h="756">
                    <a:moveTo>
                      <a:pt x="0" y="0"/>
                    </a:moveTo>
                    <a:lnTo>
                      <a:pt x="0" y="755"/>
                    </a:lnTo>
                    <a:lnTo>
                      <a:pt x="3010" y="755"/>
                    </a:lnTo>
                    <a:lnTo>
                      <a:pt x="301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806120" y="4818240"/>
                <a:ext cx="1995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lse bottom</a:t>
                </a:r>
                <a:endParaRPr b="0" lang="en-US" sz="2400" spc="-1" strike="noStrike">
                  <a:solidFill>
                    <a:srgbClr val="000000"/>
                  </a:solidFill>
                  <a:latin typeface="Times New Roman"/>
                </a:endParaRPr>
              </a:p>
            </p:txBody>
          </p:sp>
          <p:sp>
            <p:nvSpPr>
              <p:cNvPr id="198" name=""/>
              <p:cNvSpPr/>
              <p:nvPr/>
            </p:nvSpPr>
            <p:spPr>
              <a:xfrm flipV="1">
                <a:off x="3187080" y="3666960"/>
                <a:ext cx="558360" cy="1235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owl Features</a:t>
            </a:r>
            <a:endParaRPr b="1" lang="en-US" sz="3200" spc="-1" strike="noStrike">
              <a:solidFill>
                <a:srgbClr val="fafd00"/>
              </a:solidFill>
              <a:latin typeface="Arial"/>
            </a:endParaRPr>
          </a:p>
        </p:txBody>
      </p:sp>
      <p:sp>
        <p:nvSpPr>
          <p:cNvPr id="200" name=""/>
          <p:cNvSpPr/>
          <p:nvPr/>
        </p:nvSpPr>
        <p:spPr>
          <a:xfrm>
            <a:off x="7758000" y="6400800"/>
            <a:ext cx="1233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SIRO</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ulti-Stage Scouring</a:t>
            </a:r>
            <a:endParaRPr b="1" lang="en-US" sz="3200" spc="-1" strike="noStrike">
              <a:solidFill>
                <a:srgbClr val="fafd00"/>
              </a:solidFill>
              <a:latin typeface="Arial"/>
            </a:endParaRPr>
          </a:p>
        </p:txBody>
      </p:sp>
      <p:sp>
        <p:nvSpPr>
          <p:cNvPr id="202" name=""/>
          <p:cNvSpPr/>
          <p:nvPr/>
        </p:nvSpPr>
        <p:spPr>
          <a:xfrm>
            <a:off x="3196800" y="974160"/>
            <a:ext cx="3120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nventional Hot</a:t>
            </a:r>
            <a:endParaRPr b="0" lang="en-US" sz="2800" spc="-1" strike="noStrike">
              <a:solidFill>
                <a:srgbClr val="000000"/>
              </a:solidFill>
              <a:latin typeface="Times New Roman"/>
            </a:endParaRPr>
          </a:p>
        </p:txBody>
      </p:sp>
      <p:sp>
        <p:nvSpPr>
          <p:cNvPr id="203" name=""/>
          <p:cNvSpPr/>
          <p:nvPr/>
        </p:nvSpPr>
        <p:spPr>
          <a:xfrm>
            <a:off x="3047400" y="2544120"/>
            <a:ext cx="3416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nventional Suint</a:t>
            </a:r>
            <a:endParaRPr b="0" lang="en-US" sz="2800" spc="-1" strike="noStrike">
              <a:solidFill>
                <a:srgbClr val="000000"/>
              </a:solidFill>
              <a:latin typeface="Times New Roman"/>
            </a:endParaRPr>
          </a:p>
        </p:txBody>
      </p:sp>
      <p:sp>
        <p:nvSpPr>
          <p:cNvPr id="204" name=""/>
          <p:cNvSpPr/>
          <p:nvPr/>
        </p:nvSpPr>
        <p:spPr>
          <a:xfrm>
            <a:off x="3447360" y="3915720"/>
            <a:ext cx="2626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odified Suint</a:t>
            </a:r>
            <a:endParaRPr b="0" lang="en-US" sz="2800" spc="-1" strike="noStrike">
              <a:solidFill>
                <a:srgbClr val="000000"/>
              </a:solidFill>
              <a:latin typeface="Times New Roman"/>
            </a:endParaRPr>
          </a:p>
        </p:txBody>
      </p:sp>
      <p:grpSp>
        <p:nvGrpSpPr>
          <p:cNvPr id="205" name=""/>
          <p:cNvGrpSpPr/>
          <p:nvPr/>
        </p:nvGrpSpPr>
        <p:grpSpPr>
          <a:xfrm>
            <a:off x="1066680" y="4800600"/>
            <a:ext cx="8000640" cy="459720"/>
            <a:chOff x="1066680" y="4800600"/>
            <a:chExt cx="8000640" cy="459720"/>
          </a:xfrm>
        </p:grpSpPr>
        <p:sp>
          <p:nvSpPr>
            <p:cNvPr id="206" name=""/>
            <p:cNvSpPr/>
            <p:nvPr/>
          </p:nvSpPr>
          <p:spPr>
            <a:xfrm>
              <a:off x="2209320" y="483372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52680" y="483372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629960" y="483372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07600" y="483372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86840" y="483372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8529840" y="483372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555200" y="4800600"/>
              <a:ext cx="89244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a:t>
              </a:r>
              <a:endParaRPr b="0" lang="en-US" sz="2400" spc="-1" strike="noStrike">
                <a:solidFill>
                  <a:srgbClr val="000000"/>
                </a:solidFill>
                <a:latin typeface="Times New Roman"/>
              </a:endParaRPr>
            </a:p>
          </p:txBody>
        </p:sp>
        <p:sp>
          <p:nvSpPr>
            <p:cNvPr id="213" name=""/>
            <p:cNvSpPr/>
            <p:nvPr/>
          </p:nvSpPr>
          <p:spPr>
            <a:xfrm>
              <a:off x="1066680" y="483372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714760" y="480780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15" name=""/>
            <p:cNvSpPr/>
            <p:nvPr/>
          </p:nvSpPr>
          <p:spPr>
            <a:xfrm>
              <a:off x="3925080" y="480780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16" name=""/>
            <p:cNvSpPr/>
            <p:nvPr/>
          </p:nvSpPr>
          <p:spPr>
            <a:xfrm>
              <a:off x="5164200" y="4807800"/>
              <a:ext cx="91692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AK</a:t>
              </a:r>
              <a:endParaRPr b="0" lang="en-US" sz="2000" spc="-1" strike="noStrike">
                <a:solidFill>
                  <a:srgbClr val="000000"/>
                </a:solidFill>
                <a:latin typeface="Times New Roman"/>
              </a:endParaRPr>
            </a:p>
          </p:txBody>
        </p:sp>
        <p:sp>
          <p:nvSpPr>
            <p:cNvPr id="217" name=""/>
            <p:cNvSpPr/>
            <p:nvPr/>
          </p:nvSpPr>
          <p:spPr>
            <a:xfrm>
              <a:off x="6481080" y="4807800"/>
              <a:ext cx="110124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18" name=""/>
            <p:cNvSpPr/>
            <p:nvPr/>
          </p:nvSpPr>
          <p:spPr>
            <a:xfrm>
              <a:off x="7925040" y="4807800"/>
              <a:ext cx="78876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nse</a:t>
              </a:r>
              <a:endParaRPr b="0" lang="en-US" sz="2000" spc="-1" strike="noStrike">
                <a:solidFill>
                  <a:srgbClr val="000000"/>
                </a:solidFill>
                <a:latin typeface="Times New Roman"/>
              </a:endParaRPr>
            </a:p>
          </p:txBody>
        </p:sp>
      </p:grpSp>
      <p:grpSp>
        <p:nvGrpSpPr>
          <p:cNvPr id="219" name=""/>
          <p:cNvGrpSpPr/>
          <p:nvPr/>
        </p:nvGrpSpPr>
        <p:grpSpPr>
          <a:xfrm>
            <a:off x="1941480" y="3355920"/>
            <a:ext cx="7125840" cy="398880"/>
            <a:chOff x="1941480" y="3355920"/>
            <a:chExt cx="7125840" cy="398880"/>
          </a:xfrm>
        </p:grpSpPr>
        <p:sp>
          <p:nvSpPr>
            <p:cNvPr id="220" name=""/>
            <p:cNvSpPr/>
            <p:nvPr/>
          </p:nvSpPr>
          <p:spPr>
            <a:xfrm>
              <a:off x="3218400" y="33818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96040" y="33818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840640" y="33818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19520" y="33818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529840" y="33818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446920" y="335592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26" name=""/>
            <p:cNvSpPr/>
            <p:nvPr/>
          </p:nvSpPr>
          <p:spPr>
            <a:xfrm>
              <a:off x="3723120" y="335592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27" name=""/>
            <p:cNvSpPr/>
            <p:nvPr/>
          </p:nvSpPr>
          <p:spPr>
            <a:xfrm>
              <a:off x="5030280" y="3355920"/>
              <a:ext cx="91692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AK</a:t>
              </a:r>
              <a:endParaRPr b="0" lang="en-US" sz="2000" spc="-1" strike="noStrike">
                <a:solidFill>
                  <a:srgbClr val="000000"/>
                </a:solidFill>
                <a:latin typeface="Times New Roman"/>
              </a:endParaRPr>
            </a:p>
          </p:txBody>
        </p:sp>
        <p:sp>
          <p:nvSpPr>
            <p:cNvPr id="228" name=""/>
            <p:cNvSpPr/>
            <p:nvPr/>
          </p:nvSpPr>
          <p:spPr>
            <a:xfrm>
              <a:off x="6347160" y="3355920"/>
              <a:ext cx="110124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29" name=""/>
            <p:cNvSpPr/>
            <p:nvPr/>
          </p:nvSpPr>
          <p:spPr>
            <a:xfrm>
              <a:off x="7833240" y="3355920"/>
              <a:ext cx="78876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nse</a:t>
              </a:r>
              <a:endParaRPr b="0" lang="en-US" sz="2000" spc="-1" strike="noStrike">
                <a:solidFill>
                  <a:srgbClr val="000000"/>
                </a:solidFill>
                <a:latin typeface="Times New Roman"/>
              </a:endParaRPr>
            </a:p>
          </p:txBody>
        </p:sp>
        <p:sp>
          <p:nvSpPr>
            <p:cNvPr id="230" name=""/>
            <p:cNvSpPr/>
            <p:nvPr/>
          </p:nvSpPr>
          <p:spPr>
            <a:xfrm>
              <a:off x="1941480" y="33818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2200320" y="1755720"/>
            <a:ext cx="6791040" cy="398880"/>
            <a:chOff x="2200320" y="1755720"/>
            <a:chExt cx="6791040" cy="398880"/>
          </a:xfrm>
        </p:grpSpPr>
        <p:sp>
          <p:nvSpPr>
            <p:cNvPr id="232" name=""/>
            <p:cNvSpPr/>
            <p:nvPr/>
          </p:nvSpPr>
          <p:spPr>
            <a:xfrm>
              <a:off x="3477960" y="17816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55600" y="1781640"/>
              <a:ext cx="537480" cy="280440"/>
            </a:xfrm>
            <a:prstGeom prst="rightArrow">
              <a:avLst>
                <a:gd name="adj1" fmla="val 50000"/>
                <a:gd name="adj2" fmla="val 47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32880" y="17816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243200" y="17816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453520" y="17816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697840" y="175572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38" name=""/>
            <p:cNvSpPr/>
            <p:nvPr/>
          </p:nvSpPr>
          <p:spPr>
            <a:xfrm>
              <a:off x="3990240" y="175572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39" name=""/>
            <p:cNvSpPr/>
            <p:nvPr/>
          </p:nvSpPr>
          <p:spPr>
            <a:xfrm>
              <a:off x="5293800" y="1755720"/>
              <a:ext cx="8740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ur</a:t>
              </a:r>
              <a:endParaRPr b="0" lang="en-US" sz="2000" spc="-1" strike="noStrike">
                <a:solidFill>
                  <a:srgbClr val="000000"/>
                </a:solidFill>
                <a:latin typeface="Times New Roman"/>
              </a:endParaRPr>
            </a:p>
          </p:txBody>
        </p:sp>
        <p:sp>
          <p:nvSpPr>
            <p:cNvPr id="240" name=""/>
            <p:cNvSpPr/>
            <p:nvPr/>
          </p:nvSpPr>
          <p:spPr>
            <a:xfrm>
              <a:off x="6545880" y="1755720"/>
              <a:ext cx="78876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nse</a:t>
              </a:r>
              <a:endParaRPr b="0" lang="en-US" sz="2000" spc="-1" strike="noStrike">
                <a:solidFill>
                  <a:srgbClr val="000000"/>
                </a:solidFill>
                <a:latin typeface="Times New Roman"/>
              </a:endParaRPr>
            </a:p>
          </p:txBody>
        </p:sp>
        <p:sp>
          <p:nvSpPr>
            <p:cNvPr id="241" name=""/>
            <p:cNvSpPr/>
            <p:nvPr/>
          </p:nvSpPr>
          <p:spPr>
            <a:xfrm>
              <a:off x="7782480" y="1755720"/>
              <a:ext cx="78876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nse</a:t>
              </a:r>
              <a:endParaRPr b="0" lang="en-US" sz="2000" spc="-1" strike="noStrike">
                <a:solidFill>
                  <a:srgbClr val="000000"/>
                </a:solidFill>
                <a:latin typeface="Times New Roman"/>
              </a:endParaRPr>
            </a:p>
          </p:txBody>
        </p:sp>
        <p:sp>
          <p:nvSpPr>
            <p:cNvPr id="242" name=""/>
            <p:cNvSpPr/>
            <p:nvPr/>
          </p:nvSpPr>
          <p:spPr>
            <a:xfrm>
              <a:off x="2200320" y="1781640"/>
              <a:ext cx="537840" cy="280440"/>
            </a:xfrm>
            <a:prstGeom prst="rightArrow">
              <a:avLst>
                <a:gd name="adj1" fmla="val 50000"/>
                <a:gd name="adj2" fmla="val 479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1300320" y="5804640"/>
            <a:ext cx="4838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 is modified suint bowl</a:t>
            </a:r>
            <a:endParaRPr b="0" lang="en-US" sz="2800" spc="-1" strike="noStrike">
              <a:solidFill>
                <a:srgbClr val="000000"/>
              </a:solidFill>
              <a:latin typeface="Times New Roman"/>
            </a:endParaRPr>
          </a:p>
        </p:txBody>
      </p:sp>
      <p:sp>
        <p:nvSpPr>
          <p:cNvPr id="244"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cour Examples</a:t>
            </a:r>
            <a:endParaRPr b="1" lang="en-US" sz="3200" spc="-1" strike="noStrike">
              <a:solidFill>
                <a:srgbClr val="fafd00"/>
              </a:solidFill>
              <a:latin typeface="Arial"/>
            </a:endParaRPr>
          </a:p>
        </p:txBody>
      </p:sp>
      <p:sp>
        <p:nvSpPr>
          <p:cNvPr id="246" name="PlaceHolder 2"/>
          <p:cNvSpPr>
            <a:spLocks noGrp="1"/>
          </p:cNvSpPr>
          <p:nvPr>
            <p:ph/>
          </p:nvPr>
        </p:nvSpPr>
        <p:spPr>
          <a:xfrm>
            <a:off x="1295280" y="990720"/>
            <a:ext cx="7772400" cy="50292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ntiona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tion Dru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i-bowl</a:t>
            </a:r>
            <a:endParaRPr b="1" lang="en-US" sz="2800" spc="-1" strike="noStrike">
              <a:solidFill>
                <a:srgbClr val="ffffff"/>
              </a:solidFill>
              <a:latin typeface="Arial"/>
            </a:endParaRPr>
          </a:p>
        </p:txBody>
      </p:sp>
      <p:pic>
        <p:nvPicPr>
          <p:cNvPr id="247" name="MINIBOWL" descr=""/>
          <p:cNvPicPr/>
          <p:nvPr/>
        </p:nvPicPr>
        <p:blipFill>
          <a:blip r:embed="rId1">
            <a:lum contrast="6000"/>
          </a:blip>
          <a:srcRect l="9129" t="19605" r="8717" b="18453"/>
          <a:stretch/>
        </p:blipFill>
        <p:spPr>
          <a:xfrm>
            <a:off x="1219320" y="3340080"/>
            <a:ext cx="3809880" cy="2984400"/>
          </a:xfrm>
          <a:prstGeom prst="rect">
            <a:avLst/>
          </a:prstGeom>
          <a:ln w="0">
            <a:noFill/>
          </a:ln>
        </p:spPr>
      </p:pic>
      <p:grpSp>
        <p:nvGrpSpPr>
          <p:cNvPr id="248" name=""/>
          <p:cNvGrpSpPr/>
          <p:nvPr/>
        </p:nvGrpSpPr>
        <p:grpSpPr>
          <a:xfrm>
            <a:off x="4229280" y="990720"/>
            <a:ext cx="4914720" cy="3071520"/>
            <a:chOff x="4229280" y="990720"/>
            <a:chExt cx="4914720" cy="3071520"/>
          </a:xfrm>
        </p:grpSpPr>
        <p:pic>
          <p:nvPicPr>
            <p:cNvPr id="249" name="Drumscr1" descr=""/>
            <p:cNvPicPr/>
            <p:nvPr/>
          </p:nvPicPr>
          <p:blipFill>
            <a:blip r:embed="rId2"/>
            <a:stretch/>
          </p:blipFill>
          <p:spPr>
            <a:xfrm>
              <a:off x="4229280" y="990720"/>
              <a:ext cx="4914720" cy="3071520"/>
            </a:xfrm>
            <a:prstGeom prst="rect">
              <a:avLst/>
            </a:prstGeom>
            <a:ln w="0">
              <a:noFill/>
            </a:ln>
          </p:spPr>
        </p:pic>
        <p:sp>
          <p:nvSpPr>
            <p:cNvPr id="250" name=""/>
            <p:cNvSpPr/>
            <p:nvPr/>
          </p:nvSpPr>
          <p:spPr>
            <a:xfrm flipV="1">
              <a:off x="5410080" y="2895480"/>
              <a:ext cx="15264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10080" y="2514600"/>
              <a:ext cx="1526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5714640" y="2590920"/>
              <a:ext cx="152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6781680" y="2590920"/>
              <a:ext cx="456840" cy="457200"/>
              <a:chOff x="6781680" y="2590920"/>
              <a:chExt cx="456840" cy="457200"/>
            </a:xfrm>
          </p:grpSpPr>
          <p:sp>
            <p:nvSpPr>
              <p:cNvPr id="254" name=""/>
              <p:cNvSpPr/>
              <p:nvPr/>
            </p:nvSpPr>
            <p:spPr>
              <a:xfrm>
                <a:off x="6781680" y="2590920"/>
                <a:ext cx="1526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7086240" y="2590920"/>
                <a:ext cx="152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6781680" y="2895480"/>
                <a:ext cx="15264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7086240" y="2895480"/>
                <a:ext cx="1522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flipH="1" flipV="1">
              <a:off x="5714640" y="2895480"/>
              <a:ext cx="1522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76560" y="3032280"/>
              <a:ext cx="8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Air flow</a:t>
              </a:r>
              <a:endParaRPr b="0" lang="en-US" sz="1600" spc="-1" strike="noStrike">
                <a:solidFill>
                  <a:srgbClr val="000000"/>
                </a:solidFill>
                <a:latin typeface="Times New Roman"/>
              </a:endParaRPr>
            </a:p>
          </p:txBody>
        </p:sp>
        <p:sp>
          <p:nvSpPr>
            <p:cNvPr id="260" name=""/>
            <p:cNvSpPr/>
            <p:nvPr/>
          </p:nvSpPr>
          <p:spPr>
            <a:xfrm>
              <a:off x="8229600" y="2514600"/>
              <a:ext cx="152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8153280" y="2819160"/>
              <a:ext cx="1526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flipV="1">
              <a:off x="8534160" y="2819160"/>
              <a:ext cx="152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8534160" y="2514600"/>
              <a:ext cx="152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6841440" y="6400800"/>
            <a:ext cx="215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wart, R.G. (198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ferences</a:t>
            </a:r>
            <a:endParaRPr b="1" lang="en-US" sz="3200" spc="-1" strike="noStrike">
              <a:solidFill>
                <a:srgbClr val="fafd00"/>
              </a:solidFill>
              <a:latin typeface="Arial"/>
            </a:endParaRPr>
          </a:p>
        </p:txBody>
      </p:sp>
      <p:sp>
        <p:nvSpPr>
          <p:cNvPr id="2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isted in Notes section</a:t>
            </a:r>
            <a:endParaRPr b="1" lang="en-US" sz="2800" spc="-1" strike="noStrike">
              <a:solidFill>
                <a:srgbClr val="ffffff"/>
              </a:solidFill>
              <a:latin typeface="Arial"/>
            </a:endParaRPr>
          </a:p>
        </p:txBody>
      </p:sp>
      <p:sp>
        <p:nvSpPr>
          <p:cNvPr id="267"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3:29:50Z</dcterms:created>
  <dc:creator>Peter Auer</dc:creator>
  <dc:description/>
  <dc:language>en-US</dc:language>
  <cp:lastModifiedBy>Hdaily</cp:lastModifiedBy>
  <cp:lastPrinted>2000-02-03T09:09:47Z</cp:lastPrinted>
  <dcterms:modified xsi:type="dcterms:W3CDTF">2000-03-21T03:44:39Z</dcterms:modified>
  <cp:revision>4</cp:revision>
  <dc:subject/>
  <dc:title>Scouring Systems</dc:title>
</cp:coreProperties>
</file>