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5EDC-CDFB-4CB2-8A9A-9CB3EBC7D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brief overview of the later stage processes of fabric and garment manufacture,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ving is the interlacing of two sets of yarns on a machine called a loom.  The yarns parallel to the fabric direction are called the WARP yarns.  The yarns perpendicular to the fabric direction are called the WEF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ending on the manipulation of these yarns sets, the fabric formed can be quite endless.  Warp yarns are able to be manipulated individually, although the machinery gets more complex.  Usually the warp yarns are raised and lowered in sets to form a gap (“shed”) so that a weft yarn can be passed across the fabic width.  The next warp movement traps the weft yarn, formimg the fabric.  The fabric shown in this slide is the simplest interlacing called a plain wea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tant raising and lowering of warp yarns leads to high abrasion forces.  These are overcome by either coating the warp yarns with a “size” to protect them.  In usual practice the yarns are also plied yarns.  For more information see the “Yarn Production” module.  Modern looms use high speed weft insertion which places demands on the strength of the wef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ft knitting is the interlooping of yarn on a knitting machine.  The simplest weft knitted fabrics can use only one looped yarn.  More complex fabrics use more yarns and more complex loops.  The knitted fabric in this slide is the simplest weft knitted fabric.  Weft knitting is the most common way of producing knitted apparel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way of producing knitted fabrics is by warp knitting (not shown).  In this technique parallel warp yarns are crossed over each other and interlaced to form a fabric.  This technique is used in the production of some domestic textiles such as curtains.  False lace effects are possible with this techniqu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rment Make-up is the process of taking finished fabric and converting it into garments, based on design patterns.  The process includes such stages as laying out, cutting, and se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laying out and cutting of fabric to a pattern.  Multiple layers of the fabric are usually processed together.  The latest textile cutting apparatus uses lasers to cut the fabric.  Patterns can be generated using CAD/CAM software to maximise fabric usage and design patterns quick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wing process is mainly manual, and employs machinists to convert the 2D fabric into 3D gar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eing process aims to add colour to processed input by adding organic molecules which become intimately integrated into the fibr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ce and development of dyes and dyeing technology is a complete couple of subjects themselves, and is beyond the present scope of this sub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 most cases dyeing aims to be permanent, without unduly damaging the fibre.  This has implications for blending, in that if one fibre requires conditions to be dyed which would lead to damage of the other fibre, then the dyeing of the fibres would have to occur separ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ood example would be the blending of wool and polyester.  Polyester is difficult to dye at conditions suitable for wool.  The conditions required are far more severe, involving high temperature and pressure, and special dyeing agents and different dye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other hand nylon dyeing can be achieved at similar conditions to wool, using similar dyes and therefore the dyeing can be achieved in a blend, although care must still be taken with the relatively weak wool fibre where strength loss can be critic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milar dyeing behaviour of wool and nylon has been the reason that the composition of wool packs has changed from high density polyethylene (HDPE) tape, which is impossible to dye with current technology, to nylon multi-filamen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of the conditions required to dye wool has lead to the development of Low Temperature Dyeing (Sirolan LTD) by CSIRO DWT.  This process achieves successful dyeing of wool at relatively mild conditions, therefore avoiding much of the strength loss inherent in wool dyeing.  Dyeing equipment needs to be controlled accurately for Sirolan LTD to be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ishing process aims to prepare the input for garment manufacture and ultimately consumer us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 will improve the dimensional stability of the input, and also affect the aesthetics of the input, such things as drape, handle, coverage, surfac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the wool fibre, finishing is achieved with mainly water and heat, although some chemicals are used to augment the process, especially in Eur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changes that occur involve a relaxation of the forces inherent in a processed fabric by breaking the chemical bonds within the fibres, and changing the yarn configuration to a degree, and then setting the fabric by allowing new bonds to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riety of machines used in wool finishing is fairly extensive.  The processes are things l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ab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cat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ishing remains somewhat of an “art”, although the chemical and physical processes are now quite well understood, and the ability to achieve good finishing should be in the reach of all finish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r Stage Proces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eaving &amp; Knitt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v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erlaced sets of yarn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it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ft knit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ooped yarn</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rp knit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locked warp yarns</a:t>
            </a:r>
            <a:endParaRPr b="1" lang="en-US" sz="1800" spc="-1" strike="noStrike">
              <a:solidFill>
                <a:srgbClr val="ffffff"/>
              </a:solidFill>
              <a:latin typeface="Arial"/>
            </a:endParaRPr>
          </a:p>
        </p:txBody>
      </p:sp>
      <p:pic>
        <p:nvPicPr>
          <p:cNvPr id="52" name="WEAVE" descr=""/>
          <p:cNvPicPr/>
          <p:nvPr/>
        </p:nvPicPr>
        <p:blipFill>
          <a:blip r:embed="rId1">
            <a:lum contrast="12000"/>
          </a:blip>
          <a:stretch/>
        </p:blipFill>
        <p:spPr>
          <a:xfrm>
            <a:off x="1371600" y="2057400"/>
            <a:ext cx="3200400" cy="2583000"/>
          </a:xfrm>
          <a:prstGeom prst="rect">
            <a:avLst/>
          </a:prstGeom>
          <a:ln w="0">
            <a:noFill/>
          </a:ln>
        </p:spPr>
      </p:pic>
      <p:pic>
        <p:nvPicPr>
          <p:cNvPr id="53" name="KNIT" descr=""/>
          <p:cNvPicPr/>
          <p:nvPr/>
        </p:nvPicPr>
        <p:blipFill>
          <a:blip r:embed="rId2">
            <a:lum contrast="18000"/>
          </a:blip>
          <a:stretch/>
        </p:blipFill>
        <p:spPr>
          <a:xfrm>
            <a:off x="4800600" y="2057400"/>
            <a:ext cx="4114800" cy="2616120"/>
          </a:xfrm>
          <a:prstGeom prst="rect">
            <a:avLst/>
          </a:prstGeom>
          <a:ln w="0">
            <a:noFill/>
          </a:ln>
        </p:spPr>
      </p:pic>
      <p:sp>
        <p:nvSpPr>
          <p:cNvPr id="54"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rment Make-up</a:t>
            </a:r>
            <a:endParaRPr b="1" lang="en-US" sz="3200" spc="-1" strike="noStrike">
              <a:solidFill>
                <a:srgbClr val="fafd00"/>
              </a:solidFill>
              <a:latin typeface="Arial"/>
            </a:endParaRPr>
          </a:p>
        </p:txBody>
      </p:sp>
      <p:sp>
        <p:nvSpPr>
          <p:cNvPr id="56"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vert fabric to gar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ttern-mak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ying ou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tt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wing</a:t>
            </a:r>
            <a:endParaRPr b="1" lang="en-US" sz="2000" spc="-1" strike="noStrike">
              <a:solidFill>
                <a:srgbClr val="ffffff"/>
              </a:solidFill>
              <a:latin typeface="Arial"/>
            </a:endParaRPr>
          </a:p>
        </p:txBody>
      </p:sp>
      <p:pic>
        <p:nvPicPr>
          <p:cNvPr id="57" name="Pattern1" descr=""/>
          <p:cNvPicPr/>
          <p:nvPr/>
        </p:nvPicPr>
        <p:blipFill>
          <a:blip r:embed="rId1"/>
          <a:stretch/>
        </p:blipFill>
        <p:spPr>
          <a:xfrm>
            <a:off x="1676520" y="3657600"/>
            <a:ext cx="6813360" cy="2381400"/>
          </a:xfrm>
          <a:prstGeom prst="rect">
            <a:avLst/>
          </a:prstGeom>
          <a:ln w="0">
            <a:noFill/>
          </a:ln>
        </p:spPr>
      </p:pic>
      <p:sp>
        <p:nvSpPr>
          <p:cNvPr id="58"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yeing</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ven (difficul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tch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man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fibre damage</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longed h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id dyes (wool)</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am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ngth lo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bric performance</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2"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fferent dy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evere conditi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 dy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 condi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packs</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temp dye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ise strength lo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lan LT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ishing</a:t>
            </a:r>
            <a:endParaRPr b="1" lang="en-US" sz="3200" spc="-1" strike="noStrike">
              <a:solidFill>
                <a:srgbClr val="fafd00"/>
              </a:solidFill>
              <a:latin typeface="Arial"/>
            </a:endParaRPr>
          </a:p>
        </p:txBody>
      </p:sp>
      <p:sp>
        <p:nvSpPr>
          <p:cNvPr id="6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mensional stabi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esthetic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ve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rface</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mical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abb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at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earing</a:t>
            </a:r>
            <a:endParaRPr b="1" lang="en-US" sz="2000" spc="-1" strike="noStrike">
              <a:solidFill>
                <a:srgbClr val="ffffff"/>
              </a:solidFill>
              <a:latin typeface="Arial"/>
            </a:endParaRPr>
          </a:p>
        </p:txBody>
      </p:sp>
      <p:sp>
        <p:nvSpPr>
          <p:cNvPr id="66"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34:15Z</dcterms:created>
  <dc:creator>USER</dc:creator>
  <dc:description/>
  <dc:language>en-US</dc:language>
  <cp:lastModifiedBy>Hdaily</cp:lastModifiedBy>
  <cp:lastPrinted>2000-02-03T09:09:47Z</cp:lastPrinted>
  <dcterms:modified xsi:type="dcterms:W3CDTF">2000-03-21T00:49:50Z</dcterms:modified>
  <cp:revision>2</cp:revision>
  <dc:subject/>
  <dc:title>Later Stage Processing</dc:title>
</cp:coreProperties>
</file>