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C93B-7976-4495-9008-F50FB19B6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sists of questions and answers about the most efficient way to process two (2) consignments which have different raw wool characteristics.  The answers taken from  different view points will allow the reader to re-enforce their understanding of the relationships between raw wool properties of consignments and early stage processing par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envisaged that the reader will have already read the various early stage processing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formation was forthcoming from active industry participants in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quired or desirable information would includ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scription of wool types in the batch and their relative proportions, usually on a sale lot basi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easy staple length, strength and percent mid-break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stimated top length</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M description, e.g. seed, burr hardheads, twigs, shive would be very useful but is not currently availab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op and noil yield</a:t>
            </a:r>
            <a:endParaRPr b="0" lang="en-US" sz="1200" spc="-1" strike="noStrike">
              <a:solidFill>
                <a:srgbClr val="000000"/>
              </a:solidFill>
              <a:latin typeface="Times New Roman"/>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Routine tests in Proces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red woo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gain, residual wool g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ed slive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ver weight, TF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parer gillboxes</a:t>
            </a:r>
            <a:r>
              <a:rPr b="0" lang="en-GB" sz="1200" spc="-1" strike="noStrike">
                <a:solidFill>
                  <a:srgbClr val="000000"/>
                </a:solidFill>
                <a:latin typeface="Times New Roman"/>
              </a:rPr>
              <a:t>	</a:t>
            </a:r>
            <a:r>
              <a:rPr b="0" lang="en-GB" sz="1200" spc="-1" strike="noStrike">
                <a:solidFill>
                  <a:srgbClr val="000000"/>
                </a:solidFill>
                <a:latin typeface="Times New Roman"/>
              </a:rPr>
              <a:t>sliver weight on all gillbox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st Finishe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ver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nd Finishe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ver weight, evenness, top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Routine testing - Laborato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ga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cron &amp; CV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uteur &amp; CV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vennes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rk or coloured fib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FM</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lver weigh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eps - large and smal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lub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M  (short and lo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rr (small and lo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commercial environment card clothing and card settings are not normally considered to be variables and are usually maintained for all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ideal world mills would change machine settings, speeds and pinning for all different types of wool.  Probably combing oils and shapes and sizes of pins would also change but this cannot happen because of cos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lls instead buy the types of wool that do not require adjustment (i.e. the strongest) and other wools (weak) get downgraded to where they will perform in the mil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will address the answers to the following questions from both the researchers and processors point of view, keeping in mind the need for achieving maximum top length and minimum noil for the above 2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What is different about these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How would you vary each processing stage to cope with the differences in these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Which consignment would process with the least trou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What do you think you could be doing differently in 20 years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hat are your main priorities when processing these consignments? Do these properties change if you are a commission comber or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What else would you like to know about the properties of the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What sort of tests would you perform on the wool during and after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How do you think the ideal processing situation may differ in the commercial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000000"/>
                </a:solidFill>
                <a:uFillTx/>
                <a:latin typeface="Times New Roman"/>
              </a:rPr>
              <a:t>Wool Processor 1 (</a:t>
            </a:r>
            <a:r>
              <a:rPr b="0" i="1" lang="en-GB" sz="1200" spc="-1" strike="noStrike">
                <a:solidFill>
                  <a:srgbClr val="000000"/>
                </a:solidFill>
                <a:latin typeface="Times New Roman"/>
              </a:rPr>
              <a:t>commission com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s which might affect processing performance are micron, length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000000"/>
                </a:solidFill>
                <a:uFillTx/>
                <a:latin typeface="Times New Roman"/>
              </a:rPr>
              <a:t>Wool Researcher 1</a:t>
            </a:r>
            <a:r>
              <a:rPr b="0" i="1" lang="en-GB" sz="1200" spc="-1" strike="noStrike">
                <a:solidFill>
                  <a:srgbClr val="000000"/>
                </a:solidFill>
                <a:latin typeface="Times New Roman"/>
              </a:rPr>
              <a:t>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and hence the finer wool will be prone to entanglement; due to the higher specific surface area it will be more difficult to scour, and it will have a higher wax content. The staple length of 65mm is quite short and care will need to be taken with respect to gillbox setting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000000"/>
                </a:solidFill>
                <a:uFillTx/>
                <a:latin typeface="Times New Roman"/>
              </a:rPr>
              <a:t>Wool Researcher 3</a:t>
            </a:r>
            <a:r>
              <a:rPr b="0" i="1" lang="en-GB" sz="1200" spc="-1" strike="noStrike">
                <a:solidFill>
                  <a:srgbClr val="000000"/>
                </a:solidFill>
                <a:latin typeface="Times New Roman"/>
              </a:rPr>
              <a:t>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posed is: How would processing be different for two wool lots of which one is an 18 micron FNF and the other 23 micron medium VM level?. The big difference between the wools is micron.  The VM level is well within the range of performance for modern combs so that setting differences are unnecessa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commission combe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es are selected in both cases into subsets of 8 to 12 bales.  Each subset of bales must mirror as closely as possible the entire production batch.  The selection parameters are mainly micron and length but VM may be taken into accou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Researcher 1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ise blending by engineering bale selection process to ensure representative lots are generated in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Processor 1</a:t>
            </a:r>
            <a:r>
              <a:rPr b="0" lang="en-GB" sz="1100" spc="-1" strike="noStrike">
                <a:solidFill>
                  <a:srgbClr val="000000"/>
                </a:solidFill>
                <a:latin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e do not have a choice of machine type and all wool is scoured on a Fleissner scour.  This system has minimum agitation and requires less detergent to scour the wool.  Both of these factors allow for greater mean fibre length in the top which makes the system preferable for finer wools.  The advantage for additional top length would still be obtained with the coarser wool but to a lesser extent.  In processing the 18µm wool we may marginally increase detergent concentration but we would certainly produce at a lower rate than for coarse wool.  Drying of the finer wool is more difficult so it may be necessary to increase the residence time in the dryer which is possible because of the lower production rate and is preferable to increasing the drying temperature which could potentially discolour the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Researcher 1</a:t>
            </a:r>
            <a:r>
              <a:rPr b="0" lang="en-GB" sz="1100" spc="-1" strike="noStrike">
                <a:solidFill>
                  <a:srgbClr val="000000"/>
                </a:solidFill>
                <a:latin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suggest that Consignment 1 be scoured in an aqueous conventional scour using the Siroscour principle to maximise colour and optimise effluent management and hence reduce costs.  The detergent level would be 0.5% on weight of fibre (owf) and the wool would emerge from the dryer at a 10-12% regain to aid VM removal during carding.  As for consignment 2, either Fleissner or Siroscour could be used to minimise entanglement, incorporating long rinse bowls for optimum rinsing and thereby cleaning of fibre surface.  The production rate would be decreased by about 25% with a detergent level of 1% (owf).  Harrow fork, dunker etc. speeds would be reduced to minimise agitation (slow speed, low dwell).  The use of scoured wool openers and lengths of pneumatic piping would be minimised.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Researcher 2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iroscour technology is capable of handling wool down to 15µm.  Finer wool would have less opening to minimise disruption of staple structure and would be scoured at a slower rate, slower rake speed, longer dwell time.  The Fleissner drum scour is not necessarily thought to be optimal for finer wool due to the greater level of opening required, and also due to the presence of “micro-entanglement”.  Solvent scouring is thought to lead to relatively high levels of entanglements (De Smet) and concern is expressed with respect to the OHS issues involved with the use of 1,1,2-trichloroethane.</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a:t>
            </a:r>
            <a:r>
              <a:rPr b="0" lang="en-AU" sz="1000" spc="-1" strike="noStrike">
                <a:solidFill>
                  <a:srgbClr val="000000"/>
                </a:solidFill>
                <a:latin typeface="Times New Roman"/>
              </a:rPr>
              <a:t>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ard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mmercial environment card clothing and card settings are not normally considered to be variables and are usually maintained constant for all wool types.  Card speed is also maintained constant but fibre density would be reduced by reducing the feed rate of the card for the finer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Apply 0.5% owf of a fatty acid ester (fae) lubricant.  Card speed doesn’t affect quality and speed is card specific and production determined.  Production  &amp; speed is linked to combing production balance.  Fresh fibre density (FFD) of 1.0g/m</a:t>
            </a:r>
            <a:r>
              <a:rPr b="0" lang="en-GB" sz="1000" spc="-1" strike="noStrike" baseline="30000">
                <a:solidFill>
                  <a:srgbClr val="000000"/>
                </a:solidFill>
                <a:latin typeface="Times New Roman"/>
              </a:rPr>
              <a:t>2 </a:t>
            </a:r>
            <a:r>
              <a:rPr b="0" lang="en-GB" sz="1000" spc="-1" strike="noStrike">
                <a:solidFill>
                  <a:srgbClr val="000000"/>
                </a:solidFill>
                <a:latin typeface="Times New Roman"/>
              </a:rPr>
              <a:t>is recommended providing comb production needs are met.  FFD to 1.3g/m</a:t>
            </a:r>
            <a:r>
              <a:rPr b="0" lang="en-GB" sz="1000" spc="-1" strike="noStrike" baseline="30000">
                <a:solidFill>
                  <a:srgbClr val="000000"/>
                </a:solidFill>
                <a:latin typeface="Times New Roman"/>
              </a:rPr>
              <a:t>2 </a:t>
            </a:r>
            <a:r>
              <a:rPr b="0" lang="en-GB" sz="1000" spc="-1" strike="noStrike">
                <a:solidFill>
                  <a:srgbClr val="000000"/>
                </a:solidFill>
                <a:latin typeface="Times New Roman"/>
              </a:rPr>
              <a:t>would be acceptable for this micron. Card clothing as recommended by the card wire manufacturer is suitable as are card settings. Selection of final recirculation worker is important in determining Hauteur and noil.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Apply 0.5 to 0.8% owf of a fae lubricant.   Ensure total fatty matter (TFM) is &lt;1.0 to 1.2%.  The recommended FFD would be 0.7g/m</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Adjust speed and/or FFD for combing production.  Settings on swift/worker/doffer should be as close as practical. SDSR at maximum.  All wire should be maintained and cleaned carefull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Gill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not viable to change pinning on gill boxes for different types of wool.  The number of gillings we use is three.  Although under certain circumstances it may be possible to omit one gilling this is not considered desirable for any wool and could adversely affect romaine.  The loading and draft on the 1st preparer gill box is automatically reduced for fine wool because this machine is directly linked to the cards.  The nip settings (ratch) in the preparers would be adjusted depending on the length of the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is very standard.  Use manufacturer recommendations, although 10% higher loadings and speed are possible.  Set the ratch at 40m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would have the ratch set at 35 or 30mm and the feed loading would be reduced by 15 to 20%. Drafts would be lower especially with this length and fineness. Four gillings would be preferred.  Pin densities at standard setting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2767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a:t>
            </a:r>
            <a:r>
              <a:rPr b="0" lang="en-AU" sz="1000" spc="-1" strike="noStrike">
                <a:solidFill>
                  <a:srgbClr val="000000"/>
                </a:solidFill>
                <a:latin typeface="Times New Roman"/>
              </a:rPr>
              <a:t>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omb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r>
              <a:rPr b="0" lang="en-GB" sz="1000" spc="-1" strike="noStrike">
                <a:solidFill>
                  <a:srgbClr val="000000"/>
                </a:solidFill>
                <a:latin typeface="Times New Roman"/>
              </a:rPr>
              <a:t>: It is not economically possible to change pinning on the combs, and an optimised pinning arrangement is used for all types.  The comb loading would be reduced for the finer wool by reducing the sliver weight of the feed slivers.  The drawing off adjustment would be matched to the length of the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  </a:t>
            </a:r>
            <a:r>
              <a:rPr b="0" lang="en-GB" sz="1000" spc="-1" strike="noStrike">
                <a:solidFill>
                  <a:srgbClr val="000000"/>
                </a:solidFill>
                <a:latin typeface="Times New Roman"/>
              </a:rPr>
              <a:t>Recommended comb parameters would b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24ends x 20g/m feed, low number of teeth on feed ratchet (feed gill), highest speed, a nip setting at 31mm and 28 teeth in top comb.</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24 ends x 15g/m feed with a high number of teeth on the feed gill to reduce feed, intermediate to low speed with a nip setting at 34 or 36mm, top comb with 30 to 32 teeth and a special comb cylind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3 (comb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VM level is well within the range of performance for modern combs.  Fibre diameter forces the major changes in combing, which is the loading.  The rule of thumb for combing is that the loading is about 20 times the micron.  Thus for the 18µm wool the input loading would be 360 ktex, which compares with 460ktex for the 23 µm  wool.  The number of fibres in the input is 1.4 million for the 18µm fibre compared with approx. 0.8 million for the 23µm  fibre.  This simple calculation shows that although the loading has decreased for the finer fibre, there are still more fibres present than for the coarser fibre.  The number of fibres in the feed has obvious implications for the operation of the circular and front combs.  The pinning for the two fibres will remain the same as the recommended comb settings cover the range 18 - 25 micron.  However, if a line was permanently set up for one fibre then some fine tuning would probably occur.  For example,  for the 23µm  wool the pinning on the circular comb would be slightly coarser by the use of a coarser Vario bar (S&amp;U) and changing the front comb from 28ppcm to 25ppcm.  Alternatively, if the line was set up for fine wool the most likely change would be to go to a front comb of 30ppcm, but finer Vario bars on the circular comb may be possible.  This would be worked out over time and the knowledge would be proprietar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Finish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r>
              <a:rPr b="0" lang="en-GB" sz="1000" spc="-1" strike="noStrike">
                <a:solidFill>
                  <a:srgbClr val="000000"/>
                </a:solidFill>
                <a:latin typeface="Times New Roman"/>
              </a:rPr>
              <a:t>: The 1st finisher is directly linked to the combs therefore can only process what is presented.  This is controlled by varying the speed of the finisher to maintain a constant load through the gillbox.</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 </a:t>
            </a:r>
            <a:r>
              <a:rPr b="0" lang="en-GB" sz="1000" spc="-1" strike="noStrike">
                <a:solidFill>
                  <a:srgbClr val="000000"/>
                </a:solidFill>
                <a:latin typeface="Times New Roman"/>
              </a:rPr>
              <a:t>Recommended finisher gill settings would b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Standard pinning of 5 and 6 tpi, a draft of 8 to 10, ratch set at 40mm, high spe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Pinning of 6 to 7 tpi, draft 4.5 to 6,  ratch 35 or 30mm, intermediate spe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estion 3: The consensus answer was Consignment 1, if all other factors are eq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estion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Researcher 1</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 years time we may have alternative scouring systems combining solvent and water.  In the carding area we could have ultra-high speed, fully enclosed cards using a swift / morel only.  As in cotton precleaning and opening would be accomplished on 4m wide, high pressure foreparts (i.e. equivalent to cotton blowroom).  Gills will use higher drafts with different draft control mechanisms and combs will run at 300 cycles per minu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Processor 1 (commission comber): </a:t>
            </a:r>
            <a:r>
              <a:rPr b="0" lang="en-GB" sz="1100" spc="-1" strike="noStrike">
                <a:solidFill>
                  <a:srgbClr val="000000"/>
                </a:solidFill>
                <a:latin typeface="Times New Roman"/>
              </a:rPr>
              <a:t>The main priorities for both consignments is to maximise top yield and mean fibre length and minimise CVH, VM, neps and Uster evenness.  As far as the differences between a commission comber and topmaker are concern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 commission comber works under more pressure than a topmaker because he does not have ownership of the wool.  It is very important that quality of top is maximised in line with the client requirement and that romaine is minimised to maximise the ultimate return to the client.  If client requirements are not met, the top has to be reprocessed at the commission combers expense.  Further more the client is processing wool at other mills and can compare the performance of one processor against anoth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b) Although the topmaker has the same ultimate aim as the commissioner comber he has at the same time more flexibility and more options available to him for example;</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 Knowing the value of top and noil the topmaker can optimise romaine and top production, possibly producing more noil to produce the batch faster, and hence reduce the unit costs of top production,</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2) If quality expectations are not met, the wool can be either reprocessed or put into stock for ultimate sale to another client, whichever is the more economic solution,</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3) If parameters such as yield, CVH or length are out of specification the topmaker can add more greasy wool from stock to increase batch weight, or can blend tops from stock to rectify length and CVH problem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Processor 2 (Topmaker):</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mmission combers are paid for the total product produced i.e. top and noil, the argument being that the amount of noil produced does not directly affect the income of the combers and they are not concerned with it that much.  In some cases the commission comber retains the noil which can then be sold as a raw material in woollen industry.  This would only be the case when the contract between the owner of the wool and comber did not specify the ownership of the noi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ignment Processing Example</a:t>
            </a:r>
            <a:br>
              <a:rPr sz="3200"/>
            </a:b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6. What else would you like to know about the properties of the consignments?</a:t>
            </a:r>
            <a:endParaRPr b="1" lang="en-US" sz="2800" spc="-1" strike="noStrike">
              <a:solidFill>
                <a:srgbClr val="fafd00"/>
              </a:solidFill>
              <a:latin typeface="Arial"/>
            </a:endParaRPr>
          </a:p>
        </p:txBody>
      </p:sp>
      <p:sp>
        <p:nvSpPr>
          <p:cNvPr id="81" name="PlaceHolder 2"/>
          <p:cNvSpPr>
            <a:spLocks noGrp="1"/>
          </p:cNvSpPr>
          <p:nvPr>
            <p:ph/>
          </p:nvPr>
        </p:nvSpPr>
        <p:spPr>
          <a:xfrm>
            <a:off x="1371600" y="1371240"/>
            <a:ext cx="7772400" cy="39625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proportion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asy staple length, strength &amp; POB</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d top lengt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descri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amp; noil yield</a:t>
            </a:r>
            <a:endParaRPr b="1" lang="en-US" sz="2800" spc="-1" strike="noStrike">
              <a:solidFill>
                <a:srgbClr val="ffffff"/>
              </a:solidFill>
              <a:latin typeface="Arial"/>
            </a:endParaRPr>
          </a:p>
        </p:txBody>
      </p:sp>
      <p:sp>
        <p:nvSpPr>
          <p:cNvPr id="8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763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7. What sort of tests would you perform on the wool during and after processing?</a:t>
            </a:r>
            <a:endParaRPr b="1" lang="en-US" sz="2800" spc="-1" strike="noStrike">
              <a:solidFill>
                <a:srgbClr val="fafd00"/>
              </a:solidFill>
              <a:latin typeface="Arial"/>
            </a:endParaRPr>
          </a:p>
        </p:txBody>
      </p:sp>
      <p:sp>
        <p:nvSpPr>
          <p:cNvPr id="84" name="PlaceHolder 2"/>
          <p:cNvSpPr>
            <a:spLocks noGrp="1"/>
          </p:cNvSpPr>
          <p:nvPr>
            <p:ph/>
          </p:nvPr>
        </p:nvSpPr>
        <p:spPr>
          <a:xfrm>
            <a:off x="1295280" y="1828800"/>
            <a:ext cx="381024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ring process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ai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idual grea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ver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 Fatty Matter (TF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ven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 weight</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5" name="PlaceHolder 3"/>
          <p:cNvSpPr>
            <a:spLocks noGrp="1"/>
          </p:cNvSpPr>
          <p:nvPr>
            <p:ph/>
          </p:nvPr>
        </p:nvSpPr>
        <p:spPr>
          <a:xfrm>
            <a:off x="4876920" y="1828800"/>
            <a:ext cx="411480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process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ai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 &amp; CV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uteur &amp; CV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ven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rk /coloured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H, TF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lver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ps, slub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8"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8. How do you think the ideal processing situation may differ in the commercial world?</a:t>
            </a:r>
            <a:endParaRPr b="1" lang="en-US" sz="2800" spc="-1" strike="noStrike">
              <a:solidFill>
                <a:srgbClr val="fafd00"/>
              </a:solidFill>
              <a:latin typeface="Arial"/>
            </a:endParaRPr>
          </a:p>
        </p:txBody>
      </p:sp>
      <p:sp>
        <p:nvSpPr>
          <p:cNvPr id="89" name="PlaceHolder 2"/>
          <p:cNvSpPr>
            <a:spLocks noGrp="1"/>
          </p:cNvSpPr>
          <p:nvPr>
            <p:ph/>
          </p:nvPr>
        </p:nvSpPr>
        <p:spPr>
          <a:xfrm>
            <a:off x="1295280" y="1980720"/>
            <a:ext cx="7772400" cy="4038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 clothing and setting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considered variable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st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s, speed, pinn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 of woo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quire no adjustment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situation</a:t>
            </a:r>
            <a:endParaRPr b="1" lang="en-US" sz="3200" spc="-1" strike="noStrike">
              <a:solidFill>
                <a:srgbClr val="fafd00"/>
              </a:solidFill>
              <a:latin typeface="Arial"/>
            </a:endParaRPr>
          </a:p>
        </p:txBody>
      </p:sp>
      <p:sp>
        <p:nvSpPr>
          <p:cNvPr id="50" name="PlaceHolder 2"/>
          <p:cNvSpPr>
            <a:spLocks noGrp="1"/>
          </p:cNvSpPr>
          <p:nvPr>
            <p:ph/>
          </p:nvPr>
        </p:nvSpPr>
        <p:spPr>
          <a:xfrm>
            <a:off x="1142640" y="3124080"/>
            <a:ext cx="2514600" cy="2819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ng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ng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p:txBody>
      </p:sp>
      <p:sp>
        <p:nvSpPr>
          <p:cNvPr id="51" name="PlaceHolder 3"/>
          <p:cNvSpPr>
            <a:spLocks noGrp="1"/>
          </p:cNvSpPr>
          <p:nvPr>
            <p:ph/>
          </p:nvPr>
        </p:nvSpPr>
        <p:spPr>
          <a:xfrm>
            <a:off x="2895120" y="3124080"/>
            <a:ext cx="624852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Consignment 1</a:t>
            </a:r>
            <a:r>
              <a:rPr b="1" lang="en-GB" sz="2400" spc="-1" strike="noStrike">
                <a:solidFill>
                  <a:srgbClr val="ffffff"/>
                </a:solidFill>
                <a:latin typeface="Arial"/>
              </a:rPr>
              <a:t>     </a:t>
            </a:r>
            <a:r>
              <a:rPr b="1" lang="en-GB" sz="2400" spc="-1" strike="noStrike" u="sng">
                <a:solidFill>
                  <a:srgbClr val="ffffff"/>
                </a:solidFill>
                <a:uFillTx/>
                <a:latin typeface="Arial"/>
              </a:rPr>
              <a:t>Consignment 2</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3 µ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8 µ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0-85 m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60-65 m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5 N/ktex</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5 N/ktex</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ediu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low</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
          <p:cNvSpPr/>
          <p:nvPr/>
        </p:nvSpPr>
        <p:spPr>
          <a:xfrm>
            <a:off x="1203480" y="762120"/>
            <a:ext cx="7635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You are a wool processor and must process 2 consignments of equal size in the most efficient way - longest top, least noil</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ssume that it is possible to change processing machine settings and speeds etc.</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1. What is different about these consignments?</a:t>
            </a:r>
            <a:endParaRPr b="1" lang="en-US" sz="3200" spc="-1" strike="noStrike">
              <a:solidFill>
                <a:srgbClr val="fafd00"/>
              </a:solidFill>
              <a:latin typeface="Arial"/>
            </a:endParaRPr>
          </a:p>
        </p:txBody>
      </p:sp>
      <p:sp>
        <p:nvSpPr>
          <p:cNvPr id="55" name="PlaceHolder 2"/>
          <p:cNvSpPr>
            <a:spLocks noGrp="1"/>
          </p:cNvSpPr>
          <p:nvPr>
            <p:ph/>
          </p:nvPr>
        </p:nvSpPr>
        <p:spPr>
          <a:xfrm>
            <a:off x="1295280" y="1523520"/>
            <a:ext cx="7772400" cy="4496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length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M</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95280" y="1980720"/>
            <a:ext cx="7772400" cy="4038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lending / Sor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le subse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bale selec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type="title"/>
          </p:nvPr>
        </p:nvSpPr>
        <p:spPr>
          <a:xfrm>
            <a:off x="1219320" y="152280"/>
            <a:ext cx="76197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1" lang="en-US" sz="2800" spc="-1" strike="noStrike">
              <a:solidFill>
                <a:srgbClr val="fafd00"/>
              </a:solidFill>
              <a:latin typeface="Arial"/>
            </a:endParaRPr>
          </a:p>
        </p:txBody>
      </p:sp>
      <p:sp>
        <p:nvSpPr>
          <p:cNvPr id="5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295280" y="1905120"/>
            <a:ext cx="7772400" cy="4114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cour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imise entangl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gent leve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 rat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type="title"/>
          </p:nvPr>
        </p:nvSpPr>
        <p:spPr>
          <a:xfrm>
            <a:off x="1218960" y="152280"/>
            <a:ext cx="79246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1" lang="en-US" sz="2800" spc="-1" strike="noStrike">
              <a:solidFill>
                <a:srgbClr val="fafd00"/>
              </a:solidFill>
              <a:latin typeface="Arial"/>
            </a:endParaRPr>
          </a:p>
        </p:txBody>
      </p:sp>
      <p:sp>
        <p:nvSpPr>
          <p:cNvPr id="6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8960" y="1980720"/>
            <a:ext cx="3886200" cy="39625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brica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fibre den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5181120" y="1980720"/>
            <a:ext cx="3886200" cy="39625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gill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ch set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a:t>
            </a:r>
            <a:endParaRPr b="1" lang="en-US" sz="2400" spc="-1" strike="noStrike">
              <a:solidFill>
                <a:srgbClr val="ffffff"/>
              </a:solidFill>
              <a:latin typeface="Arial"/>
            </a:endParaRPr>
          </a:p>
        </p:txBody>
      </p:sp>
      <p:sp>
        <p:nvSpPr>
          <p:cNvPr id="65" name=""/>
          <p:cNvSpPr/>
          <p:nvPr/>
        </p:nvSpPr>
        <p:spPr>
          <a:xfrm>
            <a:off x="1219320" y="152280"/>
            <a:ext cx="76960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0" lang="en-US" sz="2800" spc="-1" strike="noStrike">
              <a:solidFill>
                <a:srgbClr val="000000"/>
              </a:solidFill>
              <a:latin typeface="Times New Roman"/>
            </a:endParaRPr>
          </a:p>
        </p:txBody>
      </p:sp>
      <p:sp>
        <p:nvSpPr>
          <p:cNvPr id="6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152280"/>
            <a:ext cx="79246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1" lang="en-US" sz="2800" spc="-1" strike="noStrike">
              <a:solidFill>
                <a:srgbClr val="fafd00"/>
              </a:solidFill>
              <a:latin typeface="Arial"/>
            </a:endParaRPr>
          </a:p>
        </p:txBody>
      </p:sp>
      <p:sp>
        <p:nvSpPr>
          <p:cNvPr id="68" name="PlaceHolder 2"/>
          <p:cNvSpPr>
            <a:spLocks noGrp="1"/>
          </p:cNvSpPr>
          <p:nvPr>
            <p:ph/>
          </p:nvPr>
        </p:nvSpPr>
        <p:spPr>
          <a:xfrm>
            <a:off x="1184400" y="1828800"/>
            <a:ext cx="3921120" cy="4114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b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a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ip set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 comb </a:t>
            </a:r>
            <a:endParaRPr b="1" lang="en-US" sz="2400" spc="-1" strike="noStrike">
              <a:solidFill>
                <a:srgbClr val="ffffff"/>
              </a:solidFill>
              <a:latin typeface="Arial"/>
            </a:endParaRPr>
          </a:p>
        </p:txBody>
      </p:sp>
      <p:sp>
        <p:nvSpPr>
          <p:cNvPr id="69" name="PlaceHolder 3"/>
          <p:cNvSpPr>
            <a:spLocks noGrp="1"/>
          </p:cNvSpPr>
          <p:nvPr>
            <p:ph/>
          </p:nvPr>
        </p:nvSpPr>
        <p:spPr>
          <a:xfrm>
            <a:off x="5146560" y="1828800"/>
            <a:ext cx="3921120" cy="4114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ch setting</a:t>
            </a:r>
            <a:endParaRPr b="1" lang="en-US" sz="2400" spc="-1" strike="noStrike">
              <a:solidFill>
                <a:srgbClr val="ffffff"/>
              </a:solidFill>
              <a:latin typeface="Arial"/>
            </a:endParaRPr>
          </a:p>
        </p:txBody>
      </p:sp>
      <p:sp>
        <p:nvSpPr>
          <p:cNvPr id="70"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75960"/>
            <a:ext cx="78483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3. Which consignment would process with the least trouble?</a:t>
            </a:r>
            <a:endParaRPr b="1" lang="en-US" sz="2800" spc="-1" strike="noStrike">
              <a:solidFill>
                <a:srgbClr val="fafd00"/>
              </a:solidFill>
              <a:latin typeface="Arial"/>
            </a:endParaRPr>
          </a:p>
        </p:txBody>
      </p:sp>
      <p:sp>
        <p:nvSpPr>
          <p:cNvPr id="72" name=""/>
          <p:cNvSpPr/>
          <p:nvPr/>
        </p:nvSpPr>
        <p:spPr>
          <a:xfrm>
            <a:off x="974880" y="44038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219320" y="2362320"/>
            <a:ext cx="77724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4. What do you think you could be doing differently in 20 years time?</a:t>
            </a:r>
            <a:endParaRPr b="0" lang="en-US" sz="2800" spc="-1" strike="noStrike">
              <a:solidFill>
                <a:srgbClr val="000000"/>
              </a:solidFill>
              <a:latin typeface="Times New Roman"/>
            </a:endParaRPr>
          </a:p>
        </p:txBody>
      </p:sp>
      <p:sp>
        <p:nvSpPr>
          <p:cNvPr id="74" name="PlaceHolder 2"/>
          <p:cNvSpPr>
            <a:spLocks noGrp="1"/>
          </p:cNvSpPr>
          <p:nvPr>
            <p:ph/>
          </p:nvPr>
        </p:nvSpPr>
        <p:spPr>
          <a:xfrm>
            <a:off x="1219320" y="1523520"/>
            <a:ext cx="7772400" cy="16002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ignment 1</a:t>
            </a:r>
            <a:endParaRPr b="1" lang="en-US" sz="2800" spc="-1" strike="noStrike">
              <a:solidFill>
                <a:srgbClr val="ffffff"/>
              </a:solidFill>
              <a:latin typeface="Arial"/>
            </a:endParaRPr>
          </a:p>
        </p:txBody>
      </p:sp>
      <p:sp>
        <p:nvSpPr>
          <p:cNvPr id="75" name=""/>
          <p:cNvSpPr/>
          <p:nvPr/>
        </p:nvSpPr>
        <p:spPr>
          <a:xfrm>
            <a:off x="1219320" y="3657600"/>
            <a:ext cx="7238880" cy="16002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couring systems</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ltra high speed cards</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ll drafts</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b speed</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1920"/>
            <a:ext cx="792468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5. What are your main priorities when processing these consignments?</a:t>
            </a:r>
            <a:br>
              <a:rPr sz="2800"/>
            </a:br>
            <a:br>
              <a:rPr sz="2800"/>
            </a:br>
            <a:r>
              <a:rPr b="1" lang="en-GB" sz="2800" spc="-1" strike="noStrike">
                <a:solidFill>
                  <a:srgbClr val="fafd00"/>
                </a:solidFill>
                <a:latin typeface="Arial"/>
              </a:rPr>
              <a:t>Do these properties change if you are a commission comber or topmaker?</a:t>
            </a:r>
            <a:endParaRPr b="1" lang="en-US" sz="2800" spc="-1" strike="noStrike">
              <a:solidFill>
                <a:srgbClr val="fafd00"/>
              </a:solidFill>
              <a:latin typeface="Arial"/>
            </a:endParaRPr>
          </a:p>
        </p:txBody>
      </p:sp>
      <p:sp>
        <p:nvSpPr>
          <p:cNvPr id="78" name="PlaceHolder 2"/>
          <p:cNvSpPr>
            <a:spLocks noGrp="1"/>
          </p:cNvSpPr>
          <p:nvPr>
            <p:ph/>
          </p:nvPr>
        </p:nvSpPr>
        <p:spPr>
          <a:xfrm>
            <a:off x="1295280" y="2514240"/>
            <a:ext cx="7772400" cy="35053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amp; noi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p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venness</a:t>
            </a:r>
            <a:endParaRPr b="1" lang="en-US" sz="2800" spc="-1" strike="noStrike">
              <a:solidFill>
                <a:srgbClr val="ffffff"/>
              </a:solidFill>
              <a:latin typeface="Arial"/>
            </a:endParaRPr>
          </a:p>
        </p:txBody>
      </p:sp>
      <p:sp>
        <p:nvSpPr>
          <p:cNvPr id="7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3:03:27Z</dcterms:created>
  <dc:creator>USER</dc:creator>
  <dc:description/>
  <dc:language>en-US</dc:language>
  <cp:lastModifiedBy>select agreement</cp:lastModifiedBy>
  <cp:lastPrinted>2000-02-03T09:09:47Z</cp:lastPrinted>
  <dcterms:modified xsi:type="dcterms:W3CDTF">2000-03-15T00:23:43Z</dcterms:modified>
  <cp:revision>3</cp:revision>
  <dc:subject/>
  <dc:title>Consignment Processing Example </dc:title>
</cp:coreProperties>
</file>