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DFF6-1151-4CFB-86DF-DC2EC0DF8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termination of cell cycle times/cell division rate/cell birth rate is useful for understanding the controls of wool production.  One method that has been used to examine the length of the cell cycle and cell division rate in sheep utilises immunocytochemistry (see “Immunocytochemistry”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aspects of this method using BrdU to estimate cell birth rate and shows a photomicrograph of cells that have been labelled with Brd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celotide analogue, bromodeoxyuridine (BrdU) is injected intravenously into the sheep.  The BrdU molecule is the same as uridine but has one oxygen replaced with a bromine atom, hence the name bromo-deoxy-uridine.  The BrdU is incorporated into the DNA of the cell exactly the same as a uridine molecule.  It is possible then to see the distribution of the BrdU using antibodies raised against the Brd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dU is only incorporated into the cells during S-phase during DNA synthesis.  Thus it is possible to estimate what proportion of cells are in S phase at a given time or to estimate the length of the cell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division rate can also be estimated.  The skin is sampled 4 hours and 8 hours after the administration of BrdU and the number of cells in the follicle bulb containing BrdU are counted.  The BrdU is only present for DNA synthesis for a short period, therefore all cells that are in S-phase at the time of injection will use some BrdU for DNA synthesis.  At 4 hours after injection no further cells will be able to incorporate BrdU because it has been metabolised.  So if we count the number of cells that have BrdU at 4 hours and then the number that have BrdU at 8 hours, any increase in the number of BrdU-containing cells will be due to cell division.  Thus it is possible to estimate how many cells divided over that 4 hour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and Everett, B.K. (1990).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1:7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cking Edwards, J.E. and Hynd, P.I.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3:3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micrograph of cells that have been labelled with BrdU.  There are some bulb cells with condensed chromosomes which are labelled also.  These cells are undergoing cell division.  Note that the dermal papilla cells are not labelled, and there is very little labelling of the fibroblasts or cells in the follicle above the apex of the dermal papilla.  There are some outer root sheath (ORS) cells labelled as these cells do divide continu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timating Cell Population Kinetics using Nucleoside Labelling (BrdU)</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thod using BrdU</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jected intravenous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ed into DN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ibodies raised against BrdU</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NA synthesi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ortion of cells in S ph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ngth of cell cycl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e cell division rate</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3000" y="635040"/>
            <a:ext cx="8001000" cy="5384880"/>
            <a:chOff x="1143000" y="635040"/>
            <a:chExt cx="8001000" cy="5384880"/>
          </a:xfrm>
        </p:grpSpPr>
        <p:pic>
          <p:nvPicPr>
            <p:cNvPr id="53" name="" descr=""/>
            <p:cNvPicPr/>
            <p:nvPr/>
          </p:nvPicPr>
          <p:blipFill>
            <a:blip r:embed="rId1"/>
            <a:stretch/>
          </p:blipFill>
          <p:spPr>
            <a:xfrm>
              <a:off x="1143000" y="635040"/>
              <a:ext cx="8001000" cy="5384880"/>
            </a:xfrm>
            <a:prstGeom prst="rect">
              <a:avLst/>
            </a:prstGeom>
            <a:ln w="0">
              <a:noFill/>
            </a:ln>
          </p:spPr>
        </p:pic>
        <p:grpSp>
          <p:nvGrpSpPr>
            <p:cNvPr id="54" name=""/>
            <p:cNvGrpSpPr/>
            <p:nvPr/>
          </p:nvGrpSpPr>
          <p:grpSpPr>
            <a:xfrm>
              <a:off x="4544280" y="1244880"/>
              <a:ext cx="4242600" cy="4290840"/>
              <a:chOff x="4544280" y="1244880"/>
              <a:chExt cx="4242600" cy="4290840"/>
            </a:xfrm>
          </p:grpSpPr>
          <p:sp>
            <p:nvSpPr>
              <p:cNvPr id="55" name=""/>
              <p:cNvSpPr/>
              <p:nvPr/>
            </p:nvSpPr>
            <p:spPr>
              <a:xfrm>
                <a:off x="5945400" y="4019760"/>
                <a:ext cx="28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ells in the bu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abelled with BrdU</a:t>
                </a:r>
                <a:endParaRPr b="0" lang="en-US" sz="2400" spc="-1" strike="noStrike">
                  <a:solidFill>
                    <a:srgbClr val="000000"/>
                  </a:solidFill>
                  <a:latin typeface="Times New Roman"/>
                </a:endParaRPr>
              </a:p>
            </p:txBody>
          </p:sp>
          <p:sp>
            <p:nvSpPr>
              <p:cNvPr id="56" name=""/>
              <p:cNvSpPr/>
              <p:nvPr/>
            </p:nvSpPr>
            <p:spPr>
              <a:xfrm flipV="1">
                <a:off x="5974200" y="2948760"/>
                <a:ext cx="766440" cy="1291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4544280" y="4456800"/>
                <a:ext cx="1357560" cy="107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flipV="1">
                <a:off x="5209920" y="1244880"/>
                <a:ext cx="691560" cy="306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4:45:50Z</dcterms:created>
  <dc:creator>USER</dc:creator>
  <dc:description/>
  <dc:language>en-US</dc:language>
  <cp:lastModifiedBy>Hdaily</cp:lastModifiedBy>
  <cp:lastPrinted>2000-02-03T09:09:47Z</cp:lastPrinted>
  <dcterms:modified xsi:type="dcterms:W3CDTF">2000-05-23T23:43:53Z</dcterms:modified>
  <cp:revision>2</cp:revision>
  <dc:subject/>
  <dc:title>Estimating Cell Population Kinetics using Nucleoside Labelling (Brdu)</dc:title>
</cp:coreProperties>
</file>