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EF16-0B35-431F-BE5A-3A0E20F80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s for energy and amino acids to maintain their very high rate of cell division and protein synthesis and yet skin (and therefore the follicles) receives a highly variable supply of blood and oxygen.  The skin and follicles have therefore developed some interesting features of energy metabolism to cope with this variation.  The major energy substrates are glucose and glutamine.  Glucose is metabolised by aerobic and anaerobic pathways, whereas glutamine is metabolised by glutaminolysis.  There is also a store of glycogen in the out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ycogen is synthesised in the skin via two pathways; traditionally with glucose-6-phosphate as a precursor and de novo from lactate in a process called gluconeogenesis.  Investigations of gluconeogenesis have been restricted to the demonstration of the enzymes and functional pathway.  Glycogen is degraded in the skin to glucose-6-phosphate, a substrate available to the glycolytic and pentose phosphate pathways.  The concentration of glycogen in the skin and hair follicle is influenced by the wound status, proliferative activity and nutrition of the tiss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distribution and role of glycogen in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56CF-5E70-40F8-953F-579E91715A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562040" y="533520"/>
            <a:ext cx="3657600" cy="2743200"/>
          </a:xfrm>
          <a:prstGeom prst="rect">
            <a:avLst/>
          </a:prstGeom>
          <a:ln w="0">
            <a:noFill/>
          </a:ln>
        </p:spPr>
      </p:sp>
      <p:sp>
        <p:nvSpPr>
          <p:cNvPr id="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ycogen is an efficient, readily mobilised storage form of glucose.  It is composed of glucose units predominantly linked by </a:t>
            </a:r>
            <a:r>
              <a:rPr b="0" lang="en-AU" sz="1200" spc="-1" strike="noStrike">
                <a:solidFill>
                  <a:srgbClr val="000000"/>
                </a:solidFill>
                <a:latin typeface="Symbol"/>
                <a:ea typeface="Symbol"/>
              </a:rPr>
              <a:t></a:t>
            </a:r>
            <a:r>
              <a:rPr b="0" lang="en-AU" sz="1200" spc="-1" strike="noStrike">
                <a:solidFill>
                  <a:srgbClr val="000000"/>
                </a:solidFill>
                <a:latin typeface="Times New Roman"/>
              </a:rPr>
              <a:t>-1,4-glycosidic bonds with branches formed by </a:t>
            </a:r>
            <a:r>
              <a:rPr b="0" lang="en-AU" sz="1200" spc="-1" strike="noStrike">
                <a:solidFill>
                  <a:srgbClr val="000000"/>
                </a:solidFill>
                <a:latin typeface="Symbol"/>
                <a:ea typeface="Symbol"/>
              </a:rPr>
              <a:t></a:t>
            </a:r>
            <a:r>
              <a:rPr b="0" lang="en-AU" sz="1200" spc="-1" strike="noStrike">
                <a:solidFill>
                  <a:srgbClr val="000000"/>
                </a:solidFill>
                <a:latin typeface="Times New Roman"/>
              </a:rPr>
              <a:t>-1,6-glycosidic bonds occurring approximately every 10 residues.  The storage function of glycogen and the biochemical control of glycogen metabolism in the liver and skeletal muscle have been well characterised.  In contrast, the knowledge of function and control of cutaneous glycogen metabolism is limi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pon entry into the cell, glucose is phosphorylated to form glucose-6-phosphate.  Two alternative metabolic fates of glucose-6-phosphate are described in other modules.  Glycogen synthesis is described in standard biochemistry texts .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large store of glycogen in the outer root sheath.  This energy store was discovered at least 50 years ago, but no one has investigated the role of the glycogen store.  It has been suggested that the stored glycogen may provide energy for keratinisation or that it buffers fluctuating energy supply from the bloo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71A49-1CE1-4A5F-AFD2-CFF4740D72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photomicrograph of the distribution of glycogen (red) in the follic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in human and sheep follicles, the presence of glycogen is inversely related to the level of mitotic activity and keratinisation.  Glycogen is located predominantly in the middle section of the outer root sheath below the sebaceous gland, with lesser amounts evident in the outer root sheath cells near the bulb.  Glycogen has been observed in the fibroblasts of the connective tissue sheath and the basal third of the cuticle of the cortex, medulla and cortex in human and sheep follicles .  There is no glycogen in the basement membrane of the outer root sheath, the inner root sheath, the cuticle of the inner root sheath or the dermal papilla.  The general pattern of glycogen accumulation in cells of the hair follicle can be related to the metabolic activity of each cell type.  During active division in the follicle bulb there is no accumulation of glycogen in the cell.  As the cells differentiate into medulla, cortex, cuticle and inner root sheath the rate of glycogen disappearance correlates inversely with the rate of keratinisation of the cells.  Glycogen extends further distally in the slower keratinising cells of the medulla compared with the cortex, and the cells of the outer root sheath, which predominantly remain unkeratinised, display abundant glycogen to the level of the sebaceous 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83339-3DDA-4D4E-8CA9-009BDB3AD8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562040" y="533520"/>
            <a:ext cx="3657600" cy="2743200"/>
          </a:xfrm>
          <a:prstGeom prst="rect">
            <a:avLst/>
          </a:prstGeom>
          <a:ln w="0">
            <a:noFill/>
          </a:ln>
        </p:spPr>
      </p:sp>
      <p:sp>
        <p:nvSpPr>
          <p:cNvPr id="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photomicrograph shows the granularity of the glycogen in the O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ycogen in the Follic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Rachel Smith,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ycogen</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orage form of glucos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ycogen is present in the outer root sheat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ossible roles of glycoge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vide energy for keratinisa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vide for cell division and migra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uffer fluctuating energy supply from blood</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
          <p:cNvSpPr/>
          <p:nvPr/>
        </p:nvSpPr>
        <p:spPr>
          <a:xfrm>
            <a:off x="7979760" y="65833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141560" y="533520"/>
            <a:ext cx="7925760" cy="5638680"/>
            <a:chOff x="1141560" y="533520"/>
            <a:chExt cx="7925760" cy="5638680"/>
          </a:xfrm>
        </p:grpSpPr>
        <p:pic>
          <p:nvPicPr>
            <p:cNvPr id="53" name="" descr=""/>
            <p:cNvPicPr/>
            <p:nvPr/>
          </p:nvPicPr>
          <p:blipFill>
            <a:blip r:embed="rId1"/>
            <a:stretch/>
          </p:blipFill>
          <p:spPr>
            <a:xfrm>
              <a:off x="1147320" y="533520"/>
              <a:ext cx="7920000" cy="5638680"/>
            </a:xfrm>
            <a:prstGeom prst="rect">
              <a:avLst/>
            </a:prstGeom>
            <a:ln w="38160">
              <a:solidFill>
                <a:srgbClr val="000000"/>
              </a:solidFill>
              <a:miter/>
            </a:ln>
          </p:spPr>
        </p:pic>
        <p:sp>
          <p:nvSpPr>
            <p:cNvPr id="54" name=""/>
            <p:cNvSpPr/>
            <p:nvPr/>
          </p:nvSpPr>
          <p:spPr>
            <a:xfrm>
              <a:off x="1141560" y="1727280"/>
              <a:ext cx="268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outer root sheath</a:t>
              </a:r>
              <a:endParaRPr b="0" lang="en-US" sz="2400" spc="-1" strike="noStrike">
                <a:solidFill>
                  <a:srgbClr val="000000"/>
                </a:solidFill>
                <a:latin typeface="Times New Roman"/>
              </a:endParaRPr>
            </a:p>
          </p:txBody>
        </p:sp>
        <p:sp>
          <p:nvSpPr>
            <p:cNvPr id="55" name=""/>
            <p:cNvSpPr/>
            <p:nvPr/>
          </p:nvSpPr>
          <p:spPr>
            <a:xfrm flipV="1">
              <a:off x="2314440" y="1212840"/>
              <a:ext cx="69192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351160" y="2146320"/>
              <a:ext cx="947160" cy="37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506640" y="1187640"/>
              <a:ext cx="2232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ermal papilla</a:t>
              </a:r>
              <a:endParaRPr b="0" lang="en-US" sz="2400" spc="-1" strike="noStrike">
                <a:solidFill>
                  <a:srgbClr val="000000"/>
                </a:solidFill>
                <a:latin typeface="Times New Roman"/>
              </a:endParaRPr>
            </a:p>
          </p:txBody>
        </p:sp>
        <p:sp>
          <p:nvSpPr>
            <p:cNvPr id="58" name=""/>
            <p:cNvSpPr/>
            <p:nvPr/>
          </p:nvSpPr>
          <p:spPr>
            <a:xfrm>
              <a:off x="7925040" y="1623960"/>
              <a:ext cx="213480" cy="847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6383160" y="3683160"/>
              <a:ext cx="930600" cy="1861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7822440" y="1641600"/>
              <a:ext cx="72000" cy="1996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213080" y="5383440"/>
              <a:ext cx="1877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ollicle bulb</a:t>
              </a:r>
              <a:endParaRPr b="0" lang="en-US" sz="2400" spc="-1" strike="noStrike">
                <a:solidFill>
                  <a:srgbClr val="000000"/>
                </a:solidFill>
                <a:latin typeface="Times New Roman"/>
              </a:endParaRPr>
            </a:p>
          </p:txBody>
        </p:sp>
        <p:sp>
          <p:nvSpPr>
            <p:cNvPr id="62" name=""/>
            <p:cNvSpPr/>
            <p:nvPr/>
          </p:nvSpPr>
          <p:spPr>
            <a:xfrm flipV="1">
              <a:off x="6364800" y="5372280"/>
              <a:ext cx="1480320" cy="172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308120" y="787680"/>
              <a:ext cx="842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ibre</a:t>
              </a:r>
              <a:endParaRPr b="0" lang="en-US" sz="2400" spc="-1" strike="noStrike">
                <a:solidFill>
                  <a:srgbClr val="000000"/>
                </a:solidFill>
                <a:latin typeface="Times New Roman"/>
              </a:endParaRPr>
            </a:p>
          </p:txBody>
        </p:sp>
        <p:sp>
          <p:nvSpPr>
            <p:cNvPr id="64" name=""/>
            <p:cNvSpPr/>
            <p:nvPr/>
          </p:nvSpPr>
          <p:spPr>
            <a:xfrm flipH="1">
              <a:off x="3695400" y="979560"/>
              <a:ext cx="549720" cy="82440"/>
            </a:xfrm>
            <a:prstGeom prst="line">
              <a:avLst/>
            </a:prstGeom>
            <a:ln w="3816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65" name=""/>
          <p:cNvSpPr/>
          <p:nvPr/>
        </p:nvSpPr>
        <p:spPr>
          <a:xfrm>
            <a:off x="7979760" y="65833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6" name=""/>
          <p:cNvGrpSpPr/>
          <p:nvPr/>
        </p:nvGrpSpPr>
        <p:grpSpPr>
          <a:xfrm>
            <a:off x="1143000" y="533520"/>
            <a:ext cx="8001000" cy="5638680"/>
            <a:chOff x="1143000" y="533520"/>
            <a:chExt cx="8001000" cy="5638680"/>
          </a:xfrm>
        </p:grpSpPr>
        <p:pic>
          <p:nvPicPr>
            <p:cNvPr id="67" name="" descr=""/>
            <p:cNvPicPr/>
            <p:nvPr/>
          </p:nvPicPr>
          <p:blipFill>
            <a:blip r:embed="rId1"/>
            <a:stretch/>
          </p:blipFill>
          <p:spPr>
            <a:xfrm>
              <a:off x="1143000" y="533520"/>
              <a:ext cx="8001000" cy="5638680"/>
            </a:xfrm>
            <a:prstGeom prst="rect">
              <a:avLst/>
            </a:prstGeom>
            <a:ln w="38160">
              <a:solidFill>
                <a:srgbClr val="000000"/>
              </a:solidFill>
              <a:miter/>
            </a:ln>
          </p:spPr>
        </p:pic>
        <p:sp>
          <p:nvSpPr>
            <p:cNvPr id="68" name=""/>
            <p:cNvSpPr/>
            <p:nvPr/>
          </p:nvSpPr>
          <p:spPr>
            <a:xfrm>
              <a:off x="5364360" y="1270080"/>
              <a:ext cx="37706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glycogen granules</a:t>
              </a:r>
              <a:endParaRPr b="0" lang="en-US" sz="3200" spc="-1" strike="noStrike">
                <a:solidFill>
                  <a:srgbClr val="000000"/>
                </a:solidFill>
                <a:latin typeface="Times New Roman"/>
              </a:endParaRPr>
            </a:p>
          </p:txBody>
        </p:sp>
        <p:sp>
          <p:nvSpPr>
            <p:cNvPr id="69" name=""/>
            <p:cNvSpPr/>
            <p:nvPr/>
          </p:nvSpPr>
          <p:spPr>
            <a:xfrm flipH="1">
              <a:off x="6534000" y="1746360"/>
              <a:ext cx="387360" cy="150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5440680" y="1746360"/>
              <a:ext cx="1480320" cy="56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4960080" y="1746360"/>
              <a:ext cx="1960920" cy="142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7979760" y="65833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6T23:53:00Z</dcterms:created>
  <dc:creator>USER</dc:creator>
  <dc:description/>
  <dc:language>en-US</dc:language>
  <cp:lastModifiedBy>Hdaily</cp:lastModifiedBy>
  <cp:lastPrinted>2000-02-03T09:09:47Z</cp:lastPrinted>
  <dcterms:modified xsi:type="dcterms:W3CDTF">2000-05-30T04:42:02Z</dcterms:modified>
  <cp:revision>3</cp:revision>
  <dc:subject/>
  <dc:title>Glycogen in the Follicle</dc:title>
</cp:coreProperties>
</file>