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05EA-D90E-4137-99B4-2151AAA58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E6F7-0DA9-4EBB-B9B2-834F54475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ellular determinants of fibre production are the number of follicles, the number and size of cells in the bulb, the rate of cell division, the proportion of cells migrating to the fibre and the size of cells in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are the original cells needed for the replacement of cells from the bulb (see related module “Stem Cells in the Wool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location of stem cells in mice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6E86-4615-4F7E-B2CB-04DC846C4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per that is described in this and the next slide is probably one of the most important papers relating to fibre biology in the last 30 years.  Until this paper there was a lot of conjecture regarding the location of the stem cells in follicles.  It had been suggested that the follicle stem cells were located in the follicle bulb, probably close the the dermal papilla.  However nobody had been able to identify them and the question that remained  was “if the stem cells are located in the bulb, what happens to them when the follicle is in telogen when there are no bulb cells present i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tsarelis and co-workers went through the process of infusing mice with </a:t>
            </a:r>
            <a:r>
              <a:rPr b="0" lang="en-AU" sz="1200" spc="-1" strike="noStrike" baseline="30000">
                <a:solidFill>
                  <a:srgbClr val="000000"/>
                </a:solidFill>
                <a:latin typeface="Times New Roman"/>
              </a:rPr>
              <a:t>3</a:t>
            </a:r>
            <a:r>
              <a:rPr b="0" lang="en-AU" sz="1200" spc="-1" strike="noStrike">
                <a:solidFill>
                  <a:srgbClr val="000000"/>
                </a:solidFill>
                <a:latin typeface="Times New Roman"/>
              </a:rPr>
              <a:t>H-thymidine for 14 days.  During the first 4 days they rubbed TPA (tumour promoting agent) onto the skin.  After a 4 week chase period, skin samples were collected and the slow-cycling, label-retaining stem cells were identifi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ABE6-B576-4312-A775-345253962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Cotsarelis, G., Sun, T.-T. and Lavker, L.M.  Cell. (1990) 61:13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tsarelis and his co-workers found that the stem cells were only in the bulge region (Bulge of Wülst) of the mouse hair follicle.  The bulge is located in the middle of the follicle near where the erector pili muscle attaches to the follicle.  The cells are considered to be part of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ortantly there were no label retaining cells in the bul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3933-58D3-44E7-98C0-F234BC8C2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tsarelis, G., Sun, T.-T. and Lavker, L.M.  Cell. (1990) 61:13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different stages of the hair cycle. For more details about the follicle cycle see the module “Follicle Cycle”.  The structures above the dashed line indicate the parts of the follicle that do not regress during catagen and telogen.  Importantly, this diagram shows that the bulge is present at all times during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known that during anagen cells migrate out of the follicle as a fibre.  At the end of the follicle cycle the follicle shrinks and pulls the dermal papilla under the bulge during catagen and telogen. Cotsarelis proposes that a signal from the bulge will cause the stem cells to divide and the daughter cells will migrate down the follicle as the dermal papilla moves deeper into the dermis.  The daughter cells then become transient amplifying cells.  They have a set number of divisions and then terminally divide.  This may control the length of anag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em cells do reside in the bulge, however there is still a lot of debate regarding the role the stem cells play in controlling the follicle cycle and the length of the cyc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em Cells in the Follicle</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90480" y="1646280"/>
            <a:ext cx="555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93880" y="2332080"/>
            <a:ext cx="24444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dentifying the stem cells in mice follicles</a:t>
            </a:r>
            <a:endParaRPr b="1" lang="en-US" sz="3200" spc="-1" strike="noStrike">
              <a:solidFill>
                <a:srgbClr val="fafd00"/>
              </a:solidFill>
              <a:latin typeface="Arial"/>
            </a:endParaRPr>
          </a:p>
        </p:txBody>
      </p:sp>
      <p:sp>
        <p:nvSpPr>
          <p:cNvPr id="53"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ice infused with </a:t>
            </a:r>
            <a:r>
              <a:rPr b="1" lang="en-AU" sz="2800" spc="-1" strike="noStrike" baseline="30000">
                <a:solidFill>
                  <a:srgbClr val="ffffff"/>
                </a:solidFill>
                <a:latin typeface="Arial"/>
              </a:rPr>
              <a:t>3</a:t>
            </a:r>
            <a:r>
              <a:rPr b="1" lang="en-AU" sz="2800" spc="-1" strike="noStrike">
                <a:solidFill>
                  <a:srgbClr val="ffffff"/>
                </a:solidFill>
                <a:latin typeface="Arial"/>
              </a:rPr>
              <a:t>H-thymidine for 14 day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umour-promoting agent on skin for 4 day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chase’ period of 4 week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dentification of label by autoradiograph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tsarelis et al. (1990)  Cell 61:  1329-1337</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1141560" y="1523880"/>
            <a:ext cx="7938720" cy="4534200"/>
            <a:chOff x="1141560" y="1523880"/>
            <a:chExt cx="7938720" cy="4534200"/>
          </a:xfrm>
        </p:grpSpPr>
        <p:sp>
          <p:nvSpPr>
            <p:cNvPr id="55" name=""/>
            <p:cNvSpPr/>
            <p:nvPr/>
          </p:nvSpPr>
          <p:spPr>
            <a:xfrm>
              <a:off x="2371320" y="1662840"/>
              <a:ext cx="4750560" cy="3852720"/>
            </a:xfrm>
            <a:custGeom>
              <a:avLst/>
              <a:gdLst/>
              <a:ahLst/>
              <a:rect l="l" t="t" r="r" b="b"/>
              <a:pathLst>
                <a:path w="3280" h="2550">
                  <a:moveTo>
                    <a:pt x="0" y="58"/>
                  </a:moveTo>
                  <a:lnTo>
                    <a:pt x="77" y="43"/>
                  </a:lnTo>
                  <a:lnTo>
                    <a:pt x="135" y="43"/>
                  </a:lnTo>
                  <a:lnTo>
                    <a:pt x="192" y="53"/>
                  </a:lnTo>
                  <a:lnTo>
                    <a:pt x="249" y="64"/>
                  </a:lnTo>
                  <a:lnTo>
                    <a:pt x="305" y="85"/>
                  </a:lnTo>
                  <a:lnTo>
                    <a:pt x="363" y="118"/>
                  </a:lnTo>
                  <a:lnTo>
                    <a:pt x="420" y="139"/>
                  </a:lnTo>
                  <a:lnTo>
                    <a:pt x="477" y="160"/>
                  </a:lnTo>
                  <a:lnTo>
                    <a:pt x="535" y="181"/>
                  </a:lnTo>
                  <a:lnTo>
                    <a:pt x="592" y="214"/>
                  </a:lnTo>
                  <a:lnTo>
                    <a:pt x="649" y="246"/>
                  </a:lnTo>
                  <a:lnTo>
                    <a:pt x="707" y="268"/>
                  </a:lnTo>
                  <a:lnTo>
                    <a:pt x="763" y="300"/>
                  </a:lnTo>
                  <a:lnTo>
                    <a:pt x="801" y="331"/>
                  </a:lnTo>
                  <a:lnTo>
                    <a:pt x="840" y="364"/>
                  </a:lnTo>
                  <a:lnTo>
                    <a:pt x="877" y="396"/>
                  </a:lnTo>
                  <a:lnTo>
                    <a:pt x="916" y="428"/>
                  </a:lnTo>
                  <a:lnTo>
                    <a:pt x="953" y="471"/>
                  </a:lnTo>
                  <a:lnTo>
                    <a:pt x="973" y="503"/>
                  </a:lnTo>
                  <a:lnTo>
                    <a:pt x="1011" y="535"/>
                  </a:lnTo>
                  <a:lnTo>
                    <a:pt x="1011" y="568"/>
                  </a:lnTo>
                  <a:lnTo>
                    <a:pt x="1029" y="599"/>
                  </a:lnTo>
                  <a:lnTo>
                    <a:pt x="1049" y="631"/>
                  </a:lnTo>
                  <a:lnTo>
                    <a:pt x="1049" y="664"/>
                  </a:lnTo>
                  <a:lnTo>
                    <a:pt x="1068" y="696"/>
                  </a:lnTo>
                  <a:lnTo>
                    <a:pt x="1087" y="739"/>
                  </a:lnTo>
                  <a:lnTo>
                    <a:pt x="1107" y="781"/>
                  </a:lnTo>
                  <a:lnTo>
                    <a:pt x="1144" y="824"/>
                  </a:lnTo>
                  <a:lnTo>
                    <a:pt x="1163" y="856"/>
                  </a:lnTo>
                  <a:lnTo>
                    <a:pt x="1183" y="899"/>
                  </a:lnTo>
                  <a:lnTo>
                    <a:pt x="1183" y="931"/>
                  </a:lnTo>
                  <a:lnTo>
                    <a:pt x="1201" y="974"/>
                  </a:lnTo>
                  <a:lnTo>
                    <a:pt x="1201" y="1006"/>
                  </a:lnTo>
                  <a:lnTo>
                    <a:pt x="1201" y="1049"/>
                  </a:lnTo>
                  <a:lnTo>
                    <a:pt x="1201" y="1081"/>
                  </a:lnTo>
                  <a:lnTo>
                    <a:pt x="1201" y="1114"/>
                  </a:lnTo>
                  <a:lnTo>
                    <a:pt x="1201" y="1146"/>
                  </a:lnTo>
                  <a:lnTo>
                    <a:pt x="1201" y="1189"/>
                  </a:lnTo>
                  <a:lnTo>
                    <a:pt x="1201" y="1221"/>
                  </a:lnTo>
                  <a:lnTo>
                    <a:pt x="1201" y="1253"/>
                  </a:lnTo>
                  <a:lnTo>
                    <a:pt x="1201" y="1296"/>
                  </a:lnTo>
                  <a:lnTo>
                    <a:pt x="1201" y="1327"/>
                  </a:lnTo>
                  <a:lnTo>
                    <a:pt x="1201" y="1360"/>
                  </a:lnTo>
                  <a:lnTo>
                    <a:pt x="1201" y="1392"/>
                  </a:lnTo>
                  <a:lnTo>
                    <a:pt x="1201" y="1424"/>
                  </a:lnTo>
                  <a:lnTo>
                    <a:pt x="1201" y="1456"/>
                  </a:lnTo>
                  <a:lnTo>
                    <a:pt x="1183" y="1489"/>
                  </a:lnTo>
                  <a:lnTo>
                    <a:pt x="1183" y="1521"/>
                  </a:lnTo>
                  <a:lnTo>
                    <a:pt x="1163" y="1552"/>
                  </a:lnTo>
                  <a:lnTo>
                    <a:pt x="1144" y="1585"/>
                  </a:lnTo>
                  <a:lnTo>
                    <a:pt x="1125" y="1617"/>
                  </a:lnTo>
                  <a:lnTo>
                    <a:pt x="1125" y="1649"/>
                  </a:lnTo>
                  <a:lnTo>
                    <a:pt x="1107" y="1681"/>
                  </a:lnTo>
                  <a:lnTo>
                    <a:pt x="1107" y="1714"/>
                  </a:lnTo>
                  <a:lnTo>
                    <a:pt x="1087" y="1745"/>
                  </a:lnTo>
                  <a:lnTo>
                    <a:pt x="1087" y="1777"/>
                  </a:lnTo>
                  <a:lnTo>
                    <a:pt x="1087" y="1810"/>
                  </a:lnTo>
                  <a:lnTo>
                    <a:pt x="1087" y="1842"/>
                  </a:lnTo>
                  <a:lnTo>
                    <a:pt x="1068" y="1874"/>
                  </a:lnTo>
                  <a:lnTo>
                    <a:pt x="1068" y="1906"/>
                  </a:lnTo>
                  <a:lnTo>
                    <a:pt x="1068" y="1939"/>
                  </a:lnTo>
                  <a:lnTo>
                    <a:pt x="1068" y="1970"/>
                  </a:lnTo>
                  <a:lnTo>
                    <a:pt x="1068" y="2002"/>
                  </a:lnTo>
                  <a:lnTo>
                    <a:pt x="1049" y="2035"/>
                  </a:lnTo>
                  <a:lnTo>
                    <a:pt x="1049" y="2067"/>
                  </a:lnTo>
                  <a:lnTo>
                    <a:pt x="1049" y="2099"/>
                  </a:lnTo>
                  <a:lnTo>
                    <a:pt x="1049" y="2131"/>
                  </a:lnTo>
                  <a:lnTo>
                    <a:pt x="1049" y="2163"/>
                  </a:lnTo>
                  <a:lnTo>
                    <a:pt x="1049" y="2195"/>
                  </a:lnTo>
                  <a:lnTo>
                    <a:pt x="1068" y="2227"/>
                  </a:lnTo>
                  <a:lnTo>
                    <a:pt x="1068" y="2260"/>
                  </a:lnTo>
                  <a:lnTo>
                    <a:pt x="1087" y="2292"/>
                  </a:lnTo>
                  <a:lnTo>
                    <a:pt x="1125" y="2335"/>
                  </a:lnTo>
                  <a:lnTo>
                    <a:pt x="1183" y="2367"/>
                  </a:lnTo>
                  <a:lnTo>
                    <a:pt x="1240" y="2399"/>
                  </a:lnTo>
                  <a:lnTo>
                    <a:pt x="1316" y="2431"/>
                  </a:lnTo>
                  <a:lnTo>
                    <a:pt x="1373" y="2452"/>
                  </a:lnTo>
                  <a:lnTo>
                    <a:pt x="1431" y="2474"/>
                  </a:lnTo>
                  <a:lnTo>
                    <a:pt x="1487" y="2485"/>
                  </a:lnTo>
                  <a:lnTo>
                    <a:pt x="1544" y="2485"/>
                  </a:lnTo>
                  <a:lnTo>
                    <a:pt x="1601" y="2495"/>
                  </a:lnTo>
                  <a:lnTo>
                    <a:pt x="1659" y="2495"/>
                  </a:lnTo>
                  <a:lnTo>
                    <a:pt x="1697" y="2463"/>
                  </a:lnTo>
                  <a:lnTo>
                    <a:pt x="1716" y="2431"/>
                  </a:lnTo>
                  <a:lnTo>
                    <a:pt x="1716" y="2399"/>
                  </a:lnTo>
                  <a:lnTo>
                    <a:pt x="1716" y="2367"/>
                  </a:lnTo>
                  <a:lnTo>
                    <a:pt x="1677" y="2335"/>
                  </a:lnTo>
                  <a:lnTo>
                    <a:pt x="1640" y="2302"/>
                  </a:lnTo>
                  <a:lnTo>
                    <a:pt x="1620" y="2270"/>
                  </a:lnTo>
                  <a:lnTo>
                    <a:pt x="1601" y="2238"/>
                  </a:lnTo>
                  <a:lnTo>
                    <a:pt x="1583" y="2206"/>
                  </a:lnTo>
                  <a:lnTo>
                    <a:pt x="1564" y="2174"/>
                  </a:lnTo>
                  <a:lnTo>
                    <a:pt x="1564" y="2142"/>
                  </a:lnTo>
                  <a:lnTo>
                    <a:pt x="1583" y="2110"/>
                  </a:lnTo>
                  <a:lnTo>
                    <a:pt x="1620" y="2077"/>
                  </a:lnTo>
                  <a:lnTo>
                    <a:pt x="1677" y="2067"/>
                  </a:lnTo>
                  <a:lnTo>
                    <a:pt x="1735" y="2056"/>
                  </a:lnTo>
                  <a:lnTo>
                    <a:pt x="1792" y="2056"/>
                  </a:lnTo>
                  <a:lnTo>
                    <a:pt x="1849" y="2077"/>
                  </a:lnTo>
                  <a:lnTo>
                    <a:pt x="1887" y="2110"/>
                  </a:lnTo>
                  <a:lnTo>
                    <a:pt x="1907" y="2142"/>
                  </a:lnTo>
                  <a:lnTo>
                    <a:pt x="1925" y="2174"/>
                  </a:lnTo>
                  <a:lnTo>
                    <a:pt x="1925" y="2206"/>
                  </a:lnTo>
                  <a:lnTo>
                    <a:pt x="1925" y="2238"/>
                  </a:lnTo>
                  <a:lnTo>
                    <a:pt x="1925" y="2270"/>
                  </a:lnTo>
                  <a:lnTo>
                    <a:pt x="1907" y="2302"/>
                  </a:lnTo>
                  <a:lnTo>
                    <a:pt x="1887" y="2335"/>
                  </a:lnTo>
                  <a:lnTo>
                    <a:pt x="1887" y="2367"/>
                  </a:lnTo>
                  <a:lnTo>
                    <a:pt x="1868" y="2399"/>
                  </a:lnTo>
                  <a:lnTo>
                    <a:pt x="1849" y="2431"/>
                  </a:lnTo>
                  <a:lnTo>
                    <a:pt x="1849" y="2463"/>
                  </a:lnTo>
                  <a:lnTo>
                    <a:pt x="1868" y="2495"/>
                  </a:lnTo>
                  <a:lnTo>
                    <a:pt x="1925" y="2506"/>
                  </a:lnTo>
                  <a:lnTo>
                    <a:pt x="1983" y="2527"/>
                  </a:lnTo>
                  <a:lnTo>
                    <a:pt x="2040" y="2538"/>
                  </a:lnTo>
                  <a:lnTo>
                    <a:pt x="2097" y="2549"/>
                  </a:lnTo>
                  <a:lnTo>
                    <a:pt x="2153" y="2549"/>
                  </a:lnTo>
                  <a:lnTo>
                    <a:pt x="2211" y="2549"/>
                  </a:lnTo>
                  <a:lnTo>
                    <a:pt x="2268" y="2527"/>
                  </a:lnTo>
                  <a:lnTo>
                    <a:pt x="2307" y="2495"/>
                  </a:lnTo>
                  <a:lnTo>
                    <a:pt x="2344" y="2463"/>
                  </a:lnTo>
                  <a:lnTo>
                    <a:pt x="2364" y="2431"/>
                  </a:lnTo>
                  <a:lnTo>
                    <a:pt x="2383" y="2399"/>
                  </a:lnTo>
                  <a:lnTo>
                    <a:pt x="2383" y="2367"/>
                  </a:lnTo>
                  <a:lnTo>
                    <a:pt x="2383" y="2335"/>
                  </a:lnTo>
                  <a:lnTo>
                    <a:pt x="2383" y="2302"/>
                  </a:lnTo>
                  <a:lnTo>
                    <a:pt x="2383" y="2270"/>
                  </a:lnTo>
                  <a:lnTo>
                    <a:pt x="2401" y="2238"/>
                  </a:lnTo>
                  <a:lnTo>
                    <a:pt x="2401" y="2206"/>
                  </a:lnTo>
                  <a:lnTo>
                    <a:pt x="2401" y="2174"/>
                  </a:lnTo>
                  <a:lnTo>
                    <a:pt x="2401" y="2142"/>
                  </a:lnTo>
                  <a:lnTo>
                    <a:pt x="2401" y="2110"/>
                  </a:lnTo>
                  <a:lnTo>
                    <a:pt x="2401" y="2077"/>
                  </a:lnTo>
                  <a:lnTo>
                    <a:pt x="2383" y="2045"/>
                  </a:lnTo>
                  <a:lnTo>
                    <a:pt x="2383" y="2002"/>
                  </a:lnTo>
                  <a:lnTo>
                    <a:pt x="2364" y="1970"/>
                  </a:lnTo>
                  <a:lnTo>
                    <a:pt x="2344" y="1927"/>
                  </a:lnTo>
                  <a:lnTo>
                    <a:pt x="2344" y="1885"/>
                  </a:lnTo>
                  <a:lnTo>
                    <a:pt x="2325" y="1852"/>
                  </a:lnTo>
                  <a:lnTo>
                    <a:pt x="2307" y="1820"/>
                  </a:lnTo>
                  <a:lnTo>
                    <a:pt x="2307" y="1777"/>
                  </a:lnTo>
                  <a:lnTo>
                    <a:pt x="2288" y="1745"/>
                  </a:lnTo>
                  <a:lnTo>
                    <a:pt x="2288" y="1714"/>
                  </a:lnTo>
                  <a:lnTo>
                    <a:pt x="2268" y="1681"/>
                  </a:lnTo>
                  <a:lnTo>
                    <a:pt x="2249" y="1649"/>
                  </a:lnTo>
                  <a:lnTo>
                    <a:pt x="2249" y="1617"/>
                  </a:lnTo>
                  <a:lnTo>
                    <a:pt x="2231" y="1585"/>
                  </a:lnTo>
                  <a:lnTo>
                    <a:pt x="2231" y="1552"/>
                  </a:lnTo>
                  <a:lnTo>
                    <a:pt x="2211" y="1521"/>
                  </a:lnTo>
                  <a:lnTo>
                    <a:pt x="2192" y="1489"/>
                  </a:lnTo>
                  <a:lnTo>
                    <a:pt x="2173" y="1446"/>
                  </a:lnTo>
                  <a:lnTo>
                    <a:pt x="2173" y="1414"/>
                  </a:lnTo>
                  <a:lnTo>
                    <a:pt x="2153" y="1381"/>
                  </a:lnTo>
                  <a:lnTo>
                    <a:pt x="2135" y="1349"/>
                  </a:lnTo>
                  <a:lnTo>
                    <a:pt x="2135" y="1317"/>
                  </a:lnTo>
                  <a:lnTo>
                    <a:pt x="2116" y="1285"/>
                  </a:lnTo>
                  <a:lnTo>
                    <a:pt x="2097" y="1253"/>
                  </a:lnTo>
                  <a:lnTo>
                    <a:pt x="2097" y="1221"/>
                  </a:lnTo>
                  <a:lnTo>
                    <a:pt x="2077" y="1189"/>
                  </a:lnTo>
                  <a:lnTo>
                    <a:pt x="2077" y="1156"/>
                  </a:lnTo>
                  <a:lnTo>
                    <a:pt x="2077" y="1124"/>
                  </a:lnTo>
                  <a:lnTo>
                    <a:pt x="2059" y="1092"/>
                  </a:lnTo>
                  <a:lnTo>
                    <a:pt x="2059" y="1060"/>
                  </a:lnTo>
                  <a:lnTo>
                    <a:pt x="2040" y="1028"/>
                  </a:lnTo>
                  <a:lnTo>
                    <a:pt x="2040" y="996"/>
                  </a:lnTo>
                  <a:lnTo>
                    <a:pt x="2020" y="964"/>
                  </a:lnTo>
                  <a:lnTo>
                    <a:pt x="2020" y="931"/>
                  </a:lnTo>
                  <a:lnTo>
                    <a:pt x="2020" y="889"/>
                  </a:lnTo>
                  <a:lnTo>
                    <a:pt x="2001" y="856"/>
                  </a:lnTo>
                  <a:lnTo>
                    <a:pt x="2001" y="824"/>
                  </a:lnTo>
                  <a:lnTo>
                    <a:pt x="2001" y="792"/>
                  </a:lnTo>
                  <a:lnTo>
                    <a:pt x="2001" y="749"/>
                  </a:lnTo>
                  <a:lnTo>
                    <a:pt x="1983" y="717"/>
                  </a:lnTo>
                  <a:lnTo>
                    <a:pt x="1983" y="685"/>
                  </a:lnTo>
                  <a:lnTo>
                    <a:pt x="1983" y="653"/>
                  </a:lnTo>
                  <a:lnTo>
                    <a:pt x="1983" y="621"/>
                  </a:lnTo>
                  <a:lnTo>
                    <a:pt x="1983" y="589"/>
                  </a:lnTo>
                  <a:lnTo>
                    <a:pt x="1983" y="556"/>
                  </a:lnTo>
                  <a:lnTo>
                    <a:pt x="1983" y="514"/>
                  </a:lnTo>
                  <a:lnTo>
                    <a:pt x="1983" y="481"/>
                  </a:lnTo>
                  <a:lnTo>
                    <a:pt x="1983" y="439"/>
                  </a:lnTo>
                  <a:lnTo>
                    <a:pt x="2001" y="406"/>
                  </a:lnTo>
                  <a:lnTo>
                    <a:pt x="2001" y="374"/>
                  </a:lnTo>
                  <a:lnTo>
                    <a:pt x="2001" y="343"/>
                  </a:lnTo>
                  <a:lnTo>
                    <a:pt x="2020" y="310"/>
                  </a:lnTo>
                  <a:lnTo>
                    <a:pt x="2040" y="278"/>
                  </a:lnTo>
                  <a:lnTo>
                    <a:pt x="2059" y="246"/>
                  </a:lnTo>
                  <a:lnTo>
                    <a:pt x="2077" y="214"/>
                  </a:lnTo>
                  <a:lnTo>
                    <a:pt x="2097" y="181"/>
                  </a:lnTo>
                  <a:lnTo>
                    <a:pt x="2153" y="160"/>
                  </a:lnTo>
                  <a:lnTo>
                    <a:pt x="2192" y="128"/>
                  </a:lnTo>
                  <a:lnTo>
                    <a:pt x="2249" y="118"/>
                  </a:lnTo>
                  <a:lnTo>
                    <a:pt x="2307" y="96"/>
                  </a:lnTo>
                  <a:lnTo>
                    <a:pt x="2364" y="85"/>
                  </a:lnTo>
                  <a:lnTo>
                    <a:pt x="2421" y="64"/>
                  </a:lnTo>
                  <a:lnTo>
                    <a:pt x="2477" y="53"/>
                  </a:lnTo>
                  <a:lnTo>
                    <a:pt x="2535" y="43"/>
                  </a:lnTo>
                  <a:lnTo>
                    <a:pt x="2592" y="31"/>
                  </a:lnTo>
                  <a:lnTo>
                    <a:pt x="2649" y="21"/>
                  </a:lnTo>
                  <a:lnTo>
                    <a:pt x="2707" y="21"/>
                  </a:lnTo>
                  <a:lnTo>
                    <a:pt x="2764" y="10"/>
                  </a:lnTo>
                  <a:lnTo>
                    <a:pt x="2821" y="10"/>
                  </a:lnTo>
                  <a:lnTo>
                    <a:pt x="2877" y="10"/>
                  </a:lnTo>
                  <a:lnTo>
                    <a:pt x="2935" y="10"/>
                  </a:lnTo>
                  <a:lnTo>
                    <a:pt x="2992" y="10"/>
                  </a:lnTo>
                  <a:lnTo>
                    <a:pt x="3049" y="0"/>
                  </a:lnTo>
                  <a:lnTo>
                    <a:pt x="3107" y="0"/>
                  </a:lnTo>
                  <a:lnTo>
                    <a:pt x="3164" y="0"/>
                  </a:lnTo>
                  <a:lnTo>
                    <a:pt x="3221" y="0"/>
                  </a:lnTo>
                  <a:lnTo>
                    <a:pt x="3279" y="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185560" y="1872720"/>
              <a:ext cx="5403960" cy="3707280"/>
            </a:xfrm>
            <a:custGeom>
              <a:avLst/>
              <a:gdLst/>
              <a:ahLst/>
              <a:rect l="l" t="t" r="r" b="b"/>
              <a:pathLst>
                <a:path w="3731" h="2454">
                  <a:moveTo>
                    <a:pt x="0" y="27"/>
                  </a:moveTo>
                  <a:lnTo>
                    <a:pt x="91" y="0"/>
                  </a:lnTo>
                  <a:lnTo>
                    <a:pt x="148" y="11"/>
                  </a:lnTo>
                  <a:lnTo>
                    <a:pt x="205" y="22"/>
                  </a:lnTo>
                  <a:lnTo>
                    <a:pt x="263" y="32"/>
                  </a:lnTo>
                  <a:lnTo>
                    <a:pt x="320" y="54"/>
                  </a:lnTo>
                  <a:lnTo>
                    <a:pt x="377" y="75"/>
                  </a:lnTo>
                  <a:lnTo>
                    <a:pt x="415" y="107"/>
                  </a:lnTo>
                  <a:lnTo>
                    <a:pt x="472" y="129"/>
                  </a:lnTo>
                  <a:lnTo>
                    <a:pt x="511" y="161"/>
                  </a:lnTo>
                  <a:lnTo>
                    <a:pt x="548" y="193"/>
                  </a:lnTo>
                  <a:lnTo>
                    <a:pt x="587" y="225"/>
                  </a:lnTo>
                  <a:lnTo>
                    <a:pt x="624" y="257"/>
                  </a:lnTo>
                  <a:lnTo>
                    <a:pt x="663" y="289"/>
                  </a:lnTo>
                  <a:lnTo>
                    <a:pt x="681" y="322"/>
                  </a:lnTo>
                  <a:lnTo>
                    <a:pt x="720" y="354"/>
                  </a:lnTo>
                  <a:lnTo>
                    <a:pt x="739" y="385"/>
                  </a:lnTo>
                  <a:lnTo>
                    <a:pt x="777" y="418"/>
                  </a:lnTo>
                  <a:lnTo>
                    <a:pt x="815" y="450"/>
                  </a:lnTo>
                  <a:lnTo>
                    <a:pt x="853" y="482"/>
                  </a:lnTo>
                  <a:lnTo>
                    <a:pt x="911" y="504"/>
                  </a:lnTo>
                  <a:lnTo>
                    <a:pt x="948" y="535"/>
                  </a:lnTo>
                  <a:lnTo>
                    <a:pt x="968" y="568"/>
                  </a:lnTo>
                  <a:lnTo>
                    <a:pt x="987" y="600"/>
                  </a:lnTo>
                  <a:lnTo>
                    <a:pt x="1005" y="632"/>
                  </a:lnTo>
                  <a:lnTo>
                    <a:pt x="1024" y="664"/>
                  </a:lnTo>
                  <a:lnTo>
                    <a:pt x="1024" y="697"/>
                  </a:lnTo>
                  <a:lnTo>
                    <a:pt x="1044" y="728"/>
                  </a:lnTo>
                  <a:lnTo>
                    <a:pt x="1044" y="772"/>
                  </a:lnTo>
                  <a:lnTo>
                    <a:pt x="1044" y="803"/>
                  </a:lnTo>
                  <a:lnTo>
                    <a:pt x="1063" y="835"/>
                  </a:lnTo>
                  <a:lnTo>
                    <a:pt x="1063" y="878"/>
                  </a:lnTo>
                  <a:lnTo>
                    <a:pt x="1063" y="921"/>
                  </a:lnTo>
                  <a:lnTo>
                    <a:pt x="1063" y="953"/>
                  </a:lnTo>
                  <a:lnTo>
                    <a:pt x="1063" y="985"/>
                  </a:lnTo>
                  <a:lnTo>
                    <a:pt x="1063" y="1028"/>
                  </a:lnTo>
                  <a:lnTo>
                    <a:pt x="1063" y="1071"/>
                  </a:lnTo>
                  <a:lnTo>
                    <a:pt x="1063" y="1103"/>
                  </a:lnTo>
                  <a:lnTo>
                    <a:pt x="1063" y="1135"/>
                  </a:lnTo>
                  <a:lnTo>
                    <a:pt x="1063" y="1168"/>
                  </a:lnTo>
                  <a:lnTo>
                    <a:pt x="1044" y="1200"/>
                  </a:lnTo>
                  <a:lnTo>
                    <a:pt x="1044" y="1232"/>
                  </a:lnTo>
                  <a:lnTo>
                    <a:pt x="1024" y="1264"/>
                  </a:lnTo>
                  <a:lnTo>
                    <a:pt x="1024" y="1296"/>
                  </a:lnTo>
                  <a:lnTo>
                    <a:pt x="1005" y="1328"/>
                  </a:lnTo>
                  <a:lnTo>
                    <a:pt x="987" y="1360"/>
                  </a:lnTo>
                  <a:lnTo>
                    <a:pt x="987" y="1403"/>
                  </a:lnTo>
                  <a:lnTo>
                    <a:pt x="968" y="1435"/>
                  </a:lnTo>
                  <a:lnTo>
                    <a:pt x="968" y="1468"/>
                  </a:lnTo>
                  <a:lnTo>
                    <a:pt x="948" y="1500"/>
                  </a:lnTo>
                  <a:lnTo>
                    <a:pt x="948" y="1531"/>
                  </a:lnTo>
                  <a:lnTo>
                    <a:pt x="929" y="1564"/>
                  </a:lnTo>
                  <a:lnTo>
                    <a:pt x="929" y="1596"/>
                  </a:lnTo>
                  <a:lnTo>
                    <a:pt x="911" y="1628"/>
                  </a:lnTo>
                  <a:lnTo>
                    <a:pt x="911" y="1660"/>
                  </a:lnTo>
                  <a:lnTo>
                    <a:pt x="911" y="1693"/>
                  </a:lnTo>
                  <a:lnTo>
                    <a:pt x="911" y="1725"/>
                  </a:lnTo>
                  <a:lnTo>
                    <a:pt x="911" y="1756"/>
                  </a:lnTo>
                  <a:lnTo>
                    <a:pt x="891" y="1789"/>
                  </a:lnTo>
                  <a:lnTo>
                    <a:pt x="891" y="1821"/>
                  </a:lnTo>
                  <a:lnTo>
                    <a:pt x="891" y="1853"/>
                  </a:lnTo>
                  <a:lnTo>
                    <a:pt x="891" y="1885"/>
                  </a:lnTo>
                  <a:lnTo>
                    <a:pt x="891" y="1918"/>
                  </a:lnTo>
                  <a:lnTo>
                    <a:pt x="891" y="1949"/>
                  </a:lnTo>
                  <a:lnTo>
                    <a:pt x="911" y="1981"/>
                  </a:lnTo>
                  <a:lnTo>
                    <a:pt x="911" y="2014"/>
                  </a:lnTo>
                  <a:lnTo>
                    <a:pt x="929" y="2046"/>
                  </a:lnTo>
                  <a:lnTo>
                    <a:pt x="948" y="2078"/>
                  </a:lnTo>
                  <a:lnTo>
                    <a:pt x="968" y="2110"/>
                  </a:lnTo>
                  <a:lnTo>
                    <a:pt x="1005" y="2142"/>
                  </a:lnTo>
                  <a:lnTo>
                    <a:pt x="1024" y="2174"/>
                  </a:lnTo>
                  <a:lnTo>
                    <a:pt x="1063" y="2206"/>
                  </a:lnTo>
                  <a:lnTo>
                    <a:pt x="1101" y="2239"/>
                  </a:lnTo>
                  <a:lnTo>
                    <a:pt x="1139" y="2271"/>
                  </a:lnTo>
                  <a:lnTo>
                    <a:pt x="1177" y="2303"/>
                  </a:lnTo>
                  <a:lnTo>
                    <a:pt x="1235" y="2324"/>
                  </a:lnTo>
                  <a:lnTo>
                    <a:pt x="1291" y="2346"/>
                  </a:lnTo>
                  <a:lnTo>
                    <a:pt x="1348" y="2367"/>
                  </a:lnTo>
                  <a:lnTo>
                    <a:pt x="1405" y="2367"/>
                  </a:lnTo>
                  <a:lnTo>
                    <a:pt x="1463" y="2378"/>
                  </a:lnTo>
                  <a:lnTo>
                    <a:pt x="1520" y="2399"/>
                  </a:lnTo>
                  <a:lnTo>
                    <a:pt x="1577" y="2410"/>
                  </a:lnTo>
                  <a:lnTo>
                    <a:pt x="1635" y="2421"/>
                  </a:lnTo>
                  <a:lnTo>
                    <a:pt x="1692" y="2421"/>
                  </a:lnTo>
                  <a:lnTo>
                    <a:pt x="1748" y="2431"/>
                  </a:lnTo>
                  <a:lnTo>
                    <a:pt x="1805" y="2431"/>
                  </a:lnTo>
                  <a:lnTo>
                    <a:pt x="1863" y="2431"/>
                  </a:lnTo>
                  <a:lnTo>
                    <a:pt x="1920" y="2442"/>
                  </a:lnTo>
                  <a:lnTo>
                    <a:pt x="1978" y="2442"/>
                  </a:lnTo>
                  <a:lnTo>
                    <a:pt x="2035" y="2453"/>
                  </a:lnTo>
                  <a:lnTo>
                    <a:pt x="2092" y="2453"/>
                  </a:lnTo>
                  <a:lnTo>
                    <a:pt x="2148" y="2453"/>
                  </a:lnTo>
                  <a:lnTo>
                    <a:pt x="2206" y="2453"/>
                  </a:lnTo>
                  <a:lnTo>
                    <a:pt x="2263" y="2453"/>
                  </a:lnTo>
                  <a:lnTo>
                    <a:pt x="2320" y="2453"/>
                  </a:lnTo>
                  <a:lnTo>
                    <a:pt x="2378" y="2453"/>
                  </a:lnTo>
                  <a:lnTo>
                    <a:pt x="2435" y="2442"/>
                  </a:lnTo>
                  <a:lnTo>
                    <a:pt x="2492" y="2421"/>
                  </a:lnTo>
                  <a:lnTo>
                    <a:pt x="2530" y="2389"/>
                  </a:lnTo>
                  <a:lnTo>
                    <a:pt x="2568" y="2356"/>
                  </a:lnTo>
                  <a:lnTo>
                    <a:pt x="2587" y="2324"/>
                  </a:lnTo>
                  <a:lnTo>
                    <a:pt x="2626" y="2292"/>
                  </a:lnTo>
                  <a:lnTo>
                    <a:pt x="2644" y="2260"/>
                  </a:lnTo>
                  <a:lnTo>
                    <a:pt x="2644" y="2228"/>
                  </a:lnTo>
                  <a:lnTo>
                    <a:pt x="2663" y="2196"/>
                  </a:lnTo>
                  <a:lnTo>
                    <a:pt x="2663" y="2164"/>
                  </a:lnTo>
                  <a:lnTo>
                    <a:pt x="2683" y="2131"/>
                  </a:lnTo>
                  <a:lnTo>
                    <a:pt x="2683" y="2099"/>
                  </a:lnTo>
                  <a:lnTo>
                    <a:pt x="2683" y="2068"/>
                  </a:lnTo>
                  <a:lnTo>
                    <a:pt x="2702" y="2035"/>
                  </a:lnTo>
                  <a:lnTo>
                    <a:pt x="2702" y="2003"/>
                  </a:lnTo>
                  <a:lnTo>
                    <a:pt x="2702" y="1971"/>
                  </a:lnTo>
                  <a:lnTo>
                    <a:pt x="2702" y="1939"/>
                  </a:lnTo>
                  <a:lnTo>
                    <a:pt x="2720" y="1906"/>
                  </a:lnTo>
                  <a:lnTo>
                    <a:pt x="2739" y="1874"/>
                  </a:lnTo>
                  <a:lnTo>
                    <a:pt x="2739" y="1843"/>
                  </a:lnTo>
                  <a:lnTo>
                    <a:pt x="2739" y="1810"/>
                  </a:lnTo>
                  <a:lnTo>
                    <a:pt x="2759" y="1778"/>
                  </a:lnTo>
                  <a:lnTo>
                    <a:pt x="2759" y="1746"/>
                  </a:lnTo>
                  <a:lnTo>
                    <a:pt x="2759" y="1714"/>
                  </a:lnTo>
                  <a:lnTo>
                    <a:pt x="2759" y="1681"/>
                  </a:lnTo>
                  <a:lnTo>
                    <a:pt x="2759" y="1650"/>
                  </a:lnTo>
                  <a:lnTo>
                    <a:pt x="2739" y="1618"/>
                  </a:lnTo>
                  <a:lnTo>
                    <a:pt x="2739" y="1585"/>
                  </a:lnTo>
                  <a:lnTo>
                    <a:pt x="2720" y="1553"/>
                  </a:lnTo>
                  <a:lnTo>
                    <a:pt x="2702" y="1521"/>
                  </a:lnTo>
                  <a:lnTo>
                    <a:pt x="2683" y="1489"/>
                  </a:lnTo>
                  <a:lnTo>
                    <a:pt x="2663" y="1457"/>
                  </a:lnTo>
                  <a:lnTo>
                    <a:pt x="2644" y="1425"/>
                  </a:lnTo>
                  <a:lnTo>
                    <a:pt x="2626" y="1393"/>
                  </a:lnTo>
                  <a:lnTo>
                    <a:pt x="2606" y="1360"/>
                  </a:lnTo>
                  <a:lnTo>
                    <a:pt x="2587" y="1328"/>
                  </a:lnTo>
                  <a:lnTo>
                    <a:pt x="2568" y="1296"/>
                  </a:lnTo>
                  <a:lnTo>
                    <a:pt x="2550" y="1264"/>
                  </a:lnTo>
                  <a:lnTo>
                    <a:pt x="2530" y="1232"/>
                  </a:lnTo>
                  <a:lnTo>
                    <a:pt x="2530" y="1200"/>
                  </a:lnTo>
                  <a:lnTo>
                    <a:pt x="2511" y="1168"/>
                  </a:lnTo>
                  <a:lnTo>
                    <a:pt x="2511" y="1135"/>
                  </a:lnTo>
                  <a:lnTo>
                    <a:pt x="2492" y="1103"/>
                  </a:lnTo>
                  <a:lnTo>
                    <a:pt x="2492" y="1071"/>
                  </a:lnTo>
                  <a:lnTo>
                    <a:pt x="2472" y="1039"/>
                  </a:lnTo>
                  <a:lnTo>
                    <a:pt x="2472" y="1007"/>
                  </a:lnTo>
                  <a:lnTo>
                    <a:pt x="2472" y="975"/>
                  </a:lnTo>
                  <a:lnTo>
                    <a:pt x="2454" y="943"/>
                  </a:lnTo>
                  <a:lnTo>
                    <a:pt x="2454" y="910"/>
                  </a:lnTo>
                  <a:lnTo>
                    <a:pt x="2454" y="878"/>
                  </a:lnTo>
                  <a:lnTo>
                    <a:pt x="2492" y="846"/>
                  </a:lnTo>
                  <a:lnTo>
                    <a:pt x="2550" y="825"/>
                  </a:lnTo>
                  <a:lnTo>
                    <a:pt x="2606" y="814"/>
                  </a:lnTo>
                  <a:lnTo>
                    <a:pt x="2663" y="803"/>
                  </a:lnTo>
                  <a:lnTo>
                    <a:pt x="2720" y="803"/>
                  </a:lnTo>
                  <a:lnTo>
                    <a:pt x="2778" y="793"/>
                  </a:lnTo>
                  <a:lnTo>
                    <a:pt x="2835" y="793"/>
                  </a:lnTo>
                  <a:lnTo>
                    <a:pt x="2892" y="782"/>
                  </a:lnTo>
                  <a:lnTo>
                    <a:pt x="2950" y="760"/>
                  </a:lnTo>
                  <a:lnTo>
                    <a:pt x="2987" y="728"/>
                  </a:lnTo>
                  <a:lnTo>
                    <a:pt x="3006" y="697"/>
                  </a:lnTo>
                  <a:lnTo>
                    <a:pt x="3026" y="664"/>
                  </a:lnTo>
                  <a:lnTo>
                    <a:pt x="3044" y="632"/>
                  </a:lnTo>
                  <a:lnTo>
                    <a:pt x="3044" y="600"/>
                  </a:lnTo>
                  <a:lnTo>
                    <a:pt x="3044" y="568"/>
                  </a:lnTo>
                  <a:lnTo>
                    <a:pt x="3026" y="535"/>
                  </a:lnTo>
                  <a:lnTo>
                    <a:pt x="2987" y="504"/>
                  </a:lnTo>
                  <a:lnTo>
                    <a:pt x="2950" y="472"/>
                  </a:lnTo>
                  <a:lnTo>
                    <a:pt x="2892" y="450"/>
                  </a:lnTo>
                  <a:lnTo>
                    <a:pt x="2835" y="429"/>
                  </a:lnTo>
                  <a:lnTo>
                    <a:pt x="2778" y="407"/>
                  </a:lnTo>
                  <a:lnTo>
                    <a:pt x="2720" y="397"/>
                  </a:lnTo>
                  <a:lnTo>
                    <a:pt x="2663" y="375"/>
                  </a:lnTo>
                  <a:lnTo>
                    <a:pt x="2606" y="354"/>
                  </a:lnTo>
                  <a:lnTo>
                    <a:pt x="2550" y="332"/>
                  </a:lnTo>
                  <a:lnTo>
                    <a:pt x="2511" y="300"/>
                  </a:lnTo>
                  <a:lnTo>
                    <a:pt x="2472" y="268"/>
                  </a:lnTo>
                  <a:lnTo>
                    <a:pt x="2472" y="235"/>
                  </a:lnTo>
                  <a:lnTo>
                    <a:pt x="2472" y="204"/>
                  </a:lnTo>
                  <a:lnTo>
                    <a:pt x="2530" y="182"/>
                  </a:lnTo>
                  <a:lnTo>
                    <a:pt x="2587" y="161"/>
                  </a:lnTo>
                  <a:lnTo>
                    <a:pt x="2644" y="139"/>
                  </a:lnTo>
                  <a:lnTo>
                    <a:pt x="2702" y="118"/>
                  </a:lnTo>
                  <a:lnTo>
                    <a:pt x="2759" y="97"/>
                  </a:lnTo>
                  <a:lnTo>
                    <a:pt x="2816" y="86"/>
                  </a:lnTo>
                  <a:lnTo>
                    <a:pt x="2872" y="86"/>
                  </a:lnTo>
                  <a:lnTo>
                    <a:pt x="2930" y="75"/>
                  </a:lnTo>
                  <a:lnTo>
                    <a:pt x="2987" y="75"/>
                  </a:lnTo>
                  <a:lnTo>
                    <a:pt x="3044" y="64"/>
                  </a:lnTo>
                  <a:lnTo>
                    <a:pt x="3102" y="64"/>
                  </a:lnTo>
                  <a:lnTo>
                    <a:pt x="3159" y="64"/>
                  </a:lnTo>
                  <a:lnTo>
                    <a:pt x="3216" y="64"/>
                  </a:lnTo>
                  <a:lnTo>
                    <a:pt x="3274" y="64"/>
                  </a:lnTo>
                  <a:lnTo>
                    <a:pt x="3330" y="64"/>
                  </a:lnTo>
                  <a:lnTo>
                    <a:pt x="3387" y="54"/>
                  </a:lnTo>
                  <a:lnTo>
                    <a:pt x="3444" y="54"/>
                  </a:lnTo>
                  <a:lnTo>
                    <a:pt x="3502" y="54"/>
                  </a:lnTo>
                  <a:lnTo>
                    <a:pt x="3559" y="54"/>
                  </a:lnTo>
                  <a:lnTo>
                    <a:pt x="3616" y="54"/>
                  </a:lnTo>
                  <a:lnTo>
                    <a:pt x="3674" y="54"/>
                  </a:lnTo>
                  <a:lnTo>
                    <a:pt x="3730" y="54"/>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801040" y="1960560"/>
              <a:ext cx="2579400" cy="1640520"/>
            </a:xfrm>
            <a:custGeom>
              <a:avLst/>
              <a:gdLst/>
              <a:ahLst/>
              <a:rect l="l" t="t" r="r" b="b"/>
              <a:pathLst>
                <a:path w="1781" h="1086">
                  <a:moveTo>
                    <a:pt x="0" y="1085"/>
                  </a:moveTo>
                  <a:lnTo>
                    <a:pt x="65" y="1039"/>
                  </a:lnTo>
                  <a:lnTo>
                    <a:pt x="141" y="1018"/>
                  </a:lnTo>
                  <a:lnTo>
                    <a:pt x="199" y="996"/>
                  </a:lnTo>
                  <a:lnTo>
                    <a:pt x="256" y="964"/>
                  </a:lnTo>
                  <a:lnTo>
                    <a:pt x="312" y="943"/>
                  </a:lnTo>
                  <a:lnTo>
                    <a:pt x="369" y="910"/>
                  </a:lnTo>
                  <a:lnTo>
                    <a:pt x="427" y="889"/>
                  </a:lnTo>
                  <a:lnTo>
                    <a:pt x="484" y="856"/>
                  </a:lnTo>
                  <a:lnTo>
                    <a:pt x="560" y="824"/>
                  </a:lnTo>
                  <a:lnTo>
                    <a:pt x="599" y="793"/>
                  </a:lnTo>
                  <a:lnTo>
                    <a:pt x="656" y="771"/>
                  </a:lnTo>
                  <a:lnTo>
                    <a:pt x="693" y="739"/>
                  </a:lnTo>
                  <a:lnTo>
                    <a:pt x="732" y="706"/>
                  </a:lnTo>
                  <a:lnTo>
                    <a:pt x="789" y="675"/>
                  </a:lnTo>
                  <a:lnTo>
                    <a:pt x="827" y="643"/>
                  </a:lnTo>
                  <a:lnTo>
                    <a:pt x="865" y="610"/>
                  </a:lnTo>
                  <a:lnTo>
                    <a:pt x="902" y="578"/>
                  </a:lnTo>
                  <a:lnTo>
                    <a:pt x="960" y="546"/>
                  </a:lnTo>
                  <a:lnTo>
                    <a:pt x="998" y="514"/>
                  </a:lnTo>
                  <a:lnTo>
                    <a:pt x="1056" y="471"/>
                  </a:lnTo>
                  <a:lnTo>
                    <a:pt x="1093" y="439"/>
                  </a:lnTo>
                  <a:lnTo>
                    <a:pt x="1150" y="407"/>
                  </a:lnTo>
                  <a:lnTo>
                    <a:pt x="1189" y="364"/>
                  </a:lnTo>
                  <a:lnTo>
                    <a:pt x="1246" y="332"/>
                  </a:lnTo>
                  <a:lnTo>
                    <a:pt x="1284" y="300"/>
                  </a:lnTo>
                  <a:lnTo>
                    <a:pt x="1341" y="268"/>
                  </a:lnTo>
                  <a:lnTo>
                    <a:pt x="1398" y="235"/>
                  </a:lnTo>
                  <a:lnTo>
                    <a:pt x="1436" y="203"/>
                  </a:lnTo>
                  <a:lnTo>
                    <a:pt x="1493" y="171"/>
                  </a:lnTo>
                  <a:lnTo>
                    <a:pt x="1550" y="139"/>
                  </a:lnTo>
                  <a:lnTo>
                    <a:pt x="1589" y="107"/>
                  </a:lnTo>
                  <a:lnTo>
                    <a:pt x="1626" y="75"/>
                  </a:lnTo>
                  <a:lnTo>
                    <a:pt x="1665" y="43"/>
                  </a:lnTo>
                  <a:lnTo>
                    <a:pt x="1722" y="21"/>
                  </a:lnTo>
                  <a:lnTo>
                    <a:pt x="1780" y="0"/>
                  </a:lnTo>
                  <a:lnTo>
                    <a:pt x="1722" y="32"/>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893560" y="1920960"/>
              <a:ext cx="3186720" cy="1734120"/>
            </a:xfrm>
            <a:custGeom>
              <a:avLst/>
              <a:gdLst/>
              <a:ahLst/>
              <a:rect l="l" t="t" r="r" b="b"/>
              <a:pathLst>
                <a:path w="2200" h="1148">
                  <a:moveTo>
                    <a:pt x="0" y="1147"/>
                  </a:moveTo>
                  <a:lnTo>
                    <a:pt x="84" y="1125"/>
                  </a:lnTo>
                  <a:lnTo>
                    <a:pt x="141" y="1114"/>
                  </a:lnTo>
                  <a:lnTo>
                    <a:pt x="199" y="1114"/>
                  </a:lnTo>
                  <a:lnTo>
                    <a:pt x="256" y="1093"/>
                  </a:lnTo>
                  <a:lnTo>
                    <a:pt x="312" y="1083"/>
                  </a:lnTo>
                  <a:lnTo>
                    <a:pt x="369" y="1061"/>
                  </a:lnTo>
                  <a:lnTo>
                    <a:pt x="427" y="1039"/>
                  </a:lnTo>
                  <a:lnTo>
                    <a:pt x="465" y="1008"/>
                  </a:lnTo>
                  <a:lnTo>
                    <a:pt x="523" y="975"/>
                  </a:lnTo>
                  <a:lnTo>
                    <a:pt x="560" y="943"/>
                  </a:lnTo>
                  <a:lnTo>
                    <a:pt x="599" y="911"/>
                  </a:lnTo>
                  <a:lnTo>
                    <a:pt x="656" y="879"/>
                  </a:lnTo>
                  <a:lnTo>
                    <a:pt x="693" y="846"/>
                  </a:lnTo>
                  <a:lnTo>
                    <a:pt x="751" y="814"/>
                  </a:lnTo>
                  <a:lnTo>
                    <a:pt x="808" y="783"/>
                  </a:lnTo>
                  <a:lnTo>
                    <a:pt x="865" y="750"/>
                  </a:lnTo>
                  <a:lnTo>
                    <a:pt x="923" y="718"/>
                  </a:lnTo>
                  <a:lnTo>
                    <a:pt x="980" y="686"/>
                  </a:lnTo>
                  <a:lnTo>
                    <a:pt x="1036" y="654"/>
                  </a:lnTo>
                  <a:lnTo>
                    <a:pt x="1056" y="621"/>
                  </a:lnTo>
                  <a:lnTo>
                    <a:pt x="1113" y="590"/>
                  </a:lnTo>
                  <a:lnTo>
                    <a:pt x="1169" y="557"/>
                  </a:lnTo>
                  <a:lnTo>
                    <a:pt x="1208" y="525"/>
                  </a:lnTo>
                  <a:lnTo>
                    <a:pt x="1247" y="493"/>
                  </a:lnTo>
                  <a:lnTo>
                    <a:pt x="1303" y="472"/>
                  </a:lnTo>
                  <a:lnTo>
                    <a:pt x="1341" y="440"/>
                  </a:lnTo>
                  <a:lnTo>
                    <a:pt x="1380" y="407"/>
                  </a:lnTo>
                  <a:lnTo>
                    <a:pt x="1436" y="375"/>
                  </a:lnTo>
                  <a:lnTo>
                    <a:pt x="1475" y="343"/>
                  </a:lnTo>
                  <a:lnTo>
                    <a:pt x="1513" y="311"/>
                  </a:lnTo>
                  <a:lnTo>
                    <a:pt x="1532" y="278"/>
                  </a:lnTo>
                  <a:lnTo>
                    <a:pt x="1571" y="247"/>
                  </a:lnTo>
                  <a:lnTo>
                    <a:pt x="1608" y="215"/>
                  </a:lnTo>
                  <a:lnTo>
                    <a:pt x="1647" y="182"/>
                  </a:lnTo>
                  <a:lnTo>
                    <a:pt x="1704" y="150"/>
                  </a:lnTo>
                  <a:lnTo>
                    <a:pt x="1741" y="118"/>
                  </a:lnTo>
                  <a:lnTo>
                    <a:pt x="1799" y="107"/>
                  </a:lnTo>
                  <a:lnTo>
                    <a:pt x="1856" y="86"/>
                  </a:lnTo>
                  <a:lnTo>
                    <a:pt x="1913" y="54"/>
                  </a:lnTo>
                  <a:lnTo>
                    <a:pt x="1971" y="32"/>
                  </a:lnTo>
                  <a:lnTo>
                    <a:pt x="2027" y="22"/>
                  </a:lnTo>
                  <a:lnTo>
                    <a:pt x="2084" y="11"/>
                  </a:lnTo>
                  <a:lnTo>
                    <a:pt x="2141" y="0"/>
                  </a:lnTo>
                  <a:lnTo>
                    <a:pt x="2199" y="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715720" y="2897280"/>
              <a:ext cx="356040" cy="154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44920" y="2734200"/>
              <a:ext cx="263520" cy="153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86520" y="2625120"/>
              <a:ext cx="263160" cy="154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623200" y="2516760"/>
              <a:ext cx="263160" cy="153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141560" y="2901600"/>
              <a:ext cx="268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uter root sheath</a:t>
              </a:r>
              <a:endParaRPr b="0" lang="en-US" sz="2400" spc="-1" strike="noStrike">
                <a:solidFill>
                  <a:srgbClr val="000000"/>
                </a:solidFill>
                <a:latin typeface="Times New Roman"/>
              </a:endParaRPr>
            </a:p>
          </p:txBody>
        </p:sp>
        <p:sp>
          <p:nvSpPr>
            <p:cNvPr id="64" name=""/>
            <p:cNvSpPr/>
            <p:nvPr/>
          </p:nvSpPr>
          <p:spPr>
            <a:xfrm>
              <a:off x="7079400" y="3373200"/>
              <a:ext cx="18608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rrector pi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uscle</a:t>
              </a:r>
              <a:endParaRPr b="0" lang="en-US" sz="2400" spc="-1" strike="noStrike">
                <a:solidFill>
                  <a:srgbClr val="000000"/>
                </a:solidFill>
                <a:latin typeface="Times New Roman"/>
              </a:endParaRPr>
            </a:p>
          </p:txBody>
        </p:sp>
        <p:sp>
          <p:nvSpPr>
            <p:cNvPr id="65" name=""/>
            <p:cNvSpPr/>
            <p:nvPr/>
          </p:nvSpPr>
          <p:spPr>
            <a:xfrm>
              <a:off x="7173720" y="1523880"/>
              <a:ext cx="162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dermis</a:t>
              </a:r>
              <a:endParaRPr b="0" lang="en-US" sz="2400" spc="-1" strike="noStrike">
                <a:solidFill>
                  <a:srgbClr val="000000"/>
                </a:solidFill>
                <a:latin typeface="Times New Roman"/>
              </a:endParaRPr>
            </a:p>
          </p:txBody>
        </p:sp>
        <p:sp>
          <p:nvSpPr>
            <p:cNvPr id="66" name=""/>
            <p:cNvSpPr/>
            <p:nvPr/>
          </p:nvSpPr>
          <p:spPr>
            <a:xfrm>
              <a:off x="6339240" y="2122200"/>
              <a:ext cx="15530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Bulge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ulst”</a:t>
              </a:r>
              <a:endParaRPr b="0" lang="en-US" sz="2400" spc="-1" strike="noStrike">
                <a:solidFill>
                  <a:srgbClr val="000000"/>
                </a:solidFill>
                <a:latin typeface="Times New Roman"/>
              </a:endParaRPr>
            </a:p>
          </p:txBody>
        </p:sp>
        <p:sp>
          <p:nvSpPr>
            <p:cNvPr id="67" name=""/>
            <p:cNvSpPr/>
            <p:nvPr/>
          </p:nvSpPr>
          <p:spPr>
            <a:xfrm>
              <a:off x="2159640" y="5603400"/>
              <a:ext cx="4879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labelled cells in follicle bulb!!</a:t>
              </a:r>
              <a:endParaRPr b="0" lang="en-US" sz="2400" spc="-1" strike="noStrike">
                <a:solidFill>
                  <a:srgbClr val="000000"/>
                </a:solidFill>
                <a:latin typeface="Times New Roman"/>
              </a:endParaRPr>
            </a:p>
          </p:txBody>
        </p:sp>
        <p:sp>
          <p:nvSpPr>
            <p:cNvPr id="68" name=""/>
            <p:cNvSpPr/>
            <p:nvPr/>
          </p:nvSpPr>
          <p:spPr>
            <a:xfrm>
              <a:off x="2286000" y="180936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9" name=""/>
            <p:cNvSpPr/>
            <p:nvPr/>
          </p:nvSpPr>
          <p:spPr>
            <a:xfrm>
              <a:off x="3768840" y="306036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0" name=""/>
            <p:cNvSpPr/>
            <p:nvPr/>
          </p:nvSpPr>
          <p:spPr>
            <a:xfrm>
              <a:off x="2749320" y="191808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1" name=""/>
            <p:cNvSpPr/>
            <p:nvPr/>
          </p:nvSpPr>
          <p:spPr>
            <a:xfrm>
              <a:off x="2934720" y="202716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 name=""/>
            <p:cNvSpPr/>
            <p:nvPr/>
          </p:nvSpPr>
          <p:spPr>
            <a:xfrm>
              <a:off x="3768840" y="360432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3" name=""/>
            <p:cNvSpPr/>
            <p:nvPr/>
          </p:nvSpPr>
          <p:spPr>
            <a:xfrm>
              <a:off x="3583800" y="409356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 name=""/>
            <p:cNvSpPr/>
            <p:nvPr/>
          </p:nvSpPr>
          <p:spPr>
            <a:xfrm>
              <a:off x="3490560" y="436572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 name=""/>
            <p:cNvSpPr/>
            <p:nvPr/>
          </p:nvSpPr>
          <p:spPr>
            <a:xfrm>
              <a:off x="3490560" y="463788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6" name=""/>
            <p:cNvSpPr/>
            <p:nvPr/>
          </p:nvSpPr>
          <p:spPr>
            <a:xfrm>
              <a:off x="4232520" y="512748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7" name=""/>
            <p:cNvSpPr/>
            <p:nvPr/>
          </p:nvSpPr>
          <p:spPr>
            <a:xfrm>
              <a:off x="4325040" y="490968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8" name=""/>
            <p:cNvSpPr/>
            <p:nvPr/>
          </p:nvSpPr>
          <p:spPr>
            <a:xfrm>
              <a:off x="5252400" y="523584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9" name=""/>
            <p:cNvSpPr/>
            <p:nvPr/>
          </p:nvSpPr>
          <p:spPr>
            <a:xfrm>
              <a:off x="5437440" y="507276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0" name=""/>
            <p:cNvSpPr/>
            <p:nvPr/>
          </p:nvSpPr>
          <p:spPr>
            <a:xfrm>
              <a:off x="5252400" y="485532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1" name=""/>
            <p:cNvSpPr/>
            <p:nvPr/>
          </p:nvSpPr>
          <p:spPr>
            <a:xfrm>
              <a:off x="5808240" y="436572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2" name=""/>
            <p:cNvSpPr/>
            <p:nvPr/>
          </p:nvSpPr>
          <p:spPr>
            <a:xfrm>
              <a:off x="5437440" y="219024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3" name=""/>
            <p:cNvSpPr/>
            <p:nvPr/>
          </p:nvSpPr>
          <p:spPr>
            <a:xfrm>
              <a:off x="5901120" y="197244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4" name=""/>
            <p:cNvSpPr/>
            <p:nvPr/>
          </p:nvSpPr>
          <p:spPr>
            <a:xfrm>
              <a:off x="5252400" y="338688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5" name=""/>
            <p:cNvSpPr/>
            <p:nvPr/>
          </p:nvSpPr>
          <p:spPr>
            <a:xfrm>
              <a:off x="3305520" y="246204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6" name=""/>
            <p:cNvSpPr/>
            <p:nvPr/>
          </p:nvSpPr>
          <p:spPr>
            <a:xfrm>
              <a:off x="6642720" y="180936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7" name=""/>
            <p:cNvSpPr/>
            <p:nvPr/>
          </p:nvSpPr>
          <p:spPr>
            <a:xfrm>
              <a:off x="6524640" y="4896000"/>
              <a:ext cx="245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labelled cells</a:t>
              </a:r>
              <a:endParaRPr b="0" lang="en-US" sz="2400" spc="-1" strike="noStrike">
                <a:solidFill>
                  <a:srgbClr val="000000"/>
                </a:solidFill>
                <a:latin typeface="Times New Roman"/>
              </a:endParaRPr>
            </a:p>
          </p:txBody>
        </p:sp>
        <p:sp>
          <p:nvSpPr>
            <p:cNvPr id="88" name=""/>
            <p:cNvSpPr/>
            <p:nvPr/>
          </p:nvSpPr>
          <p:spPr>
            <a:xfrm>
              <a:off x="2847960" y="3341160"/>
              <a:ext cx="1087200" cy="83160"/>
            </a:xfrm>
            <a:prstGeom prst="line">
              <a:avLst/>
            </a:prstGeom>
            <a:ln w="25560">
              <a:solidFill>
                <a:srgbClr val="ff6600"/>
              </a:solidFill>
              <a:miter/>
              <a:tailEnd len="med" type="triangle" w="med"/>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89" name=""/>
            <p:cNvSpPr/>
            <p:nvPr/>
          </p:nvSpPr>
          <p:spPr>
            <a:xfrm flipH="1" flipV="1">
              <a:off x="7563960" y="2622240"/>
              <a:ext cx="90720" cy="759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5895000" y="4416840"/>
              <a:ext cx="554760" cy="6512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616720" y="5081760"/>
              <a:ext cx="832680" cy="28440"/>
            </a:xfrm>
            <a:prstGeom prst="line">
              <a:avLst/>
            </a:prstGeom>
            <a:ln w="25560">
              <a:solidFill>
                <a:srgbClr val="ff6600"/>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sp>
        <p:nvSpPr>
          <p:cNvPr id="92"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cation of hair follicle stem cell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4" name=""/>
          <p:cNvSpPr/>
          <p:nvPr/>
        </p:nvSpPr>
        <p:spPr>
          <a:xfrm>
            <a:off x="1503360" y="1760400"/>
            <a:ext cx="24444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1219320" y="914400"/>
            <a:ext cx="5029200" cy="5181480"/>
          </a:xfrm>
          <a:prstGeom prst="rect">
            <a:avLst/>
          </a:prstGeom>
          <a:ln w="0">
            <a:noFill/>
          </a:ln>
        </p:spPr>
      </p:pic>
      <p:sp>
        <p:nvSpPr>
          <p:cNvPr id="96" name="PlaceHolder 1"/>
          <p:cNvSpPr>
            <a:spLocks noGrp="1"/>
          </p:cNvSpPr>
          <p:nvPr>
            <p:ph/>
          </p:nvPr>
        </p:nvSpPr>
        <p:spPr>
          <a:xfrm>
            <a:off x="6248160" y="2286000"/>
            <a:ext cx="2819160" cy="3240000"/>
          </a:xfrm>
          <a:prstGeom prst="rect">
            <a:avLst/>
          </a:prstGeom>
          <a:noFill/>
          <a:ln w="0">
            <a:noFill/>
          </a:ln>
        </p:spPr>
        <p:txBody>
          <a:bodyPr lIns="90000" rIns="90000" tIns="46800" bIns="46800" anchor="t">
            <a:normAutofit/>
          </a:bodyPr>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APM = arrector pili muscle</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B </a:t>
            </a:r>
            <a:r>
              <a:rPr b="1" lang="en-AU" sz="1600" spc="-1" strike="noStrike">
                <a:solidFill>
                  <a:srgbClr val="ffffff"/>
                </a:solidFill>
                <a:latin typeface="Arial"/>
              </a:rPr>
              <a:t>	</a:t>
            </a:r>
            <a:r>
              <a:rPr b="1" lang="en-AU" sz="1600" spc="-1" strike="noStrike">
                <a:solidFill>
                  <a:srgbClr val="ffffff"/>
                </a:solidFill>
                <a:latin typeface="Arial"/>
              </a:rPr>
              <a:t>= bulge</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    </a:t>
            </a:r>
            <a:r>
              <a:rPr b="1" lang="en-AU" sz="1600" spc="-1" strike="noStrike">
                <a:solidFill>
                  <a:srgbClr val="ffffff"/>
                </a:solidFill>
                <a:latin typeface="Arial"/>
              </a:rPr>
              <a:t>* = activated bulge cells</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C</a:t>
            </a:r>
            <a:r>
              <a:rPr b="1" lang="en-AU" sz="1600" spc="-1" strike="noStrike">
                <a:solidFill>
                  <a:srgbClr val="ffffff"/>
                </a:solidFill>
                <a:latin typeface="Arial"/>
              </a:rPr>
              <a:t>	</a:t>
            </a:r>
            <a:r>
              <a:rPr b="1" lang="en-AU" sz="1600" spc="-1" strike="noStrike">
                <a:solidFill>
                  <a:srgbClr val="ffffff"/>
                </a:solidFill>
                <a:latin typeface="Arial"/>
              </a:rPr>
              <a:t>= cortex</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DP</a:t>
            </a:r>
            <a:r>
              <a:rPr b="1" lang="en-AU" sz="1600" spc="-1" strike="noStrike">
                <a:solidFill>
                  <a:srgbClr val="ffffff"/>
                </a:solidFill>
                <a:latin typeface="Arial"/>
              </a:rPr>
              <a:t>	</a:t>
            </a:r>
            <a:r>
              <a:rPr b="1" lang="en-AU" sz="1600" spc="-1" strike="noStrike">
                <a:solidFill>
                  <a:srgbClr val="ffffff"/>
                </a:solidFill>
                <a:latin typeface="Arial"/>
              </a:rPr>
              <a:t>= dermal papilla</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E</a:t>
            </a:r>
            <a:r>
              <a:rPr b="1" lang="en-AU" sz="1600" spc="-1" strike="noStrike">
                <a:solidFill>
                  <a:srgbClr val="ffffff"/>
                </a:solidFill>
                <a:latin typeface="Arial"/>
              </a:rPr>
              <a:t>	</a:t>
            </a:r>
            <a:r>
              <a:rPr b="1" lang="en-AU" sz="1600" spc="-1" strike="noStrike">
                <a:solidFill>
                  <a:srgbClr val="ffffff"/>
                </a:solidFill>
                <a:latin typeface="Arial"/>
              </a:rPr>
              <a:t>= epidermis</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 matrix</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Md</a:t>
            </a:r>
            <a:r>
              <a:rPr b="1" lang="en-AU" sz="1600" spc="-1" strike="noStrike">
                <a:solidFill>
                  <a:srgbClr val="ffffff"/>
                </a:solidFill>
                <a:latin typeface="Arial"/>
              </a:rPr>
              <a:t>	</a:t>
            </a:r>
            <a:r>
              <a:rPr b="1" lang="en-AU" sz="1600" spc="-1" strike="noStrike">
                <a:solidFill>
                  <a:srgbClr val="ffffff"/>
                </a:solidFill>
                <a:latin typeface="Arial"/>
              </a:rPr>
              <a:t>= medulla</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S</a:t>
            </a:r>
            <a:r>
              <a:rPr b="1" lang="en-AU" sz="1600" spc="-1" strike="noStrike">
                <a:solidFill>
                  <a:srgbClr val="ffffff"/>
                </a:solidFill>
                <a:latin typeface="Arial"/>
              </a:rPr>
              <a:t>	</a:t>
            </a:r>
            <a:r>
              <a:rPr b="1" lang="en-AU" sz="1600" spc="-1" strike="noStrike">
                <a:solidFill>
                  <a:srgbClr val="ffffff"/>
                </a:solidFill>
                <a:latin typeface="Arial"/>
              </a:rPr>
              <a:t>= sebaceous gland</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1600" spc="-1" strike="noStrike">
              <a:solidFill>
                <a:srgbClr val="ffffff"/>
              </a:solidFill>
              <a:latin typeface="Arial"/>
            </a:endParaRPr>
          </a:p>
        </p:txBody>
      </p:sp>
      <p:sp>
        <p:nvSpPr>
          <p:cNvPr id="97"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t>
            </a:r>
            <a:r>
              <a:rPr b="1" lang="en-AU" sz="3200" spc="-1" strike="noStrike">
                <a:solidFill>
                  <a:srgbClr val="fafd00"/>
                </a:solidFill>
                <a:latin typeface="Arial"/>
              </a:rPr>
              <a:t>Bulge activation’ hypothesis</a:t>
            </a:r>
            <a:endParaRPr b="1" lang="en-US" sz="3200" spc="-1" strike="noStrike">
              <a:solidFill>
                <a:srgbClr val="fafd00"/>
              </a:solidFill>
              <a:latin typeface="Arial"/>
            </a:endParaRPr>
          </a:p>
        </p:txBody>
      </p:sp>
      <p:sp>
        <p:nvSpPr>
          <p:cNvPr id="98" name=""/>
          <p:cNvSpPr/>
          <p:nvPr/>
        </p:nvSpPr>
        <p:spPr>
          <a:xfrm>
            <a:off x="6707520" y="6324480"/>
            <a:ext cx="2288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Cotsarelis et al. (1990)</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2:52:09Z</dcterms:created>
  <dc:creator>USER</dc:creator>
  <dc:description/>
  <dc:language>en-US</dc:language>
  <cp:lastModifiedBy>Hdaily</cp:lastModifiedBy>
  <cp:lastPrinted>2000-02-17T03:02:08Z</cp:lastPrinted>
  <dcterms:modified xsi:type="dcterms:W3CDTF">2000-06-09T05:04:17Z</dcterms:modified>
  <cp:revision>3</cp:revision>
  <dc:subject/>
  <dc:title>Stem Cells in the Follicle</dc:title>
</cp:coreProperties>
</file>