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5618-12F2-4A47-B649-D54CF0908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6B01-9966-48A9-B07F-79DA1EAFC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general processes of how cells communicate using signalling molecules, and the endocrine, paracrine and autocrin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FA38-37F1-4B0F-B4BC-5AA6FC5E7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methods of cell communication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hemical signalling</a:t>
            </a:r>
            <a:r>
              <a:rPr b="0" lang="en-AU" sz="1200" spc="-1" strike="noStrike">
                <a:solidFill>
                  <a:srgbClr val="000000"/>
                </a:solidFill>
                <a:latin typeface="Times New Roman"/>
              </a:rPr>
              <a:t> involves signals between cells via chemicals specifically made for the task such as hormones, growth factors and neurotransmittors.  Chemical signals convey specific signals through their unique structure and through their interaction with specific receptors (see the module “Chemical Signalling - Hormones and Growth Facto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junctions</a:t>
            </a:r>
            <a:r>
              <a:rPr b="0" lang="en-AU" sz="1200" spc="-1" strike="noStrike">
                <a:solidFill>
                  <a:srgbClr val="000000"/>
                </a:solidFill>
                <a:latin typeface="Times New Roman"/>
              </a:rPr>
              <a:t>.  There are a number of different types of cell junctions including desmosomes (adhering junctions which anchor cells together), tight junctions (impermeable junctions) and gap junctions (communicating junctions).  Molecules can pass through these junctions or, in the case of desmosomes and tight junctions,  cell movements and contacts with the cytoskeleton may be the signalling mechanism. Small intracellular molecules (Ca</a:t>
            </a:r>
            <a:r>
              <a:rPr b="0" lang="en-AU" sz="1200" spc="-1" strike="noStrike" baseline="30000">
                <a:solidFill>
                  <a:srgbClr val="000000"/>
                </a:solidFill>
                <a:latin typeface="Times New Roman"/>
              </a:rPr>
              <a:t>2+</a:t>
            </a:r>
            <a:r>
              <a:rPr b="0" lang="en-AU" sz="1200" spc="-1" strike="noStrike">
                <a:solidFill>
                  <a:srgbClr val="000000"/>
                </a:solidFill>
                <a:latin typeface="Times New Roman"/>
              </a:rPr>
              <a:t>,</a:t>
            </a:r>
            <a:r>
              <a:rPr b="0" lang="en-AU" sz="1200" spc="-1" strike="noStrike" baseline="30000">
                <a:solidFill>
                  <a:srgbClr val="000000"/>
                </a:solidFill>
                <a:latin typeface="Times New Roman"/>
              </a:rPr>
              <a:t> </a:t>
            </a:r>
            <a:r>
              <a:rPr b="0" lang="en-AU" sz="1200" spc="-1" strike="noStrike">
                <a:solidFill>
                  <a:srgbClr val="000000"/>
                </a:solidFill>
                <a:latin typeface="Times New Roman"/>
              </a:rPr>
              <a:t>cAMP) are used as chemical signals via gap junctions.  Large macromolecules such as proteins and peptides are too big to pass between cells in this mann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ECM</a:t>
            </a:r>
            <a:r>
              <a:rPr b="0" lang="en-AU" sz="1200" spc="-1" strike="noStrike">
                <a:solidFill>
                  <a:srgbClr val="000000"/>
                </a:solidFill>
                <a:latin typeface="Times New Roman"/>
              </a:rPr>
              <a:t>.  The extracellular matrix in the dermis plays an important role in cell communication; it is not just a structural component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14D2-B7A2-452E-80BF-0146506FC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signalling molecules are secreted from the signalling cell by exocytosis, others are released by diffusion across the cell membrane, while others remain bound to the cell surface membrane and influence only the cells which come into direct cont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1A4D-D613-420F-986D-1BDF630F6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alling molecules that a cell secretes may be carried away from the secretory cell to act on distant tissues - </a:t>
            </a:r>
            <a:r>
              <a:rPr b="1" lang="en-AU" sz="1200" spc="-1" strike="noStrike">
                <a:solidFill>
                  <a:srgbClr val="000000"/>
                </a:solidFill>
                <a:latin typeface="Times New Roman"/>
              </a:rPr>
              <a:t>endocrine</a:t>
            </a:r>
            <a:r>
              <a:rPr b="0" lang="en-AU" sz="1200" spc="-1" strike="noStrike">
                <a:solidFill>
                  <a:srgbClr val="000000"/>
                </a:solidFill>
                <a:latin typeface="Times New Roman"/>
              </a:rPr>
              <a:t> cells are the secretory cells.  Endocrine cells secrete the signalling molecule (hormone) into the bloodstream.  The target cells have receptors for binding specific hormones, therefore “pull” the appropriate hormone from the extracellular fluid.  Endocrine relies on diffusion and blood flow and it is relatively s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alling molecules may act as local mediators also, affecting only cells in the immediate environment of the signalling cells - </a:t>
            </a:r>
            <a:r>
              <a:rPr b="1" lang="en-AU" sz="1200" spc="-1" strike="noStrike">
                <a:solidFill>
                  <a:srgbClr val="000000"/>
                </a:solidFill>
                <a:latin typeface="Times New Roman"/>
              </a:rPr>
              <a:t>paracrine</a:t>
            </a:r>
            <a:r>
              <a:rPr b="0" lang="en-AU" sz="1200" spc="-1" strike="noStrike">
                <a:solidFill>
                  <a:srgbClr val="000000"/>
                </a:solidFill>
                <a:latin typeface="Times New Roman"/>
              </a:rPr>
              <a:t>.  In this situation, one cell type is influencing another in the local proximity e.g. epidermal-dermal interactions.  For paracrine signals to be delivered only to their proper targets, the secreted signalling molecules must not be allowed to diffuse too far - for this reason they are often rapidly taken up by their neighbouring cells, destroyed by extracellular enzymes or immobilised by the E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the same mechanism, cells can signal other cells of the same type or to themselves - </a:t>
            </a:r>
            <a:r>
              <a:rPr b="1" lang="en-AU" sz="1200" spc="-1" strike="noStrike">
                <a:solidFill>
                  <a:srgbClr val="000000"/>
                </a:solidFill>
                <a:latin typeface="Times New Roman"/>
              </a:rPr>
              <a:t>autocrine</a:t>
            </a:r>
            <a:r>
              <a:rPr b="0" lang="en-AU" sz="1200" spc="-1" strike="noStrike">
                <a:solidFill>
                  <a:srgbClr val="000000"/>
                </a:solidFill>
                <a:latin typeface="Times New Roman"/>
              </a:rPr>
              <a:t> - binds back to its own receptors.  This is important during development, as once a cell has been directed to a particular path of differentiation, it may begin to secrete autocrine signals that reinforce this developmental decision.  It is most effective when carried out simultaneously by neighbouring cells of the same type (Concentration effect) or it may be used to encourage groups of cells to make the same developmental decisions. This is known as a  community effect - one cell alone can’t achieve a desired result but groups 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p junctions allow direct movement of signalling molecules from one cell to an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Communic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cells communicat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hemical signa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rmo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otransmitt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jun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smosom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ght jun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p junc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tracellular matrix (ECM)</a:t>
            </a: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08080" y="1085760"/>
            <a:ext cx="8112240" cy="4934160"/>
            <a:chOff x="1108080" y="1085760"/>
            <a:chExt cx="8112240" cy="4934160"/>
          </a:xfrm>
        </p:grpSpPr>
        <p:grpSp>
          <p:nvGrpSpPr>
            <p:cNvPr id="53" name=""/>
            <p:cNvGrpSpPr/>
            <p:nvPr/>
          </p:nvGrpSpPr>
          <p:grpSpPr>
            <a:xfrm>
              <a:off x="2716560" y="1085760"/>
              <a:ext cx="1363680" cy="1279440"/>
              <a:chOff x="2716560" y="1085760"/>
              <a:chExt cx="1363680" cy="1279440"/>
            </a:xfrm>
          </p:grpSpPr>
          <p:grpSp>
            <p:nvGrpSpPr>
              <p:cNvPr id="54" name=""/>
              <p:cNvGrpSpPr/>
              <p:nvPr/>
            </p:nvGrpSpPr>
            <p:grpSpPr>
              <a:xfrm>
                <a:off x="2716560" y="1085760"/>
                <a:ext cx="1363680" cy="1279440"/>
                <a:chOff x="2716560" y="1085760"/>
                <a:chExt cx="1363680" cy="1279440"/>
              </a:xfrm>
            </p:grpSpPr>
            <p:sp>
              <p:nvSpPr>
                <p:cNvPr id="55" name=""/>
                <p:cNvSpPr/>
                <p:nvPr/>
              </p:nvSpPr>
              <p:spPr>
                <a:xfrm>
                  <a:off x="2716560" y="1085760"/>
                  <a:ext cx="1363680" cy="1279440"/>
                </a:xfrm>
                <a:custGeom>
                  <a:avLst/>
                  <a:gdLst/>
                  <a:ahLst/>
                  <a:rect l="l" t="t" r="r" b="b"/>
                  <a:pathLst>
                    <a:path w="859" h="806">
                      <a:moveTo>
                        <a:pt x="826" y="84"/>
                      </a:moveTo>
                      <a:lnTo>
                        <a:pt x="795" y="74"/>
                      </a:lnTo>
                      <a:lnTo>
                        <a:pt x="774" y="63"/>
                      </a:lnTo>
                      <a:lnTo>
                        <a:pt x="743" y="53"/>
                      </a:lnTo>
                      <a:lnTo>
                        <a:pt x="722" y="42"/>
                      </a:lnTo>
                      <a:lnTo>
                        <a:pt x="680" y="32"/>
                      </a:lnTo>
                      <a:lnTo>
                        <a:pt x="659" y="32"/>
                      </a:lnTo>
                      <a:lnTo>
                        <a:pt x="628" y="21"/>
                      </a:lnTo>
                      <a:lnTo>
                        <a:pt x="607" y="11"/>
                      </a:lnTo>
                      <a:lnTo>
                        <a:pt x="575" y="11"/>
                      </a:lnTo>
                      <a:lnTo>
                        <a:pt x="565" y="11"/>
                      </a:lnTo>
                      <a:lnTo>
                        <a:pt x="534" y="11"/>
                      </a:lnTo>
                      <a:lnTo>
                        <a:pt x="513" y="11"/>
                      </a:lnTo>
                      <a:lnTo>
                        <a:pt x="481" y="0"/>
                      </a:lnTo>
                      <a:lnTo>
                        <a:pt x="460" y="0"/>
                      </a:lnTo>
                      <a:lnTo>
                        <a:pt x="429" y="0"/>
                      </a:lnTo>
                      <a:lnTo>
                        <a:pt x="408" y="0"/>
                      </a:lnTo>
                      <a:lnTo>
                        <a:pt x="387" y="0"/>
                      </a:lnTo>
                      <a:lnTo>
                        <a:pt x="377" y="0"/>
                      </a:lnTo>
                      <a:lnTo>
                        <a:pt x="366" y="11"/>
                      </a:lnTo>
                      <a:lnTo>
                        <a:pt x="356" y="11"/>
                      </a:lnTo>
                      <a:lnTo>
                        <a:pt x="335" y="11"/>
                      </a:lnTo>
                      <a:lnTo>
                        <a:pt x="335" y="21"/>
                      </a:lnTo>
                      <a:lnTo>
                        <a:pt x="314" y="21"/>
                      </a:lnTo>
                      <a:lnTo>
                        <a:pt x="304" y="21"/>
                      </a:lnTo>
                      <a:lnTo>
                        <a:pt x="272" y="32"/>
                      </a:lnTo>
                      <a:lnTo>
                        <a:pt x="251" y="42"/>
                      </a:lnTo>
                      <a:lnTo>
                        <a:pt x="220" y="53"/>
                      </a:lnTo>
                      <a:lnTo>
                        <a:pt x="199" y="53"/>
                      </a:lnTo>
                      <a:lnTo>
                        <a:pt x="168" y="74"/>
                      </a:lnTo>
                      <a:lnTo>
                        <a:pt x="157" y="84"/>
                      </a:lnTo>
                      <a:lnTo>
                        <a:pt x="126" y="105"/>
                      </a:lnTo>
                      <a:lnTo>
                        <a:pt x="115" y="115"/>
                      </a:lnTo>
                      <a:lnTo>
                        <a:pt x="84" y="147"/>
                      </a:lnTo>
                      <a:lnTo>
                        <a:pt x="74" y="157"/>
                      </a:lnTo>
                      <a:lnTo>
                        <a:pt x="53" y="189"/>
                      </a:lnTo>
                      <a:lnTo>
                        <a:pt x="42" y="199"/>
                      </a:lnTo>
                      <a:lnTo>
                        <a:pt x="21" y="220"/>
                      </a:lnTo>
                      <a:lnTo>
                        <a:pt x="21" y="241"/>
                      </a:lnTo>
                      <a:lnTo>
                        <a:pt x="11" y="272"/>
                      </a:lnTo>
                      <a:lnTo>
                        <a:pt x="11" y="293"/>
                      </a:lnTo>
                      <a:lnTo>
                        <a:pt x="0" y="324"/>
                      </a:lnTo>
                      <a:lnTo>
                        <a:pt x="0" y="345"/>
                      </a:lnTo>
                      <a:lnTo>
                        <a:pt x="0" y="377"/>
                      </a:lnTo>
                      <a:lnTo>
                        <a:pt x="0" y="387"/>
                      </a:lnTo>
                      <a:lnTo>
                        <a:pt x="11" y="398"/>
                      </a:lnTo>
                      <a:lnTo>
                        <a:pt x="11" y="408"/>
                      </a:lnTo>
                      <a:lnTo>
                        <a:pt x="21" y="429"/>
                      </a:lnTo>
                      <a:lnTo>
                        <a:pt x="21" y="450"/>
                      </a:lnTo>
                      <a:lnTo>
                        <a:pt x="32" y="460"/>
                      </a:lnTo>
                      <a:lnTo>
                        <a:pt x="42" y="471"/>
                      </a:lnTo>
                      <a:lnTo>
                        <a:pt x="42" y="481"/>
                      </a:lnTo>
                      <a:lnTo>
                        <a:pt x="63" y="502"/>
                      </a:lnTo>
                      <a:lnTo>
                        <a:pt x="74" y="523"/>
                      </a:lnTo>
                      <a:lnTo>
                        <a:pt x="95" y="554"/>
                      </a:lnTo>
                      <a:lnTo>
                        <a:pt x="105" y="565"/>
                      </a:lnTo>
                      <a:lnTo>
                        <a:pt x="115" y="586"/>
                      </a:lnTo>
                      <a:lnTo>
                        <a:pt x="126" y="596"/>
                      </a:lnTo>
                      <a:lnTo>
                        <a:pt x="147" y="617"/>
                      </a:lnTo>
                      <a:lnTo>
                        <a:pt x="168" y="628"/>
                      </a:lnTo>
                      <a:lnTo>
                        <a:pt x="178" y="638"/>
                      </a:lnTo>
                      <a:lnTo>
                        <a:pt x="189" y="648"/>
                      </a:lnTo>
                      <a:lnTo>
                        <a:pt x="199" y="659"/>
                      </a:lnTo>
                      <a:lnTo>
                        <a:pt x="220" y="680"/>
                      </a:lnTo>
                      <a:lnTo>
                        <a:pt x="241" y="701"/>
                      </a:lnTo>
                      <a:lnTo>
                        <a:pt x="272" y="732"/>
                      </a:lnTo>
                      <a:lnTo>
                        <a:pt x="283" y="743"/>
                      </a:lnTo>
                      <a:lnTo>
                        <a:pt x="324" y="763"/>
                      </a:lnTo>
                      <a:lnTo>
                        <a:pt x="345" y="774"/>
                      </a:lnTo>
                      <a:lnTo>
                        <a:pt x="387" y="795"/>
                      </a:lnTo>
                      <a:lnTo>
                        <a:pt x="408" y="795"/>
                      </a:lnTo>
                      <a:lnTo>
                        <a:pt x="450" y="805"/>
                      </a:lnTo>
                      <a:lnTo>
                        <a:pt x="471" y="805"/>
                      </a:lnTo>
                      <a:lnTo>
                        <a:pt x="502" y="805"/>
                      </a:lnTo>
                      <a:lnTo>
                        <a:pt x="513" y="795"/>
                      </a:lnTo>
                      <a:lnTo>
                        <a:pt x="534" y="795"/>
                      </a:lnTo>
                      <a:lnTo>
                        <a:pt x="554" y="795"/>
                      </a:lnTo>
                      <a:lnTo>
                        <a:pt x="575" y="784"/>
                      </a:lnTo>
                      <a:lnTo>
                        <a:pt x="586" y="774"/>
                      </a:lnTo>
                      <a:lnTo>
                        <a:pt x="617" y="753"/>
                      </a:lnTo>
                      <a:lnTo>
                        <a:pt x="638" y="743"/>
                      </a:lnTo>
                      <a:lnTo>
                        <a:pt x="659" y="722"/>
                      </a:lnTo>
                      <a:lnTo>
                        <a:pt x="659" y="701"/>
                      </a:lnTo>
                      <a:lnTo>
                        <a:pt x="680" y="680"/>
                      </a:lnTo>
                      <a:lnTo>
                        <a:pt x="690" y="669"/>
                      </a:lnTo>
                      <a:lnTo>
                        <a:pt x="701" y="638"/>
                      </a:lnTo>
                      <a:lnTo>
                        <a:pt x="711" y="617"/>
                      </a:lnTo>
                      <a:lnTo>
                        <a:pt x="732" y="596"/>
                      </a:lnTo>
                      <a:lnTo>
                        <a:pt x="743" y="586"/>
                      </a:lnTo>
                      <a:lnTo>
                        <a:pt x="753" y="575"/>
                      </a:lnTo>
                      <a:lnTo>
                        <a:pt x="753" y="565"/>
                      </a:lnTo>
                      <a:lnTo>
                        <a:pt x="763" y="544"/>
                      </a:lnTo>
                      <a:lnTo>
                        <a:pt x="774" y="544"/>
                      </a:lnTo>
                      <a:lnTo>
                        <a:pt x="774" y="523"/>
                      </a:lnTo>
                      <a:lnTo>
                        <a:pt x="774" y="513"/>
                      </a:lnTo>
                      <a:lnTo>
                        <a:pt x="795" y="502"/>
                      </a:lnTo>
                      <a:lnTo>
                        <a:pt x="805" y="492"/>
                      </a:lnTo>
                      <a:lnTo>
                        <a:pt x="816" y="460"/>
                      </a:lnTo>
                      <a:lnTo>
                        <a:pt x="826" y="439"/>
                      </a:lnTo>
                      <a:lnTo>
                        <a:pt x="837" y="408"/>
                      </a:lnTo>
                      <a:lnTo>
                        <a:pt x="847" y="387"/>
                      </a:lnTo>
                      <a:lnTo>
                        <a:pt x="858" y="356"/>
                      </a:lnTo>
                      <a:lnTo>
                        <a:pt x="858" y="335"/>
                      </a:lnTo>
                      <a:lnTo>
                        <a:pt x="858" y="304"/>
                      </a:lnTo>
                      <a:lnTo>
                        <a:pt x="858" y="293"/>
                      </a:lnTo>
                      <a:lnTo>
                        <a:pt x="858" y="262"/>
                      </a:lnTo>
                      <a:lnTo>
                        <a:pt x="858" y="241"/>
                      </a:lnTo>
                      <a:lnTo>
                        <a:pt x="847" y="220"/>
                      </a:lnTo>
                      <a:lnTo>
                        <a:pt x="847" y="209"/>
                      </a:lnTo>
                      <a:lnTo>
                        <a:pt x="847" y="199"/>
                      </a:lnTo>
                      <a:lnTo>
                        <a:pt x="847" y="189"/>
                      </a:lnTo>
                      <a:lnTo>
                        <a:pt x="847" y="168"/>
                      </a:lnTo>
                      <a:lnTo>
                        <a:pt x="837" y="147"/>
                      </a:lnTo>
                      <a:lnTo>
                        <a:pt x="837" y="136"/>
                      </a:lnTo>
                      <a:lnTo>
                        <a:pt x="826" y="126"/>
                      </a:lnTo>
                      <a:lnTo>
                        <a:pt x="826" y="115"/>
                      </a:lnTo>
                      <a:lnTo>
                        <a:pt x="816" y="84"/>
                      </a:lnTo>
                      <a:lnTo>
                        <a:pt x="816" y="63"/>
                      </a:lnTo>
                      <a:lnTo>
                        <a:pt x="816" y="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733840" y="1085760"/>
                  <a:ext cx="1346400" cy="1279440"/>
                </a:xfrm>
                <a:custGeom>
                  <a:avLst/>
                  <a:gdLst/>
                  <a:ahLst/>
                  <a:rect l="l" t="t" r="r" b="b"/>
                  <a:pathLst>
                    <a:path w="848" h="806">
                      <a:moveTo>
                        <a:pt x="815" y="84"/>
                      </a:moveTo>
                      <a:lnTo>
                        <a:pt x="690" y="42"/>
                      </a:lnTo>
                      <a:lnTo>
                        <a:pt x="585" y="11"/>
                      </a:lnTo>
                      <a:lnTo>
                        <a:pt x="491" y="11"/>
                      </a:lnTo>
                      <a:lnTo>
                        <a:pt x="387" y="0"/>
                      </a:lnTo>
                      <a:lnTo>
                        <a:pt x="334" y="11"/>
                      </a:lnTo>
                      <a:lnTo>
                        <a:pt x="293" y="32"/>
                      </a:lnTo>
                      <a:lnTo>
                        <a:pt x="178" y="63"/>
                      </a:lnTo>
                      <a:lnTo>
                        <a:pt x="94" y="136"/>
                      </a:lnTo>
                      <a:lnTo>
                        <a:pt x="21" y="209"/>
                      </a:lnTo>
                      <a:lnTo>
                        <a:pt x="0" y="314"/>
                      </a:lnTo>
                      <a:lnTo>
                        <a:pt x="0" y="398"/>
                      </a:lnTo>
                      <a:lnTo>
                        <a:pt x="10" y="439"/>
                      </a:lnTo>
                      <a:lnTo>
                        <a:pt x="42" y="492"/>
                      </a:lnTo>
                      <a:lnTo>
                        <a:pt x="104" y="586"/>
                      </a:lnTo>
                      <a:lnTo>
                        <a:pt x="146" y="628"/>
                      </a:lnTo>
                      <a:lnTo>
                        <a:pt x="198" y="669"/>
                      </a:lnTo>
                      <a:lnTo>
                        <a:pt x="293" y="753"/>
                      </a:lnTo>
                      <a:lnTo>
                        <a:pt x="428" y="805"/>
                      </a:lnTo>
                      <a:lnTo>
                        <a:pt x="512" y="795"/>
                      </a:lnTo>
                      <a:lnTo>
                        <a:pt x="596" y="774"/>
                      </a:lnTo>
                      <a:lnTo>
                        <a:pt x="658" y="690"/>
                      </a:lnTo>
                      <a:lnTo>
                        <a:pt x="721" y="607"/>
                      </a:lnTo>
                      <a:lnTo>
                        <a:pt x="752" y="554"/>
                      </a:lnTo>
                      <a:lnTo>
                        <a:pt x="773" y="513"/>
                      </a:lnTo>
                      <a:lnTo>
                        <a:pt x="826" y="429"/>
                      </a:lnTo>
                      <a:lnTo>
                        <a:pt x="847" y="324"/>
                      </a:lnTo>
                      <a:lnTo>
                        <a:pt x="847" y="230"/>
                      </a:lnTo>
                      <a:lnTo>
                        <a:pt x="836" y="178"/>
                      </a:lnTo>
                      <a:lnTo>
                        <a:pt x="826" y="136"/>
                      </a:lnTo>
                      <a:lnTo>
                        <a:pt x="805" y="53"/>
                      </a:lnTo>
                      <a:lnTo>
                        <a:pt x="815" y="84"/>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05200" y="1508040"/>
                  <a:ext cx="439920" cy="28908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3652920" y="1359000"/>
                <a:ext cx="139680" cy="139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586320" y="1590840"/>
                <a:ext cx="139680" cy="141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437280" y="1889280"/>
                <a:ext cx="139680" cy="141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4780080" y="1441440"/>
              <a:ext cx="141480" cy="139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30920" y="1739880"/>
              <a:ext cx="139680" cy="141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631040" y="1739880"/>
              <a:ext cx="141120" cy="141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5454720" y="1136520"/>
              <a:ext cx="1843200" cy="1344600"/>
              <a:chOff x="5454720" y="1136520"/>
              <a:chExt cx="1843200" cy="1344600"/>
            </a:xfrm>
          </p:grpSpPr>
          <p:sp>
            <p:nvSpPr>
              <p:cNvPr id="65" name=""/>
              <p:cNvSpPr/>
              <p:nvPr/>
            </p:nvSpPr>
            <p:spPr>
              <a:xfrm>
                <a:off x="5753520" y="1136520"/>
                <a:ext cx="1544400" cy="1344600"/>
              </a:xfrm>
              <a:custGeom>
                <a:avLst/>
                <a:gdLst/>
                <a:ahLst/>
                <a:rect l="l" t="t" r="r" b="b"/>
                <a:pathLst>
                  <a:path w="973" h="847">
                    <a:moveTo>
                      <a:pt x="554" y="10"/>
                    </a:moveTo>
                    <a:lnTo>
                      <a:pt x="533" y="10"/>
                    </a:lnTo>
                    <a:lnTo>
                      <a:pt x="512" y="10"/>
                    </a:lnTo>
                    <a:lnTo>
                      <a:pt x="481" y="0"/>
                    </a:lnTo>
                    <a:lnTo>
                      <a:pt x="460" y="0"/>
                    </a:lnTo>
                    <a:lnTo>
                      <a:pt x="429" y="10"/>
                    </a:lnTo>
                    <a:lnTo>
                      <a:pt x="408" y="10"/>
                    </a:lnTo>
                    <a:lnTo>
                      <a:pt x="376" y="10"/>
                    </a:lnTo>
                    <a:lnTo>
                      <a:pt x="356" y="10"/>
                    </a:lnTo>
                    <a:lnTo>
                      <a:pt x="335" y="10"/>
                    </a:lnTo>
                    <a:lnTo>
                      <a:pt x="324" y="10"/>
                    </a:lnTo>
                    <a:lnTo>
                      <a:pt x="314" y="21"/>
                    </a:lnTo>
                    <a:lnTo>
                      <a:pt x="303" y="21"/>
                    </a:lnTo>
                    <a:lnTo>
                      <a:pt x="282" y="21"/>
                    </a:lnTo>
                    <a:lnTo>
                      <a:pt x="282" y="31"/>
                    </a:lnTo>
                    <a:lnTo>
                      <a:pt x="261" y="31"/>
                    </a:lnTo>
                    <a:lnTo>
                      <a:pt x="251" y="31"/>
                    </a:lnTo>
                    <a:lnTo>
                      <a:pt x="220" y="42"/>
                    </a:lnTo>
                    <a:lnTo>
                      <a:pt x="199" y="52"/>
                    </a:lnTo>
                    <a:lnTo>
                      <a:pt x="167" y="73"/>
                    </a:lnTo>
                    <a:lnTo>
                      <a:pt x="146" y="83"/>
                    </a:lnTo>
                    <a:lnTo>
                      <a:pt x="115" y="104"/>
                    </a:lnTo>
                    <a:lnTo>
                      <a:pt x="105" y="115"/>
                    </a:lnTo>
                    <a:lnTo>
                      <a:pt x="73" y="146"/>
                    </a:lnTo>
                    <a:lnTo>
                      <a:pt x="63" y="167"/>
                    </a:lnTo>
                    <a:lnTo>
                      <a:pt x="42" y="198"/>
                    </a:lnTo>
                    <a:lnTo>
                      <a:pt x="32" y="209"/>
                    </a:lnTo>
                    <a:lnTo>
                      <a:pt x="21" y="240"/>
                    </a:lnTo>
                    <a:lnTo>
                      <a:pt x="11" y="251"/>
                    </a:lnTo>
                    <a:lnTo>
                      <a:pt x="11" y="272"/>
                    </a:lnTo>
                    <a:lnTo>
                      <a:pt x="11" y="292"/>
                    </a:lnTo>
                    <a:lnTo>
                      <a:pt x="11" y="324"/>
                    </a:lnTo>
                    <a:lnTo>
                      <a:pt x="11" y="345"/>
                    </a:lnTo>
                    <a:lnTo>
                      <a:pt x="0" y="387"/>
                    </a:lnTo>
                    <a:lnTo>
                      <a:pt x="0" y="407"/>
                    </a:lnTo>
                    <a:lnTo>
                      <a:pt x="0" y="439"/>
                    </a:lnTo>
                    <a:lnTo>
                      <a:pt x="0" y="449"/>
                    </a:lnTo>
                    <a:lnTo>
                      <a:pt x="0" y="481"/>
                    </a:lnTo>
                    <a:lnTo>
                      <a:pt x="0" y="491"/>
                    </a:lnTo>
                    <a:lnTo>
                      <a:pt x="11" y="512"/>
                    </a:lnTo>
                    <a:lnTo>
                      <a:pt x="11" y="533"/>
                    </a:lnTo>
                    <a:lnTo>
                      <a:pt x="21" y="543"/>
                    </a:lnTo>
                    <a:lnTo>
                      <a:pt x="21" y="564"/>
                    </a:lnTo>
                    <a:lnTo>
                      <a:pt x="21" y="575"/>
                    </a:lnTo>
                    <a:lnTo>
                      <a:pt x="32" y="596"/>
                    </a:lnTo>
                    <a:lnTo>
                      <a:pt x="32" y="616"/>
                    </a:lnTo>
                    <a:lnTo>
                      <a:pt x="42" y="658"/>
                    </a:lnTo>
                    <a:lnTo>
                      <a:pt x="42" y="669"/>
                    </a:lnTo>
                    <a:lnTo>
                      <a:pt x="52" y="700"/>
                    </a:lnTo>
                    <a:lnTo>
                      <a:pt x="63" y="721"/>
                    </a:lnTo>
                    <a:lnTo>
                      <a:pt x="84" y="752"/>
                    </a:lnTo>
                    <a:lnTo>
                      <a:pt x="94" y="763"/>
                    </a:lnTo>
                    <a:lnTo>
                      <a:pt x="126" y="794"/>
                    </a:lnTo>
                    <a:lnTo>
                      <a:pt x="136" y="805"/>
                    </a:lnTo>
                    <a:lnTo>
                      <a:pt x="167" y="825"/>
                    </a:lnTo>
                    <a:lnTo>
                      <a:pt x="178" y="825"/>
                    </a:lnTo>
                    <a:lnTo>
                      <a:pt x="209" y="825"/>
                    </a:lnTo>
                    <a:lnTo>
                      <a:pt x="230" y="836"/>
                    </a:lnTo>
                    <a:lnTo>
                      <a:pt x="261" y="836"/>
                    </a:lnTo>
                    <a:lnTo>
                      <a:pt x="282" y="836"/>
                    </a:lnTo>
                    <a:lnTo>
                      <a:pt x="324" y="846"/>
                    </a:lnTo>
                    <a:lnTo>
                      <a:pt x="345" y="846"/>
                    </a:lnTo>
                    <a:lnTo>
                      <a:pt x="376" y="846"/>
                    </a:lnTo>
                    <a:lnTo>
                      <a:pt x="387" y="836"/>
                    </a:lnTo>
                    <a:lnTo>
                      <a:pt x="418" y="836"/>
                    </a:lnTo>
                    <a:lnTo>
                      <a:pt x="439" y="836"/>
                    </a:lnTo>
                    <a:lnTo>
                      <a:pt x="470" y="825"/>
                    </a:lnTo>
                    <a:lnTo>
                      <a:pt x="491" y="825"/>
                    </a:lnTo>
                    <a:lnTo>
                      <a:pt x="533" y="815"/>
                    </a:lnTo>
                    <a:lnTo>
                      <a:pt x="554" y="815"/>
                    </a:lnTo>
                    <a:lnTo>
                      <a:pt x="585" y="815"/>
                    </a:lnTo>
                    <a:lnTo>
                      <a:pt x="596" y="815"/>
                    </a:lnTo>
                    <a:lnTo>
                      <a:pt x="638" y="815"/>
                    </a:lnTo>
                    <a:lnTo>
                      <a:pt x="659" y="815"/>
                    </a:lnTo>
                    <a:lnTo>
                      <a:pt x="690" y="815"/>
                    </a:lnTo>
                    <a:lnTo>
                      <a:pt x="711" y="805"/>
                    </a:lnTo>
                    <a:lnTo>
                      <a:pt x="742" y="794"/>
                    </a:lnTo>
                    <a:lnTo>
                      <a:pt x="753" y="794"/>
                    </a:lnTo>
                    <a:lnTo>
                      <a:pt x="774" y="794"/>
                    </a:lnTo>
                    <a:lnTo>
                      <a:pt x="784" y="784"/>
                    </a:lnTo>
                    <a:lnTo>
                      <a:pt x="805" y="784"/>
                    </a:lnTo>
                    <a:lnTo>
                      <a:pt x="815" y="784"/>
                    </a:lnTo>
                    <a:lnTo>
                      <a:pt x="826" y="773"/>
                    </a:lnTo>
                    <a:lnTo>
                      <a:pt x="836" y="763"/>
                    </a:lnTo>
                    <a:lnTo>
                      <a:pt x="857" y="752"/>
                    </a:lnTo>
                    <a:lnTo>
                      <a:pt x="878" y="752"/>
                    </a:lnTo>
                    <a:lnTo>
                      <a:pt x="909" y="731"/>
                    </a:lnTo>
                    <a:lnTo>
                      <a:pt x="920" y="711"/>
                    </a:lnTo>
                    <a:lnTo>
                      <a:pt x="951" y="679"/>
                    </a:lnTo>
                    <a:lnTo>
                      <a:pt x="962" y="658"/>
                    </a:lnTo>
                    <a:lnTo>
                      <a:pt x="972" y="627"/>
                    </a:lnTo>
                    <a:lnTo>
                      <a:pt x="972" y="606"/>
                    </a:lnTo>
                    <a:lnTo>
                      <a:pt x="972" y="575"/>
                    </a:lnTo>
                    <a:lnTo>
                      <a:pt x="972" y="564"/>
                    </a:lnTo>
                    <a:lnTo>
                      <a:pt x="962" y="533"/>
                    </a:lnTo>
                    <a:lnTo>
                      <a:pt x="962" y="512"/>
                    </a:lnTo>
                    <a:lnTo>
                      <a:pt x="951" y="481"/>
                    </a:lnTo>
                    <a:lnTo>
                      <a:pt x="951" y="460"/>
                    </a:lnTo>
                    <a:lnTo>
                      <a:pt x="951" y="428"/>
                    </a:lnTo>
                    <a:lnTo>
                      <a:pt x="941" y="407"/>
                    </a:lnTo>
                    <a:lnTo>
                      <a:pt x="941" y="376"/>
                    </a:lnTo>
                    <a:lnTo>
                      <a:pt x="941" y="366"/>
                    </a:lnTo>
                    <a:lnTo>
                      <a:pt x="930" y="334"/>
                    </a:lnTo>
                    <a:lnTo>
                      <a:pt x="920" y="313"/>
                    </a:lnTo>
                    <a:lnTo>
                      <a:pt x="909" y="282"/>
                    </a:lnTo>
                    <a:lnTo>
                      <a:pt x="899" y="272"/>
                    </a:lnTo>
                    <a:lnTo>
                      <a:pt x="889" y="261"/>
                    </a:lnTo>
                    <a:lnTo>
                      <a:pt x="878" y="251"/>
                    </a:lnTo>
                    <a:lnTo>
                      <a:pt x="857" y="230"/>
                    </a:lnTo>
                    <a:lnTo>
                      <a:pt x="836" y="209"/>
                    </a:lnTo>
                    <a:lnTo>
                      <a:pt x="826" y="198"/>
                    </a:lnTo>
                    <a:lnTo>
                      <a:pt x="805" y="188"/>
                    </a:lnTo>
                    <a:lnTo>
                      <a:pt x="795" y="177"/>
                    </a:lnTo>
                    <a:lnTo>
                      <a:pt x="753" y="157"/>
                    </a:lnTo>
                    <a:lnTo>
                      <a:pt x="732" y="136"/>
                    </a:lnTo>
                    <a:lnTo>
                      <a:pt x="711" y="115"/>
                    </a:lnTo>
                    <a:lnTo>
                      <a:pt x="700" y="104"/>
                    </a:lnTo>
                    <a:lnTo>
                      <a:pt x="690" y="94"/>
                    </a:lnTo>
                    <a:lnTo>
                      <a:pt x="680" y="83"/>
                    </a:lnTo>
                    <a:lnTo>
                      <a:pt x="659" y="73"/>
                    </a:lnTo>
                    <a:lnTo>
                      <a:pt x="638" y="63"/>
                    </a:lnTo>
                    <a:lnTo>
                      <a:pt x="627" y="52"/>
                    </a:lnTo>
                    <a:lnTo>
                      <a:pt x="617" y="42"/>
                    </a:lnTo>
                    <a:lnTo>
                      <a:pt x="606" y="42"/>
                    </a:lnTo>
                    <a:lnTo>
                      <a:pt x="575" y="21"/>
                    </a:lnTo>
                    <a:lnTo>
                      <a:pt x="554" y="10"/>
                    </a:lnTo>
                    <a:lnTo>
                      <a:pt x="5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53520" y="1136520"/>
                <a:ext cx="1544400" cy="1344600"/>
              </a:xfrm>
              <a:custGeom>
                <a:avLst/>
                <a:gdLst/>
                <a:ahLst/>
                <a:rect l="l" t="t" r="r" b="b"/>
                <a:pathLst>
                  <a:path w="973" h="847">
                    <a:moveTo>
                      <a:pt x="554" y="10"/>
                    </a:moveTo>
                    <a:lnTo>
                      <a:pt x="450" y="10"/>
                    </a:lnTo>
                    <a:lnTo>
                      <a:pt x="345" y="10"/>
                    </a:lnTo>
                    <a:lnTo>
                      <a:pt x="293" y="21"/>
                    </a:lnTo>
                    <a:lnTo>
                      <a:pt x="251" y="42"/>
                    </a:lnTo>
                    <a:lnTo>
                      <a:pt x="136" y="94"/>
                    </a:lnTo>
                    <a:lnTo>
                      <a:pt x="52" y="188"/>
                    </a:lnTo>
                    <a:lnTo>
                      <a:pt x="11" y="261"/>
                    </a:lnTo>
                    <a:lnTo>
                      <a:pt x="11" y="366"/>
                    </a:lnTo>
                    <a:lnTo>
                      <a:pt x="0" y="470"/>
                    </a:lnTo>
                    <a:lnTo>
                      <a:pt x="11" y="522"/>
                    </a:lnTo>
                    <a:lnTo>
                      <a:pt x="32" y="585"/>
                    </a:lnTo>
                    <a:lnTo>
                      <a:pt x="52" y="690"/>
                    </a:lnTo>
                    <a:lnTo>
                      <a:pt x="115" y="784"/>
                    </a:lnTo>
                    <a:lnTo>
                      <a:pt x="199" y="825"/>
                    </a:lnTo>
                    <a:lnTo>
                      <a:pt x="303" y="846"/>
                    </a:lnTo>
                    <a:lnTo>
                      <a:pt x="408" y="836"/>
                    </a:lnTo>
                    <a:lnTo>
                      <a:pt x="523" y="825"/>
                    </a:lnTo>
                    <a:lnTo>
                      <a:pt x="617" y="815"/>
                    </a:lnTo>
                    <a:lnTo>
                      <a:pt x="732" y="805"/>
                    </a:lnTo>
                    <a:lnTo>
                      <a:pt x="795" y="784"/>
                    </a:lnTo>
                    <a:lnTo>
                      <a:pt x="847" y="763"/>
                    </a:lnTo>
                    <a:lnTo>
                      <a:pt x="941" y="700"/>
                    </a:lnTo>
                    <a:lnTo>
                      <a:pt x="972" y="596"/>
                    </a:lnTo>
                    <a:lnTo>
                      <a:pt x="962" y="501"/>
                    </a:lnTo>
                    <a:lnTo>
                      <a:pt x="941" y="397"/>
                    </a:lnTo>
                    <a:lnTo>
                      <a:pt x="920" y="303"/>
                    </a:lnTo>
                    <a:lnTo>
                      <a:pt x="868" y="240"/>
                    </a:lnTo>
                    <a:lnTo>
                      <a:pt x="826" y="198"/>
                    </a:lnTo>
                    <a:lnTo>
                      <a:pt x="721" y="125"/>
                    </a:lnTo>
                    <a:lnTo>
                      <a:pt x="669" y="83"/>
                    </a:lnTo>
                    <a:lnTo>
                      <a:pt x="627" y="52"/>
                    </a:lnTo>
                    <a:lnTo>
                      <a:pt x="544" y="0"/>
                    </a:lnTo>
                    <a:lnTo>
                      <a:pt x="554" y="10"/>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90080" y="1657440"/>
                <a:ext cx="588960" cy="43812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5454720" y="1717560"/>
                <a:ext cx="428760" cy="300240"/>
                <a:chOff x="5454720" y="1717560"/>
                <a:chExt cx="428760" cy="300240"/>
              </a:xfrm>
            </p:grpSpPr>
            <p:sp>
              <p:nvSpPr>
                <p:cNvPr id="69" name=""/>
                <p:cNvSpPr/>
                <p:nvPr/>
              </p:nvSpPr>
              <p:spPr>
                <a:xfrm>
                  <a:off x="5454720" y="1717560"/>
                  <a:ext cx="233640" cy="300240"/>
                </a:xfrm>
                <a:custGeom>
                  <a:avLst/>
                  <a:gdLst/>
                  <a:ahLst/>
                  <a:rect l="l" t="t" r="r" b="b"/>
                  <a:pathLst>
                    <a:path w="147" h="189">
                      <a:moveTo>
                        <a:pt x="94" y="83"/>
                      </a:moveTo>
                      <a:lnTo>
                        <a:pt x="94" y="73"/>
                      </a:lnTo>
                      <a:lnTo>
                        <a:pt x="84" y="62"/>
                      </a:lnTo>
                      <a:lnTo>
                        <a:pt x="73" y="62"/>
                      </a:lnTo>
                      <a:lnTo>
                        <a:pt x="52" y="52"/>
                      </a:lnTo>
                      <a:lnTo>
                        <a:pt x="42" y="52"/>
                      </a:lnTo>
                      <a:lnTo>
                        <a:pt x="31" y="52"/>
                      </a:lnTo>
                      <a:lnTo>
                        <a:pt x="21" y="52"/>
                      </a:lnTo>
                      <a:lnTo>
                        <a:pt x="10" y="41"/>
                      </a:lnTo>
                      <a:lnTo>
                        <a:pt x="0" y="31"/>
                      </a:lnTo>
                      <a:lnTo>
                        <a:pt x="10" y="21"/>
                      </a:lnTo>
                      <a:lnTo>
                        <a:pt x="21" y="21"/>
                      </a:lnTo>
                      <a:lnTo>
                        <a:pt x="31" y="10"/>
                      </a:lnTo>
                      <a:lnTo>
                        <a:pt x="31" y="0"/>
                      </a:lnTo>
                      <a:lnTo>
                        <a:pt x="52" y="0"/>
                      </a:lnTo>
                      <a:lnTo>
                        <a:pt x="63" y="0"/>
                      </a:lnTo>
                      <a:lnTo>
                        <a:pt x="73" y="0"/>
                      </a:lnTo>
                      <a:lnTo>
                        <a:pt x="84" y="0"/>
                      </a:lnTo>
                      <a:lnTo>
                        <a:pt x="105" y="10"/>
                      </a:lnTo>
                      <a:lnTo>
                        <a:pt x="125" y="21"/>
                      </a:lnTo>
                      <a:lnTo>
                        <a:pt x="146" y="52"/>
                      </a:lnTo>
                      <a:lnTo>
                        <a:pt x="146" y="62"/>
                      </a:lnTo>
                      <a:lnTo>
                        <a:pt x="146" y="94"/>
                      </a:lnTo>
                      <a:lnTo>
                        <a:pt x="146" y="115"/>
                      </a:lnTo>
                      <a:lnTo>
                        <a:pt x="125" y="146"/>
                      </a:lnTo>
                      <a:lnTo>
                        <a:pt x="105" y="156"/>
                      </a:lnTo>
                      <a:lnTo>
                        <a:pt x="84" y="167"/>
                      </a:lnTo>
                      <a:lnTo>
                        <a:pt x="84" y="177"/>
                      </a:lnTo>
                      <a:lnTo>
                        <a:pt x="73" y="188"/>
                      </a:lnTo>
                      <a:lnTo>
                        <a:pt x="63" y="188"/>
                      </a:lnTo>
                      <a:lnTo>
                        <a:pt x="42" y="188"/>
                      </a:lnTo>
                      <a:lnTo>
                        <a:pt x="21" y="188"/>
                      </a:lnTo>
                      <a:lnTo>
                        <a:pt x="10" y="177"/>
                      </a:lnTo>
                      <a:lnTo>
                        <a:pt x="0" y="167"/>
                      </a:lnTo>
                      <a:lnTo>
                        <a:pt x="0" y="156"/>
                      </a:lnTo>
                      <a:lnTo>
                        <a:pt x="0" y="146"/>
                      </a:lnTo>
                      <a:lnTo>
                        <a:pt x="10" y="146"/>
                      </a:lnTo>
                      <a:lnTo>
                        <a:pt x="21" y="135"/>
                      </a:lnTo>
                      <a:lnTo>
                        <a:pt x="31" y="125"/>
                      </a:lnTo>
                      <a:lnTo>
                        <a:pt x="42" y="125"/>
                      </a:lnTo>
                      <a:lnTo>
                        <a:pt x="63" y="125"/>
                      </a:lnTo>
                      <a:lnTo>
                        <a:pt x="63" y="115"/>
                      </a:lnTo>
                      <a:lnTo>
                        <a:pt x="73" y="104"/>
                      </a:lnTo>
                      <a:lnTo>
                        <a:pt x="84" y="104"/>
                      </a:lnTo>
                      <a:lnTo>
                        <a:pt x="94" y="94"/>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454720" y="1717560"/>
                  <a:ext cx="233640" cy="300240"/>
                </a:xfrm>
                <a:custGeom>
                  <a:avLst/>
                  <a:gdLst/>
                  <a:ahLst/>
                  <a:rect l="l" t="t" r="r" b="b"/>
                  <a:pathLst>
                    <a:path w="147" h="189">
                      <a:moveTo>
                        <a:pt x="94" y="83"/>
                      </a:moveTo>
                      <a:lnTo>
                        <a:pt x="84" y="62"/>
                      </a:lnTo>
                      <a:lnTo>
                        <a:pt x="42" y="52"/>
                      </a:lnTo>
                      <a:lnTo>
                        <a:pt x="10" y="41"/>
                      </a:lnTo>
                      <a:lnTo>
                        <a:pt x="10" y="31"/>
                      </a:lnTo>
                      <a:lnTo>
                        <a:pt x="21" y="10"/>
                      </a:lnTo>
                      <a:lnTo>
                        <a:pt x="42" y="0"/>
                      </a:lnTo>
                      <a:lnTo>
                        <a:pt x="94" y="10"/>
                      </a:lnTo>
                      <a:lnTo>
                        <a:pt x="146" y="83"/>
                      </a:lnTo>
                      <a:lnTo>
                        <a:pt x="94" y="167"/>
                      </a:lnTo>
                      <a:lnTo>
                        <a:pt x="52" y="188"/>
                      </a:lnTo>
                      <a:lnTo>
                        <a:pt x="10" y="177"/>
                      </a:lnTo>
                      <a:lnTo>
                        <a:pt x="0" y="146"/>
                      </a:lnTo>
                      <a:lnTo>
                        <a:pt x="31" y="135"/>
                      </a:lnTo>
                      <a:lnTo>
                        <a:pt x="73" y="115"/>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43720" y="1806480"/>
                  <a:ext cx="239760" cy="57240"/>
                </a:xfrm>
                <a:prstGeom prst="roundRect">
                  <a:avLst>
                    <a:gd name="adj" fmla="val 49995"/>
                  </a:avLst>
                </a:prstGeom>
                <a:solidFill>
                  <a:srgbClr val="ccccff"/>
                </a:solidFill>
                <a:ln w="12600">
                  <a:solidFill>
                    <a:srgbClr val="cc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72" name=""/>
            <p:cNvGrpSpPr/>
            <p:nvPr/>
          </p:nvGrpSpPr>
          <p:grpSpPr>
            <a:xfrm>
              <a:off x="5138640" y="1733400"/>
              <a:ext cx="305280" cy="155880"/>
              <a:chOff x="5138640" y="1733400"/>
              <a:chExt cx="305280" cy="155880"/>
            </a:xfrm>
          </p:grpSpPr>
          <p:sp>
            <p:nvSpPr>
              <p:cNvPr id="73" name=""/>
              <p:cNvSpPr/>
              <p:nvPr/>
            </p:nvSpPr>
            <p:spPr>
              <a:xfrm>
                <a:off x="5256360" y="1733400"/>
                <a:ext cx="187560" cy="155880"/>
              </a:xfrm>
              <a:custGeom>
                <a:avLst/>
                <a:gdLst/>
                <a:ahLst/>
                <a:rect l="l" t="t" r="r" b="b"/>
                <a:pathLst>
                  <a:path w="118" h="98">
                    <a:moveTo>
                      <a:pt x="117" y="48"/>
                    </a:moveTo>
                    <a:lnTo>
                      <a:pt x="0" y="97"/>
                    </a:lnTo>
                    <a:lnTo>
                      <a:pt x="0" y="0"/>
                    </a:lnTo>
                    <a:lnTo>
                      <a:pt x="117" y="48"/>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138640" y="1812960"/>
                <a:ext cx="25380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45240" y="1584360"/>
              <a:ext cx="603360" cy="155520"/>
              <a:chOff x="3945240" y="1584360"/>
              <a:chExt cx="603360" cy="155520"/>
            </a:xfrm>
          </p:grpSpPr>
          <p:sp>
            <p:nvSpPr>
              <p:cNvPr id="76" name=""/>
              <p:cNvSpPr/>
              <p:nvPr/>
            </p:nvSpPr>
            <p:spPr>
              <a:xfrm>
                <a:off x="4359600" y="1584360"/>
                <a:ext cx="189000" cy="155520"/>
              </a:xfrm>
              <a:custGeom>
                <a:avLst/>
                <a:gdLst/>
                <a:ahLst/>
                <a:rect l="l" t="t" r="r" b="b"/>
                <a:pathLst>
                  <a:path w="119" h="98">
                    <a:moveTo>
                      <a:pt x="118" y="48"/>
                    </a:moveTo>
                    <a:lnTo>
                      <a:pt x="0" y="97"/>
                    </a:lnTo>
                    <a:lnTo>
                      <a:pt x="0" y="0"/>
                    </a:lnTo>
                    <a:lnTo>
                      <a:pt x="118" y="48"/>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945240" y="1663560"/>
                <a:ext cx="55080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5123160" y="3654360"/>
              <a:ext cx="1843200" cy="1344600"/>
              <a:chOff x="5123160" y="3654360"/>
              <a:chExt cx="1843200" cy="1344600"/>
            </a:xfrm>
          </p:grpSpPr>
          <p:sp>
            <p:nvSpPr>
              <p:cNvPr id="79" name=""/>
              <p:cNvSpPr/>
              <p:nvPr/>
            </p:nvSpPr>
            <p:spPr>
              <a:xfrm>
                <a:off x="5421600" y="3654360"/>
                <a:ext cx="1544760" cy="1344600"/>
              </a:xfrm>
              <a:custGeom>
                <a:avLst/>
                <a:gdLst/>
                <a:ahLst/>
                <a:rect l="l" t="t" r="r" b="b"/>
                <a:pathLst>
                  <a:path w="973" h="847">
                    <a:moveTo>
                      <a:pt x="554" y="10"/>
                    </a:moveTo>
                    <a:lnTo>
                      <a:pt x="533" y="10"/>
                    </a:lnTo>
                    <a:lnTo>
                      <a:pt x="512" y="10"/>
                    </a:lnTo>
                    <a:lnTo>
                      <a:pt x="481" y="0"/>
                    </a:lnTo>
                    <a:lnTo>
                      <a:pt x="460" y="0"/>
                    </a:lnTo>
                    <a:lnTo>
                      <a:pt x="429" y="10"/>
                    </a:lnTo>
                    <a:lnTo>
                      <a:pt x="408" y="10"/>
                    </a:lnTo>
                    <a:lnTo>
                      <a:pt x="376" y="10"/>
                    </a:lnTo>
                    <a:lnTo>
                      <a:pt x="355" y="10"/>
                    </a:lnTo>
                    <a:lnTo>
                      <a:pt x="335" y="10"/>
                    </a:lnTo>
                    <a:lnTo>
                      <a:pt x="324" y="10"/>
                    </a:lnTo>
                    <a:lnTo>
                      <a:pt x="314" y="21"/>
                    </a:lnTo>
                    <a:lnTo>
                      <a:pt x="303" y="21"/>
                    </a:lnTo>
                    <a:lnTo>
                      <a:pt x="282" y="21"/>
                    </a:lnTo>
                    <a:lnTo>
                      <a:pt x="282" y="31"/>
                    </a:lnTo>
                    <a:lnTo>
                      <a:pt x="261" y="31"/>
                    </a:lnTo>
                    <a:lnTo>
                      <a:pt x="251" y="31"/>
                    </a:lnTo>
                    <a:lnTo>
                      <a:pt x="220" y="42"/>
                    </a:lnTo>
                    <a:lnTo>
                      <a:pt x="199" y="52"/>
                    </a:lnTo>
                    <a:lnTo>
                      <a:pt x="167" y="73"/>
                    </a:lnTo>
                    <a:lnTo>
                      <a:pt x="146" y="84"/>
                    </a:lnTo>
                    <a:lnTo>
                      <a:pt x="115" y="104"/>
                    </a:lnTo>
                    <a:lnTo>
                      <a:pt x="105" y="115"/>
                    </a:lnTo>
                    <a:lnTo>
                      <a:pt x="73" y="146"/>
                    </a:lnTo>
                    <a:lnTo>
                      <a:pt x="63" y="167"/>
                    </a:lnTo>
                    <a:lnTo>
                      <a:pt x="42" y="198"/>
                    </a:lnTo>
                    <a:lnTo>
                      <a:pt x="31" y="209"/>
                    </a:lnTo>
                    <a:lnTo>
                      <a:pt x="21" y="240"/>
                    </a:lnTo>
                    <a:lnTo>
                      <a:pt x="11" y="251"/>
                    </a:lnTo>
                    <a:lnTo>
                      <a:pt x="11" y="272"/>
                    </a:lnTo>
                    <a:lnTo>
                      <a:pt x="11" y="293"/>
                    </a:lnTo>
                    <a:lnTo>
                      <a:pt x="11" y="324"/>
                    </a:lnTo>
                    <a:lnTo>
                      <a:pt x="11" y="345"/>
                    </a:lnTo>
                    <a:lnTo>
                      <a:pt x="0" y="387"/>
                    </a:lnTo>
                    <a:lnTo>
                      <a:pt x="0" y="408"/>
                    </a:lnTo>
                    <a:lnTo>
                      <a:pt x="0" y="439"/>
                    </a:lnTo>
                    <a:lnTo>
                      <a:pt x="0" y="449"/>
                    </a:lnTo>
                    <a:lnTo>
                      <a:pt x="0" y="481"/>
                    </a:lnTo>
                    <a:lnTo>
                      <a:pt x="0" y="491"/>
                    </a:lnTo>
                    <a:lnTo>
                      <a:pt x="11" y="512"/>
                    </a:lnTo>
                    <a:lnTo>
                      <a:pt x="11" y="533"/>
                    </a:lnTo>
                    <a:lnTo>
                      <a:pt x="21" y="543"/>
                    </a:lnTo>
                    <a:lnTo>
                      <a:pt x="21" y="564"/>
                    </a:lnTo>
                    <a:lnTo>
                      <a:pt x="21" y="575"/>
                    </a:lnTo>
                    <a:lnTo>
                      <a:pt x="31" y="596"/>
                    </a:lnTo>
                    <a:lnTo>
                      <a:pt x="31" y="617"/>
                    </a:lnTo>
                    <a:lnTo>
                      <a:pt x="42" y="658"/>
                    </a:lnTo>
                    <a:lnTo>
                      <a:pt x="42" y="669"/>
                    </a:lnTo>
                    <a:lnTo>
                      <a:pt x="52" y="700"/>
                    </a:lnTo>
                    <a:lnTo>
                      <a:pt x="63" y="721"/>
                    </a:lnTo>
                    <a:lnTo>
                      <a:pt x="84" y="752"/>
                    </a:lnTo>
                    <a:lnTo>
                      <a:pt x="94" y="763"/>
                    </a:lnTo>
                    <a:lnTo>
                      <a:pt x="125" y="794"/>
                    </a:lnTo>
                    <a:lnTo>
                      <a:pt x="136" y="805"/>
                    </a:lnTo>
                    <a:lnTo>
                      <a:pt x="167" y="826"/>
                    </a:lnTo>
                    <a:lnTo>
                      <a:pt x="178" y="826"/>
                    </a:lnTo>
                    <a:lnTo>
                      <a:pt x="209" y="826"/>
                    </a:lnTo>
                    <a:lnTo>
                      <a:pt x="230" y="836"/>
                    </a:lnTo>
                    <a:lnTo>
                      <a:pt x="261" y="836"/>
                    </a:lnTo>
                    <a:lnTo>
                      <a:pt x="282" y="836"/>
                    </a:lnTo>
                    <a:lnTo>
                      <a:pt x="324" y="846"/>
                    </a:lnTo>
                    <a:lnTo>
                      <a:pt x="345" y="846"/>
                    </a:lnTo>
                    <a:lnTo>
                      <a:pt x="376" y="846"/>
                    </a:lnTo>
                    <a:lnTo>
                      <a:pt x="387" y="836"/>
                    </a:lnTo>
                    <a:lnTo>
                      <a:pt x="418" y="836"/>
                    </a:lnTo>
                    <a:lnTo>
                      <a:pt x="439" y="836"/>
                    </a:lnTo>
                    <a:lnTo>
                      <a:pt x="470" y="826"/>
                    </a:lnTo>
                    <a:lnTo>
                      <a:pt x="491" y="826"/>
                    </a:lnTo>
                    <a:lnTo>
                      <a:pt x="533" y="815"/>
                    </a:lnTo>
                    <a:lnTo>
                      <a:pt x="554" y="815"/>
                    </a:lnTo>
                    <a:lnTo>
                      <a:pt x="585" y="815"/>
                    </a:lnTo>
                    <a:lnTo>
                      <a:pt x="596" y="815"/>
                    </a:lnTo>
                    <a:lnTo>
                      <a:pt x="638" y="815"/>
                    </a:lnTo>
                    <a:lnTo>
                      <a:pt x="659" y="815"/>
                    </a:lnTo>
                    <a:lnTo>
                      <a:pt x="690" y="815"/>
                    </a:lnTo>
                    <a:lnTo>
                      <a:pt x="711" y="805"/>
                    </a:lnTo>
                    <a:lnTo>
                      <a:pt x="742" y="794"/>
                    </a:lnTo>
                    <a:lnTo>
                      <a:pt x="753" y="794"/>
                    </a:lnTo>
                    <a:lnTo>
                      <a:pt x="773" y="794"/>
                    </a:lnTo>
                    <a:lnTo>
                      <a:pt x="784" y="784"/>
                    </a:lnTo>
                    <a:lnTo>
                      <a:pt x="805" y="784"/>
                    </a:lnTo>
                    <a:lnTo>
                      <a:pt x="815" y="784"/>
                    </a:lnTo>
                    <a:lnTo>
                      <a:pt x="826" y="773"/>
                    </a:lnTo>
                    <a:lnTo>
                      <a:pt x="836" y="763"/>
                    </a:lnTo>
                    <a:lnTo>
                      <a:pt x="857" y="752"/>
                    </a:lnTo>
                    <a:lnTo>
                      <a:pt x="878" y="752"/>
                    </a:lnTo>
                    <a:lnTo>
                      <a:pt x="909" y="732"/>
                    </a:lnTo>
                    <a:lnTo>
                      <a:pt x="920" y="711"/>
                    </a:lnTo>
                    <a:lnTo>
                      <a:pt x="951" y="679"/>
                    </a:lnTo>
                    <a:lnTo>
                      <a:pt x="962" y="658"/>
                    </a:lnTo>
                    <a:lnTo>
                      <a:pt x="972" y="627"/>
                    </a:lnTo>
                    <a:lnTo>
                      <a:pt x="972" y="606"/>
                    </a:lnTo>
                    <a:lnTo>
                      <a:pt x="972" y="575"/>
                    </a:lnTo>
                    <a:lnTo>
                      <a:pt x="972" y="564"/>
                    </a:lnTo>
                    <a:lnTo>
                      <a:pt x="962" y="533"/>
                    </a:lnTo>
                    <a:lnTo>
                      <a:pt x="962" y="512"/>
                    </a:lnTo>
                    <a:lnTo>
                      <a:pt x="951" y="481"/>
                    </a:lnTo>
                    <a:lnTo>
                      <a:pt x="951" y="460"/>
                    </a:lnTo>
                    <a:lnTo>
                      <a:pt x="951" y="428"/>
                    </a:lnTo>
                    <a:lnTo>
                      <a:pt x="941" y="408"/>
                    </a:lnTo>
                    <a:lnTo>
                      <a:pt x="941" y="376"/>
                    </a:lnTo>
                    <a:lnTo>
                      <a:pt x="941" y="366"/>
                    </a:lnTo>
                    <a:lnTo>
                      <a:pt x="930" y="334"/>
                    </a:lnTo>
                    <a:lnTo>
                      <a:pt x="920" y="313"/>
                    </a:lnTo>
                    <a:lnTo>
                      <a:pt x="909" y="282"/>
                    </a:lnTo>
                    <a:lnTo>
                      <a:pt x="899" y="272"/>
                    </a:lnTo>
                    <a:lnTo>
                      <a:pt x="888" y="261"/>
                    </a:lnTo>
                    <a:lnTo>
                      <a:pt x="878" y="251"/>
                    </a:lnTo>
                    <a:lnTo>
                      <a:pt x="857" y="230"/>
                    </a:lnTo>
                    <a:lnTo>
                      <a:pt x="836" y="209"/>
                    </a:lnTo>
                    <a:lnTo>
                      <a:pt x="826" y="198"/>
                    </a:lnTo>
                    <a:lnTo>
                      <a:pt x="805" y="188"/>
                    </a:lnTo>
                    <a:lnTo>
                      <a:pt x="794" y="178"/>
                    </a:lnTo>
                    <a:lnTo>
                      <a:pt x="753" y="157"/>
                    </a:lnTo>
                    <a:lnTo>
                      <a:pt x="732" y="136"/>
                    </a:lnTo>
                    <a:lnTo>
                      <a:pt x="711" y="115"/>
                    </a:lnTo>
                    <a:lnTo>
                      <a:pt x="700" y="104"/>
                    </a:lnTo>
                    <a:lnTo>
                      <a:pt x="690" y="94"/>
                    </a:lnTo>
                    <a:lnTo>
                      <a:pt x="679" y="84"/>
                    </a:lnTo>
                    <a:lnTo>
                      <a:pt x="659" y="73"/>
                    </a:lnTo>
                    <a:lnTo>
                      <a:pt x="638" y="63"/>
                    </a:lnTo>
                    <a:lnTo>
                      <a:pt x="627" y="52"/>
                    </a:lnTo>
                    <a:lnTo>
                      <a:pt x="617" y="42"/>
                    </a:lnTo>
                    <a:lnTo>
                      <a:pt x="606" y="42"/>
                    </a:lnTo>
                    <a:lnTo>
                      <a:pt x="575" y="21"/>
                    </a:lnTo>
                    <a:lnTo>
                      <a:pt x="554" y="10"/>
                    </a:lnTo>
                    <a:lnTo>
                      <a:pt x="5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21600" y="3654360"/>
                <a:ext cx="1544760" cy="1344600"/>
              </a:xfrm>
              <a:custGeom>
                <a:avLst/>
                <a:gdLst/>
                <a:ahLst/>
                <a:rect l="l" t="t" r="r" b="b"/>
                <a:pathLst>
                  <a:path w="973" h="847">
                    <a:moveTo>
                      <a:pt x="554" y="10"/>
                    </a:moveTo>
                    <a:lnTo>
                      <a:pt x="449" y="10"/>
                    </a:lnTo>
                    <a:lnTo>
                      <a:pt x="345" y="10"/>
                    </a:lnTo>
                    <a:lnTo>
                      <a:pt x="293" y="21"/>
                    </a:lnTo>
                    <a:lnTo>
                      <a:pt x="251" y="42"/>
                    </a:lnTo>
                    <a:lnTo>
                      <a:pt x="136" y="94"/>
                    </a:lnTo>
                    <a:lnTo>
                      <a:pt x="52" y="188"/>
                    </a:lnTo>
                    <a:lnTo>
                      <a:pt x="11" y="261"/>
                    </a:lnTo>
                    <a:lnTo>
                      <a:pt x="11" y="366"/>
                    </a:lnTo>
                    <a:lnTo>
                      <a:pt x="0" y="470"/>
                    </a:lnTo>
                    <a:lnTo>
                      <a:pt x="11" y="522"/>
                    </a:lnTo>
                    <a:lnTo>
                      <a:pt x="31" y="585"/>
                    </a:lnTo>
                    <a:lnTo>
                      <a:pt x="52" y="690"/>
                    </a:lnTo>
                    <a:lnTo>
                      <a:pt x="115" y="784"/>
                    </a:lnTo>
                    <a:lnTo>
                      <a:pt x="199" y="826"/>
                    </a:lnTo>
                    <a:lnTo>
                      <a:pt x="303" y="846"/>
                    </a:lnTo>
                    <a:lnTo>
                      <a:pt x="408" y="836"/>
                    </a:lnTo>
                    <a:lnTo>
                      <a:pt x="523" y="826"/>
                    </a:lnTo>
                    <a:lnTo>
                      <a:pt x="617" y="815"/>
                    </a:lnTo>
                    <a:lnTo>
                      <a:pt x="732" y="805"/>
                    </a:lnTo>
                    <a:lnTo>
                      <a:pt x="794" y="784"/>
                    </a:lnTo>
                    <a:lnTo>
                      <a:pt x="847" y="763"/>
                    </a:lnTo>
                    <a:lnTo>
                      <a:pt x="941" y="700"/>
                    </a:lnTo>
                    <a:lnTo>
                      <a:pt x="972" y="596"/>
                    </a:lnTo>
                    <a:lnTo>
                      <a:pt x="962" y="502"/>
                    </a:lnTo>
                    <a:lnTo>
                      <a:pt x="941" y="397"/>
                    </a:lnTo>
                    <a:lnTo>
                      <a:pt x="920" y="303"/>
                    </a:lnTo>
                    <a:lnTo>
                      <a:pt x="868" y="240"/>
                    </a:lnTo>
                    <a:lnTo>
                      <a:pt x="826" y="198"/>
                    </a:lnTo>
                    <a:lnTo>
                      <a:pt x="721" y="125"/>
                    </a:lnTo>
                    <a:lnTo>
                      <a:pt x="669" y="84"/>
                    </a:lnTo>
                    <a:lnTo>
                      <a:pt x="627" y="52"/>
                    </a:lnTo>
                    <a:lnTo>
                      <a:pt x="544" y="0"/>
                    </a:lnTo>
                    <a:lnTo>
                      <a:pt x="554" y="10"/>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58160" y="4175280"/>
                <a:ext cx="588960" cy="43956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5123160" y="4235400"/>
                <a:ext cx="428400" cy="300240"/>
                <a:chOff x="5123160" y="4235400"/>
                <a:chExt cx="428400" cy="300240"/>
              </a:xfrm>
            </p:grpSpPr>
            <p:sp>
              <p:nvSpPr>
                <p:cNvPr id="83" name=""/>
                <p:cNvSpPr/>
                <p:nvPr/>
              </p:nvSpPr>
              <p:spPr>
                <a:xfrm>
                  <a:off x="5123160" y="4235400"/>
                  <a:ext cx="233280" cy="300240"/>
                </a:xfrm>
                <a:custGeom>
                  <a:avLst/>
                  <a:gdLst/>
                  <a:ahLst/>
                  <a:rect l="l" t="t" r="r" b="b"/>
                  <a:pathLst>
                    <a:path w="147" h="189">
                      <a:moveTo>
                        <a:pt x="94" y="83"/>
                      </a:moveTo>
                      <a:lnTo>
                        <a:pt x="94" y="73"/>
                      </a:lnTo>
                      <a:lnTo>
                        <a:pt x="84" y="62"/>
                      </a:lnTo>
                      <a:lnTo>
                        <a:pt x="73" y="62"/>
                      </a:lnTo>
                      <a:lnTo>
                        <a:pt x="52" y="52"/>
                      </a:lnTo>
                      <a:lnTo>
                        <a:pt x="42" y="52"/>
                      </a:lnTo>
                      <a:lnTo>
                        <a:pt x="31" y="52"/>
                      </a:lnTo>
                      <a:lnTo>
                        <a:pt x="21" y="52"/>
                      </a:lnTo>
                      <a:lnTo>
                        <a:pt x="10" y="42"/>
                      </a:lnTo>
                      <a:lnTo>
                        <a:pt x="0" y="31"/>
                      </a:lnTo>
                      <a:lnTo>
                        <a:pt x="10" y="21"/>
                      </a:lnTo>
                      <a:lnTo>
                        <a:pt x="21" y="21"/>
                      </a:lnTo>
                      <a:lnTo>
                        <a:pt x="31" y="10"/>
                      </a:lnTo>
                      <a:lnTo>
                        <a:pt x="31" y="0"/>
                      </a:lnTo>
                      <a:lnTo>
                        <a:pt x="52" y="0"/>
                      </a:lnTo>
                      <a:lnTo>
                        <a:pt x="63" y="0"/>
                      </a:lnTo>
                      <a:lnTo>
                        <a:pt x="73" y="0"/>
                      </a:lnTo>
                      <a:lnTo>
                        <a:pt x="84" y="0"/>
                      </a:lnTo>
                      <a:lnTo>
                        <a:pt x="104" y="10"/>
                      </a:lnTo>
                      <a:lnTo>
                        <a:pt x="125" y="21"/>
                      </a:lnTo>
                      <a:lnTo>
                        <a:pt x="146" y="52"/>
                      </a:lnTo>
                      <a:lnTo>
                        <a:pt x="146" y="62"/>
                      </a:lnTo>
                      <a:lnTo>
                        <a:pt x="146" y="94"/>
                      </a:lnTo>
                      <a:lnTo>
                        <a:pt x="146" y="115"/>
                      </a:lnTo>
                      <a:lnTo>
                        <a:pt x="125" y="146"/>
                      </a:lnTo>
                      <a:lnTo>
                        <a:pt x="104" y="156"/>
                      </a:lnTo>
                      <a:lnTo>
                        <a:pt x="84" y="167"/>
                      </a:lnTo>
                      <a:lnTo>
                        <a:pt x="84" y="177"/>
                      </a:lnTo>
                      <a:lnTo>
                        <a:pt x="73" y="188"/>
                      </a:lnTo>
                      <a:lnTo>
                        <a:pt x="63" y="188"/>
                      </a:lnTo>
                      <a:lnTo>
                        <a:pt x="42" y="188"/>
                      </a:lnTo>
                      <a:lnTo>
                        <a:pt x="21" y="188"/>
                      </a:lnTo>
                      <a:lnTo>
                        <a:pt x="10" y="177"/>
                      </a:lnTo>
                      <a:lnTo>
                        <a:pt x="0" y="167"/>
                      </a:lnTo>
                      <a:lnTo>
                        <a:pt x="0" y="156"/>
                      </a:lnTo>
                      <a:lnTo>
                        <a:pt x="0" y="146"/>
                      </a:lnTo>
                      <a:lnTo>
                        <a:pt x="10" y="146"/>
                      </a:lnTo>
                      <a:lnTo>
                        <a:pt x="21" y="136"/>
                      </a:lnTo>
                      <a:lnTo>
                        <a:pt x="31" y="125"/>
                      </a:lnTo>
                      <a:lnTo>
                        <a:pt x="42" y="125"/>
                      </a:lnTo>
                      <a:lnTo>
                        <a:pt x="63" y="125"/>
                      </a:lnTo>
                      <a:lnTo>
                        <a:pt x="63" y="115"/>
                      </a:lnTo>
                      <a:lnTo>
                        <a:pt x="73" y="104"/>
                      </a:lnTo>
                      <a:lnTo>
                        <a:pt x="84" y="104"/>
                      </a:lnTo>
                      <a:lnTo>
                        <a:pt x="94" y="94"/>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23160" y="4235400"/>
                  <a:ext cx="233280" cy="300240"/>
                </a:xfrm>
                <a:custGeom>
                  <a:avLst/>
                  <a:gdLst/>
                  <a:ahLst/>
                  <a:rect l="l" t="t" r="r" b="b"/>
                  <a:pathLst>
                    <a:path w="147" h="189">
                      <a:moveTo>
                        <a:pt x="94" y="83"/>
                      </a:moveTo>
                      <a:lnTo>
                        <a:pt x="84" y="62"/>
                      </a:lnTo>
                      <a:lnTo>
                        <a:pt x="42" y="52"/>
                      </a:lnTo>
                      <a:lnTo>
                        <a:pt x="10" y="42"/>
                      </a:lnTo>
                      <a:lnTo>
                        <a:pt x="10" y="31"/>
                      </a:lnTo>
                      <a:lnTo>
                        <a:pt x="21" y="10"/>
                      </a:lnTo>
                      <a:lnTo>
                        <a:pt x="42" y="0"/>
                      </a:lnTo>
                      <a:lnTo>
                        <a:pt x="94" y="10"/>
                      </a:lnTo>
                      <a:lnTo>
                        <a:pt x="146" y="83"/>
                      </a:lnTo>
                      <a:lnTo>
                        <a:pt x="94" y="167"/>
                      </a:lnTo>
                      <a:lnTo>
                        <a:pt x="52" y="188"/>
                      </a:lnTo>
                      <a:lnTo>
                        <a:pt x="10" y="177"/>
                      </a:lnTo>
                      <a:lnTo>
                        <a:pt x="0" y="146"/>
                      </a:lnTo>
                      <a:lnTo>
                        <a:pt x="31" y="136"/>
                      </a:lnTo>
                      <a:lnTo>
                        <a:pt x="73" y="115"/>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12160" y="4324320"/>
                  <a:ext cx="239400" cy="57240"/>
                </a:xfrm>
                <a:prstGeom prst="roundRect">
                  <a:avLst>
                    <a:gd name="adj" fmla="val 49995"/>
                  </a:avLst>
                </a:prstGeom>
                <a:solidFill>
                  <a:srgbClr val="ccccff"/>
                </a:solidFill>
                <a:ln w="12600">
                  <a:solidFill>
                    <a:srgbClr val="cc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86" name=""/>
            <p:cNvGrpSpPr/>
            <p:nvPr/>
          </p:nvGrpSpPr>
          <p:grpSpPr>
            <a:xfrm>
              <a:off x="3562560" y="3819600"/>
              <a:ext cx="1508040" cy="1279440"/>
              <a:chOff x="3562560" y="3819600"/>
              <a:chExt cx="1508040" cy="1279440"/>
            </a:xfrm>
          </p:grpSpPr>
          <p:grpSp>
            <p:nvGrpSpPr>
              <p:cNvPr id="87" name=""/>
              <p:cNvGrpSpPr/>
              <p:nvPr/>
            </p:nvGrpSpPr>
            <p:grpSpPr>
              <a:xfrm>
                <a:off x="3562560" y="3819600"/>
                <a:ext cx="1362240" cy="1279440"/>
                <a:chOff x="3562560" y="3819600"/>
                <a:chExt cx="1362240" cy="1279440"/>
              </a:xfrm>
            </p:grpSpPr>
            <p:sp>
              <p:nvSpPr>
                <p:cNvPr id="88" name=""/>
                <p:cNvSpPr/>
                <p:nvPr/>
              </p:nvSpPr>
              <p:spPr>
                <a:xfrm>
                  <a:off x="3562560" y="3819600"/>
                  <a:ext cx="1362240" cy="1279440"/>
                </a:xfrm>
                <a:custGeom>
                  <a:avLst/>
                  <a:gdLst/>
                  <a:ahLst/>
                  <a:rect l="l" t="t" r="r" b="b"/>
                  <a:pathLst>
                    <a:path w="858" h="806">
                      <a:moveTo>
                        <a:pt x="826" y="84"/>
                      </a:moveTo>
                      <a:lnTo>
                        <a:pt x="795" y="74"/>
                      </a:lnTo>
                      <a:lnTo>
                        <a:pt x="774" y="63"/>
                      </a:lnTo>
                      <a:lnTo>
                        <a:pt x="743" y="53"/>
                      </a:lnTo>
                      <a:lnTo>
                        <a:pt x="722" y="42"/>
                      </a:lnTo>
                      <a:lnTo>
                        <a:pt x="680" y="32"/>
                      </a:lnTo>
                      <a:lnTo>
                        <a:pt x="659" y="32"/>
                      </a:lnTo>
                      <a:lnTo>
                        <a:pt x="628" y="21"/>
                      </a:lnTo>
                      <a:lnTo>
                        <a:pt x="607" y="11"/>
                      </a:lnTo>
                      <a:lnTo>
                        <a:pt x="575" y="11"/>
                      </a:lnTo>
                      <a:lnTo>
                        <a:pt x="565" y="11"/>
                      </a:lnTo>
                      <a:lnTo>
                        <a:pt x="533" y="11"/>
                      </a:lnTo>
                      <a:lnTo>
                        <a:pt x="513" y="11"/>
                      </a:lnTo>
                      <a:lnTo>
                        <a:pt x="481" y="0"/>
                      </a:lnTo>
                      <a:lnTo>
                        <a:pt x="460" y="0"/>
                      </a:lnTo>
                      <a:lnTo>
                        <a:pt x="429" y="0"/>
                      </a:lnTo>
                      <a:lnTo>
                        <a:pt x="408" y="0"/>
                      </a:lnTo>
                      <a:lnTo>
                        <a:pt x="387" y="0"/>
                      </a:lnTo>
                      <a:lnTo>
                        <a:pt x="377" y="0"/>
                      </a:lnTo>
                      <a:lnTo>
                        <a:pt x="366" y="11"/>
                      </a:lnTo>
                      <a:lnTo>
                        <a:pt x="356" y="11"/>
                      </a:lnTo>
                      <a:lnTo>
                        <a:pt x="335" y="11"/>
                      </a:lnTo>
                      <a:lnTo>
                        <a:pt x="335" y="21"/>
                      </a:lnTo>
                      <a:lnTo>
                        <a:pt x="314" y="21"/>
                      </a:lnTo>
                      <a:lnTo>
                        <a:pt x="304" y="21"/>
                      </a:lnTo>
                      <a:lnTo>
                        <a:pt x="272" y="32"/>
                      </a:lnTo>
                      <a:lnTo>
                        <a:pt x="251" y="42"/>
                      </a:lnTo>
                      <a:lnTo>
                        <a:pt x="220" y="53"/>
                      </a:lnTo>
                      <a:lnTo>
                        <a:pt x="199" y="53"/>
                      </a:lnTo>
                      <a:lnTo>
                        <a:pt x="168" y="74"/>
                      </a:lnTo>
                      <a:lnTo>
                        <a:pt x="157" y="84"/>
                      </a:lnTo>
                      <a:lnTo>
                        <a:pt x="126" y="105"/>
                      </a:lnTo>
                      <a:lnTo>
                        <a:pt x="115" y="115"/>
                      </a:lnTo>
                      <a:lnTo>
                        <a:pt x="84" y="147"/>
                      </a:lnTo>
                      <a:lnTo>
                        <a:pt x="74" y="157"/>
                      </a:lnTo>
                      <a:lnTo>
                        <a:pt x="53" y="189"/>
                      </a:lnTo>
                      <a:lnTo>
                        <a:pt x="42" y="199"/>
                      </a:lnTo>
                      <a:lnTo>
                        <a:pt x="21" y="220"/>
                      </a:lnTo>
                      <a:lnTo>
                        <a:pt x="21" y="241"/>
                      </a:lnTo>
                      <a:lnTo>
                        <a:pt x="11" y="272"/>
                      </a:lnTo>
                      <a:lnTo>
                        <a:pt x="11" y="293"/>
                      </a:lnTo>
                      <a:lnTo>
                        <a:pt x="0" y="324"/>
                      </a:lnTo>
                      <a:lnTo>
                        <a:pt x="0" y="345"/>
                      </a:lnTo>
                      <a:lnTo>
                        <a:pt x="0" y="377"/>
                      </a:lnTo>
                      <a:lnTo>
                        <a:pt x="0" y="387"/>
                      </a:lnTo>
                      <a:lnTo>
                        <a:pt x="11" y="398"/>
                      </a:lnTo>
                      <a:lnTo>
                        <a:pt x="11" y="408"/>
                      </a:lnTo>
                      <a:lnTo>
                        <a:pt x="21" y="429"/>
                      </a:lnTo>
                      <a:lnTo>
                        <a:pt x="21" y="450"/>
                      </a:lnTo>
                      <a:lnTo>
                        <a:pt x="32" y="460"/>
                      </a:lnTo>
                      <a:lnTo>
                        <a:pt x="42" y="471"/>
                      </a:lnTo>
                      <a:lnTo>
                        <a:pt x="42" y="481"/>
                      </a:lnTo>
                      <a:lnTo>
                        <a:pt x="63" y="502"/>
                      </a:lnTo>
                      <a:lnTo>
                        <a:pt x="74" y="523"/>
                      </a:lnTo>
                      <a:lnTo>
                        <a:pt x="95" y="554"/>
                      </a:lnTo>
                      <a:lnTo>
                        <a:pt x="105" y="565"/>
                      </a:lnTo>
                      <a:lnTo>
                        <a:pt x="115" y="586"/>
                      </a:lnTo>
                      <a:lnTo>
                        <a:pt x="126" y="596"/>
                      </a:lnTo>
                      <a:lnTo>
                        <a:pt x="147" y="617"/>
                      </a:lnTo>
                      <a:lnTo>
                        <a:pt x="168" y="628"/>
                      </a:lnTo>
                      <a:lnTo>
                        <a:pt x="178" y="638"/>
                      </a:lnTo>
                      <a:lnTo>
                        <a:pt x="189" y="648"/>
                      </a:lnTo>
                      <a:lnTo>
                        <a:pt x="199" y="659"/>
                      </a:lnTo>
                      <a:lnTo>
                        <a:pt x="220" y="680"/>
                      </a:lnTo>
                      <a:lnTo>
                        <a:pt x="241" y="701"/>
                      </a:lnTo>
                      <a:lnTo>
                        <a:pt x="272" y="732"/>
                      </a:lnTo>
                      <a:lnTo>
                        <a:pt x="283" y="742"/>
                      </a:lnTo>
                      <a:lnTo>
                        <a:pt x="324" y="763"/>
                      </a:lnTo>
                      <a:lnTo>
                        <a:pt x="345" y="774"/>
                      </a:lnTo>
                      <a:lnTo>
                        <a:pt x="387" y="795"/>
                      </a:lnTo>
                      <a:lnTo>
                        <a:pt x="408" y="795"/>
                      </a:lnTo>
                      <a:lnTo>
                        <a:pt x="450" y="805"/>
                      </a:lnTo>
                      <a:lnTo>
                        <a:pt x="471" y="805"/>
                      </a:lnTo>
                      <a:lnTo>
                        <a:pt x="502" y="805"/>
                      </a:lnTo>
                      <a:lnTo>
                        <a:pt x="513" y="795"/>
                      </a:lnTo>
                      <a:lnTo>
                        <a:pt x="533" y="795"/>
                      </a:lnTo>
                      <a:lnTo>
                        <a:pt x="554" y="795"/>
                      </a:lnTo>
                      <a:lnTo>
                        <a:pt x="575" y="784"/>
                      </a:lnTo>
                      <a:lnTo>
                        <a:pt x="586" y="774"/>
                      </a:lnTo>
                      <a:lnTo>
                        <a:pt x="617" y="753"/>
                      </a:lnTo>
                      <a:lnTo>
                        <a:pt x="638" y="742"/>
                      </a:lnTo>
                      <a:lnTo>
                        <a:pt x="659" y="722"/>
                      </a:lnTo>
                      <a:lnTo>
                        <a:pt x="659" y="701"/>
                      </a:lnTo>
                      <a:lnTo>
                        <a:pt x="680" y="680"/>
                      </a:lnTo>
                      <a:lnTo>
                        <a:pt x="690" y="669"/>
                      </a:lnTo>
                      <a:lnTo>
                        <a:pt x="701" y="638"/>
                      </a:lnTo>
                      <a:lnTo>
                        <a:pt x="711" y="617"/>
                      </a:lnTo>
                      <a:lnTo>
                        <a:pt x="732" y="596"/>
                      </a:lnTo>
                      <a:lnTo>
                        <a:pt x="743" y="586"/>
                      </a:lnTo>
                      <a:lnTo>
                        <a:pt x="753" y="575"/>
                      </a:lnTo>
                      <a:lnTo>
                        <a:pt x="753" y="565"/>
                      </a:lnTo>
                      <a:lnTo>
                        <a:pt x="763" y="544"/>
                      </a:lnTo>
                      <a:lnTo>
                        <a:pt x="774" y="544"/>
                      </a:lnTo>
                      <a:lnTo>
                        <a:pt x="774" y="523"/>
                      </a:lnTo>
                      <a:lnTo>
                        <a:pt x="774" y="513"/>
                      </a:lnTo>
                      <a:lnTo>
                        <a:pt x="795" y="502"/>
                      </a:lnTo>
                      <a:lnTo>
                        <a:pt x="805" y="492"/>
                      </a:lnTo>
                      <a:lnTo>
                        <a:pt x="816" y="460"/>
                      </a:lnTo>
                      <a:lnTo>
                        <a:pt x="826" y="439"/>
                      </a:lnTo>
                      <a:lnTo>
                        <a:pt x="837" y="408"/>
                      </a:lnTo>
                      <a:lnTo>
                        <a:pt x="847" y="387"/>
                      </a:lnTo>
                      <a:lnTo>
                        <a:pt x="857" y="356"/>
                      </a:lnTo>
                      <a:lnTo>
                        <a:pt x="857" y="335"/>
                      </a:lnTo>
                      <a:lnTo>
                        <a:pt x="857" y="304"/>
                      </a:lnTo>
                      <a:lnTo>
                        <a:pt x="857" y="293"/>
                      </a:lnTo>
                      <a:lnTo>
                        <a:pt x="857" y="262"/>
                      </a:lnTo>
                      <a:lnTo>
                        <a:pt x="857" y="241"/>
                      </a:lnTo>
                      <a:lnTo>
                        <a:pt x="847" y="220"/>
                      </a:lnTo>
                      <a:lnTo>
                        <a:pt x="847" y="209"/>
                      </a:lnTo>
                      <a:lnTo>
                        <a:pt x="847" y="199"/>
                      </a:lnTo>
                      <a:lnTo>
                        <a:pt x="847" y="189"/>
                      </a:lnTo>
                      <a:lnTo>
                        <a:pt x="847" y="168"/>
                      </a:lnTo>
                      <a:lnTo>
                        <a:pt x="837" y="147"/>
                      </a:lnTo>
                      <a:lnTo>
                        <a:pt x="837" y="136"/>
                      </a:lnTo>
                      <a:lnTo>
                        <a:pt x="826" y="126"/>
                      </a:lnTo>
                      <a:lnTo>
                        <a:pt x="826" y="115"/>
                      </a:lnTo>
                      <a:lnTo>
                        <a:pt x="816" y="84"/>
                      </a:lnTo>
                      <a:lnTo>
                        <a:pt x="816" y="63"/>
                      </a:lnTo>
                      <a:lnTo>
                        <a:pt x="816" y="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580200" y="3819600"/>
                  <a:ext cx="1344600" cy="1279440"/>
                </a:xfrm>
                <a:custGeom>
                  <a:avLst/>
                  <a:gdLst/>
                  <a:ahLst/>
                  <a:rect l="l" t="t" r="r" b="b"/>
                  <a:pathLst>
                    <a:path w="847" h="806">
                      <a:moveTo>
                        <a:pt x="815" y="84"/>
                      </a:moveTo>
                      <a:lnTo>
                        <a:pt x="690" y="42"/>
                      </a:lnTo>
                      <a:lnTo>
                        <a:pt x="585" y="11"/>
                      </a:lnTo>
                      <a:lnTo>
                        <a:pt x="491" y="11"/>
                      </a:lnTo>
                      <a:lnTo>
                        <a:pt x="387" y="0"/>
                      </a:lnTo>
                      <a:lnTo>
                        <a:pt x="334" y="11"/>
                      </a:lnTo>
                      <a:lnTo>
                        <a:pt x="293" y="32"/>
                      </a:lnTo>
                      <a:lnTo>
                        <a:pt x="178" y="63"/>
                      </a:lnTo>
                      <a:lnTo>
                        <a:pt x="94" y="136"/>
                      </a:lnTo>
                      <a:lnTo>
                        <a:pt x="21" y="209"/>
                      </a:lnTo>
                      <a:lnTo>
                        <a:pt x="0" y="314"/>
                      </a:lnTo>
                      <a:lnTo>
                        <a:pt x="0" y="398"/>
                      </a:lnTo>
                      <a:lnTo>
                        <a:pt x="10" y="439"/>
                      </a:lnTo>
                      <a:lnTo>
                        <a:pt x="42" y="492"/>
                      </a:lnTo>
                      <a:lnTo>
                        <a:pt x="104" y="586"/>
                      </a:lnTo>
                      <a:lnTo>
                        <a:pt x="146" y="628"/>
                      </a:lnTo>
                      <a:lnTo>
                        <a:pt x="198" y="669"/>
                      </a:lnTo>
                      <a:lnTo>
                        <a:pt x="293" y="753"/>
                      </a:lnTo>
                      <a:lnTo>
                        <a:pt x="428" y="805"/>
                      </a:lnTo>
                      <a:lnTo>
                        <a:pt x="512" y="795"/>
                      </a:lnTo>
                      <a:lnTo>
                        <a:pt x="596" y="774"/>
                      </a:lnTo>
                      <a:lnTo>
                        <a:pt x="658" y="690"/>
                      </a:lnTo>
                      <a:lnTo>
                        <a:pt x="721" y="607"/>
                      </a:lnTo>
                      <a:lnTo>
                        <a:pt x="752" y="554"/>
                      </a:lnTo>
                      <a:lnTo>
                        <a:pt x="773" y="513"/>
                      </a:lnTo>
                      <a:lnTo>
                        <a:pt x="826" y="429"/>
                      </a:lnTo>
                      <a:lnTo>
                        <a:pt x="846" y="324"/>
                      </a:lnTo>
                      <a:lnTo>
                        <a:pt x="846" y="230"/>
                      </a:lnTo>
                      <a:lnTo>
                        <a:pt x="836" y="178"/>
                      </a:lnTo>
                      <a:lnTo>
                        <a:pt x="826" y="136"/>
                      </a:lnTo>
                      <a:lnTo>
                        <a:pt x="805" y="53"/>
                      </a:lnTo>
                      <a:lnTo>
                        <a:pt x="815" y="84"/>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51560" y="4241880"/>
                  <a:ext cx="439560" cy="28872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840560" y="4257720"/>
                <a:ext cx="230040" cy="141120"/>
                <a:chOff x="4840560" y="4257720"/>
                <a:chExt cx="230040" cy="141120"/>
              </a:xfrm>
            </p:grpSpPr>
            <p:sp>
              <p:nvSpPr>
                <p:cNvPr id="92" name=""/>
                <p:cNvSpPr/>
                <p:nvPr/>
              </p:nvSpPr>
              <p:spPr>
                <a:xfrm>
                  <a:off x="4929480" y="4257720"/>
                  <a:ext cx="141120" cy="141120"/>
                </a:xfrm>
                <a:prstGeom prst="ellipse">
                  <a:avLst/>
                </a:prstGeom>
                <a:solidFill>
                  <a:srgbClr val="ff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4840560" y="4330800"/>
                  <a:ext cx="169920" cy="0"/>
                </a:xfrm>
                <a:prstGeom prst="line">
                  <a:avLst/>
                </a:prstGeom>
                <a:ln w="255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 name=""/>
            <p:cNvSpPr/>
            <p:nvPr/>
          </p:nvSpPr>
          <p:spPr>
            <a:xfrm>
              <a:off x="1108080" y="2828880"/>
              <a:ext cx="223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ignalling cell</a:t>
              </a:r>
              <a:endParaRPr b="0" lang="en-US" sz="2400" spc="-1" strike="noStrike">
                <a:solidFill>
                  <a:srgbClr val="000000"/>
                </a:solidFill>
                <a:latin typeface="Times New Roman"/>
              </a:endParaRPr>
            </a:p>
          </p:txBody>
        </p:sp>
        <p:sp>
          <p:nvSpPr>
            <p:cNvPr id="95" name=""/>
            <p:cNvSpPr/>
            <p:nvPr/>
          </p:nvSpPr>
          <p:spPr>
            <a:xfrm>
              <a:off x="7396920" y="263844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Target cell</a:t>
              </a:r>
              <a:endParaRPr b="0" lang="en-US" sz="2400" spc="-1" strike="noStrike">
                <a:solidFill>
                  <a:srgbClr val="000000"/>
                </a:solidFill>
                <a:latin typeface="Times New Roman"/>
              </a:endParaRPr>
            </a:p>
          </p:txBody>
        </p:sp>
        <p:sp>
          <p:nvSpPr>
            <p:cNvPr id="96" name=""/>
            <p:cNvSpPr/>
            <p:nvPr/>
          </p:nvSpPr>
          <p:spPr>
            <a:xfrm>
              <a:off x="5725800" y="306396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Receptor</a:t>
              </a:r>
              <a:endParaRPr b="0" lang="en-US" sz="2400" spc="-1" strike="noStrike">
                <a:solidFill>
                  <a:srgbClr val="000000"/>
                </a:solidFill>
                <a:latin typeface="Times New Roman"/>
              </a:endParaRPr>
            </a:p>
          </p:txBody>
        </p:sp>
        <p:sp>
          <p:nvSpPr>
            <p:cNvPr id="97" name=""/>
            <p:cNvSpPr/>
            <p:nvPr/>
          </p:nvSpPr>
          <p:spPr>
            <a:xfrm flipV="1">
              <a:off x="1892520" y="2075040"/>
              <a:ext cx="1201680" cy="782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72000" y="3421080"/>
              <a:ext cx="1752480" cy="884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6896520" y="2286000"/>
              <a:ext cx="909360" cy="380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535800" y="3208320"/>
              <a:ext cx="1229040" cy="822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411800" y="1989000"/>
              <a:ext cx="249480" cy="6573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53200" y="3124080"/>
              <a:ext cx="504720" cy="1160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5562720" y="1925280"/>
              <a:ext cx="889200" cy="12286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329440" y="3505320"/>
              <a:ext cx="868320" cy="799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94440" y="2576520"/>
              <a:ext cx="30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ignalling molecule</a:t>
              </a:r>
              <a:endParaRPr b="0" lang="en-US" sz="2400" spc="-1" strike="noStrike">
                <a:solidFill>
                  <a:srgbClr val="000000"/>
                </a:solidFill>
                <a:latin typeface="Times New Roman"/>
              </a:endParaRPr>
            </a:p>
          </p:txBody>
        </p:sp>
        <p:sp>
          <p:nvSpPr>
            <p:cNvPr id="106" name=""/>
            <p:cNvSpPr/>
            <p:nvPr/>
          </p:nvSpPr>
          <p:spPr>
            <a:xfrm>
              <a:off x="1447920" y="54100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alling by bound molecule</a:t>
              </a:r>
              <a:endParaRPr b="0" lang="en-US" sz="3200" spc="-1" strike="noStrike">
                <a:solidFill>
                  <a:srgbClr val="000000"/>
                </a:solidFill>
                <a:latin typeface="Times New Roman"/>
              </a:endParaRPr>
            </a:p>
          </p:txBody>
        </p:sp>
      </p:gr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alling by secreted molecule</a:t>
            </a:r>
            <a:endParaRPr b="1" lang="en-US" sz="3200" spc="-1" strike="noStrike">
              <a:solidFill>
                <a:srgbClr val="fafd00"/>
              </a:solidFill>
              <a:latin typeface="Arial"/>
            </a:endParaRPr>
          </a:p>
        </p:txBody>
      </p:sp>
      <p:sp>
        <p:nvSpPr>
          <p:cNvPr id="108"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1028880" y="228600"/>
            <a:ext cx="8113320" cy="5575320"/>
            <a:chOff x="1028880" y="228600"/>
            <a:chExt cx="8113320" cy="5575320"/>
          </a:xfrm>
        </p:grpSpPr>
        <p:sp>
          <p:nvSpPr>
            <p:cNvPr id="110" name=""/>
            <p:cNvSpPr/>
            <p:nvPr/>
          </p:nvSpPr>
          <p:spPr>
            <a:xfrm>
              <a:off x="6625080" y="228600"/>
              <a:ext cx="2266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Paracrine</a:t>
              </a:r>
              <a:endParaRPr b="0" lang="en-US" sz="3600" spc="-1" strike="noStrike">
                <a:solidFill>
                  <a:srgbClr val="000000"/>
                </a:solidFill>
                <a:latin typeface="Times New Roman"/>
              </a:endParaRPr>
            </a:p>
          </p:txBody>
        </p:sp>
        <p:sp>
          <p:nvSpPr>
            <p:cNvPr id="111" name=""/>
            <p:cNvSpPr/>
            <p:nvPr/>
          </p:nvSpPr>
          <p:spPr>
            <a:xfrm>
              <a:off x="6321240" y="3429000"/>
              <a:ext cx="2315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Autocrine</a:t>
              </a:r>
              <a:endParaRPr b="0" lang="en-US" sz="3600" spc="-1" strike="noStrike">
                <a:solidFill>
                  <a:srgbClr val="000000"/>
                </a:solidFill>
                <a:latin typeface="Times New Roman"/>
              </a:endParaRPr>
            </a:p>
          </p:txBody>
        </p:sp>
        <p:sp>
          <p:nvSpPr>
            <p:cNvPr id="112" name=""/>
            <p:cNvSpPr/>
            <p:nvPr/>
          </p:nvSpPr>
          <p:spPr>
            <a:xfrm>
              <a:off x="1028880" y="3809880"/>
              <a:ext cx="10288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rg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3959280" y="5029200"/>
              <a:ext cx="1676520" cy="774720"/>
            </a:xfrm>
            <a:prstGeom prst="rect">
              <a:avLst/>
            </a:prstGeom>
            <a:ln w="0">
              <a:noFill/>
            </a:ln>
          </p:spPr>
        </p:pic>
        <p:sp>
          <p:nvSpPr>
            <p:cNvPr id="114" name=""/>
            <p:cNvSpPr/>
            <p:nvPr/>
          </p:nvSpPr>
          <p:spPr>
            <a:xfrm>
              <a:off x="6170400" y="5105520"/>
              <a:ext cx="2971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Gap junction</a:t>
              </a:r>
              <a:endParaRPr b="0" lang="en-US" sz="3600" spc="-1" strike="noStrike">
                <a:solidFill>
                  <a:srgbClr val="000000"/>
                </a:solidFill>
                <a:latin typeface="Times New Roman"/>
              </a:endParaRPr>
            </a:p>
          </p:txBody>
        </p:sp>
        <p:grpSp>
          <p:nvGrpSpPr>
            <p:cNvPr id="115" name=""/>
            <p:cNvGrpSpPr/>
            <p:nvPr/>
          </p:nvGrpSpPr>
          <p:grpSpPr>
            <a:xfrm>
              <a:off x="6854760" y="838080"/>
              <a:ext cx="1754280" cy="2033640"/>
              <a:chOff x="6854760" y="838080"/>
              <a:chExt cx="1754280" cy="2033640"/>
            </a:xfrm>
          </p:grpSpPr>
          <p:sp>
            <p:nvSpPr>
              <p:cNvPr id="116" name=""/>
              <p:cNvSpPr/>
              <p:nvPr/>
            </p:nvSpPr>
            <p:spPr>
              <a:xfrm>
                <a:off x="7477200" y="838080"/>
                <a:ext cx="610920" cy="50976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89800" y="85104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54760" y="1676520"/>
                <a:ext cx="611280" cy="50940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4760" y="16765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997760" y="1790640"/>
                <a:ext cx="611280" cy="50976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10360" y="1803240"/>
                <a:ext cx="598680" cy="49716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69160" y="2362320"/>
                <a:ext cx="611280" cy="50940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81760" y="2374920"/>
                <a:ext cx="59868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51680" y="193680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23000" y="1022400"/>
                <a:ext cx="216000" cy="101520"/>
              </a:xfrm>
              <a:prstGeom prst="roundRect">
                <a:avLst>
                  <a:gd name="adj" fmla="val 49995"/>
                </a:avLst>
              </a:prstGeom>
              <a:solidFill>
                <a:srgbClr val="0066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 name=""/>
              <p:cNvSpPr/>
              <p:nvPr/>
            </p:nvSpPr>
            <p:spPr>
              <a:xfrm>
                <a:off x="8194680" y="2050920"/>
                <a:ext cx="216000" cy="101880"/>
              </a:xfrm>
              <a:prstGeom prst="roundRect">
                <a:avLst>
                  <a:gd name="adj" fmla="val 49995"/>
                </a:avLst>
              </a:prstGeom>
              <a:solidFill>
                <a:srgbClr val="0066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7" name=""/>
              <p:cNvSpPr/>
              <p:nvPr/>
            </p:nvSpPr>
            <p:spPr>
              <a:xfrm>
                <a:off x="7966080" y="2508120"/>
                <a:ext cx="101520" cy="216000"/>
              </a:xfrm>
              <a:custGeom>
                <a:avLst/>
                <a:gdLst>
                  <a:gd name="textAreaLeft" fmla="*/ 14760 w 101520"/>
                  <a:gd name="textAreaRight" fmla="*/ 86760 w 101520"/>
                  <a:gd name="textAreaTop" fmla="*/ 14760 h 216000"/>
                  <a:gd name="textAreaBottom" fmla="*/ 201240 h 216000"/>
                </a:gdLst>
                <a:ahLst/>
                <a:rect l="textAreaLeft" t="textAreaTop" r="textAreaRight" b="textAreaBottom"/>
                <a:pathLst>
                  <a:path w="21600" h="45871">
                    <a:moveTo>
                      <a:pt x="10799" y="0"/>
                    </a:moveTo>
                    <a:arcTo wR="10799" hR="10799" stAng="16200000" swAng="-5400000"/>
                    <a:lnTo>
                      <a:pt x="0" y="35072"/>
                    </a:lnTo>
                    <a:arcTo wR="10799" hR="10799" stAng="10800000" swAng="-5400000"/>
                    <a:lnTo>
                      <a:pt x="10801" y="45871"/>
                    </a:lnTo>
                    <a:arcTo wR="10799" hR="10799" stAng="5400000" swAng="-5400000"/>
                    <a:lnTo>
                      <a:pt x="21600" y="10799"/>
                    </a:lnTo>
                    <a:arcTo wR="10799" hR="10799" stAng="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51680" y="1708200"/>
                <a:ext cx="101520" cy="101520"/>
              </a:xfrm>
              <a:prstGeom prst="roundRect">
                <a:avLst>
                  <a:gd name="adj" fmla="val 49995"/>
                </a:avLst>
              </a:prstGeom>
              <a:solidFill>
                <a:srgbClr val="dd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9" name=""/>
              <p:cNvSpPr/>
              <p:nvPr/>
            </p:nvSpPr>
            <p:spPr>
              <a:xfrm>
                <a:off x="7216560" y="1758960"/>
                <a:ext cx="101880" cy="101520"/>
              </a:xfrm>
              <a:prstGeom prst="roundRect">
                <a:avLst>
                  <a:gd name="adj" fmla="val 49995"/>
                </a:avLst>
              </a:prstGeom>
              <a:solidFill>
                <a:srgbClr val="dd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0" name=""/>
              <p:cNvSpPr/>
              <p:nvPr/>
            </p:nvSpPr>
            <p:spPr>
              <a:xfrm>
                <a:off x="7445160" y="1415880"/>
                <a:ext cx="101880" cy="101880"/>
              </a:xfrm>
              <a:prstGeom prst="roundRect">
                <a:avLst>
                  <a:gd name="adj" fmla="val 49995"/>
                </a:avLst>
              </a:pr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788240" y="187308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559640" y="233028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flipV="1">
                <a:off x="7235640" y="152352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540560" y="114264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11960" y="2133720"/>
                <a:ext cx="228600" cy="15228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21440" y="190512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311960" y="190476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692840" y="243828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416480" y="2590920"/>
              <a:ext cx="1741320" cy="1868400"/>
              <a:chOff x="4416480" y="2590920"/>
              <a:chExt cx="1741320" cy="1868400"/>
            </a:xfrm>
          </p:grpSpPr>
          <p:sp>
            <p:nvSpPr>
              <p:cNvPr id="140" name=""/>
              <p:cNvSpPr/>
              <p:nvPr/>
            </p:nvSpPr>
            <p:spPr>
              <a:xfrm>
                <a:off x="5330880" y="25909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6480" y="32767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59480" y="342900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06840" y="3962520"/>
                <a:ext cx="59868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68760" y="3505320"/>
                <a:ext cx="216000" cy="21564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76680" y="2749680"/>
                <a:ext cx="216000" cy="21564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43440" y="362592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14840" y="408312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00440" y="328284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12600">
                <a:solidFill>
                  <a:srgbClr val="222222"/>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4492440" y="3429000"/>
                <a:ext cx="10188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0" name=""/>
              <p:cNvSpPr/>
              <p:nvPr/>
            </p:nvSpPr>
            <p:spPr>
              <a:xfrm>
                <a:off x="5006880" y="30034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1" name=""/>
              <p:cNvSpPr/>
              <p:nvPr/>
            </p:nvSpPr>
            <p:spPr>
              <a:xfrm>
                <a:off x="5349960" y="34606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2" name=""/>
              <p:cNvSpPr/>
              <p:nvPr/>
            </p:nvSpPr>
            <p:spPr>
              <a:xfrm>
                <a:off x="5121360" y="39178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3" name=""/>
              <p:cNvSpPr/>
              <p:nvPr/>
            </p:nvSpPr>
            <p:spPr>
              <a:xfrm rot="5460000">
                <a:off x="4524120" y="3031200"/>
                <a:ext cx="43092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60000">
                <a:off x="4446000" y="3141720"/>
                <a:ext cx="405720" cy="380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873680" y="312372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178240" y="2819160"/>
                <a:ext cx="304920" cy="15228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873680" y="3504960"/>
                <a:ext cx="380880" cy="75960"/>
              </a:xfrm>
              <a:prstGeom prst="line">
                <a:avLst/>
              </a:prstGeom>
              <a:ln w="38160">
                <a:solidFill>
                  <a:srgbClr val="cccc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8" name=""/>
              <p:cNvSpPr/>
              <p:nvPr/>
            </p:nvSpPr>
            <p:spPr>
              <a:xfrm>
                <a:off x="4797360" y="3657600"/>
                <a:ext cx="30492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83160" y="350532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4560" y="4038480"/>
                <a:ext cx="228600" cy="76320"/>
              </a:xfrm>
              <a:prstGeom prst="line">
                <a:avLst/>
              </a:prstGeom>
              <a:ln w="38160">
                <a:solidFill>
                  <a:srgbClr val="cccc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1411560" y="380880"/>
              <a:ext cx="3693960" cy="4807080"/>
              <a:chOff x="1411560" y="380880"/>
              <a:chExt cx="3693960" cy="4807080"/>
            </a:xfrm>
          </p:grpSpPr>
          <p:sp>
            <p:nvSpPr>
              <p:cNvPr id="162" name=""/>
              <p:cNvSpPr/>
              <p:nvPr/>
            </p:nvSpPr>
            <p:spPr>
              <a:xfrm>
                <a:off x="2478240" y="1219320"/>
                <a:ext cx="757080" cy="3968640"/>
              </a:xfrm>
              <a:custGeom>
                <a:avLst/>
                <a:gdLst/>
                <a:ahLst/>
                <a:rect l="l" t="t" r="r" b="b"/>
                <a:pathLst>
                  <a:path w="477" h="2500">
                    <a:moveTo>
                      <a:pt x="20" y="114"/>
                    </a:moveTo>
                    <a:lnTo>
                      <a:pt x="20" y="351"/>
                    </a:lnTo>
                    <a:lnTo>
                      <a:pt x="20" y="570"/>
                    </a:lnTo>
                    <a:lnTo>
                      <a:pt x="20" y="789"/>
                    </a:lnTo>
                    <a:lnTo>
                      <a:pt x="20" y="1043"/>
                    </a:lnTo>
                    <a:lnTo>
                      <a:pt x="10" y="1070"/>
                    </a:lnTo>
                    <a:lnTo>
                      <a:pt x="20" y="1105"/>
                    </a:lnTo>
                    <a:lnTo>
                      <a:pt x="30" y="1140"/>
                    </a:lnTo>
                    <a:lnTo>
                      <a:pt x="51" y="1175"/>
                    </a:lnTo>
                    <a:lnTo>
                      <a:pt x="111" y="1219"/>
                    </a:lnTo>
                    <a:lnTo>
                      <a:pt x="172" y="1271"/>
                    </a:lnTo>
                    <a:lnTo>
                      <a:pt x="192" y="1306"/>
                    </a:lnTo>
                    <a:lnTo>
                      <a:pt x="213" y="1350"/>
                    </a:lnTo>
                    <a:lnTo>
                      <a:pt x="213" y="1377"/>
                    </a:lnTo>
                    <a:lnTo>
                      <a:pt x="213" y="1412"/>
                    </a:lnTo>
                    <a:lnTo>
                      <a:pt x="213" y="1675"/>
                    </a:lnTo>
                    <a:lnTo>
                      <a:pt x="213" y="1903"/>
                    </a:lnTo>
                    <a:lnTo>
                      <a:pt x="213" y="2131"/>
                    </a:lnTo>
                    <a:lnTo>
                      <a:pt x="213" y="2394"/>
                    </a:lnTo>
                    <a:lnTo>
                      <a:pt x="203" y="2429"/>
                    </a:lnTo>
                    <a:lnTo>
                      <a:pt x="213" y="2455"/>
                    </a:lnTo>
                    <a:lnTo>
                      <a:pt x="334" y="2499"/>
                    </a:lnTo>
                    <a:lnTo>
                      <a:pt x="476" y="2455"/>
                    </a:lnTo>
                    <a:lnTo>
                      <a:pt x="476" y="2429"/>
                    </a:lnTo>
                    <a:lnTo>
                      <a:pt x="476" y="2394"/>
                    </a:lnTo>
                    <a:lnTo>
                      <a:pt x="476" y="2245"/>
                    </a:lnTo>
                    <a:lnTo>
                      <a:pt x="476" y="2113"/>
                    </a:lnTo>
                    <a:lnTo>
                      <a:pt x="476" y="1868"/>
                    </a:lnTo>
                    <a:lnTo>
                      <a:pt x="476" y="1622"/>
                    </a:lnTo>
                    <a:lnTo>
                      <a:pt x="476" y="1491"/>
                    </a:lnTo>
                    <a:lnTo>
                      <a:pt x="476" y="1350"/>
                    </a:lnTo>
                    <a:lnTo>
                      <a:pt x="476" y="1315"/>
                    </a:lnTo>
                    <a:lnTo>
                      <a:pt x="476" y="1289"/>
                    </a:lnTo>
                    <a:lnTo>
                      <a:pt x="446" y="1245"/>
                    </a:lnTo>
                    <a:lnTo>
                      <a:pt x="425" y="1210"/>
                    </a:lnTo>
                    <a:lnTo>
                      <a:pt x="365" y="1157"/>
                    </a:lnTo>
                    <a:lnTo>
                      <a:pt x="314" y="1114"/>
                    </a:lnTo>
                    <a:lnTo>
                      <a:pt x="273" y="1043"/>
                    </a:lnTo>
                    <a:lnTo>
                      <a:pt x="273" y="982"/>
                    </a:lnTo>
                    <a:lnTo>
                      <a:pt x="273" y="745"/>
                    </a:lnTo>
                    <a:lnTo>
                      <a:pt x="273" y="544"/>
                    </a:lnTo>
                    <a:lnTo>
                      <a:pt x="273" y="342"/>
                    </a:lnTo>
                    <a:lnTo>
                      <a:pt x="273" y="114"/>
                    </a:lnTo>
                    <a:lnTo>
                      <a:pt x="284" y="79"/>
                    </a:lnTo>
                    <a:lnTo>
                      <a:pt x="273" y="53"/>
                    </a:lnTo>
                    <a:lnTo>
                      <a:pt x="213" y="18"/>
                    </a:lnTo>
                    <a:lnTo>
                      <a:pt x="142" y="0"/>
                    </a:lnTo>
                    <a:lnTo>
                      <a:pt x="71" y="18"/>
                    </a:lnTo>
                    <a:lnTo>
                      <a:pt x="20" y="53"/>
                    </a:lnTo>
                    <a:lnTo>
                      <a:pt x="0" y="61"/>
                    </a:lnTo>
                    <a:lnTo>
                      <a:pt x="0" y="79"/>
                    </a:lnTo>
                    <a:lnTo>
                      <a:pt x="20"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78000" y="1393920"/>
                <a:ext cx="316080" cy="392040"/>
              </a:xfrm>
              <a:prstGeom prst="ellipse">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90600" y="3460680"/>
                <a:ext cx="300240" cy="378000"/>
              </a:xfrm>
              <a:prstGeom prst="ellipse">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078000" y="1994040"/>
                <a:ext cx="414360" cy="377640"/>
              </a:xfrm>
              <a:prstGeom prst="rect">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71880" y="257508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71880" y="257508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solidFill>
                <a:srgbClr val="bbbbbb"/>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125800" y="3976560"/>
                <a:ext cx="414360" cy="379440"/>
              </a:xfrm>
              <a:prstGeom prst="rect">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21040" y="465624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21040" y="465624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solidFill>
                <a:srgbClr val="bbbbbb"/>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436840" y="4054320"/>
                <a:ext cx="242640" cy="210960"/>
                <a:chOff x="2436840" y="4054320"/>
                <a:chExt cx="242640" cy="210960"/>
              </a:xfrm>
            </p:grpSpPr>
            <p:grpSp>
              <p:nvGrpSpPr>
                <p:cNvPr id="172" name=""/>
                <p:cNvGrpSpPr/>
                <p:nvPr/>
              </p:nvGrpSpPr>
              <p:grpSpPr>
                <a:xfrm>
                  <a:off x="2436840" y="4054320"/>
                  <a:ext cx="242640" cy="210960"/>
                  <a:chOff x="2436840" y="4054320"/>
                  <a:chExt cx="242640" cy="210960"/>
                </a:xfrm>
              </p:grpSpPr>
              <p:sp>
                <p:nvSpPr>
                  <p:cNvPr id="173" name=""/>
                  <p:cNvSpPr/>
                  <p:nvPr/>
                </p:nvSpPr>
                <p:spPr>
                  <a:xfrm>
                    <a:off x="2550960" y="4054320"/>
                    <a:ext cx="12060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562120" y="4054320"/>
                    <a:ext cx="117360" cy="210960"/>
                  </a:xfrm>
                  <a:custGeom>
                    <a:avLst/>
                    <a:gdLst/>
                    <a:ahLst/>
                    <a:rect l="l" t="t" r="r" b="b"/>
                    <a:pathLst>
                      <a:path w="74" h="133">
                        <a:moveTo>
                          <a:pt x="0" y="0"/>
                        </a:moveTo>
                        <a:lnTo>
                          <a:pt x="0" y="132"/>
                        </a:lnTo>
                        <a:lnTo>
                          <a:pt x="73" y="132"/>
                        </a:lnTo>
                      </a:path>
                    </a:pathLst>
                  </a:custGeom>
                  <a:noFill/>
                  <a:ln cap="rnd" w="7632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6840" y="4167000"/>
                    <a:ext cx="12060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46360" y="4109760"/>
                  <a:ext cx="1260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2935440" y="3352680"/>
                <a:ext cx="12600" cy="986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60840" y="2924280"/>
                <a:ext cx="14040" cy="968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87720" y="4114800"/>
                <a:ext cx="1260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662200" y="2043000"/>
                <a:ext cx="14400" cy="986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2315880" y="4711680"/>
                <a:ext cx="379440" cy="141480"/>
                <a:chOff x="2315880" y="4711680"/>
                <a:chExt cx="379440" cy="141480"/>
              </a:xfrm>
            </p:grpSpPr>
            <p:sp>
              <p:nvSpPr>
                <p:cNvPr id="182" name=""/>
                <p:cNvSpPr/>
                <p:nvPr/>
              </p:nvSpPr>
              <p:spPr>
                <a:xfrm flipH="1">
                  <a:off x="2315880" y="4795920"/>
                  <a:ext cx="214200" cy="0"/>
                </a:xfrm>
                <a:prstGeom prst="line">
                  <a:avLst/>
                </a:prstGeom>
                <a:ln w="7632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96960" y="4738680"/>
                  <a:ext cx="34920" cy="100080"/>
                </a:xfrm>
                <a:custGeom>
                  <a:avLst/>
                  <a:gdLst/>
                  <a:ahLst/>
                  <a:rect l="l" t="t" r="r" b="b"/>
                  <a:pathLst>
                    <a:path w="22" h="63">
                      <a:moveTo>
                        <a:pt x="21" y="0"/>
                      </a:moveTo>
                      <a:lnTo>
                        <a:pt x="0" y="35"/>
                      </a:lnTo>
                      <a:lnTo>
                        <a:pt x="21" y="62"/>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30440" y="4711680"/>
                  <a:ext cx="164880" cy="141480"/>
                </a:xfrm>
                <a:custGeom>
                  <a:avLst/>
                  <a:gdLst/>
                  <a:ahLst/>
                  <a:rect l="l" t="t" r="r" b="b"/>
                  <a:pathLst>
                    <a:path w="104" h="89">
                      <a:moveTo>
                        <a:pt x="31" y="0"/>
                      </a:moveTo>
                      <a:lnTo>
                        <a:pt x="82" y="0"/>
                      </a:lnTo>
                      <a:lnTo>
                        <a:pt x="103" y="44"/>
                      </a:lnTo>
                      <a:lnTo>
                        <a:pt x="82" y="88"/>
                      </a:lnTo>
                      <a:lnTo>
                        <a:pt x="31" y="88"/>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30440" y="4711680"/>
                  <a:ext cx="164880" cy="141480"/>
                </a:xfrm>
                <a:custGeom>
                  <a:avLst/>
                  <a:gdLst/>
                  <a:ahLst/>
                  <a:rect l="l" t="t" r="r" b="b"/>
                  <a:pathLst>
                    <a:path w="104" h="89">
                      <a:moveTo>
                        <a:pt x="31" y="0"/>
                      </a:moveTo>
                      <a:lnTo>
                        <a:pt x="82" y="0"/>
                      </a:lnTo>
                      <a:lnTo>
                        <a:pt x="103" y="44"/>
                      </a:lnTo>
                      <a:lnTo>
                        <a:pt x="82" y="88"/>
                      </a:lnTo>
                      <a:lnTo>
                        <a:pt x="31" y="88"/>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3011400" y="472428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90800" y="388764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90800" y="388764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9120" y="3124080"/>
                <a:ext cx="165240" cy="12708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79760" y="2714760"/>
                <a:ext cx="16488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579760" y="2714760"/>
                <a:ext cx="16488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2414160" y="3551400"/>
                <a:ext cx="257400" cy="253800"/>
                <a:chOff x="2414160" y="3551400"/>
                <a:chExt cx="257400" cy="253800"/>
              </a:xfrm>
            </p:grpSpPr>
            <p:sp>
              <p:nvSpPr>
                <p:cNvPr id="193" name=""/>
                <p:cNvSpPr/>
                <p:nvPr/>
              </p:nvSpPr>
              <p:spPr>
                <a:xfrm>
                  <a:off x="2579760" y="3551400"/>
                  <a:ext cx="66600" cy="253800"/>
                </a:xfrm>
                <a:custGeom>
                  <a:avLst/>
                  <a:gdLst/>
                  <a:ahLst/>
                  <a:rect l="l" t="t" r="r" b="b"/>
                  <a:pathLst>
                    <a:path w="42" h="160">
                      <a:moveTo>
                        <a:pt x="31" y="0"/>
                      </a:moveTo>
                      <a:lnTo>
                        <a:pt x="31" y="0"/>
                      </a:lnTo>
                      <a:lnTo>
                        <a:pt x="31" y="9"/>
                      </a:lnTo>
                      <a:lnTo>
                        <a:pt x="21" y="18"/>
                      </a:lnTo>
                      <a:lnTo>
                        <a:pt x="10" y="27"/>
                      </a:lnTo>
                      <a:lnTo>
                        <a:pt x="10" y="35"/>
                      </a:lnTo>
                      <a:lnTo>
                        <a:pt x="10" y="44"/>
                      </a:lnTo>
                      <a:lnTo>
                        <a:pt x="0" y="44"/>
                      </a:lnTo>
                      <a:lnTo>
                        <a:pt x="0" y="53"/>
                      </a:lnTo>
                      <a:lnTo>
                        <a:pt x="0" y="62"/>
                      </a:lnTo>
                      <a:lnTo>
                        <a:pt x="0" y="71"/>
                      </a:lnTo>
                      <a:lnTo>
                        <a:pt x="0" y="80"/>
                      </a:lnTo>
                      <a:lnTo>
                        <a:pt x="10" y="88"/>
                      </a:lnTo>
                      <a:lnTo>
                        <a:pt x="10" y="97"/>
                      </a:lnTo>
                      <a:lnTo>
                        <a:pt x="21" y="115"/>
                      </a:lnTo>
                      <a:lnTo>
                        <a:pt x="21" y="124"/>
                      </a:lnTo>
                      <a:lnTo>
                        <a:pt x="31" y="133"/>
                      </a:lnTo>
                      <a:lnTo>
                        <a:pt x="31" y="141"/>
                      </a:lnTo>
                      <a:lnTo>
                        <a:pt x="31" y="150"/>
                      </a:lnTo>
                      <a:lnTo>
                        <a:pt x="41" y="159"/>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79760" y="3551400"/>
                  <a:ext cx="66600" cy="253800"/>
                </a:xfrm>
                <a:custGeom>
                  <a:avLst/>
                  <a:gdLst/>
                  <a:ahLst/>
                  <a:rect l="l" t="t" r="r" b="b"/>
                  <a:pathLst>
                    <a:path w="42" h="160">
                      <a:moveTo>
                        <a:pt x="31" y="0"/>
                      </a:moveTo>
                      <a:lnTo>
                        <a:pt x="21" y="27"/>
                      </a:lnTo>
                      <a:lnTo>
                        <a:pt x="0" y="53"/>
                      </a:lnTo>
                      <a:lnTo>
                        <a:pt x="10" y="88"/>
                      </a:lnTo>
                      <a:lnTo>
                        <a:pt x="21" y="124"/>
                      </a:lnTo>
                      <a:lnTo>
                        <a:pt x="41" y="159"/>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414160" y="3678480"/>
                  <a:ext cx="214200" cy="0"/>
                </a:xfrm>
                <a:prstGeom prst="line">
                  <a:avLst/>
                </a:prstGeom>
                <a:ln w="7632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33400" y="3562560"/>
                  <a:ext cx="38160" cy="20304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2633760" y="1495440"/>
                <a:ext cx="55440" cy="21600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33760" y="2276640"/>
                <a:ext cx="55440" cy="21744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87720" y="3581280"/>
                <a:ext cx="54000" cy="21600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54200" y="4419720"/>
                <a:ext cx="16524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54200" y="5029200"/>
                <a:ext cx="1296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11560" y="380880"/>
                <a:ext cx="2415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Endocrine</a:t>
                </a:r>
                <a:endParaRPr b="0" lang="en-US" sz="3600" spc="-1" strike="noStrike">
                  <a:solidFill>
                    <a:srgbClr val="000000"/>
                  </a:solidFill>
                  <a:latin typeface="Times New Roman"/>
                </a:endParaRPr>
              </a:p>
            </p:txBody>
          </p:sp>
          <p:sp>
            <p:nvSpPr>
              <p:cNvPr id="203" name=""/>
              <p:cNvSpPr/>
              <p:nvPr/>
            </p:nvSpPr>
            <p:spPr>
              <a:xfrm>
                <a:off x="3468600" y="1523880"/>
                <a:ext cx="1636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c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204" name=""/>
              <p:cNvSpPr/>
              <p:nvPr/>
            </p:nvSpPr>
            <p:spPr>
              <a:xfrm>
                <a:off x="2248560" y="91440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a:t>
                </a:r>
                <a:endParaRPr b="0" lang="en-US" sz="2400" spc="-1" strike="noStrike">
                  <a:solidFill>
                    <a:srgbClr val="000000"/>
                  </a:solidFill>
                  <a:latin typeface="Times New Roman"/>
                </a:endParaRPr>
              </a:p>
            </p:txBody>
          </p:sp>
          <p:sp>
            <p:nvSpPr>
              <p:cNvPr id="205" name=""/>
              <p:cNvSpPr/>
              <p:nvPr/>
            </p:nvSpPr>
            <p:spPr>
              <a:xfrm flipH="1">
                <a:off x="2782440" y="160020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2782440" y="220968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782440" y="274320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706840" y="4114800"/>
                <a:ext cx="30456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706840" y="3657600"/>
                <a:ext cx="38088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706840" y="4800600"/>
                <a:ext cx="38088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5:07:23Z</dcterms:created>
  <dc:creator>USER</dc:creator>
  <dc:description/>
  <dc:language>en-US</dc:language>
  <cp:lastModifiedBy>Hdaily</cp:lastModifiedBy>
  <cp:lastPrinted>2000-02-03T09:09:47Z</cp:lastPrinted>
  <dcterms:modified xsi:type="dcterms:W3CDTF">2000-05-18T03:43:23Z</dcterms:modified>
  <cp:revision>3</cp:revision>
  <dc:subject/>
  <dc:title>Cell Communication</dc:title>
</cp:coreProperties>
</file>