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0E33-1076-4181-A552-2CA0B7FCF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CBC5-15D2-45CF-9527-34FFBF6FE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562040" y="533520"/>
            <a:ext cx="3657600" cy="2743200"/>
          </a:xfrm>
          <a:prstGeom prst="rect">
            <a:avLst/>
          </a:prstGeom>
          <a:ln w="0">
            <a:noFill/>
          </a:ln>
        </p:spPr>
      </p:sp>
      <p:sp>
        <p:nvSpPr>
          <p:cNvPr id="1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alanine, proline, glycine, leucine, isoleucine, phenylalanine, valine, cysteine, histidine and arginine are transported across cell membranes.  The site of expression of mRNA for a cysteine transporter in wool follicles is also describ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5A14-3A2D-47E4-A41C-F850B4D9B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562040" y="533520"/>
            <a:ext cx="3657600" cy="2743200"/>
          </a:xfrm>
          <a:prstGeom prst="rect">
            <a:avLst/>
          </a:prstGeom>
          <a:ln w="0">
            <a:noFill/>
          </a:ln>
        </p:spPr>
      </p:sp>
      <p:sp>
        <p:nvSpPr>
          <p:cNvPr id="1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how amino acids enter the cell from the capillaries.  The amino acids must pass through the spaces between the blood vessels and the follicle cells, then through the follicle cell membranes.  Amino acid transport proteins actively carry the amino acids across the membranes.  The transport proteins are specific for groups of amino acids with similar properties, for example neutral, acidic, basic amino acids.  There is competition between amino acids within each grou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AF2D-A626-4B96-82BB-93E528E85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562040" y="533520"/>
            <a:ext cx="3657600" cy="2743200"/>
          </a:xfrm>
          <a:prstGeom prst="rect">
            <a:avLst/>
          </a:prstGeom>
          <a:ln w="0">
            <a:noFill/>
          </a:ln>
        </p:spPr>
      </p:sp>
      <p:sp>
        <p:nvSpPr>
          <p:cNvPr id="1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describes some of the systems that have been identified in mammalian cells that transport amino acids across membranes.  There are approximately 15 systems that have been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me of the system (e.g. A), the amino acids that the system transports and the distribution of the system is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with an asterisk are likely to be important for follic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D37B-BD13-4DFD-8211-6F2F22BE9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562040" y="533520"/>
            <a:ext cx="3657600" cy="2743200"/>
          </a:xfrm>
          <a:prstGeom prst="rect">
            <a:avLst/>
          </a:prstGeom>
          <a:ln w="0">
            <a:noFill/>
          </a:ln>
        </p:spPr>
      </p:sp>
      <p:sp>
        <p:nvSpPr>
          <p:cNvPr id="1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A transports alanine, proline and glycin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the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moves back into the cell, the amino acid is drawn with it.</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4B94-4FD8-4148-A464-DA1A40E97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562040" y="533520"/>
            <a:ext cx="3657600" cy="2743200"/>
          </a:xfrm>
          <a:prstGeom prst="rect">
            <a:avLst/>
          </a:prstGeom>
          <a:ln w="0">
            <a:noFill/>
          </a:ln>
        </p:spPr>
      </p:sp>
      <p:sp>
        <p:nvSpPr>
          <p:cNvPr id="1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L and xc- transport leucine, isoleucine, phenylalanine, valine, cysteine and glutamat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the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moves back into the cell, an amino acid is drawn with it.  This causes an accumulation of amino acid 1 in the cell.  AA1 then moves out of the cell along a chemical gradient and the desired amino acid is transported into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16D9-568B-436E-BA46-EC5BB2D63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562040" y="533520"/>
            <a:ext cx="3657600" cy="2743200"/>
          </a:xfrm>
          <a:prstGeom prst="rect">
            <a:avLst/>
          </a:prstGeom>
          <a:ln w="0">
            <a:noFill/>
          </a:ln>
        </p:spPr>
      </p:sp>
      <p:sp>
        <p:nvSpPr>
          <p:cNvPr id="1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y+ transports lysine, histidine and arginin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lysine, histidine and arginine are cationic amino acids, they move down the electrochemical gradient into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DC02-6C7E-49C6-8F10-62FD506F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562040" y="533520"/>
            <a:ext cx="3657600" cy="2743200"/>
          </a:xfrm>
          <a:prstGeom prst="rect">
            <a:avLst/>
          </a:prstGeom>
          <a:ln w="0">
            <a:noFill/>
          </a:ln>
        </p:spPr>
      </p:sp>
      <p:sp>
        <p:nvSpPr>
          <p:cNvPr id="11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Biology group at The Adelaide University has isolated cDNA encoding a follicle-derived neutral amino acid transporter.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has shown the site of expression of the gene to be in the keratogenous zone of the follicle (Fig. 1) in precisely the same region as radiolabelled cysteine is taken incorporated into the follicle/fibre (Fig. 2).  The cDNA for this transporter has been termed CYST1. It remains to be seen whether this is the main cysteine transporter in follicles and whether it differs in form or function from cysteine transporters in other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Nattrass, G.S. (2000) PhD thesis, The University of Adela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Specific Amino Acids</a:t>
            </a:r>
            <a:br>
              <a:rPr sz="3200"/>
            </a:br>
            <a:r>
              <a:rPr b="1" lang="en-AU" sz="3200" spc="-1" strike="noStrike">
                <a:solidFill>
                  <a:srgbClr val="fafd00"/>
                </a:solidFill>
                <a:latin typeface="Arial"/>
              </a:rPr>
              <a:t>into Cell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7160" y="1066680"/>
            <a:ext cx="7926840" cy="4923720"/>
            <a:chOff x="1217160" y="1066680"/>
            <a:chExt cx="7926840" cy="4923720"/>
          </a:xfrm>
        </p:grpSpPr>
        <p:sp>
          <p:nvSpPr>
            <p:cNvPr id="50" name=""/>
            <p:cNvSpPr/>
            <p:nvPr/>
          </p:nvSpPr>
          <p:spPr>
            <a:xfrm>
              <a:off x="5905440" y="2362320"/>
              <a:ext cx="25578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mino aci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ansport proteins</a:t>
              </a:r>
              <a:endParaRPr b="0" lang="en-US" sz="2400" spc="-1" strike="noStrike">
                <a:solidFill>
                  <a:srgbClr val="000000"/>
                </a:solidFill>
                <a:latin typeface="Times New Roman"/>
              </a:endParaRPr>
            </a:p>
          </p:txBody>
        </p:sp>
        <p:sp>
          <p:nvSpPr>
            <p:cNvPr id="51" name=""/>
            <p:cNvSpPr/>
            <p:nvPr/>
          </p:nvSpPr>
          <p:spPr>
            <a:xfrm>
              <a:off x="6713640" y="1676520"/>
              <a:ext cx="97092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381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296000" y="3276720"/>
              <a:ext cx="7848000" cy="2713680"/>
              <a:chOff x="1296000" y="3276720"/>
              <a:chExt cx="7848000" cy="2713680"/>
            </a:xfrm>
          </p:grpSpPr>
          <p:sp>
            <p:nvSpPr>
              <p:cNvPr id="53" name=""/>
              <p:cNvSpPr/>
              <p:nvPr/>
            </p:nvSpPr>
            <p:spPr>
              <a:xfrm>
                <a:off x="2616120" y="4800600"/>
                <a:ext cx="65278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ysteine</a:t>
                </a:r>
                <a:r>
                  <a:rPr b="0" lang="en-AU" sz="2400" spc="-1" strike="noStrike">
                    <a:solidFill>
                      <a:srgbClr val="ffffff"/>
                    </a:solidFill>
                    <a:latin typeface="Arial"/>
                  </a:rPr>
                  <a:t>	</a:t>
                </a:r>
                <a:r>
                  <a:rPr b="0" lang="en-AU" sz="2400" spc="-1" strike="noStrike">
                    <a:solidFill>
                      <a:srgbClr val="ffffff"/>
                    </a:solidFill>
                    <a:latin typeface="Arial"/>
                  </a:rPr>
                  <a:t>leucine</a:t>
                </a:r>
                <a:r>
                  <a:rPr b="0" lang="en-AU" sz="2400" spc="-1" strike="noStrike">
                    <a:solidFill>
                      <a:srgbClr val="ffffff"/>
                    </a:solidFill>
                    <a:latin typeface="Arial"/>
                  </a:rPr>
                  <a:t>	</a:t>
                </a:r>
                <a:r>
                  <a:rPr b="0" lang="en-AU" sz="2400" spc="-1" strike="noStrike">
                    <a:solidFill>
                      <a:srgbClr val="ffffff"/>
                    </a:solidFill>
                    <a:latin typeface="Arial"/>
                  </a:rPr>
                  <a:t>lysine</a:t>
                </a:r>
                <a:r>
                  <a:rPr b="0" lang="en-AU" sz="2400" spc="-1" strike="noStrike">
                    <a:solidFill>
                      <a:srgbClr val="ffffff"/>
                    </a:solidFill>
                    <a:latin typeface="Arial"/>
                  </a:rPr>
                  <a:t>	</a:t>
                </a:r>
                <a:r>
                  <a:rPr b="0" lang="en-AU" sz="2400" spc="-1" strike="noStrike">
                    <a:solidFill>
                      <a:srgbClr val="ffffff"/>
                    </a:solidFill>
                    <a:latin typeface="Arial"/>
                  </a:rPr>
                  <a:t>     glutamate serine</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cysteine</a:t>
                </a:r>
                <a:r>
                  <a:rPr b="0" lang="en-AU" sz="2400" spc="-1" strike="noStrike">
                    <a:solidFill>
                      <a:srgbClr val="ffffff"/>
                    </a:solidFill>
                    <a:latin typeface="Arial"/>
                  </a:rPr>
                  <a:t>	</a:t>
                </a:r>
                <a:r>
                  <a:rPr b="0" lang="en-AU" sz="2400" spc="-1" strike="noStrike">
                    <a:solidFill>
                      <a:srgbClr val="ffffff"/>
                    </a:solidFill>
                    <a:latin typeface="Arial"/>
                  </a:rPr>
                  <a:t>histidine   cyst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anine</a:t>
                </a:r>
                <a:r>
                  <a:rPr b="0" lang="en-AU" sz="2400" spc="-1" strike="noStrike">
                    <a:solidFill>
                      <a:srgbClr val="ffffff"/>
                    </a:solidFill>
                    <a:latin typeface="Arial"/>
                  </a:rPr>
                  <a:t>	</a:t>
                </a:r>
                <a:r>
                  <a:rPr b="0" lang="en-AU" sz="2400" spc="-1" strike="noStrike">
                    <a:solidFill>
                      <a:srgbClr val="ffffff"/>
                    </a:solidFill>
                    <a:latin typeface="Arial"/>
                  </a:rPr>
                  <a:t>serine</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arginine</a:t>
                </a:r>
                <a:endParaRPr b="0" lang="en-US" sz="2400" spc="-1" strike="noStrike">
                  <a:solidFill>
                    <a:srgbClr val="000000"/>
                  </a:solidFill>
                  <a:latin typeface="Times New Roman"/>
                </a:endParaRPr>
              </a:p>
            </p:txBody>
          </p:sp>
          <p:grpSp>
            <p:nvGrpSpPr>
              <p:cNvPr id="54" name=""/>
              <p:cNvGrpSpPr/>
              <p:nvPr/>
            </p:nvGrpSpPr>
            <p:grpSpPr>
              <a:xfrm>
                <a:off x="1782720" y="3276720"/>
                <a:ext cx="6710400" cy="1509120"/>
                <a:chOff x="1782720" y="3276720"/>
                <a:chExt cx="6710400" cy="1509120"/>
              </a:xfrm>
            </p:grpSpPr>
            <p:sp>
              <p:nvSpPr>
                <p:cNvPr id="55" name=""/>
                <p:cNvSpPr/>
                <p:nvPr/>
              </p:nvSpPr>
              <p:spPr>
                <a:xfrm>
                  <a:off x="7129800" y="3276720"/>
                  <a:ext cx="0" cy="53316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3462120" y="3809880"/>
                  <a:ext cx="4445640" cy="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62480" y="3809880"/>
                  <a:ext cx="0" cy="45720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21680" y="4327560"/>
                  <a:ext cx="567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SC</a:t>
                  </a:r>
                  <a:r>
                    <a:rPr b="1" lang="en-AU" sz="2400" spc="-1" strike="noStrike">
                      <a:solidFill>
                        <a:srgbClr val="fafd00"/>
                      </a:solidFill>
                      <a:latin typeface="Arial"/>
                    </a:rPr>
                    <a:t>	</a:t>
                  </a:r>
                  <a:r>
                    <a:rPr b="1" lang="en-AU" sz="2400" spc="-1" strike="noStrike">
                      <a:solidFill>
                        <a:srgbClr val="fafd00"/>
                      </a:solidFill>
                      <a:latin typeface="Arial"/>
                    </a:rPr>
                    <a:t>	</a:t>
                  </a:r>
                  <a:r>
                    <a:rPr b="1" lang="en-AU" sz="2400" spc="-1" strike="noStrike">
                      <a:solidFill>
                        <a:srgbClr val="fafd00"/>
                      </a:solidFill>
                      <a:latin typeface="Arial"/>
                    </a:rPr>
                    <a:t>L</a:t>
                  </a:r>
                  <a:r>
                    <a:rPr b="1" lang="en-AU" sz="2400" spc="-1" strike="noStrike">
                      <a:solidFill>
                        <a:srgbClr val="fafd00"/>
                      </a:solidFill>
                      <a:latin typeface="Arial"/>
                    </a:rPr>
                    <a:t>	</a:t>
                  </a:r>
                  <a:r>
                    <a:rPr b="1" lang="en-AU" sz="2400" spc="-1" strike="noStrike">
                      <a:solidFill>
                        <a:srgbClr val="fafd00"/>
                      </a:solidFill>
                      <a:latin typeface="Arial"/>
                    </a:rPr>
                    <a:t>         y</a:t>
                  </a:r>
                  <a:r>
                    <a:rPr b="1" lang="en-AU" sz="2400" spc="-1" strike="noStrike">
                      <a:solidFill>
                        <a:srgbClr val="fafd00"/>
                      </a:solidFill>
                      <a:latin typeface="Arial"/>
                    </a:rPr>
                    <a:t>	</a:t>
                  </a:r>
                  <a:r>
                    <a:rPr b="1" lang="en-AU" sz="2400" spc="-1" strike="noStrike">
                      <a:solidFill>
                        <a:srgbClr val="fafd00"/>
                      </a:solidFill>
                      <a:latin typeface="Arial"/>
                    </a:rPr>
                    <a:t>  xc-</a:t>
                  </a:r>
                  <a:r>
                    <a:rPr b="1" lang="en-AU" sz="2400" spc="-1" strike="noStrike">
                      <a:solidFill>
                        <a:srgbClr val="fafd00"/>
                      </a:solidFill>
                      <a:latin typeface="Arial"/>
                    </a:rPr>
                    <a:t>	</a:t>
                  </a:r>
                  <a:endParaRPr b="0" lang="en-US" sz="2400" spc="-1" strike="noStrike">
                    <a:solidFill>
                      <a:srgbClr val="000000"/>
                    </a:solidFill>
                    <a:latin typeface="Times New Roman"/>
                  </a:endParaRPr>
                </a:p>
              </p:txBody>
            </p:sp>
            <p:sp>
              <p:nvSpPr>
                <p:cNvPr id="59" name=""/>
                <p:cNvSpPr/>
                <p:nvPr/>
              </p:nvSpPr>
              <p:spPr>
                <a:xfrm>
                  <a:off x="478224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1888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90812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003400" y="3809880"/>
                  <a:ext cx="1458360" cy="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03760" y="3809880"/>
                  <a:ext cx="0" cy="45720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782720" y="432756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a:t>
                  </a:r>
                  <a:endParaRPr b="0" lang="en-US" sz="2400" spc="-1" strike="noStrike">
                    <a:solidFill>
                      <a:srgbClr val="000000"/>
                    </a:solidFill>
                    <a:latin typeface="Times New Roman"/>
                  </a:endParaRPr>
                </a:p>
              </p:txBody>
            </p:sp>
          </p:grpSp>
          <p:sp>
            <p:nvSpPr>
              <p:cNvPr id="65" name=""/>
              <p:cNvSpPr/>
              <p:nvPr/>
            </p:nvSpPr>
            <p:spPr>
              <a:xfrm>
                <a:off x="1296000" y="4800600"/>
                <a:ext cx="13021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yste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an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rine</a:t>
                </a:r>
                <a:endParaRPr b="0" lang="en-US" sz="2400" spc="-1" strike="noStrike">
                  <a:solidFill>
                    <a:srgbClr val="000000"/>
                  </a:solidFill>
                  <a:latin typeface="Times New Roman"/>
                </a:endParaRPr>
              </a:p>
            </p:txBody>
          </p:sp>
        </p:grpSp>
        <p:grpSp>
          <p:nvGrpSpPr>
            <p:cNvPr id="66" name=""/>
            <p:cNvGrpSpPr/>
            <p:nvPr/>
          </p:nvGrpSpPr>
          <p:grpSpPr>
            <a:xfrm>
              <a:off x="1217160" y="1066680"/>
              <a:ext cx="7876080" cy="702360"/>
              <a:chOff x="1217160" y="1066680"/>
              <a:chExt cx="7876080" cy="702360"/>
            </a:xfrm>
          </p:grpSpPr>
          <p:sp>
            <p:nvSpPr>
              <p:cNvPr id="67" name=""/>
              <p:cNvSpPr/>
              <p:nvPr/>
            </p:nvSpPr>
            <p:spPr>
              <a:xfrm>
                <a:off x="1217160" y="1219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pillaries</a:t>
                </a:r>
                <a:endParaRPr b="0" lang="en-US" sz="2000" spc="-1" strike="noStrike">
                  <a:solidFill>
                    <a:srgbClr val="000000"/>
                  </a:solidFill>
                  <a:latin typeface="Times New Roman"/>
                </a:endParaRPr>
              </a:p>
            </p:txBody>
          </p:sp>
          <p:sp>
            <p:nvSpPr>
              <p:cNvPr id="68" name=""/>
              <p:cNvSpPr/>
              <p:nvPr/>
            </p:nvSpPr>
            <p:spPr>
              <a:xfrm>
                <a:off x="7467840" y="1219320"/>
                <a:ext cx="162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cells</a:t>
                </a:r>
                <a:endParaRPr b="0" lang="en-US" sz="2000" spc="-1" strike="noStrike">
                  <a:solidFill>
                    <a:srgbClr val="000000"/>
                  </a:solidFill>
                  <a:latin typeface="Times New Roman"/>
                </a:endParaRPr>
              </a:p>
            </p:txBody>
          </p:sp>
          <p:sp>
            <p:nvSpPr>
              <p:cNvPr id="69" name=""/>
              <p:cNvSpPr/>
              <p:nvPr/>
            </p:nvSpPr>
            <p:spPr>
              <a:xfrm>
                <a:off x="3602520" y="1066680"/>
                <a:ext cx="26996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uid spa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rounding follicles</a:t>
                </a:r>
                <a:endParaRPr b="0" lang="en-US" sz="2000" spc="-1" strike="noStrike">
                  <a:solidFill>
                    <a:srgbClr val="000000"/>
                  </a:solidFill>
                  <a:latin typeface="Times New Roman"/>
                </a:endParaRPr>
              </a:p>
            </p:txBody>
          </p:sp>
          <p:sp>
            <p:nvSpPr>
              <p:cNvPr id="70" name=""/>
              <p:cNvSpPr/>
              <p:nvPr/>
            </p:nvSpPr>
            <p:spPr>
              <a:xfrm>
                <a:off x="6296040" y="1295280"/>
                <a:ext cx="1098360" cy="308160"/>
              </a:xfrm>
              <a:prstGeom prst="rightArrow">
                <a:avLst>
                  <a:gd name="adj1" fmla="val 49481"/>
                  <a:gd name="adj2" fmla="val 12897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12880" y="1295280"/>
                <a:ext cx="1100160" cy="308160"/>
              </a:xfrm>
              <a:prstGeom prst="rightArrow">
                <a:avLst>
                  <a:gd name="adj1" fmla="val 49481"/>
                  <a:gd name="adj2" fmla="val 1291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s and Wool Growth</a:t>
            </a:r>
            <a:endParaRPr b="1" lang="en-US" sz="3200" spc="-1" strike="noStrike">
              <a:solidFill>
                <a:srgbClr val="fafd00"/>
              </a:solidFill>
              <a:latin typeface="Arial"/>
            </a:endParaRPr>
          </a:p>
        </p:txBody>
      </p:sp>
      <p:sp>
        <p:nvSpPr>
          <p:cNvPr id="73"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1015920" y="2590920"/>
            <a:ext cx="79758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p:nvPr>
        </p:nvSpPr>
        <p:spPr>
          <a:xfrm>
            <a:off x="1371600" y="1447920"/>
            <a:ext cx="7772400" cy="4572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15 different system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System</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amino acid</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distribu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la, pro, 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la, ser, cys</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leu, ile, phe, val</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x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cys, glu</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fibroblast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lys, his, ar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gln, his, ar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hepatocyte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RBC, brain....</a:t>
            </a:r>
            <a:endParaRPr b="1" lang="en-US" sz="2000" spc="-1" strike="noStrike">
              <a:solidFill>
                <a:srgbClr val="ffffff"/>
              </a:solidFill>
              <a:latin typeface="Arial"/>
            </a:endParaRPr>
          </a:p>
        </p:txBody>
      </p:sp>
      <p:sp>
        <p:nvSpPr>
          <p:cNvPr id="76"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7" name="PlaceHolder 2"/>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 transport systems in mammalian cell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1449360" y="5486400"/>
            <a:ext cx="7466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lectrochemical gradient of Na</a:t>
            </a:r>
            <a:r>
              <a:rPr b="1" lang="en-AU" sz="2000" spc="-1" strike="noStrike" baseline="30000">
                <a:solidFill>
                  <a:srgbClr val="ffffff"/>
                </a:solidFill>
                <a:latin typeface="Arial"/>
              </a:rPr>
              <a:t>+</a:t>
            </a:r>
            <a:r>
              <a:rPr b="1" lang="en-AU" sz="2000" spc="-1" strike="noStrike">
                <a:solidFill>
                  <a:srgbClr val="ffffff"/>
                </a:solidFill>
                <a:latin typeface="Arial"/>
              </a:rPr>
              <a:t>.  Backflux of Na</a:t>
            </a:r>
            <a:r>
              <a:rPr b="1" lang="en-AU" sz="2000" spc="-1" strike="noStrike" baseline="30000">
                <a:solidFill>
                  <a:srgbClr val="ffffff"/>
                </a:solidFill>
                <a:latin typeface="Arial"/>
              </a:rPr>
              <a:t>+</a:t>
            </a:r>
            <a:r>
              <a:rPr b="1" lang="en-AU" sz="2000" spc="-1" strike="noStrike">
                <a:solidFill>
                  <a:srgbClr val="ffffff"/>
                </a:solidFill>
                <a:latin typeface="Arial"/>
              </a:rPr>
              <a:t> with inward movement of amino acid.</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 A (ala, pro, gly)</a:t>
            </a:r>
            <a:endParaRPr b="1" lang="en-US" sz="3200" spc="-1" strike="noStrike">
              <a:solidFill>
                <a:srgbClr val="fafd00"/>
              </a:solidFill>
              <a:latin typeface="Arial"/>
            </a:endParaRPr>
          </a:p>
        </p:txBody>
      </p:sp>
      <p:grpSp>
        <p:nvGrpSpPr>
          <p:cNvPr id="80" name=""/>
          <p:cNvGrpSpPr/>
          <p:nvPr/>
        </p:nvGrpSpPr>
        <p:grpSpPr>
          <a:xfrm>
            <a:off x="1392840" y="1143000"/>
            <a:ext cx="7598520" cy="4203000"/>
            <a:chOff x="1392840" y="1143000"/>
            <a:chExt cx="7598520" cy="4203000"/>
          </a:xfrm>
        </p:grpSpPr>
        <p:grpSp>
          <p:nvGrpSpPr>
            <p:cNvPr id="81" name=""/>
            <p:cNvGrpSpPr/>
            <p:nvPr/>
          </p:nvGrpSpPr>
          <p:grpSpPr>
            <a:xfrm>
              <a:off x="1392840" y="1143000"/>
              <a:ext cx="1763640" cy="4203000"/>
              <a:chOff x="1392840" y="1143000"/>
              <a:chExt cx="1763640" cy="4203000"/>
            </a:xfrm>
          </p:grpSpPr>
          <p:sp>
            <p:nvSpPr>
              <p:cNvPr id="82" name=""/>
              <p:cNvSpPr/>
              <p:nvPr/>
            </p:nvSpPr>
            <p:spPr>
              <a:xfrm>
                <a:off x="2323800" y="2139840"/>
                <a:ext cx="0" cy="228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19640" y="152388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84" name=""/>
              <p:cNvSpPr/>
              <p:nvPr/>
            </p:nvSpPr>
            <p:spPr>
              <a:xfrm>
                <a:off x="1393200" y="1905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5" name=""/>
              <p:cNvSpPr/>
              <p:nvPr/>
            </p:nvSpPr>
            <p:spPr>
              <a:xfrm>
                <a:off x="2536200" y="1905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6" name=""/>
              <p:cNvSpPr/>
              <p:nvPr/>
            </p:nvSpPr>
            <p:spPr>
              <a:xfrm>
                <a:off x="2002680" y="1143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a:t>
                </a:r>
                <a:endParaRPr b="0" lang="en-US" sz="2000" spc="-1" strike="noStrike">
                  <a:solidFill>
                    <a:srgbClr val="000000"/>
                  </a:solidFill>
                  <a:latin typeface="Times New Roman"/>
                </a:endParaRPr>
              </a:p>
            </p:txBody>
          </p:sp>
          <p:sp>
            <p:nvSpPr>
              <p:cNvPr id="87" name=""/>
              <p:cNvSpPr/>
              <p:nvPr/>
            </p:nvSpPr>
            <p:spPr>
              <a:xfrm>
                <a:off x="1392840" y="440388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grpSp>
          <p:nvGrpSpPr>
            <p:cNvPr id="88" name=""/>
            <p:cNvGrpSpPr/>
            <p:nvPr/>
          </p:nvGrpSpPr>
          <p:grpSpPr>
            <a:xfrm>
              <a:off x="3133440" y="1752480"/>
              <a:ext cx="5857920" cy="3502800"/>
              <a:chOff x="3133440" y="1752480"/>
              <a:chExt cx="5857920" cy="3502800"/>
            </a:xfrm>
          </p:grpSpPr>
          <p:sp>
            <p:nvSpPr>
              <p:cNvPr id="89" name=""/>
              <p:cNvSpPr/>
              <p:nvPr/>
            </p:nvSpPr>
            <p:spPr>
              <a:xfrm>
                <a:off x="3468600" y="1752480"/>
                <a:ext cx="12031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r>
                  <a:rPr b="1" lang="en-AU" sz="2400" spc="-1" strike="noStrike" baseline="-25000">
                    <a:solidFill>
                      <a:srgbClr val="ffffcc"/>
                    </a:solidFill>
                    <a:latin typeface="Arial"/>
                  </a:rPr>
                  <a:t>out</a:t>
                </a:r>
                <a:endParaRPr b="0" lang="en-US" sz="2400" spc="-1" strike="noStrike">
                  <a:solidFill>
                    <a:srgbClr val="000000"/>
                  </a:solidFill>
                  <a:latin typeface="Times New Roman"/>
                </a:endParaRPr>
              </a:p>
            </p:txBody>
          </p:sp>
          <p:sp>
            <p:nvSpPr>
              <p:cNvPr id="90" name=""/>
              <p:cNvSpPr/>
              <p:nvPr/>
            </p:nvSpPr>
            <p:spPr>
              <a:xfrm>
                <a:off x="4687560" y="4800600"/>
                <a:ext cx="1424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1" name=""/>
              <p:cNvSpPr/>
              <p:nvPr/>
            </p:nvSpPr>
            <p:spPr>
              <a:xfrm>
                <a:off x="5814720" y="1782720"/>
                <a:ext cx="1087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2" name=""/>
              <p:cNvSpPr/>
              <p:nvPr/>
            </p:nvSpPr>
            <p:spPr>
              <a:xfrm>
                <a:off x="5814720" y="4800600"/>
                <a:ext cx="809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3" name=""/>
              <p:cNvSpPr/>
              <p:nvPr/>
            </p:nvSpPr>
            <p:spPr>
              <a:xfrm>
                <a:off x="6653160" y="4800600"/>
                <a:ext cx="2338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94" name=""/>
              <p:cNvSpPr/>
              <p:nvPr/>
            </p:nvSpPr>
            <p:spPr>
              <a:xfrm>
                <a:off x="6653160" y="1752480"/>
                <a:ext cx="1981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grpSp>
            <p:nvGrpSpPr>
              <p:cNvPr id="95" name=""/>
              <p:cNvGrpSpPr/>
              <p:nvPr/>
            </p:nvGrpSpPr>
            <p:grpSpPr>
              <a:xfrm>
                <a:off x="6554520" y="2089080"/>
                <a:ext cx="456480" cy="2655720"/>
                <a:chOff x="6554520" y="2089080"/>
                <a:chExt cx="456480" cy="2655720"/>
              </a:xfrm>
            </p:grpSpPr>
            <p:sp>
              <p:nvSpPr>
                <p:cNvPr id="96" name=""/>
                <p:cNvSpPr/>
                <p:nvPr/>
              </p:nvSpPr>
              <p:spPr>
                <a:xfrm>
                  <a:off x="6554520" y="208908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67120" y="224316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021720" y="2089080"/>
                <a:ext cx="454320" cy="2655720"/>
                <a:chOff x="6021720" y="2089080"/>
                <a:chExt cx="454320" cy="2655720"/>
              </a:xfrm>
            </p:grpSpPr>
            <p:sp>
              <p:nvSpPr>
                <p:cNvPr id="99" name=""/>
                <p:cNvSpPr/>
                <p:nvPr/>
              </p:nvSpPr>
              <p:spPr>
                <a:xfrm>
                  <a:off x="6032160" y="208908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21720" y="224316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5094000" y="2089080"/>
                <a:ext cx="456840" cy="2655720"/>
                <a:chOff x="5094000" y="2089080"/>
                <a:chExt cx="456840" cy="2655720"/>
              </a:xfrm>
            </p:grpSpPr>
            <p:sp>
              <p:nvSpPr>
                <p:cNvPr id="102" name=""/>
                <p:cNvSpPr/>
                <p:nvPr/>
              </p:nvSpPr>
              <p:spPr>
                <a:xfrm>
                  <a:off x="5094000" y="2089080"/>
                  <a:ext cx="44460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6960" y="224316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875400" y="2089080"/>
                <a:ext cx="454320" cy="2655720"/>
                <a:chOff x="3875400" y="2089080"/>
                <a:chExt cx="454320" cy="2655720"/>
              </a:xfrm>
            </p:grpSpPr>
            <p:sp>
              <p:nvSpPr>
                <p:cNvPr id="105" name=""/>
                <p:cNvSpPr/>
                <p:nvPr/>
              </p:nvSpPr>
              <p:spPr>
                <a:xfrm>
                  <a:off x="3885840" y="208908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75400" y="224316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3549600" y="2997360"/>
                <a:ext cx="3913200" cy="953280"/>
                <a:chOff x="3549600" y="2997360"/>
                <a:chExt cx="3913200" cy="953280"/>
              </a:xfrm>
            </p:grpSpPr>
            <p:sp>
              <p:nvSpPr>
                <p:cNvPr id="108" name=""/>
                <p:cNvSpPr/>
                <p:nvPr/>
              </p:nvSpPr>
              <p:spPr>
                <a:xfrm>
                  <a:off x="673884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3848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388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736680" y="299736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37040" y="307332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 name=""/>
                <p:cNvSpPr/>
                <p:nvPr/>
              </p:nvSpPr>
              <p:spPr>
                <a:xfrm>
                  <a:off x="6852960" y="329076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4072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2960" y="299736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389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15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8" name=""/>
                <p:cNvSpPr/>
                <p:nvPr/>
              </p:nvSpPr>
              <p:spPr>
                <a:xfrm>
                  <a:off x="695484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4224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5484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404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9530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3" name=""/>
                <p:cNvSpPr/>
                <p:nvPr/>
              </p:nvSpPr>
              <p:spPr>
                <a:xfrm>
                  <a:off x="70563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0434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563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419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545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8" name=""/>
                <p:cNvSpPr/>
                <p:nvPr/>
              </p:nvSpPr>
              <p:spPr>
                <a:xfrm>
                  <a:off x="70563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434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563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419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545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3" name=""/>
                <p:cNvSpPr/>
                <p:nvPr/>
              </p:nvSpPr>
              <p:spPr>
                <a:xfrm>
                  <a:off x="725940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5940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594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25760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2579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8" name=""/>
                <p:cNvSpPr/>
                <p:nvPr/>
              </p:nvSpPr>
              <p:spPr>
                <a:xfrm>
                  <a:off x="715788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15788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1578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15644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156440" y="307332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3" name=""/>
                <p:cNvSpPr/>
                <p:nvPr/>
              </p:nvSpPr>
              <p:spPr>
                <a:xfrm>
                  <a:off x="7360920" y="329076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60920" y="299736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736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73680" y="327816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736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7224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7188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587520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7556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752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737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73400" y="307332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5" name=""/>
                <p:cNvSpPr/>
                <p:nvPr/>
              </p:nvSpPr>
              <p:spPr>
                <a:xfrm>
                  <a:off x="5989320" y="327816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7708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89320" y="299736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7528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8788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0" name=""/>
                <p:cNvSpPr/>
                <p:nvPr/>
              </p:nvSpPr>
              <p:spPr>
                <a:xfrm>
                  <a:off x="609120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7824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12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7680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8940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5" name=""/>
                <p:cNvSpPr/>
                <p:nvPr/>
              </p:nvSpPr>
              <p:spPr>
                <a:xfrm>
                  <a:off x="619272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7976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9272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783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909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0" name=""/>
                <p:cNvSpPr/>
                <p:nvPr/>
              </p:nvSpPr>
              <p:spPr>
                <a:xfrm>
                  <a:off x="629424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294240" y="327816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942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9244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9280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5" name=""/>
                <p:cNvSpPr/>
                <p:nvPr/>
              </p:nvSpPr>
              <p:spPr>
                <a:xfrm>
                  <a:off x="57481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340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4812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3588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466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0" name=""/>
                <p:cNvSpPr/>
                <p:nvPr/>
              </p:nvSpPr>
              <p:spPr>
                <a:xfrm>
                  <a:off x="584964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47840" y="339120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4964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49640" y="36846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482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5" name=""/>
                <p:cNvSpPr/>
                <p:nvPr/>
              </p:nvSpPr>
              <p:spPr>
                <a:xfrm>
                  <a:off x="59515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4972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5152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5116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49720" y="37465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606564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0880" y="33912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6564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5268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642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5" name=""/>
                <p:cNvSpPr/>
                <p:nvPr/>
              </p:nvSpPr>
              <p:spPr>
                <a:xfrm>
                  <a:off x="616716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5312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6716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5492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6572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0" name=""/>
                <p:cNvSpPr/>
                <p:nvPr/>
              </p:nvSpPr>
              <p:spPr>
                <a:xfrm>
                  <a:off x="626904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546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26904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25644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26724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5" name=""/>
                <p:cNvSpPr/>
                <p:nvPr/>
              </p:nvSpPr>
              <p:spPr>
                <a:xfrm>
                  <a:off x="67132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11480" y="339120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7132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1328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71184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0" name=""/>
                <p:cNvSpPr/>
                <p:nvPr/>
              </p:nvSpPr>
              <p:spPr>
                <a:xfrm>
                  <a:off x="681480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1372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1480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15520" y="367200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13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69166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9148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9166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1632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14880" y="3733920"/>
                  <a:ext cx="1015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0" name=""/>
                <p:cNvSpPr/>
                <p:nvPr/>
              </p:nvSpPr>
              <p:spPr>
                <a:xfrm>
                  <a:off x="70308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167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3080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185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29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0308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167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03080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0185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029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 name=""/>
                <p:cNvSpPr/>
                <p:nvPr/>
              </p:nvSpPr>
              <p:spPr>
                <a:xfrm>
                  <a:off x="72342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21980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3420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2124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23240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 name=""/>
                <p:cNvSpPr/>
                <p:nvPr/>
              </p:nvSpPr>
              <p:spPr>
                <a:xfrm>
                  <a:off x="713232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182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13232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2008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1308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0" name=""/>
                <p:cNvSpPr/>
                <p:nvPr/>
              </p:nvSpPr>
              <p:spPr>
                <a:xfrm>
                  <a:off x="73357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33428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33572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33572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3392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5" name=""/>
                <p:cNvSpPr/>
                <p:nvPr/>
              </p:nvSpPr>
              <p:spPr>
                <a:xfrm>
                  <a:off x="6349680" y="314316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6552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5256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66552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11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6637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1" name=""/>
                <p:cNvSpPr/>
                <p:nvPr/>
              </p:nvSpPr>
              <p:spPr>
                <a:xfrm>
                  <a:off x="355140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4960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6704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5408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670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526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652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8" name=""/>
                <p:cNvSpPr/>
                <p:nvPr/>
              </p:nvSpPr>
              <p:spPr>
                <a:xfrm>
                  <a:off x="38685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6856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685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6676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8671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397008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7044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700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86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68640" y="30733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8" name=""/>
                <p:cNvSpPr/>
                <p:nvPr/>
              </p:nvSpPr>
              <p:spPr>
                <a:xfrm>
                  <a:off x="408456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716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8456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701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827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3" name=""/>
                <p:cNvSpPr/>
                <p:nvPr/>
              </p:nvSpPr>
              <p:spPr>
                <a:xfrm>
                  <a:off x="418608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7312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8608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17168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84640" y="307332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8" name=""/>
                <p:cNvSpPr/>
                <p:nvPr/>
              </p:nvSpPr>
              <p:spPr>
                <a:xfrm>
                  <a:off x="363996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25200" y="33912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39960" y="36720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62700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3852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3" name=""/>
                <p:cNvSpPr/>
                <p:nvPr/>
              </p:nvSpPr>
              <p:spPr>
                <a:xfrm>
                  <a:off x="37414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274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414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72924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4004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8" name=""/>
                <p:cNvSpPr/>
                <p:nvPr/>
              </p:nvSpPr>
              <p:spPr>
                <a:xfrm>
                  <a:off x="384300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289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84300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307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415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3" name=""/>
                <p:cNvSpPr/>
                <p:nvPr/>
              </p:nvSpPr>
              <p:spPr>
                <a:xfrm>
                  <a:off x="39448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4344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448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4488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430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a:off x="40464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449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04640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467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044600" y="3733920"/>
                  <a:ext cx="10188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3" name=""/>
                <p:cNvSpPr/>
                <p:nvPr/>
              </p:nvSpPr>
              <p:spPr>
                <a:xfrm>
                  <a:off x="416052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1464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6052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4828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590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8" name=""/>
                <p:cNvSpPr/>
                <p:nvPr/>
              </p:nvSpPr>
              <p:spPr>
                <a:xfrm>
                  <a:off x="4343400" y="3143160"/>
                  <a:ext cx="66024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5276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25276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2527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2513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51320" y="30733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4" name=""/>
                <p:cNvSpPr/>
                <p:nvPr/>
              </p:nvSpPr>
              <p:spPr>
                <a:xfrm>
                  <a:off x="5367240" y="327816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5428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6724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3528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654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546876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580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687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54000" y="299736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673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4" name=""/>
                <p:cNvSpPr/>
                <p:nvPr/>
              </p:nvSpPr>
              <p:spPr>
                <a:xfrm>
                  <a:off x="55702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5804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702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5562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5688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9" name=""/>
                <p:cNvSpPr/>
                <p:nvPr/>
              </p:nvSpPr>
              <p:spPr>
                <a:xfrm>
                  <a:off x="55702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55804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5702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562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688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4" name=""/>
                <p:cNvSpPr/>
                <p:nvPr/>
              </p:nvSpPr>
              <p:spPr>
                <a:xfrm>
                  <a:off x="5671800" y="327816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72520" y="327816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71800" y="299736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67072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6703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a:off x="522756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22612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22756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27560" y="36846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2576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4" name=""/>
                <p:cNvSpPr/>
                <p:nvPr/>
              </p:nvSpPr>
              <p:spPr>
                <a:xfrm>
                  <a:off x="53290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276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2908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2944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27640" y="37465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9" name=""/>
                <p:cNvSpPr/>
                <p:nvPr/>
              </p:nvSpPr>
              <p:spPr>
                <a:xfrm>
                  <a:off x="54432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291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4320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43096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4176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554508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5306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45080" y="36846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212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5432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9" name=""/>
                <p:cNvSpPr/>
                <p:nvPr/>
              </p:nvSpPr>
              <p:spPr>
                <a:xfrm>
                  <a:off x="554508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06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545080" y="36846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3212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432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4" name=""/>
                <p:cNvSpPr/>
                <p:nvPr/>
              </p:nvSpPr>
              <p:spPr>
                <a:xfrm>
                  <a:off x="56466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3220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64660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3364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448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69" name=""/>
              <p:cNvGrpSpPr/>
              <p:nvPr/>
            </p:nvGrpSpPr>
            <p:grpSpPr>
              <a:xfrm>
                <a:off x="3900600" y="3944880"/>
                <a:ext cx="1625040" cy="215640"/>
                <a:chOff x="3900600" y="3944880"/>
                <a:chExt cx="1625040" cy="215640"/>
              </a:xfrm>
            </p:grpSpPr>
            <p:sp>
              <p:nvSpPr>
                <p:cNvPr id="370" name=""/>
                <p:cNvSpPr/>
                <p:nvPr/>
              </p:nvSpPr>
              <p:spPr>
                <a:xfrm>
                  <a:off x="3900600" y="3944880"/>
                  <a:ext cx="158688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938400" y="3944880"/>
                  <a:ext cx="158724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noFill/>
                <a:ln cap="rnd"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3133440" y="400608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sp>
            <p:nvSpPr>
              <p:cNvPr id="373" name=""/>
              <p:cNvSpPr/>
              <p:nvPr/>
            </p:nvSpPr>
            <p:spPr>
              <a:xfrm>
                <a:off x="5181480" y="402372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grpSp>
      </p:grpSp>
      <p:sp>
        <p:nvSpPr>
          <p:cNvPr id="374"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
          <p:cNvSpPr/>
          <p:nvPr/>
        </p:nvSpPr>
        <p:spPr>
          <a:xfrm>
            <a:off x="1219320" y="5092560"/>
            <a:ext cx="77724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 secondary system causes accumulation of amino acid 1 by sodium symport, generating a chemical gradient of AA1.  The efflux of AA1 down this gradient facilitates transport of AA2.</a:t>
            </a:r>
            <a:endParaRPr b="0" lang="en-US" sz="2000" spc="-1" strike="noStrike">
              <a:solidFill>
                <a:srgbClr val="000000"/>
              </a:solidFill>
              <a:latin typeface="Times New Roman"/>
            </a:endParaRPr>
          </a:p>
        </p:txBody>
      </p:sp>
      <p:grpSp>
        <p:nvGrpSpPr>
          <p:cNvPr id="376" name=""/>
          <p:cNvGrpSpPr/>
          <p:nvPr/>
        </p:nvGrpSpPr>
        <p:grpSpPr>
          <a:xfrm>
            <a:off x="1564200" y="914400"/>
            <a:ext cx="6968520" cy="4013640"/>
            <a:chOff x="1564200" y="914400"/>
            <a:chExt cx="6968520" cy="4013640"/>
          </a:xfrm>
        </p:grpSpPr>
        <p:grpSp>
          <p:nvGrpSpPr>
            <p:cNvPr id="377" name=""/>
            <p:cNvGrpSpPr/>
            <p:nvPr/>
          </p:nvGrpSpPr>
          <p:grpSpPr>
            <a:xfrm>
              <a:off x="1564200" y="914400"/>
              <a:ext cx="6968520" cy="4013640"/>
              <a:chOff x="1564200" y="914400"/>
              <a:chExt cx="6968520" cy="4013640"/>
            </a:xfrm>
          </p:grpSpPr>
          <p:sp>
            <p:nvSpPr>
              <p:cNvPr id="378" name=""/>
              <p:cNvSpPr/>
              <p:nvPr/>
            </p:nvSpPr>
            <p:spPr>
              <a:xfrm>
                <a:off x="4389120" y="1322280"/>
                <a:ext cx="927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79" name=""/>
              <p:cNvSpPr/>
              <p:nvPr/>
            </p:nvSpPr>
            <p:spPr>
              <a:xfrm>
                <a:off x="3102120" y="4306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0" name=""/>
              <p:cNvSpPr/>
              <p:nvPr/>
            </p:nvSpPr>
            <p:spPr>
              <a:xfrm>
                <a:off x="5455800" y="1322280"/>
                <a:ext cx="62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1" name=""/>
              <p:cNvSpPr/>
              <p:nvPr/>
            </p:nvSpPr>
            <p:spPr>
              <a:xfrm>
                <a:off x="5311800" y="4306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2" name=""/>
              <p:cNvSpPr/>
              <p:nvPr/>
            </p:nvSpPr>
            <p:spPr>
              <a:xfrm>
                <a:off x="614304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3" name=""/>
              <p:cNvSpPr/>
              <p:nvPr/>
            </p:nvSpPr>
            <p:spPr>
              <a:xfrm>
                <a:off x="614304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4" name=""/>
              <p:cNvSpPr/>
              <p:nvPr/>
            </p:nvSpPr>
            <p:spPr>
              <a:xfrm>
                <a:off x="698112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5" name=""/>
              <p:cNvSpPr/>
              <p:nvPr/>
            </p:nvSpPr>
            <p:spPr>
              <a:xfrm>
                <a:off x="690516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6" name=""/>
              <p:cNvSpPr/>
              <p:nvPr/>
            </p:nvSpPr>
            <p:spPr>
              <a:xfrm>
                <a:off x="766692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2</a:t>
                </a:r>
                <a:endParaRPr b="0" lang="en-US" sz="2400" spc="-1" strike="noStrike">
                  <a:solidFill>
                    <a:srgbClr val="000000"/>
                  </a:solidFill>
                  <a:latin typeface="Times New Roman"/>
                </a:endParaRPr>
              </a:p>
            </p:txBody>
          </p:sp>
          <p:sp>
            <p:nvSpPr>
              <p:cNvPr id="387" name=""/>
              <p:cNvSpPr/>
              <p:nvPr/>
            </p:nvSpPr>
            <p:spPr>
              <a:xfrm>
                <a:off x="774324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2</a:t>
                </a:r>
                <a:endParaRPr b="0" lang="en-US" sz="2400" spc="-1" strike="noStrike">
                  <a:solidFill>
                    <a:srgbClr val="000000"/>
                  </a:solidFill>
                  <a:latin typeface="Times New Roman"/>
                </a:endParaRPr>
              </a:p>
            </p:txBody>
          </p:sp>
          <p:grpSp>
            <p:nvGrpSpPr>
              <p:cNvPr id="388" name=""/>
              <p:cNvGrpSpPr/>
              <p:nvPr/>
            </p:nvGrpSpPr>
            <p:grpSpPr>
              <a:xfrm>
                <a:off x="1564200" y="914400"/>
                <a:ext cx="1548360" cy="4013640"/>
                <a:chOff x="1564200" y="914400"/>
                <a:chExt cx="1548360" cy="4013640"/>
              </a:xfrm>
            </p:grpSpPr>
            <p:sp>
              <p:nvSpPr>
                <p:cNvPr id="389" name=""/>
                <p:cNvSpPr/>
                <p:nvPr/>
              </p:nvSpPr>
              <p:spPr>
                <a:xfrm>
                  <a:off x="2314440" y="1855800"/>
                  <a:ext cx="0" cy="2151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740240" y="127152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391" name=""/>
                <p:cNvSpPr/>
                <p:nvPr/>
              </p:nvSpPr>
              <p:spPr>
                <a:xfrm>
                  <a:off x="1564560" y="1631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392" name=""/>
                <p:cNvSpPr/>
                <p:nvPr/>
              </p:nvSpPr>
              <p:spPr>
                <a:xfrm>
                  <a:off x="2459880" y="1631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393" name=""/>
                <p:cNvSpPr/>
                <p:nvPr/>
              </p:nvSpPr>
              <p:spPr>
                <a:xfrm>
                  <a:off x="2042280" y="9144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a:t>
                  </a:r>
                  <a:endParaRPr b="0" lang="en-US" sz="2000" spc="-1" strike="noStrike">
                    <a:solidFill>
                      <a:srgbClr val="000000"/>
                    </a:solidFill>
                    <a:latin typeface="Times New Roman"/>
                  </a:endParaRPr>
                </a:p>
              </p:txBody>
            </p:sp>
            <p:sp>
              <p:nvSpPr>
                <p:cNvPr id="394" name=""/>
                <p:cNvSpPr/>
                <p:nvPr/>
              </p:nvSpPr>
              <p:spPr>
                <a:xfrm>
                  <a:off x="1564200" y="398592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sp>
            <p:nvSpPr>
              <p:cNvPr id="395" name=""/>
              <p:cNvSpPr/>
              <p:nvPr/>
            </p:nvSpPr>
            <p:spPr>
              <a:xfrm flipV="1">
                <a:off x="6841800" y="2466720"/>
                <a:ext cx="0" cy="1130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94960" y="2076480"/>
                <a:ext cx="99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A1]</a:t>
                </a:r>
                <a:endParaRPr b="0" lang="en-US" sz="2400" spc="-1" strike="noStrike">
                  <a:solidFill>
                    <a:srgbClr val="000000"/>
                  </a:solidFill>
                  <a:latin typeface="Times New Roman"/>
                </a:endParaRPr>
              </a:p>
            </p:txBody>
          </p:sp>
        </p:grpSp>
        <p:sp>
          <p:nvSpPr>
            <p:cNvPr id="397" name=""/>
            <p:cNvSpPr/>
            <p:nvPr/>
          </p:nvSpPr>
          <p:spPr>
            <a:xfrm>
              <a:off x="4895640" y="367092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grpSp>
          <p:nvGrpSpPr>
            <p:cNvPr id="398" name=""/>
            <p:cNvGrpSpPr/>
            <p:nvPr/>
          </p:nvGrpSpPr>
          <p:grpSpPr>
            <a:xfrm>
              <a:off x="2928600" y="1663560"/>
              <a:ext cx="5450040" cy="2823840"/>
              <a:chOff x="2928600" y="1663560"/>
              <a:chExt cx="5450040" cy="2823840"/>
            </a:xfrm>
          </p:grpSpPr>
          <p:grpSp>
            <p:nvGrpSpPr>
              <p:cNvPr id="399" name=""/>
              <p:cNvGrpSpPr/>
              <p:nvPr/>
            </p:nvGrpSpPr>
            <p:grpSpPr>
              <a:xfrm>
                <a:off x="6959520" y="1678320"/>
                <a:ext cx="1419120" cy="2809080"/>
                <a:chOff x="6959520" y="1678320"/>
                <a:chExt cx="1419120" cy="2809080"/>
              </a:xfrm>
            </p:grpSpPr>
            <p:sp>
              <p:nvSpPr>
                <p:cNvPr id="400" name=""/>
                <p:cNvSpPr/>
                <p:nvPr/>
              </p:nvSpPr>
              <p:spPr>
                <a:xfrm>
                  <a:off x="78469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8343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84692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346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46920" y="2662200"/>
                  <a:ext cx="11412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94988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948800" y="286200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948440" y="258876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48800" y="258876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48440" y="2662200"/>
                  <a:ext cx="11412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05140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4996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049960" y="258876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050320" y="25876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049960" y="2662200"/>
                  <a:ext cx="1252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162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14968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6264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14968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16264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162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14968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16264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14968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16264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26416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25120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26416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5120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26416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82136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8091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2136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087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821360" y="3325680"/>
                  <a:ext cx="11412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9228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909920" y="297612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9228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90992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922880" y="3325680"/>
                  <a:ext cx="1144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024400" y="2976120"/>
                  <a:ext cx="12708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025120" y="2975040"/>
                  <a:ext cx="11340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02620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24760" y="3249360"/>
                  <a:ext cx="113760" cy="28872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024400" y="3325680"/>
                  <a:ext cx="11304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1244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125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1244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124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124480" y="3325680"/>
                  <a:ext cx="1270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1244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125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1244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124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124480" y="3325680"/>
                  <a:ext cx="1270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38960" y="297612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267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38960" y="324936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2263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238960" y="3325680"/>
                  <a:ext cx="11412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595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9598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7212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07364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74000" y="286200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07364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74000" y="258876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7364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17516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755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175160" y="258876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1758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175160" y="2662200"/>
                  <a:ext cx="1270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89640" y="286200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27704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89640" y="258876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27740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28964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392600" y="2863800"/>
                  <a:ext cx="111240" cy="28548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378920" y="2862000"/>
                  <a:ext cx="12600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391160" y="2588760"/>
                  <a:ext cx="114120" cy="28584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379280" y="258768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391160" y="2662200"/>
                  <a:ext cx="1126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0480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036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0480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35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04808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14996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1496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14996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1496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14996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25148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840" y="297612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2514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251840" y="324936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2514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353000" y="297612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353360" y="29750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354800" y="3251160"/>
                  <a:ext cx="12276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53000" y="324936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53000" y="3313080"/>
                  <a:ext cx="1252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7732440" y="1678320"/>
                  <a:ext cx="520560" cy="2671200"/>
                  <a:chOff x="7732440" y="1678320"/>
                  <a:chExt cx="520560" cy="2671200"/>
                </a:xfrm>
              </p:grpSpPr>
              <p:grpSp>
                <p:nvGrpSpPr>
                  <p:cNvPr id="504" name=""/>
                  <p:cNvGrpSpPr/>
                  <p:nvPr/>
                </p:nvGrpSpPr>
                <p:grpSpPr>
                  <a:xfrm>
                    <a:off x="7732440" y="1678320"/>
                    <a:ext cx="520560" cy="2671200"/>
                    <a:chOff x="7732440" y="1678320"/>
                    <a:chExt cx="520560" cy="2671200"/>
                  </a:xfrm>
                </p:grpSpPr>
                <p:sp>
                  <p:nvSpPr>
                    <p:cNvPr id="505" name=""/>
                    <p:cNvSpPr/>
                    <p:nvPr/>
                  </p:nvSpPr>
                  <p:spPr>
                    <a:xfrm>
                      <a:off x="7732440" y="1678320"/>
                      <a:ext cx="507960" cy="2520000"/>
                    </a:xfrm>
                    <a:custGeom>
                      <a:avLst/>
                      <a:gdLst/>
                      <a:ahLst/>
                      <a:rect l="l" t="t" r="r" b="b"/>
                      <a:pathLst>
                        <a:path stroke="0" w="21600" h="21600">
                          <a:moveTo>
                            <a:pt x="10732" y="21600"/>
                          </a:moveTo>
                          <a:arcTo wR="10800" hR="10800" stAng="5421648" swAng="5382666"/>
                          <a:lnTo>
                            <a:pt x="10800" y="10800"/>
                          </a:lnTo>
                          <a:close/>
                        </a:path>
                        <a:path fill="none" w="21600" h="21600">
                          <a:moveTo>
                            <a:pt x="10732" y="21600"/>
                          </a:moveTo>
                          <a:arcTo wR="10800" hR="10800" stAng="5421648" swAng="538266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745040" y="1825560"/>
                      <a:ext cx="507960" cy="2523960"/>
                    </a:xfrm>
                    <a:custGeom>
                      <a:avLst/>
                      <a:gdLst/>
                      <a:ahLst/>
                      <a:rect l="l" t="t" r="r" b="b"/>
                      <a:pathLst>
                        <a:path stroke="0" w="21600" h="21600">
                          <a:moveTo>
                            <a:pt x="0" y="10800"/>
                          </a:moveTo>
                          <a:arcTo wR="10800" hR="10800" stAng="10800000" swAng="5378394"/>
                          <a:lnTo>
                            <a:pt x="10800" y="10800"/>
                          </a:lnTo>
                          <a:close/>
                        </a:path>
                        <a:path fill="none" w="21600" h="21600">
                          <a:moveTo>
                            <a:pt x="0" y="10800"/>
                          </a:moveTo>
                          <a:arcTo wR="10800" hR="10800" stAng="10800000" swAng="5378394"/>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7897680" y="4087800"/>
                    <a:ext cx="201600" cy="199800"/>
                    <a:chOff x="7897680" y="4087800"/>
                    <a:chExt cx="201600" cy="199800"/>
                  </a:xfrm>
                </p:grpSpPr>
                <p:sp>
                  <p:nvSpPr>
                    <p:cNvPr id="508" name=""/>
                    <p:cNvSpPr/>
                    <p:nvPr/>
                  </p:nvSpPr>
                  <p:spPr>
                    <a:xfrm>
                      <a:off x="7897680" y="4087800"/>
                      <a:ext cx="201600" cy="199800"/>
                    </a:xfrm>
                    <a:custGeom>
                      <a:avLst/>
                      <a:gdLst/>
                      <a:ahLst/>
                      <a:rect l="l" t="t" r="r" b="b"/>
                      <a:pathLst>
                        <a:path w="127" h="126">
                          <a:moveTo>
                            <a:pt x="127" y="126"/>
                          </a:moveTo>
                          <a:lnTo>
                            <a:pt x="0" y="78"/>
                          </a:lnTo>
                          <a:lnTo>
                            <a:pt x="80" y="0"/>
                          </a:lnTo>
                          <a:lnTo>
                            <a:pt x="127"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61040" y="4149720"/>
                      <a:ext cx="5076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510" name=""/>
                <p:cNvGrpSpPr/>
                <p:nvPr/>
              </p:nvGrpSpPr>
              <p:grpSpPr>
                <a:xfrm>
                  <a:off x="7214760" y="1812600"/>
                  <a:ext cx="517320" cy="2674800"/>
                  <a:chOff x="7214760" y="1812600"/>
                  <a:chExt cx="517320" cy="2674800"/>
                </a:xfrm>
              </p:grpSpPr>
              <p:grpSp>
                <p:nvGrpSpPr>
                  <p:cNvPr id="511" name=""/>
                  <p:cNvGrpSpPr/>
                  <p:nvPr/>
                </p:nvGrpSpPr>
                <p:grpSpPr>
                  <a:xfrm>
                    <a:off x="7214760" y="1812600"/>
                    <a:ext cx="517320" cy="2674800"/>
                    <a:chOff x="7214760" y="1812600"/>
                    <a:chExt cx="517320" cy="2674800"/>
                  </a:xfrm>
                </p:grpSpPr>
                <p:sp>
                  <p:nvSpPr>
                    <p:cNvPr id="512" name=""/>
                    <p:cNvSpPr/>
                    <p:nvPr/>
                  </p:nvSpPr>
                  <p:spPr>
                    <a:xfrm>
                      <a:off x="7227360" y="1812600"/>
                      <a:ext cx="504720" cy="2523960"/>
                    </a:xfrm>
                    <a:custGeom>
                      <a:avLst/>
                      <a:gdLst/>
                      <a:ahLst/>
                      <a:rect l="l" t="t" r="r" b="b"/>
                      <a:pathLst>
                        <a:path stroke="0" w="21600" h="21600">
                          <a:moveTo>
                            <a:pt x="21600" y="10800"/>
                          </a:moveTo>
                          <a:arcTo wR="10800" hR="10800" stAng="0" swAng="5421606"/>
                          <a:lnTo>
                            <a:pt x="10800" y="10800"/>
                          </a:lnTo>
                          <a:close/>
                        </a:path>
                        <a:path fill="none" w="21600" h="21600">
                          <a:moveTo>
                            <a:pt x="21600" y="10800"/>
                          </a:moveTo>
                          <a:arcTo wR="10800" hR="10800" stAng="0"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214760" y="1963440"/>
                      <a:ext cx="504720" cy="2523960"/>
                    </a:xfrm>
                    <a:custGeom>
                      <a:avLst/>
                      <a:gdLst/>
                      <a:ahLst/>
                      <a:rect l="l" t="t" r="r" b="b"/>
                      <a:pathLst>
                        <a:path stroke="0" w="21600" h="21600">
                          <a:moveTo>
                            <a:pt x="10732" y="0"/>
                          </a:moveTo>
                          <a:arcTo wR="10800" hR="10800" stAng="-5421594" swAng="5417226"/>
                          <a:lnTo>
                            <a:pt x="10800" y="10800"/>
                          </a:lnTo>
                          <a:close/>
                        </a:path>
                        <a:path fill="none" w="21600" h="21600">
                          <a:moveTo>
                            <a:pt x="10732" y="0"/>
                          </a:moveTo>
                          <a:arcTo wR="10800" hR="10800" stAng="-5421594" swAng="541722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7365600" y="1825560"/>
                    <a:ext cx="201600" cy="199800"/>
                    <a:chOff x="7365600" y="1825560"/>
                    <a:chExt cx="201600" cy="199800"/>
                  </a:xfrm>
                </p:grpSpPr>
                <p:sp>
                  <p:nvSpPr>
                    <p:cNvPr id="515" name=""/>
                    <p:cNvSpPr/>
                    <p:nvPr/>
                  </p:nvSpPr>
                  <p:spPr>
                    <a:xfrm>
                      <a:off x="7365600" y="1825560"/>
                      <a:ext cx="201600" cy="199800"/>
                    </a:xfrm>
                    <a:custGeom>
                      <a:avLst/>
                      <a:gdLst/>
                      <a:ahLst/>
                      <a:rect l="l" t="t" r="r" b="b"/>
                      <a:pathLst>
                        <a:path w="127" h="126">
                          <a:moveTo>
                            <a:pt x="0" y="0"/>
                          </a:moveTo>
                          <a:lnTo>
                            <a:pt x="127" y="47"/>
                          </a:lnTo>
                          <a:lnTo>
                            <a:pt x="47" y="12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403760" y="1863720"/>
                      <a:ext cx="4932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17" name=""/>
                <p:cNvSpPr/>
                <p:nvPr/>
              </p:nvSpPr>
              <p:spPr>
                <a:xfrm>
                  <a:off x="7478280" y="2700360"/>
                  <a:ext cx="495360" cy="712800"/>
                </a:xfrm>
                <a:custGeom>
                  <a:avLst/>
                  <a:gdLst>
                    <a:gd name="textAreaLeft" fmla="*/ 65520 w 495360"/>
                    <a:gd name="textAreaRight" fmla="*/ 429840 w 495360"/>
                    <a:gd name="textAreaTop" fmla="*/ 65520 h 712800"/>
                    <a:gd name="textAreaBottom" fmla="*/ 647280 h 712800"/>
                  </a:gdLst>
                  <a:ahLst/>
                  <a:rect l="textAreaLeft" t="textAreaTop" r="textAreaRight" b="textAreaBottom"/>
                  <a:pathLst>
                    <a:path w="21600" h="31075">
                      <a:moveTo>
                        <a:pt x="9796" y="0"/>
                      </a:moveTo>
                      <a:arcTo wR="9796" hR="9796" stAng="16200000" swAng="-5400000"/>
                      <a:lnTo>
                        <a:pt x="0" y="21279"/>
                      </a:lnTo>
                      <a:arcTo wR="9796" hR="9796" stAng="10800000" swAng="-5400000"/>
                      <a:lnTo>
                        <a:pt x="11804" y="31075"/>
                      </a:lnTo>
                      <a:arcTo wR="9796" hR="9796" stAng="5400000" swAng="-5400000"/>
                      <a:lnTo>
                        <a:pt x="21600" y="9796"/>
                      </a:lnTo>
                      <a:arcTo wR="9796" hR="9796" stAng="0" swAng="-5400000"/>
                      <a:close/>
                    </a:path>
                  </a:pathLst>
                </a:cu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5351040" y="1663560"/>
                <a:ext cx="1747440" cy="2672280"/>
                <a:chOff x="5351040" y="1663560"/>
                <a:chExt cx="1747440" cy="2672280"/>
              </a:xfrm>
            </p:grpSpPr>
            <p:grpSp>
              <p:nvGrpSpPr>
                <p:cNvPr id="519" name=""/>
                <p:cNvGrpSpPr/>
                <p:nvPr/>
              </p:nvGrpSpPr>
              <p:grpSpPr>
                <a:xfrm>
                  <a:off x="5617800" y="1663560"/>
                  <a:ext cx="1050840" cy="2672280"/>
                  <a:chOff x="5617800" y="1663560"/>
                  <a:chExt cx="1050840" cy="2672280"/>
                </a:xfrm>
              </p:grpSpPr>
              <p:grpSp>
                <p:nvGrpSpPr>
                  <p:cNvPr id="520" name=""/>
                  <p:cNvGrpSpPr/>
                  <p:nvPr/>
                </p:nvGrpSpPr>
                <p:grpSpPr>
                  <a:xfrm>
                    <a:off x="6148080" y="1663560"/>
                    <a:ext cx="520560" cy="2672280"/>
                    <a:chOff x="6148080" y="1663560"/>
                    <a:chExt cx="520560" cy="2672280"/>
                  </a:xfrm>
                </p:grpSpPr>
                <p:grpSp>
                  <p:nvGrpSpPr>
                    <p:cNvPr id="521" name=""/>
                    <p:cNvGrpSpPr/>
                    <p:nvPr/>
                  </p:nvGrpSpPr>
                  <p:grpSpPr>
                    <a:xfrm>
                      <a:off x="6148080" y="1663560"/>
                      <a:ext cx="520560" cy="2672280"/>
                      <a:chOff x="6148080" y="1663560"/>
                      <a:chExt cx="520560" cy="2672280"/>
                    </a:xfrm>
                  </p:grpSpPr>
                  <p:sp>
                    <p:nvSpPr>
                      <p:cNvPr id="522" name=""/>
                      <p:cNvSpPr/>
                      <p:nvPr/>
                    </p:nvSpPr>
                    <p:spPr>
                      <a:xfrm>
                        <a:off x="6148080" y="1663560"/>
                        <a:ext cx="507960" cy="252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60680" y="1812960"/>
                        <a:ext cx="507960" cy="25228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313320" y="4074840"/>
                      <a:ext cx="203040" cy="200160"/>
                      <a:chOff x="6313320" y="4074840"/>
                      <a:chExt cx="203040" cy="200160"/>
                    </a:xfrm>
                  </p:grpSpPr>
                  <p:sp>
                    <p:nvSpPr>
                      <p:cNvPr id="525" name=""/>
                      <p:cNvSpPr/>
                      <p:nvPr/>
                    </p:nvSpPr>
                    <p:spPr>
                      <a:xfrm>
                        <a:off x="6313320" y="4074840"/>
                        <a:ext cx="203040" cy="200160"/>
                      </a:xfrm>
                      <a:custGeom>
                        <a:avLst/>
                        <a:gdLst/>
                        <a:ahLst/>
                        <a:rect l="l" t="t" r="r" b="b"/>
                        <a:pathLst>
                          <a:path w="128" h="126">
                            <a:moveTo>
                              <a:pt x="128" y="126"/>
                            </a:moveTo>
                            <a:lnTo>
                              <a:pt x="0" y="78"/>
                            </a:lnTo>
                            <a:lnTo>
                              <a:pt x="80" y="0"/>
                            </a:lnTo>
                            <a:lnTo>
                              <a:pt x="128"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76680" y="4136760"/>
                        <a:ext cx="50760" cy="51120"/>
                      </a:xfrm>
                      <a:prstGeom prst="line">
                        <a:avLst/>
                      </a:prstGeom>
                      <a:ln w="507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527" name=""/>
                  <p:cNvGrpSpPr/>
                  <p:nvPr/>
                </p:nvGrpSpPr>
                <p:grpSpPr>
                  <a:xfrm>
                    <a:off x="5617800" y="1663560"/>
                    <a:ext cx="517320" cy="2672280"/>
                    <a:chOff x="5617800" y="1663560"/>
                    <a:chExt cx="517320" cy="2672280"/>
                  </a:xfrm>
                </p:grpSpPr>
                <p:grpSp>
                  <p:nvGrpSpPr>
                    <p:cNvPr id="528" name=""/>
                    <p:cNvGrpSpPr/>
                    <p:nvPr/>
                  </p:nvGrpSpPr>
                  <p:grpSpPr>
                    <a:xfrm>
                      <a:off x="5617800" y="1663560"/>
                      <a:ext cx="517320" cy="2672280"/>
                      <a:chOff x="5617800" y="1663560"/>
                      <a:chExt cx="517320" cy="2672280"/>
                    </a:xfrm>
                  </p:grpSpPr>
                  <p:sp>
                    <p:nvSpPr>
                      <p:cNvPr id="529" name=""/>
                      <p:cNvSpPr/>
                      <p:nvPr/>
                    </p:nvSpPr>
                    <p:spPr>
                      <a:xfrm>
                        <a:off x="5630400" y="1663560"/>
                        <a:ext cx="504720" cy="2523960"/>
                      </a:xfrm>
                      <a:custGeom>
                        <a:avLst/>
                        <a:gdLst/>
                        <a:ahLst/>
                        <a:rect l="l" t="t" r="r" b="b"/>
                        <a:pathLst>
                          <a:path stroke="0" w="21600" h="21600">
                            <a:moveTo>
                              <a:pt x="21600" y="10800"/>
                            </a:moveTo>
                            <a:arcTo wR="10800" hR="10800" stAng="0" swAng="5421606"/>
                            <a:lnTo>
                              <a:pt x="10800" y="10800"/>
                            </a:lnTo>
                            <a:close/>
                          </a:path>
                          <a:path fill="none" w="21600" h="21600">
                            <a:moveTo>
                              <a:pt x="21600" y="10800"/>
                            </a:moveTo>
                            <a:arcTo wR="10800" hR="10800" stAng="0"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617800" y="1812960"/>
                        <a:ext cx="504720" cy="2522880"/>
                      </a:xfrm>
                      <a:custGeom>
                        <a:avLst/>
                        <a:gdLst/>
                        <a:ahLst/>
                        <a:rect l="l" t="t" r="r" b="b"/>
                        <a:pathLst>
                          <a:path stroke="0" w="21600" h="21600">
                            <a:moveTo>
                              <a:pt x="10732" y="0"/>
                            </a:moveTo>
                            <a:arcTo wR="10800" hR="10800" stAng="-5421606" swAng="5421606"/>
                            <a:lnTo>
                              <a:pt x="10800" y="10800"/>
                            </a:lnTo>
                            <a:close/>
                          </a:path>
                          <a:path fill="none" w="21600" h="21600">
                            <a:moveTo>
                              <a:pt x="10732" y="0"/>
                            </a:moveTo>
                            <a:arcTo wR="10800" hR="10800" stAng="-5421606"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768640" y="4074840"/>
                      <a:ext cx="203400" cy="200160"/>
                      <a:chOff x="5768640" y="4074840"/>
                      <a:chExt cx="203400" cy="200160"/>
                    </a:xfrm>
                  </p:grpSpPr>
                  <p:sp>
                    <p:nvSpPr>
                      <p:cNvPr id="532" name=""/>
                      <p:cNvSpPr/>
                      <p:nvPr/>
                    </p:nvSpPr>
                    <p:spPr>
                      <a:xfrm>
                        <a:off x="5768640" y="4074840"/>
                        <a:ext cx="203400" cy="200160"/>
                      </a:xfrm>
                      <a:custGeom>
                        <a:avLst/>
                        <a:gdLst/>
                        <a:ahLst/>
                        <a:rect l="l" t="t" r="r" b="b"/>
                        <a:pathLst>
                          <a:path w="128" h="126">
                            <a:moveTo>
                              <a:pt x="0" y="126"/>
                            </a:moveTo>
                            <a:lnTo>
                              <a:pt x="48" y="0"/>
                            </a:lnTo>
                            <a:lnTo>
                              <a:pt x="128" y="78"/>
                            </a:lnTo>
                            <a:lnTo>
                              <a:pt x="0"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5806440" y="4136760"/>
                        <a:ext cx="50760" cy="51120"/>
                      </a:xfrm>
                      <a:prstGeom prst="line">
                        <a:avLst/>
                      </a:prstGeom>
                      <a:ln w="507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sp>
              <p:nvSpPr>
                <p:cNvPr id="534" name=""/>
                <p:cNvSpPr/>
                <p:nvPr/>
              </p:nvSpPr>
              <p:spPr>
                <a:xfrm>
                  <a:off x="635148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35148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3514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5184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351480" y="2651040"/>
                  <a:ext cx="1267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6560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5264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6560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45264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46560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56712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55416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56712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5416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5671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70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560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69000" y="257652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56400" y="25750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6690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670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560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669000" y="257652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656400" y="25750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6690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87060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87024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87060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87024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7060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6872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76872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76872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76872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687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721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7212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391000" y="2851200"/>
                  <a:ext cx="123480" cy="28476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89560" y="2849400"/>
                  <a:ext cx="113760" cy="28836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389200" y="2576520"/>
                  <a:ext cx="12708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389920" y="2575080"/>
                  <a:ext cx="11340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3892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48928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488920" y="2849400"/>
                  <a:ext cx="12708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892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48892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489280" y="265104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603760" y="2849400"/>
                  <a:ext cx="11340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591160" y="284940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603760" y="2576520"/>
                  <a:ext cx="1134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59152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6037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70528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692680" y="284940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7052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69304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0528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80680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793840" y="2849400"/>
                  <a:ext cx="12708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80680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9384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80680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08320" y="284940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908320" y="284940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90832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90832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9083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36400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351400" y="29624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36544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351040" y="324936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364000" y="331308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46408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6372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4640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46372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4640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56560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56524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656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6524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565600" y="331308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67972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66676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7972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6676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67972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78124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76936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78124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76900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78124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8831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8708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88312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87052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88312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3259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2592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25920" y="323676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32592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2592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2744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42744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2744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42744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2744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2896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5296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52896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529320" y="323676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28960" y="3300120"/>
                  <a:ext cx="1270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643440" y="2963880"/>
                  <a:ext cx="114120" cy="28512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31560" y="296244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644880" y="3238560"/>
                  <a:ext cx="111240" cy="28476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631200" y="3236760"/>
                  <a:ext cx="12600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4344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643440" y="2963880"/>
                  <a:ext cx="114120" cy="28512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31560" y="296244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44880" y="3238560"/>
                  <a:ext cx="111240" cy="28476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631200" y="3236760"/>
                  <a:ext cx="12600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4344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845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83280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845040" y="323676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832440" y="323676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45040" y="3300120"/>
                  <a:ext cx="11412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744960" y="2963880"/>
                  <a:ext cx="12708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32720" y="29624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746760" y="3238560"/>
                  <a:ext cx="123480" cy="28476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32360" y="3236760"/>
                  <a:ext cx="12672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74496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4656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94656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94656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94656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94656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946480" y="2700360"/>
                  <a:ext cx="379440" cy="712800"/>
                </a:xfrm>
                <a:custGeom>
                  <a:avLst/>
                  <a:gdLst>
                    <a:gd name="textAreaLeft" fmla="*/ 65520 w 379440"/>
                    <a:gd name="textAreaRight" fmla="*/ 313920 w 379440"/>
                    <a:gd name="textAreaTop" fmla="*/ 65520 h 712800"/>
                    <a:gd name="textAreaBottom" fmla="*/ 647280 h 712800"/>
                  </a:gdLst>
                  <a:ahLst/>
                  <a:rect l="textAreaLeft" t="textAreaTop" r="textAreaRight" b="textAreaBottom"/>
                  <a:pathLst>
                    <a:path w="21600" h="40559">
                      <a:moveTo>
                        <a:pt x="12788" y="0"/>
                      </a:moveTo>
                      <a:arcTo wR="12788" hR="12788" stAng="16200000" swAng="-5400000"/>
                      <a:lnTo>
                        <a:pt x="0" y="27771"/>
                      </a:lnTo>
                      <a:arcTo wR="12788" hR="12788" stAng="10800000" swAng="-5400000"/>
                      <a:lnTo>
                        <a:pt x="8812" y="40559"/>
                      </a:lnTo>
                      <a:arcTo wR="12788" hR="12788" stAng="5400000" swAng="-5400000"/>
                      <a:lnTo>
                        <a:pt x="21600" y="12788"/>
                      </a:lnTo>
                      <a:arcTo wR="12788" hR="12788" stAng="0" swAng="-5400000"/>
                      <a:close/>
                    </a:path>
                  </a:pathLst>
                </a:cu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2928600" y="1678320"/>
                <a:ext cx="2473560" cy="2671200"/>
                <a:chOff x="2928600" y="1678320"/>
                <a:chExt cx="2473560" cy="2671200"/>
              </a:xfrm>
            </p:grpSpPr>
            <p:grpSp>
              <p:nvGrpSpPr>
                <p:cNvPr id="673" name=""/>
                <p:cNvGrpSpPr/>
                <p:nvPr/>
              </p:nvGrpSpPr>
              <p:grpSpPr>
                <a:xfrm>
                  <a:off x="4679640" y="1678320"/>
                  <a:ext cx="520560" cy="2671200"/>
                  <a:chOff x="4679640" y="1678320"/>
                  <a:chExt cx="520560" cy="2671200"/>
                </a:xfrm>
              </p:grpSpPr>
              <p:grpSp>
                <p:nvGrpSpPr>
                  <p:cNvPr id="674" name=""/>
                  <p:cNvGrpSpPr/>
                  <p:nvPr/>
                </p:nvGrpSpPr>
                <p:grpSpPr>
                  <a:xfrm>
                    <a:off x="4679640" y="1678320"/>
                    <a:ext cx="520560" cy="2671200"/>
                    <a:chOff x="4679640" y="1678320"/>
                    <a:chExt cx="520560" cy="2671200"/>
                  </a:xfrm>
                </p:grpSpPr>
                <p:sp>
                  <p:nvSpPr>
                    <p:cNvPr id="675" name=""/>
                    <p:cNvSpPr/>
                    <p:nvPr/>
                  </p:nvSpPr>
                  <p:spPr>
                    <a:xfrm>
                      <a:off x="4679640" y="1678320"/>
                      <a:ext cx="507960" cy="2520000"/>
                    </a:xfrm>
                    <a:custGeom>
                      <a:avLst/>
                      <a:gdLst/>
                      <a:ahLst/>
                      <a:rect l="l" t="t" r="r" b="b"/>
                      <a:pathLst>
                        <a:path stroke="0" w="21600" h="21600">
                          <a:moveTo>
                            <a:pt x="10732" y="21600"/>
                          </a:moveTo>
                          <a:arcTo wR="10800" hR="10800" stAng="5421648" swAng="5382666"/>
                          <a:lnTo>
                            <a:pt x="10800" y="10800"/>
                          </a:lnTo>
                          <a:close/>
                        </a:path>
                        <a:path fill="none" w="21600" h="21600">
                          <a:moveTo>
                            <a:pt x="10732" y="21600"/>
                          </a:moveTo>
                          <a:arcTo wR="10800" hR="10800" stAng="5421648" swAng="538266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92240" y="1825560"/>
                      <a:ext cx="507960" cy="2523960"/>
                    </a:xfrm>
                    <a:custGeom>
                      <a:avLst/>
                      <a:gdLst/>
                      <a:ahLst/>
                      <a:rect l="l" t="t" r="r" b="b"/>
                      <a:pathLst>
                        <a:path stroke="0" w="21600" h="21600">
                          <a:moveTo>
                            <a:pt x="0" y="10800"/>
                          </a:moveTo>
                          <a:arcTo wR="10800" hR="10800" stAng="10800000" swAng="5378394"/>
                          <a:lnTo>
                            <a:pt x="10800" y="10800"/>
                          </a:lnTo>
                          <a:close/>
                        </a:path>
                        <a:path fill="none" w="21600" h="21600">
                          <a:moveTo>
                            <a:pt x="0" y="10800"/>
                          </a:moveTo>
                          <a:arcTo wR="10800" hR="10800" stAng="10800000" swAng="5378394"/>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791960" y="1687320"/>
                    <a:ext cx="254520" cy="200160"/>
                    <a:chOff x="4791960" y="1687320"/>
                    <a:chExt cx="254520" cy="200160"/>
                  </a:xfrm>
                </p:grpSpPr>
                <p:sp>
                  <p:nvSpPr>
                    <p:cNvPr id="678" name=""/>
                    <p:cNvSpPr/>
                    <p:nvPr/>
                  </p:nvSpPr>
                  <p:spPr>
                    <a:xfrm>
                      <a:off x="4843080" y="1687320"/>
                      <a:ext cx="203400" cy="200160"/>
                    </a:xfrm>
                    <a:custGeom>
                      <a:avLst/>
                      <a:gdLst/>
                      <a:ahLst/>
                      <a:rect l="l" t="t" r="r" b="b"/>
                      <a:pathLst>
                        <a:path w="128" h="126">
                          <a:moveTo>
                            <a:pt x="128" y="0"/>
                          </a:moveTo>
                          <a:lnTo>
                            <a:pt x="80" y="126"/>
                          </a:lnTo>
                          <a:lnTo>
                            <a:pt x="0" y="48"/>
                          </a:lnTo>
                          <a:lnTo>
                            <a:pt x="12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4791960" y="1725480"/>
                      <a:ext cx="165240" cy="1620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0" name=""/>
                <p:cNvGrpSpPr/>
                <p:nvPr/>
              </p:nvGrpSpPr>
              <p:grpSpPr>
                <a:xfrm>
                  <a:off x="3475440" y="1678320"/>
                  <a:ext cx="519840" cy="2671200"/>
                  <a:chOff x="3475440" y="1678320"/>
                  <a:chExt cx="519840" cy="2671200"/>
                </a:xfrm>
              </p:grpSpPr>
              <p:grpSp>
                <p:nvGrpSpPr>
                  <p:cNvPr id="681" name=""/>
                  <p:cNvGrpSpPr/>
                  <p:nvPr/>
                </p:nvGrpSpPr>
                <p:grpSpPr>
                  <a:xfrm>
                    <a:off x="3475440" y="1678320"/>
                    <a:ext cx="519840" cy="2671200"/>
                    <a:chOff x="3475440" y="1678320"/>
                    <a:chExt cx="519840" cy="2671200"/>
                  </a:xfrm>
                </p:grpSpPr>
                <p:sp>
                  <p:nvSpPr>
                    <p:cNvPr id="682" name=""/>
                    <p:cNvSpPr/>
                    <p:nvPr/>
                  </p:nvSpPr>
                  <p:spPr>
                    <a:xfrm>
                      <a:off x="3487320" y="1678320"/>
                      <a:ext cx="507960" cy="2520000"/>
                    </a:xfrm>
                    <a:custGeom>
                      <a:avLst/>
                      <a:gdLst/>
                      <a:ahLst/>
                      <a:rect l="l" t="t" r="r" b="b"/>
                      <a:pathLst>
                        <a:path stroke="0" w="21600" h="21600">
                          <a:moveTo>
                            <a:pt x="21600" y="10786"/>
                          </a:moveTo>
                          <a:arcTo wR="10800" hR="10800" stAng="-4327" swAng="5404327"/>
                          <a:lnTo>
                            <a:pt x="10800" y="10800"/>
                          </a:lnTo>
                          <a:close/>
                        </a:path>
                        <a:path fill="none" w="21600" h="21600">
                          <a:moveTo>
                            <a:pt x="21600" y="10786"/>
                          </a:moveTo>
                          <a:arcTo wR="10800" hR="10800" stAng="-4327" swAng="5404327"/>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475440" y="1825560"/>
                      <a:ext cx="506880" cy="25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627000" y="4087800"/>
                    <a:ext cx="203400" cy="199800"/>
                    <a:chOff x="3627000" y="4087800"/>
                    <a:chExt cx="203400" cy="199800"/>
                  </a:xfrm>
                </p:grpSpPr>
                <p:sp>
                  <p:nvSpPr>
                    <p:cNvPr id="685" name=""/>
                    <p:cNvSpPr/>
                    <p:nvPr/>
                  </p:nvSpPr>
                  <p:spPr>
                    <a:xfrm>
                      <a:off x="3627000" y="4087800"/>
                      <a:ext cx="203400" cy="199800"/>
                    </a:xfrm>
                    <a:custGeom>
                      <a:avLst/>
                      <a:gdLst/>
                      <a:ahLst/>
                      <a:rect l="l" t="t" r="r" b="b"/>
                      <a:pathLst>
                        <a:path w="128" h="126">
                          <a:moveTo>
                            <a:pt x="0" y="126"/>
                          </a:moveTo>
                          <a:lnTo>
                            <a:pt x="48" y="0"/>
                          </a:lnTo>
                          <a:lnTo>
                            <a:pt x="128" y="78"/>
                          </a:lnTo>
                          <a:lnTo>
                            <a:pt x="0"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3664800" y="4149720"/>
                      <a:ext cx="5076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87" name=""/>
                <p:cNvGrpSpPr/>
                <p:nvPr/>
              </p:nvGrpSpPr>
              <p:grpSpPr>
                <a:xfrm>
                  <a:off x="3159000" y="2576520"/>
                  <a:ext cx="2243160" cy="1186200"/>
                  <a:chOff x="3159000" y="2576520"/>
                  <a:chExt cx="2243160" cy="1186200"/>
                </a:xfrm>
              </p:grpSpPr>
              <p:sp>
                <p:nvSpPr>
                  <p:cNvPr id="688" name=""/>
                  <p:cNvSpPr/>
                  <p:nvPr/>
                </p:nvSpPr>
                <p:spPr>
                  <a:xfrm>
                    <a:off x="317160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27312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27312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273120" y="258876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273120" y="258876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7312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15900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5936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376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3746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374640" y="2588760"/>
                    <a:ext cx="12708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375000" y="25876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374640" y="2662200"/>
                    <a:ext cx="12564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48732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47508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48732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47544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48732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589200" y="286200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57660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89200" y="258876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57696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58920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6907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6781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69072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6784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69072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79224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79224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79224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792240" y="258876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79224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2479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2356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24792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23532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24792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34944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349800" y="2963880"/>
                    <a:ext cx="1134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35088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349800" y="324936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34944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45096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450960" y="2962440"/>
                    <a:ext cx="11412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45240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450960" y="3249360"/>
                    <a:ext cx="114120" cy="28872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450960" y="331308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551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55068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5104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5068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51040" y="331308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66516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5220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6516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65220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66516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767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5480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76704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544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704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944520" y="2700360"/>
                    <a:ext cx="722520" cy="712800"/>
                  </a:xfrm>
                  <a:prstGeom prst="ellipse">
                    <a:avLst/>
                  </a:pr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868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85604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864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5640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864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97016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720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97016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95720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97016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07168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07168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07168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7168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07168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17356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17320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517356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7320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1735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17356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17320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17356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17320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735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7508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7472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2750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27472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275080" y="265104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843080" y="297612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30120" y="297612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84308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83012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4308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944960" y="297612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9327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944960" y="324936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9323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94496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04648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503424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0464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03388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0464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14800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480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1480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1480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14800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14800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1480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1480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1480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14800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4952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4952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24952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24952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24952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3487320" y="3487680"/>
                    <a:ext cx="1685880" cy="275040"/>
                    <a:chOff x="3487320" y="3487680"/>
                    <a:chExt cx="1685880" cy="275040"/>
                  </a:xfrm>
                </p:grpSpPr>
                <p:sp>
                  <p:nvSpPr>
                    <p:cNvPr id="813" name=""/>
                    <p:cNvSpPr/>
                    <p:nvPr/>
                  </p:nvSpPr>
                  <p:spPr>
                    <a:xfrm>
                      <a:off x="3487320" y="3487680"/>
                      <a:ext cx="1647720" cy="275040"/>
                    </a:xfrm>
                    <a:custGeom>
                      <a:avLst/>
                      <a:gdLst/>
                      <a:ahLst/>
                      <a:rect l="l" t="t" r="r" b="b"/>
                      <a:pathLst>
                        <a:path stroke="0" w="21600" h="21600">
                          <a:moveTo>
                            <a:pt x="10800" y="0"/>
                          </a:moveTo>
                          <a:arcTo wR="10800" hR="10800" stAng="-5400000" swAng="5360260"/>
                          <a:lnTo>
                            <a:pt x="10800" y="10800"/>
                          </a:lnTo>
                          <a:close/>
                        </a:path>
                        <a:path fill="none" w="21600" h="21600">
                          <a:moveTo>
                            <a:pt x="10800" y="0"/>
                          </a:moveTo>
                          <a:arcTo wR="10800" hR="10800" stAng="-5400000" swAng="5360260"/>
                        </a:path>
                      </a:pathLst>
                    </a:custGeom>
                    <a:noFill/>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525480" y="3487680"/>
                      <a:ext cx="1647720" cy="275040"/>
                    </a:xfrm>
                    <a:custGeom>
                      <a:avLst/>
                      <a:gdLst/>
                      <a:ahLst/>
                      <a:rect l="l" t="t" r="r" b="b"/>
                      <a:pathLst>
                        <a:path stroke="0" w="21600" h="21600">
                          <a:moveTo>
                            <a:pt x="1" y="10675"/>
                          </a:moveTo>
                          <a:arcTo wR="10800" hR="10800" stAng="-10760259" swAng="5360259"/>
                          <a:lnTo>
                            <a:pt x="10800" y="10800"/>
                          </a:lnTo>
                          <a:close/>
                        </a:path>
                        <a:path fill="none" w="21600" h="21600">
                          <a:moveTo>
                            <a:pt x="1" y="10675"/>
                          </a:moveTo>
                          <a:arcTo wR="10800" hR="10800" stAng="-10760259" swAng="5360259"/>
                        </a:path>
                      </a:pathLst>
                    </a:cu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5" name=""/>
                <p:cNvSpPr/>
                <p:nvPr/>
              </p:nvSpPr>
              <p:spPr>
                <a:xfrm>
                  <a:off x="2928600" y="349020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grpSp>
        </p:grpSp>
      </p:grpSp>
      <p:sp>
        <p:nvSpPr>
          <p:cNvPr id="816"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8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Systems L (leu, ile, phe, val) &amp; xc- (cys, glu)</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8" name=""/>
          <p:cNvSpPr/>
          <p:nvPr/>
        </p:nvSpPr>
        <p:spPr>
          <a:xfrm>
            <a:off x="1220760" y="5321160"/>
            <a:ext cx="77709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membrane potential drives accumulation of cationic amino acids by a mechanism of facilitated diffusion.</a:t>
            </a:r>
            <a:endParaRPr b="0" lang="en-US" sz="2000" spc="-1" strike="noStrike">
              <a:solidFill>
                <a:srgbClr val="000000"/>
              </a:solidFill>
              <a:latin typeface="Times New Roman"/>
            </a:endParaRPr>
          </a:p>
        </p:txBody>
      </p:sp>
      <p:sp>
        <p:nvSpPr>
          <p:cNvPr id="8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 y+ (lys, his, arg)</a:t>
            </a:r>
            <a:endParaRPr b="1" lang="en-US" sz="3200" spc="-1" strike="noStrike">
              <a:solidFill>
                <a:srgbClr val="fafd00"/>
              </a:solidFill>
              <a:latin typeface="Arial"/>
            </a:endParaRPr>
          </a:p>
        </p:txBody>
      </p:sp>
      <p:grpSp>
        <p:nvGrpSpPr>
          <p:cNvPr id="820" name=""/>
          <p:cNvGrpSpPr/>
          <p:nvPr/>
        </p:nvGrpSpPr>
        <p:grpSpPr>
          <a:xfrm>
            <a:off x="1737360" y="825480"/>
            <a:ext cx="6187320" cy="4202640"/>
            <a:chOff x="1737360" y="825480"/>
            <a:chExt cx="6187320" cy="4202640"/>
          </a:xfrm>
        </p:grpSpPr>
        <p:grpSp>
          <p:nvGrpSpPr>
            <p:cNvPr id="821" name=""/>
            <p:cNvGrpSpPr/>
            <p:nvPr/>
          </p:nvGrpSpPr>
          <p:grpSpPr>
            <a:xfrm>
              <a:off x="1737360" y="825480"/>
              <a:ext cx="1763640" cy="4202640"/>
              <a:chOff x="1737360" y="825480"/>
              <a:chExt cx="1763640" cy="4202640"/>
            </a:xfrm>
          </p:grpSpPr>
          <p:sp>
            <p:nvSpPr>
              <p:cNvPr id="822" name=""/>
              <p:cNvSpPr/>
              <p:nvPr/>
            </p:nvSpPr>
            <p:spPr>
              <a:xfrm>
                <a:off x="2668320" y="1822320"/>
                <a:ext cx="0" cy="228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964160" y="120636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824" name=""/>
              <p:cNvSpPr/>
              <p:nvPr/>
            </p:nvSpPr>
            <p:spPr>
              <a:xfrm>
                <a:off x="1737720" y="15872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25" name=""/>
              <p:cNvSpPr/>
              <p:nvPr/>
            </p:nvSpPr>
            <p:spPr>
              <a:xfrm>
                <a:off x="2880720" y="15872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26" name=""/>
              <p:cNvSpPr/>
              <p:nvPr/>
            </p:nvSpPr>
            <p:spPr>
              <a:xfrm>
                <a:off x="2346120" y="825480"/>
                <a:ext cx="68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Geneva"/>
                  </a:rPr>
                  <a:t> </a:t>
                </a:r>
                <a:endParaRPr b="0" lang="en-US" sz="2000" spc="-1" strike="noStrike">
                  <a:solidFill>
                    <a:srgbClr val="000000"/>
                  </a:solidFill>
                  <a:latin typeface="Times New Roman"/>
                </a:endParaRPr>
              </a:p>
            </p:txBody>
          </p:sp>
          <p:sp>
            <p:nvSpPr>
              <p:cNvPr id="827" name=""/>
              <p:cNvSpPr/>
              <p:nvPr/>
            </p:nvSpPr>
            <p:spPr>
              <a:xfrm>
                <a:off x="1737360" y="408600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grpSp>
          <p:nvGrpSpPr>
            <p:cNvPr id="828" name=""/>
            <p:cNvGrpSpPr/>
            <p:nvPr/>
          </p:nvGrpSpPr>
          <p:grpSpPr>
            <a:xfrm>
              <a:off x="6078600" y="1746000"/>
              <a:ext cx="1563120" cy="2503440"/>
              <a:chOff x="6078600" y="1746000"/>
              <a:chExt cx="1563120" cy="2503440"/>
            </a:xfrm>
          </p:grpSpPr>
          <p:sp>
            <p:nvSpPr>
              <p:cNvPr id="829" name=""/>
              <p:cNvSpPr/>
              <p:nvPr/>
            </p:nvSpPr>
            <p:spPr>
              <a:xfrm>
                <a:off x="7134120" y="280800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1218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134120" y="2527200"/>
                <a:ext cx="8892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200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13268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4" name=""/>
              <p:cNvSpPr/>
              <p:nvPr/>
            </p:nvSpPr>
            <p:spPr>
              <a:xfrm>
                <a:off x="723564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340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35640" y="2527200"/>
                <a:ext cx="10188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6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3420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9" name=""/>
              <p:cNvSpPr/>
              <p:nvPr/>
            </p:nvSpPr>
            <p:spPr>
              <a:xfrm>
                <a:off x="73375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33752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3375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33608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33572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4" name=""/>
              <p:cNvSpPr/>
              <p:nvPr/>
            </p:nvSpPr>
            <p:spPr>
              <a:xfrm>
                <a:off x="74390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439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4390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43760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43724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9" name=""/>
              <p:cNvSpPr/>
              <p:nvPr/>
            </p:nvSpPr>
            <p:spPr>
              <a:xfrm>
                <a:off x="74390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439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390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43760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43724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54" name=""/>
              <p:cNvSpPr/>
              <p:nvPr/>
            </p:nvSpPr>
            <p:spPr>
              <a:xfrm>
                <a:off x="754056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056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959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0945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0959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0959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094520" y="326376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1" name=""/>
              <p:cNvSpPr/>
              <p:nvPr/>
            </p:nvSpPr>
            <p:spPr>
              <a:xfrm>
                <a:off x="721044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1960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21044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1974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2086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6" name=""/>
              <p:cNvSpPr/>
              <p:nvPr/>
            </p:nvSpPr>
            <p:spPr>
              <a:xfrm>
                <a:off x="73119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2979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3119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29972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310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1" name=""/>
              <p:cNvSpPr/>
              <p:nvPr/>
            </p:nvSpPr>
            <p:spPr>
              <a:xfrm>
                <a:off x="741348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3994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41348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40124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412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6" name=""/>
              <p:cNvSpPr/>
              <p:nvPr/>
            </p:nvSpPr>
            <p:spPr>
              <a:xfrm>
                <a:off x="741348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3994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41348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40124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412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1" name=""/>
              <p:cNvSpPr/>
              <p:nvPr/>
            </p:nvSpPr>
            <p:spPr>
              <a:xfrm>
                <a:off x="75153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513920" y="29210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5153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515720" y="320184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51356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6" name=""/>
              <p:cNvSpPr/>
              <p:nvPr/>
            </p:nvSpPr>
            <p:spPr>
              <a:xfrm>
                <a:off x="6732720" y="266040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1182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1182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11820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11640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1676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92" name=""/>
              <p:cNvSpPr/>
              <p:nvPr/>
            </p:nvSpPr>
            <p:spPr>
              <a:xfrm>
                <a:off x="62197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2200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2197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2182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218280" y="260316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97" name=""/>
              <p:cNvSpPr/>
              <p:nvPr/>
            </p:nvSpPr>
            <p:spPr>
              <a:xfrm>
                <a:off x="633420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32124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33420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3198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33240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02" name=""/>
              <p:cNvSpPr/>
              <p:nvPr/>
            </p:nvSpPr>
            <p:spPr>
              <a:xfrm>
                <a:off x="64357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42276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4357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42132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434280" y="260316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07" name=""/>
              <p:cNvSpPr/>
              <p:nvPr/>
            </p:nvSpPr>
            <p:spPr>
              <a:xfrm>
                <a:off x="65372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52500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372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232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53580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12" name=""/>
              <p:cNvSpPr/>
              <p:nvPr/>
            </p:nvSpPr>
            <p:spPr>
              <a:xfrm>
                <a:off x="663876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3876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63876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63696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63732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17" name=""/>
              <p:cNvSpPr/>
              <p:nvPr/>
            </p:nvSpPr>
            <p:spPr>
              <a:xfrm>
                <a:off x="6092640" y="29210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078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092640" y="320184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804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09120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22" name=""/>
              <p:cNvSpPr/>
              <p:nvPr/>
            </p:nvSpPr>
            <p:spPr>
              <a:xfrm>
                <a:off x="619452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193080" y="29210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1945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452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19272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27" name=""/>
              <p:cNvSpPr/>
              <p:nvPr/>
            </p:nvSpPr>
            <p:spPr>
              <a:xfrm>
                <a:off x="6296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294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296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2964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294240" y="327636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32" name=""/>
              <p:cNvSpPr/>
              <p:nvPr/>
            </p:nvSpPr>
            <p:spPr>
              <a:xfrm>
                <a:off x="6410160" y="29210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3961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10160" y="320184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39792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40872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37" name=""/>
              <p:cNvSpPr/>
              <p:nvPr/>
            </p:nvSpPr>
            <p:spPr>
              <a:xfrm>
                <a:off x="651204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4976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51204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4990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51024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42" name=""/>
              <p:cNvSpPr/>
              <p:nvPr/>
            </p:nvSpPr>
            <p:spPr>
              <a:xfrm>
                <a:off x="66135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59916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6135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60060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61176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947" name=""/>
              <p:cNvGrpSpPr/>
              <p:nvPr/>
            </p:nvGrpSpPr>
            <p:grpSpPr>
              <a:xfrm>
                <a:off x="6834240" y="1746000"/>
                <a:ext cx="141120" cy="2503440"/>
                <a:chOff x="6834240" y="1746000"/>
                <a:chExt cx="141120" cy="2503440"/>
              </a:xfrm>
            </p:grpSpPr>
            <p:sp>
              <p:nvSpPr>
                <p:cNvPr id="948" name=""/>
                <p:cNvSpPr/>
                <p:nvPr/>
              </p:nvSpPr>
              <p:spPr>
                <a:xfrm>
                  <a:off x="6834240" y="4057560"/>
                  <a:ext cx="141120" cy="191880"/>
                </a:xfrm>
                <a:custGeom>
                  <a:avLst/>
                  <a:gdLst/>
                  <a:ahLst/>
                  <a:rect l="l" t="t" r="r" b="b"/>
                  <a:pathLst>
                    <a:path w="89" h="121">
                      <a:moveTo>
                        <a:pt x="44" y="120"/>
                      </a:moveTo>
                      <a:lnTo>
                        <a:pt x="0" y="0"/>
                      </a:lnTo>
                      <a:lnTo>
                        <a:pt x="88" y="0"/>
                      </a:lnTo>
                      <a:lnTo>
                        <a:pt x="44"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910200" y="1746000"/>
                  <a:ext cx="0" cy="2400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50" name=""/>
            <p:cNvSpPr/>
            <p:nvPr/>
          </p:nvSpPr>
          <p:spPr>
            <a:xfrm>
              <a:off x="388116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951" name=""/>
            <p:cNvGrpSpPr/>
            <p:nvPr/>
          </p:nvGrpSpPr>
          <p:grpSpPr>
            <a:xfrm>
              <a:off x="5413320" y="1618920"/>
              <a:ext cx="456120" cy="2655720"/>
              <a:chOff x="5413320" y="1618920"/>
              <a:chExt cx="456120" cy="2655720"/>
            </a:xfrm>
          </p:grpSpPr>
          <p:sp>
            <p:nvSpPr>
              <p:cNvPr id="952" name=""/>
              <p:cNvSpPr/>
              <p:nvPr/>
            </p:nvSpPr>
            <p:spPr>
              <a:xfrm>
                <a:off x="5413320" y="1618920"/>
                <a:ext cx="44316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25560" y="177300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4206960" y="1618920"/>
              <a:ext cx="454680" cy="2655720"/>
              <a:chOff x="4206960" y="1618920"/>
              <a:chExt cx="454680" cy="2655720"/>
            </a:xfrm>
          </p:grpSpPr>
          <p:sp>
            <p:nvSpPr>
              <p:cNvPr id="955" name=""/>
              <p:cNvSpPr/>
              <p:nvPr/>
            </p:nvSpPr>
            <p:spPr>
              <a:xfrm>
                <a:off x="4217760" y="161892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206960" y="177300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398448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98448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98448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98268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98304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62" name=""/>
            <p:cNvSpPr/>
            <p:nvPr/>
          </p:nvSpPr>
          <p:spPr>
            <a:xfrm>
              <a:off x="387000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86856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860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08636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8600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08456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084560" y="2603520"/>
              <a:ext cx="1015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69" name=""/>
            <p:cNvSpPr/>
            <p:nvPr/>
          </p:nvSpPr>
          <p:spPr>
            <a:xfrm>
              <a:off x="420048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18752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20048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1860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19868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74" name=""/>
            <p:cNvSpPr/>
            <p:nvPr/>
          </p:nvSpPr>
          <p:spPr>
            <a:xfrm>
              <a:off x="430200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28904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30200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2876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300560" y="2603520"/>
              <a:ext cx="8856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79" name=""/>
            <p:cNvSpPr/>
            <p:nvPr/>
          </p:nvSpPr>
          <p:spPr>
            <a:xfrm>
              <a:off x="44035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3912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4035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3894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40208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4" name=""/>
            <p:cNvSpPr/>
            <p:nvPr/>
          </p:nvSpPr>
          <p:spPr>
            <a:xfrm>
              <a:off x="450504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5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505040" y="2527200"/>
              <a:ext cx="10188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50324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50360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9" name=""/>
            <p:cNvSpPr/>
            <p:nvPr/>
          </p:nvSpPr>
          <p:spPr>
            <a:xfrm>
              <a:off x="3958920" y="29084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94488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958920" y="320184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94668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95748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94" name=""/>
            <p:cNvSpPr/>
            <p:nvPr/>
          </p:nvSpPr>
          <p:spPr>
            <a:xfrm>
              <a:off x="406080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059360" y="29084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06080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06080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0590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99" name=""/>
            <p:cNvSpPr/>
            <p:nvPr/>
          </p:nvSpPr>
          <p:spPr>
            <a:xfrm>
              <a:off x="416232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160880" y="29084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1623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16232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160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04" name=""/>
            <p:cNvSpPr/>
            <p:nvPr/>
          </p:nvSpPr>
          <p:spPr>
            <a:xfrm>
              <a:off x="426384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26240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2638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2642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262400" y="326376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09" name=""/>
            <p:cNvSpPr/>
            <p:nvPr/>
          </p:nvSpPr>
          <p:spPr>
            <a:xfrm>
              <a:off x="4378320" y="29084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36392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7832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3653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76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4" name=""/>
            <p:cNvSpPr/>
            <p:nvPr/>
          </p:nvSpPr>
          <p:spPr>
            <a:xfrm>
              <a:off x="447984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46544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798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668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78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9" name=""/>
            <p:cNvSpPr/>
            <p:nvPr/>
          </p:nvSpPr>
          <p:spPr>
            <a:xfrm>
              <a:off x="4674960" y="2660400"/>
              <a:ext cx="66060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58468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57172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584680" y="25146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569920" y="25146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58324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25" name=""/>
            <p:cNvSpPr/>
            <p:nvPr/>
          </p:nvSpPr>
          <p:spPr>
            <a:xfrm>
              <a:off x="56862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7396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862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72160" y="25146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68476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0" name=""/>
            <p:cNvSpPr/>
            <p:nvPr/>
          </p:nvSpPr>
          <p:spPr>
            <a:xfrm>
              <a:off x="578772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88440" y="280800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787720" y="25146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78664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78628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5" name=""/>
            <p:cNvSpPr/>
            <p:nvPr/>
          </p:nvSpPr>
          <p:spPr>
            <a:xfrm>
              <a:off x="58896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8896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8896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88816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88780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0" name=""/>
            <p:cNvSpPr/>
            <p:nvPr/>
          </p:nvSpPr>
          <p:spPr>
            <a:xfrm>
              <a:off x="58896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8896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8896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88816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88780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5" name=""/>
            <p:cNvSpPr/>
            <p:nvPr/>
          </p:nvSpPr>
          <p:spPr>
            <a:xfrm>
              <a:off x="59911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914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99112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989680" y="25146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989320" y="259056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0" name=""/>
            <p:cNvSpPr/>
            <p:nvPr/>
          </p:nvSpPr>
          <p:spPr>
            <a:xfrm>
              <a:off x="5559120" y="29210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54508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559120" y="320184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54688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55768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5" name=""/>
            <p:cNvSpPr/>
            <p:nvPr/>
          </p:nvSpPr>
          <p:spPr>
            <a:xfrm>
              <a:off x="566100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46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66100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64804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6592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0" name=""/>
            <p:cNvSpPr/>
            <p:nvPr/>
          </p:nvSpPr>
          <p:spPr>
            <a:xfrm>
              <a:off x="576252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7481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7625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7495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607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5" name=""/>
            <p:cNvSpPr/>
            <p:nvPr/>
          </p:nvSpPr>
          <p:spPr>
            <a:xfrm>
              <a:off x="5864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86224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864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86404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8626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70" name=""/>
            <p:cNvSpPr/>
            <p:nvPr/>
          </p:nvSpPr>
          <p:spPr>
            <a:xfrm>
              <a:off x="5864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86224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864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86404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8626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75" name=""/>
            <p:cNvSpPr/>
            <p:nvPr/>
          </p:nvSpPr>
          <p:spPr>
            <a:xfrm>
              <a:off x="59655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96376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9655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96556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9641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080" name=""/>
            <p:cNvGrpSpPr/>
            <p:nvPr/>
          </p:nvGrpSpPr>
          <p:grpSpPr>
            <a:xfrm>
              <a:off x="4219560" y="3462120"/>
              <a:ext cx="1625040" cy="215640"/>
              <a:chOff x="4219560" y="3462120"/>
              <a:chExt cx="1625040" cy="215640"/>
            </a:xfrm>
          </p:grpSpPr>
          <p:sp>
            <p:nvSpPr>
              <p:cNvPr id="1081" name=""/>
              <p:cNvSpPr/>
              <p:nvPr/>
            </p:nvSpPr>
            <p:spPr>
              <a:xfrm>
                <a:off x="4219560" y="3462120"/>
                <a:ext cx="158688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257360" y="3462120"/>
                <a:ext cx="158724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4034160" y="1282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1084" name=""/>
            <p:cNvSpPr/>
            <p:nvPr/>
          </p:nvSpPr>
          <p:spPr>
            <a:xfrm>
              <a:off x="5253480" y="4330440"/>
              <a:ext cx="8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1085" name=""/>
            <p:cNvSpPr/>
            <p:nvPr/>
          </p:nvSpPr>
          <p:spPr>
            <a:xfrm>
              <a:off x="6006960" y="1054080"/>
              <a:ext cx="1841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cation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1086" name=""/>
            <p:cNvSpPr/>
            <p:nvPr/>
          </p:nvSpPr>
          <p:spPr>
            <a:xfrm>
              <a:off x="6083280" y="4178160"/>
              <a:ext cx="1841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cation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1087" name=""/>
            <p:cNvSpPr/>
            <p:nvPr/>
          </p:nvSpPr>
          <p:spPr>
            <a:xfrm>
              <a:off x="5581440" y="362988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sp>
          <p:nvSpPr>
            <p:cNvPr id="1088" name=""/>
            <p:cNvSpPr/>
            <p:nvPr/>
          </p:nvSpPr>
          <p:spPr>
            <a:xfrm>
              <a:off x="3787560" y="355356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grpSp>
      <p:sp>
        <p:nvSpPr>
          <p:cNvPr id="108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0" name=""/>
          <p:cNvGrpSpPr/>
          <p:nvPr/>
        </p:nvGrpSpPr>
        <p:grpSpPr>
          <a:xfrm>
            <a:off x="1216800" y="1905120"/>
            <a:ext cx="7774560" cy="4206600"/>
            <a:chOff x="1216800" y="1905120"/>
            <a:chExt cx="7774560" cy="4206600"/>
          </a:xfrm>
        </p:grpSpPr>
        <p:grpSp>
          <p:nvGrpSpPr>
            <p:cNvPr id="1091" name=""/>
            <p:cNvGrpSpPr/>
            <p:nvPr/>
          </p:nvGrpSpPr>
          <p:grpSpPr>
            <a:xfrm>
              <a:off x="2332440" y="1905120"/>
              <a:ext cx="3319200" cy="4206600"/>
              <a:chOff x="2332440" y="1905120"/>
              <a:chExt cx="3319200" cy="4206600"/>
            </a:xfrm>
          </p:grpSpPr>
          <p:sp>
            <p:nvSpPr>
              <p:cNvPr id="1092" name=""/>
              <p:cNvSpPr/>
              <p:nvPr/>
            </p:nvSpPr>
            <p:spPr>
              <a:xfrm>
                <a:off x="2332440" y="1905120"/>
                <a:ext cx="3319200" cy="4206600"/>
              </a:xfrm>
              <a:custGeom>
                <a:avLst/>
                <a:gdLst/>
                <a:ahLst/>
                <a:rect l="l" t="t" r="r" b="b"/>
                <a:pathLst>
                  <a:path w="2290" h="2650">
                    <a:moveTo>
                      <a:pt x="0" y="36"/>
                    </a:moveTo>
                    <a:lnTo>
                      <a:pt x="47" y="34"/>
                    </a:lnTo>
                    <a:lnTo>
                      <a:pt x="81" y="34"/>
                    </a:lnTo>
                    <a:lnTo>
                      <a:pt x="115" y="34"/>
                    </a:lnTo>
                    <a:lnTo>
                      <a:pt x="149" y="46"/>
                    </a:lnTo>
                    <a:lnTo>
                      <a:pt x="195" y="46"/>
                    </a:lnTo>
                    <a:lnTo>
                      <a:pt x="229" y="57"/>
                    </a:lnTo>
                    <a:lnTo>
                      <a:pt x="263" y="57"/>
                    </a:lnTo>
                    <a:lnTo>
                      <a:pt x="296" y="68"/>
                    </a:lnTo>
                    <a:lnTo>
                      <a:pt x="342" y="80"/>
                    </a:lnTo>
                    <a:lnTo>
                      <a:pt x="376" y="91"/>
                    </a:lnTo>
                    <a:lnTo>
                      <a:pt x="410" y="102"/>
                    </a:lnTo>
                    <a:lnTo>
                      <a:pt x="444" y="125"/>
                    </a:lnTo>
                    <a:lnTo>
                      <a:pt x="478" y="136"/>
                    </a:lnTo>
                    <a:lnTo>
                      <a:pt x="512" y="159"/>
                    </a:lnTo>
                    <a:lnTo>
                      <a:pt x="557" y="170"/>
                    </a:lnTo>
                    <a:lnTo>
                      <a:pt x="591" y="193"/>
                    </a:lnTo>
                    <a:lnTo>
                      <a:pt x="625" y="215"/>
                    </a:lnTo>
                    <a:lnTo>
                      <a:pt x="648" y="249"/>
                    </a:lnTo>
                    <a:lnTo>
                      <a:pt x="681" y="283"/>
                    </a:lnTo>
                    <a:lnTo>
                      <a:pt x="704" y="317"/>
                    </a:lnTo>
                    <a:lnTo>
                      <a:pt x="727" y="351"/>
                    </a:lnTo>
                    <a:lnTo>
                      <a:pt x="749" y="385"/>
                    </a:lnTo>
                    <a:lnTo>
                      <a:pt x="783" y="430"/>
                    </a:lnTo>
                    <a:lnTo>
                      <a:pt x="806" y="464"/>
                    </a:lnTo>
                    <a:lnTo>
                      <a:pt x="817" y="498"/>
                    </a:lnTo>
                    <a:lnTo>
                      <a:pt x="840" y="544"/>
                    </a:lnTo>
                    <a:lnTo>
                      <a:pt x="863" y="589"/>
                    </a:lnTo>
                    <a:lnTo>
                      <a:pt x="885" y="634"/>
                    </a:lnTo>
                    <a:lnTo>
                      <a:pt x="897" y="668"/>
                    </a:lnTo>
                    <a:lnTo>
                      <a:pt x="908" y="702"/>
                    </a:lnTo>
                    <a:lnTo>
                      <a:pt x="919" y="747"/>
                    </a:lnTo>
                    <a:lnTo>
                      <a:pt x="931" y="793"/>
                    </a:lnTo>
                    <a:lnTo>
                      <a:pt x="931" y="827"/>
                    </a:lnTo>
                    <a:lnTo>
                      <a:pt x="931" y="861"/>
                    </a:lnTo>
                    <a:lnTo>
                      <a:pt x="942" y="906"/>
                    </a:lnTo>
                    <a:lnTo>
                      <a:pt x="942" y="940"/>
                    </a:lnTo>
                    <a:lnTo>
                      <a:pt x="942" y="974"/>
                    </a:lnTo>
                    <a:lnTo>
                      <a:pt x="942" y="1008"/>
                    </a:lnTo>
                    <a:lnTo>
                      <a:pt x="942" y="1053"/>
                    </a:lnTo>
                    <a:lnTo>
                      <a:pt x="942" y="1087"/>
                    </a:lnTo>
                    <a:lnTo>
                      <a:pt x="942" y="1121"/>
                    </a:lnTo>
                    <a:lnTo>
                      <a:pt x="942" y="1166"/>
                    </a:lnTo>
                    <a:lnTo>
                      <a:pt x="942" y="1211"/>
                    </a:lnTo>
                    <a:lnTo>
                      <a:pt x="931" y="1245"/>
                    </a:lnTo>
                    <a:lnTo>
                      <a:pt x="931" y="1279"/>
                    </a:lnTo>
                    <a:lnTo>
                      <a:pt x="919" y="1325"/>
                    </a:lnTo>
                    <a:lnTo>
                      <a:pt x="919" y="1359"/>
                    </a:lnTo>
                    <a:lnTo>
                      <a:pt x="908" y="1393"/>
                    </a:lnTo>
                    <a:lnTo>
                      <a:pt x="897" y="1427"/>
                    </a:lnTo>
                    <a:lnTo>
                      <a:pt x="897" y="1472"/>
                    </a:lnTo>
                    <a:lnTo>
                      <a:pt x="885" y="1506"/>
                    </a:lnTo>
                    <a:lnTo>
                      <a:pt x="874" y="1540"/>
                    </a:lnTo>
                    <a:lnTo>
                      <a:pt x="863" y="1574"/>
                    </a:lnTo>
                    <a:lnTo>
                      <a:pt x="851" y="1608"/>
                    </a:lnTo>
                    <a:lnTo>
                      <a:pt x="851" y="1642"/>
                    </a:lnTo>
                    <a:lnTo>
                      <a:pt x="840" y="1676"/>
                    </a:lnTo>
                    <a:lnTo>
                      <a:pt x="829" y="1710"/>
                    </a:lnTo>
                    <a:lnTo>
                      <a:pt x="817" y="1743"/>
                    </a:lnTo>
                    <a:lnTo>
                      <a:pt x="817" y="1777"/>
                    </a:lnTo>
                    <a:lnTo>
                      <a:pt x="806" y="1811"/>
                    </a:lnTo>
                    <a:lnTo>
                      <a:pt x="795" y="1845"/>
                    </a:lnTo>
                    <a:lnTo>
                      <a:pt x="783" y="1891"/>
                    </a:lnTo>
                    <a:lnTo>
                      <a:pt x="783" y="1925"/>
                    </a:lnTo>
                    <a:lnTo>
                      <a:pt x="772" y="1959"/>
                    </a:lnTo>
                    <a:lnTo>
                      <a:pt x="761" y="1992"/>
                    </a:lnTo>
                    <a:lnTo>
                      <a:pt x="761" y="2026"/>
                    </a:lnTo>
                    <a:lnTo>
                      <a:pt x="761" y="2060"/>
                    </a:lnTo>
                    <a:lnTo>
                      <a:pt x="749" y="2094"/>
                    </a:lnTo>
                    <a:lnTo>
                      <a:pt x="749" y="2140"/>
                    </a:lnTo>
                    <a:lnTo>
                      <a:pt x="749" y="2174"/>
                    </a:lnTo>
                    <a:lnTo>
                      <a:pt x="749" y="2208"/>
                    </a:lnTo>
                    <a:lnTo>
                      <a:pt x="749" y="2241"/>
                    </a:lnTo>
                    <a:lnTo>
                      <a:pt x="749" y="2287"/>
                    </a:lnTo>
                    <a:lnTo>
                      <a:pt x="749" y="2321"/>
                    </a:lnTo>
                    <a:lnTo>
                      <a:pt x="749" y="2355"/>
                    </a:lnTo>
                    <a:lnTo>
                      <a:pt x="761" y="2389"/>
                    </a:lnTo>
                    <a:lnTo>
                      <a:pt x="772" y="2423"/>
                    </a:lnTo>
                    <a:lnTo>
                      <a:pt x="795" y="2457"/>
                    </a:lnTo>
                    <a:lnTo>
                      <a:pt x="817" y="2490"/>
                    </a:lnTo>
                    <a:lnTo>
                      <a:pt x="840" y="2524"/>
                    </a:lnTo>
                    <a:lnTo>
                      <a:pt x="874" y="2547"/>
                    </a:lnTo>
                    <a:lnTo>
                      <a:pt x="908" y="2570"/>
                    </a:lnTo>
                    <a:lnTo>
                      <a:pt x="942" y="2581"/>
                    </a:lnTo>
                    <a:lnTo>
                      <a:pt x="976" y="2604"/>
                    </a:lnTo>
                    <a:lnTo>
                      <a:pt x="1010" y="2615"/>
                    </a:lnTo>
                    <a:lnTo>
                      <a:pt x="1044" y="2615"/>
                    </a:lnTo>
                    <a:lnTo>
                      <a:pt x="1078" y="2615"/>
                    </a:lnTo>
                    <a:lnTo>
                      <a:pt x="1112" y="2604"/>
                    </a:lnTo>
                    <a:lnTo>
                      <a:pt x="1134" y="2570"/>
                    </a:lnTo>
                    <a:lnTo>
                      <a:pt x="1146" y="2536"/>
                    </a:lnTo>
                    <a:lnTo>
                      <a:pt x="1146" y="2502"/>
                    </a:lnTo>
                    <a:lnTo>
                      <a:pt x="1146" y="2468"/>
                    </a:lnTo>
                    <a:lnTo>
                      <a:pt x="1146" y="2434"/>
                    </a:lnTo>
                    <a:lnTo>
                      <a:pt x="1123" y="2400"/>
                    </a:lnTo>
                    <a:lnTo>
                      <a:pt x="1112" y="2366"/>
                    </a:lnTo>
                    <a:lnTo>
                      <a:pt x="1100" y="2332"/>
                    </a:lnTo>
                    <a:lnTo>
                      <a:pt x="1089" y="2298"/>
                    </a:lnTo>
                    <a:lnTo>
                      <a:pt x="1078" y="2264"/>
                    </a:lnTo>
                    <a:lnTo>
                      <a:pt x="1078" y="2230"/>
                    </a:lnTo>
                    <a:lnTo>
                      <a:pt x="1078" y="2196"/>
                    </a:lnTo>
                    <a:lnTo>
                      <a:pt x="1089" y="2162"/>
                    </a:lnTo>
                    <a:lnTo>
                      <a:pt x="1112" y="2128"/>
                    </a:lnTo>
                    <a:lnTo>
                      <a:pt x="1146" y="2106"/>
                    </a:lnTo>
                    <a:lnTo>
                      <a:pt x="1180" y="2083"/>
                    </a:lnTo>
                    <a:lnTo>
                      <a:pt x="1214" y="2083"/>
                    </a:lnTo>
                    <a:lnTo>
                      <a:pt x="1248" y="2083"/>
                    </a:lnTo>
                    <a:lnTo>
                      <a:pt x="1282" y="2083"/>
                    </a:lnTo>
                    <a:lnTo>
                      <a:pt x="1316" y="2117"/>
                    </a:lnTo>
                    <a:lnTo>
                      <a:pt x="1338" y="2151"/>
                    </a:lnTo>
                    <a:lnTo>
                      <a:pt x="1350" y="2185"/>
                    </a:lnTo>
                    <a:lnTo>
                      <a:pt x="1350" y="2219"/>
                    </a:lnTo>
                    <a:lnTo>
                      <a:pt x="1350" y="2253"/>
                    </a:lnTo>
                    <a:lnTo>
                      <a:pt x="1350" y="2287"/>
                    </a:lnTo>
                    <a:lnTo>
                      <a:pt x="1350" y="2321"/>
                    </a:lnTo>
                    <a:lnTo>
                      <a:pt x="1350" y="2355"/>
                    </a:lnTo>
                    <a:lnTo>
                      <a:pt x="1350" y="2389"/>
                    </a:lnTo>
                    <a:lnTo>
                      <a:pt x="1350" y="2423"/>
                    </a:lnTo>
                    <a:lnTo>
                      <a:pt x="1350" y="2457"/>
                    </a:lnTo>
                    <a:lnTo>
                      <a:pt x="1338" y="2490"/>
                    </a:lnTo>
                    <a:lnTo>
                      <a:pt x="1338" y="2524"/>
                    </a:lnTo>
                    <a:lnTo>
                      <a:pt x="1350" y="2558"/>
                    </a:lnTo>
                    <a:lnTo>
                      <a:pt x="1361" y="2592"/>
                    </a:lnTo>
                    <a:lnTo>
                      <a:pt x="1395" y="2615"/>
                    </a:lnTo>
                    <a:lnTo>
                      <a:pt x="1429" y="2626"/>
                    </a:lnTo>
                    <a:lnTo>
                      <a:pt x="1474" y="2649"/>
                    </a:lnTo>
                    <a:lnTo>
                      <a:pt x="1508" y="2649"/>
                    </a:lnTo>
                    <a:lnTo>
                      <a:pt x="1542" y="2649"/>
                    </a:lnTo>
                    <a:lnTo>
                      <a:pt x="1576" y="2649"/>
                    </a:lnTo>
                    <a:lnTo>
                      <a:pt x="1610" y="2649"/>
                    </a:lnTo>
                    <a:lnTo>
                      <a:pt x="1644" y="2626"/>
                    </a:lnTo>
                    <a:lnTo>
                      <a:pt x="1667" y="2592"/>
                    </a:lnTo>
                    <a:lnTo>
                      <a:pt x="1678" y="2558"/>
                    </a:lnTo>
                    <a:lnTo>
                      <a:pt x="1678" y="2524"/>
                    </a:lnTo>
                    <a:lnTo>
                      <a:pt x="1689" y="2490"/>
                    </a:lnTo>
                    <a:lnTo>
                      <a:pt x="1689" y="2445"/>
                    </a:lnTo>
                    <a:lnTo>
                      <a:pt x="1689" y="2411"/>
                    </a:lnTo>
                    <a:lnTo>
                      <a:pt x="1689" y="2377"/>
                    </a:lnTo>
                    <a:lnTo>
                      <a:pt x="1678" y="2343"/>
                    </a:lnTo>
                    <a:lnTo>
                      <a:pt x="1678" y="2309"/>
                    </a:lnTo>
                    <a:lnTo>
                      <a:pt x="1667" y="2275"/>
                    </a:lnTo>
                    <a:lnTo>
                      <a:pt x="1667" y="2241"/>
                    </a:lnTo>
                    <a:lnTo>
                      <a:pt x="1655" y="2208"/>
                    </a:lnTo>
                    <a:lnTo>
                      <a:pt x="1644" y="2174"/>
                    </a:lnTo>
                    <a:lnTo>
                      <a:pt x="1644" y="2140"/>
                    </a:lnTo>
                    <a:lnTo>
                      <a:pt x="1633" y="2106"/>
                    </a:lnTo>
                    <a:lnTo>
                      <a:pt x="1621" y="2060"/>
                    </a:lnTo>
                    <a:lnTo>
                      <a:pt x="1610" y="2026"/>
                    </a:lnTo>
                    <a:lnTo>
                      <a:pt x="1599" y="1992"/>
                    </a:lnTo>
                    <a:lnTo>
                      <a:pt x="1587" y="1959"/>
                    </a:lnTo>
                    <a:lnTo>
                      <a:pt x="1576" y="1925"/>
                    </a:lnTo>
                    <a:lnTo>
                      <a:pt x="1553" y="1879"/>
                    </a:lnTo>
                    <a:lnTo>
                      <a:pt x="1542" y="1845"/>
                    </a:lnTo>
                    <a:lnTo>
                      <a:pt x="1531" y="1811"/>
                    </a:lnTo>
                    <a:lnTo>
                      <a:pt x="1519" y="1777"/>
                    </a:lnTo>
                    <a:lnTo>
                      <a:pt x="1508" y="1743"/>
                    </a:lnTo>
                    <a:lnTo>
                      <a:pt x="1508" y="1710"/>
                    </a:lnTo>
                    <a:lnTo>
                      <a:pt x="1497" y="1676"/>
                    </a:lnTo>
                    <a:lnTo>
                      <a:pt x="1485" y="1630"/>
                    </a:lnTo>
                    <a:lnTo>
                      <a:pt x="1485" y="1596"/>
                    </a:lnTo>
                    <a:lnTo>
                      <a:pt x="1485" y="1562"/>
                    </a:lnTo>
                    <a:lnTo>
                      <a:pt x="1474" y="1528"/>
                    </a:lnTo>
                    <a:lnTo>
                      <a:pt x="1474" y="1494"/>
                    </a:lnTo>
                    <a:lnTo>
                      <a:pt x="1474" y="1449"/>
                    </a:lnTo>
                    <a:lnTo>
                      <a:pt x="1463" y="1415"/>
                    </a:lnTo>
                    <a:lnTo>
                      <a:pt x="1463" y="1359"/>
                    </a:lnTo>
                    <a:lnTo>
                      <a:pt x="1463" y="1313"/>
                    </a:lnTo>
                    <a:lnTo>
                      <a:pt x="1463" y="1268"/>
                    </a:lnTo>
                    <a:lnTo>
                      <a:pt x="1452" y="1234"/>
                    </a:lnTo>
                    <a:lnTo>
                      <a:pt x="1452" y="1189"/>
                    </a:lnTo>
                    <a:lnTo>
                      <a:pt x="1452" y="1155"/>
                    </a:lnTo>
                    <a:lnTo>
                      <a:pt x="1452" y="1110"/>
                    </a:lnTo>
                    <a:lnTo>
                      <a:pt x="1452" y="1076"/>
                    </a:lnTo>
                    <a:lnTo>
                      <a:pt x="1452" y="1042"/>
                    </a:lnTo>
                    <a:lnTo>
                      <a:pt x="1452" y="1008"/>
                    </a:lnTo>
                    <a:lnTo>
                      <a:pt x="1452" y="962"/>
                    </a:lnTo>
                    <a:lnTo>
                      <a:pt x="1452" y="929"/>
                    </a:lnTo>
                    <a:lnTo>
                      <a:pt x="1452" y="883"/>
                    </a:lnTo>
                    <a:lnTo>
                      <a:pt x="1452" y="849"/>
                    </a:lnTo>
                    <a:lnTo>
                      <a:pt x="1452" y="804"/>
                    </a:lnTo>
                    <a:lnTo>
                      <a:pt x="1452" y="770"/>
                    </a:lnTo>
                    <a:lnTo>
                      <a:pt x="1452" y="736"/>
                    </a:lnTo>
                    <a:lnTo>
                      <a:pt x="1452" y="691"/>
                    </a:lnTo>
                    <a:lnTo>
                      <a:pt x="1452" y="657"/>
                    </a:lnTo>
                    <a:lnTo>
                      <a:pt x="1452" y="623"/>
                    </a:lnTo>
                    <a:lnTo>
                      <a:pt x="1452" y="589"/>
                    </a:lnTo>
                    <a:lnTo>
                      <a:pt x="1463" y="555"/>
                    </a:lnTo>
                    <a:lnTo>
                      <a:pt x="1463" y="521"/>
                    </a:lnTo>
                    <a:lnTo>
                      <a:pt x="1474" y="487"/>
                    </a:lnTo>
                    <a:lnTo>
                      <a:pt x="1485" y="453"/>
                    </a:lnTo>
                    <a:lnTo>
                      <a:pt x="1497" y="419"/>
                    </a:lnTo>
                    <a:lnTo>
                      <a:pt x="1508" y="385"/>
                    </a:lnTo>
                    <a:lnTo>
                      <a:pt x="1519" y="351"/>
                    </a:lnTo>
                    <a:lnTo>
                      <a:pt x="1531" y="317"/>
                    </a:lnTo>
                    <a:lnTo>
                      <a:pt x="1553" y="283"/>
                    </a:lnTo>
                    <a:lnTo>
                      <a:pt x="1576" y="249"/>
                    </a:lnTo>
                    <a:lnTo>
                      <a:pt x="1587" y="215"/>
                    </a:lnTo>
                    <a:lnTo>
                      <a:pt x="1610" y="181"/>
                    </a:lnTo>
                    <a:lnTo>
                      <a:pt x="1644" y="148"/>
                    </a:lnTo>
                    <a:lnTo>
                      <a:pt x="1667" y="114"/>
                    </a:lnTo>
                    <a:lnTo>
                      <a:pt x="1701" y="102"/>
                    </a:lnTo>
                    <a:lnTo>
                      <a:pt x="1735" y="68"/>
                    </a:lnTo>
                    <a:lnTo>
                      <a:pt x="1769" y="46"/>
                    </a:lnTo>
                    <a:lnTo>
                      <a:pt x="1803" y="46"/>
                    </a:lnTo>
                    <a:lnTo>
                      <a:pt x="1837" y="23"/>
                    </a:lnTo>
                    <a:lnTo>
                      <a:pt x="1870" y="12"/>
                    </a:lnTo>
                    <a:lnTo>
                      <a:pt x="1904" y="12"/>
                    </a:lnTo>
                    <a:lnTo>
                      <a:pt x="1938" y="12"/>
                    </a:lnTo>
                    <a:lnTo>
                      <a:pt x="1984" y="0"/>
                    </a:lnTo>
                    <a:lnTo>
                      <a:pt x="2018" y="0"/>
                    </a:lnTo>
                    <a:lnTo>
                      <a:pt x="2052" y="0"/>
                    </a:lnTo>
                    <a:lnTo>
                      <a:pt x="2086" y="0"/>
                    </a:lnTo>
                    <a:lnTo>
                      <a:pt x="2120" y="0"/>
                    </a:lnTo>
                    <a:lnTo>
                      <a:pt x="2154" y="0"/>
                    </a:lnTo>
                    <a:lnTo>
                      <a:pt x="2188" y="0"/>
                    </a:lnTo>
                    <a:lnTo>
                      <a:pt x="2222" y="0"/>
                    </a:lnTo>
                    <a:lnTo>
                      <a:pt x="2255" y="0"/>
                    </a:lnTo>
                    <a:lnTo>
                      <a:pt x="2289" y="0"/>
                    </a:lnTo>
                  </a:path>
                </a:pathLst>
              </a:custGeom>
              <a:noFill/>
              <a:ln cap="rnd" w="3816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664440" y="3414600"/>
                <a:ext cx="756000" cy="1708200"/>
              </a:xfrm>
              <a:custGeom>
                <a:avLst/>
                <a:gdLst/>
                <a:ahLst/>
                <a:rect l="l" t="t" r="r" b="b"/>
                <a:pathLst>
                  <a:path w="522" h="1076">
                    <a:moveTo>
                      <a:pt x="137" y="45"/>
                    </a:moveTo>
                    <a:lnTo>
                      <a:pt x="170" y="91"/>
                    </a:lnTo>
                    <a:lnTo>
                      <a:pt x="170" y="125"/>
                    </a:lnTo>
                    <a:lnTo>
                      <a:pt x="170" y="159"/>
                    </a:lnTo>
                    <a:lnTo>
                      <a:pt x="170" y="193"/>
                    </a:lnTo>
                    <a:lnTo>
                      <a:pt x="159" y="227"/>
                    </a:lnTo>
                    <a:lnTo>
                      <a:pt x="159" y="260"/>
                    </a:lnTo>
                    <a:lnTo>
                      <a:pt x="148" y="294"/>
                    </a:lnTo>
                    <a:lnTo>
                      <a:pt x="148" y="328"/>
                    </a:lnTo>
                    <a:lnTo>
                      <a:pt x="136" y="362"/>
                    </a:lnTo>
                    <a:lnTo>
                      <a:pt x="136" y="396"/>
                    </a:lnTo>
                    <a:lnTo>
                      <a:pt x="125" y="430"/>
                    </a:lnTo>
                    <a:lnTo>
                      <a:pt x="125" y="464"/>
                    </a:lnTo>
                    <a:lnTo>
                      <a:pt x="114" y="498"/>
                    </a:lnTo>
                    <a:lnTo>
                      <a:pt x="114" y="532"/>
                    </a:lnTo>
                    <a:lnTo>
                      <a:pt x="102" y="566"/>
                    </a:lnTo>
                    <a:lnTo>
                      <a:pt x="91" y="600"/>
                    </a:lnTo>
                    <a:lnTo>
                      <a:pt x="80" y="634"/>
                    </a:lnTo>
                    <a:lnTo>
                      <a:pt x="68" y="668"/>
                    </a:lnTo>
                    <a:lnTo>
                      <a:pt x="57" y="702"/>
                    </a:lnTo>
                    <a:lnTo>
                      <a:pt x="46" y="736"/>
                    </a:lnTo>
                    <a:lnTo>
                      <a:pt x="34" y="770"/>
                    </a:lnTo>
                    <a:lnTo>
                      <a:pt x="34" y="804"/>
                    </a:lnTo>
                    <a:lnTo>
                      <a:pt x="23" y="838"/>
                    </a:lnTo>
                    <a:lnTo>
                      <a:pt x="12" y="872"/>
                    </a:lnTo>
                    <a:lnTo>
                      <a:pt x="12" y="906"/>
                    </a:lnTo>
                    <a:lnTo>
                      <a:pt x="0" y="940"/>
                    </a:lnTo>
                    <a:lnTo>
                      <a:pt x="0" y="974"/>
                    </a:lnTo>
                    <a:lnTo>
                      <a:pt x="0" y="1008"/>
                    </a:lnTo>
                    <a:lnTo>
                      <a:pt x="0" y="1041"/>
                    </a:lnTo>
                    <a:lnTo>
                      <a:pt x="34" y="1053"/>
                    </a:lnTo>
                    <a:lnTo>
                      <a:pt x="68" y="1075"/>
                    </a:lnTo>
                    <a:lnTo>
                      <a:pt x="102" y="1075"/>
                    </a:lnTo>
                    <a:lnTo>
                      <a:pt x="136" y="1075"/>
                    </a:lnTo>
                    <a:lnTo>
                      <a:pt x="170" y="1075"/>
                    </a:lnTo>
                    <a:lnTo>
                      <a:pt x="204" y="1075"/>
                    </a:lnTo>
                    <a:lnTo>
                      <a:pt x="238" y="1075"/>
                    </a:lnTo>
                    <a:lnTo>
                      <a:pt x="272" y="1075"/>
                    </a:lnTo>
                    <a:lnTo>
                      <a:pt x="306" y="1075"/>
                    </a:lnTo>
                    <a:lnTo>
                      <a:pt x="340" y="1075"/>
                    </a:lnTo>
                    <a:lnTo>
                      <a:pt x="374" y="1075"/>
                    </a:lnTo>
                    <a:lnTo>
                      <a:pt x="408" y="1075"/>
                    </a:lnTo>
                    <a:lnTo>
                      <a:pt x="442" y="1075"/>
                    </a:lnTo>
                    <a:lnTo>
                      <a:pt x="476" y="1075"/>
                    </a:lnTo>
                    <a:lnTo>
                      <a:pt x="510" y="1064"/>
                    </a:lnTo>
                    <a:lnTo>
                      <a:pt x="521" y="1030"/>
                    </a:lnTo>
                    <a:lnTo>
                      <a:pt x="521" y="996"/>
                    </a:lnTo>
                    <a:lnTo>
                      <a:pt x="521" y="962"/>
                    </a:lnTo>
                    <a:lnTo>
                      <a:pt x="510" y="928"/>
                    </a:lnTo>
                    <a:lnTo>
                      <a:pt x="499" y="894"/>
                    </a:lnTo>
                    <a:lnTo>
                      <a:pt x="499" y="860"/>
                    </a:lnTo>
                    <a:lnTo>
                      <a:pt x="487" y="826"/>
                    </a:lnTo>
                    <a:lnTo>
                      <a:pt x="476" y="792"/>
                    </a:lnTo>
                    <a:lnTo>
                      <a:pt x="465" y="759"/>
                    </a:lnTo>
                    <a:lnTo>
                      <a:pt x="465" y="725"/>
                    </a:lnTo>
                    <a:lnTo>
                      <a:pt x="453" y="691"/>
                    </a:lnTo>
                    <a:lnTo>
                      <a:pt x="453" y="657"/>
                    </a:lnTo>
                    <a:lnTo>
                      <a:pt x="453" y="623"/>
                    </a:lnTo>
                    <a:lnTo>
                      <a:pt x="442" y="589"/>
                    </a:lnTo>
                    <a:lnTo>
                      <a:pt x="442" y="555"/>
                    </a:lnTo>
                    <a:lnTo>
                      <a:pt x="442" y="521"/>
                    </a:lnTo>
                    <a:lnTo>
                      <a:pt x="442" y="487"/>
                    </a:lnTo>
                    <a:lnTo>
                      <a:pt x="431" y="453"/>
                    </a:lnTo>
                    <a:lnTo>
                      <a:pt x="431" y="419"/>
                    </a:lnTo>
                    <a:lnTo>
                      <a:pt x="431" y="385"/>
                    </a:lnTo>
                    <a:lnTo>
                      <a:pt x="431" y="351"/>
                    </a:lnTo>
                    <a:lnTo>
                      <a:pt x="431" y="317"/>
                    </a:lnTo>
                    <a:lnTo>
                      <a:pt x="431" y="283"/>
                    </a:lnTo>
                    <a:lnTo>
                      <a:pt x="431" y="249"/>
                    </a:lnTo>
                    <a:lnTo>
                      <a:pt x="431" y="215"/>
                    </a:lnTo>
                    <a:lnTo>
                      <a:pt x="431" y="181"/>
                    </a:lnTo>
                    <a:lnTo>
                      <a:pt x="419" y="147"/>
                    </a:lnTo>
                    <a:lnTo>
                      <a:pt x="408" y="113"/>
                    </a:lnTo>
                    <a:lnTo>
                      <a:pt x="385" y="79"/>
                    </a:lnTo>
                    <a:lnTo>
                      <a:pt x="363" y="45"/>
                    </a:lnTo>
                    <a:lnTo>
                      <a:pt x="329" y="23"/>
                    </a:lnTo>
                    <a:lnTo>
                      <a:pt x="295" y="11"/>
                    </a:lnTo>
                    <a:lnTo>
                      <a:pt x="261" y="0"/>
                    </a:lnTo>
                    <a:lnTo>
                      <a:pt x="227" y="0"/>
                    </a:lnTo>
                    <a:lnTo>
                      <a:pt x="193" y="0"/>
                    </a:lnTo>
                    <a:lnTo>
                      <a:pt x="137" y="45"/>
                    </a:lnTo>
                    <a:lnTo>
                      <a:pt x="137" y="45"/>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5672160" y="1905120"/>
              <a:ext cx="3319200" cy="4206600"/>
              <a:chOff x="5672160" y="1905120"/>
              <a:chExt cx="3319200" cy="4206600"/>
            </a:xfrm>
          </p:grpSpPr>
          <p:sp>
            <p:nvSpPr>
              <p:cNvPr id="1095" name=""/>
              <p:cNvSpPr/>
              <p:nvPr/>
            </p:nvSpPr>
            <p:spPr>
              <a:xfrm>
                <a:off x="5672160" y="1905120"/>
                <a:ext cx="3319200" cy="4206600"/>
              </a:xfrm>
              <a:custGeom>
                <a:avLst/>
                <a:gdLst/>
                <a:ahLst/>
                <a:rect l="l" t="t" r="r" b="b"/>
                <a:pathLst>
                  <a:path w="2290" h="2650">
                    <a:moveTo>
                      <a:pt x="0" y="36"/>
                    </a:moveTo>
                    <a:lnTo>
                      <a:pt x="47" y="34"/>
                    </a:lnTo>
                    <a:lnTo>
                      <a:pt x="81" y="34"/>
                    </a:lnTo>
                    <a:lnTo>
                      <a:pt x="115" y="34"/>
                    </a:lnTo>
                    <a:lnTo>
                      <a:pt x="149" y="46"/>
                    </a:lnTo>
                    <a:lnTo>
                      <a:pt x="195" y="46"/>
                    </a:lnTo>
                    <a:lnTo>
                      <a:pt x="229" y="57"/>
                    </a:lnTo>
                    <a:lnTo>
                      <a:pt x="263" y="57"/>
                    </a:lnTo>
                    <a:lnTo>
                      <a:pt x="296" y="68"/>
                    </a:lnTo>
                    <a:lnTo>
                      <a:pt x="342" y="80"/>
                    </a:lnTo>
                    <a:lnTo>
                      <a:pt x="376" y="91"/>
                    </a:lnTo>
                    <a:lnTo>
                      <a:pt x="410" y="102"/>
                    </a:lnTo>
                    <a:lnTo>
                      <a:pt x="444" y="125"/>
                    </a:lnTo>
                    <a:lnTo>
                      <a:pt x="478" y="136"/>
                    </a:lnTo>
                    <a:lnTo>
                      <a:pt x="512" y="159"/>
                    </a:lnTo>
                    <a:lnTo>
                      <a:pt x="557" y="170"/>
                    </a:lnTo>
                    <a:lnTo>
                      <a:pt x="591" y="193"/>
                    </a:lnTo>
                    <a:lnTo>
                      <a:pt x="625" y="215"/>
                    </a:lnTo>
                    <a:lnTo>
                      <a:pt x="648" y="249"/>
                    </a:lnTo>
                    <a:lnTo>
                      <a:pt x="681" y="283"/>
                    </a:lnTo>
                    <a:lnTo>
                      <a:pt x="704" y="317"/>
                    </a:lnTo>
                    <a:lnTo>
                      <a:pt x="727" y="351"/>
                    </a:lnTo>
                    <a:lnTo>
                      <a:pt x="749" y="385"/>
                    </a:lnTo>
                    <a:lnTo>
                      <a:pt x="783" y="430"/>
                    </a:lnTo>
                    <a:lnTo>
                      <a:pt x="806" y="464"/>
                    </a:lnTo>
                    <a:lnTo>
                      <a:pt x="817" y="498"/>
                    </a:lnTo>
                    <a:lnTo>
                      <a:pt x="840" y="544"/>
                    </a:lnTo>
                    <a:lnTo>
                      <a:pt x="863" y="589"/>
                    </a:lnTo>
                    <a:lnTo>
                      <a:pt x="885" y="634"/>
                    </a:lnTo>
                    <a:lnTo>
                      <a:pt x="897" y="668"/>
                    </a:lnTo>
                    <a:lnTo>
                      <a:pt x="908" y="702"/>
                    </a:lnTo>
                    <a:lnTo>
                      <a:pt x="919" y="747"/>
                    </a:lnTo>
                    <a:lnTo>
                      <a:pt x="931" y="793"/>
                    </a:lnTo>
                    <a:lnTo>
                      <a:pt x="931" y="827"/>
                    </a:lnTo>
                    <a:lnTo>
                      <a:pt x="931" y="861"/>
                    </a:lnTo>
                    <a:lnTo>
                      <a:pt x="942" y="906"/>
                    </a:lnTo>
                    <a:lnTo>
                      <a:pt x="942" y="940"/>
                    </a:lnTo>
                    <a:lnTo>
                      <a:pt x="942" y="974"/>
                    </a:lnTo>
                    <a:lnTo>
                      <a:pt x="942" y="1008"/>
                    </a:lnTo>
                    <a:lnTo>
                      <a:pt x="942" y="1053"/>
                    </a:lnTo>
                    <a:lnTo>
                      <a:pt x="942" y="1087"/>
                    </a:lnTo>
                    <a:lnTo>
                      <a:pt x="942" y="1121"/>
                    </a:lnTo>
                    <a:lnTo>
                      <a:pt x="942" y="1166"/>
                    </a:lnTo>
                    <a:lnTo>
                      <a:pt x="942" y="1211"/>
                    </a:lnTo>
                    <a:lnTo>
                      <a:pt x="931" y="1245"/>
                    </a:lnTo>
                    <a:lnTo>
                      <a:pt x="931" y="1279"/>
                    </a:lnTo>
                    <a:lnTo>
                      <a:pt x="919" y="1325"/>
                    </a:lnTo>
                    <a:lnTo>
                      <a:pt x="919" y="1359"/>
                    </a:lnTo>
                    <a:lnTo>
                      <a:pt x="908" y="1393"/>
                    </a:lnTo>
                    <a:lnTo>
                      <a:pt x="897" y="1427"/>
                    </a:lnTo>
                    <a:lnTo>
                      <a:pt x="897" y="1472"/>
                    </a:lnTo>
                    <a:lnTo>
                      <a:pt x="885" y="1506"/>
                    </a:lnTo>
                    <a:lnTo>
                      <a:pt x="874" y="1540"/>
                    </a:lnTo>
                    <a:lnTo>
                      <a:pt x="863" y="1574"/>
                    </a:lnTo>
                    <a:lnTo>
                      <a:pt x="851" y="1608"/>
                    </a:lnTo>
                    <a:lnTo>
                      <a:pt x="851" y="1642"/>
                    </a:lnTo>
                    <a:lnTo>
                      <a:pt x="840" y="1676"/>
                    </a:lnTo>
                    <a:lnTo>
                      <a:pt x="829" y="1710"/>
                    </a:lnTo>
                    <a:lnTo>
                      <a:pt x="817" y="1743"/>
                    </a:lnTo>
                    <a:lnTo>
                      <a:pt x="817" y="1777"/>
                    </a:lnTo>
                    <a:lnTo>
                      <a:pt x="806" y="1811"/>
                    </a:lnTo>
                    <a:lnTo>
                      <a:pt x="795" y="1845"/>
                    </a:lnTo>
                    <a:lnTo>
                      <a:pt x="783" y="1891"/>
                    </a:lnTo>
                    <a:lnTo>
                      <a:pt x="783" y="1925"/>
                    </a:lnTo>
                    <a:lnTo>
                      <a:pt x="772" y="1959"/>
                    </a:lnTo>
                    <a:lnTo>
                      <a:pt x="761" y="1992"/>
                    </a:lnTo>
                    <a:lnTo>
                      <a:pt x="761" y="2026"/>
                    </a:lnTo>
                    <a:lnTo>
                      <a:pt x="761" y="2060"/>
                    </a:lnTo>
                    <a:lnTo>
                      <a:pt x="749" y="2094"/>
                    </a:lnTo>
                    <a:lnTo>
                      <a:pt x="749" y="2140"/>
                    </a:lnTo>
                    <a:lnTo>
                      <a:pt x="749" y="2174"/>
                    </a:lnTo>
                    <a:lnTo>
                      <a:pt x="749" y="2208"/>
                    </a:lnTo>
                    <a:lnTo>
                      <a:pt x="749" y="2241"/>
                    </a:lnTo>
                    <a:lnTo>
                      <a:pt x="749" y="2287"/>
                    </a:lnTo>
                    <a:lnTo>
                      <a:pt x="749" y="2321"/>
                    </a:lnTo>
                    <a:lnTo>
                      <a:pt x="749" y="2355"/>
                    </a:lnTo>
                    <a:lnTo>
                      <a:pt x="761" y="2389"/>
                    </a:lnTo>
                    <a:lnTo>
                      <a:pt x="772" y="2423"/>
                    </a:lnTo>
                    <a:lnTo>
                      <a:pt x="795" y="2457"/>
                    </a:lnTo>
                    <a:lnTo>
                      <a:pt x="817" y="2490"/>
                    </a:lnTo>
                    <a:lnTo>
                      <a:pt x="840" y="2524"/>
                    </a:lnTo>
                    <a:lnTo>
                      <a:pt x="874" y="2547"/>
                    </a:lnTo>
                    <a:lnTo>
                      <a:pt x="908" y="2570"/>
                    </a:lnTo>
                    <a:lnTo>
                      <a:pt x="942" y="2581"/>
                    </a:lnTo>
                    <a:lnTo>
                      <a:pt x="976" y="2604"/>
                    </a:lnTo>
                    <a:lnTo>
                      <a:pt x="1010" y="2615"/>
                    </a:lnTo>
                    <a:lnTo>
                      <a:pt x="1044" y="2615"/>
                    </a:lnTo>
                    <a:lnTo>
                      <a:pt x="1078" y="2615"/>
                    </a:lnTo>
                    <a:lnTo>
                      <a:pt x="1112" y="2604"/>
                    </a:lnTo>
                    <a:lnTo>
                      <a:pt x="1134" y="2570"/>
                    </a:lnTo>
                    <a:lnTo>
                      <a:pt x="1146" y="2536"/>
                    </a:lnTo>
                    <a:lnTo>
                      <a:pt x="1146" y="2502"/>
                    </a:lnTo>
                    <a:lnTo>
                      <a:pt x="1146" y="2468"/>
                    </a:lnTo>
                    <a:lnTo>
                      <a:pt x="1146" y="2434"/>
                    </a:lnTo>
                    <a:lnTo>
                      <a:pt x="1123" y="2400"/>
                    </a:lnTo>
                    <a:lnTo>
                      <a:pt x="1112" y="2366"/>
                    </a:lnTo>
                    <a:lnTo>
                      <a:pt x="1100" y="2332"/>
                    </a:lnTo>
                    <a:lnTo>
                      <a:pt x="1089" y="2298"/>
                    </a:lnTo>
                    <a:lnTo>
                      <a:pt x="1078" y="2264"/>
                    </a:lnTo>
                    <a:lnTo>
                      <a:pt x="1078" y="2230"/>
                    </a:lnTo>
                    <a:lnTo>
                      <a:pt x="1078" y="2196"/>
                    </a:lnTo>
                    <a:lnTo>
                      <a:pt x="1089" y="2162"/>
                    </a:lnTo>
                    <a:lnTo>
                      <a:pt x="1112" y="2128"/>
                    </a:lnTo>
                    <a:lnTo>
                      <a:pt x="1146" y="2106"/>
                    </a:lnTo>
                    <a:lnTo>
                      <a:pt x="1180" y="2083"/>
                    </a:lnTo>
                    <a:lnTo>
                      <a:pt x="1214" y="2083"/>
                    </a:lnTo>
                    <a:lnTo>
                      <a:pt x="1248" y="2083"/>
                    </a:lnTo>
                    <a:lnTo>
                      <a:pt x="1282" y="2083"/>
                    </a:lnTo>
                    <a:lnTo>
                      <a:pt x="1316" y="2117"/>
                    </a:lnTo>
                    <a:lnTo>
                      <a:pt x="1338" y="2151"/>
                    </a:lnTo>
                    <a:lnTo>
                      <a:pt x="1350" y="2185"/>
                    </a:lnTo>
                    <a:lnTo>
                      <a:pt x="1350" y="2219"/>
                    </a:lnTo>
                    <a:lnTo>
                      <a:pt x="1350" y="2253"/>
                    </a:lnTo>
                    <a:lnTo>
                      <a:pt x="1350" y="2287"/>
                    </a:lnTo>
                    <a:lnTo>
                      <a:pt x="1350" y="2321"/>
                    </a:lnTo>
                    <a:lnTo>
                      <a:pt x="1350" y="2355"/>
                    </a:lnTo>
                    <a:lnTo>
                      <a:pt x="1350" y="2389"/>
                    </a:lnTo>
                    <a:lnTo>
                      <a:pt x="1350" y="2423"/>
                    </a:lnTo>
                    <a:lnTo>
                      <a:pt x="1350" y="2457"/>
                    </a:lnTo>
                    <a:lnTo>
                      <a:pt x="1338" y="2490"/>
                    </a:lnTo>
                    <a:lnTo>
                      <a:pt x="1338" y="2524"/>
                    </a:lnTo>
                    <a:lnTo>
                      <a:pt x="1350" y="2558"/>
                    </a:lnTo>
                    <a:lnTo>
                      <a:pt x="1361" y="2592"/>
                    </a:lnTo>
                    <a:lnTo>
                      <a:pt x="1395" y="2615"/>
                    </a:lnTo>
                    <a:lnTo>
                      <a:pt x="1429" y="2626"/>
                    </a:lnTo>
                    <a:lnTo>
                      <a:pt x="1474" y="2649"/>
                    </a:lnTo>
                    <a:lnTo>
                      <a:pt x="1508" y="2649"/>
                    </a:lnTo>
                    <a:lnTo>
                      <a:pt x="1542" y="2649"/>
                    </a:lnTo>
                    <a:lnTo>
                      <a:pt x="1576" y="2649"/>
                    </a:lnTo>
                    <a:lnTo>
                      <a:pt x="1610" y="2649"/>
                    </a:lnTo>
                    <a:lnTo>
                      <a:pt x="1644" y="2626"/>
                    </a:lnTo>
                    <a:lnTo>
                      <a:pt x="1667" y="2592"/>
                    </a:lnTo>
                    <a:lnTo>
                      <a:pt x="1678" y="2558"/>
                    </a:lnTo>
                    <a:lnTo>
                      <a:pt x="1678" y="2524"/>
                    </a:lnTo>
                    <a:lnTo>
                      <a:pt x="1689" y="2490"/>
                    </a:lnTo>
                    <a:lnTo>
                      <a:pt x="1689" y="2445"/>
                    </a:lnTo>
                    <a:lnTo>
                      <a:pt x="1689" y="2411"/>
                    </a:lnTo>
                    <a:lnTo>
                      <a:pt x="1689" y="2377"/>
                    </a:lnTo>
                    <a:lnTo>
                      <a:pt x="1678" y="2343"/>
                    </a:lnTo>
                    <a:lnTo>
                      <a:pt x="1678" y="2309"/>
                    </a:lnTo>
                    <a:lnTo>
                      <a:pt x="1667" y="2275"/>
                    </a:lnTo>
                    <a:lnTo>
                      <a:pt x="1667" y="2241"/>
                    </a:lnTo>
                    <a:lnTo>
                      <a:pt x="1655" y="2208"/>
                    </a:lnTo>
                    <a:lnTo>
                      <a:pt x="1644" y="2174"/>
                    </a:lnTo>
                    <a:lnTo>
                      <a:pt x="1644" y="2140"/>
                    </a:lnTo>
                    <a:lnTo>
                      <a:pt x="1633" y="2106"/>
                    </a:lnTo>
                    <a:lnTo>
                      <a:pt x="1621" y="2060"/>
                    </a:lnTo>
                    <a:lnTo>
                      <a:pt x="1610" y="2026"/>
                    </a:lnTo>
                    <a:lnTo>
                      <a:pt x="1599" y="1992"/>
                    </a:lnTo>
                    <a:lnTo>
                      <a:pt x="1587" y="1959"/>
                    </a:lnTo>
                    <a:lnTo>
                      <a:pt x="1576" y="1925"/>
                    </a:lnTo>
                    <a:lnTo>
                      <a:pt x="1553" y="1879"/>
                    </a:lnTo>
                    <a:lnTo>
                      <a:pt x="1542" y="1845"/>
                    </a:lnTo>
                    <a:lnTo>
                      <a:pt x="1531" y="1811"/>
                    </a:lnTo>
                    <a:lnTo>
                      <a:pt x="1519" y="1777"/>
                    </a:lnTo>
                    <a:lnTo>
                      <a:pt x="1508" y="1743"/>
                    </a:lnTo>
                    <a:lnTo>
                      <a:pt x="1508" y="1710"/>
                    </a:lnTo>
                    <a:lnTo>
                      <a:pt x="1497" y="1676"/>
                    </a:lnTo>
                    <a:lnTo>
                      <a:pt x="1485" y="1630"/>
                    </a:lnTo>
                    <a:lnTo>
                      <a:pt x="1485" y="1596"/>
                    </a:lnTo>
                    <a:lnTo>
                      <a:pt x="1485" y="1562"/>
                    </a:lnTo>
                    <a:lnTo>
                      <a:pt x="1474" y="1528"/>
                    </a:lnTo>
                    <a:lnTo>
                      <a:pt x="1474" y="1494"/>
                    </a:lnTo>
                    <a:lnTo>
                      <a:pt x="1474" y="1449"/>
                    </a:lnTo>
                    <a:lnTo>
                      <a:pt x="1463" y="1415"/>
                    </a:lnTo>
                    <a:lnTo>
                      <a:pt x="1463" y="1359"/>
                    </a:lnTo>
                    <a:lnTo>
                      <a:pt x="1463" y="1313"/>
                    </a:lnTo>
                    <a:lnTo>
                      <a:pt x="1463" y="1268"/>
                    </a:lnTo>
                    <a:lnTo>
                      <a:pt x="1452" y="1234"/>
                    </a:lnTo>
                    <a:lnTo>
                      <a:pt x="1452" y="1189"/>
                    </a:lnTo>
                    <a:lnTo>
                      <a:pt x="1452" y="1155"/>
                    </a:lnTo>
                    <a:lnTo>
                      <a:pt x="1452" y="1110"/>
                    </a:lnTo>
                    <a:lnTo>
                      <a:pt x="1452" y="1076"/>
                    </a:lnTo>
                    <a:lnTo>
                      <a:pt x="1452" y="1042"/>
                    </a:lnTo>
                    <a:lnTo>
                      <a:pt x="1452" y="1008"/>
                    </a:lnTo>
                    <a:lnTo>
                      <a:pt x="1452" y="962"/>
                    </a:lnTo>
                    <a:lnTo>
                      <a:pt x="1452" y="929"/>
                    </a:lnTo>
                    <a:lnTo>
                      <a:pt x="1452" y="883"/>
                    </a:lnTo>
                    <a:lnTo>
                      <a:pt x="1452" y="849"/>
                    </a:lnTo>
                    <a:lnTo>
                      <a:pt x="1452" y="804"/>
                    </a:lnTo>
                    <a:lnTo>
                      <a:pt x="1452" y="770"/>
                    </a:lnTo>
                    <a:lnTo>
                      <a:pt x="1452" y="736"/>
                    </a:lnTo>
                    <a:lnTo>
                      <a:pt x="1452" y="691"/>
                    </a:lnTo>
                    <a:lnTo>
                      <a:pt x="1452" y="657"/>
                    </a:lnTo>
                    <a:lnTo>
                      <a:pt x="1452" y="623"/>
                    </a:lnTo>
                    <a:lnTo>
                      <a:pt x="1452" y="589"/>
                    </a:lnTo>
                    <a:lnTo>
                      <a:pt x="1463" y="555"/>
                    </a:lnTo>
                    <a:lnTo>
                      <a:pt x="1463" y="521"/>
                    </a:lnTo>
                    <a:lnTo>
                      <a:pt x="1474" y="487"/>
                    </a:lnTo>
                    <a:lnTo>
                      <a:pt x="1485" y="453"/>
                    </a:lnTo>
                    <a:lnTo>
                      <a:pt x="1497" y="419"/>
                    </a:lnTo>
                    <a:lnTo>
                      <a:pt x="1508" y="385"/>
                    </a:lnTo>
                    <a:lnTo>
                      <a:pt x="1519" y="351"/>
                    </a:lnTo>
                    <a:lnTo>
                      <a:pt x="1531" y="317"/>
                    </a:lnTo>
                    <a:lnTo>
                      <a:pt x="1553" y="283"/>
                    </a:lnTo>
                    <a:lnTo>
                      <a:pt x="1576" y="249"/>
                    </a:lnTo>
                    <a:lnTo>
                      <a:pt x="1587" y="215"/>
                    </a:lnTo>
                    <a:lnTo>
                      <a:pt x="1610" y="181"/>
                    </a:lnTo>
                    <a:lnTo>
                      <a:pt x="1644" y="148"/>
                    </a:lnTo>
                    <a:lnTo>
                      <a:pt x="1667" y="114"/>
                    </a:lnTo>
                    <a:lnTo>
                      <a:pt x="1701" y="102"/>
                    </a:lnTo>
                    <a:lnTo>
                      <a:pt x="1735" y="68"/>
                    </a:lnTo>
                    <a:lnTo>
                      <a:pt x="1769" y="46"/>
                    </a:lnTo>
                    <a:lnTo>
                      <a:pt x="1803" y="46"/>
                    </a:lnTo>
                    <a:lnTo>
                      <a:pt x="1837" y="23"/>
                    </a:lnTo>
                    <a:lnTo>
                      <a:pt x="1870" y="12"/>
                    </a:lnTo>
                    <a:lnTo>
                      <a:pt x="1904" y="12"/>
                    </a:lnTo>
                    <a:lnTo>
                      <a:pt x="1938" y="12"/>
                    </a:lnTo>
                    <a:lnTo>
                      <a:pt x="1984" y="0"/>
                    </a:lnTo>
                    <a:lnTo>
                      <a:pt x="2018" y="0"/>
                    </a:lnTo>
                    <a:lnTo>
                      <a:pt x="2052" y="0"/>
                    </a:lnTo>
                    <a:lnTo>
                      <a:pt x="2086" y="0"/>
                    </a:lnTo>
                    <a:lnTo>
                      <a:pt x="2120" y="0"/>
                    </a:lnTo>
                    <a:lnTo>
                      <a:pt x="2154" y="0"/>
                    </a:lnTo>
                    <a:lnTo>
                      <a:pt x="2188" y="0"/>
                    </a:lnTo>
                    <a:lnTo>
                      <a:pt x="2222" y="0"/>
                    </a:lnTo>
                    <a:lnTo>
                      <a:pt x="2255" y="0"/>
                    </a:lnTo>
                    <a:lnTo>
                      <a:pt x="2289" y="0"/>
                    </a:lnTo>
                  </a:path>
                </a:pathLst>
              </a:custGeom>
              <a:noFill/>
              <a:ln cap="rnd" w="3816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04160" y="3338640"/>
                <a:ext cx="756000" cy="1707840"/>
              </a:xfrm>
              <a:custGeom>
                <a:avLst/>
                <a:gdLst/>
                <a:ahLst/>
                <a:rect l="l" t="t" r="r" b="b"/>
                <a:pathLst>
                  <a:path w="522" h="1076">
                    <a:moveTo>
                      <a:pt x="137" y="45"/>
                    </a:moveTo>
                    <a:lnTo>
                      <a:pt x="170" y="91"/>
                    </a:lnTo>
                    <a:lnTo>
                      <a:pt x="170" y="125"/>
                    </a:lnTo>
                    <a:lnTo>
                      <a:pt x="170" y="159"/>
                    </a:lnTo>
                    <a:lnTo>
                      <a:pt x="170" y="193"/>
                    </a:lnTo>
                    <a:lnTo>
                      <a:pt x="159" y="227"/>
                    </a:lnTo>
                    <a:lnTo>
                      <a:pt x="159" y="260"/>
                    </a:lnTo>
                    <a:lnTo>
                      <a:pt x="148" y="294"/>
                    </a:lnTo>
                    <a:lnTo>
                      <a:pt x="148" y="328"/>
                    </a:lnTo>
                    <a:lnTo>
                      <a:pt x="136" y="362"/>
                    </a:lnTo>
                    <a:lnTo>
                      <a:pt x="136" y="396"/>
                    </a:lnTo>
                    <a:lnTo>
                      <a:pt x="125" y="430"/>
                    </a:lnTo>
                    <a:lnTo>
                      <a:pt x="125" y="464"/>
                    </a:lnTo>
                    <a:lnTo>
                      <a:pt x="114" y="498"/>
                    </a:lnTo>
                    <a:lnTo>
                      <a:pt x="114" y="532"/>
                    </a:lnTo>
                    <a:lnTo>
                      <a:pt x="102" y="566"/>
                    </a:lnTo>
                    <a:lnTo>
                      <a:pt x="91" y="600"/>
                    </a:lnTo>
                    <a:lnTo>
                      <a:pt x="80" y="634"/>
                    </a:lnTo>
                    <a:lnTo>
                      <a:pt x="68" y="668"/>
                    </a:lnTo>
                    <a:lnTo>
                      <a:pt x="57" y="702"/>
                    </a:lnTo>
                    <a:lnTo>
                      <a:pt x="46" y="736"/>
                    </a:lnTo>
                    <a:lnTo>
                      <a:pt x="34" y="770"/>
                    </a:lnTo>
                    <a:lnTo>
                      <a:pt x="34" y="804"/>
                    </a:lnTo>
                    <a:lnTo>
                      <a:pt x="23" y="838"/>
                    </a:lnTo>
                    <a:lnTo>
                      <a:pt x="12" y="872"/>
                    </a:lnTo>
                    <a:lnTo>
                      <a:pt x="12" y="906"/>
                    </a:lnTo>
                    <a:lnTo>
                      <a:pt x="0" y="940"/>
                    </a:lnTo>
                    <a:lnTo>
                      <a:pt x="0" y="974"/>
                    </a:lnTo>
                    <a:lnTo>
                      <a:pt x="0" y="1008"/>
                    </a:lnTo>
                    <a:lnTo>
                      <a:pt x="0" y="1041"/>
                    </a:lnTo>
                    <a:lnTo>
                      <a:pt x="34" y="1053"/>
                    </a:lnTo>
                    <a:lnTo>
                      <a:pt x="68" y="1075"/>
                    </a:lnTo>
                    <a:lnTo>
                      <a:pt x="102" y="1075"/>
                    </a:lnTo>
                    <a:lnTo>
                      <a:pt x="136" y="1075"/>
                    </a:lnTo>
                    <a:lnTo>
                      <a:pt x="170" y="1075"/>
                    </a:lnTo>
                    <a:lnTo>
                      <a:pt x="204" y="1075"/>
                    </a:lnTo>
                    <a:lnTo>
                      <a:pt x="238" y="1075"/>
                    </a:lnTo>
                    <a:lnTo>
                      <a:pt x="272" y="1075"/>
                    </a:lnTo>
                    <a:lnTo>
                      <a:pt x="306" y="1075"/>
                    </a:lnTo>
                    <a:lnTo>
                      <a:pt x="340" y="1075"/>
                    </a:lnTo>
                    <a:lnTo>
                      <a:pt x="374" y="1075"/>
                    </a:lnTo>
                    <a:lnTo>
                      <a:pt x="408" y="1075"/>
                    </a:lnTo>
                    <a:lnTo>
                      <a:pt x="442" y="1075"/>
                    </a:lnTo>
                    <a:lnTo>
                      <a:pt x="476" y="1075"/>
                    </a:lnTo>
                    <a:lnTo>
                      <a:pt x="510" y="1064"/>
                    </a:lnTo>
                    <a:lnTo>
                      <a:pt x="521" y="1030"/>
                    </a:lnTo>
                    <a:lnTo>
                      <a:pt x="521" y="996"/>
                    </a:lnTo>
                    <a:lnTo>
                      <a:pt x="521" y="962"/>
                    </a:lnTo>
                    <a:lnTo>
                      <a:pt x="510" y="928"/>
                    </a:lnTo>
                    <a:lnTo>
                      <a:pt x="499" y="894"/>
                    </a:lnTo>
                    <a:lnTo>
                      <a:pt x="499" y="860"/>
                    </a:lnTo>
                    <a:lnTo>
                      <a:pt x="487" y="826"/>
                    </a:lnTo>
                    <a:lnTo>
                      <a:pt x="476" y="792"/>
                    </a:lnTo>
                    <a:lnTo>
                      <a:pt x="465" y="759"/>
                    </a:lnTo>
                    <a:lnTo>
                      <a:pt x="465" y="725"/>
                    </a:lnTo>
                    <a:lnTo>
                      <a:pt x="453" y="691"/>
                    </a:lnTo>
                    <a:lnTo>
                      <a:pt x="453" y="657"/>
                    </a:lnTo>
                    <a:lnTo>
                      <a:pt x="453" y="623"/>
                    </a:lnTo>
                    <a:lnTo>
                      <a:pt x="442" y="589"/>
                    </a:lnTo>
                    <a:lnTo>
                      <a:pt x="442" y="555"/>
                    </a:lnTo>
                    <a:lnTo>
                      <a:pt x="442" y="521"/>
                    </a:lnTo>
                    <a:lnTo>
                      <a:pt x="442" y="487"/>
                    </a:lnTo>
                    <a:lnTo>
                      <a:pt x="431" y="453"/>
                    </a:lnTo>
                    <a:lnTo>
                      <a:pt x="431" y="419"/>
                    </a:lnTo>
                    <a:lnTo>
                      <a:pt x="431" y="385"/>
                    </a:lnTo>
                    <a:lnTo>
                      <a:pt x="431" y="351"/>
                    </a:lnTo>
                    <a:lnTo>
                      <a:pt x="431" y="317"/>
                    </a:lnTo>
                    <a:lnTo>
                      <a:pt x="431" y="283"/>
                    </a:lnTo>
                    <a:lnTo>
                      <a:pt x="431" y="249"/>
                    </a:lnTo>
                    <a:lnTo>
                      <a:pt x="431" y="215"/>
                    </a:lnTo>
                    <a:lnTo>
                      <a:pt x="431" y="181"/>
                    </a:lnTo>
                    <a:lnTo>
                      <a:pt x="419" y="147"/>
                    </a:lnTo>
                    <a:lnTo>
                      <a:pt x="408" y="113"/>
                    </a:lnTo>
                    <a:lnTo>
                      <a:pt x="385" y="79"/>
                    </a:lnTo>
                    <a:lnTo>
                      <a:pt x="363" y="45"/>
                    </a:lnTo>
                    <a:lnTo>
                      <a:pt x="329" y="23"/>
                    </a:lnTo>
                    <a:lnTo>
                      <a:pt x="295" y="11"/>
                    </a:lnTo>
                    <a:lnTo>
                      <a:pt x="261" y="0"/>
                    </a:lnTo>
                    <a:lnTo>
                      <a:pt x="227" y="0"/>
                    </a:lnTo>
                    <a:lnTo>
                      <a:pt x="193" y="0"/>
                    </a:lnTo>
                    <a:lnTo>
                      <a:pt x="137" y="45"/>
                    </a:lnTo>
                    <a:lnTo>
                      <a:pt x="137" y="45"/>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216800" y="2971800"/>
              <a:ext cx="2378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te of CYS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RNA expression</a:t>
              </a:r>
              <a:endParaRPr b="0" lang="en-US" sz="2000" spc="-1" strike="noStrike">
                <a:solidFill>
                  <a:srgbClr val="000000"/>
                </a:solidFill>
                <a:latin typeface="Times New Roman"/>
              </a:endParaRPr>
            </a:p>
          </p:txBody>
        </p:sp>
        <p:sp>
          <p:nvSpPr>
            <p:cNvPr id="1098" name=""/>
            <p:cNvSpPr/>
            <p:nvPr/>
          </p:nvSpPr>
          <p:spPr>
            <a:xfrm>
              <a:off x="4694400" y="2895480"/>
              <a:ext cx="21646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te of cyste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ptake into fibre</a:t>
              </a:r>
              <a:endParaRPr b="0" lang="en-US" sz="2000" spc="-1" strike="noStrike">
                <a:solidFill>
                  <a:srgbClr val="000000"/>
                </a:solidFill>
                <a:latin typeface="Times New Roman"/>
              </a:endParaRPr>
            </a:p>
          </p:txBody>
        </p:sp>
      </p:grpSp>
      <p:sp>
        <p:nvSpPr>
          <p:cNvPr id="109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te of expression of mRNA for a follicle cysteine transpor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3:42:24Z</dcterms:created>
  <dc:creator>USER</dc:creator>
  <dc:description/>
  <dc:language>en-US</dc:language>
  <cp:lastModifiedBy>Hdaily</cp:lastModifiedBy>
  <cp:lastPrinted>2000-02-03T09:09:47Z</cp:lastPrinted>
  <dcterms:modified xsi:type="dcterms:W3CDTF">2000-06-09T06:28:39Z</dcterms:modified>
  <cp:revision>4</cp:revision>
  <dc:subject/>
  <dc:title>Transport of Specific Amino Acids into Cells</dc:title>
</cp:coreProperties>
</file>