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6DC16-4D1A-4887-8A0F-C29E09BA4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F167-C2B8-4BD1-8C46-D8B4F54A8F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 name="PlaceHolder 1"/>
          <p:cNvSpPr>
            <a:spLocks noGrp="1"/>
          </p:cNvSpPr>
          <p:nvPr>
            <p:ph type="sldImg"/>
          </p:nvPr>
        </p:nvSpPr>
        <p:spPr>
          <a:xfrm>
            <a:off x="1562040" y="533520"/>
            <a:ext cx="3657600" cy="2743200"/>
          </a:xfrm>
          <a:prstGeom prst="rect">
            <a:avLst/>
          </a:prstGeom>
          <a:ln w="0">
            <a:noFill/>
          </a:ln>
        </p:spPr>
      </p:sp>
      <p:sp>
        <p:nvSpPr>
          <p:cNvPr id="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ool and hair follicles have high requirements for energy and amino acids to maintain their very high rate of cell division and protein synthesis and yet skin (and therefore the follicles) receives a highly variable supply of blood and oxygen.  The skin and follicles have therefore developed some interesting features of energy metabolism to cope with this variation.  The major energy substrates are glucose and glutamine.  Glucose is metabolised by aerobic and anaerobic pathways, whereas glutamine is metabolised by glutaminolysis.  There is also a store of glycogen in the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ogen predominantly occurs in the outer root sheath of hair follicles in adult mammals.  The concentration of glycogen in the skin and hair follicle is influenced by the wound status, proliferative activity and nutrition of the tissu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distribution of glycogen during the follicle cy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Rachel Smith, The University of Western Australi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986B-5CDB-4C74-801C-1C3803870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1"/>
          <p:cNvSpPr>
            <a:spLocks noGrp="1"/>
          </p:cNvSpPr>
          <p:nvPr>
            <p:ph type="sldImg"/>
          </p:nvPr>
        </p:nvSpPr>
        <p:spPr>
          <a:xfrm>
            <a:off x="1562040" y="533520"/>
            <a:ext cx="3657600" cy="2743200"/>
          </a:xfrm>
          <a:prstGeom prst="rect">
            <a:avLst/>
          </a:prstGeom>
          <a:ln w="0">
            <a:noFill/>
          </a:ln>
        </p:spPr>
      </p:sp>
      <p:sp>
        <p:nvSpPr>
          <p:cNvPr id="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Rachel Smith, The University of Western Australia.</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Glycogen concentration in the follicle is strongly correlated with proliferative activity related to the inherent follicle cycle.  In mouse skin, the glycogen store disappears from the outer root sheath during catagen as the vascularity of the follicle decreases and remains absent during telogen.  Glycogen begins to reappear during the phase of active mitosis concomitant with follicle reformation during early anagen.  Glycogen concentration is maximal during the late stages of anagen when fibre production has commenced.  At this time, the outer root sheath cells are laden with glycogen and small amounts of glycogen are apparent in the unkeratinised regions of the cuticle, cortex and medulla .  Glycogen fluctuations during the follicle cycle are species dependent.  The outer root sheath of the telogen follicle in mouse, rat and rabbit does not contain glycogen .  In comparison, glycogen is apparent in human and primate telogen follicles although it is reduced to about one-tenth of the concentration of anagen follicles in these speci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ogen and the Hair Cy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Rachel Smith, The University of Western Australia.</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7979760" y="6507000"/>
            <a:ext cx="10890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Rachel Smith</a:t>
            </a:r>
            <a:endParaRPr b="0" lang="en-US" sz="1200" spc="-1" strike="noStrike">
              <a:solidFill>
                <a:srgbClr val="000000"/>
              </a:solidFill>
              <a:latin typeface="Times New Roman"/>
            </a:endParaRPr>
          </a:p>
        </p:txBody>
      </p:sp>
      <p:sp>
        <p:nvSpPr>
          <p:cNvPr id="5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ogen dynamics during the inherent follicle cycle</a:t>
            </a:r>
            <a:endParaRPr b="1" lang="en-US" sz="3200" spc="-1" strike="noStrike">
              <a:solidFill>
                <a:srgbClr val="fafd00"/>
              </a:solidFill>
              <a:latin typeface="Arial"/>
            </a:endParaRPr>
          </a:p>
        </p:txBody>
      </p:sp>
      <p:sp>
        <p:nvSpPr>
          <p:cNvPr id="51"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nagen I-II</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ittle glycogen present</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nagen III</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periphery of ORS cells</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nagen IV-VI </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lycogen increases</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catagen </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lycogen disappears suddenly</a:t>
            </a:r>
            <a:endParaRPr b="1" lang="en-US" sz="2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elogen </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 glycogen present</a:t>
            </a:r>
            <a:endParaRPr b="1"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4:45:16Z</dcterms:created>
  <dc:creator>USER</dc:creator>
  <dc:description/>
  <dc:language>en-US</dc:language>
  <cp:lastModifiedBy>Hdaily</cp:lastModifiedBy>
  <cp:lastPrinted>2000-02-03T09:09:47Z</cp:lastPrinted>
  <dcterms:modified xsi:type="dcterms:W3CDTF">2000-05-30T04:46:35Z</dcterms:modified>
  <cp:revision>2</cp:revision>
  <dc:subject/>
  <dc:title>Glycogen and the Hair Cycle</dc:title>
</cp:coreProperties>
</file>