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0A04-6C12-4444-8DBD-62A8C703C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0B23-94D3-4442-B7F2-91AB9490A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6200" y="8705880"/>
            <a:ext cx="2971800" cy="4255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Times New Roman"/>
            </a:endParaRPr>
          </a:p>
        </p:txBody>
      </p:sp>
      <p:sp>
        <p:nvSpPr>
          <p:cNvPr id="157"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8704440"/>
            <a:ext cx="2971800" cy="4251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Times New Roman"/>
            </a:endParaRPr>
          </a:p>
        </p:txBody>
      </p:sp>
      <p:sp>
        <p:nvSpPr>
          <p:cNvPr id="161"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interaction between local and systemic control agents on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interaction between local and systemic control of the follicle cycle in the rodent.  When a flap of skin from the mid flank of a rat is excised and rotated through 90-180</a:t>
            </a:r>
            <a:r>
              <a:rPr b="0" lang="en-AU" sz="1200" spc="-1" strike="noStrike" baseline="30000">
                <a:solidFill>
                  <a:srgbClr val="000000"/>
                </a:solidFill>
                <a:latin typeface="Times New Roman"/>
              </a:rPr>
              <a:t>o</a:t>
            </a:r>
            <a:r>
              <a:rPr b="0" lang="en-AU" sz="1200" spc="-1" strike="noStrike">
                <a:solidFill>
                  <a:srgbClr val="000000"/>
                </a:solidFill>
                <a:latin typeface="Times New Roman"/>
              </a:rPr>
              <a:t>, it will continue to shed its hair fibres in the original direction for some time.  Even grafts between animals of different ages retain the moult pattern of the donor animal.  This indicates that there is local factors controlling the follicle cycle.  However, in both cases the hair cycles eventually come into phase with the surrounding skin of the recipient animal indicating systemic contr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at follicles have an intrinsic, rhythmic behaviour which is modulated by systemic fact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
        <p:nvSpPr>
          <p:cNvPr id="52"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cal Versus Systemic Control of the Follicle Cy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stemic vs local control of the follicle cycle</a:t>
            </a:r>
            <a:endParaRPr b="1" lang="en-US" sz="3200" spc="-1" strike="noStrike">
              <a:solidFill>
                <a:srgbClr val="fafd00"/>
              </a:solidFill>
              <a:latin typeface="Arial"/>
            </a:endParaRPr>
          </a:p>
        </p:txBody>
      </p:sp>
      <p:grpSp>
        <p:nvGrpSpPr>
          <p:cNvPr id="54" name=""/>
          <p:cNvGrpSpPr/>
          <p:nvPr/>
        </p:nvGrpSpPr>
        <p:grpSpPr>
          <a:xfrm>
            <a:off x="1203480" y="1247760"/>
            <a:ext cx="1142640" cy="3428640"/>
            <a:chOff x="1203480" y="1247760"/>
            <a:chExt cx="1142640" cy="3428640"/>
          </a:xfrm>
        </p:grpSpPr>
        <p:grpSp>
          <p:nvGrpSpPr>
            <p:cNvPr id="55" name=""/>
            <p:cNvGrpSpPr/>
            <p:nvPr/>
          </p:nvGrpSpPr>
          <p:grpSpPr>
            <a:xfrm>
              <a:off x="1203480" y="1247760"/>
              <a:ext cx="1142640" cy="3428640"/>
              <a:chOff x="1203480" y="1247760"/>
              <a:chExt cx="1142640" cy="3428640"/>
            </a:xfrm>
          </p:grpSpPr>
          <p:sp>
            <p:nvSpPr>
              <p:cNvPr id="56" name=""/>
              <p:cNvSpPr/>
              <p:nvPr/>
            </p:nvSpPr>
            <p:spPr>
              <a:xfrm flipH="1">
                <a:off x="1546200" y="291024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03480" y="176760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488960" y="124776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 name=""/>
            <p:cNvSpPr/>
            <p:nvPr/>
          </p:nvSpPr>
          <p:spPr>
            <a:xfrm rot="1369200">
              <a:off x="1507680" y="2009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1369200">
              <a:off x="1736280" y="2009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369200">
              <a:off x="1964880" y="2009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369200">
              <a:off x="1507680" y="29242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69200">
              <a:off x="1888920" y="23907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1369200">
              <a:off x="1279080" y="2238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369200">
              <a:off x="1736280" y="30002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69200">
              <a:off x="1964880" y="29242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369200">
              <a:off x="1355400" y="28479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369200">
              <a:off x="2117520" y="21621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08040" y="2238480"/>
              <a:ext cx="533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369200">
              <a:off x="1507680" y="26193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69200">
              <a:off x="1736280" y="26193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369200">
              <a:off x="1888920" y="26956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369200">
              <a:off x="1507680" y="2238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369200">
              <a:off x="1812600" y="2238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369200">
              <a:off x="1660320" y="23907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1369200">
              <a:off x="2117520" y="2467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369200">
              <a:off x="1355400" y="25430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3352680" y="1219320"/>
            <a:ext cx="1142640" cy="3428640"/>
            <a:chOff x="3352680" y="1219320"/>
            <a:chExt cx="1142640" cy="3428640"/>
          </a:xfrm>
        </p:grpSpPr>
        <p:grpSp>
          <p:nvGrpSpPr>
            <p:cNvPr id="79" name=""/>
            <p:cNvGrpSpPr/>
            <p:nvPr/>
          </p:nvGrpSpPr>
          <p:grpSpPr>
            <a:xfrm>
              <a:off x="3352680" y="1219320"/>
              <a:ext cx="1142640" cy="3428640"/>
              <a:chOff x="3352680" y="1219320"/>
              <a:chExt cx="1142640" cy="3428640"/>
            </a:xfrm>
          </p:grpSpPr>
          <p:sp>
            <p:nvSpPr>
              <p:cNvPr id="80" name=""/>
              <p:cNvSpPr/>
              <p:nvPr/>
            </p:nvSpPr>
            <p:spPr>
              <a:xfrm flipH="1">
                <a:off x="3695400" y="288180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173916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38160" y="121932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rot="1369200">
              <a:off x="3656880" y="1981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369200">
              <a:off x="3885480" y="1981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369200">
              <a:off x="4114080" y="1981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369200">
              <a:off x="3656880" y="2895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369200">
              <a:off x="3428280" y="22096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369200">
              <a:off x="3885480" y="297180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369200">
              <a:off x="4114080" y="28954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369200">
              <a:off x="3504600" y="28195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369200">
              <a:off x="4266720" y="21337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3657240" y="2203560"/>
              <a:ext cx="574920" cy="697320"/>
              <a:chOff x="3657240" y="2203560"/>
              <a:chExt cx="574920" cy="697320"/>
            </a:xfrm>
          </p:grpSpPr>
          <p:sp>
            <p:nvSpPr>
              <p:cNvPr id="93" name=""/>
              <p:cNvSpPr/>
              <p:nvPr/>
            </p:nvSpPr>
            <p:spPr>
              <a:xfrm rot="10800000">
                <a:off x="3657240" y="2209320"/>
                <a:ext cx="533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2169200">
                <a:off x="4114440" y="22849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2169200">
                <a:off x="3885840" y="22849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2169200">
                <a:off x="3733560" y="22089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2169200">
                <a:off x="4114440" y="26661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2169200">
                <a:off x="3809520" y="26661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2169200">
                <a:off x="3962160" y="25135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rot="1369200">
              <a:off x="4266720" y="24382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369200">
              <a:off x="3504600" y="251460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5410080" y="1219320"/>
            <a:ext cx="1142640" cy="3428640"/>
            <a:chOff x="5410080" y="1219320"/>
            <a:chExt cx="1142640" cy="3428640"/>
          </a:xfrm>
        </p:grpSpPr>
        <p:grpSp>
          <p:nvGrpSpPr>
            <p:cNvPr id="103" name=""/>
            <p:cNvGrpSpPr/>
            <p:nvPr/>
          </p:nvGrpSpPr>
          <p:grpSpPr>
            <a:xfrm>
              <a:off x="5410080" y="1219320"/>
              <a:ext cx="1142640" cy="3428640"/>
              <a:chOff x="5410080" y="1219320"/>
              <a:chExt cx="1142640" cy="3428640"/>
            </a:xfrm>
          </p:grpSpPr>
          <p:sp>
            <p:nvSpPr>
              <p:cNvPr id="104" name=""/>
              <p:cNvSpPr/>
              <p:nvPr/>
            </p:nvSpPr>
            <p:spPr>
              <a:xfrm flipH="1">
                <a:off x="5752800" y="288180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173916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95560" y="121932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rot="1369200">
              <a:off x="5714640" y="1981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69200">
              <a:off x="5943240" y="1981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369200">
              <a:off x="6171840" y="1981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rot="1369200">
              <a:off x="5714640" y="28954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369200">
              <a:off x="5486040" y="22096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369200">
              <a:off x="5943240" y="297180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369200">
              <a:off x="6171840" y="28954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1369200">
              <a:off x="5562000" y="28195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369200">
              <a:off x="6324120" y="21337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0800000">
              <a:off x="5714640" y="2209320"/>
              <a:ext cx="5331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2169200">
              <a:off x="6170400" y="2283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2169200">
              <a:off x="5941800" y="2283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2169200">
              <a:off x="5789520" y="22075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2169200">
              <a:off x="6170400" y="26647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2169200">
              <a:off x="5865480" y="26647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2169200">
              <a:off x="6018120" y="2512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1369200">
              <a:off x="6324120" y="24382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369200">
              <a:off x="5562000" y="251460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7543800" y="1219320"/>
            <a:ext cx="1142640" cy="3428640"/>
            <a:chOff x="7543800" y="1219320"/>
            <a:chExt cx="1142640" cy="3428640"/>
          </a:xfrm>
        </p:grpSpPr>
        <p:grpSp>
          <p:nvGrpSpPr>
            <p:cNvPr id="126" name=""/>
            <p:cNvGrpSpPr/>
            <p:nvPr/>
          </p:nvGrpSpPr>
          <p:grpSpPr>
            <a:xfrm>
              <a:off x="7543800" y="1219320"/>
              <a:ext cx="1142640" cy="3428640"/>
              <a:chOff x="7543800" y="1219320"/>
              <a:chExt cx="1142640" cy="3428640"/>
            </a:xfrm>
          </p:grpSpPr>
          <p:sp>
            <p:nvSpPr>
              <p:cNvPr id="127" name=""/>
              <p:cNvSpPr/>
              <p:nvPr/>
            </p:nvSpPr>
            <p:spPr>
              <a:xfrm flipH="1">
                <a:off x="7886520" y="2881800"/>
                <a:ext cx="342720" cy="17661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543800" y="1739160"/>
                <a:ext cx="1142640" cy="16621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29280" y="1219320"/>
                <a:ext cx="571680" cy="727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rot="1369200">
              <a:off x="7848360" y="1981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1369200">
              <a:off x="8076960" y="1981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369200">
              <a:off x="8305560" y="1981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369200">
              <a:off x="7848360" y="2895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1369200">
              <a:off x="7619760" y="22100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369200">
              <a:off x="8076960" y="297216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369200">
              <a:off x="8305560" y="28958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1369200">
              <a:off x="7696080" y="281952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369200">
              <a:off x="8457840" y="213372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0800000">
              <a:off x="7848720" y="2209680"/>
              <a:ext cx="533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2169200">
              <a:off x="8304120" y="228384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2169200">
              <a:off x="8075520" y="228384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2169200">
              <a:off x="7923240" y="22078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2169200">
              <a:off x="8304120" y="266508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12169200">
              <a:off x="7999560" y="266508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2169200">
              <a:off x="8151840" y="25124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369200">
              <a:off x="8457840" y="2438640"/>
              <a:ext cx="7632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369200">
              <a:off x="7696080" y="2514960"/>
              <a:ext cx="7596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898560" y="4753080"/>
            <a:ext cx="169236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Follicle cycle moves in waves down the mouse</a:t>
            </a:r>
            <a:endParaRPr b="0" lang="en-US" sz="1800" spc="-1" strike="noStrike">
              <a:solidFill>
                <a:srgbClr val="000000"/>
              </a:solidFill>
              <a:latin typeface="Times New Roman"/>
            </a:endParaRPr>
          </a:p>
        </p:txBody>
      </p:sp>
      <p:sp>
        <p:nvSpPr>
          <p:cNvPr id="149" name=""/>
          <p:cNvSpPr/>
          <p:nvPr/>
        </p:nvSpPr>
        <p:spPr>
          <a:xfrm>
            <a:off x="2743200" y="4724280"/>
            <a:ext cx="182880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Skin removed, regrafted at 180</a:t>
            </a:r>
            <a:r>
              <a:rPr b="1" lang="en-AU" sz="1800" spc="-1" strike="noStrike" baseline="30000">
                <a:solidFill>
                  <a:srgbClr val="3333ff"/>
                </a:solidFill>
                <a:latin typeface="Arial"/>
              </a:rPr>
              <a:t>o</a:t>
            </a:r>
            <a:r>
              <a:rPr b="1" lang="en-AU" sz="1800" spc="-1" strike="noStrike">
                <a:solidFill>
                  <a:srgbClr val="3333ff"/>
                </a:solidFill>
                <a:latin typeface="Arial"/>
              </a:rPr>
              <a:t>.  Follicle cycle follows original cycle</a:t>
            </a:r>
            <a:endParaRPr b="0" lang="en-US" sz="1800" spc="-1" strike="noStrike">
              <a:solidFill>
                <a:srgbClr val="000000"/>
              </a:solidFill>
              <a:latin typeface="Times New Roman"/>
            </a:endParaRPr>
          </a:p>
        </p:txBody>
      </p:sp>
      <p:sp>
        <p:nvSpPr>
          <p:cNvPr id="150" name=""/>
          <p:cNvSpPr/>
          <p:nvPr/>
        </p:nvSpPr>
        <p:spPr>
          <a:xfrm>
            <a:off x="4724280" y="4724280"/>
            <a:ext cx="213372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After a time, some follicles begin to cycle with surrounding follicles</a:t>
            </a:r>
            <a:endParaRPr b="0" lang="en-US" sz="1800" spc="-1" strike="noStrike">
              <a:solidFill>
                <a:srgbClr val="000000"/>
              </a:solidFill>
              <a:latin typeface="Times New Roman"/>
            </a:endParaRPr>
          </a:p>
        </p:txBody>
      </p:sp>
      <p:sp>
        <p:nvSpPr>
          <p:cNvPr id="151" name=""/>
          <p:cNvSpPr/>
          <p:nvPr/>
        </p:nvSpPr>
        <p:spPr>
          <a:xfrm>
            <a:off x="7010280" y="4724280"/>
            <a:ext cx="2133720" cy="146556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ff"/>
                </a:solidFill>
                <a:latin typeface="Arial"/>
              </a:rPr>
              <a:t>Eventually, normal wave pattern along the whole mouse will be restored</a:t>
            </a:r>
            <a:endParaRPr b="0" lang="en-US" sz="1800" spc="-1" strike="noStrike">
              <a:solidFill>
                <a:srgbClr val="000000"/>
              </a:solidFill>
              <a:latin typeface="Times New Roman"/>
            </a:endParaRPr>
          </a:p>
        </p:txBody>
      </p:sp>
      <p:sp>
        <p:nvSpPr>
          <p:cNvPr id="152"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25:53Z</dcterms:created>
  <dc:creator>USER</dc:creator>
  <dc:description/>
  <dc:language>en-US</dc:language>
  <cp:lastModifiedBy>Hdaily</cp:lastModifiedBy>
  <cp:lastPrinted>2000-02-03T09:09:47Z</cp:lastPrinted>
  <dcterms:modified xsi:type="dcterms:W3CDTF">2000-05-25T01:23:49Z</dcterms:modified>
  <cp:revision>2</cp:revision>
  <dc:subject/>
  <dc:title>Local Versus Systemic Control of the Follicle Cycle</dc:title>
</cp:coreProperties>
</file>