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0D8C-A782-4787-B0B1-05760E02F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module desribes the molecular events underpinning the developmental processes of follicle morphogenesis.  This module describes the local molecular interactions that function in the matur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ystemic control of hair cycle by hormones such as prolactin, melatonin, oestradiol, testosterone, adrenal steroids and thyroid hormones, which are known to play an active role in regulating the hair cycle, have been covered in previous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BD4F-0F5D-4F6E-B931-4CB5F404A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 hair is plucked from a telogen follicle, a new anagen can be induced.  This led to the development of the chalone hypothe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hypothesis states that the hair cycle is controlled by a locally active inhibitor that accumulates during the anagen phase of the cycle, causing the follicle to regress into catagen when a critical level of the inhibitor is reached.  A possible molecule for this inhibitor is FGF-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riginal proposal was that dispersal of the inhibitor during telogen could be accelerated by plucking.  There is some doubt about this proposal since plucking an active follicle should extend anagen.  Anagen is not extended by plucking, but plucking does decrease the onset of the next ana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lone hypothesis has been around for some time but it should not be totally discredited.  In fact, the current concepts of paracrine and autocrine regulation of cell growth and differentiation encompass the principle of the chalone theo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ative experiments determining growth factor levels during the hair cycle have yet to be completed.  Dr Rosemary Sutton and myself  initiated a preliminary study in 1991.  We employed PCR to detect mRNA expression for a number of growth factors in mouse skin during the first hair cycle of the mo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GFb-1, TGFb-2 and TGF-a remained the same throughout the cycle; TGFb-3 and FGF-2 decreased throughout the cycle; EGF was variable and displayed no obvious pat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studies have shown that both EGF and FGF-2 are localised to the outer root sheath (ORS) in mature sheep follicles.  Neither EGF nor FGF2 was localised to the dermal papilla.  The significance of this is unknown but large doses of the EGF peptide can drive follicles into a telogen like state.  This is the basis of chemical defleecing (Bioclip module) in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GF - Transforming growth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GF - Fibroblast growth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GF - Epidermal growth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C30C-2D45-427B-84C8-44409A64C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olecules have been implicated in follicle function.  The examples presented are only a selection from an ever increasing l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BMP-4 (Bone Morphogenetic Protein):</a:t>
            </a:r>
            <a:r>
              <a:rPr b="0" lang="en-AU" sz="1200" spc="-1" strike="noStrike">
                <a:solidFill>
                  <a:srgbClr val="000000"/>
                </a:solidFill>
                <a:latin typeface="Times New Roman"/>
              </a:rPr>
              <a:t>  A BMP-4 transgene was targeted to the ORS and was shown to inhibit proliferation of hair matrix cells.  Coincident with this observation is the localisation of endogenous BMP-2 in cells at base of hair follicle.  This suggests that  BMP-2 inhibits cell proliferation and triggers differentiation of precortex cells in anagen V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GF-7/KGF (Keratinocyte Growth Factor):</a:t>
            </a:r>
            <a:r>
              <a:rPr b="0" lang="en-AU" sz="1200" spc="-1" strike="noStrike">
                <a:solidFill>
                  <a:srgbClr val="000000"/>
                </a:solidFill>
                <a:latin typeface="Times New Roman"/>
              </a:rPr>
              <a:t>  KGF is strongly expressed in developing hair follicles and the dermal papilla (DP).  The expression of FGF-7 persists post-partum but it is less intense.  Skin regeneration experiments have shown that FGF-7 will stimulate skin keratinocytes and follicular keratinocytes. The greatest expression of KGF-7 in transgenic mice over-expressing an FGF-7 is in epidermal basal keratinocytes and ORS keratinocytes.  Transgenic mice expressing a dominant negative FGF-7 receptor (FGF7R) mutant in the same tissues have less follicles and abnormal follicle morphology.  The administration of recombinant human FGF-7 to hairless mice for 17/18 consecutive days, produces a dose-dependent increase in hair density and body coverage.  By 7 days after the cessation of FGF-7 administration, mice lose their newly grown hair.  This is the first growth factor shown to stimulate hair growth, but only in nude m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GF-</a:t>
            </a:r>
            <a:r>
              <a:rPr b="1" lang="en-AU" sz="1200" spc="-1" strike="noStrike">
                <a:solidFill>
                  <a:srgbClr val="000000"/>
                </a:solidFill>
                <a:latin typeface="Symbol"/>
                <a:ea typeface="Symbol"/>
              </a:rPr>
              <a:t></a:t>
            </a:r>
            <a:r>
              <a:rPr b="1" lang="en-AU" sz="1200" spc="-1" strike="noStrike">
                <a:solidFill>
                  <a:srgbClr val="000000"/>
                </a:solidFill>
                <a:latin typeface="Times New Roman"/>
              </a:rPr>
              <a:t> and EGF</a:t>
            </a:r>
            <a:r>
              <a:rPr b="0" lang="en-AU" sz="1200" spc="-1" strike="noStrike">
                <a:solidFill>
                  <a:srgbClr val="000000"/>
                </a:solidFill>
                <a:latin typeface="Times New Roman"/>
              </a:rPr>
              <a:t>:  TGF-</a:t>
            </a:r>
            <a:r>
              <a:rPr b="0" lang="en-AU" sz="1200" spc="-1" strike="noStrike">
                <a:solidFill>
                  <a:srgbClr val="000000"/>
                </a:solidFill>
                <a:latin typeface="Symbol"/>
                <a:ea typeface="Symbol"/>
              </a:rPr>
              <a:t></a:t>
            </a:r>
            <a:r>
              <a:rPr b="0" lang="en-AU" sz="1200" spc="-1" strike="noStrike">
                <a:solidFill>
                  <a:srgbClr val="000000"/>
                </a:solidFill>
                <a:latin typeface="Times New Roman"/>
              </a:rPr>
              <a:t> null mutant display a wavy coat, with many hairs having a distinct c- or s-shaped curvature.  The follicles are gently curved or serpentine and generally dramatically deranged throughout the dermis. In normal mice, the TGF-</a:t>
            </a:r>
            <a:r>
              <a:rPr b="0" lang="en-AU" sz="1200" spc="-1" strike="noStrike">
                <a:solidFill>
                  <a:srgbClr val="000000"/>
                </a:solidFill>
                <a:latin typeface="Symbol"/>
                <a:ea typeface="Symbol"/>
              </a:rPr>
              <a:t></a:t>
            </a:r>
            <a:r>
              <a:rPr b="0" lang="en-AU" sz="1200" spc="-1" strike="noStrike">
                <a:solidFill>
                  <a:srgbClr val="000000"/>
                </a:solidFill>
                <a:latin typeface="Times New Roman"/>
              </a:rPr>
              <a:t> protein is present in the inner root sheath (IRS) and appears to be restricted to IRS above the bulb. EGF receptor (EGFR) mRNA is in the ORS. The EGFR is expressed along the entire length of the ORS, from proliferative bulb to the basal epidermis. These data support the hypothesis, that hair growth is in part controlled by interactions with TGF-</a:t>
            </a:r>
            <a:r>
              <a:rPr b="0" lang="en-AU" sz="1200" spc="-1" strike="noStrike">
                <a:solidFill>
                  <a:srgbClr val="000000"/>
                </a:solidFill>
                <a:latin typeface="Symbol"/>
                <a:ea typeface="Symbol"/>
              </a:rPr>
              <a:t></a:t>
            </a:r>
            <a:r>
              <a:rPr b="0" lang="en-AU" sz="1200" spc="-1" strike="noStrike">
                <a:solidFill>
                  <a:srgbClr val="000000"/>
                </a:solidFill>
                <a:latin typeface="Times New Roman"/>
              </a:rPr>
              <a:t> and the EGFR.  It could be that the interaction involves the membrane bound form of TGF-</a:t>
            </a:r>
            <a:r>
              <a:rPr b="0" lang="en-AU" sz="1200" spc="-1" strike="noStrike">
                <a:solidFill>
                  <a:srgbClr val="000000"/>
                </a:solidFill>
                <a:latin typeface="Symbol"/>
                <a:ea typeface="Symbol"/>
              </a:rPr>
              <a:t></a:t>
            </a:r>
            <a:r>
              <a:rPr b="0" lang="en-AU" sz="1200" spc="-1" strike="noStrike">
                <a:solidFill>
                  <a:srgbClr val="000000"/>
                </a:solidFill>
                <a:latin typeface="Times New Roman"/>
              </a:rPr>
              <a:t> and not the soluble (mobile)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FGF5</a:t>
            </a:r>
            <a:r>
              <a:rPr b="0" lang="en-AU" sz="1200" spc="-1" strike="noStrike">
                <a:solidFill>
                  <a:srgbClr val="000000"/>
                </a:solidFill>
                <a:latin typeface="Times New Roman"/>
              </a:rPr>
              <a:t> - see “</a:t>
            </a:r>
            <a:r>
              <a:rPr b="0" lang="en-US" sz="1200" spc="-1" strike="noStrike">
                <a:solidFill>
                  <a:srgbClr val="000000"/>
                </a:solidFill>
                <a:latin typeface="Times New Roman"/>
              </a:rPr>
              <a:t>EGF, FGF5 and the follicle cycle”</a:t>
            </a:r>
            <a:r>
              <a:rPr b="0" lang="en-AU" sz="1200" spc="-1" strike="noStrike">
                <a:solidFill>
                  <a:srgbClr val="000000"/>
                </a:solidFill>
                <a:latin typeface="Times New Roman"/>
              </a:rPr>
              <a:t> modu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557A-8A54-4460-96A6-AFCFB690C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6840" y="3505320"/>
            <a:ext cx="6095880" cy="487656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Dr. Graham Cam, CSIRO Animal Produ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o better understand how gene products influence follicle function, we need to examine other experimental strategies.</a:t>
            </a:r>
            <a:r>
              <a:rPr b="1" lang="en-AU" sz="1000" spc="-1" strike="noStrike">
                <a:solidFill>
                  <a:srgbClr val="000000"/>
                </a:solidFill>
                <a:latin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Follicle culture</a:t>
            </a:r>
            <a:r>
              <a:rPr b="0" lang="en-AU" sz="1000" spc="-1" strike="noStrike">
                <a:solidFill>
                  <a:srgbClr val="000000"/>
                </a:solidFill>
                <a:latin typeface="Times New Roman"/>
              </a:rPr>
              <a:t>:  Whilst the techniques for growing wool and hair follicles in culture has progressed significantly in recent years, the system still falls far short of an ideal environment for studying active follicles.  One of the greatest disadvantages of the system is that it is unable to duplicate the early stages of follicle initiation and developmen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Development of an </a:t>
            </a:r>
            <a:r>
              <a:rPr b="1" i="1" lang="en-AU" sz="1000" spc="-1" strike="noStrike">
                <a:solidFill>
                  <a:srgbClr val="000000"/>
                </a:solidFill>
                <a:latin typeface="Times New Roman"/>
              </a:rPr>
              <a:t>in vivo</a:t>
            </a:r>
            <a:r>
              <a:rPr b="1" lang="en-AU" sz="1000" spc="-1" strike="noStrike">
                <a:solidFill>
                  <a:srgbClr val="000000"/>
                </a:solidFill>
                <a:latin typeface="Times New Roman"/>
              </a:rPr>
              <a:t> test system</a:t>
            </a:r>
            <a:r>
              <a:rPr b="0" lang="en-AU" sz="1000" spc="-1" strike="noStrike">
                <a:solidFill>
                  <a:srgbClr val="000000"/>
                </a:solidFill>
                <a:latin typeface="Times New Roman"/>
              </a:rPr>
              <a:t>:  In the majority of cases the most appropriate system for studying follicle development and function is the whole animal.  In the past, the role of specific genes on follicle function has been limited to a transgenic approach.  The requirement for a specialist laboratory, large numbers of animals and a relatively low success rate has rendered this approach unsuited to the evaluation of large numbers of genes.  The development of the new animal cloning strategies showing highly efficient integration and expression of the recombinant gene, may make the whole animal a more viable approach for future molecular research.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Identification and mapping of genes affecting commercial traits</a:t>
            </a:r>
            <a:r>
              <a:rPr b="0" lang="en-AU" sz="1000" spc="-1" strike="noStrike">
                <a:solidFill>
                  <a:srgbClr val="000000"/>
                </a:solidFill>
                <a:latin typeface="Times New Roman"/>
              </a:rPr>
              <a:t>:  This is really aimed at DNA pedigreeing in sheep in order to determine the parents of any one animal.  Pedigreeing is an enabling technology for marker assisted selection and a host of other applications for DNA technology. One benefit is the improvement in estimates of genetic parameters, not only for traits such as fleece weight and fibre diameter, but also for many traits for which there is currently very little information available.  Another benefit is the assignment of genetic makers to the ever growing ovine genetic map which allows greater analysis of DNA regions known to be associated with important commercial trai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Strategies for determining such genes</a:t>
            </a:r>
            <a:r>
              <a:rPr b="0" lang="en-AU" sz="1000" spc="-1" strike="noStrike">
                <a:solidFill>
                  <a:srgbClr val="000000"/>
                </a:solidFill>
                <a:latin typeface="Times New Roman"/>
              </a:rPr>
              <a:t>:  Until recently, the selection of genes for further research has primarily been based on the `candidate’ approach.  At CSIRO Animal Production - Prospect, we have embarked on a combination of long-term strategies which are aimed at identifying and characterising, not only the genes expressed in the adult wool follicle but also those that are active during the early stages of primary and secondary follicle initiation.  This strategy includes;</a:t>
            </a:r>
            <a:endParaRPr b="0" lang="en-US" sz="10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isolation and sequence characterisation of clones from specific cDNA librari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the assignment of gene expression patterns for each of these clon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determining whether the cDNA sequences possess polymorphisms suitable for application to DNA pedigreeing technologies,</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assigning the genes to the sheep genetic map,</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5)developing hypotheses relating to follicle initiation and function based on the above knowledge.</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 testing these hypotheses in she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autocrine and paracrine actions that influence the follicle cycle.  This summary applies equally well to what occurs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proposed that both the development of follicles and elongation of the hair shaft are probably dependent on coordinated proliferation and migration of the inner and outer root sheaths.  An example of interactions between molecules affecting this coordinated function as a result of disrupted EGFR signalling may be the irregularly shaped hairs of the TGF-</a:t>
            </a:r>
            <a:r>
              <a:rPr b="0" lang="en-AU" sz="1200" spc="-1" strike="noStrike">
                <a:solidFill>
                  <a:srgbClr val="000000"/>
                </a:solidFill>
                <a:latin typeface="Symbol"/>
                <a:ea typeface="Symbol"/>
              </a:rPr>
              <a:t></a:t>
            </a:r>
            <a:r>
              <a:rPr b="0" lang="en-AU" sz="1200" spc="-1" strike="noStrike">
                <a:solidFill>
                  <a:srgbClr val="000000"/>
                </a:solidFill>
                <a:latin typeface="Times New Roman"/>
              </a:rPr>
              <a:t>mutants.  It is also highly likely that the defective receptor signalling may alter keratinisation, thus leading to abnormally shaped fib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insic Control of the Follicle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lone Hypothesi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hair cycle is controlled by a locally active inhibitor that accumulates during anagen, causing the follicles to regress into catagen when a critical level of the inhibitor is reached.</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is theory covers the autocrine and paracrine regulation of growth and differentiation</a:t>
            </a:r>
            <a:endParaRPr b="1" lang="en-US" sz="2400" spc="-1" strike="noStrike">
              <a:solidFill>
                <a:srgbClr val="ffffff"/>
              </a:solidFill>
              <a:latin typeface="Arial"/>
            </a:endParaRPr>
          </a:p>
        </p:txBody>
      </p:sp>
      <p:sp>
        <p:nvSpPr>
          <p:cNvPr id="55"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wth factors present during the follicle cycle and in adult sheep</a:t>
            </a:r>
            <a:endParaRPr b="1" lang="en-US" sz="3200" spc="-1" strike="noStrike">
              <a:solidFill>
                <a:srgbClr val="fafd00"/>
              </a:solidFill>
              <a:latin typeface="Arial"/>
            </a:endParaRPr>
          </a:p>
        </p:txBody>
      </p:sp>
      <p:sp>
        <p:nvSpPr>
          <p:cNvPr id="58"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the follicle cyc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st of the TGF family do not change during the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GFß-3 and FGF-2 decrease during the cyc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F varied and displayed no obvious patter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ses of EGF cause follicles to enter telogen</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the adult 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F and FGF-2 are present in O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dermal papilla does not contain EGF or FGF-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involved in the follicle cycle, initiation and development</a:t>
            </a:r>
            <a:endParaRPr b="1" lang="en-US" sz="3200" spc="-1" strike="noStrike">
              <a:solidFill>
                <a:srgbClr val="fafd00"/>
              </a:solidFill>
              <a:latin typeface="Arial"/>
            </a:endParaRPr>
          </a:p>
        </p:txBody>
      </p:sp>
      <p:sp>
        <p:nvSpPr>
          <p:cNvPr id="6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fontScale="94000"/>
          </a:bodyPr>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MP-2 &amp; 4</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hibits proliferation of bulb cells</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GF/FGF-7</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ent in developing follicles and the papilla </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ess follicles and abnormal follicles develop if the FGF-7 receptor is altered</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dministration of FGF-7 increases fibre density</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GF-</a:t>
            </a:r>
            <a:r>
              <a:rPr b="1" lang="en-AU" sz="2400" spc="-1" strike="noStrike">
                <a:solidFill>
                  <a:srgbClr val="ffffff"/>
                </a:solidFill>
                <a:latin typeface="Symbol"/>
                <a:ea typeface="Symbol"/>
              </a:rPr>
              <a:t></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letion of TGF-</a:t>
            </a:r>
            <a:r>
              <a:rPr b="1" lang="en-AU" sz="2000" spc="-1" strike="noStrike">
                <a:solidFill>
                  <a:srgbClr val="ffffff"/>
                </a:solidFill>
                <a:latin typeface="Symbol"/>
                <a:ea typeface="Symbol"/>
              </a:rPr>
              <a:t></a:t>
            </a:r>
            <a:r>
              <a:rPr b="1" lang="en-AU" sz="2000" spc="-1" strike="noStrike">
                <a:solidFill>
                  <a:srgbClr val="ffffff"/>
                </a:solidFill>
                <a:latin typeface="Arial"/>
              </a:rPr>
              <a:t> affects the shape of the fibres and follicle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esent in IRS above the bulb</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F receptor (EGFR; which TGF-</a:t>
            </a:r>
            <a:r>
              <a:rPr b="1" lang="en-AU" sz="2000" spc="-1" strike="noStrike">
                <a:solidFill>
                  <a:srgbClr val="ffffff"/>
                </a:solidFill>
                <a:latin typeface="Symbol"/>
                <a:ea typeface="Symbol"/>
              </a:rPr>
              <a:t></a:t>
            </a:r>
            <a:r>
              <a:rPr b="1" lang="en-AU" sz="2000" spc="-1" strike="noStrike">
                <a:solidFill>
                  <a:srgbClr val="ffffff"/>
                </a:solidFill>
                <a:latin typeface="Arial"/>
              </a:rPr>
              <a:t> can use) is present in OR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ir growth may be controlled by interactions with TGF-</a:t>
            </a:r>
            <a:r>
              <a:rPr b="1" lang="en-AU" sz="2000" spc="-1" strike="noStrike">
                <a:solidFill>
                  <a:srgbClr val="ffffff"/>
                </a:solidFill>
                <a:latin typeface="Symbol"/>
                <a:ea typeface="Symbol"/>
              </a:rPr>
              <a:t></a:t>
            </a:r>
            <a:r>
              <a:rPr b="1" lang="en-AU" sz="2000" spc="-1" strike="noStrike">
                <a:solidFill>
                  <a:srgbClr val="ffffff"/>
                </a:solidFill>
                <a:latin typeface="Arial"/>
              </a:rPr>
              <a:t> and EGFR</a:t>
            </a:r>
            <a:endParaRPr b="1" lang="en-US" sz="2000" spc="-1" strike="noStrike">
              <a:solidFill>
                <a:srgbClr val="ffffff"/>
              </a:solidFill>
              <a:latin typeface="Arial"/>
            </a:endParaRPr>
          </a:p>
          <a:p>
            <a:pPr lvl="1" marL="698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ture Directions</a:t>
            </a:r>
            <a:endParaRPr b="1" lang="en-US" sz="3200" spc="-1" strike="noStrike">
              <a:solidFill>
                <a:srgbClr val="fafd00"/>
              </a:solidFill>
              <a:latin typeface="Arial"/>
            </a:endParaRPr>
          </a:p>
        </p:txBody>
      </p:sp>
      <p:sp>
        <p:nvSpPr>
          <p:cNvPr id="65"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llicle cul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Arial"/>
              </a:rPr>
              <a:t>In-vivo</a:t>
            </a:r>
            <a:r>
              <a:rPr b="1" lang="en-AU" sz="2400" spc="-1" strike="noStrike">
                <a:solidFill>
                  <a:srgbClr val="ffffff"/>
                </a:solidFill>
                <a:latin typeface="Arial"/>
              </a:rPr>
              <a:t> test syste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pping of gen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rategies for gene identification which involves identifying genes tha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re known to be critical to fibre production, such as the keratins </a:t>
            </a:r>
            <a:r>
              <a:rPr b="1" lang="en-AU" sz="2000" spc="-1" strike="noStrike">
                <a:solidFill>
                  <a:srgbClr val="ffffff"/>
                </a:solidFill>
                <a:latin typeface="Arial"/>
              </a:rPr>
              <a:t>and cell prolifer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ve been shown to affect skin and/or follicle function in other speci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ve been implicated in developmental systems with similarities to the development of the wool or hair follicle.</a:t>
            </a:r>
            <a:endParaRPr b="1" lang="en-US" sz="2000" spc="-1" strike="noStrike">
              <a:solidFill>
                <a:srgbClr val="ffffff"/>
              </a:solidFill>
              <a:latin typeface="Arial"/>
            </a:endParaRPr>
          </a:p>
        </p:txBody>
      </p:sp>
      <p:sp>
        <p:nvSpPr>
          <p:cNvPr id="66"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e are many molecules that have been implicated in follicle initiation, development and the follicle cycl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 is likely that some molecules perform similar functions (e.g. multigene families, EGF/TGF</a:t>
            </a:r>
            <a:r>
              <a:rPr b="1" lang="en-AU" sz="2400" spc="-1" strike="noStrike">
                <a:solidFill>
                  <a:srgbClr val="ffffff"/>
                </a:solidFill>
                <a:latin typeface="Symbol"/>
                <a:ea typeface="Symbol"/>
              </a:rPr>
              <a:t></a:t>
            </a:r>
            <a:r>
              <a:rPr b="1" lang="en-AU" sz="2400" spc="-1" strike="noStrike">
                <a:solidFill>
                  <a:srgbClr val="ffffff"/>
                </a:solidFill>
                <a:latin typeface="Arial"/>
              </a:rPr>
              <a:t>), so if one is missing, the follicle may still fun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 appears that gene cascades can be recyled throughout development for the construction of different appendages (e.g. limbs and follic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interaction between molecules may modulate follicle func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4T23:52:19Z</dcterms:created>
  <dc:creator>USER</dc:creator>
  <dc:description/>
  <dc:language>en-US</dc:language>
  <cp:lastModifiedBy>Hdaily</cp:lastModifiedBy>
  <cp:lastPrinted>2000-04-27T00:36:14Z</cp:lastPrinted>
  <dcterms:modified xsi:type="dcterms:W3CDTF">2000-06-07T00:12:09Z</dcterms:modified>
  <cp:revision>7</cp:revision>
  <dc:subject/>
  <dc:title>No Slide Title</dc:title>
</cp:coreProperties>
</file>