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BB05-D8FB-4568-9D34-B5EEC17CE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2B29-0883-402A-B87A-C0C255822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shedding patterns in primitiv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E14D-3855-40C3-B5E1-8D66602B3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detailed history of sheep in book by Ryder, M.L. (1983) ‘Sheep and Man’, London, Duck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refers to sheep that have an annual fleec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yder classifies Soay sheep as Bronze age sheep from St. Kilda Island and these have a brown fleece, whereas Iron age sheep have some lighter coloured fleeces indicating a greater degree of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rino is the end result of this long term selection with no ability to shed its fleece and hence is highly dependent on ma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8629-E438-4865-BFAF-78FB77C80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yder, ML (1971) J. Agric. Sci., Camb. 76:1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s show the sequence of casting in the same St Kilda type Soay ram in different years.  The date of the photo (b) is 16 May 1966.  This ram had a tendency to retain wool on the shoulder, and the first photo shows a large patch remaining unshed from the previous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nimal always began to cast from the flank, and although the date casting began varied (early in 1967) the stage reached in May each year differed l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AD4F-5A00-4C72-AEBA-97329F47E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yder, ML (1969) Anim. Prod. 11:4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proportion of primary (top) and secondary (bottom) follicles that are inactive in Wiltshire Horn sheep kept on grass in the Northern hemisphere.  Note that 100% of primary and secondary follicles are inactive in winter (December to February in the Northern hemisphere where this work was undertaken).  Also note that the primary follicles have longer periods of inactivity than the secondary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 studies have been carried out in NZ with Wiltshire sheep and they show a similar pattern of activity except that the cycle has been moved by 6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s kept indoors have a cycle of wool production with amplitude ranging from 15 to 41%.  The amplitude is dependent on the latitude and strain of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dding is minor in well feed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sheep leg hair has a seasonal shedding cy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leece Shedding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mitive Shee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y worry about shedding as Merinos don’t shed do the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ever, Merino’s are a descendent of the more primitive sheep typ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 some of the characteristics of the primitive sheep maybe still part of the make up of Merino sheep</a:t>
            </a:r>
            <a:endParaRPr b="1" lang="en-US" sz="2800" spc="-1" strike="noStrike">
              <a:solidFill>
                <a:srgbClr val="ffffff"/>
              </a:solidFill>
              <a:latin typeface="Arial"/>
            </a:endParaRPr>
          </a:p>
        </p:txBody>
      </p:sp>
      <p:sp>
        <p:nvSpPr>
          <p:cNvPr id="51" name=""/>
          <p:cNvSpPr/>
          <p:nvPr/>
        </p:nvSpPr>
        <p:spPr>
          <a:xfrm>
            <a:off x="7936920" y="643104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762120"/>
            <a:ext cx="7924680" cy="5029200"/>
          </a:xfrm>
          <a:prstGeom prst="rect">
            <a:avLst/>
          </a:prstGeom>
          <a:ln w="0">
            <a:noFill/>
          </a:ln>
        </p:spPr>
      </p:pic>
      <p:sp>
        <p:nvSpPr>
          <p:cNvPr id="53" name=""/>
          <p:cNvSpPr/>
          <p:nvPr/>
        </p:nvSpPr>
        <p:spPr>
          <a:xfrm>
            <a:off x="7083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yder, ML (1971)</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quence of Casting</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ollicle Activity</a:t>
            </a:r>
            <a:endParaRPr b="1" lang="en-US" sz="3200" spc="-1" strike="noStrike">
              <a:solidFill>
                <a:srgbClr val="fafd00"/>
              </a:solidFill>
              <a:latin typeface="Arial"/>
            </a:endParaRPr>
          </a:p>
        </p:txBody>
      </p:sp>
      <p:pic>
        <p:nvPicPr>
          <p:cNvPr id="56" name="" descr=""/>
          <p:cNvPicPr/>
          <p:nvPr/>
        </p:nvPicPr>
        <p:blipFill>
          <a:blip r:embed="rId1">
            <a:lum contrast="30000"/>
          </a:blip>
          <a:srcRect l="-39" t="0" r="-964" b="4947"/>
          <a:stretch/>
        </p:blipFill>
        <p:spPr>
          <a:xfrm>
            <a:off x="1371600" y="762120"/>
            <a:ext cx="7467480" cy="5257800"/>
          </a:xfrm>
          <a:prstGeom prst="rect">
            <a:avLst/>
          </a:prstGeom>
          <a:ln w="0">
            <a:noFill/>
          </a:ln>
        </p:spPr>
      </p:pic>
      <p:sp>
        <p:nvSpPr>
          <p:cNvPr id="57" name=""/>
          <p:cNvSpPr/>
          <p:nvPr/>
        </p:nvSpPr>
        <p:spPr>
          <a:xfrm>
            <a:off x="7083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yder, ML (1971)</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44:55Z</dcterms:created>
  <dc:creator>USER</dc:creator>
  <dc:description/>
  <dc:language>en-US</dc:language>
  <cp:lastModifiedBy>Hdaily</cp:lastModifiedBy>
  <cp:lastPrinted>2000-02-03T09:09:47Z</cp:lastPrinted>
  <dcterms:modified xsi:type="dcterms:W3CDTF">2000-05-24T04:46:10Z</dcterms:modified>
  <cp:revision>4</cp:revision>
  <dc:subject/>
  <dc:title>Fleece Shedding in Sheep</dc:title>
</cp:coreProperties>
</file>