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7A94-46B4-44D7-B7F9-50D7ADA56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0FE9-89A3-4BC1-A02A-FD9D4D509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will revisit follicle morphogenesis by outlining mouse hair development and compare it to the the development of feathers and vertebrate limbs at the molecular level. The module also addresses the question whether these developmental systems can be used as a working model for developing an hypothesis for the initiation and development of the wool follicle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D120-9899-48F3-8352-DCC2D1AC3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1992) Trends in Genetics, 8, 55-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stages of mouse hair follicle development.  The solid lines outline the populations of epidermal cells, and the epithelial cells of the follicle that grow down from the epidermis.  The dashed lines enclose the mesenchymal cell aggregation that becomes the dermal papilla in Stages 3a, b, c.  A canal for the exit of the growing hair is outlined in Stages 6 and 7.  A sebaceous gland containing rounded cells is shown growing on the side of the follicle at Stages 7 and 8.  The filled central rod indicates a fully keratinised hair fibre.  The hatched area indicates a hardened inn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use hair is medullated as in some sheep breeds and mouse hair follicle morphogenesis is very similar to that for the primary sheep wool follicl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8128-A41A-4EC4-8BFB-14D5C718C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1992) Trends in Genetics, 8, 55-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rder to consider the evolutionary conservation of developmental processes, the formation of another skin appendage from different vertebrate class, in this case, Class - Aves (birds) is describ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the inductive events between the ectoderm and mesenchyme, the two tissue components become an epithelial feather placode and dermal condensation.  Feather buds have an anterior - posterior axis known as the feather axis.  Elongation occurs and then the elongated ectodermal bud invaginates into the skin to form the feather follicle.  The invaginating bud encloses the mesodermal component which becomes the dermal papilla (DP).  The ectodermal components form the papilla ectoderm (from which new feathers arise), the collar (the region of cell proliferation) and the feather filament (the feather pro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feathers and hair arise from a skin appendage known as a follicle.  Both types of follicles have the same sequence of early morphogenetic events, leading to the formation of a "bulb equivalent" with its associated D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886C-8A4F-43D4-9E74-D00D4107B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urce: Jung et al., (1998) Dev. Biol., 196, 11-2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slide extends beyond a physical description of follicle morphogenesis by attempting to identify the molecular events that trigger induction and development of the follicle.  To accomplish the molecular processes which regulate cell proliferation, cell adhesion, cell migration and cell differentiation, and ultimately provide an environment that sustains the differentiated follicle in a functional state should be examined (see modules “E-M Interactions in the Developing Follicle”, “Molecules involved in Follicle Initiation” and “Epithelial-mesenchymal reactions in the Adult Follic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1; cells are aligned along the midline prior to feather development and this midstripe is known to express Shh, Ptc, and Fgf-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2;  feather buds develop from the posterior en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3;  lateral row of buds start to develop midway between the buds of the primary row.</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1-B4 depicts several steps in the feather forming cascade.  The model has two components; (1) R-D component acting intrinsically and locally. (2) Superimposed on this is a wave of competence that acts at the feather tract leve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1; a wave of competence factors (blue) traverses the skin posterior to anterior and where it meets the midline a feather is formed (x).</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2;  activators (red) and inhibitors (green) are released and infuse locally.  C indicates that the activators and inhibitors originate from the same place but diffuse at different rates.  Activators act at short range and are more potent than the longer range inhibitor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3;  as the competence wave extends past the effect of the inhibitor another feather bud form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4;  as the competence wave moves forward it also extends bilaterally and outside the inhibitory zone, thus forming secondary rows of bud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 presents the implicated candidate activators and inhibito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ferenc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ildelitz et al. 1997, Microsc.Res.Tech., 38, 452-465.</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seki et al., 1996, Biochem.Biophys.Res.Comm., 218, 688-69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aus et al., Dev.Biol., 212, 278-289.</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Jung et al., 1998, Dev.Biol., 196, 11-23</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23880" y="45720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Cohn et al, (1995) Cell </a:t>
            </a:r>
            <a:r>
              <a:rPr b="1" lang="en-US" sz="1000" spc="-1" strike="noStrike">
                <a:solidFill>
                  <a:srgbClr val="000000"/>
                </a:solidFill>
                <a:latin typeface="Times New Roman"/>
              </a:rPr>
              <a:t>80</a:t>
            </a:r>
            <a:r>
              <a:rPr b="0" lang="en-US" sz="1000" spc="-1" strike="noStrike">
                <a:solidFill>
                  <a:srgbClr val="000000"/>
                </a:solidFill>
                <a:latin typeface="Times New Roman"/>
              </a:rPr>
              <a:t> 739-74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diagram depicts the proposed formation of a chick limb bud and shows the similarity between the molecular cascades implicated in the initiation of hair/wool follicles and a vertebrate limb.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s 1-5 are proposed to operate sequentially. (1) A signal controls local production of FGF at the appropriate axial level, e.g., for wing, between somites 15 and 20 (can be side stepped in flank by applying an FGF bead). (2) FGF signal maintains cell proliferation and leads to activation of </a:t>
            </a:r>
            <a:r>
              <a:rPr b="0" i="1" lang="en-US" sz="1000" spc="-1" strike="noStrike">
                <a:solidFill>
                  <a:srgbClr val="000000"/>
                </a:solidFill>
                <a:latin typeface="Times New Roman"/>
              </a:rPr>
              <a:t>Shh </a:t>
            </a:r>
            <a:r>
              <a:rPr b="0" lang="en-US" sz="1000" spc="-1" strike="noStrike">
                <a:solidFill>
                  <a:srgbClr val="000000"/>
                </a:solidFill>
                <a:latin typeface="Times New Roman"/>
              </a:rPr>
              <a:t>in cells with polarizing potential. (3) Polarizing signal acts in conjunction with FGF to establish progress zone and activate Hoxd genes. (4) Signal from progress zone acts on epithelium to induce AER. (5) Posterior part of apical ridge produces FGF-4, which acts back on the mesenchyme to maintain cell proliferation and polarizing region.  These steps may be direct or indirect, and several other gene products are involv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subsequent experiment showed that when FGF-2 was delivered to areas capable of inducing limbs, new limbs could be initiated from these areas of locally concentrated FGF-2.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the case of the limb bud, it develops as an outgrowth, while the hair/wool follicle bud develops as a downgrowth.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ferenc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andall etal. 1996, J.Invest.Dermatol., 107, 797-80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hn etal., 1995, Cell, 80, 739-74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Vogel etal., 1996, Development, 122, 1737-1750.</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abin etal. 1995, 80, 671-67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iswander etal., 1996, Ann.N.Y. Acad. Sci., 785, 23-2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ima etal., 1995, Dev. Biol., 167, 617-620.</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ealy etal., 1998, Dev.Biol., 202, 43-55.</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sing the limb bud developmental model and your knowledge of gene expression in skin, propose a molecular model to explain how hair/wool follicles might initiate and devel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5EE5-B835-4224-815F-489B6DA72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body"/>
          </p:nvPr>
        </p:nvSpPr>
        <p:spPr>
          <a:xfrm>
            <a:off x="457200" y="3505320"/>
            <a:ext cx="5943600" cy="4876560"/>
          </a:xfrm>
          <a:prstGeom prst="rect">
            <a:avLst/>
          </a:prstGeom>
          <a:noFill/>
          <a:ln w="0">
            <a:noFill/>
          </a:ln>
        </p:spPr>
        <p:txBody>
          <a:bodyPr lIns="88920" rIns="88920" tIns="42840" bIns="428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ercise1</a:t>
            </a:r>
            <a:r>
              <a:rPr b="0" lang="en-AU" sz="1200" spc="-1" strike="noStrike">
                <a:solidFill>
                  <a:srgbClr val="000000"/>
                </a:solidFill>
                <a:latin typeface="Times New Roman"/>
              </a:rPr>
              <a:t>.  This question is designed to focus on the Reaction-Diffusion Theory and pattern formation.  Refer to the relevant module by Dr Barry Nagorcka.  Based on the inverse relationship between follicle density and fibre diameter, the aim is to produce more follicles per unit area in order to push fibre diameter smaller.  Whether this is by increasing the number of primary follicles initially or by targeting secondary follicles at the time of their initiation is open to debate.  As primary follicles set the overall pattern for subsequent secondary follicle initiation sites it could be argued that the number of primary follicles initiating is the most important factor.  On the other hand, if FGF2 can be used to increase the number of secondary follicle initiation sites, irrespective of the number of primary follicles, then primary follicles are less important.  There is no set answer, rather, the students are being asked to apply the knowledge they have acquired in this area to derive a working hypothesis.  Nevertheless, students need to keep in mind that the bulk of the fleece is derived from secondary derived follicles and thus it is these follicles that need to be increased per unit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ercise2</a:t>
            </a:r>
            <a:r>
              <a:rPr b="0" lang="en-AU" sz="1200" spc="-1" strike="noStrike">
                <a:solidFill>
                  <a:srgbClr val="000000"/>
                </a:solidFill>
                <a:latin typeface="Times New Roman"/>
              </a:rPr>
              <a:t>. Students could list almost any of the molecules shown to effect follicle development.  The question is whether secondary derived follicles initiate by the same mechanisms which operate for the primary and secondary follicles.  One molecule that is not listed is FGF10 which is shown to initiate branching in the kidneys and lungs.  Perhaps FGF10 could be used to increase the number of secondary derived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ercise3</a:t>
            </a:r>
            <a:r>
              <a:rPr b="0" lang="en-AU" sz="1200" spc="-1" strike="noStrike">
                <a:solidFill>
                  <a:srgbClr val="000000"/>
                </a:solidFill>
                <a:latin typeface="Times New Roman"/>
              </a:rPr>
              <a:t>. Students should use the latest experimentally derived models of limb bud development to compile a working hypothesis for the follicle.  By drawing upon expression data for the various molecules in skin and the follicle, students should be able to justify why a model similar to that for development of vertebrate limbs is relevant to the wool follicle. </a:t>
            </a:r>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Appendag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lum contrast="6000"/>
          </a:blip>
          <a:stretch/>
        </p:blipFill>
        <p:spPr>
          <a:xfrm>
            <a:off x="1371600" y="923760"/>
            <a:ext cx="7238880" cy="5172120"/>
          </a:xfrm>
          <a:prstGeom prst="rect">
            <a:avLst/>
          </a:prstGeom>
          <a:ln w="0">
            <a:noFill/>
          </a:ln>
        </p:spPr>
      </p:pic>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use Hair Morphogenesis</a:t>
            </a:r>
            <a:endParaRPr b="1" lang="en-US" sz="3200" spc="-1" strike="noStrike">
              <a:solidFill>
                <a:srgbClr val="fafd00"/>
              </a:solidFill>
              <a:latin typeface="Arial"/>
            </a:endParaRPr>
          </a:p>
        </p:txBody>
      </p:sp>
      <p:sp>
        <p:nvSpPr>
          <p:cNvPr id="53" name=""/>
          <p:cNvSpPr/>
          <p:nvPr/>
        </p:nvSpPr>
        <p:spPr>
          <a:xfrm>
            <a:off x="7385760" y="6357960"/>
            <a:ext cx="168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1992)</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219320" y="1038240"/>
            <a:ext cx="7848360" cy="5057280"/>
            <a:chOff x="1219320" y="1038240"/>
            <a:chExt cx="7848360" cy="5057280"/>
          </a:xfrm>
        </p:grpSpPr>
        <p:pic>
          <p:nvPicPr>
            <p:cNvPr id="57" name="" descr=""/>
            <p:cNvPicPr/>
            <p:nvPr/>
          </p:nvPicPr>
          <p:blipFill>
            <a:blip r:embed="rId1"/>
            <a:stretch/>
          </p:blipFill>
          <p:spPr>
            <a:xfrm>
              <a:off x="1219320" y="1388880"/>
              <a:ext cx="7848360" cy="4706640"/>
            </a:xfrm>
            <a:prstGeom prst="rect">
              <a:avLst/>
            </a:prstGeom>
            <a:ln w="0">
              <a:noFill/>
            </a:ln>
          </p:spPr>
        </p:pic>
        <p:sp>
          <p:nvSpPr>
            <p:cNvPr id="58" name=""/>
            <p:cNvSpPr/>
            <p:nvPr/>
          </p:nvSpPr>
          <p:spPr>
            <a:xfrm>
              <a:off x="1219320" y="1038240"/>
              <a:ext cx="7848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Ectoderm</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G. Mature Feather</a:t>
              </a:r>
              <a:r>
                <a:rPr b="1" lang="en-AU" sz="2000" spc="-1" strike="noStrike">
                  <a:solidFill>
                    <a:srgbClr val="000000"/>
                  </a:solidFill>
                  <a:latin typeface="Arial"/>
                </a:rPr>
                <a:t>	</a:t>
              </a:r>
              <a:r>
                <a:rPr b="1" lang="en-AU" sz="2000" spc="-1" strike="noStrike">
                  <a:solidFill>
                    <a:srgbClr val="000000"/>
                  </a:solidFill>
                  <a:latin typeface="Arial"/>
                </a:rPr>
                <a:t>F. Feather filament</a:t>
              </a:r>
              <a:endParaRPr b="0" lang="en-US" sz="2000" spc="-1" strike="noStrike">
                <a:solidFill>
                  <a:srgbClr val="000000"/>
                </a:solidFill>
                <a:latin typeface="Times New Roman"/>
              </a:endParaRPr>
            </a:p>
          </p:txBody>
        </p:sp>
      </p:gr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eather Morphogenesis</a:t>
            </a:r>
            <a:endParaRPr b="1" lang="en-US" sz="3200" spc="-1" strike="noStrike">
              <a:solidFill>
                <a:srgbClr val="fafd00"/>
              </a:solidFill>
              <a:latin typeface="Arial"/>
            </a:endParaRPr>
          </a:p>
        </p:txBody>
      </p:sp>
      <p:sp>
        <p:nvSpPr>
          <p:cNvPr id="60" name=""/>
          <p:cNvSpPr/>
          <p:nvPr/>
        </p:nvSpPr>
        <p:spPr>
          <a:xfrm>
            <a:off x="7385760" y="6357960"/>
            <a:ext cx="168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1992)</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a Chick Limb Bud</a:t>
            </a:r>
            <a:endParaRPr b="1" lang="en-US" sz="3200" spc="-1" strike="noStrike">
              <a:solidFill>
                <a:srgbClr val="fafd00"/>
              </a:solidFill>
              <a:latin typeface="Arial"/>
            </a:endParaRPr>
          </a:p>
        </p:txBody>
      </p:sp>
      <p:pic>
        <p:nvPicPr>
          <p:cNvPr id="64" name="Untitled-1%20copy" descr=""/>
          <p:cNvPicPr/>
          <p:nvPr/>
        </p:nvPicPr>
        <p:blipFill>
          <a:blip r:embed="rId1">
            <a:lum contrast="6000"/>
          </a:blip>
          <a:stretch/>
        </p:blipFill>
        <p:spPr>
          <a:xfrm>
            <a:off x="1924200" y="719280"/>
            <a:ext cx="6305400" cy="5419440"/>
          </a:xfrm>
          <a:prstGeom prst="rect">
            <a:avLst/>
          </a:prstGeom>
          <a:ln w="0">
            <a:noFill/>
          </a:ln>
        </p:spPr>
      </p:pic>
      <p:sp>
        <p:nvSpPr>
          <p:cNvPr id="65" name=""/>
          <p:cNvSpPr/>
          <p:nvPr/>
        </p:nvSpPr>
        <p:spPr>
          <a:xfrm>
            <a:off x="7129800" y="6400800"/>
            <a:ext cx="194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Jung et al. (199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a Chick Limb Bud</a:t>
            </a:r>
            <a:endParaRPr b="1" lang="en-US" sz="3200" spc="-1" strike="noStrike">
              <a:solidFill>
                <a:srgbClr val="fafd00"/>
              </a:solidFill>
              <a:latin typeface="Arial"/>
            </a:endParaRPr>
          </a:p>
        </p:txBody>
      </p:sp>
      <p:pic>
        <p:nvPicPr>
          <p:cNvPr id="67" name="app" descr=""/>
          <p:cNvPicPr/>
          <p:nvPr/>
        </p:nvPicPr>
        <p:blipFill>
          <a:blip r:embed="rId1">
            <a:lum contrast="6000"/>
          </a:blip>
          <a:stretch/>
        </p:blipFill>
        <p:spPr>
          <a:xfrm>
            <a:off x="1219320" y="981000"/>
            <a:ext cx="7848360" cy="4505400"/>
          </a:xfrm>
          <a:prstGeom prst="rect">
            <a:avLst/>
          </a:prstGeom>
          <a:ln w="0">
            <a:noFill/>
          </a:ln>
        </p:spPr>
      </p:pic>
      <p:sp>
        <p:nvSpPr>
          <p:cNvPr id="68" name=""/>
          <p:cNvSpPr/>
          <p:nvPr/>
        </p:nvSpPr>
        <p:spPr>
          <a:xfrm>
            <a:off x="7101000" y="6400800"/>
            <a:ext cx="197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US" sz="1200" spc="-1" strike="noStrike">
                <a:solidFill>
                  <a:srgbClr val="fafd00"/>
                </a:solidFill>
                <a:latin typeface="Arial"/>
              </a:rPr>
              <a:t>Cohn et al (1995)</a:t>
            </a:r>
            <a:r>
              <a:rPr b="0" lang="en-US" sz="1200" spc="-1" strike="noStrike">
                <a:solidFill>
                  <a:srgbClr val="fafd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ercis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n that the growth factor FGF-2 is capable of inducing wool follicle initiation, would you target primary or secondary follicle initiation as a means for decreasing fibr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n the information on limb bud development and the Table of molecules implicated in follicle regulation,  what group of molecules might best be applied to increasing the number of secondary derived follic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the information on formation of a limb bud, can you construct a working molecular model to explain wool follicle initiation and development and how would you test this model?</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3:39:03Z</dcterms:created>
  <dc:creator>USER</dc:creator>
  <dc:description/>
  <dc:language>en-US</dc:language>
  <cp:lastModifiedBy>USER</cp:lastModifiedBy>
  <cp:lastPrinted>2000-03-23T04:15:20Z</cp:lastPrinted>
  <dcterms:modified xsi:type="dcterms:W3CDTF">2000-04-27T00:52:10Z</dcterms:modified>
  <cp:revision>3</cp:revision>
  <dc:subject/>
  <dc:title>Formation of Appendages</dc:title>
</cp:coreProperties>
</file>