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4FE8-C8B6-4F4D-A3E5-581D2EB87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7EEC-5C19-4500-8D54-DA4319A5C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understand the formation, initiation and development of follicles it is useful to study other organs that develop in a similar way.  Epithelial-mesenchymal interactions are essential for follicle initiation and a number of molecules have been implicated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role of the epithelium and mesenchyme in skin appendag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F4E5-FC6D-4D38-888E-A1BC982A9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562040" y="533520"/>
            <a:ext cx="3657600" cy="2743200"/>
          </a:xfrm>
          <a:prstGeom prst="rect">
            <a:avLst/>
          </a:prstGeom>
          <a:ln w="0">
            <a:noFill/>
          </a:ln>
        </p:spPr>
      </p:sp>
      <p:sp>
        <p:nvSpPr>
          <p:cNvPr id="2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order to consider the timing of Epithelial - Mesenchymal (E-M) interactions during follicle development we need to turn to the early skin recombination experiments as a starting point for understanding the nature of these E-M intera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slide, the first two examples indicate that mouse epidermis excised from a hair growing region will produce only hair follicles and thus a hair fibre, when interacting with  dermal tissue excised similarly from a hair growing reg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xt two examples show that the same dermis, when in contact with chick or lizard epidermis, will allow the formation of either feather or scale placo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he 1st dermal message is a general message common to all classes of verteb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he 1st epithelial message is less well defined but it is class specific and leads to formation of a dermal papilla whether it be scale, feather or ha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20E4-4415-4AE1-B1C2-C7F5C8A5D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62040" y="533520"/>
            <a:ext cx="3657600" cy="2743200"/>
          </a:xfrm>
          <a:prstGeom prst="rect">
            <a:avLst/>
          </a:prstGeom>
          <a:ln w="0">
            <a:noFill/>
          </a:ln>
        </p:spPr>
      </p:sp>
      <p:sp>
        <p:nvSpPr>
          <p:cNvPr id="2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later stages of development, only mouse dermal cells will respond to form a mouse follicle plug and once the follicle plug has been formed, the dermal papilla (DP) is required to stimulate the hair matrix cells to rapidly divide and form a hair fibre.  It should also be noted that only a mouse epidermal placode will respond to a mouse DP.  The communication is known only to occur between tissue types from the same vertebrate cl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inuing from the previous slide, this slide shows t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the 2nd dermal message stimulates the epidermal placode to form a class-specific append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EDEE-3C7E-4E1A-9042-362E66CE3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562040" y="533520"/>
            <a:ext cx="3657600" cy="2743200"/>
          </a:xfrm>
          <a:prstGeom prst="rect">
            <a:avLst/>
          </a:prstGeom>
          <a:ln w="0">
            <a:noFill/>
          </a:ln>
        </p:spPr>
      </p:sp>
      <p:sp>
        <p:nvSpPr>
          <p:cNvPr id="2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apted from Hardy, M.H. (1992).  </a:t>
            </a:r>
            <a:r>
              <a:rPr b="0" i="1" lang="en-AU" sz="1200" spc="-1" strike="noStrike">
                <a:solidFill>
                  <a:srgbClr val="000000"/>
                </a:solidFill>
                <a:latin typeface="Times New Roman"/>
              </a:rPr>
              <a:t>Trends in Genetics</a:t>
            </a:r>
            <a:r>
              <a:rPr b="0" lang="en-AU" sz="1200" spc="-1" strike="noStrike">
                <a:solidFill>
                  <a:srgbClr val="000000"/>
                </a:solidFill>
                <a:latin typeface="Times New Roman"/>
              </a:rPr>
              <a:t>.  8: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where the epithelial-mesenchymal messages are moving within the skin and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message comes from the dermis (mesenchymal tissue) to the epidermis (epithelial tissue) which tells the epidermis to make an append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econd signal comes from the epidermis; it is less well defined but it is generally believed the epidermis is organising the dermal cells to begin the formation of a dermal papil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al message passes from the dermis to the epidermis and specifies what type of appendage is to be formed e.g. a wool follicle in the case of shee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2CE2-D0B5-40CF-9FC2-D4F67AC31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562040" y="533520"/>
            <a:ext cx="3657600" cy="2743200"/>
          </a:xfrm>
          <a:prstGeom prst="rect">
            <a:avLst/>
          </a:prstGeom>
          <a:ln w="0">
            <a:noFill/>
          </a:ln>
        </p:spPr>
      </p:sp>
      <p:sp>
        <p:nvSpPr>
          <p:cNvPr id="2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remembered that this is a model, based on scientific evidence, to explain the interactions between the epidermis and the dermis during the course of follicle development.  Therefore, it may be necessary to modify the the model as the results of further scientific experimentation elucidate more precise mechanisms.  For instance it may be that both the number and identity of the implicated molecules change in the light of new data.  Nonetheless, the current model is an essential platform from which to launch such resear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thelial-mesenchymal Interactions in the Developing Foll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115640" y="914400"/>
            <a:ext cx="8065800" cy="5181480"/>
            <a:chOff x="1115640" y="914400"/>
            <a:chExt cx="8065800" cy="5181480"/>
          </a:xfrm>
        </p:grpSpPr>
        <p:grpSp>
          <p:nvGrpSpPr>
            <p:cNvPr id="52" name=""/>
            <p:cNvGrpSpPr/>
            <p:nvPr/>
          </p:nvGrpSpPr>
          <p:grpSpPr>
            <a:xfrm>
              <a:off x="1154160" y="914400"/>
              <a:ext cx="7932240" cy="1676520"/>
              <a:chOff x="1154160" y="914400"/>
              <a:chExt cx="7932240" cy="1676520"/>
            </a:xfrm>
          </p:grpSpPr>
          <p:sp>
            <p:nvSpPr>
              <p:cNvPr id="53" name=""/>
              <p:cNvSpPr/>
              <p:nvPr/>
            </p:nvSpPr>
            <p:spPr>
              <a:xfrm>
                <a:off x="1154160" y="914400"/>
                <a:ext cx="7932240" cy="167652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2117160" y="1568520"/>
                <a:ext cx="1357560" cy="398160"/>
                <a:chOff x="2117160" y="1568520"/>
                <a:chExt cx="1357560" cy="398160"/>
              </a:xfrm>
            </p:grpSpPr>
            <p:sp>
              <p:nvSpPr>
                <p:cNvPr id="55" name=""/>
                <p:cNvSpPr/>
                <p:nvPr/>
              </p:nvSpPr>
              <p:spPr>
                <a:xfrm>
                  <a:off x="2117160" y="1568520"/>
                  <a:ext cx="1357560" cy="87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6" name=""/>
                <p:cNvSpPr/>
                <p:nvPr/>
              </p:nvSpPr>
              <p:spPr>
                <a:xfrm>
                  <a:off x="2117160" y="1655640"/>
                  <a:ext cx="1357560" cy="87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 name=""/>
                <p:cNvSpPr/>
                <p:nvPr/>
              </p:nvSpPr>
              <p:spPr>
                <a:xfrm>
                  <a:off x="2163600" y="183060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8" name=""/>
                <p:cNvSpPr/>
                <p:nvPr/>
              </p:nvSpPr>
              <p:spPr>
                <a:xfrm rot="20270400">
                  <a:off x="2725200" y="183024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9" name=""/>
                <p:cNvSpPr/>
                <p:nvPr/>
              </p:nvSpPr>
              <p:spPr>
                <a:xfrm rot="1710600">
                  <a:off x="2444400" y="1787040"/>
                  <a:ext cx="46800" cy="874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 name=""/>
                <p:cNvSpPr/>
                <p:nvPr/>
              </p:nvSpPr>
              <p:spPr>
                <a:xfrm>
                  <a:off x="2257560" y="1787040"/>
                  <a:ext cx="46440" cy="874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 name=""/>
                <p:cNvSpPr/>
                <p:nvPr/>
              </p:nvSpPr>
              <p:spPr>
                <a:xfrm rot="695400">
                  <a:off x="2865960" y="183024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2" name=""/>
                <p:cNvSpPr/>
                <p:nvPr/>
              </p:nvSpPr>
              <p:spPr>
                <a:xfrm>
                  <a:off x="3006360" y="1787040"/>
                  <a:ext cx="46800" cy="874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3" name=""/>
                <p:cNvSpPr/>
                <p:nvPr/>
              </p:nvSpPr>
              <p:spPr>
                <a:xfrm>
                  <a:off x="3146760" y="183060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4" name=""/>
                <p:cNvSpPr/>
                <p:nvPr/>
              </p:nvSpPr>
              <p:spPr>
                <a:xfrm rot="1068600">
                  <a:off x="3286800" y="1874520"/>
                  <a:ext cx="46800" cy="8712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65" name=""/>
              <p:cNvSpPr/>
              <p:nvPr/>
            </p:nvSpPr>
            <p:spPr>
              <a:xfrm>
                <a:off x="1230120" y="914400"/>
                <a:ext cx="331704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use epiderm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hair growing region or foot pad)</a:t>
                </a:r>
                <a:endParaRPr b="0" lang="en-US" sz="1600" spc="-1" strike="noStrike">
                  <a:solidFill>
                    <a:srgbClr val="000000"/>
                  </a:solidFill>
                  <a:latin typeface="Times New Roman"/>
                </a:endParaRPr>
              </a:p>
            </p:txBody>
          </p:sp>
          <p:sp>
            <p:nvSpPr>
              <p:cNvPr id="66" name=""/>
              <p:cNvSpPr/>
              <p:nvPr/>
            </p:nvSpPr>
            <p:spPr>
              <a:xfrm>
                <a:off x="1185480" y="1936800"/>
                <a:ext cx="32256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use dermal mesenchy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orsal hair growing region)</a:t>
                </a:r>
                <a:endParaRPr b="0" lang="en-US" sz="1600" spc="-1" strike="noStrike">
                  <a:solidFill>
                    <a:srgbClr val="000000"/>
                  </a:solidFill>
                  <a:latin typeface="Times New Roman"/>
                </a:endParaRPr>
              </a:p>
            </p:txBody>
          </p:sp>
          <p:sp>
            <p:nvSpPr>
              <p:cNvPr id="67" name=""/>
              <p:cNvSpPr/>
              <p:nvPr/>
            </p:nvSpPr>
            <p:spPr>
              <a:xfrm>
                <a:off x="4870080" y="1568520"/>
                <a:ext cx="857520" cy="393480"/>
              </a:xfrm>
              <a:prstGeom prst="rightArrow">
                <a:avLst>
                  <a:gd name="adj1" fmla="val 50000"/>
                  <a:gd name="adj2" fmla="val 5448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93320" y="1308240"/>
                <a:ext cx="2099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ell aggrega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ollicle placo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owngrowths</a:t>
                </a:r>
                <a:endParaRPr b="0" lang="en-US" sz="1800" spc="-1" strike="noStrike">
                  <a:solidFill>
                    <a:srgbClr val="000000"/>
                  </a:solidFill>
                  <a:latin typeface="Times New Roman"/>
                </a:endParaRPr>
              </a:p>
            </p:txBody>
          </p:sp>
        </p:grpSp>
        <p:grpSp>
          <p:nvGrpSpPr>
            <p:cNvPr id="69" name=""/>
            <p:cNvGrpSpPr/>
            <p:nvPr/>
          </p:nvGrpSpPr>
          <p:grpSpPr>
            <a:xfrm>
              <a:off x="1115640" y="2629080"/>
              <a:ext cx="7970400" cy="1714320"/>
              <a:chOff x="1115640" y="2629080"/>
              <a:chExt cx="7970400" cy="1714320"/>
            </a:xfrm>
          </p:grpSpPr>
          <p:sp>
            <p:nvSpPr>
              <p:cNvPr id="70" name=""/>
              <p:cNvSpPr/>
              <p:nvPr/>
            </p:nvSpPr>
            <p:spPr>
              <a:xfrm>
                <a:off x="1154160" y="2629080"/>
                <a:ext cx="7931880" cy="171432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2011680" y="3297240"/>
                <a:ext cx="1357560" cy="407880"/>
                <a:chOff x="2011680" y="3297240"/>
                <a:chExt cx="1357560" cy="407880"/>
              </a:xfrm>
            </p:grpSpPr>
            <p:sp>
              <p:nvSpPr>
                <p:cNvPr id="72" name=""/>
                <p:cNvSpPr/>
                <p:nvPr/>
              </p:nvSpPr>
              <p:spPr>
                <a:xfrm>
                  <a:off x="2011680" y="3297240"/>
                  <a:ext cx="1357560" cy="8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3" name=""/>
                <p:cNvSpPr/>
                <p:nvPr/>
              </p:nvSpPr>
              <p:spPr>
                <a:xfrm>
                  <a:off x="2011680" y="3386520"/>
                  <a:ext cx="1357560" cy="89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4" name=""/>
                <p:cNvSpPr/>
                <p:nvPr/>
              </p:nvSpPr>
              <p:spPr>
                <a:xfrm>
                  <a:off x="2058120" y="356580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5" name=""/>
                <p:cNvSpPr/>
                <p:nvPr/>
              </p:nvSpPr>
              <p:spPr>
                <a:xfrm rot="20270400">
                  <a:off x="2619720" y="356580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6" name=""/>
                <p:cNvSpPr/>
                <p:nvPr/>
              </p:nvSpPr>
              <p:spPr>
                <a:xfrm rot="1710600">
                  <a:off x="2338560" y="3520800"/>
                  <a:ext cx="46800" cy="89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7" name=""/>
                <p:cNvSpPr/>
                <p:nvPr/>
              </p:nvSpPr>
              <p:spPr>
                <a:xfrm>
                  <a:off x="2152080" y="3521160"/>
                  <a:ext cx="46440" cy="89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8" name=""/>
                <p:cNvSpPr/>
                <p:nvPr/>
              </p:nvSpPr>
              <p:spPr>
                <a:xfrm rot="695400">
                  <a:off x="2760120" y="356544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9" name=""/>
                <p:cNvSpPr/>
                <p:nvPr/>
              </p:nvSpPr>
              <p:spPr>
                <a:xfrm>
                  <a:off x="2900880" y="3521160"/>
                  <a:ext cx="46800" cy="89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0" name=""/>
                <p:cNvSpPr/>
                <p:nvPr/>
              </p:nvSpPr>
              <p:spPr>
                <a:xfrm>
                  <a:off x="3041280" y="356580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1" name=""/>
                <p:cNvSpPr/>
                <p:nvPr/>
              </p:nvSpPr>
              <p:spPr>
                <a:xfrm rot="1068600">
                  <a:off x="3181320" y="3610440"/>
                  <a:ext cx="46800" cy="89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82" name=""/>
              <p:cNvSpPr/>
              <p:nvPr/>
            </p:nvSpPr>
            <p:spPr>
              <a:xfrm>
                <a:off x="1665720" y="2629080"/>
                <a:ext cx="220464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use epiderm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hair growing region)</a:t>
                </a:r>
                <a:endParaRPr b="0" lang="en-US" sz="1600" spc="-1" strike="noStrike">
                  <a:solidFill>
                    <a:srgbClr val="000000"/>
                  </a:solidFill>
                  <a:latin typeface="Times New Roman"/>
                </a:endParaRPr>
              </a:p>
            </p:txBody>
          </p:sp>
          <p:sp>
            <p:nvSpPr>
              <p:cNvPr id="83" name=""/>
              <p:cNvSpPr/>
              <p:nvPr/>
            </p:nvSpPr>
            <p:spPr>
              <a:xfrm>
                <a:off x="1115640" y="3675240"/>
                <a:ext cx="322560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use dermal mesenchy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n-hair growing region)</a:t>
                </a:r>
                <a:endParaRPr b="0" lang="en-US" sz="1600" spc="-1" strike="noStrike">
                  <a:solidFill>
                    <a:srgbClr val="000000"/>
                  </a:solidFill>
                  <a:latin typeface="Times New Roman"/>
                </a:endParaRPr>
              </a:p>
            </p:txBody>
          </p:sp>
          <p:sp>
            <p:nvSpPr>
              <p:cNvPr id="84" name=""/>
              <p:cNvSpPr/>
              <p:nvPr/>
            </p:nvSpPr>
            <p:spPr>
              <a:xfrm>
                <a:off x="4798440" y="3378240"/>
                <a:ext cx="857520" cy="401760"/>
              </a:xfrm>
              <a:prstGeom prst="rightArrow">
                <a:avLst>
                  <a:gd name="adj1" fmla="val 50000"/>
                  <a:gd name="adj2" fmla="val 533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32040" y="3433680"/>
                <a:ext cx="232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 follicle placodes</a:t>
                </a:r>
                <a:endParaRPr b="0" lang="en-US" sz="1800" spc="-1" strike="noStrike">
                  <a:solidFill>
                    <a:srgbClr val="000000"/>
                  </a:solidFill>
                  <a:latin typeface="Times New Roman"/>
                </a:endParaRPr>
              </a:p>
            </p:txBody>
          </p:sp>
        </p:grpSp>
        <p:grpSp>
          <p:nvGrpSpPr>
            <p:cNvPr id="86" name=""/>
            <p:cNvGrpSpPr/>
            <p:nvPr/>
          </p:nvGrpSpPr>
          <p:grpSpPr>
            <a:xfrm>
              <a:off x="1154160" y="4419720"/>
              <a:ext cx="8027280" cy="1676160"/>
              <a:chOff x="1154160" y="4419720"/>
              <a:chExt cx="8027280" cy="1676160"/>
            </a:xfrm>
          </p:grpSpPr>
          <p:sp>
            <p:nvSpPr>
              <p:cNvPr id="87" name=""/>
              <p:cNvSpPr/>
              <p:nvPr/>
            </p:nvSpPr>
            <p:spPr>
              <a:xfrm>
                <a:off x="1154160" y="4419720"/>
                <a:ext cx="7931880" cy="1676160"/>
              </a:xfrm>
              <a:prstGeom prst="rect">
                <a:avLst/>
              </a:prstGeom>
              <a:solidFill>
                <a:srgbClr val="00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1159560" y="4471920"/>
                <a:ext cx="2882880" cy="1046880"/>
                <a:chOff x="1159560" y="4471920"/>
                <a:chExt cx="2882880" cy="1046880"/>
              </a:xfrm>
            </p:grpSpPr>
            <p:grpSp>
              <p:nvGrpSpPr>
                <p:cNvPr id="89" name=""/>
                <p:cNvGrpSpPr/>
                <p:nvPr/>
              </p:nvGrpSpPr>
              <p:grpSpPr>
                <a:xfrm>
                  <a:off x="1831320" y="4800240"/>
                  <a:ext cx="1357560" cy="386280"/>
                  <a:chOff x="1831320" y="4800240"/>
                  <a:chExt cx="1357560" cy="386280"/>
                </a:xfrm>
              </p:grpSpPr>
              <p:sp>
                <p:nvSpPr>
                  <p:cNvPr id="90" name=""/>
                  <p:cNvSpPr/>
                  <p:nvPr/>
                </p:nvSpPr>
                <p:spPr>
                  <a:xfrm>
                    <a:off x="1831320" y="4800240"/>
                    <a:ext cx="1357560" cy="8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1" name=""/>
                  <p:cNvSpPr/>
                  <p:nvPr/>
                </p:nvSpPr>
                <p:spPr>
                  <a:xfrm>
                    <a:off x="1831320" y="4884840"/>
                    <a:ext cx="1357560" cy="84600"/>
                  </a:xfrm>
                  <a:prstGeom prst="rect">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2" name=""/>
                  <p:cNvSpPr/>
                  <p:nvPr/>
                </p:nvSpPr>
                <p:spPr>
                  <a:xfrm>
                    <a:off x="1877760" y="505440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3" name=""/>
                  <p:cNvSpPr/>
                  <p:nvPr/>
                </p:nvSpPr>
                <p:spPr>
                  <a:xfrm rot="20270400">
                    <a:off x="2439720" y="505404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4" name=""/>
                  <p:cNvSpPr/>
                  <p:nvPr/>
                </p:nvSpPr>
                <p:spPr>
                  <a:xfrm rot="1710600">
                    <a:off x="2158560" y="501156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5" name=""/>
                  <p:cNvSpPr/>
                  <p:nvPr/>
                </p:nvSpPr>
                <p:spPr>
                  <a:xfrm>
                    <a:off x="1971720" y="5011920"/>
                    <a:ext cx="4644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6" name=""/>
                  <p:cNvSpPr/>
                  <p:nvPr/>
                </p:nvSpPr>
                <p:spPr>
                  <a:xfrm rot="695400">
                    <a:off x="2580120" y="505404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7" name=""/>
                  <p:cNvSpPr/>
                  <p:nvPr/>
                </p:nvSpPr>
                <p:spPr>
                  <a:xfrm>
                    <a:off x="2720520" y="501192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8" name=""/>
                  <p:cNvSpPr/>
                  <p:nvPr/>
                </p:nvSpPr>
                <p:spPr>
                  <a:xfrm>
                    <a:off x="2860920" y="505440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99" name=""/>
                  <p:cNvSpPr/>
                  <p:nvPr/>
                </p:nvSpPr>
                <p:spPr>
                  <a:xfrm rot="1068600">
                    <a:off x="3000960" y="509688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100" name=""/>
                <p:cNvSpPr/>
                <p:nvPr/>
              </p:nvSpPr>
              <p:spPr>
                <a:xfrm>
                  <a:off x="1691640" y="4471920"/>
                  <a:ext cx="194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hick epidermis</a:t>
                  </a:r>
                  <a:endParaRPr b="0" lang="en-US" sz="1800" spc="-1" strike="noStrike">
                    <a:solidFill>
                      <a:srgbClr val="000000"/>
                    </a:solidFill>
                    <a:latin typeface="Times New Roman"/>
                  </a:endParaRPr>
                </a:p>
              </p:txBody>
            </p:sp>
            <p:sp>
              <p:nvSpPr>
                <p:cNvPr id="101" name=""/>
                <p:cNvSpPr/>
                <p:nvPr/>
              </p:nvSpPr>
              <p:spPr>
                <a:xfrm>
                  <a:off x="1159560" y="5181480"/>
                  <a:ext cx="28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use dermal mesenchyme</a:t>
                  </a:r>
                  <a:endParaRPr b="0" lang="en-US" sz="1600" spc="-1" strike="noStrike">
                    <a:solidFill>
                      <a:srgbClr val="000000"/>
                    </a:solidFill>
                    <a:latin typeface="Times New Roman"/>
                  </a:endParaRPr>
                </a:p>
              </p:txBody>
            </p:sp>
          </p:grpSp>
          <p:sp>
            <p:nvSpPr>
              <p:cNvPr id="102" name=""/>
              <p:cNvSpPr/>
              <p:nvPr/>
            </p:nvSpPr>
            <p:spPr>
              <a:xfrm rot="1940400">
                <a:off x="3565440" y="5033880"/>
                <a:ext cx="1143360" cy="381240"/>
              </a:xfrm>
              <a:prstGeom prst="rightArrow">
                <a:avLst>
                  <a:gd name="adj1" fmla="val 50000"/>
                  <a:gd name="adj2" fmla="val 7497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275640" y="5691240"/>
                <a:ext cx="20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eather placodes</a:t>
                </a:r>
                <a:endParaRPr b="0" lang="en-US" sz="1800" spc="-1" strike="noStrike">
                  <a:solidFill>
                    <a:srgbClr val="000000"/>
                  </a:solidFill>
                  <a:latin typeface="Times New Roman"/>
                </a:endParaRPr>
              </a:p>
            </p:txBody>
          </p:sp>
          <p:grpSp>
            <p:nvGrpSpPr>
              <p:cNvPr id="104" name=""/>
              <p:cNvGrpSpPr/>
              <p:nvPr/>
            </p:nvGrpSpPr>
            <p:grpSpPr>
              <a:xfrm>
                <a:off x="4875480" y="4471920"/>
                <a:ext cx="2882880" cy="1046880"/>
                <a:chOff x="4875480" y="4471920"/>
                <a:chExt cx="2882880" cy="1046880"/>
              </a:xfrm>
            </p:grpSpPr>
            <p:grpSp>
              <p:nvGrpSpPr>
                <p:cNvPr id="105" name=""/>
                <p:cNvGrpSpPr/>
                <p:nvPr/>
              </p:nvGrpSpPr>
              <p:grpSpPr>
                <a:xfrm>
                  <a:off x="5546880" y="4800240"/>
                  <a:ext cx="1357560" cy="386280"/>
                  <a:chOff x="5546880" y="4800240"/>
                  <a:chExt cx="1357560" cy="386280"/>
                </a:xfrm>
              </p:grpSpPr>
              <p:sp>
                <p:nvSpPr>
                  <p:cNvPr id="106" name=""/>
                  <p:cNvSpPr/>
                  <p:nvPr/>
                </p:nvSpPr>
                <p:spPr>
                  <a:xfrm>
                    <a:off x="5546880" y="4800240"/>
                    <a:ext cx="1357560" cy="84600"/>
                  </a:xfrm>
                  <a:prstGeom prst="rect">
                    <a:avLst/>
                  </a:prstGeom>
                  <a:solidFill>
                    <a:srgbClr val="00cc99"/>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 name=""/>
                  <p:cNvSpPr/>
                  <p:nvPr/>
                </p:nvSpPr>
                <p:spPr>
                  <a:xfrm>
                    <a:off x="5546880" y="4884840"/>
                    <a:ext cx="1357560" cy="84600"/>
                  </a:xfrm>
                  <a:prstGeom prst="rect">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8" name=""/>
                  <p:cNvSpPr/>
                  <p:nvPr/>
                </p:nvSpPr>
                <p:spPr>
                  <a:xfrm>
                    <a:off x="5593320" y="505440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 name=""/>
                  <p:cNvSpPr/>
                  <p:nvPr/>
                </p:nvSpPr>
                <p:spPr>
                  <a:xfrm rot="20270400">
                    <a:off x="6155280" y="505404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0" name=""/>
                  <p:cNvSpPr/>
                  <p:nvPr/>
                </p:nvSpPr>
                <p:spPr>
                  <a:xfrm rot="1710600">
                    <a:off x="5874120" y="501156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 name=""/>
                  <p:cNvSpPr/>
                  <p:nvPr/>
                </p:nvSpPr>
                <p:spPr>
                  <a:xfrm>
                    <a:off x="5687280" y="5011920"/>
                    <a:ext cx="4644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2" name=""/>
                  <p:cNvSpPr/>
                  <p:nvPr/>
                </p:nvSpPr>
                <p:spPr>
                  <a:xfrm rot="695400">
                    <a:off x="6295680" y="505404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 name=""/>
                  <p:cNvSpPr/>
                  <p:nvPr/>
                </p:nvSpPr>
                <p:spPr>
                  <a:xfrm>
                    <a:off x="6436080" y="501192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 name=""/>
                  <p:cNvSpPr/>
                  <p:nvPr/>
                </p:nvSpPr>
                <p:spPr>
                  <a:xfrm>
                    <a:off x="6576480" y="505440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 name=""/>
                  <p:cNvSpPr/>
                  <p:nvPr/>
                </p:nvSpPr>
                <p:spPr>
                  <a:xfrm rot="1068600">
                    <a:off x="6716520" y="5096880"/>
                    <a:ext cx="46800" cy="8460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116" name=""/>
                <p:cNvSpPr/>
                <p:nvPr/>
              </p:nvSpPr>
              <p:spPr>
                <a:xfrm>
                  <a:off x="5405760" y="4471920"/>
                  <a:ext cx="199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zard epidermis</a:t>
                  </a:r>
                  <a:endParaRPr b="0" lang="en-US" sz="1800" spc="-1" strike="noStrike">
                    <a:solidFill>
                      <a:srgbClr val="000000"/>
                    </a:solidFill>
                    <a:latin typeface="Times New Roman"/>
                  </a:endParaRPr>
                </a:p>
              </p:txBody>
            </p:sp>
            <p:sp>
              <p:nvSpPr>
                <p:cNvPr id="117" name=""/>
                <p:cNvSpPr/>
                <p:nvPr/>
              </p:nvSpPr>
              <p:spPr>
                <a:xfrm>
                  <a:off x="4875480" y="5181480"/>
                  <a:ext cx="28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use dermal mesenchyme</a:t>
                  </a:r>
                  <a:endParaRPr b="0" lang="en-US" sz="1600" spc="-1" strike="noStrike">
                    <a:solidFill>
                      <a:srgbClr val="000000"/>
                    </a:solidFill>
                    <a:latin typeface="Times New Roman"/>
                  </a:endParaRPr>
                </a:p>
              </p:txBody>
            </p:sp>
          </p:grpSp>
          <p:sp>
            <p:nvSpPr>
              <p:cNvPr id="118" name=""/>
              <p:cNvSpPr/>
              <p:nvPr/>
            </p:nvSpPr>
            <p:spPr>
              <a:xfrm>
                <a:off x="7350120" y="569124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cale placodes</a:t>
                </a:r>
                <a:endParaRPr b="0" lang="en-US" sz="1800" spc="-1" strike="noStrike">
                  <a:solidFill>
                    <a:srgbClr val="000000"/>
                  </a:solidFill>
                  <a:latin typeface="Times New Roman"/>
                </a:endParaRPr>
              </a:p>
            </p:txBody>
          </p:sp>
          <p:sp>
            <p:nvSpPr>
              <p:cNvPr id="119" name=""/>
              <p:cNvSpPr/>
              <p:nvPr/>
            </p:nvSpPr>
            <p:spPr>
              <a:xfrm rot="1940400">
                <a:off x="7424280" y="5105520"/>
                <a:ext cx="1143360" cy="380880"/>
              </a:xfrm>
              <a:prstGeom prst="rightArrow">
                <a:avLst>
                  <a:gd name="adj1" fmla="val 50000"/>
                  <a:gd name="adj2" fmla="val 7504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
          <p:cNvSpPr/>
          <p:nvPr/>
        </p:nvSpPr>
        <p:spPr>
          <a:xfrm>
            <a:off x="80470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kin recombination experiment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80470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ater stage recombination experiments</a:t>
            </a:r>
            <a:endParaRPr b="1" lang="en-US" sz="3200" spc="-1" strike="noStrike">
              <a:solidFill>
                <a:srgbClr val="fafd00"/>
              </a:solidFill>
              <a:latin typeface="Arial"/>
            </a:endParaRPr>
          </a:p>
        </p:txBody>
      </p:sp>
      <p:sp>
        <p:nvSpPr>
          <p:cNvPr id="12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ly mouse dermal cells will respond to form a mouse plu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ce the plug is formed, the dermal papilla is required to stimulate the hair matrix cells to divide rapidl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1032120" y="1600200"/>
            <a:ext cx="2855520" cy="1618200"/>
            <a:chOff x="1032120" y="1600200"/>
            <a:chExt cx="2855520" cy="1618200"/>
          </a:xfrm>
        </p:grpSpPr>
        <p:grpSp>
          <p:nvGrpSpPr>
            <p:cNvPr id="128" name=""/>
            <p:cNvGrpSpPr/>
            <p:nvPr/>
          </p:nvGrpSpPr>
          <p:grpSpPr>
            <a:xfrm>
              <a:off x="1414440" y="1600200"/>
              <a:ext cx="2209680" cy="846000"/>
              <a:chOff x="1414440" y="1600200"/>
              <a:chExt cx="2209680" cy="846000"/>
            </a:xfrm>
          </p:grpSpPr>
          <p:sp>
            <p:nvSpPr>
              <p:cNvPr id="129" name=""/>
              <p:cNvSpPr/>
              <p:nvPr/>
            </p:nvSpPr>
            <p:spPr>
              <a:xfrm>
                <a:off x="1414440" y="1600200"/>
                <a:ext cx="220968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14440" y="1752480"/>
                <a:ext cx="2209680" cy="1526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490400" y="2057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43040" y="22096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319200">
                <a:off x="2252160" y="22856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18355200">
                <a:off x="2100240" y="213336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20270400">
                <a:off x="2404440" y="2057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710600">
                <a:off x="1947240" y="198072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43040" y="19810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7676000">
                <a:off x="1871280" y="22100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695400">
                <a:off x="2633400" y="20570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23920" y="22860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862000" y="19810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19416600">
                <a:off x="2861640" y="22856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557440" y="228600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090600" y="2057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90600" y="22860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068600">
                <a:off x="3319200" y="213372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1795320" y="1828800"/>
                <a:ext cx="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2100240" y="1828800"/>
                <a:ext cx="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633400" y="1828800"/>
                <a:ext cx="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014640" y="1828800"/>
                <a:ext cx="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1032120" y="2514600"/>
              <a:ext cx="2855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rst dermal mess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Make an appendage”</a:t>
              </a:r>
              <a:endParaRPr b="0" lang="en-US" sz="2000" spc="-1" strike="noStrike">
                <a:solidFill>
                  <a:srgbClr val="000000"/>
                </a:solidFill>
                <a:latin typeface="Times New Roman"/>
              </a:endParaRPr>
            </a:p>
          </p:txBody>
        </p:sp>
      </p:grpSp>
      <p:grpSp>
        <p:nvGrpSpPr>
          <p:cNvPr id="152" name=""/>
          <p:cNvGrpSpPr/>
          <p:nvPr/>
        </p:nvGrpSpPr>
        <p:grpSpPr>
          <a:xfrm>
            <a:off x="3679920" y="2666880"/>
            <a:ext cx="2568960" cy="2227680"/>
            <a:chOff x="3679920" y="2666880"/>
            <a:chExt cx="2568960" cy="2227680"/>
          </a:xfrm>
        </p:grpSpPr>
        <p:grpSp>
          <p:nvGrpSpPr>
            <p:cNvPr id="153" name=""/>
            <p:cNvGrpSpPr/>
            <p:nvPr/>
          </p:nvGrpSpPr>
          <p:grpSpPr>
            <a:xfrm>
              <a:off x="3984840" y="2666880"/>
              <a:ext cx="2209680" cy="1603440"/>
              <a:chOff x="3984840" y="2666880"/>
              <a:chExt cx="2209680" cy="1603440"/>
            </a:xfrm>
          </p:grpSpPr>
          <p:sp>
            <p:nvSpPr>
              <p:cNvPr id="154" name=""/>
              <p:cNvSpPr/>
              <p:nvPr/>
            </p:nvSpPr>
            <p:spPr>
              <a:xfrm>
                <a:off x="3984840" y="2666880"/>
                <a:ext cx="2209680" cy="152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97440" y="2819520"/>
                <a:ext cx="2184480" cy="990360"/>
              </a:xfrm>
              <a:custGeom>
                <a:avLst/>
                <a:gdLst/>
                <a:ahLst/>
                <a:rect l="l" t="t" r="r" b="b"/>
                <a:pathLst>
                  <a:path w="1376" h="624">
                    <a:moveTo>
                      <a:pt x="0" y="0"/>
                    </a:moveTo>
                    <a:cubicBezTo>
                      <a:pt x="0" y="37"/>
                      <a:pt x="0" y="74"/>
                      <a:pt x="0" y="112"/>
                    </a:cubicBezTo>
                    <a:lnTo>
                      <a:pt x="272" y="112"/>
                    </a:lnTo>
                    <a:cubicBezTo>
                      <a:pt x="323" y="146"/>
                      <a:pt x="320" y="139"/>
                      <a:pt x="344" y="192"/>
                    </a:cubicBezTo>
                    <a:cubicBezTo>
                      <a:pt x="350" y="207"/>
                      <a:pt x="354" y="224"/>
                      <a:pt x="360" y="240"/>
                    </a:cubicBezTo>
                    <a:cubicBezTo>
                      <a:pt x="362" y="248"/>
                      <a:pt x="368" y="264"/>
                      <a:pt x="368" y="264"/>
                    </a:cubicBezTo>
                    <a:cubicBezTo>
                      <a:pt x="375" y="325"/>
                      <a:pt x="379" y="387"/>
                      <a:pt x="392" y="448"/>
                    </a:cubicBezTo>
                    <a:cubicBezTo>
                      <a:pt x="395" y="463"/>
                      <a:pt x="410" y="519"/>
                      <a:pt x="416" y="528"/>
                    </a:cubicBezTo>
                    <a:cubicBezTo>
                      <a:pt x="421" y="536"/>
                      <a:pt x="432" y="552"/>
                      <a:pt x="432" y="552"/>
                    </a:cubicBezTo>
                    <a:lnTo>
                      <a:pt x="560" y="624"/>
                    </a:lnTo>
                    <a:lnTo>
                      <a:pt x="752" y="624"/>
                    </a:lnTo>
                    <a:lnTo>
                      <a:pt x="896" y="528"/>
                    </a:lnTo>
                    <a:cubicBezTo>
                      <a:pt x="921" y="451"/>
                      <a:pt x="937" y="387"/>
                      <a:pt x="944" y="304"/>
                    </a:cubicBezTo>
                    <a:cubicBezTo>
                      <a:pt x="946" y="272"/>
                      <a:pt x="946" y="239"/>
                      <a:pt x="952" y="208"/>
                    </a:cubicBezTo>
                    <a:cubicBezTo>
                      <a:pt x="954" y="191"/>
                      <a:pt x="958" y="174"/>
                      <a:pt x="968" y="160"/>
                    </a:cubicBezTo>
                    <a:cubicBezTo>
                      <a:pt x="973" y="152"/>
                      <a:pt x="984" y="136"/>
                      <a:pt x="984" y="136"/>
                    </a:cubicBezTo>
                    <a:lnTo>
                      <a:pt x="1376" y="136"/>
                    </a:lnTo>
                    <a:lnTo>
                      <a:pt x="1376" y="0"/>
                    </a:lnTo>
                  </a:path>
                </a:pathLst>
              </a:custGeom>
              <a:solidFill>
                <a:srgbClr val="ccccff"/>
              </a:solid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13440" y="304812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94320" y="40384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319200">
                <a:off x="4898880" y="41144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18355200">
                <a:off x="4784760" y="38480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270400">
                <a:off x="5051160" y="38862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710600">
                <a:off x="4518000" y="365724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442040" y="3200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7676000">
                <a:off x="4556160" y="38484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695400">
                <a:off x="5280120" y="38858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46960" y="40384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508720" y="38098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9416600">
                <a:off x="5432760" y="40384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204160" y="411480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61360" y="320040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661360" y="350532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068600">
                <a:off x="5965920" y="31240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4518360" y="3429000"/>
                <a:ext cx="304560" cy="3049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593960" y="3581280"/>
                <a:ext cx="304920" cy="5335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975560" y="3505320"/>
                <a:ext cx="0" cy="68580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127840" y="3581280"/>
                <a:ext cx="76320" cy="5335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127840" y="3429000"/>
                <a:ext cx="457200" cy="45720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3679920" y="4495680"/>
              <a:ext cx="25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idermal message</a:t>
              </a:r>
              <a:endParaRPr b="0" lang="en-US" sz="2000" spc="-1" strike="noStrike">
                <a:solidFill>
                  <a:srgbClr val="000000"/>
                </a:solidFill>
                <a:latin typeface="Times New Roman"/>
              </a:endParaRPr>
            </a:p>
          </p:txBody>
        </p:sp>
      </p:grpSp>
      <p:grpSp>
        <p:nvGrpSpPr>
          <p:cNvPr id="178" name=""/>
          <p:cNvGrpSpPr/>
          <p:nvPr/>
        </p:nvGrpSpPr>
        <p:grpSpPr>
          <a:xfrm>
            <a:off x="5981400" y="3200400"/>
            <a:ext cx="3163320" cy="2771640"/>
            <a:chOff x="5981400" y="3200400"/>
            <a:chExt cx="3163320" cy="2771640"/>
          </a:xfrm>
        </p:grpSpPr>
        <p:grpSp>
          <p:nvGrpSpPr>
            <p:cNvPr id="179" name=""/>
            <p:cNvGrpSpPr/>
            <p:nvPr/>
          </p:nvGrpSpPr>
          <p:grpSpPr>
            <a:xfrm>
              <a:off x="6438960" y="3962520"/>
              <a:ext cx="2209680" cy="2009520"/>
              <a:chOff x="6438960" y="3962520"/>
              <a:chExt cx="2209680" cy="2009520"/>
            </a:xfrm>
          </p:grpSpPr>
          <p:sp>
            <p:nvSpPr>
              <p:cNvPr id="180" name=""/>
              <p:cNvSpPr/>
              <p:nvPr/>
            </p:nvSpPr>
            <p:spPr>
              <a:xfrm>
                <a:off x="6438960" y="3962520"/>
                <a:ext cx="220968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51560" y="4114800"/>
                <a:ext cx="2184480" cy="1593720"/>
              </a:xfrm>
              <a:custGeom>
                <a:avLst/>
                <a:gdLst/>
                <a:ahLst/>
                <a:rect l="l" t="t" r="r" b="b"/>
                <a:pathLst>
                  <a:path w="1376" h="1004">
                    <a:moveTo>
                      <a:pt x="0" y="0"/>
                    </a:moveTo>
                    <a:cubicBezTo>
                      <a:pt x="0" y="37"/>
                      <a:pt x="0" y="74"/>
                      <a:pt x="0" y="112"/>
                    </a:cubicBezTo>
                    <a:lnTo>
                      <a:pt x="272" y="112"/>
                    </a:lnTo>
                    <a:cubicBezTo>
                      <a:pt x="323" y="146"/>
                      <a:pt x="320" y="139"/>
                      <a:pt x="344" y="192"/>
                    </a:cubicBezTo>
                    <a:cubicBezTo>
                      <a:pt x="350" y="207"/>
                      <a:pt x="354" y="224"/>
                      <a:pt x="360" y="240"/>
                    </a:cubicBezTo>
                    <a:cubicBezTo>
                      <a:pt x="362" y="248"/>
                      <a:pt x="368" y="264"/>
                      <a:pt x="368" y="264"/>
                    </a:cubicBezTo>
                    <a:cubicBezTo>
                      <a:pt x="375" y="325"/>
                      <a:pt x="219" y="747"/>
                      <a:pt x="232" y="808"/>
                    </a:cubicBezTo>
                    <a:cubicBezTo>
                      <a:pt x="235" y="823"/>
                      <a:pt x="298" y="879"/>
                      <a:pt x="304" y="888"/>
                    </a:cubicBezTo>
                    <a:cubicBezTo>
                      <a:pt x="309" y="896"/>
                      <a:pt x="421" y="1004"/>
                      <a:pt x="464" y="960"/>
                    </a:cubicBezTo>
                    <a:lnTo>
                      <a:pt x="568" y="824"/>
                    </a:lnTo>
                    <a:lnTo>
                      <a:pt x="632" y="808"/>
                    </a:lnTo>
                    <a:lnTo>
                      <a:pt x="680" y="824"/>
                    </a:lnTo>
                    <a:lnTo>
                      <a:pt x="776" y="992"/>
                    </a:lnTo>
                    <a:lnTo>
                      <a:pt x="880" y="984"/>
                    </a:lnTo>
                    <a:lnTo>
                      <a:pt x="968" y="880"/>
                    </a:lnTo>
                    <a:cubicBezTo>
                      <a:pt x="993" y="803"/>
                      <a:pt x="937" y="387"/>
                      <a:pt x="944" y="304"/>
                    </a:cubicBezTo>
                    <a:cubicBezTo>
                      <a:pt x="946" y="272"/>
                      <a:pt x="946" y="239"/>
                      <a:pt x="952" y="208"/>
                    </a:cubicBezTo>
                    <a:cubicBezTo>
                      <a:pt x="954" y="191"/>
                      <a:pt x="958" y="174"/>
                      <a:pt x="968" y="160"/>
                    </a:cubicBezTo>
                    <a:cubicBezTo>
                      <a:pt x="973" y="152"/>
                      <a:pt x="984" y="136"/>
                      <a:pt x="984" y="136"/>
                    </a:cubicBezTo>
                    <a:lnTo>
                      <a:pt x="1376" y="136"/>
                    </a:lnTo>
                    <a:lnTo>
                      <a:pt x="1376" y="0"/>
                    </a:lnTo>
                  </a:path>
                </a:pathLst>
              </a:custGeom>
              <a:solidFill>
                <a:srgbClr val="ccccff"/>
              </a:solid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319200">
                <a:off x="7276680" y="563832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8355200">
                <a:off x="7086240" y="56768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20270400">
                <a:off x="7353000" y="548604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710600">
                <a:off x="6743520" y="480024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743520" y="44956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17676000">
                <a:off x="7467120" y="582876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rot="695400">
                <a:off x="7505640" y="556236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200720" y="579132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53360" y="571500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19416600">
                <a:off x="7581600" y="5714640"/>
                <a:ext cx="7596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505640" y="571500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191440" y="4952880"/>
                <a:ext cx="7632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039160" y="4495680"/>
                <a:ext cx="75960" cy="15264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1068600">
                <a:off x="7734240" y="5791320"/>
                <a:ext cx="76320" cy="152280"/>
              </a:xfrm>
              <a:prstGeom prst="ellipse">
                <a:avLst/>
              </a:prstGeom>
              <a:solidFill>
                <a:srgbClr val="ffffcc"/>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7124400" y="5486040"/>
                <a:ext cx="152280" cy="22860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7353000" y="5334120"/>
                <a:ext cx="75960" cy="38088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7581960" y="5409720"/>
                <a:ext cx="152280" cy="30492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5981400" y="3200400"/>
              <a:ext cx="316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cond dermal mess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AU" sz="2000" spc="-1" strike="noStrike">
                  <a:solidFill>
                    <a:srgbClr val="ffffff"/>
                  </a:solidFill>
                  <a:latin typeface="Arial"/>
                </a:rPr>
                <a:t>Make a follicle”</a:t>
              </a:r>
              <a:endParaRPr b="0" lang="en-US" sz="2000" spc="-1" strike="noStrike">
                <a:solidFill>
                  <a:srgbClr val="000000"/>
                </a:solidFill>
                <a:latin typeface="Times New Roman"/>
              </a:endParaRPr>
            </a:p>
          </p:txBody>
        </p:sp>
      </p:grpSp>
      <p:sp>
        <p:nvSpPr>
          <p:cNvPr id="200" name=""/>
          <p:cNvSpPr/>
          <p:nvPr/>
        </p:nvSpPr>
        <p:spPr>
          <a:xfrm>
            <a:off x="80470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issue interactions in the hair follicle bud</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2" name=""/>
          <p:cNvSpPr/>
          <p:nvPr/>
        </p:nvSpPr>
        <p:spPr>
          <a:xfrm>
            <a:off x="80470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2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pithelial-mesenchymal messages</a:t>
            </a:r>
            <a:endParaRPr b="1" lang="en-US" sz="3200" spc="-1" strike="noStrike">
              <a:solidFill>
                <a:srgbClr val="fafd00"/>
              </a:solidFill>
              <a:latin typeface="Arial"/>
            </a:endParaRPr>
          </a:p>
        </p:txBody>
      </p:sp>
      <p:sp>
        <p:nvSpPr>
          <p:cNvPr id="20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e are messages present in the ski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y are ordered and pass back and forth between the epidermis and dermis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messages become more specific as development progress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se messages are the basis of the epidermal-mesenchymal (E-M) interaction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0:03:14Z</dcterms:created>
  <dc:creator>USER</dc:creator>
  <dc:description/>
  <dc:language>en-US</dc:language>
  <cp:lastModifiedBy>Hdaily</cp:lastModifiedBy>
  <cp:lastPrinted>2000-02-03T09:09:47Z</cp:lastPrinted>
  <dcterms:modified xsi:type="dcterms:W3CDTF">2000-05-24T03:07:07Z</dcterms:modified>
  <cp:revision>2</cp:revision>
  <dc:subject/>
  <dc:title>Epithelial-mesenchymal Interactions in the Developing Follicle</dc:title>
</cp:coreProperties>
</file>