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3C6C-F3FB-4F6B-8D22-57AFEEDD8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094A-91D4-465E-A909-B6088B728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is module describes how DNA can be moved from one cell to another by using ve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rt from being able to manipulate DNA using restriction enzymes and ligase, we need some mechanism of transporting the DNA from one cell to another or to somewhere for further treatment.  In some ways vectors are a bit like forceps because they allow us to hold a particular gene in a way that we can manipulate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vectors and the three common types of vectors, plasmids, phage and cosmids, are describ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17E6-7A41-4B3F-9B4E-56F2AD9EE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s allow us to transport DNA fragments of interest into bacterial or other cells (eukaryotic) and this is important because it allows us to:</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btain large amounts of the gene of interes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ence the gen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dify the gen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e and purify large amounts of the encoded prote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10C7-3C71-4F3B-8F92-3715E2692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vector depends on what you are hoping to achieve and how difficult it is to clone DNA from the species of interest.  Plasmids tend to be used for cloning smaller fragments (up to 10 kb), phage tend to be for fragments up to 20 kb and cosmids for fragments around 45 kb.  These sizes are really based on what is efficiently accepted and transferred by the particular vector.  For example it is extremely difficult to clone a fragment larger than 10 kb into a plasmid and transform that into a bacterial cell successfully.  The beauty of plasmids though, is that if you can clone things in smaller fragments so it usually takes less manipulation to find out exactly where the gene you are interested in is encoded on that cloned fragm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some DNA which is difficult to clone (often for no obvious reason) can be cloned as a larger fragment in a phage.  This may be because of the additional DNA and/or the way that the phage transfers the DNA into the cell.  The phage injects the cell with the foreign DNA, and then takes over the cell, giving the bacteria little option but to accept i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oning Vector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hil Vercoe, The University of Western Australia.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oning vector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lecular vehicles for transporting the DNA fragment(s) of interest into bacterial (or other) cells</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btain large amounts of the gene of interes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que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dif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press/purify the encoded protei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oning vector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lasmi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nd to be for smaller fragm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rally up to 10 kb reasonably efficient</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 </a:t>
            </a: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hage </a:t>
            </a:r>
            <a:r>
              <a:rPr b="1" lang="en-AU" sz="2800" spc="-1" strike="noStrike">
                <a:solidFill>
                  <a:srgbClr val="ffffff"/>
                </a:solidFill>
                <a:latin typeface="Symbol"/>
                <a:ea typeface="Symbol"/>
              </a:rPr>
              <a: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agments up to about 24 kb</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smi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agments up to 45 kb</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3:07:54Z</dcterms:created>
  <dc:creator>USER</dc:creator>
  <dc:description/>
  <dc:language>en-US</dc:language>
  <cp:lastModifiedBy>Hdaily</cp:lastModifiedBy>
  <cp:lastPrinted>2000-02-03T09:09:47Z</cp:lastPrinted>
  <dcterms:modified xsi:type="dcterms:W3CDTF">2000-05-18T04:30:51Z</dcterms:modified>
  <cp:revision>3</cp:revision>
  <dc:subject/>
  <dc:title>Cloning Vectors</dc:title>
</cp:coreProperties>
</file>