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0219-67C2-4D3A-BE4F-15C3E51FC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FEA8-4173-4A5F-93D3-600BC1F85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many aspects of wool biology and how wool biology may impact on wool production, a basic understanding of molecular biology is required.  This module describes the structure of DNA, transcription and translation, important steps between the gene and prote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5A07-5FD1-4347-970D-7DC945188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contains the code for amino acids.  The gene is transcribed to mRNA, which is then read by the ribosome's in steps of three bases called codons.  The codons and the amino acids they code for are available in codon usage tables that are present in any biochemistry or molecular biology text boo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ad the right reading frame the ribosome has to be orientated or provided with a signal to start.  This signal is called the Translation Start Site and is normally the codon for Methionine (ATG).  Similarly, the ribosome needs to know where to stop and there are three codons that resemble a stop sign from a ribosome's point of view (TGA, TAG, TAA).  In between these two signals the ribosome reads the message in steps of three nucleotid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8D5D-47B3-445F-914A-6986C31A5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 structure is set by various signals within the base sequence of the gene.  Essentially there are 6 main features of gene structure.  These are listed below in the order that they are encountered on the DNA in a 5’ to 3’ dir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omoter - which is the on/off switch for the ge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hine Dalgarno sequence or ribosome binding site (RBS) which provides a recognition site for the ribosome to attach to the mRN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ranscription Initiation Site (TIS) - which is the signal for RNA Polymerase to start transcribing the mRN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ranslation Start Site (AT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Translation Stop Site (TGA or TAG or TA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Transcription Stop Site some signal (stem loop structure or protein association; TTS) that stops the RNA Polymerase transcribing mRN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very basic sketch of gene structure and it is based more on a prokaryotic gene rather than eukaryotic gene.  Perhaps the most important difference that should be mentioned is the absence of introns in prokaryotic gen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BEE5-FE11-4039-BDFD-3622CBFF0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562040" y="533520"/>
            <a:ext cx="3657600" cy="2743200"/>
          </a:xfrm>
          <a:prstGeom prst="rect">
            <a:avLst/>
          </a:prstGeom>
          <a:ln w="0">
            <a:noFill/>
          </a:ln>
        </p:spPr>
      </p:sp>
      <p:sp>
        <p:nvSpPr>
          <p:cNvPr id="1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at the mRNA extends from the TIS to the TTS site and contains the coding region of the ge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6DEA1-3FDF-43C1-A019-2076FC1DA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562040" y="533520"/>
            <a:ext cx="3657600" cy="2743200"/>
          </a:xfrm>
          <a:prstGeom prst="rect">
            <a:avLst/>
          </a:prstGeom>
          <a:ln w="0">
            <a:noFill/>
          </a:ln>
        </p:spPr>
      </p:sp>
      <p:sp>
        <p:nvSpPr>
          <p:cNvPr id="1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introns are spliced out of the mRNA (so there is a pre form of the mRNA) leaving just the exons, which encode the amino acid sequence of the protein.  The spliced mRNA is read (translated) by the ribosome and the protein is produc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rom Genes to Protein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Phil Vercoe, The University of Western Australia.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ading Frame</a:t>
            </a:r>
            <a:endParaRPr b="1" lang="en-US" sz="3200" spc="-1" strike="noStrike">
              <a:solidFill>
                <a:srgbClr val="fafd00"/>
              </a:solidFill>
              <a:latin typeface="Arial"/>
            </a:endParaRPr>
          </a:p>
        </p:txBody>
      </p:sp>
      <p:sp>
        <p:nvSpPr>
          <p:cNvPr id="51"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genetic code is read in stepwise groups of three nucleotid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reading frame is set by the Translation Initiation codon and is read in three’s until the Translation Termination or Stop codon</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 structure</a:t>
            </a:r>
            <a:endParaRPr b="1" lang="en-US" sz="3200" spc="-1" strike="noStrike">
              <a:solidFill>
                <a:srgbClr val="fafd00"/>
              </a:solidFill>
              <a:latin typeface="Arial"/>
            </a:endParaRPr>
          </a:p>
        </p:txBody>
      </p:sp>
      <p:sp>
        <p:nvSpPr>
          <p:cNvPr id="53" name="PlaceHolder 2"/>
          <p:cNvSpPr>
            <a:spLocks noGrp="1"/>
          </p:cNvSpPr>
          <p:nvPr>
            <p:ph/>
          </p:nvPr>
        </p:nvSpPr>
        <p:spPr>
          <a:xfrm>
            <a:off x="1143000" y="685800"/>
            <a:ext cx="7772400" cy="3124080"/>
          </a:xfrm>
          <a:prstGeom prst="rect">
            <a:avLst/>
          </a:prstGeom>
          <a:noFill/>
          <a:ln w="0">
            <a:noFill/>
          </a:ln>
        </p:spPr>
        <p:txBody>
          <a:bodyPr lIns="90000" rIns="90000" tIns="46800" bIns="46800"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nslation Initiation and Termination Codons</a:t>
            </a:r>
            <a:endParaRPr b="1" lang="en-US" sz="2000" spc="-1" strike="noStrike">
              <a:solidFill>
                <a:srgbClr val="ffffff"/>
              </a:solidFill>
              <a:latin typeface="Arial"/>
            </a:endParaRPr>
          </a:p>
          <a:p>
            <a:pPr lvl="1" marL="819000" indent="-2854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efine the boundaries of the gene</a:t>
            </a:r>
            <a:endParaRPr b="1" lang="en-US" sz="18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ukaryotes</a:t>
            </a:r>
            <a:endParaRPr b="1" lang="en-US" sz="2000" spc="-1" strike="noStrike">
              <a:solidFill>
                <a:srgbClr val="ffffff"/>
              </a:solidFill>
              <a:latin typeface="Arial"/>
            </a:endParaRPr>
          </a:p>
          <a:p>
            <a:pPr lvl="1" marL="819000" indent="-2854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xons - coding regions of the gene</a:t>
            </a:r>
            <a:endParaRPr b="1" lang="en-US" sz="1800" spc="-1" strike="noStrike">
              <a:solidFill>
                <a:srgbClr val="ffffff"/>
              </a:solidFill>
              <a:latin typeface="Arial"/>
            </a:endParaRPr>
          </a:p>
          <a:p>
            <a:pPr lvl="1" marL="819000" indent="-2854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trons - non-coding regions that are spliced out at the RNA level</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54" name=""/>
          <p:cNvGrpSpPr/>
          <p:nvPr/>
        </p:nvGrpSpPr>
        <p:grpSpPr>
          <a:xfrm>
            <a:off x="1139760" y="3429000"/>
            <a:ext cx="8003880" cy="2512080"/>
            <a:chOff x="1139760" y="3429000"/>
            <a:chExt cx="8003880" cy="2512080"/>
          </a:xfrm>
        </p:grpSpPr>
        <p:sp>
          <p:nvSpPr>
            <p:cNvPr id="55" name=""/>
            <p:cNvSpPr/>
            <p:nvPr/>
          </p:nvSpPr>
          <p:spPr>
            <a:xfrm>
              <a:off x="1139760" y="441972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
            <p:cNvGrpSpPr/>
            <p:nvPr/>
          </p:nvGrpSpPr>
          <p:grpSpPr>
            <a:xfrm>
              <a:off x="1139760" y="3429000"/>
              <a:ext cx="8003880" cy="2512080"/>
              <a:chOff x="1139760" y="3429000"/>
              <a:chExt cx="8003880" cy="2512080"/>
            </a:xfrm>
          </p:grpSpPr>
          <p:sp>
            <p:nvSpPr>
              <p:cNvPr id="57" name=""/>
              <p:cNvSpPr/>
              <p:nvPr/>
            </p:nvSpPr>
            <p:spPr>
              <a:xfrm>
                <a:off x="2822400" y="4129200"/>
                <a:ext cx="4986360" cy="1918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474720" y="4129200"/>
                <a:ext cx="692280" cy="1886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06840" y="4140360"/>
                <a:ext cx="234720" cy="172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995720" y="4129200"/>
                <a:ext cx="585720" cy="18864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246720" y="4129200"/>
                <a:ext cx="95040" cy="18864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184880" y="4129200"/>
                <a:ext cx="638280" cy="188640"/>
              </a:xfrm>
              <a:prstGeom prst="rect">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822400" y="4129200"/>
                <a:ext cx="312840" cy="188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flipV="1">
                <a:off x="1366560" y="4224240"/>
                <a:ext cx="1454400" cy="7920"/>
              </a:xfrm>
              <a:prstGeom prst="line">
                <a:avLst/>
              </a:prstGeom>
              <a:ln w="12600">
                <a:solidFill>
                  <a:srgbClr val="ffcc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5" name=""/>
              <p:cNvSpPr/>
              <p:nvPr/>
            </p:nvSpPr>
            <p:spPr>
              <a:xfrm flipH="1">
                <a:off x="7811640" y="4229280"/>
                <a:ext cx="664920" cy="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2409480" y="3768480"/>
                <a:ext cx="0" cy="46044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182680" y="3429000"/>
                <a:ext cx="576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TIS</a:t>
                </a:r>
                <a:endParaRPr b="0" lang="en-US" sz="2000" spc="-1" strike="noStrike">
                  <a:solidFill>
                    <a:srgbClr val="000000"/>
                  </a:solidFill>
                  <a:latin typeface="Times New Roman"/>
                </a:endParaRPr>
              </a:p>
            </p:txBody>
          </p:sp>
          <p:sp>
            <p:nvSpPr>
              <p:cNvPr id="68" name=""/>
              <p:cNvSpPr/>
              <p:nvPr/>
            </p:nvSpPr>
            <p:spPr>
              <a:xfrm>
                <a:off x="2411280" y="3754440"/>
                <a:ext cx="247680" cy="65160"/>
              </a:xfrm>
              <a:prstGeom prst="rightArrow">
                <a:avLst>
                  <a:gd name="adj1" fmla="val 50000"/>
                  <a:gd name="adj2" fmla="val 190125"/>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9" name=""/>
              <p:cNvSpPr/>
              <p:nvPr/>
            </p:nvSpPr>
            <p:spPr>
              <a:xfrm>
                <a:off x="2823840" y="4341960"/>
                <a:ext cx="0" cy="35532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32600" y="4681440"/>
                <a:ext cx="3922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ATG (Translation Initiation Codon)</a:t>
                </a:r>
                <a:endParaRPr b="0" lang="en-US" sz="1800" spc="-1" strike="noStrike">
                  <a:solidFill>
                    <a:srgbClr val="000000"/>
                  </a:solidFill>
                  <a:latin typeface="Times New Roman"/>
                </a:endParaRPr>
              </a:p>
            </p:txBody>
          </p:sp>
          <p:sp>
            <p:nvSpPr>
              <p:cNvPr id="71" name=""/>
              <p:cNvSpPr/>
              <p:nvPr/>
            </p:nvSpPr>
            <p:spPr>
              <a:xfrm>
                <a:off x="7527600" y="4746600"/>
                <a:ext cx="74304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TGA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TAG</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TAA</a:t>
                </a:r>
                <a:endParaRPr b="0" lang="en-US" sz="1800" spc="-1" strike="noStrike">
                  <a:solidFill>
                    <a:srgbClr val="000000"/>
                  </a:solidFill>
                  <a:latin typeface="Times New Roman"/>
                </a:endParaRPr>
              </a:p>
            </p:txBody>
          </p:sp>
          <p:sp>
            <p:nvSpPr>
              <p:cNvPr id="72" name=""/>
              <p:cNvSpPr/>
              <p:nvPr/>
            </p:nvSpPr>
            <p:spPr>
              <a:xfrm>
                <a:off x="7815240" y="4341960"/>
                <a:ext cx="0" cy="35532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503000" y="4116240"/>
                <a:ext cx="640080" cy="217800"/>
              </a:xfrm>
              <a:prstGeom prst="rightArrow">
                <a:avLst>
                  <a:gd name="adj1" fmla="val 50000"/>
                  <a:gd name="adj2" fmla="val 9796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757160" y="4416480"/>
                <a:ext cx="0" cy="74304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139760" y="5229360"/>
                <a:ext cx="153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Promoter</a:t>
                </a:r>
                <a:endParaRPr b="0" lang="en-US" sz="2400" spc="-1" strike="noStrike">
                  <a:solidFill>
                    <a:srgbClr val="000000"/>
                  </a:solidFill>
                  <a:latin typeface="Times New Roman"/>
                </a:endParaRPr>
              </a:p>
            </p:txBody>
          </p:sp>
          <p:sp>
            <p:nvSpPr>
              <p:cNvPr id="76" name=""/>
              <p:cNvSpPr/>
              <p:nvPr/>
            </p:nvSpPr>
            <p:spPr>
              <a:xfrm>
                <a:off x="6848280" y="5437080"/>
                <a:ext cx="2295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Stop codons)</a:t>
                </a:r>
                <a:endParaRPr b="0" lang="en-US" sz="2400" spc="-1" strike="noStrike">
                  <a:solidFill>
                    <a:srgbClr val="000000"/>
                  </a:solidFill>
                  <a:latin typeface="Times New Roman"/>
                </a:endParaRPr>
              </a:p>
            </p:txBody>
          </p:sp>
          <p:sp>
            <p:nvSpPr>
              <p:cNvPr id="77" name=""/>
              <p:cNvSpPr/>
              <p:nvPr/>
            </p:nvSpPr>
            <p:spPr>
              <a:xfrm flipV="1">
                <a:off x="8346960" y="3768480"/>
                <a:ext cx="0" cy="46044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054640" y="3429000"/>
                <a:ext cx="661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TTS</a:t>
                </a:r>
                <a:endParaRPr b="0" lang="en-US" sz="2000" spc="-1" strike="noStrike">
                  <a:solidFill>
                    <a:srgbClr val="000000"/>
                  </a:solidFill>
                  <a:latin typeface="Times New Roman"/>
                </a:endParaRPr>
              </a:p>
            </p:txBody>
          </p:sp>
          <p:sp>
            <p:nvSpPr>
              <p:cNvPr id="79" name=""/>
              <p:cNvSpPr/>
              <p:nvPr/>
            </p:nvSpPr>
            <p:spPr>
              <a:xfrm>
                <a:off x="3724200" y="5589720"/>
                <a:ext cx="749160" cy="2156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92800" y="5486400"/>
                <a:ext cx="1551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INTRONS</a:t>
                </a:r>
                <a:endParaRPr b="0" lang="en-US" sz="2400" spc="-1" strike="noStrike">
                  <a:solidFill>
                    <a:srgbClr val="000000"/>
                  </a:solidFill>
                  <a:latin typeface="Times New Roman"/>
                </a:endParaRPr>
              </a:p>
            </p:txBody>
          </p:sp>
        </p:grpSp>
      </p:grpSp>
      <p:sp>
        <p:nvSpPr>
          <p:cNvPr id="81"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2" name=""/>
          <p:cNvGrpSpPr/>
          <p:nvPr/>
        </p:nvGrpSpPr>
        <p:grpSpPr>
          <a:xfrm>
            <a:off x="1027080" y="1550880"/>
            <a:ext cx="8116560" cy="3912480"/>
            <a:chOff x="1027080" y="1550880"/>
            <a:chExt cx="8116560" cy="3912480"/>
          </a:xfrm>
        </p:grpSpPr>
        <p:sp>
          <p:nvSpPr>
            <p:cNvPr id="83" name=""/>
            <p:cNvSpPr/>
            <p:nvPr/>
          </p:nvSpPr>
          <p:spPr>
            <a:xfrm>
              <a:off x="2776320" y="2251080"/>
              <a:ext cx="4986360" cy="19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428640" y="2251080"/>
              <a:ext cx="692280" cy="1890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460760" y="2251080"/>
              <a:ext cx="234720" cy="18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949640" y="2251080"/>
              <a:ext cx="585720" cy="1890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200640" y="2251080"/>
              <a:ext cx="95040" cy="18900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138800" y="2251080"/>
              <a:ext cx="638280" cy="189000"/>
            </a:xfrm>
            <a:prstGeom prst="rect">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776320" y="2251080"/>
              <a:ext cx="312840" cy="189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flipV="1">
              <a:off x="1320480" y="2346480"/>
              <a:ext cx="1454400" cy="7920"/>
            </a:xfrm>
            <a:prstGeom prst="line">
              <a:avLst/>
            </a:prstGeom>
            <a:ln w="12600">
              <a:solidFill>
                <a:srgbClr val="ffcc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1" name=""/>
            <p:cNvSpPr/>
            <p:nvPr/>
          </p:nvSpPr>
          <p:spPr>
            <a:xfrm flipH="1">
              <a:off x="7765560" y="2351160"/>
              <a:ext cx="664920" cy="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2363760" y="1890360"/>
              <a:ext cx="0" cy="46044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136600" y="1550880"/>
              <a:ext cx="576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TIS</a:t>
              </a:r>
              <a:endParaRPr b="0" lang="en-US" sz="2000" spc="-1" strike="noStrike">
                <a:solidFill>
                  <a:srgbClr val="000000"/>
                </a:solidFill>
                <a:latin typeface="Times New Roman"/>
              </a:endParaRPr>
            </a:p>
          </p:txBody>
        </p:sp>
        <p:sp>
          <p:nvSpPr>
            <p:cNvPr id="94" name=""/>
            <p:cNvSpPr/>
            <p:nvPr/>
          </p:nvSpPr>
          <p:spPr>
            <a:xfrm>
              <a:off x="2365200" y="1876320"/>
              <a:ext cx="247680" cy="65160"/>
            </a:xfrm>
            <a:prstGeom prst="rightArrow">
              <a:avLst>
                <a:gd name="adj1" fmla="val 50000"/>
                <a:gd name="adj2" fmla="val 190125"/>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95" name=""/>
            <p:cNvSpPr/>
            <p:nvPr/>
          </p:nvSpPr>
          <p:spPr>
            <a:xfrm>
              <a:off x="2777760" y="2463840"/>
              <a:ext cx="0" cy="35568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486520" y="2803680"/>
              <a:ext cx="3922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ATG (Translation Initiation Codon)</a:t>
              </a:r>
              <a:endParaRPr b="0" lang="en-US" sz="1800" spc="-1" strike="noStrike">
                <a:solidFill>
                  <a:srgbClr val="000000"/>
                </a:solidFill>
                <a:latin typeface="Times New Roman"/>
              </a:endParaRPr>
            </a:p>
          </p:txBody>
        </p:sp>
        <p:sp>
          <p:nvSpPr>
            <p:cNvPr id="97" name=""/>
            <p:cNvSpPr/>
            <p:nvPr/>
          </p:nvSpPr>
          <p:spPr>
            <a:xfrm>
              <a:off x="7481520" y="2868480"/>
              <a:ext cx="74304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TGA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TAG</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TAA</a:t>
              </a:r>
              <a:endParaRPr b="0" lang="en-US" sz="1800" spc="-1" strike="noStrike">
                <a:solidFill>
                  <a:srgbClr val="000000"/>
                </a:solidFill>
                <a:latin typeface="Times New Roman"/>
              </a:endParaRPr>
            </a:p>
          </p:txBody>
        </p:sp>
        <p:sp>
          <p:nvSpPr>
            <p:cNvPr id="98" name=""/>
            <p:cNvSpPr/>
            <p:nvPr/>
          </p:nvSpPr>
          <p:spPr>
            <a:xfrm>
              <a:off x="7769160" y="2463840"/>
              <a:ext cx="0" cy="35568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457280" y="2238480"/>
              <a:ext cx="639720" cy="217440"/>
            </a:xfrm>
            <a:prstGeom prst="rightArrow">
              <a:avLst>
                <a:gd name="adj1" fmla="val 50000"/>
                <a:gd name="adj2" fmla="val 9806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711080" y="2538360"/>
              <a:ext cx="0" cy="74304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093680" y="3351240"/>
              <a:ext cx="153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Promoter</a:t>
              </a:r>
              <a:endParaRPr b="0" lang="en-US" sz="2400" spc="-1" strike="noStrike">
                <a:solidFill>
                  <a:srgbClr val="000000"/>
                </a:solidFill>
                <a:latin typeface="Times New Roman"/>
              </a:endParaRPr>
            </a:p>
          </p:txBody>
        </p:sp>
        <p:sp>
          <p:nvSpPr>
            <p:cNvPr id="102" name=""/>
            <p:cNvSpPr/>
            <p:nvPr/>
          </p:nvSpPr>
          <p:spPr>
            <a:xfrm>
              <a:off x="6848280" y="3813120"/>
              <a:ext cx="2295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top codons)</a:t>
              </a:r>
              <a:endParaRPr b="0" lang="en-US" sz="2400" spc="-1" strike="noStrike">
                <a:solidFill>
                  <a:srgbClr val="000000"/>
                </a:solidFill>
                <a:latin typeface="Times New Roman"/>
              </a:endParaRPr>
            </a:p>
          </p:txBody>
        </p:sp>
        <p:sp>
          <p:nvSpPr>
            <p:cNvPr id="103" name=""/>
            <p:cNvSpPr/>
            <p:nvPr/>
          </p:nvSpPr>
          <p:spPr>
            <a:xfrm flipV="1">
              <a:off x="8300880" y="1890360"/>
              <a:ext cx="0" cy="46044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008560" y="1550880"/>
              <a:ext cx="661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TTS</a:t>
              </a:r>
              <a:endParaRPr b="0" lang="en-US" sz="2000" spc="-1" strike="noStrike">
                <a:solidFill>
                  <a:srgbClr val="000000"/>
                </a:solidFill>
                <a:latin typeface="Times New Roman"/>
              </a:endParaRPr>
            </a:p>
          </p:txBody>
        </p:sp>
        <p:sp>
          <p:nvSpPr>
            <p:cNvPr id="105" name=""/>
            <p:cNvSpPr/>
            <p:nvPr/>
          </p:nvSpPr>
          <p:spPr>
            <a:xfrm>
              <a:off x="2700000" y="5146560"/>
              <a:ext cx="4986360" cy="19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352680" y="5146560"/>
              <a:ext cx="691920" cy="1890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384440" y="5146560"/>
              <a:ext cx="235080" cy="18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73320" y="5146560"/>
              <a:ext cx="585720" cy="1890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124320" y="5146560"/>
              <a:ext cx="95400" cy="18900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062480" y="5146560"/>
              <a:ext cx="638280" cy="189000"/>
            </a:xfrm>
            <a:prstGeom prst="rect">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00000" y="5146560"/>
              <a:ext cx="312840" cy="189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96800" y="5251320"/>
              <a:ext cx="403200" cy="6480"/>
            </a:xfrm>
            <a:prstGeom prst="line">
              <a:avLst/>
            </a:prstGeom>
            <a:ln w="12600">
              <a:solidFill>
                <a:srgbClr val="ffcc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3" name=""/>
            <p:cNvSpPr/>
            <p:nvPr/>
          </p:nvSpPr>
          <p:spPr>
            <a:xfrm flipH="1" flipV="1">
              <a:off x="7687800" y="5246280"/>
              <a:ext cx="549000" cy="9720"/>
            </a:xfrm>
            <a:prstGeom prst="line">
              <a:avLst/>
            </a:prstGeom>
            <a:ln w="12600">
              <a:solidFill>
                <a:srgbClr val="ffcc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4" name=""/>
            <p:cNvSpPr/>
            <p:nvPr/>
          </p:nvSpPr>
          <p:spPr>
            <a:xfrm>
              <a:off x="1027080" y="5008680"/>
              <a:ext cx="1395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mRNA</a:t>
              </a:r>
              <a:endParaRPr b="0" lang="en-US" sz="2400" spc="-1" strike="noStrike">
                <a:solidFill>
                  <a:srgbClr val="000000"/>
                </a:solidFill>
                <a:latin typeface="Times New Roman"/>
              </a:endParaRPr>
            </a:p>
          </p:txBody>
        </p:sp>
        <p:sp>
          <p:nvSpPr>
            <p:cNvPr id="115" name=""/>
            <p:cNvSpPr/>
            <p:nvPr/>
          </p:nvSpPr>
          <p:spPr>
            <a:xfrm>
              <a:off x="4236840" y="3732120"/>
              <a:ext cx="0" cy="5097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402800" y="3809880"/>
              <a:ext cx="212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Transcription</a:t>
              </a:r>
              <a:endParaRPr b="0" lang="en-US" sz="2400" spc="-1" strike="noStrike">
                <a:solidFill>
                  <a:srgbClr val="000000"/>
                </a:solidFill>
                <a:latin typeface="Times New Roman"/>
              </a:endParaRPr>
            </a:p>
          </p:txBody>
        </p:sp>
      </p:grpSp>
      <p:sp>
        <p:nvSpPr>
          <p:cNvPr id="117"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
        <p:nvSpPr>
          <p:cNvPr id="1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nscription of a gene to pre-mRNA</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9" name=""/>
          <p:cNvGrpSpPr/>
          <p:nvPr/>
        </p:nvGrpSpPr>
        <p:grpSpPr>
          <a:xfrm>
            <a:off x="1126800" y="1290600"/>
            <a:ext cx="8018640" cy="4722840"/>
            <a:chOff x="1126800" y="1290600"/>
            <a:chExt cx="8018640" cy="4722840"/>
          </a:xfrm>
        </p:grpSpPr>
        <p:sp>
          <p:nvSpPr>
            <p:cNvPr id="120" name=""/>
            <p:cNvSpPr/>
            <p:nvPr/>
          </p:nvSpPr>
          <p:spPr>
            <a:xfrm>
              <a:off x="2860560" y="1481040"/>
              <a:ext cx="5462640" cy="1065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126800" y="1290600"/>
              <a:ext cx="839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DNA</a:t>
              </a:r>
              <a:endParaRPr b="0" lang="en-US" sz="2400" spc="-1" strike="noStrike">
                <a:solidFill>
                  <a:srgbClr val="000000"/>
                </a:solidFill>
                <a:latin typeface="Times New Roman"/>
              </a:endParaRPr>
            </a:p>
          </p:txBody>
        </p:sp>
        <p:sp>
          <p:nvSpPr>
            <p:cNvPr id="122" name=""/>
            <p:cNvSpPr/>
            <p:nvPr/>
          </p:nvSpPr>
          <p:spPr>
            <a:xfrm>
              <a:off x="3575160" y="1481040"/>
              <a:ext cx="760320" cy="104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05200" y="1481040"/>
              <a:ext cx="258840" cy="10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240160" y="1481040"/>
              <a:ext cx="642960" cy="10476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10320" y="1481040"/>
              <a:ext cx="106200" cy="10476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610400" y="1481040"/>
              <a:ext cx="701640" cy="104760"/>
            </a:xfrm>
            <a:prstGeom prst="rect">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860560" y="1481040"/>
              <a:ext cx="344520" cy="104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433840" y="1905120"/>
              <a:ext cx="0" cy="5094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460120" y="1935000"/>
              <a:ext cx="212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Transcription</a:t>
              </a:r>
              <a:endParaRPr b="0" lang="en-US" sz="2400" spc="-1" strike="noStrike">
                <a:solidFill>
                  <a:srgbClr val="000000"/>
                </a:solidFill>
                <a:latin typeface="Times New Roman"/>
              </a:endParaRPr>
            </a:p>
          </p:txBody>
        </p:sp>
        <p:sp>
          <p:nvSpPr>
            <p:cNvPr id="130" name=""/>
            <p:cNvSpPr/>
            <p:nvPr/>
          </p:nvSpPr>
          <p:spPr>
            <a:xfrm>
              <a:off x="1127160" y="2589120"/>
              <a:ext cx="168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pre-mRNA</a:t>
              </a:r>
              <a:endParaRPr b="0" lang="en-US" sz="2400" spc="-1" strike="noStrike">
                <a:solidFill>
                  <a:srgbClr val="000000"/>
                </a:solidFill>
                <a:latin typeface="Times New Roman"/>
              </a:endParaRPr>
            </a:p>
          </p:txBody>
        </p:sp>
        <p:sp>
          <p:nvSpPr>
            <p:cNvPr id="131" name=""/>
            <p:cNvSpPr/>
            <p:nvPr/>
          </p:nvSpPr>
          <p:spPr>
            <a:xfrm>
              <a:off x="2860560" y="2730600"/>
              <a:ext cx="5462640" cy="106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575160" y="2730600"/>
              <a:ext cx="760320" cy="104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05200" y="2730600"/>
              <a:ext cx="258840" cy="10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240160" y="2730600"/>
              <a:ext cx="642960" cy="10476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610320" y="2730600"/>
              <a:ext cx="106200" cy="10476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610400" y="2730600"/>
              <a:ext cx="701640" cy="104760"/>
            </a:xfrm>
            <a:prstGeom prst="rect">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60560" y="2730600"/>
              <a:ext cx="344520" cy="104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433840" y="3124080"/>
              <a:ext cx="0" cy="5079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730480" y="3184560"/>
              <a:ext cx="1367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Splicing</a:t>
              </a:r>
              <a:endParaRPr b="0" lang="en-US" sz="2400" spc="-1" strike="noStrike">
                <a:solidFill>
                  <a:srgbClr val="000000"/>
                </a:solidFill>
                <a:latin typeface="Times New Roman"/>
              </a:endParaRPr>
            </a:p>
          </p:txBody>
        </p:sp>
        <p:sp>
          <p:nvSpPr>
            <p:cNvPr id="140" name=""/>
            <p:cNvSpPr/>
            <p:nvPr/>
          </p:nvSpPr>
          <p:spPr>
            <a:xfrm>
              <a:off x="3217680" y="3978360"/>
              <a:ext cx="760680" cy="104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990960" y="3978360"/>
              <a:ext cx="258840" cy="10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265640" y="3978360"/>
              <a:ext cx="642960" cy="10476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924440" y="3978360"/>
              <a:ext cx="106200" cy="10476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035320" y="3978360"/>
              <a:ext cx="702000" cy="104760"/>
            </a:xfrm>
            <a:prstGeom prst="rect">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60560" y="3978360"/>
              <a:ext cx="344520" cy="104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127160" y="3821040"/>
              <a:ext cx="1110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mRNA</a:t>
              </a:r>
              <a:endParaRPr b="0" lang="en-US" sz="2400" spc="-1" strike="noStrike">
                <a:solidFill>
                  <a:srgbClr val="000000"/>
                </a:solidFill>
                <a:latin typeface="Times New Roman"/>
              </a:endParaRPr>
            </a:p>
          </p:txBody>
        </p:sp>
        <p:sp>
          <p:nvSpPr>
            <p:cNvPr id="147" name=""/>
            <p:cNvSpPr/>
            <p:nvPr/>
          </p:nvSpPr>
          <p:spPr>
            <a:xfrm>
              <a:off x="5433840" y="4343400"/>
              <a:ext cx="0" cy="5079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559480" y="4373640"/>
              <a:ext cx="358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Translation (Ribosome)</a:t>
              </a:r>
              <a:endParaRPr b="0" lang="en-US" sz="2400" spc="-1" strike="noStrike">
                <a:solidFill>
                  <a:srgbClr val="000000"/>
                </a:solidFill>
                <a:latin typeface="Times New Roman"/>
              </a:endParaRPr>
            </a:p>
          </p:txBody>
        </p:sp>
        <p:sp>
          <p:nvSpPr>
            <p:cNvPr id="149" name=""/>
            <p:cNvSpPr/>
            <p:nvPr/>
          </p:nvSpPr>
          <p:spPr>
            <a:xfrm>
              <a:off x="4754520" y="5111640"/>
              <a:ext cx="1130400" cy="901800"/>
            </a:xfrm>
            <a:custGeom>
              <a:avLst/>
              <a:gdLst>
                <a:gd name="textAreaLeft" fmla="*/ 258120 w 1130400"/>
                <a:gd name="textAreaRight" fmla="*/ 872280 w 1130400"/>
                <a:gd name="textAreaTop" fmla="*/ 205920 h 901800"/>
                <a:gd name="textAreaBottom" fmla="*/ 695880 h 901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327360" y="5389560"/>
              <a:ext cx="1231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Protein</a:t>
              </a:r>
              <a:endParaRPr b="0" lang="en-US" sz="2400" spc="-1" strike="noStrike">
                <a:solidFill>
                  <a:srgbClr val="000000"/>
                </a:solidFill>
                <a:latin typeface="Times New Roman"/>
              </a:endParaRPr>
            </a:p>
          </p:txBody>
        </p:sp>
        <p:sp>
          <p:nvSpPr>
            <p:cNvPr id="151" name=""/>
            <p:cNvSpPr/>
            <p:nvPr/>
          </p:nvSpPr>
          <p:spPr>
            <a:xfrm>
              <a:off x="2616840" y="1905120"/>
              <a:ext cx="2635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DNA Polymerase</a:t>
              </a:r>
              <a:endParaRPr b="0" lang="en-US" sz="2400" spc="-1" strike="noStrike">
                <a:solidFill>
                  <a:srgbClr val="000000"/>
                </a:solidFill>
                <a:latin typeface="Times New Roman"/>
              </a:endParaRPr>
            </a:p>
          </p:txBody>
        </p:sp>
        <p:sp>
          <p:nvSpPr>
            <p:cNvPr id="152" name=""/>
            <p:cNvSpPr/>
            <p:nvPr/>
          </p:nvSpPr>
          <p:spPr>
            <a:xfrm>
              <a:off x="2616840" y="3200400"/>
              <a:ext cx="2635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RNA Polymerase</a:t>
              </a:r>
              <a:endParaRPr b="0" lang="en-US" sz="2400" spc="-1" strike="noStrike">
                <a:solidFill>
                  <a:srgbClr val="000000"/>
                </a:solidFill>
                <a:latin typeface="Times New Roman"/>
              </a:endParaRPr>
            </a:p>
          </p:txBody>
        </p:sp>
      </p:grpSp>
      <p:sp>
        <p:nvSpPr>
          <p:cNvPr id="153"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
        <p:nvSpPr>
          <p:cNvPr id="1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rom the gene to the protein</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6T23:19:47Z</dcterms:created>
  <dc:creator>USER</dc:creator>
  <dc:description/>
  <dc:language>en-US</dc:language>
  <cp:lastModifiedBy>Hdaily</cp:lastModifiedBy>
  <cp:lastPrinted>2000-02-03T09:09:47Z</cp:lastPrinted>
  <dcterms:modified xsi:type="dcterms:W3CDTF">2000-05-30T00:36:20Z</dcterms:modified>
  <cp:revision>2</cp:revision>
  <dc:subject/>
  <dc:title>From Genes to Proteins</dc:title>
</cp:coreProperties>
</file>