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63F5-5444-4E4D-B9BF-994FC46EB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3BDE-62EF-4EC8-89A2-76517FD0A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ous physiological, genetic, nutritional and pathogenic states affect wool production and quality.  By examining the protein composition of the fibres, it is possible to determine how the abnormal state is affecting the wool.  This module demonstrates how a hormone (epidermal growth factor; EGF) affects protein composition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9B15-074C-4DA7-BD6C-6F318F07C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J. M. Gillespie et al., Changes in the proteins of wool following treatment of sheep with epidermal growth factor.  J. Investigative Dermatol. </a:t>
            </a:r>
            <a:r>
              <a:rPr b="1" lang="en-AU" sz="1200" spc="-1" strike="noStrike">
                <a:solidFill>
                  <a:srgbClr val="000000"/>
                </a:solidFill>
                <a:latin typeface="Times New Roman"/>
              </a:rPr>
              <a:t>79, </a:t>
            </a:r>
            <a:r>
              <a:rPr b="0" lang="en-AU" sz="1200" spc="-1" strike="noStrike">
                <a:solidFill>
                  <a:srgbClr val="000000"/>
                </a:solidFill>
                <a:latin typeface="Times New Roman"/>
              </a:rPr>
              <a:t>197-200 (1982).</a:t>
            </a:r>
            <a:r>
              <a:rPr b="1"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fluorographs illustrate two-dimensional gel patterns, obtained by alkaline urea-PAGE/SDS-PAGE, from S-carboxymethyl protein extracts of a control wool sample and wool samples taken at two stages after infusion of epidermal growth factor (EGF).  The initial regrowth wool (3-4 weeks), appearing after defleecing with epidermal growth factor, is rich in sulfur, for the gel pattern has acquired an exceptionally intense diagonal corresponding to the so-called ultra-high-sulfur class of proteins.  This wool has lost the high-tyrosine proteins, and two minor high-sulfur protein components marked 1 and 2 in the control gel pattern.  However with the elapse of time (5-6 weeks) the protein composition of the wool reverts to normal, as indicated by the gel pattern on the r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EGF on the Protein Composition of Wool</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Kevin Ley,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lum contrast="42000"/>
          </a:blip>
          <a:srcRect l="0" t="1986" r="882" b="0"/>
          <a:stretch/>
        </p:blipFill>
        <p:spPr>
          <a:xfrm>
            <a:off x="1219320" y="1371600"/>
            <a:ext cx="7848360" cy="3770280"/>
          </a:xfrm>
          <a:prstGeom prst="rect">
            <a:avLst/>
          </a:prstGeom>
          <a:ln w="0">
            <a:noFill/>
          </a:ln>
        </p:spPr>
      </p:pic>
      <p:sp>
        <p:nvSpPr>
          <p:cNvPr id="50" name=""/>
          <p:cNvSpPr/>
          <p:nvPr/>
        </p:nvSpPr>
        <p:spPr>
          <a:xfrm>
            <a:off x="1809000" y="5216400"/>
            <a:ext cx="1265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Control</a:t>
            </a:r>
            <a:endParaRPr b="0" lang="en-US" sz="2400" spc="-1" strike="noStrike">
              <a:solidFill>
                <a:srgbClr val="000000"/>
              </a:solidFill>
              <a:latin typeface="Times New Roman"/>
            </a:endParaRPr>
          </a:p>
        </p:txBody>
      </p:sp>
      <p:sp>
        <p:nvSpPr>
          <p:cNvPr id="51" name=""/>
          <p:cNvSpPr/>
          <p:nvPr/>
        </p:nvSpPr>
        <p:spPr>
          <a:xfrm>
            <a:off x="4471200" y="5254560"/>
            <a:ext cx="1792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3 - 4 weeks</a:t>
            </a:r>
            <a:endParaRPr b="0" lang="en-US" sz="2400" spc="-1" strike="noStrike">
              <a:solidFill>
                <a:srgbClr val="000000"/>
              </a:solidFill>
              <a:latin typeface="Times New Roman"/>
            </a:endParaRPr>
          </a:p>
        </p:txBody>
      </p:sp>
      <p:sp>
        <p:nvSpPr>
          <p:cNvPr id="52" name=""/>
          <p:cNvSpPr/>
          <p:nvPr/>
        </p:nvSpPr>
        <p:spPr>
          <a:xfrm>
            <a:off x="7352640" y="5235480"/>
            <a:ext cx="1792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5 - 6 weeks</a:t>
            </a:r>
            <a:endParaRPr b="0" lang="en-US" sz="2400" spc="-1" strike="noStrike">
              <a:solidFill>
                <a:srgbClr val="000000"/>
              </a:solidFill>
              <a:latin typeface="Times New Roman"/>
            </a:endParaRPr>
          </a:p>
        </p:txBody>
      </p:sp>
      <p:sp>
        <p:nvSpPr>
          <p:cNvPr id="53" name=""/>
          <p:cNvSpPr/>
          <p:nvPr/>
        </p:nvSpPr>
        <p:spPr>
          <a:xfrm>
            <a:off x="5330880" y="5562720"/>
            <a:ext cx="2825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after EGF infusion</a:t>
            </a:r>
            <a:endParaRPr b="0" lang="en-US" sz="2400" spc="-1" strike="noStrike">
              <a:solidFill>
                <a:srgbClr val="000000"/>
              </a:solidFill>
              <a:latin typeface="Times New Roman"/>
            </a:endParaRPr>
          </a:p>
        </p:txBody>
      </p:sp>
      <p:sp>
        <p:nvSpPr>
          <p:cNvPr id="54" name=""/>
          <p:cNvSpPr/>
          <p:nvPr/>
        </p:nvSpPr>
        <p:spPr>
          <a:xfrm>
            <a:off x="6396840" y="6400800"/>
            <a:ext cx="2611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J. M. Gillespie et al., (1982)</a:t>
            </a: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EGF on the Protein Fraction of Wool Protein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22:16:18Z</dcterms:created>
  <dc:creator>USER</dc:creator>
  <dc:description/>
  <dc:language>en-US</dc:language>
  <cp:lastModifiedBy>Hdaily</cp:lastModifiedBy>
  <cp:lastPrinted>2000-02-15T22:23:59Z</cp:lastPrinted>
  <dcterms:modified xsi:type="dcterms:W3CDTF">2000-06-02T00:36:41Z</dcterms:modified>
  <cp:revision>4</cp:revision>
  <dc:subject/>
  <dc:title>Effect of EGF on the Protein Composition of Wool</dc:title>
</cp:coreProperties>
</file>