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9097-D4DF-4244-B04E-B0688E5E6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ratins are the major constituent of fibres. </a:t>
            </a:r>
            <a:r>
              <a:rPr b="0" lang="en-AU" sz="1200" spc="-1" strike="noStrike">
                <a:solidFill>
                  <a:srgbClr val="000000"/>
                </a:solidFill>
                <a:latin typeface="Times New Roman"/>
              </a:rPr>
              <a:t>Keratins are built in an arrangement of intermediate filaments embedded in a nonfilamentous matrix. The filaments form the bulk of the cortical cells.</a:t>
            </a:r>
            <a:r>
              <a:rPr b="0" lang="en-GB" sz="1200" spc="-1" strike="noStrike">
                <a:solidFill>
                  <a:srgbClr val="000000"/>
                </a:solidFill>
                <a:latin typeface="Times New Roman"/>
              </a:rPr>
              <a:t> This module explains what keratins are, explains the terms used to describe keratins and outlines the major protein groups found in kerat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B90C-B048-40E1-BFDB-A33431C8B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s are built in an arrangement of intermediate filaments (microfibrils) embedded in a nonfilamentous matrix.  Spindle shaped cells consist of bundles of filaments (macrofibrils) - crystalline microfibrils (intermediate filaments - major structural element of the fibre) embedding in an amorphous matrix.  These filaments form the bulk of the cortic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2A47-5F9C-49C1-9DBF-1F40B5A96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rminology of the structural components of the cortex can often be confusing because there have been quite a few name changes and often the names are used interchangea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d like components that run through the cortex are currently called intermediate filaments (IFs).  They were called microfibrils in a lot of the older literature.  The IFs are composed of partly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proteins of comparatively low S-cystine content (low S-proteins) that are linked by both disulfide and hydrogen bo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onent surrounding the IFs is now termed the intermediate filament associated protein (IFAPs).  This is also sometimes called the matrix or the keratin associated proteins (KAP) particularly when the genes for this protein are being described.  The matrix is composed of 2 families of non-helical proteins, one is cystine-rich (high S-proteins) and the other rich in glycine and tyrosine (glycine/tyrosine-rich protei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0B0D-4500-4586-AE11-311B29678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wool is dissolved the soluble proteins divide into 3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Low sulphur proteins</a:t>
            </a:r>
            <a:r>
              <a:rPr b="0" lang="en-AU" sz="1200" spc="-1" strike="noStrike">
                <a:solidFill>
                  <a:srgbClr val="000000"/>
                </a:solidFill>
                <a:latin typeface="Times New Roman"/>
              </a:rPr>
              <a:t> make up about 60-70% of the total prote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jor component of IF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thocortex has low S content because it predominantly has IFs with little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Cysteine-rich proteins</a:t>
            </a:r>
            <a:r>
              <a:rPr b="0" lang="en-AU" sz="1200" spc="-1" strike="noStrike">
                <a:solidFill>
                  <a:srgbClr val="000000"/>
                </a:solidFill>
                <a:latin typeface="Times New Roman"/>
              </a:rPr>
              <a:t> have a high-sulfur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ke up about 20-40% of prote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 part of matrix</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helical protei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families including the ultra high sulfur protei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racortex has high S-content due to higher level of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High glycine/tyrosine proteins</a:t>
            </a:r>
            <a:r>
              <a:rPr b="0" lang="en-AU" sz="1200" spc="-1" strike="noStrike">
                <a:solidFill>
                  <a:srgbClr val="000000"/>
                </a:solidFill>
                <a:latin typeface="Times New Roman"/>
              </a:rPr>
              <a:t> contribute to 1-12% of total protein content of fibr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tyrosine, glycine and aromatic amino acid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 part of matrix</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helical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Keratin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s of hair</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eratin is the major component of the corte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jor fibrous prote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ther fibrous proteins include collagen, elastin, myosi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mber of the mammalian hard alpha-keratins family</a:t>
            </a:r>
            <a:endParaRPr b="1" lang="en-US" sz="2400" spc="-1" strike="noStrike">
              <a:solidFill>
                <a:srgbClr val="ffffff"/>
              </a:solidFill>
              <a:latin typeface="Arial"/>
            </a:endParaRPr>
          </a:p>
        </p:txBody>
      </p:sp>
      <p:sp>
        <p:nvSpPr>
          <p:cNvPr id="51" name=""/>
          <p:cNvSpPr/>
          <p:nvPr/>
        </p:nvSpPr>
        <p:spPr>
          <a:xfrm>
            <a:off x="7462800" y="65070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462800" y="65070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Hocking Edward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me important fibre protein definition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mediate filaments (IF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native name = Microfibri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Fs coil into a helical form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oss-linked by S-S bonds and H-H bond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mediate filament associated proteins (IFAP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native name = matrix</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keratin associated protein (KAP)</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rrounds IFs</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462800" y="65070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Hocking Edwards</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protein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sulphur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ke up the IF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steine rich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sulfur protei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m part of matrix</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yrosine/glycine rich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glycine/tyrosine proteins (HG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so form part of matrix</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3:46:08Z</dcterms:created>
  <dc:creator>USER</dc:creator>
  <dc:description/>
  <dc:language>en-US</dc:language>
  <cp:lastModifiedBy>Hdaily</cp:lastModifiedBy>
  <cp:lastPrinted>2000-02-03T09:09:47Z</cp:lastPrinted>
  <dcterms:modified xsi:type="dcterms:W3CDTF">2000-05-24T04:35:24Z</dcterms:modified>
  <cp:revision>3</cp:revision>
  <dc:subject/>
  <dc:title>Fibre Keratins</dc:title>
</cp:coreProperties>
</file>