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676160" y="533520"/>
            <a:ext cx="34290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562E1-A7B0-4BE1-ABBC-C6C1F75E5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" Target="../slides/slide3.xml"/><Relationship Id="rId4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562040" y="5335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module outlines the basic components of the fibre and provides the amino acid composition of wool fib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Produced for the CRC for Premium Quality Wool undergraduate program by Dr. Janelle Hocking Edwards, The University of Western Austral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5CAF7-2AA9-443C-A072-9D72C95699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562040" y="5335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Written by: Dr. Janelle Hocking Edwards, The University of Western Austral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e wool fibre is basically protein, thus it consists of C, N, H, O and S arranged in a particular configuration due to chemical bonding of its amino ac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ese proteins consist of 85% or more of the mass; the rest is intercellular membranes, remnants of cell constituents, cuticle and, where present, a medul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e non-protein components include  lipids, minerals (Ca, Na (0.5%)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77DC2-862D-4613-9BF0-186E684A7E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562040" y="5335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3504960"/>
            <a:ext cx="5943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Written by: Dr. Janelle Hocking Edwards, The University of Western Austral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Source: Reis, P.J. (1979) in Black and Reis, Physiological and environmental limitations to wool growth. UNE Pub. Unit, NS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Of the 20 amino acids used for synthesis of animal proteins 18 are in wool.  The amino acid composition differs from other proteins in their high content of the S-amino acid, cystein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e major amino acids are cystine, glutamic acid, serine, glycine.  Cystine is first limiting amino acid for wool grow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ypical amino acid composition of wool and its soluble proteins (residues/100 residues of amino acids)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5562720"/>
            <a:ext cx="5867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33520" y="5486400"/>
          <a:ext cx="5790960" cy="342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486400"/>
                    <a:ext cx="5790960" cy="34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95280" y="354456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95280" y="35445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7960" y="35445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23280" y="8380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50920" y="8380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95280" y="35445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23280" y="35445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50920" y="35445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9528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9246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95280" y="35445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7960" y="35445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95280" y="354456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528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af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20760" y="6583320"/>
            <a:ext cx="161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www.woolwi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idebar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93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afd00"/>
                </a:solidFill>
                <a:latin typeface="Arial"/>
              </a:rPr>
              <a:t>Basic Fibre Composition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19320" y="51055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Produced for the CRC for Premium Quality Wool undergraduate program by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Dr. Janelle Hocking Edwards, The University of Western Australia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462800" y="6507000"/>
            <a:ext cx="153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afd00"/>
                </a:solidFill>
                <a:latin typeface="Arial"/>
              </a:rPr>
              <a:t>J. Hocking Ed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afd00"/>
                </a:solidFill>
                <a:latin typeface="Arial"/>
              </a:rPr>
              <a:t>Basic components of the fibre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Fibre is 85% protein (amino acid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C, H, N, O and S are main el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these determine the fibre’s chemical proper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Some lipids are pres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The major minerals are Ca and N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afd00"/>
                </a:solidFill>
                <a:latin typeface="Arial"/>
              </a:rPr>
              <a:t>Amino acid composition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84440" y="6324480"/>
            <a:ext cx="193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afd00"/>
                </a:solidFill>
                <a:latin typeface="Arial"/>
              </a:rPr>
              <a:t>J. Hocking Ed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afd00"/>
                </a:solidFill>
                <a:latin typeface="Arial"/>
              </a:rPr>
              <a:t>Source: Reis, P.J., (197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219320" y="1278000"/>
            <a:ext cx="7696080" cy="3904560"/>
            <a:chOff x="1219320" y="1278000"/>
            <a:chExt cx="7696080" cy="3904560"/>
          </a:xfrm>
        </p:grpSpPr>
        <p:sp>
          <p:nvSpPr>
            <p:cNvPr id="55" name=""/>
            <p:cNvSpPr/>
            <p:nvPr/>
          </p:nvSpPr>
          <p:spPr>
            <a:xfrm>
              <a:off x="1470240" y="1760400"/>
              <a:ext cx="10476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900" spc="-1" strike="noStrike">
                  <a:solidFill>
                    <a:srgbClr val="ffff99"/>
                  </a:solidFill>
                  <a:latin typeface="Arial"/>
                </a:rPr>
                <a:t>Amino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668960" y="2182680"/>
              <a:ext cx="6789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900" spc="-1" strike="noStrike">
                  <a:solidFill>
                    <a:srgbClr val="ffff99"/>
                  </a:solidFill>
                  <a:latin typeface="Arial"/>
                </a:rPr>
                <a:t>acid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978280" y="1760400"/>
              <a:ext cx="10476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900" spc="-1" strike="noStrike">
                  <a:solidFill>
                    <a:srgbClr val="ffff99"/>
                  </a:solidFill>
                  <a:latin typeface="Arial"/>
                </a:rPr>
                <a:t>Whole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121560" y="2182680"/>
              <a:ext cx="761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900" spc="-1" strike="noStrike">
                  <a:solidFill>
                    <a:srgbClr val="ffff99"/>
                  </a:solidFill>
                  <a:latin typeface="Arial"/>
                </a:rPr>
                <a:t>wool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849560" y="1760400"/>
              <a:ext cx="4518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900" spc="-1" strike="noStrike">
                  <a:solidFill>
                    <a:srgbClr val="ffff99"/>
                  </a:solidFill>
                  <a:latin typeface="Arial"/>
                </a:rPr>
                <a:t>LS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391280" y="2182680"/>
              <a:ext cx="13158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900" spc="-1" strike="noStrike">
                  <a:solidFill>
                    <a:srgbClr val="ffff99"/>
                  </a:solidFill>
                  <a:latin typeface="Arial"/>
                </a:rPr>
                <a:t>proteins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375600" y="1760400"/>
              <a:ext cx="5126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900" spc="-1" strike="noStrike">
                  <a:solidFill>
                    <a:srgbClr val="ffff99"/>
                  </a:solidFill>
                  <a:latin typeface="Arial"/>
                </a:rPr>
                <a:t>HS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948640" y="2182680"/>
              <a:ext cx="13158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900" spc="-1" strike="noStrike">
                  <a:solidFill>
                    <a:srgbClr val="ffff99"/>
                  </a:solidFill>
                  <a:latin typeface="Arial"/>
                </a:rPr>
                <a:t>proteins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940520" y="1760400"/>
              <a:ext cx="4928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900" spc="-1" strike="noStrike">
                  <a:solidFill>
                    <a:srgbClr val="ffff99"/>
                  </a:solidFill>
                  <a:latin typeface="Arial"/>
                </a:rPr>
                <a:t>HT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506000" y="2182680"/>
              <a:ext cx="13158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900" spc="-1" strike="noStrike">
                  <a:solidFill>
                    <a:srgbClr val="ffff99"/>
                  </a:solidFill>
                  <a:latin typeface="Arial"/>
                </a:rPr>
                <a:t>proteins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726200" y="2624040"/>
              <a:ext cx="57528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900" spc="-1" strike="noStrike">
                  <a:solidFill>
                    <a:srgbClr val="ffff99"/>
                  </a:solidFill>
                  <a:latin typeface="Arial"/>
                </a:rPr>
                <a:t>Arg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260880" y="2624040"/>
              <a:ext cx="5144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900" spc="-1" strike="noStrike">
                  <a:solidFill>
                    <a:srgbClr val="ffffff"/>
                  </a:solidFill>
                  <a:latin typeface="Arial"/>
                </a:rPr>
                <a:t>6.2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818240" y="2624040"/>
              <a:ext cx="5144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900" spc="-1" strike="noStrike">
                  <a:solidFill>
                    <a:srgbClr val="ffffff"/>
                  </a:solidFill>
                  <a:latin typeface="Arial"/>
                </a:rPr>
                <a:t>7.8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375600" y="2624040"/>
              <a:ext cx="5144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900" spc="-1" strike="noStrike">
                  <a:solidFill>
                    <a:srgbClr val="ffffff"/>
                  </a:solidFill>
                  <a:latin typeface="Arial"/>
                </a:rPr>
                <a:t>6.2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932960" y="2624040"/>
              <a:ext cx="5144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900" spc="-1" strike="noStrike">
                  <a:solidFill>
                    <a:srgbClr val="ffffff"/>
                  </a:solidFill>
                  <a:latin typeface="Arial"/>
                </a:rPr>
                <a:t>3.5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88760" y="3049560"/>
              <a:ext cx="63612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900" spc="-1" strike="noStrike">
                  <a:solidFill>
                    <a:srgbClr val="ffff99"/>
                  </a:solidFill>
                  <a:latin typeface="Arial"/>
                </a:rPr>
                <a:t>Cys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151080" y="3049560"/>
              <a:ext cx="7200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900" spc="-1" strike="noStrike">
                  <a:solidFill>
                    <a:srgbClr val="ffffff"/>
                  </a:solidFill>
                  <a:latin typeface="Arial"/>
                </a:rPr>
                <a:t>13.1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818240" y="3049560"/>
              <a:ext cx="5144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9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265800" y="3049560"/>
              <a:ext cx="7200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9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2960" y="3049560"/>
              <a:ext cx="5144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900" spc="-1" strike="noStrike">
                  <a:solidFill>
                    <a:srgbClr val="ffffff"/>
                  </a:solidFill>
                  <a:latin typeface="Arial"/>
                </a:rPr>
                <a:t>6.4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734480" y="3471840"/>
              <a:ext cx="554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900" spc="-1" strike="noStrike">
                  <a:solidFill>
                    <a:srgbClr val="ffff99"/>
                  </a:solidFill>
                  <a:latin typeface="Arial"/>
                </a:rPr>
                <a:t>Gly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260880" y="3471840"/>
              <a:ext cx="5144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9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18240" y="3471840"/>
              <a:ext cx="5144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9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375600" y="3471840"/>
              <a:ext cx="5144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900" spc="-1" strike="noStrike">
                  <a:solidFill>
                    <a:srgbClr val="ffffff"/>
                  </a:solidFill>
                  <a:latin typeface="Arial"/>
                </a:rPr>
                <a:t>6.2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823160" y="3471840"/>
              <a:ext cx="7200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900" spc="-1" strike="noStrike">
                  <a:solidFill>
                    <a:srgbClr val="ffffff"/>
                  </a:solidFill>
                  <a:latin typeface="Arial"/>
                </a:rPr>
                <a:t>26.5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722960" y="3894120"/>
              <a:ext cx="57528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900" spc="-1" strike="noStrike">
                  <a:solidFill>
                    <a:srgbClr val="ffff99"/>
                  </a:solidFill>
                  <a:latin typeface="Arial"/>
                </a:rPr>
                <a:t>Lys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60880" y="3894120"/>
              <a:ext cx="5144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9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18240" y="3894120"/>
              <a:ext cx="5144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900" spc="-1" strike="noStrike">
                  <a:solidFill>
                    <a:srgbClr val="ffffff"/>
                  </a:solidFill>
                  <a:latin typeface="Arial"/>
                </a:rPr>
                <a:t>4.1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75600" y="3894120"/>
              <a:ext cx="5144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900" spc="-1" strike="noStrike">
                  <a:solidFill>
                    <a:srgbClr val="ffffff"/>
                  </a:solidFill>
                  <a:latin typeface="Arial"/>
                </a:rPr>
                <a:t>0.6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932960" y="3894120"/>
              <a:ext cx="5144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9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703520" y="4318200"/>
              <a:ext cx="61632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900" spc="-1" strike="noStrike">
                  <a:solidFill>
                    <a:srgbClr val="ffff99"/>
                  </a:solidFill>
                  <a:latin typeface="Arial"/>
                </a:rPr>
                <a:t>Met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260880" y="4318200"/>
              <a:ext cx="5144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9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818240" y="4318200"/>
              <a:ext cx="5144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900" spc="-1" strike="noStrike">
                  <a:solidFill>
                    <a:srgbClr val="ffffff"/>
                  </a:solidFill>
                  <a:latin typeface="Arial"/>
                </a:rPr>
                <a:t>0.6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375600" y="4318200"/>
              <a:ext cx="5144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9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32960" y="4318200"/>
              <a:ext cx="5144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9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743840" y="4740480"/>
              <a:ext cx="5342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900" spc="-1" strike="noStrike">
                  <a:solidFill>
                    <a:srgbClr val="ffff99"/>
                  </a:solidFill>
                  <a:latin typeface="Arial"/>
                </a:rPr>
                <a:t>Tyr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260880" y="4740480"/>
              <a:ext cx="5144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900" spc="-1" strike="noStrike">
                  <a:solidFill>
                    <a:srgbClr val="ffffff"/>
                  </a:solidFill>
                  <a:latin typeface="Arial"/>
                </a:rPr>
                <a:t>3.8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18240" y="4740480"/>
              <a:ext cx="5144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9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75600" y="4740480"/>
              <a:ext cx="5144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900" spc="-1" strike="noStrike">
                  <a:solidFill>
                    <a:srgbClr val="ffffff"/>
                  </a:solidFill>
                  <a:latin typeface="Arial"/>
                </a:rPr>
                <a:t>2.1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823160" y="4740480"/>
              <a:ext cx="7200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900" spc="-1" strike="noStrike">
                  <a:solidFill>
                    <a:srgbClr val="ffffff"/>
                  </a:solidFill>
                  <a:latin typeface="Arial"/>
                </a:rPr>
                <a:t>18.0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220200" y="1278000"/>
              <a:ext cx="524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AU" sz="2000" spc="-1" strike="noStrike">
                  <a:solidFill>
                    <a:srgbClr val="ffffff"/>
                  </a:solidFill>
                  <a:latin typeface="Arial"/>
                </a:rPr>
                <a:t>Residues per 100 residues of amino acid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219320" y="2589120"/>
              <a:ext cx="7696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6T03:18:11Z</dcterms:created>
  <dc:creator>USER</dc:creator>
  <dc:description/>
  <dc:language>en-US</dc:language>
  <cp:lastModifiedBy>Hdaily</cp:lastModifiedBy>
  <cp:lastPrinted>2000-02-16T05:44:16Z</cp:lastPrinted>
  <dcterms:modified xsi:type="dcterms:W3CDTF">2000-05-12T05:11:14Z</dcterms:modified>
  <cp:revision>4</cp:revision>
  <dc:subject/>
  <dc:title>Basic Fibre Composition</dc:title>
</cp:coreProperties>
</file>