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1E23-F896-4191-B770-6F92CA98A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B81E-8434-4C08-83D5-8300472993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se is metabolised in follicles by 3 pathways:</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aerobic or aerobic glycolysis (90%)</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CA cycle (7%)</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ntose phosphate pathway (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tabolic requirements of the cells in the skin mirror those in the remainder of the body.  It is therefore reasonable to expect that the skin and hair follicle will exhibit similar biochemical pathways to other tissues.  The enzymes and metabolites of glucose metabolism have been extensively studied and, qualitatively, the intermediary metabolism of skin and follicle do not differ significantly from other tissues in the body. There are several pathways by which glucose may be metabolised.  A brief outline is presented here but further detail can be obtained from standard biochemistry text book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lucose that is not metabolised to lactate is oxidised via the pentose phosphate pathway or the tricarboxylic acid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TCA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B40E-D5EA-4F0E-B62F-481DE34CE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etyl-CoA enters the TCA cycle and is oxidised through a series of reactions to eventually yield carbon dioxide, water and ATP.  The total yield of energy from this pathway is 38 moles of ATP per mole of gluco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ue to the higher yield of ATP from the tricarboxylic acid cycle compared to glycolysis, about 40% of the energy derived from glucose utilisation is produced from the small amount of glucose oxidised via the tricarboxylic acid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unctional tricarboxylic acid cycle has been demonstrated in the skin.  Unlike the systematic investigation of enzymes of glycolysis, not all of the tricarboxylic acid cycle enzymes have been demonstrated in skin.  The existence of this pathway can be indirectly inferred from </a:t>
            </a:r>
            <a:r>
              <a:rPr b="0" i="1" lang="en-AU" sz="1200" spc="-1" strike="noStrike">
                <a:solidFill>
                  <a:srgbClr val="000000"/>
                </a:solidFill>
                <a:latin typeface="Times New Roman"/>
              </a:rPr>
              <a:t>in vivo</a:t>
            </a:r>
            <a:r>
              <a:rPr b="0" lang="en-AU" sz="1200" spc="-1" strike="noStrike">
                <a:solidFill>
                  <a:srgbClr val="000000"/>
                </a:solidFill>
                <a:latin typeface="Times New Roman"/>
              </a:rPr>
              <a:t> pathway studies.  Similar to the glycolytic pathway, the enzymes that have been demonstrated exhibit constant relative activity between cell types in the skin and the absolute level of activity is related to the cellularity of the tissu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socitrate dehydrogenase (EC 1.1.1.41) and malate dehydrogenase (EC 1.1.1.37) have been repeatedly demonstrated suggesting that the skin contains an operating tricarboxylic acid cycle.  Acetate-14C was incorporated into tricarboxylic acid cycle intermediates thus demonstrating a functional pathway in perfused dog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ly a very small amount of glucose is oxidised via the tricarboxylic acid cycle in the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icarboxylic Acid (TCA) Cy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achel Smith,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icarboxylic Acid Cycle</a:t>
            </a:r>
            <a:endParaRPr b="1" lang="en-US" sz="3200" spc="-1" strike="noStrike">
              <a:solidFill>
                <a:srgbClr val="fafd00"/>
              </a:solidFill>
              <a:latin typeface="Arial"/>
            </a:endParaRPr>
          </a:p>
        </p:txBody>
      </p:sp>
      <p:grpSp>
        <p:nvGrpSpPr>
          <p:cNvPr id="50" name=""/>
          <p:cNvGrpSpPr/>
          <p:nvPr/>
        </p:nvGrpSpPr>
        <p:grpSpPr>
          <a:xfrm>
            <a:off x="1626840" y="1752480"/>
            <a:ext cx="2716200" cy="3726000"/>
            <a:chOff x="1626840" y="1752480"/>
            <a:chExt cx="2716200" cy="3726000"/>
          </a:xfrm>
        </p:grpSpPr>
        <p:sp>
          <p:nvSpPr>
            <p:cNvPr id="51" name=""/>
            <p:cNvSpPr/>
            <p:nvPr/>
          </p:nvSpPr>
          <p:spPr>
            <a:xfrm>
              <a:off x="2217600" y="3416040"/>
              <a:ext cx="2125440" cy="20624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498760" y="2835000"/>
              <a:ext cx="1837080" cy="564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400120" y="2219040"/>
              <a:ext cx="0" cy="460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626840" y="2619360"/>
              <a:ext cx="1670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cc99"/>
                  </a:solidFill>
                  <a:latin typeface="Arial"/>
                </a:rPr>
                <a:t>acetyl-CoA</a:t>
              </a:r>
              <a:endParaRPr b="0" lang="en-US" sz="2400" spc="-1" strike="noStrike">
                <a:solidFill>
                  <a:srgbClr val="000000"/>
                </a:solidFill>
                <a:latin typeface="Times New Roman"/>
              </a:endParaRPr>
            </a:p>
          </p:txBody>
        </p:sp>
        <p:sp>
          <p:nvSpPr>
            <p:cNvPr id="55" name=""/>
            <p:cNvSpPr/>
            <p:nvPr/>
          </p:nvSpPr>
          <p:spPr>
            <a:xfrm>
              <a:off x="1752480" y="1752480"/>
              <a:ext cx="1350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ff00"/>
                  </a:solidFill>
                  <a:latin typeface="Arial"/>
                </a:rPr>
                <a:t>pyruvate</a:t>
              </a:r>
              <a:endParaRPr b="0" lang="en-US" sz="2400" spc="-1" strike="noStrike">
                <a:solidFill>
                  <a:srgbClr val="000000"/>
                </a:solidFill>
                <a:latin typeface="Times New Roman"/>
              </a:endParaRPr>
            </a:p>
          </p:txBody>
        </p:sp>
      </p:grpSp>
      <p:sp>
        <p:nvSpPr>
          <p:cNvPr id="56" name="PlaceHolder 2"/>
          <p:cNvSpPr>
            <a:spLocks noGrp="1"/>
          </p:cNvSpPr>
          <p:nvPr>
            <p:ph/>
          </p:nvPr>
        </p:nvSpPr>
        <p:spPr>
          <a:xfrm>
            <a:off x="5181480" y="968400"/>
            <a:ext cx="3810240" cy="3070080"/>
          </a:xfrm>
          <a:prstGeom prst="rect">
            <a:avLst/>
          </a:prstGeom>
          <a:noFill/>
          <a:ln w="76320">
            <a:solidFill>
              <a:srgbClr val="fafd00"/>
            </a:solidFill>
            <a:miter/>
          </a:ln>
        </p:spPr>
        <p:txBody>
          <a:bodyPr lIns="90360" rIns="90360" tIns="44280" bIns="44280" anchor="t">
            <a:normAutofit/>
          </a:bodyPr>
          <a:p>
            <a:pPr marL="343080" indent="-343080">
              <a:spcBef>
                <a:spcPts val="700"/>
              </a:spcBef>
              <a:buClr>
                <a:srgbClr val="fafd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d products</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a:t>
            </a:r>
            <a:r>
              <a:rPr b="1" lang="en-AU" sz="2000" spc="-1" strike="noStrike" baseline="-25000">
                <a:solidFill>
                  <a:srgbClr val="ffffff"/>
                </a:solidFill>
                <a:latin typeface="Arial"/>
              </a:rPr>
              <a:t>2 </a:t>
            </a:r>
            <a:r>
              <a:rPr b="1" lang="en-AU" sz="2000" spc="-1" strike="noStrike">
                <a:solidFill>
                  <a:srgbClr val="ffffff"/>
                </a:solidFill>
                <a:latin typeface="Arial"/>
              </a:rPr>
              <a:t>(4 mol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TP (2 mol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ADH (8 mol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ADH</a:t>
            </a:r>
            <a:r>
              <a:rPr b="1" lang="en-AU" sz="2000" spc="-1" strike="noStrike" baseline="-25000">
                <a:solidFill>
                  <a:srgbClr val="ffffff"/>
                </a:solidFill>
                <a:latin typeface="Arial"/>
              </a:rPr>
              <a:t>2</a:t>
            </a:r>
            <a:r>
              <a:rPr b="1" lang="en-AU" sz="2000" spc="-1" strike="noStrike">
                <a:solidFill>
                  <a:srgbClr val="ffffff"/>
                </a:solidFill>
                <a:latin typeface="Arial"/>
              </a:rPr>
              <a:t> (2 moles)</a:t>
            </a:r>
            <a:endParaRPr b="1" lang="en-US" sz="2000" spc="-1" strike="noStrike">
              <a:solidFill>
                <a:srgbClr val="ffffff"/>
              </a:solidFill>
              <a:latin typeface="Arial"/>
            </a:endParaRPr>
          </a:p>
        </p:txBody>
      </p:sp>
      <p:sp>
        <p:nvSpPr>
          <p:cNvPr id="57"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1:33:45Z</dcterms:created>
  <dc:creator>USER</dc:creator>
  <dc:description/>
  <dc:language>en-US</dc:language>
  <cp:lastModifiedBy>Hdaily</cp:lastModifiedBy>
  <cp:lastPrinted>2000-02-03T09:09:47Z</cp:lastPrinted>
  <dcterms:modified xsi:type="dcterms:W3CDTF">2000-06-09T05:21:08Z</dcterms:modified>
  <cp:revision>2</cp:revision>
  <dc:subject/>
  <dc:title>Tricarboxylic Acid (TCA) Cycle</dc:title>
</cp:coreProperties>
</file>