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9742-BA60-4672-843D-DDE3DAEB4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0A80-89CE-4551-83A8-921B0CC25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ere cells divide in the epidermis and follicle and from where they are repla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8A23-22BD-46D2-8213-12093B5CB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regions of cell division in the skin occur in the basal layer of the epidermis and in the bulb and outer root sheath (ORS) of the follicle.  Cell division in the epidermis and  the bulb has been widely studied.  Less is known about division in the 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division, differentiation, migration and functionality are similar for the epidermis and the bulb (summarised on the next slide).  In both regions cells divide in the basal layer, migrate away from the region of division and then perform their function (fibre production or protection from th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he bulb and the epidermis are in a constant state of change as cells divide, differentiate, migrate and then perform their function.  Thus they are said to be dynamic struc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B360-7BE4-4004-9CE7-6D0354321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movement of cells in tissues.  Important features of this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tem cells recycle (related modules “Stem Cells”, “Stem Cells in the Follicle” and “Stem Cells in the Wool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ome stem cells give rise to cells that will proliferate to replace lost cell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fter proliferation cells differentiate and this is the point of no return where the cells are on their way to terminal differenti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fter differentiation and migration are complete (this happens simultaneously) the cells are functio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placement of Cells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s divide in the basal layer of the epidermis and differentiat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s divide in the bulb and ORS of the folli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is a dynamic structure</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replacement</a:t>
            </a:r>
            <a:endParaRPr b="1" lang="en-US" sz="3200" spc="-1" strike="noStrike">
              <a:solidFill>
                <a:srgbClr val="fafd00"/>
              </a:solidFill>
              <a:latin typeface="Arial"/>
            </a:endParaRPr>
          </a:p>
        </p:txBody>
      </p:sp>
      <p:grpSp>
        <p:nvGrpSpPr>
          <p:cNvPr id="53" name=""/>
          <p:cNvGrpSpPr/>
          <p:nvPr/>
        </p:nvGrpSpPr>
        <p:grpSpPr>
          <a:xfrm>
            <a:off x="1535040" y="990720"/>
            <a:ext cx="7075440" cy="3978000"/>
            <a:chOff x="1535040" y="990720"/>
            <a:chExt cx="7075440" cy="3978000"/>
          </a:xfrm>
        </p:grpSpPr>
        <p:sp>
          <p:nvSpPr>
            <p:cNvPr id="54" name=""/>
            <p:cNvSpPr/>
            <p:nvPr/>
          </p:nvSpPr>
          <p:spPr>
            <a:xfrm>
              <a:off x="6526080" y="4206960"/>
              <a:ext cx="2084400" cy="76176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unctional</a:t>
              </a:r>
              <a:endParaRPr b="0" lang="en-US" sz="2800" spc="-1" strike="noStrike">
                <a:solidFill>
                  <a:srgbClr val="000000"/>
                </a:solidFill>
                <a:latin typeface="Times New Roman"/>
              </a:endParaRPr>
            </a:p>
          </p:txBody>
        </p:sp>
        <p:grpSp>
          <p:nvGrpSpPr>
            <p:cNvPr id="55" name=""/>
            <p:cNvGrpSpPr/>
            <p:nvPr/>
          </p:nvGrpSpPr>
          <p:grpSpPr>
            <a:xfrm>
              <a:off x="4430520" y="3387600"/>
              <a:ext cx="3417840" cy="819000"/>
              <a:chOff x="4430520" y="3387600"/>
              <a:chExt cx="3417840" cy="819000"/>
            </a:xfrm>
          </p:grpSpPr>
          <p:sp>
            <p:nvSpPr>
              <p:cNvPr id="56" name=""/>
              <p:cNvSpPr/>
              <p:nvPr/>
            </p:nvSpPr>
            <p:spPr>
              <a:xfrm>
                <a:off x="4430520" y="3387600"/>
                <a:ext cx="2620800" cy="81900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fferentiation</a:t>
                </a:r>
                <a:endParaRPr b="0" lang="en-US" sz="2800" spc="-1" strike="noStrike">
                  <a:solidFill>
                    <a:srgbClr val="000000"/>
                  </a:solidFill>
                  <a:latin typeface="Times New Roman"/>
                </a:endParaRPr>
              </a:p>
            </p:txBody>
          </p:sp>
          <p:sp>
            <p:nvSpPr>
              <p:cNvPr id="57" name=""/>
              <p:cNvSpPr/>
              <p:nvPr/>
            </p:nvSpPr>
            <p:spPr>
              <a:xfrm>
                <a:off x="7051320" y="3551040"/>
                <a:ext cx="797040" cy="492120"/>
              </a:xfrm>
              <a:prstGeom prst="rightArrow">
                <a:avLst>
                  <a:gd name="adj1" fmla="val 50000"/>
                  <a:gd name="adj2" fmla="val 81010"/>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2925720" y="2530440"/>
              <a:ext cx="3124080" cy="800280"/>
              <a:chOff x="2925720" y="2530440"/>
              <a:chExt cx="3124080" cy="800280"/>
            </a:xfrm>
          </p:grpSpPr>
          <p:sp>
            <p:nvSpPr>
              <p:cNvPr id="59" name=""/>
              <p:cNvSpPr/>
              <p:nvPr/>
            </p:nvSpPr>
            <p:spPr>
              <a:xfrm>
                <a:off x="2925720" y="2530440"/>
                <a:ext cx="2393640" cy="80028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liferation</a:t>
                </a:r>
                <a:endParaRPr b="0" lang="en-US" sz="2800" spc="-1" strike="noStrike">
                  <a:solidFill>
                    <a:srgbClr val="000000"/>
                  </a:solidFill>
                  <a:latin typeface="Times New Roman"/>
                </a:endParaRPr>
              </a:p>
            </p:txBody>
          </p:sp>
          <p:sp>
            <p:nvSpPr>
              <p:cNvPr id="60" name=""/>
              <p:cNvSpPr/>
              <p:nvPr/>
            </p:nvSpPr>
            <p:spPr>
              <a:xfrm>
                <a:off x="5319360" y="2691000"/>
                <a:ext cx="730440" cy="479160"/>
              </a:xfrm>
              <a:prstGeom prst="rightArrow">
                <a:avLst>
                  <a:gd name="adj1" fmla="val 50000"/>
                  <a:gd name="adj2" fmla="val 76249"/>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535040" y="990720"/>
              <a:ext cx="2286000" cy="1501560"/>
              <a:chOff x="1535040" y="990720"/>
              <a:chExt cx="2286000" cy="1501560"/>
            </a:xfrm>
          </p:grpSpPr>
          <p:grpSp>
            <p:nvGrpSpPr>
              <p:cNvPr id="62" name=""/>
              <p:cNvGrpSpPr/>
              <p:nvPr/>
            </p:nvGrpSpPr>
            <p:grpSpPr>
              <a:xfrm>
                <a:off x="1535040" y="1730520"/>
                <a:ext cx="2286000" cy="761760"/>
                <a:chOff x="1535040" y="1730520"/>
                <a:chExt cx="2286000" cy="761760"/>
              </a:xfrm>
            </p:grpSpPr>
            <p:sp>
              <p:nvSpPr>
                <p:cNvPr id="63" name=""/>
                <p:cNvSpPr/>
                <p:nvPr/>
              </p:nvSpPr>
              <p:spPr>
                <a:xfrm>
                  <a:off x="1535040" y="1730520"/>
                  <a:ext cx="1752480" cy="76176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em</a:t>
                  </a:r>
                  <a:endParaRPr b="0" lang="en-US" sz="2800" spc="-1" strike="noStrike">
                    <a:solidFill>
                      <a:srgbClr val="000000"/>
                    </a:solidFill>
                    <a:latin typeface="Times New Roman"/>
                  </a:endParaRPr>
                </a:p>
              </p:txBody>
            </p:sp>
            <p:sp>
              <p:nvSpPr>
                <p:cNvPr id="64" name=""/>
                <p:cNvSpPr/>
                <p:nvPr/>
              </p:nvSpPr>
              <p:spPr>
                <a:xfrm>
                  <a:off x="3287520" y="1882800"/>
                  <a:ext cx="533520" cy="457200"/>
                </a:xfrm>
                <a:prstGeom prst="rightArrow">
                  <a:avLst>
                    <a:gd name="adj1" fmla="val 50000"/>
                    <a:gd name="adj2" fmla="val 58368"/>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1554480" y="990720"/>
                <a:ext cx="1697400" cy="1447560"/>
                <a:chOff x="1554480" y="990720"/>
                <a:chExt cx="1697400" cy="1447560"/>
              </a:xfrm>
            </p:grpSpPr>
            <p:sp>
              <p:nvSpPr>
                <p:cNvPr id="66" name=""/>
                <p:cNvSpPr/>
                <p:nvPr/>
              </p:nvSpPr>
              <p:spPr>
                <a:xfrm>
                  <a:off x="1554480" y="990720"/>
                  <a:ext cx="163728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14240" y="990720"/>
                  <a:ext cx="1637640" cy="1447560"/>
                </a:xfrm>
                <a:custGeom>
                  <a:avLst/>
                  <a:gdLst/>
                  <a:ahLst/>
                  <a:rect l="l" t="t" r="r" b="b"/>
                  <a:pathLst>
                    <a:path stroke="0" w="21600" h="21600">
                      <a:moveTo>
                        <a:pt x="0" y="10776"/>
                      </a:moveTo>
                      <a:arcTo wR="10800" hR="10800" stAng="-10792461" swAng="5385799"/>
                      <a:lnTo>
                        <a:pt x="10800" y="10800"/>
                      </a:lnTo>
                      <a:close/>
                    </a:path>
                    <a:path fill="none" w="21600" h="21600">
                      <a:moveTo>
                        <a:pt x="0" y="10776"/>
                      </a:moveTo>
                      <a:arcTo wR="10800" hR="10800" stAng="-10792461" swAng="5385799"/>
                    </a:path>
                  </a:pathLst>
                </a:custGeom>
                <a:noFill/>
                <a:ln cap="rnd" w="7632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34:28Z</dcterms:created>
  <dc:creator>USER</dc:creator>
  <dc:description/>
  <dc:language>en-US</dc:language>
  <cp:lastModifiedBy>Hdaily</cp:lastModifiedBy>
  <cp:lastPrinted>2000-02-03T09:09:47Z</cp:lastPrinted>
  <dcterms:modified xsi:type="dcterms:W3CDTF">2000-05-18T04:00:57Z</dcterms:modified>
  <cp:revision>2</cp:revision>
  <dc:subject/>
  <dc:title>Replacement of Cells in the Skin</dc:title>
</cp:coreProperties>
</file>