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7BF2-EC6C-4612-A2AA-34392D52F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briefly describes the function of mammalian skin as a simple and an active boundary with particular reference to sheep skin and wool production.  As with all structure/function issues it is useful to know the structure of the skin to understand the function of the skin.  Many text books describe the structure and function of the skin in all species of animals.  A lot of commonality exists between species in skin structure and function and it is possible to follow the patterns of skin evolution through the different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B4FE-9BD1-44F0-80ED-07FFA67FD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skin is similar to other mammalian skin and has a number of functions.  These include simple functions such a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ing a a barrier between the internal and external environm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lding the animal together; 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lex functions such a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on reg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nctionality of the skin is determined by the structure of the skin and the components of the skin.  This in turn can influence woo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oldsmith, L.A.  (1991).  Physiology, Biochemistry and Molecular Biology of the Skin.  Oxford University Press, New Y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reiter-Hahn, J., Matoltsy, A.G. &amp; Richards, K.S.  (1986) Biology of the Integument Vol 2. Vertebrates.  Springer-Verlag, Berl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3C98-43CB-4DAB-A90C-92C657B51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function of the skin is to act as a simple boundary between the environment and the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kin is adapted to cope with desiccation, mechanical, chemical and environmental onslaughts simply by having a strong impervious outer layer (epi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B854-D94A-45A5-930B-3AC3B25B5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econd function of the skin is to act as a functional boundary between the environment and the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kin is a functional boundary in that it contains a vasculature and sweating system adapted to thermal regulatory demands of the organism and an extensive neuroreceptor network serving as a finely tuned transducer of environmental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kin Fun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nction of sheep ski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has a number of functio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ability to functionally perform is determined by the structural components of the sk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ch component has a specific function in relation to the whole anima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me functions can directly influence wool production</a:t>
            </a:r>
            <a:endParaRPr b="1" lang="en-US" sz="2800" spc="-1" strike="noStrike">
              <a:solidFill>
                <a:srgbClr val="ffffff"/>
              </a:solidFill>
              <a:latin typeface="Arial"/>
            </a:endParaRPr>
          </a:p>
        </p:txBody>
      </p:sp>
      <p:sp>
        <p:nvSpPr>
          <p:cNvPr id="51"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as a simple boundary</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provides protection agains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jur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dacious enemi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vasion of micro-organism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diation</a:t>
            </a:r>
            <a:endParaRPr b="1" lang="en-US" sz="2400" spc="-1" strike="noStrike">
              <a:solidFill>
                <a:srgbClr val="ffffff"/>
              </a:solidFill>
              <a:latin typeface="Arial"/>
            </a:endParaRPr>
          </a:p>
        </p:txBody>
      </p:sp>
      <p:sp>
        <p:nvSpPr>
          <p:cNvPr id="54"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as an active boundary </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285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2858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unctional boundary</a:t>
            </a:r>
            <a:endParaRPr b="1" lang="en-US" sz="28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ater regulation</a:t>
            </a:r>
            <a:endParaRPr b="1" lang="en-US" sz="24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ulation</a:t>
            </a:r>
            <a:endParaRPr b="1" lang="en-US" sz="24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sorption and excretion of materials</a:t>
            </a:r>
            <a:endParaRPr b="1" lang="en-US" sz="24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ply sensory information</a:t>
            </a:r>
            <a:endParaRPr b="1" lang="en-US" sz="2400" spc="-1" strike="noStrike">
              <a:solidFill>
                <a:srgbClr val="ffffff"/>
              </a:solidFill>
              <a:latin typeface="Arial"/>
            </a:endParaRPr>
          </a:p>
        </p:txBody>
      </p:sp>
      <p:sp>
        <p:nvSpPr>
          <p:cNvPr id="57"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4:43:28Z</dcterms:created>
  <dc:creator>USER</dc:creator>
  <dc:description/>
  <dc:language>en-US</dc:language>
  <cp:lastModifiedBy>Hdaily</cp:lastModifiedBy>
  <cp:lastPrinted>2000-02-03T09:09:47Z</cp:lastPrinted>
  <dcterms:modified xsi:type="dcterms:W3CDTF">2000-06-09T04:23:20Z</dcterms:modified>
  <cp:revision>2</cp:revision>
  <dc:subject/>
  <dc:title>Skin Function</dc:title>
</cp:coreProperties>
</file>