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048D-7C2F-4ED3-A166-7E7BE7F49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C8A0-F9F7-418B-AEC9-51DFFDBBB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 number of characteristics of the skin are associated with wool production.  The wool follicle in its role as a production unit may be considered from two broad aspects.  One concerns the processes involved in cell division, differentiation, growth and keratinisation. The other concerns the size/volume of the productive unit.  This module describes follicle curvature, how the curvature of follicles in the skin is associated with particular fleece characteristics and how curvature can be meas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9221-0BB2-4D3E-BD46-9DCF5112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shape, degree of bending or curvature of the follicles in the skin vary from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traigh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and perpendicular to the epidermis through to very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angled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with follicles wrapped around each other and bulbs pointing in all dir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curvature of the follicles are scored on a scale of 1 = straight to 7 = tangled (slide 3).  Individual follicles can also be measured objectively (slide 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degree of follicle curvature is associated with a number of  morphological characteristics of the skin.  For example, skin with curved follicles tends to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torted and irregular blood vessels distribution through the skin.  In skin with straight follicles the arrangement of blood vessels appears more organi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hort, fat, lobulated sebaceous glands which are elongated parallel to the skin whereas in straight follicles the glands are long and thin and better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groups that are distributed unevenly throughout the skin.  Skin with straight follicles tend to have follicle groups that run in even lines through the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f: Nay, T and Jackson, N.  1973. 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Aust. J. Agric. Re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  24:43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A6A4-2C28-4A18-AD35-BE5705403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Nay, T and Jackson, N.  (1973) 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Aust. J. Agric. Re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  24:43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se diagrams depict the two extremes of follicle curvature.  The straight follicles that align parallel to each other are score 1.  The other extreme are score 7 follicles which have no alignment, the bulbs end at different heights and point in all directions.  The follicles also tend to be unevenly spaced through the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 a very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road generalisation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score 1 follicles are often associated with broad, high wool producing sheep, whereas the highly tangled score 7 follicles are often observed in fine, low wool producing sheep.  It must be remembered though, that there are always exceptions to the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2318-421E-48D8-8A79-3C6096819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Maddocks, I.G.  and Jackson, N. (1988).  Structural studies of sheep cattle and goat skin. CSIRO Animal Production, Blacktown, NS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diagram illustrates how the curvature and depth of individual follicles can be measured obj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depth = 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curvature = 100 * h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Follicle Curvatu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Janelle Hocking Edwards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, The University of Western Austral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9000" y="6583320"/>
            <a:ext cx="193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Shape - Curvature (bending) 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traight vs tang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cored 1 - 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xact measurements can be m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has an effect o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blood vessel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ebaceous gland size and sha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rrangement of follicle grou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3657600" cy="325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59520" y="1219320"/>
            <a:ext cx="3895560" cy="326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63680" y="4638600"/>
            <a:ext cx="32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urvature sco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7840" y="4638600"/>
            <a:ext cx="32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urvature scor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Follicle Curvatu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81640" y="6400800"/>
            <a:ext cx="286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Nay, T and Jackson, N.  (19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4600" y="1104840"/>
            <a:ext cx="487692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661000" y="6400800"/>
            <a:ext cx="348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Maddocks, I.G.  and Jackson, N. (198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Depth &amp; curvature of individual follicl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00:04:29Z</dcterms:created>
  <dc:creator>USER</dc:creator>
  <dc:description/>
  <dc:language>en-US</dc:language>
  <cp:lastModifiedBy>Hdaily</cp:lastModifiedBy>
  <cp:lastPrinted>2000-02-03T09:09:47Z</cp:lastPrinted>
  <dcterms:modified xsi:type="dcterms:W3CDTF">2000-05-25T00:05:51Z</dcterms:modified>
  <cp:revision>2</cp:revision>
  <dc:subject/>
  <dc:title>Follicle Curvature</dc:title>
</cp:coreProperties>
</file>