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ED97-045B-466C-ABD3-9E0AF758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describes the accessory structures that are present within the dermis.  Particular attention is given to the blood vessels and the ner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DE3-B607-45F4-87F0-661FD15A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apted from: Maddocks, I.J., and Jackson, N. 1988.  Structural studies of sheep, cattle and goat skin.  CSIRO Division of Animal Production, PO Box 239 Blacktown, NSW 2148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 vessels in the dermis come from the cutaneous branches of the subcutaneous  musculocutaneous art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nches arising from the cutaneous arteries give rise to small vessels which lie deep in the dermis near and parallel to the interface with the subcutaneous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branches ascend towards the skin surface as small muscular perforating arteries which become arteriolar.  Mid dermal branches are sent to other ascending arteri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icles are supplied from the mid-dermal and dermal networks with some variation between br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s a photomicrograph of Merino skin that has been infused with a rubber compound (Microfil</a:t>
            </a:r>
            <a:r>
              <a:rPr b="0" lang="en-AU" sz="12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). The compound fills the blood vessels making them visible under a light microscope.  Note the predominantly vertical distribution of blood vessels; few of the blood vessels can be seen travelling horizontally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D45-CC05-4B53-B0BA-6FFD7B92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 are two types of nerves within the skin:- sensory and mo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nsory nerves have free nerve endings and are associated with pain and 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y are present at the junction between the dermis and epidermis and also around the foll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tor nerves are involved in making things move, for example blood vessel constriction, causing hairs to stand on end and secretion of sw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61D-6738-4090-88A4-9888C356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ldland, G.F. (1991). In: Goldsmith, L.A. Physiology, Biochemistry and Molecular Biology of the Skin.  Oxford University Press, New York.  Vol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shows the nerves encircling the follicle, at the dermal-epidermal junction, along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rector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pili and sweat g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ermal Accessory Structur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r. Janelle Hocking Edward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2880" y="6327720"/>
            <a:ext cx="4191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adapted from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Vasculature of the ski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7400" y="1295280"/>
            <a:ext cx="8088480" cy="3807360"/>
            <a:chOff x="1067400" y="1295280"/>
            <a:chExt cx="8088480" cy="3807360"/>
          </a:xfrm>
        </p:grpSpPr>
        <p:grpSp>
          <p:nvGrpSpPr>
            <p:cNvPr id="52" name=""/>
            <p:cNvGrpSpPr/>
            <p:nvPr/>
          </p:nvGrpSpPr>
          <p:grpSpPr>
            <a:xfrm>
              <a:off x="2681640" y="2020680"/>
              <a:ext cx="3262320" cy="2611440"/>
              <a:chOff x="2681640" y="2020680"/>
              <a:chExt cx="3262320" cy="26114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2723400" y="4176720"/>
                <a:ext cx="3192120" cy="341280"/>
                <a:chOff x="2723400" y="4176720"/>
                <a:chExt cx="3192120" cy="34128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2723400" y="451800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723400" y="417672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2723760" y="430848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723760" y="424656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2723760" y="438444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2723760" y="444816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52200" y="2474640"/>
                <a:ext cx="3163320" cy="1000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681640" y="2651040"/>
                <a:ext cx="3191760" cy="1930320"/>
                <a:chOff x="2681640" y="2651040"/>
                <a:chExt cx="3191760" cy="1930320"/>
              </a:xfrm>
            </p:grpSpPr>
            <p:sp>
              <p:nvSpPr>
                <p:cNvPr id="62" name=""/>
                <p:cNvSpPr/>
                <p:nvPr/>
              </p:nvSpPr>
              <p:spPr>
                <a:xfrm flipH="1">
                  <a:off x="2681640" y="265104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2681640" y="401292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2681640" y="310500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3457440" y="3105000"/>
                  <a:ext cx="381960" cy="89532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4969440" y="2651040"/>
                  <a:ext cx="282600" cy="45396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694960" y="4012920"/>
                  <a:ext cx="2417040" cy="568440"/>
                </a:xfrm>
                <a:custGeom>
                  <a:avLst/>
                  <a:gdLst/>
                  <a:ahLst/>
                  <a:rect l="l" t="t" r="r" b="b"/>
                  <a:pathLst>
                    <a:path w="1600" h="358">
                      <a:moveTo>
                        <a:pt x="1599" y="0"/>
                      </a:moveTo>
                      <a:lnTo>
                        <a:pt x="589" y="357"/>
                      </a:lnTo>
                      <a:lnTo>
                        <a:pt x="0" y="357"/>
                      </a:lnTo>
                    </a:path>
                  </a:pathLst>
                </a:custGeom>
                <a:noFill/>
                <a:ln cap="rnd" w="2556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751840" y="2701800"/>
                <a:ext cx="3192120" cy="1930320"/>
                <a:chOff x="2751840" y="2701800"/>
                <a:chExt cx="3192120" cy="1930320"/>
              </a:xfrm>
            </p:grpSpPr>
            <p:sp>
              <p:nvSpPr>
                <p:cNvPr id="69" name=""/>
                <p:cNvSpPr/>
                <p:nvPr/>
              </p:nvSpPr>
              <p:spPr>
                <a:xfrm flipH="1">
                  <a:off x="2751840" y="270180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2751840" y="406404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2751840" y="315576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>
                  <a:off x="3528360" y="3155760"/>
                  <a:ext cx="381960" cy="895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40720" y="2701800"/>
                  <a:ext cx="282240" cy="453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765880" y="4064040"/>
                  <a:ext cx="2416680" cy="568080"/>
                </a:xfrm>
                <a:custGeom>
                  <a:avLst/>
                  <a:gdLst/>
                  <a:ahLst/>
                  <a:rect l="l" t="t" r="r" b="b"/>
                  <a:pathLst>
                    <a:path w="1600" h="358">
                      <a:moveTo>
                        <a:pt x="1599" y="0"/>
                      </a:moveTo>
                      <a:lnTo>
                        <a:pt x="589" y="357"/>
                      </a:lnTo>
                      <a:lnTo>
                        <a:pt x="0" y="35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 flipH="1">
                <a:off x="276588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33072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3910680" y="2020680"/>
                <a:ext cx="76140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475520" y="2020680"/>
                <a:ext cx="76140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05404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156680" y="1542960"/>
              <a:ext cx="165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Epi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80920" y="12952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60160" y="2266920"/>
              <a:ext cx="284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Sub-epidermal 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8440" y="2590560"/>
              <a:ext cx="286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cc"/>
                  </a:solidFill>
                  <a:latin typeface="Arial"/>
                </a:rPr>
                <a:t>(capillaries &amp; venul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7960" y="3047760"/>
              <a:ext cx="297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Mid dermal vess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13920" y="3809880"/>
              <a:ext cx="246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Dermal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03400" y="4647960"/>
              <a:ext cx="288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utaneous mus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7400" y="4647960"/>
              <a:ext cx="240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Fascial vess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7400" y="3085920"/>
              <a:ext cx="12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97840" y="1904760"/>
              <a:ext cx="3625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454000" y="2742840"/>
              <a:ext cx="652320" cy="152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38080" y="4419360"/>
              <a:ext cx="1595160" cy="4572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728600" y="1600200"/>
              <a:ext cx="652320" cy="3808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1280" y="1600200"/>
              <a:ext cx="362160" cy="4572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33960" y="4038480"/>
              <a:ext cx="507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26000" y="3200040"/>
              <a:ext cx="652320" cy="152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35320" y="2666880"/>
              <a:ext cx="72360" cy="1371600"/>
            </a:xfrm>
            <a:custGeom>
              <a:avLst/>
              <a:gdLst>
                <a:gd name="textAreaLeft" fmla="*/ 21240 w 72360"/>
                <a:gd name="textAreaRight" fmla="*/ 72720 w 723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17880" y="3352680"/>
              <a:ext cx="21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117880" y="4343400"/>
              <a:ext cx="507600" cy="304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lood vessels in sheep ski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lood vessels are mainly distributed vertically through the skin around and between folli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56080" y="1905120"/>
            <a:ext cx="8360640" cy="3593880"/>
            <a:chOff x="856080" y="1905120"/>
            <a:chExt cx="8360640" cy="359388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2147760" y="1905120"/>
              <a:ext cx="546264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56080" y="1905120"/>
              <a:ext cx="134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Exter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Wool Fi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65640" y="51055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Hypoderm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14960" y="3200400"/>
              <a:ext cx="9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Bl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Vess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2840" y="2133720"/>
              <a:ext cx="7621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948360" y="5257800"/>
              <a:ext cx="9144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52920" y="350532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251840" y="65833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251840" y="65833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Innerva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ensory ner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pecialised recep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t epidermal-dermal j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round hai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chwann cell-axonal un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otor ner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ollow blood vess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vasomotor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pilomotor 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sweat secre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946080"/>
            <a:ext cx="7772400" cy="5302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Nerves of the skin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24480" y="6400800"/>
            <a:ext cx="192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br>
              <a:rPr sz="1200"/>
            </a:b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Goldsmith (19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23:03:10Z</dcterms:created>
  <dc:creator>USER</dc:creator>
  <dc:description/>
  <dc:language>en-US</dc:language>
  <cp:lastModifiedBy>Hdaily</cp:lastModifiedBy>
  <cp:lastPrinted>2000-03-27T23:06:14Z</cp:lastPrinted>
  <dcterms:modified xsi:type="dcterms:W3CDTF">2000-05-19T01:33:55Z</dcterms:modified>
  <cp:revision>2</cp:revision>
  <dc:subject/>
  <dc:title>Dermal Accessory Structures</dc:title>
</cp:coreProperties>
</file>