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1E69-719C-4C00-9244-7A76760EC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ovides a brief description of the types of cells and their function in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the structure, function and components of the dermis see module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1E4E-9C78-46F7-BFCF-DD4EEFE29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oblasts are the major cell type in the dermis and are ubiquitous throughout the body.  In the skin they produce the major components of the dermi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0E42-9DF2-48D9-96F2-CEF4A52E0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crophages are also ubiquitous throughout the body.  They are involved in the immune function of animals, particularly during wound healing and infection.  They are also involved in removal of unwanted tissue and recycling of the tissu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crophages are amoeboid scavengers and remove dead or exhausted cells by phagocyt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ytoplasm is filled with lysosomes which detoxify ingested toxic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are a store for antigens and produce interfer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13D8-32F6-45AA-B66B-8B6A1F6A3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st cells are numerous and scattered throughout the entire dermis but also accumulate around blood vessels and hair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large, long microvilli, and large membrane-bound granules in the cytoplasm.  The cells degranulate and release histamine, heparin and seratonin.  These compounds play a central role in inflam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870C-4347-48B0-B6DC-3FB214B56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kel cells are associated with the ends of nerve and act as a link between the mechanical movement of the epidermis and hair fibres with the nervous system.  When stimulated they release neuropeptides that send a signal to the nerve that movement has occurr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D047-64E8-4900-A74C-8AACF39C3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s are the cells that give skin or fibres pigmentation.  They secrete melanin into the keratinocytes in the fibre or the epidermis.  This becomes incorporated into the keratin and gives colour.  For further information about the function of melanocytes see the modules “Biology of pigmentation” and “Control of Melanin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mbiotic interaction of the keratinocyte with melanocyte is called the epidermal melanin un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C099-7760-4628-BD5F-33CB2F507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ymphocytes are another cell type within the dermis that are involved in cell mediated immune response.  They are produced by the thym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mal Cel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fibroblast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ponsible for formation of collagen, elastin and ground subst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indle-shap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inactive - long, slender, nucleus fills cell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 from tissue mesenchym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a:t>
            </a:r>
            <a:r>
              <a:rPr b="1" lang="en-GB" sz="3200" spc="-1" strike="noStrike">
                <a:solidFill>
                  <a:srgbClr val="fafd00"/>
                </a:solidFill>
                <a:latin typeface="Arial"/>
              </a:rPr>
              <a:t>macrophag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moeboid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move foreign bod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biquitou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 from blood monocyt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toxify ingested toxic materi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und healing, infection, tissue resorption, recycling</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mast cell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ociated with blood vessels and hair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mbers increase in itch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 histami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toplasm filled with large granules that are released when stimulat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ticipate in lipid metabolism and regu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ticipate in initial immune response</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a:t>
            </a:r>
            <a:r>
              <a:rPr b="1" lang="en-GB" sz="3200" spc="-1" strike="noStrike">
                <a:solidFill>
                  <a:srgbClr val="fafd00"/>
                </a:solidFill>
                <a:latin typeface="Arial"/>
              </a:rPr>
              <a:t>merkel</a:t>
            </a:r>
            <a:r>
              <a:rPr b="1" lang="en-AU" sz="3200" spc="-1" strike="noStrike">
                <a:solidFill>
                  <a:srgbClr val="fafd00"/>
                </a:solidFill>
                <a:latin typeface="Arial"/>
              </a:rPr>
              <a:t> cell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ociated with nerve ending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chanoreceptor fun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 neuropept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sent in epidermis, hair and whiskers</a:t>
            </a:r>
            <a:endParaRPr b="1" lang="en-US" sz="2800" spc="-1" strike="noStrike">
              <a:solidFill>
                <a:srgbClr val="ffffff"/>
              </a:solidFill>
              <a:latin typeface="Arial"/>
            </a:endParaRPr>
          </a:p>
        </p:txBody>
      </p:sp>
      <p:sp>
        <p:nvSpPr>
          <p:cNvPr id="60"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a:t>
            </a:r>
            <a:r>
              <a:rPr b="1" lang="en-GB" sz="3200" spc="-1" strike="noStrike">
                <a:solidFill>
                  <a:srgbClr val="fafd00"/>
                </a:solidFill>
                <a:latin typeface="Arial"/>
              </a:rPr>
              <a:t>melanocytes</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sent in hair, epidermis, derm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cretory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e melanoso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lanin-containing cytoplasmic partic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erred to keratinocyt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own- black pigmentation</a:t>
            </a:r>
            <a:endParaRPr b="1" lang="en-US" sz="2800" spc="-1" strike="noStrike">
              <a:solidFill>
                <a:srgbClr val="ffffff"/>
              </a:solidFill>
              <a:latin typeface="Arial"/>
            </a:endParaRPr>
          </a:p>
        </p:txBody>
      </p:sp>
      <p:sp>
        <p:nvSpPr>
          <p:cNvPr id="63"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lymphocytes</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volved in cell mediated immune respon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 lymphocytes</a:t>
            </a:r>
            <a:endParaRPr b="1" lang="en-US" sz="2800" spc="-1" strike="noStrike">
              <a:solidFill>
                <a:srgbClr val="ffffff"/>
              </a:solidFill>
              <a:latin typeface="Arial"/>
            </a:endParaRPr>
          </a:p>
        </p:txBody>
      </p:sp>
      <p:sp>
        <p:nvSpPr>
          <p:cNvPr id="66"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14:23Z</dcterms:created>
  <dc:creator>USER</dc:creator>
  <dc:description/>
  <dc:language>en-US</dc:language>
  <cp:lastModifiedBy>Hdaily</cp:lastModifiedBy>
  <cp:lastPrinted>2000-02-03T09:09:47Z</cp:lastPrinted>
  <dcterms:modified xsi:type="dcterms:W3CDTF">2000-05-19T01:39:19Z</dcterms:modified>
  <cp:revision>2</cp:revision>
  <dc:subject/>
  <dc:title>Dermal Cells</dc:title>
</cp:coreProperties>
</file>