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F363-DCC5-4BE9-A0C6-C27C550D6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tracellular matrix (ECM) consists of a ground substance and proteins such as collagen, elastin and reticulin.  These are briefly described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on the structure, function and components of the dermis see module “The 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A14F-5DE2-41CE-8836-7BF76591D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component of the dermis is the ECM.  This is composed of different fibrous proteins and is surrounded by a gel-like substance </a:t>
            </a:r>
            <a:r>
              <a:rPr b="0" lang="en-GB" sz="1200" spc="-1" strike="noStrike">
                <a:solidFill>
                  <a:srgbClr val="000000"/>
                </a:solidFill>
                <a:latin typeface="Times New Roman"/>
              </a:rPr>
              <a:t>(glycosaminoglycans</a:t>
            </a:r>
            <a:r>
              <a:rPr b="0" lang="en-AU" sz="1200" spc="-1" strike="noStrike">
                <a:solidFill>
                  <a:srgbClr val="000000"/>
                </a:solidFill>
                <a:latin typeface="Times New Roman"/>
              </a:rPr>
              <a:t>).  The ECM forms a scaffolding around which the cells and </a:t>
            </a:r>
            <a:r>
              <a:rPr b="0" lang="en-GB" sz="1200" spc="-1" strike="noStrike">
                <a:solidFill>
                  <a:srgbClr val="000000"/>
                </a:solidFill>
                <a:latin typeface="Times New Roman"/>
              </a:rPr>
              <a:t>other</a:t>
            </a:r>
            <a:r>
              <a:rPr b="0" lang="en-AU" sz="1200" spc="-1" strike="noStrike">
                <a:solidFill>
                  <a:srgbClr val="000000"/>
                </a:solidFill>
                <a:latin typeface="Times New Roman"/>
              </a:rPr>
              <a:t> structures arrange themselves.  It also provides flexibility and support for the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iginally the ECM was believed to be simply an inert “scaffolding” that stabilised the structure of the skin.  However, it has since been found to have a complex role in the regulation of cell contact, development, migration, shape and metabolism of the skin.  For more information about this see the module “Communication between the Extracellular Matrix and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rmis is called a connective tissue and this includes the ECM and the cel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22CC-3912-45E4-92FD-146A5F60D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lagen contributes 25% of the total body proteins of mammals.  It is the major fibrous element of skin, bone, tendon, cartilage, blood vessels and teeth.  It is a major structural and fibrillar protein of the skin which accounts for up to 90% of the 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lagen consists of a network of elastic fibres that restores the skin to its normal fibrous array following deformation by mechanical fo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lagen is a family of related molecules arranged in bundles that are produced by fibroblasts as procollagen (3-helix).  This is secreted and the final arrangement occurs external to the cell.  The major amino acids in collagen are hydroxyproline and hydroxylisine.  These allow the tight twisting characteristic of the triple helix arrangement of collagen.  Covalent cross-linking within and between the collagen molecules give it its characteristic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problems with collagen occur the animal has fragile skin that tears readi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For further information about collagen formation</a:t>
            </a:r>
            <a:r>
              <a:rPr b="0" lang="en-GB" sz="1200" spc="-1" strike="noStrike">
                <a:solidFill>
                  <a:srgbClr val="000000"/>
                </a:solidFill>
                <a:latin typeface="Times New Roman"/>
              </a:rPr>
              <a:t> see Bereiter-Hahn, J., Matoltsy, A.G. &amp; Richards, K.S. (1986) Biology of the Integument Vol 2. Vertebrates. Springer-Verlag, Berlin p.80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ldsmith, L.A. (1991). Physiology, Biochemistry and Molecular Biology of the Skin. Oxford University Press, New York. Ch. 16.</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2DF4-5794-493A-8B8F-66A8F6C5E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astin imparts resilience to the ECM and contributes 2-4% of dry weight of dermis.  The extensive network of elastin in the connective tissue gives skin the ability to recoil after being stretc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astin is a highly organised interwoven network which consists of individual fibres of variable thickness and dens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ss is known about the structure of elastin than collagen, however there is an internal cortex made of microfibrils that are thought to provide support for the proper alignment of the elastin molecules into a fibre structure.  The outer part (medulla) is made of elastic fibres and in the adult consists of up to 95% of the elast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inear polypeptide structure is made by fibroblasts, excreted and the fibres are then formed external to the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oldsmith, L.A.  (1991).  Physiology, Biochemistry and Molecular Biology of the Skin.  Oxford University Press, New Yor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4522-5176-4D01-81C9-7B6656620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iculin is composed of fibrils that are predominantly present on the boundary between the dermis and the epidermis, follicles and gla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iculin may be involved in anchoring the epidermis to the dermi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0825-487E-4A7B-9E26-918373472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aces between the ECM in the dermis are filled with a gel-like substance known as dermal ground substance.  It consists of thread-like peptides with highly extended polysaccharide sidechains (proteoglycans).  Some examples of proteoglycans include:</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aluronate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parin sulphate</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rmatan sulphate</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ondroitin-4-sulph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act organisation of the ground substance is unknown but it is thought that the proteoglycans are bound to each other and to collagen and elast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res of the gel are filled with substances from blood including</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organic ion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rea</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lood sugar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tein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bolic products from parenchymal cell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bolic products from connective tissue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vement of these substances in the matrix is regulated by varying pore size and changes in the density of the g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ldsmith, L.A. (1991).  Physiology, Biochemistry and Molecular Biology of the Skin.  Oxford University Press, New York. Ch. 1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xtracellular Matrix</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structur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tracellular matrix (EC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ous proteins embedded in hydrated ge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s as scaffold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gulatory funct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nective tissu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CM plus cells</a:t>
            </a:r>
            <a:endParaRPr b="1" lang="en-US" sz="2400" spc="-1" strike="noStrike">
              <a:solidFill>
                <a:srgbClr val="ffffff"/>
              </a:solidFill>
              <a:latin typeface="Arial"/>
            </a:endParaRPr>
          </a:p>
        </p:txBody>
      </p:sp>
      <p:sp>
        <p:nvSpPr>
          <p:cNvPr id="51"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llagen</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n-extensib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ery stro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ed by fibroblas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ains hydroxyproline and hydroxylysin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rranged in bundles</a:t>
            </a:r>
            <a:endParaRPr b="1" lang="en-US" sz="2800" spc="-1" strike="noStrike">
              <a:solidFill>
                <a:srgbClr val="ffffff"/>
              </a:solidFill>
              <a:latin typeface="Arial"/>
            </a:endParaRPr>
          </a:p>
        </p:txBody>
      </p:sp>
      <p:sp>
        <p:nvSpPr>
          <p:cNvPr id="54"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lastin</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ngle strand, branch freel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n-fibrillar and homogenou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xtensive network</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ighly retractable, yellow</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ack of periodical structur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posed of two reg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dulla (elasti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rtex (non-elastic)</a:t>
            </a:r>
            <a:endParaRPr b="1" lang="en-US" sz="2400" spc="-1" strike="noStrike">
              <a:solidFill>
                <a:srgbClr val="ffffff"/>
              </a:solidFill>
              <a:latin typeface="Arial"/>
            </a:endParaRPr>
          </a:p>
        </p:txBody>
      </p:sp>
      <p:sp>
        <p:nvSpPr>
          <p:cNvPr id="57"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ticulin</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nchoring fibrils</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ssociated with the basal membrane</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parates the dermis from the epidermis</a:t>
            </a:r>
            <a:endParaRPr b="1" lang="en-US" sz="24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anch freely, no bundles</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neven thickness</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milar appearance to collagen</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rbohydrate linked to collagen</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y provide template for extracellular aggregation of collagen fibrils</a:t>
            </a:r>
            <a:endParaRPr b="1" lang="en-US" sz="2400" spc="-1" strike="noStrike">
              <a:solidFill>
                <a:srgbClr val="ffffff"/>
              </a:solidFill>
              <a:latin typeface="Arial"/>
            </a:endParaRPr>
          </a:p>
        </p:txBody>
      </p:sp>
      <p:sp>
        <p:nvSpPr>
          <p:cNvPr id="60"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round substance of the ECM</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teoglycan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re protein bearing a </a:t>
            </a:r>
            <a:r>
              <a:rPr b="1" lang="en-GB" sz="2000" spc="-1" strike="noStrike">
                <a:solidFill>
                  <a:srgbClr val="ffffff"/>
                </a:solidFill>
                <a:latin typeface="Arial"/>
              </a:rPr>
              <a:t>glycosaminoglycan </a:t>
            </a:r>
            <a:r>
              <a:rPr b="1" lang="en-AU" sz="2000" spc="-1" strike="noStrike">
                <a:solidFill>
                  <a:srgbClr val="ffffff"/>
                </a:solidFill>
                <a:latin typeface="Arial"/>
              </a:rPr>
              <a:t>side-chain</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g. heparin sulphate</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ble to bind water to 1000 times its volum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tains blood metabolite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ons, urea, sugars</a:t>
            </a:r>
            <a:endParaRPr b="1" lang="en-US" sz="2000" spc="-1" strike="noStrike">
              <a:solidFill>
                <a:srgbClr val="ffffff"/>
              </a:solidFill>
              <a:latin typeface="Arial"/>
            </a:endParaRPr>
          </a:p>
        </p:txBody>
      </p:sp>
      <p:sp>
        <p:nvSpPr>
          <p:cNvPr id="63"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23:42:58Z</dcterms:created>
  <dc:creator>USER</dc:creator>
  <dc:description/>
  <dc:language>en-US</dc:language>
  <cp:lastModifiedBy>Hdaily</cp:lastModifiedBy>
  <cp:lastPrinted>2000-02-03T09:09:47Z</cp:lastPrinted>
  <dcterms:modified xsi:type="dcterms:W3CDTF">2000-06-02T01:02:12Z</dcterms:modified>
  <cp:revision>4</cp:revision>
  <dc:subject/>
  <dc:title>Extracellular Matrix</dc:title>
</cp:coreProperties>
</file>