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F8F3-54BA-4637-A038-90C602C1B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tains a basic description of the structure and function of the dermis and lists the components of the dermis.  There is also a photomicrograph of the sheep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the cells within the dermis see module “ Dermal Cells” and for more information on the matrix see the module “Extracellular Matri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BA66-AA50-401E-8E66-C495BB5C2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provides the underlying support for the epidermis, the extensive vascular and nervous network, and encloses the specialised glands and append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a dense fibro-elastic connective tissue which binds, supports and protects the surrounding tissue.  Cells are widely separated by large amounts of intercellular material.  The dermis constitutes the mass of the skin (1-2mm d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extends from the basal lamina below the the epidermis to the </a:t>
            </a:r>
            <a:r>
              <a:rPr b="0" lang="en-GB" sz="1200" spc="-1" strike="noStrike">
                <a:solidFill>
                  <a:srgbClr val="000000"/>
                </a:solidFill>
                <a:latin typeface="Times New Roman"/>
              </a:rPr>
              <a:t>peninculous adiposus (subcutaneous fat la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neath dermis is the subcutaneous tissue (hypodermis) which is composed of loose connective tissue or fatty connective t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you cut too deep when taking skin samples you will see fatty tissue or even mus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754C-F441-4690-ABE4-9DCAF429F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contains a “framework” that is made of proteins that tend to be strand-like or “fibrillar”.  This framework is called the extracellular matrix and is predominantly made of collagen and elastin.  Further details about these can be found in the module “Extracellular Matri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und substance is outside the cells, fibres, blood vessels and nerves and basically fills up the spaces.  All other dermal components are embedded in the ground substance.  Further details about these can be found in the module “Extracellular Matri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few cells in the dermis, the fibroblasts being the most common.  The other cells are fewer in number but the numbers may change rapidly as the situation demands, such as after injury.  Further details about these can be found in the module “Dermal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CB14-E00B-448E-9EE8-8194393D2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aids in protecting the animal from the external environment and supports the epidermis.  It is a barrier to infection by containing immune cells and lymph.  The dermis contains approximately 70% water which maintains the firmness and flexibility of the skin.  It also provides a form of ion and nutrient exchange between the blood vessels and organelles within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micrograph of sheep skin showing the epidermis (pale brown cytoplasm with dark brown nuclei) and the dermis (Blue/purple rope-like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ope-like tissue is the extracellular matrix.   It is possible to see some dark purple nuclei of fibroblasts dispersed throughout the dermis, however note that they are very scattered and non-continuou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Derm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is structur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derlying support of the sk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nse framework</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orts and nourishes epidermi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vides elasticity and streng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nective tissue (loos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ndifferentiat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s and cells embedded in substratum</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mifluid gelatinous substratum</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ypodermis</a:t>
            </a:r>
            <a:endParaRPr b="1" lang="en-US" sz="2800" spc="-1" strike="noStrike">
              <a:solidFill>
                <a:srgbClr val="ffffff"/>
              </a:solidFill>
              <a:latin typeface="Arial"/>
            </a:endParaRPr>
          </a:p>
        </p:txBody>
      </p:sp>
      <p:sp>
        <p:nvSpPr>
          <p:cNvPr id="51"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ponents of the dermi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ous prote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lagen, elastin, reticul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tra-Cellular Matrix (ECM)</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und substan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el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oblasts, mast cells, lymphocytes melanocytes, macrophag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pporting structu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ood vessels, nerves, lymph</a:t>
            </a:r>
            <a:endParaRPr b="1" lang="en-US" sz="2400" spc="-1" strike="noStrike">
              <a:solidFill>
                <a:srgbClr val="ffffff"/>
              </a:solidFill>
              <a:latin typeface="Arial"/>
            </a:endParaRPr>
          </a:p>
        </p:txBody>
      </p:sp>
      <p:sp>
        <p:nvSpPr>
          <p:cNvPr id="54"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is function</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cts from external injur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acts with epiderm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rrier to infe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ter-binding (maintains turgid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on exchange</a:t>
            </a:r>
            <a:endParaRPr b="1" lang="en-US" sz="2800" spc="-1" strike="noStrike">
              <a:solidFill>
                <a:srgbClr val="ffffff"/>
              </a:solidFill>
              <a:latin typeface="Arial"/>
            </a:endParaRPr>
          </a:p>
        </p:txBody>
      </p:sp>
      <p:sp>
        <p:nvSpPr>
          <p:cNvPr id="57"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 name=""/>
          <p:cNvGrpSpPr/>
          <p:nvPr/>
        </p:nvGrpSpPr>
        <p:grpSpPr>
          <a:xfrm>
            <a:off x="1143000" y="304920"/>
            <a:ext cx="8001000" cy="5943600"/>
            <a:chOff x="1143000" y="304920"/>
            <a:chExt cx="8001000" cy="5943600"/>
          </a:xfrm>
        </p:grpSpPr>
        <p:pic>
          <p:nvPicPr>
            <p:cNvPr id="59" name="" descr=""/>
            <p:cNvPicPr/>
            <p:nvPr/>
          </p:nvPicPr>
          <p:blipFill>
            <a:blip r:embed="rId1">
              <a:lum contrast="12000"/>
            </a:blip>
            <a:srcRect l="21102" t="-133" r="0" b="23452"/>
            <a:stretch/>
          </p:blipFill>
          <p:spPr>
            <a:xfrm>
              <a:off x="1143000" y="304920"/>
              <a:ext cx="8001000" cy="5943600"/>
            </a:xfrm>
            <a:prstGeom prst="rect">
              <a:avLst/>
            </a:prstGeom>
            <a:ln w="0">
              <a:noFill/>
            </a:ln>
          </p:spPr>
        </p:pic>
        <p:sp>
          <p:nvSpPr>
            <p:cNvPr id="60" name=""/>
            <p:cNvSpPr/>
            <p:nvPr/>
          </p:nvSpPr>
          <p:spPr>
            <a:xfrm>
              <a:off x="6844320" y="2295720"/>
              <a:ext cx="1386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Dermis</a:t>
              </a:r>
              <a:endParaRPr b="0" lang="en-US" sz="2800" spc="-1" strike="noStrike">
                <a:solidFill>
                  <a:srgbClr val="000000"/>
                </a:solidFill>
                <a:latin typeface="Times New Roman"/>
              </a:endParaRPr>
            </a:p>
          </p:txBody>
        </p:sp>
        <p:sp>
          <p:nvSpPr>
            <p:cNvPr id="61" name=""/>
            <p:cNvSpPr/>
            <p:nvPr/>
          </p:nvSpPr>
          <p:spPr>
            <a:xfrm flipH="1">
              <a:off x="3439440" y="1143000"/>
              <a:ext cx="962640" cy="6098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772880" y="1143000"/>
              <a:ext cx="592200" cy="1219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09040" y="685800"/>
              <a:ext cx="18982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Epidermis</a:t>
              </a:r>
              <a:endParaRPr b="0" lang="en-US" sz="2800" spc="-1" strike="noStrike">
                <a:solidFill>
                  <a:srgbClr val="000000"/>
                </a:solidFill>
                <a:latin typeface="Times New Roman"/>
              </a:endParaRPr>
            </a:p>
          </p:txBody>
        </p:sp>
        <p:sp>
          <p:nvSpPr>
            <p:cNvPr id="64" name=""/>
            <p:cNvSpPr/>
            <p:nvPr/>
          </p:nvSpPr>
          <p:spPr>
            <a:xfrm flipV="1">
              <a:off x="8032680" y="3733920"/>
              <a:ext cx="592200" cy="99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flipV="1">
              <a:off x="7587720" y="4038480"/>
              <a:ext cx="296280" cy="6858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77000" y="4648320"/>
              <a:ext cx="20962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Fibroblasts</a:t>
              </a:r>
              <a:endParaRPr b="0" lang="en-US" sz="2800" spc="-1" strike="noStrike">
                <a:solidFill>
                  <a:srgbClr val="000000"/>
                </a:solidFill>
                <a:latin typeface="Times New Roman"/>
              </a:endParaRPr>
            </a:p>
          </p:txBody>
        </p:sp>
      </p:grpSp>
      <p:sp>
        <p:nvSpPr>
          <p:cNvPr id="67"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3:35:11Z</dcterms:created>
  <dc:creator>USER</dc:creator>
  <dc:description/>
  <dc:language>en-US</dc:language>
  <cp:lastModifiedBy>Hdaily</cp:lastModifiedBy>
  <cp:lastPrinted>2000-02-03T09:09:47Z</cp:lastPrinted>
  <dcterms:modified xsi:type="dcterms:W3CDTF">2000-05-19T01:45:53Z</dcterms:modified>
  <cp:revision>2</cp:revision>
  <dc:subject/>
  <dc:title>The Dermis</dc:title>
</cp:coreProperties>
</file>