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FFAB-FB5F-4A42-9382-9CE114A5A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3D05-991B-4702-A1ED-1DE1B51AA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ize of the productive unit - follicle depth - and discusses how how follicle depth, skin thickness and follicle evenness are associated with particular fleece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0342-EB3A-46F9-AB2D-45B4E4F1E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a:t>
            </a:r>
            <a:r>
              <a:rPr b="0" lang="en-GB" sz="1100" spc="-1" strike="noStrike">
                <a:solidFill>
                  <a:srgbClr val="000000"/>
                </a:solidFill>
                <a:latin typeface="Times New Roman"/>
              </a:rPr>
              <a:t>Janelle Hocking Edwards</a:t>
            </a:r>
            <a:r>
              <a:rPr b="0" lang="en-AU" sz="1100" spc="-1" strike="noStrike">
                <a:solidFill>
                  <a:srgbClr val="000000"/>
                </a:solidFill>
                <a:latin typeface="Times New Roman"/>
              </a:rPr>
              <a:t>, The University of Western Australi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llicle depth is measured as the perpendicular distance between the epidermis and the lower ends of the bulbs.  As a </a:t>
            </a:r>
            <a:r>
              <a:rPr b="1" lang="en-AU" sz="1100" spc="-1" strike="noStrike">
                <a:solidFill>
                  <a:srgbClr val="000000"/>
                </a:solidFill>
                <a:latin typeface="Times New Roman"/>
              </a:rPr>
              <a:t>broad generalisation</a:t>
            </a:r>
            <a:r>
              <a:rPr b="0" lang="en-AU" sz="1100" spc="-1" strike="noStrike">
                <a:solidFill>
                  <a:srgbClr val="000000"/>
                </a:solidFill>
                <a:latin typeface="Times New Roman"/>
              </a:rPr>
              <a:t>,  sheep with “deep” follicles or thick skin tend to have higher fibre diameters and higher wool production than sheep with “shallow” follicles or thin sk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is believed that follicle depth is an indicator of the size, vigour and competitive ability of the follicles because of the “closeness” of the follicles to blood supply.  However, nutritive blood supply (that which supplies nutrients for metabolism and removal of metabolic waste) is by capillary flow, not the main arterial/venous network that the deep follicles are “close” to.  Maybe the size of the follicles is related to higher probability of the follicle coming into contact with capillaries.  But larger follicles need more nutrients to maintain them, so are not really more “efficient” wool produc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epth of the follicles is possibly influenced by:</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reed differences - There is a positive genetic correlations between skin thickness and clean fleece weight. The relationship with diameter and staple strength are unknown (Gregory, 1982 AJAR, 33:363; Williams and Thornberry, 1992 Proc. Aust. Soc. Anim. Prod., 19:138)</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ckness increased by 0.4mm to 0.6 mm with increasing nutrition (1.5% lwt to ad libitum; Murray 1996. Proc. Aust. Soc. Anim. Prod., 21:38 ).  However Williams and Thornberry found that grazing Fleece Plus sheep had thicker skins than Fleece minus sheep but this was not related to liveweight or condition score.</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easonality/nutrition - see the module “Effect of Season and Nutrition on Follicle Shutdow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is often confusion between skin thickness (e.g. measurement of the skin thickness or ear thickness with fingers or calipers, or weighing skin samples) and follicle depth (objective measurement using skin samples and measuring depth between epidermis and the base of the follicles).</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F51C-9FB9-42C1-8277-207672FD1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venness of the follicles in the skin vary from </a:t>
            </a:r>
            <a:r>
              <a:rPr b="1" lang="en-AU" sz="1200" spc="-1" strike="noStrike">
                <a:solidFill>
                  <a:srgbClr val="000000"/>
                </a:solidFill>
                <a:latin typeface="Times New Roman"/>
              </a:rPr>
              <a:t>even</a:t>
            </a:r>
            <a:r>
              <a:rPr b="0" lang="en-AU" sz="1200" spc="-1" strike="noStrike">
                <a:solidFill>
                  <a:srgbClr val="000000"/>
                </a:solidFill>
                <a:latin typeface="Times New Roman"/>
              </a:rPr>
              <a:t> with all follicle bulbs ending at the same depth below the epidermis, through to </a:t>
            </a:r>
            <a:r>
              <a:rPr b="1" lang="en-AU" sz="1200" spc="-1" strike="noStrike">
                <a:solidFill>
                  <a:srgbClr val="000000"/>
                </a:solidFill>
                <a:latin typeface="Times New Roman"/>
              </a:rPr>
              <a:t>uneven</a:t>
            </a:r>
            <a:r>
              <a:rPr b="0" lang="en-AU" sz="1200" spc="-1" strike="noStrike">
                <a:solidFill>
                  <a:srgbClr val="000000"/>
                </a:solidFill>
                <a:latin typeface="Times New Roman"/>
              </a:rPr>
              <a:t>, with follicle bulbs being at highly variable depths below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venness of the follicles are scored on a scale of 1 = even to 5 = uneven (slide 4).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gree of follicle unevenness is of interest as it may be associated with the variation in fibre diameter.  It was found that the sheep-to-sheep correlation between unevenness score and the CV of fibre diameter is 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st adult follicles are those that are first initiated in the fetus, that is P follicles tend to be bigger than original secondary follicles which tend to be bigger than derived secondary follicles. Therefore it has been suggested that evenness may measure the spread of initiation times (e.g. score 5 had a long time between the first and final follicles being ini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also been suggested that follicle unevenness may be related to the presence or absence of a birth coat (e.g. lambs with birth coats may have a score 5 for un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9EEC-7831-42B6-BC9B-6FF11275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G.  and Jackson, N. (1988).  Structural studies of sheep cattle and goat skin. CSIRO Animal Production, Blacktow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pth and Evennes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pth</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distance between the epidermis and the base of the bul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y influenc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otyp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indicator of the size, vigour and competitive ability of follicles</a:t>
            </a: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nes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tion in depth between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cored 1-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venness score maybe associated with fibre diameter distribution (r=0.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y an indicator of follicle initiation times</a:t>
            </a:r>
            <a:endParaRPr b="1" lang="en-US" sz="2800" spc="-1" strike="noStrike">
              <a:solidFill>
                <a:srgbClr val="ffffff"/>
              </a:solidFill>
              <a:latin typeface="Arial"/>
            </a:endParaRPr>
          </a:p>
        </p:txBody>
      </p:sp>
      <p:sp>
        <p:nvSpPr>
          <p:cNvPr id="5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nevenness</a:t>
            </a:r>
            <a:endParaRPr b="1" lang="en-US" sz="3200" spc="-1" strike="noStrike">
              <a:solidFill>
                <a:srgbClr val="fafd00"/>
              </a:solidFill>
              <a:latin typeface="Arial"/>
            </a:endParaRPr>
          </a:p>
        </p:txBody>
      </p:sp>
      <p:grpSp>
        <p:nvGrpSpPr>
          <p:cNvPr id="56" name=""/>
          <p:cNvGrpSpPr/>
          <p:nvPr/>
        </p:nvGrpSpPr>
        <p:grpSpPr>
          <a:xfrm>
            <a:off x="1244520" y="800280"/>
            <a:ext cx="7670880" cy="5065200"/>
            <a:chOff x="1244520" y="800280"/>
            <a:chExt cx="7670880" cy="5065200"/>
          </a:xfrm>
        </p:grpSpPr>
        <p:pic>
          <p:nvPicPr>
            <p:cNvPr id="57" name="" descr=""/>
            <p:cNvPicPr/>
            <p:nvPr/>
          </p:nvPicPr>
          <p:blipFill>
            <a:blip r:embed="rId1"/>
            <a:stretch/>
          </p:blipFill>
          <p:spPr>
            <a:xfrm>
              <a:off x="1244520" y="800280"/>
              <a:ext cx="3632400" cy="4533840"/>
            </a:xfrm>
            <a:prstGeom prst="rect">
              <a:avLst/>
            </a:prstGeom>
            <a:ln w="0">
              <a:noFill/>
            </a:ln>
          </p:spPr>
        </p:pic>
        <p:pic>
          <p:nvPicPr>
            <p:cNvPr id="58" name="" descr=""/>
            <p:cNvPicPr/>
            <p:nvPr/>
          </p:nvPicPr>
          <p:blipFill>
            <a:blip r:embed="rId2"/>
            <a:stretch/>
          </p:blipFill>
          <p:spPr>
            <a:xfrm>
              <a:off x="4965840" y="800280"/>
              <a:ext cx="3949560" cy="4533840"/>
            </a:xfrm>
            <a:prstGeom prst="rect">
              <a:avLst/>
            </a:prstGeom>
            <a:ln w="0">
              <a:noFill/>
            </a:ln>
          </p:spPr>
        </p:pic>
        <p:sp>
          <p:nvSpPr>
            <p:cNvPr id="59" name=""/>
            <p:cNvSpPr/>
            <p:nvPr/>
          </p:nvSpPr>
          <p:spPr>
            <a:xfrm>
              <a:off x="1252440" y="5334120"/>
              <a:ext cx="362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Unevenness score 1</a:t>
              </a:r>
              <a:endParaRPr b="0" lang="en-US" sz="2800" spc="-1" strike="noStrike">
                <a:solidFill>
                  <a:srgbClr val="000000"/>
                </a:solidFill>
                <a:latin typeface="Times New Roman"/>
              </a:endParaRPr>
            </a:p>
          </p:txBody>
        </p:sp>
        <p:sp>
          <p:nvSpPr>
            <p:cNvPr id="60" name=""/>
            <p:cNvSpPr/>
            <p:nvPr/>
          </p:nvSpPr>
          <p:spPr>
            <a:xfrm>
              <a:off x="5246640" y="5349960"/>
              <a:ext cx="362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Unevenness score 5</a:t>
              </a:r>
              <a:endParaRPr b="0" lang="en-US" sz="2800" spc="-1" strike="noStrike">
                <a:solidFill>
                  <a:srgbClr val="000000"/>
                </a:solidFill>
                <a:latin typeface="Times New Roman"/>
              </a:endParaRPr>
            </a:p>
          </p:txBody>
        </p:sp>
      </p:grpSp>
      <p:sp>
        <p:nvSpPr>
          <p:cNvPr id="61" name=""/>
          <p:cNvSpPr/>
          <p:nvPr/>
        </p:nvSpPr>
        <p:spPr>
          <a:xfrm>
            <a:off x="5661000" y="6400800"/>
            <a:ext cx="348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G.  and Jackson, N. (198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0:19:00Z</dcterms:created>
  <dc:creator>USER</dc:creator>
  <dc:description/>
  <dc:language>en-US</dc:language>
  <cp:lastModifiedBy>Hdaily</cp:lastModifiedBy>
  <cp:lastPrinted>2000-02-03T09:09:47Z</cp:lastPrinted>
  <dcterms:modified xsi:type="dcterms:W3CDTF">2000-05-25T01:53:42Z</dcterms:modified>
  <cp:revision>2</cp:revision>
  <dc:subject/>
  <dc:title>Follicle Depth and Evenness</dc:title>
</cp:coreProperties>
</file>