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B571-AFE9-4D26-965E-855AB8CF0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F155-E922-42BF-95E0-7A29AEB35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extracellular matrix (ECM) is involved in cell commun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8967-2377-4A1A-A932-3FB6FFD43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CM (GAGs, collagen, fibronectin) surrounding cells was originally believed to play mainly a structural role.  Actually, the ECM plays a role in regulating development, tissue repair and abnormal cell division.  This is due to an interaction between the ECM, intracellular cytoskeleton, nuclear matrix and signalling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1" lang="en-AU" sz="1200" spc="-1" strike="noStrike">
                <a:solidFill>
                  <a:srgbClr val="000000"/>
                </a:solidFill>
                <a:latin typeface="Times New Roman"/>
              </a:rPr>
              <a:t>GAGs</a:t>
            </a:r>
            <a:r>
              <a:rPr b="0" lang="en-AU" sz="1200" spc="-1" strike="noStrike">
                <a:solidFill>
                  <a:srgbClr val="000000"/>
                </a:solidFill>
                <a:latin typeface="Times New Roman"/>
              </a:rPr>
              <a:t> in the ECM  bind a number of growth factors and facilitate their action.  For example heparin sulfate binds fibroblast growth factor (FGF).  When this occurs there is a conformational change of FGF which allows it to bind to its cell surface receptor.  If FGF is not bound it can not bind to the receptor.  Growth factors and ECM may play a reciprocal regulatory loop in which the growth factors control production of ECM (FGFs and fibroblasts) and ECM influences growth factor respo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t least 4 types of </a:t>
            </a:r>
            <a:r>
              <a:rPr b="1" lang="en-AU" sz="1200" spc="-1" strike="noStrike">
                <a:solidFill>
                  <a:srgbClr val="000000"/>
                </a:solidFill>
                <a:latin typeface="Times New Roman"/>
              </a:rPr>
              <a:t>cell adhesion molecules</a:t>
            </a:r>
            <a:r>
              <a:rPr b="0" lang="en-AU" sz="1200" spc="-1" strike="noStrike">
                <a:solidFill>
                  <a:srgbClr val="000000"/>
                </a:solidFill>
                <a:latin typeface="Times New Roman"/>
              </a:rPr>
              <a:t> (CAMs).  Their action is to bind cells together by a homophilic action.  They are present in the skin; the dermis and epidermis have different types.  N-CAM is present in the dermis and is important for maintaining structure during follicle development.  If  the CAMs are disrupted, the follicle does not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Integrins</a:t>
            </a:r>
            <a:r>
              <a:rPr b="0" lang="en-AU" sz="1200" spc="-1" strike="noStrike">
                <a:solidFill>
                  <a:srgbClr val="000000"/>
                </a:solidFill>
                <a:latin typeface="Times New Roman"/>
              </a:rPr>
              <a:t> are the principle receptor that binds the cell to the ECM.  They form attachments with collagen fibronectin and laminin (see next slide).  They also bind to the cytoskeleton of the cell, thus providing a link between the ECM and the cytoplasm of the cell.  The integrins therefore have a marked effect on cell shape, metabolism, motility and function.  They can also affect gene expression, in particular to stimulate growth, differentiation or functional chang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4A7D-9F71-4522-AD15-D419EBE48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how the integrins are involved in cell-matrix contact.  In the top part of the diagram, the ECM is not in contact with the cell.  A signalling molecule will attach to its receptor which initiates a conformational change in its associated integrin.  This allows the integrin to bind to the ECM which in turn will result in a cellular response.  In order for the response to be stopped the integrin needs to dissociate from the ECM.  The second half of the diagram shows how this occurs.  The integrins become phosphorylated which makes them unstable and they lose connection with both the ECM and cytoskelet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munication between the Extracellular Matrix and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communication between the ECM and the cell</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cosaminoglycans (GAG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adhesion molecules (CA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gr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 cells to matri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affects cell shape, metabolism, motility, function and gene expression</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228600"/>
            <a:ext cx="7924680" cy="6037560"/>
            <a:chOff x="1143000" y="228600"/>
            <a:chExt cx="7924680" cy="6037560"/>
          </a:xfrm>
        </p:grpSpPr>
        <p:pic>
          <p:nvPicPr>
            <p:cNvPr id="53" name="" descr=""/>
            <p:cNvPicPr/>
            <p:nvPr/>
          </p:nvPicPr>
          <p:blipFill>
            <a:blip r:embed="rId1"/>
            <a:srcRect l="1983" t="7155" r="1676" b="8177"/>
            <a:stretch/>
          </p:blipFill>
          <p:spPr>
            <a:xfrm>
              <a:off x="1143000" y="685800"/>
              <a:ext cx="7924680" cy="5257800"/>
            </a:xfrm>
            <a:prstGeom prst="rect">
              <a:avLst/>
            </a:prstGeom>
            <a:ln w="0">
              <a:noFill/>
            </a:ln>
          </p:spPr>
        </p:pic>
        <p:sp>
          <p:nvSpPr>
            <p:cNvPr id="54" name=""/>
            <p:cNvSpPr/>
            <p:nvPr/>
          </p:nvSpPr>
          <p:spPr>
            <a:xfrm>
              <a:off x="1449360" y="2286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CM</a:t>
              </a:r>
              <a:endParaRPr b="0" lang="en-US" sz="2000" spc="-1" strike="noStrike">
                <a:solidFill>
                  <a:srgbClr val="000000"/>
                </a:solidFill>
                <a:latin typeface="Times New Roman"/>
              </a:endParaRPr>
            </a:p>
          </p:txBody>
        </p:sp>
        <p:sp>
          <p:nvSpPr>
            <p:cNvPr id="55" name=""/>
            <p:cNvSpPr/>
            <p:nvPr/>
          </p:nvSpPr>
          <p:spPr>
            <a:xfrm>
              <a:off x="1828800" y="60948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68840" y="310824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tegrins</a:t>
              </a:r>
              <a:endParaRPr b="0" lang="en-US" sz="1600" spc="-1" strike="noStrike">
                <a:solidFill>
                  <a:srgbClr val="000000"/>
                </a:solidFill>
                <a:latin typeface="Times New Roman"/>
              </a:endParaRPr>
            </a:p>
          </p:txBody>
        </p:sp>
        <p:sp>
          <p:nvSpPr>
            <p:cNvPr id="57" name=""/>
            <p:cNvSpPr/>
            <p:nvPr/>
          </p:nvSpPr>
          <p:spPr>
            <a:xfrm flipV="1">
              <a:off x="2666880" y="1905120"/>
              <a:ext cx="160020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920" y="3429000"/>
              <a:ext cx="19047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8080" y="586728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ytoskeleton</a:t>
              </a:r>
              <a:endParaRPr b="0" lang="en-US" sz="2000" spc="-1" strike="noStrike">
                <a:solidFill>
                  <a:srgbClr val="000000"/>
                </a:solidFill>
                <a:latin typeface="Times New Roman"/>
              </a:endParaRPr>
            </a:p>
          </p:txBody>
        </p:sp>
        <p:sp>
          <p:nvSpPr>
            <p:cNvPr id="60" name=""/>
            <p:cNvSpPr/>
            <p:nvPr/>
          </p:nvSpPr>
          <p:spPr>
            <a:xfrm flipH="1" flipV="1">
              <a:off x="2209320" y="5638320"/>
              <a:ext cx="2286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68320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berts, B. et al. (1994)</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Integrin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15:58Z</dcterms:created>
  <dc:creator>USER</dc:creator>
  <dc:description/>
  <dc:language>en-US</dc:language>
  <cp:lastModifiedBy>Hdaily</cp:lastModifiedBy>
  <cp:lastPrinted>2000-02-03T09:09:47Z</cp:lastPrinted>
  <dcterms:modified xsi:type="dcterms:W3CDTF">2000-06-02T01:12:22Z</dcterms:modified>
  <cp:revision>3</cp:revision>
  <dc:subject/>
  <dc:title>Communication between the Extracellular Matrix and Cells</dc:title>
</cp:coreProperties>
</file>