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0422-E59C-4191-A1AA-EFB6104B9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basic structure of the epidermis and the replacement and fate of cells within the epidermis.  There is a photomicrograph of the epidermis of sheep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7EC6-A215-4129-96EA-E9BC0F42A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er layer of the skin is composed of stratified epithelial tissue known as the epiderm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tified tissues are those that form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4 types of tissues in the mammalian body: epithelial, connective, muscle and nerve. Other epithelial tissues include the lining of the gut and lu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pithelial tissue consists of a continuous sheet of cells that provide a protective covering over the whole body and form the lining membranes of internal organs, cavities and passage.  Differentiated structures such as hair, wool, claws, nails, quills, scales are all derived from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pidermis has an average thickness of 0.04 - 1.4mm in humans and approximately 48µm in sheep skin (Lloyd et al, 1979,  Res. Vet. Sci. 26:180).</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52A3-0833-4F1D-9FC8-E60EB028F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pidermal cells form successive layers of cells over the dermis.  These layers are divided into an inner layer of viable cells and an outer cornified layer (stratum corne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al layer is the only region in the epidermis that divides.  All epidermal cell replacement comes from this layer.  The epidermal stem cells (see “Stem Cells” module) reside in the basal 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cells are displaced towards the surface of the animal, they become larger and polyhedral.  At higher levels in the epidermis, their polarity shifts as they become flattened in a plane parallel to the skin surface.  As they migrate they lose their differentiation ability and begin to synthesise proteins, including keratins, and the nuclei and cytoplasmic organelles are l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differentiation the cornified cells are cemented together to form the stratum corne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micrograph of sheep skin showing the epidermis (pale brown cytoplasm with dark brown </a:t>
            </a:r>
            <a:r>
              <a:rPr b="0" lang="en-GB" sz="1200" spc="-1" strike="noStrike">
                <a:solidFill>
                  <a:srgbClr val="000000"/>
                </a:solidFill>
                <a:latin typeface="Times New Roman"/>
              </a:rPr>
              <a:t>nuclei</a:t>
            </a:r>
            <a:r>
              <a:rPr b="0" lang="en-AU" sz="1200" spc="-1" strike="noStrike">
                <a:solidFill>
                  <a:srgbClr val="000000"/>
                </a:solidFill>
                <a:latin typeface="Times New Roman"/>
              </a:rPr>
              <a:t>) and the dermis (Blue/purple rope lik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heep skin it is very difficult to differentiate between the different cell layers within the epidermis, but individual cells can be 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pidermal</a:t>
            </a:r>
            <a:r>
              <a:rPr b="0" lang="en-GB" sz="1200" spc="-1" strike="noStrike">
                <a:solidFill>
                  <a:srgbClr val="000000"/>
                </a:solidFill>
                <a:latin typeface="Times New Roman"/>
              </a:rPr>
              <a:t> downgrowth</a:t>
            </a:r>
            <a:r>
              <a:rPr b="0" lang="en-AU" sz="1200" spc="-1" strike="noStrike">
                <a:solidFill>
                  <a:srgbClr val="000000"/>
                </a:solidFill>
                <a:latin typeface="Times New Roman"/>
              </a:rPr>
              <a:t> forms the upper part of a follicle.  This photo shows how the epidermis is continuous with a folli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piderm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39880" y="1371240"/>
            <a:ext cx="7694640" cy="4724280"/>
          </a:xfrm>
          <a:prstGeom prst="rect">
            <a:avLst/>
          </a:prstGeom>
          <a:noFill/>
          <a:ln w="0">
            <a:noFill/>
          </a:ln>
        </p:spPr>
        <p:txBody>
          <a:bodyPr lIns="93600" rIns="93600" tIns="46080" bIns="46080" anchor="t">
            <a:normAutofit/>
          </a:bodyPr>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atified epithelium</a:t>
            </a:r>
            <a:endParaRPr b="1"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yer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s opposed to….</a:t>
            </a:r>
            <a:endParaRPr b="1" lang="en-US" sz="2000" spc="-1" strike="noStrike">
              <a:solidFill>
                <a:srgbClr val="ffffff"/>
              </a:solidFill>
              <a:latin typeface="Arial"/>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uscle, connective, nerve</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ficial and continuo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ular mater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s rise to differentiated structures</a:t>
            </a:r>
            <a:endParaRPr b="1" lang="en-US" sz="2400" spc="-1" strike="noStrike">
              <a:solidFill>
                <a:srgbClr val="ffffff"/>
              </a:solidFill>
              <a:latin typeface="Arial"/>
            </a:endParaRPr>
          </a:p>
        </p:txBody>
      </p:sp>
      <p:sp>
        <p:nvSpPr>
          <p:cNvPr id="50"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dermis</a:t>
            </a:r>
            <a:endParaRPr b="1" lang="en-US" sz="3200" spc="-1" strike="noStrike">
              <a:solidFill>
                <a:srgbClr val="fafd00"/>
              </a:solidFill>
              <a:latin typeface="Arial"/>
            </a:endParaRPr>
          </a:p>
        </p:txBody>
      </p:sp>
      <p:sp>
        <p:nvSpPr>
          <p:cNvPr id="51" name=""/>
          <p:cNvSpPr/>
          <p:nvPr/>
        </p:nvSpPr>
        <p:spPr>
          <a:xfrm flipH="1">
            <a:off x="2590920" y="1905120"/>
            <a:ext cx="129528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410080" y="1905120"/>
            <a:ext cx="68580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09000" y="6583320"/>
            <a:ext cx="1939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r>
              <a:rPr b="0" lang="en-AU" sz="1200" spc="-1" strike="noStrike">
                <a:solidFill>
                  <a:srgbClr val="fafd00"/>
                </a:solidFill>
                <a:latin typeface="Arial"/>
              </a:rPr>
              <a:t>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597240" y="762120"/>
            <a:ext cx="8605440" cy="3123720"/>
            <a:chOff x="597240" y="762120"/>
            <a:chExt cx="8605440" cy="3123720"/>
          </a:xfrm>
        </p:grpSpPr>
        <p:sp>
          <p:nvSpPr>
            <p:cNvPr id="55" name=""/>
            <p:cNvSpPr/>
            <p:nvPr/>
          </p:nvSpPr>
          <p:spPr>
            <a:xfrm>
              <a:off x="1143000" y="762120"/>
              <a:ext cx="7925760" cy="312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597240" y="847440"/>
              <a:ext cx="8605440" cy="2786760"/>
              <a:chOff x="597240" y="847440"/>
              <a:chExt cx="8605440" cy="2786760"/>
            </a:xfrm>
          </p:grpSpPr>
          <p:sp>
            <p:nvSpPr>
              <p:cNvPr id="57" name=""/>
              <p:cNvSpPr/>
              <p:nvPr/>
            </p:nvSpPr>
            <p:spPr>
              <a:xfrm>
                <a:off x="4636800" y="852120"/>
                <a:ext cx="4565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Stratum corneum - </a:t>
                </a:r>
                <a:r>
                  <a:rPr b="0" lang="en-AU" sz="2400" spc="-1" strike="noStrike">
                    <a:solidFill>
                      <a:srgbClr val="00ae00"/>
                    </a:solidFill>
                    <a:latin typeface="Arial"/>
                  </a:rPr>
                  <a:t>protection</a:t>
                </a:r>
                <a:endParaRPr b="0" lang="en-US" sz="2400" spc="-1" strike="noStrike">
                  <a:solidFill>
                    <a:srgbClr val="000000"/>
                  </a:solidFill>
                  <a:latin typeface="Times New Roman"/>
                </a:endParaRPr>
              </a:p>
            </p:txBody>
          </p:sp>
          <p:sp>
            <p:nvSpPr>
              <p:cNvPr id="58" name=""/>
              <p:cNvSpPr/>
              <p:nvPr/>
            </p:nvSpPr>
            <p:spPr>
              <a:xfrm>
                <a:off x="7349400" y="1667160"/>
                <a:ext cx="1751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 </a:t>
                </a:r>
                <a:r>
                  <a:rPr b="0" lang="en-AU" sz="2800" spc="-1" strike="noStrike">
                    <a:solidFill>
                      <a:srgbClr val="00ae00"/>
                    </a:solidFill>
                    <a:latin typeface="Arial"/>
                  </a:rPr>
                  <a:t>- </a:t>
                </a:r>
                <a:r>
                  <a:rPr b="0" lang="en-AU" sz="2400" spc="-1" strike="noStrike">
                    <a:solidFill>
                      <a:srgbClr val="00ae00"/>
                    </a:solidFill>
                    <a:latin typeface="Arial"/>
                  </a:rPr>
                  <a:t>migration</a:t>
                </a:r>
                <a:endParaRPr b="0" lang="en-US" sz="2400" spc="-1" strike="noStrike">
                  <a:solidFill>
                    <a:srgbClr val="000000"/>
                  </a:solidFill>
                  <a:latin typeface="Times New Roman"/>
                </a:endParaRPr>
              </a:p>
            </p:txBody>
          </p:sp>
          <p:sp>
            <p:nvSpPr>
              <p:cNvPr id="59" name=""/>
              <p:cNvSpPr/>
              <p:nvPr/>
            </p:nvSpPr>
            <p:spPr>
              <a:xfrm>
                <a:off x="7192440" y="2538000"/>
                <a:ext cx="169560" cy="515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flipH="1">
                <a:off x="5439960" y="3565440"/>
                <a:ext cx="27115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439960" y="2504160"/>
                <a:ext cx="27115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5421960" y="1397880"/>
                <a:ext cx="27115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42280" y="1364040"/>
                <a:ext cx="2438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Granular layer</a:t>
                </a:r>
                <a:endParaRPr b="0" lang="en-US" sz="2800" spc="-1" strike="noStrike">
                  <a:solidFill>
                    <a:srgbClr val="000000"/>
                  </a:solidFill>
                  <a:latin typeface="Times New Roman"/>
                </a:endParaRPr>
              </a:p>
            </p:txBody>
          </p:sp>
          <p:sp>
            <p:nvSpPr>
              <p:cNvPr id="64" name=""/>
              <p:cNvSpPr/>
              <p:nvPr/>
            </p:nvSpPr>
            <p:spPr>
              <a:xfrm>
                <a:off x="4672800" y="1981080"/>
                <a:ext cx="277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Malphigian layer</a:t>
                </a:r>
                <a:endParaRPr b="0" lang="en-US" sz="2800" spc="-1" strike="noStrike">
                  <a:solidFill>
                    <a:srgbClr val="000000"/>
                  </a:solidFill>
                  <a:latin typeface="Times New Roman"/>
                </a:endParaRPr>
              </a:p>
            </p:txBody>
          </p:sp>
          <p:sp>
            <p:nvSpPr>
              <p:cNvPr id="65" name=""/>
              <p:cNvSpPr/>
              <p:nvPr/>
            </p:nvSpPr>
            <p:spPr>
              <a:xfrm>
                <a:off x="4700880" y="2651040"/>
                <a:ext cx="2062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Basal Layer</a:t>
                </a:r>
                <a:endParaRPr b="0" lang="en-US" sz="2800" spc="-1" strike="noStrike">
                  <a:solidFill>
                    <a:srgbClr val="000000"/>
                  </a:solidFill>
                  <a:latin typeface="Times New Roman"/>
                </a:endParaRPr>
              </a:p>
            </p:txBody>
          </p:sp>
          <p:sp>
            <p:nvSpPr>
              <p:cNvPr id="66" name=""/>
              <p:cNvSpPr/>
              <p:nvPr/>
            </p:nvSpPr>
            <p:spPr>
              <a:xfrm>
                <a:off x="7139160" y="2750760"/>
                <a:ext cx="192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ae00"/>
                    </a:solidFill>
                    <a:latin typeface="Arial"/>
                  </a:rPr>
                  <a:t>- cell division</a:t>
                </a:r>
                <a:endParaRPr b="0" lang="en-US" sz="2400" spc="-1" strike="noStrike">
                  <a:solidFill>
                    <a:srgbClr val="000000"/>
                  </a:solidFill>
                  <a:latin typeface="Times New Roman"/>
                </a:endParaRPr>
              </a:p>
            </p:txBody>
          </p:sp>
          <p:grpSp>
            <p:nvGrpSpPr>
              <p:cNvPr id="67" name=""/>
              <p:cNvGrpSpPr/>
              <p:nvPr/>
            </p:nvGrpSpPr>
            <p:grpSpPr>
              <a:xfrm>
                <a:off x="597240" y="847440"/>
                <a:ext cx="4563000" cy="2786760"/>
                <a:chOff x="597240" y="847440"/>
                <a:chExt cx="4563000" cy="2786760"/>
              </a:xfrm>
            </p:grpSpPr>
            <p:grpSp>
              <p:nvGrpSpPr>
                <p:cNvPr id="68" name=""/>
                <p:cNvGrpSpPr/>
                <p:nvPr/>
              </p:nvGrpSpPr>
              <p:grpSpPr>
                <a:xfrm>
                  <a:off x="1452960" y="2410200"/>
                  <a:ext cx="3308400" cy="1224000"/>
                  <a:chOff x="1452960" y="2410200"/>
                  <a:chExt cx="3308400" cy="1224000"/>
                </a:xfrm>
              </p:grpSpPr>
              <p:sp>
                <p:nvSpPr>
                  <p:cNvPr id="69" name=""/>
                  <p:cNvSpPr/>
                  <p:nvPr/>
                </p:nvSpPr>
                <p:spPr>
                  <a:xfrm>
                    <a:off x="1501920" y="3115080"/>
                    <a:ext cx="3259440" cy="519120"/>
                  </a:xfrm>
                  <a:custGeom>
                    <a:avLst/>
                    <a:gdLst/>
                    <a:ahLst/>
                    <a:rect l="l" t="t" r="r" b="b"/>
                    <a:pathLst>
                      <a:path w="2193" h="276">
                        <a:moveTo>
                          <a:pt x="0" y="18"/>
                        </a:moveTo>
                        <a:lnTo>
                          <a:pt x="57" y="83"/>
                        </a:lnTo>
                        <a:lnTo>
                          <a:pt x="114" y="128"/>
                        </a:lnTo>
                        <a:lnTo>
                          <a:pt x="227" y="193"/>
                        </a:lnTo>
                        <a:lnTo>
                          <a:pt x="276" y="202"/>
                        </a:lnTo>
                        <a:lnTo>
                          <a:pt x="373" y="220"/>
                        </a:lnTo>
                        <a:lnTo>
                          <a:pt x="422" y="220"/>
                        </a:lnTo>
                        <a:lnTo>
                          <a:pt x="503" y="202"/>
                        </a:lnTo>
                        <a:lnTo>
                          <a:pt x="544" y="183"/>
                        </a:lnTo>
                        <a:lnTo>
                          <a:pt x="625" y="147"/>
                        </a:lnTo>
                        <a:lnTo>
                          <a:pt x="666" y="128"/>
                        </a:lnTo>
                        <a:lnTo>
                          <a:pt x="747" y="83"/>
                        </a:lnTo>
                        <a:lnTo>
                          <a:pt x="787" y="64"/>
                        </a:lnTo>
                        <a:lnTo>
                          <a:pt x="877" y="28"/>
                        </a:lnTo>
                        <a:lnTo>
                          <a:pt x="926" y="18"/>
                        </a:lnTo>
                        <a:lnTo>
                          <a:pt x="1023" y="0"/>
                        </a:lnTo>
                        <a:lnTo>
                          <a:pt x="1072" y="0"/>
                        </a:lnTo>
                        <a:lnTo>
                          <a:pt x="1153" y="18"/>
                        </a:lnTo>
                        <a:lnTo>
                          <a:pt x="1185" y="28"/>
                        </a:lnTo>
                        <a:lnTo>
                          <a:pt x="1234" y="46"/>
                        </a:lnTo>
                        <a:lnTo>
                          <a:pt x="1250" y="55"/>
                        </a:lnTo>
                        <a:lnTo>
                          <a:pt x="1299" y="83"/>
                        </a:lnTo>
                        <a:lnTo>
                          <a:pt x="1323" y="101"/>
                        </a:lnTo>
                        <a:lnTo>
                          <a:pt x="1364" y="128"/>
                        </a:lnTo>
                        <a:lnTo>
                          <a:pt x="1380" y="138"/>
                        </a:lnTo>
                        <a:lnTo>
                          <a:pt x="1421" y="165"/>
                        </a:lnTo>
                        <a:lnTo>
                          <a:pt x="1445" y="183"/>
                        </a:lnTo>
                        <a:lnTo>
                          <a:pt x="1494" y="220"/>
                        </a:lnTo>
                        <a:lnTo>
                          <a:pt x="1510" y="229"/>
                        </a:lnTo>
                        <a:lnTo>
                          <a:pt x="1559" y="248"/>
                        </a:lnTo>
                        <a:lnTo>
                          <a:pt x="1583" y="257"/>
                        </a:lnTo>
                        <a:lnTo>
                          <a:pt x="1640" y="275"/>
                        </a:lnTo>
                        <a:lnTo>
                          <a:pt x="1664" y="275"/>
                        </a:lnTo>
                        <a:lnTo>
                          <a:pt x="1721" y="266"/>
                        </a:lnTo>
                        <a:lnTo>
                          <a:pt x="1745" y="266"/>
                        </a:lnTo>
                        <a:lnTo>
                          <a:pt x="1802" y="248"/>
                        </a:lnTo>
                        <a:lnTo>
                          <a:pt x="1827" y="229"/>
                        </a:lnTo>
                        <a:lnTo>
                          <a:pt x="1883" y="211"/>
                        </a:lnTo>
                        <a:lnTo>
                          <a:pt x="1916" y="202"/>
                        </a:lnTo>
                        <a:lnTo>
                          <a:pt x="1973" y="165"/>
                        </a:lnTo>
                        <a:lnTo>
                          <a:pt x="1997" y="147"/>
                        </a:lnTo>
                        <a:lnTo>
                          <a:pt x="2046" y="119"/>
                        </a:lnTo>
                        <a:lnTo>
                          <a:pt x="2070" y="110"/>
                        </a:lnTo>
                        <a:lnTo>
                          <a:pt x="2111" y="83"/>
                        </a:lnTo>
                        <a:lnTo>
                          <a:pt x="2127" y="64"/>
                        </a:lnTo>
                        <a:lnTo>
                          <a:pt x="2160" y="46"/>
                        </a:lnTo>
                        <a:lnTo>
                          <a:pt x="2176" y="37"/>
                        </a:lnTo>
                        <a:lnTo>
                          <a:pt x="2192" y="28"/>
                        </a:lnTo>
                        <a:lnTo>
                          <a:pt x="2192"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52960" y="2410200"/>
                    <a:ext cx="3261240" cy="516960"/>
                  </a:xfrm>
                  <a:custGeom>
                    <a:avLst/>
                    <a:gdLst/>
                    <a:ahLst/>
                    <a:rect l="l" t="t" r="r" b="b"/>
                    <a:pathLst>
                      <a:path w="2194" h="275">
                        <a:moveTo>
                          <a:pt x="0" y="18"/>
                        </a:moveTo>
                        <a:lnTo>
                          <a:pt x="57" y="82"/>
                        </a:lnTo>
                        <a:lnTo>
                          <a:pt x="114" y="128"/>
                        </a:lnTo>
                        <a:lnTo>
                          <a:pt x="227" y="192"/>
                        </a:lnTo>
                        <a:lnTo>
                          <a:pt x="276" y="201"/>
                        </a:lnTo>
                        <a:lnTo>
                          <a:pt x="374" y="219"/>
                        </a:lnTo>
                        <a:lnTo>
                          <a:pt x="422" y="219"/>
                        </a:lnTo>
                        <a:lnTo>
                          <a:pt x="504" y="201"/>
                        </a:lnTo>
                        <a:lnTo>
                          <a:pt x="544" y="183"/>
                        </a:lnTo>
                        <a:lnTo>
                          <a:pt x="625" y="146"/>
                        </a:lnTo>
                        <a:lnTo>
                          <a:pt x="666" y="128"/>
                        </a:lnTo>
                        <a:lnTo>
                          <a:pt x="747" y="82"/>
                        </a:lnTo>
                        <a:lnTo>
                          <a:pt x="788" y="64"/>
                        </a:lnTo>
                        <a:lnTo>
                          <a:pt x="877" y="27"/>
                        </a:lnTo>
                        <a:lnTo>
                          <a:pt x="926" y="18"/>
                        </a:lnTo>
                        <a:lnTo>
                          <a:pt x="1023" y="0"/>
                        </a:lnTo>
                        <a:lnTo>
                          <a:pt x="1072" y="0"/>
                        </a:lnTo>
                        <a:lnTo>
                          <a:pt x="1153" y="18"/>
                        </a:lnTo>
                        <a:lnTo>
                          <a:pt x="1186" y="27"/>
                        </a:lnTo>
                        <a:lnTo>
                          <a:pt x="1235" y="46"/>
                        </a:lnTo>
                        <a:lnTo>
                          <a:pt x="1251" y="55"/>
                        </a:lnTo>
                        <a:lnTo>
                          <a:pt x="1300" y="82"/>
                        </a:lnTo>
                        <a:lnTo>
                          <a:pt x="1324" y="100"/>
                        </a:lnTo>
                        <a:lnTo>
                          <a:pt x="1365" y="128"/>
                        </a:lnTo>
                        <a:lnTo>
                          <a:pt x="1381" y="137"/>
                        </a:lnTo>
                        <a:lnTo>
                          <a:pt x="1421" y="164"/>
                        </a:lnTo>
                        <a:lnTo>
                          <a:pt x="1446" y="183"/>
                        </a:lnTo>
                        <a:lnTo>
                          <a:pt x="1494" y="219"/>
                        </a:lnTo>
                        <a:lnTo>
                          <a:pt x="1511" y="228"/>
                        </a:lnTo>
                        <a:lnTo>
                          <a:pt x="1559" y="247"/>
                        </a:lnTo>
                        <a:lnTo>
                          <a:pt x="1584" y="256"/>
                        </a:lnTo>
                        <a:lnTo>
                          <a:pt x="1641" y="274"/>
                        </a:lnTo>
                        <a:lnTo>
                          <a:pt x="1665" y="274"/>
                        </a:lnTo>
                        <a:lnTo>
                          <a:pt x="1722" y="265"/>
                        </a:lnTo>
                        <a:lnTo>
                          <a:pt x="1746" y="265"/>
                        </a:lnTo>
                        <a:lnTo>
                          <a:pt x="1803" y="247"/>
                        </a:lnTo>
                        <a:lnTo>
                          <a:pt x="1828" y="228"/>
                        </a:lnTo>
                        <a:lnTo>
                          <a:pt x="1884" y="210"/>
                        </a:lnTo>
                        <a:lnTo>
                          <a:pt x="1917" y="201"/>
                        </a:lnTo>
                        <a:lnTo>
                          <a:pt x="1974" y="164"/>
                        </a:lnTo>
                        <a:lnTo>
                          <a:pt x="1998" y="146"/>
                        </a:lnTo>
                        <a:lnTo>
                          <a:pt x="2047" y="119"/>
                        </a:lnTo>
                        <a:lnTo>
                          <a:pt x="2071" y="110"/>
                        </a:lnTo>
                        <a:lnTo>
                          <a:pt x="2112" y="82"/>
                        </a:lnTo>
                        <a:lnTo>
                          <a:pt x="2128" y="64"/>
                        </a:lnTo>
                        <a:lnTo>
                          <a:pt x="2161" y="46"/>
                        </a:lnTo>
                        <a:lnTo>
                          <a:pt x="2177" y="37"/>
                        </a:lnTo>
                        <a:lnTo>
                          <a:pt x="2193" y="27"/>
                        </a:lnTo>
                        <a:lnTo>
                          <a:pt x="2193"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1683720" y="2692080"/>
                  <a:ext cx="60480" cy="654840"/>
                </a:xfrm>
                <a:custGeom>
                  <a:avLst/>
                  <a:gdLst/>
                  <a:ahLst/>
                  <a:rect l="l" t="t" r="r" b="b"/>
                  <a:pathLst>
                    <a:path w="41" h="348">
                      <a:moveTo>
                        <a:pt x="40" y="0"/>
                      </a:moveTo>
                      <a:lnTo>
                        <a:pt x="32" y="0"/>
                      </a:lnTo>
                      <a:lnTo>
                        <a:pt x="32" y="9"/>
                      </a:lnTo>
                      <a:lnTo>
                        <a:pt x="32" y="18"/>
                      </a:lnTo>
                      <a:lnTo>
                        <a:pt x="24" y="18"/>
                      </a:lnTo>
                      <a:lnTo>
                        <a:pt x="24" y="27"/>
                      </a:lnTo>
                      <a:lnTo>
                        <a:pt x="24" y="37"/>
                      </a:lnTo>
                      <a:lnTo>
                        <a:pt x="24" y="46"/>
                      </a:lnTo>
                      <a:lnTo>
                        <a:pt x="24" y="55"/>
                      </a:lnTo>
                      <a:lnTo>
                        <a:pt x="16" y="73"/>
                      </a:lnTo>
                      <a:lnTo>
                        <a:pt x="16" y="91"/>
                      </a:lnTo>
                      <a:lnTo>
                        <a:pt x="16" y="119"/>
                      </a:lnTo>
                      <a:lnTo>
                        <a:pt x="8" y="128"/>
                      </a:lnTo>
                      <a:lnTo>
                        <a:pt x="8" y="137"/>
                      </a:lnTo>
                      <a:lnTo>
                        <a:pt x="8" y="146"/>
                      </a:lnTo>
                      <a:lnTo>
                        <a:pt x="8" y="164"/>
                      </a:lnTo>
                      <a:lnTo>
                        <a:pt x="8" y="183"/>
                      </a:lnTo>
                      <a:lnTo>
                        <a:pt x="8" y="192"/>
                      </a:lnTo>
                      <a:lnTo>
                        <a:pt x="8" y="201"/>
                      </a:lnTo>
                      <a:lnTo>
                        <a:pt x="8" y="210"/>
                      </a:lnTo>
                      <a:lnTo>
                        <a:pt x="0" y="228"/>
                      </a:lnTo>
                      <a:lnTo>
                        <a:pt x="0" y="247"/>
                      </a:lnTo>
                      <a:lnTo>
                        <a:pt x="0" y="265"/>
                      </a:lnTo>
                      <a:lnTo>
                        <a:pt x="0" y="274"/>
                      </a:lnTo>
                      <a:lnTo>
                        <a:pt x="0" y="292"/>
                      </a:lnTo>
                      <a:lnTo>
                        <a:pt x="8" y="301"/>
                      </a:lnTo>
                      <a:lnTo>
                        <a:pt x="8" y="320"/>
                      </a:lnTo>
                      <a:lnTo>
                        <a:pt x="8" y="329"/>
                      </a:lnTo>
                      <a:lnTo>
                        <a:pt x="16"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83720" y="2692080"/>
                  <a:ext cx="60480" cy="654840"/>
                </a:xfrm>
                <a:custGeom>
                  <a:avLst/>
                  <a:gdLst/>
                  <a:ahLst/>
                  <a:rect l="l" t="t" r="r" b="b"/>
                  <a:pathLst>
                    <a:path w="41" h="348">
                      <a:moveTo>
                        <a:pt x="40" y="0"/>
                      </a:moveTo>
                      <a:lnTo>
                        <a:pt x="24" y="27"/>
                      </a:lnTo>
                      <a:lnTo>
                        <a:pt x="24" y="64"/>
                      </a:lnTo>
                      <a:lnTo>
                        <a:pt x="8" y="137"/>
                      </a:lnTo>
                      <a:lnTo>
                        <a:pt x="8" y="174"/>
                      </a:lnTo>
                      <a:lnTo>
                        <a:pt x="8" y="219"/>
                      </a:lnTo>
                      <a:lnTo>
                        <a:pt x="0" y="283"/>
                      </a:lnTo>
                      <a:lnTo>
                        <a:pt x="16" y="347"/>
                      </a:lnTo>
                      <a:lnTo>
                        <a:pt x="4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90240" y="2742840"/>
                  <a:ext cx="110160" cy="673560"/>
                </a:xfrm>
                <a:custGeom>
                  <a:avLst/>
                  <a:gdLst/>
                  <a:ahLst/>
                  <a:rect l="l" t="t" r="r" b="b"/>
                  <a:pathLst>
                    <a:path w="74" h="358">
                      <a:moveTo>
                        <a:pt x="0" y="0"/>
                      </a:moveTo>
                      <a:lnTo>
                        <a:pt x="0" y="0"/>
                      </a:lnTo>
                      <a:lnTo>
                        <a:pt x="0" y="9"/>
                      </a:lnTo>
                      <a:lnTo>
                        <a:pt x="8" y="18"/>
                      </a:lnTo>
                      <a:lnTo>
                        <a:pt x="16" y="37"/>
                      </a:lnTo>
                      <a:lnTo>
                        <a:pt x="24" y="55"/>
                      </a:lnTo>
                      <a:lnTo>
                        <a:pt x="32" y="82"/>
                      </a:lnTo>
                      <a:lnTo>
                        <a:pt x="32" y="92"/>
                      </a:lnTo>
                      <a:lnTo>
                        <a:pt x="41" y="110"/>
                      </a:lnTo>
                      <a:lnTo>
                        <a:pt x="49" y="128"/>
                      </a:lnTo>
                      <a:lnTo>
                        <a:pt x="57" y="156"/>
                      </a:lnTo>
                      <a:lnTo>
                        <a:pt x="57" y="174"/>
                      </a:lnTo>
                      <a:lnTo>
                        <a:pt x="65" y="201"/>
                      </a:lnTo>
                      <a:lnTo>
                        <a:pt x="65" y="220"/>
                      </a:lnTo>
                      <a:lnTo>
                        <a:pt x="65" y="247"/>
                      </a:lnTo>
                      <a:lnTo>
                        <a:pt x="65" y="256"/>
                      </a:lnTo>
                      <a:lnTo>
                        <a:pt x="65" y="275"/>
                      </a:lnTo>
                      <a:lnTo>
                        <a:pt x="65" y="293"/>
                      </a:lnTo>
                      <a:lnTo>
                        <a:pt x="65" y="320"/>
                      </a:lnTo>
                      <a:lnTo>
                        <a:pt x="65" y="339"/>
                      </a:lnTo>
                      <a:lnTo>
                        <a:pt x="73" y="3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190240" y="2742840"/>
                  <a:ext cx="110160" cy="673560"/>
                </a:xfrm>
                <a:custGeom>
                  <a:avLst/>
                  <a:gdLst/>
                  <a:ahLst/>
                  <a:rect l="l" t="t" r="r" b="b"/>
                  <a:pathLst>
                    <a:path w="74" h="358">
                      <a:moveTo>
                        <a:pt x="0" y="0"/>
                      </a:moveTo>
                      <a:lnTo>
                        <a:pt x="0" y="9"/>
                      </a:lnTo>
                      <a:lnTo>
                        <a:pt x="16" y="27"/>
                      </a:lnTo>
                      <a:lnTo>
                        <a:pt x="41" y="101"/>
                      </a:lnTo>
                      <a:lnTo>
                        <a:pt x="65" y="192"/>
                      </a:lnTo>
                      <a:lnTo>
                        <a:pt x="65" y="265"/>
                      </a:lnTo>
                      <a:lnTo>
                        <a:pt x="73" y="35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36280" y="2468160"/>
                  <a:ext cx="135360" cy="673560"/>
                </a:xfrm>
                <a:custGeom>
                  <a:avLst/>
                  <a:gdLst/>
                  <a:ahLst/>
                  <a:rect l="l" t="t" r="r" b="b"/>
                  <a:pathLst>
                    <a:path w="91" h="358">
                      <a:moveTo>
                        <a:pt x="0" y="0"/>
                      </a:moveTo>
                      <a:lnTo>
                        <a:pt x="0" y="0"/>
                      </a:lnTo>
                      <a:lnTo>
                        <a:pt x="0" y="9"/>
                      </a:lnTo>
                      <a:lnTo>
                        <a:pt x="0" y="18"/>
                      </a:lnTo>
                      <a:lnTo>
                        <a:pt x="8" y="37"/>
                      </a:lnTo>
                      <a:lnTo>
                        <a:pt x="16" y="55"/>
                      </a:lnTo>
                      <a:lnTo>
                        <a:pt x="33" y="82"/>
                      </a:lnTo>
                      <a:lnTo>
                        <a:pt x="33" y="92"/>
                      </a:lnTo>
                      <a:lnTo>
                        <a:pt x="41" y="110"/>
                      </a:lnTo>
                      <a:lnTo>
                        <a:pt x="49" y="128"/>
                      </a:lnTo>
                      <a:lnTo>
                        <a:pt x="57" y="156"/>
                      </a:lnTo>
                      <a:lnTo>
                        <a:pt x="65" y="174"/>
                      </a:lnTo>
                      <a:lnTo>
                        <a:pt x="74" y="220"/>
                      </a:lnTo>
                      <a:lnTo>
                        <a:pt x="82" y="247"/>
                      </a:lnTo>
                      <a:lnTo>
                        <a:pt x="82" y="293"/>
                      </a:lnTo>
                      <a:lnTo>
                        <a:pt x="82" y="320"/>
                      </a:lnTo>
                      <a:lnTo>
                        <a:pt x="90" y="3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36280" y="2468160"/>
                  <a:ext cx="135360" cy="673560"/>
                </a:xfrm>
                <a:custGeom>
                  <a:avLst/>
                  <a:gdLst/>
                  <a:ahLst/>
                  <a:rect l="l" t="t" r="r" b="b"/>
                  <a:pathLst>
                    <a:path w="91" h="358">
                      <a:moveTo>
                        <a:pt x="0" y="0"/>
                      </a:moveTo>
                      <a:lnTo>
                        <a:pt x="0" y="9"/>
                      </a:lnTo>
                      <a:lnTo>
                        <a:pt x="8" y="27"/>
                      </a:lnTo>
                      <a:lnTo>
                        <a:pt x="41" y="101"/>
                      </a:lnTo>
                      <a:lnTo>
                        <a:pt x="74" y="192"/>
                      </a:lnTo>
                      <a:lnTo>
                        <a:pt x="90" y="35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27760" y="2483640"/>
                  <a:ext cx="62640" cy="675360"/>
                </a:xfrm>
                <a:custGeom>
                  <a:avLst/>
                  <a:gdLst/>
                  <a:ahLst/>
                  <a:rect l="l" t="t" r="r" b="b"/>
                  <a:pathLst>
                    <a:path w="42" h="359">
                      <a:moveTo>
                        <a:pt x="41" y="0"/>
                      </a:moveTo>
                      <a:lnTo>
                        <a:pt x="33" y="0"/>
                      </a:lnTo>
                      <a:lnTo>
                        <a:pt x="33" y="9"/>
                      </a:lnTo>
                      <a:lnTo>
                        <a:pt x="25" y="28"/>
                      </a:lnTo>
                      <a:lnTo>
                        <a:pt x="16" y="46"/>
                      </a:lnTo>
                      <a:lnTo>
                        <a:pt x="8" y="73"/>
                      </a:lnTo>
                      <a:lnTo>
                        <a:pt x="8" y="83"/>
                      </a:lnTo>
                      <a:lnTo>
                        <a:pt x="8" y="110"/>
                      </a:lnTo>
                      <a:lnTo>
                        <a:pt x="8" y="129"/>
                      </a:lnTo>
                      <a:lnTo>
                        <a:pt x="8" y="156"/>
                      </a:lnTo>
                      <a:lnTo>
                        <a:pt x="8" y="174"/>
                      </a:lnTo>
                      <a:lnTo>
                        <a:pt x="0" y="220"/>
                      </a:lnTo>
                      <a:lnTo>
                        <a:pt x="0" y="248"/>
                      </a:lnTo>
                      <a:lnTo>
                        <a:pt x="8" y="294"/>
                      </a:lnTo>
                      <a:lnTo>
                        <a:pt x="8" y="321"/>
                      </a:lnTo>
                      <a:lnTo>
                        <a:pt x="8" y="3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40000" y="2483640"/>
                  <a:ext cx="50400" cy="675360"/>
                </a:xfrm>
                <a:custGeom>
                  <a:avLst/>
                  <a:gdLst/>
                  <a:ahLst/>
                  <a:rect l="l" t="t" r="r" b="b"/>
                  <a:pathLst>
                    <a:path w="34" h="359">
                      <a:moveTo>
                        <a:pt x="33" y="0"/>
                      </a:moveTo>
                      <a:lnTo>
                        <a:pt x="25" y="0"/>
                      </a:lnTo>
                      <a:lnTo>
                        <a:pt x="25" y="18"/>
                      </a:lnTo>
                      <a:lnTo>
                        <a:pt x="0" y="101"/>
                      </a:lnTo>
                      <a:lnTo>
                        <a:pt x="0" y="193"/>
                      </a:lnTo>
                      <a:lnTo>
                        <a:pt x="0" y="358"/>
                      </a:lnTo>
                      <a:lnTo>
                        <a:pt x="33"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638160" y="2829600"/>
                  <a:ext cx="74160" cy="620640"/>
                </a:xfrm>
                <a:custGeom>
                  <a:avLst/>
                  <a:gdLst/>
                  <a:ahLst/>
                  <a:rect l="l" t="t" r="r" b="b"/>
                  <a:pathLst>
                    <a:path w="50" h="330">
                      <a:moveTo>
                        <a:pt x="49" y="0"/>
                      </a:moveTo>
                      <a:lnTo>
                        <a:pt x="41" y="9"/>
                      </a:lnTo>
                      <a:lnTo>
                        <a:pt x="41" y="27"/>
                      </a:lnTo>
                      <a:lnTo>
                        <a:pt x="41" y="55"/>
                      </a:lnTo>
                      <a:lnTo>
                        <a:pt x="41" y="64"/>
                      </a:lnTo>
                      <a:lnTo>
                        <a:pt x="41" y="82"/>
                      </a:lnTo>
                      <a:lnTo>
                        <a:pt x="41" y="91"/>
                      </a:lnTo>
                      <a:lnTo>
                        <a:pt x="41" y="110"/>
                      </a:lnTo>
                      <a:lnTo>
                        <a:pt x="41" y="128"/>
                      </a:lnTo>
                      <a:lnTo>
                        <a:pt x="41" y="137"/>
                      </a:lnTo>
                      <a:lnTo>
                        <a:pt x="41" y="146"/>
                      </a:lnTo>
                      <a:lnTo>
                        <a:pt x="41" y="155"/>
                      </a:lnTo>
                      <a:lnTo>
                        <a:pt x="33" y="174"/>
                      </a:lnTo>
                      <a:lnTo>
                        <a:pt x="33" y="192"/>
                      </a:lnTo>
                      <a:lnTo>
                        <a:pt x="25" y="219"/>
                      </a:lnTo>
                      <a:lnTo>
                        <a:pt x="16" y="228"/>
                      </a:lnTo>
                      <a:lnTo>
                        <a:pt x="8" y="247"/>
                      </a:lnTo>
                      <a:lnTo>
                        <a:pt x="8" y="265"/>
                      </a:lnTo>
                      <a:lnTo>
                        <a:pt x="0" y="292"/>
                      </a:lnTo>
                      <a:lnTo>
                        <a:pt x="0" y="311"/>
                      </a:lnTo>
                      <a:lnTo>
                        <a:pt x="0" y="3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638160" y="2829600"/>
                  <a:ext cx="74160" cy="620640"/>
                </a:xfrm>
                <a:custGeom>
                  <a:avLst/>
                  <a:gdLst/>
                  <a:ahLst/>
                  <a:rect l="l" t="t" r="r" b="b"/>
                  <a:pathLst>
                    <a:path w="50" h="330">
                      <a:moveTo>
                        <a:pt x="49" y="0"/>
                      </a:moveTo>
                      <a:lnTo>
                        <a:pt x="41" y="82"/>
                      </a:lnTo>
                      <a:lnTo>
                        <a:pt x="41" y="119"/>
                      </a:lnTo>
                      <a:lnTo>
                        <a:pt x="41" y="165"/>
                      </a:lnTo>
                      <a:lnTo>
                        <a:pt x="16" y="238"/>
                      </a:lnTo>
                      <a:lnTo>
                        <a:pt x="0" y="329"/>
                      </a:lnTo>
                      <a:lnTo>
                        <a:pt x="49"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45040" y="2777040"/>
                  <a:ext cx="74160" cy="708840"/>
                </a:xfrm>
                <a:custGeom>
                  <a:avLst/>
                  <a:gdLst/>
                  <a:ahLst/>
                  <a:rect l="l" t="t" r="r" b="b"/>
                  <a:pathLst>
                    <a:path w="50" h="377">
                      <a:moveTo>
                        <a:pt x="33" y="9"/>
                      </a:moveTo>
                      <a:lnTo>
                        <a:pt x="25" y="9"/>
                      </a:lnTo>
                      <a:lnTo>
                        <a:pt x="25" y="0"/>
                      </a:lnTo>
                      <a:lnTo>
                        <a:pt x="16" y="9"/>
                      </a:lnTo>
                      <a:lnTo>
                        <a:pt x="16" y="18"/>
                      </a:lnTo>
                      <a:lnTo>
                        <a:pt x="8" y="28"/>
                      </a:lnTo>
                      <a:lnTo>
                        <a:pt x="0" y="28"/>
                      </a:lnTo>
                      <a:lnTo>
                        <a:pt x="0" y="37"/>
                      </a:lnTo>
                      <a:lnTo>
                        <a:pt x="0" y="46"/>
                      </a:lnTo>
                      <a:lnTo>
                        <a:pt x="0" y="55"/>
                      </a:lnTo>
                      <a:lnTo>
                        <a:pt x="0" y="73"/>
                      </a:lnTo>
                      <a:lnTo>
                        <a:pt x="0" y="92"/>
                      </a:lnTo>
                      <a:lnTo>
                        <a:pt x="0" y="119"/>
                      </a:lnTo>
                      <a:lnTo>
                        <a:pt x="0" y="138"/>
                      </a:lnTo>
                      <a:lnTo>
                        <a:pt x="8" y="165"/>
                      </a:lnTo>
                      <a:lnTo>
                        <a:pt x="8" y="174"/>
                      </a:lnTo>
                      <a:lnTo>
                        <a:pt x="8" y="183"/>
                      </a:lnTo>
                      <a:lnTo>
                        <a:pt x="8" y="193"/>
                      </a:lnTo>
                      <a:lnTo>
                        <a:pt x="16" y="220"/>
                      </a:lnTo>
                      <a:lnTo>
                        <a:pt x="16" y="238"/>
                      </a:lnTo>
                      <a:lnTo>
                        <a:pt x="25" y="266"/>
                      </a:lnTo>
                      <a:lnTo>
                        <a:pt x="25" y="275"/>
                      </a:lnTo>
                      <a:lnTo>
                        <a:pt x="25" y="293"/>
                      </a:lnTo>
                      <a:lnTo>
                        <a:pt x="25" y="303"/>
                      </a:lnTo>
                      <a:lnTo>
                        <a:pt x="33" y="321"/>
                      </a:lnTo>
                      <a:lnTo>
                        <a:pt x="33" y="339"/>
                      </a:lnTo>
                      <a:lnTo>
                        <a:pt x="41" y="348"/>
                      </a:lnTo>
                      <a:lnTo>
                        <a:pt x="41" y="358"/>
                      </a:lnTo>
                      <a:lnTo>
                        <a:pt x="41" y="367"/>
                      </a:lnTo>
                      <a:lnTo>
                        <a:pt x="49" y="3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145040" y="2777040"/>
                  <a:ext cx="74160" cy="708840"/>
                </a:xfrm>
                <a:custGeom>
                  <a:avLst/>
                  <a:gdLst/>
                  <a:ahLst/>
                  <a:rect l="l" t="t" r="r" b="b"/>
                  <a:pathLst>
                    <a:path w="50" h="377">
                      <a:moveTo>
                        <a:pt x="33" y="9"/>
                      </a:moveTo>
                      <a:lnTo>
                        <a:pt x="25" y="0"/>
                      </a:lnTo>
                      <a:lnTo>
                        <a:pt x="25" y="9"/>
                      </a:lnTo>
                      <a:lnTo>
                        <a:pt x="8" y="18"/>
                      </a:lnTo>
                      <a:lnTo>
                        <a:pt x="0" y="37"/>
                      </a:lnTo>
                      <a:lnTo>
                        <a:pt x="0" y="64"/>
                      </a:lnTo>
                      <a:lnTo>
                        <a:pt x="8" y="156"/>
                      </a:lnTo>
                      <a:lnTo>
                        <a:pt x="16" y="211"/>
                      </a:lnTo>
                      <a:lnTo>
                        <a:pt x="25" y="293"/>
                      </a:lnTo>
                      <a:lnTo>
                        <a:pt x="33" y="330"/>
                      </a:lnTo>
                      <a:lnTo>
                        <a:pt x="49" y="376"/>
                      </a:lnTo>
                      <a:lnTo>
                        <a:pt x="33" y="9"/>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531680" y="2588760"/>
                  <a:ext cx="85680" cy="656640"/>
                </a:xfrm>
                <a:custGeom>
                  <a:avLst/>
                  <a:gdLst/>
                  <a:ahLst/>
                  <a:rect l="l" t="t" r="r" b="b"/>
                  <a:pathLst>
                    <a:path w="58" h="349">
                      <a:moveTo>
                        <a:pt x="0" y="0"/>
                      </a:moveTo>
                      <a:lnTo>
                        <a:pt x="0" y="0"/>
                      </a:lnTo>
                      <a:lnTo>
                        <a:pt x="0" y="9"/>
                      </a:lnTo>
                      <a:lnTo>
                        <a:pt x="8" y="18"/>
                      </a:lnTo>
                      <a:lnTo>
                        <a:pt x="8" y="27"/>
                      </a:lnTo>
                      <a:lnTo>
                        <a:pt x="16" y="46"/>
                      </a:lnTo>
                      <a:lnTo>
                        <a:pt x="16" y="64"/>
                      </a:lnTo>
                      <a:lnTo>
                        <a:pt x="24" y="92"/>
                      </a:lnTo>
                      <a:lnTo>
                        <a:pt x="24" y="101"/>
                      </a:lnTo>
                      <a:lnTo>
                        <a:pt x="24" y="119"/>
                      </a:lnTo>
                      <a:lnTo>
                        <a:pt x="24" y="128"/>
                      </a:lnTo>
                      <a:lnTo>
                        <a:pt x="33" y="147"/>
                      </a:lnTo>
                      <a:lnTo>
                        <a:pt x="33" y="165"/>
                      </a:lnTo>
                      <a:lnTo>
                        <a:pt x="33" y="174"/>
                      </a:lnTo>
                      <a:lnTo>
                        <a:pt x="33" y="183"/>
                      </a:lnTo>
                      <a:lnTo>
                        <a:pt x="33" y="192"/>
                      </a:lnTo>
                      <a:lnTo>
                        <a:pt x="41" y="211"/>
                      </a:lnTo>
                      <a:lnTo>
                        <a:pt x="41" y="229"/>
                      </a:lnTo>
                      <a:lnTo>
                        <a:pt x="41" y="247"/>
                      </a:lnTo>
                      <a:lnTo>
                        <a:pt x="41" y="256"/>
                      </a:lnTo>
                      <a:lnTo>
                        <a:pt x="41" y="266"/>
                      </a:lnTo>
                      <a:lnTo>
                        <a:pt x="41" y="275"/>
                      </a:lnTo>
                      <a:lnTo>
                        <a:pt x="49" y="293"/>
                      </a:lnTo>
                      <a:lnTo>
                        <a:pt x="49" y="311"/>
                      </a:lnTo>
                      <a:lnTo>
                        <a:pt x="49" y="321"/>
                      </a:lnTo>
                      <a:lnTo>
                        <a:pt x="49" y="330"/>
                      </a:lnTo>
                      <a:lnTo>
                        <a:pt x="49" y="339"/>
                      </a:lnTo>
                      <a:lnTo>
                        <a:pt x="57" y="3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531680" y="2588760"/>
                  <a:ext cx="85680" cy="656640"/>
                </a:xfrm>
                <a:custGeom>
                  <a:avLst/>
                  <a:gdLst/>
                  <a:ahLst/>
                  <a:rect l="l" t="t" r="r" b="b"/>
                  <a:pathLst>
                    <a:path w="58" h="349">
                      <a:moveTo>
                        <a:pt x="0" y="0"/>
                      </a:moveTo>
                      <a:lnTo>
                        <a:pt x="0" y="9"/>
                      </a:lnTo>
                      <a:lnTo>
                        <a:pt x="16" y="37"/>
                      </a:lnTo>
                      <a:lnTo>
                        <a:pt x="24" y="119"/>
                      </a:lnTo>
                      <a:lnTo>
                        <a:pt x="33" y="156"/>
                      </a:lnTo>
                      <a:lnTo>
                        <a:pt x="41" y="201"/>
                      </a:lnTo>
                      <a:lnTo>
                        <a:pt x="41" y="266"/>
                      </a:lnTo>
                      <a:lnTo>
                        <a:pt x="49" y="302"/>
                      </a:lnTo>
                      <a:lnTo>
                        <a:pt x="57" y="348"/>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809720" y="2923920"/>
                  <a:ext cx="410400" cy="31212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436840" y="2769480"/>
                  <a:ext cx="205200" cy="29340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47240" y="2630160"/>
                  <a:ext cx="303120" cy="29520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367800" y="2784240"/>
                  <a:ext cx="301680" cy="31212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12000" y="2940480"/>
                  <a:ext cx="301680" cy="312120"/>
                </a:xfrm>
                <a:custGeom>
                  <a:avLst/>
                  <a:gdLst>
                    <a:gd name="textAreaLeft" fmla="*/ 43920 w 301680"/>
                    <a:gd name="textAreaRight" fmla="*/ 257760 w 301680"/>
                    <a:gd name="textAreaTop" fmla="*/ 43920 h 312120"/>
                    <a:gd name="textAreaBottom" fmla="*/ 268200 h 312120"/>
                  </a:gdLst>
                  <a:ahLst/>
                  <a:rect l="textAreaLeft" t="textAreaTop" r="textAreaRight" b="textAreaBottom"/>
                  <a:pathLst>
                    <a:path w="21600" h="22347">
                      <a:moveTo>
                        <a:pt x="10799" y="0"/>
                      </a:moveTo>
                      <a:arcTo wR="10799" hR="10799" stAng="16200000" swAng="-5400000"/>
                      <a:lnTo>
                        <a:pt x="0" y="11548"/>
                      </a:lnTo>
                      <a:arcTo wR="10799" hR="10799" stAng="10800000" swAng="-5400000"/>
                      <a:lnTo>
                        <a:pt x="10801" y="22347"/>
                      </a:lnTo>
                      <a:arcTo wR="10799" hR="10799" stAng="5400000" swAng="-5400000"/>
                      <a:lnTo>
                        <a:pt x="21600" y="10799"/>
                      </a:lnTo>
                      <a:arcTo wR="10799" hR="10799" stAng="0" swAng="-5400000"/>
                      <a:close/>
                    </a:path>
                  </a:pathLst>
                </a:cu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831480" y="3089160"/>
                  <a:ext cx="339480" cy="380160"/>
                  <a:chOff x="3831480" y="3089160"/>
                  <a:chExt cx="339480" cy="380160"/>
                </a:xfrm>
              </p:grpSpPr>
              <p:grpSp>
                <p:nvGrpSpPr>
                  <p:cNvPr id="91" name=""/>
                  <p:cNvGrpSpPr/>
                  <p:nvPr/>
                </p:nvGrpSpPr>
                <p:grpSpPr>
                  <a:xfrm>
                    <a:off x="3831480" y="3089160"/>
                    <a:ext cx="243720" cy="344160"/>
                    <a:chOff x="3831480" y="3089160"/>
                    <a:chExt cx="243720" cy="344160"/>
                  </a:xfrm>
                </p:grpSpPr>
                <p:grpSp>
                  <p:nvGrpSpPr>
                    <p:cNvPr id="92" name=""/>
                    <p:cNvGrpSpPr/>
                    <p:nvPr/>
                  </p:nvGrpSpPr>
                  <p:grpSpPr>
                    <a:xfrm>
                      <a:off x="3844440" y="3089160"/>
                      <a:ext cx="230760" cy="344160"/>
                      <a:chOff x="3844440" y="3089160"/>
                      <a:chExt cx="230760" cy="344160"/>
                    </a:xfrm>
                  </p:grpSpPr>
                  <p:sp>
                    <p:nvSpPr>
                      <p:cNvPr id="93" name=""/>
                      <p:cNvSpPr/>
                      <p:nvPr/>
                    </p:nvSpPr>
                    <p:spPr>
                      <a:xfrm>
                        <a:off x="3845880" y="3122640"/>
                        <a:ext cx="227160" cy="310680"/>
                      </a:xfrm>
                      <a:custGeom>
                        <a:avLst/>
                        <a:gdLst/>
                        <a:ahLst/>
                        <a:rect l="l" t="t" r="r" b="b"/>
                        <a:pathLst>
                          <a:path stroke="0" w="21600" h="21600">
                            <a:moveTo>
                              <a:pt x="1" y="10671"/>
                            </a:moveTo>
                            <a:arcTo wR="10800" hR="10800" stAng="-10759095" swAng="5315004"/>
                            <a:lnTo>
                              <a:pt x="10800" y="10800"/>
                            </a:lnTo>
                            <a:close/>
                          </a:path>
                          <a:path fill="none" w="21600" h="21600">
                            <a:moveTo>
                              <a:pt x="1" y="10671"/>
                            </a:moveTo>
                            <a:arcTo wR="10800" hR="10800" stAng="-10759095" swAng="5315004"/>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44440" y="3089160"/>
                        <a:ext cx="230760" cy="344160"/>
                      </a:xfrm>
                      <a:custGeom>
                        <a:avLst/>
                        <a:gdLst/>
                        <a:ahLst/>
                        <a:rect l="l" t="t" r="r" b="b"/>
                        <a:pathLst>
                          <a:path stroke="0" w="21600" h="21600">
                            <a:moveTo>
                              <a:pt x="10660" y="21599"/>
                            </a:moveTo>
                            <a:arcTo wR="10800" hR="10800" stAng="5444596" swAng="5392330"/>
                            <a:lnTo>
                              <a:pt x="10800" y="10800"/>
                            </a:lnTo>
                            <a:close/>
                          </a:path>
                          <a:path fill="none" w="21600" h="21600">
                            <a:moveTo>
                              <a:pt x="10660" y="21599"/>
                            </a:moveTo>
                            <a:arcTo wR="10800" hR="10800" stAng="5444596" swAng="5392330"/>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3843000" y="3190320"/>
                      <a:ext cx="111240" cy="88200"/>
                    </a:xfrm>
                    <a:custGeom>
                      <a:avLst/>
                      <a:gdLst/>
                      <a:ahLst/>
                      <a:rect l="l" t="t" r="r" b="b"/>
                      <a:pathLst>
                        <a:path w="75" h="47">
                          <a:moveTo>
                            <a:pt x="0" y="46"/>
                          </a:moveTo>
                          <a:lnTo>
                            <a:pt x="0" y="46"/>
                          </a:lnTo>
                          <a:lnTo>
                            <a:pt x="8" y="46"/>
                          </a:lnTo>
                          <a:lnTo>
                            <a:pt x="8" y="37"/>
                          </a:lnTo>
                          <a:lnTo>
                            <a:pt x="16" y="28"/>
                          </a:lnTo>
                          <a:lnTo>
                            <a:pt x="25" y="18"/>
                          </a:lnTo>
                          <a:lnTo>
                            <a:pt x="33" y="9"/>
                          </a:lnTo>
                          <a:lnTo>
                            <a:pt x="41" y="9"/>
                          </a:lnTo>
                          <a:lnTo>
                            <a:pt x="49" y="9"/>
                          </a:lnTo>
                          <a:lnTo>
                            <a:pt x="58" y="9"/>
                          </a:lnTo>
                          <a:lnTo>
                            <a:pt x="66" y="0"/>
                          </a:lnTo>
                          <a:lnTo>
                            <a:pt x="74" y="0"/>
                          </a:lnTo>
                        </a:path>
                      </a:pathLst>
                    </a:custGeom>
                    <a:no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6" name=""/>
                    <p:cNvSpPr/>
                    <p:nvPr/>
                  </p:nvSpPr>
                  <p:spPr>
                    <a:xfrm>
                      <a:off x="3843000" y="3190320"/>
                      <a:ext cx="111240" cy="88200"/>
                    </a:xfrm>
                    <a:custGeom>
                      <a:avLst/>
                      <a:gdLst/>
                      <a:ahLst/>
                      <a:rect l="l" t="t" r="r" b="b"/>
                      <a:pathLst>
                        <a:path w="75" h="47">
                          <a:moveTo>
                            <a:pt x="0" y="46"/>
                          </a:moveTo>
                          <a:lnTo>
                            <a:pt x="8" y="46"/>
                          </a:lnTo>
                          <a:lnTo>
                            <a:pt x="41" y="9"/>
                          </a:lnTo>
                          <a:lnTo>
                            <a:pt x="74" y="0"/>
                          </a:lnTo>
                          <a:lnTo>
                            <a:pt x="0" y="46"/>
                          </a:lnTo>
                        </a:path>
                      </a:pathLst>
                    </a:custGeom>
                    <a:solidFill>
                      <a:srgbClr val="dddddd"/>
                    </a:solid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 name=""/>
                    <p:cNvSpPr/>
                    <p:nvPr/>
                  </p:nvSpPr>
                  <p:spPr>
                    <a:xfrm>
                      <a:off x="3843000" y="3242520"/>
                      <a:ext cx="111240" cy="52560"/>
                    </a:xfrm>
                    <a:custGeom>
                      <a:avLst/>
                      <a:gdLst/>
                      <a:ahLst/>
                      <a:rect l="l" t="t" r="r" b="b"/>
                      <a:pathLst>
                        <a:path w="75" h="28">
                          <a:moveTo>
                            <a:pt x="0" y="27"/>
                          </a:moveTo>
                          <a:lnTo>
                            <a:pt x="0" y="27"/>
                          </a:lnTo>
                          <a:lnTo>
                            <a:pt x="8" y="27"/>
                          </a:lnTo>
                          <a:lnTo>
                            <a:pt x="16" y="27"/>
                          </a:lnTo>
                          <a:lnTo>
                            <a:pt x="25" y="27"/>
                          </a:lnTo>
                          <a:lnTo>
                            <a:pt x="33" y="18"/>
                          </a:lnTo>
                          <a:lnTo>
                            <a:pt x="49" y="18"/>
                          </a:lnTo>
                          <a:lnTo>
                            <a:pt x="58" y="18"/>
                          </a:lnTo>
                          <a:lnTo>
                            <a:pt x="66" y="9"/>
                          </a:lnTo>
                          <a:lnTo>
                            <a:pt x="66" y="0"/>
                          </a:lnTo>
                          <a:lnTo>
                            <a:pt x="74" y="0"/>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 name=""/>
                    <p:cNvSpPr/>
                    <p:nvPr/>
                  </p:nvSpPr>
                  <p:spPr>
                    <a:xfrm>
                      <a:off x="3843000" y="3242520"/>
                      <a:ext cx="111240" cy="52560"/>
                    </a:xfrm>
                    <a:custGeom>
                      <a:avLst/>
                      <a:gdLst/>
                      <a:ahLst/>
                      <a:rect l="l" t="t" r="r" b="b"/>
                      <a:pathLst>
                        <a:path w="75" h="28">
                          <a:moveTo>
                            <a:pt x="0" y="27"/>
                          </a:moveTo>
                          <a:lnTo>
                            <a:pt x="8" y="27"/>
                          </a:lnTo>
                          <a:lnTo>
                            <a:pt x="41" y="18"/>
                          </a:lnTo>
                          <a:lnTo>
                            <a:pt x="74" y="0"/>
                          </a:lnTo>
                          <a:lnTo>
                            <a:pt x="0" y="27"/>
                          </a:lnTo>
                        </a:path>
                      </a:pathLst>
                    </a:custGeom>
                    <a:solidFill>
                      <a:srgbClr val="dddddd"/>
                    </a:solid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 name=""/>
                    <p:cNvSpPr/>
                    <p:nvPr/>
                  </p:nvSpPr>
                  <p:spPr>
                    <a:xfrm>
                      <a:off x="3831480" y="3293280"/>
                      <a:ext cx="122760" cy="122040"/>
                    </a:xfrm>
                    <a:custGeom>
                      <a:avLst/>
                      <a:gdLst/>
                      <a:ahLst/>
                      <a:rect l="l" t="t" r="r" b="b"/>
                      <a:pathLst>
                        <a:path w="83" h="65">
                          <a:moveTo>
                            <a:pt x="0" y="0"/>
                          </a:moveTo>
                          <a:lnTo>
                            <a:pt x="0" y="0"/>
                          </a:lnTo>
                          <a:lnTo>
                            <a:pt x="8" y="9"/>
                          </a:lnTo>
                          <a:lnTo>
                            <a:pt x="16" y="18"/>
                          </a:lnTo>
                          <a:lnTo>
                            <a:pt x="25" y="18"/>
                          </a:lnTo>
                          <a:lnTo>
                            <a:pt x="33" y="27"/>
                          </a:lnTo>
                          <a:lnTo>
                            <a:pt x="41" y="37"/>
                          </a:lnTo>
                          <a:lnTo>
                            <a:pt x="57" y="46"/>
                          </a:lnTo>
                          <a:lnTo>
                            <a:pt x="66" y="55"/>
                          </a:lnTo>
                          <a:lnTo>
                            <a:pt x="74" y="55"/>
                          </a:lnTo>
                          <a:lnTo>
                            <a:pt x="82" y="64"/>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31480" y="3293280"/>
                      <a:ext cx="122760" cy="122040"/>
                    </a:xfrm>
                    <a:custGeom>
                      <a:avLst/>
                      <a:gdLst/>
                      <a:ahLst/>
                      <a:rect l="l" t="t" r="r" b="b"/>
                      <a:pathLst>
                        <a:path w="83" h="65">
                          <a:moveTo>
                            <a:pt x="0" y="0"/>
                          </a:moveTo>
                          <a:lnTo>
                            <a:pt x="16" y="18"/>
                          </a:lnTo>
                          <a:lnTo>
                            <a:pt x="33" y="27"/>
                          </a:lnTo>
                          <a:lnTo>
                            <a:pt x="49" y="46"/>
                          </a:lnTo>
                          <a:lnTo>
                            <a:pt x="82" y="64"/>
                          </a:lnTo>
                          <a:lnTo>
                            <a:pt x="0" y="0"/>
                          </a:lnTo>
                        </a:path>
                      </a:pathLst>
                    </a:custGeom>
                    <a:solidFill>
                      <a:srgbClr val="dddddd"/>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56680" y="3293280"/>
                      <a:ext cx="121320" cy="52560"/>
                    </a:xfrm>
                    <a:custGeom>
                      <a:avLst/>
                      <a:gdLst/>
                      <a:ahLst/>
                      <a:rect l="l" t="t" r="r" b="b"/>
                      <a:pathLst>
                        <a:path w="82" h="28">
                          <a:moveTo>
                            <a:pt x="8" y="9"/>
                          </a:moveTo>
                          <a:lnTo>
                            <a:pt x="8" y="9"/>
                          </a:lnTo>
                          <a:lnTo>
                            <a:pt x="8" y="0"/>
                          </a:lnTo>
                          <a:lnTo>
                            <a:pt x="0" y="9"/>
                          </a:lnTo>
                          <a:lnTo>
                            <a:pt x="8" y="9"/>
                          </a:lnTo>
                          <a:lnTo>
                            <a:pt x="16" y="9"/>
                          </a:lnTo>
                          <a:lnTo>
                            <a:pt x="24" y="18"/>
                          </a:lnTo>
                          <a:lnTo>
                            <a:pt x="32" y="18"/>
                          </a:lnTo>
                          <a:lnTo>
                            <a:pt x="49" y="27"/>
                          </a:lnTo>
                          <a:lnTo>
                            <a:pt x="57" y="27"/>
                          </a:lnTo>
                          <a:lnTo>
                            <a:pt x="65" y="27"/>
                          </a:lnTo>
                          <a:lnTo>
                            <a:pt x="73" y="27"/>
                          </a:lnTo>
                          <a:lnTo>
                            <a:pt x="81" y="27"/>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 name=""/>
                    <p:cNvSpPr/>
                    <p:nvPr/>
                  </p:nvSpPr>
                  <p:spPr>
                    <a:xfrm>
                      <a:off x="3868200" y="3312000"/>
                      <a:ext cx="109440" cy="33840"/>
                    </a:xfrm>
                    <a:custGeom>
                      <a:avLst/>
                      <a:gdLst/>
                      <a:ahLst/>
                      <a:rect l="l" t="t" r="r" b="b"/>
                      <a:pathLst>
                        <a:path w="74" h="18">
                          <a:moveTo>
                            <a:pt x="0" y="0"/>
                          </a:moveTo>
                          <a:lnTo>
                            <a:pt x="0" y="0"/>
                          </a:lnTo>
                          <a:lnTo>
                            <a:pt x="16" y="9"/>
                          </a:lnTo>
                          <a:lnTo>
                            <a:pt x="32" y="17"/>
                          </a:lnTo>
                          <a:lnTo>
                            <a:pt x="73" y="17"/>
                          </a:lnTo>
                          <a:lnTo>
                            <a:pt x="0" y="0"/>
                          </a:lnTo>
                        </a:path>
                      </a:pathLst>
                    </a:custGeom>
                    <a:solidFill>
                      <a:srgbClr val="dddddd"/>
                    </a:solidFill>
                    <a:ln cap="rnd" w="25560">
                      <a:solidFill>
                        <a:srgbClr val="ff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03" name=""/>
                  <p:cNvGrpSpPr/>
                  <p:nvPr/>
                </p:nvGrpSpPr>
                <p:grpSpPr>
                  <a:xfrm>
                    <a:off x="3943080" y="3121200"/>
                    <a:ext cx="227880" cy="348120"/>
                    <a:chOff x="3943080" y="3121200"/>
                    <a:chExt cx="227880" cy="348120"/>
                  </a:xfrm>
                </p:grpSpPr>
                <p:grpSp>
                  <p:nvGrpSpPr>
                    <p:cNvPr id="104" name=""/>
                    <p:cNvGrpSpPr/>
                    <p:nvPr/>
                  </p:nvGrpSpPr>
                  <p:grpSpPr>
                    <a:xfrm>
                      <a:off x="3943080" y="3121200"/>
                      <a:ext cx="215280" cy="348120"/>
                      <a:chOff x="3943080" y="3121200"/>
                      <a:chExt cx="215280" cy="348120"/>
                    </a:xfrm>
                  </p:grpSpPr>
                  <p:sp>
                    <p:nvSpPr>
                      <p:cNvPr id="105" name=""/>
                      <p:cNvSpPr/>
                      <p:nvPr/>
                    </p:nvSpPr>
                    <p:spPr>
                      <a:xfrm>
                        <a:off x="3943080" y="3135960"/>
                        <a:ext cx="215280" cy="296280"/>
                      </a:xfrm>
                      <a:custGeom>
                        <a:avLst/>
                        <a:gdLst/>
                        <a:ahLst/>
                        <a:rect l="l" t="t" r="r" b="b"/>
                        <a:pathLst>
                          <a:path stroke="0" w="21600" h="21600">
                            <a:moveTo>
                              <a:pt x="21600" y="10800"/>
                            </a:moveTo>
                            <a:arcTo wR="10800" hR="10800" stAng="0" swAng="5446769"/>
                            <a:lnTo>
                              <a:pt x="10800" y="10800"/>
                            </a:lnTo>
                            <a:close/>
                          </a:path>
                          <a:path fill="none" w="21600" h="21600">
                            <a:moveTo>
                              <a:pt x="21600" y="10800"/>
                            </a:moveTo>
                            <a:arcTo wR="10800" hR="10800" stAng="0" swAng="5446769"/>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43080" y="3121200"/>
                        <a:ext cx="215280" cy="348120"/>
                      </a:xfrm>
                      <a:custGeom>
                        <a:avLst/>
                        <a:gdLst/>
                        <a:ahLst/>
                        <a:rect l="l" t="t" r="r" b="b"/>
                        <a:pathLst>
                          <a:path stroke="0" w="21600" h="21600">
                            <a:moveTo>
                              <a:pt x="10653" y="1"/>
                            </a:moveTo>
                            <a:arcTo wR="10800" hR="10800" stAng="-5446769" swAng="5446769"/>
                            <a:lnTo>
                              <a:pt x="10800" y="10800"/>
                            </a:lnTo>
                            <a:close/>
                          </a:path>
                          <a:path fill="none" w="21600" h="21600">
                            <a:moveTo>
                              <a:pt x="10653" y="1"/>
                            </a:moveTo>
                            <a:arcTo wR="10800" hR="10800" stAng="-5446769" swAng="5446769"/>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4049280" y="3293640"/>
                      <a:ext cx="109440" cy="88200"/>
                    </a:xfrm>
                    <a:custGeom>
                      <a:avLst/>
                      <a:gdLst/>
                      <a:ahLst/>
                      <a:rect l="l" t="t" r="r" b="b"/>
                      <a:pathLst>
                        <a:path w="74" h="47">
                          <a:moveTo>
                            <a:pt x="73" y="0"/>
                          </a:moveTo>
                          <a:lnTo>
                            <a:pt x="73" y="0"/>
                          </a:lnTo>
                          <a:lnTo>
                            <a:pt x="73" y="9"/>
                          </a:lnTo>
                          <a:lnTo>
                            <a:pt x="65" y="18"/>
                          </a:lnTo>
                          <a:lnTo>
                            <a:pt x="57" y="28"/>
                          </a:lnTo>
                          <a:lnTo>
                            <a:pt x="49" y="37"/>
                          </a:lnTo>
                          <a:lnTo>
                            <a:pt x="41" y="37"/>
                          </a:lnTo>
                          <a:lnTo>
                            <a:pt x="32" y="46"/>
                          </a:lnTo>
                          <a:lnTo>
                            <a:pt x="24" y="46"/>
                          </a:lnTo>
                          <a:lnTo>
                            <a:pt x="16" y="46"/>
                          </a:lnTo>
                          <a:lnTo>
                            <a:pt x="8" y="46"/>
                          </a:lnTo>
                          <a:lnTo>
                            <a:pt x="0" y="46"/>
                          </a:lnTo>
                        </a:path>
                      </a:pathLst>
                    </a:custGeom>
                    <a:no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8" name=""/>
                    <p:cNvSpPr/>
                    <p:nvPr/>
                  </p:nvSpPr>
                  <p:spPr>
                    <a:xfrm>
                      <a:off x="4049280" y="3293640"/>
                      <a:ext cx="109440" cy="88200"/>
                    </a:xfrm>
                    <a:custGeom>
                      <a:avLst/>
                      <a:gdLst/>
                      <a:ahLst/>
                      <a:rect l="l" t="t" r="r" b="b"/>
                      <a:pathLst>
                        <a:path w="74" h="47">
                          <a:moveTo>
                            <a:pt x="73" y="0"/>
                          </a:moveTo>
                          <a:lnTo>
                            <a:pt x="73" y="9"/>
                          </a:lnTo>
                          <a:lnTo>
                            <a:pt x="41" y="46"/>
                          </a:lnTo>
                          <a:lnTo>
                            <a:pt x="0" y="46"/>
                          </a:lnTo>
                          <a:lnTo>
                            <a:pt x="73" y="0"/>
                          </a:lnTo>
                        </a:path>
                      </a:pathLst>
                    </a:custGeom>
                    <a:solidFill>
                      <a:srgbClr val="dddddd"/>
                    </a:solid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 name=""/>
                    <p:cNvSpPr/>
                    <p:nvPr/>
                  </p:nvSpPr>
                  <p:spPr>
                    <a:xfrm>
                      <a:off x="4049280" y="3293640"/>
                      <a:ext cx="109440" cy="52560"/>
                    </a:xfrm>
                    <a:custGeom>
                      <a:avLst/>
                      <a:gdLst/>
                      <a:ahLst/>
                      <a:rect l="l" t="t" r="r" b="b"/>
                      <a:pathLst>
                        <a:path w="74" h="28">
                          <a:moveTo>
                            <a:pt x="73" y="9"/>
                          </a:moveTo>
                          <a:lnTo>
                            <a:pt x="73" y="9"/>
                          </a:lnTo>
                          <a:lnTo>
                            <a:pt x="73" y="0"/>
                          </a:lnTo>
                          <a:lnTo>
                            <a:pt x="65" y="9"/>
                          </a:lnTo>
                          <a:lnTo>
                            <a:pt x="57" y="9"/>
                          </a:lnTo>
                          <a:lnTo>
                            <a:pt x="49" y="9"/>
                          </a:lnTo>
                          <a:lnTo>
                            <a:pt x="32" y="18"/>
                          </a:lnTo>
                          <a:lnTo>
                            <a:pt x="24" y="18"/>
                          </a:lnTo>
                          <a:lnTo>
                            <a:pt x="16" y="18"/>
                          </a:lnTo>
                          <a:lnTo>
                            <a:pt x="8" y="18"/>
                          </a:lnTo>
                          <a:lnTo>
                            <a:pt x="0" y="27"/>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 name=""/>
                    <p:cNvSpPr/>
                    <p:nvPr/>
                  </p:nvSpPr>
                  <p:spPr>
                    <a:xfrm>
                      <a:off x="4049280" y="3312360"/>
                      <a:ext cx="109440" cy="33840"/>
                    </a:xfrm>
                    <a:custGeom>
                      <a:avLst/>
                      <a:gdLst/>
                      <a:ahLst/>
                      <a:rect l="l" t="t" r="r" b="b"/>
                      <a:pathLst>
                        <a:path w="74" h="18">
                          <a:moveTo>
                            <a:pt x="73" y="0"/>
                          </a:moveTo>
                          <a:lnTo>
                            <a:pt x="73" y="0"/>
                          </a:lnTo>
                          <a:lnTo>
                            <a:pt x="41" y="9"/>
                          </a:lnTo>
                          <a:lnTo>
                            <a:pt x="0" y="17"/>
                          </a:lnTo>
                          <a:lnTo>
                            <a:pt x="73" y="0"/>
                          </a:lnTo>
                        </a:path>
                      </a:pathLst>
                    </a:custGeom>
                    <a:solidFill>
                      <a:srgbClr val="dddddd"/>
                    </a:solidFill>
                    <a:ln cap="rnd" w="25560">
                      <a:solidFill>
                        <a:srgbClr val="ff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1" name=""/>
                    <p:cNvSpPr/>
                    <p:nvPr/>
                  </p:nvSpPr>
                  <p:spPr>
                    <a:xfrm>
                      <a:off x="4049280" y="3173400"/>
                      <a:ext cx="121680" cy="122040"/>
                    </a:xfrm>
                    <a:custGeom>
                      <a:avLst/>
                      <a:gdLst/>
                      <a:ahLst/>
                      <a:rect l="l" t="t" r="r" b="b"/>
                      <a:pathLst>
                        <a:path w="82" h="65">
                          <a:moveTo>
                            <a:pt x="81" y="64"/>
                          </a:moveTo>
                          <a:lnTo>
                            <a:pt x="81" y="64"/>
                          </a:lnTo>
                          <a:lnTo>
                            <a:pt x="73" y="64"/>
                          </a:lnTo>
                          <a:lnTo>
                            <a:pt x="73" y="55"/>
                          </a:lnTo>
                          <a:lnTo>
                            <a:pt x="65" y="46"/>
                          </a:lnTo>
                          <a:lnTo>
                            <a:pt x="57" y="46"/>
                          </a:lnTo>
                          <a:lnTo>
                            <a:pt x="49" y="37"/>
                          </a:lnTo>
                          <a:lnTo>
                            <a:pt x="41" y="27"/>
                          </a:lnTo>
                          <a:lnTo>
                            <a:pt x="32" y="18"/>
                          </a:lnTo>
                          <a:lnTo>
                            <a:pt x="24" y="18"/>
                          </a:lnTo>
                          <a:lnTo>
                            <a:pt x="16" y="9"/>
                          </a:lnTo>
                          <a:lnTo>
                            <a:pt x="8" y="0"/>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49280" y="3173400"/>
                      <a:ext cx="121680" cy="122040"/>
                    </a:xfrm>
                    <a:custGeom>
                      <a:avLst/>
                      <a:gdLst/>
                      <a:ahLst/>
                      <a:rect l="l" t="t" r="r" b="b"/>
                      <a:pathLst>
                        <a:path w="82" h="65">
                          <a:moveTo>
                            <a:pt x="81" y="64"/>
                          </a:moveTo>
                          <a:lnTo>
                            <a:pt x="73" y="55"/>
                          </a:lnTo>
                          <a:lnTo>
                            <a:pt x="41" y="27"/>
                          </a:lnTo>
                          <a:lnTo>
                            <a:pt x="0" y="0"/>
                          </a:lnTo>
                          <a:lnTo>
                            <a:pt x="81" y="64"/>
                          </a:lnTo>
                        </a:path>
                      </a:pathLst>
                    </a:custGeom>
                    <a:solidFill>
                      <a:srgbClr val="dddddd"/>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35960" y="3242880"/>
                      <a:ext cx="123120" cy="52560"/>
                    </a:xfrm>
                    <a:custGeom>
                      <a:avLst/>
                      <a:gdLst/>
                      <a:ahLst/>
                      <a:rect l="l" t="t" r="r" b="b"/>
                      <a:pathLst>
                        <a:path w="83" h="28">
                          <a:moveTo>
                            <a:pt x="74" y="27"/>
                          </a:moveTo>
                          <a:lnTo>
                            <a:pt x="74" y="27"/>
                          </a:lnTo>
                          <a:lnTo>
                            <a:pt x="82" y="27"/>
                          </a:lnTo>
                          <a:lnTo>
                            <a:pt x="74" y="27"/>
                          </a:lnTo>
                          <a:lnTo>
                            <a:pt x="66" y="18"/>
                          </a:lnTo>
                          <a:lnTo>
                            <a:pt x="57" y="9"/>
                          </a:lnTo>
                          <a:lnTo>
                            <a:pt x="49" y="9"/>
                          </a:lnTo>
                          <a:lnTo>
                            <a:pt x="33" y="9"/>
                          </a:lnTo>
                          <a:lnTo>
                            <a:pt x="25" y="9"/>
                          </a:lnTo>
                          <a:lnTo>
                            <a:pt x="16" y="9"/>
                          </a:lnTo>
                          <a:lnTo>
                            <a:pt x="8" y="0"/>
                          </a:lnTo>
                          <a:lnTo>
                            <a:pt x="0" y="0"/>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 name=""/>
                    <p:cNvSpPr/>
                    <p:nvPr/>
                  </p:nvSpPr>
                  <p:spPr>
                    <a:xfrm>
                      <a:off x="4035960" y="3242880"/>
                      <a:ext cx="123120" cy="52560"/>
                    </a:xfrm>
                    <a:custGeom>
                      <a:avLst/>
                      <a:gdLst/>
                      <a:ahLst/>
                      <a:rect l="l" t="t" r="r" b="b"/>
                      <a:pathLst>
                        <a:path w="83" h="28">
                          <a:moveTo>
                            <a:pt x="74" y="27"/>
                          </a:moveTo>
                          <a:lnTo>
                            <a:pt x="82" y="27"/>
                          </a:lnTo>
                          <a:lnTo>
                            <a:pt x="74" y="27"/>
                          </a:lnTo>
                          <a:lnTo>
                            <a:pt x="41" y="9"/>
                          </a:lnTo>
                          <a:lnTo>
                            <a:pt x="0" y="0"/>
                          </a:lnTo>
                          <a:lnTo>
                            <a:pt x="74" y="27"/>
                          </a:lnTo>
                        </a:path>
                      </a:pathLst>
                    </a:custGeom>
                    <a:solidFill>
                      <a:srgbClr val="dddddd"/>
                    </a:solid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sp>
              <p:nvSpPr>
                <p:cNvPr id="115" name=""/>
                <p:cNvSpPr/>
                <p:nvPr/>
              </p:nvSpPr>
              <p:spPr>
                <a:xfrm>
                  <a:off x="2805840" y="2104920"/>
                  <a:ext cx="1703520" cy="726120"/>
                </a:xfrm>
                <a:custGeom>
                  <a:avLst/>
                  <a:gdLst/>
                  <a:ahLst/>
                  <a:rect l="l" t="t" r="r" b="b"/>
                  <a:pathLst>
                    <a:path w="1146" h="386">
                      <a:moveTo>
                        <a:pt x="89" y="156"/>
                      </a:moveTo>
                      <a:lnTo>
                        <a:pt x="81" y="147"/>
                      </a:lnTo>
                      <a:lnTo>
                        <a:pt x="73" y="147"/>
                      </a:lnTo>
                      <a:lnTo>
                        <a:pt x="49" y="147"/>
                      </a:lnTo>
                      <a:lnTo>
                        <a:pt x="41" y="147"/>
                      </a:lnTo>
                      <a:lnTo>
                        <a:pt x="24" y="147"/>
                      </a:lnTo>
                      <a:lnTo>
                        <a:pt x="16" y="147"/>
                      </a:lnTo>
                      <a:lnTo>
                        <a:pt x="8" y="138"/>
                      </a:lnTo>
                      <a:lnTo>
                        <a:pt x="0" y="128"/>
                      </a:lnTo>
                      <a:lnTo>
                        <a:pt x="0" y="119"/>
                      </a:lnTo>
                      <a:lnTo>
                        <a:pt x="8" y="110"/>
                      </a:lnTo>
                      <a:lnTo>
                        <a:pt x="8" y="101"/>
                      </a:lnTo>
                      <a:lnTo>
                        <a:pt x="16" y="92"/>
                      </a:lnTo>
                      <a:lnTo>
                        <a:pt x="16" y="83"/>
                      </a:lnTo>
                      <a:lnTo>
                        <a:pt x="24" y="83"/>
                      </a:lnTo>
                      <a:lnTo>
                        <a:pt x="32" y="73"/>
                      </a:lnTo>
                      <a:lnTo>
                        <a:pt x="41" y="73"/>
                      </a:lnTo>
                      <a:lnTo>
                        <a:pt x="57" y="73"/>
                      </a:lnTo>
                      <a:lnTo>
                        <a:pt x="73" y="73"/>
                      </a:lnTo>
                      <a:lnTo>
                        <a:pt x="106" y="73"/>
                      </a:lnTo>
                      <a:lnTo>
                        <a:pt x="122" y="73"/>
                      </a:lnTo>
                      <a:lnTo>
                        <a:pt x="146" y="64"/>
                      </a:lnTo>
                      <a:lnTo>
                        <a:pt x="162" y="64"/>
                      </a:lnTo>
                      <a:lnTo>
                        <a:pt x="187" y="64"/>
                      </a:lnTo>
                      <a:lnTo>
                        <a:pt x="195" y="55"/>
                      </a:lnTo>
                      <a:lnTo>
                        <a:pt x="211" y="55"/>
                      </a:lnTo>
                      <a:lnTo>
                        <a:pt x="227" y="55"/>
                      </a:lnTo>
                      <a:lnTo>
                        <a:pt x="244" y="46"/>
                      </a:lnTo>
                      <a:lnTo>
                        <a:pt x="252" y="46"/>
                      </a:lnTo>
                      <a:lnTo>
                        <a:pt x="276" y="37"/>
                      </a:lnTo>
                      <a:lnTo>
                        <a:pt x="292" y="37"/>
                      </a:lnTo>
                      <a:lnTo>
                        <a:pt x="317" y="28"/>
                      </a:lnTo>
                      <a:lnTo>
                        <a:pt x="325" y="18"/>
                      </a:lnTo>
                      <a:lnTo>
                        <a:pt x="333" y="18"/>
                      </a:lnTo>
                      <a:lnTo>
                        <a:pt x="341" y="18"/>
                      </a:lnTo>
                      <a:lnTo>
                        <a:pt x="357" y="18"/>
                      </a:lnTo>
                      <a:lnTo>
                        <a:pt x="374" y="18"/>
                      </a:lnTo>
                      <a:lnTo>
                        <a:pt x="382" y="18"/>
                      </a:lnTo>
                      <a:lnTo>
                        <a:pt x="390" y="18"/>
                      </a:lnTo>
                      <a:lnTo>
                        <a:pt x="398" y="18"/>
                      </a:lnTo>
                      <a:lnTo>
                        <a:pt x="414" y="9"/>
                      </a:lnTo>
                      <a:lnTo>
                        <a:pt x="430" y="9"/>
                      </a:lnTo>
                      <a:lnTo>
                        <a:pt x="455" y="9"/>
                      </a:lnTo>
                      <a:lnTo>
                        <a:pt x="463" y="9"/>
                      </a:lnTo>
                      <a:lnTo>
                        <a:pt x="479" y="9"/>
                      </a:lnTo>
                      <a:lnTo>
                        <a:pt x="495" y="9"/>
                      </a:lnTo>
                      <a:lnTo>
                        <a:pt x="520" y="9"/>
                      </a:lnTo>
                      <a:lnTo>
                        <a:pt x="536" y="9"/>
                      </a:lnTo>
                      <a:lnTo>
                        <a:pt x="560" y="0"/>
                      </a:lnTo>
                      <a:lnTo>
                        <a:pt x="577" y="0"/>
                      </a:lnTo>
                      <a:lnTo>
                        <a:pt x="601" y="0"/>
                      </a:lnTo>
                      <a:lnTo>
                        <a:pt x="609" y="0"/>
                      </a:lnTo>
                      <a:lnTo>
                        <a:pt x="625" y="0"/>
                      </a:lnTo>
                      <a:lnTo>
                        <a:pt x="642" y="0"/>
                      </a:lnTo>
                      <a:lnTo>
                        <a:pt x="658" y="0"/>
                      </a:lnTo>
                      <a:lnTo>
                        <a:pt x="666" y="0"/>
                      </a:lnTo>
                      <a:lnTo>
                        <a:pt x="690" y="9"/>
                      </a:lnTo>
                      <a:lnTo>
                        <a:pt x="706" y="9"/>
                      </a:lnTo>
                      <a:lnTo>
                        <a:pt x="731" y="9"/>
                      </a:lnTo>
                      <a:lnTo>
                        <a:pt x="739" y="9"/>
                      </a:lnTo>
                      <a:lnTo>
                        <a:pt x="763" y="9"/>
                      </a:lnTo>
                      <a:lnTo>
                        <a:pt x="780" y="18"/>
                      </a:lnTo>
                      <a:lnTo>
                        <a:pt x="804" y="28"/>
                      </a:lnTo>
                      <a:lnTo>
                        <a:pt x="820" y="37"/>
                      </a:lnTo>
                      <a:lnTo>
                        <a:pt x="845" y="46"/>
                      </a:lnTo>
                      <a:lnTo>
                        <a:pt x="861" y="46"/>
                      </a:lnTo>
                      <a:lnTo>
                        <a:pt x="885" y="55"/>
                      </a:lnTo>
                      <a:lnTo>
                        <a:pt x="893" y="55"/>
                      </a:lnTo>
                      <a:lnTo>
                        <a:pt x="901" y="64"/>
                      </a:lnTo>
                      <a:lnTo>
                        <a:pt x="910" y="64"/>
                      </a:lnTo>
                      <a:lnTo>
                        <a:pt x="926" y="73"/>
                      </a:lnTo>
                      <a:lnTo>
                        <a:pt x="942" y="73"/>
                      </a:lnTo>
                      <a:lnTo>
                        <a:pt x="950" y="83"/>
                      </a:lnTo>
                      <a:lnTo>
                        <a:pt x="958" y="92"/>
                      </a:lnTo>
                      <a:lnTo>
                        <a:pt x="966" y="92"/>
                      </a:lnTo>
                      <a:lnTo>
                        <a:pt x="983" y="101"/>
                      </a:lnTo>
                      <a:lnTo>
                        <a:pt x="991" y="110"/>
                      </a:lnTo>
                      <a:lnTo>
                        <a:pt x="1015" y="119"/>
                      </a:lnTo>
                      <a:lnTo>
                        <a:pt x="1023" y="119"/>
                      </a:lnTo>
                      <a:lnTo>
                        <a:pt x="1039" y="119"/>
                      </a:lnTo>
                      <a:lnTo>
                        <a:pt x="1056" y="128"/>
                      </a:lnTo>
                      <a:lnTo>
                        <a:pt x="1072" y="128"/>
                      </a:lnTo>
                      <a:lnTo>
                        <a:pt x="1080" y="128"/>
                      </a:lnTo>
                      <a:lnTo>
                        <a:pt x="1096" y="138"/>
                      </a:lnTo>
                      <a:lnTo>
                        <a:pt x="1104" y="147"/>
                      </a:lnTo>
                      <a:lnTo>
                        <a:pt x="1121" y="156"/>
                      </a:lnTo>
                      <a:lnTo>
                        <a:pt x="1129" y="174"/>
                      </a:lnTo>
                      <a:lnTo>
                        <a:pt x="1137" y="183"/>
                      </a:lnTo>
                      <a:lnTo>
                        <a:pt x="1145" y="193"/>
                      </a:lnTo>
                      <a:lnTo>
                        <a:pt x="1145" y="202"/>
                      </a:lnTo>
                      <a:lnTo>
                        <a:pt x="1137" y="229"/>
                      </a:lnTo>
                      <a:lnTo>
                        <a:pt x="1137" y="238"/>
                      </a:lnTo>
                      <a:lnTo>
                        <a:pt x="1129" y="257"/>
                      </a:lnTo>
                      <a:lnTo>
                        <a:pt x="1121" y="266"/>
                      </a:lnTo>
                      <a:lnTo>
                        <a:pt x="1104" y="284"/>
                      </a:lnTo>
                      <a:lnTo>
                        <a:pt x="1104" y="293"/>
                      </a:lnTo>
                      <a:lnTo>
                        <a:pt x="1088" y="303"/>
                      </a:lnTo>
                      <a:lnTo>
                        <a:pt x="1080" y="303"/>
                      </a:lnTo>
                      <a:lnTo>
                        <a:pt x="1056" y="312"/>
                      </a:lnTo>
                      <a:lnTo>
                        <a:pt x="1048" y="321"/>
                      </a:lnTo>
                      <a:lnTo>
                        <a:pt x="1023" y="330"/>
                      </a:lnTo>
                      <a:lnTo>
                        <a:pt x="1007" y="330"/>
                      </a:lnTo>
                      <a:lnTo>
                        <a:pt x="983" y="330"/>
                      </a:lnTo>
                      <a:lnTo>
                        <a:pt x="974" y="339"/>
                      </a:lnTo>
                      <a:lnTo>
                        <a:pt x="950" y="348"/>
                      </a:lnTo>
                      <a:lnTo>
                        <a:pt x="934" y="348"/>
                      </a:lnTo>
                      <a:lnTo>
                        <a:pt x="910" y="358"/>
                      </a:lnTo>
                      <a:lnTo>
                        <a:pt x="901" y="367"/>
                      </a:lnTo>
                      <a:lnTo>
                        <a:pt x="885" y="376"/>
                      </a:lnTo>
                      <a:lnTo>
                        <a:pt x="869" y="376"/>
                      </a:lnTo>
                      <a:lnTo>
                        <a:pt x="845" y="376"/>
                      </a:lnTo>
                      <a:lnTo>
                        <a:pt x="836" y="376"/>
                      </a:lnTo>
                      <a:lnTo>
                        <a:pt x="812" y="376"/>
                      </a:lnTo>
                      <a:lnTo>
                        <a:pt x="796" y="376"/>
                      </a:lnTo>
                      <a:lnTo>
                        <a:pt x="771" y="385"/>
                      </a:lnTo>
                      <a:lnTo>
                        <a:pt x="763" y="385"/>
                      </a:lnTo>
                      <a:lnTo>
                        <a:pt x="747" y="385"/>
                      </a:lnTo>
                      <a:lnTo>
                        <a:pt x="739" y="385"/>
                      </a:lnTo>
                      <a:lnTo>
                        <a:pt x="723" y="385"/>
                      </a:lnTo>
                      <a:lnTo>
                        <a:pt x="715" y="385"/>
                      </a:lnTo>
                      <a:lnTo>
                        <a:pt x="698" y="376"/>
                      </a:lnTo>
                      <a:lnTo>
                        <a:pt x="682" y="376"/>
                      </a:lnTo>
                      <a:lnTo>
                        <a:pt x="658" y="376"/>
                      </a:lnTo>
                      <a:lnTo>
                        <a:pt x="642" y="376"/>
                      </a:lnTo>
                      <a:lnTo>
                        <a:pt x="617" y="367"/>
                      </a:lnTo>
                      <a:lnTo>
                        <a:pt x="601" y="3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937960" y="2398680"/>
                  <a:ext cx="738720" cy="380160"/>
                </a:xfrm>
                <a:custGeom>
                  <a:avLst/>
                  <a:gdLst/>
                  <a:ahLst/>
                  <a:rect l="l" t="t" r="r" b="b"/>
                  <a:pathLst>
                    <a:path w="497" h="202">
                      <a:moveTo>
                        <a:pt x="496" y="201"/>
                      </a:moveTo>
                      <a:lnTo>
                        <a:pt x="496" y="201"/>
                      </a:lnTo>
                      <a:lnTo>
                        <a:pt x="496" y="192"/>
                      </a:lnTo>
                      <a:lnTo>
                        <a:pt x="496" y="183"/>
                      </a:lnTo>
                      <a:lnTo>
                        <a:pt x="480" y="174"/>
                      </a:lnTo>
                      <a:lnTo>
                        <a:pt x="463" y="164"/>
                      </a:lnTo>
                      <a:lnTo>
                        <a:pt x="447" y="164"/>
                      </a:lnTo>
                      <a:lnTo>
                        <a:pt x="439" y="164"/>
                      </a:lnTo>
                      <a:lnTo>
                        <a:pt x="431" y="155"/>
                      </a:lnTo>
                      <a:lnTo>
                        <a:pt x="415" y="155"/>
                      </a:lnTo>
                      <a:lnTo>
                        <a:pt x="398" y="146"/>
                      </a:lnTo>
                      <a:lnTo>
                        <a:pt x="390" y="146"/>
                      </a:lnTo>
                      <a:lnTo>
                        <a:pt x="382" y="137"/>
                      </a:lnTo>
                      <a:lnTo>
                        <a:pt x="374" y="137"/>
                      </a:lnTo>
                      <a:lnTo>
                        <a:pt x="366" y="137"/>
                      </a:lnTo>
                      <a:lnTo>
                        <a:pt x="358" y="128"/>
                      </a:lnTo>
                      <a:lnTo>
                        <a:pt x="350" y="128"/>
                      </a:lnTo>
                      <a:lnTo>
                        <a:pt x="342" y="119"/>
                      </a:lnTo>
                      <a:lnTo>
                        <a:pt x="333" y="119"/>
                      </a:lnTo>
                      <a:lnTo>
                        <a:pt x="317" y="110"/>
                      </a:lnTo>
                      <a:lnTo>
                        <a:pt x="309" y="110"/>
                      </a:lnTo>
                      <a:lnTo>
                        <a:pt x="293" y="110"/>
                      </a:lnTo>
                      <a:lnTo>
                        <a:pt x="276" y="101"/>
                      </a:lnTo>
                      <a:lnTo>
                        <a:pt x="260" y="101"/>
                      </a:lnTo>
                      <a:lnTo>
                        <a:pt x="252" y="101"/>
                      </a:lnTo>
                      <a:lnTo>
                        <a:pt x="228" y="91"/>
                      </a:lnTo>
                      <a:lnTo>
                        <a:pt x="211" y="82"/>
                      </a:lnTo>
                      <a:lnTo>
                        <a:pt x="187" y="73"/>
                      </a:lnTo>
                      <a:lnTo>
                        <a:pt x="179" y="73"/>
                      </a:lnTo>
                      <a:lnTo>
                        <a:pt x="163" y="64"/>
                      </a:lnTo>
                      <a:lnTo>
                        <a:pt x="146" y="55"/>
                      </a:lnTo>
                      <a:lnTo>
                        <a:pt x="130" y="37"/>
                      </a:lnTo>
                      <a:lnTo>
                        <a:pt x="122" y="37"/>
                      </a:lnTo>
                      <a:lnTo>
                        <a:pt x="98" y="27"/>
                      </a:lnTo>
                      <a:lnTo>
                        <a:pt x="81" y="18"/>
                      </a:lnTo>
                      <a:lnTo>
                        <a:pt x="65" y="9"/>
                      </a:lnTo>
                      <a:lnTo>
                        <a:pt x="57" y="9"/>
                      </a:lnTo>
                      <a:lnTo>
                        <a:pt x="49" y="9"/>
                      </a:lnTo>
                      <a:lnTo>
                        <a:pt x="41" y="9"/>
                      </a:lnTo>
                      <a:lnTo>
                        <a:pt x="24" y="9"/>
                      </a:ln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817720" y="2104920"/>
                  <a:ext cx="1691640" cy="726120"/>
                </a:xfrm>
                <a:custGeom>
                  <a:avLst/>
                  <a:gdLst/>
                  <a:ahLst/>
                  <a:rect l="l" t="t" r="r" b="b"/>
                  <a:pathLst>
                    <a:path w="1138" h="386">
                      <a:moveTo>
                        <a:pt x="81" y="156"/>
                      </a:moveTo>
                      <a:lnTo>
                        <a:pt x="24" y="147"/>
                      </a:lnTo>
                      <a:lnTo>
                        <a:pt x="0" y="138"/>
                      </a:lnTo>
                      <a:lnTo>
                        <a:pt x="0" y="119"/>
                      </a:lnTo>
                      <a:lnTo>
                        <a:pt x="8" y="83"/>
                      </a:lnTo>
                      <a:lnTo>
                        <a:pt x="41" y="73"/>
                      </a:lnTo>
                      <a:lnTo>
                        <a:pt x="130" y="73"/>
                      </a:lnTo>
                      <a:lnTo>
                        <a:pt x="195" y="55"/>
                      </a:lnTo>
                      <a:lnTo>
                        <a:pt x="260" y="46"/>
                      </a:lnTo>
                      <a:lnTo>
                        <a:pt x="325" y="18"/>
                      </a:lnTo>
                      <a:lnTo>
                        <a:pt x="357" y="18"/>
                      </a:lnTo>
                      <a:lnTo>
                        <a:pt x="398" y="18"/>
                      </a:lnTo>
                      <a:lnTo>
                        <a:pt x="463" y="9"/>
                      </a:lnTo>
                      <a:lnTo>
                        <a:pt x="544" y="9"/>
                      </a:lnTo>
                      <a:lnTo>
                        <a:pt x="609" y="0"/>
                      </a:lnTo>
                      <a:lnTo>
                        <a:pt x="674" y="9"/>
                      </a:lnTo>
                      <a:lnTo>
                        <a:pt x="747" y="9"/>
                      </a:lnTo>
                      <a:lnTo>
                        <a:pt x="828" y="46"/>
                      </a:lnTo>
                      <a:lnTo>
                        <a:pt x="893" y="64"/>
                      </a:lnTo>
                      <a:lnTo>
                        <a:pt x="926" y="73"/>
                      </a:lnTo>
                      <a:lnTo>
                        <a:pt x="966" y="101"/>
                      </a:lnTo>
                      <a:lnTo>
                        <a:pt x="1023" y="119"/>
                      </a:lnTo>
                      <a:lnTo>
                        <a:pt x="1080" y="138"/>
                      </a:lnTo>
                      <a:lnTo>
                        <a:pt x="1121" y="165"/>
                      </a:lnTo>
                      <a:lnTo>
                        <a:pt x="1137" y="220"/>
                      </a:lnTo>
                      <a:lnTo>
                        <a:pt x="1105" y="275"/>
                      </a:lnTo>
                      <a:lnTo>
                        <a:pt x="1064" y="312"/>
                      </a:lnTo>
                      <a:lnTo>
                        <a:pt x="991" y="330"/>
                      </a:lnTo>
                      <a:lnTo>
                        <a:pt x="918" y="358"/>
                      </a:lnTo>
                      <a:lnTo>
                        <a:pt x="853" y="376"/>
                      </a:lnTo>
                      <a:lnTo>
                        <a:pt x="780" y="385"/>
                      </a:lnTo>
                      <a:lnTo>
                        <a:pt x="723" y="385"/>
                      </a:lnTo>
                      <a:lnTo>
                        <a:pt x="666" y="376"/>
                      </a:lnTo>
                      <a:lnTo>
                        <a:pt x="577" y="358"/>
                      </a:lnTo>
                      <a:lnTo>
                        <a:pt x="536" y="321"/>
                      </a:lnTo>
                      <a:lnTo>
                        <a:pt x="504" y="312"/>
                      </a:lnTo>
                      <a:lnTo>
                        <a:pt x="471" y="303"/>
                      </a:lnTo>
                      <a:lnTo>
                        <a:pt x="439" y="284"/>
                      </a:lnTo>
                      <a:lnTo>
                        <a:pt x="414" y="275"/>
                      </a:lnTo>
                      <a:lnTo>
                        <a:pt x="349" y="257"/>
                      </a:lnTo>
                      <a:lnTo>
                        <a:pt x="284" y="238"/>
                      </a:lnTo>
                      <a:lnTo>
                        <a:pt x="219" y="202"/>
                      </a:lnTo>
                      <a:lnTo>
                        <a:pt x="154" y="174"/>
                      </a:lnTo>
                      <a:lnTo>
                        <a:pt x="114" y="165"/>
                      </a:lnTo>
                      <a:lnTo>
                        <a:pt x="81" y="156"/>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69800" y="2104920"/>
                  <a:ext cx="1545840" cy="692280"/>
                </a:xfrm>
                <a:custGeom>
                  <a:avLst/>
                  <a:gdLst/>
                  <a:ahLst/>
                  <a:rect l="l" t="t" r="r" b="b"/>
                  <a:pathLst>
                    <a:path w="1040" h="368">
                      <a:moveTo>
                        <a:pt x="950" y="73"/>
                      </a:moveTo>
                      <a:lnTo>
                        <a:pt x="909" y="64"/>
                      </a:lnTo>
                      <a:lnTo>
                        <a:pt x="877" y="55"/>
                      </a:lnTo>
                      <a:lnTo>
                        <a:pt x="820" y="46"/>
                      </a:lnTo>
                      <a:lnTo>
                        <a:pt x="795" y="37"/>
                      </a:lnTo>
                      <a:lnTo>
                        <a:pt x="747" y="28"/>
                      </a:lnTo>
                      <a:lnTo>
                        <a:pt x="722" y="28"/>
                      </a:lnTo>
                      <a:lnTo>
                        <a:pt x="682" y="18"/>
                      </a:lnTo>
                      <a:lnTo>
                        <a:pt x="657" y="18"/>
                      </a:lnTo>
                      <a:lnTo>
                        <a:pt x="601" y="9"/>
                      </a:lnTo>
                      <a:lnTo>
                        <a:pt x="568" y="9"/>
                      </a:lnTo>
                      <a:lnTo>
                        <a:pt x="503" y="9"/>
                      </a:lnTo>
                      <a:lnTo>
                        <a:pt x="463" y="9"/>
                      </a:lnTo>
                      <a:lnTo>
                        <a:pt x="398" y="0"/>
                      </a:lnTo>
                      <a:lnTo>
                        <a:pt x="382" y="0"/>
                      </a:lnTo>
                      <a:lnTo>
                        <a:pt x="357" y="0"/>
                      </a:lnTo>
                      <a:lnTo>
                        <a:pt x="341" y="0"/>
                      </a:lnTo>
                      <a:lnTo>
                        <a:pt x="325" y="0"/>
                      </a:lnTo>
                      <a:lnTo>
                        <a:pt x="317" y="0"/>
                      </a:lnTo>
                      <a:lnTo>
                        <a:pt x="308" y="0"/>
                      </a:lnTo>
                      <a:lnTo>
                        <a:pt x="300" y="0"/>
                      </a:lnTo>
                      <a:lnTo>
                        <a:pt x="292" y="0"/>
                      </a:lnTo>
                      <a:lnTo>
                        <a:pt x="284" y="0"/>
                      </a:lnTo>
                      <a:lnTo>
                        <a:pt x="276" y="9"/>
                      </a:lnTo>
                      <a:lnTo>
                        <a:pt x="268" y="9"/>
                      </a:lnTo>
                      <a:lnTo>
                        <a:pt x="268" y="0"/>
                      </a:lnTo>
                      <a:lnTo>
                        <a:pt x="276" y="0"/>
                      </a:lnTo>
                      <a:lnTo>
                        <a:pt x="284" y="0"/>
                      </a:lnTo>
                      <a:lnTo>
                        <a:pt x="276" y="9"/>
                      </a:lnTo>
                      <a:lnTo>
                        <a:pt x="268" y="9"/>
                      </a:lnTo>
                      <a:lnTo>
                        <a:pt x="252" y="28"/>
                      </a:lnTo>
                      <a:lnTo>
                        <a:pt x="235" y="37"/>
                      </a:lnTo>
                      <a:lnTo>
                        <a:pt x="195" y="46"/>
                      </a:lnTo>
                      <a:lnTo>
                        <a:pt x="170" y="55"/>
                      </a:lnTo>
                      <a:lnTo>
                        <a:pt x="130" y="73"/>
                      </a:lnTo>
                      <a:lnTo>
                        <a:pt x="114" y="73"/>
                      </a:lnTo>
                      <a:lnTo>
                        <a:pt x="89" y="83"/>
                      </a:lnTo>
                      <a:lnTo>
                        <a:pt x="73" y="83"/>
                      </a:lnTo>
                      <a:lnTo>
                        <a:pt x="49" y="92"/>
                      </a:lnTo>
                      <a:lnTo>
                        <a:pt x="41" y="101"/>
                      </a:lnTo>
                      <a:lnTo>
                        <a:pt x="16" y="110"/>
                      </a:lnTo>
                      <a:lnTo>
                        <a:pt x="8" y="110"/>
                      </a:lnTo>
                      <a:lnTo>
                        <a:pt x="0" y="119"/>
                      </a:lnTo>
                      <a:lnTo>
                        <a:pt x="0" y="128"/>
                      </a:lnTo>
                      <a:lnTo>
                        <a:pt x="0" y="138"/>
                      </a:lnTo>
                      <a:lnTo>
                        <a:pt x="0" y="156"/>
                      </a:lnTo>
                      <a:lnTo>
                        <a:pt x="8" y="165"/>
                      </a:lnTo>
                      <a:lnTo>
                        <a:pt x="24" y="174"/>
                      </a:lnTo>
                      <a:lnTo>
                        <a:pt x="32" y="184"/>
                      </a:lnTo>
                      <a:lnTo>
                        <a:pt x="73" y="211"/>
                      </a:lnTo>
                      <a:lnTo>
                        <a:pt x="106" y="229"/>
                      </a:lnTo>
                      <a:lnTo>
                        <a:pt x="162" y="275"/>
                      </a:lnTo>
                      <a:lnTo>
                        <a:pt x="195" y="294"/>
                      </a:lnTo>
                      <a:lnTo>
                        <a:pt x="244" y="321"/>
                      </a:lnTo>
                      <a:lnTo>
                        <a:pt x="260" y="330"/>
                      </a:lnTo>
                      <a:lnTo>
                        <a:pt x="300" y="349"/>
                      </a:lnTo>
                      <a:lnTo>
                        <a:pt x="317" y="349"/>
                      </a:lnTo>
                      <a:lnTo>
                        <a:pt x="365" y="358"/>
                      </a:lnTo>
                      <a:lnTo>
                        <a:pt x="390" y="367"/>
                      </a:lnTo>
                      <a:lnTo>
                        <a:pt x="438" y="367"/>
                      </a:lnTo>
                      <a:lnTo>
                        <a:pt x="463" y="367"/>
                      </a:lnTo>
                      <a:lnTo>
                        <a:pt x="520" y="358"/>
                      </a:lnTo>
                      <a:lnTo>
                        <a:pt x="544" y="358"/>
                      </a:lnTo>
                      <a:lnTo>
                        <a:pt x="601" y="349"/>
                      </a:lnTo>
                      <a:lnTo>
                        <a:pt x="625" y="339"/>
                      </a:lnTo>
                      <a:lnTo>
                        <a:pt x="682" y="321"/>
                      </a:lnTo>
                      <a:lnTo>
                        <a:pt x="714" y="312"/>
                      </a:lnTo>
                      <a:lnTo>
                        <a:pt x="771" y="294"/>
                      </a:lnTo>
                      <a:lnTo>
                        <a:pt x="795" y="284"/>
                      </a:lnTo>
                      <a:lnTo>
                        <a:pt x="852" y="257"/>
                      </a:lnTo>
                      <a:lnTo>
                        <a:pt x="877" y="248"/>
                      </a:lnTo>
                      <a:lnTo>
                        <a:pt x="925" y="229"/>
                      </a:lnTo>
                      <a:lnTo>
                        <a:pt x="942" y="211"/>
                      </a:lnTo>
                      <a:lnTo>
                        <a:pt x="974" y="193"/>
                      </a:lnTo>
                      <a:lnTo>
                        <a:pt x="990" y="184"/>
                      </a:lnTo>
                      <a:lnTo>
                        <a:pt x="1023" y="156"/>
                      </a:lnTo>
                      <a:lnTo>
                        <a:pt x="1031" y="147"/>
                      </a:lnTo>
                      <a:lnTo>
                        <a:pt x="1039" y="128"/>
                      </a:lnTo>
                      <a:lnTo>
                        <a:pt x="1039" y="119"/>
                      </a:lnTo>
                      <a:lnTo>
                        <a:pt x="1031" y="110"/>
                      </a:lnTo>
                      <a:lnTo>
                        <a:pt x="1023" y="110"/>
                      </a:lnTo>
                      <a:lnTo>
                        <a:pt x="1015" y="101"/>
                      </a:lnTo>
                      <a:lnTo>
                        <a:pt x="1007" y="101"/>
                      </a:lnTo>
                      <a:lnTo>
                        <a:pt x="998" y="92"/>
                      </a:lnTo>
                      <a:lnTo>
                        <a:pt x="990" y="92"/>
                      </a:lnTo>
                      <a:lnTo>
                        <a:pt x="966" y="83"/>
                      </a:lnTo>
                      <a:lnTo>
                        <a:pt x="958" y="73"/>
                      </a:lnTo>
                      <a:lnTo>
                        <a:pt x="95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369800" y="2104920"/>
                  <a:ext cx="1545840" cy="692280"/>
                </a:xfrm>
                <a:custGeom>
                  <a:avLst/>
                  <a:gdLst/>
                  <a:ahLst/>
                  <a:rect l="l" t="t" r="r" b="b"/>
                  <a:pathLst>
                    <a:path w="1040" h="368">
                      <a:moveTo>
                        <a:pt x="950" y="73"/>
                      </a:moveTo>
                      <a:lnTo>
                        <a:pt x="771" y="37"/>
                      </a:lnTo>
                      <a:lnTo>
                        <a:pt x="641" y="18"/>
                      </a:lnTo>
                      <a:lnTo>
                        <a:pt x="422" y="9"/>
                      </a:lnTo>
                      <a:lnTo>
                        <a:pt x="333" y="0"/>
                      </a:lnTo>
                      <a:lnTo>
                        <a:pt x="308" y="0"/>
                      </a:lnTo>
                      <a:lnTo>
                        <a:pt x="300" y="0"/>
                      </a:lnTo>
                      <a:lnTo>
                        <a:pt x="284" y="9"/>
                      </a:lnTo>
                      <a:lnTo>
                        <a:pt x="268" y="9"/>
                      </a:lnTo>
                      <a:lnTo>
                        <a:pt x="268" y="0"/>
                      </a:lnTo>
                      <a:lnTo>
                        <a:pt x="284" y="0"/>
                      </a:lnTo>
                      <a:lnTo>
                        <a:pt x="276" y="0"/>
                      </a:lnTo>
                      <a:lnTo>
                        <a:pt x="260" y="18"/>
                      </a:lnTo>
                      <a:lnTo>
                        <a:pt x="211" y="37"/>
                      </a:lnTo>
                      <a:lnTo>
                        <a:pt x="146" y="73"/>
                      </a:lnTo>
                      <a:lnTo>
                        <a:pt x="65" y="92"/>
                      </a:lnTo>
                      <a:lnTo>
                        <a:pt x="8" y="119"/>
                      </a:lnTo>
                      <a:lnTo>
                        <a:pt x="0" y="147"/>
                      </a:lnTo>
                      <a:lnTo>
                        <a:pt x="49" y="193"/>
                      </a:lnTo>
                      <a:lnTo>
                        <a:pt x="227" y="312"/>
                      </a:lnTo>
                      <a:lnTo>
                        <a:pt x="341" y="358"/>
                      </a:lnTo>
                      <a:lnTo>
                        <a:pt x="495" y="367"/>
                      </a:lnTo>
                      <a:lnTo>
                        <a:pt x="657" y="330"/>
                      </a:lnTo>
                      <a:lnTo>
                        <a:pt x="739" y="303"/>
                      </a:lnTo>
                      <a:lnTo>
                        <a:pt x="828" y="275"/>
                      </a:lnTo>
                      <a:lnTo>
                        <a:pt x="958" y="202"/>
                      </a:lnTo>
                      <a:lnTo>
                        <a:pt x="1007" y="165"/>
                      </a:lnTo>
                      <a:lnTo>
                        <a:pt x="1039" y="138"/>
                      </a:lnTo>
                      <a:lnTo>
                        <a:pt x="1031" y="110"/>
                      </a:lnTo>
                      <a:lnTo>
                        <a:pt x="1007" y="101"/>
                      </a:lnTo>
                      <a:lnTo>
                        <a:pt x="950" y="73"/>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42200" y="2286000"/>
                  <a:ext cx="507960" cy="29520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43920" y="2286000"/>
                  <a:ext cx="507960" cy="29520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179720" y="1676520"/>
                  <a:ext cx="1421280" cy="639720"/>
                  <a:chOff x="1179720" y="1676520"/>
                  <a:chExt cx="1421280" cy="639720"/>
                </a:xfrm>
              </p:grpSpPr>
              <p:sp>
                <p:nvSpPr>
                  <p:cNvPr id="123" name=""/>
                  <p:cNvSpPr/>
                  <p:nvPr/>
                </p:nvSpPr>
                <p:spPr>
                  <a:xfrm>
                    <a:off x="1455480" y="1828440"/>
                    <a:ext cx="107280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79720" y="1982520"/>
                    <a:ext cx="1348560" cy="157320"/>
                  </a:xfrm>
                  <a:custGeom>
                    <a:avLst/>
                    <a:gdLst/>
                    <a:ahLst/>
                    <a:rect l="l" t="t" r="r" b="b"/>
                    <a:pathLst>
                      <a:path stroke="0" w="21600" h="21600">
                        <a:moveTo>
                          <a:pt x="21600" y="10800"/>
                        </a:moveTo>
                        <a:arcTo wR="10800" hR="10800" stAng="0" swAng="5407563"/>
                        <a:lnTo>
                          <a:pt x="10800" y="10800"/>
                        </a:lnTo>
                        <a:close/>
                      </a:path>
                      <a:path fill="none" w="21600" h="21600">
                        <a:moveTo>
                          <a:pt x="21600" y="10800"/>
                        </a:moveTo>
                        <a:arcTo wR="10800" hR="10800" stAng="0" swAng="5407563"/>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83120" y="1676520"/>
                    <a:ext cx="941400" cy="465120"/>
                  </a:xfrm>
                  <a:custGeom>
                    <a:avLst/>
                    <a:gdLst/>
                    <a:ahLst/>
                    <a:rect l="l" t="t" r="r" b="b"/>
                    <a:pathLst>
                      <a:path stroke="0" w="21600" h="21600">
                        <a:moveTo>
                          <a:pt x="10766" y="21600"/>
                        </a:moveTo>
                        <a:arcTo wR="10800" hR="10800" stAng="5410905" swAng="5416664"/>
                        <a:lnTo>
                          <a:pt x="10800" y="10800"/>
                        </a:lnTo>
                        <a:close/>
                      </a:path>
                      <a:path fill="none" w="21600" h="21600">
                        <a:moveTo>
                          <a:pt x="10766" y="21600"/>
                        </a:moveTo>
                        <a:arcTo wR="10800" hR="10800" stAng="5410905" swAng="541666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83120" y="1829880"/>
                    <a:ext cx="1217880" cy="158040"/>
                  </a:xfrm>
                  <a:custGeom>
                    <a:avLst/>
                    <a:gdLst/>
                    <a:ahLst/>
                    <a:rect l="l" t="t" r="r" b="b"/>
                    <a:pathLst>
                      <a:path stroke="0" w="21600" h="21600">
                        <a:moveTo>
                          <a:pt x="3" y="10546"/>
                        </a:moveTo>
                        <a:arcTo wR="10800" hR="10800" stAng="-10719126" swAng="5310840"/>
                        <a:lnTo>
                          <a:pt x="10800" y="10800"/>
                        </a:lnTo>
                        <a:close/>
                      </a:path>
                      <a:path fill="none" w="21600" h="21600">
                        <a:moveTo>
                          <a:pt x="3" y="10546"/>
                        </a:moveTo>
                        <a:arcTo wR="10800" hR="10800" stAng="-10719126" swAng="531084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169720" y="1676520"/>
                  <a:ext cx="1421280" cy="639720"/>
                  <a:chOff x="2169720" y="1676520"/>
                  <a:chExt cx="1421280" cy="639720"/>
                </a:xfrm>
              </p:grpSpPr>
              <p:sp>
                <p:nvSpPr>
                  <p:cNvPr id="128" name=""/>
                  <p:cNvSpPr/>
                  <p:nvPr/>
                </p:nvSpPr>
                <p:spPr>
                  <a:xfrm>
                    <a:off x="2445480" y="1828440"/>
                    <a:ext cx="107280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69720" y="1982520"/>
                    <a:ext cx="1348560" cy="157320"/>
                  </a:xfrm>
                  <a:custGeom>
                    <a:avLst/>
                    <a:gdLst/>
                    <a:ahLst/>
                    <a:rect l="l" t="t" r="r" b="b"/>
                    <a:pathLst>
                      <a:path stroke="0" w="21600" h="21600">
                        <a:moveTo>
                          <a:pt x="21600" y="10800"/>
                        </a:moveTo>
                        <a:arcTo wR="10800" hR="10800" stAng="0" swAng="5407563"/>
                        <a:lnTo>
                          <a:pt x="10800" y="10800"/>
                        </a:lnTo>
                        <a:close/>
                      </a:path>
                      <a:path fill="none" w="21600" h="21600">
                        <a:moveTo>
                          <a:pt x="21600" y="10800"/>
                        </a:moveTo>
                        <a:arcTo wR="10800" hR="10800" stAng="0" swAng="5407563"/>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73120" y="1676520"/>
                    <a:ext cx="941400" cy="465120"/>
                  </a:xfrm>
                  <a:custGeom>
                    <a:avLst/>
                    <a:gdLst/>
                    <a:ahLst/>
                    <a:rect l="l" t="t" r="r" b="b"/>
                    <a:pathLst>
                      <a:path stroke="0" w="21600" h="21600">
                        <a:moveTo>
                          <a:pt x="10766" y="21600"/>
                        </a:moveTo>
                        <a:arcTo wR="10800" hR="10800" stAng="5410905" swAng="5416664"/>
                        <a:lnTo>
                          <a:pt x="10800" y="10800"/>
                        </a:lnTo>
                        <a:close/>
                      </a:path>
                      <a:path fill="none" w="21600" h="21600">
                        <a:moveTo>
                          <a:pt x="10766" y="21600"/>
                        </a:moveTo>
                        <a:arcTo wR="10800" hR="10800" stAng="5410905" swAng="541666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73120" y="1829880"/>
                    <a:ext cx="1217880" cy="158040"/>
                  </a:xfrm>
                  <a:custGeom>
                    <a:avLst/>
                    <a:gdLst/>
                    <a:ahLst/>
                    <a:rect l="l" t="t" r="r" b="b"/>
                    <a:pathLst>
                      <a:path stroke="0" w="21600" h="21600">
                        <a:moveTo>
                          <a:pt x="3" y="10546"/>
                        </a:moveTo>
                        <a:arcTo wR="10800" hR="10800" stAng="-10719126" swAng="5310840"/>
                        <a:lnTo>
                          <a:pt x="10800" y="10800"/>
                        </a:lnTo>
                        <a:close/>
                      </a:path>
                      <a:path fill="none" w="21600" h="21600">
                        <a:moveTo>
                          <a:pt x="3" y="10546"/>
                        </a:moveTo>
                        <a:arcTo wR="10800" hR="10800" stAng="-10719126" swAng="531084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3351240" y="1676520"/>
                  <a:ext cx="1423080" cy="637560"/>
                  <a:chOff x="3351240" y="1676520"/>
                  <a:chExt cx="1423080" cy="637560"/>
                </a:xfrm>
              </p:grpSpPr>
              <p:sp>
                <p:nvSpPr>
                  <p:cNvPr id="133" name=""/>
                  <p:cNvSpPr/>
                  <p:nvPr/>
                </p:nvSpPr>
                <p:spPr>
                  <a:xfrm>
                    <a:off x="3423600" y="1829880"/>
                    <a:ext cx="1084680" cy="484200"/>
                  </a:xfrm>
                  <a:custGeom>
                    <a:avLst/>
                    <a:gdLst/>
                    <a:ahLst/>
                    <a:rect l="l" t="t" r="r" b="b"/>
                    <a:pathLst>
                      <a:path stroke="0" w="21600" h="21600">
                        <a:moveTo>
                          <a:pt x="0" y="10717"/>
                        </a:moveTo>
                        <a:arcTo wR="10800" hR="10800" stAng="-10773490" swAng="5364121"/>
                        <a:lnTo>
                          <a:pt x="10800" y="10800"/>
                        </a:lnTo>
                        <a:close/>
                      </a:path>
                      <a:path fill="none" w="21600" h="21600">
                        <a:moveTo>
                          <a:pt x="0" y="10717"/>
                        </a:moveTo>
                        <a:arcTo wR="10800" hR="10800" stAng="-10773490" swAng="536412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2520" y="1982520"/>
                    <a:ext cx="1351800" cy="1573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280" y="1676520"/>
                    <a:ext cx="941400" cy="465120"/>
                  </a:xfrm>
                  <a:custGeom>
                    <a:avLst/>
                    <a:gdLst/>
                    <a:ahLst/>
                    <a:rect l="l" t="t" r="r" b="b"/>
                    <a:pathLst>
                      <a:path stroke="0" w="21600" h="21600">
                        <a:moveTo>
                          <a:pt x="21600" y="10713"/>
                        </a:moveTo>
                        <a:arcTo wR="10800" hR="10800" stAng="-27611" swAng="5427611"/>
                        <a:lnTo>
                          <a:pt x="10800" y="10800"/>
                        </a:lnTo>
                        <a:close/>
                      </a:path>
                      <a:path fill="none" w="21600" h="21600">
                        <a:moveTo>
                          <a:pt x="21600" y="10713"/>
                        </a:moveTo>
                        <a:arcTo wR="10800" hR="10800" stAng="-27611" swAng="542761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51240" y="1828440"/>
                    <a:ext cx="1217880" cy="161640"/>
                  </a:xfrm>
                  <a:custGeom>
                    <a:avLst/>
                    <a:gdLst/>
                    <a:ahLst/>
                    <a:rect l="l" t="t" r="r" b="b"/>
                    <a:pathLst>
                      <a:path stroke="0" w="21600" h="21600">
                        <a:moveTo>
                          <a:pt x="10774" y="0"/>
                        </a:moveTo>
                        <a:arcTo wR="10800" hR="10800" stAng="-5408276" swAng="5327305"/>
                        <a:lnTo>
                          <a:pt x="10800" y="10800"/>
                        </a:lnTo>
                        <a:close/>
                      </a:path>
                      <a:path fill="none" w="21600" h="21600">
                        <a:moveTo>
                          <a:pt x="10774" y="0"/>
                        </a:moveTo>
                        <a:arcTo wR="10800" hR="10800" stAng="-5408276" swAng="5327305"/>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646640" y="1345320"/>
                  <a:ext cx="1425600" cy="643680"/>
                  <a:chOff x="1646640" y="1345320"/>
                  <a:chExt cx="1425600" cy="643680"/>
                </a:xfrm>
              </p:grpSpPr>
              <p:sp>
                <p:nvSpPr>
                  <p:cNvPr id="138" name=""/>
                  <p:cNvSpPr/>
                  <p:nvPr/>
                </p:nvSpPr>
                <p:spPr>
                  <a:xfrm>
                    <a:off x="1927080" y="1501200"/>
                    <a:ext cx="107280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46640" y="1653840"/>
                    <a:ext cx="1351800" cy="16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52920" y="1345320"/>
                    <a:ext cx="941400" cy="469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54360" y="1502640"/>
                    <a:ext cx="1217880" cy="157320"/>
                  </a:xfrm>
                  <a:custGeom>
                    <a:avLst/>
                    <a:gdLst/>
                    <a:ahLst/>
                    <a:rect l="l" t="t" r="r" b="b"/>
                    <a:pathLst>
                      <a:path stroke="0" w="21600" h="21600">
                        <a:moveTo>
                          <a:pt x="3" y="10546"/>
                        </a:moveTo>
                        <a:arcTo wR="10800" hR="10800" stAng="-10719225" swAng="5310948"/>
                        <a:lnTo>
                          <a:pt x="10800" y="10800"/>
                        </a:lnTo>
                        <a:close/>
                      </a:path>
                      <a:path fill="none" w="21600" h="21600">
                        <a:moveTo>
                          <a:pt x="3" y="10546"/>
                        </a:moveTo>
                        <a:arcTo wR="10800" hR="10800" stAng="-10719225" swAng="5310948"/>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2685240" y="1345320"/>
                  <a:ext cx="1424880" cy="643680"/>
                  <a:chOff x="2685240" y="1345320"/>
                  <a:chExt cx="1424880" cy="643680"/>
                </a:xfrm>
              </p:grpSpPr>
              <p:sp>
                <p:nvSpPr>
                  <p:cNvPr id="143" name=""/>
                  <p:cNvSpPr/>
                  <p:nvPr/>
                </p:nvSpPr>
                <p:spPr>
                  <a:xfrm>
                    <a:off x="2966760" y="1501200"/>
                    <a:ext cx="107208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685240" y="1653840"/>
                    <a:ext cx="1352520" cy="16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2240" y="1345320"/>
                    <a:ext cx="941400" cy="46908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92240" y="1502640"/>
                    <a:ext cx="1217880" cy="157320"/>
                  </a:xfrm>
                  <a:custGeom>
                    <a:avLst/>
                    <a:gdLst/>
                    <a:ahLst/>
                    <a:rect l="l" t="t" r="r" b="b"/>
                    <a:pathLst>
                      <a:path stroke="0" w="21600" h="21600">
                        <a:moveTo>
                          <a:pt x="3" y="10546"/>
                        </a:moveTo>
                        <a:arcTo wR="10800" hR="10800" stAng="-10719126" swAng="5310840"/>
                        <a:lnTo>
                          <a:pt x="10800" y="10800"/>
                        </a:lnTo>
                        <a:close/>
                      </a:path>
                      <a:path fill="none" w="21600" h="21600">
                        <a:moveTo>
                          <a:pt x="3" y="10546"/>
                        </a:moveTo>
                        <a:arcTo wR="10800" hR="10800" stAng="-10719126" swAng="531084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97240" y="1501200"/>
                  <a:ext cx="1352880" cy="487800"/>
                  <a:chOff x="597240" y="1501200"/>
                  <a:chExt cx="1352880" cy="487800"/>
                </a:xfrm>
              </p:grpSpPr>
              <p:sp>
                <p:nvSpPr>
                  <p:cNvPr id="148" name=""/>
                  <p:cNvSpPr/>
                  <p:nvPr/>
                </p:nvSpPr>
                <p:spPr>
                  <a:xfrm>
                    <a:off x="878040" y="1501200"/>
                    <a:ext cx="107208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7240" y="1653840"/>
                    <a:ext cx="1351800" cy="16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3941280" y="1345320"/>
                  <a:ext cx="1218960" cy="469080"/>
                  <a:chOff x="3941280" y="1345320"/>
                  <a:chExt cx="1218960" cy="469080"/>
                </a:xfrm>
              </p:grpSpPr>
              <p:sp>
                <p:nvSpPr>
                  <p:cNvPr id="151" name=""/>
                  <p:cNvSpPr/>
                  <p:nvPr/>
                </p:nvSpPr>
                <p:spPr>
                  <a:xfrm>
                    <a:off x="3941280" y="1345320"/>
                    <a:ext cx="941400" cy="469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42360" y="1503000"/>
                    <a:ext cx="1217880" cy="157320"/>
                  </a:xfrm>
                  <a:custGeom>
                    <a:avLst/>
                    <a:gdLst/>
                    <a:ahLst/>
                    <a:rect l="l" t="t" r="r" b="b"/>
                    <a:pathLst>
                      <a:path stroke="0" w="21600" h="21600">
                        <a:moveTo>
                          <a:pt x="3" y="10546"/>
                        </a:moveTo>
                        <a:arcTo wR="10800" hR="10800" stAng="-10719225" swAng="5310948"/>
                        <a:lnTo>
                          <a:pt x="10800" y="10800"/>
                        </a:lnTo>
                        <a:close/>
                      </a:path>
                      <a:path fill="none" w="21600" h="21600">
                        <a:moveTo>
                          <a:pt x="3" y="10546"/>
                        </a:moveTo>
                        <a:arcTo wR="10800" hR="10800" stAng="-10719225" swAng="5310948"/>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1833480" y="1958400"/>
                  <a:ext cx="301680" cy="13932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811960" y="1871640"/>
                  <a:ext cx="301680" cy="15588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59280" y="1871640"/>
                  <a:ext cx="301680" cy="15588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44600" y="1602720"/>
                  <a:ext cx="30312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75200" y="1569240"/>
                  <a:ext cx="30168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88960" y="1569240"/>
                  <a:ext cx="30168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87320" y="1569240"/>
                  <a:ext cx="30168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1116000" y="1259280"/>
                  <a:ext cx="3526920" cy="334080"/>
                  <a:chOff x="1116000" y="1259280"/>
                  <a:chExt cx="3526920" cy="334080"/>
                </a:xfrm>
              </p:grpSpPr>
              <p:grpSp>
                <p:nvGrpSpPr>
                  <p:cNvPr id="161" name=""/>
                  <p:cNvGrpSpPr/>
                  <p:nvPr/>
                </p:nvGrpSpPr>
                <p:grpSpPr>
                  <a:xfrm>
                    <a:off x="1116000" y="1259280"/>
                    <a:ext cx="1427040" cy="334080"/>
                    <a:chOff x="1116000" y="1259280"/>
                    <a:chExt cx="1427040" cy="334080"/>
                  </a:xfrm>
                </p:grpSpPr>
                <p:sp>
                  <p:nvSpPr>
                    <p:cNvPr id="162" name=""/>
                    <p:cNvSpPr/>
                    <p:nvPr/>
                  </p:nvSpPr>
                  <p:spPr>
                    <a:xfrm>
                      <a:off x="1396800" y="1346760"/>
                      <a:ext cx="1072440" cy="246600"/>
                    </a:xfrm>
                    <a:custGeom>
                      <a:avLst/>
                      <a:gdLst/>
                      <a:ahLst/>
                      <a:rect l="l" t="t" r="r" b="b"/>
                      <a:pathLst>
                        <a:path stroke="0" w="21600" h="21600">
                          <a:moveTo>
                            <a:pt x="10770" y="0"/>
                          </a:moveTo>
                          <a:arcTo wR="10800" hR="10800" stAng="-5409437" swAng="5356884"/>
                          <a:lnTo>
                            <a:pt x="10800" y="10800"/>
                          </a:lnTo>
                          <a:close/>
                        </a:path>
                        <a:path fill="none" w="21600" h="21600">
                          <a:moveTo>
                            <a:pt x="10770" y="0"/>
                          </a:moveTo>
                          <a:arcTo wR="10800" hR="10800" stAng="-5409437" swAng="535688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116000" y="1418040"/>
                      <a:ext cx="1351800" cy="85680"/>
                    </a:xfrm>
                    <a:custGeom>
                      <a:avLst/>
                      <a:gdLst/>
                      <a:ahLst/>
                      <a:rect l="l" t="t" r="r" b="b"/>
                      <a:pathLst>
                        <a:path stroke="0" w="21600" h="21600">
                          <a:moveTo>
                            <a:pt x="21590" y="10341"/>
                          </a:moveTo>
                          <a:arcTo wR="10800" hR="10800" stAng="-146199" swAng="5546199"/>
                          <a:lnTo>
                            <a:pt x="10800" y="10800"/>
                          </a:lnTo>
                          <a:close/>
                        </a:path>
                        <a:path fill="none" w="21600" h="21600">
                          <a:moveTo>
                            <a:pt x="21590" y="10341"/>
                          </a:moveTo>
                          <a:arcTo wR="10800" hR="10800" stAng="-146199" swAng="5546199"/>
                        </a:path>
                      </a:pathLst>
                    </a:custGeom>
                    <a:solidFill>
                      <a:srgbClr val="dddddd"/>
                    </a:solidFill>
                    <a:ln cap="rnd"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4" name=""/>
                    <p:cNvSpPr/>
                    <p:nvPr/>
                  </p:nvSpPr>
                  <p:spPr>
                    <a:xfrm>
                      <a:off x="1322280" y="125928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22280" y="134676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66" name=""/>
                  <p:cNvGrpSpPr/>
                  <p:nvPr/>
                </p:nvGrpSpPr>
                <p:grpSpPr>
                  <a:xfrm>
                    <a:off x="2166840" y="1259280"/>
                    <a:ext cx="1424160" cy="334080"/>
                    <a:chOff x="2166840" y="1259280"/>
                    <a:chExt cx="1424160" cy="334080"/>
                  </a:xfrm>
                </p:grpSpPr>
                <p:sp>
                  <p:nvSpPr>
                    <p:cNvPr id="167" name=""/>
                    <p:cNvSpPr/>
                    <p:nvPr/>
                  </p:nvSpPr>
                  <p:spPr>
                    <a:xfrm>
                      <a:off x="2445480" y="1346760"/>
                      <a:ext cx="1073160" cy="246600"/>
                    </a:xfrm>
                    <a:custGeom>
                      <a:avLst/>
                      <a:gdLst/>
                      <a:ahLst/>
                      <a:rect l="l" t="t" r="r" b="b"/>
                      <a:pathLst>
                        <a:path stroke="0" w="21600" h="21600">
                          <a:moveTo>
                            <a:pt x="10770" y="0"/>
                          </a:moveTo>
                          <a:arcTo wR="10800" hR="10800" stAng="-5409437" swAng="5356884"/>
                          <a:lnTo>
                            <a:pt x="10800" y="10800"/>
                          </a:lnTo>
                          <a:close/>
                        </a:path>
                        <a:path fill="none" w="21600" h="21600">
                          <a:moveTo>
                            <a:pt x="10770" y="0"/>
                          </a:moveTo>
                          <a:arcTo wR="10800" hR="10800" stAng="-5409437" swAng="535688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66840" y="1418040"/>
                      <a:ext cx="1351440" cy="85680"/>
                    </a:xfrm>
                    <a:custGeom>
                      <a:avLst/>
                      <a:gdLst/>
                      <a:ahLst/>
                      <a:rect l="l" t="t" r="r" b="b"/>
                      <a:pathLst>
                        <a:path stroke="0" w="21600" h="21600">
                          <a:moveTo>
                            <a:pt x="21590" y="10340"/>
                          </a:moveTo>
                          <a:arcTo wR="10800" hR="10800" stAng="-146359" swAng="5554087"/>
                          <a:lnTo>
                            <a:pt x="10800" y="10800"/>
                          </a:lnTo>
                          <a:close/>
                        </a:path>
                        <a:path fill="none" w="21600" h="21600">
                          <a:moveTo>
                            <a:pt x="21590" y="10340"/>
                          </a:moveTo>
                          <a:arcTo wR="10800" hR="10800" stAng="-146359" swAng="5554087"/>
                        </a:path>
                      </a:pathLst>
                    </a:custGeom>
                    <a:solidFill>
                      <a:srgbClr val="dddddd"/>
                    </a:solidFill>
                    <a:ln cap="rnd"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9" name=""/>
                    <p:cNvSpPr/>
                    <p:nvPr/>
                  </p:nvSpPr>
                  <p:spPr>
                    <a:xfrm>
                      <a:off x="2373120" y="1259280"/>
                      <a:ext cx="941400" cy="24228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373120" y="134676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71" name=""/>
                  <p:cNvGrpSpPr/>
                  <p:nvPr/>
                </p:nvGrpSpPr>
                <p:grpSpPr>
                  <a:xfrm>
                    <a:off x="3215160" y="1259280"/>
                    <a:ext cx="1427760" cy="334080"/>
                    <a:chOff x="3215160" y="1259280"/>
                    <a:chExt cx="1427760" cy="334080"/>
                  </a:xfrm>
                </p:grpSpPr>
                <p:sp>
                  <p:nvSpPr>
                    <p:cNvPr id="172" name=""/>
                    <p:cNvSpPr/>
                    <p:nvPr/>
                  </p:nvSpPr>
                  <p:spPr>
                    <a:xfrm>
                      <a:off x="3496680" y="1346760"/>
                      <a:ext cx="1072440" cy="246600"/>
                    </a:xfrm>
                    <a:custGeom>
                      <a:avLst/>
                      <a:gdLst/>
                      <a:ahLst/>
                      <a:rect l="l" t="t" r="r" b="b"/>
                      <a:pathLst>
                        <a:path stroke="0" w="21600" h="21600">
                          <a:moveTo>
                            <a:pt x="10770" y="0"/>
                          </a:moveTo>
                          <a:arcTo wR="10800" hR="10800" stAng="-5409437" swAng="5356884"/>
                          <a:lnTo>
                            <a:pt x="10800" y="10800"/>
                          </a:lnTo>
                          <a:close/>
                        </a:path>
                        <a:path fill="none" w="21600" h="21600">
                          <a:moveTo>
                            <a:pt x="10770" y="0"/>
                          </a:moveTo>
                          <a:arcTo wR="10800" hR="10800" stAng="-5409437" swAng="535688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15160" y="1418040"/>
                      <a:ext cx="1352520" cy="85680"/>
                    </a:xfrm>
                    <a:custGeom>
                      <a:avLst/>
                      <a:gdLst/>
                      <a:ahLst/>
                      <a:rect l="l" t="t" r="r" b="b"/>
                      <a:pathLst>
                        <a:path stroke="0" w="21600" h="21600">
                          <a:moveTo>
                            <a:pt x="21590" y="10341"/>
                          </a:moveTo>
                          <a:arcTo wR="10800" hR="10800" stAng="-146199" swAng="5546199"/>
                          <a:lnTo>
                            <a:pt x="10800" y="10800"/>
                          </a:lnTo>
                          <a:close/>
                        </a:path>
                        <a:path fill="none" w="21600" h="21600">
                          <a:moveTo>
                            <a:pt x="21590" y="10341"/>
                          </a:moveTo>
                          <a:arcTo wR="10800" hR="10800" stAng="-146199" swAng="5546199"/>
                        </a:path>
                      </a:pathLst>
                    </a:custGeom>
                    <a:solidFill>
                      <a:srgbClr val="dddddd"/>
                    </a:solidFill>
                    <a:ln cap="rnd"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a:off x="3422160" y="125928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422160" y="134676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nvGrpSpPr>
                <p:cNvPr id="176" name=""/>
                <p:cNvGrpSpPr/>
                <p:nvPr/>
              </p:nvGrpSpPr>
              <p:grpSpPr>
                <a:xfrm>
                  <a:off x="1332360" y="1016280"/>
                  <a:ext cx="3527640" cy="332280"/>
                  <a:chOff x="1332360" y="1016280"/>
                  <a:chExt cx="3527640" cy="332280"/>
                </a:xfrm>
              </p:grpSpPr>
              <p:grpSp>
                <p:nvGrpSpPr>
                  <p:cNvPr id="177" name=""/>
                  <p:cNvGrpSpPr/>
                  <p:nvPr/>
                </p:nvGrpSpPr>
                <p:grpSpPr>
                  <a:xfrm>
                    <a:off x="1332360" y="1016280"/>
                    <a:ext cx="1427760" cy="332280"/>
                    <a:chOff x="1332360" y="1016280"/>
                    <a:chExt cx="1427760" cy="332280"/>
                  </a:xfrm>
                </p:grpSpPr>
                <p:sp>
                  <p:nvSpPr>
                    <p:cNvPr id="178" name=""/>
                    <p:cNvSpPr/>
                    <p:nvPr/>
                  </p:nvSpPr>
                  <p:spPr>
                    <a:xfrm>
                      <a:off x="1613880" y="1106280"/>
                      <a:ext cx="1072080" cy="24228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32360" y="1173240"/>
                      <a:ext cx="1352520" cy="89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80" name=""/>
                    <p:cNvSpPr/>
                    <p:nvPr/>
                  </p:nvSpPr>
                  <p:spPr>
                    <a:xfrm>
                      <a:off x="1539360" y="1016280"/>
                      <a:ext cx="941400" cy="24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39360" y="110628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82" name=""/>
                  <p:cNvGrpSpPr/>
                  <p:nvPr/>
                </p:nvGrpSpPr>
                <p:grpSpPr>
                  <a:xfrm>
                    <a:off x="2387160" y="1016280"/>
                    <a:ext cx="1420920" cy="332280"/>
                    <a:chOff x="2387160" y="1016280"/>
                    <a:chExt cx="1420920" cy="332280"/>
                  </a:xfrm>
                </p:grpSpPr>
                <p:sp>
                  <p:nvSpPr>
                    <p:cNvPr id="183" name=""/>
                    <p:cNvSpPr/>
                    <p:nvPr/>
                  </p:nvSpPr>
                  <p:spPr>
                    <a:xfrm>
                      <a:off x="2662920" y="1106280"/>
                      <a:ext cx="1072080" cy="24228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87160" y="1173240"/>
                      <a:ext cx="1347840" cy="89640"/>
                    </a:xfrm>
                    <a:custGeom>
                      <a:avLst/>
                      <a:gdLst/>
                      <a:ahLst/>
                      <a:rect l="l" t="t" r="r" b="b"/>
                      <a:pathLst>
                        <a:path stroke="0" w="21600" h="21600">
                          <a:moveTo>
                            <a:pt x="21600" y="10800"/>
                          </a:moveTo>
                          <a:arcTo wR="10800" hR="10800" stAng="0" swAng="5407563"/>
                          <a:lnTo>
                            <a:pt x="10800" y="10800"/>
                          </a:lnTo>
                          <a:close/>
                        </a:path>
                        <a:path fill="none" w="21600" h="21600">
                          <a:moveTo>
                            <a:pt x="21600" y="10800"/>
                          </a:moveTo>
                          <a:arcTo wR="10800" hR="10800" stAng="0" swAng="5407563"/>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85" name=""/>
                    <p:cNvSpPr/>
                    <p:nvPr/>
                  </p:nvSpPr>
                  <p:spPr>
                    <a:xfrm>
                      <a:off x="2590200" y="1016280"/>
                      <a:ext cx="940680" cy="24660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0200" y="110628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87" name=""/>
                  <p:cNvGrpSpPr/>
                  <p:nvPr/>
                </p:nvGrpSpPr>
                <p:grpSpPr>
                  <a:xfrm>
                    <a:off x="3432240" y="1016280"/>
                    <a:ext cx="1427760" cy="332280"/>
                    <a:chOff x="3432240" y="1016280"/>
                    <a:chExt cx="1427760" cy="332280"/>
                  </a:xfrm>
                </p:grpSpPr>
                <p:sp>
                  <p:nvSpPr>
                    <p:cNvPr id="188" name=""/>
                    <p:cNvSpPr/>
                    <p:nvPr/>
                  </p:nvSpPr>
                  <p:spPr>
                    <a:xfrm>
                      <a:off x="3713760" y="1106280"/>
                      <a:ext cx="1072080" cy="24228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432240" y="1173240"/>
                      <a:ext cx="1352520" cy="89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90" name=""/>
                    <p:cNvSpPr/>
                    <p:nvPr/>
                  </p:nvSpPr>
                  <p:spPr>
                    <a:xfrm>
                      <a:off x="3639240" y="1016280"/>
                      <a:ext cx="941400" cy="24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639240" y="110628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nvGrpSpPr>
                <p:cNvPr id="192" name=""/>
                <p:cNvGrpSpPr/>
                <p:nvPr/>
              </p:nvGrpSpPr>
              <p:grpSpPr>
                <a:xfrm>
                  <a:off x="1007640" y="847440"/>
                  <a:ext cx="3524040" cy="328680"/>
                  <a:chOff x="1007640" y="847440"/>
                  <a:chExt cx="3524040" cy="328680"/>
                </a:xfrm>
              </p:grpSpPr>
              <p:grpSp>
                <p:nvGrpSpPr>
                  <p:cNvPr id="193" name=""/>
                  <p:cNvGrpSpPr/>
                  <p:nvPr/>
                </p:nvGrpSpPr>
                <p:grpSpPr>
                  <a:xfrm>
                    <a:off x="1007640" y="847440"/>
                    <a:ext cx="1424160" cy="328680"/>
                    <a:chOff x="1007640" y="847440"/>
                    <a:chExt cx="1424160" cy="328680"/>
                  </a:xfrm>
                </p:grpSpPr>
                <p:sp>
                  <p:nvSpPr>
                    <p:cNvPr id="194" name=""/>
                    <p:cNvSpPr/>
                    <p:nvPr/>
                  </p:nvSpPr>
                  <p:spPr>
                    <a:xfrm>
                      <a:off x="1288440" y="933120"/>
                      <a:ext cx="1072080" cy="24300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007640" y="1001160"/>
                      <a:ext cx="1351800" cy="88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 name=""/>
                    <p:cNvSpPr/>
                    <p:nvPr/>
                  </p:nvSpPr>
                  <p:spPr>
                    <a:xfrm>
                      <a:off x="1213920" y="84744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213920" y="93312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98" name=""/>
                  <p:cNvGrpSpPr/>
                  <p:nvPr/>
                </p:nvGrpSpPr>
                <p:grpSpPr>
                  <a:xfrm>
                    <a:off x="2056680" y="847440"/>
                    <a:ext cx="1425960" cy="328680"/>
                    <a:chOff x="2056680" y="847440"/>
                    <a:chExt cx="1425960" cy="328680"/>
                  </a:xfrm>
                </p:grpSpPr>
                <p:sp>
                  <p:nvSpPr>
                    <p:cNvPr id="199" name=""/>
                    <p:cNvSpPr/>
                    <p:nvPr/>
                  </p:nvSpPr>
                  <p:spPr>
                    <a:xfrm>
                      <a:off x="2337120" y="933120"/>
                      <a:ext cx="1072800" cy="24300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56680" y="1001160"/>
                      <a:ext cx="1351800" cy="88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1" name=""/>
                    <p:cNvSpPr/>
                    <p:nvPr/>
                  </p:nvSpPr>
                  <p:spPr>
                    <a:xfrm>
                      <a:off x="2264760" y="847440"/>
                      <a:ext cx="941400" cy="24228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64760" y="93312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203" name=""/>
                  <p:cNvGrpSpPr/>
                  <p:nvPr/>
                </p:nvGrpSpPr>
                <p:grpSpPr>
                  <a:xfrm>
                    <a:off x="3107520" y="847440"/>
                    <a:ext cx="1424160" cy="328680"/>
                    <a:chOff x="3107520" y="847440"/>
                    <a:chExt cx="1424160" cy="328680"/>
                  </a:xfrm>
                </p:grpSpPr>
                <p:sp>
                  <p:nvSpPr>
                    <p:cNvPr id="204" name=""/>
                    <p:cNvSpPr/>
                    <p:nvPr/>
                  </p:nvSpPr>
                  <p:spPr>
                    <a:xfrm>
                      <a:off x="3388320" y="933120"/>
                      <a:ext cx="1072080" cy="24300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07520" y="1001160"/>
                      <a:ext cx="1351800" cy="88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6" name=""/>
                    <p:cNvSpPr/>
                    <p:nvPr/>
                  </p:nvSpPr>
                  <p:spPr>
                    <a:xfrm>
                      <a:off x="3313800" y="84744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13800" y="93312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grpSp>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dermal replacement</a:t>
            </a:r>
            <a:endParaRPr b="1" lang="en-US" sz="3200" spc="-1" strike="noStrike">
              <a:solidFill>
                <a:srgbClr val="fafd00"/>
              </a:solidFill>
              <a:latin typeface="Arial"/>
            </a:endParaRPr>
          </a:p>
        </p:txBody>
      </p:sp>
      <p:sp>
        <p:nvSpPr>
          <p:cNvPr id="209" name="PlaceHolder 2"/>
          <p:cNvSpPr>
            <a:spLocks noGrp="1"/>
          </p:cNvSpPr>
          <p:nvPr>
            <p:ph/>
          </p:nvPr>
        </p:nvSpPr>
        <p:spPr>
          <a:xfrm>
            <a:off x="1218960" y="3962160"/>
            <a:ext cx="7848360" cy="22064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al cells divide in the basal lay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hen migrate through the next two lay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hat reach the outer layer (S. corneum) harden and act as a protective barrier</a:t>
            </a:r>
            <a:endParaRPr b="1" lang="en-US" sz="2400" spc="-1" strike="noStrike">
              <a:solidFill>
                <a:srgbClr val="ffffff"/>
              </a:solidFill>
              <a:latin typeface="Arial"/>
            </a:endParaRPr>
          </a:p>
        </p:txBody>
      </p:sp>
      <p:sp>
        <p:nvSpPr>
          <p:cNvPr id="210"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11" name=""/>
          <p:cNvGrpSpPr/>
          <p:nvPr/>
        </p:nvGrpSpPr>
        <p:grpSpPr>
          <a:xfrm>
            <a:off x="1143000" y="380880"/>
            <a:ext cx="8001000" cy="5943600"/>
            <a:chOff x="1143000" y="380880"/>
            <a:chExt cx="8001000" cy="5943600"/>
          </a:xfrm>
        </p:grpSpPr>
        <p:pic>
          <p:nvPicPr>
            <p:cNvPr id="212" name="" descr=""/>
            <p:cNvPicPr/>
            <p:nvPr/>
          </p:nvPicPr>
          <p:blipFill>
            <a:blip r:embed="rId1">
              <a:lum contrast="12000"/>
            </a:blip>
            <a:srcRect l="21102" t="-133" r="0" b="23452"/>
            <a:stretch/>
          </p:blipFill>
          <p:spPr>
            <a:xfrm>
              <a:off x="1143000" y="380880"/>
              <a:ext cx="8001000" cy="5943600"/>
            </a:xfrm>
            <a:prstGeom prst="rect">
              <a:avLst/>
            </a:prstGeom>
            <a:ln w="0">
              <a:noFill/>
            </a:ln>
          </p:spPr>
        </p:pic>
        <p:sp>
          <p:nvSpPr>
            <p:cNvPr id="213" name=""/>
            <p:cNvSpPr/>
            <p:nvPr/>
          </p:nvSpPr>
          <p:spPr>
            <a:xfrm>
              <a:off x="6844320" y="2371680"/>
              <a:ext cx="138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Dermis</a:t>
              </a:r>
              <a:endParaRPr b="0" lang="en-US" sz="2800" spc="-1" strike="noStrike">
                <a:solidFill>
                  <a:srgbClr val="000000"/>
                </a:solidFill>
                <a:latin typeface="Times New Roman"/>
              </a:endParaRPr>
            </a:p>
          </p:txBody>
        </p:sp>
        <p:sp>
          <p:nvSpPr>
            <p:cNvPr id="214" name=""/>
            <p:cNvSpPr/>
            <p:nvPr/>
          </p:nvSpPr>
          <p:spPr>
            <a:xfrm flipH="1">
              <a:off x="3439440" y="1218960"/>
              <a:ext cx="962640" cy="6098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772880" y="1218960"/>
              <a:ext cx="592200" cy="12193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109040" y="761760"/>
              <a:ext cx="1898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Epidermis</a:t>
              </a:r>
              <a:endParaRPr b="0" lang="en-US" sz="2800" spc="-1" strike="noStrike">
                <a:solidFill>
                  <a:srgbClr val="000000"/>
                </a:solidFill>
                <a:latin typeface="Times New Roman"/>
              </a:endParaRPr>
            </a:p>
          </p:txBody>
        </p:sp>
        <p:sp>
          <p:nvSpPr>
            <p:cNvPr id="217" name=""/>
            <p:cNvSpPr/>
            <p:nvPr/>
          </p:nvSpPr>
          <p:spPr>
            <a:xfrm>
              <a:off x="5666760" y="4419360"/>
              <a:ext cx="23904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Upper regio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of follicle</a:t>
              </a:r>
              <a:endParaRPr b="0" lang="en-US" sz="2800" spc="-1" strike="noStrike">
                <a:solidFill>
                  <a:srgbClr val="000000"/>
                </a:solidFill>
                <a:latin typeface="Times New Roman"/>
              </a:endParaRPr>
            </a:p>
          </p:txBody>
        </p:sp>
        <p:sp>
          <p:nvSpPr>
            <p:cNvPr id="218" name=""/>
            <p:cNvSpPr/>
            <p:nvPr/>
          </p:nvSpPr>
          <p:spPr>
            <a:xfrm flipH="1" flipV="1">
              <a:off x="4328640" y="4495320"/>
              <a:ext cx="1259280" cy="2286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55:52Z</dcterms:created>
  <dc:creator>USER</dc:creator>
  <dc:description/>
  <dc:language>en-US</dc:language>
  <cp:lastModifiedBy>Hdaily</cp:lastModifiedBy>
  <cp:lastPrinted>2000-02-03T09:09:47Z</cp:lastPrinted>
  <dcterms:modified xsi:type="dcterms:W3CDTF">2000-05-24T03:39:42Z</dcterms:modified>
  <cp:revision>2</cp:revision>
  <dc:subject/>
  <dc:title>Epidermis</dc:title>
</cp:coreProperties>
</file>