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6484-BB4B-4390-9A37-147BD05BE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7C6B-FA15-4A69-BC8B-DC69AEAE6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effect of skin traits on wool production and quality, describes how knowledge about skin traits and genetics can be used to improve wool production and gives the example of how DNA testing can be used to identify superior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64CD-7402-43D0-91EC-07AB3B960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ingle factor determines differences in wool production between sheep of different genotypes (see module “Whole Body Differences that affect Wool Production”) and there is an additive effect of a number of follicle characteristics and the supporting physiology of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need to understand more about gene control, nutrient uptak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06E5-61E2-47B0-8BDF-2F1BC76FB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DFA7-6CFE-483B-8B4B-247D8122F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rovements in Wool Production Using Skin Trait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08000" y="476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609480" y="1981080"/>
            <a:ext cx="7696440" cy="4724640"/>
          </a:xfrm>
          <a:prstGeom prst="rect">
            <a:avLst/>
          </a:prstGeom>
          <a:noFill/>
          <a:ln w="0">
            <a:noFill/>
          </a:ln>
        </p:spPr>
        <p:style>
          <a:lnRef idx="0"/>
          <a:fillRef idx="0"/>
          <a:effectRef idx="0"/>
          <a:fontRef idx="minor"/>
        </p:style>
        <p:txBody>
          <a:bodyPr lIns="93600" rIns="93600" tIns="46080" bIns="46080" anchor="t">
            <a:noAutofit/>
          </a:bodyPr>
          <a:p>
            <a:pPr marL="289080" indent="-289080">
              <a:lnSpc>
                <a:spcPct val="90000"/>
              </a:lnSpc>
              <a:spcBef>
                <a:spcPts val="1049"/>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effect of skin traits on wool production and quality</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ingle factor determines differences in wool production between sheep of different genotypes (phenotypes), rather it is an additive effect of a number of follicle characteristics (particularly the germinative volume of the skin) and the supporting physiology of the ski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still a lot of areas to be examined before we can really understand what is happening (e.g. gene control, nutrient uptake).</a:t>
            </a:r>
            <a:endParaRPr b="1" lang="en-US" sz="2400" spc="-1" strike="noStrike">
              <a:solidFill>
                <a:srgbClr val="ffffff"/>
              </a:solidFill>
              <a:latin typeface="Arial"/>
            </a:endParaRPr>
          </a:p>
        </p:txBody>
      </p:sp>
      <p:sp>
        <p:nvSpPr>
          <p:cNvPr id="53"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ventional breeding         slow</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technologies          fas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follicle biology         tools to aid selec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new selection criteri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accurate breeding valu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technologies</a:t>
            </a:r>
            <a:endParaRPr b="1" lang="en-US" sz="2800" spc="-1" strike="noStrike">
              <a:solidFill>
                <a:srgbClr val="ffffff"/>
              </a:solidFill>
              <a:latin typeface="Arial"/>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15000" y="1828800"/>
            <a:ext cx="609480" cy="228600"/>
          </a:xfrm>
          <a:prstGeom prst="rightArrow">
            <a:avLst>
              <a:gd name="adj1" fmla="val 50000"/>
              <a:gd name="adj2" fmla="val 6665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57800" y="2819520"/>
            <a:ext cx="609480" cy="228600"/>
          </a:xfrm>
          <a:prstGeom prst="rightArrow">
            <a:avLst>
              <a:gd name="adj1" fmla="val 50000"/>
              <a:gd name="adj2" fmla="val 6665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2362320"/>
            <a:ext cx="609840" cy="228600"/>
          </a:xfrm>
          <a:prstGeom prst="rightArrow">
            <a:avLst>
              <a:gd name="adj1" fmla="val 50000"/>
              <a:gd name="adj2" fmla="val 6669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can follicle biology contribute to improving sheep?</a:t>
            </a:r>
            <a:endParaRPr b="1" lang="en-US" sz="3200" spc="-1" strike="noStrike">
              <a:solidFill>
                <a:srgbClr val="fafd00"/>
              </a:solidFill>
              <a:latin typeface="Arial"/>
            </a:endParaRPr>
          </a:p>
        </p:txBody>
      </p:sp>
      <p:sp>
        <p:nvSpPr>
          <p:cNvPr id="61"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NA tests for genotype</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7 pairs of chromoso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inherited from each par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tests for variations in the genetic cod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mple taken (blood usual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NA purified from the cell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gment of interest amplified by PC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parated by electrophoresis and analysed</a:t>
            </a:r>
            <a:endParaRPr b="1" lang="en-US" sz="2000" spc="-1" strike="noStrike">
              <a:solidFill>
                <a:srgbClr val="ffffff"/>
              </a:solidFill>
              <a:latin typeface="Arial"/>
            </a:endParaRPr>
          </a:p>
        </p:txBody>
      </p:sp>
      <p:sp>
        <p:nvSpPr>
          <p:cNvPr id="66"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35:24Z</dcterms:created>
  <dc:creator>USER</dc:creator>
  <dc:description/>
  <dc:language>en-US</dc:language>
  <cp:lastModifiedBy>Hdaily</cp:lastModifiedBy>
  <cp:lastPrinted>2000-02-03T09:09:47Z</cp:lastPrinted>
  <dcterms:modified xsi:type="dcterms:W3CDTF">2000-06-09T04:34:14Z</dcterms:modified>
  <cp:revision>2</cp:revision>
  <dc:subject/>
  <dc:title>Improvements in Wool Production Using Skin Traits</dc:title>
</cp:coreProperties>
</file>