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3DB3-1CB2-4CF6-AB5E-E6CD9FCF7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ess can be induced by animal-animal, animal-human interactions or in response to an immune reaction, for example in response to flystrike. The response to stress can either be short or long term. This module describes the role and location of ACTH in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H is released from the pituitary gland in response to ACTH releasing hormone that is produced by the hypothalamus.  ACTH acts on the adrenal cortex and stimulates the release of glucocorticoi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corticoids are steroids that stimulate the formation of glucose from protein and fat and inhibit the uptake of most cells except the heart and brain.  Cortisol is one of the most well known glucocorticoids and is involved in the long-term adaptation to stres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MC is a peptide that is present in the skin.  POMC is cleaved to give ACTH, beta-endorphin and alpha-MSH.  These are secreted in response to stress, provide analgesia and regulate skin pigmentation,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a-endorphin and alpha-MSH have been localised in the epidermis, pilary canal, sebaceous gland and outer root sheath (ORS).  The peptides in the ORS may be involved in regulating cell division or keratinisation, whereas those in the sebaceous gland and pilary canal are likely to be secreted and act as an external defence mechan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sence of the precursor of ACTH in the skin may indicate that the skin has its own stress ax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  Behrendt, R. </a:t>
            </a:r>
            <a:r>
              <a:rPr b="0" i="1" lang="en-AU" sz="1200" spc="-1" strike="noStrike">
                <a:solidFill>
                  <a:srgbClr val="000000"/>
                </a:solidFill>
                <a:latin typeface="Times New Roman"/>
              </a:rPr>
              <a:t>et al</a:t>
            </a:r>
            <a:r>
              <a:rPr b="0" lang="en-AU" sz="1200" spc="-1" strike="noStrike">
                <a:solidFill>
                  <a:srgbClr val="000000"/>
                </a:solidFill>
                <a:latin typeface="Times New Roman"/>
              </a:rPr>
              <a:t>., (1994).  Proc. Aust. Soc. Anim. Prod.  20:454.</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ess Hormones </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H (adrenocorticotrophic hormon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imulates release of steroids from adrenal cortex</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cocorticoid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fect interleukins (immune system)</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ct on adrenal axis to modulate action</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ordinates a stress respons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rtisol</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ng term adaptation to stres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H in the Skin</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MC (proopiomelanocort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41 amino aci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eaves to give ACTH</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ta-endorphin (analgesia)</a:t>
            </a:r>
            <a:endParaRPr b="1" lang="en-US" sz="2000" spc="-1" strike="noStrike">
              <a:solidFill>
                <a:srgbClr val="ffffff"/>
              </a:solidFill>
              <a:latin typeface="Arial"/>
            </a:endParaRPr>
          </a:p>
          <a:p>
            <a:pPr lvl="2" marL="1143000" indent="-228600">
              <a:lnSpc>
                <a:spcPct val="100000"/>
              </a:lnSpc>
              <a:spcBef>
                <a:spcPts val="499"/>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melanocyte stimulating hormone (</a:t>
            </a:r>
            <a:r>
              <a:rPr b="1" lang="en-AU" sz="2000" spc="-1" strike="noStrike">
                <a:solidFill>
                  <a:srgbClr val="ffffff"/>
                </a:solidFill>
                <a:latin typeface="Symbol"/>
                <a:ea typeface="Symbol"/>
              </a:rPr>
              <a:t></a:t>
            </a:r>
            <a:r>
              <a:rPr b="1" lang="en-AU" sz="2000" spc="-1" strike="noStrike">
                <a:solidFill>
                  <a:srgbClr val="ffffff"/>
                </a:solidFill>
                <a:latin typeface="Arial"/>
              </a:rPr>
              <a:t>-MSH)</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sent in ORS, epidermis, pilary canal and sebaceous gla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ole in immunity or wound heal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has own stress axis?</a:t>
            </a:r>
            <a:endParaRPr b="1"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s plus ß-endorphin</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ß-endorphins stimulate cells around dermal papilla to divide excessivel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y trigger release of growth factors to cause hypertroph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duces direct response in follicle</a:t>
            </a:r>
            <a:endParaRPr b="1" lang="en-US" sz="2400" spc="-1" strike="noStrike">
              <a:solidFill>
                <a:srgbClr val="ffffff"/>
              </a:solidFill>
              <a:latin typeface="Arial"/>
            </a:endParaRPr>
          </a:p>
        </p:txBody>
      </p:sp>
      <p:sp>
        <p:nvSpPr>
          <p:cNvPr id="57"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26:41Z</dcterms:created>
  <dc:creator>Wes Osborne</dc:creator>
  <dc:description/>
  <dc:language>en-US</dc:language>
  <cp:lastModifiedBy>Hdaily</cp:lastModifiedBy>
  <cp:lastPrinted>2000-02-03T09:09:47Z</cp:lastPrinted>
  <dcterms:modified xsi:type="dcterms:W3CDTF">2000-05-12T04:48:05Z</dcterms:modified>
  <cp:revision>2</cp:revision>
  <dc:subject/>
  <dc:title>Stress Hormones </dc:title>
</cp:coreProperties>
</file>