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8DA6-5C2B-49C0-B4EA-0BF2DD4F7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hormones or amino acids  can be used to manipulate wool growth in pregnant and growing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pregnant, lactating and growing sheep, there is a redistribution of nutrients away from wool growth to the fetus, milk production or muscl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feed supplementation has little effect on staple strength or the costs of supplementation to achieve the desired increase in wool production outweigh the income generated from the wool production. See Oldham et al. (1998) Anim. Prod. Aust. 22, 115-118. The choice and time of supplementation had a critical effect on the staple strength outcomes of supplementation. Wool growth increase achieved with supplements to improve staple strength are usually too small to be measured as significant changes in clean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ay be possible to select hormones that are able to redistribute nutrients back to the follicle and hence improve wool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69ED-A005-4199-8FA0-37FDF720E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A.C. &amp; Dollin, A.E. (1995)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43: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depression in wool production associated with pregnancy and lactation is due to follicle shutdown.  This graph shows that in pregnant and lactating ewes, the ewes that had low staple strength also had a high proportion of shed fibres.  Thus changes in staple strength due to pregnancy and lactation maybe related to the proportion of follicles that shutdown.  This, in turn, may be related to nutrient partitioning away from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methionine is offered as a supplement during pregnancy and lactation, there is a decrease in the proportion of fibres that are shed however staple strength remains unchanged. The provision of an essential amino acid mixture without methionine increased the incidence of shed fibres in fleeces.  This suggests that methionine also plays a role in maintenance of follicle function independent of its effects on stimulating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n Hormones or Methionine Improve Wool Production of Pregnant and Growing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gnant and growing sheep</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demand for amino acids for fetus and tissue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ementation is often uneconomic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s may be used for redistribution of nutrients to the follic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4440" y="1442880"/>
            <a:ext cx="7923240" cy="4425480"/>
            <a:chOff x="1144440" y="1442880"/>
            <a:chExt cx="7923240" cy="4425480"/>
          </a:xfrm>
        </p:grpSpPr>
        <p:grpSp>
          <p:nvGrpSpPr>
            <p:cNvPr id="53" name=""/>
            <p:cNvGrpSpPr/>
            <p:nvPr/>
          </p:nvGrpSpPr>
          <p:grpSpPr>
            <a:xfrm>
              <a:off x="1144440" y="1442880"/>
              <a:ext cx="5572080" cy="4425480"/>
              <a:chOff x="1144440" y="1442880"/>
              <a:chExt cx="5572080" cy="4425480"/>
            </a:xfrm>
          </p:grpSpPr>
          <p:sp>
            <p:nvSpPr>
              <p:cNvPr id="54" name=""/>
              <p:cNvSpPr/>
              <p:nvPr/>
            </p:nvSpPr>
            <p:spPr>
              <a:xfrm>
                <a:off x="1913760" y="4952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55" name=""/>
              <p:cNvSpPr/>
              <p:nvPr/>
            </p:nvSpPr>
            <p:spPr>
              <a:xfrm>
                <a:off x="26154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56" name=""/>
              <p:cNvSpPr/>
              <p:nvPr/>
            </p:nvSpPr>
            <p:spPr>
              <a:xfrm>
                <a:off x="338652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57" name=""/>
              <p:cNvSpPr/>
              <p:nvPr/>
            </p:nvSpPr>
            <p:spPr>
              <a:xfrm>
                <a:off x="415836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58" name=""/>
              <p:cNvSpPr/>
              <p:nvPr/>
            </p:nvSpPr>
            <p:spPr>
              <a:xfrm>
                <a:off x="485856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59" name=""/>
              <p:cNvSpPr/>
              <p:nvPr/>
            </p:nvSpPr>
            <p:spPr>
              <a:xfrm flipV="1">
                <a:off x="20750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 name=""/>
              <p:cNvSpPr/>
              <p:nvPr/>
            </p:nvSpPr>
            <p:spPr>
              <a:xfrm flipV="1">
                <a:off x="245196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1" name=""/>
              <p:cNvSpPr/>
              <p:nvPr/>
            </p:nvSpPr>
            <p:spPr>
              <a:xfrm flipV="1">
                <a:off x="282888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 name=""/>
              <p:cNvSpPr/>
              <p:nvPr/>
            </p:nvSpPr>
            <p:spPr>
              <a:xfrm flipV="1">
                <a:off x="320724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3" name=""/>
              <p:cNvSpPr/>
              <p:nvPr/>
            </p:nvSpPr>
            <p:spPr>
              <a:xfrm flipV="1">
                <a:off x="358452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flipV="1">
                <a:off x="396108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flipV="1">
                <a:off x="43394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 name=""/>
              <p:cNvSpPr/>
              <p:nvPr/>
            </p:nvSpPr>
            <p:spPr>
              <a:xfrm flipV="1">
                <a:off x="471636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flipV="1">
                <a:off x="50936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 name=""/>
              <p:cNvSpPr/>
              <p:nvPr/>
            </p:nvSpPr>
            <p:spPr>
              <a:xfrm>
                <a:off x="2075040" y="4888080"/>
                <a:ext cx="301824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31120" y="48880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53080" y="46656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31120" y="444672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3080" y="422424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31120" y="400356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53080" y="37828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31120" y="3562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3080" y="33400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31120" y="31194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3080" y="28987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31120" y="26766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53080" y="245736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31120" y="22352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53080" y="20160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31120" y="17938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2075040" y="1793520"/>
                <a:ext cx="0" cy="30942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69280" y="4697280"/>
                <a:ext cx="40680" cy="55800"/>
              </a:xfrm>
              <a:prstGeom prst="rect">
                <a:avLst/>
              </a:prstGeom>
              <a:solidFill>
                <a:srgbClr val="ccffcc"/>
              </a:solidFill>
              <a:ln w="38160">
                <a:solidFill>
                  <a:srgbClr val="ccffcc"/>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6" name=""/>
              <p:cNvSpPr/>
              <p:nvPr/>
            </p:nvSpPr>
            <p:spPr>
              <a:xfrm>
                <a:off x="3260160" y="432432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 name=""/>
              <p:cNvSpPr/>
              <p:nvPr/>
            </p:nvSpPr>
            <p:spPr>
              <a:xfrm>
                <a:off x="3335760" y="4264200"/>
                <a:ext cx="4068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8" name=""/>
              <p:cNvSpPr/>
              <p:nvPr/>
            </p:nvSpPr>
            <p:spPr>
              <a:xfrm>
                <a:off x="3713040" y="4170240"/>
                <a:ext cx="39240" cy="59040"/>
              </a:xfrm>
              <a:prstGeom prst="rect">
                <a:avLst/>
              </a:prstGeom>
              <a:solidFill>
                <a:srgbClr val="ccffcc"/>
              </a:solidFill>
              <a:ln w="12600">
                <a:solidFill>
                  <a:srgbClr val="ccff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9" name=""/>
              <p:cNvSpPr/>
              <p:nvPr/>
            </p:nvSpPr>
            <p:spPr>
              <a:xfrm>
                <a:off x="2595240" y="406872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0" name=""/>
              <p:cNvSpPr/>
              <p:nvPr/>
            </p:nvSpPr>
            <p:spPr>
              <a:xfrm>
                <a:off x="2730960" y="3900600"/>
                <a:ext cx="3924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 name=""/>
              <p:cNvSpPr/>
              <p:nvPr/>
            </p:nvSpPr>
            <p:spPr>
              <a:xfrm>
                <a:off x="2580480" y="359100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2997000" y="353844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3" name=""/>
              <p:cNvSpPr/>
              <p:nvPr/>
            </p:nvSpPr>
            <p:spPr>
              <a:xfrm>
                <a:off x="2354040" y="3278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4" name=""/>
              <p:cNvSpPr/>
              <p:nvPr/>
            </p:nvSpPr>
            <p:spPr>
              <a:xfrm>
                <a:off x="2279520" y="3259080"/>
                <a:ext cx="374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5" name=""/>
              <p:cNvSpPr/>
              <p:nvPr/>
            </p:nvSpPr>
            <p:spPr>
              <a:xfrm>
                <a:off x="2279520" y="3095640"/>
                <a:ext cx="374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6" name=""/>
              <p:cNvSpPr/>
              <p:nvPr/>
            </p:nvSpPr>
            <p:spPr>
              <a:xfrm>
                <a:off x="2354040" y="304308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7" name=""/>
              <p:cNvSpPr/>
              <p:nvPr/>
            </p:nvSpPr>
            <p:spPr>
              <a:xfrm>
                <a:off x="2279520" y="2971800"/>
                <a:ext cx="374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2203560" y="2679840"/>
                <a:ext cx="3960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2203560" y="2619360"/>
                <a:ext cx="39600" cy="55440"/>
              </a:xfrm>
              <a:prstGeom prst="rect">
                <a:avLst/>
              </a:prstGeom>
              <a:solidFill>
                <a:srgbClr val="ccffcc"/>
              </a:solidFill>
              <a:ln w="12600">
                <a:solidFill>
                  <a:srgbClr val="ccffcc"/>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2127600" y="2535120"/>
                <a:ext cx="39240" cy="57240"/>
              </a:xfrm>
              <a:prstGeom prst="rect">
                <a:avLst/>
              </a:prstGeom>
              <a:solidFill>
                <a:srgbClr val="ccffcc"/>
              </a:solidFill>
              <a:ln w="3816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1" name=""/>
              <p:cNvSpPr/>
              <p:nvPr/>
            </p:nvSpPr>
            <p:spPr>
              <a:xfrm>
                <a:off x="2151000" y="2568600"/>
                <a:ext cx="2640960" cy="1927080"/>
              </a:xfrm>
              <a:custGeom>
                <a:avLst/>
                <a:gdLst/>
                <a:ahLst/>
                <a:rect l="l" t="t" r="r" b="b"/>
                <a:pathLst>
                  <a:path w="3883" h="1656">
                    <a:moveTo>
                      <a:pt x="0" y="0"/>
                    </a:moveTo>
                    <a:lnTo>
                      <a:pt x="40" y="79"/>
                    </a:lnTo>
                    <a:lnTo>
                      <a:pt x="79" y="152"/>
                    </a:lnTo>
                    <a:lnTo>
                      <a:pt x="116" y="223"/>
                    </a:lnTo>
                    <a:lnTo>
                      <a:pt x="156" y="290"/>
                    </a:lnTo>
                    <a:lnTo>
                      <a:pt x="196" y="354"/>
                    </a:lnTo>
                    <a:lnTo>
                      <a:pt x="235" y="416"/>
                    </a:lnTo>
                    <a:lnTo>
                      <a:pt x="275" y="474"/>
                    </a:lnTo>
                    <a:lnTo>
                      <a:pt x="315" y="530"/>
                    </a:lnTo>
                    <a:lnTo>
                      <a:pt x="352" y="582"/>
                    </a:lnTo>
                    <a:lnTo>
                      <a:pt x="392" y="632"/>
                    </a:lnTo>
                    <a:lnTo>
                      <a:pt x="431" y="681"/>
                    </a:lnTo>
                    <a:lnTo>
                      <a:pt x="471" y="727"/>
                    </a:lnTo>
                    <a:lnTo>
                      <a:pt x="511" y="771"/>
                    </a:lnTo>
                    <a:lnTo>
                      <a:pt x="550" y="813"/>
                    </a:lnTo>
                    <a:lnTo>
                      <a:pt x="587" y="852"/>
                    </a:lnTo>
                    <a:lnTo>
                      <a:pt x="627" y="891"/>
                    </a:lnTo>
                    <a:lnTo>
                      <a:pt x="667" y="927"/>
                    </a:lnTo>
                    <a:lnTo>
                      <a:pt x="706" y="961"/>
                    </a:lnTo>
                    <a:lnTo>
                      <a:pt x="746" y="994"/>
                    </a:lnTo>
                    <a:lnTo>
                      <a:pt x="785" y="1026"/>
                    </a:lnTo>
                    <a:lnTo>
                      <a:pt x="823" y="1056"/>
                    </a:lnTo>
                    <a:lnTo>
                      <a:pt x="862" y="1085"/>
                    </a:lnTo>
                    <a:lnTo>
                      <a:pt x="902" y="1111"/>
                    </a:lnTo>
                    <a:lnTo>
                      <a:pt x="942" y="1137"/>
                    </a:lnTo>
                    <a:lnTo>
                      <a:pt x="980" y="1162"/>
                    </a:lnTo>
                    <a:lnTo>
                      <a:pt x="1020" y="1186"/>
                    </a:lnTo>
                    <a:lnTo>
                      <a:pt x="1058" y="1209"/>
                    </a:lnTo>
                    <a:lnTo>
                      <a:pt x="1098" y="1230"/>
                    </a:lnTo>
                    <a:lnTo>
                      <a:pt x="1138" y="1249"/>
                    </a:lnTo>
                    <a:lnTo>
                      <a:pt x="1177" y="1269"/>
                    </a:lnTo>
                    <a:lnTo>
                      <a:pt x="1216" y="1289"/>
                    </a:lnTo>
                    <a:lnTo>
                      <a:pt x="1256" y="1306"/>
                    </a:lnTo>
                    <a:lnTo>
                      <a:pt x="1294" y="1323"/>
                    </a:lnTo>
                    <a:lnTo>
                      <a:pt x="1333" y="1339"/>
                    </a:lnTo>
                    <a:lnTo>
                      <a:pt x="1373" y="1354"/>
                    </a:lnTo>
                    <a:lnTo>
                      <a:pt x="1413" y="1368"/>
                    </a:lnTo>
                    <a:lnTo>
                      <a:pt x="1451" y="1383"/>
                    </a:lnTo>
                    <a:lnTo>
                      <a:pt x="1491" y="1396"/>
                    </a:lnTo>
                    <a:lnTo>
                      <a:pt x="1529" y="1409"/>
                    </a:lnTo>
                    <a:lnTo>
                      <a:pt x="1569" y="1420"/>
                    </a:lnTo>
                    <a:lnTo>
                      <a:pt x="1608" y="1432"/>
                    </a:lnTo>
                    <a:lnTo>
                      <a:pt x="1647" y="1443"/>
                    </a:lnTo>
                    <a:lnTo>
                      <a:pt x="1687" y="1455"/>
                    </a:lnTo>
                    <a:lnTo>
                      <a:pt x="1726" y="1464"/>
                    </a:lnTo>
                    <a:lnTo>
                      <a:pt x="1764" y="1474"/>
                    </a:lnTo>
                    <a:lnTo>
                      <a:pt x="1804" y="1482"/>
                    </a:lnTo>
                    <a:lnTo>
                      <a:pt x="1844" y="1492"/>
                    </a:lnTo>
                    <a:lnTo>
                      <a:pt x="1882" y="1500"/>
                    </a:lnTo>
                    <a:lnTo>
                      <a:pt x="1922" y="1508"/>
                    </a:lnTo>
                    <a:lnTo>
                      <a:pt x="1962" y="1515"/>
                    </a:lnTo>
                    <a:lnTo>
                      <a:pt x="2000" y="1523"/>
                    </a:lnTo>
                    <a:lnTo>
                      <a:pt x="2040" y="1530"/>
                    </a:lnTo>
                    <a:lnTo>
                      <a:pt x="2078" y="1536"/>
                    </a:lnTo>
                    <a:lnTo>
                      <a:pt x="2118" y="1543"/>
                    </a:lnTo>
                    <a:lnTo>
                      <a:pt x="2158" y="1547"/>
                    </a:lnTo>
                    <a:lnTo>
                      <a:pt x="2197" y="1554"/>
                    </a:lnTo>
                    <a:lnTo>
                      <a:pt x="2235" y="1559"/>
                    </a:lnTo>
                    <a:lnTo>
                      <a:pt x="2274" y="1564"/>
                    </a:lnTo>
                    <a:lnTo>
                      <a:pt x="2314" y="1569"/>
                    </a:lnTo>
                    <a:lnTo>
                      <a:pt x="2353" y="1574"/>
                    </a:lnTo>
                    <a:lnTo>
                      <a:pt x="2393" y="1578"/>
                    </a:lnTo>
                    <a:lnTo>
                      <a:pt x="2433" y="1582"/>
                    </a:lnTo>
                    <a:lnTo>
                      <a:pt x="2471" y="1587"/>
                    </a:lnTo>
                    <a:lnTo>
                      <a:pt x="2509" y="1590"/>
                    </a:lnTo>
                    <a:lnTo>
                      <a:pt x="2549" y="1593"/>
                    </a:lnTo>
                    <a:lnTo>
                      <a:pt x="2589" y="1598"/>
                    </a:lnTo>
                    <a:lnTo>
                      <a:pt x="2628" y="1601"/>
                    </a:lnTo>
                    <a:lnTo>
                      <a:pt x="2668" y="1604"/>
                    </a:lnTo>
                    <a:lnTo>
                      <a:pt x="2705" y="1606"/>
                    </a:lnTo>
                    <a:lnTo>
                      <a:pt x="2745" y="1609"/>
                    </a:lnTo>
                    <a:lnTo>
                      <a:pt x="2785" y="1613"/>
                    </a:lnTo>
                    <a:lnTo>
                      <a:pt x="2824" y="1616"/>
                    </a:lnTo>
                    <a:lnTo>
                      <a:pt x="2864" y="1617"/>
                    </a:lnTo>
                    <a:lnTo>
                      <a:pt x="2902" y="1621"/>
                    </a:lnTo>
                    <a:lnTo>
                      <a:pt x="2941" y="1622"/>
                    </a:lnTo>
                    <a:lnTo>
                      <a:pt x="2980" y="1624"/>
                    </a:lnTo>
                    <a:lnTo>
                      <a:pt x="3020" y="1627"/>
                    </a:lnTo>
                    <a:lnTo>
                      <a:pt x="3060" y="1629"/>
                    </a:lnTo>
                    <a:lnTo>
                      <a:pt x="3099" y="1631"/>
                    </a:lnTo>
                    <a:lnTo>
                      <a:pt x="3136" y="1632"/>
                    </a:lnTo>
                    <a:lnTo>
                      <a:pt x="3176" y="1634"/>
                    </a:lnTo>
                    <a:lnTo>
                      <a:pt x="3216" y="1635"/>
                    </a:lnTo>
                    <a:lnTo>
                      <a:pt x="3255" y="1637"/>
                    </a:lnTo>
                    <a:lnTo>
                      <a:pt x="3295" y="1639"/>
                    </a:lnTo>
                    <a:lnTo>
                      <a:pt x="3335" y="1640"/>
                    </a:lnTo>
                    <a:lnTo>
                      <a:pt x="3372" y="1642"/>
                    </a:lnTo>
                    <a:lnTo>
                      <a:pt x="3411" y="1644"/>
                    </a:lnTo>
                    <a:lnTo>
                      <a:pt x="3451" y="1644"/>
                    </a:lnTo>
                    <a:lnTo>
                      <a:pt x="3491" y="1645"/>
                    </a:lnTo>
                    <a:lnTo>
                      <a:pt x="3530" y="1647"/>
                    </a:lnTo>
                    <a:lnTo>
                      <a:pt x="3570" y="1647"/>
                    </a:lnTo>
                    <a:lnTo>
                      <a:pt x="3607" y="1648"/>
                    </a:lnTo>
                    <a:lnTo>
                      <a:pt x="3647" y="1650"/>
                    </a:lnTo>
                    <a:lnTo>
                      <a:pt x="3687" y="1650"/>
                    </a:lnTo>
                    <a:lnTo>
                      <a:pt x="3726" y="1652"/>
                    </a:lnTo>
                    <a:lnTo>
                      <a:pt x="3766" y="1652"/>
                    </a:lnTo>
                    <a:lnTo>
                      <a:pt x="3806" y="1653"/>
                    </a:lnTo>
                    <a:lnTo>
                      <a:pt x="3843" y="1653"/>
                    </a:lnTo>
                    <a:lnTo>
                      <a:pt x="3882" y="1655"/>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6200000">
                <a:off x="-446760" y="3034440"/>
                <a:ext cx="364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Strength (N/ktex)</a:t>
                </a:r>
                <a:endParaRPr b="0" lang="en-US" sz="2400" spc="-1" strike="noStrike">
                  <a:solidFill>
                    <a:srgbClr val="000000"/>
                  </a:solidFill>
                  <a:latin typeface="Times New Roman"/>
                </a:endParaRPr>
              </a:p>
            </p:txBody>
          </p:sp>
          <p:sp>
            <p:nvSpPr>
              <p:cNvPr id="103" name=""/>
              <p:cNvSpPr/>
              <p:nvPr/>
            </p:nvSpPr>
            <p:spPr>
              <a:xfrm>
                <a:off x="4227120" y="5410080"/>
                <a:ext cx="248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 (%)</a:t>
                </a:r>
                <a:endParaRPr b="0" lang="en-US" sz="2400" spc="-1" strike="noStrike">
                  <a:solidFill>
                    <a:srgbClr val="000000"/>
                  </a:solidFill>
                  <a:latin typeface="Times New Roman"/>
                </a:endParaRPr>
              </a:p>
            </p:txBody>
          </p:sp>
        </p:grpSp>
        <p:grpSp>
          <p:nvGrpSpPr>
            <p:cNvPr id="104" name=""/>
            <p:cNvGrpSpPr/>
            <p:nvPr/>
          </p:nvGrpSpPr>
          <p:grpSpPr>
            <a:xfrm>
              <a:off x="1562760" y="1600200"/>
              <a:ext cx="468360" cy="3520080"/>
              <a:chOff x="1562760" y="1600200"/>
              <a:chExt cx="468360" cy="3520080"/>
            </a:xfrm>
          </p:grpSpPr>
          <p:sp>
            <p:nvSpPr>
              <p:cNvPr id="105" name=""/>
              <p:cNvSpPr/>
              <p:nvPr/>
            </p:nvSpPr>
            <p:spPr>
              <a:xfrm>
                <a:off x="1600560" y="47228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06" name=""/>
              <p:cNvSpPr/>
              <p:nvPr/>
            </p:nvSpPr>
            <p:spPr>
              <a:xfrm>
                <a:off x="1562760" y="42768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07" name=""/>
              <p:cNvSpPr/>
              <p:nvPr/>
            </p:nvSpPr>
            <p:spPr>
              <a:xfrm>
                <a:off x="1562760" y="3832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08" name=""/>
              <p:cNvSpPr/>
              <p:nvPr/>
            </p:nvSpPr>
            <p:spPr>
              <a:xfrm>
                <a:off x="1562760" y="338616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09" name=""/>
              <p:cNvSpPr/>
              <p:nvPr/>
            </p:nvSpPr>
            <p:spPr>
              <a:xfrm>
                <a:off x="1562760" y="2936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10" name=""/>
              <p:cNvSpPr/>
              <p:nvPr/>
            </p:nvSpPr>
            <p:spPr>
              <a:xfrm>
                <a:off x="1562760" y="24940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0</a:t>
                </a:r>
                <a:endParaRPr b="0" lang="en-US" sz="2000" spc="-1" strike="noStrike">
                  <a:solidFill>
                    <a:srgbClr val="000000"/>
                  </a:solidFill>
                  <a:latin typeface="Times New Roman"/>
                </a:endParaRPr>
              </a:p>
            </p:txBody>
          </p:sp>
          <p:sp>
            <p:nvSpPr>
              <p:cNvPr id="111" name=""/>
              <p:cNvSpPr/>
              <p:nvPr/>
            </p:nvSpPr>
            <p:spPr>
              <a:xfrm>
                <a:off x="1562760" y="20476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112" name=""/>
              <p:cNvSpPr/>
              <p:nvPr/>
            </p:nvSpPr>
            <p:spPr>
              <a:xfrm>
                <a:off x="1562760" y="1600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grpSp>
        <p:grpSp>
          <p:nvGrpSpPr>
            <p:cNvPr id="113" name=""/>
            <p:cNvGrpSpPr/>
            <p:nvPr/>
          </p:nvGrpSpPr>
          <p:grpSpPr>
            <a:xfrm>
              <a:off x="5560560" y="1762200"/>
              <a:ext cx="3412440" cy="3588120"/>
              <a:chOff x="5560560" y="1762200"/>
              <a:chExt cx="3412440" cy="3588120"/>
            </a:xfrm>
          </p:grpSpPr>
          <p:sp>
            <p:nvSpPr>
              <p:cNvPr id="114" name=""/>
              <p:cNvSpPr/>
              <p:nvPr/>
            </p:nvSpPr>
            <p:spPr>
              <a:xfrm>
                <a:off x="5560560" y="4952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15" name=""/>
              <p:cNvSpPr/>
              <p:nvPr/>
            </p:nvSpPr>
            <p:spPr>
              <a:xfrm>
                <a:off x="62622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16" name=""/>
              <p:cNvSpPr/>
              <p:nvPr/>
            </p:nvSpPr>
            <p:spPr>
              <a:xfrm>
                <a:off x="703332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17" name=""/>
              <p:cNvSpPr/>
              <p:nvPr/>
            </p:nvSpPr>
            <p:spPr>
              <a:xfrm>
                <a:off x="78048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18" name=""/>
              <p:cNvSpPr/>
              <p:nvPr/>
            </p:nvSpPr>
            <p:spPr>
              <a:xfrm>
                <a:off x="850464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19" name=""/>
              <p:cNvSpPr/>
              <p:nvPr/>
            </p:nvSpPr>
            <p:spPr>
              <a:xfrm flipV="1">
                <a:off x="571572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0" name=""/>
              <p:cNvSpPr/>
              <p:nvPr/>
            </p:nvSpPr>
            <p:spPr>
              <a:xfrm flipV="1">
                <a:off x="609444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1" name=""/>
              <p:cNvSpPr/>
              <p:nvPr/>
            </p:nvSpPr>
            <p:spPr>
              <a:xfrm flipV="1">
                <a:off x="647100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2" name=""/>
              <p:cNvSpPr/>
              <p:nvPr/>
            </p:nvSpPr>
            <p:spPr>
              <a:xfrm flipV="1">
                <a:off x="685116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3" name=""/>
              <p:cNvSpPr/>
              <p:nvPr/>
            </p:nvSpPr>
            <p:spPr>
              <a:xfrm flipV="1">
                <a:off x="722952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4" name=""/>
              <p:cNvSpPr/>
              <p:nvPr/>
            </p:nvSpPr>
            <p:spPr>
              <a:xfrm flipV="1">
                <a:off x="760644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5" name=""/>
              <p:cNvSpPr/>
              <p:nvPr/>
            </p:nvSpPr>
            <p:spPr>
              <a:xfrm flipV="1">
                <a:off x="798480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6" name=""/>
              <p:cNvSpPr/>
              <p:nvPr/>
            </p:nvSpPr>
            <p:spPr>
              <a:xfrm flipV="1">
                <a:off x="836172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7" name=""/>
              <p:cNvSpPr/>
              <p:nvPr/>
            </p:nvSpPr>
            <p:spPr>
              <a:xfrm flipV="1">
                <a:off x="874008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 name=""/>
              <p:cNvSpPr/>
              <p:nvPr/>
            </p:nvSpPr>
            <p:spPr>
              <a:xfrm>
                <a:off x="5715720" y="4884840"/>
                <a:ext cx="30243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72160" y="48848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94120" y="46609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72160" y="44388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694120" y="42148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72160" y="3994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4120" y="37702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72160" y="354816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694120" y="332424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672160" y="30988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94120" y="28782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72160" y="26542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94120" y="243216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72160" y="22082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94120" y="19861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72160" y="1762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715720" y="1762200"/>
                <a:ext cx="0" cy="312264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34040" y="4417920"/>
                <a:ext cx="39240" cy="55800"/>
              </a:xfrm>
              <a:prstGeom prst="rect">
                <a:avLst/>
              </a:prstGeom>
              <a:solidFill>
                <a:srgbClr val="ccffcc"/>
              </a:solidFill>
              <a:ln w="12600">
                <a:solidFill>
                  <a:srgbClr val="ccffcc"/>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6" name=""/>
              <p:cNvSpPr/>
              <p:nvPr/>
            </p:nvSpPr>
            <p:spPr>
              <a:xfrm>
                <a:off x="5846040" y="4403880"/>
                <a:ext cx="3924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47" name=""/>
              <p:cNvSpPr/>
              <p:nvPr/>
            </p:nvSpPr>
            <p:spPr>
              <a:xfrm>
                <a:off x="5996520" y="4394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8" name=""/>
              <p:cNvSpPr/>
              <p:nvPr/>
            </p:nvSpPr>
            <p:spPr>
              <a:xfrm>
                <a:off x="5996520" y="407664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9" name=""/>
              <p:cNvSpPr/>
              <p:nvPr/>
            </p:nvSpPr>
            <p:spPr>
              <a:xfrm>
                <a:off x="6148440" y="379080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0" name=""/>
              <p:cNvSpPr/>
              <p:nvPr/>
            </p:nvSpPr>
            <p:spPr>
              <a:xfrm>
                <a:off x="5920560" y="3456000"/>
                <a:ext cx="4068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1" name=""/>
              <p:cNvSpPr/>
              <p:nvPr/>
            </p:nvSpPr>
            <p:spPr>
              <a:xfrm>
                <a:off x="5920560" y="3314880"/>
                <a:ext cx="4068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2" name=""/>
              <p:cNvSpPr/>
              <p:nvPr/>
            </p:nvSpPr>
            <p:spPr>
              <a:xfrm>
                <a:off x="5846040" y="324180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3" name=""/>
              <p:cNvSpPr/>
              <p:nvPr/>
            </p:nvSpPr>
            <p:spPr>
              <a:xfrm>
                <a:off x="5770080" y="3197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4" name=""/>
              <p:cNvSpPr/>
              <p:nvPr/>
            </p:nvSpPr>
            <p:spPr>
              <a:xfrm>
                <a:off x="5996520" y="307332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5" name=""/>
              <p:cNvSpPr/>
              <p:nvPr/>
            </p:nvSpPr>
            <p:spPr>
              <a:xfrm>
                <a:off x="5793480" y="3419640"/>
                <a:ext cx="378000" cy="703080"/>
              </a:xfrm>
              <a:custGeom>
                <a:avLst/>
                <a:gdLst/>
                <a:ahLst/>
                <a:rect l="l" t="t" r="r" b="b"/>
                <a:pathLst>
                  <a:path w="560" h="590">
                    <a:moveTo>
                      <a:pt x="0" y="0"/>
                    </a:moveTo>
                    <a:lnTo>
                      <a:pt x="6" y="6"/>
                    </a:lnTo>
                    <a:lnTo>
                      <a:pt x="11" y="13"/>
                    </a:lnTo>
                    <a:lnTo>
                      <a:pt x="17" y="19"/>
                    </a:lnTo>
                    <a:lnTo>
                      <a:pt x="22" y="24"/>
                    </a:lnTo>
                    <a:lnTo>
                      <a:pt x="28" y="30"/>
                    </a:lnTo>
                    <a:lnTo>
                      <a:pt x="33" y="37"/>
                    </a:lnTo>
                    <a:lnTo>
                      <a:pt x="40" y="42"/>
                    </a:lnTo>
                    <a:lnTo>
                      <a:pt x="45" y="48"/>
                    </a:lnTo>
                    <a:lnTo>
                      <a:pt x="51" y="54"/>
                    </a:lnTo>
                    <a:lnTo>
                      <a:pt x="57" y="59"/>
                    </a:lnTo>
                    <a:lnTo>
                      <a:pt x="62" y="66"/>
                    </a:lnTo>
                    <a:lnTo>
                      <a:pt x="68" y="72"/>
                    </a:lnTo>
                    <a:lnTo>
                      <a:pt x="73" y="79"/>
                    </a:lnTo>
                    <a:lnTo>
                      <a:pt x="80" y="83"/>
                    </a:lnTo>
                    <a:lnTo>
                      <a:pt x="85" y="90"/>
                    </a:lnTo>
                    <a:lnTo>
                      <a:pt x="91" y="96"/>
                    </a:lnTo>
                    <a:lnTo>
                      <a:pt x="96" y="101"/>
                    </a:lnTo>
                    <a:lnTo>
                      <a:pt x="100" y="107"/>
                    </a:lnTo>
                    <a:lnTo>
                      <a:pt x="105" y="114"/>
                    </a:lnTo>
                    <a:lnTo>
                      <a:pt x="112" y="120"/>
                    </a:lnTo>
                    <a:lnTo>
                      <a:pt x="118" y="125"/>
                    </a:lnTo>
                    <a:lnTo>
                      <a:pt x="123" y="132"/>
                    </a:lnTo>
                    <a:lnTo>
                      <a:pt x="129" y="138"/>
                    </a:lnTo>
                    <a:lnTo>
                      <a:pt x="134" y="143"/>
                    </a:lnTo>
                    <a:lnTo>
                      <a:pt x="140" y="149"/>
                    </a:lnTo>
                    <a:lnTo>
                      <a:pt x="145" y="156"/>
                    </a:lnTo>
                    <a:lnTo>
                      <a:pt x="152" y="160"/>
                    </a:lnTo>
                    <a:lnTo>
                      <a:pt x="157" y="167"/>
                    </a:lnTo>
                    <a:lnTo>
                      <a:pt x="163" y="173"/>
                    </a:lnTo>
                    <a:lnTo>
                      <a:pt x="169" y="180"/>
                    </a:lnTo>
                    <a:lnTo>
                      <a:pt x="174" y="185"/>
                    </a:lnTo>
                    <a:lnTo>
                      <a:pt x="180" y="191"/>
                    </a:lnTo>
                    <a:lnTo>
                      <a:pt x="185" y="197"/>
                    </a:lnTo>
                    <a:lnTo>
                      <a:pt x="191" y="202"/>
                    </a:lnTo>
                    <a:lnTo>
                      <a:pt x="197" y="209"/>
                    </a:lnTo>
                    <a:lnTo>
                      <a:pt x="203" y="215"/>
                    </a:lnTo>
                    <a:lnTo>
                      <a:pt x="209" y="222"/>
                    </a:lnTo>
                    <a:lnTo>
                      <a:pt x="214" y="226"/>
                    </a:lnTo>
                    <a:lnTo>
                      <a:pt x="220" y="233"/>
                    </a:lnTo>
                    <a:lnTo>
                      <a:pt x="225" y="239"/>
                    </a:lnTo>
                    <a:lnTo>
                      <a:pt x="231" y="244"/>
                    </a:lnTo>
                    <a:lnTo>
                      <a:pt x="236" y="250"/>
                    </a:lnTo>
                    <a:lnTo>
                      <a:pt x="243" y="257"/>
                    </a:lnTo>
                    <a:lnTo>
                      <a:pt x="248" y="263"/>
                    </a:lnTo>
                    <a:lnTo>
                      <a:pt x="254" y="268"/>
                    </a:lnTo>
                    <a:lnTo>
                      <a:pt x="260" y="275"/>
                    </a:lnTo>
                    <a:lnTo>
                      <a:pt x="265" y="281"/>
                    </a:lnTo>
                    <a:lnTo>
                      <a:pt x="271" y="286"/>
                    </a:lnTo>
                    <a:lnTo>
                      <a:pt x="276" y="292"/>
                    </a:lnTo>
                    <a:lnTo>
                      <a:pt x="283" y="299"/>
                    </a:lnTo>
                    <a:lnTo>
                      <a:pt x="288" y="303"/>
                    </a:lnTo>
                    <a:lnTo>
                      <a:pt x="294" y="310"/>
                    </a:lnTo>
                    <a:lnTo>
                      <a:pt x="299" y="316"/>
                    </a:lnTo>
                    <a:lnTo>
                      <a:pt x="305" y="323"/>
                    </a:lnTo>
                    <a:lnTo>
                      <a:pt x="311" y="328"/>
                    </a:lnTo>
                    <a:lnTo>
                      <a:pt x="316" y="334"/>
                    </a:lnTo>
                    <a:lnTo>
                      <a:pt x="322" y="340"/>
                    </a:lnTo>
                    <a:lnTo>
                      <a:pt x="328" y="345"/>
                    </a:lnTo>
                    <a:lnTo>
                      <a:pt x="334" y="352"/>
                    </a:lnTo>
                    <a:lnTo>
                      <a:pt x="337" y="358"/>
                    </a:lnTo>
                    <a:lnTo>
                      <a:pt x="343" y="364"/>
                    </a:lnTo>
                    <a:lnTo>
                      <a:pt x="348" y="369"/>
                    </a:lnTo>
                    <a:lnTo>
                      <a:pt x="354" y="376"/>
                    </a:lnTo>
                    <a:lnTo>
                      <a:pt x="360" y="382"/>
                    </a:lnTo>
                    <a:lnTo>
                      <a:pt x="366" y="387"/>
                    </a:lnTo>
                    <a:lnTo>
                      <a:pt x="372" y="393"/>
                    </a:lnTo>
                    <a:lnTo>
                      <a:pt x="377" y="400"/>
                    </a:lnTo>
                    <a:lnTo>
                      <a:pt x="383" y="405"/>
                    </a:lnTo>
                    <a:lnTo>
                      <a:pt x="388" y="411"/>
                    </a:lnTo>
                    <a:lnTo>
                      <a:pt x="394" y="418"/>
                    </a:lnTo>
                    <a:lnTo>
                      <a:pt x="400" y="424"/>
                    </a:lnTo>
                    <a:lnTo>
                      <a:pt x="406" y="429"/>
                    </a:lnTo>
                    <a:lnTo>
                      <a:pt x="411" y="435"/>
                    </a:lnTo>
                    <a:lnTo>
                      <a:pt x="417" y="442"/>
                    </a:lnTo>
                    <a:lnTo>
                      <a:pt x="423" y="446"/>
                    </a:lnTo>
                    <a:lnTo>
                      <a:pt x="428" y="453"/>
                    </a:lnTo>
                    <a:lnTo>
                      <a:pt x="434" y="459"/>
                    </a:lnTo>
                    <a:lnTo>
                      <a:pt x="439" y="466"/>
                    </a:lnTo>
                    <a:lnTo>
                      <a:pt x="446" y="471"/>
                    </a:lnTo>
                    <a:lnTo>
                      <a:pt x="451" y="477"/>
                    </a:lnTo>
                    <a:lnTo>
                      <a:pt x="457" y="483"/>
                    </a:lnTo>
                    <a:lnTo>
                      <a:pt x="463" y="488"/>
                    </a:lnTo>
                    <a:lnTo>
                      <a:pt x="468" y="495"/>
                    </a:lnTo>
                    <a:lnTo>
                      <a:pt x="474" y="501"/>
                    </a:lnTo>
                    <a:lnTo>
                      <a:pt x="479" y="507"/>
                    </a:lnTo>
                    <a:lnTo>
                      <a:pt x="485" y="512"/>
                    </a:lnTo>
                    <a:lnTo>
                      <a:pt x="491" y="519"/>
                    </a:lnTo>
                    <a:lnTo>
                      <a:pt x="497" y="525"/>
                    </a:lnTo>
                    <a:lnTo>
                      <a:pt x="502" y="530"/>
                    </a:lnTo>
                    <a:lnTo>
                      <a:pt x="508" y="536"/>
                    </a:lnTo>
                    <a:lnTo>
                      <a:pt x="514" y="543"/>
                    </a:lnTo>
                    <a:lnTo>
                      <a:pt x="519" y="548"/>
                    </a:lnTo>
                    <a:lnTo>
                      <a:pt x="525" y="554"/>
                    </a:lnTo>
                    <a:lnTo>
                      <a:pt x="531" y="561"/>
                    </a:lnTo>
                    <a:lnTo>
                      <a:pt x="537" y="567"/>
                    </a:lnTo>
                    <a:lnTo>
                      <a:pt x="542" y="572"/>
                    </a:lnTo>
                    <a:lnTo>
                      <a:pt x="548" y="578"/>
                    </a:lnTo>
                    <a:lnTo>
                      <a:pt x="553" y="585"/>
                    </a:lnTo>
                    <a:lnTo>
                      <a:pt x="559" y="589"/>
                    </a:lnTo>
                  </a:path>
                </a:pathLst>
              </a:custGeom>
              <a:solidFill>
                <a:srgbClr val="ccffcc"/>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5757120" y="1447920"/>
              <a:ext cx="331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s supplemented with methionine</a:t>
              </a:r>
              <a:endParaRPr b="0" lang="en-US" sz="2400" spc="-1" strike="noStrike">
                <a:solidFill>
                  <a:srgbClr val="000000"/>
                </a:solidFill>
                <a:latin typeface="Times New Roman"/>
              </a:endParaRPr>
            </a:p>
          </p:txBody>
        </p:sp>
      </p:grpSp>
      <p:sp>
        <p:nvSpPr>
          <p:cNvPr id="157" name=""/>
          <p:cNvSpPr/>
          <p:nvPr/>
        </p:nvSpPr>
        <p:spPr>
          <a:xfrm>
            <a:off x="6147720" y="6324480"/>
            <a:ext cx="2925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AC &amp; Dollin, AE (1995)</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d fibres in pregnant/lactating Merino ew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22:20:26Z</dcterms:created>
  <dc:creator>USER</dc:creator>
  <dc:description/>
  <dc:language>en-US</dc:language>
  <cp:lastModifiedBy>Hdaily</cp:lastModifiedBy>
  <cp:lastPrinted>2000-04-06T22:30:20Z</cp:lastPrinted>
  <dcterms:modified xsi:type="dcterms:W3CDTF">2000-06-02T00:42:48Z</dcterms:modified>
  <cp:revision>3</cp:revision>
  <dc:subject/>
  <dc:title>Can Hormones or Methionine Improve Wool Production of Pregnant and Growing Sheep?</dc:title>
</cp:coreProperties>
</file>