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4EAC9-C5FD-4C1F-A0AF-29A17C0525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562040" y="533520"/>
            <a:ext cx="3657600" cy="2743200"/>
          </a:xfrm>
          <a:prstGeom prst="rect">
            <a:avLst/>
          </a:prstGeom>
          <a:ln w="0">
            <a:noFill/>
          </a:ln>
        </p:spPr>
      </p:sp>
      <p:sp>
        <p:nvSpPr>
          <p:cNvPr id="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ation in wool growth between sheep within genotypes reflect the effects of the environment and physiology of the sheep.  Environmental effects include both the external environment of the sheep, such as climate and day length, and the internal environment of the sheep, such as pregnancy and dise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jority of endocrine effects on wool production are a result of the hormones affecting other tissues, for example, stimulating protein breakdown, vasoconstriction and nutrient partitioning.  This module describes how hormones may be used to manipulate wool production throughout the ye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562040" y="533520"/>
            <a:ext cx="3657600" cy="2743200"/>
          </a:xfrm>
          <a:prstGeom prst="rect">
            <a:avLst/>
          </a:prstGeom>
          <a:ln w="0">
            <a:noFill/>
          </a:ln>
        </p:spPr>
      </p:sp>
      <p:sp>
        <p:nvSpPr>
          <p:cNvPr id="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utumn when feed availability and quality is low, young sheep redistribute protein from the skin and gut to the muscle to maintain growth.  It may be possible to improve wool growth by preventing this redistribution away from wool growth.  Growth hormone is involved in nutrient repartitioning to muscle, so if sheep are immunised against GHRH, then the signal to release GH will not be active, so no GH will be released.  This should prevent nutrients being shifted away from wool growth.  This strategy has been tried, GH levels were depressed, however, there was no change in wool growth.</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562040" y="533520"/>
            <a:ext cx="3657600" cy="2743200"/>
          </a:xfrm>
          <a:prstGeom prst="rect">
            <a:avLst/>
          </a:prstGeom>
          <a:ln w="0">
            <a:noFill/>
          </a:ln>
        </p:spPr>
      </p:sp>
      <p:sp>
        <p:nvSpPr>
          <p:cNvPr id="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alternative method of making more nutrients available for wool growth during autumn could be to decrease the basal metabolic rate (BMR) of the sheep.  So if heart rate and respiration rate could be decreased there would be less nutrients required for normal functions and more nutrients available for wool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the receptors may become sensitised to high levels of catecholamines and higher and higher levels are required to illicit a response.  Therefore this method is unlikely to be successfu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562040" y="533520"/>
            <a:ext cx="3657600" cy="2743200"/>
          </a:xfrm>
          <a:prstGeom prst="rect">
            <a:avLst/>
          </a:prstGeom>
          <a:ln w="0">
            <a:noFill/>
          </a:ln>
        </p:spPr>
      </p:sp>
      <p:sp>
        <p:nvSpPr>
          <p:cNvPr id="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spring when there is an excess of nutrients it is desirable to distribute nutrients away from wool growth to prevent fibre diameter increasing.  If these excess nutrients are partitioned to the muscles, then in times of nutrient deficit, it may be possible to redistribute the amino acids from the muscle to the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H can be used to partition nutrients to muscle growth during spring.  When GH is stopped (for example in autumn) the nutrients from the muscle may move back to the follicl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562040" y="533520"/>
            <a:ext cx="3657600" cy="2743200"/>
          </a:xfrm>
          <a:prstGeom prst="rect">
            <a:avLst/>
          </a:prstGeom>
          <a:ln w="0">
            <a:noFill/>
          </a:ln>
        </p:spPr>
      </p:sp>
      <p:sp>
        <p:nvSpPr>
          <p:cNvPr id="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yroxine changes L/D, so this could be used to increase length growth rate during spring without increasing diame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2640" y="22856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Use of Hormones to Manipulate Annual Wool Produc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Wynn, The University of Syd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utumn</a:t>
            </a:r>
            <a:endParaRPr b="1" lang="en-US" sz="3200" spc="-1" strike="noStrike">
              <a:solidFill>
                <a:srgbClr val="fafd00"/>
              </a:solidFill>
              <a:latin typeface="Arial"/>
            </a:endParaRPr>
          </a:p>
        </p:txBody>
      </p:sp>
      <p:sp>
        <p:nvSpPr>
          <p:cNvPr id="50" name="PlaceHolder 2"/>
          <p:cNvSpPr>
            <a:spLocks noGrp="1"/>
          </p:cNvSpPr>
          <p:nvPr>
            <p:ph/>
          </p:nvPr>
        </p:nvSpPr>
        <p:spPr>
          <a:xfrm>
            <a:off x="1294920" y="838080"/>
            <a:ext cx="75438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eaners redistribute protein reserves from gut and skin to muscle</a:t>
            </a:r>
            <a:endParaRPr b="1" lang="en-US" sz="2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mprove wool production by shifting supply of amino acids back to wool</a:t>
            </a:r>
            <a:endParaRPr b="1" lang="en-US" sz="2400" spc="-1" strike="noStrike">
              <a:solidFill>
                <a:srgbClr val="ffffff"/>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mmunised sheep against GH releasing hormone</a:t>
            </a:r>
            <a:endParaRPr b="1" lang="en-US" sz="2000" spc="-1" strike="noStrike">
              <a:solidFill>
                <a:srgbClr val="ffffff"/>
              </a:solidFill>
              <a:latin typeface="Arial"/>
            </a:endParaRPr>
          </a:p>
          <a:p>
            <a:pPr lvl="3" marL="16002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3" marL="16002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ecreased GH levels but did not affect wool growth</a:t>
            </a:r>
            <a:endParaRPr b="1" lang="en-US" sz="2000" spc="-1" strike="noStrike">
              <a:solidFill>
                <a:srgbClr val="ffffff"/>
              </a:solidFill>
              <a:latin typeface="Arial"/>
            </a:endParaRPr>
          </a:p>
        </p:txBody>
      </p:sp>
      <p:sp>
        <p:nvSpPr>
          <p:cNvPr id="51"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utumn</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crease BMR of animals by inhibiting noradrenaline</a:t>
            </a:r>
            <a:endParaRPr b="1" lang="en-US" sz="2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lucocorticoid receptor may become sensitised to catecholamines released by low nutrition and heat stress</a:t>
            </a:r>
            <a:endParaRPr b="1" lang="en-US" sz="2400" spc="-1" strike="noStrike">
              <a:solidFill>
                <a:srgbClr val="ffffff"/>
              </a:solidFill>
              <a:latin typeface="Arial"/>
            </a:endParaRPr>
          </a:p>
        </p:txBody>
      </p:sp>
      <p:sp>
        <p:nvSpPr>
          <p:cNvPr id="54"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pring</a:t>
            </a:r>
            <a:endParaRPr b="1" lang="en-US" sz="3200" spc="-1" strike="noStrike">
              <a:solidFill>
                <a:srgbClr val="fafd00"/>
              </a:solidFill>
              <a:latin typeface="Arial"/>
            </a:endParaRPr>
          </a:p>
        </p:txBody>
      </p:sp>
      <p:sp>
        <p:nvSpPr>
          <p:cNvPr id="5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istribute nutrients to muscle growth rather than woo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hen feed is limiting (summer and autumn) muscle can be used to improve wool growth</a:t>
            </a:r>
            <a:endParaRPr b="1" lang="en-US" sz="2400" spc="-1" strike="noStrike">
              <a:solidFill>
                <a:srgbClr val="ffffff"/>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g. GH for 4 weeks improved wool for 6 months at the end of treatment (Wynn et al. 1988, A. J. Biol. Sci. 41:177)</a:t>
            </a:r>
            <a:endParaRPr b="1" lang="en-US" sz="2000" spc="-1" strike="noStrike">
              <a:solidFill>
                <a:srgbClr val="ffffff"/>
              </a:solidFill>
              <a:latin typeface="Arial"/>
            </a:endParaRPr>
          </a:p>
        </p:txBody>
      </p:sp>
      <p:sp>
        <p:nvSpPr>
          <p:cNvPr id="57"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pring</a:t>
            </a:r>
            <a:endParaRPr b="1" lang="en-US" sz="3200" spc="-1" strike="noStrike">
              <a:solidFill>
                <a:srgbClr val="fafd00"/>
              </a:solidFill>
              <a:latin typeface="Arial"/>
            </a:endParaRPr>
          </a:p>
        </p:txBody>
      </p:sp>
      <p:sp>
        <p:nvSpPr>
          <p:cNvPr id="5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ossible alternative to ration grazing in spring to restrict fibre diameter</a:t>
            </a:r>
            <a:endParaRPr b="1" lang="en-US" sz="2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g. T4 may increase length compared to diameter (Williams, 1984; Proc. Aust. Soc. Anim. Prod. 15:631)</a:t>
            </a:r>
            <a:endParaRPr b="1" lang="en-US" sz="2400" spc="-1" strike="noStrike">
              <a:solidFill>
                <a:srgbClr val="ffffff"/>
              </a:solidFill>
              <a:latin typeface="Arial"/>
            </a:endParaRPr>
          </a:p>
        </p:txBody>
      </p:sp>
      <p:sp>
        <p:nvSpPr>
          <p:cNvPr id="60"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5:07:19Z</dcterms:created>
  <dc:creator>Wes Osborne</dc:creator>
  <dc:description/>
  <dc:language>en-US</dc:language>
  <cp:lastModifiedBy>Hdaily</cp:lastModifiedBy>
  <cp:lastPrinted>2000-02-03T09:09:47Z</cp:lastPrinted>
  <dcterms:modified xsi:type="dcterms:W3CDTF">2000-06-02T00:32:08Z</dcterms:modified>
  <cp:revision>2</cp:revision>
  <dc:subject/>
  <dc:title>The Use of Hormones to Manipulate Annual Wool Production</dc:title>
</cp:coreProperties>
</file>