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736A-5121-4C9D-A04C-3705BE51B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248C-85E1-4735-B66A-4E86F9F5E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 of the amino acid lysine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79E5-AE96-49E0-9304-42BF52561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Hynd, P.I.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 protein that is lysine deficient, such as zein, is fed to sheep, there is insufficient lysine for cell division which slows the passage of cells out of the bulb.  This causes the cells to spend more time in the keratogenous zone (whilst waiting for more cells to divide in the bulb to move the fibre past the keratogenous zone) where cysteine is not limiting, so the keratinised cells are larger than nor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DR = cell division 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hematically, this is how lysine deficiency may affect woo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ysine and Wool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8960" y="1447920"/>
            <a:ext cx="7848360" cy="4114800"/>
          </a:xfrm>
          <a:prstGeom prst="rect">
            <a:avLst/>
          </a:prstGeom>
          <a:noFill/>
          <a:ln w="0">
            <a:noFill/>
          </a:ln>
        </p:spPr>
        <p:txBody>
          <a:bodyPr lIns="0" rIns="0" tIns="46080" bIns="46080" anchor="t">
            <a:normAutofit/>
          </a:bodyPr>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Pre-zein</a:t>
            </a:r>
            <a:r>
              <a:rPr b="1" lang="en-AU" sz="2400" spc="-1" strike="noStrike">
                <a:solidFill>
                  <a:srgbClr val="ffffff"/>
                </a:solidFill>
                <a:latin typeface="Arial"/>
              </a:rPr>
              <a:t>	</a:t>
            </a:r>
            <a:r>
              <a:rPr b="1" lang="en-AU" sz="2400" spc="-1" strike="noStrike">
                <a:solidFill>
                  <a:srgbClr val="ffffff"/>
                </a:solidFill>
                <a:latin typeface="Arial"/>
              </a:rPr>
              <a:t>Zein</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Fibre length (</a:t>
            </a:r>
            <a:r>
              <a:rPr b="1" lang="en-AU" sz="2400" spc="-1" strike="noStrike">
                <a:solidFill>
                  <a:srgbClr val="ffffff"/>
                </a:solidFill>
                <a:latin typeface="Symbol"/>
                <a:ea typeface="Symbol"/>
              </a:rPr>
              <a:t></a:t>
            </a:r>
            <a:r>
              <a:rPr b="1" lang="en-AU" sz="2400" spc="-1" strike="noStrike">
                <a:solidFill>
                  <a:srgbClr val="ffffff"/>
                </a:solidFill>
                <a:latin typeface="Arial"/>
              </a:rPr>
              <a:t>m/d)</a:t>
            </a:r>
            <a:r>
              <a:rPr b="1" lang="en-AU" sz="2400" spc="-1" strike="noStrike">
                <a:solidFill>
                  <a:srgbClr val="ffffff"/>
                </a:solidFill>
                <a:latin typeface="Arial"/>
              </a:rPr>
              <a:t>	</a:t>
            </a:r>
            <a:r>
              <a:rPr b="1" lang="en-AU" sz="2400" spc="-1" strike="noStrike">
                <a:solidFill>
                  <a:srgbClr val="ffffff"/>
                </a:solidFill>
                <a:latin typeface="Arial"/>
              </a:rPr>
              <a:t>312</a:t>
            </a:r>
            <a:r>
              <a:rPr b="1" lang="en-AU" sz="2400" spc="-1" strike="noStrike">
                <a:solidFill>
                  <a:srgbClr val="ffffff"/>
                </a:solidFill>
                <a:latin typeface="Arial"/>
              </a:rPr>
              <a:t>	</a:t>
            </a:r>
            <a:r>
              <a:rPr b="1" lang="en-AU" sz="2400" spc="-1" strike="noStrike">
                <a:solidFill>
                  <a:srgbClr val="ffffff"/>
                </a:solidFill>
                <a:latin typeface="Arial"/>
              </a:rPr>
              <a:t>346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Fibre diameter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a:solidFill>
                  <a:srgbClr val="ffffff"/>
                </a:solidFill>
                <a:latin typeface="Arial"/>
              </a:rPr>
              <a:t>	</a:t>
            </a:r>
            <a:r>
              <a:rPr b="1" lang="en-AU" sz="2400" spc="-1" strike="noStrike">
                <a:solidFill>
                  <a:srgbClr val="ffffff"/>
                </a:solidFill>
                <a:latin typeface="Arial"/>
              </a:rPr>
              <a:t>19.7</a:t>
            </a:r>
            <a:r>
              <a:rPr b="1" lang="en-AU" sz="2400" spc="-1" strike="noStrike">
                <a:solidFill>
                  <a:srgbClr val="ffffff"/>
                </a:solidFill>
                <a:latin typeface="Arial"/>
              </a:rPr>
              <a:t>	</a:t>
            </a:r>
            <a:r>
              <a:rPr b="1" lang="en-AU" sz="2400" spc="-1" strike="noStrike">
                <a:solidFill>
                  <a:srgbClr val="ffffff"/>
                </a:solidFill>
                <a:latin typeface="Arial"/>
              </a:rPr>
              <a:t>14.2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Mitotic rate (/bulb/h)</a:t>
            </a:r>
            <a:r>
              <a:rPr b="1" lang="en-AU" sz="2400" spc="-1" strike="noStrike">
                <a:solidFill>
                  <a:srgbClr val="ffffff"/>
                </a:solidFill>
                <a:latin typeface="Arial"/>
              </a:rPr>
              <a:t>	</a:t>
            </a:r>
            <a:r>
              <a:rPr b="1" lang="en-AU" sz="2400" spc="-1" strike="noStrike">
                <a:solidFill>
                  <a:srgbClr val="ffffff"/>
                </a:solidFill>
                <a:latin typeface="Arial"/>
              </a:rPr>
              <a:t>20</a:t>
            </a:r>
            <a:r>
              <a:rPr b="1" lang="en-AU" sz="2400" spc="-1" strike="noStrike">
                <a:solidFill>
                  <a:srgbClr val="ffffff"/>
                </a:solidFill>
                <a:latin typeface="Arial"/>
              </a:rPr>
              <a:t>	</a:t>
            </a:r>
            <a:r>
              <a:rPr b="1" lang="en-AU" sz="2400" spc="-1" strike="noStrike">
                <a:solidFill>
                  <a:srgbClr val="ffffff"/>
                </a:solidFill>
                <a:latin typeface="Arial"/>
              </a:rPr>
              <a:t>  8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99"/>
                </a:solidFill>
                <a:latin typeface="Arial"/>
              </a:rPr>
              <a:t>Cortical cell</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Length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a:solidFill>
                  <a:srgbClr val="ffffff"/>
                </a:solidFill>
                <a:latin typeface="Arial"/>
              </a:rPr>
              <a:t>	</a:t>
            </a:r>
            <a:r>
              <a:rPr b="1" lang="en-AU" sz="2400" spc="-1" strike="noStrike">
                <a:solidFill>
                  <a:srgbClr val="ffffff"/>
                </a:solidFill>
                <a:latin typeface="Arial"/>
              </a:rPr>
              <a:t>102</a:t>
            </a:r>
            <a:r>
              <a:rPr b="1" lang="en-AU" sz="2400" spc="-1" strike="noStrike">
                <a:solidFill>
                  <a:srgbClr val="ffffff"/>
                </a:solidFill>
                <a:latin typeface="Arial"/>
              </a:rPr>
              <a:t>	</a:t>
            </a:r>
            <a:r>
              <a:rPr b="1" lang="en-AU" sz="2400" spc="-1" strike="noStrike">
                <a:solidFill>
                  <a:srgbClr val="ffffff"/>
                </a:solidFill>
                <a:latin typeface="Arial"/>
              </a:rPr>
              <a:t>108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iameter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a:solidFill>
                  <a:srgbClr val="ffffff"/>
                </a:solidFill>
                <a:latin typeface="Arial"/>
              </a:rPr>
              <a:t>	</a:t>
            </a:r>
            <a:r>
              <a:rPr b="1" lang="en-AU" sz="2400" spc="-1" strike="noStrike">
                <a:solidFill>
                  <a:srgbClr val="ffffff"/>
                </a:solidFill>
                <a:latin typeface="Arial"/>
              </a:rPr>
              <a:t> 4.9   </a:t>
            </a:r>
            <a:r>
              <a:rPr b="1" lang="en-AU" sz="2400" spc="-1" strike="noStrike">
                <a:solidFill>
                  <a:srgbClr val="ffffff"/>
                </a:solidFill>
                <a:latin typeface="Arial"/>
              </a:rPr>
              <a:t>	</a:t>
            </a:r>
            <a:r>
              <a:rPr b="1" lang="en-AU" sz="2400" spc="-1" strike="noStrike">
                <a:solidFill>
                  <a:srgbClr val="ffffff"/>
                </a:solidFill>
                <a:latin typeface="Arial"/>
              </a:rPr>
              <a:t>4.5</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Volume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baseline="30000">
                <a:solidFill>
                  <a:srgbClr val="ffffff"/>
                </a:solidFill>
                <a:latin typeface="Arial"/>
              </a:rPr>
              <a:t>3</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643</a:t>
            </a:r>
            <a:r>
              <a:rPr b="1" lang="en-AU" sz="2400" spc="-1" strike="noStrike">
                <a:solidFill>
                  <a:srgbClr val="ffffff"/>
                </a:solidFill>
                <a:latin typeface="Arial"/>
              </a:rPr>
              <a:t>	</a:t>
            </a:r>
            <a:r>
              <a:rPr b="1" lang="en-AU" sz="2400" spc="-1" strike="noStrike">
                <a:solidFill>
                  <a:srgbClr val="ffffff"/>
                </a:solidFill>
                <a:latin typeface="Arial"/>
              </a:rPr>
              <a:t>574 </a:t>
            </a:r>
            <a:endParaRPr b="1" lang="en-US" sz="2400" spc="-1" strike="noStrike">
              <a:solidFill>
                <a:srgbClr val="ffffff"/>
              </a:solidFill>
              <a:latin typeface="Arial"/>
            </a:endParaRPr>
          </a:p>
        </p:txBody>
      </p:sp>
      <p:sp>
        <p:nvSpPr>
          <p:cNvPr id="5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zein on fibre growth, CDR and cortical cell size</a:t>
            </a:r>
            <a:endParaRPr b="1" lang="en-US" sz="3200" spc="-1" strike="noStrike">
              <a:solidFill>
                <a:srgbClr val="fafd00"/>
              </a:solidFill>
              <a:latin typeface="Arial"/>
            </a:endParaRPr>
          </a:p>
        </p:txBody>
      </p:sp>
      <p:sp>
        <p:nvSpPr>
          <p:cNvPr id="51"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66920" y="1676520"/>
            <a:ext cx="7549920" cy="3452400"/>
            <a:chOff x="1366920" y="1676520"/>
            <a:chExt cx="7549920" cy="3452400"/>
          </a:xfrm>
        </p:grpSpPr>
        <p:sp>
          <p:nvSpPr>
            <p:cNvPr id="53" name=""/>
            <p:cNvSpPr/>
            <p:nvPr/>
          </p:nvSpPr>
          <p:spPr>
            <a:xfrm>
              <a:off x="1366920" y="1676520"/>
              <a:ext cx="3352680" cy="3452400"/>
            </a:xfrm>
            <a:custGeom>
              <a:avLst/>
              <a:gdLst/>
              <a:ahLst/>
              <a:rect l="l" t="t" r="r" b="b"/>
              <a:pathLst>
                <a:path w="2112" h="1801">
                  <a:moveTo>
                    <a:pt x="0" y="34"/>
                  </a:moveTo>
                  <a:lnTo>
                    <a:pt x="50" y="23"/>
                  </a:lnTo>
                  <a:lnTo>
                    <a:pt x="84" y="12"/>
                  </a:lnTo>
                  <a:lnTo>
                    <a:pt x="118" y="12"/>
                  </a:lnTo>
                  <a:lnTo>
                    <a:pt x="152" y="12"/>
                  </a:lnTo>
                  <a:lnTo>
                    <a:pt x="186" y="23"/>
                  </a:lnTo>
                  <a:lnTo>
                    <a:pt x="220" y="23"/>
                  </a:lnTo>
                  <a:lnTo>
                    <a:pt x="254" y="23"/>
                  </a:lnTo>
                  <a:lnTo>
                    <a:pt x="288" y="23"/>
                  </a:lnTo>
                  <a:lnTo>
                    <a:pt x="322" y="34"/>
                  </a:lnTo>
                  <a:lnTo>
                    <a:pt x="356" y="34"/>
                  </a:lnTo>
                  <a:lnTo>
                    <a:pt x="390" y="34"/>
                  </a:lnTo>
                  <a:lnTo>
                    <a:pt x="424" y="46"/>
                  </a:lnTo>
                  <a:lnTo>
                    <a:pt x="458" y="57"/>
                  </a:lnTo>
                  <a:lnTo>
                    <a:pt x="492" y="80"/>
                  </a:lnTo>
                  <a:lnTo>
                    <a:pt x="525" y="102"/>
                  </a:lnTo>
                  <a:lnTo>
                    <a:pt x="559" y="125"/>
                  </a:lnTo>
                  <a:lnTo>
                    <a:pt x="593" y="159"/>
                  </a:lnTo>
                  <a:lnTo>
                    <a:pt x="627" y="193"/>
                  </a:lnTo>
                  <a:lnTo>
                    <a:pt x="650" y="227"/>
                  </a:lnTo>
                  <a:lnTo>
                    <a:pt x="673" y="261"/>
                  </a:lnTo>
                  <a:lnTo>
                    <a:pt x="684" y="295"/>
                  </a:lnTo>
                  <a:lnTo>
                    <a:pt x="707" y="329"/>
                  </a:lnTo>
                  <a:lnTo>
                    <a:pt x="718" y="363"/>
                  </a:lnTo>
                  <a:lnTo>
                    <a:pt x="741" y="397"/>
                  </a:lnTo>
                  <a:lnTo>
                    <a:pt x="752" y="431"/>
                  </a:lnTo>
                  <a:lnTo>
                    <a:pt x="763" y="465"/>
                  </a:lnTo>
                  <a:lnTo>
                    <a:pt x="775" y="498"/>
                  </a:lnTo>
                  <a:lnTo>
                    <a:pt x="786" y="532"/>
                  </a:lnTo>
                  <a:lnTo>
                    <a:pt x="797" y="566"/>
                  </a:lnTo>
                  <a:lnTo>
                    <a:pt x="820" y="600"/>
                  </a:lnTo>
                  <a:lnTo>
                    <a:pt x="831" y="634"/>
                  </a:lnTo>
                  <a:lnTo>
                    <a:pt x="843" y="668"/>
                  </a:lnTo>
                  <a:lnTo>
                    <a:pt x="843" y="702"/>
                  </a:lnTo>
                  <a:lnTo>
                    <a:pt x="854" y="736"/>
                  </a:lnTo>
                  <a:lnTo>
                    <a:pt x="865" y="770"/>
                  </a:lnTo>
                  <a:lnTo>
                    <a:pt x="865" y="815"/>
                  </a:lnTo>
                  <a:lnTo>
                    <a:pt x="877" y="849"/>
                  </a:lnTo>
                  <a:lnTo>
                    <a:pt x="877" y="883"/>
                  </a:lnTo>
                  <a:lnTo>
                    <a:pt x="877" y="917"/>
                  </a:lnTo>
                  <a:lnTo>
                    <a:pt x="888" y="951"/>
                  </a:lnTo>
                  <a:lnTo>
                    <a:pt x="888" y="985"/>
                  </a:lnTo>
                  <a:lnTo>
                    <a:pt x="888" y="1019"/>
                  </a:lnTo>
                  <a:lnTo>
                    <a:pt x="888" y="1053"/>
                  </a:lnTo>
                  <a:lnTo>
                    <a:pt x="877" y="1087"/>
                  </a:lnTo>
                  <a:lnTo>
                    <a:pt x="877" y="1121"/>
                  </a:lnTo>
                  <a:lnTo>
                    <a:pt x="865" y="1155"/>
                  </a:lnTo>
                  <a:lnTo>
                    <a:pt x="865" y="1189"/>
                  </a:lnTo>
                  <a:lnTo>
                    <a:pt x="854" y="1223"/>
                  </a:lnTo>
                  <a:lnTo>
                    <a:pt x="843" y="1257"/>
                  </a:lnTo>
                  <a:lnTo>
                    <a:pt x="843" y="1291"/>
                  </a:lnTo>
                  <a:lnTo>
                    <a:pt x="831" y="1325"/>
                  </a:lnTo>
                  <a:lnTo>
                    <a:pt x="831" y="1359"/>
                  </a:lnTo>
                  <a:lnTo>
                    <a:pt x="820" y="1393"/>
                  </a:lnTo>
                  <a:lnTo>
                    <a:pt x="820" y="1427"/>
                  </a:lnTo>
                  <a:lnTo>
                    <a:pt x="820" y="1461"/>
                  </a:lnTo>
                  <a:lnTo>
                    <a:pt x="820" y="1495"/>
                  </a:lnTo>
                  <a:lnTo>
                    <a:pt x="820" y="1528"/>
                  </a:lnTo>
                  <a:lnTo>
                    <a:pt x="820" y="1562"/>
                  </a:lnTo>
                  <a:lnTo>
                    <a:pt x="820" y="1596"/>
                  </a:lnTo>
                  <a:lnTo>
                    <a:pt x="820" y="1630"/>
                  </a:lnTo>
                  <a:lnTo>
                    <a:pt x="831" y="1664"/>
                  </a:lnTo>
                  <a:lnTo>
                    <a:pt x="843" y="1698"/>
                  </a:lnTo>
                  <a:lnTo>
                    <a:pt x="877" y="1721"/>
                  </a:lnTo>
                  <a:lnTo>
                    <a:pt x="910" y="1755"/>
                  </a:lnTo>
                  <a:lnTo>
                    <a:pt x="944" y="1766"/>
                  </a:lnTo>
                  <a:lnTo>
                    <a:pt x="978" y="1789"/>
                  </a:lnTo>
                  <a:lnTo>
                    <a:pt x="1012" y="1789"/>
                  </a:lnTo>
                  <a:lnTo>
                    <a:pt x="1046" y="1789"/>
                  </a:lnTo>
                  <a:lnTo>
                    <a:pt x="1069" y="1755"/>
                  </a:lnTo>
                  <a:lnTo>
                    <a:pt x="1069" y="1721"/>
                  </a:lnTo>
                  <a:lnTo>
                    <a:pt x="1080" y="1687"/>
                  </a:lnTo>
                  <a:lnTo>
                    <a:pt x="1080" y="1653"/>
                  </a:lnTo>
                  <a:lnTo>
                    <a:pt x="1058" y="1619"/>
                  </a:lnTo>
                  <a:lnTo>
                    <a:pt x="1046" y="1585"/>
                  </a:lnTo>
                  <a:lnTo>
                    <a:pt x="1024" y="1551"/>
                  </a:lnTo>
                  <a:lnTo>
                    <a:pt x="1024" y="1517"/>
                  </a:lnTo>
                  <a:lnTo>
                    <a:pt x="1035" y="1483"/>
                  </a:lnTo>
                  <a:lnTo>
                    <a:pt x="1069" y="1461"/>
                  </a:lnTo>
                  <a:lnTo>
                    <a:pt x="1103" y="1449"/>
                  </a:lnTo>
                  <a:lnTo>
                    <a:pt x="1137" y="1449"/>
                  </a:lnTo>
                  <a:lnTo>
                    <a:pt x="1171" y="1483"/>
                  </a:lnTo>
                  <a:lnTo>
                    <a:pt x="1182" y="1517"/>
                  </a:lnTo>
                  <a:lnTo>
                    <a:pt x="1194" y="1551"/>
                  </a:lnTo>
                  <a:lnTo>
                    <a:pt x="1194" y="1585"/>
                  </a:lnTo>
                  <a:lnTo>
                    <a:pt x="1194" y="1619"/>
                  </a:lnTo>
                  <a:lnTo>
                    <a:pt x="1194" y="1653"/>
                  </a:lnTo>
                  <a:lnTo>
                    <a:pt x="1182" y="1687"/>
                  </a:lnTo>
                  <a:lnTo>
                    <a:pt x="1182" y="1721"/>
                  </a:lnTo>
                  <a:lnTo>
                    <a:pt x="1182" y="1755"/>
                  </a:lnTo>
                  <a:lnTo>
                    <a:pt x="1216" y="1778"/>
                  </a:lnTo>
                  <a:lnTo>
                    <a:pt x="1250" y="1789"/>
                  </a:lnTo>
                  <a:lnTo>
                    <a:pt x="1284" y="1800"/>
                  </a:lnTo>
                  <a:lnTo>
                    <a:pt x="1318" y="1800"/>
                  </a:lnTo>
                  <a:lnTo>
                    <a:pt x="1352" y="1789"/>
                  </a:lnTo>
                  <a:lnTo>
                    <a:pt x="1386" y="1766"/>
                  </a:lnTo>
                  <a:lnTo>
                    <a:pt x="1409" y="1732"/>
                  </a:lnTo>
                  <a:lnTo>
                    <a:pt x="1420" y="1698"/>
                  </a:lnTo>
                  <a:lnTo>
                    <a:pt x="1420" y="1664"/>
                  </a:lnTo>
                  <a:lnTo>
                    <a:pt x="1431" y="1630"/>
                  </a:lnTo>
                  <a:lnTo>
                    <a:pt x="1431" y="1596"/>
                  </a:lnTo>
                  <a:lnTo>
                    <a:pt x="1431" y="1562"/>
                  </a:lnTo>
                  <a:lnTo>
                    <a:pt x="1431" y="1528"/>
                  </a:lnTo>
                  <a:lnTo>
                    <a:pt x="1431" y="1495"/>
                  </a:lnTo>
                  <a:lnTo>
                    <a:pt x="1431" y="1461"/>
                  </a:lnTo>
                  <a:lnTo>
                    <a:pt x="1420" y="1427"/>
                  </a:lnTo>
                  <a:lnTo>
                    <a:pt x="1420" y="1393"/>
                  </a:lnTo>
                  <a:lnTo>
                    <a:pt x="1409" y="1359"/>
                  </a:lnTo>
                  <a:lnTo>
                    <a:pt x="1397" y="1325"/>
                  </a:lnTo>
                  <a:lnTo>
                    <a:pt x="1386" y="1291"/>
                  </a:lnTo>
                  <a:lnTo>
                    <a:pt x="1386" y="1257"/>
                  </a:lnTo>
                  <a:lnTo>
                    <a:pt x="1375" y="1223"/>
                  </a:lnTo>
                  <a:lnTo>
                    <a:pt x="1375" y="1189"/>
                  </a:lnTo>
                  <a:lnTo>
                    <a:pt x="1352" y="1155"/>
                  </a:lnTo>
                  <a:lnTo>
                    <a:pt x="1341" y="1121"/>
                  </a:lnTo>
                  <a:lnTo>
                    <a:pt x="1318" y="1087"/>
                  </a:lnTo>
                  <a:lnTo>
                    <a:pt x="1307" y="1053"/>
                  </a:lnTo>
                  <a:lnTo>
                    <a:pt x="1284" y="1019"/>
                  </a:lnTo>
                  <a:lnTo>
                    <a:pt x="1273" y="985"/>
                  </a:lnTo>
                  <a:lnTo>
                    <a:pt x="1250" y="951"/>
                  </a:lnTo>
                  <a:lnTo>
                    <a:pt x="1239" y="917"/>
                  </a:lnTo>
                  <a:lnTo>
                    <a:pt x="1228" y="883"/>
                  </a:lnTo>
                  <a:lnTo>
                    <a:pt x="1228" y="849"/>
                  </a:lnTo>
                  <a:lnTo>
                    <a:pt x="1216" y="815"/>
                  </a:lnTo>
                  <a:lnTo>
                    <a:pt x="1216" y="781"/>
                  </a:lnTo>
                  <a:lnTo>
                    <a:pt x="1216" y="748"/>
                  </a:lnTo>
                  <a:lnTo>
                    <a:pt x="1216" y="714"/>
                  </a:lnTo>
                  <a:lnTo>
                    <a:pt x="1216" y="680"/>
                  </a:lnTo>
                  <a:lnTo>
                    <a:pt x="1216" y="646"/>
                  </a:lnTo>
                  <a:lnTo>
                    <a:pt x="1216" y="612"/>
                  </a:lnTo>
                  <a:lnTo>
                    <a:pt x="1216" y="578"/>
                  </a:lnTo>
                  <a:lnTo>
                    <a:pt x="1228" y="544"/>
                  </a:lnTo>
                  <a:lnTo>
                    <a:pt x="1228" y="510"/>
                  </a:lnTo>
                  <a:lnTo>
                    <a:pt x="1239" y="476"/>
                  </a:lnTo>
                  <a:lnTo>
                    <a:pt x="1250" y="442"/>
                  </a:lnTo>
                  <a:lnTo>
                    <a:pt x="1262" y="408"/>
                  </a:lnTo>
                  <a:lnTo>
                    <a:pt x="1262" y="374"/>
                  </a:lnTo>
                  <a:lnTo>
                    <a:pt x="1284" y="340"/>
                  </a:lnTo>
                  <a:lnTo>
                    <a:pt x="1295" y="306"/>
                  </a:lnTo>
                  <a:lnTo>
                    <a:pt x="1295" y="272"/>
                  </a:lnTo>
                  <a:lnTo>
                    <a:pt x="1318" y="238"/>
                  </a:lnTo>
                  <a:lnTo>
                    <a:pt x="1329" y="204"/>
                  </a:lnTo>
                  <a:lnTo>
                    <a:pt x="1352" y="170"/>
                  </a:lnTo>
                  <a:lnTo>
                    <a:pt x="1375" y="136"/>
                  </a:lnTo>
                  <a:lnTo>
                    <a:pt x="1397" y="102"/>
                  </a:lnTo>
                  <a:lnTo>
                    <a:pt x="1431" y="91"/>
                  </a:lnTo>
                  <a:lnTo>
                    <a:pt x="1465" y="68"/>
                  </a:lnTo>
                  <a:lnTo>
                    <a:pt x="1499" y="57"/>
                  </a:lnTo>
                  <a:lnTo>
                    <a:pt x="1533" y="46"/>
                  </a:lnTo>
                  <a:lnTo>
                    <a:pt x="1567" y="34"/>
                  </a:lnTo>
                  <a:lnTo>
                    <a:pt x="1601" y="23"/>
                  </a:lnTo>
                  <a:lnTo>
                    <a:pt x="1635" y="23"/>
                  </a:lnTo>
                  <a:lnTo>
                    <a:pt x="1669" y="12"/>
                  </a:lnTo>
                  <a:lnTo>
                    <a:pt x="1703" y="12"/>
                  </a:lnTo>
                  <a:lnTo>
                    <a:pt x="1737" y="12"/>
                  </a:lnTo>
                  <a:lnTo>
                    <a:pt x="1771" y="12"/>
                  </a:lnTo>
                  <a:lnTo>
                    <a:pt x="1805" y="0"/>
                  </a:lnTo>
                  <a:lnTo>
                    <a:pt x="1839" y="0"/>
                  </a:lnTo>
                  <a:lnTo>
                    <a:pt x="1873" y="0"/>
                  </a:lnTo>
                  <a:lnTo>
                    <a:pt x="1907" y="0"/>
                  </a:lnTo>
                  <a:lnTo>
                    <a:pt x="1941" y="12"/>
                  </a:lnTo>
                  <a:lnTo>
                    <a:pt x="1975" y="12"/>
                  </a:lnTo>
                  <a:lnTo>
                    <a:pt x="2009" y="12"/>
                  </a:lnTo>
                  <a:lnTo>
                    <a:pt x="2043" y="23"/>
                  </a:lnTo>
                  <a:lnTo>
                    <a:pt x="2077" y="23"/>
                  </a:lnTo>
                  <a:lnTo>
                    <a:pt x="2111" y="23"/>
                  </a:lnTo>
                </a:path>
              </a:pathLst>
            </a:custGeom>
            <a:noFill/>
            <a:ln cap="rnd" w="381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708000" y="4667040"/>
              <a:ext cx="467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ysine required for cell division</a:t>
              </a:r>
              <a:endParaRPr b="0" lang="en-US" sz="2400" spc="-1" strike="noStrike">
                <a:solidFill>
                  <a:srgbClr val="000000"/>
                </a:solidFill>
                <a:latin typeface="Times New Roman"/>
              </a:endParaRPr>
            </a:p>
          </p:txBody>
        </p:sp>
        <p:sp>
          <p:nvSpPr>
            <p:cNvPr id="55" name=""/>
            <p:cNvSpPr/>
            <p:nvPr/>
          </p:nvSpPr>
          <p:spPr>
            <a:xfrm>
              <a:off x="5335560" y="3957840"/>
              <a:ext cx="216000" cy="720720"/>
            </a:xfrm>
            <a:prstGeom prst="upArrow">
              <a:avLst>
                <a:gd name="adj1" fmla="val 50000"/>
                <a:gd name="adj2" fmla="val 166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714840" y="3286440"/>
              <a:ext cx="5202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ewer cells get more cysteine each</a:t>
              </a:r>
              <a:endParaRPr b="0" lang="en-US" sz="2400" spc="-1" strike="noStrike">
                <a:solidFill>
                  <a:srgbClr val="000000"/>
                </a:solidFill>
                <a:latin typeface="Times New Roman"/>
              </a:endParaRPr>
            </a:p>
          </p:txBody>
        </p:sp>
        <p:sp>
          <p:nvSpPr>
            <p:cNvPr id="57" name=""/>
            <p:cNvSpPr/>
            <p:nvPr/>
          </p:nvSpPr>
          <p:spPr>
            <a:xfrm>
              <a:off x="5335560" y="2577600"/>
              <a:ext cx="216000" cy="720720"/>
            </a:xfrm>
            <a:prstGeom prst="upArrow">
              <a:avLst>
                <a:gd name="adj1" fmla="val 50000"/>
                <a:gd name="adj2" fmla="val 166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778640" y="2090520"/>
              <a:ext cx="1879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er cells</a:t>
              </a:r>
              <a:endParaRPr b="0" lang="en-US" sz="2400" spc="-1" strike="noStrike">
                <a:solidFill>
                  <a:srgbClr val="000000"/>
                </a:solidFill>
                <a:latin typeface="Times New Roman"/>
              </a:endParaRPr>
            </a:p>
          </p:txBody>
        </p:sp>
        <p:sp>
          <p:nvSpPr>
            <p:cNvPr id="59" name=""/>
            <p:cNvSpPr/>
            <p:nvPr/>
          </p:nvSpPr>
          <p:spPr>
            <a:xfrm>
              <a:off x="2897280" y="46936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20960" y="487764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44640" y="460152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354480" y="487764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278160" y="46936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30440" y="46936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54480" y="45100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7280" y="2761560"/>
              <a:ext cx="63360" cy="12726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9560" y="2117160"/>
              <a:ext cx="63360" cy="12726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25880" y="2485440"/>
              <a:ext cx="63360" cy="12726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lysine-deficient protein on wool growth</a:t>
            </a:r>
            <a:endParaRPr b="1" lang="en-US" sz="3200" spc="-1" strike="noStrike">
              <a:solidFill>
                <a:srgbClr val="fafd00"/>
              </a:solidFill>
              <a:latin typeface="Arial"/>
            </a:endParaRPr>
          </a:p>
        </p:txBody>
      </p:sp>
      <p:sp>
        <p:nvSpPr>
          <p:cNvPr id="70"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18:51Z</dcterms:created>
  <dc:creator>USER</dc:creator>
  <dc:description/>
  <dc:language>en-US</dc:language>
  <cp:lastModifiedBy>Hdaily</cp:lastModifiedBy>
  <cp:lastPrinted>2000-02-03T09:09:47Z</cp:lastPrinted>
  <dcterms:modified xsi:type="dcterms:W3CDTF">2000-06-07T06:32:54Z</dcterms:modified>
  <cp:revision>4</cp:revision>
  <dc:subject/>
  <dc:title>Lysine and Wool Follicles</dc:title>
</cp:coreProperties>
</file>