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7DF3-90C1-45E0-A513-6550B0D7C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F0F1-9192-40A6-BD02-CB8619FD8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energy, vitamins and minerals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effect of vitamin A and D on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nd, P.I. (2000). The nutritional biochemistry of wool and hair follicles. </a:t>
            </a:r>
            <a:r>
              <a:rPr b="0" i="1" lang="en-GB" sz="1200" spc="-1" strike="noStrike">
                <a:solidFill>
                  <a:srgbClr val="000000"/>
                </a:solidFill>
                <a:latin typeface="Times New Roman"/>
              </a:rPr>
              <a:t>J. Anim. Sc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S = outer root shea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Prof Phil Hynd, The University of Adelaid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tamin A appears to influence fibre growth by altering keratin gene expression and by altering the production of insulin-like growth factors (IGF), epidermal growth factor and vitamin D a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tamins and Wool Grow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tamin D </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adiolabelled Vitamin D3 accumulates in ORS and bulb</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3 receptors found in papilla and 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3 receptor no. varies through hair cy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opecia occurs in patients with type II ricke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 defect in the D3 receptor</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3 alters fibre growth in cul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levels stimulated growth and high levels depressed growth</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tamin A</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ed responses to vitamin A supplementation in 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inoids have direct effects on keratinocyte growth and differenti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inoic acid receptors present in bulb, ORS and keratinising zo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itamin A alters production of IGF binding protei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3:59:32Z</dcterms:created>
  <dc:creator>USER</dc:creator>
  <dc:description/>
  <dc:language>en-US</dc:language>
  <cp:lastModifiedBy>Hdaily</cp:lastModifiedBy>
  <cp:lastPrinted>2000-02-03T09:09:47Z</cp:lastPrinted>
  <dcterms:modified xsi:type="dcterms:W3CDTF">2000-06-09T06:35:21Z</dcterms:modified>
  <cp:revision>2</cp:revision>
  <dc:subject/>
  <dc:title>No Slide Title</dc:title>
</cp:coreProperties>
</file>