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2FAD-F1D7-4430-8010-65F2E08F3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s designed to give some background into the impetus for the extensive development of raw wool metrology (measurement) in the wool industry during the last 25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w wool  is a complex mix of different characteristics (types, specifications).  Some of these characteristics can be measured accurately and precisely (i.e. specified).  The marketing of specified wool is much less costly than unspecified wool, and the evaluation of specified wool is much less reliant on experi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BD7B-F3B8-4428-82F5-483D05537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ganisation which oversees the trade in raw wool and wool products is the International Wool Textile Organisation (IWTO).  They look after things such as fair trading and standards.  The development of specifications for raw wool has a basis in the standards developed by IWTO.  It should be noted that Australian Standards have generally been used in many cases for the development of IWTO standards.  The development and implementation of standards within Australia and NZ is the responsibility of the TX/12 Raw Wool Committee of Standards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ts of the industry most interested in raw wool specification are people buying wool such as processing mills (topmakers in particular, since commission combers have to deal with what they are given), and the buyers who work for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ing mills are interested in improving the efficiency of production, as well as purchasing wool to achieve the specifications of their customers  at the lowest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prediction formulae can link the measurement of raw wool characteristics to processing efficiency, the use of specified wool is attractive to this sector of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specifications for raw wool has largely been funded by woolgrowers through the Australian Wool Research and Promotion organisation (AWRA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industry participants such as AWTA and CSIRO Division of Wool Technology (now Textile and Fibre Technology) have provided the technical input into these developments in most ca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BBB5-BE5D-49BA-9836-2423527D9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developed from a craft base.  Traditionally the experience required to purchase raw wool was gained over many years working for processing mills and understanding its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and economic developments have seen this tradition and experience eroded to the point where there was a need to more adequately describe the raw wool.  This has been another reason for the development of raw wool metr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event in the development of metrology was the adoption of Sale by Sample as the preferred marketing method of the Australian Wool Corporation (AWC), (the former commercial arm of AWRAP).  This replaced a system whereby every bale of a sale lot was displayed for buyers to judge the characteristics important to them and the mills they worked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option of Sale by Sample was only possible after instruments and the cost of testing were developed to levels acceptable to the industry as a whole.  AWTA and CSIRO TFT played important parts in the implementation and adoption of Sale by Samp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73F9-9515-4046-9DBA-5C6764090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able research and development went into the development of  methods of sampling.  Core and grab sampling now ensure that an economically representative sample can be ob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s gathered by these methods are used to test various raw wool properties a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idence of the buying fraternity was demonstrated, once the precision of the measurements was determined to have reached an acceptable level, by the adoption of these sampling metho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BAA2-C822-447B-823B-964BFDF0D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minent development in raw wool metrology is the inclusion of the CV of fibre diameter in sale catalogues.  This is expected to be implemented in the year 2000 by the adoption of SIROLAN-Laserscan as the instrument of choice for commercial diameter testing.  The Optical Fibre Diameter Analyser (OFDA) offers another method of measuring this par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urrent research is aimed at further utilising grab samples to objectively measure raw wool Style.  A dedicated instrument has been developed for this.  The commercialisation of this machine is proceeding and is expected to be completed in the near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search is aimed at the objective measurement of curvature.  Further sampling of core samples is the preferred method at present.  Instruments such as Laserscan and OFDA are likely to be utilised for this purpose.  A draft standard is currently being considered by Standards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outcome of all this R&amp;D is the adoption of Sale by Description (SxD), whereby raw wool can be sold without a display sample by description al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the success of SxD will be dependent on the buying fraternity having confidence in the description of the raw wool.  At present there is a mixture of objective and subjective measurements used to describe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option of SxD and the evolution of electronic selling are developments which rely on each other to a certain extent.  However the development of electronic selling is not dependent on SxD, and currently the Australian Wool Exchange is investigating the initiation of electronic se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TA Ltd also launched its first successful electronic auction of Australian wool via its WOOLINK system in September 1999.  A second auction was held in November that same y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Development of Raw Wool Metrolog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etus for Raw Wool Metrolog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national Wool Textile Organisation (IWTO)</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national trade in wool</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ndards &amp; fair trad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ludes major trading nat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ndards Australia TX/12 Raw Wool Committe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ust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mak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er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ralian Wool Research and Promotion Organisation (AWRA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stralian Wool Testing Authority (AWT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SIRO Division of Wool Technology (DWT)</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DISPLAY" descr=""/>
          <p:cNvPicPr/>
          <p:nvPr/>
        </p:nvPicPr>
        <p:blipFill>
          <a:blip r:embed="rId1"/>
          <a:stretch/>
        </p:blipFill>
        <p:spPr>
          <a:xfrm>
            <a:off x="1828800" y="3352680"/>
            <a:ext cx="3733920" cy="2455920"/>
          </a:xfrm>
          <a:prstGeom prst="rect">
            <a:avLst/>
          </a:prstGeom>
          <a:ln w="0">
            <a:noFill/>
          </a:ln>
        </p:spPr>
      </p:pic>
      <p:sp>
        <p:nvSpPr>
          <p:cNvPr id="53" name=""/>
          <p:cNvSpPr/>
          <p:nvPr/>
        </p:nvSpPr>
        <p:spPr>
          <a:xfrm>
            <a:off x="815292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story of Wool Metrology</a:t>
            </a:r>
            <a:endParaRPr b="1" lang="en-US" sz="3200" spc="-1" strike="noStrike">
              <a:solidFill>
                <a:srgbClr val="fafd00"/>
              </a:solidFill>
              <a:latin typeface="Arial"/>
            </a:endParaRPr>
          </a:p>
        </p:txBody>
      </p:sp>
      <p:sp>
        <p:nvSpPr>
          <p:cNvPr id="55"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erience, Tradi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s acting independent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ced processors and buy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rgely lost</a:t>
            </a:r>
            <a:endParaRPr b="1" lang="en-US" sz="1800" spc="-1" strike="noStrike">
              <a:solidFill>
                <a:srgbClr val="ffffff"/>
              </a:solidFill>
              <a:latin typeface="Arial"/>
            </a:endParaRPr>
          </a:p>
        </p:txBody>
      </p:sp>
      <p:sp>
        <p:nvSpPr>
          <p:cNvPr id="56"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 by Samp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ferred marketing method (AWC)</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st sav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struments available at required precision (CSIRO)</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asurements available at reasonable cost (AWTA)</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815292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ing Method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re tes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0'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 CV diamet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ield, VM, scoured colou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vature</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ab tes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rly 1980'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roduction of additional measurem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S, SL, POB</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VSS, CVSL</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ture Metrology Development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V of Diame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year 2000</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SERSCAN</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FDA</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3"/>
          <p:cNvSpPr>
            <a:spLocks noGrp="1"/>
          </p:cNvSpPr>
          <p:nvPr>
            <p:ph/>
          </p:nvPr>
        </p:nvSpPr>
        <p:spPr>
          <a:xfrm>
            <a:off x="4648320" y="761760"/>
            <a:ext cx="4495680" cy="518148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y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ren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vat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ren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 by Descrip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specification require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ectronic sell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WEX initia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WTA</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63" name="laserscan" descr=""/>
          <p:cNvPicPr/>
          <p:nvPr/>
        </p:nvPicPr>
        <p:blipFill>
          <a:blip r:embed="rId1"/>
          <a:srcRect l="0" t="4163" r="0" b="6250"/>
          <a:stretch/>
        </p:blipFill>
        <p:spPr>
          <a:xfrm>
            <a:off x="1600200" y="3048120"/>
            <a:ext cx="2894040" cy="3124080"/>
          </a:xfrm>
          <a:prstGeom prst="rect">
            <a:avLst/>
          </a:prstGeom>
          <a:ln w="0">
            <a:noFill/>
          </a:ln>
        </p:spPr>
      </p:pic>
      <p:sp>
        <p:nvSpPr>
          <p:cNvPr id="64" name=""/>
          <p:cNvSpPr/>
          <p:nvPr/>
        </p:nvSpPr>
        <p:spPr>
          <a:xfrm>
            <a:off x="815292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0:54:48Z</dcterms:created>
  <dc:creator>USER</dc:creator>
  <dc:description/>
  <dc:language>en-US</dc:language>
  <cp:lastModifiedBy>USER</cp:lastModifiedBy>
  <cp:lastPrinted>2000-02-03T09:09:47Z</cp:lastPrinted>
  <dcterms:modified xsi:type="dcterms:W3CDTF">2000-04-13T05:59:16Z</dcterms:modified>
  <cp:revision>3</cp:revision>
  <dc:subject/>
  <dc:title>The Development of Raw Wool Metrology</dc:title>
</cp:coreProperties>
</file>