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CB29-0F8B-4697-A79F-3BF96D295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brief look at each of these instruments used today to measure fibre diameter.  The features and principles of each instrument are examined, and the factors which affect their operation are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he years there have been numerous attempts to devise and introduce instruments for the routine measurement of wool fibre diameter.  Only two of these many attempts have survived until today.  They are the Projection Microscope and Airflow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jection Microscope gives both the mean and distribution of diameter and is popular in the USA, in several mills world wide and in research establishments because of the distribution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rflow device is by far the most commonly used method for the measurement of raw wool and tops.  The popularity of this device is due to its speed (and hence low cost) of operation, however it only gives the mean fibre diameter.  Airflow is a modification of the cotton Micronaire system and was introduced by the Wool Industries Research Association (WIRA) at Leeds in the 195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two methods for the measurement of diameter have been developed and are being introduced to the industry.  They are the CSIRO Sirolan-Laserscan and the Optical Fibre Diameter Analyser (OFDA) developed by BSC Electronics Pty. Ltd.  The rationale for both of these more advanced technologies is a degree of automation and computer control that will lower operating costs so they can compete with the Airflow, and the ability to provide both mean diameter and diameter distribution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our methods all use different approaches to the determination of fibre diameter.  While on average they will all tend to agree, they may give different answers on a particular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examining the instruments that measure the fibre diameter of wool fibres, the samples must be prepared fo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greasy cores are scoured and subsampled according to IWTO-19.  The washing preparation is checked by examining the amount of alcohol extractable matter left in the sample.  This is done by Soxhlet extraction as per the Yield standard.  The alcohol extractable matter must be less than 1.5%.  If it is not below this figure, the sample must be re-wa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qual quantities of wool are taken from the minimum 2 subsamples to form a laboratory sample of approximately 30 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boratory sample is then mechanically carded using a Shirley Analyser (laboratory scale card) to remove vegetable matter, dirt and to randomise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e is finally conditioned to equilibrium in the standard atmosphere of 65% RH and 20</a:t>
            </a:r>
            <a:r>
              <a:rPr b="0" lang="en-GB" sz="1200" spc="-1" strike="noStrike" baseline="30000">
                <a:solidFill>
                  <a:srgbClr val="000000"/>
                </a:solidFill>
                <a:latin typeface="Times New Roman"/>
              </a:rPr>
              <a:t>o</a:t>
            </a:r>
            <a:r>
              <a:rPr b="0" lang="en-GB" sz="1200" spc="-1" strike="noStrike">
                <a:solidFill>
                  <a:srgbClr val="000000"/>
                </a:solidFill>
                <a:latin typeface="Times New Roman"/>
              </a:rPr>
              <a: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Michael Bow, retired, CSIRO Division of Wool Technology and David Petri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pictures) Teasdale, D. C. (1995). The Wool Handbook, The A to Z of Fibre to T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jection microscope, as the name implies, projects a magnified image of the fibres onto a measuring screen which has a calibrated scale used to measure the diameter of the fibres.  It is a manual oper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y microscope that can project the image onto a screen could be used, but the two most popular are the WIRA microscope and Reichart Lanameter. The magnification required is 500X and the instruments are calibrated by a graticule (stage micro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nippets of specified lengths (0.4 and 0.8 mm) are cut from the conditioned laboratory sample and mounted on a standard microscope slide in a suitable medium and a cover slip appli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lide is placed under the microscope lens and the slide moved during measurement so that its area is covered uniformly, but so that no fibre can be measured twice.  After each movement the fibre images are focussed and their widths measured and placed into 2</a:t>
            </a:r>
            <a:r>
              <a:rPr b="0" lang="en-GB" sz="1100" spc="-1" strike="noStrike">
                <a:solidFill>
                  <a:srgbClr val="000000"/>
                </a:solidFill>
                <a:latin typeface="Symbol"/>
                <a:ea typeface="Symbol"/>
              </a:rPr>
              <a:t></a:t>
            </a:r>
            <a:r>
              <a:rPr b="0" lang="en-GB" sz="1100" spc="-1" strike="noStrike">
                <a:solidFill>
                  <a:srgbClr val="000000"/>
                </a:solidFill>
                <a:latin typeface="Times New Roman"/>
              </a:rPr>
              <a:t>m clas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requency distribution formed from this operation is used to calculate mean fibre diameter and fibre diameter distribu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three major factors that affect results obtained using this method 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very slow and labour intensive (approx. 600 snippets in two hours for a good operator).  Such is the case that usually not enough snippets are measured to give a sufficiently precise resul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operator dependent.  Standard wool tops are provided to calibrate operators.  This means that this method is not directly traceable to the International Standards Organisation (ISO) standard met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dependent on sample preparation.  If the snippets are cut too short the result will be biased toward a larger diameter. This is because the more elliptical fibres lie on their major axis.  Coarser fibres are considered to be more elliptical, therefore coarser fibres will measure broade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Michael Bow, retired, CSIRO Division of Wool Technology and David Petri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irflow method is used extensively in the trading of raw wool and wool tops.  Current developments may see this instrument largely replaced by Sirolan-Laserscan in the near fu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irflow instrument operates on the principle that the resistance to the flow of air through a plug of wool fibres of a given mass will increase as the mean fibre diameter decreases (and the surface area increases), for a given pressure dr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ce the method is indirect, the instrument must be calibrated by eight international standard tops which have been measured by both projection microscope and Airflow devic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actice a conditioned and carded test specimen is placed in a fixed volume chamber and measurements are recorded in millimeters (the scale reading for the change in pressure).  The mean value is converted to micrometers using the second order regression line of the calibration curve constructed from measurements on the Standard tops.  Standard atmosphere is required as the method depends on the weight of the test specimen (</a:t>
            </a:r>
            <a:r>
              <a:rPr b="0" lang="en-GB" sz="1100" spc="-1" strike="noStrike">
                <a:solidFill>
                  <a:srgbClr val="000000"/>
                </a:solidFill>
                <a:latin typeface="Times New Roman"/>
              </a:rPr>
              <a:t>2.5g ± 0.004g)</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method only measures mean fibre dia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jor factors that affect results obtained from this method 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dependent on sample preparation. The calibration material and unknown samples must be in the same state of preparation.  Shirley Analysing and hand carding are the two preferred methods of car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affected by changes in fibre density.  While changes in fibre density are difficult to quantify, they are a source of error.  Certainly medullation has a marked effect.  For this reason the measurement of Crossbred lambs wool is not recommended using this metho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depends on a supply of Standard calibration tops in large amounts to satisfy world-wide use.  The selection and uniformity of these tops is vital to the calibration of all the machines in operatio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tft.csiro.a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ool can be measured using the Sirolan-Laserscan or OFDA, it must go through one more process.  Wool tops can be guillotined, greasy wool is washed and dried after minico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m snippets (approx.) are taken by minicoring or guillotining the prepared sample as illustrated in this slide.  This means that a uniform sample of definite length can be presented to the instru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tft.csiro.a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epared snippets are mixed into a slurry with isopropyl alcohol and water, and transported past a low-power laser beam which is activating a photo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occluded (or removed) from the beam is proportional to the diameter of the snippet. The optical response in this instrument is not a shadowing of the fibre on the cell but a more complex diffraction pattern.  The snippets are filtered from the liquid after passing the beam and the liquid re-circulated.  The fibres have been shown to pass the laser beam in a random orientation in  rotation about the fibre axis.  The device can measure 2000 fibre snippets in a couple of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measurements are collected in 1 </a:t>
            </a:r>
            <a:r>
              <a:rPr b="0" lang="en-US" sz="1200" spc="-1" strike="noStrike">
                <a:solidFill>
                  <a:srgbClr val="000000"/>
                </a:solidFill>
                <a:latin typeface="Symbol"/>
                <a:ea typeface="Symbol"/>
              </a:rPr>
              <a:t></a:t>
            </a:r>
            <a:r>
              <a:rPr b="0" lang="en-US" sz="1200" spc="-1" strike="noStrike">
                <a:solidFill>
                  <a:srgbClr val="000000"/>
                </a:solidFill>
                <a:latin typeface="Times New Roman"/>
              </a:rPr>
              <a:t>m classes.  The mean fibre diameter and fibre diameter distribution are calculated from the frequency distribution obtained from this operation.  The measurement of mean fibre curvature is also possible with this instr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s which affect results obtained using this method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ibrated using the same eight Standard Tops as the Airflow but using values obtained from the Projection microscope.  A more traceable calibration procedure would be desirable and is under investig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quires a smart discrimination system to ensure that only measurements from a single snippet fully crossing the laser beam are accepted.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ess reliant on laboratory conditioning since the snippets are immersed in a mixture containing water at a known concentration which ensures even, rapid conditio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icture) http://www.ofda.c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DA instrument uses the principle of image analysis.  A image is captured digitally, and analysed using mathematical formulae called algorithms to obtain information from the im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m snippets are cut by minicoring or guillotining from a conditioned sample and air mounted between glass plates on a 76 X 76 mm slide.  The slide is placed on a computer controlled stage mechanism that steps the slide past the microscope lens in a manner similar to the Projection microscope.  After each step the image of the fibres in the field of view are captured digitally and analysed.  The device can measure 2000 snippets in a couple of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ant fibre measurements are recorded in 1</a:t>
            </a:r>
            <a:r>
              <a:rPr b="0" lang="en-US" sz="1200" spc="-1" strike="noStrike">
                <a:solidFill>
                  <a:srgbClr val="000000"/>
                </a:solidFill>
                <a:latin typeface="Symbol"/>
                <a:ea typeface="Symbol"/>
              </a:rPr>
              <a:t></a:t>
            </a:r>
            <a:r>
              <a:rPr b="0" lang="en-US" sz="1200" spc="-1" strike="noStrike">
                <a:solidFill>
                  <a:srgbClr val="000000"/>
                </a:solidFill>
                <a:latin typeface="Times New Roman"/>
              </a:rPr>
              <a:t>m classes.  Results for mean fibre diameter and diameter distribution are calculated from the frequency distribution obtained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different algorithms means that measurement of mean fibre curvature and curvature distribution are possible with this instrument.  Measurement of medullation is also possible with additional softw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s which affect results obtained using this metho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alibrated system and is based on the projection microscope values of eight Standard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discrimination algorithm in the software to guard against measuring fibre cross-over points and any non-fibrous material on th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ruments to Measure</a:t>
            </a:r>
            <a:br>
              <a:rPr sz="3200"/>
            </a:br>
            <a:r>
              <a:rPr b="1" lang="en-GB" sz="3200" spc="-1" strike="noStrike">
                <a:solidFill>
                  <a:srgbClr val="fafd00"/>
                </a:solidFill>
                <a:latin typeface="Arial"/>
              </a:rPr>
              <a:t>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trument Overview</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jection Microscop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rf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on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lan-Lasersca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FD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p:txBody>
      </p:sp>
      <p:sp>
        <p:nvSpPr>
          <p:cNvPr id="51"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Preparatio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19</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sh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cohol extract &lt; 1.5%</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b Sam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qual quantities from subsam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30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car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irley Analys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 sample to equilibriu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tmosphere</a:t>
            </a:r>
            <a:endParaRPr b="1" lang="en-US" sz="2400" spc="-1" strike="noStrike">
              <a:solidFill>
                <a:srgbClr val="ffffff"/>
              </a:solidFill>
              <a:latin typeface="Arial"/>
            </a:endParaRPr>
          </a:p>
        </p:txBody>
      </p:sp>
      <p:sp>
        <p:nvSpPr>
          <p:cNvPr id="54"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jection Microscope</a:t>
            </a:r>
            <a:endParaRPr b="1" lang="en-US" sz="3200" spc="-1" strike="noStrike">
              <a:solidFill>
                <a:srgbClr val="fafd00"/>
              </a:solidFill>
              <a:latin typeface="Arial"/>
            </a:endParaRPr>
          </a:p>
        </p:txBody>
      </p:sp>
      <p:pic>
        <p:nvPicPr>
          <p:cNvPr id="56" name="PMICRO" descr=""/>
          <p:cNvPicPr/>
          <p:nvPr/>
        </p:nvPicPr>
        <p:blipFill>
          <a:blip r:embed="rId1"/>
          <a:stretch/>
        </p:blipFill>
        <p:spPr>
          <a:xfrm>
            <a:off x="1309680" y="1447920"/>
            <a:ext cx="3414600" cy="4190760"/>
          </a:xfrm>
          <a:prstGeom prst="rect">
            <a:avLst/>
          </a:prstGeom>
          <a:ln w="0">
            <a:noFill/>
          </a:ln>
        </p:spPr>
      </p:pic>
      <p:pic>
        <p:nvPicPr>
          <p:cNvPr id="57" name="PMIMAGE" descr=""/>
          <p:cNvPicPr/>
          <p:nvPr/>
        </p:nvPicPr>
        <p:blipFill>
          <a:blip r:embed="rId2"/>
          <a:stretch/>
        </p:blipFill>
        <p:spPr>
          <a:xfrm>
            <a:off x="5410080" y="1454040"/>
            <a:ext cx="3565800" cy="4224600"/>
          </a:xfrm>
          <a:prstGeom prst="rect">
            <a:avLst/>
          </a:prstGeom>
          <a:ln w="0">
            <a:noFill/>
          </a:ln>
        </p:spPr>
      </p:pic>
      <p:sp>
        <p:nvSpPr>
          <p:cNvPr id="58" name=""/>
          <p:cNvSpPr/>
          <p:nvPr/>
        </p:nvSpPr>
        <p:spPr>
          <a:xfrm>
            <a:off x="6741000" y="6354720"/>
            <a:ext cx="2255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easdale, D.C. (1995)</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contrast="12000"/>
          </a:blip>
          <a:srcRect l="0" t="0" r="0" b="8451"/>
          <a:stretch/>
        </p:blipFill>
        <p:spPr>
          <a:xfrm>
            <a:off x="1523880" y="1143000"/>
            <a:ext cx="7391520" cy="4724280"/>
          </a:xfrm>
          <a:prstGeom prst="rect">
            <a:avLst/>
          </a:prstGeom>
          <a:ln w="0">
            <a:noFill/>
          </a:ln>
        </p:spPr>
      </p:pic>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irflow</a:t>
            </a:r>
            <a:endParaRPr b="1" lang="en-US" sz="3200" spc="-1" strike="noStrike">
              <a:solidFill>
                <a:srgbClr val="fafd00"/>
              </a:solidFill>
              <a:latin typeface="Arial"/>
            </a:endParaRPr>
          </a:p>
        </p:txBody>
      </p:sp>
      <p:sp>
        <p:nvSpPr>
          <p:cNvPr id="61" name=""/>
          <p:cNvSpPr/>
          <p:nvPr/>
        </p:nvSpPr>
        <p:spPr>
          <a:xfrm>
            <a:off x="4771440" y="4251240"/>
            <a:ext cx="788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s</a:t>
            </a:r>
            <a:endParaRPr b="0" lang="en-US" sz="1600" spc="-1" strike="noStrike">
              <a:solidFill>
                <a:srgbClr val="000000"/>
              </a:solidFill>
              <a:latin typeface="Times New Roman"/>
            </a:endParaRPr>
          </a:p>
        </p:txBody>
      </p:sp>
      <p:sp>
        <p:nvSpPr>
          <p:cNvPr id="62"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samplepr" descr=""/>
          <p:cNvPicPr/>
          <p:nvPr/>
        </p:nvPicPr>
        <p:blipFill>
          <a:blip r:embed="rId1">
            <a:lum contrast="6000"/>
          </a:blip>
          <a:stretch/>
        </p:blipFill>
        <p:spPr>
          <a:xfrm>
            <a:off x="2209680" y="838080"/>
            <a:ext cx="5715000" cy="5486400"/>
          </a:xfrm>
          <a:prstGeom prst="rect">
            <a:avLst/>
          </a:prstGeom>
          <a:ln w="0">
            <a:noFill/>
          </a:ln>
        </p:spPr>
      </p:pic>
      <p:sp>
        <p:nvSpPr>
          <p:cNvPr id="64" name=""/>
          <p:cNvSpPr/>
          <p:nvPr/>
        </p:nvSpPr>
        <p:spPr>
          <a:xfrm>
            <a:off x="6857640" y="640080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tft.csiro.au</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for Laserscan &amp; OFD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371600" y="1219320"/>
          <a:ext cx="7493040" cy="4479840"/>
        </p:xfrm>
        <a:graphic>
          <a:graphicData uri="http://schemas.openxmlformats.org/presentationml/2006/ole">
            <p:oleObj r:id="rId1" spid="">
              <p:embed/>
              <p:pic>
                <p:nvPicPr>
                  <p:cNvPr id="67" name="" descr=""/>
                  <p:cNvPicPr/>
                  <p:nvPr/>
                </p:nvPicPr>
                <p:blipFill>
                  <a:blip r:embed="rId2"/>
                  <a:stretch/>
                </p:blipFill>
                <p:spPr>
                  <a:xfrm>
                    <a:off x="1371600" y="1219320"/>
                    <a:ext cx="7493040" cy="4479840"/>
                  </a:xfrm>
                  <a:prstGeom prst="rect">
                    <a:avLst/>
                  </a:prstGeom>
                  <a:ln w="0">
                    <a:noFill/>
                  </a:ln>
                </p:spPr>
              </p:pic>
            </p:oleObj>
          </a:graphicData>
        </a:graphic>
      </p:graphicFrame>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Laserscan</a:t>
            </a:r>
            <a:endParaRPr b="1" lang="en-US" sz="3200" spc="-1" strike="noStrike">
              <a:solidFill>
                <a:srgbClr val="fafd00"/>
              </a:solidFill>
              <a:latin typeface="Arial"/>
            </a:endParaRPr>
          </a:p>
        </p:txBody>
      </p:sp>
      <p:sp>
        <p:nvSpPr>
          <p:cNvPr id="69" name=""/>
          <p:cNvSpPr/>
          <p:nvPr/>
        </p:nvSpPr>
        <p:spPr>
          <a:xfrm>
            <a:off x="6781680" y="635472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tft.csiro.au</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 (OFDA)</a:t>
            </a:r>
            <a:endParaRPr b="1" lang="en-US" sz="3200" spc="-1" strike="noStrike">
              <a:solidFill>
                <a:srgbClr val="fafd00"/>
              </a:solidFill>
              <a:latin typeface="Arial"/>
            </a:endParaRPr>
          </a:p>
        </p:txBody>
      </p:sp>
      <p:sp>
        <p:nvSpPr>
          <p:cNvPr id="71" name=""/>
          <p:cNvSpPr/>
          <p:nvPr/>
        </p:nvSpPr>
        <p:spPr>
          <a:xfrm>
            <a:off x="6858720" y="635472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a:t>
            </a:r>
            <a:endParaRPr b="0" lang="en-US" sz="1200" spc="-1" strike="noStrike">
              <a:solidFill>
                <a:srgbClr val="000000"/>
              </a:solidFill>
              <a:latin typeface="Times New Roman"/>
            </a:endParaRPr>
          </a:p>
        </p:txBody>
      </p:sp>
      <p:pic>
        <p:nvPicPr>
          <p:cNvPr id="72" name="OFDA_package" descr=""/>
          <p:cNvPicPr/>
          <p:nvPr/>
        </p:nvPicPr>
        <p:blipFill>
          <a:blip r:embed="rId1"/>
          <a:stretch/>
        </p:blipFill>
        <p:spPr>
          <a:xfrm>
            <a:off x="1981080" y="1447920"/>
            <a:ext cx="6172200" cy="455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21:54:34Z</dcterms:created>
  <dc:creator>Peter Auer</dc:creator>
  <dc:description/>
  <dc:language>en-US</dc:language>
  <cp:lastModifiedBy>select agreement</cp:lastModifiedBy>
  <cp:lastPrinted>2000-02-14T00:43:40Z</cp:lastPrinted>
  <dcterms:modified xsi:type="dcterms:W3CDTF">2000-03-07T23:45:09Z</dcterms:modified>
  <cp:revision>7</cp:revision>
  <dc:subject/>
  <dc:title>Instruments to Measure Fibre Diameter</dc:title>
</cp:coreProperties>
</file>