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F8AAF-AD26-4307-9BDA-8F73EB0B62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562040" y="533520"/>
            <a:ext cx="3657600" cy="2743200"/>
          </a:xfrm>
          <a:prstGeom prst="rect">
            <a:avLst/>
          </a:prstGeom>
          <a:ln w="0">
            <a:noFill/>
          </a:ln>
        </p:spPr>
      </p:sp>
      <p:sp>
        <p:nvSpPr>
          <p:cNvPr id="6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curvature is one of the main components of crimp.  Researchers have had promising results using fibre curvature measurements to predict crimp, spinning ability and wool bul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s discusses the measurement of fibre diameter curvature as measured by the Optical Fibre Diameter Analyser (OFD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ark Brims, BSC Electronics Pty Ltd. and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ark Brims, 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DA 100 was introduced in 1991 and is now in use across 22 countries.  It is used at all stages in the wool processing chain, from raw wool to fabric.  OFDA also has several measurement options in addition to mean fibre diameter and fibre diameter distribution (see module ‘Optical Fibre Diameter Analyser: Measurement of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opacity measurement option is used to estimate medullation and flat fibres (see module ‘Optical Fibre Diameter Analyser: Measurement of Fibre Medullation’). A more recent option measures fibre diameter along the fibre, and cleanli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urvature measurement option discussed in this module measures snippet curvature in degrees per mm.  After a fibre has been tracked, recognised and measured, the program follows along the length of the fibre to find a 200µm long segment of the fibre that does not intersect other fibres.  When a clear length is found the OFDA software assumes that the clear length forms a circular arc and proceeds to calculate the curve of both sides of the fibre.  If the curve for both sides is similar then the curves are averaged to become the curve of that fibre, otherwise the curve is rejected.  The curvature of the 200µm portion is then multiplied by 5 so that it represents the curvature of a 1mm arc of that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bre curvature is measured at a resolution of 1 deg/mm, and this builds a histogram of curve values. The maximum allowed curve is 500 deg/mm.  An example of this histogram is shown in the next sl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ark Brims, 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urve measurement result is presented as a mean curvature and a standard deviation of curvature (in [ ] square brackets after the mean curvature).  The fibre curve is measured in degree per mm.  A straight fibre will have a curve of 0 deg/mm, a fibre that is 1mm long and forms a circle will have a curve of 360 deg/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lationship between measured crimp frequency and fibre curvature has been found to be high.  A higher curve implies a higher crimp frequency.  A lower standard deviation of curve implies that the curve or crimp is more uniform between fibre snipp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ample of a histogram of snippet curvature is shown above.  It should be noted that the distribution of curvature measurement does not follow a normal distribu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ark Brims, BSC Electronics Pty Ltd. and Dr. Peter Auer, The University of New South Wa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ptical Fibre Diameter Analyser:</a:t>
            </a:r>
            <a:br>
              <a:rPr sz="3200"/>
            </a:br>
            <a:r>
              <a:rPr b="1" lang="en-GB" sz="3200" spc="-1" strike="noStrike">
                <a:solidFill>
                  <a:srgbClr val="fafd00"/>
                </a:solidFill>
                <a:latin typeface="Arial"/>
              </a:rPr>
              <a:t> Fibre Curve Measurem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ark Brims, BSC Electronics Pty Ltd.,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FDA Fibre Curve Measurement</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64008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rt of normal OFDA diameter program</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t “curve measure” to y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gree of bend of the snippe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g/mm</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istogram</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 curve - high crimp frequency</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51" name="" descr=""/>
          <p:cNvPicPr/>
          <p:nvPr/>
        </p:nvPicPr>
        <p:blipFill>
          <a:blip r:embed="rId1">
            <a:lum contrast="6000"/>
          </a:blip>
          <a:stretch/>
        </p:blipFill>
        <p:spPr>
          <a:xfrm>
            <a:off x="2895480" y="3809880"/>
            <a:ext cx="4267440" cy="2590920"/>
          </a:xfrm>
          <a:prstGeom prst="rect">
            <a:avLst/>
          </a:prstGeom>
          <a:ln w="19080">
            <a:solidFill>
              <a:srgbClr val="000000"/>
            </a:solidFill>
            <a:miter/>
          </a:ln>
        </p:spPr>
      </p:pic>
      <p:sp>
        <p:nvSpPr>
          <p:cNvPr id="52" name=""/>
          <p:cNvSpPr/>
          <p:nvPr/>
        </p:nvSpPr>
        <p:spPr>
          <a:xfrm>
            <a:off x="7238520" y="6507000"/>
            <a:ext cx="1869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urve Histogram</a:t>
            </a:r>
            <a:endParaRPr b="1" lang="en-US" sz="3200" spc="-1" strike="noStrike">
              <a:solidFill>
                <a:srgbClr val="fafd00"/>
              </a:solidFill>
              <a:latin typeface="Arial"/>
            </a:endParaRPr>
          </a:p>
        </p:txBody>
      </p:sp>
      <p:pic>
        <p:nvPicPr>
          <p:cNvPr id="54" name="curve_hist" descr=""/>
          <p:cNvPicPr/>
          <p:nvPr/>
        </p:nvPicPr>
        <p:blipFill>
          <a:blip r:embed="rId1"/>
          <a:stretch/>
        </p:blipFill>
        <p:spPr>
          <a:xfrm>
            <a:off x="1371600" y="1122480"/>
            <a:ext cx="7467480" cy="4744800"/>
          </a:xfrm>
          <a:prstGeom prst="rect">
            <a:avLst/>
          </a:prstGeom>
          <a:ln w="0">
            <a:noFill/>
          </a:ln>
        </p:spPr>
      </p:pic>
      <p:sp>
        <p:nvSpPr>
          <p:cNvPr id="55" name=""/>
          <p:cNvSpPr/>
          <p:nvPr/>
        </p:nvSpPr>
        <p:spPr>
          <a:xfrm>
            <a:off x="7238520" y="6507000"/>
            <a:ext cx="1869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urther Information</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http://www.ofda.com/latest.html</a:t>
            </a:r>
            <a:endParaRPr b="1" lang="en-US" sz="2800" spc="-1" strike="noStrike">
              <a:solidFill>
                <a:srgbClr val="ffffff"/>
              </a:solidFill>
              <a:latin typeface="Arial"/>
            </a:endParaRPr>
          </a:p>
        </p:txBody>
      </p:sp>
      <p:sp>
        <p:nvSpPr>
          <p:cNvPr id="58" name=""/>
          <p:cNvSpPr/>
          <p:nvPr/>
        </p:nvSpPr>
        <p:spPr>
          <a:xfrm>
            <a:off x="8155080" y="6507000"/>
            <a:ext cx="95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23:26:13Z</dcterms:created>
  <dc:creator>USER</dc:creator>
  <dc:description/>
  <dc:language>en-US</dc:language>
  <cp:lastModifiedBy>select agreement</cp:lastModifiedBy>
  <cp:lastPrinted>2000-02-03T09:09:47Z</cp:lastPrinted>
  <dcterms:modified xsi:type="dcterms:W3CDTF">2000-03-03T04:06:53Z</dcterms:modified>
  <cp:revision>3</cp:revision>
  <dc:subject/>
  <dc:title>Optical Fibre Diameter Analyser: Fibre Curve Measurement</dc:title>
</cp:coreProperties>
</file>