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7DB6-8797-4BDE-A276-EB90BE245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vers information about some of the tests performed on tops to ensure they conform to customer’s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specifications vary, and only a selection of these tests may be necessary to fulfil the orders.  Some tests have been covered in other modules, such as “Hauteur”, “Evenness” and “Re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EE12-FB56-47FF-B109-E1216AE93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ing oils can be added to control static electricity during spinning and may be part of the top buyers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il and residual fatty matter content are usually determined using Soxhlet extraction and a suitable solv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determination of %oil added, the level of residual fatty matter must be known, otherwise only the total solvent extractables can be det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delivery configuration of the tops may be specified.  This can be in the form of bobbins, bumps or hanks.  The final agreement is tied to the needs of the customer.  For further information see “Gilling” module, and the formation of these top fo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scough, S. (1994), Practical Hints to Improve the Quality and Performance of Australian Wool during ESP, AWRAP,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lide displays an abridged example of what a top buyer might specify to a topmaker with respect to the product they want.  There is usually more specification involved with fibre length such as % fibres &lt; 25mm and L 5%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would obviously vary according to which customers were involved, but provides a good example of the stringent requirements that a topmaker must me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modules cover Diameter, Evenness and Regain, so this module will concentrate on those not covered elsew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A551-B79E-450C-9E8E-547DE64DE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in has been measured for many years with such apparatus as the CSIRO Rapid Dryer, which provides a direct readout of regain from a sample of wool.  This particular method requires samples to be selected and measured during processing.  The sample weight required is about 250g and the test takes about 10 min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er method involves the use of the principle of conductivity, or capacitance.  A similar principle is employed in the measurement of Hauteur and Evenness, whereby changes in mass can be detected by passing wool between electrically charged pl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f these principles are sensitive to fibre diameter and chemical treatments, such as shrink-proofing.  The methods must be calibrated to overcome this sensi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test method of regain analysis involves the use of near infra-red sensors which can detect the actual amount of water in a sample by exciting the water molecules to a higher energy state.  This excitation level can be measured and translated into regain by a calibration equation.  This method is claimed to use less sample weight, and be less sensitive to fibre diameter and the treatments the wool may have undergone.  The test time is about 5 minutes and requires about 10g of sample.  The machines used still require calibration and routine chec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gain of the top can be adjusted during Finisher Gilling, usually by spraying water onto the sli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n diameter of top is slightly higher, compared to the mean diameter of the raw wool in the consignment.  The difference is significant but not great, about 1% coarser in tops.  This is thought to be due to the fact that the noil removed during combing is from a part of the fibre population which is shorter and finer, about 10% fi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customer specifications are concerned the mean fibre diameter is paramount in present trading environments, while the distribution of fibre diameter in tops is becoming a feature of specifications, but adoption of these measurements is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diameter property which is gaining increasingly in importance is the % of fibres greater than 30</a:t>
            </a:r>
            <a:r>
              <a:rPr b="0" lang="en-AU" sz="1200" spc="-1" strike="noStrike">
                <a:solidFill>
                  <a:srgbClr val="000000"/>
                </a:solidFill>
                <a:latin typeface="Symbol"/>
                <a:ea typeface="Symbol"/>
              </a:rPr>
              <a:t></a:t>
            </a:r>
            <a:r>
              <a:rPr b="0" lang="en-AU" sz="1200" spc="-1" strike="noStrike">
                <a:solidFill>
                  <a:srgbClr val="000000"/>
                </a:solidFill>
                <a:latin typeface="Times New Roman"/>
              </a:rPr>
              <a:t>m.  This figure has been variously referred to as the comfort factor or prickle factor.  A greater percentage of fibres above this diameter has been correlated to the level of discomfort felt by wearers of wool products.  This figure can be derived from measurements of the diameter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ith raw wool, fibre diameter in tops can be measured in a number of ways.  For further detail see the “Instruments to Measure Fibre Diameter” module.  Of those listed above, only the Airflow method doesn’t return a value for diameter distribu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EE0D-784A-49AB-8540-48C41ACA0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near density of the finished top is also included in spinners’ specifications.  Linear density of sliver and tops is usually expressed as kilotex (g/m).  This can be determined by counting the length of top during packaging and weighing the package after they are fu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ver is an intermediate product and its linear density is important “in-house” to monitor processing performan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ving is another intermediate product which is monitored for quality control (QC) purposes.  A wrap roller is used to measure 10m of roving wrapped around the roller of 1m circumference.  The length is then weighed and the result may be expressed as kilotex (g/m)  or decitex (g/10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a wrap reel which is used to measure yarn.  Usually 100m of yarn is wrapped at constant tension, and then weighed to return a result expressed as tex (g/k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F15D-A762-41B5-8D5A-322819224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our of a top is important since this will determine the colour of the substrate that is dyed.  The best substrate for colour matching during dyeing is pure white, although this is rarely achievable.  The property measured is Whiteness, as opposed to Yellowness which is the measurement used for raw wool sales.  See “The Measurement of Wool Colour” module for more information on yellowness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our of top can be determined by matching the finished product to visual standards.  This is a subjective measurement, but may be all that some customers requi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 measurements may be made using a colorimeter or a spectrophotometer.  These return CIE tristimulus values of the sample, expressed as X,Y,Z, or as L*(brightness), a*(green-red), b*(blue-yel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of Whiteness (W) is derived from the eq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 = [(100-0.94Y)</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 (2.84X - 2.35Z)</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a:t>
            </a:r>
            <a:r>
              <a:rPr b="0" lang="en-GB" sz="1200" spc="-1" strike="noStrike" baseline="30000">
                <a:solidFill>
                  <a:srgbClr val="000000"/>
                </a:solidFill>
                <a:latin typeface="Times New Roman"/>
              </a:rPr>
              <a:t>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ness refers to the whole visible colour spectrum, hence the use of X, Y and 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ference wool is used to calibrate a cream reference tile, rather than a white tile which is common in the colour matching indust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0D91-DD0E-42F0-AF91-671669603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of diagrams: ASTM-D-1770, Fig 11 &amp; 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iculty in the determination of the fault content of tops is in their definition.  They are very diverse, and they also occur with variable frequency.  Therefore their measurement is fraught with inherent difficulties.  Nevertheless, top buyers require that the level of these faults is controlled in the final product, so methods have been developed to define and measure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faults are listed a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ws and bast fibres (various length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r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oured fib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ub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p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eign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versity of VM faults and the various sizes of nep faults are illustrated abov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mechanical opening devices have been developed to aid the difficult task of measuring top faults.  Generally these devices consist of a drafting zone which thins the top and also spreads it out to be displayed over a background field.  The length of top opened is usually 1m lo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ckground field may be illuminated, or black depending on the fault being measured.  For example a balanced light field consists of lighting from above and below which allows dark fibres to be easily identified and cou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is manual and the web density may have an effect on the count of faults.  The results tend to be variable and operator dependa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6317-F0A4-4DE7-B4B4-114848C12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 of the top can be a part of top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st there is some literature which suggests that the control of static electricity plays a part in the specification of pH, the use of humidity and anti-static applications should take care of this probl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usage of tops with a specified pH is for treatments such as Superwash which are affected by the pH of the emulsion solution.  The pH of the top will also affect the dyeing properties of the wool (especially where top dyeing is employ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pH is determined by measuring aqueous extractions of top samples as described in the listed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p Tes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il Content</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ing oils add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idual fatty matter cont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se level</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xhlet extraction</a:t>
            </a:r>
            <a:endParaRPr b="1" lang="en-US" sz="2400" spc="-1" strike="noStrike">
              <a:solidFill>
                <a:srgbClr val="ffffff"/>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afd00"/>
                </a:solidFill>
                <a:latin typeface="Arial"/>
              </a:rPr>
              <a:t>Delivery Configuration</a:t>
            </a:r>
            <a:endParaRPr b="1" lang="en-US" sz="3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bbin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mp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nks</a:t>
            </a:r>
            <a:endParaRPr b="1" lang="en-US" sz="2800" spc="-1" strike="noStrike">
              <a:solidFill>
                <a:srgbClr val="ffffff"/>
              </a:solidFill>
              <a:latin typeface="Arial"/>
            </a:endParaRPr>
          </a:p>
        </p:txBody>
      </p:sp>
      <p:pic>
        <p:nvPicPr>
          <p:cNvPr id="84" name="baletotop" descr=""/>
          <p:cNvPicPr/>
          <p:nvPr/>
        </p:nvPicPr>
        <p:blipFill>
          <a:blip r:embed="rId1"/>
          <a:srcRect l="0" t="56253" r="0" b="0"/>
          <a:stretch/>
        </p:blipFill>
        <p:spPr>
          <a:xfrm>
            <a:off x="4038480" y="4305240"/>
            <a:ext cx="3810240" cy="1333440"/>
          </a:xfrm>
          <a:prstGeom prst="rect">
            <a:avLst/>
          </a:prstGeom>
          <a:ln w="0">
            <a:noFill/>
          </a:ln>
        </p:spPr>
      </p:pic>
      <p:sp>
        <p:nvSpPr>
          <p:cNvPr id="8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ferences</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rker, S.G.(1931), "Wool Quality", WIRA, HM Stationery Office, Lond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ton, W.E. and Hearle, J.W.S., (1962),  "Physical Properties of Textile Fibres", The Textile Institute, Butterworths, Lond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cough, S., (1994), "Practical Hints to Improve the Quality and Performance of Australian Wool during Early Stage Processing", AWRAP, Melbourn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 Specification (example)</a:t>
            </a:r>
            <a:endParaRPr b="1" lang="en-US" sz="3200" spc="-1" strike="noStrike">
              <a:solidFill>
                <a:srgbClr val="fafd00"/>
              </a:solidFill>
              <a:latin typeface="Arial"/>
            </a:endParaRPr>
          </a:p>
        </p:txBody>
      </p:sp>
      <p:sp>
        <p:nvSpPr>
          <p:cNvPr id="50" name="PlaceHolder 2"/>
          <p:cNvSpPr>
            <a:spLocks noGrp="1"/>
          </p:cNvSpPr>
          <p:nvPr>
            <p:ph/>
          </p:nvPr>
        </p:nvSpPr>
        <p:spPr>
          <a:xfrm>
            <a:off x="1294920" y="838080"/>
            <a:ext cx="2971800" cy="5181840"/>
          </a:xfrm>
          <a:prstGeom prst="rect">
            <a:avLst/>
          </a:prstGeom>
          <a:noFill/>
          <a:ln w="0">
            <a:noFill/>
          </a:ln>
        </p:spPr>
        <p:txBody>
          <a:bodyPr lIns="90000" rIns="90000" tIns="46800" bIns="46800" anchor="t">
            <a:normAutofit fontScale="97000"/>
          </a:bodyPr>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afd00"/>
                </a:solidFill>
                <a:latin typeface="Arial"/>
              </a:rPr>
              <a:t>Specification</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iameter (</a:t>
            </a:r>
            <a:r>
              <a:rPr b="1" lang="en-AU" sz="1600" spc="-1" strike="noStrike">
                <a:solidFill>
                  <a:srgbClr val="ffffff"/>
                </a:solidFill>
                <a:latin typeface="Symbol"/>
                <a:ea typeface="Symbol"/>
              </a:rPr>
              <a:t></a:t>
            </a:r>
            <a:r>
              <a:rPr b="1" lang="en-AU" sz="1600" spc="-1" strike="noStrike">
                <a:solidFill>
                  <a:srgbClr val="ffffff"/>
                </a:solidFill>
                <a:latin typeface="Arial"/>
              </a:rPr>
              <a:t>m)</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ength (mm)</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V Length (%)</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il Content (%)</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isture (%)</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liver Wt. (kte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op Wt. (kg)</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op size</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venness (% Uster)</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eps large</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eps small</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lubs</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egetable Matter (VM) Seed</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M Burr</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loured Fibre</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ther Fibres</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lour</a:t>
            </a:r>
            <a:endParaRPr b="1" lang="en-US" sz="1600" spc="-1" strike="noStrike">
              <a:solidFill>
                <a:srgbClr val="ffffff"/>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afd00"/>
                </a:solidFill>
                <a:latin typeface="Arial"/>
              </a:rPr>
              <a:t>Standard</a:t>
            </a:r>
            <a:r>
              <a:rPr b="1" lang="en-AU" sz="1600" spc="-1" strike="noStrike">
                <a:solidFill>
                  <a:srgbClr val="fafd00"/>
                </a:solidFill>
                <a:latin typeface="Arial"/>
              </a:rPr>
              <a:t>	</a:t>
            </a:r>
            <a:r>
              <a:rPr b="1" lang="en-AU" sz="1600" spc="-1" strike="noStrike">
                <a:solidFill>
                  <a:srgbClr val="fafd00"/>
                </a:solidFill>
                <a:latin typeface="Arial"/>
              </a:rPr>
              <a:t>	</a:t>
            </a:r>
            <a:r>
              <a:rPr b="1" lang="en-AU" sz="1600" spc="-1" strike="noStrike">
                <a:solidFill>
                  <a:srgbClr val="fafd00"/>
                </a:solidFill>
                <a:latin typeface="Arial"/>
              </a:rPr>
              <a:t>Allowance</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1.0</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 0.6</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68 AH</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 2</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50</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0.8</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8.25</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0</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360mm x 400mm</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3</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 1</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10g</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 per 10g</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kg</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5 per 250g</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250g</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10g</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250g</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 per sample</a:t>
            </a:r>
            <a:endParaRPr b="1" lang="en-US" sz="1600" spc="-1" strike="noStrike">
              <a:solidFill>
                <a:srgbClr val="ffffff"/>
              </a:solidFill>
              <a:latin typeface="Arial"/>
            </a:endParaRPr>
          </a:p>
        </p:txBody>
      </p:sp>
      <p:sp>
        <p:nvSpPr>
          <p:cNvPr id="52" name=""/>
          <p:cNvSpPr/>
          <p:nvPr/>
        </p:nvSpPr>
        <p:spPr>
          <a:xfrm>
            <a:off x="7005960" y="6400800"/>
            <a:ext cx="2061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scough, S.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ain &amp; Invoice Mass</a:t>
            </a:r>
            <a:endParaRPr b="1" lang="en-US" sz="3200" spc="-1" strike="noStrike">
              <a:solidFill>
                <a:srgbClr val="fafd00"/>
              </a:solidFill>
              <a:latin typeface="Arial"/>
            </a:endParaRPr>
          </a:p>
        </p:txBody>
      </p:sp>
      <p:sp>
        <p:nvSpPr>
          <p:cNvPr id="54"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gai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ndards appli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25%</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5% r.h., 20 oC)</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dry combed standar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17%</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scoured wool</a:t>
            </a:r>
            <a:endParaRPr b="1" lang="en-US" sz="1800" spc="-1" strike="noStrike">
              <a:solidFill>
                <a:srgbClr val="ffffff"/>
              </a:solidFill>
              <a:latin typeface="Arial"/>
            </a:endParaRPr>
          </a:p>
        </p:txBody>
      </p:sp>
      <p:sp>
        <p:nvSpPr>
          <p:cNvPr id="55"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oice Ma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ured / carbonis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33- 88(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34- 85(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pacita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41- 92(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ar Infra-R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IRS sensors</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ameter of Top</a:t>
            </a:r>
            <a:endParaRPr b="1" lang="en-US" sz="3200" spc="-1" strike="noStrike">
              <a:solidFill>
                <a:srgbClr val="fafd00"/>
              </a:solidFill>
              <a:latin typeface="Arial"/>
            </a:endParaRPr>
          </a:p>
        </p:txBody>
      </p:sp>
      <p:sp>
        <p:nvSpPr>
          <p:cNvPr id="59"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ight increase (1%)</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w wool to top</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e, short fibres combed out</a:t>
            </a: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Symbol"/>
                <a:ea typeface="Symbol"/>
              </a:rPr>
              <a:t></a:t>
            </a:r>
            <a:r>
              <a:rPr b="1" lang="en-US" sz="2000" spc="-1" strike="noStrike">
                <a:solidFill>
                  <a:srgbClr val="ffffff"/>
                </a:solidFill>
                <a:latin typeface="Arial"/>
              </a:rPr>
              <a:t>m</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fibres &gt;30</a:t>
            </a:r>
            <a:r>
              <a:rPr b="1" lang="en-US" sz="2000" spc="-1" strike="noStrike">
                <a:solidFill>
                  <a:srgbClr val="ffffff"/>
                </a:solidFill>
                <a:latin typeface="Symbol"/>
                <a:ea typeface="Symbol"/>
              </a:rPr>
              <a:t></a:t>
            </a:r>
            <a:r>
              <a:rPr b="1" lang="en-US" sz="2000" spc="-1" strike="noStrike">
                <a:solidFill>
                  <a:srgbClr val="ffffff"/>
                </a:solidFill>
                <a:latin typeface="Arial"/>
              </a:rPr>
              <a:t>m</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fort facto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kle factor</a:t>
            </a:r>
            <a:endParaRPr b="1" lang="en-US" sz="1800" spc="-1" strike="noStrike">
              <a:solidFill>
                <a:srgbClr val="ffffff"/>
              </a:solidFill>
              <a:latin typeface="Arial"/>
            </a:endParaRPr>
          </a:p>
        </p:txBody>
      </p:sp>
      <p:sp>
        <p:nvSpPr>
          <p:cNvPr id="60"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ion Microsco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rflow</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ROLAN-Lasersca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DA</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near Density</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33530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 bobbi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ngth counted during finisher gill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iv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im produc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in-hous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ul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sioned sliv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ov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ap roller</a:t>
            </a:r>
            <a:endParaRPr b="1" lang="en-US" sz="2000" spc="-1" strike="noStrike">
              <a:solidFill>
                <a:srgbClr val="ffffff"/>
              </a:solidFill>
              <a:latin typeface="Arial"/>
            </a:endParaRPr>
          </a:p>
        </p:txBody>
      </p:sp>
      <p:sp>
        <p:nvSpPr>
          <p:cNvPr id="63"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ap reel</a:t>
            </a:r>
            <a:endParaRPr b="1" lang="en-US" sz="2000" spc="-1" strike="noStrike">
              <a:solidFill>
                <a:srgbClr val="ffffff"/>
              </a:solidFill>
              <a:latin typeface="Arial"/>
            </a:endParaRPr>
          </a:p>
        </p:txBody>
      </p:sp>
      <p:pic>
        <p:nvPicPr>
          <p:cNvPr id="64" name="Reel" descr=""/>
          <p:cNvPicPr/>
          <p:nvPr/>
        </p:nvPicPr>
        <p:blipFill>
          <a:blip r:embed="rId1"/>
          <a:stretch/>
        </p:blipFill>
        <p:spPr>
          <a:xfrm>
            <a:off x="4245120" y="1676520"/>
            <a:ext cx="4822560" cy="4019400"/>
          </a:xfrm>
          <a:prstGeom prst="rect">
            <a:avLst/>
          </a:prstGeom>
          <a:ln w="0">
            <a:noFill/>
          </a:ln>
        </p:spPr>
      </p:pic>
      <p:sp>
        <p:nvSpPr>
          <p:cNvPr id="6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lour</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nd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35- 87(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gree of White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ole spectrum (X,Y and Z u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sual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strum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orimet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ctrophotomet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libration</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ference wool &amp; cream tile</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ult Content (VM &amp; Nep)</a:t>
            </a:r>
            <a:endParaRPr b="1" lang="en-US" sz="3200" spc="-1" strike="noStrike">
              <a:solidFill>
                <a:srgbClr val="fafd00"/>
              </a:solidFill>
              <a:latin typeface="Arial"/>
            </a:endParaRPr>
          </a:p>
        </p:txBody>
      </p:sp>
      <p:sp>
        <p:nvSpPr>
          <p:cNvPr id="70"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WTO- 24- 73(E)</a:t>
            </a:r>
            <a:endParaRPr b="1" lang="en-US" sz="2000" spc="-1" strike="noStrike">
              <a:solidFill>
                <a:srgbClr val="ffffff"/>
              </a:solidFill>
              <a:latin typeface="Arial"/>
            </a:endParaRPr>
          </a:p>
        </p:txBody>
      </p:sp>
      <p:sp>
        <p:nvSpPr>
          <p:cNvPr id="7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i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vers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riable frequency</a:t>
            </a:r>
            <a:endParaRPr b="1" lang="en-US" sz="2400" spc="-1" strike="noStrike">
              <a:solidFill>
                <a:srgbClr val="ffffff"/>
              </a:solidFill>
              <a:latin typeface="Arial"/>
            </a:endParaRPr>
          </a:p>
        </p:txBody>
      </p:sp>
      <p:pic>
        <p:nvPicPr>
          <p:cNvPr id="72" name="Nep" descr=""/>
          <p:cNvPicPr/>
          <p:nvPr/>
        </p:nvPicPr>
        <p:blipFill>
          <a:blip r:embed="rId1">
            <a:lum contrast="6000"/>
          </a:blip>
          <a:stretch/>
        </p:blipFill>
        <p:spPr>
          <a:xfrm>
            <a:off x="5627520" y="2320920"/>
            <a:ext cx="2907000" cy="3851280"/>
          </a:xfrm>
          <a:prstGeom prst="rect">
            <a:avLst/>
          </a:prstGeom>
          <a:ln w="0">
            <a:noFill/>
          </a:ln>
        </p:spPr>
      </p:pic>
      <p:pic>
        <p:nvPicPr>
          <p:cNvPr id="73" name="Vmclass" descr=""/>
          <p:cNvPicPr/>
          <p:nvPr/>
        </p:nvPicPr>
        <p:blipFill>
          <a:blip r:embed="rId2">
            <a:lum contrast="6000"/>
          </a:blip>
          <a:stretch/>
        </p:blipFill>
        <p:spPr>
          <a:xfrm>
            <a:off x="1295280" y="2351160"/>
            <a:ext cx="4038840" cy="3579840"/>
          </a:xfrm>
          <a:prstGeom prst="rect">
            <a:avLst/>
          </a:prstGeom>
          <a:ln w="0">
            <a:noFill/>
          </a:ln>
        </p:spPr>
      </p:pic>
      <p:sp>
        <p:nvSpPr>
          <p:cNvPr id="74" name=""/>
          <p:cNvSpPr/>
          <p:nvPr/>
        </p:nvSpPr>
        <p:spPr>
          <a:xfrm>
            <a:off x="7267320" y="6400800"/>
            <a:ext cx="1726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STM-D-1770</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 Fault Measurement</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chanical opening dev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ual counting</a:t>
            </a:r>
            <a:endParaRPr b="1" lang="en-US" sz="2400" spc="-1" strike="noStrike">
              <a:solidFill>
                <a:srgbClr val="ffffff"/>
              </a:solidFill>
              <a:latin typeface="Arial"/>
            </a:endParaRPr>
          </a:p>
        </p:txBody>
      </p:sp>
      <p:pic>
        <p:nvPicPr>
          <p:cNvPr id="77" name="Neptest" descr=""/>
          <p:cNvPicPr/>
          <p:nvPr/>
        </p:nvPicPr>
        <p:blipFill>
          <a:blip r:embed="rId1"/>
          <a:stretch/>
        </p:blipFill>
        <p:spPr>
          <a:xfrm>
            <a:off x="2438280" y="1828800"/>
            <a:ext cx="4572000" cy="4341960"/>
          </a:xfrm>
          <a:prstGeom prst="rect">
            <a:avLst/>
          </a:prstGeom>
          <a:ln w="0">
            <a:noFill/>
          </a:ln>
        </p:spPr>
      </p:pic>
      <p:sp>
        <p:nvSpPr>
          <p:cNvPr id="78"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a:t>
            </a:r>
            <a:endParaRPr b="1" lang="en-US" sz="3200" spc="-1" strike="noStrike">
              <a:solidFill>
                <a:srgbClr val="fafd00"/>
              </a:solidFill>
              <a:latin typeface="Arial"/>
            </a:endParaRPr>
          </a:p>
        </p:txBody>
      </p:sp>
      <p:sp>
        <p:nvSpPr>
          <p:cNvPr id="8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nd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2- 86(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soelectric poi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 4.8</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ing histo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fects p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kaline scou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conten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 limits va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ortant for dyeing &amp; Superwash</a:t>
            </a:r>
            <a:endParaRPr b="1" lang="en-US" sz="2400" spc="-1" strike="noStrike">
              <a:solidFill>
                <a:srgbClr val="ffffff"/>
              </a:solidFill>
              <a:latin typeface="Arial"/>
            </a:endParaRPr>
          </a:p>
        </p:txBody>
      </p:sp>
      <p:sp>
        <p:nvSpPr>
          <p:cNvPr id="8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8T02:49:34Z</dcterms:created>
  <dc:creator>Peter Auer</dc:creator>
  <dc:description/>
  <dc:language>en-US</dc:language>
  <cp:lastModifiedBy>select agreement</cp:lastModifiedBy>
  <cp:lastPrinted>2000-02-08T02:55:56Z</cp:lastPrinted>
  <dcterms:modified xsi:type="dcterms:W3CDTF">2000-03-07T05:02:32Z</dcterms:modified>
  <cp:revision>4</cp:revision>
  <dc:subject/>
  <dc:title>No Slide Title</dc:title>
</cp:coreProperties>
</file>