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7CC7-8E67-42AC-BEAE-78BFEA27E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47A6-FC29-4977-9C93-DF780834A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5"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PlaceHolder 1"/>
          <p:cNvSpPr>
            <a:spLocks noGrp="1"/>
          </p:cNvSpPr>
          <p:nvPr>
            <p:ph type="sldImg"/>
          </p:nvPr>
        </p:nvSpPr>
        <p:spPr>
          <a:xfrm>
            <a:off x="1562040" y="533520"/>
            <a:ext cx="3657600" cy="2743200"/>
          </a:xfrm>
          <a:prstGeom prst="rect">
            <a:avLst/>
          </a:prstGeom>
          <a:ln w="0">
            <a:noFill/>
          </a:ln>
        </p:spPr>
      </p:sp>
      <p:sp>
        <p:nvSpPr>
          <p:cNvPr id="51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explains the instrumentation and metrology used to measure Style obj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erial is largely drawn from the CSIRO Division of Wool Technology’s seminar Woolspec 94.  Copies of the proceedings are available from CSIRO Textile &amp; Fibre Technology, formerly Division of Wool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W. Humphries, CSIRO Textile &amp; Fibre Technolog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562040" y="533520"/>
            <a:ext cx="3657600" cy="2743200"/>
          </a:xfrm>
          <a:prstGeom prst="rect">
            <a:avLst/>
          </a:prstGeom>
          <a:ln w="0">
            <a:noFill/>
          </a:ln>
        </p:spPr>
      </p:sp>
      <p:sp>
        <p:nvSpPr>
          <p:cNvPr id="5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ised image analysis techniques form the basis of the objective measurement of greasy wool style.  This development has been dependent on rapid, ongoing improvement in both computer and video technology, and it has resulted in more robust and less expensive technology which is suitable for use in a testhouse environ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ally, image analysis is a general term used to describe systems whereby an image is captured on a video camera.  The digitised information is then transferred as an array of numbers to the memory of a computer where it is manipulated by mathematical functions (algorithms) in order to measure or highlight some feature of intere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or schematic of one of the experimental prototypes developed by CSIRO shows the principles behind the measurement of the components of style.  In the prototype, two separate image analysis systems were mounted over a belt which moved the staples past the cameras.  One computer, camera and lighting system was dedicated to the measurement of the staple shape and staple colour attributes, while the other was for the measurement of crimp frequency and defini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xperimental prototype was essential in determining the aspects critical to the objective measurement of style: for example, specific lighting requirements and algorithm improvements for the various style characteristics, and the design features required of the commercial prototyp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9692-A3D0-41DE-A879-F3A64BF83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sldImg"/>
          </p:nvPr>
        </p:nvSpPr>
        <p:spPr>
          <a:xfrm>
            <a:off x="1562040" y="533520"/>
            <a:ext cx="3657600" cy="2743200"/>
          </a:xfrm>
          <a:prstGeom prst="rect">
            <a:avLst/>
          </a:prstGeom>
          <a:ln w="0">
            <a:noFill/>
          </a:ln>
        </p:spPr>
      </p:sp>
      <p:sp>
        <p:nvSpPr>
          <p:cNvPr id="52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mmercial prototype more consideration was given to staple handling and compatibility with testhouse computer systems.  Therefore, it was decided to handle the staples in trays similar to those used with the ATLAS instruments for the measurement of staple length and strength.  The computing power was transferred to a PC-base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ercial prototype has an automatically controlled system not only to load and unload staple trays which are bar-coded for identification, but also to time the image capture sequences.  Advances in cameras and computing have enabled a single camera to handle both the crimp and colour imaging, with optimised lighting providing the high-angle illumination for colour and shape analysis and low-angle illumination for the crimp analysis.  This instrument is now being evaluated under testhouse condi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oughput of the commercial instrument has been designed to be about 3 times that of the ATLAS length and strength tester.  This ensures that the capital costs of implementing Style measurement can be minimised because the instrument can handle the throughput of 2 ATLAS machin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F4F3C-C70B-4EF6-8ADB-CFBB2270DB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PlaceHolder 1"/>
          <p:cNvSpPr>
            <a:spLocks noGrp="1"/>
          </p:cNvSpPr>
          <p:nvPr>
            <p:ph type="sldImg"/>
          </p:nvPr>
        </p:nvSpPr>
        <p:spPr>
          <a:xfrm>
            <a:off x="1562040" y="533520"/>
            <a:ext cx="3657600" cy="2743200"/>
          </a:xfrm>
          <a:prstGeom prst="rect">
            <a:avLst/>
          </a:prstGeom>
          <a:ln w="0">
            <a:noFill/>
          </a:ln>
        </p:spPr>
      </p:sp>
      <p:sp>
        <p:nvSpPr>
          <p:cNvPr id="5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ly it is envisaged that about 60 staples per sale lot would be measured prior to length and strength testing.  The measurement of style using this instrument then involves a number of ste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aple images are taken under different lighting conditions. The first lighting condition provides information on the colour of the staple, as well as its size and shape.  The illuminant used enhances colour measurement.  Once this image is digitised into red, green and blue (RGB) number arrays, it is relatively simple to tell the computer that very low numbers represent the black tray and high numbers are the staple area.  Once the numbers that represent the staple are identified, this space can then be divided into 25 colour seg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iculty has then been to determine which segment is wool and which is dust.  This has been achieved with a second illuminant system using UV light.  Wool fluoresces (looks blue) under this type of light, and therefore it is simple to tell the computer to differentiate the fibre segments from dust segments (which don’t fluoresce).  Similarly, wool at the tip can be differentiated as weath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each colour segment can be designated as either dust or wool, then the greasy wool yellowness and dust colour can be measured objectively using the RGB number arr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image provides information on the crimp of the staple.  The illuminant is angled to the staple so that the top of the crimp looks bright and the trough of the crimp appears dark.  This spatial array of high and low numbers can be processed by the computer using a mathematical technique called Fourier Transformation into a frequency array.  The peak of this frequency array is the primary / dominant crimp of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ifficulty has been to decide how to define crimp definition.  As crimp becomes less defined the differentiation of the frequency peak becomes less sharp.  Therefore the crimp definition is related to the shape of this peak.  A high narrow peak indicates a staple of good crimp definition.</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4B9FC-870C-4330-A3FB-23EFA41C33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44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44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sldImg"/>
          </p:nvPr>
        </p:nvSpPr>
        <p:spPr>
          <a:xfrm>
            <a:off x="1562040" y="533520"/>
            <a:ext cx="3657600" cy="2743200"/>
          </a:xfrm>
          <a:prstGeom prst="rect">
            <a:avLst/>
          </a:prstGeom>
          <a:ln w="0">
            <a:noFill/>
          </a:ln>
        </p:spPr>
      </p:sp>
      <p:sp>
        <p:nvSpPr>
          <p:cNvPr id="5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of style metrology is in devising methods for extracting and interpreting style component information from the staple images, i.e. telling the computer what to do with the numb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one through the development of computer algorithms.  These instructions derive the information from the digitised staple images, as well as make comparisons with a large database of staples of known attributes.  Algorithm development is still evolving, and the final algorithms are subject to copyrigh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st on this slide shows the style attributes that are inferred from the shape, crimp and colour data.  From the size and shape information we have width and length measurements and tip information, i.e. whether the tip is blocky, or more tippy, or like a lamb’s ti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crimp data we extract the crimp frequency and also calculate the crimp definition, i.e. the clarity and uniformity of the crimp along and across the sta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colour profile is interpreted.  This is more difficult as it involves identifying the coloured zones, locating them and classifying them in terms of dust, wool and weathered wool.  This has been made easier with the use of the UV illuminant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3756-FA5D-4BD3-8883-FD97BE8BE1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562040" y="533520"/>
            <a:ext cx="3657600" cy="2743200"/>
          </a:xfrm>
          <a:prstGeom prst="rect">
            <a:avLst/>
          </a:prstGeom>
          <a:ln w="0">
            <a:noFill/>
          </a:ln>
        </p:spPr>
      </p:sp>
      <p:sp>
        <p:nvSpPr>
          <p:cNvPr id="54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a:t>
            </a:r>
            <a:r>
              <a:rPr b="0" lang="en-AU" sz="1200" spc="-1" strike="noStrike">
                <a:solidFill>
                  <a:srgbClr val="000000"/>
                </a:solidFill>
                <a:latin typeface="Times New Roman"/>
              </a:rPr>
              <a:t>Dr. W. Humphri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liminary between-instrument trial has been carried out to quantify between instrument and between sample replicate variances.  Two instruments were involved each measuring two replicate samples of one hundred lo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be seen from this slide that the agreement between instruments measuring the same samples is very good and would be acceptable for a commercial test.  However, the agreement between measurements of replicate samples on the same instrument is not as good.  In particular, there is a poor correlation between samples for tip length.  This is thought to be a function of staple prepa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sults are preliminary in nature but it appears that sampling may the largest source of variation in this test.  It would be uneconomic to change the sampling procedures therefore, based on additional data, the industry will have to decide whether the precision which can be achieved by the instrument is sufficient for commercial tra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t is very likely that the precision achieved by this objective measurement will be much better than that achieved by subjective appraisal of style attribut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ree commercial instruments are being trialled.  It is hoped that an interlaboratory round trial will be carried out in the near future to provide precision data for a draft standa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yle Instrument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W. Humphries,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066680" y="1143000"/>
            <a:ext cx="8077320" cy="5358960"/>
            <a:chOff x="1066680" y="1143000"/>
            <a:chExt cx="8077320" cy="5358960"/>
          </a:xfrm>
        </p:grpSpPr>
        <p:sp>
          <p:nvSpPr>
            <p:cNvPr id="50" name=""/>
            <p:cNvSpPr/>
            <p:nvPr/>
          </p:nvSpPr>
          <p:spPr>
            <a:xfrm>
              <a:off x="3551400" y="4564080"/>
              <a:ext cx="411120" cy="204840"/>
            </a:xfrm>
            <a:custGeom>
              <a:avLst/>
              <a:gdLst/>
              <a:ahLst/>
              <a:rect l="l" t="t" r="r" b="b"/>
              <a:pathLst>
                <a:path w="555" h="269">
                  <a:moveTo>
                    <a:pt x="0" y="28"/>
                  </a:moveTo>
                  <a:lnTo>
                    <a:pt x="206" y="0"/>
                  </a:lnTo>
                  <a:lnTo>
                    <a:pt x="253" y="9"/>
                  </a:lnTo>
                  <a:lnTo>
                    <a:pt x="289" y="34"/>
                  </a:lnTo>
                  <a:lnTo>
                    <a:pt x="338" y="166"/>
                  </a:lnTo>
                  <a:lnTo>
                    <a:pt x="370" y="217"/>
                  </a:lnTo>
                  <a:lnTo>
                    <a:pt x="397" y="242"/>
                  </a:lnTo>
                  <a:lnTo>
                    <a:pt x="426" y="253"/>
                  </a:lnTo>
                  <a:lnTo>
                    <a:pt x="469" y="263"/>
                  </a:lnTo>
                  <a:lnTo>
                    <a:pt x="555" y="269"/>
                  </a:lnTo>
                </a:path>
              </a:pathLst>
            </a:custGeom>
            <a:noFill/>
            <a:ln w="144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
            <p:cNvGrpSpPr/>
            <p:nvPr/>
          </p:nvGrpSpPr>
          <p:grpSpPr>
            <a:xfrm>
              <a:off x="2413080" y="4098960"/>
              <a:ext cx="1506600" cy="979200"/>
              <a:chOff x="2413080" y="4098960"/>
              <a:chExt cx="1506600" cy="979200"/>
            </a:xfrm>
          </p:grpSpPr>
          <p:grpSp>
            <p:nvGrpSpPr>
              <p:cNvPr id="52" name=""/>
              <p:cNvGrpSpPr/>
              <p:nvPr/>
            </p:nvGrpSpPr>
            <p:grpSpPr>
              <a:xfrm>
                <a:off x="2413080" y="4794480"/>
                <a:ext cx="1506600" cy="283680"/>
                <a:chOff x="2413080" y="4794480"/>
                <a:chExt cx="1506600" cy="283680"/>
              </a:xfrm>
            </p:grpSpPr>
            <p:sp>
              <p:nvSpPr>
                <p:cNvPr id="53" name=""/>
                <p:cNvSpPr/>
                <p:nvPr/>
              </p:nvSpPr>
              <p:spPr>
                <a:xfrm>
                  <a:off x="2413080" y="4794480"/>
                  <a:ext cx="1506600" cy="283680"/>
                </a:xfrm>
                <a:custGeom>
                  <a:avLst/>
                  <a:gdLst/>
                  <a:ahLst/>
                  <a:rect l="l" t="t" r="r" b="b"/>
                  <a:pathLst>
                    <a:path w="2024" h="373">
                      <a:moveTo>
                        <a:pt x="251" y="0"/>
                      </a:moveTo>
                      <a:lnTo>
                        <a:pt x="1779" y="0"/>
                      </a:lnTo>
                      <a:lnTo>
                        <a:pt x="2021" y="339"/>
                      </a:lnTo>
                      <a:lnTo>
                        <a:pt x="2024" y="354"/>
                      </a:lnTo>
                      <a:lnTo>
                        <a:pt x="2015" y="369"/>
                      </a:lnTo>
                      <a:lnTo>
                        <a:pt x="1999" y="373"/>
                      </a:lnTo>
                      <a:lnTo>
                        <a:pt x="29" y="373"/>
                      </a:lnTo>
                      <a:lnTo>
                        <a:pt x="8" y="366"/>
                      </a:lnTo>
                      <a:lnTo>
                        <a:pt x="0" y="350"/>
                      </a:lnTo>
                      <a:lnTo>
                        <a:pt x="4" y="331"/>
                      </a:lnTo>
                      <a:lnTo>
                        <a:pt x="251"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496240" y="4856760"/>
                  <a:ext cx="1001880" cy="181800"/>
                </a:xfrm>
                <a:custGeom>
                  <a:avLst/>
                  <a:gdLst/>
                  <a:ahLst/>
                  <a:rect l="l" t="t" r="r" b="b"/>
                  <a:pathLst>
                    <a:path w="1347" h="239">
                      <a:moveTo>
                        <a:pt x="181" y="0"/>
                      </a:moveTo>
                      <a:lnTo>
                        <a:pt x="1283" y="0"/>
                      </a:lnTo>
                      <a:lnTo>
                        <a:pt x="1347" y="239"/>
                      </a:lnTo>
                      <a:lnTo>
                        <a:pt x="0" y="239"/>
                      </a:lnTo>
                      <a:lnTo>
                        <a:pt x="181"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529440" y="4856760"/>
                  <a:ext cx="302040" cy="181800"/>
                </a:xfrm>
                <a:custGeom>
                  <a:avLst/>
                  <a:gdLst/>
                  <a:ahLst/>
                  <a:rect l="l" t="t" r="r" b="b"/>
                  <a:pathLst>
                    <a:path w="408" h="239">
                      <a:moveTo>
                        <a:pt x="0" y="0"/>
                      </a:moveTo>
                      <a:lnTo>
                        <a:pt x="242" y="0"/>
                      </a:lnTo>
                      <a:lnTo>
                        <a:pt x="408" y="239"/>
                      </a:lnTo>
                      <a:lnTo>
                        <a:pt x="76" y="239"/>
                      </a:lnTo>
                      <a:lnTo>
                        <a:pt x="0" y="0"/>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 name=""/>
              <p:cNvSpPr/>
              <p:nvPr/>
            </p:nvSpPr>
            <p:spPr>
              <a:xfrm>
                <a:off x="2752560" y="4098960"/>
                <a:ext cx="825840" cy="68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65600" y="4193280"/>
                <a:ext cx="598320" cy="476640"/>
              </a:xfrm>
              <a:prstGeom prst="rect">
                <a:avLst/>
              </a:prstGeom>
              <a:solidFill>
                <a:srgbClr val="1050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389400" y="4709520"/>
                <a:ext cx="745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59" name=""/>
            <p:cNvSpPr/>
            <p:nvPr/>
          </p:nvSpPr>
          <p:spPr>
            <a:xfrm>
              <a:off x="3929040" y="3656160"/>
              <a:ext cx="423720" cy="13618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037040" y="3778200"/>
              <a:ext cx="257040" cy="390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286160" y="4162320"/>
              <a:ext cx="11160" cy="84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067280" y="3886200"/>
              <a:ext cx="73080" cy="177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097160" y="3781440"/>
              <a:ext cx="16200" cy="38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41880" y="3854520"/>
              <a:ext cx="42840" cy="8424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 name=""/>
            <p:cNvSpPr/>
            <p:nvPr/>
          </p:nvSpPr>
          <p:spPr>
            <a:xfrm>
              <a:off x="4241880" y="4006800"/>
              <a:ext cx="42840" cy="8424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2666880" y="1143000"/>
            <a:ext cx="1901880" cy="1582560"/>
          </p:xfrm>
          <a:graphic>
            <a:graphicData uri="http://schemas.openxmlformats.org/presentationml/2006/ole">
              <p:oleObj r:id="rId1" spid="">
                <p:embed/>
                <p:pic>
                  <p:nvPicPr>
                    <p:cNvPr id="67" name="" descr=""/>
                    <p:cNvPicPr/>
                    <p:nvPr/>
                  </p:nvPicPr>
                  <p:blipFill>
                    <a:blip r:embed="rId2"/>
                    <a:stretch/>
                  </p:blipFill>
                  <p:spPr>
                    <a:xfrm>
                      <a:off x="2666880" y="1143000"/>
                      <a:ext cx="1901880" cy="1582560"/>
                    </a:xfrm>
                    <a:prstGeom prst="rect">
                      <a:avLst/>
                    </a:prstGeom>
                    <a:ln w="0">
                      <a:noFill/>
                    </a:ln>
                  </p:spPr>
                </p:pic>
              </p:oleObj>
            </a:graphicData>
          </a:graphic>
        </p:graphicFrame>
        <p:sp>
          <p:nvSpPr>
            <p:cNvPr id="68" name=""/>
            <p:cNvSpPr/>
            <p:nvPr/>
          </p:nvSpPr>
          <p:spPr>
            <a:xfrm>
              <a:off x="7786800" y="2959200"/>
              <a:ext cx="1357200" cy="133164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ur  + Shape Camera</a:t>
              </a:r>
              <a:endParaRPr b="0" lang="en-US" sz="2400" spc="-1" strike="noStrike">
                <a:solidFill>
                  <a:srgbClr val="000000"/>
                </a:solidFill>
                <a:latin typeface="Times New Roman"/>
              </a:endParaRPr>
            </a:p>
          </p:txBody>
        </p:sp>
        <p:graphicFrame>
          <p:nvGraphicFramePr>
            <p:cNvPr id="69" name=""/>
            <p:cNvGraphicFramePr/>
            <p:nvPr/>
          </p:nvGraphicFramePr>
          <p:xfrm>
            <a:off x="1066680" y="3095640"/>
            <a:ext cx="1555920" cy="830160"/>
          </p:xfrm>
          <a:graphic>
            <a:graphicData uri="http://schemas.openxmlformats.org/presentationml/2006/ole">
              <p:oleObj r:id="rId3" spid="">
                <p:embed/>
                <p:pic>
                  <p:nvPicPr>
                    <p:cNvPr id="70" name="" descr=""/>
                    <p:cNvPicPr/>
                    <p:nvPr/>
                  </p:nvPicPr>
                  <p:blipFill>
                    <a:blip r:embed="rId4"/>
                    <a:stretch/>
                  </p:blipFill>
                  <p:spPr>
                    <a:xfrm>
                      <a:off x="1066680" y="3095640"/>
                      <a:ext cx="1555920" cy="830160"/>
                    </a:xfrm>
                    <a:prstGeom prst="rect">
                      <a:avLst/>
                    </a:prstGeom>
                    <a:ln w="0">
                      <a:noFill/>
                    </a:ln>
                  </p:spPr>
                </p:pic>
              </p:oleObj>
            </a:graphicData>
          </a:graphic>
        </p:graphicFrame>
        <p:sp>
          <p:nvSpPr>
            <p:cNvPr id="71" name=""/>
            <p:cNvSpPr/>
            <p:nvPr/>
          </p:nvSpPr>
          <p:spPr>
            <a:xfrm>
              <a:off x="4203720" y="2050920"/>
              <a:ext cx="72396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4932360" y="1206360"/>
              <a:ext cx="0" cy="8510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937040" y="1212840"/>
              <a:ext cx="25891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7532640" y="1219320"/>
              <a:ext cx="0" cy="166356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270320" y="4282920"/>
              <a:ext cx="9889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5265720" y="1974600"/>
              <a:ext cx="0" cy="231444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7" name=""/>
            <p:cNvGrpSpPr/>
            <p:nvPr/>
          </p:nvGrpSpPr>
          <p:grpSpPr>
            <a:xfrm>
              <a:off x="4005360" y="5267160"/>
              <a:ext cx="4787640" cy="336240"/>
              <a:chOff x="4005360" y="5267160"/>
              <a:chExt cx="4787640" cy="336240"/>
            </a:xfrm>
          </p:grpSpPr>
          <p:sp>
            <p:nvSpPr>
              <p:cNvPr id="78" name=""/>
              <p:cNvSpPr/>
              <p:nvPr/>
            </p:nvSpPr>
            <p:spPr>
              <a:xfrm>
                <a:off x="4005360" y="5383440"/>
                <a:ext cx="4787640" cy="219960"/>
              </a:xfrm>
              <a:prstGeom prst="roundRect">
                <a:avLst>
                  <a:gd name="adj" fmla="val 12495"/>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210720" y="5267160"/>
                <a:ext cx="376560" cy="104400"/>
              </a:xfrm>
              <a:prstGeom prst="roundRect">
                <a:avLst>
                  <a:gd name="adj" fmla="val 12495"/>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237280" y="5267160"/>
                <a:ext cx="377640" cy="104400"/>
              </a:xfrm>
              <a:prstGeom prst="roundRect">
                <a:avLst>
                  <a:gd name="adj" fmla="val 12495"/>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053120" y="5267160"/>
                <a:ext cx="443160" cy="104400"/>
              </a:xfrm>
              <a:prstGeom prst="roundRect">
                <a:avLst>
                  <a:gd name="adj" fmla="val 12495"/>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005360" y="5383440"/>
                <a:ext cx="183240" cy="219960"/>
              </a:xfrm>
              <a:prstGeom prst="ellipse">
                <a:avLst/>
              </a:prstGeom>
              <a:solidFill>
                <a:srgbClr val="80808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675280" y="5383440"/>
                <a:ext cx="117360" cy="219960"/>
              </a:xfrm>
              <a:prstGeom prst="ellipse">
                <a:avLst/>
              </a:prstGeom>
              <a:solidFill>
                <a:srgbClr val="808080"/>
              </a:soli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4865760" y="1492200"/>
              <a:ext cx="185760" cy="142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797440" y="1422360"/>
              <a:ext cx="17964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799240" y="1704960"/>
              <a:ext cx="1554120" cy="102096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mp Linescan Camera</a:t>
              </a:r>
              <a:endParaRPr b="0" lang="en-US" sz="2400" spc="-1" strike="noStrike">
                <a:solidFill>
                  <a:srgbClr val="000000"/>
                </a:solidFill>
                <a:latin typeface="Times New Roman"/>
              </a:endParaRPr>
            </a:p>
          </p:txBody>
        </p:sp>
        <p:sp>
          <p:nvSpPr>
            <p:cNvPr id="87" name=""/>
            <p:cNvSpPr/>
            <p:nvPr/>
          </p:nvSpPr>
          <p:spPr>
            <a:xfrm>
              <a:off x="7399440" y="4843440"/>
              <a:ext cx="13302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ples</a:t>
              </a:r>
              <a:endParaRPr b="0" lang="en-US" sz="2400" spc="-1" strike="noStrike">
                <a:solidFill>
                  <a:srgbClr val="000000"/>
                </a:solidFill>
                <a:latin typeface="Times New Roman"/>
              </a:endParaRPr>
            </a:p>
          </p:txBody>
        </p:sp>
        <p:sp>
          <p:nvSpPr>
            <p:cNvPr id="88" name=""/>
            <p:cNvSpPr/>
            <p:nvPr/>
          </p:nvSpPr>
          <p:spPr>
            <a:xfrm flipH="1">
              <a:off x="4738680" y="4930920"/>
              <a:ext cx="1055520" cy="183960"/>
            </a:xfrm>
            <a:prstGeom prst="rightArrow">
              <a:avLst>
                <a:gd name="adj1" fmla="val 50000"/>
                <a:gd name="adj2" fmla="val 286915"/>
              </a:avLst>
            </a:prstGeom>
            <a:solidFill>
              <a:srgbClr val="ff6600"/>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89" name=""/>
            <p:cNvSpPr/>
            <p:nvPr/>
          </p:nvSpPr>
          <p:spPr>
            <a:xfrm>
              <a:off x="7078680" y="5767560"/>
              <a:ext cx="988920" cy="185400"/>
            </a:xfrm>
            <a:prstGeom prst="rightArrow">
              <a:avLst>
                <a:gd name="adj1" fmla="val 50000"/>
                <a:gd name="adj2" fmla="val 266724"/>
              </a:avLst>
            </a:prstGeom>
            <a:solidFill>
              <a:srgbClr val="ff6600"/>
            </a:solidFill>
            <a:ln w="1260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90" name=""/>
            <p:cNvSpPr/>
            <p:nvPr/>
          </p:nvSpPr>
          <p:spPr>
            <a:xfrm>
              <a:off x="5267160" y="5681520"/>
              <a:ext cx="17956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ving Belt</a:t>
              </a:r>
              <a:endParaRPr b="0" lang="en-US" sz="2400" spc="-1" strike="noStrike">
                <a:solidFill>
                  <a:srgbClr val="000000"/>
                </a:solidFill>
                <a:latin typeface="Times New Roman"/>
              </a:endParaRPr>
            </a:p>
          </p:txBody>
        </p:sp>
        <p:grpSp>
          <p:nvGrpSpPr>
            <p:cNvPr id="91" name=""/>
            <p:cNvGrpSpPr/>
            <p:nvPr/>
          </p:nvGrpSpPr>
          <p:grpSpPr>
            <a:xfrm>
              <a:off x="6870600" y="2682720"/>
              <a:ext cx="995040" cy="1532520"/>
              <a:chOff x="6870600" y="2682720"/>
              <a:chExt cx="995040" cy="1532520"/>
            </a:xfrm>
          </p:grpSpPr>
          <p:grpSp>
            <p:nvGrpSpPr>
              <p:cNvPr id="92" name=""/>
              <p:cNvGrpSpPr/>
              <p:nvPr/>
            </p:nvGrpSpPr>
            <p:grpSpPr>
              <a:xfrm>
                <a:off x="6870600" y="2682720"/>
                <a:ext cx="291600" cy="345240"/>
                <a:chOff x="6870600" y="2682720"/>
                <a:chExt cx="291600" cy="345240"/>
              </a:xfrm>
            </p:grpSpPr>
            <p:sp>
              <p:nvSpPr>
                <p:cNvPr id="93" name=""/>
                <p:cNvSpPr/>
                <p:nvPr/>
              </p:nvSpPr>
              <p:spPr>
                <a:xfrm>
                  <a:off x="6870600" y="2682720"/>
                  <a:ext cx="291600" cy="260280"/>
                </a:xfrm>
                <a:prstGeom prst="ellips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900840" y="2717640"/>
                  <a:ext cx="242280" cy="223200"/>
                </a:xfrm>
                <a:custGeom>
                  <a:avLst/>
                  <a:gdLst/>
                  <a:ahLst/>
                  <a:rect l="l" t="t" r="r" b="b"/>
                  <a:pathLst>
                    <a:path stroke="0" w="21600" h="21600">
                      <a:moveTo>
                        <a:pt x="5489" y="20204"/>
                      </a:moveTo>
                      <a:arcTo wR="10800" hR="10800" stAng="7167404" swAng="15973206"/>
                      <a:lnTo>
                        <a:pt x="10800" y="10800"/>
                      </a:lnTo>
                      <a:close/>
                    </a:path>
                    <a:path fill="none" w="21600" h="21600">
                      <a:moveTo>
                        <a:pt x="5489" y="20204"/>
                      </a:moveTo>
                      <a:arcTo wR="10800" hR="10800" stAng="7167404" swAng="15973206"/>
                    </a:path>
                  </a:pathLst>
                </a:custGeom>
                <a:solidFill>
                  <a:srgbClr val="5f5f5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943680" y="2822040"/>
                  <a:ext cx="202320" cy="205920"/>
                </a:xfrm>
                <a:custGeom>
                  <a:avLst/>
                  <a:gdLst/>
                  <a:ahLst/>
                  <a:rect l="l" t="t" r="r" b="b"/>
                  <a:pathLst>
                    <a:path stroke="0" w="21600" h="21600">
                      <a:moveTo>
                        <a:pt x="444" y="13864"/>
                      </a:moveTo>
                      <a:arcTo wR="10800" hR="10800" stAng="9811162" swAng="11740079"/>
                      <a:lnTo>
                        <a:pt x="10800" y="10800"/>
                      </a:lnTo>
                      <a:close/>
                    </a:path>
                    <a:path fill="none" w="21600" h="21600">
                      <a:moveTo>
                        <a:pt x="444" y="13864"/>
                      </a:moveTo>
                      <a:arcTo wR="10800" hR="10800" stAng="9811162" swAng="11740079"/>
                    </a:path>
                  </a:pathLst>
                </a:custGeom>
                <a:solidFill>
                  <a:srgbClr val="3f3f3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939720" y="2852640"/>
                <a:ext cx="920520" cy="1361520"/>
              </a:xfrm>
              <a:custGeom>
                <a:avLst/>
                <a:gdLst/>
                <a:ahLst/>
                <a:rect l="l" t="t" r="r" b="b"/>
                <a:pathLst>
                  <a:path w="663" h="936">
                    <a:moveTo>
                      <a:pt x="100" y="543"/>
                    </a:moveTo>
                    <a:lnTo>
                      <a:pt x="0" y="82"/>
                    </a:lnTo>
                    <a:lnTo>
                      <a:pt x="2" y="71"/>
                    </a:lnTo>
                    <a:lnTo>
                      <a:pt x="4" y="59"/>
                    </a:lnTo>
                    <a:lnTo>
                      <a:pt x="8" y="49"/>
                    </a:lnTo>
                    <a:lnTo>
                      <a:pt x="14" y="38"/>
                    </a:lnTo>
                    <a:lnTo>
                      <a:pt x="22" y="28"/>
                    </a:lnTo>
                    <a:lnTo>
                      <a:pt x="31" y="20"/>
                    </a:lnTo>
                    <a:lnTo>
                      <a:pt x="40" y="13"/>
                    </a:lnTo>
                    <a:lnTo>
                      <a:pt x="48" y="8"/>
                    </a:lnTo>
                    <a:lnTo>
                      <a:pt x="63" y="2"/>
                    </a:lnTo>
                    <a:lnTo>
                      <a:pt x="76" y="0"/>
                    </a:lnTo>
                    <a:lnTo>
                      <a:pt x="91" y="0"/>
                    </a:lnTo>
                    <a:lnTo>
                      <a:pt x="103" y="2"/>
                    </a:lnTo>
                    <a:lnTo>
                      <a:pt x="114" y="5"/>
                    </a:lnTo>
                    <a:lnTo>
                      <a:pt x="123" y="9"/>
                    </a:lnTo>
                    <a:lnTo>
                      <a:pt x="135" y="18"/>
                    </a:lnTo>
                    <a:lnTo>
                      <a:pt x="147" y="28"/>
                    </a:lnTo>
                    <a:lnTo>
                      <a:pt x="155" y="39"/>
                    </a:lnTo>
                    <a:lnTo>
                      <a:pt x="161" y="50"/>
                    </a:lnTo>
                    <a:lnTo>
                      <a:pt x="165" y="60"/>
                    </a:lnTo>
                    <a:lnTo>
                      <a:pt x="169" y="75"/>
                    </a:lnTo>
                    <a:lnTo>
                      <a:pt x="563" y="76"/>
                    </a:lnTo>
                    <a:lnTo>
                      <a:pt x="582" y="76"/>
                    </a:lnTo>
                    <a:lnTo>
                      <a:pt x="597" y="77"/>
                    </a:lnTo>
                    <a:lnTo>
                      <a:pt x="611" y="83"/>
                    </a:lnTo>
                    <a:lnTo>
                      <a:pt x="623" y="91"/>
                    </a:lnTo>
                    <a:lnTo>
                      <a:pt x="631" y="99"/>
                    </a:lnTo>
                    <a:lnTo>
                      <a:pt x="639" y="114"/>
                    </a:lnTo>
                    <a:lnTo>
                      <a:pt x="643" y="129"/>
                    </a:lnTo>
                    <a:lnTo>
                      <a:pt x="645" y="142"/>
                    </a:lnTo>
                    <a:lnTo>
                      <a:pt x="662" y="868"/>
                    </a:lnTo>
                    <a:lnTo>
                      <a:pt x="662" y="876"/>
                    </a:lnTo>
                    <a:lnTo>
                      <a:pt x="661" y="883"/>
                    </a:lnTo>
                    <a:lnTo>
                      <a:pt x="660" y="889"/>
                    </a:lnTo>
                    <a:lnTo>
                      <a:pt x="656" y="895"/>
                    </a:lnTo>
                    <a:lnTo>
                      <a:pt x="652" y="900"/>
                    </a:lnTo>
                    <a:lnTo>
                      <a:pt x="647" y="903"/>
                    </a:lnTo>
                    <a:lnTo>
                      <a:pt x="641" y="905"/>
                    </a:lnTo>
                    <a:lnTo>
                      <a:pt x="561" y="923"/>
                    </a:lnTo>
                    <a:lnTo>
                      <a:pt x="529" y="930"/>
                    </a:lnTo>
                    <a:lnTo>
                      <a:pt x="506" y="932"/>
                    </a:lnTo>
                    <a:lnTo>
                      <a:pt x="299" y="932"/>
                    </a:lnTo>
                    <a:lnTo>
                      <a:pt x="296" y="935"/>
                    </a:lnTo>
                    <a:lnTo>
                      <a:pt x="280" y="935"/>
                    </a:lnTo>
                    <a:lnTo>
                      <a:pt x="275" y="922"/>
                    </a:lnTo>
                    <a:lnTo>
                      <a:pt x="274" y="927"/>
                    </a:lnTo>
                    <a:lnTo>
                      <a:pt x="272" y="932"/>
                    </a:lnTo>
                    <a:lnTo>
                      <a:pt x="268" y="935"/>
                    </a:lnTo>
                    <a:lnTo>
                      <a:pt x="263" y="935"/>
                    </a:lnTo>
                    <a:lnTo>
                      <a:pt x="255" y="934"/>
                    </a:lnTo>
                    <a:lnTo>
                      <a:pt x="171" y="914"/>
                    </a:lnTo>
                    <a:lnTo>
                      <a:pt x="155" y="910"/>
                    </a:lnTo>
                    <a:lnTo>
                      <a:pt x="147" y="905"/>
                    </a:lnTo>
                    <a:lnTo>
                      <a:pt x="143" y="900"/>
                    </a:lnTo>
                    <a:lnTo>
                      <a:pt x="140" y="894"/>
                    </a:lnTo>
                    <a:lnTo>
                      <a:pt x="132" y="880"/>
                    </a:lnTo>
                    <a:lnTo>
                      <a:pt x="122" y="871"/>
                    </a:lnTo>
                    <a:lnTo>
                      <a:pt x="116" y="862"/>
                    </a:lnTo>
                    <a:lnTo>
                      <a:pt x="110" y="853"/>
                    </a:lnTo>
                    <a:lnTo>
                      <a:pt x="104" y="838"/>
                    </a:lnTo>
                    <a:lnTo>
                      <a:pt x="93" y="750"/>
                    </a:lnTo>
                    <a:lnTo>
                      <a:pt x="91" y="725"/>
                    </a:lnTo>
                    <a:lnTo>
                      <a:pt x="92" y="703"/>
                    </a:lnTo>
                    <a:lnTo>
                      <a:pt x="100" y="543"/>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321680" y="3972960"/>
                <a:ext cx="543960" cy="191880"/>
              </a:xfrm>
              <a:custGeom>
                <a:avLst/>
                <a:gdLst/>
                <a:ahLst/>
                <a:rect l="l" t="t" r="r" b="b"/>
                <a:pathLst>
                  <a:path w="392" h="132">
                    <a:moveTo>
                      <a:pt x="7" y="52"/>
                    </a:moveTo>
                    <a:lnTo>
                      <a:pt x="20" y="54"/>
                    </a:lnTo>
                    <a:lnTo>
                      <a:pt x="25" y="43"/>
                    </a:lnTo>
                    <a:lnTo>
                      <a:pt x="246" y="47"/>
                    </a:lnTo>
                    <a:lnTo>
                      <a:pt x="294" y="47"/>
                    </a:lnTo>
                    <a:lnTo>
                      <a:pt x="318" y="47"/>
                    </a:lnTo>
                    <a:lnTo>
                      <a:pt x="329" y="48"/>
                    </a:lnTo>
                    <a:lnTo>
                      <a:pt x="346" y="49"/>
                    </a:lnTo>
                    <a:lnTo>
                      <a:pt x="360" y="52"/>
                    </a:lnTo>
                    <a:lnTo>
                      <a:pt x="371" y="54"/>
                    </a:lnTo>
                    <a:lnTo>
                      <a:pt x="381" y="57"/>
                    </a:lnTo>
                    <a:lnTo>
                      <a:pt x="381" y="131"/>
                    </a:lnTo>
                    <a:lnTo>
                      <a:pt x="386" y="124"/>
                    </a:lnTo>
                    <a:lnTo>
                      <a:pt x="390" y="115"/>
                    </a:lnTo>
                    <a:lnTo>
                      <a:pt x="391" y="102"/>
                    </a:lnTo>
                    <a:lnTo>
                      <a:pt x="391" y="86"/>
                    </a:lnTo>
                    <a:lnTo>
                      <a:pt x="389" y="0"/>
                    </a:lnTo>
                    <a:lnTo>
                      <a:pt x="0" y="1"/>
                    </a:lnTo>
                    <a:lnTo>
                      <a:pt x="7" y="5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089480" y="3056400"/>
                <a:ext cx="133200" cy="59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87040" y="3001320"/>
                <a:ext cx="113760" cy="39240"/>
              </a:xfrm>
              <a:custGeom>
                <a:avLst/>
                <a:gdLst/>
                <a:ahLst/>
                <a:rect l="l" t="t" r="r" b="b"/>
                <a:pathLst>
                  <a:path w="82" h="27">
                    <a:moveTo>
                      <a:pt x="0" y="0"/>
                    </a:moveTo>
                    <a:lnTo>
                      <a:pt x="81" y="0"/>
                    </a:lnTo>
                    <a:lnTo>
                      <a:pt x="80" y="26"/>
                    </a:lnTo>
                    <a:lnTo>
                      <a:pt x="7" y="25"/>
                    </a:lnTo>
                    <a:lnTo>
                      <a:pt x="0" y="0"/>
                    </a:lnTo>
                  </a:path>
                </a:pathLst>
              </a:custGeom>
              <a:solidFill>
                <a:srgbClr val="5f5f5f"/>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0" name=""/>
              <p:cNvSpPr/>
              <p:nvPr/>
            </p:nvSpPr>
            <p:spPr>
              <a:xfrm>
                <a:off x="7241040" y="3206160"/>
                <a:ext cx="5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268760" y="3334680"/>
                <a:ext cx="2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295400" y="2967480"/>
                <a:ext cx="23400" cy="599400"/>
              </a:xfrm>
              <a:custGeom>
                <a:avLst/>
                <a:gdLst/>
                <a:ahLst/>
                <a:rect l="l" t="t" r="r" b="b"/>
                <a:pathLst>
                  <a:path w="17" h="412">
                    <a:moveTo>
                      <a:pt x="16" y="411"/>
                    </a:moveTo>
                    <a:lnTo>
                      <a:pt x="16" y="0"/>
                    </a:lnTo>
                    <a:lnTo>
                      <a:pt x="1" y="26"/>
                    </a:lnTo>
                    <a:lnTo>
                      <a:pt x="0" y="352"/>
                    </a:lnTo>
                    <a:lnTo>
                      <a:pt x="4" y="371"/>
                    </a:lnTo>
                    <a:lnTo>
                      <a:pt x="6" y="382"/>
                    </a:lnTo>
                    <a:lnTo>
                      <a:pt x="11" y="400"/>
                    </a:lnTo>
                    <a:lnTo>
                      <a:pt x="16" y="4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113240" y="2870280"/>
                <a:ext cx="201240" cy="750600"/>
              </a:xfrm>
              <a:custGeom>
                <a:avLst/>
                <a:gdLst/>
                <a:ahLst/>
                <a:rect l="l" t="t" r="r" b="b"/>
                <a:pathLst>
                  <a:path w="145" h="516">
                    <a:moveTo>
                      <a:pt x="126" y="515"/>
                    </a:moveTo>
                    <a:lnTo>
                      <a:pt x="0" y="0"/>
                    </a:lnTo>
                    <a:lnTo>
                      <a:pt x="17" y="10"/>
                    </a:lnTo>
                    <a:lnTo>
                      <a:pt x="31" y="27"/>
                    </a:lnTo>
                    <a:lnTo>
                      <a:pt x="39" y="43"/>
                    </a:lnTo>
                    <a:lnTo>
                      <a:pt x="144" y="479"/>
                    </a:lnTo>
                    <a:lnTo>
                      <a:pt x="140" y="498"/>
                    </a:lnTo>
                    <a:lnTo>
                      <a:pt x="126" y="51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181280" y="2962080"/>
                <a:ext cx="12924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939720" y="2886120"/>
                <a:ext cx="209520" cy="776880"/>
              </a:xfrm>
              <a:custGeom>
                <a:avLst/>
                <a:gdLst/>
                <a:ahLst/>
                <a:rect l="l" t="t" r="r" b="b"/>
                <a:pathLst>
                  <a:path w="151" h="534">
                    <a:moveTo>
                      <a:pt x="98" y="521"/>
                    </a:moveTo>
                    <a:lnTo>
                      <a:pt x="0" y="59"/>
                    </a:lnTo>
                    <a:lnTo>
                      <a:pt x="7" y="33"/>
                    </a:lnTo>
                    <a:lnTo>
                      <a:pt x="15" y="13"/>
                    </a:lnTo>
                    <a:lnTo>
                      <a:pt x="30" y="0"/>
                    </a:lnTo>
                    <a:lnTo>
                      <a:pt x="150" y="533"/>
                    </a:lnTo>
                    <a:lnTo>
                      <a:pt x="134" y="532"/>
                    </a:lnTo>
                    <a:lnTo>
                      <a:pt x="120" y="528"/>
                    </a:lnTo>
                    <a:lnTo>
                      <a:pt x="107" y="525"/>
                    </a:lnTo>
                    <a:lnTo>
                      <a:pt x="98" y="52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945480" y="2856960"/>
                <a:ext cx="225000" cy="232200"/>
              </a:xfrm>
              <a:custGeom>
                <a:avLst/>
                <a:gdLst/>
                <a:ahLst/>
                <a:rect l="l" t="t" r="r" b="b"/>
                <a:pathLst>
                  <a:path stroke="0" w="21600" h="21600">
                    <a:moveTo>
                      <a:pt x="1" y="10665"/>
                    </a:moveTo>
                    <a:arcTo wR="10800" hR="10800" stAng="-10757024" swAng="9873365"/>
                    <a:lnTo>
                      <a:pt x="10800" y="10800"/>
                    </a:lnTo>
                    <a:close/>
                  </a:path>
                  <a:path fill="none" w="21600" h="21600">
                    <a:moveTo>
                      <a:pt x="1" y="10665"/>
                    </a:moveTo>
                    <a:arcTo wR="10800" hR="10800" stAng="-10757024" swAng="98733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985800" y="3056400"/>
                <a:ext cx="230400" cy="223200"/>
              </a:xfrm>
              <a:custGeom>
                <a:avLst/>
                <a:gdLst/>
                <a:ahLst/>
                <a:rect l="l" t="t" r="r" b="b"/>
                <a:pathLst>
                  <a:path stroke="0" w="21600" h="21600">
                    <a:moveTo>
                      <a:pt x="0" y="10800"/>
                    </a:moveTo>
                    <a:arcTo wR="10800" hR="10800" stAng="10800000" swAng="9557687"/>
                    <a:lnTo>
                      <a:pt x="10800" y="10800"/>
                    </a:lnTo>
                    <a:close/>
                  </a:path>
                  <a:path fill="none" w="21600" h="21600">
                    <a:moveTo>
                      <a:pt x="0" y="10800"/>
                    </a:moveTo>
                    <a:arcTo wR="10800" hR="10800" stAng="10800000" swAng="955768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124400" y="3992040"/>
                <a:ext cx="198360" cy="221040"/>
              </a:xfrm>
              <a:custGeom>
                <a:avLst/>
                <a:gdLst/>
                <a:ahLst/>
                <a:rect l="l" t="t" r="r" b="b"/>
                <a:pathLst>
                  <a:path w="143" h="152">
                    <a:moveTo>
                      <a:pt x="0" y="97"/>
                    </a:moveTo>
                    <a:lnTo>
                      <a:pt x="0" y="2"/>
                    </a:lnTo>
                    <a:lnTo>
                      <a:pt x="19" y="28"/>
                    </a:lnTo>
                    <a:lnTo>
                      <a:pt x="23" y="33"/>
                    </a:lnTo>
                    <a:lnTo>
                      <a:pt x="31" y="38"/>
                    </a:lnTo>
                    <a:lnTo>
                      <a:pt x="38" y="41"/>
                    </a:lnTo>
                    <a:lnTo>
                      <a:pt x="127" y="52"/>
                    </a:lnTo>
                    <a:lnTo>
                      <a:pt x="138" y="48"/>
                    </a:lnTo>
                    <a:lnTo>
                      <a:pt x="142" y="0"/>
                    </a:lnTo>
                    <a:lnTo>
                      <a:pt x="142" y="142"/>
                    </a:lnTo>
                    <a:lnTo>
                      <a:pt x="134" y="151"/>
                    </a:lnTo>
                    <a:lnTo>
                      <a:pt x="123" y="150"/>
                    </a:lnTo>
                    <a:lnTo>
                      <a:pt x="108" y="147"/>
                    </a:lnTo>
                    <a:lnTo>
                      <a:pt x="34" y="130"/>
                    </a:lnTo>
                    <a:lnTo>
                      <a:pt x="23" y="127"/>
                    </a:lnTo>
                    <a:lnTo>
                      <a:pt x="17" y="123"/>
                    </a:lnTo>
                    <a:lnTo>
                      <a:pt x="12" y="117"/>
                    </a:lnTo>
                    <a:lnTo>
                      <a:pt x="7" y="108"/>
                    </a:lnTo>
                    <a:lnTo>
                      <a:pt x="0" y="97"/>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070400" y="3645720"/>
                <a:ext cx="299520" cy="484560"/>
              </a:xfrm>
              <a:custGeom>
                <a:avLst/>
                <a:gdLst/>
                <a:ahLst/>
                <a:rect l="l" t="t" r="r" b="b"/>
                <a:pathLst>
                  <a:path w="216" h="333">
                    <a:moveTo>
                      <a:pt x="32" y="328"/>
                    </a:moveTo>
                    <a:lnTo>
                      <a:pt x="32" y="242"/>
                    </a:lnTo>
                    <a:lnTo>
                      <a:pt x="23" y="242"/>
                    </a:lnTo>
                    <a:lnTo>
                      <a:pt x="15" y="242"/>
                    </a:lnTo>
                    <a:lnTo>
                      <a:pt x="15" y="279"/>
                    </a:lnTo>
                    <a:lnTo>
                      <a:pt x="17" y="308"/>
                    </a:lnTo>
                    <a:lnTo>
                      <a:pt x="12" y="296"/>
                    </a:lnTo>
                    <a:lnTo>
                      <a:pt x="10" y="286"/>
                    </a:lnTo>
                    <a:lnTo>
                      <a:pt x="7" y="258"/>
                    </a:lnTo>
                    <a:lnTo>
                      <a:pt x="2" y="214"/>
                    </a:lnTo>
                    <a:lnTo>
                      <a:pt x="0" y="195"/>
                    </a:lnTo>
                    <a:lnTo>
                      <a:pt x="0" y="173"/>
                    </a:lnTo>
                    <a:lnTo>
                      <a:pt x="4" y="71"/>
                    </a:lnTo>
                    <a:lnTo>
                      <a:pt x="9" y="0"/>
                    </a:lnTo>
                    <a:lnTo>
                      <a:pt x="17" y="8"/>
                    </a:lnTo>
                    <a:lnTo>
                      <a:pt x="45" y="14"/>
                    </a:lnTo>
                    <a:lnTo>
                      <a:pt x="82" y="16"/>
                    </a:lnTo>
                    <a:lnTo>
                      <a:pt x="103" y="30"/>
                    </a:lnTo>
                    <a:lnTo>
                      <a:pt x="111" y="56"/>
                    </a:lnTo>
                    <a:lnTo>
                      <a:pt x="115" y="69"/>
                    </a:lnTo>
                    <a:lnTo>
                      <a:pt x="132" y="97"/>
                    </a:lnTo>
                    <a:lnTo>
                      <a:pt x="152" y="112"/>
                    </a:lnTo>
                    <a:lnTo>
                      <a:pt x="169" y="125"/>
                    </a:lnTo>
                    <a:lnTo>
                      <a:pt x="172" y="128"/>
                    </a:lnTo>
                    <a:lnTo>
                      <a:pt x="192" y="134"/>
                    </a:lnTo>
                    <a:lnTo>
                      <a:pt x="209" y="141"/>
                    </a:lnTo>
                    <a:lnTo>
                      <a:pt x="215" y="153"/>
                    </a:lnTo>
                    <a:lnTo>
                      <a:pt x="176" y="152"/>
                    </a:lnTo>
                    <a:lnTo>
                      <a:pt x="143" y="158"/>
                    </a:lnTo>
                    <a:lnTo>
                      <a:pt x="85" y="173"/>
                    </a:lnTo>
                    <a:lnTo>
                      <a:pt x="39" y="188"/>
                    </a:lnTo>
                    <a:lnTo>
                      <a:pt x="41" y="243"/>
                    </a:lnTo>
                    <a:lnTo>
                      <a:pt x="35" y="243"/>
                    </a:lnTo>
                    <a:lnTo>
                      <a:pt x="35" y="332"/>
                    </a:lnTo>
                    <a:lnTo>
                      <a:pt x="32" y="328"/>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14960" y="3454920"/>
                <a:ext cx="300960" cy="203400"/>
              </a:xfrm>
              <a:custGeom>
                <a:avLst/>
                <a:gdLst/>
                <a:ahLst/>
                <a:rect l="l" t="t" r="r" b="b"/>
                <a:pathLst>
                  <a:path stroke="0" w="21600" h="21600">
                    <a:moveTo>
                      <a:pt x="21590" y="11272"/>
                    </a:moveTo>
                    <a:arcTo wR="10800" hR="10800" stAng="150376" swAng="7396265"/>
                    <a:lnTo>
                      <a:pt x="10800" y="10800"/>
                    </a:lnTo>
                    <a:close/>
                  </a:path>
                  <a:path fill="none" w="21600" h="21600">
                    <a:moveTo>
                      <a:pt x="21590" y="11272"/>
                    </a:moveTo>
                    <a:arcTo wR="10800" hR="10800" stAng="150376" swAng="739626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119000" y="3987360"/>
                <a:ext cx="203760" cy="79920"/>
              </a:xfrm>
              <a:custGeom>
                <a:avLst/>
                <a:gdLst/>
                <a:ahLst/>
                <a:rect l="l" t="t" r="r" b="b"/>
                <a:pathLst>
                  <a:path w="147" h="55">
                    <a:moveTo>
                      <a:pt x="0" y="0"/>
                    </a:moveTo>
                    <a:lnTo>
                      <a:pt x="13" y="15"/>
                    </a:lnTo>
                    <a:lnTo>
                      <a:pt x="20" y="26"/>
                    </a:lnTo>
                    <a:lnTo>
                      <a:pt x="26" y="33"/>
                    </a:lnTo>
                    <a:lnTo>
                      <a:pt x="31" y="38"/>
                    </a:lnTo>
                    <a:lnTo>
                      <a:pt x="37" y="40"/>
                    </a:lnTo>
                    <a:lnTo>
                      <a:pt x="133" y="54"/>
                    </a:lnTo>
                    <a:lnTo>
                      <a:pt x="138" y="53"/>
                    </a:lnTo>
                    <a:lnTo>
                      <a:pt x="143" y="49"/>
                    </a:lnTo>
                    <a:lnTo>
                      <a:pt x="145" y="44"/>
                    </a:lnTo>
                    <a:lnTo>
                      <a:pt x="146" y="34"/>
                    </a:lnTo>
                    <a:lnTo>
                      <a:pt x="146" y="0"/>
                    </a:lnTo>
                    <a:lnTo>
                      <a:pt x="0" y="0"/>
                    </a:lnTo>
                  </a:path>
                </a:pathLst>
              </a:custGeom>
              <a:solidFill>
                <a:srgbClr val="3f3f3f"/>
              </a:solidFill>
              <a:ln cap="rnd" w="1260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2" name=""/>
              <p:cNvSpPr/>
              <p:nvPr/>
            </p:nvSpPr>
            <p:spPr>
              <a:xfrm>
                <a:off x="7084080" y="3861000"/>
                <a:ext cx="779040" cy="127800"/>
              </a:xfrm>
              <a:custGeom>
                <a:avLst/>
                <a:gdLst/>
                <a:ahLst/>
                <a:rect l="l" t="t" r="r" b="b"/>
                <a:pathLst>
                  <a:path w="561" h="88">
                    <a:moveTo>
                      <a:pt x="0" y="87"/>
                    </a:moveTo>
                    <a:lnTo>
                      <a:pt x="0" y="61"/>
                    </a:lnTo>
                    <a:lnTo>
                      <a:pt x="3" y="52"/>
                    </a:lnTo>
                    <a:lnTo>
                      <a:pt x="9" y="46"/>
                    </a:lnTo>
                    <a:lnTo>
                      <a:pt x="28" y="37"/>
                    </a:lnTo>
                    <a:lnTo>
                      <a:pt x="57" y="27"/>
                    </a:lnTo>
                    <a:lnTo>
                      <a:pt x="83" y="18"/>
                    </a:lnTo>
                    <a:lnTo>
                      <a:pt x="110" y="11"/>
                    </a:lnTo>
                    <a:lnTo>
                      <a:pt x="141" y="5"/>
                    </a:lnTo>
                    <a:lnTo>
                      <a:pt x="169" y="1"/>
                    </a:lnTo>
                    <a:lnTo>
                      <a:pt x="189" y="0"/>
                    </a:lnTo>
                    <a:lnTo>
                      <a:pt x="207" y="1"/>
                    </a:lnTo>
                    <a:lnTo>
                      <a:pt x="454" y="3"/>
                    </a:lnTo>
                    <a:lnTo>
                      <a:pt x="556" y="15"/>
                    </a:lnTo>
                    <a:lnTo>
                      <a:pt x="560" y="86"/>
                    </a:lnTo>
                    <a:lnTo>
                      <a:pt x="0" y="87"/>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939720" y="2849760"/>
                <a:ext cx="925920" cy="1364400"/>
              </a:xfrm>
              <a:custGeom>
                <a:avLst/>
                <a:gdLst/>
                <a:ahLst/>
                <a:rect l="l" t="t" r="r" b="b"/>
                <a:pathLst>
                  <a:path w="667" h="938">
                    <a:moveTo>
                      <a:pt x="101" y="544"/>
                    </a:moveTo>
                    <a:lnTo>
                      <a:pt x="0" y="82"/>
                    </a:lnTo>
                    <a:lnTo>
                      <a:pt x="2" y="71"/>
                    </a:lnTo>
                    <a:lnTo>
                      <a:pt x="4" y="59"/>
                    </a:lnTo>
                    <a:lnTo>
                      <a:pt x="8" y="49"/>
                    </a:lnTo>
                    <a:lnTo>
                      <a:pt x="15" y="38"/>
                    </a:lnTo>
                    <a:lnTo>
                      <a:pt x="23" y="28"/>
                    </a:lnTo>
                    <a:lnTo>
                      <a:pt x="31" y="20"/>
                    </a:lnTo>
                    <a:lnTo>
                      <a:pt x="40" y="13"/>
                    </a:lnTo>
                    <a:lnTo>
                      <a:pt x="49" y="8"/>
                    </a:lnTo>
                    <a:lnTo>
                      <a:pt x="63" y="2"/>
                    </a:lnTo>
                    <a:lnTo>
                      <a:pt x="76" y="0"/>
                    </a:lnTo>
                    <a:lnTo>
                      <a:pt x="91" y="0"/>
                    </a:lnTo>
                    <a:lnTo>
                      <a:pt x="104" y="2"/>
                    </a:lnTo>
                    <a:lnTo>
                      <a:pt x="114" y="5"/>
                    </a:lnTo>
                    <a:lnTo>
                      <a:pt x="124" y="9"/>
                    </a:lnTo>
                    <a:lnTo>
                      <a:pt x="136" y="18"/>
                    </a:lnTo>
                    <a:lnTo>
                      <a:pt x="148" y="28"/>
                    </a:lnTo>
                    <a:lnTo>
                      <a:pt x="156" y="39"/>
                    </a:lnTo>
                    <a:lnTo>
                      <a:pt x="162" y="50"/>
                    </a:lnTo>
                    <a:lnTo>
                      <a:pt x="166" y="60"/>
                    </a:lnTo>
                    <a:lnTo>
                      <a:pt x="170" y="75"/>
                    </a:lnTo>
                    <a:lnTo>
                      <a:pt x="567" y="76"/>
                    </a:lnTo>
                    <a:lnTo>
                      <a:pt x="585" y="76"/>
                    </a:lnTo>
                    <a:lnTo>
                      <a:pt x="601" y="79"/>
                    </a:lnTo>
                    <a:lnTo>
                      <a:pt x="614" y="83"/>
                    </a:lnTo>
                    <a:lnTo>
                      <a:pt x="627" y="91"/>
                    </a:lnTo>
                    <a:lnTo>
                      <a:pt x="635" y="100"/>
                    </a:lnTo>
                    <a:lnTo>
                      <a:pt x="641" y="112"/>
                    </a:lnTo>
                    <a:lnTo>
                      <a:pt x="645" y="121"/>
                    </a:lnTo>
                    <a:lnTo>
                      <a:pt x="647" y="130"/>
                    </a:lnTo>
                    <a:lnTo>
                      <a:pt x="649" y="142"/>
                    </a:lnTo>
                    <a:lnTo>
                      <a:pt x="662" y="707"/>
                    </a:lnTo>
                    <a:lnTo>
                      <a:pt x="666" y="778"/>
                    </a:lnTo>
                    <a:lnTo>
                      <a:pt x="666" y="870"/>
                    </a:lnTo>
                    <a:lnTo>
                      <a:pt x="666" y="877"/>
                    </a:lnTo>
                    <a:lnTo>
                      <a:pt x="665" y="885"/>
                    </a:lnTo>
                    <a:lnTo>
                      <a:pt x="663" y="891"/>
                    </a:lnTo>
                    <a:lnTo>
                      <a:pt x="660" y="897"/>
                    </a:lnTo>
                    <a:lnTo>
                      <a:pt x="656" y="902"/>
                    </a:lnTo>
                    <a:lnTo>
                      <a:pt x="651" y="904"/>
                    </a:lnTo>
                    <a:lnTo>
                      <a:pt x="645" y="907"/>
                    </a:lnTo>
                    <a:lnTo>
                      <a:pt x="564" y="925"/>
                    </a:lnTo>
                    <a:lnTo>
                      <a:pt x="532" y="932"/>
                    </a:lnTo>
                    <a:lnTo>
                      <a:pt x="509" y="934"/>
                    </a:lnTo>
                    <a:lnTo>
                      <a:pt x="301" y="934"/>
                    </a:lnTo>
                    <a:lnTo>
                      <a:pt x="298" y="937"/>
                    </a:lnTo>
                    <a:lnTo>
                      <a:pt x="282" y="937"/>
                    </a:lnTo>
                    <a:lnTo>
                      <a:pt x="277" y="918"/>
                    </a:lnTo>
                    <a:lnTo>
                      <a:pt x="276" y="929"/>
                    </a:lnTo>
                    <a:lnTo>
                      <a:pt x="274" y="934"/>
                    </a:lnTo>
                    <a:lnTo>
                      <a:pt x="269" y="937"/>
                    </a:lnTo>
                    <a:lnTo>
                      <a:pt x="264" y="937"/>
                    </a:lnTo>
                    <a:lnTo>
                      <a:pt x="256" y="936"/>
                    </a:lnTo>
                    <a:lnTo>
                      <a:pt x="172" y="916"/>
                    </a:lnTo>
                    <a:lnTo>
                      <a:pt x="156" y="912"/>
                    </a:lnTo>
                    <a:lnTo>
                      <a:pt x="148" y="907"/>
                    </a:lnTo>
                    <a:lnTo>
                      <a:pt x="143" y="902"/>
                    </a:lnTo>
                    <a:lnTo>
                      <a:pt x="141" y="896"/>
                    </a:lnTo>
                    <a:lnTo>
                      <a:pt x="133" y="882"/>
                    </a:lnTo>
                    <a:lnTo>
                      <a:pt x="123" y="873"/>
                    </a:lnTo>
                    <a:lnTo>
                      <a:pt x="117" y="863"/>
                    </a:lnTo>
                    <a:lnTo>
                      <a:pt x="111" y="855"/>
                    </a:lnTo>
                    <a:lnTo>
                      <a:pt x="104" y="839"/>
                    </a:lnTo>
                    <a:lnTo>
                      <a:pt x="93" y="752"/>
                    </a:lnTo>
                    <a:lnTo>
                      <a:pt x="91" y="726"/>
                    </a:lnTo>
                    <a:lnTo>
                      <a:pt x="93" y="704"/>
                    </a:lnTo>
                    <a:lnTo>
                      <a:pt x="101" y="5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790760" y="3347280"/>
                <a:ext cx="37440" cy="173160"/>
              </a:xfrm>
              <a:custGeom>
                <a:avLst/>
                <a:gdLst>
                  <a:gd name="textAreaLeft" fmla="*/ 2880 w 37440"/>
                  <a:gd name="textAreaRight" fmla="*/ 34560 w 37440"/>
                  <a:gd name="textAreaTop" fmla="*/ 2880 h 173160"/>
                  <a:gd name="textAreaBottom" fmla="*/ 170280 h 173160"/>
                </a:gdLst>
                <a:ahLst/>
                <a:rect l="textAreaLeft" t="textAreaTop" r="textAreaRight" b="textAreaBottom"/>
                <a:pathLst>
                  <a:path w="21600" h="99154">
                    <a:moveTo>
                      <a:pt x="6074" y="0"/>
                    </a:moveTo>
                    <a:arcTo wR="6074" hR="6074" stAng="16200000" swAng="-5400000"/>
                    <a:lnTo>
                      <a:pt x="0" y="93080"/>
                    </a:lnTo>
                    <a:arcTo wR="6074" hR="6074" stAng="10800000" swAng="-5400000"/>
                    <a:lnTo>
                      <a:pt x="15526" y="99154"/>
                    </a:lnTo>
                    <a:arcTo wR="6074" hR="6074" stAng="5400000" swAng="-5400000"/>
                    <a:lnTo>
                      <a:pt x="21600" y="6074"/>
                    </a:lnTo>
                    <a:arcTo wR="6074" hR="6074" stAng="0" swAng="-5400000"/>
                    <a:close/>
                  </a:path>
                </a:pathLst>
              </a:cu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434720" y="3571560"/>
                <a:ext cx="412560" cy="112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3f3f3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7743600" y="3006720"/>
                <a:ext cx="62640" cy="116280"/>
                <a:chOff x="7743600" y="3006720"/>
                <a:chExt cx="62640" cy="116280"/>
              </a:xfrm>
            </p:grpSpPr>
            <p:sp>
              <p:nvSpPr>
                <p:cNvPr id="117" name=""/>
                <p:cNvSpPr/>
                <p:nvPr/>
              </p:nvSpPr>
              <p:spPr>
                <a:xfrm>
                  <a:off x="7743600" y="3006720"/>
                  <a:ext cx="62640" cy="116280"/>
                </a:xfrm>
                <a:custGeom>
                  <a:avLst/>
                  <a:gdLst>
                    <a:gd name="textAreaLeft" fmla="*/ 4680 w 62640"/>
                    <a:gd name="textAreaRight" fmla="*/ 57960 w 62640"/>
                    <a:gd name="textAreaTop" fmla="*/ 4680 h 116280"/>
                    <a:gd name="textAreaBottom" fmla="*/ 111600 h 116280"/>
                  </a:gdLst>
                  <a:ahLst/>
                  <a:rect l="textAreaLeft" t="textAreaTop" r="textAreaRight" b="textAreaBottom"/>
                  <a:pathLst>
                    <a:path w="21600" h="39991">
                      <a:moveTo>
                        <a:pt x="5784" y="0"/>
                      </a:moveTo>
                      <a:arcTo wR="5784" hR="5784" stAng="16200000" swAng="-5400000"/>
                      <a:lnTo>
                        <a:pt x="0" y="34207"/>
                      </a:lnTo>
                      <a:arcTo wR="5784" hR="5784" stAng="10800000" swAng="-5400000"/>
                      <a:lnTo>
                        <a:pt x="15816" y="39991"/>
                      </a:lnTo>
                      <a:arcTo wR="5784" hR="5784" stAng="5400000" swAng="-5400000"/>
                      <a:lnTo>
                        <a:pt x="21600" y="5784"/>
                      </a:lnTo>
                      <a:arcTo wR="5784" hR="5784"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7750440" y="3013920"/>
                  <a:ext cx="48600" cy="53640"/>
                  <a:chOff x="7750440" y="3013920"/>
                  <a:chExt cx="48600" cy="53640"/>
                </a:xfrm>
              </p:grpSpPr>
              <p:sp>
                <p:nvSpPr>
                  <p:cNvPr id="119" name=""/>
                  <p:cNvSpPr/>
                  <p:nvPr/>
                </p:nvSpPr>
                <p:spPr>
                  <a:xfrm>
                    <a:off x="7750440" y="3019680"/>
                    <a:ext cx="48600" cy="47880"/>
                  </a:xfrm>
                  <a:prstGeom prst="ellipse">
                    <a:avLst/>
                  </a:prstGeom>
                  <a:solidFill>
                    <a:srgbClr val="3f3f3f"/>
                  </a:solidFill>
                  <a:ln w="0">
                    <a:noFill/>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20" name=""/>
                  <p:cNvSpPr/>
                  <p:nvPr/>
                </p:nvSpPr>
                <p:spPr>
                  <a:xfrm>
                    <a:off x="7750440" y="3013920"/>
                    <a:ext cx="46800" cy="46440"/>
                  </a:xfrm>
                  <a:prstGeom prst="ellipse">
                    <a:avLst/>
                  </a:prstGeom>
                  <a:solidFill>
                    <a:srgbClr val="7f7f7f"/>
                  </a:solidFill>
                  <a:ln w="0">
                    <a:noFill/>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grpSp>
            <p:grpSp>
              <p:nvGrpSpPr>
                <p:cNvPr id="121" name=""/>
                <p:cNvGrpSpPr/>
                <p:nvPr/>
              </p:nvGrpSpPr>
              <p:grpSpPr>
                <a:xfrm>
                  <a:off x="7751880" y="3073320"/>
                  <a:ext cx="41040" cy="40320"/>
                  <a:chOff x="7751880" y="3073320"/>
                  <a:chExt cx="41040" cy="40320"/>
                </a:xfrm>
              </p:grpSpPr>
              <p:sp>
                <p:nvSpPr>
                  <p:cNvPr id="122" name=""/>
                  <p:cNvSpPr/>
                  <p:nvPr/>
                </p:nvSpPr>
                <p:spPr>
                  <a:xfrm>
                    <a:off x="7752960" y="3076200"/>
                    <a:ext cx="39960" cy="37440"/>
                  </a:xfrm>
                  <a:prstGeom prst="ellipse">
                    <a:avLst/>
                  </a:prstGeom>
                  <a:solidFill>
                    <a:srgbClr val="3f3f3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23" name=""/>
                  <p:cNvSpPr/>
                  <p:nvPr/>
                </p:nvSpPr>
                <p:spPr>
                  <a:xfrm>
                    <a:off x="7751880" y="3073320"/>
                    <a:ext cx="39960" cy="34560"/>
                  </a:xfrm>
                  <a:prstGeom prst="ellipse">
                    <a:avLst/>
                  </a:prstGeom>
                  <a:solidFill>
                    <a:srgbClr val="7f7f7f"/>
                  </a:solidFill>
                  <a:ln w="0">
                    <a:noFill/>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7356240" y="2913840"/>
                <a:ext cx="362880" cy="1301400"/>
                <a:chOff x="7356240" y="2913840"/>
                <a:chExt cx="362880" cy="1301400"/>
              </a:xfrm>
            </p:grpSpPr>
            <p:grpSp>
              <p:nvGrpSpPr>
                <p:cNvPr id="125" name=""/>
                <p:cNvGrpSpPr/>
                <p:nvPr/>
              </p:nvGrpSpPr>
              <p:grpSpPr>
                <a:xfrm>
                  <a:off x="7356240" y="2913840"/>
                  <a:ext cx="358200" cy="1301400"/>
                  <a:chOff x="7356240" y="2913840"/>
                  <a:chExt cx="358200" cy="1301400"/>
                </a:xfrm>
              </p:grpSpPr>
              <p:sp>
                <p:nvSpPr>
                  <p:cNvPr id="126" name=""/>
                  <p:cNvSpPr/>
                  <p:nvPr/>
                </p:nvSpPr>
                <p:spPr>
                  <a:xfrm flipV="1">
                    <a:off x="7356240" y="4027680"/>
                    <a:ext cx="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378560" y="2913840"/>
                    <a:ext cx="333000" cy="1035720"/>
                  </a:xfrm>
                  <a:custGeom>
                    <a:avLst/>
                    <a:gdLst/>
                    <a:ahLst/>
                    <a:rect l="l" t="t" r="r" b="b"/>
                    <a:pathLst>
                      <a:path w="240" h="712">
                        <a:moveTo>
                          <a:pt x="0" y="711"/>
                        </a:moveTo>
                        <a:lnTo>
                          <a:pt x="0" y="78"/>
                        </a:lnTo>
                        <a:lnTo>
                          <a:pt x="7" y="58"/>
                        </a:lnTo>
                        <a:lnTo>
                          <a:pt x="16" y="45"/>
                        </a:lnTo>
                        <a:lnTo>
                          <a:pt x="24" y="37"/>
                        </a:lnTo>
                        <a:lnTo>
                          <a:pt x="34" y="28"/>
                        </a:lnTo>
                        <a:lnTo>
                          <a:pt x="43" y="21"/>
                        </a:lnTo>
                        <a:lnTo>
                          <a:pt x="53" y="16"/>
                        </a:lnTo>
                        <a:lnTo>
                          <a:pt x="65" y="10"/>
                        </a:lnTo>
                        <a:lnTo>
                          <a:pt x="77" y="6"/>
                        </a:lnTo>
                        <a:lnTo>
                          <a:pt x="92" y="3"/>
                        </a:lnTo>
                        <a:lnTo>
                          <a:pt x="108" y="1"/>
                        </a:lnTo>
                        <a:lnTo>
                          <a:pt x="121" y="0"/>
                        </a:lnTo>
                        <a:lnTo>
                          <a:pt x="140" y="3"/>
                        </a:lnTo>
                        <a:lnTo>
                          <a:pt x="155" y="5"/>
                        </a:lnTo>
                        <a:lnTo>
                          <a:pt x="174" y="11"/>
                        </a:lnTo>
                        <a:lnTo>
                          <a:pt x="189" y="19"/>
                        </a:lnTo>
                        <a:lnTo>
                          <a:pt x="203" y="29"/>
                        </a:lnTo>
                        <a:lnTo>
                          <a:pt x="217" y="43"/>
                        </a:lnTo>
                        <a:lnTo>
                          <a:pt x="227" y="58"/>
                        </a:lnTo>
                        <a:lnTo>
                          <a:pt x="239" y="80"/>
                        </a:lnTo>
                        <a:lnTo>
                          <a:pt x="239" y="711"/>
                        </a:lnTo>
                        <a:lnTo>
                          <a:pt x="0" y="711"/>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375680" y="2937240"/>
                    <a:ext cx="75960" cy="951120"/>
                  </a:xfrm>
                  <a:custGeom>
                    <a:avLst/>
                    <a:gdLst/>
                    <a:ahLst/>
                    <a:rect l="l" t="t" r="r" b="b"/>
                    <a:pathLst>
                      <a:path w="55" h="654">
                        <a:moveTo>
                          <a:pt x="0" y="653"/>
                        </a:moveTo>
                        <a:lnTo>
                          <a:pt x="1" y="66"/>
                        </a:lnTo>
                        <a:lnTo>
                          <a:pt x="4" y="55"/>
                        </a:lnTo>
                        <a:lnTo>
                          <a:pt x="9" y="42"/>
                        </a:lnTo>
                        <a:lnTo>
                          <a:pt x="16" y="29"/>
                        </a:lnTo>
                        <a:lnTo>
                          <a:pt x="25" y="20"/>
                        </a:lnTo>
                        <a:lnTo>
                          <a:pt x="38" y="9"/>
                        </a:lnTo>
                        <a:lnTo>
                          <a:pt x="54" y="0"/>
                        </a:lnTo>
                        <a:lnTo>
                          <a:pt x="54" y="605"/>
                        </a:lnTo>
                        <a:lnTo>
                          <a:pt x="0" y="653"/>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39560" y="2939760"/>
                    <a:ext cx="73080" cy="943920"/>
                  </a:xfrm>
                  <a:custGeom>
                    <a:avLst/>
                    <a:gdLst/>
                    <a:ahLst/>
                    <a:rect l="l" t="t" r="r" b="b"/>
                    <a:pathLst>
                      <a:path w="53" h="649">
                        <a:moveTo>
                          <a:pt x="52" y="648"/>
                        </a:moveTo>
                        <a:lnTo>
                          <a:pt x="50" y="77"/>
                        </a:lnTo>
                        <a:lnTo>
                          <a:pt x="45" y="55"/>
                        </a:lnTo>
                        <a:lnTo>
                          <a:pt x="40" y="42"/>
                        </a:lnTo>
                        <a:lnTo>
                          <a:pt x="34" y="31"/>
                        </a:lnTo>
                        <a:lnTo>
                          <a:pt x="25" y="20"/>
                        </a:lnTo>
                        <a:lnTo>
                          <a:pt x="13" y="9"/>
                        </a:lnTo>
                        <a:lnTo>
                          <a:pt x="0" y="0"/>
                        </a:lnTo>
                        <a:lnTo>
                          <a:pt x="0" y="600"/>
                        </a:lnTo>
                        <a:lnTo>
                          <a:pt x="52" y="648"/>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376760" y="3025800"/>
                    <a:ext cx="330120" cy="269280"/>
                  </a:xfrm>
                  <a:custGeom>
                    <a:avLst/>
                    <a:gdLst/>
                    <a:ahLst/>
                    <a:rect l="l" t="t" r="r" b="b"/>
                    <a:pathLst>
                      <a:path stroke="0" w="21600" h="21600">
                        <a:moveTo>
                          <a:pt x="1" y="10684"/>
                        </a:moveTo>
                        <a:arcTo wR="10800" hR="10800" stAng="-10763036" swAng="10912056"/>
                        <a:lnTo>
                          <a:pt x="10800" y="10800"/>
                        </a:lnTo>
                        <a:close/>
                      </a:path>
                      <a:path fill="none" w="21600" h="21600">
                        <a:moveTo>
                          <a:pt x="1" y="10684"/>
                        </a:moveTo>
                        <a:arcTo wR="10800" hR="10800" stAng="-10763036" swAng="10912056"/>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7376760" y="2922480"/>
                    <a:ext cx="333000" cy="269280"/>
                  </a:xfrm>
                  <a:custGeom>
                    <a:avLst/>
                    <a:gdLst/>
                    <a:ahLst/>
                    <a:rect l="l" t="t" r="r" b="b"/>
                    <a:pathLst>
                      <a:path stroke="0" w="21600" h="21600">
                        <a:moveTo>
                          <a:pt x="1" y="10684"/>
                        </a:moveTo>
                        <a:arcTo wR="10800" hR="10800" stAng="-10763036" swAng="10874824"/>
                        <a:lnTo>
                          <a:pt x="10800" y="10800"/>
                        </a:lnTo>
                        <a:close/>
                      </a:path>
                      <a:path fill="none" w="21600" h="21600">
                        <a:moveTo>
                          <a:pt x="1" y="10684"/>
                        </a:moveTo>
                        <a:arcTo wR="10800" hR="10800" stAng="-10763036" swAng="1087482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381080" y="3495600"/>
                    <a:ext cx="331200" cy="270000"/>
                  </a:xfrm>
                  <a:custGeom>
                    <a:avLst/>
                    <a:gdLst/>
                    <a:ahLst/>
                    <a:rect l="l" t="t" r="r" b="b"/>
                    <a:pathLst>
                      <a:path stroke="0" w="21600" h="21600">
                        <a:moveTo>
                          <a:pt x="1" y="10684"/>
                        </a:moveTo>
                        <a:arcTo wR="10800" hR="10800" stAng="-10763190" swAng="10912835"/>
                        <a:lnTo>
                          <a:pt x="10800" y="10800"/>
                        </a:lnTo>
                        <a:close/>
                      </a:path>
                      <a:path fill="none" w="21600" h="21600">
                        <a:moveTo>
                          <a:pt x="1" y="10684"/>
                        </a:moveTo>
                        <a:arcTo wR="10800" hR="10800" stAng="-10763190" swAng="109128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7375680" y="3035880"/>
                    <a:ext cx="0" cy="81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714440" y="3038400"/>
                    <a:ext cx="0" cy="81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7451640" y="2942640"/>
                    <a:ext cx="180000" cy="686160"/>
                    <a:chOff x="7451640" y="2942640"/>
                    <a:chExt cx="180000" cy="686160"/>
                  </a:xfrm>
                </p:grpSpPr>
                <p:sp>
                  <p:nvSpPr>
                    <p:cNvPr id="136" name=""/>
                    <p:cNvSpPr/>
                    <p:nvPr/>
                  </p:nvSpPr>
                  <p:spPr>
                    <a:xfrm>
                      <a:off x="7488720" y="3554640"/>
                      <a:ext cx="106560" cy="74160"/>
                    </a:xfrm>
                    <a:prstGeom prst="roundRect">
                      <a:avLst>
                        <a:gd name="adj" fmla="val 22292"/>
                      </a:avLst>
                    </a:prstGeom>
                    <a:solidFill>
                      <a:srgbClr val="5f5f5f"/>
                    </a:solidFill>
                    <a:ln w="12600">
                      <a:solidFill>
                        <a:srgbClr val="3f3f3f"/>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grpSp>
                  <p:nvGrpSpPr>
                    <p:cNvPr id="137" name=""/>
                    <p:cNvGrpSpPr/>
                    <p:nvPr/>
                  </p:nvGrpSpPr>
                  <p:grpSpPr>
                    <a:xfrm>
                      <a:off x="7451640" y="3040200"/>
                      <a:ext cx="69120" cy="288720"/>
                      <a:chOff x="7451640" y="3040200"/>
                      <a:chExt cx="69120" cy="288720"/>
                    </a:xfrm>
                  </p:grpSpPr>
                  <p:grpSp>
                    <p:nvGrpSpPr>
                      <p:cNvPr id="138" name=""/>
                      <p:cNvGrpSpPr/>
                      <p:nvPr/>
                    </p:nvGrpSpPr>
                    <p:grpSpPr>
                      <a:xfrm>
                        <a:off x="7451640" y="3256560"/>
                        <a:ext cx="69120" cy="72360"/>
                        <a:chOff x="7451640" y="3256560"/>
                        <a:chExt cx="69120" cy="72360"/>
                      </a:xfrm>
                    </p:grpSpPr>
                    <p:sp>
                      <p:nvSpPr>
                        <p:cNvPr id="139" name=""/>
                        <p:cNvSpPr/>
                        <p:nvPr/>
                      </p:nvSpPr>
                      <p:spPr>
                        <a:xfrm>
                          <a:off x="7451640" y="3256560"/>
                          <a:ext cx="69120" cy="72360"/>
                        </a:xfrm>
                        <a:prstGeom prst="ellipse">
                          <a:avLst/>
                        </a:prstGeom>
                        <a:solidFill>
                          <a:srgbClr val="3f3f3f"/>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40" name=""/>
                        <p:cNvSpPr/>
                        <p:nvPr/>
                      </p:nvSpPr>
                      <p:spPr>
                        <a:xfrm>
                          <a:off x="7458480" y="3269520"/>
                          <a:ext cx="57960" cy="59040"/>
                        </a:xfrm>
                        <a:prstGeom prst="ellipse">
                          <a:avLst/>
                        </a:prstGeom>
                        <a:solidFill>
                          <a:srgbClr val="7f7f7f"/>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141" name=""/>
                      <p:cNvGrpSpPr/>
                      <p:nvPr/>
                    </p:nvGrpSpPr>
                    <p:grpSpPr>
                      <a:xfrm>
                        <a:off x="7451640" y="3150360"/>
                        <a:ext cx="69120" cy="72360"/>
                        <a:chOff x="7451640" y="3150360"/>
                        <a:chExt cx="69120" cy="72360"/>
                      </a:xfrm>
                    </p:grpSpPr>
                    <p:sp>
                      <p:nvSpPr>
                        <p:cNvPr id="142" name=""/>
                        <p:cNvSpPr/>
                        <p:nvPr/>
                      </p:nvSpPr>
                      <p:spPr>
                        <a:xfrm>
                          <a:off x="7451640" y="3150360"/>
                          <a:ext cx="69120" cy="72360"/>
                        </a:xfrm>
                        <a:prstGeom prst="ellipse">
                          <a:avLst/>
                        </a:prstGeom>
                        <a:solidFill>
                          <a:srgbClr val="3f3f3f"/>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143" name=""/>
                        <p:cNvSpPr/>
                        <p:nvPr/>
                      </p:nvSpPr>
                      <p:spPr>
                        <a:xfrm>
                          <a:off x="7458480" y="3169080"/>
                          <a:ext cx="57960" cy="53280"/>
                        </a:xfrm>
                        <a:prstGeom prst="ellipse">
                          <a:avLst/>
                        </a:prstGeom>
                        <a:solidFill>
                          <a:srgbClr val="7f7f7f"/>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44" name=""/>
                      <p:cNvGrpSpPr/>
                      <p:nvPr/>
                    </p:nvGrpSpPr>
                    <p:grpSpPr>
                      <a:xfrm>
                        <a:off x="7451640" y="3040200"/>
                        <a:ext cx="69120" cy="69480"/>
                        <a:chOff x="7451640" y="3040200"/>
                        <a:chExt cx="69120" cy="69480"/>
                      </a:xfrm>
                    </p:grpSpPr>
                    <p:sp>
                      <p:nvSpPr>
                        <p:cNvPr id="145" name=""/>
                        <p:cNvSpPr/>
                        <p:nvPr/>
                      </p:nvSpPr>
                      <p:spPr>
                        <a:xfrm>
                          <a:off x="7451640" y="3040200"/>
                          <a:ext cx="69120" cy="69480"/>
                        </a:xfrm>
                        <a:prstGeom prst="ellipse">
                          <a:avLst/>
                        </a:prstGeom>
                        <a:solidFill>
                          <a:srgbClr val="3f3f3f"/>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6" name=""/>
                        <p:cNvSpPr/>
                        <p:nvPr/>
                      </p:nvSpPr>
                      <p:spPr>
                        <a:xfrm>
                          <a:off x="7458480" y="3057480"/>
                          <a:ext cx="57960" cy="51840"/>
                        </a:xfrm>
                        <a:prstGeom prst="ellipse">
                          <a:avLst/>
                        </a:prstGeom>
                        <a:solidFill>
                          <a:srgbClr val="7f7f7f"/>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147" name=""/>
                      <p:cNvGrpSpPr/>
                      <p:nvPr/>
                    </p:nvGrpSpPr>
                    <p:grpSpPr>
                      <a:xfrm>
                        <a:off x="7472160" y="3281400"/>
                        <a:ext cx="27360" cy="32760"/>
                        <a:chOff x="7472160" y="3281400"/>
                        <a:chExt cx="27360" cy="32760"/>
                      </a:xfrm>
                    </p:grpSpPr>
                    <p:sp>
                      <p:nvSpPr>
                        <p:cNvPr id="148" name=""/>
                        <p:cNvSpPr/>
                        <p:nvPr/>
                      </p:nvSpPr>
                      <p:spPr>
                        <a:xfrm>
                          <a:off x="7473600" y="3284280"/>
                          <a:ext cx="25920" cy="29880"/>
                        </a:xfrm>
                        <a:prstGeom prst="ellipse">
                          <a:avLst/>
                        </a:prstGeom>
                        <a:solidFill>
                          <a:srgbClr val="000000"/>
                        </a:solidFill>
                        <a:ln w="0">
                          <a:noFill/>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49" name=""/>
                        <p:cNvSpPr/>
                        <p:nvPr/>
                      </p:nvSpPr>
                      <p:spPr>
                        <a:xfrm>
                          <a:off x="7472160" y="3281400"/>
                          <a:ext cx="25920" cy="28800"/>
                        </a:xfrm>
                        <a:prstGeom prst="ellipse">
                          <a:avLst/>
                        </a:prstGeom>
                        <a:solidFill>
                          <a:srgbClr val="5f5f5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50" name=""/>
                      <p:cNvGrpSpPr/>
                      <p:nvPr/>
                    </p:nvGrpSpPr>
                    <p:grpSpPr>
                      <a:xfrm>
                        <a:off x="7472160" y="3176640"/>
                        <a:ext cx="27360" cy="34560"/>
                        <a:chOff x="7472160" y="3176640"/>
                        <a:chExt cx="27360" cy="34560"/>
                      </a:xfrm>
                    </p:grpSpPr>
                    <p:sp>
                      <p:nvSpPr>
                        <p:cNvPr id="151" name=""/>
                        <p:cNvSpPr/>
                        <p:nvPr/>
                      </p:nvSpPr>
                      <p:spPr>
                        <a:xfrm>
                          <a:off x="7473600" y="3180960"/>
                          <a:ext cx="25920" cy="3024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2" name=""/>
                        <p:cNvSpPr/>
                        <p:nvPr/>
                      </p:nvSpPr>
                      <p:spPr>
                        <a:xfrm>
                          <a:off x="7472160" y="3176640"/>
                          <a:ext cx="25920" cy="28800"/>
                        </a:xfrm>
                        <a:prstGeom prst="ellipse">
                          <a:avLst/>
                        </a:prstGeom>
                        <a:solidFill>
                          <a:srgbClr val="5f5f5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153" name=""/>
                      <p:cNvGrpSpPr/>
                      <p:nvPr/>
                    </p:nvGrpSpPr>
                    <p:grpSpPr>
                      <a:xfrm>
                        <a:off x="7472160" y="3067560"/>
                        <a:ext cx="27360" cy="32760"/>
                        <a:chOff x="7472160" y="3067560"/>
                        <a:chExt cx="27360" cy="32760"/>
                      </a:xfrm>
                    </p:grpSpPr>
                    <p:sp>
                      <p:nvSpPr>
                        <p:cNvPr id="154" name=""/>
                        <p:cNvSpPr/>
                        <p:nvPr/>
                      </p:nvSpPr>
                      <p:spPr>
                        <a:xfrm>
                          <a:off x="7473600" y="3070080"/>
                          <a:ext cx="25920" cy="30240"/>
                        </a:xfrm>
                        <a:prstGeom prst="ellipse">
                          <a:avLst/>
                        </a:prstGeom>
                        <a:solidFill>
                          <a:srgbClr val="000000"/>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55" name=""/>
                        <p:cNvSpPr/>
                        <p:nvPr/>
                      </p:nvSpPr>
                      <p:spPr>
                        <a:xfrm>
                          <a:off x="7472160" y="3067560"/>
                          <a:ext cx="25920" cy="28800"/>
                        </a:xfrm>
                        <a:prstGeom prst="ellipse">
                          <a:avLst/>
                        </a:prstGeom>
                        <a:solidFill>
                          <a:srgbClr val="5f5f5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sp>
                  <p:nvSpPr>
                    <p:cNvPr id="156" name=""/>
                    <p:cNvSpPr/>
                    <p:nvPr/>
                  </p:nvSpPr>
                  <p:spPr>
                    <a:xfrm>
                      <a:off x="7479360" y="2942640"/>
                      <a:ext cx="20520" cy="53640"/>
                    </a:xfrm>
                    <a:custGeom>
                      <a:avLst/>
                      <a:gdLst>
                        <a:gd name="textAreaLeft" fmla="*/ 2880 w 20520"/>
                        <a:gd name="textAreaRight" fmla="*/ 17640 w 20520"/>
                        <a:gd name="textAreaTop" fmla="*/ 2880 h 53640"/>
                        <a:gd name="textAreaBottom" fmla="*/ 50760 h 53640"/>
                      </a:gdLst>
                      <a:ahLst/>
                      <a:rect l="textAreaLeft" t="textAreaTop" r="textAreaRight" b="textAreaBottom"/>
                      <a:pathLst>
                        <a:path w="21600" h="55862">
                          <a:moveTo>
                            <a:pt x="10383" y="0"/>
                          </a:moveTo>
                          <a:arcTo wR="10383" hR="10383" stAng="16200000" swAng="-5400000"/>
                          <a:lnTo>
                            <a:pt x="0" y="45479"/>
                          </a:lnTo>
                          <a:arcTo wR="10383" hR="10383" stAng="10800000" swAng="-5400000"/>
                          <a:lnTo>
                            <a:pt x="11217" y="55862"/>
                          </a:lnTo>
                          <a:arcTo wR="10383" hR="10383" stAng="5400000" swAng="-5400000"/>
                          <a:lnTo>
                            <a:pt x="21600" y="10383"/>
                          </a:lnTo>
                          <a:arcTo wR="10383" hR="10383" stAng="0" swAng="-5400000"/>
                          <a:close/>
                        </a:path>
                      </a:pathLst>
                    </a:custGeom>
                    <a:solidFill>
                      <a:srgbClr val="000000"/>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157" name=""/>
                    <p:cNvSpPr/>
                    <p:nvPr/>
                  </p:nvSpPr>
                  <p:spPr>
                    <a:xfrm>
                      <a:off x="7585920" y="2946960"/>
                      <a:ext cx="26280" cy="53640"/>
                    </a:xfrm>
                    <a:custGeom>
                      <a:avLst/>
                      <a:gdLst>
                        <a:gd name="textAreaLeft" fmla="*/ 3600 w 26280"/>
                        <a:gd name="textAreaRight" fmla="*/ 22680 w 26280"/>
                        <a:gd name="textAreaTop" fmla="*/ 3600 h 53640"/>
                        <a:gd name="textAreaBottom" fmla="*/ 50040 h 53640"/>
                      </a:gdLst>
                      <a:ahLst/>
                      <a:rect l="textAreaLeft" t="textAreaTop" r="textAreaRight" b="textAreaBottom"/>
                      <a:pathLst>
                        <a:path w="21600" h="43784">
                          <a:moveTo>
                            <a:pt x="10383" y="0"/>
                          </a:moveTo>
                          <a:arcTo wR="10383" hR="10383" stAng="16200000" swAng="-5400000"/>
                          <a:lnTo>
                            <a:pt x="0" y="33401"/>
                          </a:lnTo>
                          <a:arcTo wR="10383" hR="10383" stAng="10800000" swAng="-5400000"/>
                          <a:lnTo>
                            <a:pt x="11217" y="43784"/>
                          </a:lnTo>
                          <a:arcTo wR="10383" hR="10383" stAng="5400000" swAng="-5400000"/>
                          <a:lnTo>
                            <a:pt x="21600" y="10383"/>
                          </a:lnTo>
                          <a:arcTo wR="10383" hR="10383" stAng="0" swAng="-5400000"/>
                          <a:close/>
                        </a:path>
                      </a:pathLst>
                    </a:cu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158" name=""/>
                    <p:cNvGrpSpPr/>
                    <p:nvPr/>
                  </p:nvGrpSpPr>
                  <p:grpSpPr>
                    <a:xfrm>
                      <a:off x="7468200" y="3355560"/>
                      <a:ext cx="51120" cy="118800"/>
                      <a:chOff x="7468200" y="3355560"/>
                      <a:chExt cx="51120" cy="118800"/>
                    </a:xfrm>
                  </p:grpSpPr>
                  <p:sp>
                    <p:nvSpPr>
                      <p:cNvPr id="159" name=""/>
                      <p:cNvSpPr/>
                      <p:nvPr/>
                    </p:nvSpPr>
                    <p:spPr>
                      <a:xfrm>
                        <a:off x="7468200" y="3355560"/>
                        <a:ext cx="51120" cy="118800"/>
                      </a:xfrm>
                      <a:custGeom>
                        <a:avLst/>
                        <a:gdLst>
                          <a:gd name="textAreaLeft" fmla="*/ 5400 w 51120"/>
                          <a:gd name="textAreaRight" fmla="*/ 45720 w 51120"/>
                          <a:gd name="textAreaTop" fmla="*/ 5400 h 118800"/>
                          <a:gd name="textAreaBottom" fmla="*/ 113400 h 118800"/>
                        </a:gdLst>
                        <a:ahLst/>
                        <a:rect l="textAreaLeft" t="textAreaTop" r="textAreaRight" b="textAreaBottom"/>
                        <a:pathLst>
                          <a:path w="21600" h="49997">
                            <a:moveTo>
                              <a:pt x="7956" y="0"/>
                            </a:moveTo>
                            <a:arcTo wR="7956" hR="7956" stAng="16200000" swAng="-5400000"/>
                            <a:lnTo>
                              <a:pt x="0" y="42041"/>
                            </a:lnTo>
                            <a:arcTo wR="7956" hR="7956" stAng="10800000" swAng="-5400000"/>
                            <a:lnTo>
                              <a:pt x="13644" y="49997"/>
                            </a:lnTo>
                            <a:arcTo wR="7956" hR="7956" stAng="5400000" swAng="-5400000"/>
                            <a:lnTo>
                              <a:pt x="21600" y="7956"/>
                            </a:lnTo>
                            <a:arcTo wR="7956" hR="7956" stAng="0" swAng="-5400000"/>
                            <a:close/>
                          </a:path>
                        </a:pathLst>
                      </a:custGeom>
                      <a:solidFill>
                        <a:srgbClr val="7f7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0" name=""/>
                      <p:cNvGrpSpPr/>
                      <p:nvPr/>
                    </p:nvGrpSpPr>
                    <p:grpSpPr>
                      <a:xfrm>
                        <a:off x="7473600" y="3368160"/>
                        <a:ext cx="35640" cy="91080"/>
                        <a:chOff x="7473600" y="3368160"/>
                        <a:chExt cx="35640" cy="91080"/>
                      </a:xfrm>
                    </p:grpSpPr>
                    <p:sp>
                      <p:nvSpPr>
                        <p:cNvPr id="161" name=""/>
                        <p:cNvSpPr/>
                        <p:nvPr/>
                      </p:nvSpPr>
                      <p:spPr>
                        <a:xfrm>
                          <a:off x="7479000" y="3371040"/>
                          <a:ext cx="30240" cy="88200"/>
                        </a:xfrm>
                        <a:custGeom>
                          <a:avLst/>
                          <a:gdLst>
                            <a:gd name="textAreaLeft" fmla="*/ 3240 w 30240"/>
                            <a:gd name="textAreaRight" fmla="*/ 27000 w 30240"/>
                            <a:gd name="textAreaTop" fmla="*/ 3240 h 88200"/>
                            <a:gd name="textAreaBottom" fmla="*/ 84960 h 88200"/>
                          </a:gdLst>
                          <a:ahLst/>
                          <a:rect l="textAreaLeft" t="textAreaTop" r="textAreaRight" b="textAreaBottom"/>
                          <a:pathLst>
                            <a:path w="21600" h="62513">
                              <a:moveTo>
                                <a:pt x="8180" y="0"/>
                              </a:moveTo>
                              <a:arcTo wR="8180" hR="8180" stAng="16200000" swAng="-5400000"/>
                              <a:lnTo>
                                <a:pt x="0" y="54333"/>
                              </a:lnTo>
                              <a:arcTo wR="8180" hR="8180" stAng="10800000" swAng="-5400000"/>
                              <a:lnTo>
                                <a:pt x="13420" y="62513"/>
                              </a:lnTo>
                              <a:arcTo wR="8180" hR="8180" stAng="5400000" swAng="-5400000"/>
                              <a:lnTo>
                                <a:pt x="21600" y="8180"/>
                              </a:lnTo>
                              <a:arcTo wR="8180" hR="8180" stAng="0" swAng="-5400000"/>
                              <a:close/>
                            </a:path>
                          </a:pathLst>
                        </a:custGeom>
                        <a:solidFill>
                          <a:srgbClr val="00000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62" name=""/>
                        <p:cNvSpPr/>
                        <p:nvPr/>
                      </p:nvSpPr>
                      <p:spPr>
                        <a:xfrm>
                          <a:off x="7473600" y="3368160"/>
                          <a:ext cx="31320" cy="90000"/>
                        </a:xfrm>
                        <a:custGeom>
                          <a:avLst/>
                          <a:gdLst>
                            <a:gd name="textAreaLeft" fmla="*/ 3240 w 31320"/>
                            <a:gd name="textAreaRight" fmla="*/ 28080 w 31320"/>
                            <a:gd name="textAreaTop" fmla="*/ 3240 h 90000"/>
                            <a:gd name="textAreaBottom" fmla="*/ 86760 h 90000"/>
                          </a:gdLst>
                          <a:ahLst/>
                          <a:rect l="textAreaLeft" t="textAreaTop" r="textAreaRight" b="textAreaBottom"/>
                          <a:pathLst>
                            <a:path w="21600" h="61609">
                              <a:moveTo>
                                <a:pt x="8180" y="0"/>
                              </a:moveTo>
                              <a:arcTo wR="8180" hR="8180" stAng="16200000" swAng="-5400000"/>
                              <a:lnTo>
                                <a:pt x="0" y="53429"/>
                              </a:lnTo>
                              <a:arcTo wR="8180" hR="8180" stAng="10800000" swAng="-5400000"/>
                              <a:lnTo>
                                <a:pt x="13420" y="61609"/>
                              </a:lnTo>
                              <a:arcTo wR="8180" hR="8180" stAng="5400000" swAng="-5400000"/>
                              <a:lnTo>
                                <a:pt x="21600" y="8180"/>
                              </a:lnTo>
                              <a:arcTo wR="8180" hR="8180" stAng="0" swAng="-5400000"/>
                              <a:close/>
                            </a:path>
                          </a:pathLst>
                        </a:custGeom>
                        <a:solidFill>
                          <a:srgbClr val="5f5f5f"/>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grpSp>
                  <p:nvGrpSpPr>
                    <p:cNvPr id="163" name=""/>
                    <p:cNvGrpSpPr/>
                    <p:nvPr/>
                  </p:nvGrpSpPr>
                  <p:grpSpPr>
                    <a:xfrm>
                      <a:off x="7583040" y="3354120"/>
                      <a:ext cx="48600" cy="117720"/>
                      <a:chOff x="7583040" y="3354120"/>
                      <a:chExt cx="48600" cy="117720"/>
                    </a:xfrm>
                  </p:grpSpPr>
                  <p:sp>
                    <p:nvSpPr>
                      <p:cNvPr id="164" name=""/>
                      <p:cNvSpPr/>
                      <p:nvPr/>
                    </p:nvSpPr>
                    <p:spPr>
                      <a:xfrm>
                        <a:off x="7583040" y="3354120"/>
                        <a:ext cx="48600" cy="117720"/>
                      </a:xfrm>
                      <a:custGeom>
                        <a:avLst/>
                        <a:gdLst>
                          <a:gd name="textAreaLeft" fmla="*/ 5040 w 48600"/>
                          <a:gd name="textAreaRight" fmla="*/ 43560 w 48600"/>
                          <a:gd name="textAreaTop" fmla="*/ 5040 h 117720"/>
                          <a:gd name="textAreaBottom" fmla="*/ 112680 h 117720"/>
                        </a:gdLst>
                        <a:ahLst/>
                        <a:rect l="textAreaLeft" t="textAreaTop" r="textAreaRight" b="textAreaBottom"/>
                        <a:pathLst>
                          <a:path w="21600" h="52094">
                            <a:moveTo>
                              <a:pt x="7874" y="0"/>
                            </a:moveTo>
                            <a:arcTo wR="7874" hR="7874" stAng="16200000" swAng="-5400000"/>
                            <a:lnTo>
                              <a:pt x="0" y="44220"/>
                            </a:lnTo>
                            <a:arcTo wR="7874" hR="7874" stAng="10800000" swAng="-5400000"/>
                            <a:lnTo>
                              <a:pt x="13726" y="52094"/>
                            </a:lnTo>
                            <a:arcTo wR="7874" hR="7874" stAng="5400000" swAng="-5400000"/>
                            <a:lnTo>
                              <a:pt x="21600" y="7874"/>
                            </a:lnTo>
                            <a:arcTo wR="7874" hR="7874" stAng="0" swAng="-5400000"/>
                            <a:close/>
                          </a:path>
                        </a:pathLst>
                      </a:custGeom>
                      <a:solidFill>
                        <a:srgbClr val="7f7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7585560" y="3367080"/>
                        <a:ext cx="38520" cy="91080"/>
                        <a:chOff x="7585560" y="3367080"/>
                        <a:chExt cx="38520" cy="91080"/>
                      </a:xfrm>
                    </p:grpSpPr>
                    <p:sp>
                      <p:nvSpPr>
                        <p:cNvPr id="166" name=""/>
                        <p:cNvSpPr/>
                        <p:nvPr/>
                      </p:nvSpPr>
                      <p:spPr>
                        <a:xfrm>
                          <a:off x="7589520" y="3368160"/>
                          <a:ext cx="34560" cy="90000"/>
                        </a:xfrm>
                        <a:custGeom>
                          <a:avLst/>
                          <a:gdLst>
                            <a:gd name="textAreaLeft" fmla="*/ 3600 w 34560"/>
                            <a:gd name="textAreaRight" fmla="*/ 30960 w 34560"/>
                            <a:gd name="textAreaTop" fmla="*/ 3600 h 90000"/>
                            <a:gd name="textAreaBottom" fmla="*/ 86400 h 90000"/>
                          </a:gdLst>
                          <a:ahLst/>
                          <a:rect l="textAreaLeft" t="textAreaTop" r="textAreaRight" b="textAreaBottom"/>
                          <a:pathLst>
                            <a:path w="21600" h="55893">
                              <a:moveTo>
                                <a:pt x="8180" y="0"/>
                              </a:moveTo>
                              <a:arcTo wR="8180" hR="8180" stAng="16200000" swAng="-5400000"/>
                              <a:lnTo>
                                <a:pt x="0" y="47713"/>
                              </a:lnTo>
                              <a:arcTo wR="8180" hR="8180" stAng="10800000" swAng="-5400000"/>
                              <a:lnTo>
                                <a:pt x="13420" y="55893"/>
                              </a:lnTo>
                              <a:arcTo wR="8180" hR="8180" stAng="5400000" swAng="-5400000"/>
                              <a:lnTo>
                                <a:pt x="21600" y="8180"/>
                              </a:lnTo>
                              <a:arcTo wR="8180" hR="8180" stAng="0" swAng="-5400000"/>
                              <a:close/>
                            </a:path>
                          </a:pathLst>
                        </a:custGeom>
                        <a:solidFill>
                          <a:srgbClr val="000000"/>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67" name=""/>
                        <p:cNvSpPr/>
                        <p:nvPr/>
                      </p:nvSpPr>
                      <p:spPr>
                        <a:xfrm>
                          <a:off x="7585560" y="3367080"/>
                          <a:ext cx="36000" cy="89640"/>
                        </a:xfrm>
                        <a:custGeom>
                          <a:avLst/>
                          <a:gdLst>
                            <a:gd name="textAreaLeft" fmla="*/ 3960 w 36000"/>
                            <a:gd name="textAreaRight" fmla="*/ 32040 w 36000"/>
                            <a:gd name="textAreaTop" fmla="*/ 3960 h 89640"/>
                            <a:gd name="textAreaBottom" fmla="*/ 85680 h 89640"/>
                          </a:gdLst>
                          <a:ahLst/>
                          <a:rect l="textAreaLeft" t="textAreaTop" r="textAreaRight" b="textAreaBottom"/>
                          <a:pathLst>
                            <a:path w="21600" h="53465">
                              <a:moveTo>
                                <a:pt x="8180" y="0"/>
                              </a:moveTo>
                              <a:arcTo wR="8180" hR="8180" stAng="16200000" swAng="-5400000"/>
                              <a:lnTo>
                                <a:pt x="0" y="45285"/>
                              </a:lnTo>
                              <a:arcTo wR="8180" hR="8180" stAng="10800000" swAng="-5400000"/>
                              <a:lnTo>
                                <a:pt x="13420" y="53465"/>
                              </a:lnTo>
                              <a:arcTo wR="8180" hR="8180" stAng="5400000" swAng="-5400000"/>
                              <a:lnTo>
                                <a:pt x="21600" y="8180"/>
                              </a:lnTo>
                              <a:arcTo wR="8180" hR="8180" stAng="0" swAng="-5400000"/>
                              <a:close/>
                            </a:path>
                          </a:pathLst>
                        </a:custGeom>
                        <a:solidFill>
                          <a:srgbClr val="5f5f5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grpSp>
                <p:sp>
                  <p:nvSpPr>
                    <p:cNvPr id="168" name=""/>
                    <p:cNvSpPr/>
                    <p:nvPr/>
                  </p:nvSpPr>
                  <p:spPr>
                    <a:xfrm>
                      <a:off x="7534800" y="3073320"/>
                      <a:ext cx="38520" cy="341280"/>
                    </a:xfrm>
                    <a:custGeom>
                      <a:avLst/>
                      <a:gdLst/>
                      <a:ahLst/>
                      <a:rect l="l" t="t" r="r" b="b"/>
                      <a:pathLst>
                        <a:path w="28" h="235">
                          <a:moveTo>
                            <a:pt x="27" y="234"/>
                          </a:moveTo>
                          <a:lnTo>
                            <a:pt x="15" y="234"/>
                          </a:lnTo>
                          <a:lnTo>
                            <a:pt x="15" y="0"/>
                          </a:lnTo>
                          <a:lnTo>
                            <a:pt x="4" y="0"/>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76200" y="3063240"/>
                      <a:ext cx="32040" cy="75600"/>
                    </a:xfrm>
                    <a:custGeom>
                      <a:avLst/>
                      <a:gdLst/>
                      <a:ahLst/>
                      <a:rect l="l" t="t" r="r" b="b"/>
                      <a:pathLst>
                        <a:path w="23" h="52">
                          <a:moveTo>
                            <a:pt x="1" y="45"/>
                          </a:moveTo>
                          <a:lnTo>
                            <a:pt x="22" y="51"/>
                          </a:lnTo>
                          <a:lnTo>
                            <a:pt x="22" y="6"/>
                          </a:lnTo>
                          <a:lnTo>
                            <a:pt x="0" y="0"/>
                          </a:lnTo>
                          <a:lnTo>
                            <a:pt x="1" y="45"/>
                          </a:lnTo>
                        </a:path>
                      </a:pathLst>
                    </a:custGeom>
                    <a:solidFill>
                      <a:srgbClr val="7f7f7f"/>
                    </a:solidFill>
                    <a:ln cap="rnd" w="12600">
                      <a:solidFill>
                        <a:srgbClr val="3f3f3f"/>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7371360" y="3698640"/>
                  <a:ext cx="347760" cy="376560"/>
                  <a:chOff x="7371360" y="3698640"/>
                  <a:chExt cx="347760" cy="376560"/>
                </a:xfrm>
              </p:grpSpPr>
              <p:sp>
                <p:nvSpPr>
                  <p:cNvPr id="171" name=""/>
                  <p:cNvSpPr/>
                  <p:nvPr/>
                </p:nvSpPr>
                <p:spPr>
                  <a:xfrm>
                    <a:off x="7378200" y="3825360"/>
                    <a:ext cx="336960" cy="24984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78200" y="3704760"/>
                    <a:ext cx="327240" cy="244080"/>
                  </a:xfrm>
                  <a:prstGeom prst="ellipse">
                    <a:avLst/>
                  </a:prstGeom>
                  <a:solidFill>
                    <a:srgbClr val="3f3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7576560" y="3701520"/>
                    <a:ext cx="142560" cy="249840"/>
                    <a:chOff x="7576560" y="3701520"/>
                    <a:chExt cx="142560" cy="249840"/>
                  </a:xfrm>
                </p:grpSpPr>
                <p:sp>
                  <p:nvSpPr>
                    <p:cNvPr id="174" name=""/>
                    <p:cNvSpPr/>
                    <p:nvPr/>
                  </p:nvSpPr>
                  <p:spPr>
                    <a:xfrm flipV="1">
                      <a:off x="7719120" y="38293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V="1">
                      <a:off x="7709400" y="379296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V="1">
                      <a:off x="7701120" y="377568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7689960" y="375804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7683120" y="3746520"/>
                      <a:ext cx="0" cy="12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670520" y="374256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V="1">
                      <a:off x="7663680" y="373536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7651080" y="37303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7642800" y="372168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7630560" y="371340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V="1">
                      <a:off x="7620840" y="371016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7608240" y="3707640"/>
                      <a:ext cx="0" cy="1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7599960" y="3707640"/>
                      <a:ext cx="0" cy="1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V="1">
                      <a:off x="7586280" y="370548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7576560" y="370152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 name=""/>
                  <p:cNvGrpSpPr/>
                  <p:nvPr/>
                </p:nvGrpSpPr>
                <p:grpSpPr>
                  <a:xfrm>
                    <a:off x="7371360" y="3698640"/>
                    <a:ext cx="140040" cy="249840"/>
                    <a:chOff x="7371360" y="3698640"/>
                    <a:chExt cx="140040" cy="249840"/>
                  </a:xfrm>
                </p:grpSpPr>
                <p:sp>
                  <p:nvSpPr>
                    <p:cNvPr id="190" name=""/>
                    <p:cNvSpPr/>
                    <p:nvPr/>
                  </p:nvSpPr>
                  <p:spPr>
                    <a:xfrm flipV="1">
                      <a:off x="7371360" y="382500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7376400" y="379008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7387560" y="377424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7396200" y="3755520"/>
                      <a:ext cx="0" cy="12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7405920" y="3745080"/>
                      <a:ext cx="0" cy="12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7415640" y="374220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7423920" y="373356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7436520" y="372816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7446240" y="3720960"/>
                      <a:ext cx="0" cy="12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7458480" y="371160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7468200" y="3710520"/>
                      <a:ext cx="0" cy="12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7479360" y="370440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V="1">
                      <a:off x="7487640" y="370440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7500240" y="3704400"/>
                      <a:ext cx="0" cy="12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7511400" y="369864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7378200" y="3783240"/>
                    <a:ext cx="327240" cy="241200"/>
                  </a:xfrm>
                  <a:prstGeom prst="ellipse">
                    <a:avLst/>
                  </a:prstGeom>
                  <a:solidFill>
                    <a:srgbClr val="3f3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373520" y="3821040"/>
                    <a:ext cx="335880" cy="249840"/>
                  </a:xfrm>
                  <a:prstGeom prst="ellipse">
                    <a:avLst/>
                  </a:prstGeom>
                  <a:solidFill>
                    <a:srgbClr val="3f3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404120" y="3821040"/>
                    <a:ext cx="275040" cy="199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422480" y="3822480"/>
                    <a:ext cx="244080" cy="151200"/>
                  </a:xfrm>
                  <a:prstGeom prst="ellipse">
                    <a:avLst/>
                  </a:prstGeom>
                  <a:solidFill>
                    <a:srgbClr val="7f7f7f"/>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437600" y="3819600"/>
                    <a:ext cx="209520" cy="100440"/>
                  </a:xfrm>
                  <a:custGeom>
                    <a:avLst/>
                    <a:gdLst/>
                    <a:ahLst/>
                    <a:rect l="l" t="t" r="r" b="b"/>
                    <a:pathLst>
                      <a:path w="151" h="69">
                        <a:moveTo>
                          <a:pt x="0" y="23"/>
                        </a:moveTo>
                        <a:lnTo>
                          <a:pt x="2" y="28"/>
                        </a:lnTo>
                        <a:lnTo>
                          <a:pt x="6" y="35"/>
                        </a:lnTo>
                        <a:lnTo>
                          <a:pt x="11" y="41"/>
                        </a:lnTo>
                        <a:lnTo>
                          <a:pt x="17" y="48"/>
                        </a:lnTo>
                        <a:lnTo>
                          <a:pt x="24" y="53"/>
                        </a:lnTo>
                        <a:lnTo>
                          <a:pt x="30" y="57"/>
                        </a:lnTo>
                        <a:lnTo>
                          <a:pt x="37" y="60"/>
                        </a:lnTo>
                        <a:lnTo>
                          <a:pt x="49" y="64"/>
                        </a:lnTo>
                        <a:lnTo>
                          <a:pt x="58" y="67"/>
                        </a:lnTo>
                        <a:lnTo>
                          <a:pt x="71" y="68"/>
                        </a:lnTo>
                        <a:lnTo>
                          <a:pt x="80" y="68"/>
                        </a:lnTo>
                        <a:lnTo>
                          <a:pt x="90" y="68"/>
                        </a:lnTo>
                        <a:lnTo>
                          <a:pt x="99" y="66"/>
                        </a:lnTo>
                        <a:lnTo>
                          <a:pt x="109" y="62"/>
                        </a:lnTo>
                        <a:lnTo>
                          <a:pt x="117" y="57"/>
                        </a:lnTo>
                        <a:lnTo>
                          <a:pt x="126" y="52"/>
                        </a:lnTo>
                        <a:lnTo>
                          <a:pt x="134" y="45"/>
                        </a:lnTo>
                        <a:lnTo>
                          <a:pt x="139" y="38"/>
                        </a:lnTo>
                        <a:lnTo>
                          <a:pt x="145" y="29"/>
                        </a:lnTo>
                        <a:lnTo>
                          <a:pt x="150" y="19"/>
                        </a:lnTo>
                        <a:lnTo>
                          <a:pt x="126" y="9"/>
                        </a:lnTo>
                        <a:lnTo>
                          <a:pt x="109" y="4"/>
                        </a:lnTo>
                        <a:lnTo>
                          <a:pt x="90" y="0"/>
                        </a:lnTo>
                        <a:lnTo>
                          <a:pt x="72" y="0"/>
                        </a:lnTo>
                        <a:lnTo>
                          <a:pt x="48" y="2"/>
                        </a:lnTo>
                        <a:lnTo>
                          <a:pt x="27" y="6"/>
                        </a:lnTo>
                        <a:lnTo>
                          <a:pt x="8" y="15"/>
                        </a:lnTo>
                        <a:lnTo>
                          <a:pt x="0" y="23"/>
                        </a:lnTo>
                      </a:path>
                    </a:pathLst>
                  </a:custGeom>
                  <a:solidFill>
                    <a:srgbClr val="fff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380720" y="3828240"/>
                    <a:ext cx="323280" cy="235440"/>
                  </a:xfrm>
                  <a:prstGeom prst="ellipse">
                    <a:avLst/>
                  </a:prstGeom>
                  <a:noFill/>
                  <a:ln w="25560">
                    <a:solidFill>
                      <a:srgbClr val="9f9f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1" name=""/>
            <p:cNvGrpSpPr/>
            <p:nvPr/>
          </p:nvGrpSpPr>
          <p:grpSpPr>
            <a:xfrm>
              <a:off x="5321160" y="2679840"/>
              <a:ext cx="1012680" cy="1535760"/>
              <a:chOff x="5321160" y="2679840"/>
              <a:chExt cx="1012680" cy="1535760"/>
            </a:xfrm>
          </p:grpSpPr>
          <p:grpSp>
            <p:nvGrpSpPr>
              <p:cNvPr id="212" name=""/>
              <p:cNvGrpSpPr/>
              <p:nvPr/>
            </p:nvGrpSpPr>
            <p:grpSpPr>
              <a:xfrm>
                <a:off x="5321160" y="2679840"/>
                <a:ext cx="295920" cy="347400"/>
                <a:chOff x="5321160" y="2679840"/>
                <a:chExt cx="295920" cy="347400"/>
              </a:xfrm>
            </p:grpSpPr>
            <p:sp>
              <p:nvSpPr>
                <p:cNvPr id="213" name=""/>
                <p:cNvSpPr/>
                <p:nvPr/>
              </p:nvSpPr>
              <p:spPr>
                <a:xfrm>
                  <a:off x="5321160" y="2679840"/>
                  <a:ext cx="295920" cy="258480"/>
                </a:xfrm>
                <a:prstGeom prst="ellips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351400" y="2712960"/>
                  <a:ext cx="245520" cy="225360"/>
                </a:xfrm>
                <a:custGeom>
                  <a:avLst/>
                  <a:gdLst/>
                  <a:ahLst/>
                  <a:rect l="l" t="t" r="r" b="b"/>
                  <a:pathLst>
                    <a:path stroke="0" w="21600" h="21600">
                      <a:moveTo>
                        <a:pt x="5416" y="20162"/>
                      </a:moveTo>
                      <a:arcTo wR="10800" hR="10800" stAng="7194168" swAng="15935932"/>
                      <a:lnTo>
                        <a:pt x="10800" y="10800"/>
                      </a:lnTo>
                      <a:close/>
                    </a:path>
                    <a:path fill="none" w="21600" h="21600">
                      <a:moveTo>
                        <a:pt x="5416" y="20162"/>
                      </a:moveTo>
                      <a:arcTo wR="10800" hR="10800" stAng="7194168" swAng="15935932"/>
                    </a:path>
                  </a:pathLst>
                </a:custGeom>
                <a:solidFill>
                  <a:srgbClr val="5f5f5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398920" y="2819160"/>
                  <a:ext cx="202320" cy="208080"/>
                </a:xfrm>
                <a:custGeom>
                  <a:avLst/>
                  <a:gdLst/>
                  <a:ahLst/>
                  <a:rect l="l" t="t" r="r" b="b"/>
                  <a:pathLst>
                    <a:path stroke="0" w="21600" h="21600">
                      <a:moveTo>
                        <a:pt x="432" y="13824"/>
                      </a:moveTo>
                      <a:arcTo wR="10800" hR="10800" stAng="9824256" swAng="11727667"/>
                      <a:lnTo>
                        <a:pt x="10800" y="10800"/>
                      </a:lnTo>
                      <a:close/>
                    </a:path>
                    <a:path fill="none" w="21600" h="21600">
                      <a:moveTo>
                        <a:pt x="432" y="13824"/>
                      </a:moveTo>
                      <a:arcTo wR="10800" hR="10800" stAng="9824256" swAng="11727667"/>
                    </a:path>
                  </a:pathLst>
                </a:custGeom>
                <a:solidFill>
                  <a:srgbClr val="3f3f3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6" name=""/>
              <p:cNvSpPr/>
              <p:nvPr/>
            </p:nvSpPr>
            <p:spPr>
              <a:xfrm>
                <a:off x="5393520" y="2849760"/>
                <a:ext cx="936360" cy="1364760"/>
              </a:xfrm>
              <a:custGeom>
                <a:avLst/>
                <a:gdLst/>
                <a:ahLst/>
                <a:rect l="l" t="t" r="r" b="b"/>
                <a:pathLst>
                  <a:path w="674" h="939">
                    <a:moveTo>
                      <a:pt x="102" y="545"/>
                    </a:moveTo>
                    <a:lnTo>
                      <a:pt x="0" y="82"/>
                    </a:lnTo>
                    <a:lnTo>
                      <a:pt x="2" y="71"/>
                    </a:lnTo>
                    <a:lnTo>
                      <a:pt x="4" y="59"/>
                    </a:lnTo>
                    <a:lnTo>
                      <a:pt x="8" y="49"/>
                    </a:lnTo>
                    <a:lnTo>
                      <a:pt x="15" y="38"/>
                    </a:lnTo>
                    <a:lnTo>
                      <a:pt x="23" y="28"/>
                    </a:lnTo>
                    <a:lnTo>
                      <a:pt x="31" y="20"/>
                    </a:lnTo>
                    <a:lnTo>
                      <a:pt x="41" y="13"/>
                    </a:lnTo>
                    <a:lnTo>
                      <a:pt x="49" y="8"/>
                    </a:lnTo>
                    <a:lnTo>
                      <a:pt x="64" y="2"/>
                    </a:lnTo>
                    <a:lnTo>
                      <a:pt x="77" y="0"/>
                    </a:lnTo>
                    <a:lnTo>
                      <a:pt x="92" y="0"/>
                    </a:lnTo>
                    <a:lnTo>
                      <a:pt x="105" y="2"/>
                    </a:lnTo>
                    <a:lnTo>
                      <a:pt x="115" y="5"/>
                    </a:lnTo>
                    <a:lnTo>
                      <a:pt x="126" y="9"/>
                    </a:lnTo>
                    <a:lnTo>
                      <a:pt x="138" y="18"/>
                    </a:lnTo>
                    <a:lnTo>
                      <a:pt x="150" y="28"/>
                    </a:lnTo>
                    <a:lnTo>
                      <a:pt x="158" y="39"/>
                    </a:lnTo>
                    <a:lnTo>
                      <a:pt x="164" y="50"/>
                    </a:lnTo>
                    <a:lnTo>
                      <a:pt x="168" y="60"/>
                    </a:lnTo>
                    <a:lnTo>
                      <a:pt x="172" y="75"/>
                    </a:lnTo>
                    <a:lnTo>
                      <a:pt x="573" y="77"/>
                    </a:lnTo>
                    <a:lnTo>
                      <a:pt x="591" y="77"/>
                    </a:lnTo>
                    <a:lnTo>
                      <a:pt x="606" y="77"/>
                    </a:lnTo>
                    <a:lnTo>
                      <a:pt x="621" y="83"/>
                    </a:lnTo>
                    <a:lnTo>
                      <a:pt x="634" y="91"/>
                    </a:lnTo>
                    <a:lnTo>
                      <a:pt x="641" y="100"/>
                    </a:lnTo>
                    <a:lnTo>
                      <a:pt x="649" y="115"/>
                    </a:lnTo>
                    <a:lnTo>
                      <a:pt x="654" y="130"/>
                    </a:lnTo>
                    <a:lnTo>
                      <a:pt x="656" y="142"/>
                    </a:lnTo>
                    <a:lnTo>
                      <a:pt x="673" y="871"/>
                    </a:lnTo>
                    <a:lnTo>
                      <a:pt x="673" y="878"/>
                    </a:lnTo>
                    <a:lnTo>
                      <a:pt x="672" y="886"/>
                    </a:lnTo>
                    <a:lnTo>
                      <a:pt x="670" y="891"/>
                    </a:lnTo>
                    <a:lnTo>
                      <a:pt x="667" y="898"/>
                    </a:lnTo>
                    <a:lnTo>
                      <a:pt x="662" y="902"/>
                    </a:lnTo>
                    <a:lnTo>
                      <a:pt x="658" y="905"/>
                    </a:lnTo>
                    <a:lnTo>
                      <a:pt x="652" y="908"/>
                    </a:lnTo>
                    <a:lnTo>
                      <a:pt x="570" y="926"/>
                    </a:lnTo>
                    <a:lnTo>
                      <a:pt x="537" y="933"/>
                    </a:lnTo>
                    <a:lnTo>
                      <a:pt x="514" y="935"/>
                    </a:lnTo>
                    <a:lnTo>
                      <a:pt x="304" y="935"/>
                    </a:lnTo>
                    <a:lnTo>
                      <a:pt x="301" y="938"/>
                    </a:lnTo>
                    <a:lnTo>
                      <a:pt x="285" y="938"/>
                    </a:lnTo>
                    <a:lnTo>
                      <a:pt x="280" y="925"/>
                    </a:lnTo>
                    <a:lnTo>
                      <a:pt x="279" y="930"/>
                    </a:lnTo>
                    <a:lnTo>
                      <a:pt x="277" y="935"/>
                    </a:lnTo>
                    <a:lnTo>
                      <a:pt x="272" y="938"/>
                    </a:lnTo>
                    <a:lnTo>
                      <a:pt x="267" y="938"/>
                    </a:lnTo>
                    <a:lnTo>
                      <a:pt x="259" y="937"/>
                    </a:lnTo>
                    <a:lnTo>
                      <a:pt x="174" y="917"/>
                    </a:lnTo>
                    <a:lnTo>
                      <a:pt x="158" y="913"/>
                    </a:lnTo>
                    <a:lnTo>
                      <a:pt x="150" y="908"/>
                    </a:lnTo>
                    <a:lnTo>
                      <a:pt x="145" y="902"/>
                    </a:lnTo>
                    <a:lnTo>
                      <a:pt x="142" y="897"/>
                    </a:lnTo>
                    <a:lnTo>
                      <a:pt x="134" y="883"/>
                    </a:lnTo>
                    <a:lnTo>
                      <a:pt x="124" y="874"/>
                    </a:lnTo>
                    <a:lnTo>
                      <a:pt x="118" y="864"/>
                    </a:lnTo>
                    <a:lnTo>
                      <a:pt x="112" y="856"/>
                    </a:lnTo>
                    <a:lnTo>
                      <a:pt x="105" y="840"/>
                    </a:lnTo>
                    <a:lnTo>
                      <a:pt x="94" y="752"/>
                    </a:lnTo>
                    <a:lnTo>
                      <a:pt x="92" y="727"/>
                    </a:lnTo>
                    <a:lnTo>
                      <a:pt x="94" y="705"/>
                    </a:lnTo>
                    <a:lnTo>
                      <a:pt x="102" y="545"/>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779800" y="3973320"/>
                <a:ext cx="554040" cy="190440"/>
              </a:xfrm>
              <a:custGeom>
                <a:avLst/>
                <a:gdLst/>
                <a:ahLst/>
                <a:rect l="l" t="t" r="r" b="b"/>
                <a:pathLst>
                  <a:path w="399" h="131">
                    <a:moveTo>
                      <a:pt x="8" y="52"/>
                    </a:moveTo>
                    <a:lnTo>
                      <a:pt x="21" y="53"/>
                    </a:lnTo>
                    <a:lnTo>
                      <a:pt x="25" y="42"/>
                    </a:lnTo>
                    <a:lnTo>
                      <a:pt x="251" y="47"/>
                    </a:lnTo>
                    <a:lnTo>
                      <a:pt x="299" y="47"/>
                    </a:lnTo>
                    <a:lnTo>
                      <a:pt x="324" y="47"/>
                    </a:lnTo>
                    <a:lnTo>
                      <a:pt x="335" y="47"/>
                    </a:lnTo>
                    <a:lnTo>
                      <a:pt x="352" y="49"/>
                    </a:lnTo>
                    <a:lnTo>
                      <a:pt x="367" y="51"/>
                    </a:lnTo>
                    <a:lnTo>
                      <a:pt x="378" y="54"/>
                    </a:lnTo>
                    <a:lnTo>
                      <a:pt x="387" y="57"/>
                    </a:lnTo>
                    <a:lnTo>
                      <a:pt x="387" y="130"/>
                    </a:lnTo>
                    <a:lnTo>
                      <a:pt x="393" y="123"/>
                    </a:lnTo>
                    <a:lnTo>
                      <a:pt x="397" y="114"/>
                    </a:lnTo>
                    <a:lnTo>
                      <a:pt x="398" y="101"/>
                    </a:lnTo>
                    <a:lnTo>
                      <a:pt x="398" y="86"/>
                    </a:lnTo>
                    <a:lnTo>
                      <a:pt x="396" y="0"/>
                    </a:lnTo>
                    <a:lnTo>
                      <a:pt x="0" y="1"/>
                    </a:lnTo>
                    <a:lnTo>
                      <a:pt x="8" y="52"/>
                    </a:lnTo>
                  </a:path>
                </a:pathLst>
              </a:custGeom>
              <a:solidFill>
                <a:srgbClr val="3f3f3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546160" y="3054600"/>
                <a:ext cx="131760" cy="59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641920" y="2999520"/>
                <a:ext cx="116280" cy="38880"/>
              </a:xfrm>
              <a:custGeom>
                <a:avLst/>
                <a:gdLst/>
                <a:ahLst/>
                <a:rect l="l" t="t" r="r" b="b"/>
                <a:pathLst>
                  <a:path w="84" h="27">
                    <a:moveTo>
                      <a:pt x="0" y="0"/>
                    </a:moveTo>
                    <a:lnTo>
                      <a:pt x="83" y="0"/>
                    </a:lnTo>
                    <a:lnTo>
                      <a:pt x="82" y="26"/>
                    </a:lnTo>
                    <a:lnTo>
                      <a:pt x="8" y="25"/>
                    </a:lnTo>
                    <a:lnTo>
                      <a:pt x="0" y="0"/>
                    </a:lnTo>
                  </a:path>
                </a:pathLst>
              </a:custGeom>
              <a:solidFill>
                <a:srgbClr val="5f5f5f"/>
              </a:solidFill>
              <a:ln cap="rnd" w="1260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0" name=""/>
              <p:cNvSpPr/>
              <p:nvPr/>
            </p:nvSpPr>
            <p:spPr>
              <a:xfrm>
                <a:off x="5699160" y="3205800"/>
                <a:ext cx="5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26880" y="3333600"/>
                <a:ext cx="2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754600" y="2965680"/>
                <a:ext cx="23400" cy="601920"/>
              </a:xfrm>
              <a:custGeom>
                <a:avLst/>
                <a:gdLst/>
                <a:ahLst/>
                <a:rect l="l" t="t" r="r" b="b"/>
                <a:pathLst>
                  <a:path w="17" h="414">
                    <a:moveTo>
                      <a:pt x="16" y="413"/>
                    </a:moveTo>
                    <a:lnTo>
                      <a:pt x="16" y="0"/>
                    </a:lnTo>
                    <a:lnTo>
                      <a:pt x="1" y="26"/>
                    </a:lnTo>
                    <a:lnTo>
                      <a:pt x="0" y="354"/>
                    </a:lnTo>
                    <a:lnTo>
                      <a:pt x="4" y="373"/>
                    </a:lnTo>
                    <a:lnTo>
                      <a:pt x="6" y="384"/>
                    </a:lnTo>
                    <a:lnTo>
                      <a:pt x="11" y="402"/>
                    </a:lnTo>
                    <a:lnTo>
                      <a:pt x="16" y="4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568480" y="2868480"/>
                <a:ext cx="204480" cy="749880"/>
              </a:xfrm>
              <a:custGeom>
                <a:avLst/>
                <a:gdLst/>
                <a:ahLst/>
                <a:rect l="l" t="t" r="r" b="b"/>
                <a:pathLst>
                  <a:path w="147" h="516">
                    <a:moveTo>
                      <a:pt x="128" y="515"/>
                    </a:moveTo>
                    <a:lnTo>
                      <a:pt x="0" y="0"/>
                    </a:lnTo>
                    <a:lnTo>
                      <a:pt x="17" y="10"/>
                    </a:lnTo>
                    <a:lnTo>
                      <a:pt x="31" y="27"/>
                    </a:lnTo>
                    <a:lnTo>
                      <a:pt x="40" y="43"/>
                    </a:lnTo>
                    <a:lnTo>
                      <a:pt x="146" y="479"/>
                    </a:lnTo>
                    <a:lnTo>
                      <a:pt x="142" y="498"/>
                    </a:lnTo>
                    <a:lnTo>
                      <a:pt x="128" y="515"/>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637960" y="2960280"/>
                <a:ext cx="13176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393520" y="2884680"/>
                <a:ext cx="212040" cy="778680"/>
              </a:xfrm>
              <a:custGeom>
                <a:avLst/>
                <a:gdLst/>
                <a:ahLst/>
                <a:rect l="l" t="t" r="r" b="b"/>
                <a:pathLst>
                  <a:path w="153" h="536">
                    <a:moveTo>
                      <a:pt x="100" y="523"/>
                    </a:moveTo>
                    <a:lnTo>
                      <a:pt x="0" y="59"/>
                    </a:lnTo>
                    <a:lnTo>
                      <a:pt x="7" y="33"/>
                    </a:lnTo>
                    <a:lnTo>
                      <a:pt x="15" y="13"/>
                    </a:lnTo>
                    <a:lnTo>
                      <a:pt x="30" y="0"/>
                    </a:lnTo>
                    <a:lnTo>
                      <a:pt x="152" y="535"/>
                    </a:lnTo>
                    <a:lnTo>
                      <a:pt x="136" y="534"/>
                    </a:lnTo>
                    <a:lnTo>
                      <a:pt x="122" y="530"/>
                    </a:lnTo>
                    <a:lnTo>
                      <a:pt x="108" y="527"/>
                    </a:lnTo>
                    <a:lnTo>
                      <a:pt x="100" y="523"/>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98920" y="2854080"/>
                <a:ext cx="225360" cy="234360"/>
              </a:xfrm>
              <a:custGeom>
                <a:avLst/>
                <a:gdLst/>
                <a:ahLst/>
                <a:rect l="l" t="t" r="r" b="b"/>
                <a:pathLst>
                  <a:path stroke="0" w="21600" h="21600">
                    <a:moveTo>
                      <a:pt x="1" y="10667"/>
                    </a:moveTo>
                    <a:arcTo wR="10800" hR="10800" stAng="-10757558" swAng="9884408"/>
                    <a:lnTo>
                      <a:pt x="10800" y="10800"/>
                    </a:lnTo>
                    <a:close/>
                  </a:path>
                  <a:path fill="none" w="21600" h="21600">
                    <a:moveTo>
                      <a:pt x="1" y="10667"/>
                    </a:moveTo>
                    <a:arcTo wR="10800" hR="10800" stAng="-10757558" swAng="98844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42120" y="3054600"/>
                <a:ext cx="231480" cy="226080"/>
              </a:xfrm>
              <a:custGeom>
                <a:avLst/>
                <a:gdLst/>
                <a:ahLst/>
                <a:rect l="l" t="t" r="r" b="b"/>
                <a:pathLst>
                  <a:path stroke="0" w="21600" h="21600">
                    <a:moveTo>
                      <a:pt x="0" y="10800"/>
                    </a:moveTo>
                    <a:arcTo wR="10800" hR="10800" stAng="10800000" swAng="9565508"/>
                    <a:lnTo>
                      <a:pt x="10800" y="10800"/>
                    </a:lnTo>
                    <a:close/>
                  </a:path>
                  <a:path fill="none" w="21600" h="21600">
                    <a:moveTo>
                      <a:pt x="0" y="10800"/>
                    </a:moveTo>
                    <a:arcTo wR="10800" hR="10800" stAng="10800000" swAng="956550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578200" y="3992400"/>
                <a:ext cx="202680" cy="220680"/>
              </a:xfrm>
              <a:custGeom>
                <a:avLst/>
                <a:gdLst/>
                <a:ahLst/>
                <a:rect l="l" t="t" r="r" b="b"/>
                <a:pathLst>
                  <a:path w="146" h="152">
                    <a:moveTo>
                      <a:pt x="0" y="97"/>
                    </a:moveTo>
                    <a:lnTo>
                      <a:pt x="0" y="2"/>
                    </a:lnTo>
                    <a:lnTo>
                      <a:pt x="19" y="28"/>
                    </a:lnTo>
                    <a:lnTo>
                      <a:pt x="24" y="33"/>
                    </a:lnTo>
                    <a:lnTo>
                      <a:pt x="31" y="38"/>
                    </a:lnTo>
                    <a:lnTo>
                      <a:pt x="39" y="41"/>
                    </a:lnTo>
                    <a:lnTo>
                      <a:pt x="130" y="52"/>
                    </a:lnTo>
                    <a:lnTo>
                      <a:pt x="141" y="48"/>
                    </a:lnTo>
                    <a:lnTo>
                      <a:pt x="145" y="0"/>
                    </a:lnTo>
                    <a:lnTo>
                      <a:pt x="145" y="142"/>
                    </a:lnTo>
                    <a:lnTo>
                      <a:pt x="137" y="151"/>
                    </a:lnTo>
                    <a:lnTo>
                      <a:pt x="126" y="150"/>
                    </a:lnTo>
                    <a:lnTo>
                      <a:pt x="110" y="147"/>
                    </a:lnTo>
                    <a:lnTo>
                      <a:pt x="34" y="130"/>
                    </a:lnTo>
                    <a:lnTo>
                      <a:pt x="24" y="127"/>
                    </a:lnTo>
                    <a:lnTo>
                      <a:pt x="17" y="123"/>
                    </a:lnTo>
                    <a:lnTo>
                      <a:pt x="12" y="117"/>
                    </a:lnTo>
                    <a:lnTo>
                      <a:pt x="7" y="108"/>
                    </a:lnTo>
                    <a:lnTo>
                      <a:pt x="0" y="97"/>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523840" y="3643200"/>
                <a:ext cx="305640" cy="485280"/>
              </a:xfrm>
              <a:custGeom>
                <a:avLst/>
                <a:gdLst/>
                <a:ahLst/>
                <a:rect l="l" t="t" r="r" b="b"/>
                <a:pathLst>
                  <a:path w="220" h="334">
                    <a:moveTo>
                      <a:pt x="32" y="329"/>
                    </a:moveTo>
                    <a:lnTo>
                      <a:pt x="32" y="242"/>
                    </a:lnTo>
                    <a:lnTo>
                      <a:pt x="24" y="242"/>
                    </a:lnTo>
                    <a:lnTo>
                      <a:pt x="15" y="242"/>
                    </a:lnTo>
                    <a:lnTo>
                      <a:pt x="15" y="280"/>
                    </a:lnTo>
                    <a:lnTo>
                      <a:pt x="17" y="309"/>
                    </a:lnTo>
                    <a:lnTo>
                      <a:pt x="12" y="297"/>
                    </a:lnTo>
                    <a:lnTo>
                      <a:pt x="10" y="287"/>
                    </a:lnTo>
                    <a:lnTo>
                      <a:pt x="7" y="258"/>
                    </a:lnTo>
                    <a:lnTo>
                      <a:pt x="2" y="214"/>
                    </a:lnTo>
                    <a:lnTo>
                      <a:pt x="0" y="195"/>
                    </a:lnTo>
                    <a:lnTo>
                      <a:pt x="0" y="173"/>
                    </a:lnTo>
                    <a:lnTo>
                      <a:pt x="4" y="71"/>
                    </a:lnTo>
                    <a:lnTo>
                      <a:pt x="9" y="0"/>
                    </a:lnTo>
                    <a:lnTo>
                      <a:pt x="17" y="8"/>
                    </a:lnTo>
                    <a:lnTo>
                      <a:pt x="46" y="14"/>
                    </a:lnTo>
                    <a:lnTo>
                      <a:pt x="83" y="16"/>
                    </a:lnTo>
                    <a:lnTo>
                      <a:pt x="105" y="30"/>
                    </a:lnTo>
                    <a:lnTo>
                      <a:pt x="113" y="56"/>
                    </a:lnTo>
                    <a:lnTo>
                      <a:pt x="117" y="69"/>
                    </a:lnTo>
                    <a:lnTo>
                      <a:pt x="135" y="97"/>
                    </a:lnTo>
                    <a:lnTo>
                      <a:pt x="155" y="113"/>
                    </a:lnTo>
                    <a:lnTo>
                      <a:pt x="172" y="125"/>
                    </a:lnTo>
                    <a:lnTo>
                      <a:pt x="176" y="128"/>
                    </a:lnTo>
                    <a:lnTo>
                      <a:pt x="196" y="135"/>
                    </a:lnTo>
                    <a:lnTo>
                      <a:pt x="213" y="141"/>
                    </a:lnTo>
                    <a:lnTo>
                      <a:pt x="219" y="153"/>
                    </a:lnTo>
                    <a:lnTo>
                      <a:pt x="180" y="152"/>
                    </a:lnTo>
                    <a:lnTo>
                      <a:pt x="146" y="158"/>
                    </a:lnTo>
                    <a:lnTo>
                      <a:pt x="87" y="173"/>
                    </a:lnTo>
                    <a:lnTo>
                      <a:pt x="39" y="188"/>
                    </a:lnTo>
                    <a:lnTo>
                      <a:pt x="41" y="243"/>
                    </a:lnTo>
                    <a:lnTo>
                      <a:pt x="36" y="243"/>
                    </a:lnTo>
                    <a:lnTo>
                      <a:pt x="36" y="333"/>
                    </a:lnTo>
                    <a:lnTo>
                      <a:pt x="32" y="329"/>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469120" y="3451680"/>
                <a:ext cx="299160" cy="205560"/>
              </a:xfrm>
              <a:custGeom>
                <a:avLst/>
                <a:gdLst/>
                <a:ahLst/>
                <a:rect l="l" t="t" r="r" b="b"/>
                <a:pathLst>
                  <a:path stroke="0" w="21600" h="21600">
                    <a:moveTo>
                      <a:pt x="21590" y="11260"/>
                    </a:moveTo>
                    <a:arcTo wR="10800" hR="10800" stAng="146526" swAng="7359323"/>
                    <a:lnTo>
                      <a:pt x="10800" y="10800"/>
                    </a:lnTo>
                    <a:close/>
                  </a:path>
                  <a:path fill="none" w="21600" h="21600">
                    <a:moveTo>
                      <a:pt x="21590" y="11260"/>
                    </a:moveTo>
                    <a:arcTo wR="10800" hR="10800" stAng="146526" swAng="735932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573880" y="3987720"/>
                <a:ext cx="207000" cy="78480"/>
              </a:xfrm>
              <a:custGeom>
                <a:avLst/>
                <a:gdLst/>
                <a:ahLst/>
                <a:rect l="l" t="t" r="r" b="b"/>
                <a:pathLst>
                  <a:path w="149" h="54">
                    <a:moveTo>
                      <a:pt x="0" y="0"/>
                    </a:moveTo>
                    <a:lnTo>
                      <a:pt x="13" y="15"/>
                    </a:lnTo>
                    <a:lnTo>
                      <a:pt x="20" y="26"/>
                    </a:lnTo>
                    <a:lnTo>
                      <a:pt x="26" y="32"/>
                    </a:lnTo>
                    <a:lnTo>
                      <a:pt x="31" y="37"/>
                    </a:lnTo>
                    <a:lnTo>
                      <a:pt x="37" y="39"/>
                    </a:lnTo>
                    <a:lnTo>
                      <a:pt x="135" y="53"/>
                    </a:lnTo>
                    <a:lnTo>
                      <a:pt x="140" y="52"/>
                    </a:lnTo>
                    <a:lnTo>
                      <a:pt x="145" y="48"/>
                    </a:lnTo>
                    <a:lnTo>
                      <a:pt x="147" y="43"/>
                    </a:lnTo>
                    <a:lnTo>
                      <a:pt x="148" y="34"/>
                    </a:lnTo>
                    <a:lnTo>
                      <a:pt x="148" y="0"/>
                    </a:lnTo>
                    <a:lnTo>
                      <a:pt x="0" y="0"/>
                    </a:lnTo>
                  </a:path>
                </a:pathLst>
              </a:custGeom>
              <a:solidFill>
                <a:srgbClr val="3f3f3f"/>
              </a:solidFill>
              <a:ln cap="rnd" w="1260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32" name=""/>
              <p:cNvSpPr/>
              <p:nvPr/>
            </p:nvSpPr>
            <p:spPr>
              <a:xfrm>
                <a:off x="5540760" y="3861360"/>
                <a:ext cx="790560" cy="127800"/>
              </a:xfrm>
              <a:custGeom>
                <a:avLst/>
                <a:gdLst/>
                <a:ahLst/>
                <a:rect l="l" t="t" r="r" b="b"/>
                <a:pathLst>
                  <a:path w="569" h="88">
                    <a:moveTo>
                      <a:pt x="0" y="87"/>
                    </a:moveTo>
                    <a:lnTo>
                      <a:pt x="0" y="61"/>
                    </a:lnTo>
                    <a:lnTo>
                      <a:pt x="3" y="52"/>
                    </a:lnTo>
                    <a:lnTo>
                      <a:pt x="9" y="46"/>
                    </a:lnTo>
                    <a:lnTo>
                      <a:pt x="29" y="37"/>
                    </a:lnTo>
                    <a:lnTo>
                      <a:pt x="58" y="27"/>
                    </a:lnTo>
                    <a:lnTo>
                      <a:pt x="84" y="18"/>
                    </a:lnTo>
                    <a:lnTo>
                      <a:pt x="112" y="11"/>
                    </a:lnTo>
                    <a:lnTo>
                      <a:pt x="143" y="5"/>
                    </a:lnTo>
                    <a:lnTo>
                      <a:pt x="171" y="1"/>
                    </a:lnTo>
                    <a:lnTo>
                      <a:pt x="192" y="0"/>
                    </a:lnTo>
                    <a:lnTo>
                      <a:pt x="210" y="1"/>
                    </a:lnTo>
                    <a:lnTo>
                      <a:pt x="460" y="3"/>
                    </a:lnTo>
                    <a:lnTo>
                      <a:pt x="564" y="15"/>
                    </a:lnTo>
                    <a:lnTo>
                      <a:pt x="568" y="86"/>
                    </a:lnTo>
                    <a:lnTo>
                      <a:pt x="0" y="87"/>
                    </a:lnTo>
                  </a:path>
                </a:pathLst>
              </a:custGeom>
              <a:solidFill>
                <a:srgbClr val="5f5f5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393520" y="2846880"/>
                <a:ext cx="940320" cy="1367640"/>
              </a:xfrm>
              <a:custGeom>
                <a:avLst/>
                <a:gdLst/>
                <a:ahLst/>
                <a:rect l="l" t="t" r="r" b="b"/>
                <a:pathLst>
                  <a:path w="677" h="941">
                    <a:moveTo>
                      <a:pt x="102" y="546"/>
                    </a:moveTo>
                    <a:lnTo>
                      <a:pt x="0" y="83"/>
                    </a:lnTo>
                    <a:lnTo>
                      <a:pt x="2" y="72"/>
                    </a:lnTo>
                    <a:lnTo>
                      <a:pt x="4" y="59"/>
                    </a:lnTo>
                    <a:lnTo>
                      <a:pt x="8" y="49"/>
                    </a:lnTo>
                    <a:lnTo>
                      <a:pt x="15" y="38"/>
                    </a:lnTo>
                    <a:lnTo>
                      <a:pt x="23" y="28"/>
                    </a:lnTo>
                    <a:lnTo>
                      <a:pt x="31" y="20"/>
                    </a:lnTo>
                    <a:lnTo>
                      <a:pt x="41" y="13"/>
                    </a:lnTo>
                    <a:lnTo>
                      <a:pt x="49" y="8"/>
                    </a:lnTo>
                    <a:lnTo>
                      <a:pt x="64" y="2"/>
                    </a:lnTo>
                    <a:lnTo>
                      <a:pt x="77" y="0"/>
                    </a:lnTo>
                    <a:lnTo>
                      <a:pt x="93" y="0"/>
                    </a:lnTo>
                    <a:lnTo>
                      <a:pt x="105" y="2"/>
                    </a:lnTo>
                    <a:lnTo>
                      <a:pt x="116" y="5"/>
                    </a:lnTo>
                    <a:lnTo>
                      <a:pt x="126" y="9"/>
                    </a:lnTo>
                    <a:lnTo>
                      <a:pt x="138" y="18"/>
                    </a:lnTo>
                    <a:lnTo>
                      <a:pt x="150" y="28"/>
                    </a:lnTo>
                    <a:lnTo>
                      <a:pt x="159" y="39"/>
                    </a:lnTo>
                    <a:lnTo>
                      <a:pt x="165" y="50"/>
                    </a:lnTo>
                    <a:lnTo>
                      <a:pt x="168" y="61"/>
                    </a:lnTo>
                    <a:lnTo>
                      <a:pt x="173" y="75"/>
                    </a:lnTo>
                    <a:lnTo>
                      <a:pt x="575" y="77"/>
                    </a:lnTo>
                    <a:lnTo>
                      <a:pt x="594" y="77"/>
                    </a:lnTo>
                    <a:lnTo>
                      <a:pt x="610" y="79"/>
                    </a:lnTo>
                    <a:lnTo>
                      <a:pt x="624" y="83"/>
                    </a:lnTo>
                    <a:lnTo>
                      <a:pt x="637" y="92"/>
                    </a:lnTo>
                    <a:lnTo>
                      <a:pt x="644" y="100"/>
                    </a:lnTo>
                    <a:lnTo>
                      <a:pt x="651" y="112"/>
                    </a:lnTo>
                    <a:lnTo>
                      <a:pt x="654" y="121"/>
                    </a:lnTo>
                    <a:lnTo>
                      <a:pt x="657" y="130"/>
                    </a:lnTo>
                    <a:lnTo>
                      <a:pt x="659" y="142"/>
                    </a:lnTo>
                    <a:lnTo>
                      <a:pt x="672" y="709"/>
                    </a:lnTo>
                    <a:lnTo>
                      <a:pt x="676" y="780"/>
                    </a:lnTo>
                    <a:lnTo>
                      <a:pt x="676" y="873"/>
                    </a:lnTo>
                    <a:lnTo>
                      <a:pt x="676" y="880"/>
                    </a:lnTo>
                    <a:lnTo>
                      <a:pt x="675" y="887"/>
                    </a:lnTo>
                    <a:lnTo>
                      <a:pt x="673" y="893"/>
                    </a:lnTo>
                    <a:lnTo>
                      <a:pt x="670" y="900"/>
                    </a:lnTo>
                    <a:lnTo>
                      <a:pt x="665" y="904"/>
                    </a:lnTo>
                    <a:lnTo>
                      <a:pt x="661" y="907"/>
                    </a:lnTo>
                    <a:lnTo>
                      <a:pt x="655" y="909"/>
                    </a:lnTo>
                    <a:lnTo>
                      <a:pt x="573" y="928"/>
                    </a:lnTo>
                    <a:lnTo>
                      <a:pt x="540" y="934"/>
                    </a:lnTo>
                    <a:lnTo>
                      <a:pt x="517" y="937"/>
                    </a:lnTo>
                    <a:lnTo>
                      <a:pt x="305" y="937"/>
                    </a:lnTo>
                    <a:lnTo>
                      <a:pt x="302" y="940"/>
                    </a:lnTo>
                    <a:lnTo>
                      <a:pt x="286" y="940"/>
                    </a:lnTo>
                    <a:lnTo>
                      <a:pt x="281" y="921"/>
                    </a:lnTo>
                    <a:lnTo>
                      <a:pt x="280" y="932"/>
                    </a:lnTo>
                    <a:lnTo>
                      <a:pt x="278" y="937"/>
                    </a:lnTo>
                    <a:lnTo>
                      <a:pt x="273" y="940"/>
                    </a:lnTo>
                    <a:lnTo>
                      <a:pt x="268" y="940"/>
                    </a:lnTo>
                    <a:lnTo>
                      <a:pt x="260" y="939"/>
                    </a:lnTo>
                    <a:lnTo>
                      <a:pt x="174" y="919"/>
                    </a:lnTo>
                    <a:lnTo>
                      <a:pt x="158" y="915"/>
                    </a:lnTo>
                    <a:lnTo>
                      <a:pt x="151" y="910"/>
                    </a:lnTo>
                    <a:lnTo>
                      <a:pt x="146" y="904"/>
                    </a:lnTo>
                    <a:lnTo>
                      <a:pt x="143" y="898"/>
                    </a:lnTo>
                    <a:lnTo>
                      <a:pt x="135" y="884"/>
                    </a:lnTo>
                    <a:lnTo>
                      <a:pt x="125" y="876"/>
                    </a:lnTo>
                    <a:lnTo>
                      <a:pt x="118" y="866"/>
                    </a:lnTo>
                    <a:lnTo>
                      <a:pt x="113" y="858"/>
                    </a:lnTo>
                    <a:lnTo>
                      <a:pt x="106" y="842"/>
                    </a:lnTo>
                    <a:lnTo>
                      <a:pt x="95" y="754"/>
                    </a:lnTo>
                    <a:lnTo>
                      <a:pt x="93" y="729"/>
                    </a:lnTo>
                    <a:lnTo>
                      <a:pt x="94" y="706"/>
                    </a:lnTo>
                    <a:lnTo>
                      <a:pt x="102" y="5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257880" y="3345120"/>
                <a:ext cx="38520" cy="175680"/>
              </a:xfrm>
              <a:custGeom>
                <a:avLst/>
                <a:gdLst>
                  <a:gd name="textAreaLeft" fmla="*/ 2880 w 38520"/>
                  <a:gd name="textAreaRight" fmla="*/ 35640 w 38520"/>
                  <a:gd name="textAreaTop" fmla="*/ 2880 h 175680"/>
                  <a:gd name="textAreaBottom" fmla="*/ 172800 h 175680"/>
                </a:gdLst>
                <a:ahLst/>
                <a:rect l="textAreaLeft" t="textAreaTop" r="textAreaRight" b="textAreaBottom"/>
                <a:pathLst>
                  <a:path w="21600" h="97800">
                    <a:moveTo>
                      <a:pt x="6074" y="0"/>
                    </a:moveTo>
                    <a:arcTo wR="6074" hR="6074" stAng="16200000" swAng="-5400000"/>
                    <a:lnTo>
                      <a:pt x="0" y="91726"/>
                    </a:lnTo>
                    <a:arcTo wR="6074" hR="6074" stAng="10800000" swAng="-5400000"/>
                    <a:lnTo>
                      <a:pt x="15526" y="97800"/>
                    </a:lnTo>
                    <a:arcTo wR="6074" hR="6074" stAng="5400000" swAng="-5400000"/>
                    <a:lnTo>
                      <a:pt x="21600" y="6074"/>
                    </a:lnTo>
                    <a:arcTo wR="6074" hR="6074" stAng="0" swAng="-5400000"/>
                    <a:close/>
                  </a:path>
                </a:pathLst>
              </a:cu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900400" y="3569040"/>
                <a:ext cx="413640" cy="116280"/>
              </a:xfrm>
              <a:custGeom>
                <a:avLst/>
                <a:gdLst/>
                <a:ahLst/>
                <a:rect l="l" t="t" r="r" b="b"/>
                <a:pathLst>
                  <a:path stroke="0" w="21600" h="21600">
                    <a:moveTo>
                      <a:pt x="10800" y="0"/>
                    </a:moveTo>
                    <a:arcTo wR="10800" hR="10800" stAng="-5400000" swAng="5312987"/>
                    <a:lnTo>
                      <a:pt x="10800" y="10800"/>
                    </a:lnTo>
                    <a:close/>
                  </a:path>
                  <a:path fill="none" w="21600" h="21600">
                    <a:moveTo>
                      <a:pt x="10800" y="0"/>
                    </a:moveTo>
                    <a:arcTo wR="10800" hR="10800" stAng="-5400000" swAng="5312987"/>
                  </a:path>
                </a:pathLst>
              </a:custGeom>
              <a:solidFill>
                <a:srgbClr val="3f3f3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6208920" y="3003840"/>
                <a:ext cx="63720" cy="117360"/>
                <a:chOff x="6208920" y="3003840"/>
                <a:chExt cx="63720" cy="117360"/>
              </a:xfrm>
            </p:grpSpPr>
            <p:sp>
              <p:nvSpPr>
                <p:cNvPr id="237" name=""/>
                <p:cNvSpPr/>
                <p:nvPr/>
              </p:nvSpPr>
              <p:spPr>
                <a:xfrm>
                  <a:off x="6208920" y="3003840"/>
                  <a:ext cx="63720" cy="117360"/>
                </a:xfrm>
                <a:custGeom>
                  <a:avLst/>
                  <a:gdLst>
                    <a:gd name="textAreaLeft" fmla="*/ 4680 w 63720"/>
                    <a:gd name="textAreaRight" fmla="*/ 59040 w 63720"/>
                    <a:gd name="textAreaTop" fmla="*/ 4680 h 117360"/>
                    <a:gd name="textAreaBottom" fmla="*/ 112680 h 117360"/>
                  </a:gdLst>
                  <a:ahLst/>
                  <a:rect l="textAreaLeft" t="textAreaTop" r="textAreaRight" b="textAreaBottom"/>
                  <a:pathLst>
                    <a:path w="21600" h="39681">
                      <a:moveTo>
                        <a:pt x="5784" y="0"/>
                      </a:moveTo>
                      <a:arcTo wR="5784" hR="5784" stAng="16200000" swAng="-5400000"/>
                      <a:lnTo>
                        <a:pt x="0" y="33897"/>
                      </a:lnTo>
                      <a:arcTo wR="5784" hR="5784" stAng="10800000" swAng="-5400000"/>
                      <a:lnTo>
                        <a:pt x="15816" y="39681"/>
                      </a:lnTo>
                      <a:arcTo wR="5784" hR="5784" stAng="5400000" swAng="-5400000"/>
                      <a:lnTo>
                        <a:pt x="21600" y="5784"/>
                      </a:lnTo>
                      <a:arcTo wR="5784" hR="5784" stAng="0" swAng="-5400000"/>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6215760" y="3012480"/>
                  <a:ext cx="49680" cy="51480"/>
                  <a:chOff x="6215760" y="3012480"/>
                  <a:chExt cx="49680" cy="51480"/>
                </a:xfrm>
              </p:grpSpPr>
              <p:sp>
                <p:nvSpPr>
                  <p:cNvPr id="239" name=""/>
                  <p:cNvSpPr/>
                  <p:nvPr/>
                </p:nvSpPr>
                <p:spPr>
                  <a:xfrm>
                    <a:off x="6215760" y="3017880"/>
                    <a:ext cx="49680" cy="46080"/>
                  </a:xfrm>
                  <a:prstGeom prst="ellipse">
                    <a:avLst/>
                  </a:prstGeom>
                  <a:solidFill>
                    <a:srgbClr val="3f3f3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40" name=""/>
                  <p:cNvSpPr/>
                  <p:nvPr/>
                </p:nvSpPr>
                <p:spPr>
                  <a:xfrm>
                    <a:off x="6215760" y="3012480"/>
                    <a:ext cx="49680" cy="46080"/>
                  </a:xfrm>
                  <a:prstGeom prst="ellipse">
                    <a:avLst/>
                  </a:prstGeom>
                  <a:solidFill>
                    <a:srgbClr val="7f7f7f"/>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nvGrpSpPr>
                <p:cNvPr id="241" name=""/>
                <p:cNvGrpSpPr/>
                <p:nvPr/>
              </p:nvGrpSpPr>
              <p:grpSpPr>
                <a:xfrm>
                  <a:off x="6219720" y="3070440"/>
                  <a:ext cx="41400" cy="42840"/>
                  <a:chOff x="6219720" y="3070440"/>
                  <a:chExt cx="41400" cy="42840"/>
                </a:xfrm>
              </p:grpSpPr>
              <p:sp>
                <p:nvSpPr>
                  <p:cNvPr id="242" name=""/>
                  <p:cNvSpPr/>
                  <p:nvPr/>
                </p:nvSpPr>
                <p:spPr>
                  <a:xfrm>
                    <a:off x="6221160" y="3076200"/>
                    <a:ext cx="39960" cy="37080"/>
                  </a:xfrm>
                  <a:prstGeom prst="ellipse">
                    <a:avLst/>
                  </a:prstGeom>
                  <a:solidFill>
                    <a:srgbClr val="3f3f3f"/>
                  </a:solid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3" name=""/>
                  <p:cNvSpPr/>
                  <p:nvPr/>
                </p:nvSpPr>
                <p:spPr>
                  <a:xfrm>
                    <a:off x="6219720" y="3070440"/>
                    <a:ext cx="39960" cy="36000"/>
                  </a:xfrm>
                  <a:prstGeom prst="ellipse">
                    <a:avLst/>
                  </a:prstGeom>
                  <a:solidFill>
                    <a:srgbClr val="7f7f7f"/>
                  </a:soli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grpSp>
            <p:nvGrpSpPr>
              <p:cNvPr id="244" name=""/>
              <p:cNvGrpSpPr/>
              <p:nvPr/>
            </p:nvGrpSpPr>
            <p:grpSpPr>
              <a:xfrm>
                <a:off x="5817240" y="2910600"/>
                <a:ext cx="367200" cy="1305000"/>
                <a:chOff x="5817240" y="2910600"/>
                <a:chExt cx="367200" cy="1305000"/>
              </a:xfrm>
            </p:grpSpPr>
            <p:grpSp>
              <p:nvGrpSpPr>
                <p:cNvPr id="245" name=""/>
                <p:cNvGrpSpPr/>
                <p:nvPr/>
              </p:nvGrpSpPr>
              <p:grpSpPr>
                <a:xfrm>
                  <a:off x="5817240" y="2910600"/>
                  <a:ext cx="363600" cy="1305000"/>
                  <a:chOff x="5817240" y="2910600"/>
                  <a:chExt cx="363600" cy="1305000"/>
                </a:xfrm>
              </p:grpSpPr>
              <p:sp>
                <p:nvSpPr>
                  <p:cNvPr id="246" name=""/>
                  <p:cNvSpPr/>
                  <p:nvPr/>
                </p:nvSpPr>
                <p:spPr>
                  <a:xfrm flipV="1">
                    <a:off x="5817240" y="4026960"/>
                    <a:ext cx="0" cy="18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839200" y="2910600"/>
                    <a:ext cx="338760" cy="1039320"/>
                  </a:xfrm>
                  <a:custGeom>
                    <a:avLst/>
                    <a:gdLst/>
                    <a:ahLst/>
                    <a:rect l="l" t="t" r="r" b="b"/>
                    <a:pathLst>
                      <a:path w="244" h="715">
                        <a:moveTo>
                          <a:pt x="0" y="714"/>
                        </a:moveTo>
                        <a:lnTo>
                          <a:pt x="0" y="78"/>
                        </a:lnTo>
                        <a:lnTo>
                          <a:pt x="8" y="58"/>
                        </a:lnTo>
                        <a:lnTo>
                          <a:pt x="16" y="46"/>
                        </a:lnTo>
                        <a:lnTo>
                          <a:pt x="25" y="38"/>
                        </a:lnTo>
                        <a:lnTo>
                          <a:pt x="35" y="28"/>
                        </a:lnTo>
                        <a:lnTo>
                          <a:pt x="43" y="22"/>
                        </a:lnTo>
                        <a:lnTo>
                          <a:pt x="54" y="16"/>
                        </a:lnTo>
                        <a:lnTo>
                          <a:pt x="67" y="10"/>
                        </a:lnTo>
                        <a:lnTo>
                          <a:pt x="79" y="6"/>
                        </a:lnTo>
                        <a:lnTo>
                          <a:pt x="94" y="3"/>
                        </a:lnTo>
                        <a:lnTo>
                          <a:pt x="110" y="1"/>
                        </a:lnTo>
                        <a:lnTo>
                          <a:pt x="123" y="0"/>
                        </a:lnTo>
                        <a:lnTo>
                          <a:pt x="143" y="3"/>
                        </a:lnTo>
                        <a:lnTo>
                          <a:pt x="158" y="5"/>
                        </a:lnTo>
                        <a:lnTo>
                          <a:pt x="177" y="11"/>
                        </a:lnTo>
                        <a:lnTo>
                          <a:pt x="192" y="19"/>
                        </a:lnTo>
                        <a:lnTo>
                          <a:pt x="206" y="29"/>
                        </a:lnTo>
                        <a:lnTo>
                          <a:pt x="220" y="43"/>
                        </a:lnTo>
                        <a:lnTo>
                          <a:pt x="231" y="58"/>
                        </a:lnTo>
                        <a:lnTo>
                          <a:pt x="243" y="80"/>
                        </a:lnTo>
                        <a:lnTo>
                          <a:pt x="243" y="714"/>
                        </a:lnTo>
                        <a:lnTo>
                          <a:pt x="0" y="714"/>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834880" y="2935080"/>
                    <a:ext cx="77760" cy="951840"/>
                  </a:xfrm>
                  <a:custGeom>
                    <a:avLst/>
                    <a:gdLst/>
                    <a:ahLst/>
                    <a:rect l="l" t="t" r="r" b="b"/>
                    <a:pathLst>
                      <a:path w="56" h="655">
                        <a:moveTo>
                          <a:pt x="0" y="654"/>
                        </a:moveTo>
                        <a:lnTo>
                          <a:pt x="1" y="66"/>
                        </a:lnTo>
                        <a:lnTo>
                          <a:pt x="4" y="55"/>
                        </a:lnTo>
                        <a:lnTo>
                          <a:pt x="9" y="42"/>
                        </a:lnTo>
                        <a:lnTo>
                          <a:pt x="16" y="30"/>
                        </a:lnTo>
                        <a:lnTo>
                          <a:pt x="26" y="20"/>
                        </a:lnTo>
                        <a:lnTo>
                          <a:pt x="38" y="9"/>
                        </a:lnTo>
                        <a:lnTo>
                          <a:pt x="55" y="0"/>
                        </a:lnTo>
                        <a:lnTo>
                          <a:pt x="55" y="606"/>
                        </a:lnTo>
                        <a:lnTo>
                          <a:pt x="0" y="654"/>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103080" y="2936520"/>
                    <a:ext cx="76320" cy="947520"/>
                  </a:xfrm>
                  <a:custGeom>
                    <a:avLst/>
                    <a:gdLst/>
                    <a:ahLst/>
                    <a:rect l="l" t="t" r="r" b="b"/>
                    <a:pathLst>
                      <a:path w="55" h="652">
                        <a:moveTo>
                          <a:pt x="54" y="651"/>
                        </a:moveTo>
                        <a:lnTo>
                          <a:pt x="52" y="77"/>
                        </a:lnTo>
                        <a:lnTo>
                          <a:pt x="47" y="55"/>
                        </a:lnTo>
                        <a:lnTo>
                          <a:pt x="42" y="42"/>
                        </a:lnTo>
                        <a:lnTo>
                          <a:pt x="35" y="31"/>
                        </a:lnTo>
                        <a:lnTo>
                          <a:pt x="26" y="20"/>
                        </a:lnTo>
                        <a:lnTo>
                          <a:pt x="14" y="9"/>
                        </a:lnTo>
                        <a:lnTo>
                          <a:pt x="0" y="0"/>
                        </a:lnTo>
                        <a:lnTo>
                          <a:pt x="0" y="602"/>
                        </a:lnTo>
                        <a:lnTo>
                          <a:pt x="54" y="651"/>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839200" y="3020760"/>
                    <a:ext cx="331200" cy="275760"/>
                  </a:xfrm>
                  <a:custGeom>
                    <a:avLst/>
                    <a:gdLst/>
                    <a:ahLst/>
                    <a:rect l="l" t="t" r="r" b="b"/>
                    <a:pathLst>
                      <a:path stroke="0" w="21600" h="21600">
                        <a:moveTo>
                          <a:pt x="1" y="10686"/>
                        </a:moveTo>
                        <a:arcTo wR="10800" hR="10800" stAng="-10763774" swAng="10911047"/>
                        <a:lnTo>
                          <a:pt x="10800" y="10800"/>
                        </a:lnTo>
                        <a:close/>
                      </a:path>
                      <a:path fill="none" w="21600" h="21600">
                        <a:moveTo>
                          <a:pt x="1" y="10686"/>
                        </a:moveTo>
                        <a:arcTo wR="10800" hR="10800" stAng="-10763774" swAng="10911047"/>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839200" y="2917800"/>
                    <a:ext cx="333000" cy="275040"/>
                  </a:xfrm>
                  <a:custGeom>
                    <a:avLst/>
                    <a:gdLst/>
                    <a:ahLst/>
                    <a:rect l="l" t="t" r="r" b="b"/>
                    <a:pathLst>
                      <a:path stroke="0" w="21600" h="21600">
                        <a:moveTo>
                          <a:pt x="1" y="10686"/>
                        </a:moveTo>
                        <a:arcTo wR="10800" hR="10800" stAng="-10763623" swAng="10836980"/>
                        <a:lnTo>
                          <a:pt x="10800" y="10800"/>
                        </a:lnTo>
                        <a:close/>
                      </a:path>
                      <a:path fill="none" w="21600" h="21600">
                        <a:moveTo>
                          <a:pt x="1" y="10686"/>
                        </a:moveTo>
                        <a:arcTo wR="10800" hR="10800" stAng="-10763623" swAng="1083698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842080" y="3493080"/>
                    <a:ext cx="332640" cy="275760"/>
                  </a:xfrm>
                  <a:custGeom>
                    <a:avLst/>
                    <a:gdLst/>
                    <a:ahLst/>
                    <a:rect l="l" t="t" r="r" b="b"/>
                    <a:pathLst>
                      <a:path stroke="0" w="21600" h="21600">
                        <a:moveTo>
                          <a:pt x="1" y="10686"/>
                        </a:moveTo>
                        <a:arcTo wR="10800" hR="10800" stAng="-10763623" swAng="10910270"/>
                        <a:lnTo>
                          <a:pt x="10800" y="10800"/>
                        </a:lnTo>
                        <a:close/>
                      </a:path>
                      <a:path fill="none" w="21600" h="21600">
                        <a:moveTo>
                          <a:pt x="1" y="10686"/>
                        </a:moveTo>
                        <a:arcTo wR="10800" hR="10800" stAng="-10763623" swAng="1091027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834880" y="3034080"/>
                    <a:ext cx="0" cy="81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6180840" y="3035160"/>
                    <a:ext cx="0" cy="81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5912640" y="2939400"/>
                    <a:ext cx="182520" cy="688320"/>
                    <a:chOff x="5912640" y="2939400"/>
                    <a:chExt cx="182520" cy="688320"/>
                  </a:xfrm>
                </p:grpSpPr>
                <p:sp>
                  <p:nvSpPr>
                    <p:cNvPr id="256" name=""/>
                    <p:cNvSpPr/>
                    <p:nvPr/>
                  </p:nvSpPr>
                  <p:spPr>
                    <a:xfrm>
                      <a:off x="5951160" y="3553920"/>
                      <a:ext cx="106560" cy="73800"/>
                    </a:xfrm>
                    <a:prstGeom prst="roundRect">
                      <a:avLst>
                        <a:gd name="adj" fmla="val 22292"/>
                      </a:avLst>
                    </a:prstGeom>
                    <a:solidFill>
                      <a:srgbClr val="5f5f5f"/>
                    </a:solidFill>
                    <a:ln w="12600">
                      <a:solidFill>
                        <a:srgbClr val="3f3f3f"/>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257" name=""/>
                    <p:cNvGrpSpPr/>
                    <p:nvPr/>
                  </p:nvGrpSpPr>
                  <p:grpSpPr>
                    <a:xfrm>
                      <a:off x="5912640" y="3038040"/>
                      <a:ext cx="70560" cy="288360"/>
                      <a:chOff x="5912640" y="3038040"/>
                      <a:chExt cx="70560" cy="288360"/>
                    </a:xfrm>
                  </p:grpSpPr>
                  <p:grpSp>
                    <p:nvGrpSpPr>
                      <p:cNvPr id="258" name=""/>
                      <p:cNvGrpSpPr/>
                      <p:nvPr/>
                    </p:nvGrpSpPr>
                    <p:grpSpPr>
                      <a:xfrm>
                        <a:off x="5912640" y="3254040"/>
                        <a:ext cx="70560" cy="72360"/>
                        <a:chOff x="5912640" y="3254040"/>
                        <a:chExt cx="70560" cy="72360"/>
                      </a:xfrm>
                    </p:grpSpPr>
                    <p:sp>
                      <p:nvSpPr>
                        <p:cNvPr id="259" name=""/>
                        <p:cNvSpPr/>
                        <p:nvPr/>
                      </p:nvSpPr>
                      <p:spPr>
                        <a:xfrm>
                          <a:off x="5912640" y="3254040"/>
                          <a:ext cx="70560" cy="72360"/>
                        </a:xfrm>
                        <a:prstGeom prst="ellipse">
                          <a:avLst/>
                        </a:prstGeom>
                        <a:solidFill>
                          <a:srgbClr val="3f3f3f"/>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60" name=""/>
                        <p:cNvSpPr/>
                        <p:nvPr/>
                      </p:nvSpPr>
                      <p:spPr>
                        <a:xfrm>
                          <a:off x="5919480" y="3268440"/>
                          <a:ext cx="57960" cy="57600"/>
                        </a:xfrm>
                        <a:prstGeom prst="ellipse">
                          <a:avLst/>
                        </a:prstGeom>
                        <a:solidFill>
                          <a:srgbClr val="7f7f7f"/>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grpSp>
                    <p:nvGrpSpPr>
                      <p:cNvPr id="261" name=""/>
                      <p:cNvGrpSpPr/>
                      <p:nvPr/>
                    </p:nvGrpSpPr>
                    <p:grpSpPr>
                      <a:xfrm>
                        <a:off x="5912640" y="3149640"/>
                        <a:ext cx="70560" cy="71280"/>
                        <a:chOff x="5912640" y="3149640"/>
                        <a:chExt cx="70560" cy="71280"/>
                      </a:xfrm>
                    </p:grpSpPr>
                    <p:sp>
                      <p:nvSpPr>
                        <p:cNvPr id="262" name=""/>
                        <p:cNvSpPr/>
                        <p:nvPr/>
                      </p:nvSpPr>
                      <p:spPr>
                        <a:xfrm>
                          <a:off x="5912640" y="3149640"/>
                          <a:ext cx="70560" cy="71280"/>
                        </a:xfrm>
                        <a:prstGeom prst="ellipse">
                          <a:avLst/>
                        </a:prstGeom>
                        <a:solidFill>
                          <a:srgbClr val="3f3f3f"/>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63" name=""/>
                        <p:cNvSpPr/>
                        <p:nvPr/>
                      </p:nvSpPr>
                      <p:spPr>
                        <a:xfrm>
                          <a:off x="5919480" y="3165480"/>
                          <a:ext cx="57960" cy="55080"/>
                        </a:xfrm>
                        <a:prstGeom prst="ellipse">
                          <a:avLst/>
                        </a:prstGeom>
                        <a:solidFill>
                          <a:srgbClr val="7f7f7f"/>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64" name=""/>
                      <p:cNvGrpSpPr/>
                      <p:nvPr/>
                    </p:nvGrpSpPr>
                    <p:grpSpPr>
                      <a:xfrm>
                        <a:off x="5912640" y="3038040"/>
                        <a:ext cx="70560" cy="70920"/>
                        <a:chOff x="5912640" y="3038040"/>
                        <a:chExt cx="70560" cy="70920"/>
                      </a:xfrm>
                    </p:grpSpPr>
                    <p:sp>
                      <p:nvSpPr>
                        <p:cNvPr id="265" name=""/>
                        <p:cNvSpPr/>
                        <p:nvPr/>
                      </p:nvSpPr>
                      <p:spPr>
                        <a:xfrm>
                          <a:off x="5912640" y="3038040"/>
                          <a:ext cx="70560" cy="70920"/>
                        </a:xfrm>
                        <a:prstGeom prst="ellipse">
                          <a:avLst/>
                        </a:prstGeom>
                        <a:solidFill>
                          <a:srgbClr val="3f3f3f"/>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66" name=""/>
                        <p:cNvSpPr/>
                        <p:nvPr/>
                      </p:nvSpPr>
                      <p:spPr>
                        <a:xfrm>
                          <a:off x="5919480" y="3053520"/>
                          <a:ext cx="57960" cy="55080"/>
                        </a:xfrm>
                        <a:prstGeom prst="ellipse">
                          <a:avLst/>
                        </a:prstGeom>
                        <a:solidFill>
                          <a:srgbClr val="7f7f7f"/>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grpSp>
                    <p:nvGrpSpPr>
                      <p:cNvPr id="267" name=""/>
                      <p:cNvGrpSpPr/>
                      <p:nvPr/>
                    </p:nvGrpSpPr>
                    <p:grpSpPr>
                      <a:xfrm>
                        <a:off x="5933160" y="3280320"/>
                        <a:ext cx="27360" cy="31320"/>
                        <a:chOff x="5933160" y="3280320"/>
                        <a:chExt cx="27360" cy="31320"/>
                      </a:xfrm>
                    </p:grpSpPr>
                    <p:sp>
                      <p:nvSpPr>
                        <p:cNvPr id="268" name=""/>
                        <p:cNvSpPr/>
                        <p:nvPr/>
                      </p:nvSpPr>
                      <p:spPr>
                        <a:xfrm>
                          <a:off x="5933160" y="3283200"/>
                          <a:ext cx="27360" cy="28440"/>
                        </a:xfrm>
                        <a:prstGeom prst="ellipse">
                          <a:avLst/>
                        </a:prstGeom>
                        <a:solidFill>
                          <a:srgbClr val="00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269" name=""/>
                        <p:cNvSpPr/>
                        <p:nvPr/>
                      </p:nvSpPr>
                      <p:spPr>
                        <a:xfrm>
                          <a:off x="5933160" y="3280320"/>
                          <a:ext cx="25920" cy="28800"/>
                        </a:xfrm>
                        <a:prstGeom prst="ellipse">
                          <a:avLst/>
                        </a:prstGeom>
                        <a:solidFill>
                          <a:srgbClr val="5f5f5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270" name=""/>
                      <p:cNvGrpSpPr/>
                      <p:nvPr/>
                    </p:nvGrpSpPr>
                    <p:grpSpPr>
                      <a:xfrm>
                        <a:off x="5933160" y="3175920"/>
                        <a:ext cx="27360" cy="32760"/>
                        <a:chOff x="5933160" y="3175920"/>
                        <a:chExt cx="27360" cy="32760"/>
                      </a:xfrm>
                    </p:grpSpPr>
                    <p:sp>
                      <p:nvSpPr>
                        <p:cNvPr id="271" name=""/>
                        <p:cNvSpPr/>
                        <p:nvPr/>
                      </p:nvSpPr>
                      <p:spPr>
                        <a:xfrm>
                          <a:off x="5933160" y="3179880"/>
                          <a:ext cx="27360" cy="2880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2" name=""/>
                        <p:cNvSpPr/>
                        <p:nvPr/>
                      </p:nvSpPr>
                      <p:spPr>
                        <a:xfrm>
                          <a:off x="5933160" y="3175920"/>
                          <a:ext cx="25920" cy="28800"/>
                        </a:xfrm>
                        <a:prstGeom prst="ellipse">
                          <a:avLst/>
                        </a:prstGeom>
                        <a:solidFill>
                          <a:srgbClr val="5f5f5f"/>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grpSp>
                    <p:nvGrpSpPr>
                      <p:cNvPr id="273" name=""/>
                      <p:cNvGrpSpPr/>
                      <p:nvPr/>
                    </p:nvGrpSpPr>
                    <p:grpSpPr>
                      <a:xfrm>
                        <a:off x="5933160" y="3063960"/>
                        <a:ext cx="27360" cy="33120"/>
                        <a:chOff x="5933160" y="3063960"/>
                        <a:chExt cx="27360" cy="33120"/>
                      </a:xfrm>
                    </p:grpSpPr>
                    <p:sp>
                      <p:nvSpPr>
                        <p:cNvPr id="274" name=""/>
                        <p:cNvSpPr/>
                        <p:nvPr/>
                      </p:nvSpPr>
                      <p:spPr>
                        <a:xfrm>
                          <a:off x="5933160" y="3068280"/>
                          <a:ext cx="27360" cy="28800"/>
                        </a:xfrm>
                        <a:prstGeom prst="ellipse">
                          <a:avLst/>
                        </a:prstGeom>
                        <a:solidFill>
                          <a:srgbClr val="0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5" name=""/>
                        <p:cNvSpPr/>
                        <p:nvPr/>
                      </p:nvSpPr>
                      <p:spPr>
                        <a:xfrm>
                          <a:off x="5933160" y="3063960"/>
                          <a:ext cx="25920" cy="29160"/>
                        </a:xfrm>
                        <a:prstGeom prst="ellipse">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grpSp>
                </p:grpSp>
                <p:sp>
                  <p:nvSpPr>
                    <p:cNvPr id="276" name=""/>
                    <p:cNvSpPr/>
                    <p:nvPr/>
                  </p:nvSpPr>
                  <p:spPr>
                    <a:xfrm>
                      <a:off x="5938920" y="2939400"/>
                      <a:ext cx="24480" cy="55080"/>
                    </a:xfrm>
                    <a:custGeom>
                      <a:avLst/>
                      <a:gdLst>
                        <a:gd name="textAreaLeft" fmla="*/ 3240 w 24480"/>
                        <a:gd name="textAreaRight" fmla="*/ 21240 w 24480"/>
                        <a:gd name="textAreaTop" fmla="*/ 3240 h 55080"/>
                        <a:gd name="textAreaBottom" fmla="*/ 51840 h 55080"/>
                      </a:gdLst>
                      <a:ahLst/>
                      <a:rect l="textAreaLeft" t="textAreaTop" r="textAreaRight" b="textAreaBottom"/>
                      <a:pathLst>
                        <a:path w="21600" h="48209">
                          <a:moveTo>
                            <a:pt x="10383" y="0"/>
                          </a:moveTo>
                          <a:arcTo wR="10383" hR="10383" stAng="16200000" swAng="-5400000"/>
                          <a:lnTo>
                            <a:pt x="0" y="37826"/>
                          </a:lnTo>
                          <a:arcTo wR="10383" hR="10383" stAng="10800000" swAng="-5400000"/>
                          <a:lnTo>
                            <a:pt x="11217" y="48209"/>
                          </a:lnTo>
                          <a:arcTo wR="10383" hR="10383" stAng="5400000" swAng="-5400000"/>
                          <a:lnTo>
                            <a:pt x="21600" y="10383"/>
                          </a:lnTo>
                          <a:arcTo wR="10383" hR="10383" stAng="0" swAng="-5400000"/>
                          <a:close/>
                        </a:path>
                      </a:pathLst>
                    </a:custGeom>
                    <a:solidFill>
                      <a:srgbClr val="000000"/>
                    </a:solidFill>
                    <a:ln w="0">
                      <a:noFill/>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77" name=""/>
                    <p:cNvSpPr/>
                    <p:nvPr/>
                  </p:nvSpPr>
                  <p:spPr>
                    <a:xfrm>
                      <a:off x="6051240" y="2943360"/>
                      <a:ext cx="24480" cy="53640"/>
                    </a:xfrm>
                    <a:custGeom>
                      <a:avLst/>
                      <a:gdLst>
                        <a:gd name="textAreaLeft" fmla="*/ 3240 w 24480"/>
                        <a:gd name="textAreaRight" fmla="*/ 21240 w 24480"/>
                        <a:gd name="textAreaTop" fmla="*/ 3240 h 53640"/>
                        <a:gd name="textAreaBottom" fmla="*/ 50400 h 53640"/>
                      </a:gdLst>
                      <a:ahLst/>
                      <a:rect l="textAreaLeft" t="textAreaTop" r="textAreaRight" b="textAreaBottom"/>
                      <a:pathLst>
                        <a:path w="21600" h="46957">
                          <a:moveTo>
                            <a:pt x="10383" y="0"/>
                          </a:moveTo>
                          <a:arcTo wR="10383" hR="10383" stAng="16200000" swAng="-5400000"/>
                          <a:lnTo>
                            <a:pt x="0" y="36574"/>
                          </a:lnTo>
                          <a:arcTo wR="10383" hR="10383" stAng="10800000" swAng="-5400000"/>
                          <a:lnTo>
                            <a:pt x="11217" y="46957"/>
                          </a:lnTo>
                          <a:arcTo wR="10383" hR="10383" stAng="5400000" swAng="-5400000"/>
                          <a:lnTo>
                            <a:pt x="21600" y="10383"/>
                          </a:lnTo>
                          <a:arcTo wR="10383" hR="10383" stAng="0" swAng="-5400000"/>
                          <a:close/>
                        </a:path>
                      </a:pathLst>
                    </a:custGeom>
                    <a:solidFill>
                      <a:srgbClr val="000000"/>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nvGrpSpPr>
                    <p:cNvPr id="278" name=""/>
                    <p:cNvGrpSpPr/>
                    <p:nvPr/>
                  </p:nvGrpSpPr>
                  <p:grpSpPr>
                    <a:xfrm>
                      <a:off x="5929200" y="3353400"/>
                      <a:ext cx="51120" cy="118800"/>
                      <a:chOff x="5929200" y="3353400"/>
                      <a:chExt cx="51120" cy="118800"/>
                    </a:xfrm>
                  </p:grpSpPr>
                  <p:sp>
                    <p:nvSpPr>
                      <p:cNvPr id="279" name=""/>
                      <p:cNvSpPr/>
                      <p:nvPr/>
                    </p:nvSpPr>
                    <p:spPr>
                      <a:xfrm>
                        <a:off x="5929200" y="3353400"/>
                        <a:ext cx="51120" cy="118800"/>
                      </a:xfrm>
                      <a:custGeom>
                        <a:avLst/>
                        <a:gdLst>
                          <a:gd name="textAreaLeft" fmla="*/ 5400 w 51120"/>
                          <a:gd name="textAreaRight" fmla="*/ 45720 w 51120"/>
                          <a:gd name="textAreaTop" fmla="*/ 5400 h 118800"/>
                          <a:gd name="textAreaBottom" fmla="*/ 113400 h 118800"/>
                        </a:gdLst>
                        <a:ahLst/>
                        <a:rect l="textAreaLeft" t="textAreaTop" r="textAreaRight" b="textAreaBottom"/>
                        <a:pathLst>
                          <a:path w="21600" h="49997">
                            <a:moveTo>
                              <a:pt x="7956" y="0"/>
                            </a:moveTo>
                            <a:arcTo wR="7956" hR="7956" stAng="16200000" swAng="-5400000"/>
                            <a:lnTo>
                              <a:pt x="0" y="42041"/>
                            </a:lnTo>
                            <a:arcTo wR="7956" hR="7956" stAng="10800000" swAng="-5400000"/>
                            <a:lnTo>
                              <a:pt x="13644" y="49997"/>
                            </a:lnTo>
                            <a:arcTo wR="7956" hR="7956" stAng="5400000" swAng="-5400000"/>
                            <a:lnTo>
                              <a:pt x="21600" y="7956"/>
                            </a:lnTo>
                            <a:arcTo wR="7956" hR="7956" stAng="0" swAng="-5400000"/>
                            <a:close/>
                          </a:path>
                        </a:pathLst>
                      </a:custGeom>
                      <a:solidFill>
                        <a:srgbClr val="7f7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5933160" y="3367800"/>
                        <a:ext cx="38520" cy="91080"/>
                        <a:chOff x="5933160" y="3367800"/>
                        <a:chExt cx="38520" cy="91080"/>
                      </a:xfrm>
                    </p:grpSpPr>
                    <p:sp>
                      <p:nvSpPr>
                        <p:cNvPr id="281" name=""/>
                        <p:cNvSpPr/>
                        <p:nvPr/>
                      </p:nvSpPr>
                      <p:spPr>
                        <a:xfrm>
                          <a:off x="5938560" y="3370680"/>
                          <a:ext cx="33120" cy="88200"/>
                        </a:xfrm>
                        <a:custGeom>
                          <a:avLst/>
                          <a:gdLst>
                            <a:gd name="textAreaLeft" fmla="*/ 3600 w 33120"/>
                            <a:gd name="textAreaRight" fmla="*/ 29520 w 33120"/>
                            <a:gd name="textAreaTop" fmla="*/ 3600 h 88200"/>
                            <a:gd name="textAreaBottom" fmla="*/ 84600 h 88200"/>
                          </a:gdLst>
                          <a:ahLst/>
                          <a:rect l="textAreaLeft" t="textAreaTop" r="textAreaRight" b="textAreaBottom"/>
                          <a:pathLst>
                            <a:path w="21600" h="57135">
                              <a:moveTo>
                                <a:pt x="8180" y="0"/>
                              </a:moveTo>
                              <a:arcTo wR="8180" hR="8180" stAng="16200000" swAng="-5400000"/>
                              <a:lnTo>
                                <a:pt x="0" y="48955"/>
                              </a:lnTo>
                              <a:arcTo wR="8180" hR="8180" stAng="10800000" swAng="-5400000"/>
                              <a:lnTo>
                                <a:pt x="13420" y="57135"/>
                              </a:lnTo>
                              <a:arcTo wR="8180" hR="8180" stAng="5400000" swAng="-5400000"/>
                              <a:lnTo>
                                <a:pt x="21600" y="8180"/>
                              </a:lnTo>
                              <a:arcTo wR="8180" hR="8180" stAng="0" swAng="-5400000"/>
                              <a:close/>
                            </a:path>
                          </a:pathLst>
                        </a:cu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82" name=""/>
                        <p:cNvSpPr/>
                        <p:nvPr/>
                      </p:nvSpPr>
                      <p:spPr>
                        <a:xfrm>
                          <a:off x="5933160" y="3367800"/>
                          <a:ext cx="34200" cy="88200"/>
                        </a:xfrm>
                        <a:custGeom>
                          <a:avLst/>
                          <a:gdLst>
                            <a:gd name="textAreaLeft" fmla="*/ 3600 w 34200"/>
                            <a:gd name="textAreaRight" fmla="*/ 30600 w 34200"/>
                            <a:gd name="textAreaTop" fmla="*/ 3600 h 88200"/>
                            <a:gd name="textAreaBottom" fmla="*/ 84600 h 88200"/>
                          </a:gdLst>
                          <a:ahLst/>
                          <a:rect l="textAreaLeft" t="textAreaTop" r="textAreaRight" b="textAreaBottom"/>
                          <a:pathLst>
                            <a:path w="21600" h="55350">
                              <a:moveTo>
                                <a:pt x="8180" y="0"/>
                              </a:moveTo>
                              <a:arcTo wR="8180" hR="8180" stAng="16200000" swAng="-5400000"/>
                              <a:lnTo>
                                <a:pt x="0" y="47170"/>
                              </a:lnTo>
                              <a:arcTo wR="8180" hR="8180" stAng="10800000" swAng="-5400000"/>
                              <a:lnTo>
                                <a:pt x="13420" y="55350"/>
                              </a:lnTo>
                              <a:arcTo wR="8180" hR="8180" stAng="5400000" swAng="-5400000"/>
                              <a:lnTo>
                                <a:pt x="21600" y="8180"/>
                              </a:lnTo>
                              <a:arcTo wR="8180" hR="8180" stAng="0" swAng="-5400000"/>
                              <a:close/>
                            </a:path>
                          </a:pathLst>
                        </a:custGeom>
                        <a:solidFill>
                          <a:srgbClr val="5f5f5f"/>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grpSp>
                  <p:nvGrpSpPr>
                    <p:cNvPr id="283" name=""/>
                    <p:cNvGrpSpPr/>
                    <p:nvPr/>
                  </p:nvGrpSpPr>
                  <p:grpSpPr>
                    <a:xfrm>
                      <a:off x="6045480" y="3351960"/>
                      <a:ext cx="49680" cy="117720"/>
                      <a:chOff x="6045480" y="3351960"/>
                      <a:chExt cx="49680" cy="117720"/>
                    </a:xfrm>
                  </p:grpSpPr>
                  <p:sp>
                    <p:nvSpPr>
                      <p:cNvPr id="284" name=""/>
                      <p:cNvSpPr/>
                      <p:nvPr/>
                    </p:nvSpPr>
                    <p:spPr>
                      <a:xfrm>
                        <a:off x="6045480" y="3351960"/>
                        <a:ext cx="49680" cy="117720"/>
                      </a:xfrm>
                      <a:custGeom>
                        <a:avLst/>
                        <a:gdLst>
                          <a:gd name="textAreaLeft" fmla="*/ 5040 w 49680"/>
                          <a:gd name="textAreaRight" fmla="*/ 44640 w 49680"/>
                          <a:gd name="textAreaTop" fmla="*/ 5040 h 117720"/>
                          <a:gd name="textAreaBottom" fmla="*/ 112680 h 117720"/>
                        </a:gdLst>
                        <a:ahLst/>
                        <a:rect l="textAreaLeft" t="textAreaTop" r="textAreaRight" b="textAreaBottom"/>
                        <a:pathLst>
                          <a:path w="21600" h="50970">
                            <a:moveTo>
                              <a:pt x="7874" y="0"/>
                            </a:moveTo>
                            <a:arcTo wR="7874" hR="7874" stAng="16200000" swAng="-5400000"/>
                            <a:lnTo>
                              <a:pt x="0" y="43096"/>
                            </a:lnTo>
                            <a:arcTo wR="7874" hR="7874" stAng="10800000" swAng="-5400000"/>
                            <a:lnTo>
                              <a:pt x="13726" y="50970"/>
                            </a:lnTo>
                            <a:arcTo wR="7874" hR="7874" stAng="5400000" swAng="-5400000"/>
                            <a:lnTo>
                              <a:pt x="21600" y="7874"/>
                            </a:lnTo>
                            <a:arcTo wR="7874" hR="7874" stAng="0" swAng="-5400000"/>
                            <a:close/>
                          </a:path>
                        </a:pathLst>
                      </a:custGeom>
                      <a:solidFill>
                        <a:srgbClr val="7f7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5" name=""/>
                      <p:cNvGrpSpPr/>
                      <p:nvPr/>
                    </p:nvGrpSpPr>
                    <p:grpSpPr>
                      <a:xfrm>
                        <a:off x="6050880" y="3364920"/>
                        <a:ext cx="36720" cy="90720"/>
                        <a:chOff x="6050880" y="3364920"/>
                        <a:chExt cx="36720" cy="90720"/>
                      </a:xfrm>
                    </p:grpSpPr>
                    <p:sp>
                      <p:nvSpPr>
                        <p:cNvPr id="286" name=""/>
                        <p:cNvSpPr/>
                        <p:nvPr/>
                      </p:nvSpPr>
                      <p:spPr>
                        <a:xfrm>
                          <a:off x="6053400" y="3367800"/>
                          <a:ext cx="34200" cy="87840"/>
                        </a:xfrm>
                        <a:custGeom>
                          <a:avLst/>
                          <a:gdLst>
                            <a:gd name="textAreaLeft" fmla="*/ 3600 w 34200"/>
                            <a:gd name="textAreaRight" fmla="*/ 30600 w 34200"/>
                            <a:gd name="textAreaTop" fmla="*/ 3600 h 87840"/>
                            <a:gd name="textAreaBottom" fmla="*/ 84240 h 87840"/>
                          </a:gdLst>
                          <a:ahLst/>
                          <a:rect l="textAreaLeft" t="textAreaTop" r="textAreaRight" b="textAreaBottom"/>
                          <a:pathLst>
                            <a:path w="21600" h="55125">
                              <a:moveTo>
                                <a:pt x="8180" y="0"/>
                              </a:moveTo>
                              <a:arcTo wR="8180" hR="8180" stAng="16200000" swAng="-5400000"/>
                              <a:lnTo>
                                <a:pt x="0" y="46945"/>
                              </a:lnTo>
                              <a:arcTo wR="8180" hR="8180" stAng="10800000" swAng="-5400000"/>
                              <a:lnTo>
                                <a:pt x="13420" y="55125"/>
                              </a:lnTo>
                              <a:arcTo wR="8180" hR="8180" stAng="5400000" swAng="-5400000"/>
                              <a:lnTo>
                                <a:pt x="21600" y="8180"/>
                              </a:lnTo>
                              <a:arcTo wR="8180" hR="8180" stAng="0" swAng="-5400000"/>
                              <a:close/>
                            </a:path>
                          </a:pathLst>
                        </a:cu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87" name=""/>
                        <p:cNvSpPr/>
                        <p:nvPr/>
                      </p:nvSpPr>
                      <p:spPr>
                        <a:xfrm>
                          <a:off x="6050880" y="3364920"/>
                          <a:ext cx="32760" cy="89640"/>
                        </a:xfrm>
                        <a:custGeom>
                          <a:avLst/>
                          <a:gdLst>
                            <a:gd name="textAreaLeft" fmla="*/ 3600 w 32760"/>
                            <a:gd name="textAreaRight" fmla="*/ 29160 w 32760"/>
                            <a:gd name="textAreaTop" fmla="*/ 3600 h 89640"/>
                            <a:gd name="textAreaBottom" fmla="*/ 86040 h 89640"/>
                          </a:gdLst>
                          <a:ahLst/>
                          <a:rect l="textAreaLeft" t="textAreaTop" r="textAreaRight" b="textAreaBottom"/>
                          <a:pathLst>
                            <a:path w="21600" h="58696">
                              <a:moveTo>
                                <a:pt x="8180" y="0"/>
                              </a:moveTo>
                              <a:arcTo wR="8180" hR="8180" stAng="16200000" swAng="-5400000"/>
                              <a:lnTo>
                                <a:pt x="0" y="50516"/>
                              </a:lnTo>
                              <a:arcTo wR="8180" hR="8180" stAng="10800000" swAng="-5400000"/>
                              <a:lnTo>
                                <a:pt x="13420" y="58696"/>
                              </a:lnTo>
                              <a:arcTo wR="8180" hR="8180" stAng="5400000" swAng="-5400000"/>
                              <a:lnTo>
                                <a:pt x="21600" y="8180"/>
                              </a:lnTo>
                              <a:arcTo wR="8180" hR="8180" stAng="0" swAng="-5400000"/>
                              <a:close/>
                            </a:path>
                          </a:pathLst>
                        </a:custGeom>
                        <a:solidFill>
                          <a:srgbClr val="5f5f5f"/>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sp>
                  <p:nvSpPr>
                    <p:cNvPr id="288" name=""/>
                    <p:cNvSpPr/>
                    <p:nvPr/>
                  </p:nvSpPr>
                  <p:spPr>
                    <a:xfrm>
                      <a:off x="5996880" y="3070080"/>
                      <a:ext cx="39960" cy="344160"/>
                    </a:xfrm>
                    <a:custGeom>
                      <a:avLst/>
                      <a:gdLst/>
                      <a:ahLst/>
                      <a:rect l="l" t="t" r="r" b="b"/>
                      <a:pathLst>
                        <a:path w="29" h="237">
                          <a:moveTo>
                            <a:pt x="28" y="236"/>
                          </a:moveTo>
                          <a:lnTo>
                            <a:pt x="15" y="236"/>
                          </a:lnTo>
                          <a:lnTo>
                            <a:pt x="15" y="0"/>
                          </a:lnTo>
                          <a:lnTo>
                            <a:pt x="4" y="0"/>
                          </a:lnTo>
                          <a:lnTo>
                            <a:pt x="0" y="0"/>
                          </a:lnTo>
                        </a:path>
                      </a:pathLst>
                    </a:custGeom>
                    <a:noFill/>
                    <a:ln cap="rnd" w="12600">
                      <a:solidFill>
                        <a:srgbClr val="dfd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038640" y="3061440"/>
                      <a:ext cx="34560" cy="73800"/>
                    </a:xfrm>
                    <a:custGeom>
                      <a:avLst/>
                      <a:gdLst/>
                      <a:ahLst/>
                      <a:rect l="l" t="t" r="r" b="b"/>
                      <a:pathLst>
                        <a:path w="25" h="51">
                          <a:moveTo>
                            <a:pt x="1" y="45"/>
                          </a:moveTo>
                          <a:lnTo>
                            <a:pt x="24" y="50"/>
                          </a:lnTo>
                          <a:lnTo>
                            <a:pt x="24" y="5"/>
                          </a:lnTo>
                          <a:lnTo>
                            <a:pt x="0" y="0"/>
                          </a:lnTo>
                          <a:lnTo>
                            <a:pt x="1" y="45"/>
                          </a:lnTo>
                        </a:path>
                      </a:pathLst>
                    </a:custGeom>
                    <a:solidFill>
                      <a:srgbClr val="7f7f7f"/>
                    </a:solidFill>
                    <a:ln cap="rnd" w="12600">
                      <a:solidFill>
                        <a:srgbClr val="3f3f3f"/>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grpSp>
            </p:grpSp>
            <p:grpSp>
              <p:nvGrpSpPr>
                <p:cNvPr id="290" name=""/>
                <p:cNvGrpSpPr/>
                <p:nvPr/>
              </p:nvGrpSpPr>
              <p:grpSpPr>
                <a:xfrm>
                  <a:off x="5829480" y="3697920"/>
                  <a:ext cx="354960" cy="377640"/>
                  <a:chOff x="5829480" y="3697920"/>
                  <a:chExt cx="354960" cy="377640"/>
                </a:xfrm>
              </p:grpSpPr>
              <p:sp>
                <p:nvSpPr>
                  <p:cNvPr id="291" name=""/>
                  <p:cNvSpPr/>
                  <p:nvPr/>
                </p:nvSpPr>
                <p:spPr>
                  <a:xfrm>
                    <a:off x="5839200" y="3824640"/>
                    <a:ext cx="341280" cy="250920"/>
                  </a:xfrm>
                  <a:prstGeom prst="ellipse">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836320" y="3704040"/>
                    <a:ext cx="335880" cy="243720"/>
                  </a:xfrm>
                  <a:prstGeom prst="ellipse">
                    <a:avLst/>
                  </a:prstGeom>
                  <a:solidFill>
                    <a:srgbClr val="3f3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6039000" y="3699000"/>
                    <a:ext cx="145440" cy="252720"/>
                    <a:chOff x="6039000" y="3699000"/>
                    <a:chExt cx="145440" cy="252720"/>
                  </a:xfrm>
                </p:grpSpPr>
                <p:sp>
                  <p:nvSpPr>
                    <p:cNvPr id="294" name=""/>
                    <p:cNvSpPr/>
                    <p:nvPr/>
                  </p:nvSpPr>
                  <p:spPr>
                    <a:xfrm flipV="1">
                      <a:off x="6184440" y="382824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6176160" y="379260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V="1">
                      <a:off x="6166440" y="377496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6156720" y="375840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6147000" y="374724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6137280" y="37429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6127560" y="373392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116400" y="372996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V="1">
                      <a:off x="6105600" y="372240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6095520" y="371340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V="1">
                      <a:off x="6083280" y="371196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6073560" y="37051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6062400" y="37051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6051240" y="370368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6039000" y="369900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829480" y="3697920"/>
                    <a:ext cx="144360" cy="250920"/>
                    <a:chOff x="5829480" y="3697920"/>
                    <a:chExt cx="144360" cy="250920"/>
                  </a:xfrm>
                </p:grpSpPr>
                <p:sp>
                  <p:nvSpPr>
                    <p:cNvPr id="310" name=""/>
                    <p:cNvSpPr/>
                    <p:nvPr/>
                  </p:nvSpPr>
                  <p:spPr>
                    <a:xfrm flipV="1">
                      <a:off x="5829480" y="382536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V="1">
                      <a:off x="5837760" y="378972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5847480" y="377316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5855760" y="375480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5865480" y="3745440"/>
                      <a:ext cx="0" cy="12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5875200" y="374004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5884920" y="373104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5896080" y="372672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5906880" y="3721320"/>
                      <a:ext cx="0" cy="12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5918400" y="371340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5929200" y="3708360"/>
                      <a:ext cx="0" cy="12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5938920" y="370188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5949000" y="370188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V="1">
                      <a:off x="5961240" y="3701880"/>
                      <a:ext cx="0" cy="12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V="1">
                      <a:off x="5973840" y="3697920"/>
                      <a:ext cx="0" cy="12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5" name=""/>
                  <p:cNvSpPr/>
                  <p:nvPr/>
                </p:nvSpPr>
                <p:spPr>
                  <a:xfrm>
                    <a:off x="5836320" y="3780720"/>
                    <a:ext cx="335880" cy="244080"/>
                  </a:xfrm>
                  <a:prstGeom prst="ellipse">
                    <a:avLst/>
                  </a:prstGeom>
                  <a:solidFill>
                    <a:srgbClr val="3f3f3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832000" y="3821760"/>
                    <a:ext cx="344160" cy="251280"/>
                  </a:xfrm>
                  <a:prstGeom prst="ellipse">
                    <a:avLst/>
                  </a:prstGeom>
                  <a:solidFill>
                    <a:srgbClr val="3f3f3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865480" y="3821760"/>
                    <a:ext cx="277560" cy="197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884920" y="3822840"/>
                    <a:ext cx="246960" cy="151200"/>
                  </a:xfrm>
                  <a:prstGeom prst="ellipse">
                    <a:avLst/>
                  </a:prstGeom>
                  <a:solidFill>
                    <a:srgbClr val="7f7f7f"/>
                  </a:solidFill>
                  <a:ln w="12600">
                    <a:solidFill>
                      <a:srgbClr val="5f5f5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897160" y="3819960"/>
                    <a:ext cx="212400" cy="100440"/>
                  </a:xfrm>
                  <a:custGeom>
                    <a:avLst/>
                    <a:gdLst/>
                    <a:ahLst/>
                    <a:rect l="l" t="t" r="r" b="b"/>
                    <a:pathLst>
                      <a:path w="153" h="69">
                        <a:moveTo>
                          <a:pt x="0" y="23"/>
                        </a:moveTo>
                        <a:lnTo>
                          <a:pt x="2" y="28"/>
                        </a:lnTo>
                        <a:lnTo>
                          <a:pt x="6" y="35"/>
                        </a:lnTo>
                        <a:lnTo>
                          <a:pt x="11" y="41"/>
                        </a:lnTo>
                        <a:lnTo>
                          <a:pt x="17" y="48"/>
                        </a:lnTo>
                        <a:lnTo>
                          <a:pt x="24" y="53"/>
                        </a:lnTo>
                        <a:lnTo>
                          <a:pt x="30" y="57"/>
                        </a:lnTo>
                        <a:lnTo>
                          <a:pt x="38" y="60"/>
                        </a:lnTo>
                        <a:lnTo>
                          <a:pt x="49" y="64"/>
                        </a:lnTo>
                        <a:lnTo>
                          <a:pt x="59" y="67"/>
                        </a:lnTo>
                        <a:lnTo>
                          <a:pt x="72" y="68"/>
                        </a:lnTo>
                        <a:lnTo>
                          <a:pt x="81" y="68"/>
                        </a:lnTo>
                        <a:lnTo>
                          <a:pt x="91" y="68"/>
                        </a:lnTo>
                        <a:lnTo>
                          <a:pt x="100" y="66"/>
                        </a:lnTo>
                        <a:lnTo>
                          <a:pt x="110" y="62"/>
                        </a:lnTo>
                        <a:lnTo>
                          <a:pt x="119" y="57"/>
                        </a:lnTo>
                        <a:lnTo>
                          <a:pt x="128" y="52"/>
                        </a:lnTo>
                        <a:lnTo>
                          <a:pt x="135" y="45"/>
                        </a:lnTo>
                        <a:lnTo>
                          <a:pt x="141" y="38"/>
                        </a:lnTo>
                        <a:lnTo>
                          <a:pt x="147" y="29"/>
                        </a:lnTo>
                        <a:lnTo>
                          <a:pt x="152" y="19"/>
                        </a:lnTo>
                        <a:lnTo>
                          <a:pt x="128" y="9"/>
                        </a:lnTo>
                        <a:lnTo>
                          <a:pt x="111" y="4"/>
                        </a:lnTo>
                        <a:lnTo>
                          <a:pt x="92" y="0"/>
                        </a:lnTo>
                        <a:lnTo>
                          <a:pt x="73" y="0"/>
                        </a:lnTo>
                        <a:lnTo>
                          <a:pt x="49" y="2"/>
                        </a:lnTo>
                        <a:lnTo>
                          <a:pt x="28" y="6"/>
                        </a:lnTo>
                        <a:lnTo>
                          <a:pt x="8" y="15"/>
                        </a:lnTo>
                        <a:lnTo>
                          <a:pt x="0" y="23"/>
                        </a:lnTo>
                      </a:path>
                    </a:pathLst>
                  </a:custGeom>
                  <a:solidFill>
                    <a:srgbClr val="fff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839200" y="3828960"/>
                    <a:ext cx="330480" cy="235080"/>
                  </a:xfrm>
                  <a:prstGeom prst="ellipse">
                    <a:avLst/>
                  </a:prstGeom>
                  <a:noFill/>
                  <a:ln w="25560">
                    <a:solidFill>
                      <a:srgbClr val="9f9f9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31" name=""/>
            <p:cNvSpPr/>
            <p:nvPr/>
          </p:nvSpPr>
          <p:spPr>
            <a:xfrm>
              <a:off x="1080720" y="2701800"/>
              <a:ext cx="11646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ter</a:t>
              </a:r>
              <a:endParaRPr b="0" lang="en-US" sz="2400" spc="-1" strike="noStrike">
                <a:solidFill>
                  <a:srgbClr val="000000"/>
                </a:solidFill>
                <a:latin typeface="Times New Roman"/>
              </a:endParaRPr>
            </a:p>
          </p:txBody>
        </p:sp>
        <p:sp>
          <p:nvSpPr>
            <p:cNvPr id="332" name=""/>
            <p:cNvSpPr/>
            <p:nvPr/>
          </p:nvSpPr>
          <p:spPr>
            <a:xfrm>
              <a:off x="1805040" y="4562640"/>
              <a:ext cx="855720" cy="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1800360" y="3717720"/>
              <a:ext cx="0" cy="850680"/>
            </a:xfrm>
            <a:prstGeom prst="line">
              <a:avLst/>
            </a:prstGeom>
            <a:ln w="1260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205800" y="2911320"/>
              <a:ext cx="178920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ers</a:t>
              </a:r>
              <a:endParaRPr b="0" lang="en-US" sz="2400" spc="-1" strike="noStrike">
                <a:solidFill>
                  <a:srgbClr val="000000"/>
                </a:solidFill>
                <a:latin typeface="Times New Roman"/>
              </a:endParaRPr>
            </a:p>
          </p:txBody>
        </p:sp>
        <p:sp>
          <p:nvSpPr>
            <p:cNvPr id="335" name=""/>
            <p:cNvSpPr/>
            <p:nvPr/>
          </p:nvSpPr>
          <p:spPr>
            <a:xfrm flipV="1">
              <a:off x="2352600" y="2235240"/>
              <a:ext cx="0" cy="94752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352600" y="2235240"/>
              <a:ext cx="71460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81560" y="2017800"/>
              <a:ext cx="571680" cy="946080"/>
              <a:chOff x="5281560" y="2017800"/>
              <a:chExt cx="571680" cy="946080"/>
            </a:xfrm>
          </p:grpSpPr>
          <p:sp>
            <p:nvSpPr>
              <p:cNvPr id="338" name=""/>
              <p:cNvSpPr/>
              <p:nvPr/>
            </p:nvSpPr>
            <p:spPr>
              <a:xfrm>
                <a:off x="5281560" y="2017800"/>
                <a:ext cx="571680" cy="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853240" y="2017800"/>
                <a:ext cx="0" cy="94608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4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Prototype: Image Analysis</a:t>
            </a:r>
            <a:endParaRPr b="1" lang="en-US" sz="3200" spc="-1" strike="noStrike">
              <a:solidFill>
                <a:srgbClr val="fafd00"/>
              </a:solidFill>
              <a:latin typeface="Arial"/>
            </a:endParaRPr>
          </a:p>
        </p:txBody>
      </p:sp>
      <p:sp>
        <p:nvSpPr>
          <p:cNvPr id="341" name=""/>
          <p:cNvSpPr/>
          <p:nvPr/>
        </p:nvSpPr>
        <p:spPr>
          <a:xfrm>
            <a:off x="7996680" y="6507000"/>
            <a:ext cx="114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W. Humphr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42" name=""/>
          <p:cNvGrpSpPr/>
          <p:nvPr/>
        </p:nvGrpSpPr>
        <p:grpSpPr>
          <a:xfrm>
            <a:off x="1447920" y="1066680"/>
            <a:ext cx="7238880" cy="5029200"/>
            <a:chOff x="1447920" y="1066680"/>
            <a:chExt cx="7238880" cy="5029200"/>
          </a:xfrm>
        </p:grpSpPr>
        <p:sp>
          <p:nvSpPr>
            <p:cNvPr id="343" name=""/>
            <p:cNvSpPr/>
            <p:nvPr/>
          </p:nvSpPr>
          <p:spPr>
            <a:xfrm>
              <a:off x="1447920" y="1066680"/>
              <a:ext cx="7238880" cy="5024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4" name=""/>
            <p:cNvGrpSpPr/>
            <p:nvPr/>
          </p:nvGrpSpPr>
          <p:grpSpPr>
            <a:xfrm>
              <a:off x="1523880" y="1225440"/>
              <a:ext cx="7022880" cy="4870440"/>
              <a:chOff x="1523880" y="1225440"/>
              <a:chExt cx="7022880" cy="4870440"/>
            </a:xfrm>
          </p:grpSpPr>
          <p:pic>
            <p:nvPicPr>
              <p:cNvPr id="345" name="" descr=""/>
              <p:cNvPicPr/>
              <p:nvPr/>
            </p:nvPicPr>
            <p:blipFill>
              <a:blip r:embed="rId1"/>
              <a:stretch/>
            </p:blipFill>
            <p:spPr>
              <a:xfrm>
                <a:off x="1523880" y="1424160"/>
                <a:ext cx="6788160" cy="4671720"/>
              </a:xfrm>
              <a:prstGeom prst="rect">
                <a:avLst/>
              </a:prstGeom>
              <a:ln w="0">
                <a:noFill/>
              </a:ln>
            </p:spPr>
          </p:pic>
          <p:sp>
            <p:nvSpPr>
              <p:cNvPr id="346" name=""/>
              <p:cNvSpPr/>
              <p:nvPr/>
            </p:nvSpPr>
            <p:spPr>
              <a:xfrm>
                <a:off x="5079960" y="1225440"/>
                <a:ext cx="129852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mera</a:t>
                </a:r>
                <a:endParaRPr b="0" lang="en-US" sz="2400" spc="-1" strike="noStrike">
                  <a:solidFill>
                    <a:srgbClr val="000000"/>
                  </a:solidFill>
                  <a:latin typeface="Times New Roman"/>
                </a:endParaRPr>
              </a:p>
            </p:txBody>
          </p:sp>
          <p:sp>
            <p:nvSpPr>
              <p:cNvPr id="347" name=""/>
              <p:cNvSpPr/>
              <p:nvPr/>
            </p:nvSpPr>
            <p:spPr>
              <a:xfrm>
                <a:off x="6084720" y="1552680"/>
                <a:ext cx="238356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ghting Frame</a:t>
                </a:r>
                <a:endParaRPr b="0" lang="en-US" sz="2400" spc="-1" strike="noStrike">
                  <a:solidFill>
                    <a:srgbClr val="000000"/>
                  </a:solidFill>
                  <a:latin typeface="Times New Roman"/>
                </a:endParaRPr>
              </a:p>
            </p:txBody>
          </p:sp>
          <p:sp>
            <p:nvSpPr>
              <p:cNvPr id="348" name=""/>
              <p:cNvSpPr/>
              <p:nvPr/>
            </p:nvSpPr>
            <p:spPr>
              <a:xfrm>
                <a:off x="1530720" y="1790640"/>
                <a:ext cx="22298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y Unloader</a:t>
                </a:r>
                <a:endParaRPr b="0" lang="en-US" sz="2400" spc="-1" strike="noStrike">
                  <a:solidFill>
                    <a:srgbClr val="000000"/>
                  </a:solidFill>
                  <a:latin typeface="Times New Roman"/>
                </a:endParaRPr>
              </a:p>
            </p:txBody>
          </p:sp>
          <p:sp>
            <p:nvSpPr>
              <p:cNvPr id="349" name=""/>
              <p:cNvSpPr/>
              <p:nvPr/>
            </p:nvSpPr>
            <p:spPr>
              <a:xfrm>
                <a:off x="6553440" y="4527720"/>
                <a:ext cx="199332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aple Trays</a:t>
                </a:r>
                <a:endParaRPr b="0" lang="en-US" sz="2400" spc="-1" strike="noStrike">
                  <a:solidFill>
                    <a:srgbClr val="000000"/>
                  </a:solidFill>
                  <a:latin typeface="Times New Roman"/>
                </a:endParaRPr>
              </a:p>
            </p:txBody>
          </p:sp>
          <p:sp>
            <p:nvSpPr>
              <p:cNvPr id="350" name=""/>
              <p:cNvSpPr/>
              <p:nvPr/>
            </p:nvSpPr>
            <p:spPr>
              <a:xfrm>
                <a:off x="1543680" y="4890960"/>
                <a:ext cx="26366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s Rack</a:t>
                </a:r>
                <a:endParaRPr b="0" lang="en-US" sz="2400" spc="-1" strike="noStrike">
                  <a:solidFill>
                    <a:srgbClr val="000000"/>
                  </a:solidFill>
                  <a:latin typeface="Times New Roman"/>
                </a:endParaRPr>
              </a:p>
            </p:txBody>
          </p:sp>
          <p:sp>
            <p:nvSpPr>
              <p:cNvPr id="351" name=""/>
              <p:cNvSpPr/>
              <p:nvPr/>
            </p:nvSpPr>
            <p:spPr>
              <a:xfrm>
                <a:off x="2104920" y="2060640"/>
                <a:ext cx="493920" cy="1298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4806720" y="1422360"/>
                <a:ext cx="322200" cy="10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5478480" y="1836720"/>
                <a:ext cx="650880" cy="4507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6994080" y="3484440"/>
                <a:ext cx="258840" cy="1076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2879640" y="4519080"/>
                <a:ext cx="1363680" cy="3970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5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mmercial Prototype</a:t>
            </a:r>
            <a:endParaRPr b="1" lang="en-US" sz="3200" spc="-1" strike="noStrike">
              <a:solidFill>
                <a:srgbClr val="fafd00"/>
              </a:solidFill>
              <a:latin typeface="Arial"/>
            </a:endParaRPr>
          </a:p>
        </p:txBody>
      </p:sp>
      <p:sp>
        <p:nvSpPr>
          <p:cNvPr id="357" name=""/>
          <p:cNvSpPr/>
          <p:nvPr/>
        </p:nvSpPr>
        <p:spPr>
          <a:xfrm>
            <a:off x="7990200" y="6507000"/>
            <a:ext cx="114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W. Humphri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358" name=""/>
          <p:cNvGrpSpPr/>
          <p:nvPr/>
        </p:nvGrpSpPr>
        <p:grpSpPr>
          <a:xfrm>
            <a:off x="1066680" y="1219320"/>
            <a:ext cx="8077320" cy="4952520"/>
            <a:chOff x="1066680" y="1219320"/>
            <a:chExt cx="8077320" cy="4952520"/>
          </a:xfrm>
        </p:grpSpPr>
        <p:sp>
          <p:nvSpPr>
            <p:cNvPr id="359" name=""/>
            <p:cNvSpPr/>
            <p:nvPr/>
          </p:nvSpPr>
          <p:spPr>
            <a:xfrm>
              <a:off x="1067760" y="4174920"/>
              <a:ext cx="272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99"/>
                  </a:solidFill>
                  <a:latin typeface="Arial"/>
                </a:rPr>
                <a:t>Crimp Patterns</a:t>
              </a:r>
              <a:endParaRPr b="0" lang="en-US" sz="2800" spc="-1" strike="noStrike">
                <a:solidFill>
                  <a:srgbClr val="000000"/>
                </a:solidFill>
                <a:latin typeface="Times New Roman"/>
              </a:endParaRPr>
            </a:p>
          </p:txBody>
        </p:sp>
        <p:sp>
          <p:nvSpPr>
            <p:cNvPr id="360" name=""/>
            <p:cNvSpPr/>
            <p:nvPr/>
          </p:nvSpPr>
          <p:spPr>
            <a:xfrm>
              <a:off x="4230720" y="4144680"/>
              <a:ext cx="4645080" cy="750600"/>
            </a:xfrm>
            <a:custGeom>
              <a:avLst/>
              <a:gdLst/>
              <a:ahLst/>
              <a:rect l="l" t="t" r="r" b="b"/>
              <a:pathLst>
                <a:path w="2605" h="426">
                  <a:moveTo>
                    <a:pt x="12" y="115"/>
                  </a:moveTo>
                  <a:lnTo>
                    <a:pt x="12" y="93"/>
                  </a:lnTo>
                  <a:lnTo>
                    <a:pt x="34" y="72"/>
                  </a:lnTo>
                  <a:lnTo>
                    <a:pt x="48" y="50"/>
                  </a:lnTo>
                  <a:lnTo>
                    <a:pt x="70" y="29"/>
                  </a:lnTo>
                  <a:lnTo>
                    <a:pt x="98" y="14"/>
                  </a:lnTo>
                  <a:lnTo>
                    <a:pt x="120" y="0"/>
                  </a:lnTo>
                  <a:lnTo>
                    <a:pt x="149" y="0"/>
                  </a:lnTo>
                  <a:lnTo>
                    <a:pt x="185" y="7"/>
                  </a:lnTo>
                  <a:lnTo>
                    <a:pt x="214" y="7"/>
                  </a:lnTo>
                  <a:lnTo>
                    <a:pt x="242" y="7"/>
                  </a:lnTo>
                  <a:lnTo>
                    <a:pt x="264" y="14"/>
                  </a:lnTo>
                  <a:lnTo>
                    <a:pt x="293" y="14"/>
                  </a:lnTo>
                  <a:lnTo>
                    <a:pt x="331" y="17"/>
                  </a:lnTo>
                  <a:lnTo>
                    <a:pt x="365" y="29"/>
                  </a:lnTo>
                  <a:lnTo>
                    <a:pt x="394" y="43"/>
                  </a:lnTo>
                  <a:lnTo>
                    <a:pt x="416" y="50"/>
                  </a:lnTo>
                  <a:lnTo>
                    <a:pt x="444" y="50"/>
                  </a:lnTo>
                  <a:lnTo>
                    <a:pt x="466" y="50"/>
                  </a:lnTo>
                  <a:lnTo>
                    <a:pt x="495" y="50"/>
                  </a:lnTo>
                  <a:lnTo>
                    <a:pt x="524" y="50"/>
                  </a:lnTo>
                  <a:lnTo>
                    <a:pt x="552" y="50"/>
                  </a:lnTo>
                  <a:lnTo>
                    <a:pt x="581" y="57"/>
                  </a:lnTo>
                  <a:lnTo>
                    <a:pt x="603" y="57"/>
                  </a:lnTo>
                  <a:lnTo>
                    <a:pt x="632" y="57"/>
                  </a:lnTo>
                  <a:lnTo>
                    <a:pt x="668" y="65"/>
                  </a:lnTo>
                  <a:lnTo>
                    <a:pt x="720" y="65"/>
                  </a:lnTo>
                  <a:lnTo>
                    <a:pt x="761" y="67"/>
                  </a:lnTo>
                  <a:lnTo>
                    <a:pt x="797" y="62"/>
                  </a:lnTo>
                  <a:lnTo>
                    <a:pt x="819" y="62"/>
                  </a:lnTo>
                  <a:lnTo>
                    <a:pt x="845" y="50"/>
                  </a:lnTo>
                  <a:lnTo>
                    <a:pt x="884" y="45"/>
                  </a:lnTo>
                  <a:lnTo>
                    <a:pt x="915" y="50"/>
                  </a:lnTo>
                  <a:lnTo>
                    <a:pt x="941" y="50"/>
                  </a:lnTo>
                  <a:lnTo>
                    <a:pt x="963" y="41"/>
                  </a:lnTo>
                  <a:lnTo>
                    <a:pt x="987" y="38"/>
                  </a:lnTo>
                  <a:lnTo>
                    <a:pt x="1011" y="38"/>
                  </a:lnTo>
                  <a:lnTo>
                    <a:pt x="1042" y="41"/>
                  </a:lnTo>
                  <a:lnTo>
                    <a:pt x="1071" y="43"/>
                  </a:lnTo>
                  <a:lnTo>
                    <a:pt x="1107" y="43"/>
                  </a:lnTo>
                  <a:lnTo>
                    <a:pt x="1136" y="43"/>
                  </a:lnTo>
                  <a:lnTo>
                    <a:pt x="1164" y="50"/>
                  </a:lnTo>
                  <a:lnTo>
                    <a:pt x="1186" y="57"/>
                  </a:lnTo>
                  <a:lnTo>
                    <a:pt x="1208" y="57"/>
                  </a:lnTo>
                  <a:lnTo>
                    <a:pt x="1236" y="57"/>
                  </a:lnTo>
                  <a:lnTo>
                    <a:pt x="1258" y="57"/>
                  </a:lnTo>
                  <a:lnTo>
                    <a:pt x="1287" y="50"/>
                  </a:lnTo>
                  <a:lnTo>
                    <a:pt x="1316" y="50"/>
                  </a:lnTo>
                  <a:lnTo>
                    <a:pt x="1352" y="57"/>
                  </a:lnTo>
                  <a:lnTo>
                    <a:pt x="1388" y="50"/>
                  </a:lnTo>
                  <a:lnTo>
                    <a:pt x="1416" y="50"/>
                  </a:lnTo>
                  <a:lnTo>
                    <a:pt x="1445" y="57"/>
                  </a:lnTo>
                  <a:lnTo>
                    <a:pt x="1474" y="57"/>
                  </a:lnTo>
                  <a:lnTo>
                    <a:pt x="1503" y="57"/>
                  </a:lnTo>
                  <a:lnTo>
                    <a:pt x="1546" y="57"/>
                  </a:lnTo>
                  <a:lnTo>
                    <a:pt x="1568" y="57"/>
                  </a:lnTo>
                  <a:lnTo>
                    <a:pt x="1604" y="57"/>
                  </a:lnTo>
                  <a:lnTo>
                    <a:pt x="1647" y="57"/>
                  </a:lnTo>
                  <a:lnTo>
                    <a:pt x="1683" y="57"/>
                  </a:lnTo>
                  <a:lnTo>
                    <a:pt x="1719" y="65"/>
                  </a:lnTo>
                  <a:lnTo>
                    <a:pt x="1748" y="65"/>
                  </a:lnTo>
                  <a:lnTo>
                    <a:pt x="1776" y="65"/>
                  </a:lnTo>
                  <a:lnTo>
                    <a:pt x="1805" y="65"/>
                  </a:lnTo>
                  <a:lnTo>
                    <a:pt x="1827" y="65"/>
                  </a:lnTo>
                  <a:lnTo>
                    <a:pt x="1875" y="65"/>
                  </a:lnTo>
                  <a:lnTo>
                    <a:pt x="1913" y="60"/>
                  </a:lnTo>
                  <a:lnTo>
                    <a:pt x="1964" y="57"/>
                  </a:lnTo>
                  <a:lnTo>
                    <a:pt x="2021" y="57"/>
                  </a:lnTo>
                  <a:lnTo>
                    <a:pt x="2043" y="50"/>
                  </a:lnTo>
                  <a:lnTo>
                    <a:pt x="2072" y="50"/>
                  </a:lnTo>
                  <a:lnTo>
                    <a:pt x="2108" y="57"/>
                  </a:lnTo>
                  <a:lnTo>
                    <a:pt x="2144" y="50"/>
                  </a:lnTo>
                  <a:lnTo>
                    <a:pt x="2172" y="43"/>
                  </a:lnTo>
                  <a:lnTo>
                    <a:pt x="2194" y="43"/>
                  </a:lnTo>
                  <a:lnTo>
                    <a:pt x="2216" y="43"/>
                  </a:lnTo>
                  <a:lnTo>
                    <a:pt x="2252" y="43"/>
                  </a:lnTo>
                  <a:lnTo>
                    <a:pt x="2280" y="43"/>
                  </a:lnTo>
                  <a:lnTo>
                    <a:pt x="2302" y="43"/>
                  </a:lnTo>
                  <a:lnTo>
                    <a:pt x="2324" y="43"/>
                  </a:lnTo>
                  <a:lnTo>
                    <a:pt x="2352" y="43"/>
                  </a:lnTo>
                  <a:lnTo>
                    <a:pt x="2374" y="43"/>
                  </a:lnTo>
                  <a:lnTo>
                    <a:pt x="2396" y="43"/>
                  </a:lnTo>
                  <a:lnTo>
                    <a:pt x="2424" y="43"/>
                  </a:lnTo>
                  <a:lnTo>
                    <a:pt x="2446" y="43"/>
                  </a:lnTo>
                  <a:lnTo>
                    <a:pt x="2468" y="43"/>
                  </a:lnTo>
                  <a:lnTo>
                    <a:pt x="2496" y="50"/>
                  </a:lnTo>
                  <a:lnTo>
                    <a:pt x="2518" y="57"/>
                  </a:lnTo>
                  <a:lnTo>
                    <a:pt x="2540" y="57"/>
                  </a:lnTo>
                  <a:lnTo>
                    <a:pt x="2561" y="86"/>
                  </a:lnTo>
                  <a:lnTo>
                    <a:pt x="2583" y="93"/>
                  </a:lnTo>
                  <a:lnTo>
                    <a:pt x="2590" y="115"/>
                  </a:lnTo>
                  <a:lnTo>
                    <a:pt x="2604" y="137"/>
                  </a:lnTo>
                  <a:lnTo>
                    <a:pt x="2597" y="165"/>
                  </a:lnTo>
                  <a:lnTo>
                    <a:pt x="2568" y="173"/>
                  </a:lnTo>
                  <a:lnTo>
                    <a:pt x="2547" y="201"/>
                  </a:lnTo>
                  <a:lnTo>
                    <a:pt x="2547" y="223"/>
                  </a:lnTo>
                  <a:lnTo>
                    <a:pt x="2540" y="245"/>
                  </a:lnTo>
                  <a:lnTo>
                    <a:pt x="2518" y="266"/>
                  </a:lnTo>
                  <a:lnTo>
                    <a:pt x="2511" y="288"/>
                  </a:lnTo>
                  <a:lnTo>
                    <a:pt x="2496" y="317"/>
                  </a:lnTo>
                  <a:lnTo>
                    <a:pt x="2496" y="345"/>
                  </a:lnTo>
                  <a:lnTo>
                    <a:pt x="2496" y="367"/>
                  </a:lnTo>
                  <a:lnTo>
                    <a:pt x="2475" y="389"/>
                  </a:lnTo>
                  <a:lnTo>
                    <a:pt x="2453" y="396"/>
                  </a:lnTo>
                  <a:lnTo>
                    <a:pt x="2424" y="410"/>
                  </a:lnTo>
                  <a:lnTo>
                    <a:pt x="2396" y="410"/>
                  </a:lnTo>
                  <a:lnTo>
                    <a:pt x="2374" y="417"/>
                  </a:lnTo>
                  <a:lnTo>
                    <a:pt x="2352" y="425"/>
                  </a:lnTo>
                  <a:lnTo>
                    <a:pt x="2324" y="425"/>
                  </a:lnTo>
                  <a:lnTo>
                    <a:pt x="2295" y="417"/>
                  </a:lnTo>
                  <a:lnTo>
                    <a:pt x="2273" y="410"/>
                  </a:lnTo>
                  <a:lnTo>
                    <a:pt x="2244" y="410"/>
                  </a:lnTo>
                  <a:lnTo>
                    <a:pt x="2216" y="410"/>
                  </a:lnTo>
                  <a:lnTo>
                    <a:pt x="2180" y="410"/>
                  </a:lnTo>
                  <a:lnTo>
                    <a:pt x="2158" y="403"/>
                  </a:lnTo>
                  <a:lnTo>
                    <a:pt x="2136" y="403"/>
                  </a:lnTo>
                  <a:lnTo>
                    <a:pt x="2108" y="403"/>
                  </a:lnTo>
                  <a:lnTo>
                    <a:pt x="2086" y="403"/>
                  </a:lnTo>
                  <a:lnTo>
                    <a:pt x="2064" y="396"/>
                  </a:lnTo>
                  <a:lnTo>
                    <a:pt x="2036" y="389"/>
                  </a:lnTo>
                  <a:lnTo>
                    <a:pt x="2007" y="389"/>
                  </a:lnTo>
                  <a:lnTo>
                    <a:pt x="1978" y="389"/>
                  </a:lnTo>
                  <a:lnTo>
                    <a:pt x="1949" y="389"/>
                  </a:lnTo>
                  <a:lnTo>
                    <a:pt x="1920" y="381"/>
                  </a:lnTo>
                  <a:lnTo>
                    <a:pt x="1892" y="374"/>
                  </a:lnTo>
                  <a:lnTo>
                    <a:pt x="1863" y="367"/>
                  </a:lnTo>
                  <a:lnTo>
                    <a:pt x="1834" y="360"/>
                  </a:lnTo>
                  <a:lnTo>
                    <a:pt x="1812" y="360"/>
                  </a:lnTo>
                  <a:lnTo>
                    <a:pt x="1776" y="353"/>
                  </a:lnTo>
                  <a:lnTo>
                    <a:pt x="1748" y="353"/>
                  </a:lnTo>
                  <a:lnTo>
                    <a:pt x="1719" y="353"/>
                  </a:lnTo>
                  <a:lnTo>
                    <a:pt x="1697" y="353"/>
                  </a:lnTo>
                  <a:lnTo>
                    <a:pt x="1668" y="353"/>
                  </a:lnTo>
                  <a:lnTo>
                    <a:pt x="1640" y="353"/>
                  </a:lnTo>
                  <a:lnTo>
                    <a:pt x="1611" y="353"/>
                  </a:lnTo>
                  <a:lnTo>
                    <a:pt x="1589" y="353"/>
                  </a:lnTo>
                  <a:lnTo>
                    <a:pt x="1553" y="353"/>
                  </a:lnTo>
                  <a:lnTo>
                    <a:pt x="1524" y="353"/>
                  </a:lnTo>
                  <a:lnTo>
                    <a:pt x="1488" y="353"/>
                  </a:lnTo>
                  <a:lnTo>
                    <a:pt x="1460" y="353"/>
                  </a:lnTo>
                  <a:lnTo>
                    <a:pt x="1438" y="345"/>
                  </a:lnTo>
                  <a:lnTo>
                    <a:pt x="1402" y="345"/>
                  </a:lnTo>
                  <a:lnTo>
                    <a:pt x="1373" y="331"/>
                  </a:lnTo>
                  <a:lnTo>
                    <a:pt x="1337" y="324"/>
                  </a:lnTo>
                  <a:lnTo>
                    <a:pt x="1301" y="317"/>
                  </a:lnTo>
                  <a:lnTo>
                    <a:pt x="1272" y="302"/>
                  </a:lnTo>
                  <a:lnTo>
                    <a:pt x="1236" y="295"/>
                  </a:lnTo>
                  <a:lnTo>
                    <a:pt x="1200" y="288"/>
                  </a:lnTo>
                  <a:lnTo>
                    <a:pt x="1172" y="288"/>
                  </a:lnTo>
                  <a:lnTo>
                    <a:pt x="1143" y="288"/>
                  </a:lnTo>
                  <a:lnTo>
                    <a:pt x="1114" y="295"/>
                  </a:lnTo>
                  <a:lnTo>
                    <a:pt x="1078" y="295"/>
                  </a:lnTo>
                  <a:lnTo>
                    <a:pt x="1049" y="295"/>
                  </a:lnTo>
                  <a:lnTo>
                    <a:pt x="1020" y="295"/>
                  </a:lnTo>
                  <a:lnTo>
                    <a:pt x="984" y="288"/>
                  </a:lnTo>
                  <a:lnTo>
                    <a:pt x="948" y="273"/>
                  </a:lnTo>
                  <a:lnTo>
                    <a:pt x="920" y="266"/>
                  </a:lnTo>
                  <a:lnTo>
                    <a:pt x="891" y="259"/>
                  </a:lnTo>
                  <a:lnTo>
                    <a:pt x="855" y="259"/>
                  </a:lnTo>
                  <a:lnTo>
                    <a:pt x="819" y="266"/>
                  </a:lnTo>
                  <a:lnTo>
                    <a:pt x="790" y="273"/>
                  </a:lnTo>
                  <a:lnTo>
                    <a:pt x="761" y="288"/>
                  </a:lnTo>
                  <a:lnTo>
                    <a:pt x="732" y="295"/>
                  </a:lnTo>
                  <a:lnTo>
                    <a:pt x="704" y="302"/>
                  </a:lnTo>
                  <a:lnTo>
                    <a:pt x="682" y="295"/>
                  </a:lnTo>
                  <a:lnTo>
                    <a:pt x="653" y="288"/>
                  </a:lnTo>
                  <a:lnTo>
                    <a:pt x="624" y="281"/>
                  </a:lnTo>
                  <a:lnTo>
                    <a:pt x="596" y="273"/>
                  </a:lnTo>
                  <a:lnTo>
                    <a:pt x="567" y="273"/>
                  </a:lnTo>
                  <a:lnTo>
                    <a:pt x="531" y="266"/>
                  </a:lnTo>
                  <a:lnTo>
                    <a:pt x="502" y="266"/>
                  </a:lnTo>
                  <a:lnTo>
                    <a:pt x="480" y="259"/>
                  </a:lnTo>
                  <a:lnTo>
                    <a:pt x="452" y="259"/>
                  </a:lnTo>
                  <a:lnTo>
                    <a:pt x="430" y="259"/>
                  </a:lnTo>
                  <a:lnTo>
                    <a:pt x="401" y="252"/>
                  </a:lnTo>
                  <a:lnTo>
                    <a:pt x="365" y="252"/>
                  </a:lnTo>
                  <a:lnTo>
                    <a:pt x="336" y="252"/>
                  </a:lnTo>
                  <a:lnTo>
                    <a:pt x="300" y="252"/>
                  </a:lnTo>
                  <a:lnTo>
                    <a:pt x="271" y="259"/>
                  </a:lnTo>
                  <a:lnTo>
                    <a:pt x="242" y="266"/>
                  </a:lnTo>
                  <a:lnTo>
                    <a:pt x="214" y="266"/>
                  </a:lnTo>
                  <a:lnTo>
                    <a:pt x="185" y="259"/>
                  </a:lnTo>
                  <a:lnTo>
                    <a:pt x="156" y="259"/>
                  </a:lnTo>
                  <a:lnTo>
                    <a:pt x="127" y="252"/>
                  </a:lnTo>
                  <a:lnTo>
                    <a:pt x="82" y="245"/>
                  </a:lnTo>
                  <a:lnTo>
                    <a:pt x="55" y="240"/>
                  </a:lnTo>
                  <a:lnTo>
                    <a:pt x="24" y="230"/>
                  </a:lnTo>
                  <a:lnTo>
                    <a:pt x="5" y="197"/>
                  </a:lnTo>
                  <a:lnTo>
                    <a:pt x="0" y="163"/>
                  </a:lnTo>
                  <a:lnTo>
                    <a:pt x="5" y="134"/>
                  </a:lnTo>
                  <a:lnTo>
                    <a:pt x="7" y="113"/>
                  </a:lnTo>
                </a:path>
              </a:pathLst>
            </a:custGeom>
            <a:solidFill>
              <a:srgbClr val="ffffff"/>
            </a:solidFill>
            <a:ln cap="rnd"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110120" y="4308480"/>
              <a:ext cx="4840200" cy="1080"/>
            </a:xfrm>
            <a:prstGeom prst="line">
              <a:avLst/>
            </a:prstGeom>
            <a:ln w="12600">
              <a:solidFill>
                <a:srgbClr val="ff66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2" name=""/>
            <p:cNvSpPr/>
            <p:nvPr/>
          </p:nvSpPr>
          <p:spPr>
            <a:xfrm>
              <a:off x="4121280" y="4386240"/>
              <a:ext cx="486540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110120" y="4487760"/>
              <a:ext cx="48639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057560" y="4576680"/>
              <a:ext cx="48135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145040" y="4641840"/>
              <a:ext cx="479088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145040" y="4208400"/>
              <a:ext cx="4713120" cy="1080"/>
            </a:xfrm>
            <a:prstGeom prst="line">
              <a:avLst/>
            </a:prstGeom>
            <a:ln w="12600">
              <a:solidFill>
                <a:srgbClr val="ff66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67" name=""/>
            <p:cNvSpPr/>
            <p:nvPr/>
          </p:nvSpPr>
          <p:spPr>
            <a:xfrm>
              <a:off x="4159080" y="4728960"/>
              <a:ext cx="475164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237200" y="4819680"/>
              <a:ext cx="46083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121280" y="4906800"/>
              <a:ext cx="478944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0" name=""/>
            <p:cNvGrpSpPr/>
            <p:nvPr/>
          </p:nvGrpSpPr>
          <p:grpSpPr>
            <a:xfrm>
              <a:off x="1066680" y="1219320"/>
              <a:ext cx="8077320" cy="2518920"/>
              <a:chOff x="1066680" y="1219320"/>
              <a:chExt cx="8077320" cy="2518920"/>
            </a:xfrm>
          </p:grpSpPr>
          <p:sp>
            <p:nvSpPr>
              <p:cNvPr id="371" name=""/>
              <p:cNvSpPr/>
              <p:nvPr/>
            </p:nvSpPr>
            <p:spPr>
              <a:xfrm>
                <a:off x="1066680" y="1428480"/>
                <a:ext cx="30355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99"/>
                    </a:solidFill>
                    <a:latin typeface="Arial"/>
                  </a:rPr>
                  <a:t>Size and Shape</a:t>
                </a:r>
                <a:endParaRPr b="0" lang="en-US" sz="2800" spc="-1" strike="noStrike">
                  <a:solidFill>
                    <a:srgbClr val="000000"/>
                  </a:solidFill>
                  <a:latin typeface="Times New Roman"/>
                </a:endParaRPr>
              </a:p>
            </p:txBody>
          </p:sp>
          <p:sp>
            <p:nvSpPr>
              <p:cNvPr id="372" name=""/>
              <p:cNvSpPr/>
              <p:nvPr/>
            </p:nvSpPr>
            <p:spPr>
              <a:xfrm>
                <a:off x="1067760" y="2886120"/>
                <a:ext cx="2530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99"/>
                    </a:solidFill>
                    <a:latin typeface="Arial"/>
                  </a:rPr>
                  <a:t>Colour Profile</a:t>
                </a:r>
                <a:endParaRPr b="0" lang="en-US" sz="2800" spc="-1" strike="noStrike">
                  <a:solidFill>
                    <a:srgbClr val="000000"/>
                  </a:solidFill>
                  <a:latin typeface="Times New Roman"/>
                </a:endParaRPr>
              </a:p>
            </p:txBody>
          </p:sp>
          <p:sp>
            <p:nvSpPr>
              <p:cNvPr id="373" name=""/>
              <p:cNvSpPr/>
              <p:nvPr/>
            </p:nvSpPr>
            <p:spPr>
              <a:xfrm>
                <a:off x="3871800" y="1219320"/>
                <a:ext cx="5268960" cy="1037880"/>
              </a:xfrm>
              <a:prstGeom prst="rect">
                <a:avLst/>
              </a:prstGeom>
              <a:noFill/>
              <a:ln w="1260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71800" y="1325520"/>
                <a:ext cx="52689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875040" y="1411200"/>
                <a:ext cx="52689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3875040" y="1495440"/>
                <a:ext cx="5256360" cy="29520"/>
              </a:xfrm>
              <a:prstGeom prst="line">
                <a:avLst/>
              </a:prstGeom>
              <a:ln w="12600">
                <a:solidFill>
                  <a:srgbClr val="ff66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377" name=""/>
              <p:cNvSpPr/>
              <p:nvPr/>
            </p:nvSpPr>
            <p:spPr>
              <a:xfrm>
                <a:off x="3884760" y="1630080"/>
                <a:ext cx="5246640" cy="1440"/>
              </a:xfrm>
              <a:prstGeom prst="line">
                <a:avLst/>
              </a:prstGeom>
              <a:ln w="12600">
                <a:solidFill>
                  <a:srgbClr val="ff66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8" name=""/>
              <p:cNvSpPr/>
              <p:nvPr/>
            </p:nvSpPr>
            <p:spPr>
              <a:xfrm flipV="1">
                <a:off x="3882960" y="1734840"/>
                <a:ext cx="5251680" cy="15840"/>
              </a:xfrm>
              <a:prstGeom prst="line">
                <a:avLst/>
              </a:prstGeom>
              <a:ln w="12600">
                <a:solidFill>
                  <a:srgbClr val="ff66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379" name=""/>
              <p:cNvSpPr/>
              <p:nvPr/>
            </p:nvSpPr>
            <p:spPr>
              <a:xfrm>
                <a:off x="3882960" y="1857240"/>
                <a:ext cx="52563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75040" y="1963440"/>
                <a:ext cx="52563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75040" y="2058840"/>
                <a:ext cx="5256360" cy="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3875040" y="2158560"/>
                <a:ext cx="5265720" cy="15480"/>
              </a:xfrm>
              <a:prstGeom prst="line">
                <a:avLst/>
              </a:prstGeom>
              <a:ln w="12600">
                <a:solidFill>
                  <a:srgbClr val="ff66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83" name=""/>
              <p:cNvSpPr/>
              <p:nvPr/>
            </p:nvSpPr>
            <p:spPr>
              <a:xfrm>
                <a:off x="4202280" y="1380960"/>
                <a:ext cx="4767120" cy="750600"/>
              </a:xfrm>
              <a:custGeom>
                <a:avLst/>
                <a:gdLst/>
                <a:ahLst/>
                <a:rect l="l" t="t" r="r" b="b"/>
                <a:pathLst>
                  <a:path w="2673" h="426">
                    <a:moveTo>
                      <a:pt x="12" y="115"/>
                    </a:moveTo>
                    <a:lnTo>
                      <a:pt x="12" y="93"/>
                    </a:lnTo>
                    <a:lnTo>
                      <a:pt x="35" y="72"/>
                    </a:lnTo>
                    <a:lnTo>
                      <a:pt x="49" y="50"/>
                    </a:lnTo>
                    <a:lnTo>
                      <a:pt x="72" y="29"/>
                    </a:lnTo>
                    <a:lnTo>
                      <a:pt x="101" y="14"/>
                    </a:lnTo>
                    <a:lnTo>
                      <a:pt x="123" y="0"/>
                    </a:lnTo>
                    <a:lnTo>
                      <a:pt x="153" y="0"/>
                    </a:lnTo>
                    <a:lnTo>
                      <a:pt x="190" y="7"/>
                    </a:lnTo>
                    <a:lnTo>
                      <a:pt x="220" y="7"/>
                    </a:lnTo>
                    <a:lnTo>
                      <a:pt x="248" y="7"/>
                    </a:lnTo>
                    <a:lnTo>
                      <a:pt x="271" y="14"/>
                    </a:lnTo>
                    <a:lnTo>
                      <a:pt x="301" y="14"/>
                    </a:lnTo>
                    <a:lnTo>
                      <a:pt x="340" y="17"/>
                    </a:lnTo>
                    <a:lnTo>
                      <a:pt x="375" y="29"/>
                    </a:lnTo>
                    <a:lnTo>
                      <a:pt x="404" y="43"/>
                    </a:lnTo>
                    <a:lnTo>
                      <a:pt x="427" y="50"/>
                    </a:lnTo>
                    <a:lnTo>
                      <a:pt x="456" y="50"/>
                    </a:lnTo>
                    <a:lnTo>
                      <a:pt x="478" y="50"/>
                    </a:lnTo>
                    <a:lnTo>
                      <a:pt x="508" y="50"/>
                    </a:lnTo>
                    <a:lnTo>
                      <a:pt x="538" y="50"/>
                    </a:lnTo>
                    <a:lnTo>
                      <a:pt x="566" y="50"/>
                    </a:lnTo>
                    <a:lnTo>
                      <a:pt x="596" y="57"/>
                    </a:lnTo>
                    <a:lnTo>
                      <a:pt x="619" y="57"/>
                    </a:lnTo>
                    <a:lnTo>
                      <a:pt x="649" y="57"/>
                    </a:lnTo>
                    <a:lnTo>
                      <a:pt x="685" y="65"/>
                    </a:lnTo>
                    <a:lnTo>
                      <a:pt x="739" y="65"/>
                    </a:lnTo>
                    <a:lnTo>
                      <a:pt x="781" y="67"/>
                    </a:lnTo>
                    <a:lnTo>
                      <a:pt x="818" y="62"/>
                    </a:lnTo>
                    <a:lnTo>
                      <a:pt x="840" y="62"/>
                    </a:lnTo>
                    <a:lnTo>
                      <a:pt x="867" y="50"/>
                    </a:lnTo>
                    <a:lnTo>
                      <a:pt x="907" y="45"/>
                    </a:lnTo>
                    <a:lnTo>
                      <a:pt x="939" y="50"/>
                    </a:lnTo>
                    <a:lnTo>
                      <a:pt x="966" y="50"/>
                    </a:lnTo>
                    <a:lnTo>
                      <a:pt x="988" y="41"/>
                    </a:lnTo>
                    <a:lnTo>
                      <a:pt x="1013" y="38"/>
                    </a:lnTo>
                    <a:lnTo>
                      <a:pt x="1037" y="38"/>
                    </a:lnTo>
                    <a:lnTo>
                      <a:pt x="1069" y="41"/>
                    </a:lnTo>
                    <a:lnTo>
                      <a:pt x="1099" y="43"/>
                    </a:lnTo>
                    <a:lnTo>
                      <a:pt x="1136" y="43"/>
                    </a:lnTo>
                    <a:lnTo>
                      <a:pt x="1166" y="43"/>
                    </a:lnTo>
                    <a:lnTo>
                      <a:pt x="1194" y="50"/>
                    </a:lnTo>
                    <a:lnTo>
                      <a:pt x="1217" y="57"/>
                    </a:lnTo>
                    <a:lnTo>
                      <a:pt x="1240" y="57"/>
                    </a:lnTo>
                    <a:lnTo>
                      <a:pt x="1268" y="57"/>
                    </a:lnTo>
                    <a:lnTo>
                      <a:pt x="1291" y="57"/>
                    </a:lnTo>
                    <a:lnTo>
                      <a:pt x="1321" y="50"/>
                    </a:lnTo>
                    <a:lnTo>
                      <a:pt x="1350" y="50"/>
                    </a:lnTo>
                    <a:lnTo>
                      <a:pt x="1387" y="57"/>
                    </a:lnTo>
                    <a:lnTo>
                      <a:pt x="1424" y="50"/>
                    </a:lnTo>
                    <a:lnTo>
                      <a:pt x="1453" y="50"/>
                    </a:lnTo>
                    <a:lnTo>
                      <a:pt x="1483" y="57"/>
                    </a:lnTo>
                    <a:lnTo>
                      <a:pt x="1512" y="57"/>
                    </a:lnTo>
                    <a:lnTo>
                      <a:pt x="1542" y="57"/>
                    </a:lnTo>
                    <a:lnTo>
                      <a:pt x="1586" y="57"/>
                    </a:lnTo>
                    <a:lnTo>
                      <a:pt x="1609" y="57"/>
                    </a:lnTo>
                    <a:lnTo>
                      <a:pt x="1646" y="57"/>
                    </a:lnTo>
                    <a:lnTo>
                      <a:pt x="1690" y="57"/>
                    </a:lnTo>
                    <a:lnTo>
                      <a:pt x="1727" y="57"/>
                    </a:lnTo>
                    <a:lnTo>
                      <a:pt x="1764" y="65"/>
                    </a:lnTo>
                    <a:lnTo>
                      <a:pt x="1794" y="65"/>
                    </a:lnTo>
                    <a:lnTo>
                      <a:pt x="1822" y="65"/>
                    </a:lnTo>
                    <a:lnTo>
                      <a:pt x="1852" y="65"/>
                    </a:lnTo>
                    <a:lnTo>
                      <a:pt x="1875" y="65"/>
                    </a:lnTo>
                    <a:lnTo>
                      <a:pt x="1924" y="65"/>
                    </a:lnTo>
                    <a:lnTo>
                      <a:pt x="1963" y="60"/>
                    </a:lnTo>
                    <a:lnTo>
                      <a:pt x="2015" y="57"/>
                    </a:lnTo>
                    <a:lnTo>
                      <a:pt x="2074" y="57"/>
                    </a:lnTo>
                    <a:lnTo>
                      <a:pt x="2096" y="50"/>
                    </a:lnTo>
                    <a:lnTo>
                      <a:pt x="2126" y="50"/>
                    </a:lnTo>
                    <a:lnTo>
                      <a:pt x="2163" y="57"/>
                    </a:lnTo>
                    <a:lnTo>
                      <a:pt x="2200" y="50"/>
                    </a:lnTo>
                    <a:lnTo>
                      <a:pt x="2229" y="43"/>
                    </a:lnTo>
                    <a:lnTo>
                      <a:pt x="2251" y="43"/>
                    </a:lnTo>
                    <a:lnTo>
                      <a:pt x="2274" y="43"/>
                    </a:lnTo>
                    <a:lnTo>
                      <a:pt x="2311" y="43"/>
                    </a:lnTo>
                    <a:lnTo>
                      <a:pt x="2340" y="43"/>
                    </a:lnTo>
                    <a:lnTo>
                      <a:pt x="2362" y="43"/>
                    </a:lnTo>
                    <a:lnTo>
                      <a:pt x="2385" y="43"/>
                    </a:lnTo>
                    <a:lnTo>
                      <a:pt x="2413" y="43"/>
                    </a:lnTo>
                    <a:lnTo>
                      <a:pt x="2436" y="43"/>
                    </a:lnTo>
                    <a:lnTo>
                      <a:pt x="2459" y="43"/>
                    </a:lnTo>
                    <a:lnTo>
                      <a:pt x="2487" y="43"/>
                    </a:lnTo>
                    <a:lnTo>
                      <a:pt x="2510" y="43"/>
                    </a:lnTo>
                    <a:lnTo>
                      <a:pt x="2532" y="43"/>
                    </a:lnTo>
                    <a:lnTo>
                      <a:pt x="2561" y="50"/>
                    </a:lnTo>
                    <a:lnTo>
                      <a:pt x="2584" y="57"/>
                    </a:lnTo>
                    <a:lnTo>
                      <a:pt x="2606" y="57"/>
                    </a:lnTo>
                    <a:lnTo>
                      <a:pt x="2628" y="86"/>
                    </a:lnTo>
                    <a:lnTo>
                      <a:pt x="2650" y="93"/>
                    </a:lnTo>
                    <a:lnTo>
                      <a:pt x="2658" y="115"/>
                    </a:lnTo>
                    <a:lnTo>
                      <a:pt x="2672" y="137"/>
                    </a:lnTo>
                    <a:lnTo>
                      <a:pt x="2665" y="165"/>
                    </a:lnTo>
                    <a:lnTo>
                      <a:pt x="2635" y="173"/>
                    </a:lnTo>
                    <a:lnTo>
                      <a:pt x="2614" y="201"/>
                    </a:lnTo>
                    <a:lnTo>
                      <a:pt x="2614" y="223"/>
                    </a:lnTo>
                    <a:lnTo>
                      <a:pt x="2606" y="245"/>
                    </a:lnTo>
                    <a:lnTo>
                      <a:pt x="2584" y="266"/>
                    </a:lnTo>
                    <a:lnTo>
                      <a:pt x="2577" y="288"/>
                    </a:lnTo>
                    <a:lnTo>
                      <a:pt x="2561" y="317"/>
                    </a:lnTo>
                    <a:lnTo>
                      <a:pt x="2561" y="345"/>
                    </a:lnTo>
                    <a:lnTo>
                      <a:pt x="2561" y="367"/>
                    </a:lnTo>
                    <a:lnTo>
                      <a:pt x="2540" y="389"/>
                    </a:lnTo>
                    <a:lnTo>
                      <a:pt x="2517" y="396"/>
                    </a:lnTo>
                    <a:lnTo>
                      <a:pt x="2487" y="410"/>
                    </a:lnTo>
                    <a:lnTo>
                      <a:pt x="2459" y="410"/>
                    </a:lnTo>
                    <a:lnTo>
                      <a:pt x="2436" y="417"/>
                    </a:lnTo>
                    <a:lnTo>
                      <a:pt x="2413" y="425"/>
                    </a:lnTo>
                    <a:lnTo>
                      <a:pt x="2385" y="425"/>
                    </a:lnTo>
                    <a:lnTo>
                      <a:pt x="2355" y="417"/>
                    </a:lnTo>
                    <a:lnTo>
                      <a:pt x="2332" y="410"/>
                    </a:lnTo>
                    <a:lnTo>
                      <a:pt x="2303" y="410"/>
                    </a:lnTo>
                    <a:lnTo>
                      <a:pt x="2274" y="410"/>
                    </a:lnTo>
                    <a:lnTo>
                      <a:pt x="2237" y="410"/>
                    </a:lnTo>
                    <a:lnTo>
                      <a:pt x="2214" y="403"/>
                    </a:lnTo>
                    <a:lnTo>
                      <a:pt x="2192" y="403"/>
                    </a:lnTo>
                    <a:lnTo>
                      <a:pt x="2163" y="403"/>
                    </a:lnTo>
                    <a:lnTo>
                      <a:pt x="2140" y="403"/>
                    </a:lnTo>
                    <a:lnTo>
                      <a:pt x="2118" y="396"/>
                    </a:lnTo>
                    <a:lnTo>
                      <a:pt x="2089" y="389"/>
                    </a:lnTo>
                    <a:lnTo>
                      <a:pt x="2059" y="389"/>
                    </a:lnTo>
                    <a:lnTo>
                      <a:pt x="2030" y="389"/>
                    </a:lnTo>
                    <a:lnTo>
                      <a:pt x="2000" y="389"/>
                    </a:lnTo>
                    <a:lnTo>
                      <a:pt x="1970" y="381"/>
                    </a:lnTo>
                    <a:lnTo>
                      <a:pt x="1941" y="374"/>
                    </a:lnTo>
                    <a:lnTo>
                      <a:pt x="1912" y="367"/>
                    </a:lnTo>
                    <a:lnTo>
                      <a:pt x="1882" y="360"/>
                    </a:lnTo>
                    <a:lnTo>
                      <a:pt x="1859" y="360"/>
                    </a:lnTo>
                    <a:lnTo>
                      <a:pt x="1822" y="353"/>
                    </a:lnTo>
                    <a:lnTo>
                      <a:pt x="1794" y="353"/>
                    </a:lnTo>
                    <a:lnTo>
                      <a:pt x="1764" y="353"/>
                    </a:lnTo>
                    <a:lnTo>
                      <a:pt x="1741" y="353"/>
                    </a:lnTo>
                    <a:lnTo>
                      <a:pt x="1712" y="353"/>
                    </a:lnTo>
                    <a:lnTo>
                      <a:pt x="1683" y="353"/>
                    </a:lnTo>
                    <a:lnTo>
                      <a:pt x="1653" y="353"/>
                    </a:lnTo>
                    <a:lnTo>
                      <a:pt x="1630" y="353"/>
                    </a:lnTo>
                    <a:lnTo>
                      <a:pt x="1594" y="353"/>
                    </a:lnTo>
                    <a:lnTo>
                      <a:pt x="1564" y="353"/>
                    </a:lnTo>
                    <a:lnTo>
                      <a:pt x="1527" y="353"/>
                    </a:lnTo>
                    <a:lnTo>
                      <a:pt x="1498" y="353"/>
                    </a:lnTo>
                    <a:lnTo>
                      <a:pt x="1476" y="345"/>
                    </a:lnTo>
                    <a:lnTo>
                      <a:pt x="1439" y="345"/>
                    </a:lnTo>
                    <a:lnTo>
                      <a:pt x="1409" y="331"/>
                    </a:lnTo>
                    <a:lnTo>
                      <a:pt x="1372" y="324"/>
                    </a:lnTo>
                    <a:lnTo>
                      <a:pt x="1335" y="317"/>
                    </a:lnTo>
                    <a:lnTo>
                      <a:pt x="1305" y="302"/>
                    </a:lnTo>
                    <a:lnTo>
                      <a:pt x="1268" y="295"/>
                    </a:lnTo>
                    <a:lnTo>
                      <a:pt x="1231" y="288"/>
                    </a:lnTo>
                    <a:lnTo>
                      <a:pt x="1203" y="288"/>
                    </a:lnTo>
                    <a:lnTo>
                      <a:pt x="1173" y="288"/>
                    </a:lnTo>
                    <a:lnTo>
                      <a:pt x="1143" y="295"/>
                    </a:lnTo>
                    <a:lnTo>
                      <a:pt x="1106" y="295"/>
                    </a:lnTo>
                    <a:lnTo>
                      <a:pt x="1076" y="295"/>
                    </a:lnTo>
                    <a:lnTo>
                      <a:pt x="1047" y="295"/>
                    </a:lnTo>
                    <a:lnTo>
                      <a:pt x="1010" y="288"/>
                    </a:lnTo>
                    <a:lnTo>
                      <a:pt x="973" y="273"/>
                    </a:lnTo>
                    <a:lnTo>
                      <a:pt x="944" y="266"/>
                    </a:lnTo>
                    <a:lnTo>
                      <a:pt x="914" y="259"/>
                    </a:lnTo>
                    <a:lnTo>
                      <a:pt x="877" y="259"/>
                    </a:lnTo>
                    <a:lnTo>
                      <a:pt x="840" y="266"/>
                    </a:lnTo>
                    <a:lnTo>
                      <a:pt x="811" y="273"/>
                    </a:lnTo>
                    <a:lnTo>
                      <a:pt x="781" y="288"/>
                    </a:lnTo>
                    <a:lnTo>
                      <a:pt x="751" y="295"/>
                    </a:lnTo>
                    <a:lnTo>
                      <a:pt x="722" y="302"/>
                    </a:lnTo>
                    <a:lnTo>
                      <a:pt x="700" y="295"/>
                    </a:lnTo>
                    <a:lnTo>
                      <a:pt x="670" y="288"/>
                    </a:lnTo>
                    <a:lnTo>
                      <a:pt x="640" y="281"/>
                    </a:lnTo>
                    <a:lnTo>
                      <a:pt x="612" y="273"/>
                    </a:lnTo>
                    <a:lnTo>
                      <a:pt x="582" y="273"/>
                    </a:lnTo>
                    <a:lnTo>
                      <a:pt x="545" y="266"/>
                    </a:lnTo>
                    <a:lnTo>
                      <a:pt x="515" y="266"/>
                    </a:lnTo>
                    <a:lnTo>
                      <a:pt x="493" y="259"/>
                    </a:lnTo>
                    <a:lnTo>
                      <a:pt x="464" y="259"/>
                    </a:lnTo>
                    <a:lnTo>
                      <a:pt x="441" y="259"/>
                    </a:lnTo>
                    <a:lnTo>
                      <a:pt x="411" y="252"/>
                    </a:lnTo>
                    <a:lnTo>
                      <a:pt x="375" y="252"/>
                    </a:lnTo>
                    <a:lnTo>
                      <a:pt x="345" y="252"/>
                    </a:lnTo>
                    <a:lnTo>
                      <a:pt x="308" y="252"/>
                    </a:lnTo>
                    <a:lnTo>
                      <a:pt x="278" y="259"/>
                    </a:lnTo>
                    <a:lnTo>
                      <a:pt x="248" y="266"/>
                    </a:lnTo>
                    <a:lnTo>
                      <a:pt x="220" y="266"/>
                    </a:lnTo>
                    <a:lnTo>
                      <a:pt x="190" y="259"/>
                    </a:lnTo>
                    <a:lnTo>
                      <a:pt x="160" y="259"/>
                    </a:lnTo>
                    <a:lnTo>
                      <a:pt x="130" y="252"/>
                    </a:lnTo>
                    <a:lnTo>
                      <a:pt x="84" y="245"/>
                    </a:lnTo>
                    <a:lnTo>
                      <a:pt x="56" y="240"/>
                    </a:lnTo>
                    <a:lnTo>
                      <a:pt x="25" y="230"/>
                    </a:lnTo>
                    <a:lnTo>
                      <a:pt x="5" y="197"/>
                    </a:lnTo>
                    <a:lnTo>
                      <a:pt x="0" y="163"/>
                    </a:lnTo>
                    <a:lnTo>
                      <a:pt x="5" y="134"/>
                    </a:lnTo>
                    <a:lnTo>
                      <a:pt x="7" y="113"/>
                    </a:lnTo>
                  </a:path>
                </a:pathLst>
              </a:custGeom>
              <a:solidFill>
                <a:srgbClr val="ffffff"/>
              </a:solidFill>
              <a:ln cap="rnd" w="255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329000" y="2817720"/>
                <a:ext cx="4645080" cy="748800"/>
              </a:xfrm>
              <a:custGeom>
                <a:avLst/>
                <a:gdLst/>
                <a:ahLst/>
                <a:rect l="l" t="t" r="r" b="b"/>
                <a:pathLst>
                  <a:path w="2605" h="426">
                    <a:moveTo>
                      <a:pt x="12" y="115"/>
                    </a:moveTo>
                    <a:lnTo>
                      <a:pt x="12" y="93"/>
                    </a:lnTo>
                    <a:lnTo>
                      <a:pt x="34" y="72"/>
                    </a:lnTo>
                    <a:lnTo>
                      <a:pt x="48" y="50"/>
                    </a:lnTo>
                    <a:lnTo>
                      <a:pt x="70" y="29"/>
                    </a:lnTo>
                    <a:lnTo>
                      <a:pt x="98" y="14"/>
                    </a:lnTo>
                    <a:lnTo>
                      <a:pt x="120" y="0"/>
                    </a:lnTo>
                    <a:lnTo>
                      <a:pt x="149" y="0"/>
                    </a:lnTo>
                    <a:lnTo>
                      <a:pt x="185" y="7"/>
                    </a:lnTo>
                    <a:lnTo>
                      <a:pt x="214" y="7"/>
                    </a:lnTo>
                    <a:lnTo>
                      <a:pt x="242" y="7"/>
                    </a:lnTo>
                    <a:lnTo>
                      <a:pt x="264" y="14"/>
                    </a:lnTo>
                    <a:lnTo>
                      <a:pt x="293" y="14"/>
                    </a:lnTo>
                    <a:lnTo>
                      <a:pt x="331" y="17"/>
                    </a:lnTo>
                    <a:lnTo>
                      <a:pt x="365" y="29"/>
                    </a:lnTo>
                    <a:lnTo>
                      <a:pt x="394" y="43"/>
                    </a:lnTo>
                    <a:lnTo>
                      <a:pt x="416" y="50"/>
                    </a:lnTo>
                    <a:lnTo>
                      <a:pt x="444" y="50"/>
                    </a:lnTo>
                    <a:lnTo>
                      <a:pt x="466" y="50"/>
                    </a:lnTo>
                    <a:lnTo>
                      <a:pt x="495" y="50"/>
                    </a:lnTo>
                    <a:lnTo>
                      <a:pt x="524" y="50"/>
                    </a:lnTo>
                    <a:lnTo>
                      <a:pt x="552" y="50"/>
                    </a:lnTo>
                    <a:lnTo>
                      <a:pt x="581" y="57"/>
                    </a:lnTo>
                    <a:lnTo>
                      <a:pt x="603" y="57"/>
                    </a:lnTo>
                    <a:lnTo>
                      <a:pt x="632" y="57"/>
                    </a:lnTo>
                    <a:lnTo>
                      <a:pt x="668" y="65"/>
                    </a:lnTo>
                    <a:lnTo>
                      <a:pt x="720" y="65"/>
                    </a:lnTo>
                    <a:lnTo>
                      <a:pt x="761" y="67"/>
                    </a:lnTo>
                    <a:lnTo>
                      <a:pt x="797" y="62"/>
                    </a:lnTo>
                    <a:lnTo>
                      <a:pt x="819" y="62"/>
                    </a:lnTo>
                    <a:lnTo>
                      <a:pt x="845" y="50"/>
                    </a:lnTo>
                    <a:lnTo>
                      <a:pt x="884" y="45"/>
                    </a:lnTo>
                    <a:lnTo>
                      <a:pt x="915" y="50"/>
                    </a:lnTo>
                    <a:lnTo>
                      <a:pt x="941" y="50"/>
                    </a:lnTo>
                    <a:lnTo>
                      <a:pt x="963" y="41"/>
                    </a:lnTo>
                    <a:lnTo>
                      <a:pt x="987" y="38"/>
                    </a:lnTo>
                    <a:lnTo>
                      <a:pt x="1011" y="38"/>
                    </a:lnTo>
                    <a:lnTo>
                      <a:pt x="1042" y="41"/>
                    </a:lnTo>
                    <a:lnTo>
                      <a:pt x="1071" y="43"/>
                    </a:lnTo>
                    <a:lnTo>
                      <a:pt x="1107" y="43"/>
                    </a:lnTo>
                    <a:lnTo>
                      <a:pt x="1136" y="43"/>
                    </a:lnTo>
                    <a:lnTo>
                      <a:pt x="1164" y="50"/>
                    </a:lnTo>
                    <a:lnTo>
                      <a:pt x="1186" y="57"/>
                    </a:lnTo>
                    <a:lnTo>
                      <a:pt x="1208" y="57"/>
                    </a:lnTo>
                    <a:lnTo>
                      <a:pt x="1236" y="57"/>
                    </a:lnTo>
                    <a:lnTo>
                      <a:pt x="1258" y="57"/>
                    </a:lnTo>
                    <a:lnTo>
                      <a:pt x="1287" y="50"/>
                    </a:lnTo>
                    <a:lnTo>
                      <a:pt x="1316" y="50"/>
                    </a:lnTo>
                    <a:lnTo>
                      <a:pt x="1352" y="57"/>
                    </a:lnTo>
                    <a:lnTo>
                      <a:pt x="1388" y="50"/>
                    </a:lnTo>
                    <a:lnTo>
                      <a:pt x="1416" y="50"/>
                    </a:lnTo>
                    <a:lnTo>
                      <a:pt x="1445" y="57"/>
                    </a:lnTo>
                    <a:lnTo>
                      <a:pt x="1474" y="57"/>
                    </a:lnTo>
                    <a:lnTo>
                      <a:pt x="1503" y="57"/>
                    </a:lnTo>
                    <a:lnTo>
                      <a:pt x="1546" y="57"/>
                    </a:lnTo>
                    <a:lnTo>
                      <a:pt x="1568" y="57"/>
                    </a:lnTo>
                    <a:lnTo>
                      <a:pt x="1604" y="57"/>
                    </a:lnTo>
                    <a:lnTo>
                      <a:pt x="1647" y="57"/>
                    </a:lnTo>
                    <a:lnTo>
                      <a:pt x="1683" y="57"/>
                    </a:lnTo>
                    <a:lnTo>
                      <a:pt x="1719" y="65"/>
                    </a:lnTo>
                    <a:lnTo>
                      <a:pt x="1748" y="65"/>
                    </a:lnTo>
                    <a:lnTo>
                      <a:pt x="1776" y="65"/>
                    </a:lnTo>
                    <a:lnTo>
                      <a:pt x="1805" y="65"/>
                    </a:lnTo>
                    <a:lnTo>
                      <a:pt x="1827" y="65"/>
                    </a:lnTo>
                    <a:lnTo>
                      <a:pt x="1875" y="65"/>
                    </a:lnTo>
                    <a:lnTo>
                      <a:pt x="1913" y="60"/>
                    </a:lnTo>
                    <a:lnTo>
                      <a:pt x="1964" y="57"/>
                    </a:lnTo>
                    <a:lnTo>
                      <a:pt x="2021" y="57"/>
                    </a:lnTo>
                    <a:lnTo>
                      <a:pt x="2043" y="50"/>
                    </a:lnTo>
                    <a:lnTo>
                      <a:pt x="2072" y="50"/>
                    </a:lnTo>
                    <a:lnTo>
                      <a:pt x="2108" y="57"/>
                    </a:lnTo>
                    <a:lnTo>
                      <a:pt x="2144" y="50"/>
                    </a:lnTo>
                    <a:lnTo>
                      <a:pt x="2172" y="43"/>
                    </a:lnTo>
                    <a:lnTo>
                      <a:pt x="2194" y="43"/>
                    </a:lnTo>
                    <a:lnTo>
                      <a:pt x="2216" y="43"/>
                    </a:lnTo>
                    <a:lnTo>
                      <a:pt x="2252" y="43"/>
                    </a:lnTo>
                    <a:lnTo>
                      <a:pt x="2280" y="43"/>
                    </a:lnTo>
                    <a:lnTo>
                      <a:pt x="2302" y="43"/>
                    </a:lnTo>
                    <a:lnTo>
                      <a:pt x="2324" y="43"/>
                    </a:lnTo>
                    <a:lnTo>
                      <a:pt x="2352" y="43"/>
                    </a:lnTo>
                    <a:lnTo>
                      <a:pt x="2374" y="43"/>
                    </a:lnTo>
                    <a:lnTo>
                      <a:pt x="2396" y="43"/>
                    </a:lnTo>
                    <a:lnTo>
                      <a:pt x="2424" y="43"/>
                    </a:lnTo>
                    <a:lnTo>
                      <a:pt x="2446" y="43"/>
                    </a:lnTo>
                    <a:lnTo>
                      <a:pt x="2468" y="43"/>
                    </a:lnTo>
                    <a:lnTo>
                      <a:pt x="2496" y="50"/>
                    </a:lnTo>
                    <a:lnTo>
                      <a:pt x="2518" y="57"/>
                    </a:lnTo>
                    <a:lnTo>
                      <a:pt x="2540" y="57"/>
                    </a:lnTo>
                    <a:lnTo>
                      <a:pt x="2561" y="86"/>
                    </a:lnTo>
                    <a:lnTo>
                      <a:pt x="2583" y="93"/>
                    </a:lnTo>
                    <a:lnTo>
                      <a:pt x="2590" y="115"/>
                    </a:lnTo>
                    <a:lnTo>
                      <a:pt x="2604" y="137"/>
                    </a:lnTo>
                    <a:lnTo>
                      <a:pt x="2597" y="165"/>
                    </a:lnTo>
                    <a:lnTo>
                      <a:pt x="2568" y="173"/>
                    </a:lnTo>
                    <a:lnTo>
                      <a:pt x="2547" y="201"/>
                    </a:lnTo>
                    <a:lnTo>
                      <a:pt x="2547" y="223"/>
                    </a:lnTo>
                    <a:lnTo>
                      <a:pt x="2540" y="245"/>
                    </a:lnTo>
                    <a:lnTo>
                      <a:pt x="2518" y="266"/>
                    </a:lnTo>
                    <a:lnTo>
                      <a:pt x="2511" y="288"/>
                    </a:lnTo>
                    <a:lnTo>
                      <a:pt x="2496" y="317"/>
                    </a:lnTo>
                    <a:lnTo>
                      <a:pt x="2496" y="345"/>
                    </a:lnTo>
                    <a:lnTo>
                      <a:pt x="2496" y="367"/>
                    </a:lnTo>
                    <a:lnTo>
                      <a:pt x="2475" y="389"/>
                    </a:lnTo>
                    <a:lnTo>
                      <a:pt x="2453" y="396"/>
                    </a:lnTo>
                    <a:lnTo>
                      <a:pt x="2424" y="410"/>
                    </a:lnTo>
                    <a:lnTo>
                      <a:pt x="2396" y="410"/>
                    </a:lnTo>
                    <a:lnTo>
                      <a:pt x="2374" y="417"/>
                    </a:lnTo>
                    <a:lnTo>
                      <a:pt x="2352" y="425"/>
                    </a:lnTo>
                    <a:lnTo>
                      <a:pt x="2324" y="425"/>
                    </a:lnTo>
                    <a:lnTo>
                      <a:pt x="2295" y="417"/>
                    </a:lnTo>
                    <a:lnTo>
                      <a:pt x="2273" y="410"/>
                    </a:lnTo>
                    <a:lnTo>
                      <a:pt x="2244" y="410"/>
                    </a:lnTo>
                    <a:lnTo>
                      <a:pt x="2216" y="410"/>
                    </a:lnTo>
                    <a:lnTo>
                      <a:pt x="2180" y="410"/>
                    </a:lnTo>
                    <a:lnTo>
                      <a:pt x="2158" y="403"/>
                    </a:lnTo>
                    <a:lnTo>
                      <a:pt x="2136" y="403"/>
                    </a:lnTo>
                    <a:lnTo>
                      <a:pt x="2108" y="403"/>
                    </a:lnTo>
                    <a:lnTo>
                      <a:pt x="2086" y="403"/>
                    </a:lnTo>
                    <a:lnTo>
                      <a:pt x="2064" y="396"/>
                    </a:lnTo>
                    <a:lnTo>
                      <a:pt x="2036" y="389"/>
                    </a:lnTo>
                    <a:lnTo>
                      <a:pt x="2007" y="389"/>
                    </a:lnTo>
                    <a:lnTo>
                      <a:pt x="1978" y="389"/>
                    </a:lnTo>
                    <a:lnTo>
                      <a:pt x="1949" y="389"/>
                    </a:lnTo>
                    <a:lnTo>
                      <a:pt x="1920" y="381"/>
                    </a:lnTo>
                    <a:lnTo>
                      <a:pt x="1892" y="374"/>
                    </a:lnTo>
                    <a:lnTo>
                      <a:pt x="1863" y="367"/>
                    </a:lnTo>
                    <a:lnTo>
                      <a:pt x="1834" y="360"/>
                    </a:lnTo>
                    <a:lnTo>
                      <a:pt x="1812" y="360"/>
                    </a:lnTo>
                    <a:lnTo>
                      <a:pt x="1776" y="353"/>
                    </a:lnTo>
                    <a:lnTo>
                      <a:pt x="1748" y="353"/>
                    </a:lnTo>
                    <a:lnTo>
                      <a:pt x="1719" y="353"/>
                    </a:lnTo>
                    <a:lnTo>
                      <a:pt x="1697" y="353"/>
                    </a:lnTo>
                    <a:lnTo>
                      <a:pt x="1668" y="353"/>
                    </a:lnTo>
                    <a:lnTo>
                      <a:pt x="1640" y="353"/>
                    </a:lnTo>
                    <a:lnTo>
                      <a:pt x="1611" y="353"/>
                    </a:lnTo>
                    <a:lnTo>
                      <a:pt x="1589" y="353"/>
                    </a:lnTo>
                    <a:lnTo>
                      <a:pt x="1553" y="353"/>
                    </a:lnTo>
                    <a:lnTo>
                      <a:pt x="1524" y="353"/>
                    </a:lnTo>
                    <a:lnTo>
                      <a:pt x="1488" y="353"/>
                    </a:lnTo>
                    <a:lnTo>
                      <a:pt x="1460" y="353"/>
                    </a:lnTo>
                    <a:lnTo>
                      <a:pt x="1438" y="345"/>
                    </a:lnTo>
                    <a:lnTo>
                      <a:pt x="1402" y="345"/>
                    </a:lnTo>
                    <a:lnTo>
                      <a:pt x="1373" y="331"/>
                    </a:lnTo>
                    <a:lnTo>
                      <a:pt x="1337" y="324"/>
                    </a:lnTo>
                    <a:lnTo>
                      <a:pt x="1301" y="317"/>
                    </a:lnTo>
                    <a:lnTo>
                      <a:pt x="1272" y="302"/>
                    </a:lnTo>
                    <a:lnTo>
                      <a:pt x="1236" y="295"/>
                    </a:lnTo>
                    <a:lnTo>
                      <a:pt x="1200" y="288"/>
                    </a:lnTo>
                    <a:lnTo>
                      <a:pt x="1172" y="288"/>
                    </a:lnTo>
                    <a:lnTo>
                      <a:pt x="1143" y="288"/>
                    </a:lnTo>
                    <a:lnTo>
                      <a:pt x="1114" y="295"/>
                    </a:lnTo>
                    <a:lnTo>
                      <a:pt x="1078" y="295"/>
                    </a:lnTo>
                    <a:lnTo>
                      <a:pt x="1049" y="295"/>
                    </a:lnTo>
                    <a:lnTo>
                      <a:pt x="1020" y="295"/>
                    </a:lnTo>
                    <a:lnTo>
                      <a:pt x="984" y="288"/>
                    </a:lnTo>
                    <a:lnTo>
                      <a:pt x="948" y="273"/>
                    </a:lnTo>
                    <a:lnTo>
                      <a:pt x="920" y="266"/>
                    </a:lnTo>
                    <a:lnTo>
                      <a:pt x="891" y="259"/>
                    </a:lnTo>
                    <a:lnTo>
                      <a:pt x="855" y="259"/>
                    </a:lnTo>
                    <a:lnTo>
                      <a:pt x="819" y="266"/>
                    </a:lnTo>
                    <a:lnTo>
                      <a:pt x="790" y="273"/>
                    </a:lnTo>
                    <a:lnTo>
                      <a:pt x="761" y="288"/>
                    </a:lnTo>
                    <a:lnTo>
                      <a:pt x="732" y="295"/>
                    </a:lnTo>
                    <a:lnTo>
                      <a:pt x="704" y="302"/>
                    </a:lnTo>
                    <a:lnTo>
                      <a:pt x="682" y="295"/>
                    </a:lnTo>
                    <a:lnTo>
                      <a:pt x="653" y="288"/>
                    </a:lnTo>
                    <a:lnTo>
                      <a:pt x="624" y="281"/>
                    </a:lnTo>
                    <a:lnTo>
                      <a:pt x="596" y="273"/>
                    </a:lnTo>
                    <a:lnTo>
                      <a:pt x="567" y="273"/>
                    </a:lnTo>
                    <a:lnTo>
                      <a:pt x="531" y="266"/>
                    </a:lnTo>
                    <a:lnTo>
                      <a:pt x="502" y="266"/>
                    </a:lnTo>
                    <a:lnTo>
                      <a:pt x="480" y="259"/>
                    </a:lnTo>
                    <a:lnTo>
                      <a:pt x="452" y="259"/>
                    </a:lnTo>
                    <a:lnTo>
                      <a:pt x="430" y="259"/>
                    </a:lnTo>
                    <a:lnTo>
                      <a:pt x="401" y="252"/>
                    </a:lnTo>
                    <a:lnTo>
                      <a:pt x="365" y="252"/>
                    </a:lnTo>
                    <a:lnTo>
                      <a:pt x="336" y="252"/>
                    </a:lnTo>
                    <a:lnTo>
                      <a:pt x="300" y="252"/>
                    </a:lnTo>
                    <a:lnTo>
                      <a:pt x="271" y="259"/>
                    </a:lnTo>
                    <a:lnTo>
                      <a:pt x="242" y="266"/>
                    </a:lnTo>
                    <a:lnTo>
                      <a:pt x="214" y="266"/>
                    </a:lnTo>
                    <a:lnTo>
                      <a:pt x="185" y="259"/>
                    </a:lnTo>
                    <a:lnTo>
                      <a:pt x="156" y="259"/>
                    </a:lnTo>
                    <a:lnTo>
                      <a:pt x="127" y="252"/>
                    </a:lnTo>
                    <a:lnTo>
                      <a:pt x="82" y="245"/>
                    </a:lnTo>
                    <a:lnTo>
                      <a:pt x="55" y="240"/>
                    </a:lnTo>
                    <a:lnTo>
                      <a:pt x="24" y="230"/>
                    </a:lnTo>
                    <a:lnTo>
                      <a:pt x="5" y="197"/>
                    </a:lnTo>
                    <a:lnTo>
                      <a:pt x="0" y="163"/>
                    </a:lnTo>
                    <a:lnTo>
                      <a:pt x="5" y="134"/>
                    </a:lnTo>
                    <a:lnTo>
                      <a:pt x="7" y="113"/>
                    </a:lnTo>
                  </a:path>
                </a:pathLst>
              </a:custGeom>
              <a:solidFill>
                <a:srgbClr val="ffffff"/>
              </a:solidFill>
              <a:ln cap="rnd"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460760" y="2636640"/>
                <a:ext cx="0" cy="7840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54440" y="2585880"/>
                <a:ext cx="0" cy="7981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871880" y="2611440"/>
                <a:ext cx="0" cy="75996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079960" y="2670120"/>
                <a:ext cx="0" cy="7855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297400" y="2698560"/>
                <a:ext cx="0" cy="8348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19880" y="2716200"/>
                <a:ext cx="0" cy="8344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746680" y="2689200"/>
                <a:ext cx="0" cy="8092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978520" y="2738160"/>
                <a:ext cx="0" cy="7855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183360" y="2752560"/>
                <a:ext cx="0" cy="8218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6400800" y="2763720"/>
                <a:ext cx="0" cy="7981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620040" y="2789280"/>
                <a:ext cx="0" cy="8218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850080" y="2763720"/>
                <a:ext cx="0" cy="8107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068960" y="2700360"/>
                <a:ext cx="0" cy="8870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275600" y="2712960"/>
                <a:ext cx="0" cy="93780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520040" y="2762280"/>
                <a:ext cx="0" cy="91224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761240" y="2712960"/>
                <a:ext cx="0" cy="97596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993080" y="2712960"/>
                <a:ext cx="0" cy="101232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215200" y="2763720"/>
                <a:ext cx="0" cy="93780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442360" y="2752560"/>
                <a:ext cx="0" cy="9856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661240" y="2763720"/>
                <a:ext cx="0" cy="93780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866080" y="2762280"/>
                <a:ext cx="0" cy="848880"/>
              </a:xfrm>
              <a:prstGeom prst="line">
                <a:avLst/>
              </a:prstGeom>
              <a:ln w="1260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5289480" y="4573440"/>
              <a:ext cx="1628640" cy="117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214880" y="4135320"/>
              <a:ext cx="4713120" cy="1080"/>
            </a:xfrm>
            <a:prstGeom prst="line">
              <a:avLst/>
            </a:prstGeom>
            <a:ln w="12600">
              <a:solidFill>
                <a:srgbClr val="ff66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grpSp>
          <p:nvGrpSpPr>
            <p:cNvPr id="408" name=""/>
            <p:cNvGrpSpPr/>
            <p:nvPr/>
          </p:nvGrpSpPr>
          <p:grpSpPr>
            <a:xfrm>
              <a:off x="6399360" y="5159160"/>
              <a:ext cx="1126800" cy="1012680"/>
              <a:chOff x="6399360" y="5159160"/>
              <a:chExt cx="1126800" cy="1012680"/>
            </a:xfrm>
          </p:grpSpPr>
          <p:sp>
            <p:nvSpPr>
              <p:cNvPr id="409" name=""/>
              <p:cNvSpPr/>
              <p:nvPr/>
            </p:nvSpPr>
            <p:spPr>
              <a:xfrm>
                <a:off x="6399360" y="5159160"/>
                <a:ext cx="1126800" cy="1012680"/>
              </a:xfrm>
              <a:prstGeom prst="ellipse">
                <a:avLst/>
              </a:prstGeom>
              <a:solidFill>
                <a:srgbClr val="ffffff"/>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567480" y="5447880"/>
                <a:ext cx="833400" cy="331200"/>
              </a:xfrm>
              <a:custGeom>
                <a:avLst/>
                <a:gdLst/>
                <a:ahLst/>
                <a:rect l="l" t="t" r="r" b="b"/>
                <a:pathLst>
                  <a:path w="468" h="188">
                    <a:moveTo>
                      <a:pt x="0" y="127"/>
                    </a:moveTo>
                    <a:lnTo>
                      <a:pt x="7" y="143"/>
                    </a:lnTo>
                    <a:lnTo>
                      <a:pt x="16" y="160"/>
                    </a:lnTo>
                    <a:lnTo>
                      <a:pt x="26" y="171"/>
                    </a:lnTo>
                    <a:lnTo>
                      <a:pt x="37" y="181"/>
                    </a:lnTo>
                    <a:lnTo>
                      <a:pt x="57" y="186"/>
                    </a:lnTo>
                    <a:lnTo>
                      <a:pt x="76" y="187"/>
                    </a:lnTo>
                    <a:lnTo>
                      <a:pt x="94" y="185"/>
                    </a:lnTo>
                    <a:lnTo>
                      <a:pt x="107" y="177"/>
                    </a:lnTo>
                    <a:lnTo>
                      <a:pt x="122" y="166"/>
                    </a:lnTo>
                    <a:lnTo>
                      <a:pt x="135" y="150"/>
                    </a:lnTo>
                    <a:lnTo>
                      <a:pt x="144" y="130"/>
                    </a:lnTo>
                    <a:lnTo>
                      <a:pt x="152" y="114"/>
                    </a:lnTo>
                    <a:lnTo>
                      <a:pt x="163" y="94"/>
                    </a:lnTo>
                    <a:lnTo>
                      <a:pt x="172" y="76"/>
                    </a:lnTo>
                    <a:lnTo>
                      <a:pt x="181" y="58"/>
                    </a:lnTo>
                    <a:lnTo>
                      <a:pt x="191" y="40"/>
                    </a:lnTo>
                    <a:lnTo>
                      <a:pt x="201" y="24"/>
                    </a:lnTo>
                    <a:lnTo>
                      <a:pt x="213" y="11"/>
                    </a:lnTo>
                    <a:lnTo>
                      <a:pt x="235" y="3"/>
                    </a:lnTo>
                    <a:lnTo>
                      <a:pt x="254" y="0"/>
                    </a:lnTo>
                    <a:lnTo>
                      <a:pt x="270" y="8"/>
                    </a:lnTo>
                    <a:lnTo>
                      <a:pt x="283" y="19"/>
                    </a:lnTo>
                    <a:lnTo>
                      <a:pt x="297" y="37"/>
                    </a:lnTo>
                    <a:lnTo>
                      <a:pt x="305" y="54"/>
                    </a:lnTo>
                    <a:lnTo>
                      <a:pt x="311" y="68"/>
                    </a:lnTo>
                    <a:lnTo>
                      <a:pt x="317" y="89"/>
                    </a:lnTo>
                    <a:lnTo>
                      <a:pt x="322" y="113"/>
                    </a:lnTo>
                    <a:lnTo>
                      <a:pt x="330" y="136"/>
                    </a:lnTo>
                    <a:lnTo>
                      <a:pt x="343" y="155"/>
                    </a:lnTo>
                    <a:lnTo>
                      <a:pt x="361" y="166"/>
                    </a:lnTo>
                    <a:lnTo>
                      <a:pt x="382" y="171"/>
                    </a:lnTo>
                    <a:lnTo>
                      <a:pt x="404" y="172"/>
                    </a:lnTo>
                    <a:lnTo>
                      <a:pt x="423" y="170"/>
                    </a:lnTo>
                    <a:lnTo>
                      <a:pt x="440" y="164"/>
                    </a:lnTo>
                    <a:lnTo>
                      <a:pt x="452" y="157"/>
                    </a:lnTo>
                    <a:lnTo>
                      <a:pt x="467" y="146"/>
                    </a:lnTo>
                  </a:path>
                </a:pathLst>
              </a:custGeom>
              <a:solidFill>
                <a:srgbClr val="ffffff"/>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mage Analysis Measurements</a:t>
            </a:r>
            <a:endParaRPr b="1" lang="en-US" sz="3200" spc="-1" strike="noStrike">
              <a:solidFill>
                <a:srgbClr val="fafd00"/>
              </a:solidFill>
              <a:latin typeface="Arial"/>
            </a:endParaRPr>
          </a:p>
        </p:txBody>
      </p:sp>
      <p:sp>
        <p:nvSpPr>
          <p:cNvPr id="412" name=""/>
          <p:cNvSpPr/>
          <p:nvPr/>
        </p:nvSpPr>
        <p:spPr>
          <a:xfrm>
            <a:off x="7990200" y="6507000"/>
            <a:ext cx="114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W. Humphr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Z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AP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LOUR</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ILE</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MP</a:t>
            </a:r>
            <a:endParaRPr b="1" lang="en-US" sz="2400" spc="-1" strike="noStrike">
              <a:solidFill>
                <a:srgbClr val="ffffff"/>
              </a:solidFill>
              <a:latin typeface="Arial"/>
            </a:endParaRPr>
          </a:p>
        </p:txBody>
      </p:sp>
      <p:sp>
        <p:nvSpPr>
          <p:cNvPr id="414"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Inferred Staple Attributes</a:t>
            </a:r>
            <a:endParaRPr b="1" lang="en-US" sz="3200" spc="-1" strike="noStrike">
              <a:solidFill>
                <a:srgbClr val="fafd00"/>
              </a:solidFill>
              <a:latin typeface="Arial"/>
            </a:endParaRPr>
          </a:p>
        </p:txBody>
      </p:sp>
      <p:sp>
        <p:nvSpPr>
          <p:cNvPr id="415" name="PlaceHolder 3"/>
          <p:cNvSpPr>
            <a:spLocks noGrp="1"/>
          </p:cNvSpPr>
          <p:nvPr>
            <p:ph/>
          </p:nvPr>
        </p:nvSpPr>
        <p:spPr>
          <a:xfrm>
            <a:off x="4800600" y="761760"/>
            <a:ext cx="4495680" cy="518148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dth, Length</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p</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thered Tip</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ust (Colour &amp; Penetration)</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sy Colour</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in Bands</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mp Frequency</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mp Definition</a:t>
            </a:r>
            <a:endParaRPr b="1" lang="en-US" sz="2400" spc="-1" strike="noStrike">
              <a:solidFill>
                <a:srgbClr val="ffffff"/>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ttedness</a:t>
            </a:r>
            <a:endParaRPr b="1" lang="en-US" sz="2400" spc="-1" strike="noStrike">
              <a:solidFill>
                <a:srgbClr val="ffffff"/>
              </a:solidFill>
              <a:latin typeface="Arial"/>
            </a:endParaRPr>
          </a:p>
        </p:txBody>
      </p:sp>
      <p:grpSp>
        <p:nvGrpSpPr>
          <p:cNvPr id="416" name=""/>
          <p:cNvGrpSpPr/>
          <p:nvPr/>
        </p:nvGrpSpPr>
        <p:grpSpPr>
          <a:xfrm>
            <a:off x="2368800" y="1322280"/>
            <a:ext cx="2427120" cy="4532400"/>
            <a:chOff x="2368800" y="1322280"/>
            <a:chExt cx="2427120" cy="4532400"/>
          </a:xfrm>
        </p:grpSpPr>
        <p:sp>
          <p:nvSpPr>
            <p:cNvPr id="417" name=""/>
            <p:cNvSpPr/>
            <p:nvPr/>
          </p:nvSpPr>
          <p:spPr>
            <a:xfrm flipV="1">
              <a:off x="2459160" y="1891800"/>
              <a:ext cx="2328840" cy="28764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V="1">
              <a:off x="2459160" y="1544760"/>
              <a:ext cx="2336760" cy="55872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2840040" y="2806560"/>
              <a:ext cx="1955880" cy="33048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2840040" y="3187800"/>
              <a:ext cx="1955880" cy="10152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840040" y="3441600"/>
              <a:ext cx="1955880" cy="20340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40040" y="3594240"/>
              <a:ext cx="1955880" cy="43164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2546280" y="5016600"/>
              <a:ext cx="2165400" cy="30960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603520" y="5499000"/>
              <a:ext cx="2108160" cy="35568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459160" y="2222640"/>
              <a:ext cx="2336760" cy="34797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840040" y="3670200"/>
              <a:ext cx="1955880" cy="2108160"/>
            </a:xfrm>
            <a:prstGeom prst="line">
              <a:avLst/>
            </a:prstGeom>
            <a:ln w="2556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527200" y="5410080"/>
              <a:ext cx="2184480" cy="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2368800" y="1322280"/>
              <a:ext cx="2425320" cy="25272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9" name=""/>
          <p:cNvSpPr/>
          <p:nvPr/>
        </p:nvSpPr>
        <p:spPr>
          <a:xfrm>
            <a:off x="7990200" y="6507000"/>
            <a:ext cx="114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W. Humphr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42640" y="152280"/>
            <a:ext cx="7924680" cy="609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afd00"/>
                </a:solidFill>
                <a:latin typeface="Arial"/>
              </a:rPr>
              <a:t>Style Metrology Results</a:t>
            </a:r>
            <a:endParaRPr b="1" lang="en-US" sz="3200" spc="-1" strike="noStrike">
              <a:solidFill>
                <a:srgbClr val="fafd00"/>
              </a:solidFill>
              <a:latin typeface="Arial"/>
            </a:endParaRPr>
          </a:p>
        </p:txBody>
      </p:sp>
      <p:sp>
        <p:nvSpPr>
          <p:cNvPr id="431" name=""/>
          <p:cNvSpPr/>
          <p:nvPr/>
        </p:nvSpPr>
        <p:spPr>
          <a:xfrm>
            <a:off x="533520" y="685800"/>
            <a:ext cx="8624880" cy="31680"/>
          </a:xfrm>
          <a:prstGeom prst="rect">
            <a:avLst/>
          </a:pr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2" name=""/>
          <p:cNvSpPr/>
          <p:nvPr/>
        </p:nvSpPr>
        <p:spPr>
          <a:xfrm>
            <a:off x="533520" y="685800"/>
            <a:ext cx="14040" cy="513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33520" y="685800"/>
            <a:ext cx="2004840" cy="31680"/>
          </a:xfrm>
          <a:prstGeom prst="rect">
            <a:avLst/>
          </a:pr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4" name=""/>
          <p:cNvSpPr/>
          <p:nvPr/>
        </p:nvSpPr>
        <p:spPr>
          <a:xfrm>
            <a:off x="2538360" y="685800"/>
            <a:ext cx="144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5840280" y="685800"/>
            <a:ext cx="144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2552760" y="685800"/>
            <a:ext cx="66056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 name=""/>
          <p:cNvSpPr/>
          <p:nvPr/>
        </p:nvSpPr>
        <p:spPr>
          <a:xfrm>
            <a:off x="9144000" y="685800"/>
            <a:ext cx="144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 name=""/>
          <p:cNvSpPr/>
          <p:nvPr/>
        </p:nvSpPr>
        <p:spPr>
          <a:xfrm>
            <a:off x="4189320" y="685800"/>
            <a:ext cx="144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7493040" y="685800"/>
            <a:ext cx="14400" cy="144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533520" y="685800"/>
            <a:ext cx="14040" cy="13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538360" y="685800"/>
            <a:ext cx="1800" cy="5137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538360" y="685800"/>
            <a:ext cx="14400" cy="5137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47560" y="5791320"/>
            <a:ext cx="530712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 name=""/>
          <p:cNvSpPr/>
          <p:nvPr/>
        </p:nvSpPr>
        <p:spPr>
          <a:xfrm>
            <a:off x="5840280" y="717480"/>
            <a:ext cx="14400" cy="5105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533520" y="582300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2538360" y="582300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a:off x="4189320" y="582300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5840280" y="582300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 name=""/>
          <p:cNvSpPr/>
          <p:nvPr/>
        </p:nvSpPr>
        <p:spPr>
          <a:xfrm>
            <a:off x="9158400" y="68580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9158400" y="13208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9158400" y="19861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9158400" y="261936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9158400" y="325440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9158400" y="388764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5" name=""/>
          <p:cNvSpPr/>
          <p:nvPr/>
        </p:nvSpPr>
        <p:spPr>
          <a:xfrm>
            <a:off x="9158400" y="452268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6" name=""/>
          <p:cNvSpPr/>
          <p:nvPr/>
        </p:nvSpPr>
        <p:spPr>
          <a:xfrm>
            <a:off x="9158400" y="515628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504720" y="1998720"/>
            <a:ext cx="1800" cy="3836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04720" y="1998720"/>
            <a:ext cx="14400" cy="3836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04720" y="5835600"/>
            <a:ext cx="14400" cy="31680"/>
          </a:xfrm>
          <a:prstGeom prst="rect">
            <a:avLst/>
          </a:pr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0" name=""/>
          <p:cNvSpPr/>
          <p:nvPr/>
        </p:nvSpPr>
        <p:spPr>
          <a:xfrm>
            <a:off x="9129600" y="1333440"/>
            <a:ext cx="14400" cy="30240"/>
          </a:xfrm>
          <a:prstGeom prst="rect">
            <a:avLst/>
          </a:prstGeom>
          <a:no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1" name=""/>
          <p:cNvSpPr/>
          <p:nvPr/>
        </p:nvSpPr>
        <p:spPr>
          <a:xfrm>
            <a:off x="9129600" y="1998720"/>
            <a:ext cx="14400" cy="31680"/>
          </a:xfrm>
          <a:prstGeom prst="rect">
            <a:avLst/>
          </a:prstGeom>
          <a:no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62" name=""/>
          <p:cNvSpPr/>
          <p:nvPr/>
        </p:nvSpPr>
        <p:spPr>
          <a:xfrm>
            <a:off x="9129600" y="2631960"/>
            <a:ext cx="14400" cy="32040"/>
          </a:xfrm>
          <a:prstGeom prst="rect">
            <a:avLst/>
          </a:prstGeom>
          <a:no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 name=""/>
          <p:cNvSpPr/>
          <p:nvPr/>
        </p:nvSpPr>
        <p:spPr>
          <a:xfrm>
            <a:off x="7990200" y="6507000"/>
            <a:ext cx="114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W. Humphries</a:t>
            </a:r>
            <a:endParaRPr b="0" lang="en-US" sz="1200" spc="-1" strike="noStrike">
              <a:solidFill>
                <a:srgbClr val="000000"/>
              </a:solidFill>
              <a:latin typeface="Times New Roman"/>
            </a:endParaRPr>
          </a:p>
        </p:txBody>
      </p:sp>
      <p:grpSp>
        <p:nvGrpSpPr>
          <p:cNvPr id="464" name=""/>
          <p:cNvGrpSpPr/>
          <p:nvPr/>
        </p:nvGrpSpPr>
        <p:grpSpPr>
          <a:xfrm>
            <a:off x="762120" y="1135080"/>
            <a:ext cx="8610480" cy="5189400"/>
            <a:chOff x="762120" y="1135080"/>
            <a:chExt cx="8610480" cy="5189400"/>
          </a:xfrm>
        </p:grpSpPr>
        <p:sp>
          <p:nvSpPr>
            <p:cNvPr id="465" name=""/>
            <p:cNvSpPr/>
            <p:nvPr/>
          </p:nvSpPr>
          <p:spPr>
            <a:xfrm>
              <a:off x="762120" y="4522680"/>
              <a:ext cx="861048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2882160" y="1135080"/>
              <a:ext cx="1236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ween </a:t>
              </a:r>
              <a:endParaRPr b="0" lang="en-US" sz="2400" spc="-1" strike="noStrike">
                <a:solidFill>
                  <a:srgbClr val="000000"/>
                </a:solidFill>
                <a:latin typeface="Times New Roman"/>
              </a:endParaRPr>
            </a:p>
          </p:txBody>
        </p:sp>
        <p:sp>
          <p:nvSpPr>
            <p:cNvPr id="467" name=""/>
            <p:cNvSpPr/>
            <p:nvPr/>
          </p:nvSpPr>
          <p:spPr>
            <a:xfrm>
              <a:off x="4198320" y="1135080"/>
              <a:ext cx="157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strument</a:t>
              </a:r>
              <a:endParaRPr b="0" lang="en-US" sz="2400" spc="-1" strike="noStrike">
                <a:solidFill>
                  <a:srgbClr val="000000"/>
                </a:solidFill>
                <a:latin typeface="Times New Roman"/>
              </a:endParaRPr>
            </a:p>
          </p:txBody>
        </p:sp>
        <p:sp>
          <p:nvSpPr>
            <p:cNvPr id="468" name=""/>
            <p:cNvSpPr/>
            <p:nvPr/>
          </p:nvSpPr>
          <p:spPr>
            <a:xfrm>
              <a:off x="3796560" y="1452600"/>
              <a:ext cx="128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riance</a:t>
              </a:r>
              <a:endParaRPr b="0" lang="en-US" sz="2400" spc="-1" strike="noStrike">
                <a:solidFill>
                  <a:srgbClr val="000000"/>
                </a:solidFill>
                <a:latin typeface="Times New Roman"/>
              </a:endParaRPr>
            </a:p>
          </p:txBody>
        </p:sp>
        <p:sp>
          <p:nvSpPr>
            <p:cNvPr id="469" name=""/>
            <p:cNvSpPr/>
            <p:nvPr/>
          </p:nvSpPr>
          <p:spPr>
            <a:xfrm>
              <a:off x="6125400" y="1135080"/>
              <a:ext cx="1236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ween </a:t>
              </a:r>
              <a:endParaRPr b="0" lang="en-US" sz="2400" spc="-1" strike="noStrike">
                <a:solidFill>
                  <a:srgbClr val="000000"/>
                </a:solidFill>
                <a:latin typeface="Times New Roman"/>
              </a:endParaRPr>
            </a:p>
          </p:txBody>
        </p:sp>
        <p:sp>
          <p:nvSpPr>
            <p:cNvPr id="470" name=""/>
            <p:cNvSpPr/>
            <p:nvPr/>
          </p:nvSpPr>
          <p:spPr>
            <a:xfrm>
              <a:off x="7542360" y="1135080"/>
              <a:ext cx="135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Replicate</a:t>
              </a:r>
              <a:endParaRPr b="0" lang="en-US" sz="2400" spc="-1" strike="noStrike">
                <a:solidFill>
                  <a:srgbClr val="000000"/>
                </a:solidFill>
                <a:latin typeface="Times New Roman"/>
              </a:endParaRPr>
            </a:p>
          </p:txBody>
        </p:sp>
        <p:sp>
          <p:nvSpPr>
            <p:cNvPr id="471" name=""/>
            <p:cNvSpPr/>
            <p:nvPr/>
          </p:nvSpPr>
          <p:spPr>
            <a:xfrm>
              <a:off x="6692400" y="1468440"/>
              <a:ext cx="1287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Variance</a:t>
              </a:r>
              <a:endParaRPr b="0" lang="en-US" sz="2400" spc="-1" strike="noStrike">
                <a:solidFill>
                  <a:srgbClr val="000000"/>
                </a:solidFill>
                <a:latin typeface="Times New Roman"/>
              </a:endParaRPr>
            </a:p>
          </p:txBody>
        </p:sp>
        <p:grpSp>
          <p:nvGrpSpPr>
            <p:cNvPr id="472" name=""/>
            <p:cNvGrpSpPr/>
            <p:nvPr/>
          </p:nvGrpSpPr>
          <p:grpSpPr>
            <a:xfrm>
              <a:off x="6386400" y="1768320"/>
              <a:ext cx="649440" cy="3577680"/>
              <a:chOff x="6386400" y="1768320"/>
              <a:chExt cx="649440" cy="3577680"/>
            </a:xfrm>
          </p:grpSpPr>
          <p:sp>
            <p:nvSpPr>
              <p:cNvPr id="473" name=""/>
              <p:cNvSpPr/>
              <p:nvPr/>
            </p:nvSpPr>
            <p:spPr>
              <a:xfrm>
                <a:off x="6405480" y="176832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²</a:t>
                </a:r>
                <a:endParaRPr b="0" lang="en-US" sz="2400" spc="-1" strike="noStrike">
                  <a:solidFill>
                    <a:srgbClr val="000000"/>
                  </a:solidFill>
                  <a:latin typeface="Times New Roman"/>
                </a:endParaRPr>
              </a:p>
            </p:txBody>
          </p:sp>
          <p:sp>
            <p:nvSpPr>
              <p:cNvPr id="474" name=""/>
              <p:cNvSpPr/>
              <p:nvPr/>
            </p:nvSpPr>
            <p:spPr>
              <a:xfrm>
                <a:off x="6386400" y="2443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84</a:t>
                </a:r>
                <a:endParaRPr b="0" lang="en-US" sz="2400" spc="-1" strike="noStrike">
                  <a:solidFill>
                    <a:srgbClr val="000000"/>
                  </a:solidFill>
                  <a:latin typeface="Times New Roman"/>
                </a:endParaRPr>
              </a:p>
            </p:txBody>
          </p:sp>
          <p:sp>
            <p:nvSpPr>
              <p:cNvPr id="475" name=""/>
              <p:cNvSpPr/>
              <p:nvPr/>
            </p:nvSpPr>
            <p:spPr>
              <a:xfrm>
                <a:off x="6386400" y="30765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6</a:t>
                </a:r>
                <a:endParaRPr b="0" lang="en-US" sz="2400" spc="-1" strike="noStrike">
                  <a:solidFill>
                    <a:srgbClr val="000000"/>
                  </a:solidFill>
                  <a:latin typeface="Times New Roman"/>
                </a:endParaRPr>
              </a:p>
            </p:txBody>
          </p:sp>
          <p:sp>
            <p:nvSpPr>
              <p:cNvPr id="476" name=""/>
              <p:cNvSpPr/>
              <p:nvPr/>
            </p:nvSpPr>
            <p:spPr>
              <a:xfrm>
                <a:off x="6442200" y="3711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70</a:t>
                </a:r>
                <a:endParaRPr b="0" lang="en-US" sz="2400" spc="-1" strike="noStrike">
                  <a:solidFill>
                    <a:srgbClr val="000000"/>
                  </a:solidFill>
                  <a:latin typeface="Times New Roman"/>
                </a:endParaRPr>
              </a:p>
            </p:txBody>
          </p:sp>
          <p:sp>
            <p:nvSpPr>
              <p:cNvPr id="477" name=""/>
              <p:cNvSpPr/>
              <p:nvPr/>
            </p:nvSpPr>
            <p:spPr>
              <a:xfrm>
                <a:off x="6386400" y="4344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62</a:t>
                </a:r>
                <a:endParaRPr b="0" lang="en-US" sz="2400" spc="-1" strike="noStrike">
                  <a:solidFill>
                    <a:srgbClr val="000000"/>
                  </a:solidFill>
                  <a:latin typeface="Times New Roman"/>
                </a:endParaRPr>
              </a:p>
            </p:txBody>
          </p:sp>
          <p:sp>
            <p:nvSpPr>
              <p:cNvPr id="478" name=""/>
              <p:cNvSpPr/>
              <p:nvPr/>
            </p:nvSpPr>
            <p:spPr>
              <a:xfrm>
                <a:off x="6386400" y="4979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67</a:t>
                </a:r>
                <a:endParaRPr b="0" lang="en-US" sz="2400" spc="-1" strike="noStrike">
                  <a:solidFill>
                    <a:srgbClr val="000000"/>
                  </a:solidFill>
                  <a:latin typeface="Times New Roman"/>
                </a:endParaRPr>
              </a:p>
            </p:txBody>
          </p:sp>
        </p:grpSp>
        <p:grpSp>
          <p:nvGrpSpPr>
            <p:cNvPr id="479" name=""/>
            <p:cNvGrpSpPr/>
            <p:nvPr/>
          </p:nvGrpSpPr>
          <p:grpSpPr>
            <a:xfrm>
              <a:off x="7758000" y="1768320"/>
              <a:ext cx="593640" cy="3577680"/>
              <a:chOff x="7758000" y="1768320"/>
              <a:chExt cx="593640" cy="3577680"/>
            </a:xfrm>
          </p:grpSpPr>
          <p:sp>
            <p:nvSpPr>
              <p:cNvPr id="480" name=""/>
              <p:cNvSpPr/>
              <p:nvPr/>
            </p:nvSpPr>
            <p:spPr>
              <a:xfrm>
                <a:off x="7848360" y="176832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d</a:t>
                </a:r>
                <a:endParaRPr b="0" lang="en-US" sz="2400" spc="-1" strike="noStrike">
                  <a:solidFill>
                    <a:srgbClr val="000000"/>
                  </a:solidFill>
                  <a:latin typeface="Times New Roman"/>
                </a:endParaRPr>
              </a:p>
            </p:txBody>
          </p:sp>
          <p:sp>
            <p:nvSpPr>
              <p:cNvPr id="481" name=""/>
              <p:cNvSpPr/>
              <p:nvPr/>
            </p:nvSpPr>
            <p:spPr>
              <a:xfrm>
                <a:off x="7758000" y="2443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84</a:t>
                </a:r>
                <a:endParaRPr b="0" lang="en-US" sz="2400" spc="-1" strike="noStrike">
                  <a:solidFill>
                    <a:srgbClr val="000000"/>
                  </a:solidFill>
                  <a:latin typeface="Times New Roman"/>
                </a:endParaRPr>
              </a:p>
            </p:txBody>
          </p:sp>
          <p:sp>
            <p:nvSpPr>
              <p:cNvPr id="482" name=""/>
              <p:cNvSpPr/>
              <p:nvPr/>
            </p:nvSpPr>
            <p:spPr>
              <a:xfrm>
                <a:off x="7758000" y="30765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86</a:t>
                </a:r>
                <a:endParaRPr b="0" lang="en-US" sz="2400" spc="-1" strike="noStrike">
                  <a:solidFill>
                    <a:srgbClr val="000000"/>
                  </a:solidFill>
                  <a:latin typeface="Times New Roman"/>
                </a:endParaRPr>
              </a:p>
            </p:txBody>
          </p:sp>
          <p:sp>
            <p:nvSpPr>
              <p:cNvPr id="483" name=""/>
              <p:cNvSpPr/>
              <p:nvPr/>
            </p:nvSpPr>
            <p:spPr>
              <a:xfrm>
                <a:off x="7758000" y="3711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21</a:t>
                </a:r>
                <a:endParaRPr b="0" lang="en-US" sz="2400" spc="-1" strike="noStrike">
                  <a:solidFill>
                    <a:srgbClr val="000000"/>
                  </a:solidFill>
                  <a:latin typeface="Times New Roman"/>
                </a:endParaRPr>
              </a:p>
            </p:txBody>
          </p:sp>
          <p:sp>
            <p:nvSpPr>
              <p:cNvPr id="484" name=""/>
              <p:cNvSpPr/>
              <p:nvPr/>
            </p:nvSpPr>
            <p:spPr>
              <a:xfrm>
                <a:off x="7758000" y="4344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24</a:t>
                </a:r>
                <a:endParaRPr b="0" lang="en-US" sz="2400" spc="-1" strike="noStrike">
                  <a:solidFill>
                    <a:srgbClr val="000000"/>
                  </a:solidFill>
                  <a:latin typeface="Times New Roman"/>
                </a:endParaRPr>
              </a:p>
            </p:txBody>
          </p:sp>
          <p:sp>
            <p:nvSpPr>
              <p:cNvPr id="485" name=""/>
              <p:cNvSpPr/>
              <p:nvPr/>
            </p:nvSpPr>
            <p:spPr>
              <a:xfrm>
                <a:off x="7758000" y="4979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6</a:t>
                </a:r>
                <a:endParaRPr b="0" lang="en-US" sz="2400" spc="-1" strike="noStrike">
                  <a:solidFill>
                    <a:srgbClr val="000000"/>
                  </a:solidFill>
                  <a:latin typeface="Times New Roman"/>
                </a:endParaRPr>
              </a:p>
            </p:txBody>
          </p:sp>
        </p:grpSp>
        <p:grpSp>
          <p:nvGrpSpPr>
            <p:cNvPr id="486" name=""/>
            <p:cNvGrpSpPr/>
            <p:nvPr/>
          </p:nvGrpSpPr>
          <p:grpSpPr>
            <a:xfrm>
              <a:off x="1217160" y="2443320"/>
              <a:ext cx="1997640" cy="3475440"/>
              <a:chOff x="1217160" y="2443320"/>
              <a:chExt cx="1997640" cy="3475440"/>
            </a:xfrm>
          </p:grpSpPr>
          <p:sp>
            <p:nvSpPr>
              <p:cNvPr id="487" name=""/>
              <p:cNvSpPr/>
              <p:nvPr/>
            </p:nvSpPr>
            <p:spPr>
              <a:xfrm>
                <a:off x="1218600" y="244332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Length</a:t>
                </a:r>
                <a:endParaRPr b="0" lang="en-US" sz="2000" spc="-1" strike="noStrike">
                  <a:solidFill>
                    <a:srgbClr val="000000"/>
                  </a:solidFill>
                  <a:latin typeface="Times New Roman"/>
                </a:endParaRPr>
              </a:p>
            </p:txBody>
          </p:sp>
          <p:sp>
            <p:nvSpPr>
              <p:cNvPr id="488" name=""/>
              <p:cNvSpPr/>
              <p:nvPr/>
            </p:nvSpPr>
            <p:spPr>
              <a:xfrm>
                <a:off x="1218240" y="307656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ip Length</a:t>
                </a:r>
                <a:endParaRPr b="0" lang="en-US" sz="2000" spc="-1" strike="noStrike">
                  <a:solidFill>
                    <a:srgbClr val="000000"/>
                  </a:solidFill>
                  <a:latin typeface="Times New Roman"/>
                </a:endParaRPr>
              </a:p>
            </p:txBody>
          </p:sp>
          <p:sp>
            <p:nvSpPr>
              <p:cNvPr id="489" name=""/>
              <p:cNvSpPr/>
              <p:nvPr/>
            </p:nvSpPr>
            <p:spPr>
              <a:xfrm>
                <a:off x="1219320" y="3711600"/>
                <a:ext cx="187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imp Frequency</a:t>
                </a:r>
                <a:endParaRPr b="0" lang="en-US" sz="1800" spc="-1" strike="noStrike">
                  <a:solidFill>
                    <a:srgbClr val="000000"/>
                  </a:solidFill>
                  <a:latin typeface="Times New Roman"/>
                </a:endParaRPr>
              </a:p>
            </p:txBody>
          </p:sp>
          <p:sp>
            <p:nvSpPr>
              <p:cNvPr id="490" name=""/>
              <p:cNvSpPr/>
              <p:nvPr/>
            </p:nvSpPr>
            <p:spPr>
              <a:xfrm>
                <a:off x="1217520" y="4344840"/>
                <a:ext cx="1997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Crimp "Definition"</a:t>
                </a:r>
                <a:endParaRPr b="0" lang="en-US" sz="1800" spc="-1" strike="noStrike">
                  <a:solidFill>
                    <a:srgbClr val="000000"/>
                  </a:solidFill>
                  <a:latin typeface="Times New Roman"/>
                </a:endParaRPr>
              </a:p>
            </p:txBody>
          </p:sp>
          <p:sp>
            <p:nvSpPr>
              <p:cNvPr id="491" name=""/>
              <p:cNvSpPr/>
              <p:nvPr/>
            </p:nvSpPr>
            <p:spPr>
              <a:xfrm>
                <a:off x="1217160" y="4979880"/>
                <a:ext cx="1331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Brightness</a:t>
                </a:r>
                <a:endParaRPr b="0" lang="en-US" sz="2000" spc="-1" strike="noStrike">
                  <a:solidFill>
                    <a:srgbClr val="000000"/>
                  </a:solidFill>
                  <a:latin typeface="Times New Roman"/>
                </a:endParaRPr>
              </a:p>
            </p:txBody>
          </p:sp>
          <p:sp>
            <p:nvSpPr>
              <p:cNvPr id="492" name=""/>
              <p:cNvSpPr/>
              <p:nvPr/>
            </p:nvSpPr>
            <p:spPr>
              <a:xfrm>
                <a:off x="1217880" y="5613480"/>
                <a:ext cx="1386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Yellowness</a:t>
                </a:r>
                <a:endParaRPr b="0" lang="en-US" sz="2000" spc="-1" strike="noStrike">
                  <a:solidFill>
                    <a:srgbClr val="000000"/>
                  </a:solidFill>
                  <a:latin typeface="Times New Roman"/>
                </a:endParaRPr>
              </a:p>
            </p:txBody>
          </p:sp>
        </p:grpSp>
        <p:grpSp>
          <p:nvGrpSpPr>
            <p:cNvPr id="493" name=""/>
            <p:cNvGrpSpPr/>
            <p:nvPr/>
          </p:nvGrpSpPr>
          <p:grpSpPr>
            <a:xfrm>
              <a:off x="3525840" y="1768320"/>
              <a:ext cx="593640" cy="4211280"/>
              <a:chOff x="3525840" y="1768320"/>
              <a:chExt cx="593640" cy="4211280"/>
            </a:xfrm>
          </p:grpSpPr>
          <p:sp>
            <p:nvSpPr>
              <p:cNvPr id="494" name=""/>
              <p:cNvSpPr/>
              <p:nvPr/>
            </p:nvSpPr>
            <p:spPr>
              <a:xfrm>
                <a:off x="3544920" y="1768320"/>
                <a:ext cx="322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²</a:t>
                </a:r>
                <a:endParaRPr b="0" lang="en-US" sz="2400" spc="-1" strike="noStrike">
                  <a:solidFill>
                    <a:srgbClr val="000000"/>
                  </a:solidFill>
                  <a:latin typeface="Times New Roman"/>
                </a:endParaRPr>
              </a:p>
            </p:txBody>
          </p:sp>
          <p:sp>
            <p:nvSpPr>
              <p:cNvPr id="495" name=""/>
              <p:cNvSpPr/>
              <p:nvPr/>
            </p:nvSpPr>
            <p:spPr>
              <a:xfrm>
                <a:off x="3525840" y="2443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9</a:t>
                </a:r>
                <a:endParaRPr b="0" lang="en-US" sz="2400" spc="-1" strike="noStrike">
                  <a:solidFill>
                    <a:srgbClr val="000000"/>
                  </a:solidFill>
                  <a:latin typeface="Times New Roman"/>
                </a:endParaRPr>
              </a:p>
            </p:txBody>
          </p:sp>
          <p:sp>
            <p:nvSpPr>
              <p:cNvPr id="496" name=""/>
              <p:cNvSpPr/>
              <p:nvPr/>
            </p:nvSpPr>
            <p:spPr>
              <a:xfrm>
                <a:off x="3525840" y="307656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1</a:t>
                </a:r>
                <a:endParaRPr b="0" lang="en-US" sz="2400" spc="-1" strike="noStrike">
                  <a:solidFill>
                    <a:srgbClr val="000000"/>
                  </a:solidFill>
                  <a:latin typeface="Times New Roman"/>
                </a:endParaRPr>
              </a:p>
            </p:txBody>
          </p:sp>
          <p:sp>
            <p:nvSpPr>
              <p:cNvPr id="497" name=""/>
              <p:cNvSpPr/>
              <p:nvPr/>
            </p:nvSpPr>
            <p:spPr>
              <a:xfrm>
                <a:off x="3525840" y="3711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1</a:t>
                </a:r>
                <a:endParaRPr b="0" lang="en-US" sz="2400" spc="-1" strike="noStrike">
                  <a:solidFill>
                    <a:srgbClr val="000000"/>
                  </a:solidFill>
                  <a:latin typeface="Times New Roman"/>
                </a:endParaRPr>
              </a:p>
            </p:txBody>
          </p:sp>
          <p:sp>
            <p:nvSpPr>
              <p:cNvPr id="498" name=""/>
              <p:cNvSpPr/>
              <p:nvPr/>
            </p:nvSpPr>
            <p:spPr>
              <a:xfrm>
                <a:off x="3525840" y="4344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2</a:t>
                </a:r>
                <a:endParaRPr b="0" lang="en-US" sz="2400" spc="-1" strike="noStrike">
                  <a:solidFill>
                    <a:srgbClr val="000000"/>
                  </a:solidFill>
                  <a:latin typeface="Times New Roman"/>
                </a:endParaRPr>
              </a:p>
            </p:txBody>
          </p:sp>
          <p:sp>
            <p:nvSpPr>
              <p:cNvPr id="499" name=""/>
              <p:cNvSpPr/>
              <p:nvPr/>
            </p:nvSpPr>
            <p:spPr>
              <a:xfrm>
                <a:off x="3525840" y="4979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7</a:t>
                </a:r>
                <a:endParaRPr b="0" lang="en-US" sz="2400" spc="-1" strike="noStrike">
                  <a:solidFill>
                    <a:srgbClr val="000000"/>
                  </a:solidFill>
                  <a:latin typeface="Times New Roman"/>
                </a:endParaRPr>
              </a:p>
            </p:txBody>
          </p:sp>
          <p:sp>
            <p:nvSpPr>
              <p:cNvPr id="500" name=""/>
              <p:cNvSpPr/>
              <p:nvPr/>
            </p:nvSpPr>
            <p:spPr>
              <a:xfrm>
                <a:off x="3525840" y="56134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6</a:t>
                </a:r>
                <a:endParaRPr b="0" lang="en-US" sz="2400" spc="-1" strike="noStrike">
                  <a:solidFill>
                    <a:srgbClr val="000000"/>
                  </a:solidFill>
                  <a:latin typeface="Times New Roman"/>
                </a:endParaRPr>
              </a:p>
            </p:txBody>
          </p:sp>
        </p:grpSp>
        <p:grpSp>
          <p:nvGrpSpPr>
            <p:cNvPr id="501" name=""/>
            <p:cNvGrpSpPr/>
            <p:nvPr/>
          </p:nvGrpSpPr>
          <p:grpSpPr>
            <a:xfrm>
              <a:off x="5014800" y="1768320"/>
              <a:ext cx="593640" cy="4211280"/>
              <a:chOff x="5014800" y="1768320"/>
              <a:chExt cx="593640" cy="4211280"/>
            </a:xfrm>
          </p:grpSpPr>
          <p:sp>
            <p:nvSpPr>
              <p:cNvPr id="502" name=""/>
              <p:cNvSpPr/>
              <p:nvPr/>
            </p:nvSpPr>
            <p:spPr>
              <a:xfrm>
                <a:off x="5104800" y="176832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d</a:t>
                </a:r>
                <a:endParaRPr b="0" lang="en-US" sz="2400" spc="-1" strike="noStrike">
                  <a:solidFill>
                    <a:srgbClr val="000000"/>
                  </a:solidFill>
                  <a:latin typeface="Times New Roman"/>
                </a:endParaRPr>
              </a:p>
            </p:txBody>
          </p:sp>
          <p:sp>
            <p:nvSpPr>
              <p:cNvPr id="503" name=""/>
              <p:cNvSpPr/>
              <p:nvPr/>
            </p:nvSpPr>
            <p:spPr>
              <a:xfrm>
                <a:off x="5071680" y="24433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8</a:t>
                </a:r>
                <a:endParaRPr b="0" lang="en-US" sz="2400" spc="-1" strike="noStrike">
                  <a:solidFill>
                    <a:srgbClr val="000000"/>
                  </a:solidFill>
                  <a:latin typeface="Times New Roman"/>
                </a:endParaRPr>
              </a:p>
            </p:txBody>
          </p:sp>
          <p:sp>
            <p:nvSpPr>
              <p:cNvPr id="504" name=""/>
              <p:cNvSpPr/>
              <p:nvPr/>
            </p:nvSpPr>
            <p:spPr>
              <a:xfrm>
                <a:off x="5071680" y="30765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a:t>
                </a:r>
                <a:endParaRPr b="0" lang="en-US" sz="2400" spc="-1" strike="noStrike">
                  <a:solidFill>
                    <a:srgbClr val="000000"/>
                  </a:solidFill>
                  <a:latin typeface="Times New Roman"/>
                </a:endParaRPr>
              </a:p>
            </p:txBody>
          </p:sp>
          <p:sp>
            <p:nvSpPr>
              <p:cNvPr id="505" name=""/>
              <p:cNvSpPr/>
              <p:nvPr/>
            </p:nvSpPr>
            <p:spPr>
              <a:xfrm>
                <a:off x="5014800" y="37116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12</a:t>
                </a:r>
                <a:endParaRPr b="0" lang="en-US" sz="2400" spc="-1" strike="noStrike">
                  <a:solidFill>
                    <a:srgbClr val="000000"/>
                  </a:solidFill>
                  <a:latin typeface="Times New Roman"/>
                </a:endParaRPr>
              </a:p>
            </p:txBody>
          </p:sp>
          <p:sp>
            <p:nvSpPr>
              <p:cNvPr id="506" name=""/>
              <p:cNvSpPr/>
              <p:nvPr/>
            </p:nvSpPr>
            <p:spPr>
              <a:xfrm>
                <a:off x="5014800" y="4344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38</a:t>
                </a:r>
                <a:endParaRPr b="0" lang="en-US" sz="2400" spc="-1" strike="noStrike">
                  <a:solidFill>
                    <a:srgbClr val="000000"/>
                  </a:solidFill>
                  <a:latin typeface="Times New Roman"/>
                </a:endParaRPr>
              </a:p>
            </p:txBody>
          </p:sp>
          <p:sp>
            <p:nvSpPr>
              <p:cNvPr id="507" name=""/>
              <p:cNvSpPr/>
              <p:nvPr/>
            </p:nvSpPr>
            <p:spPr>
              <a:xfrm>
                <a:off x="5014800" y="49798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41</a:t>
                </a:r>
                <a:endParaRPr b="0" lang="en-US" sz="2400" spc="-1" strike="noStrike">
                  <a:solidFill>
                    <a:srgbClr val="000000"/>
                  </a:solidFill>
                  <a:latin typeface="Times New Roman"/>
                </a:endParaRPr>
              </a:p>
            </p:txBody>
          </p:sp>
          <p:sp>
            <p:nvSpPr>
              <p:cNvPr id="508" name=""/>
              <p:cNvSpPr/>
              <p:nvPr/>
            </p:nvSpPr>
            <p:spPr>
              <a:xfrm>
                <a:off x="5014800" y="561348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16</a:t>
                </a:r>
                <a:endParaRPr b="0" lang="en-US" sz="2400" spc="-1" strike="noStrike">
                  <a:solidFill>
                    <a:srgbClr val="000000"/>
                  </a:solidFill>
                  <a:latin typeface="Times New Roman"/>
                </a:endParaRPr>
              </a:p>
            </p:txBody>
          </p:sp>
        </p:grpSp>
        <p:sp>
          <p:nvSpPr>
            <p:cNvPr id="509" name=""/>
            <p:cNvSpPr/>
            <p:nvPr/>
          </p:nvSpPr>
          <p:spPr>
            <a:xfrm>
              <a:off x="4556160" y="1744560"/>
              <a:ext cx="14400" cy="4471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214800" y="175248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929200" y="1752480"/>
              <a:ext cx="0" cy="4572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128600" y="2133720"/>
              <a:ext cx="7543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00:41:26Z</dcterms:created>
  <dc:creator>USER</dc:creator>
  <dc:description/>
  <dc:language>en-US</dc:language>
  <cp:lastModifiedBy>select agreement</cp:lastModifiedBy>
  <cp:lastPrinted>2000-02-03T09:09:47Z</cp:lastPrinted>
  <dcterms:modified xsi:type="dcterms:W3CDTF">2000-03-07T02:47:38Z</dcterms:modified>
  <cp:revision>4</cp:revision>
  <dc:subject/>
  <dc:title>Style Instrumentation</dc:title>
</cp:coreProperties>
</file>