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9D3D-6F9A-4389-BB81-71C81A775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outlines the implications of raw wool properties to a commercial top-maker, and as a consequence, to the customers of the top-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xample of how a particular raw wool property can affect a batch of tops is provi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w wool characteristics which play the major role in determining the final length of the top are staple length, staple strength and position of brea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ak wool with a high percentage of mid breaks always causes problems.  Such wool would produce a top with a lower Hauteur, higher CVH and greater percentage (%) of short fibres.  It wouldn’t be used in a good spinning blend.  However it can be used in the type of blend that compares with a Fleece/Pieces bl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mill knows the approximate strength of wool it needs to achieve a required mean fibre length in the top.  There is no exact cut-off between weak and strong wool, but once the strength of wool is above 40 N/ktex it would be universally accepted as s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clusion of POB into TEAM II was readily accepted by mills.  Position of break gives a very good indication as to where the wool fibre has the greastest potential for breakage.  Base and tip breaks mean that the ends will likely be lost to noil during combing, without having a significant effect on Hauteur, while high mid-breaks means that both broken ends are retained past combing, but will have some effect on the subsequent average fibre length in the t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n fibre diameter has the greastest influence on the price of both raw wool and top.  Tops produced from finer diameter wools are able to be spun into finer yarns and hence made into garments which are lighter, softer and have a higher comfort factor.  For more information in this area see module “Developments in Yarn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is the easiest parameter to predict and relate to the final product.  Airflow measurement has been universally accepted for attaining the mean fibre diameter and is used for all pre-sale testing and most top trading.  The development in more recent years of Sirolan-Laserscan and OFDA now allows for the measurement of CVD as well as mean fibre diameter.  It is envisaged that in early 2000 Laserscan measurement will be introduced into the testing houses and replace the more traditional Airflow method.  For more information see the module “Instruments to measur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diction of top diameter is slightly different for each mill because of the different machine settings and processing parameters used.  If comb gauge settings are “wide”, a large number of short, and therefore fine, fibres will be removed.  Conversely, if the gauge settings are narrow, the finer fibres will remain in the top.  The usual effect is for the top to be slightly coarser than the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w that CVD is more readily available, buyers and sellers are on a learning curve with this parameter.  Michell laboratories have been measuring CVD in tops with the projection microscope for many years and haven’t seen a huge shift  in CVD.  The range in tops is not large (about 8% CVD, from 20 - 28%), over the general diameter range.  So there doesn’t seem to be a lot of room for improv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VD of greasy wool is as not yet routinely reported, and therefore a mill factor to predict how it behaves and how it affects the final product has yet to be determined.  It will be a few years before this parameter can be introduced as a specific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egetable matter base (VMB) has a direct effect on mill production yield.  The mill needs to know how much VM is in a batch to get their machinery setting right.  It is used in the TEAM formulas as it is known that VM causes fibre breakage and fibre lo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e of VM has a large effect on plant settings.  Some types are easy to remove and others like shive behave like wool fibres and may end up in the final product.  Bathurst and Nagorra burr can stick to the card clothing, requiring the card to be fettled (teeth clea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bjective style is a parameter still being developed and trialled but the results could help to refine prediction formulas.  It should be noted however that 80% of the variation in mean fibre length in top is accounted for in the existing parameters of staple length, staple strength, fibre diameter, POB and VM, so the introduction of style parameters into any prediction would be fine tu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surement of crimp is of interest to topmaking mills, and Michells looks forward to its int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on style effects in processing see the module “Style Effects in Process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Base and estimated Top and Noil Yield have been extremely valuable to mills to calculate prices paid, costs incurred and for batch formation.  Mills cannot imagine now trading without a raw wool yield measurement.  For more information on yield and its measurement see modules “Wool Base and Vegetable Base” and “Yield Deter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asy wool colour is a poor indicator of top colour.  Greasy wool must be scoured and measured for colour.  Scoured colour is a good indicator of top colour.  The module “Measurement of Wool Colour”  is of interest 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bjective measure of scoured wool colour gives what is known as ‘base colour’.  This is important to the processor, because to produce a wool that will dye to bright clear colours and mix with synthetics it must be as white as possible.  Spinners are starting to specify this characterist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not all wool is required to be white.  If the mill knows the end market for the wool, then a cheaper blend containing yellower wools could be assembled for the spinner.  In the extreme, which is an end use which is black or a very dark colour, a top can be made using stain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of a top is also reliant on colour.  A stains tops will be much cheaper than a white to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8BAD-8ABF-42EA-9400-056ADF88B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pecific example of the performance of two batches of tops produced at Michell &amp; Sons.  It is provided to illustrate the importance of raw wool parameters to the top-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2 batches were produced from 22µm, 100% fleec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ant difference in Hauteur would cause no problem in processing.  However, the major difference between the batches is the CVH caused by the difference in the staple strength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ing (spinning) performance parameters for each batch are listed be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Top A</a:t>
            </a:r>
            <a:r>
              <a:rPr b="0" lang="en-GB" sz="1200" spc="-1" strike="noStrike">
                <a:solidFill>
                  <a:srgbClr val="000000"/>
                </a:solidFill>
                <a:latin typeface="Times New Roman"/>
              </a:rPr>
              <a:t>	</a:t>
            </a:r>
            <a:r>
              <a:rPr b="0" lang="en-GB" sz="1200" spc="-1" strike="noStrike">
                <a:solidFill>
                  <a:srgbClr val="000000"/>
                </a:solidFill>
                <a:latin typeface="Times New Roman"/>
              </a:rPr>
              <a:t>Top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dle Speed</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10800</a:t>
            </a:r>
            <a:r>
              <a:rPr b="0" lang="en-GB" sz="1200" spc="-1" strike="noStrike">
                <a:solidFill>
                  <a:srgbClr val="000000"/>
                </a:solidFill>
                <a:latin typeface="Times New Roman"/>
              </a:rPr>
              <a:t>	</a:t>
            </a:r>
            <a:r>
              <a:rPr b="0" lang="en-GB" sz="1200" spc="-1" strike="noStrike">
                <a:solidFill>
                  <a:srgbClr val="000000"/>
                </a:solidFill>
                <a:latin typeface="Times New Roman"/>
              </a:rPr>
              <a:t>85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t/Da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3551 Kg</a:t>
            </a:r>
            <a:r>
              <a:rPr b="0" lang="en-GB" sz="1200" spc="-1" strike="noStrike">
                <a:solidFill>
                  <a:srgbClr val="000000"/>
                </a:solidFill>
                <a:latin typeface="Times New Roman"/>
              </a:rPr>
              <a:t>	</a:t>
            </a:r>
            <a:r>
              <a:rPr b="0" lang="en-GB" sz="1200" spc="-1" strike="noStrike">
                <a:solidFill>
                  <a:srgbClr val="000000"/>
                </a:solidFill>
                <a:latin typeface="Times New Roman"/>
              </a:rPr>
              <a:t>2795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version cost/kg</a:t>
            </a:r>
            <a:r>
              <a:rPr b="0" lang="en-GB" sz="1200" spc="-1" strike="noStrike">
                <a:solidFill>
                  <a:srgbClr val="000000"/>
                </a:solidFill>
                <a:latin typeface="Times New Roman"/>
              </a:rPr>
              <a:t>	</a:t>
            </a:r>
            <a:r>
              <a:rPr b="0" lang="en-GB" sz="1200" spc="-1" strike="noStrike">
                <a:solidFill>
                  <a:srgbClr val="000000"/>
                </a:solidFill>
                <a:latin typeface="Times New Roman"/>
              </a:rPr>
              <a:t>US $4.01</a:t>
            </a:r>
            <a:r>
              <a:rPr b="0" lang="en-GB" sz="1200" spc="-1" strike="noStrike">
                <a:solidFill>
                  <a:srgbClr val="000000"/>
                </a:solidFill>
                <a:latin typeface="Times New Roman"/>
              </a:rPr>
              <a:t>	</a:t>
            </a:r>
            <a:r>
              <a:rPr b="0" lang="en-GB" sz="1200" spc="-1" strike="noStrike">
                <a:solidFill>
                  <a:srgbClr val="000000"/>
                </a:solidFill>
                <a:latin typeface="Times New Roman"/>
              </a:rPr>
              <a:t>US $5.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B cost more to produce with yarn of reduced evenness and yarn strength.  Its performance is clearly inferior in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ample shows that raw wool specifications are critical.  To achieve a CVH of 45%,  strong wools must be used.  The correlation between CVH and short fibres is hig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Implications of Raw Wool Properties to a Top-mak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J. Turk, G.H. Michell &amp; Sons P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w Wool Parameter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ple leng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ple streng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B</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qually important for 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luded in TEAM</a:t>
            </a:r>
            <a:endParaRPr b="1" lang="en-US" sz="2400" spc="-1" strike="noStrike">
              <a:solidFill>
                <a:srgbClr val="ffffff"/>
              </a:solidFill>
              <a:latin typeface="Arial"/>
            </a:endParaRPr>
          </a:p>
        </p:txBody>
      </p:sp>
      <p:sp>
        <p:nvSpPr>
          <p:cNvPr id="51"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w Wool Parameters</a:t>
            </a:r>
            <a:endParaRPr b="1" lang="en-US" sz="3200" spc="-1" strike="noStrike">
              <a:solidFill>
                <a:srgbClr val="fafd00"/>
              </a:solidFill>
              <a:latin typeface="Arial"/>
            </a:endParaRPr>
          </a:p>
        </p:txBody>
      </p:sp>
      <p:sp>
        <p:nvSpPr>
          <p:cNvPr id="53" name="PlaceHolder 2"/>
          <p:cNvSpPr>
            <a:spLocks noGrp="1"/>
          </p:cNvSpPr>
          <p:nvPr>
            <p:ph/>
          </p:nvPr>
        </p:nvSpPr>
        <p:spPr>
          <a:xfrm>
            <a:off x="1218960" y="10666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Mean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er in top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a:t>
            </a:r>
            <a:r>
              <a:rPr b="1" lang="en-AU" sz="2000" spc="-1" strike="noStrike">
                <a:solidFill>
                  <a:srgbClr val="ffffff"/>
                </a:solidFill>
                <a:latin typeface="Symbol"/>
                <a:ea typeface="Symbol"/>
              </a:rPr>
              <a:t></a:t>
            </a:r>
            <a:r>
              <a:rPr b="1" lang="en-AU" sz="2000" spc="-1" strike="noStrike">
                <a:solidFill>
                  <a:srgbClr val="ffffff"/>
                </a:solidFill>
                <a:latin typeface="Arial"/>
              </a:rPr>
              <a:t>m</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test price effe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luded in TEAM</a:t>
            </a:r>
            <a:endParaRPr b="1" lang="en-US" sz="2400" spc="-1" strike="noStrike">
              <a:solidFill>
                <a:srgbClr val="ffffff"/>
              </a:solidFill>
              <a:latin typeface="Arial"/>
            </a:endParaRPr>
          </a:p>
        </p:txBody>
      </p:sp>
      <p:sp>
        <p:nvSpPr>
          <p:cNvPr id="54" name="PlaceHolder 3"/>
          <p:cNvSpPr>
            <a:spLocks noGrp="1"/>
          </p:cNvSpPr>
          <p:nvPr>
            <p:ph/>
          </p:nvPr>
        </p:nvSpPr>
        <p:spPr>
          <a:xfrm>
            <a:off x="4876920" y="1066680"/>
            <a:ext cx="41148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V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8% in 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t in customer specs ye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raw wool information ye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iche markets only</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n’t assess effect on H</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w Wool Parameters</a:t>
            </a:r>
            <a:endParaRPr b="1" lang="en-US" sz="3200" spc="-1" strike="noStrike">
              <a:solidFill>
                <a:srgbClr val="fafd00"/>
              </a:solidFill>
              <a:latin typeface="Arial"/>
            </a:endParaRPr>
          </a:p>
        </p:txBody>
      </p:sp>
      <p:sp>
        <p:nvSpPr>
          <p:cNvPr id="57" name="PlaceHolder 2"/>
          <p:cNvSpPr>
            <a:spLocks noGrp="1"/>
          </p:cNvSpPr>
          <p:nvPr>
            <p:ph/>
          </p:nvPr>
        </p:nvSpPr>
        <p:spPr>
          <a:xfrm>
            <a:off x="1143000" y="1066680"/>
            <a:ext cx="419112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V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yiel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plant sett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M typ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breakage</a:t>
            </a:r>
            <a:endParaRPr b="1" lang="en-US" sz="2000" spc="-1" strike="noStrike">
              <a:solidFill>
                <a:srgbClr val="ffffff"/>
              </a:solidFill>
              <a:latin typeface="Arial"/>
            </a:endParaRPr>
          </a:p>
        </p:txBody>
      </p:sp>
      <p:sp>
        <p:nvSpPr>
          <p:cNvPr id="58" name="PlaceHolder 3"/>
          <p:cNvSpPr>
            <a:spLocks noGrp="1"/>
          </p:cNvSpPr>
          <p:nvPr>
            <p:ph/>
          </p:nvPr>
        </p:nvSpPr>
        <p:spPr>
          <a:xfrm>
            <a:off x="4800240" y="990360"/>
            <a:ext cx="426708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Sty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ssible effect on 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fine TEAM II?</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info need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e tuning only</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rimp effe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lls interested</a:t>
            </a:r>
            <a:endParaRPr b="1" lang="en-US" sz="2400" spc="-1" strike="noStrike">
              <a:solidFill>
                <a:srgbClr val="ffffff"/>
              </a:solidFill>
              <a:latin typeface="Arial"/>
            </a:endParaRPr>
          </a:p>
        </p:txBody>
      </p:sp>
      <p:sp>
        <p:nvSpPr>
          <p:cNvPr id="59"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ther Parameters</a:t>
            </a:r>
            <a:endParaRPr b="1" lang="en-US" sz="3200" spc="-1" strike="noStrike">
              <a:solidFill>
                <a:srgbClr val="fafd00"/>
              </a:solidFill>
              <a:latin typeface="Arial"/>
            </a:endParaRPr>
          </a:p>
        </p:txBody>
      </p:sp>
      <p:sp>
        <p:nvSpPr>
          <p:cNvPr id="61" name="PlaceHolder 2"/>
          <p:cNvSpPr>
            <a:spLocks noGrp="1"/>
          </p:cNvSpPr>
          <p:nvPr>
            <p:ph/>
          </p:nvPr>
        </p:nvSpPr>
        <p:spPr>
          <a:xfrm>
            <a:off x="1142640" y="10666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Yiel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B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 &amp; Noil Yiel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s price pai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s costs incurred</a:t>
            </a:r>
            <a:endParaRPr b="1" lang="en-US" sz="2000" spc="-1" strike="noStrike">
              <a:solidFill>
                <a:srgbClr val="ffffff"/>
              </a:solidFill>
              <a:latin typeface="Arial"/>
            </a:endParaRPr>
          </a:p>
        </p:txBody>
      </p:sp>
      <p:sp>
        <p:nvSpPr>
          <p:cNvPr id="62" name="PlaceHolder 3"/>
          <p:cNvSpPr>
            <a:spLocks noGrp="1"/>
          </p:cNvSpPr>
          <p:nvPr>
            <p:ph/>
          </p:nvPr>
        </p:nvSpPr>
        <p:spPr>
          <a:xfrm>
            <a:off x="4648320" y="1066680"/>
            <a:ext cx="44956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olou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ortant to end-user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lend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yeing</a:t>
            </a:r>
            <a:endParaRPr b="1" lang="en-US" sz="2000" spc="-1" strike="noStrike">
              <a:solidFill>
                <a:srgbClr val="ffffff"/>
              </a:solidFill>
              <a:latin typeface="Arial"/>
            </a:endParaRPr>
          </a:p>
        </p:txBody>
      </p:sp>
      <p:sp>
        <p:nvSpPr>
          <p:cNvPr id="63"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cessing Example</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o tops produced for Japan - 2 X 48’s Weaving Yar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afd00"/>
                </a:solidFill>
                <a:latin typeface="Arial"/>
              </a:rPr>
              <a:t>TOP  A</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TOP  B</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72</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67</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45</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49</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t;40m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5%</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S</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8</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2</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85-9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85-90</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top do you think would spin better? </a:t>
            </a:r>
            <a:endParaRPr b="1" lang="en-US" sz="2400" spc="-1" strike="noStrike">
              <a:solidFill>
                <a:srgbClr val="ffffff"/>
              </a:solidFill>
              <a:latin typeface="Arial"/>
            </a:endParaRPr>
          </a:p>
        </p:txBody>
      </p:sp>
      <p:sp>
        <p:nvSpPr>
          <p:cNvPr id="66"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2:56:18Z</dcterms:created>
  <dc:creator>USER</dc:creator>
  <dc:description/>
  <dc:language>en-US</dc:language>
  <cp:lastModifiedBy>Hdaily</cp:lastModifiedBy>
  <cp:lastPrinted>2000-02-03T09:09:47Z</cp:lastPrinted>
  <dcterms:modified xsi:type="dcterms:W3CDTF">2000-05-11T05:06:36Z</dcterms:modified>
  <cp:revision>4</cp:revision>
  <dc:subject/>
  <dc:title>The Implications of Raw Wool Properties to a Top-maker</dc:title>
</cp:coreProperties>
</file>