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634B-33FB-4373-815C-5AA40E0ED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provides an insight into the adoption of prediction at G.H. Michell &amp; Sons Pty. Ltd.  This top-maker is based in South Australia, but supplies tops to the world made from Australi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2767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Ms. J. Turk, G.H. Michell &amp; Sons Pty Lt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Michells group of companies (Michells hereafter) have been processing wool for over 129 years, starting in a small country town north of Adelaide scouring the local fleece in a river and carting it to Port Adelaide for shipment oversea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first scouring plant was purchased in 1896 at Hindmarsh near Adelaide. Combing started there in the mid 1930’s and carbonising in the mid 1940’s.   Processing was also carried out at Fremantle WA, Botany NSW and Collingwood Victoria.  In 1972 all processing was consolidated at a new purpose-built factory at Salisbury, SA., where Michells remains toda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ichells is also a hide and sheepskin processor owning 9 tanneries - 8 in Australia and 1 in Ireland. They also have been Superwash shrinkproof processing for about 25 years, continually upgrading their process.  The latest processing equipment for Superwash was installed in 1997.</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ost of Michells production of tops, scoured and or carbonised wool, superwash, hides and sheepskins is exported to more than 140 countries.  Michells have offices or agents in all states in Australia, and in many OS countries, giving first hand knowledge of marke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ichells invests in the future by regularly upgrading machinery and technology.  Michells participate in research working closely with machine manufacturers and research establishments like CSIRO.  An example of this is the recent 2 year research project with CSIRO and Thibeau running an experimental high speed card which is now on the market and being purchased by processors around the world.  For more details see “High Speed Carding” modul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ichells buys the best wool to meet their customer, the spinner’s, specifications.  They take advantage of all available selling methods such as buying forward from the wool producer, the auction system and purchasing from the wool stockpile.  Michells is also happy to embrace electronic purchas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ichells processes on contract to the spinners’ specifications and therefore carries the risk for non adherence to specifications. The needs of the customers, spinners/weavers and end users are evolving towards more casual, lightweight, next to skin wear which is easy care machine washable.  New processes within the mill can now provide for these needs.</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8003-5307-4DD1-86ED-BE09904F0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428640"/>
            <a:ext cx="5943600" cy="487692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ast wool trading was carried out on subjective appraisal.  This was acceptable when the finished product was also assessed subjectively.  When fast, accurate and precise methods of measuring length and diameter of the finished sliver (Airflow and Almeter) were introduced, it became apparent that subjective measurements were not as good as previously thought.  The industry needed a means of objectively measuring the greasy wool so that accurate prediction of the finished product could be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ocessor cannot guarantee a parameter to a customer without the means of knowing the raw product specifications and how it will perform during processing.  With each new measurement a better understanding of the process has develop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inners have calculated the optimum top length, CVH and percentage of short fibres they need to run efficiently and are paying to get it.  The mill must meet more specifications than it used to, and to do this accurate prediction is impera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one are the days in the worsted industry of traders pitting opinion against opinion, all claims are now made against objective measurements where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omber/topmaker like Michells sells tops to contract to spinners specifications.  They own the wool through the process and are vulnerable to claims if the top doesn’t meet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y have a large vested interest in buying the cheapest greasy wool they can to achieve the best tops with the least amount of waste.  The margin between making a profit or loss on a particular consignment lies with the ability to create the most cost effective processing batch.  As combers’ margins are very small, a mill could run at a loss immediately there is a rejected or reworked wool bat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ool has become increasing specified, the spinners have tightened their specifications.  Most spinners these days are using synthetics as well as wool, and wool does not compare favourably with synthetics for ease of processing.  A synthetic top can virtually be made to specifications with tightly controlled variation.  The fibres are also stronger than woo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D88A-A84E-4F00-B93E-15104BEF6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chells participated in the TEAM I and TEAM II round trials.  Michells tried to use TEAM I but were always of the opinion that POB had an influence on finished length.  This was borne out when it was incorporated into the TEAM II prediction formula, which gave a far superior prediction.  Michells now uses the TEAM II formu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chells have constantly updated their database of objective measurements and have developed their own mill correction factor.  This factor is very important since every mill performs differently and even within a mill different lines may perform different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 part of the process will have an effect on the final processed length.  Opening of greasy wool, scour settings, type and speed of cards, type of carding/combing oils used and comb settings are some factors which influence the length of top.  Wool that is packed in bales between scour and card can yield shorter fibre length in top than wools processed in a continuous process.  All these features of a mill are built into a mill factor, no two mills are exactly the same for the above reas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1548-8BD2-4CC9-9869-F2F394EA5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chells is dedicated to the idea of objective measurements and prediction of processing performance, and will only buy fully tested wool.  To make the prediction formula work it requires a lot of testing, in house trials and a flexible, large database to fully understand how machines and settings affect the final product.  The Michells database is based on a throughput of some 15 million kg of raw wool per ann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mills do not have the dedication, technical expertise or computer facilities to do this.  This is why some mills do not use a prediction formu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t of tops produced in the world are commission combed, i.e. the greasy wool purchaser and owner pays a mill to scour and comb their wool.  A commission comber has less interest in experimenting to maximise processing performance, and is therefore less likely to use a prediction formula.  Commission combers also don’t have access to the objective measurements of the raw wool in some ca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A038-8C79-4828-8D85-CD9ACBC45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s proof to Michells that prediction wor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ws, over a period of ten years, the reduction in rejects for 20-21µm wool which fell 4mm short.  The base year is 1986 at 1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radigm decrease in rejected wool corresponds to the time that processing prediction  using objective measurements (TEAM) was introduced at Michells.  Further developments have seen this figure fall further since then, always using TEAM as a benchmarking tool.  Although there are still failures, these are very r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ns that as far as Michells is concerned, fully tested wool will receive a higher market price than untested wool.  Untested wool will always be at a discount because buyers will assume it is tend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83D04-C967-4E3F-883A-D742934B6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Ms. J. Turk, G.H. Michell &amp; Sons Pty Lt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lide examines just what is involved in meeting the requirements of the spinne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bre diameter is the most important parameter and this is demonstrated by how much buyers will pay for a small shift in micron.  Fibre diameter is probably the easiest parameter to predict in the finished product.  The usual result is for the top to be slightly coarser than the greasy, some finer fibre being combed out in the noil.  However some mills notice no change between greasy and top fibre diamete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ameter, mean fibre length in top (Hauteur) and percentage of short fibres would be the primary parameters in a spinners specifications.  Spinners want wools of low CV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venness of the finished sliver is very important to the spinner.  Short wool sliver is inherently more uneven than long wool sliver so these factors are taken into consideration. Without a low CVH, spinners cannot achieve the yarn evenness to make a smooth fabric.</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nolin is a very poor combing oil, so a scourer will remove as much as possible without damaging the wool.  Combing oils that have good lubricity and high antistatic properties are added to scoured wool prior to carding.  These oils are synthetic.</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st contracts are sold on a specific % regain.  The wool industry uses regain instead of moisture, see “Regain &amp; Oven-dry Weight” module for more information.  By selling on a specific percentage regain the processor is not penalised for dry wool and the customer is not penalised for wet wool.  Top is usually sold on 18.25% regain.  All bales are tested for regain and the invoice mass adjusted accordingl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ps are small knots introduced during processing. The majority of the neps are introduced in the carding process, but the gilling operation may also introduce some.  Neps are removed as noil in the combing process.  Neps which are not removed cause faults in yarns; the larger the nep the bigger the problem. Spinners will tolerate very small neps which will hide in the yarn or spin out.  Similarly small pieces of vegetable matter (VM) can be tolerated, but long pieces which behave like fibres weave into fabric causing downtime and mending cost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yers need to know the pH of the wool to be able to set the correct dye formulae.  Top sliver can vary in pH depending how it is processed.  In a neutral scour wool will buffer to an alkaline pH of about 8.</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igmented and stained fibres cause problems in the finished white fabric and dyed pastel shades.  See “Dark Fibre / Medullated Fibre” for more information.</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maker’s customer, the spinner, has quickly recognised that if they get the product they want their efficiences improve as does their profit.  They get less reject and less was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inning and weaving machines have increased their speed dramatically in the last few years so the demand from the spinner is for a well defined product, of suitable length and little variation.  They require a product that meets specifications and is consistent, so they can set up their high speed spinning machinery and it will run for hours without intervention, i.e. no ends down, no breaks, joins or excessive waste, and produce a yarn that is ev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making mill doesn’t wish to have any surprises in their production and to achieve this they need accurate prediction abilities.  This is vital if the topmaker is going to meet the spinner’s requirements with confidence, and also produce a top at least cost.  Cost factors such as production efficiency must be maximised, while waste must be minimis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lways a few batches which do not conform to the TEAM prediction formula.  The reason(s) for non-conforming batches is not known at present.  However on the whole the TEAM formula with the inclusion of the mill factor suffices for the majority of lots at pres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Michells learn more about wool metrology new facts can be incorporated into the formulae allowing for more predictability and accura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 paid by the mill for their raw product, the wool, is about 75% of plant costs.  This fact alone means that objective measurement and accurate prediction is of vital importance to the success of a mi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diction in the Mill Environ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s. J. Turk, G.H. Michell &amp; Sons Pty Lt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H. Michell &amp; Sons’ Story</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stor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c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hilosoph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vest in the fu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y the best wo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 to customer spec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stom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quirem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volving needs</a:t>
            </a:r>
            <a:endParaRPr b="1" lang="en-US" sz="2400" spc="-1" strike="noStrike">
              <a:solidFill>
                <a:srgbClr val="ffffff"/>
              </a:solidFill>
              <a:latin typeface="Arial"/>
            </a:endParaRPr>
          </a:p>
        </p:txBody>
      </p:sp>
      <p:sp>
        <p:nvSpPr>
          <p:cNvPr id="51"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velopment of Metrology</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3000"/>
          </a:bodyPr>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bjective Measurement</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laced Subjective Appraisal</a:t>
            </a:r>
            <a:endParaRPr b="1" lang="en-US" sz="24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ditional expertise lost</a:t>
            </a:r>
            <a:endParaRPr b="1" lang="en-US" sz="24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ighter product specification</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demanding technology</a:t>
            </a:r>
            <a:endParaRPr b="1" lang="en-US" sz="24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ult of objective measurement</a:t>
            </a:r>
            <a:endParaRPr b="1" lang="en-US" sz="24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et specs at least cost</a:t>
            </a:r>
            <a:endParaRPr b="1" lang="en-US" sz="24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 guarantee</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aims</a:t>
            </a:r>
            <a:endParaRPr b="1" lang="en-US" sz="24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st impetus</a:t>
            </a:r>
            <a:endParaRPr b="1" lang="en-US" sz="24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mall margins</a:t>
            </a:r>
            <a:endParaRPr b="1" lang="en-US" sz="2400" spc="-1" strike="noStrike">
              <a:solidFill>
                <a:srgbClr val="ffffff"/>
              </a:solidFill>
              <a:latin typeface="Arial"/>
            </a:endParaRPr>
          </a:p>
        </p:txBody>
      </p:sp>
      <p:sp>
        <p:nvSpPr>
          <p:cNvPr id="54"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685800" y="380880"/>
            <a:ext cx="7772400" cy="114300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diction at Michell &amp; Son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art of TEAM I develop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art of TEAM II develop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lusion of POB</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taba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antly updated</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chells use standard TEAM II formula</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ll correction facto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erent mil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erent lines</a:t>
            </a:r>
            <a:endParaRPr b="1" lang="en-US" sz="2400" spc="-1" strike="noStrike">
              <a:solidFill>
                <a:srgbClr val="ffffff"/>
              </a:solidFill>
              <a:latin typeface="Arial"/>
            </a:endParaRPr>
          </a:p>
        </p:txBody>
      </p:sp>
      <p:sp>
        <p:nvSpPr>
          <p:cNvPr id="58"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doption of Prediction</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dic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chells experie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base developmen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M kg per year throughpu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chnical Experti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ercial knowledg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lief in predi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puter pow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easy to appl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tting better every year</a:t>
            </a:r>
            <a:endParaRPr b="1" lang="en-US" sz="2400" spc="-1" strike="noStrike">
              <a:solidFill>
                <a:srgbClr val="ffffff"/>
              </a:solidFill>
              <a:latin typeface="Arial"/>
            </a:endParaRPr>
          </a:p>
        </p:txBody>
      </p:sp>
      <p:sp>
        <p:nvSpPr>
          <p:cNvPr id="61"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of</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
          <p:cNvSpPr/>
          <p:nvPr/>
        </p:nvSpPr>
        <p:spPr>
          <a:xfrm>
            <a:off x="1328400" y="5551560"/>
            <a:ext cx="55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result: higher price for tested wool</a:t>
            </a:r>
            <a:endParaRPr b="0" lang="en-US" sz="2800" spc="-1" strike="noStrike">
              <a:solidFill>
                <a:srgbClr val="000000"/>
              </a:solidFill>
              <a:latin typeface="Times New Roman"/>
            </a:endParaRPr>
          </a:p>
        </p:txBody>
      </p:sp>
      <p:pic>
        <p:nvPicPr>
          <p:cNvPr id="65" name="JT_MILL" descr=""/>
          <p:cNvPicPr/>
          <p:nvPr/>
        </p:nvPicPr>
        <p:blipFill>
          <a:blip r:embed="rId1">
            <a:lum contrast="6000"/>
          </a:blip>
          <a:srcRect l="0" t="0" r="3059" b="3356"/>
          <a:stretch/>
        </p:blipFill>
        <p:spPr>
          <a:xfrm>
            <a:off x="1371600" y="1055520"/>
            <a:ext cx="7391520" cy="4491360"/>
          </a:xfrm>
          <a:prstGeom prst="rect">
            <a:avLst/>
          </a:prstGeom>
          <a:ln w="0">
            <a:noFill/>
          </a:ln>
        </p:spPr>
      </p:pic>
      <p:sp>
        <p:nvSpPr>
          <p:cNvPr id="66"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pinners’ Requirements</a:t>
            </a:r>
            <a:endParaRPr b="1" lang="en-US" sz="3200" spc="-1" strike="noStrike">
              <a:solidFill>
                <a:srgbClr val="fafd00"/>
              </a:solidFill>
              <a:latin typeface="Arial"/>
            </a:endParaRPr>
          </a:p>
        </p:txBody>
      </p:sp>
      <p:sp>
        <p:nvSpPr>
          <p:cNvPr id="68"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ame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uteu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 Hauteu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ort fibre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nne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ffects fabric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x / Oil cont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nimise wax</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inning oils</a:t>
            </a:r>
            <a:endParaRPr b="1" lang="en-US" sz="2000" spc="-1" strike="noStrike">
              <a:solidFill>
                <a:srgbClr val="ffffff"/>
              </a:solidFill>
              <a:latin typeface="Arial"/>
            </a:endParaRPr>
          </a:p>
        </p:txBody>
      </p:sp>
      <p:sp>
        <p:nvSpPr>
          <p:cNvPr id="69"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isture / Regai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voice mas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arit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p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ub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portant for acid dye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oured Fib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ffects final product</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ract Specifica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ustomer drive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di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ital in meeting spec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fide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ast cost consignmen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ion Efficienc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ste Minimisation</a:t>
            </a:r>
            <a:endParaRPr b="1" lang="en-US" sz="2800" spc="-1" strike="noStrike">
              <a:solidFill>
                <a:srgbClr val="ffffff"/>
              </a:solidFill>
              <a:latin typeface="Arial"/>
            </a:endParaRPr>
          </a:p>
        </p:txBody>
      </p:sp>
      <p:sp>
        <p:nvSpPr>
          <p:cNvPr id="73"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rther Developments</a:t>
            </a:r>
            <a:endParaRPr b="1" lang="en-US" sz="3200" spc="-1" strike="noStrike">
              <a:solidFill>
                <a:srgbClr val="fafd00"/>
              </a:solidFill>
              <a:latin typeface="Arial"/>
            </a:endParaRPr>
          </a:p>
        </p:txBody>
      </p:sp>
      <p:sp>
        <p:nvSpPr>
          <p:cNvPr id="7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n-conforming batch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der or over perfor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AM II</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equate for current nee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variabl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yl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urvatur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predictab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accurate</a:t>
            </a:r>
            <a:endParaRPr b="1" lang="en-US" sz="2400" spc="-1" strike="noStrike">
              <a:solidFill>
                <a:srgbClr val="ffffff"/>
              </a:solidFill>
              <a:latin typeface="Arial"/>
            </a:endParaRPr>
          </a:p>
        </p:txBody>
      </p:sp>
      <p:sp>
        <p:nvSpPr>
          <p:cNvPr id="76"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22:29:25Z</dcterms:created>
  <dc:creator>USER</dc:creator>
  <dc:description/>
  <dc:language>en-US</dc:language>
  <cp:lastModifiedBy>select agreement</cp:lastModifiedBy>
  <cp:lastPrinted>2000-02-03T09:09:47Z</cp:lastPrinted>
  <dcterms:modified xsi:type="dcterms:W3CDTF">2000-03-03T05:01:17Z</dcterms:modified>
  <cp:revision>4</cp:revision>
  <dc:subject/>
  <dc:title>Prediction in the Mill Environment</dc:title>
</cp:coreProperties>
</file>