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5C02-A9CA-43ED-BB48-51D9A41BD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04CB-95E7-44C7-BCAA-6495D35C1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a:t>
            </a:r>
            <a:r>
              <a:rPr b="0" lang="en-AU" sz="1200" spc="-1" strike="noStrike">
                <a:solidFill>
                  <a:srgbClr val="000000"/>
                </a:solidFill>
                <a:latin typeface="Times New Roman"/>
              </a:rPr>
              <a:t>describes</a:t>
            </a:r>
            <a:r>
              <a:rPr b="0" lang="en-US" sz="1200" spc="-1" strike="noStrike">
                <a:solidFill>
                  <a:srgbClr val="000000"/>
                </a:solidFill>
                <a:latin typeface="Times New Roman"/>
              </a:rPr>
              <a:t> how a representative sample is obtained by grab sampling, and the instruments used to achieve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2) types of samples taken from bales; core samples and grab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es are taken for all measurements of characteristics which don’t require fibre or staple integrity to be maintained such as Mean Fibre Diameter, Yield, Vegetable Matter Base and Colour.  GRAB samples must be taken where full length staples are needed such as Staple Length and Staple Strength and Styl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vidual sale lot grab samples are combined to form a display sample.  This is displayed at the selling centre to enable wool buyers to assess the unmeasured characteristic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quence of wool sampling is as follows - grabbing, weighing, coring, tuft sampling and staple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E23E-43A9-4825-90C7-8D7E3E411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grab sampling is to produce a bag of approximately five kilograms of full length wool (display sample)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representative" because if the sample is not representative of the sale lot for the characteristics of Staple Length and Staple Strength, then it doesn't matter how well the testing is conducted, the results won’t accurately reflect the wool being 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WTA Lt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 sampling is performed by a machine.  It has hydraulically operated jaws which reach through the side of the bale to obtain a handful of wool.  It takes this sample with minimal contamination of the wool, either in the sample or in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rab sampling machine taking a “grab” from a bale.  The bale covering has been cut with a hot knife before the grab arm descends into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sampling produces a representative sample providing six basic rules are follow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E532-954C-49C6-9697-52A06FFF8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b is a mechanical arm which reaches into a bale to varying depths and takes a handful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ules governing grab samples are similar to those for core sampling in th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minimum of 20 grabs per sale lot are need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very bale must be samp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ame number of grabs must be taken from each ba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ab positions through the side of the bale must be random;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grab must be able to penetrate the full width of the b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C9BF-7ED6-45E7-A6A0-CC04213AC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The first requirement is that a minimum of 20 grabs must be taken from the sale lot.  So, for a seven bale lot, three grabs must be taken from each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number of grabs for this lot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grabs  * 7 bales = 21 gr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econdly, it is important to grab sample every bale in th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ot inconceivable to imagine the situation where, for whatever reason, the first six bales in the lot were about 90mm and the seventh was 100mm.  It would be unacceptable to only grab the first six bales if this was the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7B66-9188-4088-A45E-9546098DE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Thirdly, the same number of grabs must be taken from every bale in the lot so that each bale has equal weighting in the final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same example as before, it would be unacceptable to obtain the minimum 20 grabs by taking 3 grabs from the first six bales and two from the seventh.  Clearly the full effect of the 100mm bale would not be felt in the final result.  Three grabs must be taken from the seventh bale to make the sample truly represent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F67E-01DB-4587-907E-FC8239062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Fourthly, individual grabs must be a similar size.  If grabs for the first six bales weighed 300g but only 100g for the seventh, then a non representative sample would be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The fifth consideration is the placement of grabs in each bale. The standard method requires the grabs be taken randomly through of the side of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 Finally, the grab jaw must be capable of penetrating the full width of the bale.  It would be unacceptable for example, to sample only the top halves of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ethods ensure that all the wool in the bale has an equal chance of being samp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Sampl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79920" rIns="79920" tIns="39960" bIns="399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38-91:</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of Grab Sampling Greasy Wool from Bales</a:t>
            </a:r>
            <a:r>
              <a:rPr b="1" lang="en-GB" sz="2000" spc="-1" strike="noStrike">
                <a:solidFill>
                  <a:srgbClr val="ffffff"/>
                </a:solidFill>
                <a:latin typeface="Arial"/>
              </a:rPr>
              <a:t> </a:t>
            </a:r>
            <a:endParaRPr b="1" lang="en-US" sz="20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urpose of grab sampling is to obtain a sample (approx. 5kg) of full length wool which is </a:t>
            </a:r>
            <a:r>
              <a:rPr b="1" i="1" lang="en-GB" sz="2800" spc="-1" strike="noStrike">
                <a:solidFill>
                  <a:srgbClr val="ffff99"/>
                </a:solidFill>
                <a:latin typeface="Arial"/>
              </a:rPr>
              <a:t>representative</a:t>
            </a:r>
            <a:r>
              <a:rPr b="1" lang="en-GB" sz="2800" spc="-1" strike="noStrike">
                <a:solidFill>
                  <a:srgbClr val="ffffff"/>
                </a:solidFill>
                <a:latin typeface="Arial"/>
              </a:rPr>
              <a:t> of the sale lot. </a:t>
            </a:r>
            <a:endParaRPr b="1" lang="en-US" sz="2800" spc="-1" strike="noStrike">
              <a:solidFill>
                <a:srgbClr val="ffffff"/>
              </a:solidFill>
              <a:latin typeface="Arial"/>
            </a:endParaRPr>
          </a:p>
        </p:txBody>
      </p:sp>
      <p:sp>
        <p:nvSpPr>
          <p:cNvPr id="50" name="PlaceHolder 2"/>
          <p:cNvSpPr>
            <a:spLocks noGrp="1"/>
          </p:cNvSpPr>
          <p:nvPr>
            <p:ph type="title"/>
          </p:nvPr>
        </p:nvSpPr>
        <p:spPr>
          <a:xfrm>
            <a:off x="1296720" y="153720"/>
            <a:ext cx="7770600" cy="609480"/>
          </a:xfrm>
          <a:prstGeom prst="rect">
            <a:avLst/>
          </a:prstGeom>
          <a:noFill/>
          <a:ln w="0">
            <a:noFill/>
          </a:ln>
        </p:spPr>
        <p:txBody>
          <a:bodyPr lIns="79920" rIns="7992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51"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4267080" y="304920"/>
          <a:ext cx="4419720" cy="5867280"/>
        </p:xfrm>
        <a:graphic>
          <a:graphicData uri="http://schemas.openxmlformats.org/presentationml/2006/ole">
            <p:oleObj r:id="rId1" spid="">
              <p:embed/>
              <p:pic>
                <p:nvPicPr>
                  <p:cNvPr id="53" name="" descr=""/>
                  <p:cNvPicPr/>
                  <p:nvPr/>
                </p:nvPicPr>
                <p:blipFill>
                  <a:blip r:embed="rId2"/>
                  <a:stretch/>
                </p:blipFill>
                <p:spPr>
                  <a:xfrm>
                    <a:off x="4267080" y="304920"/>
                    <a:ext cx="4419720" cy="5867280"/>
                  </a:xfrm>
                  <a:prstGeom prst="rect">
                    <a:avLst/>
                  </a:prstGeom>
                  <a:ln w="0">
                    <a:noFill/>
                  </a:ln>
                </p:spPr>
              </p:pic>
            </p:oleObj>
          </a:graphicData>
        </a:graphic>
      </p:graphicFrame>
      <p:sp>
        <p:nvSpPr>
          <p:cNvPr id="54" name=""/>
          <p:cNvSpPr/>
          <p:nvPr/>
        </p:nvSpPr>
        <p:spPr>
          <a:xfrm>
            <a:off x="4927680" y="64771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823680" y="2514240"/>
            <a:ext cx="374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Sampling</a:t>
            </a:r>
            <a:br>
              <a:rPr sz="3200"/>
            </a:br>
            <a:r>
              <a:rPr b="1" lang="en-GB" sz="3200" spc="-1" strike="noStrike">
                <a:solidFill>
                  <a:srgbClr val="fafd00"/>
                </a:solidFill>
                <a:latin typeface="Arial"/>
              </a:rPr>
              <a:t>Apparatu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a:t>
            </a:r>
            <a:endParaRPr b="1" lang="en-US" sz="3200" spc="-1" strike="noStrike">
              <a:solidFill>
                <a:srgbClr val="fafd00"/>
              </a:solidFill>
              <a:latin typeface="Arial"/>
            </a:endParaRPr>
          </a:p>
        </p:txBody>
      </p:sp>
      <p:sp>
        <p:nvSpPr>
          <p:cNvPr id="57" name="PlaceHolder 2"/>
          <p:cNvSpPr>
            <a:spLocks noGrp="1"/>
          </p:cNvSpPr>
          <p:nvPr>
            <p:ph/>
          </p:nvPr>
        </p:nvSpPr>
        <p:spPr>
          <a:xfrm>
            <a:off x="1515600" y="1295280"/>
            <a:ext cx="6789960" cy="47246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 grabs per sale lot</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very bale sampl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i)</a:t>
            </a:r>
            <a:r>
              <a:rPr b="1" lang="en-GB" sz="2800" spc="-1" strike="noStrike">
                <a:solidFill>
                  <a:srgbClr val="ffffff"/>
                </a:solidFill>
                <a:latin typeface="Arial"/>
              </a:rPr>
              <a:t>	</a:t>
            </a:r>
            <a:r>
              <a:rPr b="1" lang="en-GB" sz="2800" spc="-1" strike="noStrike">
                <a:solidFill>
                  <a:srgbClr val="ffffff"/>
                </a:solidFill>
                <a:latin typeface="Arial"/>
              </a:rPr>
              <a:t>Same number of grabs per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v)</a:t>
            </a:r>
            <a:r>
              <a:rPr b="1" lang="en-GB" sz="2800" spc="-1" strike="noStrike">
                <a:solidFill>
                  <a:srgbClr val="ffffff"/>
                </a:solidFill>
                <a:latin typeface="Arial"/>
              </a:rPr>
              <a:t>	</a:t>
            </a:r>
            <a:r>
              <a:rPr b="1" lang="en-GB" sz="2800" spc="-1" strike="noStrike">
                <a:solidFill>
                  <a:srgbClr val="ffffff"/>
                </a:solidFill>
                <a:latin typeface="Arial"/>
              </a:rPr>
              <a:t>Same size grabs from each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Grabs randomly placed (sid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a:t>
            </a:r>
            <a:r>
              <a:rPr b="1" lang="en-GB" sz="2800" spc="-1" strike="noStrike">
                <a:solidFill>
                  <a:srgbClr val="ffffff"/>
                </a:solidFill>
                <a:latin typeface="Arial"/>
              </a:rPr>
              <a:t>	</a:t>
            </a:r>
            <a:r>
              <a:rPr b="1" lang="en-GB" sz="2800" spc="-1" strike="noStrike">
                <a:solidFill>
                  <a:srgbClr val="ffffff"/>
                </a:solidFill>
                <a:latin typeface="Arial"/>
              </a:rPr>
              <a:t>Grab penetrates full width </a:t>
            </a:r>
            <a:endParaRPr b="1" lang="en-US" sz="2800" spc="-1" strike="noStrike">
              <a:solidFill>
                <a:srgbClr val="ffffff"/>
              </a:solidFill>
              <a:latin typeface="Arial"/>
            </a:endParaRPr>
          </a:p>
        </p:txBody>
      </p:sp>
      <p:sp>
        <p:nvSpPr>
          <p:cNvPr id="58"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371600" y="990720"/>
            <a:ext cx="7467480" cy="4846680"/>
            <a:chOff x="1371600" y="990720"/>
            <a:chExt cx="7467480" cy="4846680"/>
          </a:xfrm>
        </p:grpSpPr>
        <p:sp>
          <p:nvSpPr>
            <p:cNvPr id="60" name=""/>
            <p:cNvSpPr/>
            <p:nvPr/>
          </p:nvSpPr>
          <p:spPr>
            <a:xfrm>
              <a:off x="1371600" y="990720"/>
              <a:ext cx="7467480" cy="4846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819080" y="1219320"/>
              <a:ext cx="1629720" cy="1635480"/>
              <a:chOff x="1819080" y="1219320"/>
              <a:chExt cx="1629720" cy="1635480"/>
            </a:xfrm>
          </p:grpSpPr>
          <p:sp>
            <p:nvSpPr>
              <p:cNvPr id="62" name=""/>
              <p:cNvSpPr/>
              <p:nvPr/>
            </p:nvSpPr>
            <p:spPr>
              <a:xfrm flipV="1">
                <a:off x="3178080" y="255960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80440" y="1692000"/>
                <a:ext cx="136836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1864440" y="1714680"/>
                <a:ext cx="24012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436120" y="1219320"/>
                <a:ext cx="295560" cy="1635480"/>
                <a:chOff x="2436120" y="1219320"/>
                <a:chExt cx="295560" cy="1635480"/>
              </a:xfrm>
            </p:grpSpPr>
            <p:grpSp>
              <p:nvGrpSpPr>
                <p:cNvPr id="66" name=""/>
                <p:cNvGrpSpPr/>
                <p:nvPr/>
              </p:nvGrpSpPr>
              <p:grpSpPr>
                <a:xfrm>
                  <a:off x="2484720" y="1219320"/>
                  <a:ext cx="246960" cy="617040"/>
                  <a:chOff x="2484720" y="1219320"/>
                  <a:chExt cx="246960" cy="617040"/>
                </a:xfrm>
              </p:grpSpPr>
              <p:grpSp>
                <p:nvGrpSpPr>
                  <p:cNvPr id="67" name=""/>
                  <p:cNvGrpSpPr/>
                  <p:nvPr/>
                </p:nvGrpSpPr>
                <p:grpSpPr>
                  <a:xfrm>
                    <a:off x="2484720" y="1219320"/>
                    <a:ext cx="246960" cy="617040"/>
                    <a:chOff x="2484720" y="1219320"/>
                    <a:chExt cx="246960" cy="617040"/>
                  </a:xfrm>
                </p:grpSpPr>
                <p:grpSp>
                  <p:nvGrpSpPr>
                    <p:cNvPr id="68" name=""/>
                    <p:cNvGrpSpPr/>
                    <p:nvPr/>
                  </p:nvGrpSpPr>
                  <p:grpSpPr>
                    <a:xfrm>
                      <a:off x="2484720" y="1219320"/>
                      <a:ext cx="246600" cy="590040"/>
                      <a:chOff x="2484720" y="1219320"/>
                      <a:chExt cx="246600" cy="590040"/>
                    </a:xfrm>
                  </p:grpSpPr>
                  <p:sp>
                    <p:nvSpPr>
                      <p:cNvPr id="69" name=""/>
                      <p:cNvSpPr/>
                      <p:nvPr/>
                    </p:nvSpPr>
                    <p:spPr>
                      <a:xfrm>
                        <a:off x="248472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07120" y="1219320"/>
                        <a:ext cx="12420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2484720" y="1807920"/>
                      <a:ext cx="2469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 name=""/>
                  <p:cNvSpPr/>
                  <p:nvPr/>
                </p:nvSpPr>
                <p:spPr>
                  <a:xfrm>
                    <a:off x="2512800" y="1804320"/>
                    <a:ext cx="17748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73" name=""/>
                <p:cNvSpPr/>
                <p:nvPr/>
              </p:nvSpPr>
              <p:spPr>
                <a:xfrm>
                  <a:off x="2553120" y="182736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8516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36120" y="2387520"/>
                  <a:ext cx="1962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8480" y="1818000"/>
                  <a:ext cx="7920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445480" y="2397240"/>
                  <a:ext cx="25200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64280" y="2452680"/>
                  <a:ext cx="10404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73640" y="2452680"/>
                  <a:ext cx="10404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90920" y="238752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81" name=""/>
              <p:cNvSpPr/>
              <p:nvPr/>
            </p:nvSpPr>
            <p:spPr>
              <a:xfrm>
                <a:off x="1819080" y="1940040"/>
                <a:ext cx="137052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4090680" y="1219320"/>
              <a:ext cx="1630800" cy="1635480"/>
              <a:chOff x="4090680" y="1219320"/>
              <a:chExt cx="1630800" cy="1635480"/>
            </a:xfrm>
          </p:grpSpPr>
          <p:sp>
            <p:nvSpPr>
              <p:cNvPr id="83" name=""/>
              <p:cNvSpPr/>
              <p:nvPr/>
            </p:nvSpPr>
            <p:spPr>
              <a:xfrm flipV="1">
                <a:off x="5451120" y="255960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51680" y="1692000"/>
                <a:ext cx="136980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4135680" y="1714680"/>
                <a:ext cx="24084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4708080" y="1219320"/>
                <a:ext cx="296640" cy="1635480"/>
                <a:chOff x="4708080" y="1219320"/>
                <a:chExt cx="296640" cy="1635480"/>
              </a:xfrm>
            </p:grpSpPr>
            <p:grpSp>
              <p:nvGrpSpPr>
                <p:cNvPr id="87" name=""/>
                <p:cNvGrpSpPr/>
                <p:nvPr/>
              </p:nvGrpSpPr>
              <p:grpSpPr>
                <a:xfrm>
                  <a:off x="4757400" y="1219320"/>
                  <a:ext cx="247320" cy="617040"/>
                  <a:chOff x="4757400" y="1219320"/>
                  <a:chExt cx="247320" cy="617040"/>
                </a:xfrm>
              </p:grpSpPr>
              <p:grpSp>
                <p:nvGrpSpPr>
                  <p:cNvPr id="88" name=""/>
                  <p:cNvGrpSpPr/>
                  <p:nvPr/>
                </p:nvGrpSpPr>
                <p:grpSpPr>
                  <a:xfrm>
                    <a:off x="4757400" y="1219320"/>
                    <a:ext cx="247320" cy="617040"/>
                    <a:chOff x="4757400" y="1219320"/>
                    <a:chExt cx="247320" cy="617040"/>
                  </a:xfrm>
                </p:grpSpPr>
                <p:grpSp>
                  <p:nvGrpSpPr>
                    <p:cNvPr id="89" name=""/>
                    <p:cNvGrpSpPr/>
                    <p:nvPr/>
                  </p:nvGrpSpPr>
                  <p:grpSpPr>
                    <a:xfrm>
                      <a:off x="4757400" y="1219320"/>
                      <a:ext cx="246600" cy="590040"/>
                      <a:chOff x="4757400" y="1219320"/>
                      <a:chExt cx="246600" cy="590040"/>
                    </a:xfrm>
                  </p:grpSpPr>
                  <p:sp>
                    <p:nvSpPr>
                      <p:cNvPr id="90" name=""/>
                      <p:cNvSpPr/>
                      <p:nvPr/>
                    </p:nvSpPr>
                    <p:spPr>
                      <a:xfrm>
                        <a:off x="475740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79440" y="1219320"/>
                        <a:ext cx="12456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4757400" y="1807920"/>
                      <a:ext cx="24732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93" name=""/>
                  <p:cNvSpPr/>
                  <p:nvPr/>
                </p:nvSpPr>
                <p:spPr>
                  <a:xfrm>
                    <a:off x="4785480" y="1804320"/>
                    <a:ext cx="17784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94" name=""/>
                <p:cNvSpPr/>
                <p:nvPr/>
              </p:nvSpPr>
              <p:spPr>
                <a:xfrm>
                  <a:off x="4825440" y="182736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5784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08080" y="2387520"/>
                  <a:ext cx="19692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70800" y="1818000"/>
                  <a:ext cx="7956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717440" y="2397240"/>
                  <a:ext cx="25344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36600" y="2452680"/>
                  <a:ext cx="10404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846320" y="2452680"/>
                  <a:ext cx="10404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63240" y="2387520"/>
                  <a:ext cx="8100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2" name=""/>
              <p:cNvSpPr/>
              <p:nvPr/>
            </p:nvSpPr>
            <p:spPr>
              <a:xfrm>
                <a:off x="4090680" y="1940040"/>
                <a:ext cx="137160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6362640" y="1219320"/>
              <a:ext cx="1630800" cy="1635480"/>
              <a:chOff x="6362640" y="1219320"/>
              <a:chExt cx="1630800" cy="1635480"/>
            </a:xfrm>
          </p:grpSpPr>
          <p:sp>
            <p:nvSpPr>
              <p:cNvPr id="104" name=""/>
              <p:cNvSpPr/>
              <p:nvPr/>
            </p:nvSpPr>
            <p:spPr>
              <a:xfrm flipV="1">
                <a:off x="7722720" y="2559600"/>
                <a:ext cx="1724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624000" y="1692000"/>
                <a:ext cx="136944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408000" y="1714680"/>
                <a:ext cx="24048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6980400" y="1219320"/>
                <a:ext cx="295920" cy="1635480"/>
                <a:chOff x="6980400" y="1219320"/>
                <a:chExt cx="295920" cy="1635480"/>
              </a:xfrm>
            </p:grpSpPr>
            <p:grpSp>
              <p:nvGrpSpPr>
                <p:cNvPr id="108" name=""/>
                <p:cNvGrpSpPr/>
                <p:nvPr/>
              </p:nvGrpSpPr>
              <p:grpSpPr>
                <a:xfrm>
                  <a:off x="7029720" y="1219320"/>
                  <a:ext cx="246600" cy="617040"/>
                  <a:chOff x="7029720" y="1219320"/>
                  <a:chExt cx="246600" cy="617040"/>
                </a:xfrm>
              </p:grpSpPr>
              <p:grpSp>
                <p:nvGrpSpPr>
                  <p:cNvPr id="109" name=""/>
                  <p:cNvGrpSpPr/>
                  <p:nvPr/>
                </p:nvGrpSpPr>
                <p:grpSpPr>
                  <a:xfrm>
                    <a:off x="7029720" y="1219320"/>
                    <a:ext cx="246600" cy="617040"/>
                    <a:chOff x="7029720" y="1219320"/>
                    <a:chExt cx="246600" cy="617040"/>
                  </a:xfrm>
                </p:grpSpPr>
                <p:grpSp>
                  <p:nvGrpSpPr>
                    <p:cNvPr id="110" name=""/>
                    <p:cNvGrpSpPr/>
                    <p:nvPr/>
                  </p:nvGrpSpPr>
                  <p:grpSpPr>
                    <a:xfrm>
                      <a:off x="7029720" y="1219320"/>
                      <a:ext cx="246240" cy="590040"/>
                      <a:chOff x="7029720" y="1219320"/>
                      <a:chExt cx="246240" cy="590040"/>
                    </a:xfrm>
                  </p:grpSpPr>
                  <p:sp>
                    <p:nvSpPr>
                      <p:cNvPr id="111" name=""/>
                      <p:cNvSpPr/>
                      <p:nvPr/>
                    </p:nvSpPr>
                    <p:spPr>
                      <a:xfrm>
                        <a:off x="702972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151760" y="1219320"/>
                        <a:ext cx="12420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7029720" y="1807920"/>
                      <a:ext cx="2466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4" name=""/>
                  <p:cNvSpPr/>
                  <p:nvPr/>
                </p:nvSpPr>
                <p:spPr>
                  <a:xfrm>
                    <a:off x="7057800" y="1804320"/>
                    <a:ext cx="17712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115" name=""/>
                <p:cNvSpPr/>
                <p:nvPr/>
              </p:nvSpPr>
              <p:spPr>
                <a:xfrm>
                  <a:off x="7097400" y="1827360"/>
                  <a:ext cx="2088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2944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80400" y="2387520"/>
                  <a:ext cx="1962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42760" y="1818000"/>
                  <a:ext cx="7920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989760" y="2397240"/>
                  <a:ext cx="25200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08920" y="2452680"/>
                  <a:ext cx="10368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18280" y="2452680"/>
                  <a:ext cx="10368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35200" y="238752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 name=""/>
              <p:cNvSpPr/>
              <p:nvPr/>
            </p:nvSpPr>
            <p:spPr>
              <a:xfrm>
                <a:off x="6362640" y="1940040"/>
                <a:ext cx="137160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547640" y="3597120"/>
              <a:ext cx="1627920" cy="1632960"/>
              <a:chOff x="1547640" y="3597120"/>
              <a:chExt cx="1627920" cy="1632960"/>
            </a:xfrm>
          </p:grpSpPr>
          <p:sp>
            <p:nvSpPr>
              <p:cNvPr id="125" name=""/>
              <p:cNvSpPr/>
              <p:nvPr/>
            </p:nvSpPr>
            <p:spPr>
              <a:xfrm flipV="1">
                <a:off x="2905200" y="4935960"/>
                <a:ext cx="1717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08640" y="4069080"/>
                <a:ext cx="136692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593000" y="4092120"/>
                <a:ext cx="24012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4764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2163960" y="3597120"/>
                <a:ext cx="295560" cy="1632960"/>
                <a:chOff x="2163960" y="3597120"/>
                <a:chExt cx="295560" cy="1632960"/>
              </a:xfrm>
            </p:grpSpPr>
            <p:grpSp>
              <p:nvGrpSpPr>
                <p:cNvPr id="130" name=""/>
                <p:cNvGrpSpPr/>
                <p:nvPr/>
              </p:nvGrpSpPr>
              <p:grpSpPr>
                <a:xfrm>
                  <a:off x="2212560" y="3597120"/>
                  <a:ext cx="246960" cy="615960"/>
                  <a:chOff x="2212560" y="3597120"/>
                  <a:chExt cx="246960" cy="615960"/>
                </a:xfrm>
              </p:grpSpPr>
              <p:grpSp>
                <p:nvGrpSpPr>
                  <p:cNvPr id="131" name=""/>
                  <p:cNvGrpSpPr/>
                  <p:nvPr/>
                </p:nvGrpSpPr>
                <p:grpSpPr>
                  <a:xfrm>
                    <a:off x="2212560" y="3597120"/>
                    <a:ext cx="246960" cy="615960"/>
                    <a:chOff x="2212560" y="3597120"/>
                    <a:chExt cx="246960" cy="615960"/>
                  </a:xfrm>
                </p:grpSpPr>
                <p:grpSp>
                  <p:nvGrpSpPr>
                    <p:cNvPr id="132" name=""/>
                    <p:cNvGrpSpPr/>
                    <p:nvPr/>
                  </p:nvGrpSpPr>
                  <p:grpSpPr>
                    <a:xfrm>
                      <a:off x="2212560" y="3597120"/>
                      <a:ext cx="246600" cy="589320"/>
                      <a:chOff x="2212560" y="3597120"/>
                      <a:chExt cx="246600" cy="589320"/>
                    </a:xfrm>
                  </p:grpSpPr>
                  <p:sp>
                    <p:nvSpPr>
                      <p:cNvPr id="133" name=""/>
                      <p:cNvSpPr/>
                      <p:nvPr/>
                    </p:nvSpPr>
                    <p:spPr>
                      <a:xfrm>
                        <a:off x="2212560" y="3597120"/>
                        <a:ext cx="12420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34960" y="3597120"/>
                        <a:ext cx="12420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12560" y="4184640"/>
                      <a:ext cx="2469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36" name=""/>
                  <p:cNvSpPr/>
                  <p:nvPr/>
                </p:nvSpPr>
                <p:spPr>
                  <a:xfrm>
                    <a:off x="2240640" y="4181040"/>
                    <a:ext cx="17748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37" name=""/>
                <p:cNvSpPr/>
                <p:nvPr/>
              </p:nvSpPr>
              <p:spPr>
                <a:xfrm>
                  <a:off x="2280960" y="420408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1300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63960" y="4764240"/>
                  <a:ext cx="1962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26320" y="4194720"/>
                  <a:ext cx="7920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73320" y="4773960"/>
                  <a:ext cx="25200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91760" y="4829040"/>
                  <a:ext cx="10404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01480" y="4829040"/>
                  <a:ext cx="10404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18400" y="476424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3365280" y="3597120"/>
              <a:ext cx="1627920" cy="1632960"/>
              <a:chOff x="3365280" y="3597120"/>
              <a:chExt cx="1627920" cy="1632960"/>
            </a:xfrm>
          </p:grpSpPr>
          <p:sp>
            <p:nvSpPr>
              <p:cNvPr id="146" name=""/>
              <p:cNvSpPr/>
              <p:nvPr/>
            </p:nvSpPr>
            <p:spPr>
              <a:xfrm flipV="1">
                <a:off x="4722840" y="493596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26280" y="4069080"/>
                <a:ext cx="136692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3410640" y="4092120"/>
                <a:ext cx="24012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3981600" y="3597120"/>
                <a:ext cx="295200" cy="1632960"/>
                <a:chOff x="3981600" y="3597120"/>
                <a:chExt cx="295200" cy="1632960"/>
              </a:xfrm>
            </p:grpSpPr>
            <p:grpSp>
              <p:nvGrpSpPr>
                <p:cNvPr id="150" name=""/>
                <p:cNvGrpSpPr/>
                <p:nvPr/>
              </p:nvGrpSpPr>
              <p:grpSpPr>
                <a:xfrm>
                  <a:off x="4030560" y="3597120"/>
                  <a:ext cx="246240" cy="615960"/>
                  <a:chOff x="4030560" y="3597120"/>
                  <a:chExt cx="246240" cy="615960"/>
                </a:xfrm>
              </p:grpSpPr>
              <p:grpSp>
                <p:nvGrpSpPr>
                  <p:cNvPr id="151" name=""/>
                  <p:cNvGrpSpPr/>
                  <p:nvPr/>
                </p:nvGrpSpPr>
                <p:grpSpPr>
                  <a:xfrm>
                    <a:off x="4030560" y="3597120"/>
                    <a:ext cx="246240" cy="615960"/>
                    <a:chOff x="4030560" y="3597120"/>
                    <a:chExt cx="246240" cy="615960"/>
                  </a:xfrm>
                </p:grpSpPr>
                <p:grpSp>
                  <p:nvGrpSpPr>
                    <p:cNvPr id="152" name=""/>
                    <p:cNvGrpSpPr/>
                    <p:nvPr/>
                  </p:nvGrpSpPr>
                  <p:grpSpPr>
                    <a:xfrm>
                      <a:off x="4030560" y="3597120"/>
                      <a:ext cx="245520" cy="589320"/>
                      <a:chOff x="4030560" y="3597120"/>
                      <a:chExt cx="245520" cy="589320"/>
                    </a:xfrm>
                  </p:grpSpPr>
                  <p:sp>
                    <p:nvSpPr>
                      <p:cNvPr id="153" name=""/>
                      <p:cNvSpPr/>
                      <p:nvPr/>
                    </p:nvSpPr>
                    <p:spPr>
                      <a:xfrm>
                        <a:off x="4030560" y="3597120"/>
                        <a:ext cx="12384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52240" y="3597120"/>
                        <a:ext cx="12384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4030560" y="4184640"/>
                      <a:ext cx="2462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56" name=""/>
                  <p:cNvSpPr/>
                  <p:nvPr/>
                </p:nvSpPr>
                <p:spPr>
                  <a:xfrm>
                    <a:off x="4058640" y="4181040"/>
                    <a:ext cx="17712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57" name=""/>
                <p:cNvSpPr/>
                <p:nvPr/>
              </p:nvSpPr>
              <p:spPr>
                <a:xfrm>
                  <a:off x="4098600" y="420408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3064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81600" y="4764240"/>
                  <a:ext cx="1962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43960" y="4194720"/>
                  <a:ext cx="7920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990960" y="4773960"/>
                  <a:ext cx="25200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10120" y="4829040"/>
                  <a:ext cx="10368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119480" y="4829040"/>
                  <a:ext cx="10368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36040" y="476424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5" name=""/>
              <p:cNvSpPr/>
              <p:nvPr/>
            </p:nvSpPr>
            <p:spPr>
              <a:xfrm>
                <a:off x="336528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182920" y="3597120"/>
              <a:ext cx="1627920" cy="1632960"/>
              <a:chOff x="5182920" y="3597120"/>
              <a:chExt cx="1627920" cy="1632960"/>
            </a:xfrm>
          </p:grpSpPr>
          <p:sp>
            <p:nvSpPr>
              <p:cNvPr id="167" name=""/>
              <p:cNvSpPr/>
              <p:nvPr/>
            </p:nvSpPr>
            <p:spPr>
              <a:xfrm flipV="1">
                <a:off x="6540840" y="4935960"/>
                <a:ext cx="1717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43560" y="4069080"/>
                <a:ext cx="136728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227920" y="4092120"/>
                <a:ext cx="24048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5799240" y="3597120"/>
                <a:ext cx="295560" cy="1632960"/>
                <a:chOff x="5799240" y="3597120"/>
                <a:chExt cx="295560" cy="1632960"/>
              </a:xfrm>
            </p:grpSpPr>
            <p:grpSp>
              <p:nvGrpSpPr>
                <p:cNvPr id="171" name=""/>
                <p:cNvGrpSpPr/>
                <p:nvPr/>
              </p:nvGrpSpPr>
              <p:grpSpPr>
                <a:xfrm>
                  <a:off x="5848200" y="3597120"/>
                  <a:ext cx="246600" cy="615960"/>
                  <a:chOff x="5848200" y="3597120"/>
                  <a:chExt cx="246600" cy="615960"/>
                </a:xfrm>
              </p:grpSpPr>
              <p:grpSp>
                <p:nvGrpSpPr>
                  <p:cNvPr id="172" name=""/>
                  <p:cNvGrpSpPr/>
                  <p:nvPr/>
                </p:nvGrpSpPr>
                <p:grpSpPr>
                  <a:xfrm>
                    <a:off x="5848200" y="3597120"/>
                    <a:ext cx="246600" cy="615960"/>
                    <a:chOff x="5848200" y="3597120"/>
                    <a:chExt cx="246600" cy="615960"/>
                  </a:xfrm>
                </p:grpSpPr>
                <p:grpSp>
                  <p:nvGrpSpPr>
                    <p:cNvPr id="173" name=""/>
                    <p:cNvGrpSpPr/>
                    <p:nvPr/>
                  </p:nvGrpSpPr>
                  <p:grpSpPr>
                    <a:xfrm>
                      <a:off x="5848200" y="3597120"/>
                      <a:ext cx="245880" cy="589320"/>
                      <a:chOff x="5848200" y="3597120"/>
                      <a:chExt cx="245880" cy="589320"/>
                    </a:xfrm>
                  </p:grpSpPr>
                  <p:sp>
                    <p:nvSpPr>
                      <p:cNvPr id="174" name=""/>
                      <p:cNvSpPr/>
                      <p:nvPr/>
                    </p:nvSpPr>
                    <p:spPr>
                      <a:xfrm>
                        <a:off x="5848200" y="3597120"/>
                        <a:ext cx="12384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969880" y="3597120"/>
                        <a:ext cx="12420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5848200" y="4184640"/>
                      <a:ext cx="2466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77" name=""/>
                  <p:cNvSpPr/>
                  <p:nvPr/>
                </p:nvSpPr>
                <p:spPr>
                  <a:xfrm>
                    <a:off x="5876280" y="4181040"/>
                    <a:ext cx="17748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78" name=""/>
                <p:cNvSpPr/>
                <p:nvPr/>
              </p:nvSpPr>
              <p:spPr>
                <a:xfrm>
                  <a:off x="5916600" y="420408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4864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9240" y="4764240"/>
                  <a:ext cx="19656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61600" y="419472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08600" y="4773960"/>
                  <a:ext cx="25272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27760" y="4829040"/>
                  <a:ext cx="10404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37120" y="4829040"/>
                  <a:ext cx="10404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54040" y="4764240"/>
                  <a:ext cx="8064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6" name=""/>
              <p:cNvSpPr/>
              <p:nvPr/>
            </p:nvSpPr>
            <p:spPr>
              <a:xfrm>
                <a:off x="518292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flipV="1">
              <a:off x="8358120" y="4937040"/>
              <a:ext cx="16632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043400" y="4092480"/>
              <a:ext cx="23328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7000560" y="4070520"/>
              <a:ext cx="1577160" cy="1071000"/>
              <a:chOff x="7000560" y="4070520"/>
              <a:chExt cx="1577160" cy="1071000"/>
            </a:xfrm>
          </p:grpSpPr>
          <p:sp>
            <p:nvSpPr>
              <p:cNvPr id="190" name=""/>
              <p:cNvSpPr/>
              <p:nvPr/>
            </p:nvSpPr>
            <p:spPr>
              <a:xfrm>
                <a:off x="7261560" y="4070520"/>
                <a:ext cx="1316160" cy="882720"/>
              </a:xfrm>
              <a:custGeom>
                <a:avLst/>
                <a:gdLst/>
                <a:ahLst/>
                <a:rect l="l" t="t" r="r" b="b"/>
                <a:pathLst>
                  <a:path w="696" h="464">
                    <a:moveTo>
                      <a:pt x="646" y="463"/>
                    </a:moveTo>
                    <a:lnTo>
                      <a:pt x="670" y="440"/>
                    </a:lnTo>
                    <a:lnTo>
                      <a:pt x="687" y="414"/>
                    </a:lnTo>
                    <a:lnTo>
                      <a:pt x="695" y="395"/>
                    </a:lnTo>
                    <a:lnTo>
                      <a:pt x="695" y="71"/>
                    </a:lnTo>
                    <a:lnTo>
                      <a:pt x="695" y="47"/>
                    </a:lnTo>
                    <a:lnTo>
                      <a:pt x="678" y="15"/>
                    </a:lnTo>
                    <a:lnTo>
                      <a:pt x="641" y="2"/>
                    </a:lnTo>
                    <a:lnTo>
                      <a:pt x="605" y="0"/>
                    </a:lnTo>
                    <a:lnTo>
                      <a:pt x="87" y="0"/>
                    </a:lnTo>
                    <a:lnTo>
                      <a:pt x="36"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00560" y="4317480"/>
                <a:ext cx="1316160" cy="8240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every bale</a:t>
            </a:r>
            <a:endParaRPr b="1" lang="en-US" sz="3200" spc="-1" strike="noStrike">
              <a:solidFill>
                <a:srgbClr val="fafd00"/>
              </a:solidFill>
              <a:latin typeface="Arial"/>
            </a:endParaRPr>
          </a:p>
        </p:txBody>
      </p:sp>
      <p:sp>
        <p:nvSpPr>
          <p:cNvPr id="193"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1295280" y="1066680"/>
            <a:ext cx="7696440" cy="4937040"/>
            <a:chOff x="1295280" y="1066680"/>
            <a:chExt cx="7696440" cy="4937040"/>
          </a:xfrm>
        </p:grpSpPr>
        <p:sp>
          <p:nvSpPr>
            <p:cNvPr id="195" name=""/>
            <p:cNvSpPr/>
            <p:nvPr/>
          </p:nvSpPr>
          <p:spPr>
            <a:xfrm>
              <a:off x="1295280" y="1066680"/>
              <a:ext cx="7696440" cy="49370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067200" y="2923920"/>
              <a:ext cx="17280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62000" y="2057040"/>
              <a:ext cx="137808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1744560" y="2079360"/>
              <a:ext cx="24300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320920" y="1584000"/>
              <a:ext cx="297360" cy="1635120"/>
              <a:chOff x="2320920" y="1584000"/>
              <a:chExt cx="297360" cy="1635120"/>
            </a:xfrm>
          </p:grpSpPr>
          <p:grpSp>
            <p:nvGrpSpPr>
              <p:cNvPr id="200" name=""/>
              <p:cNvGrpSpPr/>
              <p:nvPr/>
            </p:nvGrpSpPr>
            <p:grpSpPr>
              <a:xfrm>
                <a:off x="2369880" y="1584000"/>
                <a:ext cx="248400" cy="616680"/>
                <a:chOff x="2369880" y="1584000"/>
                <a:chExt cx="248400" cy="616680"/>
              </a:xfrm>
            </p:grpSpPr>
            <p:grpSp>
              <p:nvGrpSpPr>
                <p:cNvPr id="201" name=""/>
                <p:cNvGrpSpPr/>
                <p:nvPr/>
              </p:nvGrpSpPr>
              <p:grpSpPr>
                <a:xfrm>
                  <a:off x="2369880" y="1584000"/>
                  <a:ext cx="248400" cy="616680"/>
                  <a:chOff x="2369880" y="1584000"/>
                  <a:chExt cx="248400" cy="616680"/>
                </a:xfrm>
              </p:grpSpPr>
              <p:grpSp>
                <p:nvGrpSpPr>
                  <p:cNvPr id="202" name=""/>
                  <p:cNvGrpSpPr/>
                  <p:nvPr/>
                </p:nvGrpSpPr>
                <p:grpSpPr>
                  <a:xfrm>
                    <a:off x="2369880" y="1584000"/>
                    <a:ext cx="248040" cy="589680"/>
                    <a:chOff x="2369880" y="1584000"/>
                    <a:chExt cx="248040" cy="589680"/>
                  </a:xfrm>
                </p:grpSpPr>
                <p:sp>
                  <p:nvSpPr>
                    <p:cNvPr id="203" name=""/>
                    <p:cNvSpPr/>
                    <p:nvPr/>
                  </p:nvSpPr>
                  <p:spPr>
                    <a:xfrm>
                      <a:off x="2369880" y="1584000"/>
                      <a:ext cx="124920" cy="58968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493000" y="1584000"/>
                      <a:ext cx="124920" cy="58968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2369880" y="217224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06" name=""/>
                <p:cNvSpPr/>
                <p:nvPr/>
              </p:nvSpPr>
              <p:spPr>
                <a:xfrm>
                  <a:off x="2397960" y="2168640"/>
                  <a:ext cx="17856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07" name=""/>
              <p:cNvSpPr/>
              <p:nvPr/>
            </p:nvSpPr>
            <p:spPr>
              <a:xfrm>
                <a:off x="2438280" y="219204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7068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320920" y="2752200"/>
                <a:ext cx="19728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84000" y="2182320"/>
                <a:ext cx="7956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30280" y="2761560"/>
                <a:ext cx="25344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449800" y="2817000"/>
                <a:ext cx="10476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59160" y="2817000"/>
                <a:ext cx="10476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476440" y="2752200"/>
                <a:ext cx="8172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15" name=""/>
            <p:cNvSpPr/>
            <p:nvPr/>
          </p:nvSpPr>
          <p:spPr>
            <a:xfrm>
              <a:off x="1698480" y="2304720"/>
              <a:ext cx="1379520" cy="82548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3984480" y="1584000"/>
              <a:ext cx="1641240" cy="1635480"/>
              <a:chOff x="3984480" y="1584000"/>
              <a:chExt cx="1641240" cy="1635480"/>
            </a:xfrm>
          </p:grpSpPr>
          <p:sp>
            <p:nvSpPr>
              <p:cNvPr id="217" name=""/>
              <p:cNvSpPr/>
              <p:nvPr/>
            </p:nvSpPr>
            <p:spPr>
              <a:xfrm flipV="1">
                <a:off x="5353560" y="292428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47280" y="2056680"/>
                <a:ext cx="137844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029840" y="2079360"/>
                <a:ext cx="24228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4605840" y="1584000"/>
                <a:ext cx="298440" cy="1635480"/>
                <a:chOff x="4605840" y="1584000"/>
                <a:chExt cx="298440" cy="1635480"/>
              </a:xfrm>
            </p:grpSpPr>
            <p:grpSp>
              <p:nvGrpSpPr>
                <p:cNvPr id="221" name=""/>
                <p:cNvGrpSpPr/>
                <p:nvPr/>
              </p:nvGrpSpPr>
              <p:grpSpPr>
                <a:xfrm>
                  <a:off x="4655520" y="1584000"/>
                  <a:ext cx="248760" cy="617040"/>
                  <a:chOff x="4655520" y="1584000"/>
                  <a:chExt cx="248760" cy="617040"/>
                </a:xfrm>
              </p:grpSpPr>
              <p:grpSp>
                <p:nvGrpSpPr>
                  <p:cNvPr id="222" name=""/>
                  <p:cNvGrpSpPr/>
                  <p:nvPr/>
                </p:nvGrpSpPr>
                <p:grpSpPr>
                  <a:xfrm>
                    <a:off x="4655520" y="1584000"/>
                    <a:ext cx="248760" cy="617040"/>
                    <a:chOff x="4655520" y="1584000"/>
                    <a:chExt cx="248760" cy="617040"/>
                  </a:xfrm>
                </p:grpSpPr>
                <p:grpSp>
                  <p:nvGrpSpPr>
                    <p:cNvPr id="223" name=""/>
                    <p:cNvGrpSpPr/>
                    <p:nvPr/>
                  </p:nvGrpSpPr>
                  <p:grpSpPr>
                    <a:xfrm>
                      <a:off x="4655520" y="1584000"/>
                      <a:ext cx="248040" cy="590040"/>
                      <a:chOff x="4655520" y="1584000"/>
                      <a:chExt cx="248040" cy="590040"/>
                    </a:xfrm>
                  </p:grpSpPr>
                  <p:sp>
                    <p:nvSpPr>
                      <p:cNvPr id="224" name=""/>
                      <p:cNvSpPr/>
                      <p:nvPr/>
                    </p:nvSpPr>
                    <p:spPr>
                      <a:xfrm>
                        <a:off x="4655520" y="1584000"/>
                        <a:ext cx="12492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778280" y="1584000"/>
                        <a:ext cx="12528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4655520" y="2172600"/>
                      <a:ext cx="2487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27" name=""/>
                  <p:cNvSpPr/>
                  <p:nvPr/>
                </p:nvSpPr>
                <p:spPr>
                  <a:xfrm>
                    <a:off x="4683960" y="2169000"/>
                    <a:ext cx="17892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28" name=""/>
                <p:cNvSpPr/>
                <p:nvPr/>
              </p:nvSpPr>
              <p:spPr>
                <a:xfrm>
                  <a:off x="4723920" y="219204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5632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05840" y="2752200"/>
                  <a:ext cx="1980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769280" y="2182680"/>
                  <a:ext cx="8028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15200" y="2761920"/>
                  <a:ext cx="25488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35440" y="2817360"/>
                  <a:ext cx="10476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44800" y="2817360"/>
                  <a:ext cx="10476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62080" y="275220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36" name=""/>
              <p:cNvSpPr/>
              <p:nvPr/>
            </p:nvSpPr>
            <p:spPr>
              <a:xfrm>
                <a:off x="3984480" y="2304720"/>
                <a:ext cx="138024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270480" y="1584000"/>
              <a:ext cx="1641240" cy="1635480"/>
              <a:chOff x="6270480" y="1584000"/>
              <a:chExt cx="1641240" cy="1635480"/>
            </a:xfrm>
          </p:grpSpPr>
          <p:sp>
            <p:nvSpPr>
              <p:cNvPr id="238" name=""/>
              <p:cNvSpPr/>
              <p:nvPr/>
            </p:nvSpPr>
            <p:spPr>
              <a:xfrm flipV="1">
                <a:off x="7639200" y="292428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33640" y="2056680"/>
                <a:ext cx="137808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316200" y="2079360"/>
                <a:ext cx="24192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891840" y="1584000"/>
                <a:ext cx="298080" cy="1635480"/>
                <a:chOff x="6891840" y="1584000"/>
                <a:chExt cx="298080" cy="1635480"/>
              </a:xfrm>
            </p:grpSpPr>
            <p:grpSp>
              <p:nvGrpSpPr>
                <p:cNvPr id="242" name=""/>
                <p:cNvGrpSpPr/>
                <p:nvPr/>
              </p:nvGrpSpPr>
              <p:grpSpPr>
                <a:xfrm>
                  <a:off x="6941520" y="1584000"/>
                  <a:ext cx="248400" cy="617040"/>
                  <a:chOff x="6941520" y="1584000"/>
                  <a:chExt cx="248400" cy="617040"/>
                </a:xfrm>
              </p:grpSpPr>
              <p:grpSp>
                <p:nvGrpSpPr>
                  <p:cNvPr id="243" name=""/>
                  <p:cNvGrpSpPr/>
                  <p:nvPr/>
                </p:nvGrpSpPr>
                <p:grpSpPr>
                  <a:xfrm>
                    <a:off x="6941520" y="1584000"/>
                    <a:ext cx="248400" cy="617040"/>
                    <a:chOff x="6941520" y="1584000"/>
                    <a:chExt cx="248400" cy="617040"/>
                  </a:xfrm>
                </p:grpSpPr>
                <p:grpSp>
                  <p:nvGrpSpPr>
                    <p:cNvPr id="244" name=""/>
                    <p:cNvGrpSpPr/>
                    <p:nvPr/>
                  </p:nvGrpSpPr>
                  <p:grpSpPr>
                    <a:xfrm>
                      <a:off x="6941520" y="1584000"/>
                      <a:ext cx="247680" cy="590040"/>
                      <a:chOff x="6941520" y="1584000"/>
                      <a:chExt cx="247680" cy="590040"/>
                    </a:xfrm>
                  </p:grpSpPr>
                  <p:sp>
                    <p:nvSpPr>
                      <p:cNvPr id="245" name=""/>
                      <p:cNvSpPr/>
                      <p:nvPr/>
                    </p:nvSpPr>
                    <p:spPr>
                      <a:xfrm>
                        <a:off x="6941520" y="1584000"/>
                        <a:ext cx="12492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64280" y="1584000"/>
                        <a:ext cx="12492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6941520" y="217260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8" name=""/>
                  <p:cNvSpPr/>
                  <p:nvPr/>
                </p:nvSpPr>
                <p:spPr>
                  <a:xfrm>
                    <a:off x="6969960" y="2169000"/>
                    <a:ext cx="17856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49" name=""/>
                <p:cNvSpPr/>
                <p:nvPr/>
              </p:nvSpPr>
              <p:spPr>
                <a:xfrm>
                  <a:off x="7009560" y="2192040"/>
                  <a:ext cx="2088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4196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91840" y="2752200"/>
                  <a:ext cx="19764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055640" y="2182680"/>
                  <a:ext cx="7992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901200" y="2761920"/>
                  <a:ext cx="25416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21440" y="2817360"/>
                  <a:ext cx="10440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30800" y="2817360"/>
                  <a:ext cx="10440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47720" y="2752200"/>
                  <a:ext cx="8208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57" name=""/>
              <p:cNvSpPr/>
              <p:nvPr/>
            </p:nvSpPr>
            <p:spPr>
              <a:xfrm>
                <a:off x="6270480" y="2304720"/>
                <a:ext cx="138024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425600" y="3962160"/>
              <a:ext cx="1639440" cy="1632960"/>
              <a:chOff x="1425600" y="3962160"/>
              <a:chExt cx="1639440" cy="1632960"/>
            </a:xfrm>
          </p:grpSpPr>
          <p:sp>
            <p:nvSpPr>
              <p:cNvPr id="259" name=""/>
              <p:cNvSpPr/>
              <p:nvPr/>
            </p:nvSpPr>
            <p:spPr>
              <a:xfrm flipV="1">
                <a:off x="2792520" y="530100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8840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47132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046240" y="3962160"/>
                <a:ext cx="297720" cy="1632960"/>
                <a:chOff x="2046240" y="3962160"/>
                <a:chExt cx="297720" cy="1632960"/>
              </a:xfrm>
            </p:grpSpPr>
            <p:grpSp>
              <p:nvGrpSpPr>
                <p:cNvPr id="263" name=""/>
                <p:cNvGrpSpPr/>
                <p:nvPr/>
              </p:nvGrpSpPr>
              <p:grpSpPr>
                <a:xfrm>
                  <a:off x="2095200" y="3962160"/>
                  <a:ext cx="248760" cy="615960"/>
                  <a:chOff x="2095200" y="3962160"/>
                  <a:chExt cx="248760" cy="615960"/>
                </a:xfrm>
              </p:grpSpPr>
              <p:grpSp>
                <p:nvGrpSpPr>
                  <p:cNvPr id="264" name=""/>
                  <p:cNvGrpSpPr/>
                  <p:nvPr/>
                </p:nvGrpSpPr>
                <p:grpSpPr>
                  <a:xfrm>
                    <a:off x="2095200" y="3962160"/>
                    <a:ext cx="248760" cy="615960"/>
                    <a:chOff x="2095200" y="3962160"/>
                    <a:chExt cx="248760" cy="615960"/>
                  </a:xfrm>
                </p:grpSpPr>
                <p:grpSp>
                  <p:nvGrpSpPr>
                    <p:cNvPr id="265" name=""/>
                    <p:cNvGrpSpPr/>
                    <p:nvPr/>
                  </p:nvGrpSpPr>
                  <p:grpSpPr>
                    <a:xfrm>
                      <a:off x="2095200" y="3962160"/>
                      <a:ext cx="248400" cy="589320"/>
                      <a:chOff x="2095200" y="3962160"/>
                      <a:chExt cx="248400" cy="589320"/>
                    </a:xfrm>
                  </p:grpSpPr>
                  <p:sp>
                    <p:nvSpPr>
                      <p:cNvPr id="266" name=""/>
                      <p:cNvSpPr/>
                      <p:nvPr/>
                    </p:nvSpPr>
                    <p:spPr>
                      <a:xfrm>
                        <a:off x="209520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1868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095200" y="4549680"/>
                      <a:ext cx="2487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69" name=""/>
                  <p:cNvSpPr/>
                  <p:nvPr/>
                </p:nvSpPr>
                <p:spPr>
                  <a:xfrm>
                    <a:off x="2123640" y="4546080"/>
                    <a:ext cx="17892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270" name=""/>
                <p:cNvSpPr/>
                <p:nvPr/>
              </p:nvSpPr>
              <p:spPr>
                <a:xfrm>
                  <a:off x="2163960" y="456912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9636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4624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0968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5560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75120" y="5194080"/>
                  <a:ext cx="10476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84480" y="5194080"/>
                  <a:ext cx="10476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20176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78" name=""/>
              <p:cNvSpPr/>
              <p:nvPr/>
            </p:nvSpPr>
            <p:spPr>
              <a:xfrm>
                <a:off x="14256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3254400" y="3962160"/>
              <a:ext cx="1639440" cy="1632960"/>
              <a:chOff x="3254400" y="3962160"/>
              <a:chExt cx="1639440" cy="1632960"/>
            </a:xfrm>
          </p:grpSpPr>
          <p:sp>
            <p:nvSpPr>
              <p:cNvPr id="280" name=""/>
              <p:cNvSpPr/>
              <p:nvPr/>
            </p:nvSpPr>
            <p:spPr>
              <a:xfrm flipV="1">
                <a:off x="4621320" y="530100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1720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30012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3875040" y="3962160"/>
                <a:ext cx="297360" cy="1632960"/>
                <a:chOff x="3875040" y="3962160"/>
                <a:chExt cx="297360" cy="1632960"/>
              </a:xfrm>
            </p:grpSpPr>
            <p:grpSp>
              <p:nvGrpSpPr>
                <p:cNvPr id="284" name=""/>
                <p:cNvGrpSpPr/>
                <p:nvPr/>
              </p:nvGrpSpPr>
              <p:grpSpPr>
                <a:xfrm>
                  <a:off x="3924360" y="3962160"/>
                  <a:ext cx="248040" cy="615960"/>
                  <a:chOff x="3924360" y="3962160"/>
                  <a:chExt cx="248040" cy="615960"/>
                </a:xfrm>
              </p:grpSpPr>
              <p:grpSp>
                <p:nvGrpSpPr>
                  <p:cNvPr id="285" name=""/>
                  <p:cNvGrpSpPr/>
                  <p:nvPr/>
                </p:nvGrpSpPr>
                <p:grpSpPr>
                  <a:xfrm>
                    <a:off x="3924360" y="3962160"/>
                    <a:ext cx="248040" cy="615960"/>
                    <a:chOff x="3924360" y="3962160"/>
                    <a:chExt cx="248040" cy="615960"/>
                  </a:xfrm>
                </p:grpSpPr>
                <p:grpSp>
                  <p:nvGrpSpPr>
                    <p:cNvPr id="286" name=""/>
                    <p:cNvGrpSpPr/>
                    <p:nvPr/>
                  </p:nvGrpSpPr>
                  <p:grpSpPr>
                    <a:xfrm>
                      <a:off x="3924360" y="3962160"/>
                      <a:ext cx="247680" cy="589320"/>
                      <a:chOff x="3924360" y="3962160"/>
                      <a:chExt cx="247680" cy="589320"/>
                    </a:xfrm>
                  </p:grpSpPr>
                  <p:sp>
                    <p:nvSpPr>
                      <p:cNvPr id="287" name=""/>
                      <p:cNvSpPr/>
                      <p:nvPr/>
                    </p:nvSpPr>
                    <p:spPr>
                      <a:xfrm>
                        <a:off x="392436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4712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924360" y="4549680"/>
                      <a:ext cx="2480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90" name=""/>
                  <p:cNvSpPr/>
                  <p:nvPr/>
                </p:nvSpPr>
                <p:spPr>
                  <a:xfrm>
                    <a:off x="3952800" y="4546080"/>
                    <a:ext cx="17820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291" name=""/>
                <p:cNvSpPr/>
                <p:nvPr/>
              </p:nvSpPr>
              <p:spPr>
                <a:xfrm>
                  <a:off x="3992760" y="456912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2516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7504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3848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8440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04280" y="5194080"/>
                  <a:ext cx="10440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014000" y="5194080"/>
                  <a:ext cx="10440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03056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99" name=""/>
              <p:cNvSpPr/>
              <p:nvPr/>
            </p:nvSpPr>
            <p:spPr>
              <a:xfrm>
                <a:off x="32544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083200" y="3962160"/>
              <a:ext cx="1639440" cy="1632960"/>
              <a:chOff x="5083200" y="3962160"/>
              <a:chExt cx="1639440" cy="1632960"/>
            </a:xfrm>
          </p:grpSpPr>
          <p:sp>
            <p:nvSpPr>
              <p:cNvPr id="301" name=""/>
              <p:cNvSpPr/>
              <p:nvPr/>
            </p:nvSpPr>
            <p:spPr>
              <a:xfrm flipV="1">
                <a:off x="6450480" y="530100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45640" y="4434120"/>
                <a:ext cx="137700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28200" y="4457160"/>
                <a:ext cx="24228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5703840" y="3962160"/>
                <a:ext cx="297720" cy="1632960"/>
                <a:chOff x="5703840" y="3962160"/>
                <a:chExt cx="297720" cy="1632960"/>
              </a:xfrm>
            </p:grpSpPr>
            <p:grpSp>
              <p:nvGrpSpPr>
                <p:cNvPr id="305" name=""/>
                <p:cNvGrpSpPr/>
                <p:nvPr/>
              </p:nvGrpSpPr>
              <p:grpSpPr>
                <a:xfrm>
                  <a:off x="5753160" y="3962160"/>
                  <a:ext cx="248400" cy="615960"/>
                  <a:chOff x="5753160" y="3962160"/>
                  <a:chExt cx="248400" cy="615960"/>
                </a:xfrm>
              </p:grpSpPr>
              <p:grpSp>
                <p:nvGrpSpPr>
                  <p:cNvPr id="306" name=""/>
                  <p:cNvGrpSpPr/>
                  <p:nvPr/>
                </p:nvGrpSpPr>
                <p:grpSpPr>
                  <a:xfrm>
                    <a:off x="5753160" y="3962160"/>
                    <a:ext cx="248400" cy="615960"/>
                    <a:chOff x="5753160" y="3962160"/>
                    <a:chExt cx="248400" cy="615960"/>
                  </a:xfrm>
                </p:grpSpPr>
                <p:grpSp>
                  <p:nvGrpSpPr>
                    <p:cNvPr id="307" name=""/>
                    <p:cNvGrpSpPr/>
                    <p:nvPr/>
                  </p:nvGrpSpPr>
                  <p:grpSpPr>
                    <a:xfrm>
                      <a:off x="5753160" y="3962160"/>
                      <a:ext cx="248040" cy="589320"/>
                      <a:chOff x="5753160" y="3962160"/>
                      <a:chExt cx="248040" cy="589320"/>
                    </a:xfrm>
                  </p:grpSpPr>
                  <p:sp>
                    <p:nvSpPr>
                      <p:cNvPr id="308" name=""/>
                      <p:cNvSpPr/>
                      <p:nvPr/>
                    </p:nvSpPr>
                    <p:spPr>
                      <a:xfrm>
                        <a:off x="575316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875920" y="3962160"/>
                        <a:ext cx="12528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5753160" y="454968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11" name=""/>
                  <p:cNvSpPr/>
                  <p:nvPr/>
                </p:nvSpPr>
                <p:spPr>
                  <a:xfrm>
                    <a:off x="5781240" y="4546080"/>
                    <a:ext cx="17856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312" name=""/>
                <p:cNvSpPr/>
                <p:nvPr/>
              </p:nvSpPr>
              <p:spPr>
                <a:xfrm>
                  <a:off x="5821920" y="456912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432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03840" y="5129280"/>
                  <a:ext cx="1980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67280" y="4559760"/>
                  <a:ext cx="7992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713200" y="5139000"/>
                  <a:ext cx="25488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833080" y="5194080"/>
                  <a:ext cx="10476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42800" y="5194080"/>
                  <a:ext cx="10476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859720" y="512928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0" name=""/>
              <p:cNvSpPr/>
              <p:nvPr/>
            </p:nvSpPr>
            <p:spPr>
              <a:xfrm>
                <a:off x="50832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7094520" y="3962160"/>
              <a:ext cx="1639440" cy="1632960"/>
              <a:chOff x="7094520" y="3962160"/>
              <a:chExt cx="1639440" cy="1632960"/>
            </a:xfrm>
          </p:grpSpPr>
          <p:sp>
            <p:nvSpPr>
              <p:cNvPr id="322" name=""/>
              <p:cNvSpPr/>
              <p:nvPr/>
            </p:nvSpPr>
            <p:spPr>
              <a:xfrm flipV="1">
                <a:off x="8461440" y="530100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35732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14024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7715160" y="3962160"/>
                <a:ext cx="297360" cy="1632960"/>
                <a:chOff x="7715160" y="3962160"/>
                <a:chExt cx="297360" cy="1632960"/>
              </a:xfrm>
            </p:grpSpPr>
            <p:grpSp>
              <p:nvGrpSpPr>
                <p:cNvPr id="326" name=""/>
                <p:cNvGrpSpPr/>
                <p:nvPr/>
              </p:nvGrpSpPr>
              <p:grpSpPr>
                <a:xfrm>
                  <a:off x="7764480" y="3962160"/>
                  <a:ext cx="248040" cy="615960"/>
                  <a:chOff x="7764480" y="3962160"/>
                  <a:chExt cx="248040" cy="615960"/>
                </a:xfrm>
              </p:grpSpPr>
              <p:grpSp>
                <p:nvGrpSpPr>
                  <p:cNvPr id="327" name=""/>
                  <p:cNvGrpSpPr/>
                  <p:nvPr/>
                </p:nvGrpSpPr>
                <p:grpSpPr>
                  <a:xfrm>
                    <a:off x="7764480" y="3962160"/>
                    <a:ext cx="248040" cy="615960"/>
                    <a:chOff x="7764480" y="3962160"/>
                    <a:chExt cx="248040" cy="615960"/>
                  </a:xfrm>
                </p:grpSpPr>
                <p:grpSp>
                  <p:nvGrpSpPr>
                    <p:cNvPr id="328" name=""/>
                    <p:cNvGrpSpPr/>
                    <p:nvPr/>
                  </p:nvGrpSpPr>
                  <p:grpSpPr>
                    <a:xfrm>
                      <a:off x="7764480" y="3962160"/>
                      <a:ext cx="247680" cy="589320"/>
                      <a:chOff x="7764480" y="3962160"/>
                      <a:chExt cx="247680" cy="589320"/>
                    </a:xfrm>
                  </p:grpSpPr>
                  <p:sp>
                    <p:nvSpPr>
                      <p:cNvPr id="329" name=""/>
                      <p:cNvSpPr/>
                      <p:nvPr/>
                    </p:nvSpPr>
                    <p:spPr>
                      <a:xfrm>
                        <a:off x="776448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88724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7764480" y="4549680"/>
                      <a:ext cx="2480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32" name=""/>
                  <p:cNvSpPr/>
                  <p:nvPr/>
                </p:nvSpPr>
                <p:spPr>
                  <a:xfrm>
                    <a:off x="7792920" y="4546080"/>
                    <a:ext cx="17820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333" name=""/>
                <p:cNvSpPr/>
                <p:nvPr/>
              </p:nvSpPr>
              <p:spPr>
                <a:xfrm>
                  <a:off x="7832880" y="456912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86528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1516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87860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2452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844400" y="5194080"/>
                  <a:ext cx="10440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854120" y="5194080"/>
                  <a:ext cx="10440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87068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41" name=""/>
              <p:cNvSpPr/>
              <p:nvPr/>
            </p:nvSpPr>
            <p:spPr>
              <a:xfrm>
                <a:off x="709452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174240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3" name=""/>
            <p:cNvSpPr/>
            <p:nvPr/>
          </p:nvSpPr>
          <p:spPr>
            <a:xfrm>
              <a:off x="402840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4" name=""/>
            <p:cNvSpPr/>
            <p:nvPr/>
          </p:nvSpPr>
          <p:spPr>
            <a:xfrm>
              <a:off x="622368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5" name=""/>
            <p:cNvSpPr/>
            <p:nvPr/>
          </p:nvSpPr>
          <p:spPr>
            <a:xfrm>
              <a:off x="137700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6" name=""/>
            <p:cNvSpPr/>
            <p:nvPr/>
          </p:nvSpPr>
          <p:spPr>
            <a:xfrm>
              <a:off x="329796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7" name=""/>
            <p:cNvSpPr/>
            <p:nvPr/>
          </p:nvSpPr>
          <p:spPr>
            <a:xfrm>
              <a:off x="512676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8" name=""/>
            <p:cNvSpPr/>
            <p:nvPr/>
          </p:nvSpPr>
          <p:spPr>
            <a:xfrm>
              <a:off x="704592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2</a:t>
              </a:r>
              <a:endParaRPr b="0" lang="en-US" sz="4800" spc="-1" strike="noStrike">
                <a:solidFill>
                  <a:srgbClr val="000000"/>
                </a:solidFill>
                <a:latin typeface="Times New Roman"/>
              </a:endParaRPr>
            </a:p>
          </p:txBody>
        </p:sp>
      </p:grpSp>
      <p:sp>
        <p:nvSpPr>
          <p:cNvPr id="349"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e number of grab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1" name=""/>
          <p:cNvGrpSpPr/>
          <p:nvPr/>
        </p:nvGrpSpPr>
        <p:grpSpPr>
          <a:xfrm>
            <a:off x="1477800" y="1066680"/>
            <a:ext cx="7132680" cy="5127480"/>
            <a:chOff x="1477800" y="1066680"/>
            <a:chExt cx="7132680" cy="5127480"/>
          </a:xfrm>
        </p:grpSpPr>
        <p:sp>
          <p:nvSpPr>
            <p:cNvPr id="352" name=""/>
            <p:cNvSpPr/>
            <p:nvPr/>
          </p:nvSpPr>
          <p:spPr>
            <a:xfrm>
              <a:off x="1477800" y="1134720"/>
              <a:ext cx="7132680" cy="50594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4129200" y="5700600"/>
              <a:ext cx="29988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92480" y="4233600"/>
              <a:ext cx="2295360" cy="1490760"/>
            </a:xfrm>
            <a:custGeom>
              <a:avLst/>
              <a:gdLst/>
              <a:ahLst/>
              <a:rect l="l" t="t" r="r" b="b"/>
              <a:pathLst>
                <a:path w="1205" h="782">
                  <a:moveTo>
                    <a:pt x="1120" y="781"/>
                  </a:moveTo>
                  <a:lnTo>
                    <a:pt x="1161" y="741"/>
                  </a:lnTo>
                  <a:lnTo>
                    <a:pt x="1190" y="698"/>
                  </a:lnTo>
                  <a:lnTo>
                    <a:pt x="1204" y="666"/>
                  </a:lnTo>
                  <a:lnTo>
                    <a:pt x="1204" y="120"/>
                  </a:lnTo>
                  <a:lnTo>
                    <a:pt x="1204" y="80"/>
                  </a:lnTo>
                  <a:lnTo>
                    <a:pt x="1175" y="25"/>
                  </a:lnTo>
                  <a:lnTo>
                    <a:pt x="1110" y="4"/>
                  </a:lnTo>
                  <a:lnTo>
                    <a:pt x="1049" y="0"/>
                  </a:lnTo>
                  <a:lnTo>
                    <a:pt x="151" y="0"/>
                  </a:lnTo>
                  <a:lnTo>
                    <a:pt x="62" y="6"/>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1927080" y="4279680"/>
              <a:ext cx="41292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2127240" y="2673000"/>
              <a:ext cx="540360" cy="2763360"/>
              <a:chOff x="2127240" y="2673000"/>
              <a:chExt cx="540360" cy="2763360"/>
            </a:xfrm>
          </p:grpSpPr>
          <p:grpSp>
            <p:nvGrpSpPr>
              <p:cNvPr id="357" name=""/>
              <p:cNvGrpSpPr/>
              <p:nvPr/>
            </p:nvGrpSpPr>
            <p:grpSpPr>
              <a:xfrm>
                <a:off x="2216520" y="2673000"/>
                <a:ext cx="451080" cy="1039320"/>
                <a:chOff x="2216520" y="2673000"/>
                <a:chExt cx="451080" cy="1039320"/>
              </a:xfrm>
            </p:grpSpPr>
            <p:grpSp>
              <p:nvGrpSpPr>
                <p:cNvPr id="358" name=""/>
                <p:cNvGrpSpPr/>
                <p:nvPr/>
              </p:nvGrpSpPr>
              <p:grpSpPr>
                <a:xfrm>
                  <a:off x="2216520" y="2673000"/>
                  <a:ext cx="451080" cy="1039320"/>
                  <a:chOff x="2216520" y="2673000"/>
                  <a:chExt cx="451080" cy="1039320"/>
                </a:xfrm>
              </p:grpSpPr>
              <p:grpSp>
                <p:nvGrpSpPr>
                  <p:cNvPr id="359" name=""/>
                  <p:cNvGrpSpPr/>
                  <p:nvPr/>
                </p:nvGrpSpPr>
                <p:grpSpPr>
                  <a:xfrm>
                    <a:off x="2216520" y="2673000"/>
                    <a:ext cx="450720" cy="995040"/>
                    <a:chOff x="2216520" y="2673000"/>
                    <a:chExt cx="450720" cy="995040"/>
                  </a:xfrm>
                </p:grpSpPr>
                <p:sp>
                  <p:nvSpPr>
                    <p:cNvPr id="360" name=""/>
                    <p:cNvSpPr/>
                    <p:nvPr/>
                  </p:nvSpPr>
                  <p:spPr>
                    <a:xfrm>
                      <a:off x="2216520" y="2673000"/>
                      <a:ext cx="22644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441160" y="267300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2216520" y="3666600"/>
                    <a:ext cx="45108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363" name=""/>
                <p:cNvSpPr/>
                <p:nvPr/>
              </p:nvSpPr>
              <p:spPr>
                <a:xfrm>
                  <a:off x="2260440" y="3653640"/>
                  <a:ext cx="33912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64" name=""/>
              <p:cNvSpPr/>
              <p:nvPr/>
            </p:nvSpPr>
            <p:spPr>
              <a:xfrm>
                <a:off x="2338920" y="3694320"/>
                <a:ext cx="4896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396160" y="3694320"/>
                <a:ext cx="2448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27240" y="4642920"/>
                <a:ext cx="35820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28560" y="368244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32640" y="4648680"/>
                <a:ext cx="48780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65200" y="4753440"/>
                <a:ext cx="186480" cy="48168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78880" y="4753440"/>
                <a:ext cx="188640" cy="48168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11280" y="4642920"/>
                <a:ext cx="150120" cy="12744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1851120" y="4647960"/>
              <a:ext cx="2307960" cy="14018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603920" y="5700600"/>
              <a:ext cx="29844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767200" y="4233600"/>
              <a:ext cx="2295720" cy="1490760"/>
            </a:xfrm>
            <a:custGeom>
              <a:avLst/>
              <a:gdLst/>
              <a:ahLst/>
              <a:rect l="l" t="t" r="r" b="b"/>
              <a:pathLst>
                <a:path w="1205" h="782">
                  <a:moveTo>
                    <a:pt x="1120" y="781"/>
                  </a:moveTo>
                  <a:lnTo>
                    <a:pt x="1161" y="741"/>
                  </a:lnTo>
                  <a:lnTo>
                    <a:pt x="1190" y="698"/>
                  </a:lnTo>
                  <a:lnTo>
                    <a:pt x="1204" y="666"/>
                  </a:lnTo>
                  <a:lnTo>
                    <a:pt x="1204" y="120"/>
                  </a:lnTo>
                  <a:lnTo>
                    <a:pt x="1204" y="80"/>
                  </a:lnTo>
                  <a:lnTo>
                    <a:pt x="1175" y="25"/>
                  </a:lnTo>
                  <a:lnTo>
                    <a:pt x="1110" y="4"/>
                  </a:lnTo>
                  <a:lnTo>
                    <a:pt x="1049" y="0"/>
                  </a:lnTo>
                  <a:lnTo>
                    <a:pt x="151" y="0"/>
                  </a:lnTo>
                  <a:lnTo>
                    <a:pt x="62" y="6"/>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402160" y="4279680"/>
              <a:ext cx="41292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915240" y="3404880"/>
              <a:ext cx="495720" cy="2762640"/>
              <a:chOff x="6915240" y="3404880"/>
              <a:chExt cx="495720" cy="2762640"/>
            </a:xfrm>
          </p:grpSpPr>
          <p:grpSp>
            <p:nvGrpSpPr>
              <p:cNvPr id="377" name=""/>
              <p:cNvGrpSpPr/>
              <p:nvPr/>
            </p:nvGrpSpPr>
            <p:grpSpPr>
              <a:xfrm>
                <a:off x="6996600" y="3404880"/>
                <a:ext cx="414360" cy="1038960"/>
                <a:chOff x="6996600" y="3404880"/>
                <a:chExt cx="414360" cy="1038960"/>
              </a:xfrm>
            </p:grpSpPr>
            <p:grpSp>
              <p:nvGrpSpPr>
                <p:cNvPr id="378" name=""/>
                <p:cNvGrpSpPr/>
                <p:nvPr/>
              </p:nvGrpSpPr>
              <p:grpSpPr>
                <a:xfrm>
                  <a:off x="6996600" y="3404880"/>
                  <a:ext cx="414360" cy="1038960"/>
                  <a:chOff x="6996600" y="3404880"/>
                  <a:chExt cx="414360" cy="1038960"/>
                </a:xfrm>
              </p:grpSpPr>
              <p:grpSp>
                <p:nvGrpSpPr>
                  <p:cNvPr id="379" name=""/>
                  <p:cNvGrpSpPr/>
                  <p:nvPr/>
                </p:nvGrpSpPr>
                <p:grpSpPr>
                  <a:xfrm>
                    <a:off x="6996600" y="3404880"/>
                    <a:ext cx="414000" cy="995040"/>
                    <a:chOff x="6996600" y="3404880"/>
                    <a:chExt cx="414000" cy="995040"/>
                  </a:xfrm>
                </p:grpSpPr>
                <p:sp>
                  <p:nvSpPr>
                    <p:cNvPr id="380" name=""/>
                    <p:cNvSpPr/>
                    <p:nvPr/>
                  </p:nvSpPr>
                  <p:spPr>
                    <a:xfrm>
                      <a:off x="6996600" y="3404880"/>
                      <a:ext cx="207000" cy="995040"/>
                    </a:xfrm>
                    <a:custGeom>
                      <a:avLst/>
                      <a:gdLst/>
                      <a:ahLst/>
                      <a:rect l="l" t="t" r="r" b="b"/>
                      <a:pathLst>
                        <a:path w="109" h="523">
                          <a:moveTo>
                            <a:pt x="0" y="522"/>
                          </a:moveTo>
                          <a:lnTo>
                            <a:pt x="108" y="498"/>
                          </a:lnTo>
                          <a:lnTo>
                            <a:pt x="10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01800" y="3404880"/>
                      <a:ext cx="208800" cy="995040"/>
                    </a:xfrm>
                    <a:custGeom>
                      <a:avLst/>
                      <a:gdLst/>
                      <a:ahLst/>
                      <a:rect l="l" t="t" r="r" b="b"/>
                      <a:pathLst>
                        <a:path w="110" h="523">
                          <a:moveTo>
                            <a:pt x="109" y="522"/>
                          </a:moveTo>
                          <a:lnTo>
                            <a:pt x="0" y="498"/>
                          </a:lnTo>
                          <a:lnTo>
                            <a:pt x="0" y="0"/>
                          </a:lnTo>
                          <a:lnTo>
                            <a:pt x="109" y="24"/>
                          </a:lnTo>
                          <a:lnTo>
                            <a:pt x="109"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6996600" y="4398120"/>
                    <a:ext cx="414360" cy="45720"/>
                  </a:xfrm>
                  <a:custGeom>
                    <a:avLst/>
                    <a:gdLst/>
                    <a:ahLst/>
                    <a:rect l="l" t="t" r="r" b="b"/>
                    <a:pathLst>
                      <a:path w="218" h="24">
                        <a:moveTo>
                          <a:pt x="0" y="0"/>
                        </a:moveTo>
                        <a:lnTo>
                          <a:pt x="108" y="23"/>
                        </a:lnTo>
                        <a:lnTo>
                          <a:pt x="217"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383" name=""/>
                <p:cNvSpPr/>
                <p:nvPr/>
              </p:nvSpPr>
              <p:spPr>
                <a:xfrm>
                  <a:off x="7038360" y="4385520"/>
                  <a:ext cx="30996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84" name=""/>
              <p:cNvSpPr/>
              <p:nvPr/>
            </p:nvSpPr>
            <p:spPr>
              <a:xfrm>
                <a:off x="7107120" y="4425480"/>
                <a:ext cx="4572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160760" y="4425480"/>
                <a:ext cx="2052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15240" y="5374440"/>
                <a:ext cx="329040" cy="417240"/>
              </a:xfrm>
              <a:custGeom>
                <a:avLst/>
                <a:gdLst/>
                <a:ahLst/>
                <a:rect l="l" t="t" r="r" b="b"/>
                <a:pathLst>
                  <a:path w="173" h="219">
                    <a:moveTo>
                      <a:pt x="121" y="0"/>
                    </a:moveTo>
                    <a:lnTo>
                      <a:pt x="94" y="6"/>
                    </a:lnTo>
                    <a:lnTo>
                      <a:pt x="60" y="32"/>
                    </a:lnTo>
                    <a:lnTo>
                      <a:pt x="39" y="60"/>
                    </a:lnTo>
                    <a:lnTo>
                      <a:pt x="28" y="83"/>
                    </a:lnTo>
                    <a:lnTo>
                      <a:pt x="17" y="111"/>
                    </a:lnTo>
                    <a:lnTo>
                      <a:pt x="9" y="133"/>
                    </a:lnTo>
                    <a:lnTo>
                      <a:pt x="1" y="169"/>
                    </a:lnTo>
                    <a:lnTo>
                      <a:pt x="0" y="185"/>
                    </a:lnTo>
                    <a:lnTo>
                      <a:pt x="0" y="200"/>
                    </a:lnTo>
                    <a:lnTo>
                      <a:pt x="2" y="218"/>
                    </a:lnTo>
                    <a:lnTo>
                      <a:pt x="11" y="208"/>
                    </a:lnTo>
                    <a:lnTo>
                      <a:pt x="20" y="197"/>
                    </a:lnTo>
                    <a:lnTo>
                      <a:pt x="22" y="182"/>
                    </a:lnTo>
                    <a:lnTo>
                      <a:pt x="24" y="166"/>
                    </a:lnTo>
                    <a:lnTo>
                      <a:pt x="27" y="160"/>
                    </a:lnTo>
                    <a:lnTo>
                      <a:pt x="33" y="159"/>
                    </a:lnTo>
                    <a:lnTo>
                      <a:pt x="38" y="160"/>
                    </a:lnTo>
                    <a:lnTo>
                      <a:pt x="43" y="165"/>
                    </a:lnTo>
                    <a:lnTo>
                      <a:pt x="48" y="170"/>
                    </a:lnTo>
                    <a:lnTo>
                      <a:pt x="55" y="173"/>
                    </a:lnTo>
                    <a:lnTo>
                      <a:pt x="65" y="162"/>
                    </a:lnTo>
                    <a:lnTo>
                      <a:pt x="62" y="154"/>
                    </a:lnTo>
                    <a:lnTo>
                      <a:pt x="51" y="148"/>
                    </a:lnTo>
                    <a:lnTo>
                      <a:pt x="45" y="144"/>
                    </a:lnTo>
                    <a:lnTo>
                      <a:pt x="41" y="136"/>
                    </a:lnTo>
                    <a:lnTo>
                      <a:pt x="43" y="128"/>
                    </a:lnTo>
                    <a:lnTo>
                      <a:pt x="47" y="123"/>
                    </a:lnTo>
                    <a:lnTo>
                      <a:pt x="52" y="117"/>
                    </a:lnTo>
                    <a:lnTo>
                      <a:pt x="60" y="117"/>
                    </a:lnTo>
                    <a:lnTo>
                      <a:pt x="87" y="138"/>
                    </a:lnTo>
                    <a:lnTo>
                      <a:pt x="100" y="123"/>
                    </a:lnTo>
                    <a:lnTo>
                      <a:pt x="72" y="108"/>
                    </a:lnTo>
                    <a:lnTo>
                      <a:pt x="67" y="102"/>
                    </a:lnTo>
                    <a:lnTo>
                      <a:pt x="66" y="97"/>
                    </a:lnTo>
                    <a:lnTo>
                      <a:pt x="67" y="94"/>
                    </a:lnTo>
                    <a:lnTo>
                      <a:pt x="69" y="90"/>
                    </a:lnTo>
                    <a:lnTo>
                      <a:pt x="71" y="88"/>
                    </a:lnTo>
                    <a:lnTo>
                      <a:pt x="75" y="85"/>
                    </a:lnTo>
                    <a:lnTo>
                      <a:pt x="83" y="81"/>
                    </a:lnTo>
                    <a:lnTo>
                      <a:pt x="114" y="92"/>
                    </a:lnTo>
                    <a:lnTo>
                      <a:pt x="150" y="49"/>
                    </a:lnTo>
                    <a:lnTo>
                      <a:pt x="172" y="22"/>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89200" y="4414320"/>
                <a:ext cx="129240" cy="1074240"/>
              </a:xfrm>
              <a:custGeom>
                <a:avLst/>
                <a:gdLst/>
                <a:ahLst/>
                <a:rect l="l" t="t" r="r" b="b"/>
                <a:pathLst>
                  <a:path w="68" h="564">
                    <a:moveTo>
                      <a:pt x="0" y="0"/>
                    </a:moveTo>
                    <a:lnTo>
                      <a:pt x="67" y="0"/>
                    </a:lnTo>
                    <a:lnTo>
                      <a:pt x="67" y="563"/>
                    </a:lnTo>
                    <a:lnTo>
                      <a:pt x="26"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920640" y="5379840"/>
                <a:ext cx="444960" cy="787680"/>
              </a:xfrm>
              <a:custGeom>
                <a:avLst/>
                <a:gdLst/>
                <a:ahLst/>
                <a:rect l="l" t="t" r="r" b="b"/>
                <a:pathLst>
                  <a:path stroke="0" w="21600" h="21600">
                    <a:moveTo>
                      <a:pt x="0" y="10800"/>
                    </a:moveTo>
                    <a:arcTo wR="10800" hR="10800" stAng="10800000" swAng="5663923"/>
                    <a:lnTo>
                      <a:pt x="10800" y="10800"/>
                    </a:lnTo>
                    <a:close/>
                  </a:path>
                  <a:path fill="none" w="21600" h="21600">
                    <a:moveTo>
                      <a:pt x="0" y="10800"/>
                    </a:moveTo>
                    <a:arcTo wR="10800" hR="10800" stAng="10800000" swAng="566392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131600" y="5484960"/>
                <a:ext cx="173160" cy="482040"/>
              </a:xfrm>
              <a:custGeom>
                <a:avLst/>
                <a:gdLst/>
                <a:ahLst/>
                <a:rect l="l" t="t" r="r" b="b"/>
                <a:pathLst>
                  <a:path w="91" h="253">
                    <a:moveTo>
                      <a:pt x="88" y="3"/>
                    </a:moveTo>
                    <a:lnTo>
                      <a:pt x="90" y="50"/>
                    </a:lnTo>
                    <a:lnTo>
                      <a:pt x="24" y="247"/>
                    </a:lnTo>
                    <a:lnTo>
                      <a:pt x="17" y="252"/>
                    </a:lnTo>
                    <a:lnTo>
                      <a:pt x="10" y="245"/>
                    </a:lnTo>
                    <a:lnTo>
                      <a:pt x="3" y="224"/>
                    </a:lnTo>
                    <a:lnTo>
                      <a:pt x="3" y="185"/>
                    </a:lnTo>
                    <a:lnTo>
                      <a:pt x="3" y="163"/>
                    </a:lnTo>
                    <a:lnTo>
                      <a:pt x="7" y="154"/>
                    </a:lnTo>
                    <a:lnTo>
                      <a:pt x="13" y="151"/>
                    </a:lnTo>
                    <a:lnTo>
                      <a:pt x="23" y="153"/>
                    </a:lnTo>
                    <a:lnTo>
                      <a:pt x="30" y="152"/>
                    </a:lnTo>
                    <a:lnTo>
                      <a:pt x="37" y="150"/>
                    </a:lnTo>
                    <a:lnTo>
                      <a:pt x="41" y="146"/>
                    </a:lnTo>
                    <a:lnTo>
                      <a:pt x="41" y="137"/>
                    </a:lnTo>
                    <a:lnTo>
                      <a:pt x="38" y="131"/>
                    </a:lnTo>
                    <a:lnTo>
                      <a:pt x="31" y="129"/>
                    </a:lnTo>
                    <a:lnTo>
                      <a:pt x="19" y="128"/>
                    </a:lnTo>
                    <a:lnTo>
                      <a:pt x="7" y="128"/>
                    </a:lnTo>
                    <a:lnTo>
                      <a:pt x="2" y="121"/>
                    </a:lnTo>
                    <a:lnTo>
                      <a:pt x="1" y="114"/>
                    </a:lnTo>
                    <a:lnTo>
                      <a:pt x="4" y="104"/>
                    </a:lnTo>
                    <a:lnTo>
                      <a:pt x="12" y="101"/>
                    </a:lnTo>
                    <a:lnTo>
                      <a:pt x="23" y="103"/>
                    </a:lnTo>
                    <a:lnTo>
                      <a:pt x="34" y="103"/>
                    </a:lnTo>
                    <a:lnTo>
                      <a:pt x="42" y="103"/>
                    </a:lnTo>
                    <a:lnTo>
                      <a:pt x="48" y="97"/>
                    </a:lnTo>
                    <a:lnTo>
                      <a:pt x="48" y="85"/>
                    </a:lnTo>
                    <a:lnTo>
                      <a:pt x="41" y="80"/>
                    </a:lnTo>
                    <a:lnTo>
                      <a:pt x="13" y="78"/>
                    </a:lnTo>
                    <a:lnTo>
                      <a:pt x="2" y="72"/>
                    </a:lnTo>
                    <a:lnTo>
                      <a:pt x="0" y="60"/>
                    </a:lnTo>
                    <a:lnTo>
                      <a:pt x="7" y="51"/>
                    </a:lnTo>
                    <a:lnTo>
                      <a:pt x="17" y="50"/>
                    </a:lnTo>
                    <a:lnTo>
                      <a:pt x="30" y="50"/>
                    </a:lnTo>
                    <a:lnTo>
                      <a:pt x="44" y="50"/>
                    </a:lnTo>
                    <a:lnTo>
                      <a:pt x="51" y="45"/>
                    </a:lnTo>
                    <a:lnTo>
                      <a:pt x="54" y="35"/>
                    </a:lnTo>
                    <a:lnTo>
                      <a:pt x="54" y="13"/>
                    </a:lnTo>
                    <a:lnTo>
                      <a:pt x="53" y="0"/>
                    </a:lnTo>
                    <a:lnTo>
                      <a:pt x="88"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44920" y="5484960"/>
                <a:ext cx="173160" cy="482040"/>
              </a:xfrm>
              <a:custGeom>
                <a:avLst/>
                <a:gdLst/>
                <a:ahLst/>
                <a:rect l="l" t="t" r="r" b="b"/>
                <a:pathLst>
                  <a:path w="91" h="253">
                    <a:moveTo>
                      <a:pt x="90" y="3"/>
                    </a:moveTo>
                    <a:lnTo>
                      <a:pt x="90" y="50"/>
                    </a:lnTo>
                    <a:lnTo>
                      <a:pt x="25" y="247"/>
                    </a:lnTo>
                    <a:lnTo>
                      <a:pt x="18" y="252"/>
                    </a:lnTo>
                    <a:lnTo>
                      <a:pt x="10" y="245"/>
                    </a:lnTo>
                    <a:lnTo>
                      <a:pt x="3" y="224"/>
                    </a:lnTo>
                    <a:lnTo>
                      <a:pt x="3" y="185"/>
                    </a:lnTo>
                    <a:lnTo>
                      <a:pt x="3" y="163"/>
                    </a:lnTo>
                    <a:lnTo>
                      <a:pt x="7" y="154"/>
                    </a:lnTo>
                    <a:lnTo>
                      <a:pt x="13" y="151"/>
                    </a:lnTo>
                    <a:lnTo>
                      <a:pt x="24" y="153"/>
                    </a:lnTo>
                    <a:lnTo>
                      <a:pt x="31" y="152"/>
                    </a:lnTo>
                    <a:lnTo>
                      <a:pt x="37" y="150"/>
                    </a:lnTo>
                    <a:lnTo>
                      <a:pt x="42" y="146"/>
                    </a:lnTo>
                    <a:lnTo>
                      <a:pt x="42" y="137"/>
                    </a:lnTo>
                    <a:lnTo>
                      <a:pt x="38" y="131"/>
                    </a:lnTo>
                    <a:lnTo>
                      <a:pt x="32" y="129"/>
                    </a:lnTo>
                    <a:lnTo>
                      <a:pt x="19" y="128"/>
                    </a:lnTo>
                    <a:lnTo>
                      <a:pt x="7" y="128"/>
                    </a:lnTo>
                    <a:lnTo>
                      <a:pt x="2" y="121"/>
                    </a:lnTo>
                    <a:lnTo>
                      <a:pt x="1" y="114"/>
                    </a:lnTo>
                    <a:lnTo>
                      <a:pt x="4" y="104"/>
                    </a:lnTo>
                    <a:lnTo>
                      <a:pt x="13" y="101"/>
                    </a:lnTo>
                    <a:lnTo>
                      <a:pt x="24" y="103"/>
                    </a:lnTo>
                    <a:lnTo>
                      <a:pt x="35" y="103"/>
                    </a:lnTo>
                    <a:lnTo>
                      <a:pt x="42" y="103"/>
                    </a:lnTo>
                    <a:lnTo>
                      <a:pt x="49" y="97"/>
                    </a:lnTo>
                    <a:lnTo>
                      <a:pt x="49" y="85"/>
                    </a:lnTo>
                    <a:lnTo>
                      <a:pt x="42" y="80"/>
                    </a:lnTo>
                    <a:lnTo>
                      <a:pt x="13" y="78"/>
                    </a:lnTo>
                    <a:lnTo>
                      <a:pt x="2" y="72"/>
                    </a:lnTo>
                    <a:lnTo>
                      <a:pt x="0" y="60"/>
                    </a:lnTo>
                    <a:lnTo>
                      <a:pt x="7" y="51"/>
                    </a:lnTo>
                    <a:lnTo>
                      <a:pt x="18" y="50"/>
                    </a:lnTo>
                    <a:lnTo>
                      <a:pt x="31" y="50"/>
                    </a:lnTo>
                    <a:lnTo>
                      <a:pt x="45" y="50"/>
                    </a:lnTo>
                    <a:lnTo>
                      <a:pt x="52" y="45"/>
                    </a:lnTo>
                    <a:lnTo>
                      <a:pt x="55" y="35"/>
                    </a:lnTo>
                    <a:lnTo>
                      <a:pt x="55" y="13"/>
                    </a:lnTo>
                    <a:lnTo>
                      <a:pt x="54" y="0"/>
                    </a:lnTo>
                    <a:lnTo>
                      <a:pt x="90"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173720" y="5374440"/>
                <a:ext cx="137160" cy="127800"/>
              </a:xfrm>
              <a:custGeom>
                <a:avLst/>
                <a:gdLst/>
                <a:ahLst/>
                <a:rect l="l" t="t" r="r" b="b"/>
                <a:pathLst>
                  <a:path w="72" h="67">
                    <a:moveTo>
                      <a:pt x="0" y="0"/>
                    </a:moveTo>
                    <a:lnTo>
                      <a:pt x="29" y="66"/>
                    </a:lnTo>
                    <a:lnTo>
                      <a:pt x="71"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
            <p:cNvSpPr/>
            <p:nvPr/>
          </p:nvSpPr>
          <p:spPr>
            <a:xfrm>
              <a:off x="5326200" y="4647960"/>
              <a:ext cx="2307960" cy="14018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301840" y="1066680"/>
              <a:ext cx="1093680" cy="1569960"/>
            </a:xfrm>
            <a:prstGeom prst="rect">
              <a:avLst/>
            </a:prstGeom>
            <a:noFill/>
            <a:ln w="0">
              <a:noFill/>
            </a:ln>
          </p:spPr>
          <p:style>
            <a:lnRef idx="0"/>
            <a:fillRef idx="0"/>
            <a:effectRef idx="0"/>
            <a:fontRef idx="minor"/>
          </p:style>
          <p:txBody>
            <a:bodyPr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9600" spc="-1" strike="noStrike">
                  <a:solidFill>
                    <a:srgbClr val="fc0128"/>
                  </a:solidFill>
                  <a:latin typeface="Univers (W1)"/>
                </a:rPr>
                <a:t>X</a:t>
              </a:r>
              <a:endParaRPr b="0" lang="en-US" sz="9600" spc="-1" strike="noStrike">
                <a:solidFill>
                  <a:srgbClr val="000000"/>
                </a:solidFill>
                <a:latin typeface="Times New Roman"/>
              </a:endParaRPr>
            </a:p>
          </p:txBody>
        </p:sp>
        <p:sp>
          <p:nvSpPr>
            <p:cNvPr id="394" name=""/>
            <p:cNvSpPr/>
            <p:nvPr/>
          </p:nvSpPr>
          <p:spPr>
            <a:xfrm>
              <a:off x="6415200" y="1211040"/>
              <a:ext cx="1282680" cy="1190520"/>
            </a:xfrm>
            <a:custGeom>
              <a:avLst/>
              <a:gdLst/>
              <a:ahLst/>
              <a:rect l="l" t="t" r="r" b="b"/>
              <a:pathLst>
                <a:path w="673" h="625">
                  <a:moveTo>
                    <a:pt x="76" y="291"/>
                  </a:moveTo>
                  <a:lnTo>
                    <a:pt x="0" y="460"/>
                  </a:lnTo>
                  <a:lnTo>
                    <a:pt x="259" y="624"/>
                  </a:lnTo>
                  <a:lnTo>
                    <a:pt x="672" y="73"/>
                  </a:lnTo>
                  <a:lnTo>
                    <a:pt x="672" y="0"/>
                  </a:lnTo>
                  <a:lnTo>
                    <a:pt x="212" y="465"/>
                  </a:lnTo>
                  <a:lnTo>
                    <a:pt x="76"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2949480" y="2673000"/>
              <a:ext cx="540360" cy="2763360"/>
              <a:chOff x="2949480" y="2673000"/>
              <a:chExt cx="540360" cy="2763360"/>
            </a:xfrm>
          </p:grpSpPr>
          <p:grpSp>
            <p:nvGrpSpPr>
              <p:cNvPr id="396" name=""/>
              <p:cNvGrpSpPr/>
              <p:nvPr/>
            </p:nvGrpSpPr>
            <p:grpSpPr>
              <a:xfrm>
                <a:off x="3038760" y="2673000"/>
                <a:ext cx="451080" cy="1039320"/>
                <a:chOff x="3038760" y="2673000"/>
                <a:chExt cx="451080" cy="1039320"/>
              </a:xfrm>
            </p:grpSpPr>
            <p:grpSp>
              <p:nvGrpSpPr>
                <p:cNvPr id="397" name=""/>
                <p:cNvGrpSpPr/>
                <p:nvPr/>
              </p:nvGrpSpPr>
              <p:grpSpPr>
                <a:xfrm>
                  <a:off x="3038760" y="2673000"/>
                  <a:ext cx="451080" cy="1039320"/>
                  <a:chOff x="3038760" y="2673000"/>
                  <a:chExt cx="451080" cy="1039320"/>
                </a:xfrm>
              </p:grpSpPr>
              <p:grpSp>
                <p:nvGrpSpPr>
                  <p:cNvPr id="398" name=""/>
                  <p:cNvGrpSpPr/>
                  <p:nvPr/>
                </p:nvGrpSpPr>
                <p:grpSpPr>
                  <a:xfrm>
                    <a:off x="3038760" y="2673000"/>
                    <a:ext cx="450720" cy="995040"/>
                    <a:chOff x="3038760" y="2673000"/>
                    <a:chExt cx="450720" cy="995040"/>
                  </a:xfrm>
                </p:grpSpPr>
                <p:sp>
                  <p:nvSpPr>
                    <p:cNvPr id="399" name=""/>
                    <p:cNvSpPr/>
                    <p:nvPr/>
                  </p:nvSpPr>
                  <p:spPr>
                    <a:xfrm>
                      <a:off x="3038760" y="2673000"/>
                      <a:ext cx="22644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263400" y="267300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3038760" y="3666600"/>
                    <a:ext cx="45108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02" name=""/>
                <p:cNvSpPr/>
                <p:nvPr/>
              </p:nvSpPr>
              <p:spPr>
                <a:xfrm>
                  <a:off x="3082680" y="3653640"/>
                  <a:ext cx="33912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03" name=""/>
              <p:cNvSpPr/>
              <p:nvPr/>
            </p:nvSpPr>
            <p:spPr>
              <a:xfrm>
                <a:off x="3161160" y="3694320"/>
                <a:ext cx="4896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218400" y="3694320"/>
                <a:ext cx="2448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949480" y="4642920"/>
                <a:ext cx="35820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250800" y="368244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954880" y="4648680"/>
                <a:ext cx="48780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87440" y="4753440"/>
                <a:ext cx="186480" cy="48168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201120" y="4753440"/>
                <a:ext cx="188640" cy="48168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233520" y="4642920"/>
                <a:ext cx="150120" cy="12744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602320" y="2765160"/>
              <a:ext cx="540360" cy="2763000"/>
              <a:chOff x="5602320" y="2765160"/>
              <a:chExt cx="540360" cy="2763000"/>
            </a:xfrm>
          </p:grpSpPr>
          <p:grpSp>
            <p:nvGrpSpPr>
              <p:cNvPr id="412" name=""/>
              <p:cNvGrpSpPr/>
              <p:nvPr/>
            </p:nvGrpSpPr>
            <p:grpSpPr>
              <a:xfrm>
                <a:off x="5691960" y="2765160"/>
                <a:ext cx="450720" cy="1039320"/>
                <a:chOff x="5691960" y="2765160"/>
                <a:chExt cx="450720" cy="1039320"/>
              </a:xfrm>
            </p:grpSpPr>
            <p:grpSp>
              <p:nvGrpSpPr>
                <p:cNvPr id="413" name=""/>
                <p:cNvGrpSpPr/>
                <p:nvPr/>
              </p:nvGrpSpPr>
              <p:grpSpPr>
                <a:xfrm>
                  <a:off x="5691960" y="2765160"/>
                  <a:ext cx="450720" cy="1039320"/>
                  <a:chOff x="5691960" y="2765160"/>
                  <a:chExt cx="450720" cy="1039320"/>
                </a:xfrm>
              </p:grpSpPr>
              <p:grpSp>
                <p:nvGrpSpPr>
                  <p:cNvPr id="414" name=""/>
                  <p:cNvGrpSpPr/>
                  <p:nvPr/>
                </p:nvGrpSpPr>
                <p:grpSpPr>
                  <a:xfrm>
                    <a:off x="5691960" y="2765160"/>
                    <a:ext cx="450000" cy="995040"/>
                    <a:chOff x="5691960" y="2765160"/>
                    <a:chExt cx="450000" cy="995040"/>
                  </a:xfrm>
                </p:grpSpPr>
                <p:sp>
                  <p:nvSpPr>
                    <p:cNvPr id="415" name=""/>
                    <p:cNvSpPr/>
                    <p:nvPr/>
                  </p:nvSpPr>
                  <p:spPr>
                    <a:xfrm>
                      <a:off x="5691960" y="2765160"/>
                      <a:ext cx="22572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915880" y="276516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5691960" y="3758760"/>
                    <a:ext cx="45072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18" name=""/>
                <p:cNvSpPr/>
                <p:nvPr/>
              </p:nvSpPr>
              <p:spPr>
                <a:xfrm>
                  <a:off x="5735520" y="3745800"/>
                  <a:ext cx="33876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19" name=""/>
              <p:cNvSpPr/>
              <p:nvPr/>
            </p:nvSpPr>
            <p:spPr>
              <a:xfrm>
                <a:off x="5814000" y="3785760"/>
                <a:ext cx="4968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70880" y="3785760"/>
                <a:ext cx="2448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02320" y="4734360"/>
                <a:ext cx="35784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03280" y="377460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080" y="4740480"/>
                <a:ext cx="48636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40640" y="4844880"/>
                <a:ext cx="186480" cy="48204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3600" y="4844880"/>
                <a:ext cx="188640" cy="48204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86000" y="4734360"/>
                <a:ext cx="150480" cy="12780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42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jaw must be capable of penetrating the full width of the bale</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45:42Z</dcterms:created>
  <dc:creator>Peter Auer</dc:creator>
  <dc:description/>
  <dc:language>en-US</dc:language>
  <cp:lastModifiedBy>Peter Auer</cp:lastModifiedBy>
  <cp:lastPrinted>2000-02-03T09:09:47Z</cp:lastPrinted>
  <dcterms:modified xsi:type="dcterms:W3CDTF">2000-05-05T03:47:56Z</dcterms:modified>
  <cp:revision>4</cp:revision>
  <dc:subject/>
  <dc:title>Grab Sampling</dc:title>
</cp:coreProperties>
</file>