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25A4-2E6D-413B-A8E7-453CF121B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1588F-9A99-4BBE-BE13-768AE339F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562040" y="533520"/>
            <a:ext cx="3657600" cy="2743200"/>
          </a:xfrm>
          <a:prstGeom prst="rect">
            <a:avLst/>
          </a:prstGeom>
          <a:ln w="0">
            <a:noFill/>
          </a:ln>
        </p:spPr>
      </p:sp>
      <p:sp>
        <p:nvSpPr>
          <p:cNvPr id="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gnificance of regain and its measurement is described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oven-dry weight avoids the effect of the moisture content of wool during the determination of Wool Base (WB) and Vegetable Matter Base (VMB), which are then used in the derivation of Yield fig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1316-FD4B-40C7-808F-F525E0AAA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562040" y="533520"/>
            <a:ext cx="3657600" cy="2743200"/>
          </a:xfrm>
          <a:prstGeom prst="rect">
            <a:avLst/>
          </a:prstGeom>
          <a:ln w="0">
            <a:noFill/>
          </a:ln>
        </p:spPr>
      </p:sp>
      <p:sp>
        <p:nvSpPr>
          <p:cNvPr id="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ain is defined as the amount of water in the wool expressed as a percentage of the oven-dry mass of the fibre pres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gain of wool is influenced by the relative humidity of the ambient atmosphere since the wool fibre is hygroscopic and absorbs water from the atmosph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eans that the previous history of the wool will influence its weight, and stringent conditioning of wool samples is necessary to standardise the regain of wool samples before measure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to simplify measurement conditions, all yield, WB and VMB determinations are made on figures derived for the oven-dry weight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n easier and more accurate way of doing things, and the final figures are adjusted for standard regains to determine the invoice mass (sold mass) of the fibre.  The amount of these standard regains depends on the market for the fibre.  For further information see the “Yield” modu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FDF6-9BE2-4D89-9D8C-41E4C1876C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
          <p:cNvSpPr/>
          <p:nvPr/>
        </p:nvSpPr>
        <p:spPr>
          <a:xfrm>
            <a:off x="1066680" y="4487760"/>
            <a:ext cx="5029200" cy="3849840"/>
          </a:xfrm>
          <a:prstGeom prst="rect">
            <a:avLst/>
          </a:prstGeom>
          <a:noFill/>
          <a:ln w="0">
            <a:noFill/>
          </a:ln>
        </p:spPr>
        <p:style>
          <a:lnRef idx="0"/>
          <a:fillRef idx="0"/>
          <a:effectRef idx="0"/>
          <a:fontRef idx="minor"/>
        </p:style>
        <p:txBody>
          <a:bodyPr lIns="90360" rIns="90360" tIns="44280" bIns="4428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sldImg"/>
          </p:nvPr>
        </p:nvSpPr>
        <p:spPr>
          <a:xfrm>
            <a:off x="1562040" y="533520"/>
            <a:ext cx="3657600" cy="2743200"/>
          </a:xfrm>
          <a:prstGeom prst="rect">
            <a:avLst/>
          </a:prstGeom>
          <a:ln w="0">
            <a:noFill/>
          </a:ln>
        </p:spPr>
      </p:sp>
      <p:sp>
        <p:nvSpPr>
          <p:cNvPr id="10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Morton and Hearle (1962) “Physical Properties of Textile Fibres” Butterworth &amp; Co. Ltd., Lond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graph shows how the regain of wool is affected by the relative humidity of the atmosphere.  If there is more moisture in the atmosphere there will be more moisture in the wool.  The behaviour of other textile fibres is also graphed for comparis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can absorb up to 40% of its dry weight without feeling wet, the water is actually retained in the non-crystalline or amorphous regions of the wool micro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itially water molecules bond to the protein structure by hydrogen bonding (one molecule per site).  Then more water molecules bond to these absorbed molecules (one molecule per absorbed molecule).  Finally, loosely attached water molecules with no restrictions on numbers, bond to the intermediate molecules.  This explains the shape of the observed cur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ffect of moisture absorption can be observed in changes in such properties as rigidity (internal H-bonding disturbed), electrical resistance and fibre dimensions (length and diameter).  These changes in moisture content can be reflected in changed textile performance (e.g. hygral expansion of fabric causing seam pucker in suit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absorbed water is able to be removed by the action of heat and air-flow to determine the oven-dry ma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should be noted that during processing the regain of wool fibres is controlled ABOVE certain limits to ameliorate static electric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235EA-3F82-4801-A8E4-084A14D9E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1"/>
          <p:cNvSpPr>
            <a:spLocks noGrp="1"/>
          </p:cNvSpPr>
          <p:nvPr>
            <p:ph type="sldImg"/>
          </p:nvPr>
        </p:nvSpPr>
        <p:spPr>
          <a:xfrm>
            <a:off x="1562040" y="533520"/>
            <a:ext cx="3657600" cy="2743200"/>
          </a:xfrm>
          <a:prstGeom prst="rect">
            <a:avLst/>
          </a:prstGeom>
          <a:ln w="0">
            <a:noFill/>
          </a:ln>
        </p:spPr>
      </p:sp>
      <p:sp>
        <p:nvSpPr>
          <p:cNvPr id="1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llustration of how the conditioned weight (C) can be derived from the oven-dry weight (D) and any standard regain (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actor [1 + (R%/100)] can be seen in any derivation for yield where a standard regain is used.  It appears as 100 + R since yield is a percentage figur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1A15-2AEE-4F62-9EAC-BC7811003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562040" y="533520"/>
            <a:ext cx="3657600" cy="2743200"/>
          </a:xfrm>
          <a:prstGeom prst="rect">
            <a:avLst/>
          </a:prstGeom>
          <a:ln w="0">
            <a:noFill/>
          </a:ln>
        </p:spPr>
      </p:sp>
      <p:sp>
        <p:nvSpPr>
          <p:cNvPr id="1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a:t>
            </a:r>
            <a:r>
              <a:rPr b="0" lang="en-GB" sz="1200" spc="-1" strike="noStrike">
                <a:solidFill>
                  <a:srgbClr val="000000"/>
                </a:solidFill>
                <a:latin typeface="Times New Roman"/>
              </a:rPr>
              <a:t>The Direct Reading Regain Tester manual</a:t>
            </a:r>
            <a:r>
              <a:rPr b="0" lang="en-US" sz="1200" spc="-1" strike="noStrike">
                <a:solidFill>
                  <a:srgbClr val="000000"/>
                </a:solidFill>
                <a:latin typeface="Times New Roman"/>
              </a:rPr>
              <a:t>, National Instrument Co. Pty. Ltd., Jan. 1963.</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llustrates the machine that has been used extensively to measure the regain of wool samp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Reading Regain Tester (DRRT) is in three part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rst part is a can which holds the wool during weighing and drying.  The can has a mesh bottom to allow hot air to be blown through the wool sampl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econd part is a weighing apparatus which returns a reading for Regain when the sealed can of wool is first weighed on it and then dried in the third part before being weighed again.</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ird part is a drying device which forces hot air through the wool samp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ceptable reading is obtained when the weighing part returns a steady fig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RRT has been accepted as the industry standard for many years, despite the development of other methods using conductivity and resistance principles during that tim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562040" y="533520"/>
            <a:ext cx="3657600" cy="2743200"/>
          </a:xfrm>
          <a:prstGeom prst="rect">
            <a:avLst/>
          </a:prstGeom>
          <a:ln w="0">
            <a:noFill/>
          </a:ln>
        </p:spPr>
      </p:sp>
      <p:sp>
        <p:nvSpPr>
          <p:cNvPr id="1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velopment of Near Infra-Red Sensing is the latest development in the monitoring of the moisture content of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basic principle is that Near IR energy is absorbed by the water molecules present which causes “stretching” vibrations of the O-H bonds in the molecule.  The signal caused by this event can be measured and is proportional to amount of water present.  Therefore, this method is a direct measurement of the moisture content of the woo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struments need to be calibrated using a calibration equation, but the technique is not sensitive to the effects caused by the chemical processing history of the wool, namely shrink-proofing.  These effects influence the results obtained using conductivity and resistance measurement techniqu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evelopment has been applied to at-line testing of scour output.  It has been included as part of the equipment of the latest ANDAR scou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echnique is faster and uses less wool than the DRRT method.  However, a knowledge of NIRS equipment is necessary since routine monitoring and maintenance of the calibration is required, </a:t>
            </a:r>
            <a:r>
              <a:rPr b="0" lang="en-AU" sz="1200" spc="-1" strike="noStrike">
                <a:solidFill>
                  <a:srgbClr val="000000"/>
                </a:solidFill>
                <a:latin typeface="Times New Roman"/>
              </a:rPr>
              <a:t>necessitating</a:t>
            </a:r>
            <a:r>
              <a:rPr b="0" lang="en-AU" sz="1200" spc="-1" strike="noStrike">
                <a:solidFill>
                  <a:srgbClr val="000000"/>
                </a:solidFill>
                <a:latin typeface="Times New Roman"/>
              </a:rPr>
              <a:t> perhaps a greater level of operator train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562040" y="533520"/>
            <a:ext cx="3657600" cy="2743200"/>
          </a:xfrm>
          <a:prstGeom prst="rect">
            <a:avLst/>
          </a:prstGeom>
          <a:ln w="0">
            <a:noFill/>
          </a:ln>
        </p:spPr>
      </p:sp>
      <p:sp>
        <p:nvSpPr>
          <p:cNvPr id="11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standards use the concept of oven-dry mass in their determinations of various wool propert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each case the wool samples must be dried to a constant weight at elevated temperatures to determine the oven-dry weight (using the DRR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latter two cases, the invoice mass can be adjusted to various standard regains once the oven-dry mass is determin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ain &amp; Oven-dry Weigh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gain = wt. of moisture    x 100%</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                  </a:t>
            </a:r>
            <a:r>
              <a:rPr b="1" lang="en-GB" sz="2800" spc="-1" strike="noStrike">
                <a:solidFill>
                  <a:srgbClr val="ffffff"/>
                </a:solidFill>
                <a:latin typeface="Arial"/>
              </a:rPr>
              <a:t>oven-dry weight</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ield, WB, VM bas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n-dry weight</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voice Mas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andard regains applied</a:t>
            </a:r>
            <a:endParaRPr b="1" lang="en-US" sz="2400" spc="-1" strike="noStrike">
              <a:solidFill>
                <a:srgbClr val="ffffff"/>
              </a:solidFill>
              <a:latin typeface="Arial"/>
            </a:endParaRPr>
          </a:p>
        </p:txBody>
      </p:sp>
      <p:sp>
        <p:nvSpPr>
          <p:cNvPr id="50" name=""/>
          <p:cNvSpPr/>
          <p:nvPr/>
        </p:nvSpPr>
        <p:spPr>
          <a:xfrm>
            <a:off x="3048120" y="1905120"/>
            <a:ext cx="29718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finitions</a:t>
            </a:r>
            <a:endParaRPr b="1" lang="en-US" sz="3200" spc="-1" strike="noStrike">
              <a:solidFill>
                <a:srgbClr val="fafd00"/>
              </a:solidFill>
              <a:latin typeface="Arial"/>
            </a:endParaRPr>
          </a:p>
        </p:txBody>
      </p:sp>
      <p:sp>
        <p:nvSpPr>
          <p:cNvPr id="5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 name=""/>
          <p:cNvGrpSpPr/>
          <p:nvPr/>
        </p:nvGrpSpPr>
        <p:grpSpPr>
          <a:xfrm>
            <a:off x="1295280" y="1066680"/>
            <a:ext cx="7315200" cy="4648320"/>
            <a:chOff x="1295280" y="1066680"/>
            <a:chExt cx="7315200" cy="4648320"/>
          </a:xfrm>
        </p:grpSpPr>
        <p:pic>
          <p:nvPicPr>
            <p:cNvPr id="54" name="" descr=""/>
            <p:cNvPicPr/>
            <p:nvPr/>
          </p:nvPicPr>
          <p:blipFill>
            <a:blip r:embed="rId1"/>
            <a:stretch/>
          </p:blipFill>
          <p:spPr>
            <a:xfrm>
              <a:off x="1295280" y="1066680"/>
              <a:ext cx="7315200" cy="4648320"/>
            </a:xfrm>
            <a:prstGeom prst="rect">
              <a:avLst/>
            </a:prstGeom>
            <a:ln w="0">
              <a:noFill/>
            </a:ln>
          </p:spPr>
        </p:pic>
        <p:sp>
          <p:nvSpPr>
            <p:cNvPr id="55" name=""/>
            <p:cNvSpPr/>
            <p:nvPr/>
          </p:nvSpPr>
          <p:spPr>
            <a:xfrm flipV="1">
              <a:off x="3337920" y="115488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4514040" y="115488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5752440" y="108612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6928200" y="1154880"/>
              <a:ext cx="0" cy="413028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111400" y="458928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11400" y="390420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11400" y="321984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111400" y="253476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111400" y="1849680"/>
              <a:ext cx="5982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 name=""/>
          <p:cNvSpPr/>
          <p:nvPr/>
        </p:nvSpPr>
        <p:spPr>
          <a:xfrm>
            <a:off x="6629400" y="6400800"/>
            <a:ext cx="25146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fafd00"/>
                </a:solidFill>
                <a:latin typeface="Arial"/>
              </a:rPr>
              <a:t>Source:Morton and Hearle (1962)</a:t>
            </a:r>
            <a:endParaRPr b="0" lang="en-US" sz="1200" spc="-1" strike="noStrike">
              <a:solidFill>
                <a:srgbClr val="000000"/>
              </a:solidFill>
              <a:latin typeface="Times New Roman"/>
            </a:endParaRPr>
          </a:p>
        </p:txBody>
      </p:sp>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Regain vs. Humidity</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371600" y="1523880"/>
            <a:ext cx="7772400" cy="411480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gain (R%) = wt. of moisture (M) x 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ven-dry weight (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  =    R%    x  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ditioned Weight (C)  = D  +     M</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D  +     R%   x  D</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0</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C = D ( 1 +  R%  )</a:t>
            </a:r>
            <a:endParaRPr b="1"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100   </a:t>
            </a:r>
            <a:endParaRPr b="1" lang="en-US" sz="2400" spc="-1" strike="noStrike">
              <a:solidFill>
                <a:srgbClr val="ffffff"/>
              </a:solidFill>
              <a:latin typeface="Arial"/>
            </a:endParaRPr>
          </a:p>
        </p:txBody>
      </p:sp>
      <p:grpSp>
        <p:nvGrpSpPr>
          <p:cNvPr id="67" name=""/>
          <p:cNvGrpSpPr/>
          <p:nvPr/>
        </p:nvGrpSpPr>
        <p:grpSpPr>
          <a:xfrm>
            <a:off x="2362320" y="1981080"/>
            <a:ext cx="4495680" cy="3048120"/>
            <a:chOff x="2362320" y="1981080"/>
            <a:chExt cx="4495680" cy="3048120"/>
          </a:xfrm>
        </p:grpSpPr>
        <p:sp>
          <p:nvSpPr>
            <p:cNvPr id="68" name=""/>
            <p:cNvSpPr/>
            <p:nvPr/>
          </p:nvSpPr>
          <p:spPr>
            <a:xfrm>
              <a:off x="6110280" y="4191120"/>
              <a:ext cx="671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24480" y="5029200"/>
              <a:ext cx="533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581280" y="1981080"/>
              <a:ext cx="2743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362320" y="2819520"/>
              <a:ext cx="5331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73" name="PlaceHolder 2"/>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erivation of Conditioned Weight</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Direct Reading Regain Tester</a:t>
            </a:r>
            <a:endParaRPr b="1" lang="en-US" sz="3200" spc="-1" strike="noStrike">
              <a:solidFill>
                <a:srgbClr val="fafd00"/>
              </a:solidFill>
              <a:latin typeface="Arial"/>
            </a:endParaRPr>
          </a:p>
        </p:txBody>
      </p:sp>
      <p:sp>
        <p:nvSpPr>
          <p:cNvPr id="75" name=""/>
          <p:cNvSpPr/>
          <p:nvPr/>
        </p:nvSpPr>
        <p:spPr>
          <a:xfrm>
            <a:off x="5472360" y="6400800"/>
            <a:ext cx="36813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The Direct Reading Regain Tester’ manual</a:t>
            </a:r>
            <a:endParaRPr b="0" lang="en-US" sz="1200" spc="-1" strike="noStrike">
              <a:solidFill>
                <a:srgbClr val="000000"/>
              </a:solidFill>
              <a:latin typeface="Times New Roman"/>
            </a:endParaRPr>
          </a:p>
        </p:txBody>
      </p:sp>
      <p:grpSp>
        <p:nvGrpSpPr>
          <p:cNvPr id="76" name=""/>
          <p:cNvGrpSpPr/>
          <p:nvPr/>
        </p:nvGrpSpPr>
        <p:grpSpPr>
          <a:xfrm>
            <a:off x="1268280" y="765000"/>
            <a:ext cx="7877160" cy="5330880"/>
            <a:chOff x="1268280" y="765000"/>
            <a:chExt cx="7877160" cy="5330880"/>
          </a:xfrm>
        </p:grpSpPr>
        <p:pic>
          <p:nvPicPr>
            <p:cNvPr id="77" name="REGAIN1" descr=""/>
            <p:cNvPicPr/>
            <p:nvPr/>
          </p:nvPicPr>
          <p:blipFill>
            <a:blip r:embed="rId1"/>
            <a:stretch/>
          </p:blipFill>
          <p:spPr>
            <a:xfrm>
              <a:off x="1268280" y="1146240"/>
              <a:ext cx="3548160" cy="4949640"/>
            </a:xfrm>
            <a:prstGeom prst="rect">
              <a:avLst/>
            </a:prstGeom>
            <a:ln w="0">
              <a:noFill/>
            </a:ln>
          </p:spPr>
        </p:pic>
        <p:pic>
          <p:nvPicPr>
            <p:cNvPr id="78" name="REGAIN2" descr=""/>
            <p:cNvPicPr/>
            <p:nvPr/>
          </p:nvPicPr>
          <p:blipFill>
            <a:blip r:embed="rId2"/>
            <a:stretch/>
          </p:blipFill>
          <p:spPr>
            <a:xfrm>
              <a:off x="5230800" y="1222200"/>
              <a:ext cx="3398760" cy="4345200"/>
            </a:xfrm>
            <a:prstGeom prst="rect">
              <a:avLst/>
            </a:prstGeom>
            <a:ln w="0">
              <a:noFill/>
            </a:ln>
          </p:spPr>
        </p:pic>
        <p:sp>
          <p:nvSpPr>
            <p:cNvPr id="79" name=""/>
            <p:cNvSpPr/>
            <p:nvPr/>
          </p:nvSpPr>
          <p:spPr>
            <a:xfrm>
              <a:off x="1425960" y="76500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Weighing apparatus</a:t>
              </a:r>
              <a:endParaRPr b="0" lang="en-US" sz="2400" spc="-1" strike="noStrike">
                <a:solidFill>
                  <a:srgbClr val="000000"/>
                </a:solidFill>
                <a:latin typeface="Times New Roman"/>
              </a:endParaRPr>
            </a:p>
          </p:txBody>
        </p:sp>
        <p:sp>
          <p:nvSpPr>
            <p:cNvPr id="80" name=""/>
            <p:cNvSpPr/>
            <p:nvPr/>
          </p:nvSpPr>
          <p:spPr>
            <a:xfrm>
              <a:off x="4848480" y="841320"/>
              <a:ext cx="429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Can containing wool sample</a:t>
              </a:r>
              <a:endParaRPr b="0" lang="en-US" sz="2400" spc="-1" strike="noStrike">
                <a:solidFill>
                  <a:srgbClr val="000000"/>
                </a:solidFill>
                <a:latin typeface="Times New Roman"/>
              </a:endParaRPr>
            </a:p>
          </p:txBody>
        </p:sp>
        <p:sp>
          <p:nvSpPr>
            <p:cNvPr id="81" name=""/>
            <p:cNvSpPr/>
            <p:nvPr/>
          </p:nvSpPr>
          <p:spPr>
            <a:xfrm>
              <a:off x="7920000" y="4422600"/>
              <a:ext cx="112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Arial"/>
                </a:rPr>
                <a:t>Dryer</a:t>
              </a:r>
              <a:endParaRPr b="0" lang="en-US" sz="2400" spc="-1" strike="noStrike">
                <a:solidFill>
                  <a:srgbClr val="000000"/>
                </a:solidFill>
                <a:latin typeface="Times New Roman"/>
              </a:endParaRPr>
            </a:p>
          </p:txBody>
        </p:sp>
        <p:sp>
          <p:nvSpPr>
            <p:cNvPr id="82" name=""/>
            <p:cNvSpPr/>
            <p:nvPr/>
          </p:nvSpPr>
          <p:spPr>
            <a:xfrm flipH="1">
              <a:off x="3706920" y="1298520"/>
              <a:ext cx="1752480" cy="137160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83080" y="1298520"/>
              <a:ext cx="990720" cy="60948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4"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Latest Devlopments</a:t>
            </a:r>
            <a:endParaRPr b="1" lang="en-US" sz="3200" spc="-1" strike="noStrike">
              <a:solidFill>
                <a:srgbClr val="fafd00"/>
              </a:solidFill>
              <a:latin typeface="Arial"/>
            </a:endParaRPr>
          </a:p>
        </p:txBody>
      </p:sp>
      <p:sp>
        <p:nvSpPr>
          <p:cNvPr id="8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ear Infra-Red Sens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IR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inciple</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ear IR energy absorbed</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H “stretching”</a:t>
            </a:r>
            <a:endParaRPr b="1" lang="en-US" sz="2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gnal proportional to moisture conte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alibration required</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pplicatio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cour technolog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t-line sens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7" name=""/>
          <p:cNvSpPr/>
          <p:nvPr/>
        </p:nvSpPr>
        <p:spPr>
          <a:xfrm>
            <a:off x="8156160" y="650700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
        <p:nvSpPr>
          <p:cNvPr id="8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s</a:t>
            </a:r>
            <a:endParaRPr b="1" lang="en-US" sz="3200" spc="-1" strike="noStrike">
              <a:solidFill>
                <a:srgbClr val="fafd00"/>
              </a:solidFill>
              <a:latin typeface="Arial"/>
            </a:endParaRPr>
          </a:p>
        </p:txBody>
      </p:sp>
      <p:sp>
        <p:nvSpPr>
          <p:cNvPr id="8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TWO-19-9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wool base and vegetable matter base of core samples of raw woo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33-88</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thod for the determination of oven-dry mass &amp; calculated invoice mass of scoured or carbonised woo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34-85</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oven-dry mass, calculated invoice mass &amp; calculated merchant mass of wool top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6T21:12:33Z</dcterms:created>
  <dc:creator>USER</dc:creator>
  <dc:description/>
  <dc:language>en-US</dc:language>
  <cp:lastModifiedBy>USER</cp:lastModifiedBy>
  <cp:lastPrinted>2000-02-03T09:09:47Z</cp:lastPrinted>
  <dcterms:modified xsi:type="dcterms:W3CDTF">2000-04-16T23:48:35Z</dcterms:modified>
  <cp:revision>4</cp:revision>
  <dc:subject/>
  <dc:title>Regain &amp; Oven-dry Weight</dc:title>
</cp:coreProperties>
</file>