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5735-56AA-4F7F-A946-7DDBC3F65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standards that are in place to measure fibre diameter, and looks at the role of standards in thi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andard” or "Test Method" lays down the regime to return a measurement which is accurate and has a known or quantifiable precision.  This regime includes sampling, sample preparation, the number of measurements made and the instrument or instruments to be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words when a diameter is quoted with the standard by which it was measured,  the number given is put into a context.  So, let us look at several aspects of Stand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ichael Bow, retired, CSIRO Division of Wool Technology and David Petri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national standards or test methods for the measurement of Fibre Diameter are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end in recent years has been for national standards bodies (and this is particularly true in Australia and New Zealand) to accept international test methods to avoid any conflicts in trading or in law.  In a significant number of cases the IWTO standards have evolved from previous Australian Stand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tional Wool Textile Organisation's (IWTO) Test Methods are those with most acceptance, although the American Standard Test Methods (ASTM) have some follo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IWTO protocols, each of these test methods will have a set of Regulations attached in which the sampling and re-testing procedures are set out.  For example, the set of regulations attached to IWTO 19 is titled “Core Test Regul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now exist a set of Australian Standards for the the testing of midside samples for flock selection purposes. These are largely derived from the relevant IWTO standards taking into consideration information on variances for midside samples, where this information is availa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s set out a number of factors that govern the accuracy of the result. One of the first is that diameter is to be measured in equilibrium with the standard atmosphere so there is no disagreement about the amount of fibre swelling (radial) with moisture uptake at different humidity levels (see Reg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the standards specify the instrument used.  Different instruments use different principles of measurement (see the module “Instruments to Measure Fibre Diameter”).  The result may be different depending on the instrument.  Therefore the accuracy is a function of the instrument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calibration material and method will be specified.  Both of these factors can effect the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cision is largely governed by the homogeneity (or variation inherent) of the bulk material being tested, the sampling and the sub-sampling procedures adopted, and the number of measurements m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will still be some interaction with the instrument used.  The adoption of a precision level not only allows sensible comparisons of diameter measurements, but in trading and mill use engenders confidence in the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cision also permits the calculation of maximum likely differences in two results or the re-measurement of one lot, which can be used to settle or arbitrate in disputes between suppliers and cli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standard operating procedure is agreed upon and followed, Round Trials between laboratories using such standards can be conducted and an estimate made of the variability that will exist between laboratories.   This can be done for any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knowledge can be used to obtain a better estimate of the precision of the method by adding the between laboratory effect to the effects of sampling and measurement, i.e. the Total Variance can be better estim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rials can also be used to monitor and control the performance of individual laboratories.  Any laboratory which purports to being accurate and precise would be a part of such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ltimately such Round Trials can be used to modify the Test Methods themselves.  For example, it was an unacceptable spread of results found from the Round Trials, traced to the use of different calibration materials and incorrect laboratory procedures that led to the formation of the INTERWOOL LABS organ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dependent Organisation is charged with monitoring laboratories for the measurement of fibre diameter using Airflow, Projection microscope, Sirolan-Laserscan and OFDA wherever the Test method is adop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ns by which this is accomplished is the selection and maintenance of Standard Calibration Tops.  Interwool Labs is responsible for the generation and maintenance of the supply of these important calibration mate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Standard tops are used for the calibration of Colour measur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 for Fibre Diameter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chael Bow, retired, CSIRO Division of Wool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Petrie, The University of New South Wa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rrent Standards</a:t>
            </a:r>
            <a:endParaRPr b="1" lang="en-US" sz="3200" spc="-1" strike="noStrike">
              <a:solidFill>
                <a:srgbClr val="fafd00"/>
              </a:solidFill>
              <a:latin typeface="Arial"/>
            </a:endParaRPr>
          </a:p>
        </p:txBody>
      </p:sp>
      <p:sp>
        <p:nvSpPr>
          <p:cNvPr id="50"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fontScale="96000"/>
          </a:bodyPr>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6</a:t>
            </a:r>
            <a:r>
              <a:rPr b="1" lang="en-GB" sz="2000" spc="-1" strike="noStrike">
                <a:solidFill>
                  <a:srgbClr val="ffffff"/>
                </a:solidFill>
                <a:latin typeface="Arial"/>
              </a:rPr>
              <a:t>: Method of test for the determination of the mean diameter of wool fibres in combed sliver using the Airflow apparatus</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8</a:t>
            </a:r>
            <a:r>
              <a:rPr b="1" lang="en-GB" sz="2000" spc="-1" strike="noStrike">
                <a:solidFill>
                  <a:srgbClr val="ffffff"/>
                </a:solidFill>
                <a:latin typeface="Arial"/>
              </a:rPr>
              <a:t>: Method of determining fibre diameter &amp; percentage of medullated fibres in wool &amp; other animal fibres by the Projection microscope </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 12</a:t>
            </a:r>
            <a:r>
              <a:rPr b="1" lang="en-GB" sz="2000" spc="-1" strike="noStrike">
                <a:solidFill>
                  <a:srgbClr val="ffffff"/>
                </a:solidFill>
                <a:latin typeface="Arial"/>
              </a:rPr>
              <a:t>: Measurement of the mean &amp; distribution of fibre diameter using the Sirolan-Laserscan fibre diameter analyser.</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 28</a:t>
            </a:r>
            <a:r>
              <a:rPr b="1" lang="en-GB" sz="2000" spc="-1" strike="noStrike">
                <a:solidFill>
                  <a:srgbClr val="ffffff"/>
                </a:solidFill>
                <a:latin typeface="Arial"/>
              </a:rPr>
              <a:t>: Determination by the Airflow method of the mean fibre diameter of core samples of raw wool.</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 47</a:t>
            </a:r>
            <a:r>
              <a:rPr b="1" lang="en-GB" sz="2000" spc="-1" strike="noStrike">
                <a:solidFill>
                  <a:srgbClr val="ffffff"/>
                </a:solidFill>
                <a:latin typeface="Arial"/>
              </a:rPr>
              <a:t>: Measurement of the mean &amp; distribution of fibre diameter of wool using an optical fibre diameter analyser (OFDA) </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NZS 4492</a:t>
            </a:r>
            <a:r>
              <a:rPr b="1" lang="en-GB" sz="2000" spc="-1" strike="noStrike">
                <a:solidFill>
                  <a:srgbClr val="ffffff"/>
                </a:solidFill>
                <a:latin typeface="Arial"/>
              </a:rPr>
              <a:t>:  Wool-Fleece testing and measurement</a:t>
            </a:r>
            <a:endParaRPr b="1" lang="en-US" sz="2000" spc="-1" strike="noStrike">
              <a:solidFill>
                <a:srgbClr val="ffffff"/>
              </a:solidFill>
              <a:latin typeface="Arial"/>
            </a:endParaRPr>
          </a:p>
        </p:txBody>
      </p:sp>
      <p:sp>
        <p:nvSpPr>
          <p:cNvPr id="51"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st Method Specification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cura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atmospher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ain and temperatur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stru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libr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cis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mp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instru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option of precision leve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um differences</a:t>
            </a:r>
            <a:endParaRPr b="1" lang="en-US" sz="2400" spc="-1" strike="noStrike">
              <a:solidFill>
                <a:srgbClr val="ffffff"/>
              </a:solidFill>
              <a:latin typeface="Arial"/>
            </a:endParaRPr>
          </a:p>
        </p:txBody>
      </p:sp>
      <p:sp>
        <p:nvSpPr>
          <p:cNvPr id="54"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er-Laboratory Round Trials</a:t>
            </a:r>
            <a:endParaRPr b="1" lang="en-US" sz="3200" spc="-1" strike="noStrike">
              <a:solidFill>
                <a:srgbClr val="fafd00"/>
              </a:solidFill>
              <a:latin typeface="Arial"/>
            </a:endParaRPr>
          </a:p>
        </p:txBody>
      </p:sp>
      <p:sp>
        <p:nvSpPr>
          <p:cNvPr id="56" name="PlaceHolder 2"/>
          <p:cNvSpPr>
            <a:spLocks noGrp="1"/>
          </p:cNvSpPr>
          <p:nvPr>
            <p:ph/>
          </p:nvPr>
        </p:nvSpPr>
        <p:spPr>
          <a:xfrm>
            <a:off x="1295280" y="1295280"/>
            <a:ext cx="7772400" cy="47246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nitor between laboratory effec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 apply to ANY standar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ERWOOL LAB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Calibration To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formance inform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on testing varianc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1:20:56Z</dcterms:created>
  <dc:creator>USER</dc:creator>
  <dc:description/>
  <dc:language>en-US</dc:language>
  <cp:lastModifiedBy>select agreement</cp:lastModifiedBy>
  <cp:lastPrinted>2000-02-14T01:29:02Z</cp:lastPrinted>
  <dcterms:modified xsi:type="dcterms:W3CDTF">2000-03-07T23:40:57Z</dcterms:modified>
  <cp:revision>4</cp:revision>
  <dc:subject/>
  <dc:title>Standards for Fibre Diameter Measurement</dc:title>
</cp:coreProperties>
</file>