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A9D4-050C-46B0-8F32-C9B9DB101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1D74-828F-49D5-8456-0DB3826EC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sources of isolated fibre contamination (medullation and dark fibre), the procedures available to ameliorate their effects, and the effect they have on final products such as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0597-1296-4E45-B089-17F104FFD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ulds, R. A., Wong, P. and Andrews, M. W. (1984), Dark Fibres and their Economic Importance, Wool Technology &amp; Sheep Breeding, Vol. 32 (2), June/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gmented fibres are commonly thought to be responsible for the incidence of dark fibres in the wool industry. However work carried out by CSIRO Division of Wool Technology (DWT) (now Textile &amp; Fibre Technology) indicates that a large number of dark fibres present in top samples from adult sheep are urine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 between dark fibre and stained fibre is shown in this slide.  Pigmented fibres are characterised by discrete pigment particles, while urine stained fibre is fairly even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dentification of Textile Materials”, The Textile Institute, 7th Ed.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can be medullated in a number of ways as illustrated in this slide.  Medullation can be complete or se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es of medullation can be found at the follicle level; the result of differences within the follicle bulb.  For more information see the relevant Wool Biology modu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E58E-EE57-443F-A643-4501F83B4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ulds, R. A., Wong, P. and Andrews, M. W. (1984), Dark Fibres and their Economic Importance, Wool Technology &amp; Sheep Breeding, Vol. 32 (2), June/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ly, the Wool Research Organisation of New Zealand (WRONZ) developed a machine to measure medullation.  The South African Wool Technology Research Institute (SAWTRI) modified the design to produce their own instrument  -- the medullameter.  Measurement is based on the reflection of light.  A test method entitled “Method of Test for Determining the Percentage of Medullated fibres by Projection Microscope” was first adopted by IWTO in 1964 (now IWTO-8-89).  A later standard employs the image analysis capabilities of the OFDA apparatus (IWTO-57-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in this slide illustrates how balanced light directed from below and above a spread fibre web can be used to make white fibre almost transparent and highlight any dark fibres.  This is the basis for the CSIRO Dark Fibre Detector (D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ction of medullated and dark fibres is carried out on combed tops. Testing for dark fibre is not practical at the greasy stage (acceptable levels are about 4 staples per bale).  Tests have been found to be most reliable at the top stage, since the wool has been sufficiently blended by th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 Method for determining the percentage (%) of medullated fibres in a top sample is the standard IWTO-8-89 uses the Projection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TM standard, D2968 - 83, is also used to measure the percentage of medulla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er Optical Fibre Diameter Analyser (OFDA) is also capable of detecting medullated fibres, and is featured in the standard IWTO-57-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w a Test Method Under Examination (IWTO(E)-13-88) for the detection of coloured fibre in top.  This method uses a Dark Fibre Detector (D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3093-4C2D-479A-9F82-19389299F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idence of medullation in a flock can be controlled by selective breeding based on fleec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dark fibre can be controlled by breeding, although genetic selection will only target pigmen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as been some research done into the identification of genes which are responsible for pigment in fibres.  For more information see the relevant Wool Biology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oidance of dark fibre which encompasses both pigmented and stained fibres is probably the most sensible method of controlling dark fibre for the wool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he Dark Fibre Risk Scheme would aid the woolbuyer in these endeavou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7292-FCC9-4450-A2DD-797A5CCAD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the prediction method for dark fibre contamination was introduced as the Dark Fibre Risk Scheme in the late 1980’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scheme has the potential to highlight to prospective buyers the probable risk of contamination from pigmented or urine stained fibres in a particular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on a properly completed woolclasser’s report can be used in the prediction of contamination levels for either pigmented or urine stained fibres.  The information for breed, age, sex, mulesing, crutching, crutch/shearing interval and shed line in the form of a decision tree can be utilised to give a predicted risk of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his technology has not been widespread to d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BE6D-416A-4A5E-BF86-29A8E3CB5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ullated fibres are not a problem until they are dyed.  Internally reflected light makes the medullated fibres appear lighter, even though they absorb the same amount of dye into the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ly, coarser fibres tend to migrate to the yarn surface during spinning and hence end up on the surface of the fabric.  This is not desirable in terms of the surface finish of the fabric, although these fibres tend to be removed if they are raised from the surface.  However,  the lighter colour will be more apparent if these fibres are at the surface and bound in th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rs of garments of white or pastel shades will not accept dark fibre contamination.  The generally accepted level of contamination at the top stage is 100 dark fibres / kg (df/kg).  This level is generally specified in a spinners specification to a topmaker.  100df/kg is equivalent of 4 staples or 1 g in an average bale of 16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bres themselves will appear as a smudge or dark line in white or pastel dye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the cases of medullated and dark fibre, the individual fibres are very expensive to remove at the fabric stage.  The product at this stage is also value added, so restoration is likely to occur, but claims for compensation will flow back to the spinner and then to the topmaker.  Therefore, the expectations of risk of medullated and dark fibres will depress the price of suspect raw w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9D7E-4599-4174-A13F-E39BDD561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85920"/>
          </a:xfrm>
          <a:prstGeom prst="rect">
            <a:avLst/>
          </a:prstGeom>
          <a:solidFill>
            <a:srgbClr val="ffffff"/>
          </a:solidFill>
          <a:ln w="9360">
            <a:solidFill>
              <a:srgbClr val="000000"/>
            </a:solidFill>
            <a:miter/>
          </a:ln>
        </p:spPr>
        <p:txBody>
          <a:bodyPr lIns="4680" rIns="4680" tIns="4680" bIns="4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a:t>
            </a:r>
            <a:br>
              <a:rPr sz="3200"/>
            </a:br>
            <a:r>
              <a:rPr b="1" lang="en-GB" sz="3200" spc="-1" strike="noStrike">
                <a:solidFill>
                  <a:srgbClr val="fafd00"/>
                </a:solidFill>
                <a:latin typeface="Arial"/>
              </a:rPr>
              <a:t>Medullated Fib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DF1" descr=""/>
          <p:cNvPicPr/>
          <p:nvPr/>
        </p:nvPicPr>
        <p:blipFill>
          <a:blip r:embed="rId1"/>
          <a:srcRect l="1961" t="24039" r="3922" b="12390"/>
          <a:stretch/>
        </p:blipFill>
        <p:spPr>
          <a:xfrm>
            <a:off x="1447920" y="709560"/>
            <a:ext cx="7315200" cy="3925800"/>
          </a:xfrm>
          <a:prstGeom prst="rect">
            <a:avLst/>
          </a:prstGeom>
          <a:ln w="0">
            <a:noFill/>
          </a:ln>
        </p:spPr>
      </p:pic>
      <p:sp>
        <p:nvSpPr>
          <p:cNvPr id="50" name=""/>
          <p:cNvSpPr/>
          <p:nvPr/>
        </p:nvSpPr>
        <p:spPr>
          <a:xfrm>
            <a:off x="654912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lds, R. A. et al. (1984)</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s</a:t>
            </a:r>
            <a:endParaRPr b="1" lang="en-US" sz="3200" spc="-1" strike="noStrike">
              <a:solidFill>
                <a:srgbClr val="fafd00"/>
              </a:solidFill>
              <a:latin typeface="Arial"/>
            </a:endParaRPr>
          </a:p>
        </p:txBody>
      </p:sp>
      <p:sp>
        <p:nvSpPr>
          <p:cNvPr id="52" name="PlaceHolder 2"/>
          <p:cNvSpPr>
            <a:spLocks noGrp="1"/>
          </p:cNvSpPr>
          <p:nvPr>
            <p:ph/>
          </p:nvPr>
        </p:nvSpPr>
        <p:spPr>
          <a:xfrm>
            <a:off x="1371600" y="4724280"/>
            <a:ext cx="7772400" cy="15242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gmented &amp; Urine Stain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is most comm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do they look lik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dullated Fibres</a:t>
            </a:r>
            <a:endParaRPr b="1" lang="en-US" sz="3200" spc="-1" strike="noStrike">
              <a:solidFill>
                <a:srgbClr val="fafd00"/>
              </a:solidFill>
              <a:latin typeface="Arial"/>
            </a:endParaRPr>
          </a:p>
        </p:txBody>
      </p:sp>
      <p:grpSp>
        <p:nvGrpSpPr>
          <p:cNvPr id="54" name=""/>
          <p:cNvGrpSpPr/>
          <p:nvPr/>
        </p:nvGrpSpPr>
        <p:grpSpPr>
          <a:xfrm>
            <a:off x="1062720" y="1143000"/>
            <a:ext cx="5472720" cy="4381920"/>
            <a:chOff x="1062720" y="1143000"/>
            <a:chExt cx="5472720" cy="4381920"/>
          </a:xfrm>
        </p:grpSpPr>
        <p:pic>
          <p:nvPicPr>
            <p:cNvPr id="55" name="MED1" descr=""/>
            <p:cNvPicPr/>
            <p:nvPr/>
          </p:nvPicPr>
          <p:blipFill>
            <a:blip r:embed="rId1"/>
            <a:stretch/>
          </p:blipFill>
          <p:spPr>
            <a:xfrm>
              <a:off x="1201680" y="1893960"/>
              <a:ext cx="5333760" cy="3244680"/>
            </a:xfrm>
            <a:prstGeom prst="rect">
              <a:avLst/>
            </a:prstGeom>
            <a:ln w="0">
              <a:noFill/>
            </a:ln>
          </p:spPr>
        </p:pic>
        <p:sp>
          <p:nvSpPr>
            <p:cNvPr id="56" name=""/>
            <p:cNvSpPr/>
            <p:nvPr/>
          </p:nvSpPr>
          <p:spPr>
            <a:xfrm>
              <a:off x="1062720" y="1143000"/>
              <a:ext cx="512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Wool Fibres with segmented medullation</a:t>
              </a:r>
              <a:endParaRPr b="0" lang="en-US" sz="2000" spc="-1" strike="noStrike">
                <a:solidFill>
                  <a:srgbClr val="000000"/>
                </a:solidFill>
                <a:latin typeface="Times New Roman"/>
              </a:endParaRPr>
            </a:p>
          </p:txBody>
        </p:sp>
        <p:sp>
          <p:nvSpPr>
            <p:cNvPr id="57" name=""/>
            <p:cNvSpPr/>
            <p:nvPr/>
          </p:nvSpPr>
          <p:spPr>
            <a:xfrm>
              <a:off x="3259080" y="166536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7262400">
              <a:off x="4096440" y="456048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712480" y="1447920"/>
            <a:ext cx="3219840" cy="4802760"/>
            <a:chOff x="5712480" y="1447920"/>
            <a:chExt cx="3219840" cy="4802760"/>
          </a:xfrm>
        </p:grpSpPr>
        <p:pic>
          <p:nvPicPr>
            <p:cNvPr id="60" name="MED2" descr=""/>
            <p:cNvPicPr/>
            <p:nvPr/>
          </p:nvPicPr>
          <p:blipFill>
            <a:blip r:embed="rId2"/>
            <a:stretch/>
          </p:blipFill>
          <p:spPr>
            <a:xfrm>
              <a:off x="6610320" y="1447920"/>
              <a:ext cx="2319480" cy="3819600"/>
            </a:xfrm>
            <a:prstGeom prst="rect">
              <a:avLst/>
            </a:prstGeom>
            <a:ln w="0">
              <a:noFill/>
            </a:ln>
          </p:spPr>
        </p:pic>
        <p:sp>
          <p:nvSpPr>
            <p:cNvPr id="61" name=""/>
            <p:cNvSpPr/>
            <p:nvPr/>
          </p:nvSpPr>
          <p:spPr>
            <a:xfrm>
              <a:off x="5712480" y="5241960"/>
              <a:ext cx="3219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arse fib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sparsely pigmented wi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a continuous medulla</a:t>
              </a:r>
              <a:endParaRPr b="0" lang="en-US" sz="2000" spc="-1" strike="noStrike">
                <a:solidFill>
                  <a:srgbClr val="000000"/>
                </a:solidFill>
                <a:latin typeface="Times New Roman"/>
              </a:endParaRPr>
            </a:p>
          </p:txBody>
        </p:sp>
        <p:sp>
          <p:nvSpPr>
            <p:cNvPr id="62" name=""/>
            <p:cNvSpPr/>
            <p:nvPr/>
          </p:nvSpPr>
          <p:spPr>
            <a:xfrm rot="12980400">
              <a:off x="7405560" y="396180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5555520" y="6324480"/>
            <a:ext cx="351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dentification of Textile Materials”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ction</a:t>
            </a:r>
            <a:endParaRPr b="1" lang="en-US" sz="3200" spc="-1" strike="noStrike">
              <a:solidFill>
                <a:srgbClr val="fafd00"/>
              </a:solidFill>
              <a:latin typeface="Arial"/>
            </a:endParaRPr>
          </a:p>
        </p:txBody>
      </p:sp>
      <p:sp>
        <p:nvSpPr>
          <p:cNvPr id="65" name="PlaceHolder 2"/>
          <p:cNvSpPr>
            <a:spLocks noGrp="1"/>
          </p:cNvSpPr>
          <p:nvPr>
            <p:ph/>
          </p:nvPr>
        </p:nvSpPr>
        <p:spPr>
          <a:xfrm>
            <a:off x="1219320" y="990360"/>
            <a:ext cx="3581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 measu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jection Microscope</a:t>
            </a:r>
            <a:r>
              <a:rPr b="1" lang="en-GB" sz="2000" spc="-1" strike="noStrike">
                <a:solidFill>
                  <a:srgbClr val="ffffff"/>
                </a:solidFill>
                <a:latin typeface="Arial"/>
              </a:rPr>
              <a:t>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DA</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 measu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rk Fibre Detector (DFD)</a:t>
            </a:r>
            <a:endParaRPr b="1" lang="en-US" sz="2000" spc="-1" strike="noStrike">
              <a:solidFill>
                <a:srgbClr val="ffffff"/>
              </a:solidFill>
              <a:latin typeface="Arial"/>
            </a:endParaRPr>
          </a:p>
        </p:txBody>
      </p:sp>
      <p:pic>
        <p:nvPicPr>
          <p:cNvPr id="66" name="DF2" descr=""/>
          <p:cNvPicPr/>
          <p:nvPr/>
        </p:nvPicPr>
        <p:blipFill>
          <a:blip r:embed="rId1"/>
          <a:srcRect l="4843" t="9033" r="7683" b="20203"/>
          <a:stretch/>
        </p:blipFill>
        <p:spPr>
          <a:xfrm>
            <a:off x="4495680" y="1219320"/>
            <a:ext cx="4496040" cy="4114800"/>
          </a:xfrm>
          <a:prstGeom prst="rect">
            <a:avLst/>
          </a:prstGeom>
          <a:ln w="0">
            <a:noFill/>
          </a:ln>
        </p:spPr>
      </p:pic>
      <p:sp>
        <p:nvSpPr>
          <p:cNvPr id="67" name=""/>
          <p:cNvSpPr/>
          <p:nvPr/>
        </p:nvSpPr>
        <p:spPr>
          <a:xfrm>
            <a:off x="654912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lds, R. A. et al. (1984)</a:t>
            </a:r>
            <a:endParaRPr b="0" lang="en-US" sz="1200" spc="-1" strike="noStrike">
              <a:solidFill>
                <a:srgbClr val="000000"/>
              </a:solidFill>
              <a:latin typeface="Times New Roman"/>
            </a:endParaRPr>
          </a:p>
        </p:txBody>
      </p:sp>
      <p:sp>
        <p:nvSpPr>
          <p:cNvPr id="68" name=""/>
          <p:cNvSpPr/>
          <p:nvPr/>
        </p:nvSpPr>
        <p:spPr>
          <a:xfrm>
            <a:off x="7453800" y="295596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k Fibre</a:t>
            </a:r>
            <a:endParaRPr b="0" lang="en-US" sz="1600" spc="-1" strike="noStrike">
              <a:solidFill>
                <a:srgbClr val="000000"/>
              </a:solidFill>
              <a:latin typeface="Times New Roman"/>
            </a:endParaRPr>
          </a:p>
        </p:txBody>
      </p:sp>
      <p:sp>
        <p:nvSpPr>
          <p:cNvPr id="69" name=""/>
          <p:cNvSpPr/>
          <p:nvPr/>
        </p:nvSpPr>
        <p:spPr>
          <a:xfrm flipH="1" flipV="1">
            <a:off x="6781320" y="27432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8-89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for determining fibre diameter and percentage of medullated fibres in wool and other animal fibres by projection microscop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57-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medullated fibre content of wool and mohair samples by opacity measurements using OFD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E)-13-8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unting of coloured fibres in Tops by the balanced illumination metho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ol</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ul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oid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not urine staine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 identific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not urine staine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oid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and urine stained</a:t>
            </a:r>
            <a:endParaRPr b="1" lang="en-US" sz="2000" spc="-1" strike="noStrike">
              <a:solidFill>
                <a:srgbClr val="ffffff"/>
              </a:solidFill>
              <a:latin typeface="Arial"/>
            </a:endParaRPr>
          </a:p>
        </p:txBody>
      </p:sp>
      <p:sp>
        <p:nvSpPr>
          <p:cNvPr id="7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Risk Scheme</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2895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able risk to buy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SIRO DWT developm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tors influencing dark fibre risk prediction</a:t>
            </a:r>
            <a:endParaRPr b="1" lang="en-US" sz="2800" spc="-1" strike="noStrike">
              <a:solidFill>
                <a:srgbClr val="ffffff"/>
              </a:solidFill>
              <a:latin typeface="Arial"/>
            </a:endParaRPr>
          </a:p>
        </p:txBody>
      </p:sp>
      <p:grpSp>
        <p:nvGrpSpPr>
          <p:cNvPr id="78" name=""/>
          <p:cNvGrpSpPr/>
          <p:nvPr/>
        </p:nvGrpSpPr>
        <p:grpSpPr>
          <a:xfrm>
            <a:off x="1070640" y="3505320"/>
            <a:ext cx="8075160" cy="2455920"/>
            <a:chOff x="1070640" y="3505320"/>
            <a:chExt cx="8075160" cy="2455920"/>
          </a:xfrm>
        </p:grpSpPr>
        <p:sp>
          <p:nvSpPr>
            <p:cNvPr id="79" name=""/>
            <p:cNvSpPr/>
            <p:nvPr/>
          </p:nvSpPr>
          <p:spPr>
            <a:xfrm>
              <a:off x="2365200" y="3657600"/>
              <a:ext cx="5410440" cy="213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5200" y="358128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70640" y="35053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eed</a:t>
              </a:r>
              <a:endParaRPr b="0" lang="en-US" sz="2000" spc="-1" strike="noStrike">
                <a:solidFill>
                  <a:srgbClr val="000000"/>
                </a:solidFill>
                <a:latin typeface="Times New Roman"/>
              </a:endParaRPr>
            </a:p>
          </p:txBody>
        </p:sp>
        <p:sp>
          <p:nvSpPr>
            <p:cNvPr id="82" name=""/>
            <p:cNvSpPr/>
            <p:nvPr/>
          </p:nvSpPr>
          <p:spPr>
            <a:xfrm>
              <a:off x="3682800" y="365760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a:t>
              </a:r>
              <a:endParaRPr b="0" lang="en-US" sz="2000" spc="-1" strike="noStrike">
                <a:solidFill>
                  <a:srgbClr val="000000"/>
                </a:solidFill>
                <a:latin typeface="Times New Roman"/>
              </a:endParaRPr>
            </a:p>
          </p:txBody>
        </p:sp>
        <p:sp>
          <p:nvSpPr>
            <p:cNvPr id="83" name=""/>
            <p:cNvSpPr/>
            <p:nvPr/>
          </p:nvSpPr>
          <p:spPr>
            <a:xfrm>
              <a:off x="2976480" y="42670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x</a:t>
              </a:r>
              <a:endParaRPr b="0" lang="en-US" sz="2000" spc="-1" strike="noStrike">
                <a:solidFill>
                  <a:srgbClr val="000000"/>
                </a:solidFill>
                <a:latin typeface="Times New Roman"/>
              </a:endParaRPr>
            </a:p>
          </p:txBody>
        </p:sp>
        <p:sp>
          <p:nvSpPr>
            <p:cNvPr id="84" name=""/>
            <p:cNvSpPr/>
            <p:nvPr/>
          </p:nvSpPr>
          <p:spPr>
            <a:xfrm>
              <a:off x="3127320" y="396216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89440" y="4267080"/>
              <a:ext cx="30456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37200" y="54864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651200" y="45720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89640" y="4876560"/>
              <a:ext cx="3045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175440" y="5181480"/>
              <a:ext cx="30456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23000" y="57150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32800" y="419076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esed</a:t>
              </a:r>
              <a:endParaRPr b="0" lang="en-US" sz="2000" spc="-1" strike="noStrike">
                <a:solidFill>
                  <a:srgbClr val="000000"/>
                </a:solidFill>
                <a:latin typeface="Times New Roman"/>
              </a:endParaRPr>
            </a:p>
          </p:txBody>
        </p:sp>
        <p:sp>
          <p:nvSpPr>
            <p:cNvPr id="92" name=""/>
            <p:cNvSpPr/>
            <p:nvPr/>
          </p:nvSpPr>
          <p:spPr>
            <a:xfrm>
              <a:off x="4042080" y="495288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utched</a:t>
              </a:r>
              <a:endParaRPr b="0" lang="en-US" sz="2000" spc="-1" strike="noStrike">
                <a:solidFill>
                  <a:srgbClr val="000000"/>
                </a:solidFill>
                <a:latin typeface="Times New Roman"/>
              </a:endParaRPr>
            </a:p>
          </p:txBody>
        </p:sp>
        <p:sp>
          <p:nvSpPr>
            <p:cNvPr id="93" name=""/>
            <p:cNvSpPr/>
            <p:nvPr/>
          </p:nvSpPr>
          <p:spPr>
            <a:xfrm>
              <a:off x="6391080" y="4647960"/>
              <a:ext cx="27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utch/Shear Interval</a:t>
              </a:r>
              <a:endParaRPr b="0" lang="en-US" sz="2000" spc="-1" strike="noStrike">
                <a:solidFill>
                  <a:srgbClr val="000000"/>
                </a:solidFill>
                <a:latin typeface="Times New Roman"/>
              </a:endParaRPr>
            </a:p>
          </p:txBody>
        </p:sp>
        <p:sp>
          <p:nvSpPr>
            <p:cNvPr id="94" name=""/>
            <p:cNvSpPr/>
            <p:nvPr/>
          </p:nvSpPr>
          <p:spPr>
            <a:xfrm>
              <a:off x="5262480" y="5562360"/>
              <a:ext cx="139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d Line</a:t>
              </a:r>
              <a:endParaRPr b="0" lang="en-US" sz="2000" spc="-1" strike="noStrike">
                <a:solidFill>
                  <a:srgbClr val="000000"/>
                </a:solidFill>
                <a:latin typeface="Times New Roman"/>
              </a:endParaRPr>
            </a:p>
          </p:txBody>
        </p:sp>
        <p:sp>
          <p:nvSpPr>
            <p:cNvPr id="95" name=""/>
            <p:cNvSpPr/>
            <p:nvPr/>
          </p:nvSpPr>
          <p:spPr>
            <a:xfrm>
              <a:off x="8157600" y="54864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sk</a:t>
              </a:r>
              <a:endParaRPr b="0" lang="en-US" sz="2000" spc="-1" strike="noStrike">
                <a:solidFill>
                  <a:srgbClr val="000000"/>
                </a:solidFill>
                <a:latin typeface="Times New Roman"/>
              </a:endParaRPr>
            </a:p>
          </p:txBody>
        </p:sp>
        <p:sp>
          <p:nvSpPr>
            <p:cNvPr id="96" name=""/>
            <p:cNvSpPr/>
            <p:nvPr/>
          </p:nvSpPr>
          <p:spPr>
            <a:xfrm flipV="1">
              <a:off x="1984320" y="3657600"/>
              <a:ext cx="38088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7" name=""/>
            <p:cNvSpPr/>
            <p:nvPr/>
          </p:nvSpPr>
          <p:spPr>
            <a:xfrm flipV="1">
              <a:off x="3508200" y="3886200"/>
              <a:ext cx="22860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8" name=""/>
            <p:cNvSpPr/>
            <p:nvPr/>
          </p:nvSpPr>
          <p:spPr>
            <a:xfrm flipV="1">
              <a:off x="3584520" y="441900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9" name=""/>
            <p:cNvSpPr/>
            <p:nvPr/>
          </p:nvSpPr>
          <p:spPr>
            <a:xfrm flipH="1">
              <a:off x="4955760" y="4419360"/>
              <a:ext cx="1522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261040" y="5029200"/>
              <a:ext cx="22860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1" name=""/>
            <p:cNvSpPr/>
            <p:nvPr/>
          </p:nvSpPr>
          <p:spPr>
            <a:xfrm flipV="1">
              <a:off x="6632640" y="5638320"/>
              <a:ext cx="3045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flipH="1">
              <a:off x="7927560" y="5715000"/>
              <a:ext cx="30492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3" name=""/>
            <p:cNvSpPr/>
            <p:nvPr/>
          </p:nvSpPr>
          <p:spPr>
            <a:xfrm flipH="1">
              <a:off x="6479640" y="4952880"/>
              <a:ext cx="22860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Final Products</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ul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dyed appear lighter in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arser kemp fibres tend to lie on surface of the yarn and fabric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udge or dark line in white/pastel shad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ensive to remove from fabric</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Reading</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ulds, R.A. (1988) “Dark fibre contamination in wool - Its prediction and ramifications”, The Technical Feasibility of the Sale of Wool by Description, Seminar Proc. (1988) CSIRO, Division of Wool Technology, pp127-139.</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08:23Z</dcterms:created>
  <dc:creator>USER</dc:creator>
  <dc:description/>
  <dc:language>en-US</dc:language>
  <cp:lastModifiedBy>select agreement</cp:lastModifiedBy>
  <cp:lastPrinted>2000-02-03T09:09:47Z</cp:lastPrinted>
  <dcterms:modified xsi:type="dcterms:W3CDTF">2000-03-07T23:37:40Z</dcterms:modified>
  <cp:revision>2</cp:revision>
  <dc:subject/>
  <dc:title>Dark Fibre Medullated Fibre</dc:title>
</cp:coreProperties>
</file>