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37E9-CF1B-4D42-A9BA-F205E5A5B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rade restrictions in the global textile market.  It looks at the implications of these restrictions for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trictions to free and open markets lead to market distortions and market inefficiency.  For example, the restriction of apparel textile production to countries with relatively high labour costs mean that consumers pay more for clothing than they really need 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current trade restrictions need to be put into perspective.  There is a general need for clothing and furnishing.  Domestic industries are favoured by governments to supply the needs of their own populations.  On top of this textile industries have been shown to play a vital role in the development of industrialised economies.  Textile industries are also vital for domestic employment.  These issues are covered in more detail in the module, “Textiles and Apparel in the Global Econ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also be remembered that textiles have been regulated for many centuries.  Textiles were the foundation of wealth for many Western countries (England, Italy etc.).  Governments of the time imposed heavy restrictions on the location and dispersion of textile production and knowled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de restrictions can take various fo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riffs are taxes on imports imposed by governments to make imports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otas are quantitative restrictions on imports and act to restrict the market share of import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trade restrictions can be more subtle such as labelling laws which impose a cost on importers to meet labelling regulations for a particular market, or making sure that only a component of goods is imported through domestic content laws.  Health regulations can also be used to restrict imports.  For example, topmakers in Australia can only use wool grown in Australia or New Zealand because of quarantine regul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Agreement on Tariffs and Trade (GATT) was enacted in 1947.  The general aim of GATT is to achieve free and fair trade, and the final abolition of tariff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ATT guideline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riffs are the endorsed tool for trade restri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TT is a mechanism for countries to restrict access to their domestic markets and to protect their domestic manufacturing industries.  GATT is patronised by developed countries.  Japan was only included in the 1950’s.  The European Economic Union (EEU) evolved under GATT guide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tive importance of apparel and textiles is apparent from the fact that textiles depart from guidelines 1, 2 and 6, and resort to emergency action of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the trade in apparel and textiles is dealt with outside GAT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ulti Fibre Agreement (MFA) is outside GATT, but endorsed by GATT.  Significantly, import quotas are the restrictive tool used in this agre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superseded the Short Term Agreement (STA) and Long Term Agreement (LTA) which only covered the trade in cotton textiles.  It is interesting that import of textiles made from other fibres were not important enough before this time to be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covers apparel and textiles made from all fibres.  It should be noted that it doesn’t cover the fibre trade as raw material for textiles.  Raw wool is not directly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is a compromise between importing countries and exporting countries which allows a certain indexed market share for imports over time.  It is argued that MFA has led to a certain amount of market disruption, certainly trade is not free and f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worth noting that MFA was initially meant to finish in 1991, currently the wind-up date is approximately 2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guments used to support GATT and MFA are that these agreements protect against dumping and import surges.  The protection of brands is also a powerful argument.  Developed countries also argue that imported goods may be artificially priced through export subsidies from exporting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ter argument is that developed countries use more eco-friendly and efficient technologies to produce the goods which helps th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ickerson, K.G. (1995), Textiles and Apparel in the Global Economy, Prentice-Hall Inc., New Jersey, p. 5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presents the average tariff rates on clothing, footwear and textiles against the average for all merchand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GATT and MFA is to abolish tariffs.  The graph shows that tariffs are relatively high for textiles etc., and that tariffs are being reduced, albeit at a slow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 term effects of GATT are likely to be positive as far as tariff levels are concern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als with the consequences of tarrifs, particularly the MFA, for wool.  Raw wool is not included because it is a raw material for the global textil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is an argument that MFA has distorted the international textile trade; it isn’t free or f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A has restricted general textile and apparel trade because consumers are paying higher prices for goods, and their access to cheaper goods is also restri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MFA is removed, the world trade in textiles would increase, which would be better for raw wool.  Raw wool would be an input material into a market running at a higher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take full advantage of these possibilities wool must be cost competitive and relevant in the global textile mark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Trade Restrictions in</a:t>
            </a:r>
            <a:br>
              <a:rPr sz="3200"/>
            </a:br>
            <a:r>
              <a:rPr b="1" lang="en-GB" sz="3200" spc="-1" strike="noStrike">
                <a:solidFill>
                  <a:srgbClr val="fafd00"/>
                </a:solidFill>
                <a:latin typeface="Arial"/>
              </a:rPr>
              <a:t>Apparel Texti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rspectiv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 need for clothing &amp; furnish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vernments want domestic industr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industries have a vital role in national develop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s are vital for domestic employ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trade has been regulated for a long time (before GATT)</a:t>
            </a:r>
            <a:endParaRPr b="1" lang="en-US" sz="28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de Restriction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riff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x on impor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s effectively pay through higher pric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Tariff Barri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b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estic content la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alth regulations</a:t>
            </a:r>
            <a:endParaRPr b="1" lang="en-US" sz="2000" spc="-1" strike="noStrike">
              <a:solidFill>
                <a:srgbClr val="ffffff"/>
              </a:solidFill>
              <a:latin typeface="Arial"/>
            </a:endParaRPr>
          </a:p>
        </p:txBody>
      </p:sp>
      <p:sp>
        <p:nvSpPr>
          <p:cNvPr id="5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Quota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ntitative restrictions on impor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ffectively limiting market share</a:t>
            </a:r>
            <a:endParaRPr b="1" lang="en-US" sz="2000" spc="-1" strike="noStrike">
              <a:solidFill>
                <a:srgbClr val="ffffff"/>
              </a:solidFill>
              <a:latin typeface="Arial"/>
            </a:endParaRPr>
          </a:p>
        </p:txBody>
      </p:sp>
      <p:sp>
        <p:nvSpPr>
          <p:cNvPr id="5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ATT &amp; Textil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rade without discrimin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protection through tariff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 stable basis for trad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nsultation, conciliatio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mergency action possib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quota restrictions prohibit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gional trading allow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EXTILES depart from 1, 2, 6, using 5 often</a:t>
            </a:r>
            <a:endParaRPr b="1" lang="en-US" sz="2800" spc="-1" strike="noStrike">
              <a:solidFill>
                <a:srgbClr val="ffffff"/>
              </a:solidFill>
              <a:latin typeface="Arial"/>
            </a:endParaRPr>
          </a:p>
        </p:txBody>
      </p:sp>
      <p:sp>
        <p:nvSpPr>
          <p:cNvPr id="58"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ulti Fibre Agreement</a:t>
            </a:r>
            <a:r>
              <a:rPr b="1" lang="en-GB" sz="3200" spc="-1" strike="noStrike">
                <a:solidFill>
                  <a:srgbClr val="fafd00"/>
                </a:solidFill>
                <a:latin typeface="Arial"/>
              </a:rPr>
              <a:t> (MFA)</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lti Fibre Agre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74 onw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seded STA, LT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tton onl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 fibres includ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aging all textile and apparel trad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romise between importing and exporting countr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lateral agreemen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disruption</a:t>
            </a:r>
            <a:endParaRPr b="1" lang="en-US" sz="2000" spc="-1" strike="noStrike">
              <a:solidFill>
                <a:srgbClr val="ffffff"/>
              </a:solidFill>
              <a:latin typeface="Arial"/>
            </a:endParaRPr>
          </a:p>
        </p:txBody>
      </p:sp>
      <p:sp>
        <p:nvSpPr>
          <p:cNvPr id="6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ort for GATT / MFA</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mp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ction of Bran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ghts export subsid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fegu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gainst import surg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viron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by developed countries</a:t>
            </a:r>
            <a:endParaRPr b="1" lang="en-US" sz="2800" spc="-1" strike="noStrike">
              <a:solidFill>
                <a:srgbClr val="ffffff"/>
              </a:solidFill>
              <a:latin typeface="Arial"/>
            </a:endParaRPr>
          </a:p>
        </p:txBody>
      </p:sp>
      <p:sp>
        <p:nvSpPr>
          <p:cNvPr id="6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erage Tariff Rates</a:t>
            </a:r>
            <a:endParaRPr b="1" lang="en-US" sz="3200" spc="-1" strike="noStrike">
              <a:solidFill>
                <a:srgbClr val="fafd00"/>
              </a:solidFill>
              <a:latin typeface="Arial"/>
            </a:endParaRPr>
          </a:p>
        </p:txBody>
      </p:sp>
      <p:sp>
        <p:nvSpPr>
          <p:cNvPr id="66" name=""/>
          <p:cNvSpPr/>
          <p:nvPr/>
        </p:nvSpPr>
        <p:spPr>
          <a:xfrm>
            <a:off x="6842160" y="6400800"/>
            <a:ext cx="2305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ickerson, K.G. (1995)</a:t>
            </a:r>
            <a:endParaRPr b="0" lang="en-US" sz="1200" spc="-1" strike="noStrike">
              <a:solidFill>
                <a:srgbClr val="000000"/>
              </a:solidFill>
              <a:latin typeface="Times New Roman"/>
            </a:endParaRPr>
          </a:p>
        </p:txBody>
      </p:sp>
      <p:pic>
        <p:nvPicPr>
          <p:cNvPr id="67" name="TARIF" descr=""/>
          <p:cNvPicPr/>
          <p:nvPr/>
        </p:nvPicPr>
        <p:blipFill>
          <a:blip r:embed="rId1"/>
          <a:stretch/>
        </p:blipFill>
        <p:spPr>
          <a:xfrm>
            <a:off x="1905120" y="831960"/>
            <a:ext cx="6019560" cy="549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equences for Wool</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w wool trade not included</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trade is distort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free and fair trad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 textile and apparel trade is restrict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s pay higher pric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access to cheaper impor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FA removal</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world trade in textil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for raw wool (input material)</a:t>
            </a:r>
            <a:endParaRPr b="1"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2" name="PlaceHolder 2"/>
          <p:cNvSpPr>
            <a:spLocks noGrp="1"/>
          </p:cNvSpPr>
          <p:nvPr>
            <p:ph/>
          </p:nvPr>
        </p:nvSpPr>
        <p:spPr>
          <a:xfrm>
            <a:off x="1294920" y="838080"/>
            <a:ext cx="71629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ckerson, K.G. (1995), Textiles and Apparel in the Global Economy, Prentice-Hall Inc., New Jerse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K’s Apparel, Knitting &amp; Textiles Alliance (1990), Fair Trade in Textiles and Clothing: a Battle Still to be Won, EIU Textile Outlook International, November</a:t>
            </a:r>
            <a:endParaRPr b="1" lang="en-US" sz="2800" spc="-1" strike="noStrike">
              <a:solidFill>
                <a:srgbClr val="ffffff"/>
              </a:solidFill>
              <a:latin typeface="Arial"/>
            </a:endParaRPr>
          </a:p>
        </p:txBody>
      </p:sp>
      <p:sp>
        <p:nvSpPr>
          <p:cNvPr id="7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5:07:55Z</dcterms:created>
  <dc:creator>USER</dc:creator>
  <dc:description/>
  <dc:language>en-US</dc:language>
  <cp:lastModifiedBy>Hdaily</cp:lastModifiedBy>
  <cp:lastPrinted>2000-02-29T05:28:20Z</cp:lastPrinted>
  <dcterms:modified xsi:type="dcterms:W3CDTF">2000-05-09T23:38:06Z</dcterms:modified>
  <cp:revision>5</cp:revision>
  <dc:subject/>
  <dc:title>Global Trade Restrictions in Apparel Textiles</dc:title>
</cp:coreProperties>
</file>