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A95B-9AA3-481E-B50D-ED17B57FA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struggle between costs to produce agricultural products and the prices producers receive for them, and what producers can do about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sts of producing agricultural goods are the inputs to production.  A proportion of these inputs are manufactured go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ar as producer control is concerned, these costs are largely determined by macroeconomics (inflation rate, Government policy).  For further information see the modules, “Government Intervention in Markets” and “Macroeconomics and the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ces received are those paid by people wanting to use the production output. In Australia, for export dependent products (e.g. wool, wheat, coal, iron ore etc.), price is largely determined by overseas demand.  Where there is scope for quality differentiation in production, there is some benefit to be gained in prices received for pursuing quality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one in export dependent industries is hurt by price falls, conversely, the industries benefit from price ri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ampbell, K. D. and Fisher, B. S. (1991), Agricultural Marketing and Prices, Longman Cheshire, Melbourne, 3rd edition, page 52, Figure 4.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takes 1980 as the base year and illustrates the ratio of costs (prices paid) to prices received over a time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ignificant proportion of the costs involved in production consist of the purchase of manufactured goods.  Therefore, the prices paid (costs) for these goods is independent of the prices received for the produce.  In periods of economic growth, the prices received for produce tend to rise faster than the input prices, conversely, the prices paid tend to remain inflexible compared to the falling prices received in periods of agricultural rec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the second situation that is referred to as the “cost-price squeeze” (since the 1980’s).  The first situation is typified by periods of windfall gains (pre-1970, although this period was more one of stability rather than chan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Purcell, W. (1979), Agricultural Marketing, Systems, Coordination, Cash and Futures Prices, Reston Publishing Co., Virginia, U.S., page 3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y don’t farmers go broke over time?  The farmer cannot control prices and costs to any great degree and a long term cost-price squeeze should put them out of busi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y do not go out of business because they adopt technologies which enable them to produce more at the same cost (supply shift).  This is illustrated in this slide by the shifts in supply (S1 to S2 to S3 etc.).  In this way they can increase their net income even though the prices received are fa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st agricultural industries in Australia have benefited from this strategy, and the adoption of technological advances has been pursued enthusiastically.  However, the woolgrowing industry is characterised by LOW technology ado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ssue of woolgrowing productivity and profitability is vital.  There are simple technologies available to produce more at the same c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lternate and complementary strategy is to produce quality goods which can sell for a premium in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see the modules, “Costs of Production” and “Wool Business Productiv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st, Prices &amp; Technology Adop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sts &amp; Prices</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s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f produc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pu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ed by macroeconomic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te of infl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est ra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change ra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overnment policies</a:t>
            </a:r>
            <a:endParaRPr b="1" lang="en-US" sz="2000" spc="-1" strike="noStrike">
              <a:solidFill>
                <a:srgbClr val="ffffff"/>
              </a:solidFill>
              <a:latin typeface="Arial"/>
            </a:endParaRPr>
          </a:p>
        </p:txBody>
      </p:sp>
      <p:sp>
        <p:nvSpPr>
          <p:cNvPr id="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c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 produc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utpu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termined b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S deman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xport dependent produc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e premiums for quality (mayb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lls hur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ises benefit</a:t>
            </a:r>
            <a:endParaRPr b="1" lang="en-US" sz="2400" spc="-1" strike="noStrike">
              <a:solidFill>
                <a:srgbClr val="ffffff"/>
              </a:solidFill>
              <a:latin typeface="Arial"/>
            </a:endParaRPr>
          </a:p>
        </p:txBody>
      </p:sp>
      <p:sp>
        <p:nvSpPr>
          <p:cNvPr id="5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st-Price Sqeeeze</a:t>
            </a:r>
            <a:endParaRPr b="1" lang="en-US" sz="3200" spc="-1" strike="noStrike">
              <a:solidFill>
                <a:srgbClr val="fafd00"/>
              </a:solidFill>
              <a:latin typeface="Arial"/>
            </a:endParaRPr>
          </a:p>
        </p:txBody>
      </p:sp>
      <p:sp>
        <p:nvSpPr>
          <p:cNvPr id="54" name=""/>
          <p:cNvSpPr/>
          <p:nvPr/>
        </p:nvSpPr>
        <p:spPr>
          <a:xfrm>
            <a:off x="5862600" y="6324480"/>
            <a:ext cx="3257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ampbell, K.O. &amp; Fisher, B.S. (1991)</a:t>
            </a:r>
            <a:endParaRPr b="0" lang="en-US" sz="1200" spc="-1" strike="noStrike">
              <a:solidFill>
                <a:srgbClr val="000000"/>
              </a:solidFill>
              <a:latin typeface="Times New Roman"/>
            </a:endParaRPr>
          </a:p>
        </p:txBody>
      </p:sp>
      <p:pic>
        <p:nvPicPr>
          <p:cNvPr id="55" name="INDEX4_8" descr=""/>
          <p:cNvPicPr/>
          <p:nvPr/>
        </p:nvPicPr>
        <p:blipFill>
          <a:blip r:embed="rId1">
            <a:lum contrast="6000"/>
          </a:blip>
          <a:srcRect l="0" t="0" r="3528" b="0"/>
          <a:stretch/>
        </p:blipFill>
        <p:spPr>
          <a:xfrm>
            <a:off x="1905120" y="914400"/>
            <a:ext cx="6248160" cy="525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wering Costs of Production</a:t>
            </a:r>
            <a:endParaRPr b="1" lang="en-US" sz="3200" spc="-1" strike="noStrike">
              <a:solidFill>
                <a:srgbClr val="fafd00"/>
              </a:solidFill>
              <a:latin typeface="Arial"/>
            </a:endParaRPr>
          </a:p>
        </p:txBody>
      </p:sp>
      <p:sp>
        <p:nvSpPr>
          <p:cNvPr id="57" name=""/>
          <p:cNvSpPr/>
          <p:nvPr/>
        </p:nvSpPr>
        <p:spPr>
          <a:xfrm>
            <a:off x="7084440" y="632448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grpSp>
        <p:nvGrpSpPr>
          <p:cNvPr id="58" name=""/>
          <p:cNvGrpSpPr/>
          <p:nvPr/>
        </p:nvGrpSpPr>
        <p:grpSpPr>
          <a:xfrm>
            <a:off x="1676520" y="990720"/>
            <a:ext cx="7010280" cy="4970520"/>
            <a:chOff x="1676520" y="990720"/>
            <a:chExt cx="7010280" cy="4970520"/>
          </a:xfrm>
        </p:grpSpPr>
        <p:pic>
          <p:nvPicPr>
            <p:cNvPr id="59" name="INNOVAT" descr=""/>
            <p:cNvPicPr/>
            <p:nvPr/>
          </p:nvPicPr>
          <p:blipFill>
            <a:blip r:embed="rId1"/>
            <a:srcRect l="5825" t="0" r="4851" b="13002"/>
            <a:stretch/>
          </p:blipFill>
          <p:spPr>
            <a:xfrm>
              <a:off x="1676520" y="990720"/>
              <a:ext cx="7010280" cy="4970520"/>
            </a:xfrm>
            <a:prstGeom prst="rect">
              <a:avLst/>
            </a:prstGeom>
            <a:ln w="0">
              <a:noFill/>
            </a:ln>
          </p:spPr>
        </p:pic>
        <p:sp>
          <p:nvSpPr>
            <p:cNvPr id="60" name=""/>
            <p:cNvSpPr/>
            <p:nvPr/>
          </p:nvSpPr>
          <p:spPr>
            <a:xfrm flipV="1">
              <a:off x="1911240" y="2905560"/>
              <a:ext cx="423720" cy="656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Uni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39152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mpbell, K. D. and Fisher, B. S. (1991), Agricultural Marketing and Prices, Longman Cheshire, Melbourne, 3rd edition</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urcell, W. (1979), Agricultural Marketing, Systems, Coordination, Cash and Futures Prices, Reston Publishing Co., Virginia, U.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1T02:43:18Z</dcterms:created>
  <dc:creator>USER</dc:creator>
  <dc:description/>
  <dc:language>en-US</dc:language>
  <cp:lastModifiedBy>Hdaily</cp:lastModifiedBy>
  <cp:lastPrinted>2000-02-03T09:09:47Z</cp:lastPrinted>
  <dcterms:modified xsi:type="dcterms:W3CDTF">2000-03-28T06:43:17Z</dcterms:modified>
  <cp:revision>3</cp:revision>
  <dc:subject/>
  <dc:title>Cost, Prices &amp; Technology Adoption</dc:title>
</cp:coreProperties>
</file>