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6925-9344-4274-B3E4-0F57FD9CF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vernment intervention in the wool industry has a long history.  This module looks at the reasons for, and the implementation of government interven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ricultural products are a major source of foreign exchange, so governments are willing to become involved in the regulation of markets to ensure that this revenue is maxim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pulation of rural areas has traditionally supported particular political parties in Australia.  Similarly the rural vote in America is predominantly Republican.  This means that the rural economy (people going to work and generating value from the land), has always had a strong voice in Australian poli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ural economy is also part of the rich social structure of Australia.  The existence of towns and communities outside the major cities is a feature of Australian lif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se reasons, the producers of agricultural products have had a degree of bargaining power as far as government intervention is concerned.  If producers vote to get governments involved in their market, they wi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ea where most pressure is applied for governments to intervene is pricing policy.  Governments must balance the issues of market efficiency (some price instability is beneficial), and welfare (stable agricultural prices mean stable incomes for produc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 and open markets aren’t perfect, but regulated markets lead to their own costs.  Rent seeking is a phenomenon in regulated markets, whereby select groups in the market are able to benefit at the expense of others in the market.  There is no benefit from this activity in terms of market innovation and efficiency.  Intervention and regulation doesn’t necessarily lead to rent seeking, but it allows the opportunity for powerful groups in a market to manipulate the market for their own go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one reason why some agricultural producers are vehemently opposed to any kind of government interven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n overwhelming reason for government intervention is a perception of market failure in an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ual form of government intervention in a market in Australia has been in the form of a statutory marketing authority (SMA).  These entities are backed by government legislation which makes it legal for them to intervene in a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ther policy initiatives which are usually linked to SMA’s is the legislation for levies that are imposed on an industry as a whole.  These compulsory levies guard against the “free-rider” syndrome, whereby groups within an industry might benefit from the inputs of others, but without any contributions themsel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articular area which is a constant issue in the rural economy is price stabilisation.  In the wool market the Australian Government set up the mechanism to run and maintain a buffer stock scheme through legislation and compulsory levies on woolgrowers.  This scheme is covered in more detail in the module, “Price Stabilisation Schem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sides setting minimum prices, SMA’s may also act in other ways.  They can impose constraints on shipments (perhaps for quality assurances (QA) purposes), they can also direct that sales proceed through authorised agents.  Generally, SMA’s are not trading organis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mportant area for their involvement has been in the setting of freight rates on an industry-wide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ther areas they have been involved in, for reasons of perceived market failure, is promotion and publicity for the industry, and industry Research &amp; Development (R&amp;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fact, when an “industry” is referred to, the SMA usually springs to mind.  The SMA can also try and intervene with governments on behalf of producers, in areas like free trade and tariffs, which have an indirect effect on their memb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ent trend in some industries, in R&amp;D at least, has been to abandon the SMA model in favour of constituted corporations run more along business l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stitutions in the wool industry are covered in detail in the module “Wool Institu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ies imposed on the wool industry are presently compulsory, but this could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y is imposed on sales of wool in Australia based on wool receipts.  The levy is currently 4.0%.  3.5% goes through Australian Wool Research and Promotion Organisation (AWRAP) to The Woolmark Company for promotion, 0.5% is matched by the Australian Government for R&amp;D.  The R&amp;D funds are also largely administered by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posals and voting are currently under consideration to reduce the compulsory levies over the next few years.  Woolgrowers will vote on these proposals in the year 20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has been talk within wool industry bodies such as the International Wool Textile Organisation (IWTO) to collect levies from the processing industry to help fund promotion and R&amp;D.  However, it is unclear how imposing an extra cost on processing could help the current situ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overnment Intervention in Marke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eign Exchange</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ural Economy</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itic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cial structur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er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rgaining power</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ing policy</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ent seeking”</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ket Failure</a:t>
            </a:r>
            <a:endParaRPr b="1" lang="en-US" sz="2800" spc="-1" strike="noStrike">
              <a:solidFill>
                <a:srgbClr val="ffffff"/>
              </a:solidFill>
              <a:latin typeface="Arial"/>
            </a:endParaRPr>
          </a:p>
        </p:txBody>
      </p:sp>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w?</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tutory Marketing Authority (SM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at, wool, dairy, eg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nd to corporatis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ustry lev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lsor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free-ride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 stabilisation schem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ffer stock</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rve Price Scheme</a:t>
            </a:r>
            <a:endParaRPr b="1" lang="en-US" sz="2000" spc="-1" strike="noStrike">
              <a:solidFill>
                <a:srgbClr val="ffffff"/>
              </a:solidFill>
              <a:latin typeface="Arial"/>
            </a:endParaRPr>
          </a:p>
        </p:txBody>
      </p:sp>
      <p:sp>
        <p:nvSpPr>
          <p:cNvPr id="54"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tutory Marketing Authorities</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gulate commodity trade</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x minimum price</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ose constraints on shipments</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s through authorised agents</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usually trading</a:t>
            </a:r>
            <a:endParaRPr b="1" lang="en-US" sz="24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eight rates</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ustry setting</a:t>
            </a:r>
            <a:endParaRPr b="1" lang="en-US" sz="2400" spc="-1" strike="noStrike">
              <a:solidFill>
                <a:srgbClr val="ffffff"/>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ublicity and promotion</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earch &amp; development</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nd to constituted corporations</a:t>
            </a:r>
            <a:endParaRPr b="1" lang="en-US" sz="2400" spc="-1" strike="noStrike">
              <a:solidFill>
                <a:srgbClr val="ffffff"/>
              </a:solidFill>
              <a:latin typeface="Arial"/>
            </a:endParaRPr>
          </a:p>
        </p:txBody>
      </p:sp>
      <p:sp>
        <p:nvSpPr>
          <p:cNvPr id="5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ustry Levie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pulsor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mestic sa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 receip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rrent 4%, proposed 3% 2000-2001, &lt;2% 2001-2002</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 WoolMark</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 R&amp;D, matched by Governm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verseas sa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at pres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osed IWTO levy on wool exports</a:t>
            </a:r>
            <a:endParaRPr b="1" lang="en-US" sz="2400" spc="-1" strike="noStrike">
              <a:solidFill>
                <a:srgbClr val="ffffff"/>
              </a:solidFill>
              <a:latin typeface="Arial"/>
            </a:endParaRPr>
          </a:p>
        </p:txBody>
      </p:sp>
      <p:sp>
        <p:nvSpPr>
          <p:cNvPr id="60"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4:12:10Z</dcterms:created>
  <dc:creator>USER</dc:creator>
  <dc:description/>
  <dc:language>en-US</dc:language>
  <cp:lastModifiedBy>Hdaily</cp:lastModifiedBy>
  <cp:lastPrinted>2000-02-03T09:09:47Z</cp:lastPrinted>
  <dcterms:modified xsi:type="dcterms:W3CDTF">2000-04-26T23:26:12Z</dcterms:modified>
  <cp:revision>3</cp:revision>
  <dc:subject/>
  <dc:title>Government Intervention in Markets</dc:title>
</cp:coreProperties>
</file>