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4E2D-013A-4509-B24A-6A0EEFAD3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ricultural product prices are inherently volatile due to their demand and supply responses being inelastic.  This module looks at how stabilisation of price and incomes can be attempted in the production of agricultural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but not least, another mechanism to stabilise incomes is through Price Risk Management (P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ols of PRM (e.g. Forward Selling, Futures and Options) are covered in detail in other modules of this ser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ffer stock schemes have been manifested in the wool industry as the Reserve Price Sche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ly, the governing body of such schemes sets the “buy” price for such scheme, i.e. the reserve price.  The accumulated stocks are held until the market rises and then stocks are sold back into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ce setting is absolutely vital to the survival of such schemes.  Price forecasting has to be accurate and market aware.  Decisions on market outlook rely on accurate and timely market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uying decisions in Buffer Stock Schemes are usually public knowledge.  Everyone in the market knows the level of market sup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 selling decisions are usually held private by the governing body.  This market knowledge is important, and will affect the market if known only by a few.</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Dr. Peter Auer, The University of New South Wale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Campbell, K. D. and Fisher, B. S. (1991), Agricultural Marketing and Prices, Longman Cheshire, Melbourne, 3rd edition, p.90.</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is slide illustrates the hidden losses and gains of Buffer Stock schem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D1D1 is demand in the buying period, D2D2 is the demand in the selling perio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or the sake of simplicity, assume buying then selling in consecutive years, and that the same amount is produced each year.  So P1 and P2 would be the prices in a “free” marke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f there was NO scheme, producers would sell the quantity Q at price P1.  However, since the scheme is designed to stabilise prices, it can be assumed that the governing body of the scheme will actually purchase the produce above the price in a free market (P1’).  So the producer is ahead, compared to the situation where the scheme is NOT operating (“hidden gai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n the next year, assume that demand has risen, so the governing body sells the wool.  In this case, it is plausible that the selling price will be somewhat below the “free” market price, since the produce wouldn’t sell above P2.  So the produce is sold at P2’, which equates to a “hidden los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ompare this to the situation where the producer sold in the first year at P1 and in the second year at P2 in a “free market”.  If the hidden gain equals the hidden loss, then there is no difference in value for the producer, BUT the scheme requires funding which is usually from receipts, so the scheme itself has reduced the producer’s incom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mongst all this, the governing body has made a speculative profit on the buying and selling which is the difference between the amount paid and the amount on resale (LFJK).  This is used to meet storage costs, administration and interest charges on capital.</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is reason to suppose that the elasticity of demand will be less (ie. more inelastic) in times of high demand, which </a:t>
            </a:r>
            <a:r>
              <a:rPr b="0" lang="en-AU" sz="1100" spc="-1" strike="noStrike">
                <a:solidFill>
                  <a:srgbClr val="000000"/>
                </a:solidFill>
                <a:latin typeface="Times New Roman"/>
              </a:rPr>
              <a:t>predisposes</a:t>
            </a:r>
            <a:r>
              <a:rPr b="0" lang="en-AU" sz="1100" spc="-1" strike="noStrike">
                <a:solidFill>
                  <a:srgbClr val="000000"/>
                </a:solidFill>
                <a:latin typeface="Times New Roman"/>
              </a:rPr>
              <a:t> the hidden losses of the scheme to be higher, and therefore in the long-term the producers will receive lower returns.</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disadvantages to Buffer Stock sche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buyers soon realise that when demand is low the governing body of the scheme will buy the produce if the reserve price is not met.  The governing body soon assumes the role of stock-holding in the industry.  This, of course, is part of the cost of the scheme, and can be met through speculative prof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vel of funding must also be adequate to support the fund, which is a problem for producer cash flow, and a burden when more support is needed if the market goes pear-shap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sue of buying policy is fraught with dangers.  “Rent seeking” can be a problem when special interest groups are able to unduly influence pricing policy.  The reserve price is usually set to maintain income for the scheme’s participants, so this price will usually not be too far below the price in previous years due to pressure from the scheme’s beneficia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ling should also be determined by market conditions, rather than the demands of the scheme’s participants.  Stock disposal must be controlled, or there is a danger that a rapid stock disposal may moderate subsequent high dema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Stoeckel, A., Borrel, B. and Quirke, D. (1990), Wool into the 21st Century, Implications for Marketing and Profitability, Centre for International Economics, Canberra, p.5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do these schemes fa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ums up the situation succinctly.  The basic message is that the long term price must be known for the scheme to succeed.  So far, no one has been able to do this very accurately; macroeconomic events are too uncertain.  “Rent seeking” also comes into pl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long term, buffer stock schemes will fai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strategy for price stabilisation has been buffer fu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ood times the marketing agency imposed taxes or levies which are usually put into a trust fi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und is used to supplement contributors’ incomes in tight ti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critical decisions integral to the smooth functioning of these schemes.  Again, an accurate forecast of long term prices is not possible, so educated guesses must be used to set the size of the levy.  Over times of good prices the fund will grow, and producer pressure will limit the size of the fund, which is a guess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at which funds are paid out is usually determined by legislation.  This is usually based on price averaging mechanis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size of the fund is inadequate, then the fund must be underwritten in some way.  This role usually falls on the govern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sadvantages of these schemes are li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price forecasting is a difficult issue, so there is a risk that the price may be set too high or too 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 producer is growing produce stabilised by such funds, as well as unstabilised produce, then there is an incentive, during boom times for the stabilised produce, to produce less of this than would be good agricultural practice.  This is simply because the producer would pay less income to the buffer fund.  There is an incentive for distortion of resource allo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prices are rising, suppliers want to supply more.  While the supply of produce is fairly unresponsive (inelastic) to price anyway, the incentive to produce more is lessened because some of the income would end up in the buffer fund.  The supply response could become more inelastic with the advent of a buffer fund sche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price stabilisation, or income stabilisation scheme is the use of price pools.  These are also called equalisation fu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the producers in a price pool put the proceeds from sales into a “pool”.  The funds from the pool are disbursed over a set time period at the average price paid for all the produce in the p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sbursement is usually in parts, the final payment adjusting for final retu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danger that these pools could be a disincentive to quality, since all participants are paid the same average price.  Of course, the producers involved would ensure that the other participants produce about the same quality as themsel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y control is exercised in some industries to stabilise price from year to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ificantly, cotton growers in the United States are paid not to grow cotton based on US Department of Agriculture advice about the likely level of supply in the global market.  The funds for this scheme are provided by the US gover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ustralia quota schemes have been used to restrict the supply of sugar cane and poultry products like eg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surprisingly, a recommendation was made after the collapse of the Reserve Price Scheme (RPS) to restrict the production of wool to 75% of the 1990/91 season.  This recommendation was never taken up by the indust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ice Stabilisation Scheme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ice Risk Management</a:t>
            </a:r>
            <a:endParaRPr b="1" lang="en-US" sz="3200" spc="-1" strike="noStrike">
              <a:solidFill>
                <a:srgbClr val="fafd00"/>
              </a:solidFill>
              <a:latin typeface="Arial"/>
            </a:endParaRPr>
          </a:p>
        </p:txBody>
      </p:sp>
      <p:sp>
        <p:nvSpPr>
          <p:cNvPr id="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ward contra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ivera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gotiated with mil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gotiated with intermediat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utu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ually non-delivera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tures exchang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on to buy and sell la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vate RPS scheme</a:t>
            </a:r>
            <a:endParaRPr b="1" lang="en-US" sz="2400" spc="-1" strike="noStrike">
              <a:solidFill>
                <a:srgbClr val="ffffff"/>
              </a:solidFill>
              <a:latin typeface="Arial"/>
            </a:endParaRPr>
          </a:p>
        </p:txBody>
      </p:sp>
      <p:sp>
        <p:nvSpPr>
          <p:cNvPr id="86"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mpbell, K. D. and Fisher, B. S. (1991), Agricultural Marketing and Prices, Longman Cheshire, Melbourne, 3rd edition</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oeckel, A., Borrel, B. and Quirke, D. (1990), Wool into the 21st Century, Implications for Marketing and Profitability, Centre for International Economics, Canberra</a:t>
            </a:r>
            <a:endParaRPr b="1" lang="en-US" sz="2000" spc="-1" strike="noStrike">
              <a:solidFill>
                <a:srgbClr val="ffffff"/>
              </a:solidFill>
              <a:latin typeface="Arial"/>
            </a:endParaRPr>
          </a:p>
        </p:txBody>
      </p:sp>
      <p:sp>
        <p:nvSpPr>
          <p:cNvPr id="89"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uffer Stock Scheme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erve Price Schem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ing body buys at set pri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ks held until market ris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ks sold into marke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eculative schem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ying and selling decisions vita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recast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ying is public knowled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ling is usually private</a:t>
            </a:r>
            <a:endParaRPr b="1" lang="en-US" sz="2400" spc="-1" strike="noStrike">
              <a:solidFill>
                <a:srgbClr val="ffffff"/>
              </a:solidFill>
              <a:latin typeface="Arial"/>
            </a:endParaRPr>
          </a:p>
        </p:txBody>
      </p:sp>
      <p:sp>
        <p:nvSpPr>
          <p:cNvPr id="51"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ffer Stock Operation</a:t>
            </a:r>
            <a:endParaRPr b="1" lang="en-US" sz="3200" spc="-1" strike="noStrike">
              <a:solidFill>
                <a:srgbClr val="fafd00"/>
              </a:solidFill>
              <a:latin typeface="Arial"/>
            </a:endParaRPr>
          </a:p>
        </p:txBody>
      </p:sp>
      <p:pic>
        <p:nvPicPr>
          <p:cNvPr id="53" name="BUFFER81" descr=""/>
          <p:cNvPicPr/>
          <p:nvPr/>
        </p:nvPicPr>
        <p:blipFill>
          <a:blip r:embed="rId1">
            <a:lum contrast="6000"/>
          </a:blip>
          <a:stretch/>
        </p:blipFill>
        <p:spPr>
          <a:xfrm>
            <a:off x="2057400" y="762120"/>
            <a:ext cx="5562720" cy="5379840"/>
          </a:xfrm>
          <a:prstGeom prst="rect">
            <a:avLst/>
          </a:prstGeom>
          <a:ln w="0">
            <a:noFill/>
          </a:ln>
        </p:spPr>
      </p:pic>
      <p:sp>
        <p:nvSpPr>
          <p:cNvPr id="54" name=""/>
          <p:cNvSpPr/>
          <p:nvPr/>
        </p:nvSpPr>
        <p:spPr>
          <a:xfrm>
            <a:off x="5583600" y="6324480"/>
            <a:ext cx="3487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AU" sz="1200" spc="-1" strike="noStrike">
                <a:solidFill>
                  <a:srgbClr val="fafd00"/>
                </a:solidFill>
                <a:latin typeface="Arial"/>
              </a:rPr>
              <a:t>Campbell, K. D. and Fisher, B. S. (199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ffer Stock Disadvantages</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k shif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verning body will carry risk</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n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ust be adequate for suppor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 determin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ying (rent seek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lin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ck-disposal (selling) strateg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t too fas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derate subsequent high demand</a:t>
            </a:r>
            <a:endParaRPr b="1" lang="en-US" sz="2400" spc="-1" strike="noStrike">
              <a:solidFill>
                <a:srgbClr val="ffffff"/>
              </a:solidFill>
              <a:latin typeface="Arial"/>
            </a:endParaRPr>
          </a:p>
        </p:txBody>
      </p:sp>
      <p:sp>
        <p:nvSpPr>
          <p:cNvPr id="57"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do these schemes fail?</a:t>
            </a:r>
            <a:endParaRPr b="1" lang="en-US" sz="3200" spc="-1" strike="noStrike">
              <a:solidFill>
                <a:srgbClr val="fafd00"/>
              </a:solidFill>
              <a:latin typeface="Arial"/>
            </a:endParaRPr>
          </a:p>
        </p:txBody>
      </p:sp>
      <p:grpSp>
        <p:nvGrpSpPr>
          <p:cNvPr id="59" name=""/>
          <p:cNvGrpSpPr/>
          <p:nvPr/>
        </p:nvGrpSpPr>
        <p:grpSpPr>
          <a:xfrm>
            <a:off x="1204560" y="887400"/>
            <a:ext cx="7566480" cy="4761000"/>
            <a:chOff x="1204560" y="887400"/>
            <a:chExt cx="7566480" cy="4761000"/>
          </a:xfrm>
        </p:grpSpPr>
        <p:sp>
          <p:nvSpPr>
            <p:cNvPr id="60" name=""/>
            <p:cNvSpPr/>
            <p:nvPr/>
          </p:nvSpPr>
          <p:spPr>
            <a:xfrm>
              <a:off x="1204560" y="887400"/>
              <a:ext cx="39373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a buffer stock to work,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y-in price must be set so that supp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quals demand over the long term.</a:t>
              </a:r>
              <a:endParaRPr b="0" lang="en-US" sz="1600" spc="-1" strike="noStrike">
                <a:solidFill>
                  <a:srgbClr val="000000"/>
                </a:solidFill>
                <a:latin typeface="Times New Roman"/>
              </a:endParaRPr>
            </a:p>
          </p:txBody>
        </p:sp>
        <p:sp>
          <p:nvSpPr>
            <p:cNvPr id="61" name=""/>
            <p:cNvSpPr/>
            <p:nvPr/>
          </p:nvSpPr>
          <p:spPr>
            <a:xfrm>
              <a:off x="1243440" y="2386080"/>
              <a:ext cx="405180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demand to equal supply it must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ssible to accurately forecast the lo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n price.</a:t>
              </a:r>
              <a:endParaRPr b="0" lang="en-US" sz="1600" spc="-1" strike="noStrike">
                <a:solidFill>
                  <a:srgbClr val="000000"/>
                </a:solidFill>
                <a:latin typeface="Times New Roman"/>
              </a:endParaRPr>
            </a:p>
          </p:txBody>
        </p:sp>
        <p:sp>
          <p:nvSpPr>
            <p:cNvPr id="62" name=""/>
            <p:cNvSpPr/>
            <p:nvPr/>
          </p:nvSpPr>
          <p:spPr>
            <a:xfrm>
              <a:off x="1225440" y="3909960"/>
              <a:ext cx="405324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conomic events are so uncertain th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is price cannot be accurately forecast.</a:t>
              </a:r>
              <a:endParaRPr b="0" lang="en-US" sz="1600" spc="-1" strike="noStrike">
                <a:solidFill>
                  <a:srgbClr val="000000"/>
                </a:solidFill>
                <a:latin typeface="Times New Roman"/>
              </a:endParaRPr>
            </a:p>
          </p:txBody>
        </p:sp>
        <p:sp>
          <p:nvSpPr>
            <p:cNvPr id="63" name=""/>
            <p:cNvSpPr/>
            <p:nvPr/>
          </p:nvSpPr>
          <p:spPr>
            <a:xfrm>
              <a:off x="1244160" y="5205240"/>
              <a:ext cx="41536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efore a buffer stock scheme will fail..</a:t>
              </a:r>
              <a:endParaRPr b="0" lang="en-US" sz="1600" spc="-1" strike="noStrike">
                <a:solidFill>
                  <a:srgbClr val="000000"/>
                </a:solidFill>
                <a:latin typeface="Times New Roman"/>
              </a:endParaRPr>
            </a:p>
          </p:txBody>
        </p:sp>
        <p:sp>
          <p:nvSpPr>
            <p:cNvPr id="64" name=""/>
            <p:cNvSpPr/>
            <p:nvPr/>
          </p:nvSpPr>
          <p:spPr>
            <a:xfrm>
              <a:off x="2975040" y="1828800"/>
              <a:ext cx="0" cy="4572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75040" y="3343320"/>
              <a:ext cx="0" cy="4572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5040" y="4638600"/>
              <a:ext cx="0" cy="4572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646600" y="2346480"/>
              <a:ext cx="303840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e are political forces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rk causing the buy-in pri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 be set at unrealistic levels.</a:t>
              </a:r>
              <a:endParaRPr b="0" lang="en-US" sz="1600" spc="-1" strike="noStrike">
                <a:solidFill>
                  <a:srgbClr val="000000"/>
                </a:solidFill>
                <a:latin typeface="Times New Roman"/>
              </a:endParaRPr>
            </a:p>
          </p:txBody>
        </p:sp>
        <p:sp>
          <p:nvSpPr>
            <p:cNvPr id="68" name=""/>
            <p:cNvSpPr/>
            <p:nvPr/>
          </p:nvSpPr>
          <p:spPr>
            <a:xfrm>
              <a:off x="5720760" y="4824360"/>
              <a:ext cx="30502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anges in the exchange r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d other changes make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ob of forecasting difficult.</a:t>
              </a:r>
              <a:endParaRPr b="0" lang="en-US" sz="1600" spc="-1" strike="noStrike">
                <a:solidFill>
                  <a:srgbClr val="000000"/>
                </a:solidFill>
                <a:latin typeface="Times New Roman"/>
              </a:endParaRPr>
            </a:p>
          </p:txBody>
        </p:sp>
        <p:sp>
          <p:nvSpPr>
            <p:cNvPr id="69" name=""/>
            <p:cNvSpPr/>
            <p:nvPr/>
          </p:nvSpPr>
          <p:spPr>
            <a:xfrm>
              <a:off x="7315200" y="3200400"/>
              <a:ext cx="0" cy="167652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5410080" y="4114800"/>
              <a:ext cx="190512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5532120" y="6324480"/>
            <a:ext cx="3541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eproduced from Stoeckel, A. et al.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uffer Fund</a:t>
            </a:r>
            <a:endParaRPr b="1" lang="en-US" sz="3200" spc="-1" strike="noStrike">
              <a:solidFill>
                <a:srgbClr val="fafd00"/>
              </a:solidFill>
              <a:latin typeface="Arial"/>
            </a:endParaRPr>
          </a:p>
        </p:txBody>
      </p:sp>
      <p:sp>
        <p:nvSpPr>
          <p:cNvPr id="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xes, levies in high tim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keting agenc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ust fun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ayments made to producers in low tim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tical decis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vy siz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d size limi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bilisation pri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derwriting if inadequat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ffer Fund Disadvantages</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bilisation price determin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fficult to get righ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ecast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stortion of resource alloc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bilised vs. unstabilis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pply is more unresponsi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er price, higher taxes</a:t>
            </a:r>
            <a:endParaRPr b="1" lang="en-US" sz="2400" spc="-1" strike="noStrike">
              <a:solidFill>
                <a:srgbClr val="ffffff"/>
              </a:solidFill>
              <a:latin typeface="Arial"/>
            </a:endParaRPr>
          </a:p>
        </p:txBody>
      </p:sp>
      <p:sp>
        <p:nvSpPr>
          <p:cNvPr id="77"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ice Pools</a:t>
            </a:r>
            <a:endParaRPr b="1" lang="en-US" sz="3200" spc="-1" strike="noStrike">
              <a:solidFill>
                <a:srgbClr val="fafd00"/>
              </a:solidFill>
              <a:latin typeface="Arial"/>
            </a:endParaRPr>
          </a:p>
        </p:txBody>
      </p:sp>
      <p:sp>
        <p:nvSpPr>
          <p:cNvPr id="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qualisation fund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l proceeds to poo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sbursement at average pri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t time perio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ually not &gt; 1 year</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yments in par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st 70 to 90% of retur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nd adjustment for final return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sincentive to quality?</a:t>
            </a:r>
            <a:endParaRPr b="1" lang="en-US" sz="2800" spc="-1" strike="noStrike">
              <a:solidFill>
                <a:srgbClr val="ffffff"/>
              </a:solidFill>
              <a:latin typeface="Arial"/>
            </a:endParaRPr>
          </a:p>
        </p:txBody>
      </p:sp>
      <p:sp>
        <p:nvSpPr>
          <p:cNvPr id="80"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pply Control</a:t>
            </a:r>
            <a:endParaRPr b="1" lang="en-US" sz="3200" spc="-1" strike="noStrike">
              <a:solidFill>
                <a:srgbClr val="fafd00"/>
              </a:solidFill>
              <a:latin typeface="Arial"/>
            </a:endParaRPr>
          </a:p>
        </p:txBody>
      </p:sp>
      <p:sp>
        <p:nvSpPr>
          <p:cNvPr id="8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tton (U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sidies NOT to grow</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oultry</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ota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ne-grower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ota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osed quotas after RPS collapse</a:t>
            </a:r>
            <a:endParaRPr b="1" lang="en-US" sz="24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5% of previous season (1990 / 1991)</a:t>
            </a:r>
            <a:endParaRPr b="1" lang="en-US" sz="2000" spc="-1" strike="noStrike">
              <a:solidFill>
                <a:srgbClr val="ffffff"/>
              </a:solidFill>
              <a:latin typeface="Arial"/>
            </a:endParaRPr>
          </a:p>
          <a:p>
            <a:pPr lvl="2" marL="1131480" indent="-226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t enacted</a:t>
            </a:r>
            <a:endParaRPr b="1" lang="en-US" sz="2000" spc="-1" strike="noStrike">
              <a:solidFill>
                <a:srgbClr val="ffffff"/>
              </a:solidFill>
              <a:latin typeface="Arial"/>
            </a:endParaRPr>
          </a:p>
        </p:txBody>
      </p:sp>
      <p:sp>
        <p:nvSpPr>
          <p:cNvPr id="83" name=""/>
          <p:cNvSpPr/>
          <p:nvPr/>
        </p:nvSpPr>
        <p:spPr>
          <a:xfrm>
            <a:off x="815292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1T01:18:26Z</dcterms:created>
  <dc:creator>USER</dc:creator>
  <dc:description/>
  <dc:language>en-US</dc:language>
  <cp:lastModifiedBy>Hdaily</cp:lastModifiedBy>
  <cp:lastPrinted>2000-03-01T02:04:04Z</cp:lastPrinted>
  <dcterms:modified xsi:type="dcterms:W3CDTF">2000-05-01T04:02:57Z</dcterms:modified>
  <cp:revision>3</cp:revision>
  <dc:subject/>
  <dc:title>Price Stabilisation Schemes</dc:title>
</cp:coreProperties>
</file>