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4A54-0241-4BB0-A441-0E2E3D597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fibre market and reviews some principles and developments in this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fibre consumption can be found in the module, “The Global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some examples of new products in the fibre area and their marketing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is a regenerated cellulosic fibre, which was first marketed as artificial silk because of its lustre.  It suffered from a poor image which was mainly performance related (poor abrasion resistance, poor recovery, low strength).  As a consequence, Nylon fibre which was also competing in the same market predomin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has re-emerged in recent years as another new product called Tencel™.  This is modified rayon, and has enjoyed some degree of success being marketed by Courtaulds as a cotton substitute with good hand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ylon itself was developed during World War 2 and used initially by the military for parachutes and rope etc.  However, even during the war Dupont was working at developing this fibre for the consume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 in Nylon has seen the invention of fibres such as those listed above.  The chemical composition is almost exactly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development was Tactel™ which was a bicomponent nylon fibre originally developed by ICI.  They couldn’t get it to succeed in the market, and sold the patent to Dupont who have been quite successful marketing the fibre into luxury goods, against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s in wool are covered in other modu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just some of the fibre products that have been marketed in recent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re extensive list can be found from the American Fiber Manufacturers Association (afma@afma.org or www.fibersource.c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p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mportant slide summarises what has happened to the global fibre market over the long-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for fibres of all descriptions has grown over time (D to D’).  The world is richer and people use more fibre as they have more money.  There are also more people.  This has resulted in a demand shi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akers in general have worked on their processing efficiency, through intense research and development and innovation, and the unit price for fibres in general has fallen, especially for synthetic fibres.  Natural fibres have also been improved, especially cotton which has the advantage of being a crop that can be genetically improved more quickly.  New fibres have also been developed which meet consumer needs (eg. micro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n the long term means more fibres for lower prices.  For the consumer, this translates to lower clothing price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makers price competition is now inten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p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charts the story for New Zealand wool produced mainly for the carpet industry and the story is not g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has not shifted appreciably in the long term, due to the difficulty in producing more for the same inp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has shifted the wrong way due to intense competition from synthetic fibres being produced more cheaply, but still satisfying consumers needs for comfortable, durable floor-coverings and clot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s that prices have collap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ould easily be argued that the same scenario applies to the Australian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substitution is obviously playing a major part in the previous scenari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damental reasons for substitution of agricultural products with synthetic products which tend to be the drivers of innovation (e.g. margarine vs. butter, Mr. Whippy vs. ice-cream, polyester vs. wool) are listed on this sl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ing wool as the example of the natural product, it can be seen that synthetic fibres have approximated wool.  Synthetic fibres have achieved favourable costs in processing.  Consumers have been convinced that synthetic fibres can add value (eg. Coolmax™, Lycra™).  Synthetic fibres are more suited to mass production.  There is favourable pricing for consumers, and consumers are accepting of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are opportunities for wool amongst all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fibre technology developments like Optim™ have created an opportunity for wool to look less lik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great opportunity for wool to become a less costly fibre for processors through farm productivity and gains in marketing efficiency (production, processing, pric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related properties of wool have been undersold, but are starting to be realised by products like Sportwool™, and further blend developments will enhance this perception.  Wool Research Organisation of New Zealand (WRONZ) has developed a series of added value wool fibres (Insect Resist, Fire Resist) using in-scour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s in mass production can be alleviated through developments in processing technology, and improved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ending and lower wool prices will create favourable pricing opportunities for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gative perceptions of the fibre can be overcome through information to consumers (effective promotion) and fibre spec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very important to remember that substitution works both way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 D. and Stogdon, A. (1996), World Markets for Wool Forecasts to 2000, Special Report No. 2642, Textiles Intelligence Ltd., pages 52-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factors involved in inter-fibre competition.  It is not just always down to fibr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there are regional differences in consumption, reflecting seasonal and cultural factors.  The consumption of wool by volume is strongest in Western Europe, USSR &amp; Eastern Europe, Japan, and North Americ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inter-fibre competition have been found to be product innovation (from synthetic fibres) and the growth of blends (performance and cost driven).  Many of the new products in recent years, waterproofed fabrics, sportswear, duvets etc., didn’t use an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e of the main consumer markets (largely developed countries) means that the level of income growth can effect fibre usage.  Richer countries buy more wool.  The Western world economies haven’t been growing quickly compared to As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preferences in the 1980’s swung back towards natural fibres.  Wool benefited from this but not to the extent of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fibre prices do have an effect and the greatest effect in some markets.  Wool prices are constantly under pressure since the unit prices for synthetics keep falling, mainly through technology innovation and economies of scale.  Due to the inelastic nature of wool supply, rapid price rises will lead to greater fibre substit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ing of synthetic fibres has been far more successful than the marketing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ther than try and change consumers perceptions through costly promotional campaigns, synthetic fibre makers have concentrated on a number of fundament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invested money to ensure that fibre processing for their fibres is optimised.  Similarly cotton R&amp;D has gone into this area as well.  The wool industry has invested in this area, but suffers from a lack of size and consequent lack of innovation from machinery manufactur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have been developed to meet the market. For example synthetic fibres for the blend market are optimised in production so that their low stress mechanical properties match as closely as possible the properties of the blend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have also been developed to meet new consumer needs.  Microfibres are an example of a product that led to the development of fabrics with new properties.  Consumers liked what they saw and fe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pecific example of polymer marketing is Dupont.  Fibres produced from the factories this large chemical company set up go into the staple and tow markets.  Dupont sells the raw material (polymer) to these factories.  They have divided the world into regions and are actively seeking joint ventures.  These factories can be tailor-made to produce anything from 90 to 900 tonnes of fibre each day, depending on the fibre market that the joint venture partner wants to serv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ttp://www.dupont.com (August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overview of the breadth of research and development (R&amp;D) can be found from the Dupont website.  This slide lists those areas of R&amp;D applicable to Polymer and fibre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basic fibre research is well recognised by this large multi-national company.  The other major area is in process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ompany spends $US 1 billion  per annum on its total R&amp;D budget.  The polymer and fibre divisions consume a significant proportion of this budg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ttp://www.cottoninc.com (December,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comparison, the cotton industry through Cotton Inc., which is based in the U.S., spends about $US 30 million on research, ensuring the profitability of the users of cotton fibre such as spinners, weavers and d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mp;D areas covere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development during the 1990’s is the EFS® system which consists of three software programs, (MILLNet, QRNet, and GINNet) and one electronic data interchange mailbox, which facilitates the transfer of EDI data between mills, merchants/co-ops and gin direct oper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Net: Merchants and mills use this program to ship uniform lots of cotton, cotton mixes, or category lots to m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RNet: This is Cotton Inc.’s file translator program used by mills to electronically exchange </a:t>
            </a:r>
            <a:r>
              <a:rPr b="0" lang="en-GB" sz="1200" spc="-1" strike="noStrike">
                <a:solidFill>
                  <a:srgbClr val="000000"/>
                </a:solidFill>
                <a:latin typeface="Times New Roman"/>
              </a:rPr>
              <a:t>High Volume Instrumentation (HVI)</a:t>
            </a:r>
            <a:r>
              <a:rPr b="0" lang="en-AU" sz="1200" spc="-1" strike="noStrike">
                <a:solidFill>
                  <a:srgbClr val="000000"/>
                </a:solidFill>
                <a:latin typeface="Times New Roman"/>
              </a:rPr>
              <a:t> data and related cotton transaction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NNet: This program allows cotton growers and ginners to acquire and analyse USDA HVI data and related variables including yield, CCC loan value, planting, harvesting and gin conditions.  This information can be used by growers to determine profitable production practices, and also the technical value of their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DI</a:t>
            </a:r>
            <a:r>
              <a:rPr b="0" lang="en-AU" sz="1200" spc="-1" strike="noStrike" baseline="30000">
                <a:solidFill>
                  <a:srgbClr val="000000"/>
                </a:solidFill>
                <a:latin typeface="Times New Roman"/>
              </a:rPr>
              <a:t>SM </a:t>
            </a:r>
            <a:r>
              <a:rPr b="0" lang="en-AU" sz="1200" spc="-1" strike="noStrike">
                <a:solidFill>
                  <a:srgbClr val="000000"/>
                </a:solidFill>
                <a:latin typeface="Times New Roman"/>
              </a:rPr>
              <a:t>Service: This electronic mailbox is used by mills, cotton sellers and gin direct warehouses to exchange HVI data and related cotton information, such as price, weights and bale numb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Marke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Marketing Examples</a:t>
            </a:r>
            <a:endParaRPr b="1" lang="en-US" sz="3200" spc="-1" strike="noStrike">
              <a:solidFill>
                <a:srgbClr val="fafd00"/>
              </a:solidFill>
              <a:latin typeface="Arial"/>
            </a:endParaRPr>
          </a:p>
        </p:txBody>
      </p:sp>
      <p:sp>
        <p:nvSpPr>
          <p:cNvPr id="81"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Artificial (cellulos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rst marketed against silk</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or image, performance rel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ylon predomin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launched as Tencel in 1980’s</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ospun, Solospun</a:t>
            </a:r>
            <a:endParaRPr b="1" lang="en-US" sz="2000" spc="-1" strike="noStrike">
              <a:solidFill>
                <a:srgbClr val="ffffff"/>
              </a:solidFill>
              <a:latin typeface="Arial"/>
            </a:endParaRPr>
          </a:p>
        </p:txBody>
      </p:sp>
      <p:sp>
        <p:nvSpPr>
          <p:cNvPr id="82" name="PlaceHolder 3"/>
          <p:cNvSpPr>
            <a:spLocks noGrp="1"/>
          </p:cNvSpPr>
          <p:nvPr>
            <p:ph/>
          </p:nvPr>
        </p:nvSpPr>
        <p:spPr>
          <a:xfrm>
            <a:off x="510516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Synthe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litary</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rachutes, ro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siery, clothing, tyres, carpe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product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ntro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lofi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ctel</a:t>
            </a:r>
            <a:endParaRPr b="1" lang="en-US" sz="1800" spc="-1" strike="noStrike">
              <a:solidFill>
                <a:srgbClr val="ffffff"/>
              </a:solidFill>
              <a:latin typeface="Arial"/>
            </a:endParaRPr>
          </a:p>
          <a:p>
            <a:pPr lvl="4" marL="2057400" indent="-2286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CI to DuPont</a:t>
            </a:r>
            <a:endParaRPr b="1" lang="en-US" sz="1800" spc="-1" strike="noStrike">
              <a:solidFill>
                <a:srgbClr val="ffffff"/>
              </a:solidFill>
              <a:latin typeface="Arial"/>
            </a:endParaRPr>
          </a:p>
        </p:txBody>
      </p:sp>
      <p:sp>
        <p:nvSpPr>
          <p:cNvPr id="83"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Synthetic Fibre Products</a:t>
            </a:r>
            <a:endParaRPr b="1" lang="en-US" sz="3200" spc="-1" strike="noStrike">
              <a:solidFill>
                <a:srgbClr val="fafd00"/>
              </a:solidFill>
              <a:latin typeface="Arial"/>
            </a:endParaRPr>
          </a:p>
        </p:txBody>
      </p:sp>
      <p:sp>
        <p:nvSpPr>
          <p:cNvPr id="86"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DuPo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mattique</a:t>
            </a:r>
            <a:r>
              <a:rPr b="1" lang="en-AU" sz="1800" spc="-1" strike="noStrike" baseline="30000">
                <a:solidFill>
                  <a:srgbClr val="ffffff"/>
                </a:solidFill>
                <a:latin typeface="Arial"/>
              </a:rPr>
              <a:t>TM</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end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mferel</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uretha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ycra® </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ycra® 3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cte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icomponent</a:t>
            </a:r>
            <a:endParaRPr b="1" lang="en-US" sz="1800" spc="-1" strike="noStrike">
              <a:solidFill>
                <a:srgbClr val="ffffff"/>
              </a:solidFill>
              <a:latin typeface="Arial"/>
            </a:endParaRPr>
          </a:p>
        </p:txBody>
      </p:sp>
      <p:sp>
        <p:nvSpPr>
          <p:cNvPr id="87"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ICI</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olmax®</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lta</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lofi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priva®</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Courtaul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encel®</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all fibres)</a:t>
            </a:r>
            <a:endParaRPr b="1" lang="en-US" sz="3200" spc="-1" strike="noStrike">
              <a:solidFill>
                <a:srgbClr val="fafd00"/>
              </a:solidFill>
              <a:latin typeface="Arial"/>
            </a:endParaRPr>
          </a:p>
        </p:txBody>
      </p:sp>
      <p:pic>
        <p:nvPicPr>
          <p:cNvPr id="50" name="DEMAND1" descr=""/>
          <p:cNvPicPr/>
          <p:nvPr/>
        </p:nvPicPr>
        <p:blipFill>
          <a:blip r:embed="rId1"/>
          <a:stretch/>
        </p:blipFill>
        <p:spPr>
          <a:xfrm>
            <a:off x="1676520" y="824040"/>
            <a:ext cx="6705360" cy="4662360"/>
          </a:xfrm>
          <a:prstGeom prst="rect">
            <a:avLst/>
          </a:prstGeom>
          <a:ln w="0">
            <a:noFill/>
          </a:ln>
        </p:spPr>
      </p:pic>
      <p:sp>
        <p:nvSpPr>
          <p:cNvPr id="51"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
        <p:nvSpPr>
          <p:cNvPr id="52" name="PlaceHolder 2"/>
          <p:cNvSpPr>
            <a:spLocks noGrp="1"/>
          </p:cNvSpPr>
          <p:nvPr>
            <p:ph/>
          </p:nvPr>
        </p:nvSpPr>
        <p:spPr>
          <a:xfrm>
            <a:off x="1143000" y="5486040"/>
            <a:ext cx="7772400" cy="76212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modity price falls over tim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NZ wool</a:t>
            </a:r>
            <a:endParaRPr b="1" lang="en-US" sz="3200" spc="-1" strike="noStrike">
              <a:solidFill>
                <a:srgbClr val="fafd00"/>
              </a:solidFill>
              <a:latin typeface="Arial"/>
            </a:endParaRPr>
          </a:p>
        </p:txBody>
      </p:sp>
      <p:pic>
        <p:nvPicPr>
          <p:cNvPr id="54" name="DEMAND2" descr=""/>
          <p:cNvPicPr/>
          <p:nvPr/>
        </p:nvPicPr>
        <p:blipFill>
          <a:blip r:embed="rId1"/>
          <a:srcRect l="0" t="0" r="0" b="2697"/>
          <a:stretch/>
        </p:blipFill>
        <p:spPr>
          <a:xfrm>
            <a:off x="1828800" y="838080"/>
            <a:ext cx="6324480" cy="4648320"/>
          </a:xfrm>
          <a:prstGeom prst="rect">
            <a:avLst/>
          </a:prstGeom>
          <a:ln w="0">
            <a:noFill/>
          </a:ln>
        </p:spPr>
      </p:pic>
      <p:sp>
        <p:nvSpPr>
          <p:cNvPr id="55" name="PlaceHolder 2"/>
          <p:cNvSpPr>
            <a:spLocks noGrp="1"/>
          </p:cNvSpPr>
          <p:nvPr>
            <p:ph/>
          </p:nvPr>
        </p:nvSpPr>
        <p:spPr>
          <a:xfrm>
            <a:off x="1219320" y="5638680"/>
            <a:ext cx="7772400" cy="609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 falls (substitute fibres)</a:t>
            </a:r>
            <a:endParaRPr b="1" lang="en-US" sz="2800" spc="-1" strike="noStrike">
              <a:solidFill>
                <a:srgbClr val="ffffff"/>
              </a:solidFill>
              <a:latin typeface="Arial"/>
            </a:endParaRPr>
          </a:p>
        </p:txBody>
      </p:sp>
      <p:sp>
        <p:nvSpPr>
          <p:cNvPr id="56"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stitution Fundamental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s as “new product” cf. natural produ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 driver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kely to substitute natural produ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chnology to approximate natural produ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vourable cost of synthetic &amp; natural-synthetic ble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lue related properties improved by synthetic or natural-synthetic ble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suited to mass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vourable pricing for synthetic or ble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acceptance of synthetic or blends</a:t>
            </a:r>
            <a:endParaRPr b="1" lang="en-US" sz="2400" spc="-1" strike="noStrike">
              <a:solidFill>
                <a:srgbClr val="ffffff"/>
              </a:solidFill>
              <a:latin typeface="Arial"/>
            </a:endParaRPr>
          </a:p>
        </p:txBody>
      </p:sp>
      <p:sp>
        <p:nvSpPr>
          <p:cNvPr id="59"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portunities for Wool</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chnolog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m</a:t>
            </a:r>
            <a:r>
              <a:rPr b="1" lang="en-GB" sz="2000" spc="-1" strike="noStrike" baseline="30000">
                <a:solidFill>
                  <a:srgbClr val="ffffff"/>
                </a:solidFill>
                <a:latin typeface="Arial"/>
              </a:rPr>
              <a:t>TM</a:t>
            </a:r>
            <a:r>
              <a:rPr b="1" lang="en-GB" sz="2000" spc="-1" strike="noStrike">
                <a:solidFill>
                  <a:srgbClr val="ffffff"/>
                </a:solidFill>
                <a:latin typeface="Arial"/>
              </a:rPr>
              <a: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vourable cos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rm productiv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 efficienc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lu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arel perform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end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mproved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RONZ</a:t>
            </a:r>
            <a:endParaRPr b="1" lang="en-US" sz="1800" spc="-1" strike="noStrike">
              <a:solidFill>
                <a:srgbClr val="ffffff"/>
              </a:solidFill>
              <a:latin typeface="Arial"/>
            </a:endParaRPr>
          </a:p>
        </p:txBody>
      </p:sp>
      <p:sp>
        <p:nvSpPr>
          <p:cNvPr id="6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ss produ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ing technolog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pecific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vourable pric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en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er wool pric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 acceptanc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
          <p:cNvSpPr/>
          <p:nvPr/>
        </p:nvSpPr>
        <p:spPr>
          <a:xfrm>
            <a:off x="1978200" y="5318280"/>
            <a:ext cx="58590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imes New Roman"/>
              </a:rPr>
              <a:t>SUBSTITUTION WORKS BOTH WAY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fibre Competition</a:t>
            </a:r>
            <a:endParaRPr b="1" lang="en-US" sz="3200" spc="-1" strike="noStrike">
              <a:solidFill>
                <a:srgbClr val="fafd00"/>
              </a:solidFill>
              <a:latin typeface="Arial"/>
            </a:endParaRPr>
          </a:p>
        </p:txBody>
      </p:sp>
      <p:sp>
        <p:nvSpPr>
          <p:cNvPr id="66" name="PlaceHolder 2"/>
          <p:cNvSpPr>
            <a:spLocks noGrp="1"/>
          </p:cNvSpPr>
          <p:nvPr>
            <p:ph/>
          </p:nvPr>
        </p:nvSpPr>
        <p:spPr>
          <a:xfrm>
            <a:off x="1294920" y="990360"/>
            <a:ext cx="40388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ption (k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gional differenc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92</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n to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estern Europe (0.6)</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SR &amp; Eastern Europe (0.2)</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apan (0.2)</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rth America (0.1)</a:t>
            </a:r>
            <a:endParaRPr b="1" lang="en-US" sz="2000" spc="-1" strike="noStrike">
              <a:solidFill>
                <a:srgbClr val="ffffff"/>
              </a:solidFill>
              <a:latin typeface="Arial"/>
            </a:endParaRPr>
          </a:p>
        </p:txBody>
      </p:sp>
      <p:sp>
        <p:nvSpPr>
          <p:cNvPr id="67"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iv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wth of blen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ome growt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 prefer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ative pri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 &gt; synthetic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ynthetic unit prices keep fall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apid price ris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elastic supply</a:t>
            </a:r>
            <a:endParaRPr b="1" lang="en-US" sz="1800" spc="-1" strike="noStrike">
              <a:solidFill>
                <a:srgbClr val="ffffff"/>
              </a:solidFill>
              <a:latin typeface="Arial"/>
            </a:endParaRPr>
          </a:p>
        </p:txBody>
      </p:sp>
      <p:sp>
        <p:nvSpPr>
          <p:cNvPr id="68" name=""/>
          <p:cNvSpPr/>
          <p:nvPr/>
        </p:nvSpPr>
        <p:spPr>
          <a:xfrm>
            <a:off x="6035760" y="6324480"/>
            <a:ext cx="3038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orris, D. and Stogdon, A.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thetic Fibre Marketing</a:t>
            </a:r>
            <a:endParaRPr b="1" lang="en-US" sz="3200" spc="-1" strike="noStrike">
              <a:solidFill>
                <a:srgbClr val="fafd00"/>
              </a:solidFill>
              <a:latin typeface="Arial"/>
            </a:endParaRPr>
          </a:p>
        </p:txBody>
      </p:sp>
      <p:sp>
        <p:nvSpPr>
          <p:cNvPr id="7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Gener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processing optimis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s developed to meet marke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g. blend fibr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s developed to meet consumer nee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g. microfibre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Dupo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aple &amp; tow mark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rld divided into reg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oint ventures with partners in each reg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ilor-made factori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90 to 900 tonnes / day</a:t>
            </a:r>
            <a:endParaRPr b="1" lang="en-US" sz="1800" spc="-1" strike="noStrike">
              <a:solidFill>
                <a:srgbClr val="ffffff"/>
              </a:solidFill>
              <a:latin typeface="Arial"/>
            </a:endParaRPr>
          </a:p>
        </p:txBody>
      </p:sp>
      <p:sp>
        <p:nvSpPr>
          <p:cNvPr id="72" name=""/>
          <p:cNvSpPr/>
          <p:nvPr/>
        </p:nvSpPr>
        <p:spPr>
          <a:xfrm>
            <a:off x="807984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upont R&amp;D</a:t>
            </a:r>
            <a:endParaRPr b="1" lang="en-US" sz="3200" spc="-1" strike="noStrike">
              <a:solidFill>
                <a:srgbClr val="fafd00"/>
              </a:solidFill>
              <a:latin typeface="Arial"/>
            </a:endParaRPr>
          </a:p>
        </p:txBody>
      </p:sp>
      <p:sp>
        <p:nvSpPr>
          <p:cNvPr id="7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m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undamental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ynthesi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difica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ulti-componen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cycl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abric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osi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ating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sci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r science</a:t>
            </a:r>
            <a:endParaRPr b="1" lang="en-US" sz="2000" spc="-1" strike="noStrike">
              <a:solidFill>
                <a:srgbClr val="ffffff"/>
              </a:solidFill>
              <a:latin typeface="Arial"/>
            </a:endParaRPr>
          </a:p>
        </p:txBody>
      </p:sp>
      <p:sp>
        <p:nvSpPr>
          <p:cNvPr id="75" name="PlaceHolder 3"/>
          <p:cNvSpPr>
            <a:spLocks noGrp="1"/>
          </p:cNvSpPr>
          <p:nvPr>
            <p:ph/>
          </p:nvPr>
        </p:nvSpPr>
        <p:spPr>
          <a:xfrm>
            <a:off x="4647960" y="990360"/>
            <a:ext cx="4343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Pro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ing, simu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zard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is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asurement &amp; control</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1 bn p.a. TOTAL R&amp;D</a:t>
            </a:r>
            <a:endParaRPr b="1" lang="en-US" sz="2400" spc="-1" strike="noStrike">
              <a:solidFill>
                <a:srgbClr val="ffffff"/>
              </a:solidFill>
              <a:latin typeface="Arial"/>
            </a:endParaRPr>
          </a:p>
        </p:txBody>
      </p:sp>
      <p:sp>
        <p:nvSpPr>
          <p:cNvPr id="76" name=""/>
          <p:cNvSpPr/>
          <p:nvPr/>
        </p:nvSpPr>
        <p:spPr>
          <a:xfrm>
            <a:off x="6589440" y="6324480"/>
            <a:ext cx="240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ww.dupont.com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tton R&amp;D</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tton In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30 miliion p.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bas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gricultural Resear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bric Develop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Quali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Researc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Management Researc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S® Syste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cilitation of HVI data transfer and usage</a:t>
            </a:r>
            <a:endParaRPr b="1" lang="en-US" sz="2000" spc="-1" strike="noStrike">
              <a:solidFill>
                <a:srgbClr val="ffffff"/>
              </a:solidFill>
              <a:latin typeface="Arial"/>
            </a:endParaRPr>
          </a:p>
        </p:txBody>
      </p:sp>
      <p:sp>
        <p:nvSpPr>
          <p:cNvPr id="79" name=""/>
          <p:cNvSpPr/>
          <p:nvPr/>
        </p:nvSpPr>
        <p:spPr>
          <a:xfrm>
            <a:off x="6445800" y="6324480"/>
            <a:ext cx="2550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ww.cottoninc.com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3:04:11Z</dcterms:created>
  <dc:creator>USER</dc:creator>
  <dc:description/>
  <dc:language>en-US</dc:language>
  <cp:lastModifiedBy>USER</cp:lastModifiedBy>
  <cp:lastPrinted>2000-02-03T09:09:47Z</cp:lastPrinted>
  <dcterms:modified xsi:type="dcterms:W3CDTF">2000-04-16T23:40:23Z</dcterms:modified>
  <cp:revision>4</cp:revision>
  <dc:subject/>
  <dc:title>Fibre Marketing</dc:title>
</cp:coreProperties>
</file>