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275-A285-4D6D-8F4F-F5CE042F0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derived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are the ultimate source of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demand for raw wool in consumer markets.  Consumers at retail are buying products with wool in them, so demand for the raw material is derived from these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the retail product consists of the ultimate raw material price, and the manufacturing or marketing margins imposed on the raw material as it travels through the intermediate stages of manufacture, wholesaling and retai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argins vary between stages and consist of such things as risk, depreciation and profits.  The marketing services required to take the raw material to the next step are also part of marketing marg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derivation of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rther illustration of derived demand from spinners to topmakers is given in the module “Topmaker Pre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derived demand is the time lapse between the purchase of raw material and the delivery of the product on to the store sh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urchase of the raw material is preceded by sample preparation and exhibition cycles (for yarn and fabric), which is a layer of complexity not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such as Just in Time (JIT) and Quick Response (QR) manufacture have placed considerable pressure on these delivery sche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Economic Principles in Wool Marketing” looks at price elasticity of demand for raw wool.  More correctly this should be the price elasticity of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is INELASTIC, i.e. the quantity response to changes in price is less than the change in price.  This is true in the short to medium term, since margins tend to stay steady for a wh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a number of factors which make the demand less responsive to price changes besides the inelasticity of demand for the final product.  Derived demand is inelastic for products like fine suiting, but not true for products like woollen pullov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lasticity of derived demand is affected by factors such as how essential the raw material is to the final product (degree of substitution), the share of the final costs for the raw material (which can become very high and demand becomes more elastic for raw material), and how inelastic (or fixed) is supply of other production factors (eg. substitute fib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dea of the share of final costs of the wool fibre in the end product can be derived from this fig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costs of inputs at each stage of manufacture is given in the module “Value Ad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ed Deman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0" name="text8_4" descr=""/>
          <p:cNvPicPr/>
          <p:nvPr/>
        </p:nvPicPr>
        <p:blipFill>
          <a:blip r:embed="rId1"/>
          <a:stretch/>
        </p:blipFill>
        <p:spPr>
          <a:xfrm>
            <a:off x="1752480" y="847800"/>
            <a:ext cx="6477120" cy="2657520"/>
          </a:xfrm>
          <a:prstGeom prst="rect">
            <a:avLst/>
          </a:prstGeom>
          <a:ln w="0">
            <a:noFill/>
          </a:ln>
        </p:spPr>
      </p:pic>
      <p:pic>
        <p:nvPicPr>
          <p:cNvPr id="51" name="text8_5" descr=""/>
          <p:cNvPicPr/>
          <p:nvPr/>
        </p:nvPicPr>
        <p:blipFill>
          <a:blip r:embed="rId2"/>
          <a:stretch/>
        </p:blipFill>
        <p:spPr>
          <a:xfrm>
            <a:off x="1752480" y="3591000"/>
            <a:ext cx="6477120" cy="2657520"/>
          </a:xfrm>
          <a:prstGeom prst="rect">
            <a:avLst/>
          </a:prstGeom>
          <a:ln w="0">
            <a:noFill/>
          </a:ln>
        </p:spPr>
      </p:pic>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 leads the wa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ation of Demand Scheme</a:t>
            </a:r>
            <a:endParaRPr b="1" lang="en-US" sz="3200" spc="-1" strike="noStrike">
              <a:solidFill>
                <a:srgbClr val="fafd00"/>
              </a:solidFill>
              <a:latin typeface="Arial"/>
            </a:endParaRPr>
          </a:p>
        </p:txBody>
      </p:sp>
      <p:sp>
        <p:nvSpPr>
          <p:cNvPr id="54" name=""/>
          <p:cNvSpPr/>
          <p:nvPr/>
        </p:nvSpPr>
        <p:spPr>
          <a:xfrm>
            <a:off x="626436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pic>
        <p:nvPicPr>
          <p:cNvPr id="55" name="FORW4_1" descr=""/>
          <p:cNvPicPr/>
          <p:nvPr/>
        </p:nvPicPr>
        <p:blipFill>
          <a:blip r:embed="rId1">
            <a:lum contrast="6000"/>
          </a:blip>
          <a:srcRect l="3610" t="0" r="0" b="0"/>
          <a:stretch/>
        </p:blipFill>
        <p:spPr>
          <a:xfrm>
            <a:off x="2743200" y="762120"/>
            <a:ext cx="4419720" cy="546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livery Time Lapse</a:t>
            </a:r>
            <a:endParaRPr b="1" lang="en-US" sz="3200" spc="-1" strike="noStrike">
              <a:solidFill>
                <a:srgbClr val="fafd00"/>
              </a:solidFill>
              <a:latin typeface="Arial"/>
            </a:endParaRPr>
          </a:p>
        </p:txBody>
      </p:sp>
      <p:pic>
        <p:nvPicPr>
          <p:cNvPr id="57" name="Forw4_2R" descr=""/>
          <p:cNvPicPr/>
          <p:nvPr/>
        </p:nvPicPr>
        <p:blipFill>
          <a:blip r:embed="rId1"/>
          <a:srcRect l="1904" t="0" r="1904" b="0"/>
          <a:stretch/>
        </p:blipFill>
        <p:spPr>
          <a:xfrm>
            <a:off x="1295280" y="838080"/>
            <a:ext cx="7696440" cy="5310360"/>
          </a:xfrm>
          <a:prstGeom prst="rect">
            <a:avLst/>
          </a:prstGeom>
          <a:ln w="0">
            <a:noFill/>
          </a:ln>
        </p:spPr>
      </p:pic>
      <p:sp>
        <p:nvSpPr>
          <p:cNvPr id="58" name=""/>
          <p:cNvSpPr/>
          <p:nvPr/>
        </p:nvSpPr>
        <p:spPr>
          <a:xfrm>
            <a:off x="625788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asticty of Derived Demand</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rived demand is pric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to medium ter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s tend to stay stead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mediate margins are squeezed firs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ctors (mor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demand for final product (“market p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essential the raw material is to the final product (eg. suit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maller share of final costs of the raw materi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the supply of other production factors (substitu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63" name="CENT_42" descr=""/>
          <p:cNvPicPr/>
          <p:nvPr/>
        </p:nvPicPr>
        <p:blipFill>
          <a:blip r:embed="rId1"/>
          <a:stretch/>
        </p:blipFill>
        <p:spPr>
          <a:xfrm>
            <a:off x="1371600" y="976320"/>
            <a:ext cx="7543800" cy="4967280"/>
          </a:xfrm>
          <a:prstGeom prst="rect">
            <a:avLst/>
          </a:prstGeom>
          <a:ln w="0">
            <a:noFill/>
          </a:ln>
        </p:spPr>
      </p:pic>
      <p:sp>
        <p:nvSpPr>
          <p:cNvPr id="64"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2:50:02Z</dcterms:created>
  <dc:creator>USER</dc:creator>
  <dc:description/>
  <dc:language>en-US</dc:language>
  <cp:lastModifiedBy>Hdaily</cp:lastModifiedBy>
  <cp:lastPrinted>2000-03-07T03:34:22Z</cp:lastPrinted>
  <dcterms:modified xsi:type="dcterms:W3CDTF">2000-03-31T04:32:13Z</dcterms:modified>
  <cp:revision>2</cp:revision>
  <dc:subject/>
  <dc:title>Derived Demand</dc:title>
</cp:coreProperties>
</file>