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01DCD-6FFF-48DA-ABFB-D2097E64D7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562040" y="533520"/>
            <a:ext cx="3657600" cy="2743200"/>
          </a:xfrm>
          <a:prstGeom prst="rect">
            <a:avLst/>
          </a:prstGeom>
          <a:ln w="0">
            <a:noFill/>
          </a:ln>
        </p:spPr>
      </p:sp>
      <p:sp>
        <p:nvSpPr>
          <p:cNvPr id="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s about the Fibre Direct system for effecting the transfer of wool from the woolgrower to the spinner.  The system is currently aimed at the finer sector of the market, but can be used for other sec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a:t>
            </a:r>
            <a:r>
              <a:rPr b="0" i="1" lang="en-AU" sz="1200" spc="-1" strike="noStrike">
                <a:solidFill>
                  <a:srgbClr val="000000"/>
                </a:solidFill>
                <a:latin typeface="Times New Roman"/>
              </a:rPr>
              <a:t>Large firms usually have the resources to develop and implement technologies that often come from smaller firms.  The recent acquisition of Fibre Direct by Wesfarmers Dalgety is a case in poi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The Wool Industry Future Directions Taskforce (1999) Diversity and Innovation for Australian Wool, Vol. 2, Main Report and Appendices, Commonwealth of Australia</a:t>
            </a:r>
            <a:r>
              <a:rPr b="0" lang="en-AU" sz="1200" spc="-1" strike="noStrike">
                <a:solidFill>
                  <a:srgbClr val="000000"/>
                </a:solidFill>
                <a:latin typeface="Times New Roman"/>
              </a:rPr>
              <a:t> Appendix 8, page 1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quote provides some background to the development and adoption of Fibre Dir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Jim Maple-Brown, Fibre Dir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562040" y="533520"/>
            <a:ext cx="3657600" cy="2743200"/>
          </a:xfrm>
          <a:prstGeom prst="rect">
            <a:avLst/>
          </a:prstGeom>
          <a:ln w="0">
            <a:noFill/>
          </a:ln>
        </p:spPr>
      </p:sp>
      <p:sp>
        <p:nvSpPr>
          <p:cNvPr id="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Jim Maple-Brown, Fibre Dir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Direct is not just another selling option.  It is a technically sound foundation on which to build a better marketing strategy.  It is certain that change is required in the wool industry, and that the industry needs to embrace ch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ed for a new marketing system was seen in 1967.  It was time to adopt the ideas and research coming out of institutions like the University of New South Wales (UNSW), and CSIR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1969, an ex-CSIRO scientist, Harold Carter, who was then working at the Leeds University persuaded Sir James Hill &amp; Sons, a Bradford woolcomber, to participate with Jim Maple-Brown, author of this module, in a combing trial to be under Carter’s control.  The objective of the trial was to demonstrate it was possible to predict accurately, from measurements made on midside samples taken from 4% of the sheep in a mob, the specifications of the top which could be made from all the wool fibre produced by that mob.  The trial was a suc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lst this trial is the origin of the marketing concept developed by Australian Wool Enhancers Limited, now known as the Fibre Direct system, further research and the development of the TEAM formulae have improved the accuracy of the predic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successfully innovate in wool fibre marketing requires a large organisation with adequate capital.  This is mainly for two reasons: 1) the long pipeline from farm to consumer means large stocks must be held, and 2) the wool needs to be drawn from a wide range of environments in order to consistently meet pre-determined fibre specifications.  Cottage industry type, niche marketing initiatives can be valuable for the participants but they cannot improve marketing on an industry wide ba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bre Direct system is now owned and operated by an organisation, Wesfarmers Dalgety Limited, with sufficient size and resources to succeed.  Success is important not only for Wesfarmers Dalgety but for producers and the industry generall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Jim Maple-Brown, Fibre Dir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erious problems for wool fibre originate on the demand side.  Wool has lost the consumer.  Thus, supply side fixes can have little if any effect on prices, especially in the long-te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use of generic promotion to build demand has not been a success for wool.  More and more people are realising that this is a flawed strategy.  There has to be a better w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asic marketing strategy of Fibre Direct focusses on meeting the needs of the consumers.  What they want must dominate the marketing strategy.  Somehow, we must relate the factors of importance to consumers to fibre on the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so, costs must be reduced between the farm and the consumer.  Much can be done by utilising advances in knowledge and technology quickly and efficiently.  An example is the ability to accurately specify wool fibre while it is still on the sheep as this enables the wool to be matched for combing and sold before it is shorn.  This, in turn, reduces handling and transport cost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Jim Maple-Brown, Fibre Dir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cussing on the demand side a bit more, let’s think about making wool more attractive to consumers.  What are the fibre specifications that consumers w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mportant to distinguish between what is important to the consumer and what is important to the processor.  These are not always the same.  The processor is concerned with meeting the specifications of the next-in-line customer as cheaply and efficiently as possi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ere are some examples of how consumer wants can translate into fibre specifi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sumers want comfort, which means fabrics that are light-weight and don’t prickle.  These wants can be satisfied by using low average diameter consignments, containing low numbers of fibres greater than 30</a:t>
            </a:r>
            <a:r>
              <a:rPr b="0" lang="en-AU" sz="1200" spc="-1" strike="noStrike">
                <a:solidFill>
                  <a:srgbClr val="000000"/>
                </a:solidFill>
                <a:latin typeface="Symbol"/>
                <a:ea typeface="Symbol"/>
              </a:rPr>
              <a:t></a:t>
            </a:r>
            <a:r>
              <a:rPr b="0" lang="en-AU" sz="1200" spc="-1" strike="noStrike">
                <a:solidFill>
                  <a:srgbClr val="000000"/>
                </a:solidFill>
                <a:latin typeface="Times New Roman"/>
              </a:rPr>
              <a:t>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sumers want fabrics that retain their appearance over time.  Pilling spoils the appearance of fabrics.  This want can be met by controlling the % of short fibres in the t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consumers want stiffer fabrics (suits for example).  High curvature wool will produce a stiffer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consumers want soft handling, lighter fabric which can be made from low curvature wool.  There are markets for both types of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is needed is a marketing system to identify the end use and product, supply the fibre to meet that product, and include the necessary linkages throughout the processing industry.  Fibre Direct is such a syste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562040" y="533520"/>
            <a:ext cx="3657600" cy="2743200"/>
          </a:xfrm>
          <a:prstGeom prst="rect">
            <a:avLst/>
          </a:prstGeom>
          <a:ln w="0">
            <a:noFill/>
          </a:ln>
        </p:spPr>
      </p:sp>
      <p:sp>
        <p:nvSpPr>
          <p:cNvPr id="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Jim Maple-Brown, Fibre Dir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Direct is only one system among many.  This level of competition is a good thing, for growers and th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Direct is about marketing not selling.  It requires a change in attitudes through  different sectors of the industry.  As far as woolgrowers are concerned, marketing means taking responsibility for what you produce.  Production should be meeting consumers’ nee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uction system acts like a brick wall in an air lock between growers and processors, restricting the flow of the type of information needed by grow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bre Direct system reduces costs along the pipeline in a number of areas.  Freight costs are reduced because wool goes direct from farm to the first stage processor (topmaker).  Accurate adherence to required specifications can also enhance the performance of the fibre through the processing chain.  For example, low coefficient of variation for fibre diameter can reduce breaks during spinning.  Also longer fibre length and low curvature have been found to benefit spinning perform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ce is the mechanism that rationalises supply and demand.  An efficient method of price discovery is beneficial because price signals aren’t distorted.  A futures market in tops, where wool competes with other fibres would enhance price discovery and also facilitate risk management.  A sound basis for such a futures market would be if more people were selling tops.  Fibre Direct is essentially selling to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longer term, any system must lift the value of the fibre in the eyes of the consumer.  The supply of quality assured wool throughout the supply chain can only help this ai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562040" y="533520"/>
            <a:ext cx="3657600" cy="2743200"/>
          </a:xfrm>
          <a:prstGeom prst="rect">
            <a:avLst/>
          </a:prstGeom>
          <a:ln w="0">
            <a:noFill/>
          </a:ln>
        </p:spPr>
      </p:sp>
      <p:sp>
        <p:nvSpPr>
          <p:cNvPr id="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Jim Maple-Brown, Fibre Dir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doption of the Fibre Direct system took about 30 years from the original research.  Slow technology adoption is a feature of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reasons why change is slow in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oth the structure of the industry and the attitudes of the participants act to slow change down rather than speed it up.  For example, the traditional industry structure makes it nearly impossible to redistribute, when necessary any gains associated with the introduction of new methods.  One significant result of this is that even when large overall gains in efficiency are available through using new technology or knowledge it is difficult to implement the new procedure if it disadvantages any one of the powerful industry sectors.  The short term interests of these sectors tend to delay or even block the introduction of more efficient (less costly overall) methods and proced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ality of life for Australian producers is that as far back as the mid 60’s it was clear the wool industry was no longer a major political or economic force in the nation’s affairs and that it would continue to decline, at least in relative terms, as other industries expand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a:r>
            <a:r>
              <a:rPr b="0" lang="en-AU" sz="1200" spc="-1" strike="noStrike">
                <a:solidFill>
                  <a:srgbClr val="000000"/>
                </a:solidFill>
                <a:latin typeface="Times New Roman"/>
              </a:rPr>
              <a:t>Third generation syndrome” means that generations subsequent to successful ones become complacent.  This is evident in every sector of th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562040" y="533520"/>
            <a:ext cx="3657600" cy="2743200"/>
          </a:xfrm>
          <a:prstGeom prst="rect">
            <a:avLst/>
          </a:prstGeom>
          <a:ln w="0">
            <a:noFill/>
          </a:ln>
        </p:spPr>
      </p:sp>
      <p:sp>
        <p:nvSpPr>
          <p:cNvPr id="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ritten by: Jim Maple-Brown, Fibre Direc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is slide is a brief description of the Fibre Direct system.  More information can easily be obtained through WesFarmers Dalgety.</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First of all growers must be accredited by Fibre Direct.  This is to ensure that they can supply well prepared, quality fibre.</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heep must be either crutched or have stain removed within 12 weeks of shearing.  This is absolutely essential to control Dark Fibre counts in the top.</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Mid-side samples are taken 8-10 weeks before shearing using a sampling schedule developed for Fibre Direct by AWTA.  Briefly, 5% of the sheep in the mob or 60 sheep, whichever is greater, are sampled.  Each midside sample must weigh at least 15g giving a minimum total sample weight of 900g.</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Measurements made on the midside sample provide the information for both matching the wool into combing lots and providing a basis for the Fibre Direct price offer to the grower.   Whilst some of the measurements such as fibre diameter may vary when the measurements made on cores taken from the bales are available, the prediction made for the average fibre diameter of the top are nearly always accurate due to the effect of averaging over a number of farm lots.  Nearly everything to do with wool involves averages.  Thus, most Fibre Direct combing lots contain at least 15 farm lot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Growers are not tied to Fibre Direct system until they accept a price and agree to deliver the wool to Fibre Direct.  This can happen at any time between midside sampling and shearing.  In a sense it is a forward sale.</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Fibre Direct clip preparation procedures are based on fibre specifications unlike the traditional system which is based on fleece and staple characteristics.  Therefore the Fibre Direct system is different and simpler.  The fleece is left intact, fleece, skirtings, bellies and locks are left together because, not surprisingly, they all contain fibres of similar specifications.  As Fibre Direct is preparing wool for topmaking, not selling at auction, part of the blending can be done in the shearing shed.</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t shearing the bales shorn from each Fibre Direct mob are core tested.  The minimum weight of sample is 800g and this is normally achieved with a minimum of 36 hand cores.  The final price is determined when the measurements made on the cores are available.</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price of tops is negotiated between Wesfarmers Dalgety and the spinner.  The involvement of Wesfarmers Dalgety gives growers confidence in the financial integrity of the system.</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562040" y="533520"/>
            <a:ext cx="3657600" cy="2743200"/>
          </a:xfrm>
          <a:prstGeom prst="rect">
            <a:avLst/>
          </a:prstGeom>
          <a:ln w="0">
            <a:noFill/>
          </a:ln>
        </p:spPr>
      </p:sp>
      <p:sp>
        <p:nvSpPr>
          <p:cNvPr id="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Jim Maple-Brown, Fibre Dir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n example of a Fibre Direct combing l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12 farm lots in the consignment.  The average number of bales per farm lot is 30.  At auction, this average is 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easurements from the mid-sides for each of these farm lots are used to predict the processing performance of the consignment.  The actual results are very close to this prediction.  Increased farm lot size and the use of mid-side results offer no restriction to confident predi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luations for individual growers under the Fibre Direct system are based on mid-side samples (to predict the amount of noil and top from each farm lot using TEAM 2), and core tests to determine the final yield, fibre diameter and V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luations are based on the actual prices received when the top and noil are sold (value of top and value of noil).  The value of the top will also include the cost of comb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nal valuation provides feedback through comparison with the Fibre Direct Indicator (FDI).  This indicator is based on the Eastern Market Indicator (EMI) but varies slightly in its make-up to reflect the fact that the whole fleece (including bellies and locks) is used in the Fibre Direct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DI reflects the price for wools with average Romaine (ratio of top to noil) for the fibre diameter.  Wools with a predicted performance which is either better or worse than average are valued accordingly.  A relatively small variation in Romaine can have a significant effect on the clean price per kg. because noil generally sells for much less than top - 1/3 to 1/5 the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wo major determinants of Romaine are staple strength and VM% and they are both related to the management of the mob.  It follows that this information can be important to improving farm management practic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Jim Maple-Brown, Fibre Dir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is the future of Fibre Dir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istorically, Australian Fibre Enhancers (AWE) handled 12,000 to 14,000 bales per selling season (July 1 to June 30).  In the present season, the first full season under control of Wesfarmers Dalgety, it is currently (October 1999) predicted the system will handle about 70,000 b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tention is to build the system to between 200,000 to 300,000 bales per year over the next 3 to 4 years (approx. 10% of the cl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bre Direct system of marketing fits in well with a forward selling strategy for establishing price.  If the industry is to be a reliable supplier to processors and manufacturers then it is important growers divorce the pricing of wool from its physical delivery.  In other words they price their wool for 12 months of the year but most deliver wool only once or twice a year.  Today growers should hedge at least half their clip as a means of reducing the increasing volatility in the market pla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Direc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Jim Maple-Brown, Fibre Direc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709760" y="6507000"/>
            <a:ext cx="1358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im Maple-Brow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istory</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velop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SW and CSIRO work in 1960’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ustralian Wool Enhancer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pply Chain Linkag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arge organisation need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de supply area</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ssociation with WesFarmers Dalget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reater capitalisa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nefits to growe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7709760" y="6507000"/>
            <a:ext cx="1358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im Maple-Brown</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Direct Marketing Strategy</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ke wool more attractive to consum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sing fibre specification to better meet their needs</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duce costs between farm and consum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mplementing advances in knowledge &amp; technology quickly and efficientl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sumer Demand</a:t>
            </a:r>
            <a:endParaRPr b="1" lang="en-US" sz="3200" spc="-1" strike="noStrike">
              <a:solidFill>
                <a:srgbClr val="fafd00"/>
              </a:solidFill>
              <a:latin typeface="Arial"/>
            </a:endParaRPr>
          </a:p>
        </p:txBody>
      </p:sp>
      <p:sp>
        <p:nvSpPr>
          <p:cNvPr id="56"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Want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for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on-prickl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ight weight fabric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ppearanc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on-pilling knitwear</a:t>
            </a:r>
            <a:endParaRPr b="1" lang="en-US" sz="20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ructured fabric</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oft Handle</a:t>
            </a:r>
            <a:endParaRPr b="1" lang="en-US" sz="2400" spc="-1" strike="noStrike">
              <a:solidFill>
                <a:srgbClr val="ffffff"/>
              </a:solidFill>
              <a:latin typeface="Arial"/>
            </a:endParaRPr>
          </a:p>
        </p:txBody>
      </p:sp>
      <p:sp>
        <p:nvSpPr>
          <p:cNvPr id="57" name="PlaceHolder 3"/>
          <p:cNvSpPr>
            <a:spLocks noGrp="1"/>
          </p:cNvSpPr>
          <p:nvPr>
            <p:ph/>
          </p:nvPr>
        </p:nvSpPr>
        <p:spPr>
          <a:xfrm>
            <a:off x="4876560" y="990360"/>
            <a:ext cx="419076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Fibre Specificati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verage fibre diamete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fibres &gt;30</a:t>
            </a:r>
            <a:r>
              <a:rPr b="1" lang="en-AU" sz="2400" spc="-1" strike="noStrike">
                <a:solidFill>
                  <a:srgbClr val="ffffff"/>
                </a:solidFill>
                <a:latin typeface="Symbol"/>
                <a:ea typeface="Symbol"/>
              </a:rPr>
              <a:t></a:t>
            </a:r>
            <a:r>
              <a:rPr b="1" lang="en-AU" sz="2400" spc="-1" strike="noStrike">
                <a:solidFill>
                  <a:srgbClr val="ffffff"/>
                </a:solidFill>
                <a:latin typeface="Arial"/>
              </a:rPr>
              <a:t>m</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short fibres in top</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curvatur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w curvature</a:t>
            </a:r>
            <a:endParaRPr b="1" lang="en-US" sz="2400" spc="-1" strike="noStrike">
              <a:solidFill>
                <a:srgbClr val="ffffff"/>
              </a:solidFill>
              <a:latin typeface="Arial"/>
            </a:endParaRPr>
          </a:p>
        </p:txBody>
      </p:sp>
      <p:sp>
        <p:nvSpPr>
          <p:cNvPr id="58" name=""/>
          <p:cNvSpPr/>
          <p:nvPr/>
        </p:nvSpPr>
        <p:spPr>
          <a:xfrm>
            <a:off x="7709760" y="6507000"/>
            <a:ext cx="1358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im Maple-Brow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
          <p:cNvSpPr/>
          <p:nvPr/>
        </p:nvSpPr>
        <p:spPr>
          <a:xfrm>
            <a:off x="7709760" y="6507000"/>
            <a:ext cx="1358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im Maple-Brown</a:t>
            </a:r>
            <a:endParaRPr b="0" lang="en-US" sz="1200" spc="-1" strike="noStrike">
              <a:solidFill>
                <a:srgbClr val="000000"/>
              </a:solidFill>
              <a:latin typeface="Times New Roman"/>
            </a:endParaRPr>
          </a:p>
        </p:txBody>
      </p:sp>
      <p:sp>
        <p:nvSpPr>
          <p:cNvPr id="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Benefits of Fibre Direct</a:t>
            </a:r>
            <a:endParaRPr b="1" lang="en-US" sz="3200" spc="-1" strike="noStrike">
              <a:solidFill>
                <a:srgbClr val="fafd00"/>
              </a:solidFill>
              <a:latin typeface="Arial"/>
            </a:endParaRPr>
          </a:p>
        </p:txBody>
      </p:sp>
      <p:sp>
        <p:nvSpPr>
          <p:cNvPr id="6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rketing instead of sell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lating production to consumers need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uch improved information flow up &amp; down the wool pipelin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n reduce costs all along the pipelin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acilitates risk management</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nger term must lift the value in consumers ey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Difficulties</a:t>
            </a:r>
            <a:endParaRPr b="1" lang="en-US" sz="3200" spc="-1" strike="noStrike">
              <a:solidFill>
                <a:srgbClr val="fafd00"/>
              </a:solidFill>
              <a:latin typeface="Arial"/>
            </a:endParaRPr>
          </a:p>
        </p:txBody>
      </p:sp>
      <p:sp>
        <p:nvSpPr>
          <p:cNvPr id="6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low uptake of research finding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technology adop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titudes to chang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rower reluctance to face the “realities of life” </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Third generation syndrom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very sector of the industry</a:t>
            </a:r>
            <a:endParaRPr b="1" lang="en-US" sz="2400" spc="-1" strike="noStrike">
              <a:solidFill>
                <a:srgbClr val="ffffff"/>
              </a:solidFill>
              <a:latin typeface="Arial"/>
            </a:endParaRPr>
          </a:p>
        </p:txBody>
      </p:sp>
      <p:sp>
        <p:nvSpPr>
          <p:cNvPr id="64" name=""/>
          <p:cNvSpPr/>
          <p:nvPr/>
        </p:nvSpPr>
        <p:spPr>
          <a:xfrm>
            <a:off x="7709760" y="6507000"/>
            <a:ext cx="1358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im Maple-Brow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ibre Direct Operations</a:t>
            </a:r>
            <a:endParaRPr b="1" lang="en-US" sz="3200" spc="-1" strike="noStrike">
              <a:solidFill>
                <a:srgbClr val="fafd00"/>
              </a:solidFill>
              <a:latin typeface="Arial"/>
            </a:endParaRPr>
          </a:p>
        </p:txBody>
      </p:sp>
      <p:sp>
        <p:nvSpPr>
          <p:cNvPr id="66" name="PlaceHolder 2"/>
          <p:cNvSpPr>
            <a:spLocks noGrp="1"/>
          </p:cNvSpPr>
          <p:nvPr>
            <p:ph/>
          </p:nvPr>
        </p:nvSpPr>
        <p:spPr>
          <a:xfrm>
            <a:off x="1295280" y="1066680"/>
            <a:ext cx="3810240" cy="4114800"/>
          </a:xfrm>
          <a:prstGeom prst="rect">
            <a:avLst/>
          </a:prstGeom>
          <a:noFill/>
          <a:ln w="0">
            <a:noFill/>
          </a:ln>
        </p:spPr>
        <p:txBody>
          <a:bodyPr lIns="90000" rIns="90000" tIns="46800" bIns="46800" anchor="t">
            <a:normAutofit fontScale="95000"/>
          </a:bodyPr>
          <a:p>
            <a:pPr marL="325800" indent="-325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utching</a:t>
            </a:r>
            <a:endParaRPr b="1" lang="en-US" sz="2400" spc="-1" strike="noStrike">
              <a:solidFill>
                <a:srgbClr val="ffffff"/>
              </a:solidFill>
              <a:latin typeface="Arial"/>
            </a:endParaRPr>
          </a:p>
          <a:p>
            <a:pPr lvl="1" marL="705600" indent="-2714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 weeks out</a:t>
            </a:r>
            <a:endParaRPr b="1" lang="en-US" sz="2000" spc="-1" strike="noStrike">
              <a:solidFill>
                <a:srgbClr val="ffffff"/>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d-side sampling</a:t>
            </a:r>
            <a:endParaRPr b="1" lang="en-US" sz="2400" spc="-1" strike="noStrike">
              <a:solidFill>
                <a:srgbClr val="ffffff"/>
              </a:solidFill>
              <a:latin typeface="Arial"/>
            </a:endParaRPr>
          </a:p>
          <a:p>
            <a:pPr lvl="1" marL="705600" indent="-2714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10 weeks out</a:t>
            </a:r>
            <a:endParaRPr b="1" lang="en-US" sz="2000" spc="-1" strike="noStrike">
              <a:solidFill>
                <a:srgbClr val="ffffff"/>
              </a:solidFill>
              <a:latin typeface="Arial"/>
            </a:endParaRPr>
          </a:p>
          <a:p>
            <a:pPr lvl="1" marL="705600" indent="-2714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WTA sampling</a:t>
            </a:r>
            <a:endParaRPr b="1" lang="en-US" sz="2000" spc="-1" strike="noStrike">
              <a:solidFill>
                <a:srgbClr val="ffffff"/>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ce offer from Fibre Direct</a:t>
            </a:r>
            <a:endParaRPr b="1" lang="en-US" sz="2400" spc="-1" strike="noStrike">
              <a:solidFill>
                <a:srgbClr val="ffffff"/>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ower acceptance</a:t>
            </a:r>
            <a:endParaRPr b="1" lang="en-US" sz="2400" spc="-1" strike="noStrike">
              <a:solidFill>
                <a:srgbClr val="ffffff"/>
              </a:solidFill>
              <a:latin typeface="Arial"/>
            </a:endParaRPr>
          </a:p>
          <a:p>
            <a:pPr lvl="1" marL="705600" indent="-2714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e FORWARD SELLING</a:t>
            </a:r>
            <a:endParaRPr b="1" lang="en-US" sz="20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3"/>
          <p:cNvSpPr>
            <a:spLocks noGrp="1"/>
          </p:cNvSpPr>
          <p:nvPr>
            <p:ph/>
          </p:nvPr>
        </p:nvSpPr>
        <p:spPr>
          <a:xfrm>
            <a:off x="5257440" y="1066680"/>
            <a:ext cx="3809880" cy="4114800"/>
          </a:xfrm>
          <a:prstGeom prst="rect">
            <a:avLst/>
          </a:prstGeom>
          <a:noFill/>
          <a:ln w="0">
            <a:noFill/>
          </a:ln>
        </p:spPr>
        <p:txBody>
          <a:bodyPr lIns="90000" rIns="90000" tIns="46800" bIns="46800" anchor="t">
            <a:normAutofit fontScale="96000"/>
          </a:bodyPr>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earing</a:t>
            </a:r>
            <a:endParaRPr b="1" lang="en-US" sz="24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ylon packs</a:t>
            </a:r>
            <a:endParaRPr b="1" lang="en-US" sz="20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p preparation</a:t>
            </a:r>
            <a:endParaRPr b="1" lang="en-US" sz="20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ing</a:t>
            </a:r>
            <a:endParaRPr b="1" lang="en-US" sz="24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site</a:t>
            </a:r>
            <a:endParaRPr b="1" lang="en-US" sz="20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nd core supplied</a:t>
            </a:r>
            <a:endParaRPr b="1" lang="en-US" sz="20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yment</a:t>
            </a:r>
            <a:endParaRPr b="1" lang="en-US" sz="24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sed on core tests</a:t>
            </a:r>
            <a:endParaRPr b="1" lang="en-US" sz="20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weeks after consigning</a:t>
            </a:r>
            <a:endParaRPr b="1" lang="en-US" sz="2000" spc="-1" strike="noStrike">
              <a:solidFill>
                <a:srgbClr val="ffffff"/>
              </a:solidFill>
              <a:latin typeface="Arial"/>
            </a:endParaRPr>
          </a:p>
        </p:txBody>
      </p:sp>
      <p:sp>
        <p:nvSpPr>
          <p:cNvPr id="68" name=""/>
          <p:cNvSpPr/>
          <p:nvPr/>
        </p:nvSpPr>
        <p:spPr>
          <a:xfrm>
            <a:off x="7709760" y="6507000"/>
            <a:ext cx="1358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im Maple-Brow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xample of a Consignment</a:t>
            </a:r>
            <a:endParaRPr b="1" lang="en-US" sz="3200" spc="-1" strike="noStrike">
              <a:solidFill>
                <a:srgbClr val="fafd00"/>
              </a:solidFill>
              <a:latin typeface="Arial"/>
            </a:endParaRPr>
          </a:p>
        </p:txBody>
      </p:sp>
      <p:sp>
        <p:nvSpPr>
          <p:cNvPr id="70"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bing Lot 502</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2 farm lot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0 bales / lot av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nges</a:t>
            </a:r>
            <a:endParaRPr b="1" lang="en-US" sz="24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yield</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54.2 - 70.1%</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iameter</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20.2 - 21.6</a:t>
            </a:r>
            <a:r>
              <a:rPr b="1" lang="en-AU" sz="1800" spc="-1" strike="noStrike">
                <a:solidFill>
                  <a:srgbClr val="ffffff"/>
                </a:solidFill>
                <a:latin typeface="Symbol"/>
                <a:ea typeface="Symbol"/>
              </a:rPr>
              <a:t></a:t>
            </a:r>
            <a:r>
              <a:rPr b="1" lang="en-AU" sz="1800" spc="-1" strike="noStrike">
                <a:solidFill>
                  <a:srgbClr val="ffffff"/>
                </a:solidFill>
                <a:latin typeface="Arial"/>
              </a:rPr>
              <a:t>m</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VM base (seed)</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0.9 - 4.6% (0.5 - 2.9)</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L</a:t>
            </a:r>
            <a:r>
              <a:rPr b="1" lang="en-AU" sz="1800" spc="-1" strike="noStrike">
                <a:solidFill>
                  <a:srgbClr val="ffffff"/>
                </a:solidFill>
                <a:latin typeface="Arial"/>
              </a:rPr>
              <a:t>	</a:t>
            </a:r>
            <a:r>
              <a:rPr b="1" lang="en-AU" sz="1800" spc="-1" strike="noStrike">
                <a:solidFill>
                  <a:srgbClr val="ffffff"/>
                </a:solidFill>
                <a:latin typeface="Arial"/>
              </a:rPr>
              <a:t>78 - 109mm</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S</a:t>
            </a:r>
            <a:r>
              <a:rPr b="1" lang="en-AU" sz="1800" spc="-1" strike="noStrike">
                <a:solidFill>
                  <a:srgbClr val="ffffff"/>
                </a:solidFill>
                <a:latin typeface="Arial"/>
              </a:rPr>
              <a:t>	</a:t>
            </a:r>
            <a:r>
              <a:rPr b="1" lang="en-AU" sz="1800" spc="-1" strike="noStrike">
                <a:solidFill>
                  <a:srgbClr val="ffffff"/>
                </a:solidFill>
                <a:latin typeface="Arial"/>
              </a:rPr>
              <a:t>30 - 48 N/ktex</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idbrk</a:t>
            </a:r>
            <a:r>
              <a:rPr b="1" lang="en-AU" sz="1800" spc="-1" strike="noStrike">
                <a:solidFill>
                  <a:srgbClr val="ffffff"/>
                </a:solidFill>
                <a:latin typeface="Arial"/>
              </a:rPr>
              <a:t>	</a:t>
            </a:r>
            <a:r>
              <a:rPr b="1" lang="en-AU" sz="1800" spc="-1" strike="noStrike">
                <a:solidFill>
                  <a:srgbClr val="ffffff"/>
                </a:solidFill>
                <a:latin typeface="Arial"/>
              </a:rPr>
              <a:t>7 - 70%</a:t>
            </a:r>
            <a:endParaRPr b="1" lang="en-US" sz="1800" spc="-1" strike="noStrike">
              <a:solidFill>
                <a:srgbClr val="ffffff"/>
              </a:solidFill>
              <a:latin typeface="Arial"/>
            </a:endParaRPr>
          </a:p>
        </p:txBody>
      </p:sp>
      <p:sp>
        <p:nvSpPr>
          <p:cNvPr id="71"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edicted</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actual</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auteur</a:t>
            </a:r>
            <a:endParaRPr b="1"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79mm</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77mm</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VH</a:t>
            </a:r>
            <a:endParaRPr b="1"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4%</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41%</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omaine</a:t>
            </a:r>
            <a:endParaRPr b="1"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6%</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9.2%</a:t>
            </a:r>
            <a:endParaRPr b="1" lang="en-US" sz="2000" spc="-1" strike="noStrike">
              <a:solidFill>
                <a:srgbClr val="ffffff"/>
              </a:solidFill>
              <a:latin typeface="Arial"/>
            </a:endParaRPr>
          </a:p>
        </p:txBody>
      </p:sp>
      <p:sp>
        <p:nvSpPr>
          <p:cNvPr id="72" name=""/>
          <p:cNvSpPr/>
          <p:nvPr/>
        </p:nvSpPr>
        <p:spPr>
          <a:xfrm>
            <a:off x="4258440" y="6507000"/>
            <a:ext cx="4894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Fibre Direct Combing Lot info courtesy of Mr. J. Maple-Brow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Future</a:t>
            </a:r>
            <a:endParaRPr b="1" lang="en-US" sz="3200" spc="-1" strike="noStrike">
              <a:solidFill>
                <a:srgbClr val="fafd00"/>
              </a:solidFill>
              <a:latin typeface="Arial"/>
            </a:endParaRPr>
          </a:p>
        </p:txBody>
      </p:sp>
      <p:sp>
        <p:nvSpPr>
          <p:cNvPr id="7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rategic Pla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WE</a:t>
            </a:r>
            <a:r>
              <a:rPr b="1" lang="en-AU" sz="2400" spc="-1" strike="noStrike">
                <a:solidFill>
                  <a:srgbClr val="ffffff"/>
                </a:solidFill>
                <a:latin typeface="Arial"/>
              </a:rPr>
              <a:t>	</a:t>
            </a:r>
            <a:r>
              <a:rPr b="1" lang="en-AU" sz="2400" spc="-1" strike="noStrike">
                <a:solidFill>
                  <a:srgbClr val="ffffff"/>
                </a:solidFill>
                <a:latin typeface="Arial"/>
              </a:rPr>
              <a:t>12,000 to 14,000 bal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 Direct 70,000 bale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st year</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uild to 200,000 to 300,000 bale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3 to 4 years</a:t>
            </a:r>
            <a:endParaRPr b="1"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rward selling is vital</a:t>
            </a:r>
            <a:endParaRPr b="1" lang="en-US" sz="2800" spc="-1" strike="noStrike">
              <a:solidFill>
                <a:srgbClr val="ffffff"/>
              </a:solidFill>
              <a:latin typeface="Arial"/>
            </a:endParaRPr>
          </a:p>
        </p:txBody>
      </p:sp>
      <p:sp>
        <p:nvSpPr>
          <p:cNvPr id="75" name=""/>
          <p:cNvSpPr/>
          <p:nvPr/>
        </p:nvSpPr>
        <p:spPr>
          <a:xfrm>
            <a:off x="7709760" y="6507000"/>
            <a:ext cx="1358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im Maple-Brow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2T04:39:05Z</dcterms:created>
  <dc:creator>USER</dc:creator>
  <dc:description/>
  <dc:language>en-US</dc:language>
  <cp:lastModifiedBy>Hdaily</cp:lastModifiedBy>
  <cp:lastPrinted>2000-02-03T09:09:47Z</cp:lastPrinted>
  <dcterms:modified xsi:type="dcterms:W3CDTF">2000-03-31T06:50:16Z</dcterms:modified>
  <cp:revision>2</cp:revision>
  <dc:subject/>
  <dc:title>Fibre Direct</dc:title>
</cp:coreProperties>
</file>