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3DD5-4FCD-4E0F-A631-5C47C3B33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glimpse at how an Australian garment company is successfully selling wool following niche marketing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r. Peter Sykes, Managing Director, Woolaby Australia, Bowral,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future for Wool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continue to concentrate on our core business of supplying Rugby-style jumpers to customers.  Repeat customers are a very important part of this bus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pportunities overseas if we can solve some distribution and price point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products are an important part of any business, and the year 2000 will see the launch of a number of new products from Wool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teresting development is the growth of the Internet.  We can see opportunities here for e-commerce (business to customer), but also business to business commerce can be improved via the Intern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recommended that as many inflation points between the producer and the consumer are eliminated as possible.  We at Woolaby are pleased to be able to say that the arrangement we have with Elders is achieving this n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or the issue of “market failure”, we see that there is a need for wool to have an international presence.  In this way, access to some of the major designers and brand names can be facilit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mily behind Woolaby has been growing wool since 1798 when an ancestor, William Sykes  was assigned to John Macarthur.  After being pardoned in 1811, this man established a farm in Southern NSW near Appin upon which he established a successful woolgrow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scendants of William Sykes still own the farm but now value add to wool.  Initially we looked at processing clip to top stage.  We decided this was not v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we did see opportunities at the garment stage.  Selling wool at this stage carries the highest risks, but also yields the greatest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want lightweight, easy care, machine washable garments.  We had to come up with something different to satisfy these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knew rugby jumpers were made from wool 40yrs ago, but with new technologies this could be achieved again, but with better products.  Rugby jumpers are also unisex, and agel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est marketed different fibre blends, starting with 60% wool 40% acrylic, then 80% wool and 20% nylon, but we settled on pur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in September 1994 we took delivery of 140 garments made to our specifications.   38 of this first production went to France with the Wallabies, the Australian senior Rugby Union tea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development work, we found it just about impossible to find two batches of top or yarn with the same performance.  One batch might be OK, but the next yarn batch performed the opposite, giving uneven fabrics with holes formed during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as happening?  We analysed fibres from garments and yarn keepers.  We found they had roughly the same micron and other traditional specifications, BUT we found marked differences in fibre curv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st performing sweaters contained low curvature fibres, while the worst performing sweaters contained traditional high crimping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found that low curvature wools reduced fabric pilling performance by 40%, gave more even dyeing results, produced more even yarns (reduction in thick and thin places), and produced garments with a better handle.  The yarns supplied to us also had to meet the machine washability and comfort factors important to our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velopment work and our other requirements formed the basis for the Agreement with Quality Soft Wool to procure SRS™  type wools for our yarn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Soft Wool is a subsidiary of Elders.  They organise the purchase of wool through their clients who grow elite wool, organise the processing to top, including Superwash, and the spinning and dyeing to Woolaby colours.  Importantly for our supply requirements, they hold up to 2,000 to 3,000 of each colour in the Elder’s warehouse.  Delivery is next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this structure, the time to get yarn could be 8-16 weeks.  This included undertaking all processing in Australia (AusTop, Riverina Wool Combing, Wangaratta for spinning).  Before this agreement it was cheaper and quicker to ring Germany (including Airfr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believe this is one of the most innovative changes in supply chain management in the wool indus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y Woolaby sells to 130 retailers throughout Australia.  We also supply corporations, and the duty free / tourist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mail order business handles about 30,000 mail orders annu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had dealings through a wholesaler with overseas (OS) department stores (UK), but this arrangement was unable to deliver product at a saleable price point.  In the future we will be dealing directly with OS department stores, after negotiating an acceptable price.  Of course exchange rate fluctuations will always be a worry with this type of tra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aby guarantees the quality of our products, otherwise the customer gets their money back, no questions asked.  Therefore the quality of the wool we use must be good.  Elders sources specific wools directly from the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vides opportunities for the woolgrower, whereas in the past there has been a lack of attention to quality.  Growers can utilise these new opportunities through meeting our specifications (curvature etc.).  We certainly believe that “wools aren’t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make forward sales to Elders.  Therefore growers must have a business plan as other industries or people do.  They must assess the opportunities and weaknesses of their business.  They should certainly know their costs of production (CoP) to sell wool in this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Soft Wool offers bonus cheques to growers for better quality and performance.  Each lot is predicted to perform to a certain level during processing (say, the predicted spinning loss is 10%).  If the lot achieves a 6% spinning loss, then the improvement in processing performance is split between the processor and the grower.  This is an incentive for growers to improve their operations and supply quality wool.  It is also the most desired form of feedback to the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all the scheme lets the grower ask the question: “What is my wool best suited for?”.  There is an opportunity to target market segments.  Growers could have their clip going to several different market area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Royal Easter Show, there are many people trying to sell similar products to Woolaby.  We have found that the Woolaby name is synonymous with wool Rugby-type swea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aintain that identification we know we have to keep doing a number of things.  We must keep very high quality to maintain market share.  We must be looking continually at ways to improve.  We must be innovative, to keep one step ahead of others in market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aby mission is to have a ‘Woolaby’ in every home.  We must also maintain a repeat customer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some overseas outlets, but we would like to get into the US market.  We know products for this market must be machine washable and be able to be tumble dr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macroeconomics are concerned, the exchange rate could make Woolaby garments too expense in overseas markets.  However, the opportunities for overseas expansion are endl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Elders aren’t a charity organisation.  There is something in it for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participating in this scheme, Elders appear to growers as innovative and interactive, paying woolgrowers a premium for particular types of wool.  They are also offering another selling option to their cli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hings can help Elders increase their client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ders have invested in AusTop.  Therefore processing at this facility increases the utilisation of that inves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usage of their storage facilities can be boosted, again increasing the utilisation of their inves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liance must benefit all the participants to succe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look at the arrangement with Elders in a bit mor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aw material is yarn which is sourced from Elders.  They look after everything up to the yarn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w wool is purchased to meet Woolaby specifications.  The raw wool is combed at AusTop in Parkes, and then receives a Superwash treatment at Riverina Wool Combing in Wagga Wagga.  The tops are converted into yarn in Wangarat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s are dyed to match the Woolaby colours, and are held in storage by Elders until we want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we take delivery of the yarn, it is converted into knitted fabric and garments in our factory in Mittagong in Southern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rrangement means that Elders have assumed a lot of the risk for us (e.g. wrong specifications etc.), and we are willing to pay for this serv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ccess of this arrangement can be seen in our yarn specifications and yarn costs.  In three years, the mean fibre diameter in our yarns has come down 1.5</a:t>
            </a:r>
            <a:r>
              <a:rPr b="0" lang="en-GB" sz="1200" spc="-1" strike="noStrike">
                <a:solidFill>
                  <a:srgbClr val="000000"/>
                </a:solidFill>
                <a:latin typeface="Symbol"/>
                <a:ea typeface="Symbol"/>
              </a:rPr>
              <a:t></a:t>
            </a:r>
            <a:r>
              <a:rPr b="0" lang="en-GB" sz="1200" spc="-1" strike="noStrike">
                <a:solidFill>
                  <a:srgbClr val="000000"/>
                </a:solidFill>
                <a:latin typeface="Times New Roman"/>
              </a:rPr>
              <a:t>m, BUT yarn costs have also been reduced from $33/kg to $29.50/kg.  This is the the result of supply chain marketing set in place between Woolaby and El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aby are continually looking at product specifications such as colours and styles to meet market opportun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be introducing a new range of knitwear in a sweater style that is machine washable and soft.  We are looking at wool jeans and trousers made from 70% cotton and 30% wool.  In the year 2000 we will introduce an ultra-fine knitwear range, that is cashmere-like in its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ore business is Rugby style garments, that account for between 75-85% of our bus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s which are made into our yarns are specified on fibre measurements.  The question could be asked: Are there enough measurements at the moment for raw wool to be purchased solely on description to meet our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swer is “no”.  More measurement (e.g. fibre curvature) is needed before Sale by “accurate” Description is possible.  These measurements are needed to properly assess wool for particular market ni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nimum requirements for “accurate” description would be all the traditional measurements PLUS SS, SL, POB and fibre curvature.  This is what we are using n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grower level, production can improve with measurements such as curvature, fibre density, and staple definition.  These measurements can be used to improve breeding strateg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iche Marketing:</a:t>
            </a:r>
            <a:br>
              <a:rPr sz="3200"/>
            </a:br>
            <a:r>
              <a:rPr b="1" lang="en-GB" sz="3200" spc="-1" strike="noStrike">
                <a:solidFill>
                  <a:srgbClr val="fafd00"/>
                </a:solidFill>
                <a:latin typeface="Arial"/>
              </a:rPr>
              <a:t>The Woolaby Experienc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r. Peter Sykes, Woolaby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Future</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e busine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peat custom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seas opportunit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w produc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rne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commer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siness to busines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skforce recommend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e many of the inflation points</a:t>
            </a:r>
            <a:endParaRPr b="1" lang="en-US" sz="2400" spc="-1" strike="noStrike">
              <a:solidFill>
                <a:srgbClr val="ffffff"/>
              </a:solidFill>
              <a:latin typeface="Arial"/>
            </a:endParaRPr>
          </a:p>
        </p:txBody>
      </p:sp>
      <p:sp>
        <p:nvSpPr>
          <p:cNvPr id="76"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History of Woolab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4648320" cy="5181840"/>
          </a:xfrm>
          <a:prstGeom prst="rect">
            <a:avLst/>
          </a:prstGeom>
          <a:noFill/>
          <a:ln w="0">
            <a:noFill/>
          </a:ln>
        </p:spPr>
        <p:txBody>
          <a:bodyPr lIns="90000" rIns="90000" tIns="46800" bIns="46800" anchor="t">
            <a:normAutofit fontScale="99000"/>
          </a:bodyPr>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lue add to clip</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top-making</a:t>
            </a:r>
            <a:endParaRPr b="1" lang="en-US" sz="24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portunit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s</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at rewards, great risk</a:t>
            </a:r>
            <a:endParaRPr b="1" lang="en-US" sz="2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at do consumers wan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 easy-care, machine washable</a:t>
            </a:r>
            <a:endParaRPr b="1" lang="en-US" sz="24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roduc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research</a:t>
            </a:r>
            <a:endParaRPr b="1" lang="en-US" sz="2400" spc="-1" strike="noStrike">
              <a:solidFill>
                <a:srgbClr val="ffffff"/>
              </a:solidFill>
              <a:latin typeface="Arial"/>
            </a:endParaRPr>
          </a:p>
        </p:txBody>
      </p:sp>
      <p:pic>
        <p:nvPicPr>
          <p:cNvPr id="51" name="WOOLABY" descr=""/>
          <p:cNvPicPr/>
          <p:nvPr/>
        </p:nvPicPr>
        <p:blipFill>
          <a:blip r:embed="rId1"/>
          <a:stretch/>
        </p:blipFill>
        <p:spPr>
          <a:xfrm>
            <a:off x="5821200" y="838080"/>
            <a:ext cx="3170520" cy="5410440"/>
          </a:xfrm>
          <a:prstGeom prst="rect">
            <a:avLst/>
          </a:prstGeom>
          <a:ln w="0">
            <a:noFill/>
          </a:ln>
        </p:spPr>
      </p:pic>
      <p:sp>
        <p:nvSpPr>
          <p:cNvPr id="52"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blems addres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ch uniform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analy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 specific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utco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Soft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ly problem/answ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st in ti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ly chain management</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o are our Customer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stralian retail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uty free/tourist marke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porate ord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ver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orting group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l ord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S department stores</a:t>
            </a:r>
            <a:endParaRPr b="1" lang="en-US" sz="2800" spc="-1" strike="noStrike">
              <a:solidFill>
                <a:srgbClr val="ffffff"/>
              </a:solidFill>
              <a:latin typeface="Arial"/>
            </a:endParaRPr>
          </a:p>
        </p:txBody>
      </p:sp>
      <p:sp>
        <p:nvSpPr>
          <p:cNvPr id="58"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nefit to Grower</a:t>
            </a:r>
            <a:endParaRPr b="1" lang="en-US" sz="3200" spc="-1" strike="noStrike">
              <a:solidFill>
                <a:srgbClr val="fafd00"/>
              </a:solidFill>
              <a:latin typeface="Arial"/>
            </a:endParaRPr>
          </a:p>
        </p:txBody>
      </p:sp>
      <p:sp>
        <p:nvSpPr>
          <p:cNvPr id="60" name="PlaceHolder 2"/>
          <p:cNvSpPr>
            <a:spLocks noGrp="1"/>
          </p:cNvSpPr>
          <p:nvPr>
            <p:ph/>
          </p:nvPr>
        </p:nvSpPr>
        <p:spPr>
          <a:xfrm>
            <a:off x="1294920" y="838080"/>
            <a:ext cx="70866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uality enhance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ward/direct sa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ge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nus pay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better than expected processing perform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Direct incentive to produce for specific end market</a:t>
            </a:r>
            <a:endParaRPr b="1" lang="en-US" sz="2800" spc="-1" strike="noStrike">
              <a:solidFill>
                <a:srgbClr val="ffffff"/>
              </a:solidFill>
              <a:latin typeface="Arial"/>
            </a:endParaRPr>
          </a:p>
        </p:txBody>
      </p:sp>
      <p:sp>
        <p:nvSpPr>
          <p:cNvPr id="61"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the Competition?</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arel of similar desig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aby br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local competi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ricultural show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ntain advant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nov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seas marke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portunities</a:t>
            </a:r>
            <a:endParaRPr b="1" lang="en-US" sz="2400" spc="-1" strike="noStrike">
              <a:solidFill>
                <a:srgbClr val="ffffff"/>
              </a:solidFill>
              <a:latin typeface="Arial"/>
            </a:endParaRPr>
          </a:p>
        </p:txBody>
      </p:sp>
      <p:sp>
        <p:nvSpPr>
          <p:cNvPr id="64"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vantages for Elders</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 innovato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client ba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tilise existing invest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rage faciliti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Everyone in the alliance wins</a:t>
            </a:r>
            <a:endParaRPr b="1" lang="en-US" sz="2800" spc="-1" strike="noStrike">
              <a:solidFill>
                <a:srgbClr val="ffffff"/>
              </a:solidFill>
              <a:latin typeface="Arial"/>
            </a:endParaRPr>
          </a:p>
        </p:txBody>
      </p:sp>
      <p:sp>
        <p:nvSpPr>
          <p:cNvPr id="67"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we meet our Markets</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w mater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mediate stage (tops and yar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 manufactu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product develop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s yarn costs through supply chain management</a:t>
            </a:r>
            <a:endParaRPr b="1" lang="en-US" sz="2400" spc="-1" strike="noStrike">
              <a:solidFill>
                <a:srgbClr val="ffffff"/>
              </a:solidFill>
              <a:latin typeface="Arial"/>
            </a:endParaRPr>
          </a:p>
        </p:txBody>
      </p:sp>
      <p:sp>
        <p:nvSpPr>
          <p:cNvPr id="70"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Supply Side</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ecification (gener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 by Descrip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tra measurements neede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ear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wer leve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tra measurements to improve breeding strategies</a:t>
            </a:r>
            <a:endParaRPr b="1" lang="en-US" sz="2000" spc="-1" strike="noStrike">
              <a:solidFill>
                <a:srgbClr val="ffffff"/>
              </a:solidFill>
              <a:latin typeface="Arial"/>
            </a:endParaRPr>
          </a:p>
        </p:txBody>
      </p:sp>
      <p:sp>
        <p:nvSpPr>
          <p:cNvPr id="73"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4:55:44Z</dcterms:created>
  <dc:creator>USER</dc:creator>
  <dc:description/>
  <dc:language>en-US</dc:language>
  <cp:lastModifiedBy>Hdaily</cp:lastModifiedBy>
  <cp:lastPrinted>2000-02-03T09:09:47Z</cp:lastPrinted>
  <dcterms:modified xsi:type="dcterms:W3CDTF">2000-05-11T04:08:14Z</dcterms:modified>
  <cp:revision>4</cp:revision>
  <dc:subject/>
  <dc:title>Niche Marketing: The Woolaby Experience</dc:title>
</cp:coreProperties>
</file>