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398A-B3F4-4368-B401-71D827829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90DF-4181-4ECF-900A-1B2B0E586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general introduction to the Australian environments in which wool production is undertaken.  It looks specifically at rainfall patterns (quantity and distribution) and how these influence pasture growth and composi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CBF9-7C33-4C06-99FF-0C1B282D7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environments in which wool production in undertaken. The major factor influencing these environmental differences relates to rainfall pattern, in terms of the average annual rainfall, when this rainfall is predominantly received (i.e. within-year seasonality) and the variation in rainfall from year to year.  These patterns influence the pasture base used for wool production, influencing both wool productivity per unit area of grazing land and wool quality issues.  Rainfall patterns also impact on sheep productivity via aspects of sheep health and disease, especially in relation to parasitic infection (incidence and type of para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BAAB-B7C4-498F-B769-2FA208C7B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rovided in “Australian Sheep and Wool Handbook”, ed. D.J. Cottle, Inkata Press, p. 1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broad sheep production zones: high rainfall zone; wheat-sheep zone; pastoral zone. The major factor differentiating between the zones is average annual rainfall and the implications of this for pasture growth and opportunities for other enterprises such as cropp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06C4-53A1-42F3-90B2-49A2AB6E9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rovided in “Australian Sheep and Wool Handbook”, ed. D.J. Cottle, Inkata Press, p. 25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the seasonality of rainfall across Australia.  It is evident that within any one production zone (high rainfall, wheat-sheep or pastoral), differences exist between regions in terms of the predominant season in which rainfall is received.  This exerts a strong influence on the dynamics of the pasture base, particularly in terms of species composition (e.g. annual or perenni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Production Environments</a:t>
            </a:r>
            <a:br>
              <a:rPr sz="3200"/>
            </a:br>
            <a:r>
              <a:rPr b="1" lang="en-GB" sz="3200" spc="-1" strike="noStrike">
                <a:solidFill>
                  <a:srgbClr val="fafd00"/>
                </a:solidFill>
                <a:latin typeface="Arial"/>
              </a:rPr>
              <a:t> in Australia</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3000" y="990720"/>
            <a:ext cx="1066680" cy="5486400"/>
            <a:chOff x="1143000" y="990720"/>
            <a:chExt cx="1066680" cy="5486400"/>
          </a:xfrm>
        </p:grpSpPr>
        <p:sp>
          <p:nvSpPr>
            <p:cNvPr id="50" name=""/>
            <p:cNvSpPr/>
            <p:nvPr/>
          </p:nvSpPr>
          <p:spPr>
            <a:xfrm>
              <a:off x="1143000" y="990720"/>
              <a:ext cx="1066680" cy="5486400"/>
            </a:xfrm>
            <a:custGeom>
              <a:avLst/>
              <a:gdLst>
                <a:gd name="textAreaLeft" fmla="*/ 142920 w 1066680"/>
                <a:gd name="textAreaRight" fmla="*/ 923760 w 1066680"/>
                <a:gd name="textAreaTop" fmla="*/ 1134360 h 5486400"/>
                <a:gd name="textAreaBottom" fmla="*/ 3956760 h 5486400"/>
              </a:gdLst>
              <a:ahLst/>
              <a:rect l="textAreaLeft" t="textAreaTop" r="textAreaRight" b="textAreaBottom"/>
              <a:pathLst>
                <a:path w="21600" h="21600">
                  <a:moveTo>
                    <a:pt x="21600" y="0"/>
                  </a:moveTo>
                  <a:arcTo wR="21600" hR="8934" stAng="-5400000" swAng="-5400000"/>
                  <a:lnTo>
                    <a:pt x="0" y="11111"/>
                  </a:lnTo>
                  <a:arcTo wR="21600" hR="8934" stAng="10800000" swAng="-2665017"/>
                  <a:lnTo>
                    <a:pt x="13200" y="20897"/>
                  </a:lnTo>
                  <a:lnTo>
                    <a:pt x="21600" y="18957"/>
                  </a:lnTo>
                  <a:lnTo>
                    <a:pt x="13200" y="15610"/>
                  </a:lnTo>
                  <a:lnTo>
                    <a:pt x="13200" y="17165"/>
                  </a:lnTo>
                  <a:arcTo wR="21600" hR="8934" stAng="8134983" swAng="2490626"/>
                  <a:lnTo>
                    <a:pt x="161" y="10022"/>
                  </a:lnTo>
                  <a:arcTo wR="21600" hR="8934" stAng="-10625609" swAng="5225609"/>
                  <a:close/>
                </a:path>
                <a:path fill="darkenLess" w="21600" h="21600">
                  <a:moveTo>
                    <a:pt x="21600" y="0"/>
                  </a:moveTo>
                  <a:arcTo wR="21600" hR="8934" stAng="-5400000" swAng="-5400000"/>
                  <a:lnTo>
                    <a:pt x="0" y="8934"/>
                  </a:lnTo>
                  <a:arcTo wR="21600" hR="8934" stAng="10800000" swAng="-174391"/>
                  <a:lnTo>
                    <a:pt x="161" y="10022"/>
                  </a:lnTo>
                  <a:arcTo wR="21600" hR="8934" stAng="-10625609" swAng="5225609"/>
                  <a:close/>
                </a:path>
              </a:pathLst>
            </a:custGeom>
            <a:solidFill>
              <a:srgbClr val="e6f4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523880" y="990720"/>
              <a:ext cx="685800" cy="3276720"/>
            </a:xfrm>
            <a:custGeom>
              <a:avLst/>
              <a:gdLst>
                <a:gd name="textAreaLeft" fmla="*/ 91800 w 685800"/>
                <a:gd name="textAreaRight" fmla="*/ 594000 w 685800"/>
                <a:gd name="textAreaTop" fmla="*/ 578880 h 3276720"/>
                <a:gd name="textAreaBottom" fmla="*/ 2412360 h 3276720"/>
              </a:gdLst>
              <a:ahLst/>
              <a:rect l="textAreaLeft" t="textAreaTop" r="textAreaRight" b="textAreaBottom"/>
              <a:pathLst>
                <a:path w="21600" h="21600">
                  <a:moveTo>
                    <a:pt x="21600" y="0"/>
                  </a:moveTo>
                  <a:arcTo wR="21600" hR="7633" stAng="-5400000" swAng="-5400000"/>
                  <a:lnTo>
                    <a:pt x="0" y="12086"/>
                  </a:lnTo>
                  <a:arcTo wR="21600" hR="7633" stAng="10800000" swAng="-1994682"/>
                  <a:lnTo>
                    <a:pt x="11350" y="20686"/>
                  </a:lnTo>
                  <a:lnTo>
                    <a:pt x="21600" y="17493"/>
                  </a:lnTo>
                  <a:lnTo>
                    <a:pt x="11350" y="12471"/>
                  </a:lnTo>
                  <a:lnTo>
                    <a:pt x="11350" y="14352"/>
                  </a:lnTo>
                  <a:arcTo wR="21600" hR="7633" stAng="8805318" swAng="1625636"/>
                  <a:lnTo>
                    <a:pt x="939" y="9860"/>
                  </a:lnTo>
                  <a:arcTo wR="21600" hR="7633" stAng="-10430955" swAng="5030955"/>
                  <a:close/>
                </a:path>
                <a:path fill="darkenLess" w="21600" h="21600">
                  <a:moveTo>
                    <a:pt x="21600" y="0"/>
                  </a:moveTo>
                  <a:arcTo wR="21600" hR="7633" stAng="-5400000" swAng="-5400000"/>
                  <a:lnTo>
                    <a:pt x="0" y="7633"/>
                  </a:lnTo>
                  <a:arcTo wR="21600" hR="7633" stAng="10800000" swAng="-369045"/>
                  <a:lnTo>
                    <a:pt x="939" y="9860"/>
                  </a:lnTo>
                  <a:arcTo wR="21600" hR="7633" stAng="-10430955" swAng="5030955"/>
                  <a:close/>
                </a:path>
              </a:pathLst>
            </a:cu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duction Environments</a:t>
            </a:r>
            <a:endParaRPr b="1" lang="en-US" sz="3200" spc="-1" strike="noStrike">
              <a:solidFill>
                <a:srgbClr val="fafd00"/>
              </a:solidFill>
              <a:latin typeface="Arial"/>
            </a:endParaRPr>
          </a:p>
        </p:txBody>
      </p:sp>
      <p:sp>
        <p:nvSpPr>
          <p:cNvPr id="53" name="PlaceHolder 2"/>
          <p:cNvSpPr>
            <a:spLocks noGrp="1"/>
          </p:cNvSpPr>
          <p:nvPr>
            <p:ph/>
          </p:nvPr>
        </p:nvSpPr>
        <p:spPr>
          <a:xfrm>
            <a:off x="2133360" y="838080"/>
            <a:ext cx="701028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infall patterns:</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annual rainfall</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gh rainfall zone: (500-1000 mm)</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real-sheep zone ( 400-700 mm)</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storal zone (150-400 mm)</a:t>
            </a:r>
            <a:endParaRPr b="1" lang="en-US" sz="1800" spc="-1" strike="noStrike">
              <a:solidFill>
                <a:srgbClr val="ffffff"/>
              </a:solidFill>
              <a:latin typeface="Arial"/>
            </a:endParaRPr>
          </a:p>
          <a:p>
            <a:pPr lvl="1" marL="727920" indent="-280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asonality </a:t>
            </a:r>
            <a:r>
              <a:rPr b="1" lang="en-GB" sz="1800" spc="-1" strike="noStrike">
                <a:solidFill>
                  <a:srgbClr val="ffffff"/>
                </a:solidFill>
                <a:latin typeface="Arial"/>
              </a:rPr>
              <a:t>(summer, winter, uniform, non-seasonal)</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etween-year variability</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ture base:</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rt and length of growing season</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nuals and perennials </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asses, legumes, broad-leafed weeds, shrubs</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quality and palatability</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pe for improvement and sustainability</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ep health and disease</a:t>
            </a:r>
            <a:endParaRPr b="1" lang="en-US" sz="2400" spc="-1" strike="noStrike">
              <a:solidFill>
                <a:srgbClr val="ffffff"/>
              </a:solidFill>
              <a:latin typeface="Arial"/>
            </a:endParaRPr>
          </a:p>
        </p:txBody>
      </p:sp>
      <p:sp>
        <p:nvSpPr>
          <p:cNvPr id="54" name=""/>
          <p:cNvSpPr/>
          <p:nvPr/>
        </p:nvSpPr>
        <p:spPr>
          <a:xfrm>
            <a:off x="803880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5" name="sheep%20production%20zone%201" descr=""/>
          <p:cNvPicPr/>
          <p:nvPr/>
        </p:nvPicPr>
        <p:blipFill>
          <a:blip r:embed="rId1"/>
          <a:stretch/>
        </p:blipFill>
        <p:spPr>
          <a:xfrm>
            <a:off x="1295280" y="457200"/>
            <a:ext cx="7620120" cy="5649840"/>
          </a:xfrm>
          <a:prstGeom prst="rect">
            <a:avLst/>
          </a:prstGeom>
          <a:ln w="0">
            <a:noFill/>
          </a:ln>
        </p:spPr>
      </p:pic>
      <p:sp>
        <p:nvSpPr>
          <p:cNvPr id="56" name=""/>
          <p:cNvSpPr/>
          <p:nvPr/>
        </p:nvSpPr>
        <p:spPr>
          <a:xfrm>
            <a:off x="5332320" y="6324480"/>
            <a:ext cx="38311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Australian Sheep and Wool Handbook</a:t>
            </a:r>
            <a:r>
              <a:rPr b="0" lang="en-GB" sz="1200" spc="-1" strike="noStrike">
                <a:solidFill>
                  <a:srgbClr val="fafd00"/>
                </a:solidFill>
                <a:latin typeface="Arial"/>
              </a:rPr>
              <a:t> (198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7" name="rainfall%20patterns%201" descr=""/>
          <p:cNvPicPr/>
          <p:nvPr/>
        </p:nvPicPr>
        <p:blipFill>
          <a:blip r:embed="rId1"/>
          <a:stretch/>
        </p:blipFill>
        <p:spPr>
          <a:xfrm>
            <a:off x="2108160" y="76320"/>
            <a:ext cx="5435640" cy="6248160"/>
          </a:xfrm>
          <a:prstGeom prst="rect">
            <a:avLst/>
          </a:prstGeom>
          <a:ln w="0">
            <a:noFill/>
          </a:ln>
        </p:spPr>
      </p:pic>
      <p:sp>
        <p:nvSpPr>
          <p:cNvPr id="58" name=""/>
          <p:cNvSpPr/>
          <p:nvPr/>
        </p:nvSpPr>
        <p:spPr>
          <a:xfrm>
            <a:off x="5252040" y="5977080"/>
            <a:ext cx="2213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reau of Meteorology (1981)</a:t>
            </a:r>
            <a:endParaRPr b="0" lang="en-US" sz="1200" spc="-1" strike="noStrike">
              <a:solidFill>
                <a:srgbClr val="000000"/>
              </a:solidFill>
              <a:latin typeface="Times New Roman"/>
            </a:endParaRPr>
          </a:p>
        </p:txBody>
      </p:sp>
      <p:sp>
        <p:nvSpPr>
          <p:cNvPr id="59" name=""/>
          <p:cNvSpPr/>
          <p:nvPr/>
        </p:nvSpPr>
        <p:spPr>
          <a:xfrm>
            <a:off x="5321160" y="6324480"/>
            <a:ext cx="38311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Australian Sheep and Wool Handbook</a:t>
            </a:r>
            <a:r>
              <a:rPr b="0" lang="en-GB" sz="1200" spc="-1" strike="noStrike">
                <a:solidFill>
                  <a:srgbClr val="fafd00"/>
                </a:solidFill>
                <a:latin typeface="Arial"/>
              </a:rPr>
              <a:t> (198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4T01:40:17Z</dcterms:created>
  <dc:creator>USER</dc:creator>
  <dc:description/>
  <dc:language>en-US</dc:language>
  <cp:lastModifiedBy>Hdaily</cp:lastModifiedBy>
  <cp:lastPrinted>2000-02-03T09:09:47Z</cp:lastPrinted>
  <dcterms:modified xsi:type="dcterms:W3CDTF">2000-06-19T05:24:31Z</dcterms:modified>
  <cp:revision>3</cp:revision>
  <dc:subject/>
  <dc:title>Wool Production Environments  in Australia </dc:title>
</cp:coreProperties>
</file>