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320D-F610-4E92-B0E6-5BB1078BB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6337-6919-4DDE-B6E0-4FB9C6005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module defines greasy and clean fleece weights, as well as the measurement of washing yield used in flock testing.  The phenotypic correlations between fleece weight, yield and the non-fibre components of the fleece are also gi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2CE4-57C5-4075-B2B9-24AEF03C5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95400" indent="0" algn="just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ten by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just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reasy fleece weight (GFW)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otal weight arising from weight of wool fibres + weight of wax and suint + weight of contaminants (e.g. dust/dirt, vegetable mat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lean fleece weight (CFW)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stimat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f total weight of fibre in the fleece; derived from GFW and yield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just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FW =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Y% x GF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just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ashing yield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calculated from dried, scoured sample weight as % of original greasy sample weight; no adjustment for VM and dirt remaining in sample after scouring; used in flock testing (individual sheep/fleece measurem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chlumberger dry combed top and noil yield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icates yield of fibre processed into top; adjusts for weights of VM, grease and dirt (ash) remaining after scouring used in sale of wool (wool clip / sale lot measu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7AC-296F-40A0-9D88-B542ACB7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ten by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r. Brad Crook, The University of New England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r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timer, S.I. and Atkins, K.D. (1989)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st. J. Agric. R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43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timer, S.I. and Atkins, K.D. (1993)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st. J. Agric. R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15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ornberry, K.J. and Atkins, K.D. (1984)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st. J. Exp. Agric. Anim. Hus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7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ven the definition of washing yield, it is not surprising to find a negative phenotypic correlation between yield and each of suint%, wax% and dust% and a lack of a strong correlation with VM%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Fleece Weight: Greasy vs Clea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Brad Crook, The University of New Eng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781680" y="1600200"/>
            <a:ext cx="1067040" cy="10666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657240" y="1676520"/>
            <a:ext cx="3048120" cy="24382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Fleece Weight: greasy </a:t>
            </a:r>
            <a:r>
              <a:rPr b="1" i="1" lang="en-GB" sz="3200" spc="-1" strike="noStrike">
                <a:solidFill>
                  <a:srgbClr val="fafd00"/>
                </a:solidFill>
                <a:latin typeface="Arial"/>
              </a:rPr>
              <a:t>vs</a:t>
            </a: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 clea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66680" y="4114800"/>
            <a:ext cx="3581640" cy="1066680"/>
            <a:chOff x="1066680" y="4114800"/>
            <a:chExt cx="3581640" cy="1066680"/>
          </a:xfrm>
        </p:grpSpPr>
        <p:sp>
          <p:nvSpPr>
            <p:cNvPr id="53" name=""/>
            <p:cNvSpPr/>
            <p:nvPr/>
          </p:nvSpPr>
          <p:spPr>
            <a:xfrm>
              <a:off x="1066680" y="4114800"/>
              <a:ext cx="358164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5200" y="4230360"/>
              <a:ext cx="3504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reasy fleece weight (GFW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019920" y="1143000"/>
            <a:ext cx="1447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63560" y="1149480"/>
            <a:ext cx="12222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ollic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2514600"/>
            <a:ext cx="1600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45800" y="2521080"/>
            <a:ext cx="9417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i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2514600"/>
            <a:ext cx="2514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39240" y="2544840"/>
            <a:ext cx="186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x and su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447920" y="1143000"/>
            <a:ext cx="2057400" cy="457200"/>
            <a:chOff x="1447920" y="1143000"/>
            <a:chExt cx="2057400" cy="457200"/>
          </a:xfrm>
        </p:grpSpPr>
        <p:sp>
          <p:nvSpPr>
            <p:cNvPr id="62" name=""/>
            <p:cNvSpPr/>
            <p:nvPr/>
          </p:nvSpPr>
          <p:spPr>
            <a:xfrm>
              <a:off x="1447920" y="1143000"/>
              <a:ext cx="20574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79600" y="1149480"/>
              <a:ext cx="1998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contamina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19320" y="2514600"/>
            <a:ext cx="2666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8200" y="2521080"/>
            <a:ext cx="771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54120" y="2544840"/>
            <a:ext cx="56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257800" y="4114800"/>
            <a:ext cx="3657600" cy="1066680"/>
            <a:chOff x="5257800" y="4114800"/>
            <a:chExt cx="3657600" cy="1066680"/>
          </a:xfrm>
        </p:grpSpPr>
        <p:sp>
          <p:nvSpPr>
            <p:cNvPr id="68" name=""/>
            <p:cNvSpPr/>
            <p:nvPr/>
          </p:nvSpPr>
          <p:spPr>
            <a:xfrm>
              <a:off x="5257800" y="4114800"/>
              <a:ext cx="365760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89120" y="4150080"/>
              <a:ext cx="3515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lean fleece 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CFW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438280" y="1676520"/>
            <a:ext cx="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3048120"/>
            <a:ext cx="0" cy="10666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267080" y="3048120"/>
            <a:ext cx="3657600" cy="9903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4680" y="2971800"/>
            <a:ext cx="0" cy="1143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676520" y="5105520"/>
            <a:ext cx="6400800" cy="609480"/>
            <a:chOff x="1676520" y="5105520"/>
            <a:chExt cx="6400800" cy="609480"/>
          </a:xfrm>
        </p:grpSpPr>
        <p:sp>
          <p:nvSpPr>
            <p:cNvPr id="75" name=""/>
            <p:cNvSpPr/>
            <p:nvPr/>
          </p:nvSpPr>
          <p:spPr>
            <a:xfrm>
              <a:off x="1676520" y="5105520"/>
              <a:ext cx="6400800" cy="609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42680" y="5126040"/>
              <a:ext cx="1486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808080"/>
                  </a:solidFill>
                  <a:latin typeface="Arial"/>
                </a:rPr>
                <a:t>estima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24400" y="5126040"/>
              <a:ext cx="15012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808080"/>
                  </a:solidFill>
                  <a:latin typeface="Arial"/>
                </a:rPr>
                <a:t>measur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56320" y="5126040"/>
              <a:ext cx="1455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808080"/>
                  </a:solidFill>
                  <a:latin typeface="Arial"/>
                </a:rPr>
                <a:t>x   yield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8038800" y="64310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afd00"/>
                </a:solidFill>
                <a:latin typeface="Arial"/>
              </a:rPr>
              <a:t>Phenotypic correlations between fleece weight, yield &amp; non-fibre components of the fleece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19320" y="1778040"/>
          <a:ext cx="7748640" cy="39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78040"/>
                    <a:ext cx="774864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986280" y="6324480"/>
            <a:ext cx="509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Source: Mortimer and Atkins (1989, 1993); Thornberry and Atkins (198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05:38:27Z</dcterms:created>
  <dc:creator>USER</dc:creator>
  <dc:description/>
  <dc:language>en-US</dc:language>
  <cp:lastModifiedBy>Hdaily</cp:lastModifiedBy>
  <cp:lastPrinted>2000-02-03T09:09:47Z</cp:lastPrinted>
  <dcterms:modified xsi:type="dcterms:W3CDTF">2000-06-15T06:24:17Z</dcterms:modified>
  <cp:revision>3</cp:revision>
  <dc:subject/>
  <dc:title>Fleece Weight: Greasy vs Clean</dc:title>
</cp:coreProperties>
</file>