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01F10-E82C-4EE9-83CA-CFA0B7A1B9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5A1DC-2C9F-4BC9-A0EE-3036A3991D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provides a basic definition of the measurement of staple strength and position of brea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4EF64-6B05-49DD-A7E5-A20FAAE91E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562040" y="533520"/>
            <a:ext cx="3657600" cy="2743200"/>
          </a:xfrm>
          <a:prstGeom prst="rect">
            <a:avLst/>
          </a:prstGeom>
          <a:ln w="0">
            <a:noFill/>
          </a:ln>
        </p:spPr>
      </p:sp>
      <p:sp>
        <p:nvSpPr>
          <p:cNvPr id="115"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required to break a staple under extension is measured in Newtons, where 1N is approx. equal to 100 grams.  The absolute force required is a function of the amount of fibre material present and capable of bearing the load. Thicker staples require more force to break than do thinner staples, as there is more load-bearing material present within the staple. Thus measurements of staple strength are adjusted for staple linear density, this being the weight per unit length (expressed as grams per metre, or kilotex). This gives units of Newtons per kilotex.</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14727-C7F4-450B-B281-51B6751927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562040" y="533520"/>
            <a:ext cx="3657600" cy="2743200"/>
          </a:xfrm>
          <a:prstGeom prst="rect">
            <a:avLst/>
          </a:prstGeom>
          <a:ln w="0">
            <a:noFill/>
          </a:ln>
        </p:spPr>
      </p:sp>
      <p:sp>
        <p:nvSpPr>
          <p:cNvPr id="119"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staple is extended to breaking point, it usually breaks at the relatively weakest point of the staple. The point (or position) of break in the staple is measured by way of the weight of the tip section as a percentage of the staple we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sition of break (POB) is of importance to top-makers in that it influences subsequent fibre length in the wool top and level of short fibre removed during combing.  A tip or base break is preferable over a mid break.  However, there are currently no market signals indicating the influence of POB on clean pri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fining the Measurement of</a:t>
            </a:r>
            <a:br>
              <a:rPr sz="3200"/>
            </a:br>
            <a:r>
              <a:rPr b="1" lang="en-GB" sz="3200" spc="-1" strike="noStrike">
                <a:solidFill>
                  <a:srgbClr val="fafd00"/>
                </a:solidFill>
                <a:latin typeface="Arial"/>
              </a:rPr>
              <a:t>Staple Strength</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2050920" y="1212840"/>
            <a:ext cx="5980320" cy="1905120"/>
            <a:chOff x="2050920" y="1212840"/>
            <a:chExt cx="5980320" cy="1905120"/>
          </a:xfrm>
        </p:grpSpPr>
        <p:sp>
          <p:nvSpPr>
            <p:cNvPr id="50" name=""/>
            <p:cNvSpPr/>
            <p:nvPr/>
          </p:nvSpPr>
          <p:spPr>
            <a:xfrm>
              <a:off x="2798640" y="1397160"/>
              <a:ext cx="4472280" cy="212400"/>
            </a:xfrm>
            <a:custGeom>
              <a:avLst/>
              <a:gdLst/>
              <a:ahLst/>
              <a:rect l="l" t="t" r="r" b="b"/>
              <a:pathLst>
                <a:path w="2817" h="134">
                  <a:moveTo>
                    <a:pt x="0" y="76"/>
                  </a:moveTo>
                  <a:lnTo>
                    <a:pt x="44" y="56"/>
                  </a:lnTo>
                  <a:lnTo>
                    <a:pt x="56" y="22"/>
                  </a:lnTo>
                  <a:lnTo>
                    <a:pt x="92" y="11"/>
                  </a:lnTo>
                  <a:lnTo>
                    <a:pt x="129" y="11"/>
                  </a:lnTo>
                  <a:lnTo>
                    <a:pt x="177" y="11"/>
                  </a:lnTo>
                  <a:lnTo>
                    <a:pt x="214" y="33"/>
                  </a:lnTo>
                  <a:lnTo>
                    <a:pt x="250" y="67"/>
                  </a:lnTo>
                  <a:lnTo>
                    <a:pt x="286" y="78"/>
                  </a:lnTo>
                  <a:lnTo>
                    <a:pt x="323" y="89"/>
                  </a:lnTo>
                  <a:lnTo>
                    <a:pt x="359" y="89"/>
                  </a:lnTo>
                  <a:lnTo>
                    <a:pt x="395" y="89"/>
                  </a:lnTo>
                  <a:lnTo>
                    <a:pt x="444" y="67"/>
                  </a:lnTo>
                  <a:lnTo>
                    <a:pt x="480" y="56"/>
                  </a:lnTo>
                  <a:lnTo>
                    <a:pt x="565" y="33"/>
                  </a:lnTo>
                  <a:lnTo>
                    <a:pt x="600" y="0"/>
                  </a:lnTo>
                  <a:lnTo>
                    <a:pt x="636" y="0"/>
                  </a:lnTo>
                  <a:lnTo>
                    <a:pt x="685" y="67"/>
                  </a:lnTo>
                  <a:lnTo>
                    <a:pt x="721" y="78"/>
                  </a:lnTo>
                  <a:lnTo>
                    <a:pt x="770" y="100"/>
                  </a:lnTo>
                  <a:lnTo>
                    <a:pt x="806" y="111"/>
                  </a:lnTo>
                  <a:lnTo>
                    <a:pt x="842" y="111"/>
                  </a:lnTo>
                  <a:lnTo>
                    <a:pt x="879" y="100"/>
                  </a:lnTo>
                  <a:lnTo>
                    <a:pt x="915" y="67"/>
                  </a:lnTo>
                  <a:lnTo>
                    <a:pt x="951" y="44"/>
                  </a:lnTo>
                  <a:lnTo>
                    <a:pt x="1000" y="44"/>
                  </a:lnTo>
                  <a:lnTo>
                    <a:pt x="1036" y="44"/>
                  </a:lnTo>
                  <a:lnTo>
                    <a:pt x="1072" y="44"/>
                  </a:lnTo>
                  <a:lnTo>
                    <a:pt x="1109" y="44"/>
                  </a:lnTo>
                  <a:lnTo>
                    <a:pt x="1145" y="67"/>
                  </a:lnTo>
                  <a:lnTo>
                    <a:pt x="1181" y="89"/>
                  </a:lnTo>
                  <a:lnTo>
                    <a:pt x="1218" y="111"/>
                  </a:lnTo>
                  <a:lnTo>
                    <a:pt x="1254" y="111"/>
                  </a:lnTo>
                  <a:lnTo>
                    <a:pt x="1290" y="111"/>
                  </a:lnTo>
                  <a:lnTo>
                    <a:pt x="1327" y="111"/>
                  </a:lnTo>
                  <a:lnTo>
                    <a:pt x="1363" y="89"/>
                  </a:lnTo>
                  <a:lnTo>
                    <a:pt x="1412" y="56"/>
                  </a:lnTo>
                  <a:lnTo>
                    <a:pt x="1460" y="44"/>
                  </a:lnTo>
                  <a:lnTo>
                    <a:pt x="1496" y="22"/>
                  </a:lnTo>
                  <a:lnTo>
                    <a:pt x="1569" y="22"/>
                  </a:lnTo>
                  <a:lnTo>
                    <a:pt x="1605" y="11"/>
                  </a:lnTo>
                  <a:lnTo>
                    <a:pt x="1654" y="11"/>
                  </a:lnTo>
                  <a:lnTo>
                    <a:pt x="1690" y="22"/>
                  </a:lnTo>
                  <a:lnTo>
                    <a:pt x="1714" y="56"/>
                  </a:lnTo>
                  <a:lnTo>
                    <a:pt x="1751" y="89"/>
                  </a:lnTo>
                  <a:lnTo>
                    <a:pt x="1787" y="122"/>
                  </a:lnTo>
                  <a:lnTo>
                    <a:pt x="1823" y="122"/>
                  </a:lnTo>
                  <a:lnTo>
                    <a:pt x="1872" y="122"/>
                  </a:lnTo>
                  <a:lnTo>
                    <a:pt x="1944" y="122"/>
                  </a:lnTo>
                  <a:lnTo>
                    <a:pt x="1981" y="111"/>
                  </a:lnTo>
                  <a:lnTo>
                    <a:pt x="2017" y="78"/>
                  </a:lnTo>
                  <a:lnTo>
                    <a:pt x="2053" y="44"/>
                  </a:lnTo>
                  <a:lnTo>
                    <a:pt x="2090" y="44"/>
                  </a:lnTo>
                  <a:lnTo>
                    <a:pt x="2162" y="33"/>
                  </a:lnTo>
                  <a:lnTo>
                    <a:pt x="2199" y="22"/>
                  </a:lnTo>
                  <a:lnTo>
                    <a:pt x="2235" y="22"/>
                  </a:lnTo>
                  <a:lnTo>
                    <a:pt x="2284" y="67"/>
                  </a:lnTo>
                  <a:lnTo>
                    <a:pt x="2320" y="89"/>
                  </a:lnTo>
                  <a:lnTo>
                    <a:pt x="2344" y="122"/>
                  </a:lnTo>
                  <a:lnTo>
                    <a:pt x="2380" y="133"/>
                  </a:lnTo>
                  <a:lnTo>
                    <a:pt x="2417" y="133"/>
                  </a:lnTo>
                  <a:lnTo>
                    <a:pt x="2441" y="100"/>
                  </a:lnTo>
                  <a:lnTo>
                    <a:pt x="2477" y="78"/>
                  </a:lnTo>
                  <a:lnTo>
                    <a:pt x="2502" y="44"/>
                  </a:lnTo>
                  <a:lnTo>
                    <a:pt x="2538" y="44"/>
                  </a:lnTo>
                  <a:lnTo>
                    <a:pt x="2574" y="44"/>
                  </a:lnTo>
                  <a:lnTo>
                    <a:pt x="2611" y="44"/>
                  </a:lnTo>
                  <a:lnTo>
                    <a:pt x="2647" y="56"/>
                  </a:lnTo>
                  <a:lnTo>
                    <a:pt x="2671" y="89"/>
                  </a:lnTo>
                  <a:lnTo>
                    <a:pt x="2707" y="111"/>
                  </a:lnTo>
                  <a:lnTo>
                    <a:pt x="2744" y="133"/>
                  </a:lnTo>
                  <a:lnTo>
                    <a:pt x="2780" y="133"/>
                  </a:lnTo>
                  <a:lnTo>
                    <a:pt x="2816" y="13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798640" y="2844720"/>
              <a:ext cx="4472280" cy="212760"/>
            </a:xfrm>
            <a:custGeom>
              <a:avLst/>
              <a:gdLst/>
              <a:ahLst/>
              <a:rect l="l" t="t" r="r" b="b"/>
              <a:pathLst>
                <a:path w="2817" h="134">
                  <a:moveTo>
                    <a:pt x="0" y="76"/>
                  </a:moveTo>
                  <a:lnTo>
                    <a:pt x="44" y="56"/>
                  </a:lnTo>
                  <a:lnTo>
                    <a:pt x="56" y="22"/>
                  </a:lnTo>
                  <a:lnTo>
                    <a:pt x="92" y="11"/>
                  </a:lnTo>
                  <a:lnTo>
                    <a:pt x="129" y="11"/>
                  </a:lnTo>
                  <a:lnTo>
                    <a:pt x="177" y="11"/>
                  </a:lnTo>
                  <a:lnTo>
                    <a:pt x="214" y="33"/>
                  </a:lnTo>
                  <a:lnTo>
                    <a:pt x="250" y="67"/>
                  </a:lnTo>
                  <a:lnTo>
                    <a:pt x="286" y="78"/>
                  </a:lnTo>
                  <a:lnTo>
                    <a:pt x="323" y="89"/>
                  </a:lnTo>
                  <a:lnTo>
                    <a:pt x="359" y="89"/>
                  </a:lnTo>
                  <a:lnTo>
                    <a:pt x="395" y="89"/>
                  </a:lnTo>
                  <a:lnTo>
                    <a:pt x="444" y="67"/>
                  </a:lnTo>
                  <a:lnTo>
                    <a:pt x="480" y="56"/>
                  </a:lnTo>
                  <a:lnTo>
                    <a:pt x="565" y="33"/>
                  </a:lnTo>
                  <a:lnTo>
                    <a:pt x="600" y="0"/>
                  </a:lnTo>
                  <a:lnTo>
                    <a:pt x="636" y="0"/>
                  </a:lnTo>
                  <a:lnTo>
                    <a:pt x="685" y="67"/>
                  </a:lnTo>
                  <a:lnTo>
                    <a:pt x="721" y="78"/>
                  </a:lnTo>
                  <a:lnTo>
                    <a:pt x="770" y="100"/>
                  </a:lnTo>
                  <a:lnTo>
                    <a:pt x="806" y="111"/>
                  </a:lnTo>
                  <a:lnTo>
                    <a:pt x="842" y="111"/>
                  </a:lnTo>
                  <a:lnTo>
                    <a:pt x="879" y="100"/>
                  </a:lnTo>
                  <a:lnTo>
                    <a:pt x="915" y="67"/>
                  </a:lnTo>
                  <a:lnTo>
                    <a:pt x="951" y="44"/>
                  </a:lnTo>
                  <a:lnTo>
                    <a:pt x="1000" y="44"/>
                  </a:lnTo>
                  <a:lnTo>
                    <a:pt x="1036" y="44"/>
                  </a:lnTo>
                  <a:lnTo>
                    <a:pt x="1072" y="44"/>
                  </a:lnTo>
                  <a:lnTo>
                    <a:pt x="1109" y="44"/>
                  </a:lnTo>
                  <a:lnTo>
                    <a:pt x="1145" y="67"/>
                  </a:lnTo>
                  <a:lnTo>
                    <a:pt x="1181" y="89"/>
                  </a:lnTo>
                  <a:lnTo>
                    <a:pt x="1218" y="111"/>
                  </a:lnTo>
                  <a:lnTo>
                    <a:pt x="1254" y="111"/>
                  </a:lnTo>
                  <a:lnTo>
                    <a:pt x="1290" y="111"/>
                  </a:lnTo>
                  <a:lnTo>
                    <a:pt x="1327" y="111"/>
                  </a:lnTo>
                  <a:lnTo>
                    <a:pt x="1363" y="89"/>
                  </a:lnTo>
                  <a:lnTo>
                    <a:pt x="1412" y="56"/>
                  </a:lnTo>
                  <a:lnTo>
                    <a:pt x="1460" y="44"/>
                  </a:lnTo>
                  <a:lnTo>
                    <a:pt x="1496" y="22"/>
                  </a:lnTo>
                  <a:lnTo>
                    <a:pt x="1569" y="22"/>
                  </a:lnTo>
                  <a:lnTo>
                    <a:pt x="1605" y="11"/>
                  </a:lnTo>
                  <a:lnTo>
                    <a:pt x="1654" y="11"/>
                  </a:lnTo>
                  <a:lnTo>
                    <a:pt x="1690" y="22"/>
                  </a:lnTo>
                  <a:lnTo>
                    <a:pt x="1714" y="56"/>
                  </a:lnTo>
                  <a:lnTo>
                    <a:pt x="1751" y="89"/>
                  </a:lnTo>
                  <a:lnTo>
                    <a:pt x="1787" y="122"/>
                  </a:lnTo>
                  <a:lnTo>
                    <a:pt x="1823" y="122"/>
                  </a:lnTo>
                  <a:lnTo>
                    <a:pt x="1872" y="122"/>
                  </a:lnTo>
                  <a:lnTo>
                    <a:pt x="1944" y="122"/>
                  </a:lnTo>
                  <a:lnTo>
                    <a:pt x="1981" y="111"/>
                  </a:lnTo>
                  <a:lnTo>
                    <a:pt x="2017" y="78"/>
                  </a:lnTo>
                  <a:lnTo>
                    <a:pt x="2053" y="44"/>
                  </a:lnTo>
                  <a:lnTo>
                    <a:pt x="2090" y="44"/>
                  </a:lnTo>
                  <a:lnTo>
                    <a:pt x="2162" y="33"/>
                  </a:lnTo>
                  <a:lnTo>
                    <a:pt x="2199" y="22"/>
                  </a:lnTo>
                  <a:lnTo>
                    <a:pt x="2235" y="22"/>
                  </a:lnTo>
                  <a:lnTo>
                    <a:pt x="2284" y="67"/>
                  </a:lnTo>
                  <a:lnTo>
                    <a:pt x="2320" y="89"/>
                  </a:lnTo>
                  <a:lnTo>
                    <a:pt x="2344" y="122"/>
                  </a:lnTo>
                  <a:lnTo>
                    <a:pt x="2380" y="133"/>
                  </a:lnTo>
                  <a:lnTo>
                    <a:pt x="2417" y="133"/>
                  </a:lnTo>
                  <a:lnTo>
                    <a:pt x="2441" y="100"/>
                  </a:lnTo>
                  <a:lnTo>
                    <a:pt x="2477" y="78"/>
                  </a:lnTo>
                  <a:lnTo>
                    <a:pt x="2502" y="44"/>
                  </a:lnTo>
                  <a:lnTo>
                    <a:pt x="2538" y="44"/>
                  </a:lnTo>
                  <a:lnTo>
                    <a:pt x="2574" y="44"/>
                  </a:lnTo>
                  <a:lnTo>
                    <a:pt x="2611" y="44"/>
                  </a:lnTo>
                  <a:lnTo>
                    <a:pt x="2647" y="56"/>
                  </a:lnTo>
                  <a:lnTo>
                    <a:pt x="2671" y="89"/>
                  </a:lnTo>
                  <a:lnTo>
                    <a:pt x="2707" y="111"/>
                  </a:lnTo>
                  <a:lnTo>
                    <a:pt x="2744" y="133"/>
                  </a:lnTo>
                  <a:lnTo>
                    <a:pt x="2780" y="133"/>
                  </a:lnTo>
                  <a:lnTo>
                    <a:pt x="2816" y="13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2798640" y="1625760"/>
              <a:ext cx="4472280" cy="212400"/>
            </a:xfrm>
            <a:custGeom>
              <a:avLst/>
              <a:gdLst/>
              <a:ahLst/>
              <a:rect l="l" t="t" r="r" b="b"/>
              <a:pathLst>
                <a:path w="2817" h="134">
                  <a:moveTo>
                    <a:pt x="0" y="76"/>
                  </a:moveTo>
                  <a:lnTo>
                    <a:pt x="44" y="56"/>
                  </a:lnTo>
                  <a:lnTo>
                    <a:pt x="56" y="22"/>
                  </a:lnTo>
                  <a:lnTo>
                    <a:pt x="92" y="11"/>
                  </a:lnTo>
                  <a:lnTo>
                    <a:pt x="129" y="11"/>
                  </a:lnTo>
                  <a:lnTo>
                    <a:pt x="177" y="11"/>
                  </a:lnTo>
                  <a:lnTo>
                    <a:pt x="214" y="33"/>
                  </a:lnTo>
                  <a:lnTo>
                    <a:pt x="250" y="67"/>
                  </a:lnTo>
                  <a:lnTo>
                    <a:pt x="286" y="78"/>
                  </a:lnTo>
                  <a:lnTo>
                    <a:pt x="323" y="89"/>
                  </a:lnTo>
                  <a:lnTo>
                    <a:pt x="359" y="89"/>
                  </a:lnTo>
                  <a:lnTo>
                    <a:pt x="395" y="89"/>
                  </a:lnTo>
                  <a:lnTo>
                    <a:pt x="444" y="67"/>
                  </a:lnTo>
                  <a:lnTo>
                    <a:pt x="480" y="56"/>
                  </a:lnTo>
                  <a:lnTo>
                    <a:pt x="565" y="33"/>
                  </a:lnTo>
                  <a:lnTo>
                    <a:pt x="600" y="0"/>
                  </a:lnTo>
                  <a:lnTo>
                    <a:pt x="636" y="0"/>
                  </a:lnTo>
                  <a:lnTo>
                    <a:pt x="685" y="67"/>
                  </a:lnTo>
                  <a:lnTo>
                    <a:pt x="721" y="78"/>
                  </a:lnTo>
                  <a:lnTo>
                    <a:pt x="770" y="100"/>
                  </a:lnTo>
                  <a:lnTo>
                    <a:pt x="806" y="111"/>
                  </a:lnTo>
                  <a:lnTo>
                    <a:pt x="842" y="111"/>
                  </a:lnTo>
                  <a:lnTo>
                    <a:pt x="879" y="100"/>
                  </a:lnTo>
                  <a:lnTo>
                    <a:pt x="915" y="67"/>
                  </a:lnTo>
                  <a:lnTo>
                    <a:pt x="951" y="44"/>
                  </a:lnTo>
                  <a:lnTo>
                    <a:pt x="1000" y="44"/>
                  </a:lnTo>
                  <a:lnTo>
                    <a:pt x="1036" y="44"/>
                  </a:lnTo>
                  <a:lnTo>
                    <a:pt x="1072" y="44"/>
                  </a:lnTo>
                  <a:lnTo>
                    <a:pt x="1109" y="44"/>
                  </a:lnTo>
                  <a:lnTo>
                    <a:pt x="1145" y="67"/>
                  </a:lnTo>
                  <a:lnTo>
                    <a:pt x="1181" y="89"/>
                  </a:lnTo>
                  <a:lnTo>
                    <a:pt x="1218" y="111"/>
                  </a:lnTo>
                  <a:lnTo>
                    <a:pt x="1254" y="111"/>
                  </a:lnTo>
                  <a:lnTo>
                    <a:pt x="1290" y="111"/>
                  </a:lnTo>
                  <a:lnTo>
                    <a:pt x="1327" y="111"/>
                  </a:lnTo>
                  <a:lnTo>
                    <a:pt x="1363" y="89"/>
                  </a:lnTo>
                  <a:lnTo>
                    <a:pt x="1412" y="56"/>
                  </a:lnTo>
                  <a:lnTo>
                    <a:pt x="1460" y="44"/>
                  </a:lnTo>
                  <a:lnTo>
                    <a:pt x="1496" y="22"/>
                  </a:lnTo>
                  <a:lnTo>
                    <a:pt x="1569" y="22"/>
                  </a:lnTo>
                  <a:lnTo>
                    <a:pt x="1605" y="11"/>
                  </a:lnTo>
                  <a:lnTo>
                    <a:pt x="1654" y="11"/>
                  </a:lnTo>
                  <a:lnTo>
                    <a:pt x="1690" y="22"/>
                  </a:lnTo>
                  <a:lnTo>
                    <a:pt x="1714" y="56"/>
                  </a:lnTo>
                  <a:lnTo>
                    <a:pt x="1751" y="89"/>
                  </a:lnTo>
                  <a:lnTo>
                    <a:pt x="1787" y="122"/>
                  </a:lnTo>
                  <a:lnTo>
                    <a:pt x="1823" y="122"/>
                  </a:lnTo>
                  <a:lnTo>
                    <a:pt x="1872" y="122"/>
                  </a:lnTo>
                  <a:lnTo>
                    <a:pt x="1944" y="122"/>
                  </a:lnTo>
                  <a:lnTo>
                    <a:pt x="1981" y="111"/>
                  </a:lnTo>
                  <a:lnTo>
                    <a:pt x="2017" y="78"/>
                  </a:lnTo>
                  <a:lnTo>
                    <a:pt x="2053" y="44"/>
                  </a:lnTo>
                  <a:lnTo>
                    <a:pt x="2090" y="44"/>
                  </a:lnTo>
                  <a:lnTo>
                    <a:pt x="2162" y="33"/>
                  </a:lnTo>
                  <a:lnTo>
                    <a:pt x="2199" y="22"/>
                  </a:lnTo>
                  <a:lnTo>
                    <a:pt x="2235" y="22"/>
                  </a:lnTo>
                  <a:lnTo>
                    <a:pt x="2284" y="67"/>
                  </a:lnTo>
                  <a:lnTo>
                    <a:pt x="2320" y="89"/>
                  </a:lnTo>
                  <a:lnTo>
                    <a:pt x="2344" y="122"/>
                  </a:lnTo>
                  <a:lnTo>
                    <a:pt x="2380" y="133"/>
                  </a:lnTo>
                  <a:lnTo>
                    <a:pt x="2417" y="133"/>
                  </a:lnTo>
                  <a:lnTo>
                    <a:pt x="2441" y="100"/>
                  </a:lnTo>
                  <a:lnTo>
                    <a:pt x="2477" y="78"/>
                  </a:lnTo>
                  <a:lnTo>
                    <a:pt x="2502" y="44"/>
                  </a:lnTo>
                  <a:lnTo>
                    <a:pt x="2538" y="44"/>
                  </a:lnTo>
                  <a:lnTo>
                    <a:pt x="2574" y="44"/>
                  </a:lnTo>
                  <a:lnTo>
                    <a:pt x="2611" y="44"/>
                  </a:lnTo>
                  <a:lnTo>
                    <a:pt x="2647" y="56"/>
                  </a:lnTo>
                  <a:lnTo>
                    <a:pt x="2671" y="89"/>
                  </a:lnTo>
                  <a:lnTo>
                    <a:pt x="2707" y="111"/>
                  </a:lnTo>
                  <a:lnTo>
                    <a:pt x="2744" y="133"/>
                  </a:lnTo>
                  <a:lnTo>
                    <a:pt x="2780" y="133"/>
                  </a:lnTo>
                  <a:lnTo>
                    <a:pt x="2816" y="13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798640" y="1854360"/>
              <a:ext cx="4472280" cy="212400"/>
            </a:xfrm>
            <a:custGeom>
              <a:avLst/>
              <a:gdLst/>
              <a:ahLst/>
              <a:rect l="l" t="t" r="r" b="b"/>
              <a:pathLst>
                <a:path w="2817" h="134">
                  <a:moveTo>
                    <a:pt x="0" y="76"/>
                  </a:moveTo>
                  <a:lnTo>
                    <a:pt x="44" y="56"/>
                  </a:lnTo>
                  <a:lnTo>
                    <a:pt x="56" y="22"/>
                  </a:lnTo>
                  <a:lnTo>
                    <a:pt x="92" y="11"/>
                  </a:lnTo>
                  <a:lnTo>
                    <a:pt x="129" y="11"/>
                  </a:lnTo>
                  <a:lnTo>
                    <a:pt x="177" y="11"/>
                  </a:lnTo>
                  <a:lnTo>
                    <a:pt x="214" y="33"/>
                  </a:lnTo>
                  <a:lnTo>
                    <a:pt x="250" y="67"/>
                  </a:lnTo>
                  <a:lnTo>
                    <a:pt x="286" y="78"/>
                  </a:lnTo>
                  <a:lnTo>
                    <a:pt x="323" y="89"/>
                  </a:lnTo>
                  <a:lnTo>
                    <a:pt x="359" y="89"/>
                  </a:lnTo>
                  <a:lnTo>
                    <a:pt x="395" y="89"/>
                  </a:lnTo>
                  <a:lnTo>
                    <a:pt x="444" y="67"/>
                  </a:lnTo>
                  <a:lnTo>
                    <a:pt x="480" y="56"/>
                  </a:lnTo>
                  <a:lnTo>
                    <a:pt x="565" y="33"/>
                  </a:lnTo>
                  <a:lnTo>
                    <a:pt x="600" y="0"/>
                  </a:lnTo>
                  <a:lnTo>
                    <a:pt x="636" y="0"/>
                  </a:lnTo>
                  <a:lnTo>
                    <a:pt x="685" y="67"/>
                  </a:lnTo>
                  <a:lnTo>
                    <a:pt x="721" y="78"/>
                  </a:lnTo>
                  <a:lnTo>
                    <a:pt x="770" y="100"/>
                  </a:lnTo>
                  <a:lnTo>
                    <a:pt x="806" y="111"/>
                  </a:lnTo>
                  <a:lnTo>
                    <a:pt x="842" y="111"/>
                  </a:lnTo>
                  <a:lnTo>
                    <a:pt x="879" y="100"/>
                  </a:lnTo>
                  <a:lnTo>
                    <a:pt x="915" y="67"/>
                  </a:lnTo>
                  <a:lnTo>
                    <a:pt x="951" y="44"/>
                  </a:lnTo>
                  <a:lnTo>
                    <a:pt x="1000" y="44"/>
                  </a:lnTo>
                  <a:lnTo>
                    <a:pt x="1036" y="44"/>
                  </a:lnTo>
                  <a:lnTo>
                    <a:pt x="1072" y="44"/>
                  </a:lnTo>
                  <a:lnTo>
                    <a:pt x="1109" y="44"/>
                  </a:lnTo>
                  <a:lnTo>
                    <a:pt x="1145" y="67"/>
                  </a:lnTo>
                  <a:lnTo>
                    <a:pt x="1181" y="89"/>
                  </a:lnTo>
                  <a:lnTo>
                    <a:pt x="1218" y="111"/>
                  </a:lnTo>
                  <a:lnTo>
                    <a:pt x="1254" y="111"/>
                  </a:lnTo>
                  <a:lnTo>
                    <a:pt x="1290" y="111"/>
                  </a:lnTo>
                  <a:lnTo>
                    <a:pt x="1327" y="111"/>
                  </a:lnTo>
                  <a:lnTo>
                    <a:pt x="1363" y="89"/>
                  </a:lnTo>
                  <a:lnTo>
                    <a:pt x="1412" y="56"/>
                  </a:lnTo>
                  <a:lnTo>
                    <a:pt x="1460" y="44"/>
                  </a:lnTo>
                  <a:lnTo>
                    <a:pt x="1496" y="22"/>
                  </a:lnTo>
                  <a:lnTo>
                    <a:pt x="1569" y="22"/>
                  </a:lnTo>
                  <a:lnTo>
                    <a:pt x="1605" y="11"/>
                  </a:lnTo>
                  <a:lnTo>
                    <a:pt x="1654" y="11"/>
                  </a:lnTo>
                  <a:lnTo>
                    <a:pt x="1690" y="22"/>
                  </a:lnTo>
                  <a:lnTo>
                    <a:pt x="1714" y="56"/>
                  </a:lnTo>
                  <a:lnTo>
                    <a:pt x="1751" y="89"/>
                  </a:lnTo>
                  <a:lnTo>
                    <a:pt x="1787" y="122"/>
                  </a:lnTo>
                  <a:lnTo>
                    <a:pt x="1823" y="122"/>
                  </a:lnTo>
                  <a:lnTo>
                    <a:pt x="1872" y="122"/>
                  </a:lnTo>
                  <a:lnTo>
                    <a:pt x="1944" y="122"/>
                  </a:lnTo>
                  <a:lnTo>
                    <a:pt x="1981" y="111"/>
                  </a:lnTo>
                  <a:lnTo>
                    <a:pt x="2017" y="78"/>
                  </a:lnTo>
                  <a:lnTo>
                    <a:pt x="2053" y="44"/>
                  </a:lnTo>
                  <a:lnTo>
                    <a:pt x="2090" y="44"/>
                  </a:lnTo>
                  <a:lnTo>
                    <a:pt x="2162" y="33"/>
                  </a:lnTo>
                  <a:lnTo>
                    <a:pt x="2199" y="22"/>
                  </a:lnTo>
                  <a:lnTo>
                    <a:pt x="2235" y="22"/>
                  </a:lnTo>
                  <a:lnTo>
                    <a:pt x="2284" y="67"/>
                  </a:lnTo>
                  <a:lnTo>
                    <a:pt x="2320" y="89"/>
                  </a:lnTo>
                  <a:lnTo>
                    <a:pt x="2344" y="122"/>
                  </a:lnTo>
                  <a:lnTo>
                    <a:pt x="2380" y="133"/>
                  </a:lnTo>
                  <a:lnTo>
                    <a:pt x="2417" y="133"/>
                  </a:lnTo>
                  <a:lnTo>
                    <a:pt x="2441" y="100"/>
                  </a:lnTo>
                  <a:lnTo>
                    <a:pt x="2477" y="78"/>
                  </a:lnTo>
                  <a:lnTo>
                    <a:pt x="2502" y="44"/>
                  </a:lnTo>
                  <a:lnTo>
                    <a:pt x="2538" y="44"/>
                  </a:lnTo>
                  <a:lnTo>
                    <a:pt x="2574" y="44"/>
                  </a:lnTo>
                  <a:lnTo>
                    <a:pt x="2611" y="44"/>
                  </a:lnTo>
                  <a:lnTo>
                    <a:pt x="2647" y="56"/>
                  </a:lnTo>
                  <a:lnTo>
                    <a:pt x="2671" y="89"/>
                  </a:lnTo>
                  <a:lnTo>
                    <a:pt x="2707" y="111"/>
                  </a:lnTo>
                  <a:lnTo>
                    <a:pt x="2744" y="133"/>
                  </a:lnTo>
                  <a:lnTo>
                    <a:pt x="2780" y="133"/>
                  </a:lnTo>
                  <a:lnTo>
                    <a:pt x="2816" y="13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798640" y="2082960"/>
              <a:ext cx="4472280" cy="212400"/>
            </a:xfrm>
            <a:custGeom>
              <a:avLst/>
              <a:gdLst/>
              <a:ahLst/>
              <a:rect l="l" t="t" r="r" b="b"/>
              <a:pathLst>
                <a:path w="2817" h="134">
                  <a:moveTo>
                    <a:pt x="0" y="76"/>
                  </a:moveTo>
                  <a:lnTo>
                    <a:pt x="44" y="56"/>
                  </a:lnTo>
                  <a:lnTo>
                    <a:pt x="56" y="22"/>
                  </a:lnTo>
                  <a:lnTo>
                    <a:pt x="92" y="11"/>
                  </a:lnTo>
                  <a:lnTo>
                    <a:pt x="129" y="11"/>
                  </a:lnTo>
                  <a:lnTo>
                    <a:pt x="177" y="11"/>
                  </a:lnTo>
                  <a:lnTo>
                    <a:pt x="214" y="33"/>
                  </a:lnTo>
                  <a:lnTo>
                    <a:pt x="250" y="67"/>
                  </a:lnTo>
                  <a:lnTo>
                    <a:pt x="286" y="78"/>
                  </a:lnTo>
                  <a:lnTo>
                    <a:pt x="323" y="89"/>
                  </a:lnTo>
                  <a:lnTo>
                    <a:pt x="359" y="89"/>
                  </a:lnTo>
                  <a:lnTo>
                    <a:pt x="395" y="89"/>
                  </a:lnTo>
                  <a:lnTo>
                    <a:pt x="444" y="67"/>
                  </a:lnTo>
                  <a:lnTo>
                    <a:pt x="480" y="56"/>
                  </a:lnTo>
                  <a:lnTo>
                    <a:pt x="565" y="33"/>
                  </a:lnTo>
                  <a:lnTo>
                    <a:pt x="600" y="0"/>
                  </a:lnTo>
                  <a:lnTo>
                    <a:pt x="636" y="0"/>
                  </a:lnTo>
                  <a:lnTo>
                    <a:pt x="685" y="67"/>
                  </a:lnTo>
                  <a:lnTo>
                    <a:pt x="721" y="78"/>
                  </a:lnTo>
                  <a:lnTo>
                    <a:pt x="770" y="100"/>
                  </a:lnTo>
                  <a:lnTo>
                    <a:pt x="806" y="111"/>
                  </a:lnTo>
                  <a:lnTo>
                    <a:pt x="842" y="111"/>
                  </a:lnTo>
                  <a:lnTo>
                    <a:pt x="879" y="100"/>
                  </a:lnTo>
                  <a:lnTo>
                    <a:pt x="915" y="67"/>
                  </a:lnTo>
                  <a:lnTo>
                    <a:pt x="951" y="44"/>
                  </a:lnTo>
                  <a:lnTo>
                    <a:pt x="1000" y="44"/>
                  </a:lnTo>
                  <a:lnTo>
                    <a:pt x="1036" y="44"/>
                  </a:lnTo>
                  <a:lnTo>
                    <a:pt x="1072" y="44"/>
                  </a:lnTo>
                  <a:lnTo>
                    <a:pt x="1109" y="44"/>
                  </a:lnTo>
                  <a:lnTo>
                    <a:pt x="1145" y="67"/>
                  </a:lnTo>
                  <a:lnTo>
                    <a:pt x="1181" y="89"/>
                  </a:lnTo>
                  <a:lnTo>
                    <a:pt x="1218" y="111"/>
                  </a:lnTo>
                  <a:lnTo>
                    <a:pt x="1254" y="111"/>
                  </a:lnTo>
                  <a:lnTo>
                    <a:pt x="1290" y="111"/>
                  </a:lnTo>
                  <a:lnTo>
                    <a:pt x="1327" y="111"/>
                  </a:lnTo>
                  <a:lnTo>
                    <a:pt x="1363" y="89"/>
                  </a:lnTo>
                  <a:lnTo>
                    <a:pt x="1412" y="56"/>
                  </a:lnTo>
                  <a:lnTo>
                    <a:pt x="1460" y="44"/>
                  </a:lnTo>
                  <a:lnTo>
                    <a:pt x="1496" y="22"/>
                  </a:lnTo>
                  <a:lnTo>
                    <a:pt x="1569" y="22"/>
                  </a:lnTo>
                  <a:lnTo>
                    <a:pt x="1605" y="11"/>
                  </a:lnTo>
                  <a:lnTo>
                    <a:pt x="1654" y="11"/>
                  </a:lnTo>
                  <a:lnTo>
                    <a:pt x="1690" y="22"/>
                  </a:lnTo>
                  <a:lnTo>
                    <a:pt x="1714" y="56"/>
                  </a:lnTo>
                  <a:lnTo>
                    <a:pt x="1751" y="89"/>
                  </a:lnTo>
                  <a:lnTo>
                    <a:pt x="1787" y="122"/>
                  </a:lnTo>
                  <a:lnTo>
                    <a:pt x="1823" y="122"/>
                  </a:lnTo>
                  <a:lnTo>
                    <a:pt x="1872" y="122"/>
                  </a:lnTo>
                  <a:lnTo>
                    <a:pt x="1944" y="122"/>
                  </a:lnTo>
                  <a:lnTo>
                    <a:pt x="1981" y="111"/>
                  </a:lnTo>
                  <a:lnTo>
                    <a:pt x="2017" y="78"/>
                  </a:lnTo>
                  <a:lnTo>
                    <a:pt x="2053" y="44"/>
                  </a:lnTo>
                  <a:lnTo>
                    <a:pt x="2090" y="44"/>
                  </a:lnTo>
                  <a:lnTo>
                    <a:pt x="2162" y="33"/>
                  </a:lnTo>
                  <a:lnTo>
                    <a:pt x="2199" y="22"/>
                  </a:lnTo>
                  <a:lnTo>
                    <a:pt x="2235" y="22"/>
                  </a:lnTo>
                  <a:lnTo>
                    <a:pt x="2284" y="67"/>
                  </a:lnTo>
                  <a:lnTo>
                    <a:pt x="2320" y="89"/>
                  </a:lnTo>
                  <a:lnTo>
                    <a:pt x="2344" y="122"/>
                  </a:lnTo>
                  <a:lnTo>
                    <a:pt x="2380" y="133"/>
                  </a:lnTo>
                  <a:lnTo>
                    <a:pt x="2417" y="133"/>
                  </a:lnTo>
                  <a:lnTo>
                    <a:pt x="2441" y="100"/>
                  </a:lnTo>
                  <a:lnTo>
                    <a:pt x="2477" y="78"/>
                  </a:lnTo>
                  <a:lnTo>
                    <a:pt x="2502" y="44"/>
                  </a:lnTo>
                  <a:lnTo>
                    <a:pt x="2538" y="44"/>
                  </a:lnTo>
                  <a:lnTo>
                    <a:pt x="2574" y="44"/>
                  </a:lnTo>
                  <a:lnTo>
                    <a:pt x="2611" y="44"/>
                  </a:lnTo>
                  <a:lnTo>
                    <a:pt x="2647" y="56"/>
                  </a:lnTo>
                  <a:lnTo>
                    <a:pt x="2671" y="89"/>
                  </a:lnTo>
                  <a:lnTo>
                    <a:pt x="2707" y="111"/>
                  </a:lnTo>
                  <a:lnTo>
                    <a:pt x="2744" y="133"/>
                  </a:lnTo>
                  <a:lnTo>
                    <a:pt x="2780" y="133"/>
                  </a:lnTo>
                  <a:lnTo>
                    <a:pt x="2816" y="13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2798640" y="2235240"/>
              <a:ext cx="4472280" cy="212760"/>
            </a:xfrm>
            <a:custGeom>
              <a:avLst/>
              <a:gdLst/>
              <a:ahLst/>
              <a:rect l="l" t="t" r="r" b="b"/>
              <a:pathLst>
                <a:path w="2817" h="134">
                  <a:moveTo>
                    <a:pt x="0" y="76"/>
                  </a:moveTo>
                  <a:lnTo>
                    <a:pt x="44" y="56"/>
                  </a:lnTo>
                  <a:lnTo>
                    <a:pt x="56" y="22"/>
                  </a:lnTo>
                  <a:lnTo>
                    <a:pt x="92" y="11"/>
                  </a:lnTo>
                  <a:lnTo>
                    <a:pt x="129" y="11"/>
                  </a:lnTo>
                  <a:lnTo>
                    <a:pt x="177" y="11"/>
                  </a:lnTo>
                  <a:lnTo>
                    <a:pt x="214" y="33"/>
                  </a:lnTo>
                  <a:lnTo>
                    <a:pt x="250" y="67"/>
                  </a:lnTo>
                  <a:lnTo>
                    <a:pt x="286" y="78"/>
                  </a:lnTo>
                  <a:lnTo>
                    <a:pt x="323" y="89"/>
                  </a:lnTo>
                  <a:lnTo>
                    <a:pt x="359" y="89"/>
                  </a:lnTo>
                  <a:lnTo>
                    <a:pt x="395" y="89"/>
                  </a:lnTo>
                  <a:lnTo>
                    <a:pt x="444" y="67"/>
                  </a:lnTo>
                  <a:lnTo>
                    <a:pt x="480" y="56"/>
                  </a:lnTo>
                  <a:lnTo>
                    <a:pt x="565" y="33"/>
                  </a:lnTo>
                  <a:lnTo>
                    <a:pt x="600" y="0"/>
                  </a:lnTo>
                  <a:lnTo>
                    <a:pt x="636" y="0"/>
                  </a:lnTo>
                  <a:lnTo>
                    <a:pt x="685" y="67"/>
                  </a:lnTo>
                  <a:lnTo>
                    <a:pt x="721" y="78"/>
                  </a:lnTo>
                  <a:lnTo>
                    <a:pt x="770" y="100"/>
                  </a:lnTo>
                  <a:lnTo>
                    <a:pt x="806" y="111"/>
                  </a:lnTo>
                  <a:lnTo>
                    <a:pt x="842" y="111"/>
                  </a:lnTo>
                  <a:lnTo>
                    <a:pt x="879" y="100"/>
                  </a:lnTo>
                  <a:lnTo>
                    <a:pt x="915" y="67"/>
                  </a:lnTo>
                  <a:lnTo>
                    <a:pt x="951" y="44"/>
                  </a:lnTo>
                  <a:lnTo>
                    <a:pt x="1000" y="44"/>
                  </a:lnTo>
                  <a:lnTo>
                    <a:pt x="1036" y="44"/>
                  </a:lnTo>
                  <a:lnTo>
                    <a:pt x="1072" y="44"/>
                  </a:lnTo>
                  <a:lnTo>
                    <a:pt x="1109" y="44"/>
                  </a:lnTo>
                  <a:lnTo>
                    <a:pt x="1145" y="67"/>
                  </a:lnTo>
                  <a:lnTo>
                    <a:pt x="1181" y="89"/>
                  </a:lnTo>
                  <a:lnTo>
                    <a:pt x="1218" y="111"/>
                  </a:lnTo>
                  <a:lnTo>
                    <a:pt x="1254" y="111"/>
                  </a:lnTo>
                  <a:lnTo>
                    <a:pt x="1290" y="111"/>
                  </a:lnTo>
                  <a:lnTo>
                    <a:pt x="1327" y="111"/>
                  </a:lnTo>
                  <a:lnTo>
                    <a:pt x="1363" y="89"/>
                  </a:lnTo>
                  <a:lnTo>
                    <a:pt x="1412" y="56"/>
                  </a:lnTo>
                  <a:lnTo>
                    <a:pt x="1460" y="44"/>
                  </a:lnTo>
                  <a:lnTo>
                    <a:pt x="1496" y="22"/>
                  </a:lnTo>
                  <a:lnTo>
                    <a:pt x="1569" y="22"/>
                  </a:lnTo>
                  <a:lnTo>
                    <a:pt x="1605" y="11"/>
                  </a:lnTo>
                  <a:lnTo>
                    <a:pt x="1654" y="11"/>
                  </a:lnTo>
                  <a:lnTo>
                    <a:pt x="1690" y="22"/>
                  </a:lnTo>
                  <a:lnTo>
                    <a:pt x="1714" y="56"/>
                  </a:lnTo>
                  <a:lnTo>
                    <a:pt x="1751" y="89"/>
                  </a:lnTo>
                  <a:lnTo>
                    <a:pt x="1787" y="122"/>
                  </a:lnTo>
                  <a:lnTo>
                    <a:pt x="1823" y="122"/>
                  </a:lnTo>
                  <a:lnTo>
                    <a:pt x="1872" y="122"/>
                  </a:lnTo>
                  <a:lnTo>
                    <a:pt x="1944" y="122"/>
                  </a:lnTo>
                  <a:lnTo>
                    <a:pt x="1981" y="111"/>
                  </a:lnTo>
                  <a:lnTo>
                    <a:pt x="2017" y="78"/>
                  </a:lnTo>
                  <a:lnTo>
                    <a:pt x="2053" y="44"/>
                  </a:lnTo>
                  <a:lnTo>
                    <a:pt x="2090" y="44"/>
                  </a:lnTo>
                  <a:lnTo>
                    <a:pt x="2162" y="33"/>
                  </a:lnTo>
                  <a:lnTo>
                    <a:pt x="2199" y="22"/>
                  </a:lnTo>
                  <a:lnTo>
                    <a:pt x="2235" y="22"/>
                  </a:lnTo>
                  <a:lnTo>
                    <a:pt x="2284" y="67"/>
                  </a:lnTo>
                  <a:lnTo>
                    <a:pt x="2320" y="89"/>
                  </a:lnTo>
                  <a:lnTo>
                    <a:pt x="2344" y="122"/>
                  </a:lnTo>
                  <a:lnTo>
                    <a:pt x="2380" y="133"/>
                  </a:lnTo>
                  <a:lnTo>
                    <a:pt x="2417" y="133"/>
                  </a:lnTo>
                  <a:lnTo>
                    <a:pt x="2441" y="100"/>
                  </a:lnTo>
                  <a:lnTo>
                    <a:pt x="2477" y="78"/>
                  </a:lnTo>
                  <a:lnTo>
                    <a:pt x="2502" y="44"/>
                  </a:lnTo>
                  <a:lnTo>
                    <a:pt x="2538" y="44"/>
                  </a:lnTo>
                  <a:lnTo>
                    <a:pt x="2574" y="44"/>
                  </a:lnTo>
                  <a:lnTo>
                    <a:pt x="2611" y="44"/>
                  </a:lnTo>
                  <a:lnTo>
                    <a:pt x="2647" y="56"/>
                  </a:lnTo>
                  <a:lnTo>
                    <a:pt x="2671" y="89"/>
                  </a:lnTo>
                  <a:lnTo>
                    <a:pt x="2707" y="111"/>
                  </a:lnTo>
                  <a:lnTo>
                    <a:pt x="2744" y="133"/>
                  </a:lnTo>
                  <a:lnTo>
                    <a:pt x="2780" y="133"/>
                  </a:lnTo>
                  <a:lnTo>
                    <a:pt x="2816" y="13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798640" y="2463840"/>
              <a:ext cx="4472280" cy="212760"/>
            </a:xfrm>
            <a:custGeom>
              <a:avLst/>
              <a:gdLst/>
              <a:ahLst/>
              <a:rect l="l" t="t" r="r" b="b"/>
              <a:pathLst>
                <a:path w="2817" h="134">
                  <a:moveTo>
                    <a:pt x="0" y="76"/>
                  </a:moveTo>
                  <a:lnTo>
                    <a:pt x="44" y="56"/>
                  </a:lnTo>
                  <a:lnTo>
                    <a:pt x="56" y="22"/>
                  </a:lnTo>
                  <a:lnTo>
                    <a:pt x="92" y="11"/>
                  </a:lnTo>
                  <a:lnTo>
                    <a:pt x="129" y="11"/>
                  </a:lnTo>
                  <a:lnTo>
                    <a:pt x="177" y="11"/>
                  </a:lnTo>
                  <a:lnTo>
                    <a:pt x="214" y="33"/>
                  </a:lnTo>
                  <a:lnTo>
                    <a:pt x="250" y="67"/>
                  </a:lnTo>
                  <a:lnTo>
                    <a:pt x="286" y="78"/>
                  </a:lnTo>
                  <a:lnTo>
                    <a:pt x="323" y="89"/>
                  </a:lnTo>
                  <a:lnTo>
                    <a:pt x="359" y="89"/>
                  </a:lnTo>
                  <a:lnTo>
                    <a:pt x="395" y="89"/>
                  </a:lnTo>
                  <a:lnTo>
                    <a:pt x="444" y="67"/>
                  </a:lnTo>
                  <a:lnTo>
                    <a:pt x="480" y="56"/>
                  </a:lnTo>
                  <a:lnTo>
                    <a:pt x="565" y="33"/>
                  </a:lnTo>
                  <a:lnTo>
                    <a:pt x="600" y="0"/>
                  </a:lnTo>
                  <a:lnTo>
                    <a:pt x="636" y="0"/>
                  </a:lnTo>
                  <a:lnTo>
                    <a:pt x="685" y="67"/>
                  </a:lnTo>
                  <a:lnTo>
                    <a:pt x="721" y="78"/>
                  </a:lnTo>
                  <a:lnTo>
                    <a:pt x="770" y="100"/>
                  </a:lnTo>
                  <a:lnTo>
                    <a:pt x="806" y="111"/>
                  </a:lnTo>
                  <a:lnTo>
                    <a:pt x="842" y="111"/>
                  </a:lnTo>
                  <a:lnTo>
                    <a:pt x="879" y="100"/>
                  </a:lnTo>
                  <a:lnTo>
                    <a:pt x="915" y="67"/>
                  </a:lnTo>
                  <a:lnTo>
                    <a:pt x="951" y="44"/>
                  </a:lnTo>
                  <a:lnTo>
                    <a:pt x="1000" y="44"/>
                  </a:lnTo>
                  <a:lnTo>
                    <a:pt x="1036" y="44"/>
                  </a:lnTo>
                  <a:lnTo>
                    <a:pt x="1072" y="44"/>
                  </a:lnTo>
                  <a:lnTo>
                    <a:pt x="1109" y="44"/>
                  </a:lnTo>
                  <a:lnTo>
                    <a:pt x="1145" y="67"/>
                  </a:lnTo>
                  <a:lnTo>
                    <a:pt x="1181" y="89"/>
                  </a:lnTo>
                  <a:lnTo>
                    <a:pt x="1218" y="111"/>
                  </a:lnTo>
                  <a:lnTo>
                    <a:pt x="1254" y="111"/>
                  </a:lnTo>
                  <a:lnTo>
                    <a:pt x="1290" y="111"/>
                  </a:lnTo>
                  <a:lnTo>
                    <a:pt x="1327" y="111"/>
                  </a:lnTo>
                  <a:lnTo>
                    <a:pt x="1363" y="89"/>
                  </a:lnTo>
                  <a:lnTo>
                    <a:pt x="1412" y="56"/>
                  </a:lnTo>
                  <a:lnTo>
                    <a:pt x="1460" y="44"/>
                  </a:lnTo>
                  <a:lnTo>
                    <a:pt x="1496" y="22"/>
                  </a:lnTo>
                  <a:lnTo>
                    <a:pt x="1569" y="22"/>
                  </a:lnTo>
                  <a:lnTo>
                    <a:pt x="1605" y="11"/>
                  </a:lnTo>
                  <a:lnTo>
                    <a:pt x="1654" y="11"/>
                  </a:lnTo>
                  <a:lnTo>
                    <a:pt x="1690" y="22"/>
                  </a:lnTo>
                  <a:lnTo>
                    <a:pt x="1714" y="56"/>
                  </a:lnTo>
                  <a:lnTo>
                    <a:pt x="1751" y="89"/>
                  </a:lnTo>
                  <a:lnTo>
                    <a:pt x="1787" y="122"/>
                  </a:lnTo>
                  <a:lnTo>
                    <a:pt x="1823" y="122"/>
                  </a:lnTo>
                  <a:lnTo>
                    <a:pt x="1872" y="122"/>
                  </a:lnTo>
                  <a:lnTo>
                    <a:pt x="1944" y="122"/>
                  </a:lnTo>
                  <a:lnTo>
                    <a:pt x="1981" y="111"/>
                  </a:lnTo>
                  <a:lnTo>
                    <a:pt x="2017" y="78"/>
                  </a:lnTo>
                  <a:lnTo>
                    <a:pt x="2053" y="44"/>
                  </a:lnTo>
                  <a:lnTo>
                    <a:pt x="2090" y="44"/>
                  </a:lnTo>
                  <a:lnTo>
                    <a:pt x="2162" y="33"/>
                  </a:lnTo>
                  <a:lnTo>
                    <a:pt x="2199" y="22"/>
                  </a:lnTo>
                  <a:lnTo>
                    <a:pt x="2235" y="22"/>
                  </a:lnTo>
                  <a:lnTo>
                    <a:pt x="2284" y="67"/>
                  </a:lnTo>
                  <a:lnTo>
                    <a:pt x="2320" y="89"/>
                  </a:lnTo>
                  <a:lnTo>
                    <a:pt x="2344" y="122"/>
                  </a:lnTo>
                  <a:lnTo>
                    <a:pt x="2380" y="133"/>
                  </a:lnTo>
                  <a:lnTo>
                    <a:pt x="2417" y="133"/>
                  </a:lnTo>
                  <a:lnTo>
                    <a:pt x="2441" y="100"/>
                  </a:lnTo>
                  <a:lnTo>
                    <a:pt x="2477" y="78"/>
                  </a:lnTo>
                  <a:lnTo>
                    <a:pt x="2502" y="44"/>
                  </a:lnTo>
                  <a:lnTo>
                    <a:pt x="2538" y="44"/>
                  </a:lnTo>
                  <a:lnTo>
                    <a:pt x="2574" y="44"/>
                  </a:lnTo>
                  <a:lnTo>
                    <a:pt x="2611" y="44"/>
                  </a:lnTo>
                  <a:lnTo>
                    <a:pt x="2647" y="56"/>
                  </a:lnTo>
                  <a:lnTo>
                    <a:pt x="2671" y="89"/>
                  </a:lnTo>
                  <a:lnTo>
                    <a:pt x="2707" y="111"/>
                  </a:lnTo>
                  <a:lnTo>
                    <a:pt x="2744" y="133"/>
                  </a:lnTo>
                  <a:lnTo>
                    <a:pt x="2780" y="133"/>
                  </a:lnTo>
                  <a:lnTo>
                    <a:pt x="2816" y="13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798640" y="2692440"/>
              <a:ext cx="4472280" cy="212760"/>
            </a:xfrm>
            <a:custGeom>
              <a:avLst/>
              <a:gdLst/>
              <a:ahLst/>
              <a:rect l="l" t="t" r="r" b="b"/>
              <a:pathLst>
                <a:path w="2817" h="134">
                  <a:moveTo>
                    <a:pt x="0" y="76"/>
                  </a:moveTo>
                  <a:lnTo>
                    <a:pt x="44" y="56"/>
                  </a:lnTo>
                  <a:lnTo>
                    <a:pt x="56" y="22"/>
                  </a:lnTo>
                  <a:lnTo>
                    <a:pt x="92" y="11"/>
                  </a:lnTo>
                  <a:lnTo>
                    <a:pt x="129" y="11"/>
                  </a:lnTo>
                  <a:lnTo>
                    <a:pt x="177" y="11"/>
                  </a:lnTo>
                  <a:lnTo>
                    <a:pt x="214" y="33"/>
                  </a:lnTo>
                  <a:lnTo>
                    <a:pt x="250" y="67"/>
                  </a:lnTo>
                  <a:lnTo>
                    <a:pt x="286" y="78"/>
                  </a:lnTo>
                  <a:lnTo>
                    <a:pt x="323" y="89"/>
                  </a:lnTo>
                  <a:lnTo>
                    <a:pt x="359" y="89"/>
                  </a:lnTo>
                  <a:lnTo>
                    <a:pt x="395" y="89"/>
                  </a:lnTo>
                  <a:lnTo>
                    <a:pt x="444" y="67"/>
                  </a:lnTo>
                  <a:lnTo>
                    <a:pt x="480" y="56"/>
                  </a:lnTo>
                  <a:lnTo>
                    <a:pt x="565" y="33"/>
                  </a:lnTo>
                  <a:lnTo>
                    <a:pt x="600" y="0"/>
                  </a:lnTo>
                  <a:lnTo>
                    <a:pt x="636" y="0"/>
                  </a:lnTo>
                  <a:lnTo>
                    <a:pt x="685" y="67"/>
                  </a:lnTo>
                  <a:lnTo>
                    <a:pt x="721" y="78"/>
                  </a:lnTo>
                  <a:lnTo>
                    <a:pt x="770" y="100"/>
                  </a:lnTo>
                  <a:lnTo>
                    <a:pt x="806" y="111"/>
                  </a:lnTo>
                  <a:lnTo>
                    <a:pt x="842" y="111"/>
                  </a:lnTo>
                  <a:lnTo>
                    <a:pt x="879" y="100"/>
                  </a:lnTo>
                  <a:lnTo>
                    <a:pt x="915" y="67"/>
                  </a:lnTo>
                  <a:lnTo>
                    <a:pt x="951" y="44"/>
                  </a:lnTo>
                  <a:lnTo>
                    <a:pt x="1000" y="44"/>
                  </a:lnTo>
                  <a:lnTo>
                    <a:pt x="1036" y="44"/>
                  </a:lnTo>
                  <a:lnTo>
                    <a:pt x="1072" y="44"/>
                  </a:lnTo>
                  <a:lnTo>
                    <a:pt x="1109" y="44"/>
                  </a:lnTo>
                  <a:lnTo>
                    <a:pt x="1145" y="67"/>
                  </a:lnTo>
                  <a:lnTo>
                    <a:pt x="1181" y="89"/>
                  </a:lnTo>
                  <a:lnTo>
                    <a:pt x="1218" y="111"/>
                  </a:lnTo>
                  <a:lnTo>
                    <a:pt x="1254" y="111"/>
                  </a:lnTo>
                  <a:lnTo>
                    <a:pt x="1290" y="111"/>
                  </a:lnTo>
                  <a:lnTo>
                    <a:pt x="1327" y="111"/>
                  </a:lnTo>
                  <a:lnTo>
                    <a:pt x="1363" y="89"/>
                  </a:lnTo>
                  <a:lnTo>
                    <a:pt x="1412" y="56"/>
                  </a:lnTo>
                  <a:lnTo>
                    <a:pt x="1460" y="44"/>
                  </a:lnTo>
                  <a:lnTo>
                    <a:pt x="1496" y="22"/>
                  </a:lnTo>
                  <a:lnTo>
                    <a:pt x="1569" y="22"/>
                  </a:lnTo>
                  <a:lnTo>
                    <a:pt x="1605" y="11"/>
                  </a:lnTo>
                  <a:lnTo>
                    <a:pt x="1654" y="11"/>
                  </a:lnTo>
                  <a:lnTo>
                    <a:pt x="1690" y="22"/>
                  </a:lnTo>
                  <a:lnTo>
                    <a:pt x="1714" y="56"/>
                  </a:lnTo>
                  <a:lnTo>
                    <a:pt x="1751" y="89"/>
                  </a:lnTo>
                  <a:lnTo>
                    <a:pt x="1787" y="122"/>
                  </a:lnTo>
                  <a:lnTo>
                    <a:pt x="1823" y="122"/>
                  </a:lnTo>
                  <a:lnTo>
                    <a:pt x="1872" y="122"/>
                  </a:lnTo>
                  <a:lnTo>
                    <a:pt x="1944" y="122"/>
                  </a:lnTo>
                  <a:lnTo>
                    <a:pt x="1981" y="111"/>
                  </a:lnTo>
                  <a:lnTo>
                    <a:pt x="2017" y="78"/>
                  </a:lnTo>
                  <a:lnTo>
                    <a:pt x="2053" y="44"/>
                  </a:lnTo>
                  <a:lnTo>
                    <a:pt x="2090" y="44"/>
                  </a:lnTo>
                  <a:lnTo>
                    <a:pt x="2162" y="33"/>
                  </a:lnTo>
                  <a:lnTo>
                    <a:pt x="2199" y="22"/>
                  </a:lnTo>
                  <a:lnTo>
                    <a:pt x="2235" y="22"/>
                  </a:lnTo>
                  <a:lnTo>
                    <a:pt x="2284" y="67"/>
                  </a:lnTo>
                  <a:lnTo>
                    <a:pt x="2320" y="89"/>
                  </a:lnTo>
                  <a:lnTo>
                    <a:pt x="2344" y="122"/>
                  </a:lnTo>
                  <a:lnTo>
                    <a:pt x="2380" y="133"/>
                  </a:lnTo>
                  <a:lnTo>
                    <a:pt x="2417" y="133"/>
                  </a:lnTo>
                  <a:lnTo>
                    <a:pt x="2441" y="100"/>
                  </a:lnTo>
                  <a:lnTo>
                    <a:pt x="2477" y="78"/>
                  </a:lnTo>
                  <a:lnTo>
                    <a:pt x="2502" y="44"/>
                  </a:lnTo>
                  <a:lnTo>
                    <a:pt x="2538" y="44"/>
                  </a:lnTo>
                  <a:lnTo>
                    <a:pt x="2574" y="44"/>
                  </a:lnTo>
                  <a:lnTo>
                    <a:pt x="2611" y="44"/>
                  </a:lnTo>
                  <a:lnTo>
                    <a:pt x="2647" y="56"/>
                  </a:lnTo>
                  <a:lnTo>
                    <a:pt x="2671" y="89"/>
                  </a:lnTo>
                  <a:lnTo>
                    <a:pt x="2707" y="111"/>
                  </a:lnTo>
                  <a:lnTo>
                    <a:pt x="2744" y="133"/>
                  </a:lnTo>
                  <a:lnTo>
                    <a:pt x="2780" y="133"/>
                  </a:lnTo>
                  <a:lnTo>
                    <a:pt x="2816" y="13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050920" y="1212840"/>
              <a:ext cx="747720" cy="1905120"/>
            </a:xfrm>
            <a:prstGeom prst="rect">
              <a:avLst/>
            </a:prstGeom>
            <a:solidFill>
              <a:srgbClr val="cadbfe"/>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283520" y="1212840"/>
              <a:ext cx="747720" cy="1905120"/>
            </a:xfrm>
            <a:prstGeom prst="rect">
              <a:avLst/>
            </a:prstGeom>
            <a:solidFill>
              <a:srgbClr val="cadbfe"/>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 name=""/>
          <p:cNvSpPr/>
          <p:nvPr/>
        </p:nvSpPr>
        <p:spPr>
          <a:xfrm flipH="1">
            <a:off x="1143000" y="1676520"/>
            <a:ext cx="838080" cy="761760"/>
          </a:xfrm>
          <a:prstGeom prst="rightArrow">
            <a:avLst>
              <a:gd name="adj1" fmla="val 50000"/>
              <a:gd name="adj2" fmla="val 2751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8077320" y="1676520"/>
            <a:ext cx="838080" cy="761760"/>
          </a:xfrm>
          <a:prstGeom prst="rightArrow">
            <a:avLst>
              <a:gd name="adj1" fmla="val 50000"/>
              <a:gd name="adj2" fmla="val 2751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16080000">
            <a:off x="1856880" y="1832040"/>
            <a:ext cx="1062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lamp</a:t>
            </a:r>
            <a:endParaRPr b="0" lang="en-US" sz="2400" spc="-1" strike="noStrike">
              <a:solidFill>
                <a:srgbClr val="000000"/>
              </a:solidFill>
              <a:latin typeface="Times New Roman"/>
            </a:endParaRPr>
          </a:p>
        </p:txBody>
      </p:sp>
      <p:sp>
        <p:nvSpPr>
          <p:cNvPr id="63" name=""/>
          <p:cNvSpPr/>
          <p:nvPr/>
        </p:nvSpPr>
        <p:spPr>
          <a:xfrm rot="16080000">
            <a:off x="7090560" y="1908000"/>
            <a:ext cx="1062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lamp</a:t>
            </a:r>
            <a:endParaRPr b="0" lang="en-US" sz="2400" spc="-1" strike="noStrike">
              <a:solidFill>
                <a:srgbClr val="000000"/>
              </a:solidFill>
              <a:latin typeface="Times New Roman"/>
            </a:endParaRPr>
          </a:p>
        </p:txBody>
      </p:sp>
      <p:sp>
        <p:nvSpPr>
          <p:cNvPr id="64" name=""/>
          <p:cNvSpPr/>
          <p:nvPr/>
        </p:nvSpPr>
        <p:spPr>
          <a:xfrm>
            <a:off x="2893320" y="3429000"/>
            <a:ext cx="33512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ple length (m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ple weight (grams)</a:t>
            </a:r>
            <a:endParaRPr b="0" lang="en-US" sz="2400" spc="-1" strike="noStrike">
              <a:solidFill>
                <a:srgbClr val="000000"/>
              </a:solidFill>
              <a:latin typeface="Times New Roman"/>
            </a:endParaRPr>
          </a:p>
        </p:txBody>
      </p:sp>
      <p:sp>
        <p:nvSpPr>
          <p:cNvPr id="65" name=""/>
          <p:cNvSpPr/>
          <p:nvPr/>
        </p:nvSpPr>
        <p:spPr>
          <a:xfrm>
            <a:off x="6324480" y="3500280"/>
            <a:ext cx="227160" cy="766800"/>
          </a:xfrm>
          <a:custGeom>
            <a:avLst/>
            <a:gdLst/>
            <a:ahLst/>
            <a:rect l="l" t="t" r="r" b="b"/>
            <a:pathLst>
              <a:path w="143" h="483">
                <a:moveTo>
                  <a:pt x="0" y="0"/>
                </a:moveTo>
                <a:lnTo>
                  <a:pt x="54" y="5"/>
                </a:lnTo>
                <a:lnTo>
                  <a:pt x="101" y="13"/>
                </a:lnTo>
                <a:lnTo>
                  <a:pt x="128" y="27"/>
                </a:lnTo>
                <a:lnTo>
                  <a:pt x="142" y="40"/>
                </a:lnTo>
                <a:lnTo>
                  <a:pt x="142" y="443"/>
                </a:lnTo>
                <a:lnTo>
                  <a:pt x="128" y="460"/>
                </a:lnTo>
                <a:lnTo>
                  <a:pt x="101" y="469"/>
                </a:lnTo>
                <a:lnTo>
                  <a:pt x="54" y="478"/>
                </a:lnTo>
                <a:lnTo>
                  <a:pt x="0" y="482"/>
                </a:lnTo>
              </a:path>
            </a:pathLst>
          </a:custGeom>
          <a:noFill/>
          <a:ln cap="rnd"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6756120" y="3444840"/>
            <a:ext cx="21823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grams / met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ktex)</a:t>
            </a:r>
            <a:endParaRPr b="0" lang="en-US" sz="2400" spc="-1" strike="noStrike">
              <a:solidFill>
                <a:srgbClr val="000000"/>
              </a:solidFill>
              <a:latin typeface="Times New Roman"/>
            </a:endParaRPr>
          </a:p>
        </p:txBody>
      </p:sp>
      <p:sp>
        <p:nvSpPr>
          <p:cNvPr id="67" name=""/>
          <p:cNvSpPr/>
          <p:nvPr/>
        </p:nvSpPr>
        <p:spPr>
          <a:xfrm>
            <a:off x="3047040" y="4343400"/>
            <a:ext cx="384048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ce to break (Newtons)</a:t>
            </a:r>
            <a:endParaRPr b="0" lang="en-US" sz="2400" spc="-1" strike="noStrike">
              <a:solidFill>
                <a:srgbClr val="000000"/>
              </a:solidFill>
              <a:latin typeface="Times New Roman"/>
            </a:endParaRPr>
          </a:p>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200" spc="-1" strike="noStrike">
                <a:solidFill>
                  <a:srgbClr val="ffffff"/>
                </a:solidFill>
                <a:latin typeface="Arial"/>
              </a:rPr>
              <a:t>1N </a:t>
            </a:r>
            <a:r>
              <a:rPr b="1" lang="en-GB" sz="2200" spc="-1" strike="noStrike">
                <a:solidFill>
                  <a:srgbClr val="ffffff"/>
                </a:solidFill>
                <a:latin typeface="Symbol"/>
                <a:ea typeface="Symbol"/>
              </a:rPr>
              <a:t></a:t>
            </a:r>
            <a:r>
              <a:rPr b="1" lang="en-GB" sz="2200" spc="-1" strike="noStrike">
                <a:solidFill>
                  <a:srgbClr val="ffffff"/>
                </a:solidFill>
                <a:latin typeface="Arial"/>
              </a:rPr>
              <a:t> 100 grams</a:t>
            </a:r>
            <a:endParaRPr b="0" lang="en-US" sz="2200" spc="-1" strike="noStrike">
              <a:solidFill>
                <a:srgbClr val="000000"/>
              </a:solidFill>
              <a:latin typeface="Times New Roman"/>
            </a:endParaRPr>
          </a:p>
        </p:txBody>
      </p:sp>
      <p:sp>
        <p:nvSpPr>
          <p:cNvPr id="68" name=""/>
          <p:cNvSpPr/>
          <p:nvPr/>
        </p:nvSpPr>
        <p:spPr>
          <a:xfrm>
            <a:off x="1140480" y="5105520"/>
            <a:ext cx="6623280" cy="94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Staple strength in Newtons per ktex:</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	</a:t>
            </a:r>
            <a:r>
              <a:rPr b="0" lang="en-GB" sz="2800" spc="-1" strike="noStrike">
                <a:solidFill>
                  <a:srgbClr val="ffff99"/>
                </a:solidFill>
                <a:latin typeface="Arial"/>
              </a:rPr>
              <a:t>force corrected for staple thickness</a:t>
            </a:r>
            <a:endParaRPr b="0" lang="en-US" sz="2800" spc="-1" strike="noStrike">
              <a:solidFill>
                <a:srgbClr val="000000"/>
              </a:solidFill>
              <a:latin typeface="Times New Roman"/>
            </a:endParaRPr>
          </a:p>
        </p:txBody>
      </p:sp>
      <p:sp>
        <p:nvSpPr>
          <p:cNvPr id="69" name=""/>
          <p:cNvSpPr/>
          <p:nvPr/>
        </p:nvSpPr>
        <p:spPr>
          <a:xfrm>
            <a:off x="1447920" y="5562720"/>
            <a:ext cx="533160" cy="380880"/>
          </a:xfrm>
          <a:prstGeom prst="rightArrow">
            <a:avLst>
              <a:gd name="adj1" fmla="val 50000"/>
              <a:gd name="adj2" fmla="val 35021"/>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924680" y="4319640"/>
            <a:ext cx="941400" cy="1547640"/>
          </a:xfrm>
          <a:custGeom>
            <a:avLst/>
            <a:gdLst/>
            <a:ahLst/>
            <a:rect l="l" t="t" r="r" b="b"/>
            <a:pathLst>
              <a:path w="593" h="975">
                <a:moveTo>
                  <a:pt x="197" y="647"/>
                </a:moveTo>
                <a:lnTo>
                  <a:pt x="240" y="641"/>
                </a:lnTo>
                <a:lnTo>
                  <a:pt x="274" y="629"/>
                </a:lnTo>
                <a:lnTo>
                  <a:pt x="309" y="605"/>
                </a:lnTo>
                <a:lnTo>
                  <a:pt x="334" y="581"/>
                </a:lnTo>
                <a:lnTo>
                  <a:pt x="377" y="508"/>
                </a:lnTo>
                <a:lnTo>
                  <a:pt x="394" y="424"/>
                </a:lnTo>
                <a:lnTo>
                  <a:pt x="377" y="339"/>
                </a:lnTo>
                <a:lnTo>
                  <a:pt x="326" y="272"/>
                </a:lnTo>
                <a:lnTo>
                  <a:pt x="291" y="248"/>
                </a:lnTo>
                <a:lnTo>
                  <a:pt x="257" y="230"/>
                </a:lnTo>
                <a:lnTo>
                  <a:pt x="223" y="218"/>
                </a:lnTo>
                <a:lnTo>
                  <a:pt x="180" y="218"/>
                </a:lnTo>
                <a:lnTo>
                  <a:pt x="163" y="0"/>
                </a:lnTo>
                <a:lnTo>
                  <a:pt x="248" y="6"/>
                </a:lnTo>
                <a:lnTo>
                  <a:pt x="326" y="24"/>
                </a:lnTo>
                <a:lnTo>
                  <a:pt x="394" y="61"/>
                </a:lnTo>
                <a:lnTo>
                  <a:pt x="454" y="115"/>
                </a:lnTo>
                <a:lnTo>
                  <a:pt x="515" y="176"/>
                </a:lnTo>
                <a:lnTo>
                  <a:pt x="549" y="248"/>
                </a:lnTo>
                <a:lnTo>
                  <a:pt x="583" y="327"/>
                </a:lnTo>
                <a:lnTo>
                  <a:pt x="592" y="412"/>
                </a:lnTo>
                <a:lnTo>
                  <a:pt x="592" y="496"/>
                </a:lnTo>
                <a:lnTo>
                  <a:pt x="575" y="581"/>
                </a:lnTo>
                <a:lnTo>
                  <a:pt x="540" y="653"/>
                </a:lnTo>
                <a:lnTo>
                  <a:pt x="497" y="720"/>
                </a:lnTo>
                <a:lnTo>
                  <a:pt x="437" y="780"/>
                </a:lnTo>
                <a:lnTo>
                  <a:pt x="369" y="823"/>
                </a:lnTo>
                <a:lnTo>
                  <a:pt x="291" y="853"/>
                </a:lnTo>
                <a:lnTo>
                  <a:pt x="214" y="865"/>
                </a:lnTo>
                <a:lnTo>
                  <a:pt x="214" y="974"/>
                </a:lnTo>
                <a:lnTo>
                  <a:pt x="0" y="768"/>
                </a:lnTo>
                <a:lnTo>
                  <a:pt x="197" y="545"/>
                </a:lnTo>
                <a:lnTo>
                  <a:pt x="197" y="647"/>
                </a:lnTo>
              </a:path>
            </a:pathLst>
          </a:custGeom>
          <a:solidFill>
            <a:srgbClr val="ff66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03880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7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easurement of Staple Strength</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1219320" y="1066680"/>
            <a:ext cx="7696080" cy="2431080"/>
            <a:chOff x="1219320" y="1066680"/>
            <a:chExt cx="7696080" cy="2431080"/>
          </a:xfrm>
        </p:grpSpPr>
        <p:grpSp>
          <p:nvGrpSpPr>
            <p:cNvPr id="74" name=""/>
            <p:cNvGrpSpPr/>
            <p:nvPr/>
          </p:nvGrpSpPr>
          <p:grpSpPr>
            <a:xfrm>
              <a:off x="2127240" y="1066680"/>
              <a:ext cx="2445480" cy="1905120"/>
              <a:chOff x="2127240" y="1066680"/>
              <a:chExt cx="2445480" cy="1905120"/>
            </a:xfrm>
          </p:grpSpPr>
          <p:grpSp>
            <p:nvGrpSpPr>
              <p:cNvPr id="75" name=""/>
              <p:cNvGrpSpPr/>
              <p:nvPr/>
            </p:nvGrpSpPr>
            <p:grpSpPr>
              <a:xfrm>
                <a:off x="2590560" y="1301760"/>
                <a:ext cx="1982160" cy="1457280"/>
                <a:chOff x="2590560" y="1301760"/>
                <a:chExt cx="1982160" cy="1457280"/>
              </a:xfrm>
            </p:grpSpPr>
            <p:sp>
              <p:nvSpPr>
                <p:cNvPr id="76" name=""/>
                <p:cNvSpPr/>
                <p:nvPr/>
              </p:nvSpPr>
              <p:spPr>
                <a:xfrm>
                  <a:off x="2594880" y="1301760"/>
                  <a:ext cx="1977840" cy="187200"/>
                </a:xfrm>
                <a:custGeom>
                  <a:avLst/>
                  <a:gdLst/>
                  <a:ahLst/>
                  <a:rect l="l" t="t" r="r" b="b"/>
                  <a:pathLst>
                    <a:path w="1246" h="118">
                      <a:moveTo>
                        <a:pt x="0" y="67"/>
                      </a:moveTo>
                      <a:lnTo>
                        <a:pt x="19" y="49"/>
                      </a:lnTo>
                      <a:lnTo>
                        <a:pt x="25" y="19"/>
                      </a:lnTo>
                      <a:lnTo>
                        <a:pt x="41" y="10"/>
                      </a:lnTo>
                      <a:lnTo>
                        <a:pt x="57" y="10"/>
                      </a:lnTo>
                      <a:lnTo>
                        <a:pt x="78" y="10"/>
                      </a:lnTo>
                      <a:lnTo>
                        <a:pt x="95" y="29"/>
                      </a:lnTo>
                      <a:lnTo>
                        <a:pt x="110" y="59"/>
                      </a:lnTo>
                      <a:lnTo>
                        <a:pt x="126" y="69"/>
                      </a:lnTo>
                      <a:lnTo>
                        <a:pt x="143" y="78"/>
                      </a:lnTo>
                      <a:lnTo>
                        <a:pt x="159" y="78"/>
                      </a:lnTo>
                      <a:lnTo>
                        <a:pt x="175" y="78"/>
                      </a:lnTo>
                      <a:lnTo>
                        <a:pt x="196" y="59"/>
                      </a:lnTo>
                      <a:lnTo>
                        <a:pt x="212" y="49"/>
                      </a:lnTo>
                      <a:lnTo>
                        <a:pt x="250" y="29"/>
                      </a:lnTo>
                      <a:lnTo>
                        <a:pt x="265" y="0"/>
                      </a:lnTo>
                      <a:lnTo>
                        <a:pt x="281" y="0"/>
                      </a:lnTo>
                      <a:lnTo>
                        <a:pt x="303" y="59"/>
                      </a:lnTo>
                      <a:lnTo>
                        <a:pt x="319" y="69"/>
                      </a:lnTo>
                      <a:lnTo>
                        <a:pt x="340" y="88"/>
                      </a:lnTo>
                      <a:lnTo>
                        <a:pt x="356" y="98"/>
                      </a:lnTo>
                      <a:lnTo>
                        <a:pt x="372" y="98"/>
                      </a:lnTo>
                      <a:lnTo>
                        <a:pt x="388" y="88"/>
                      </a:lnTo>
                      <a:lnTo>
                        <a:pt x="404" y="59"/>
                      </a:lnTo>
                      <a:lnTo>
                        <a:pt x="420" y="39"/>
                      </a:lnTo>
                      <a:lnTo>
                        <a:pt x="442" y="39"/>
                      </a:lnTo>
                      <a:lnTo>
                        <a:pt x="458" y="39"/>
                      </a:lnTo>
                      <a:lnTo>
                        <a:pt x="474" y="39"/>
                      </a:lnTo>
                      <a:lnTo>
                        <a:pt x="490" y="39"/>
                      </a:lnTo>
                      <a:lnTo>
                        <a:pt x="506" y="59"/>
                      </a:lnTo>
                      <a:lnTo>
                        <a:pt x="522" y="78"/>
                      </a:lnTo>
                      <a:lnTo>
                        <a:pt x="538" y="98"/>
                      </a:lnTo>
                      <a:lnTo>
                        <a:pt x="554" y="98"/>
                      </a:lnTo>
                      <a:lnTo>
                        <a:pt x="570" y="98"/>
                      </a:lnTo>
                      <a:lnTo>
                        <a:pt x="586" y="98"/>
                      </a:lnTo>
                      <a:lnTo>
                        <a:pt x="602" y="78"/>
                      </a:lnTo>
                      <a:lnTo>
                        <a:pt x="624" y="49"/>
                      </a:lnTo>
                      <a:lnTo>
                        <a:pt x="645" y="39"/>
                      </a:lnTo>
                      <a:lnTo>
                        <a:pt x="661" y="19"/>
                      </a:lnTo>
                      <a:lnTo>
                        <a:pt x="693" y="19"/>
                      </a:lnTo>
                      <a:lnTo>
                        <a:pt x="709" y="10"/>
                      </a:lnTo>
                      <a:lnTo>
                        <a:pt x="731" y="10"/>
                      </a:lnTo>
                      <a:lnTo>
                        <a:pt x="747" y="19"/>
                      </a:lnTo>
                      <a:lnTo>
                        <a:pt x="758" y="49"/>
                      </a:lnTo>
                      <a:lnTo>
                        <a:pt x="774" y="78"/>
                      </a:lnTo>
                      <a:lnTo>
                        <a:pt x="790" y="107"/>
                      </a:lnTo>
                      <a:lnTo>
                        <a:pt x="806" y="107"/>
                      </a:lnTo>
                      <a:lnTo>
                        <a:pt x="827" y="107"/>
                      </a:lnTo>
                      <a:lnTo>
                        <a:pt x="859" y="107"/>
                      </a:lnTo>
                      <a:lnTo>
                        <a:pt x="876" y="98"/>
                      </a:lnTo>
                      <a:lnTo>
                        <a:pt x="891" y="69"/>
                      </a:lnTo>
                      <a:lnTo>
                        <a:pt x="907" y="39"/>
                      </a:lnTo>
                      <a:lnTo>
                        <a:pt x="924" y="39"/>
                      </a:lnTo>
                      <a:lnTo>
                        <a:pt x="956" y="29"/>
                      </a:lnTo>
                      <a:lnTo>
                        <a:pt x="972" y="19"/>
                      </a:lnTo>
                      <a:lnTo>
                        <a:pt x="988" y="19"/>
                      </a:lnTo>
                      <a:lnTo>
                        <a:pt x="1009" y="59"/>
                      </a:lnTo>
                      <a:lnTo>
                        <a:pt x="1025" y="78"/>
                      </a:lnTo>
                      <a:lnTo>
                        <a:pt x="1036" y="107"/>
                      </a:lnTo>
                      <a:lnTo>
                        <a:pt x="1052" y="117"/>
                      </a:lnTo>
                      <a:lnTo>
                        <a:pt x="1068" y="117"/>
                      </a:lnTo>
                      <a:lnTo>
                        <a:pt x="1079" y="88"/>
                      </a:lnTo>
                      <a:lnTo>
                        <a:pt x="1095" y="69"/>
                      </a:lnTo>
                      <a:lnTo>
                        <a:pt x="1106" y="39"/>
                      </a:lnTo>
                      <a:lnTo>
                        <a:pt x="1122" y="39"/>
                      </a:lnTo>
                      <a:lnTo>
                        <a:pt x="1138" y="39"/>
                      </a:lnTo>
                      <a:lnTo>
                        <a:pt x="1154" y="39"/>
                      </a:lnTo>
                      <a:lnTo>
                        <a:pt x="1170" y="49"/>
                      </a:lnTo>
                      <a:lnTo>
                        <a:pt x="1180" y="78"/>
                      </a:lnTo>
                      <a:lnTo>
                        <a:pt x="1196" y="98"/>
                      </a:lnTo>
                      <a:lnTo>
                        <a:pt x="1213" y="117"/>
                      </a:lnTo>
                      <a:lnTo>
                        <a:pt x="1229" y="117"/>
                      </a:lnTo>
                      <a:lnTo>
                        <a:pt x="1245" y="117"/>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594880" y="2571480"/>
                  <a:ext cx="1977840" cy="187560"/>
                </a:xfrm>
                <a:custGeom>
                  <a:avLst/>
                  <a:gdLst/>
                  <a:ahLst/>
                  <a:rect l="l" t="t" r="r" b="b"/>
                  <a:pathLst>
                    <a:path w="1246" h="118">
                      <a:moveTo>
                        <a:pt x="0" y="67"/>
                      </a:moveTo>
                      <a:lnTo>
                        <a:pt x="19" y="49"/>
                      </a:lnTo>
                      <a:lnTo>
                        <a:pt x="25" y="19"/>
                      </a:lnTo>
                      <a:lnTo>
                        <a:pt x="41" y="10"/>
                      </a:lnTo>
                      <a:lnTo>
                        <a:pt x="57" y="10"/>
                      </a:lnTo>
                      <a:lnTo>
                        <a:pt x="78" y="10"/>
                      </a:lnTo>
                      <a:lnTo>
                        <a:pt x="95" y="29"/>
                      </a:lnTo>
                      <a:lnTo>
                        <a:pt x="110" y="59"/>
                      </a:lnTo>
                      <a:lnTo>
                        <a:pt x="126" y="69"/>
                      </a:lnTo>
                      <a:lnTo>
                        <a:pt x="143" y="78"/>
                      </a:lnTo>
                      <a:lnTo>
                        <a:pt x="159" y="78"/>
                      </a:lnTo>
                      <a:lnTo>
                        <a:pt x="175" y="78"/>
                      </a:lnTo>
                      <a:lnTo>
                        <a:pt x="196" y="59"/>
                      </a:lnTo>
                      <a:lnTo>
                        <a:pt x="212" y="49"/>
                      </a:lnTo>
                      <a:lnTo>
                        <a:pt x="250" y="29"/>
                      </a:lnTo>
                      <a:lnTo>
                        <a:pt x="265" y="0"/>
                      </a:lnTo>
                      <a:lnTo>
                        <a:pt x="281" y="0"/>
                      </a:lnTo>
                      <a:lnTo>
                        <a:pt x="303" y="59"/>
                      </a:lnTo>
                      <a:lnTo>
                        <a:pt x="319" y="69"/>
                      </a:lnTo>
                      <a:lnTo>
                        <a:pt x="340" y="88"/>
                      </a:lnTo>
                      <a:lnTo>
                        <a:pt x="356" y="98"/>
                      </a:lnTo>
                      <a:lnTo>
                        <a:pt x="372" y="98"/>
                      </a:lnTo>
                      <a:lnTo>
                        <a:pt x="388" y="88"/>
                      </a:lnTo>
                      <a:lnTo>
                        <a:pt x="404" y="59"/>
                      </a:lnTo>
                      <a:lnTo>
                        <a:pt x="420" y="39"/>
                      </a:lnTo>
                      <a:lnTo>
                        <a:pt x="442" y="39"/>
                      </a:lnTo>
                      <a:lnTo>
                        <a:pt x="458" y="39"/>
                      </a:lnTo>
                      <a:lnTo>
                        <a:pt x="474" y="39"/>
                      </a:lnTo>
                      <a:lnTo>
                        <a:pt x="490" y="39"/>
                      </a:lnTo>
                      <a:lnTo>
                        <a:pt x="506" y="59"/>
                      </a:lnTo>
                      <a:lnTo>
                        <a:pt x="522" y="78"/>
                      </a:lnTo>
                      <a:lnTo>
                        <a:pt x="538" y="98"/>
                      </a:lnTo>
                      <a:lnTo>
                        <a:pt x="554" y="98"/>
                      </a:lnTo>
                      <a:lnTo>
                        <a:pt x="570" y="98"/>
                      </a:lnTo>
                      <a:lnTo>
                        <a:pt x="586" y="98"/>
                      </a:lnTo>
                      <a:lnTo>
                        <a:pt x="602" y="78"/>
                      </a:lnTo>
                      <a:lnTo>
                        <a:pt x="624" y="49"/>
                      </a:lnTo>
                      <a:lnTo>
                        <a:pt x="645" y="39"/>
                      </a:lnTo>
                      <a:lnTo>
                        <a:pt x="661" y="19"/>
                      </a:lnTo>
                      <a:lnTo>
                        <a:pt x="693" y="19"/>
                      </a:lnTo>
                      <a:lnTo>
                        <a:pt x="709" y="10"/>
                      </a:lnTo>
                      <a:lnTo>
                        <a:pt x="731" y="10"/>
                      </a:lnTo>
                      <a:lnTo>
                        <a:pt x="747" y="19"/>
                      </a:lnTo>
                      <a:lnTo>
                        <a:pt x="758" y="49"/>
                      </a:lnTo>
                      <a:lnTo>
                        <a:pt x="774" y="78"/>
                      </a:lnTo>
                      <a:lnTo>
                        <a:pt x="790" y="107"/>
                      </a:lnTo>
                      <a:lnTo>
                        <a:pt x="806" y="107"/>
                      </a:lnTo>
                      <a:lnTo>
                        <a:pt x="827" y="107"/>
                      </a:lnTo>
                      <a:lnTo>
                        <a:pt x="859" y="107"/>
                      </a:lnTo>
                      <a:lnTo>
                        <a:pt x="876" y="98"/>
                      </a:lnTo>
                      <a:lnTo>
                        <a:pt x="891" y="69"/>
                      </a:lnTo>
                      <a:lnTo>
                        <a:pt x="907" y="39"/>
                      </a:lnTo>
                      <a:lnTo>
                        <a:pt x="924" y="39"/>
                      </a:lnTo>
                      <a:lnTo>
                        <a:pt x="956" y="29"/>
                      </a:lnTo>
                      <a:lnTo>
                        <a:pt x="972" y="19"/>
                      </a:lnTo>
                      <a:lnTo>
                        <a:pt x="988" y="19"/>
                      </a:lnTo>
                      <a:lnTo>
                        <a:pt x="1009" y="59"/>
                      </a:lnTo>
                      <a:lnTo>
                        <a:pt x="1025" y="78"/>
                      </a:lnTo>
                      <a:lnTo>
                        <a:pt x="1036" y="107"/>
                      </a:lnTo>
                      <a:lnTo>
                        <a:pt x="1052" y="117"/>
                      </a:lnTo>
                      <a:lnTo>
                        <a:pt x="1068" y="117"/>
                      </a:lnTo>
                      <a:lnTo>
                        <a:pt x="1079" y="88"/>
                      </a:lnTo>
                      <a:lnTo>
                        <a:pt x="1095" y="69"/>
                      </a:lnTo>
                      <a:lnTo>
                        <a:pt x="1106" y="39"/>
                      </a:lnTo>
                      <a:lnTo>
                        <a:pt x="1122" y="39"/>
                      </a:lnTo>
                      <a:lnTo>
                        <a:pt x="1138" y="39"/>
                      </a:lnTo>
                      <a:lnTo>
                        <a:pt x="1154" y="39"/>
                      </a:lnTo>
                      <a:lnTo>
                        <a:pt x="1170" y="49"/>
                      </a:lnTo>
                      <a:lnTo>
                        <a:pt x="1180" y="78"/>
                      </a:lnTo>
                      <a:lnTo>
                        <a:pt x="1196" y="98"/>
                      </a:lnTo>
                      <a:lnTo>
                        <a:pt x="1213" y="117"/>
                      </a:lnTo>
                      <a:lnTo>
                        <a:pt x="1229" y="117"/>
                      </a:lnTo>
                      <a:lnTo>
                        <a:pt x="1245" y="117"/>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594880" y="1501560"/>
                  <a:ext cx="1977840" cy="187560"/>
                </a:xfrm>
                <a:custGeom>
                  <a:avLst/>
                  <a:gdLst/>
                  <a:ahLst/>
                  <a:rect l="l" t="t" r="r" b="b"/>
                  <a:pathLst>
                    <a:path w="1246" h="118">
                      <a:moveTo>
                        <a:pt x="0" y="67"/>
                      </a:moveTo>
                      <a:lnTo>
                        <a:pt x="19" y="49"/>
                      </a:lnTo>
                      <a:lnTo>
                        <a:pt x="25" y="19"/>
                      </a:lnTo>
                      <a:lnTo>
                        <a:pt x="41" y="10"/>
                      </a:lnTo>
                      <a:lnTo>
                        <a:pt x="57" y="10"/>
                      </a:lnTo>
                      <a:lnTo>
                        <a:pt x="78" y="10"/>
                      </a:lnTo>
                      <a:lnTo>
                        <a:pt x="95" y="29"/>
                      </a:lnTo>
                      <a:lnTo>
                        <a:pt x="110" y="59"/>
                      </a:lnTo>
                      <a:lnTo>
                        <a:pt x="126" y="69"/>
                      </a:lnTo>
                      <a:lnTo>
                        <a:pt x="143" y="78"/>
                      </a:lnTo>
                      <a:lnTo>
                        <a:pt x="159" y="78"/>
                      </a:lnTo>
                      <a:lnTo>
                        <a:pt x="175" y="78"/>
                      </a:lnTo>
                      <a:lnTo>
                        <a:pt x="196" y="59"/>
                      </a:lnTo>
                      <a:lnTo>
                        <a:pt x="212" y="49"/>
                      </a:lnTo>
                      <a:lnTo>
                        <a:pt x="250" y="29"/>
                      </a:lnTo>
                      <a:lnTo>
                        <a:pt x="265" y="0"/>
                      </a:lnTo>
                      <a:lnTo>
                        <a:pt x="281" y="0"/>
                      </a:lnTo>
                      <a:lnTo>
                        <a:pt x="303" y="59"/>
                      </a:lnTo>
                      <a:lnTo>
                        <a:pt x="319" y="69"/>
                      </a:lnTo>
                      <a:lnTo>
                        <a:pt x="340" y="88"/>
                      </a:lnTo>
                      <a:lnTo>
                        <a:pt x="356" y="98"/>
                      </a:lnTo>
                      <a:lnTo>
                        <a:pt x="372" y="98"/>
                      </a:lnTo>
                      <a:lnTo>
                        <a:pt x="388" y="88"/>
                      </a:lnTo>
                      <a:lnTo>
                        <a:pt x="404" y="59"/>
                      </a:lnTo>
                      <a:lnTo>
                        <a:pt x="420" y="39"/>
                      </a:lnTo>
                      <a:lnTo>
                        <a:pt x="442" y="39"/>
                      </a:lnTo>
                      <a:lnTo>
                        <a:pt x="458" y="39"/>
                      </a:lnTo>
                      <a:lnTo>
                        <a:pt x="474" y="39"/>
                      </a:lnTo>
                      <a:lnTo>
                        <a:pt x="490" y="39"/>
                      </a:lnTo>
                      <a:lnTo>
                        <a:pt x="506" y="59"/>
                      </a:lnTo>
                      <a:lnTo>
                        <a:pt x="522" y="78"/>
                      </a:lnTo>
                      <a:lnTo>
                        <a:pt x="538" y="98"/>
                      </a:lnTo>
                      <a:lnTo>
                        <a:pt x="554" y="98"/>
                      </a:lnTo>
                      <a:lnTo>
                        <a:pt x="570" y="98"/>
                      </a:lnTo>
                      <a:lnTo>
                        <a:pt x="586" y="98"/>
                      </a:lnTo>
                      <a:lnTo>
                        <a:pt x="602" y="78"/>
                      </a:lnTo>
                      <a:lnTo>
                        <a:pt x="624" y="49"/>
                      </a:lnTo>
                      <a:lnTo>
                        <a:pt x="645" y="39"/>
                      </a:lnTo>
                      <a:lnTo>
                        <a:pt x="661" y="19"/>
                      </a:lnTo>
                      <a:lnTo>
                        <a:pt x="693" y="19"/>
                      </a:lnTo>
                      <a:lnTo>
                        <a:pt x="709" y="10"/>
                      </a:lnTo>
                      <a:lnTo>
                        <a:pt x="731" y="10"/>
                      </a:lnTo>
                      <a:lnTo>
                        <a:pt x="747" y="19"/>
                      </a:lnTo>
                      <a:lnTo>
                        <a:pt x="758" y="49"/>
                      </a:lnTo>
                      <a:lnTo>
                        <a:pt x="774" y="78"/>
                      </a:lnTo>
                      <a:lnTo>
                        <a:pt x="790" y="107"/>
                      </a:lnTo>
                      <a:lnTo>
                        <a:pt x="806" y="107"/>
                      </a:lnTo>
                      <a:lnTo>
                        <a:pt x="827" y="107"/>
                      </a:lnTo>
                      <a:lnTo>
                        <a:pt x="859" y="107"/>
                      </a:lnTo>
                      <a:lnTo>
                        <a:pt x="876" y="98"/>
                      </a:lnTo>
                      <a:lnTo>
                        <a:pt x="891" y="69"/>
                      </a:lnTo>
                      <a:lnTo>
                        <a:pt x="907" y="39"/>
                      </a:lnTo>
                      <a:lnTo>
                        <a:pt x="924" y="39"/>
                      </a:lnTo>
                      <a:lnTo>
                        <a:pt x="956" y="29"/>
                      </a:lnTo>
                      <a:lnTo>
                        <a:pt x="972" y="19"/>
                      </a:lnTo>
                      <a:lnTo>
                        <a:pt x="988" y="19"/>
                      </a:lnTo>
                      <a:lnTo>
                        <a:pt x="1009" y="59"/>
                      </a:lnTo>
                      <a:lnTo>
                        <a:pt x="1025" y="78"/>
                      </a:lnTo>
                      <a:lnTo>
                        <a:pt x="1036" y="107"/>
                      </a:lnTo>
                      <a:lnTo>
                        <a:pt x="1052" y="117"/>
                      </a:lnTo>
                      <a:lnTo>
                        <a:pt x="1068" y="117"/>
                      </a:lnTo>
                      <a:lnTo>
                        <a:pt x="1079" y="88"/>
                      </a:lnTo>
                      <a:lnTo>
                        <a:pt x="1095" y="69"/>
                      </a:lnTo>
                      <a:lnTo>
                        <a:pt x="1106" y="39"/>
                      </a:lnTo>
                      <a:lnTo>
                        <a:pt x="1122" y="39"/>
                      </a:lnTo>
                      <a:lnTo>
                        <a:pt x="1138" y="39"/>
                      </a:lnTo>
                      <a:lnTo>
                        <a:pt x="1154" y="39"/>
                      </a:lnTo>
                      <a:lnTo>
                        <a:pt x="1170" y="49"/>
                      </a:lnTo>
                      <a:lnTo>
                        <a:pt x="1180" y="78"/>
                      </a:lnTo>
                      <a:lnTo>
                        <a:pt x="1196" y="98"/>
                      </a:lnTo>
                      <a:lnTo>
                        <a:pt x="1213" y="117"/>
                      </a:lnTo>
                      <a:lnTo>
                        <a:pt x="1229" y="117"/>
                      </a:lnTo>
                      <a:lnTo>
                        <a:pt x="1245" y="117"/>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594880" y="1703160"/>
                  <a:ext cx="1977840" cy="185760"/>
                </a:xfrm>
                <a:custGeom>
                  <a:avLst/>
                  <a:gdLst/>
                  <a:ahLst/>
                  <a:rect l="l" t="t" r="r" b="b"/>
                  <a:pathLst>
                    <a:path w="1246" h="117">
                      <a:moveTo>
                        <a:pt x="0" y="66"/>
                      </a:moveTo>
                      <a:lnTo>
                        <a:pt x="19" y="49"/>
                      </a:lnTo>
                      <a:lnTo>
                        <a:pt x="25" y="19"/>
                      </a:lnTo>
                      <a:lnTo>
                        <a:pt x="41" y="10"/>
                      </a:lnTo>
                      <a:lnTo>
                        <a:pt x="57" y="10"/>
                      </a:lnTo>
                      <a:lnTo>
                        <a:pt x="78" y="10"/>
                      </a:lnTo>
                      <a:lnTo>
                        <a:pt x="95" y="29"/>
                      </a:lnTo>
                      <a:lnTo>
                        <a:pt x="110" y="58"/>
                      </a:lnTo>
                      <a:lnTo>
                        <a:pt x="126" y="68"/>
                      </a:lnTo>
                      <a:lnTo>
                        <a:pt x="143" y="78"/>
                      </a:lnTo>
                      <a:lnTo>
                        <a:pt x="159" y="78"/>
                      </a:lnTo>
                      <a:lnTo>
                        <a:pt x="175" y="78"/>
                      </a:lnTo>
                      <a:lnTo>
                        <a:pt x="196" y="58"/>
                      </a:lnTo>
                      <a:lnTo>
                        <a:pt x="212" y="49"/>
                      </a:lnTo>
                      <a:lnTo>
                        <a:pt x="250" y="29"/>
                      </a:lnTo>
                      <a:lnTo>
                        <a:pt x="265" y="0"/>
                      </a:lnTo>
                      <a:lnTo>
                        <a:pt x="281" y="0"/>
                      </a:lnTo>
                      <a:lnTo>
                        <a:pt x="303" y="58"/>
                      </a:lnTo>
                      <a:lnTo>
                        <a:pt x="319" y="68"/>
                      </a:lnTo>
                      <a:lnTo>
                        <a:pt x="340" y="87"/>
                      </a:lnTo>
                      <a:lnTo>
                        <a:pt x="356" y="97"/>
                      </a:lnTo>
                      <a:lnTo>
                        <a:pt x="372" y="97"/>
                      </a:lnTo>
                      <a:lnTo>
                        <a:pt x="388" y="87"/>
                      </a:lnTo>
                      <a:lnTo>
                        <a:pt x="404" y="58"/>
                      </a:lnTo>
                      <a:lnTo>
                        <a:pt x="420" y="38"/>
                      </a:lnTo>
                      <a:lnTo>
                        <a:pt x="442" y="38"/>
                      </a:lnTo>
                      <a:lnTo>
                        <a:pt x="458" y="38"/>
                      </a:lnTo>
                      <a:lnTo>
                        <a:pt x="474" y="38"/>
                      </a:lnTo>
                      <a:lnTo>
                        <a:pt x="490" y="38"/>
                      </a:lnTo>
                      <a:lnTo>
                        <a:pt x="506" y="58"/>
                      </a:lnTo>
                      <a:lnTo>
                        <a:pt x="522" y="78"/>
                      </a:lnTo>
                      <a:lnTo>
                        <a:pt x="538" y="97"/>
                      </a:lnTo>
                      <a:lnTo>
                        <a:pt x="554" y="97"/>
                      </a:lnTo>
                      <a:lnTo>
                        <a:pt x="570" y="97"/>
                      </a:lnTo>
                      <a:lnTo>
                        <a:pt x="586" y="97"/>
                      </a:lnTo>
                      <a:lnTo>
                        <a:pt x="602" y="78"/>
                      </a:lnTo>
                      <a:lnTo>
                        <a:pt x="624" y="49"/>
                      </a:lnTo>
                      <a:lnTo>
                        <a:pt x="645" y="38"/>
                      </a:lnTo>
                      <a:lnTo>
                        <a:pt x="661" y="19"/>
                      </a:lnTo>
                      <a:lnTo>
                        <a:pt x="693" y="19"/>
                      </a:lnTo>
                      <a:lnTo>
                        <a:pt x="709" y="10"/>
                      </a:lnTo>
                      <a:lnTo>
                        <a:pt x="731" y="10"/>
                      </a:lnTo>
                      <a:lnTo>
                        <a:pt x="747" y="19"/>
                      </a:lnTo>
                      <a:lnTo>
                        <a:pt x="758" y="49"/>
                      </a:lnTo>
                      <a:lnTo>
                        <a:pt x="774" y="78"/>
                      </a:lnTo>
                      <a:lnTo>
                        <a:pt x="790" y="107"/>
                      </a:lnTo>
                      <a:lnTo>
                        <a:pt x="806" y="107"/>
                      </a:lnTo>
                      <a:lnTo>
                        <a:pt x="827" y="107"/>
                      </a:lnTo>
                      <a:lnTo>
                        <a:pt x="859" y="107"/>
                      </a:lnTo>
                      <a:lnTo>
                        <a:pt x="876" y="97"/>
                      </a:lnTo>
                      <a:lnTo>
                        <a:pt x="891" y="68"/>
                      </a:lnTo>
                      <a:lnTo>
                        <a:pt x="907" y="38"/>
                      </a:lnTo>
                      <a:lnTo>
                        <a:pt x="924" y="38"/>
                      </a:lnTo>
                      <a:lnTo>
                        <a:pt x="956" y="29"/>
                      </a:lnTo>
                      <a:lnTo>
                        <a:pt x="972" y="19"/>
                      </a:lnTo>
                      <a:lnTo>
                        <a:pt x="988" y="19"/>
                      </a:lnTo>
                      <a:lnTo>
                        <a:pt x="1009" y="58"/>
                      </a:lnTo>
                      <a:lnTo>
                        <a:pt x="1025" y="78"/>
                      </a:lnTo>
                      <a:lnTo>
                        <a:pt x="1036" y="107"/>
                      </a:lnTo>
                      <a:lnTo>
                        <a:pt x="1052" y="116"/>
                      </a:lnTo>
                      <a:lnTo>
                        <a:pt x="1068" y="116"/>
                      </a:lnTo>
                      <a:lnTo>
                        <a:pt x="1079" y="87"/>
                      </a:lnTo>
                      <a:lnTo>
                        <a:pt x="1095" y="68"/>
                      </a:lnTo>
                      <a:lnTo>
                        <a:pt x="1106" y="38"/>
                      </a:lnTo>
                      <a:lnTo>
                        <a:pt x="1122" y="38"/>
                      </a:lnTo>
                      <a:lnTo>
                        <a:pt x="1138" y="38"/>
                      </a:lnTo>
                      <a:lnTo>
                        <a:pt x="1154" y="38"/>
                      </a:lnTo>
                      <a:lnTo>
                        <a:pt x="1170" y="49"/>
                      </a:lnTo>
                      <a:lnTo>
                        <a:pt x="1180" y="78"/>
                      </a:lnTo>
                      <a:lnTo>
                        <a:pt x="1196" y="97"/>
                      </a:lnTo>
                      <a:lnTo>
                        <a:pt x="1213" y="116"/>
                      </a:lnTo>
                      <a:lnTo>
                        <a:pt x="1229" y="116"/>
                      </a:lnTo>
                      <a:lnTo>
                        <a:pt x="1245" y="116"/>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590560" y="1903320"/>
                  <a:ext cx="1977840" cy="187200"/>
                </a:xfrm>
                <a:custGeom>
                  <a:avLst/>
                  <a:gdLst/>
                  <a:ahLst/>
                  <a:rect l="l" t="t" r="r" b="b"/>
                  <a:pathLst>
                    <a:path w="1246" h="118">
                      <a:moveTo>
                        <a:pt x="0" y="67"/>
                      </a:moveTo>
                      <a:lnTo>
                        <a:pt x="19" y="49"/>
                      </a:lnTo>
                      <a:lnTo>
                        <a:pt x="25" y="19"/>
                      </a:lnTo>
                      <a:lnTo>
                        <a:pt x="41" y="10"/>
                      </a:lnTo>
                      <a:lnTo>
                        <a:pt x="57" y="10"/>
                      </a:lnTo>
                      <a:lnTo>
                        <a:pt x="78" y="10"/>
                      </a:lnTo>
                      <a:lnTo>
                        <a:pt x="95" y="29"/>
                      </a:lnTo>
                      <a:lnTo>
                        <a:pt x="110" y="59"/>
                      </a:lnTo>
                      <a:lnTo>
                        <a:pt x="126" y="69"/>
                      </a:lnTo>
                      <a:lnTo>
                        <a:pt x="143" y="78"/>
                      </a:lnTo>
                      <a:lnTo>
                        <a:pt x="159" y="78"/>
                      </a:lnTo>
                      <a:lnTo>
                        <a:pt x="175" y="78"/>
                      </a:lnTo>
                      <a:lnTo>
                        <a:pt x="196" y="59"/>
                      </a:lnTo>
                      <a:lnTo>
                        <a:pt x="212" y="49"/>
                      </a:lnTo>
                      <a:lnTo>
                        <a:pt x="250" y="29"/>
                      </a:lnTo>
                      <a:lnTo>
                        <a:pt x="265" y="0"/>
                      </a:lnTo>
                      <a:lnTo>
                        <a:pt x="281" y="0"/>
                      </a:lnTo>
                      <a:lnTo>
                        <a:pt x="303" y="59"/>
                      </a:lnTo>
                      <a:lnTo>
                        <a:pt x="319" y="69"/>
                      </a:lnTo>
                      <a:lnTo>
                        <a:pt x="340" y="88"/>
                      </a:lnTo>
                      <a:lnTo>
                        <a:pt x="356" y="98"/>
                      </a:lnTo>
                      <a:lnTo>
                        <a:pt x="372" y="98"/>
                      </a:lnTo>
                      <a:lnTo>
                        <a:pt x="388" y="88"/>
                      </a:lnTo>
                      <a:lnTo>
                        <a:pt x="404" y="59"/>
                      </a:lnTo>
                      <a:lnTo>
                        <a:pt x="420" y="39"/>
                      </a:lnTo>
                      <a:lnTo>
                        <a:pt x="442" y="39"/>
                      </a:lnTo>
                      <a:lnTo>
                        <a:pt x="458" y="39"/>
                      </a:lnTo>
                      <a:lnTo>
                        <a:pt x="474" y="39"/>
                      </a:lnTo>
                      <a:lnTo>
                        <a:pt x="490" y="39"/>
                      </a:lnTo>
                      <a:lnTo>
                        <a:pt x="506" y="59"/>
                      </a:lnTo>
                      <a:lnTo>
                        <a:pt x="522" y="78"/>
                      </a:lnTo>
                      <a:lnTo>
                        <a:pt x="538" y="98"/>
                      </a:lnTo>
                      <a:lnTo>
                        <a:pt x="554" y="98"/>
                      </a:lnTo>
                      <a:lnTo>
                        <a:pt x="570" y="98"/>
                      </a:lnTo>
                      <a:lnTo>
                        <a:pt x="586" y="98"/>
                      </a:lnTo>
                      <a:lnTo>
                        <a:pt x="602" y="78"/>
                      </a:lnTo>
                      <a:lnTo>
                        <a:pt x="624" y="49"/>
                      </a:lnTo>
                      <a:lnTo>
                        <a:pt x="645" y="39"/>
                      </a:lnTo>
                      <a:lnTo>
                        <a:pt x="661" y="19"/>
                      </a:lnTo>
                      <a:lnTo>
                        <a:pt x="693" y="19"/>
                      </a:lnTo>
                      <a:lnTo>
                        <a:pt x="709" y="10"/>
                      </a:lnTo>
                      <a:lnTo>
                        <a:pt x="731" y="10"/>
                      </a:lnTo>
                      <a:lnTo>
                        <a:pt x="747" y="19"/>
                      </a:lnTo>
                      <a:lnTo>
                        <a:pt x="758" y="49"/>
                      </a:lnTo>
                      <a:lnTo>
                        <a:pt x="774" y="78"/>
                      </a:lnTo>
                      <a:lnTo>
                        <a:pt x="790" y="107"/>
                      </a:lnTo>
                      <a:lnTo>
                        <a:pt x="806" y="107"/>
                      </a:lnTo>
                      <a:lnTo>
                        <a:pt x="827" y="107"/>
                      </a:lnTo>
                      <a:lnTo>
                        <a:pt x="859" y="107"/>
                      </a:lnTo>
                      <a:lnTo>
                        <a:pt x="876" y="98"/>
                      </a:lnTo>
                      <a:lnTo>
                        <a:pt x="891" y="69"/>
                      </a:lnTo>
                      <a:lnTo>
                        <a:pt x="907" y="39"/>
                      </a:lnTo>
                      <a:lnTo>
                        <a:pt x="924" y="39"/>
                      </a:lnTo>
                      <a:lnTo>
                        <a:pt x="956" y="29"/>
                      </a:lnTo>
                      <a:lnTo>
                        <a:pt x="972" y="19"/>
                      </a:lnTo>
                      <a:lnTo>
                        <a:pt x="988" y="19"/>
                      </a:lnTo>
                      <a:lnTo>
                        <a:pt x="1009" y="59"/>
                      </a:lnTo>
                      <a:lnTo>
                        <a:pt x="1025" y="78"/>
                      </a:lnTo>
                      <a:lnTo>
                        <a:pt x="1036" y="107"/>
                      </a:lnTo>
                      <a:lnTo>
                        <a:pt x="1052" y="117"/>
                      </a:lnTo>
                      <a:lnTo>
                        <a:pt x="1068" y="117"/>
                      </a:lnTo>
                      <a:lnTo>
                        <a:pt x="1079" y="88"/>
                      </a:lnTo>
                      <a:lnTo>
                        <a:pt x="1095" y="69"/>
                      </a:lnTo>
                      <a:lnTo>
                        <a:pt x="1106" y="39"/>
                      </a:lnTo>
                      <a:lnTo>
                        <a:pt x="1122" y="39"/>
                      </a:lnTo>
                      <a:lnTo>
                        <a:pt x="1138" y="39"/>
                      </a:lnTo>
                      <a:lnTo>
                        <a:pt x="1154" y="39"/>
                      </a:lnTo>
                      <a:lnTo>
                        <a:pt x="1170" y="49"/>
                      </a:lnTo>
                      <a:lnTo>
                        <a:pt x="1180" y="78"/>
                      </a:lnTo>
                      <a:lnTo>
                        <a:pt x="1196" y="98"/>
                      </a:lnTo>
                      <a:lnTo>
                        <a:pt x="1213" y="117"/>
                      </a:lnTo>
                      <a:lnTo>
                        <a:pt x="1229" y="117"/>
                      </a:lnTo>
                      <a:lnTo>
                        <a:pt x="1245" y="117"/>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594880" y="2036520"/>
                  <a:ext cx="1977840" cy="187560"/>
                </a:xfrm>
                <a:custGeom>
                  <a:avLst/>
                  <a:gdLst/>
                  <a:ahLst/>
                  <a:rect l="l" t="t" r="r" b="b"/>
                  <a:pathLst>
                    <a:path w="1246" h="118">
                      <a:moveTo>
                        <a:pt x="0" y="67"/>
                      </a:moveTo>
                      <a:lnTo>
                        <a:pt x="19" y="49"/>
                      </a:lnTo>
                      <a:lnTo>
                        <a:pt x="25" y="19"/>
                      </a:lnTo>
                      <a:lnTo>
                        <a:pt x="41" y="10"/>
                      </a:lnTo>
                      <a:lnTo>
                        <a:pt x="57" y="10"/>
                      </a:lnTo>
                      <a:lnTo>
                        <a:pt x="78" y="10"/>
                      </a:lnTo>
                      <a:lnTo>
                        <a:pt x="95" y="29"/>
                      </a:lnTo>
                      <a:lnTo>
                        <a:pt x="110" y="59"/>
                      </a:lnTo>
                      <a:lnTo>
                        <a:pt x="126" y="69"/>
                      </a:lnTo>
                      <a:lnTo>
                        <a:pt x="143" y="78"/>
                      </a:lnTo>
                      <a:lnTo>
                        <a:pt x="159" y="78"/>
                      </a:lnTo>
                      <a:lnTo>
                        <a:pt x="175" y="78"/>
                      </a:lnTo>
                      <a:lnTo>
                        <a:pt x="196" y="59"/>
                      </a:lnTo>
                      <a:lnTo>
                        <a:pt x="212" y="49"/>
                      </a:lnTo>
                      <a:lnTo>
                        <a:pt x="250" y="29"/>
                      </a:lnTo>
                      <a:lnTo>
                        <a:pt x="265" y="0"/>
                      </a:lnTo>
                      <a:lnTo>
                        <a:pt x="281" y="0"/>
                      </a:lnTo>
                      <a:lnTo>
                        <a:pt x="303" y="59"/>
                      </a:lnTo>
                      <a:lnTo>
                        <a:pt x="319" y="69"/>
                      </a:lnTo>
                      <a:lnTo>
                        <a:pt x="340" y="88"/>
                      </a:lnTo>
                      <a:lnTo>
                        <a:pt x="356" y="98"/>
                      </a:lnTo>
                      <a:lnTo>
                        <a:pt x="372" y="98"/>
                      </a:lnTo>
                      <a:lnTo>
                        <a:pt x="388" y="88"/>
                      </a:lnTo>
                      <a:lnTo>
                        <a:pt x="404" y="59"/>
                      </a:lnTo>
                      <a:lnTo>
                        <a:pt x="420" y="39"/>
                      </a:lnTo>
                      <a:lnTo>
                        <a:pt x="442" y="39"/>
                      </a:lnTo>
                      <a:lnTo>
                        <a:pt x="458" y="39"/>
                      </a:lnTo>
                      <a:lnTo>
                        <a:pt x="474" y="39"/>
                      </a:lnTo>
                      <a:lnTo>
                        <a:pt x="490" y="39"/>
                      </a:lnTo>
                      <a:lnTo>
                        <a:pt x="506" y="59"/>
                      </a:lnTo>
                      <a:lnTo>
                        <a:pt x="522" y="78"/>
                      </a:lnTo>
                      <a:lnTo>
                        <a:pt x="538" y="98"/>
                      </a:lnTo>
                      <a:lnTo>
                        <a:pt x="554" y="98"/>
                      </a:lnTo>
                      <a:lnTo>
                        <a:pt x="570" y="98"/>
                      </a:lnTo>
                      <a:lnTo>
                        <a:pt x="586" y="98"/>
                      </a:lnTo>
                      <a:lnTo>
                        <a:pt x="602" y="78"/>
                      </a:lnTo>
                      <a:lnTo>
                        <a:pt x="624" y="49"/>
                      </a:lnTo>
                      <a:lnTo>
                        <a:pt x="645" y="39"/>
                      </a:lnTo>
                      <a:lnTo>
                        <a:pt x="661" y="19"/>
                      </a:lnTo>
                      <a:lnTo>
                        <a:pt x="693" y="19"/>
                      </a:lnTo>
                      <a:lnTo>
                        <a:pt x="709" y="10"/>
                      </a:lnTo>
                      <a:lnTo>
                        <a:pt x="731" y="10"/>
                      </a:lnTo>
                      <a:lnTo>
                        <a:pt x="747" y="19"/>
                      </a:lnTo>
                      <a:lnTo>
                        <a:pt x="758" y="49"/>
                      </a:lnTo>
                      <a:lnTo>
                        <a:pt x="774" y="78"/>
                      </a:lnTo>
                      <a:lnTo>
                        <a:pt x="790" y="107"/>
                      </a:lnTo>
                      <a:lnTo>
                        <a:pt x="806" y="107"/>
                      </a:lnTo>
                      <a:lnTo>
                        <a:pt x="827" y="107"/>
                      </a:lnTo>
                      <a:lnTo>
                        <a:pt x="859" y="107"/>
                      </a:lnTo>
                      <a:lnTo>
                        <a:pt x="876" y="98"/>
                      </a:lnTo>
                      <a:lnTo>
                        <a:pt x="891" y="69"/>
                      </a:lnTo>
                      <a:lnTo>
                        <a:pt x="907" y="39"/>
                      </a:lnTo>
                      <a:lnTo>
                        <a:pt x="924" y="39"/>
                      </a:lnTo>
                      <a:lnTo>
                        <a:pt x="956" y="29"/>
                      </a:lnTo>
                      <a:lnTo>
                        <a:pt x="972" y="19"/>
                      </a:lnTo>
                      <a:lnTo>
                        <a:pt x="988" y="19"/>
                      </a:lnTo>
                      <a:lnTo>
                        <a:pt x="1009" y="59"/>
                      </a:lnTo>
                      <a:lnTo>
                        <a:pt x="1025" y="78"/>
                      </a:lnTo>
                      <a:lnTo>
                        <a:pt x="1036" y="107"/>
                      </a:lnTo>
                      <a:lnTo>
                        <a:pt x="1052" y="117"/>
                      </a:lnTo>
                      <a:lnTo>
                        <a:pt x="1068" y="117"/>
                      </a:lnTo>
                      <a:lnTo>
                        <a:pt x="1079" y="88"/>
                      </a:lnTo>
                      <a:lnTo>
                        <a:pt x="1095" y="69"/>
                      </a:lnTo>
                      <a:lnTo>
                        <a:pt x="1106" y="39"/>
                      </a:lnTo>
                      <a:lnTo>
                        <a:pt x="1122" y="39"/>
                      </a:lnTo>
                      <a:lnTo>
                        <a:pt x="1138" y="39"/>
                      </a:lnTo>
                      <a:lnTo>
                        <a:pt x="1154" y="39"/>
                      </a:lnTo>
                      <a:lnTo>
                        <a:pt x="1170" y="49"/>
                      </a:lnTo>
                      <a:lnTo>
                        <a:pt x="1180" y="78"/>
                      </a:lnTo>
                      <a:lnTo>
                        <a:pt x="1196" y="98"/>
                      </a:lnTo>
                      <a:lnTo>
                        <a:pt x="1213" y="117"/>
                      </a:lnTo>
                      <a:lnTo>
                        <a:pt x="1229" y="117"/>
                      </a:lnTo>
                      <a:lnTo>
                        <a:pt x="1245" y="117"/>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594880" y="2238120"/>
                  <a:ext cx="1977840" cy="185760"/>
                </a:xfrm>
                <a:custGeom>
                  <a:avLst/>
                  <a:gdLst/>
                  <a:ahLst/>
                  <a:rect l="l" t="t" r="r" b="b"/>
                  <a:pathLst>
                    <a:path w="1246" h="117">
                      <a:moveTo>
                        <a:pt x="0" y="66"/>
                      </a:moveTo>
                      <a:lnTo>
                        <a:pt x="19" y="49"/>
                      </a:lnTo>
                      <a:lnTo>
                        <a:pt x="25" y="19"/>
                      </a:lnTo>
                      <a:lnTo>
                        <a:pt x="41" y="10"/>
                      </a:lnTo>
                      <a:lnTo>
                        <a:pt x="57" y="10"/>
                      </a:lnTo>
                      <a:lnTo>
                        <a:pt x="78" y="10"/>
                      </a:lnTo>
                      <a:lnTo>
                        <a:pt x="95" y="29"/>
                      </a:lnTo>
                      <a:lnTo>
                        <a:pt x="110" y="58"/>
                      </a:lnTo>
                      <a:lnTo>
                        <a:pt x="126" y="68"/>
                      </a:lnTo>
                      <a:lnTo>
                        <a:pt x="143" y="78"/>
                      </a:lnTo>
                      <a:lnTo>
                        <a:pt x="159" y="78"/>
                      </a:lnTo>
                      <a:lnTo>
                        <a:pt x="175" y="78"/>
                      </a:lnTo>
                      <a:lnTo>
                        <a:pt x="196" y="58"/>
                      </a:lnTo>
                      <a:lnTo>
                        <a:pt x="212" y="49"/>
                      </a:lnTo>
                      <a:lnTo>
                        <a:pt x="250" y="29"/>
                      </a:lnTo>
                      <a:lnTo>
                        <a:pt x="265" y="0"/>
                      </a:lnTo>
                      <a:lnTo>
                        <a:pt x="281" y="0"/>
                      </a:lnTo>
                      <a:lnTo>
                        <a:pt x="303" y="58"/>
                      </a:lnTo>
                      <a:lnTo>
                        <a:pt x="319" y="68"/>
                      </a:lnTo>
                      <a:lnTo>
                        <a:pt x="340" y="87"/>
                      </a:lnTo>
                      <a:lnTo>
                        <a:pt x="356" y="97"/>
                      </a:lnTo>
                      <a:lnTo>
                        <a:pt x="372" y="97"/>
                      </a:lnTo>
                      <a:lnTo>
                        <a:pt x="388" y="87"/>
                      </a:lnTo>
                      <a:lnTo>
                        <a:pt x="404" y="58"/>
                      </a:lnTo>
                      <a:lnTo>
                        <a:pt x="420" y="38"/>
                      </a:lnTo>
                      <a:lnTo>
                        <a:pt x="442" y="38"/>
                      </a:lnTo>
                      <a:lnTo>
                        <a:pt x="458" y="38"/>
                      </a:lnTo>
                      <a:lnTo>
                        <a:pt x="474" y="38"/>
                      </a:lnTo>
                      <a:lnTo>
                        <a:pt x="490" y="38"/>
                      </a:lnTo>
                      <a:lnTo>
                        <a:pt x="506" y="58"/>
                      </a:lnTo>
                      <a:lnTo>
                        <a:pt x="522" y="78"/>
                      </a:lnTo>
                      <a:lnTo>
                        <a:pt x="538" y="97"/>
                      </a:lnTo>
                      <a:lnTo>
                        <a:pt x="554" y="97"/>
                      </a:lnTo>
                      <a:lnTo>
                        <a:pt x="570" y="97"/>
                      </a:lnTo>
                      <a:lnTo>
                        <a:pt x="586" y="97"/>
                      </a:lnTo>
                      <a:lnTo>
                        <a:pt x="602" y="78"/>
                      </a:lnTo>
                      <a:lnTo>
                        <a:pt x="624" y="49"/>
                      </a:lnTo>
                      <a:lnTo>
                        <a:pt x="645" y="38"/>
                      </a:lnTo>
                      <a:lnTo>
                        <a:pt x="661" y="19"/>
                      </a:lnTo>
                      <a:lnTo>
                        <a:pt x="693" y="19"/>
                      </a:lnTo>
                      <a:lnTo>
                        <a:pt x="709" y="10"/>
                      </a:lnTo>
                      <a:lnTo>
                        <a:pt x="731" y="10"/>
                      </a:lnTo>
                      <a:lnTo>
                        <a:pt x="747" y="19"/>
                      </a:lnTo>
                      <a:lnTo>
                        <a:pt x="758" y="49"/>
                      </a:lnTo>
                      <a:lnTo>
                        <a:pt x="774" y="78"/>
                      </a:lnTo>
                      <a:lnTo>
                        <a:pt x="790" y="107"/>
                      </a:lnTo>
                      <a:lnTo>
                        <a:pt x="806" y="107"/>
                      </a:lnTo>
                      <a:lnTo>
                        <a:pt x="827" y="107"/>
                      </a:lnTo>
                      <a:lnTo>
                        <a:pt x="859" y="107"/>
                      </a:lnTo>
                      <a:lnTo>
                        <a:pt x="876" y="97"/>
                      </a:lnTo>
                      <a:lnTo>
                        <a:pt x="891" y="68"/>
                      </a:lnTo>
                      <a:lnTo>
                        <a:pt x="907" y="38"/>
                      </a:lnTo>
                      <a:lnTo>
                        <a:pt x="924" y="38"/>
                      </a:lnTo>
                      <a:lnTo>
                        <a:pt x="956" y="29"/>
                      </a:lnTo>
                      <a:lnTo>
                        <a:pt x="972" y="19"/>
                      </a:lnTo>
                      <a:lnTo>
                        <a:pt x="988" y="19"/>
                      </a:lnTo>
                      <a:lnTo>
                        <a:pt x="1009" y="58"/>
                      </a:lnTo>
                      <a:lnTo>
                        <a:pt x="1025" y="78"/>
                      </a:lnTo>
                      <a:lnTo>
                        <a:pt x="1036" y="107"/>
                      </a:lnTo>
                      <a:lnTo>
                        <a:pt x="1052" y="116"/>
                      </a:lnTo>
                      <a:lnTo>
                        <a:pt x="1068" y="116"/>
                      </a:lnTo>
                      <a:lnTo>
                        <a:pt x="1079" y="87"/>
                      </a:lnTo>
                      <a:lnTo>
                        <a:pt x="1095" y="68"/>
                      </a:lnTo>
                      <a:lnTo>
                        <a:pt x="1106" y="38"/>
                      </a:lnTo>
                      <a:lnTo>
                        <a:pt x="1122" y="38"/>
                      </a:lnTo>
                      <a:lnTo>
                        <a:pt x="1138" y="38"/>
                      </a:lnTo>
                      <a:lnTo>
                        <a:pt x="1154" y="38"/>
                      </a:lnTo>
                      <a:lnTo>
                        <a:pt x="1170" y="49"/>
                      </a:lnTo>
                      <a:lnTo>
                        <a:pt x="1180" y="78"/>
                      </a:lnTo>
                      <a:lnTo>
                        <a:pt x="1196" y="97"/>
                      </a:lnTo>
                      <a:lnTo>
                        <a:pt x="1213" y="116"/>
                      </a:lnTo>
                      <a:lnTo>
                        <a:pt x="1229" y="116"/>
                      </a:lnTo>
                      <a:lnTo>
                        <a:pt x="1245" y="116"/>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594880" y="2438280"/>
                  <a:ext cx="1977840" cy="187200"/>
                </a:xfrm>
                <a:custGeom>
                  <a:avLst/>
                  <a:gdLst/>
                  <a:ahLst/>
                  <a:rect l="l" t="t" r="r" b="b"/>
                  <a:pathLst>
                    <a:path w="1246" h="118">
                      <a:moveTo>
                        <a:pt x="0" y="67"/>
                      </a:moveTo>
                      <a:lnTo>
                        <a:pt x="19" y="49"/>
                      </a:lnTo>
                      <a:lnTo>
                        <a:pt x="25" y="19"/>
                      </a:lnTo>
                      <a:lnTo>
                        <a:pt x="41" y="10"/>
                      </a:lnTo>
                      <a:lnTo>
                        <a:pt x="57" y="10"/>
                      </a:lnTo>
                      <a:lnTo>
                        <a:pt x="78" y="10"/>
                      </a:lnTo>
                      <a:lnTo>
                        <a:pt x="95" y="29"/>
                      </a:lnTo>
                      <a:lnTo>
                        <a:pt x="110" y="59"/>
                      </a:lnTo>
                      <a:lnTo>
                        <a:pt x="126" y="69"/>
                      </a:lnTo>
                      <a:lnTo>
                        <a:pt x="143" y="78"/>
                      </a:lnTo>
                      <a:lnTo>
                        <a:pt x="159" y="78"/>
                      </a:lnTo>
                      <a:lnTo>
                        <a:pt x="175" y="78"/>
                      </a:lnTo>
                      <a:lnTo>
                        <a:pt x="196" y="59"/>
                      </a:lnTo>
                      <a:lnTo>
                        <a:pt x="212" y="49"/>
                      </a:lnTo>
                      <a:lnTo>
                        <a:pt x="250" y="29"/>
                      </a:lnTo>
                      <a:lnTo>
                        <a:pt x="265" y="0"/>
                      </a:lnTo>
                      <a:lnTo>
                        <a:pt x="281" y="0"/>
                      </a:lnTo>
                      <a:lnTo>
                        <a:pt x="303" y="59"/>
                      </a:lnTo>
                      <a:lnTo>
                        <a:pt x="319" y="69"/>
                      </a:lnTo>
                      <a:lnTo>
                        <a:pt x="340" y="88"/>
                      </a:lnTo>
                      <a:lnTo>
                        <a:pt x="356" y="98"/>
                      </a:lnTo>
                      <a:lnTo>
                        <a:pt x="372" y="98"/>
                      </a:lnTo>
                      <a:lnTo>
                        <a:pt x="388" y="88"/>
                      </a:lnTo>
                      <a:lnTo>
                        <a:pt x="404" y="59"/>
                      </a:lnTo>
                      <a:lnTo>
                        <a:pt x="420" y="39"/>
                      </a:lnTo>
                      <a:lnTo>
                        <a:pt x="442" y="39"/>
                      </a:lnTo>
                      <a:lnTo>
                        <a:pt x="458" y="39"/>
                      </a:lnTo>
                      <a:lnTo>
                        <a:pt x="474" y="39"/>
                      </a:lnTo>
                      <a:lnTo>
                        <a:pt x="490" y="39"/>
                      </a:lnTo>
                      <a:lnTo>
                        <a:pt x="506" y="59"/>
                      </a:lnTo>
                      <a:lnTo>
                        <a:pt x="522" y="78"/>
                      </a:lnTo>
                      <a:lnTo>
                        <a:pt x="538" y="98"/>
                      </a:lnTo>
                      <a:lnTo>
                        <a:pt x="554" y="98"/>
                      </a:lnTo>
                      <a:lnTo>
                        <a:pt x="570" y="98"/>
                      </a:lnTo>
                      <a:lnTo>
                        <a:pt x="586" y="98"/>
                      </a:lnTo>
                      <a:lnTo>
                        <a:pt x="602" y="78"/>
                      </a:lnTo>
                      <a:lnTo>
                        <a:pt x="624" y="49"/>
                      </a:lnTo>
                      <a:lnTo>
                        <a:pt x="645" y="39"/>
                      </a:lnTo>
                      <a:lnTo>
                        <a:pt x="661" y="19"/>
                      </a:lnTo>
                      <a:lnTo>
                        <a:pt x="693" y="19"/>
                      </a:lnTo>
                      <a:lnTo>
                        <a:pt x="709" y="10"/>
                      </a:lnTo>
                      <a:lnTo>
                        <a:pt x="731" y="10"/>
                      </a:lnTo>
                      <a:lnTo>
                        <a:pt x="747" y="19"/>
                      </a:lnTo>
                      <a:lnTo>
                        <a:pt x="758" y="49"/>
                      </a:lnTo>
                      <a:lnTo>
                        <a:pt x="774" y="78"/>
                      </a:lnTo>
                      <a:lnTo>
                        <a:pt x="790" y="107"/>
                      </a:lnTo>
                      <a:lnTo>
                        <a:pt x="806" y="107"/>
                      </a:lnTo>
                      <a:lnTo>
                        <a:pt x="827" y="107"/>
                      </a:lnTo>
                      <a:lnTo>
                        <a:pt x="859" y="107"/>
                      </a:lnTo>
                      <a:lnTo>
                        <a:pt x="876" y="98"/>
                      </a:lnTo>
                      <a:lnTo>
                        <a:pt x="891" y="69"/>
                      </a:lnTo>
                      <a:lnTo>
                        <a:pt x="907" y="39"/>
                      </a:lnTo>
                      <a:lnTo>
                        <a:pt x="924" y="39"/>
                      </a:lnTo>
                      <a:lnTo>
                        <a:pt x="956" y="29"/>
                      </a:lnTo>
                      <a:lnTo>
                        <a:pt x="972" y="19"/>
                      </a:lnTo>
                      <a:lnTo>
                        <a:pt x="988" y="19"/>
                      </a:lnTo>
                      <a:lnTo>
                        <a:pt x="1009" y="59"/>
                      </a:lnTo>
                      <a:lnTo>
                        <a:pt x="1025" y="78"/>
                      </a:lnTo>
                      <a:lnTo>
                        <a:pt x="1036" y="107"/>
                      </a:lnTo>
                      <a:lnTo>
                        <a:pt x="1052" y="117"/>
                      </a:lnTo>
                      <a:lnTo>
                        <a:pt x="1068" y="117"/>
                      </a:lnTo>
                      <a:lnTo>
                        <a:pt x="1079" y="88"/>
                      </a:lnTo>
                      <a:lnTo>
                        <a:pt x="1095" y="69"/>
                      </a:lnTo>
                      <a:lnTo>
                        <a:pt x="1106" y="39"/>
                      </a:lnTo>
                      <a:lnTo>
                        <a:pt x="1122" y="39"/>
                      </a:lnTo>
                      <a:lnTo>
                        <a:pt x="1138" y="39"/>
                      </a:lnTo>
                      <a:lnTo>
                        <a:pt x="1154" y="39"/>
                      </a:lnTo>
                      <a:lnTo>
                        <a:pt x="1170" y="49"/>
                      </a:lnTo>
                      <a:lnTo>
                        <a:pt x="1180" y="78"/>
                      </a:lnTo>
                      <a:lnTo>
                        <a:pt x="1196" y="98"/>
                      </a:lnTo>
                      <a:lnTo>
                        <a:pt x="1213" y="117"/>
                      </a:lnTo>
                      <a:lnTo>
                        <a:pt x="1229" y="117"/>
                      </a:lnTo>
                      <a:lnTo>
                        <a:pt x="1245" y="117"/>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 name=""/>
              <p:cNvSpPr/>
              <p:nvPr/>
            </p:nvSpPr>
            <p:spPr>
              <a:xfrm>
                <a:off x="2127240" y="1066680"/>
                <a:ext cx="472680" cy="1905120"/>
              </a:xfrm>
              <a:prstGeom prst="rect">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1219320" y="1441440"/>
              <a:ext cx="838080" cy="762120"/>
            </a:xfrm>
            <a:prstGeom prst="rightArrow">
              <a:avLst>
                <a:gd name="adj1" fmla="val 50000"/>
                <a:gd name="adj2" fmla="val 27502"/>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8077320" y="1441440"/>
              <a:ext cx="838080" cy="762120"/>
            </a:xfrm>
            <a:prstGeom prst="rightArrow">
              <a:avLst>
                <a:gd name="adj1" fmla="val 50000"/>
                <a:gd name="adj2" fmla="val 27502"/>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 name=""/>
            <p:cNvGrpSpPr/>
            <p:nvPr/>
          </p:nvGrpSpPr>
          <p:grpSpPr>
            <a:xfrm>
              <a:off x="5562720" y="1066680"/>
              <a:ext cx="2444760" cy="1905120"/>
              <a:chOff x="5562720" y="1066680"/>
              <a:chExt cx="2444760" cy="1905120"/>
            </a:xfrm>
          </p:grpSpPr>
          <p:sp>
            <p:nvSpPr>
              <p:cNvPr id="88" name=""/>
              <p:cNvSpPr/>
              <p:nvPr/>
            </p:nvSpPr>
            <p:spPr>
              <a:xfrm>
                <a:off x="7534440" y="1066680"/>
                <a:ext cx="473040" cy="1905120"/>
              </a:xfrm>
              <a:prstGeom prst="rect">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 name=""/>
              <p:cNvGrpSpPr/>
              <p:nvPr/>
            </p:nvGrpSpPr>
            <p:grpSpPr>
              <a:xfrm>
                <a:off x="5562720" y="1301760"/>
                <a:ext cx="1982880" cy="1457280"/>
                <a:chOff x="5562720" y="1301760"/>
                <a:chExt cx="1982880" cy="1457280"/>
              </a:xfrm>
            </p:grpSpPr>
            <p:sp>
              <p:nvSpPr>
                <p:cNvPr id="90" name=""/>
                <p:cNvSpPr/>
                <p:nvPr/>
              </p:nvSpPr>
              <p:spPr>
                <a:xfrm>
                  <a:off x="5567400" y="1301760"/>
                  <a:ext cx="1978200" cy="187200"/>
                </a:xfrm>
                <a:custGeom>
                  <a:avLst/>
                  <a:gdLst/>
                  <a:ahLst/>
                  <a:rect l="l" t="t" r="r" b="b"/>
                  <a:pathLst>
                    <a:path w="1246" h="118">
                      <a:moveTo>
                        <a:pt x="0" y="67"/>
                      </a:moveTo>
                      <a:lnTo>
                        <a:pt x="19" y="49"/>
                      </a:lnTo>
                      <a:lnTo>
                        <a:pt x="25" y="19"/>
                      </a:lnTo>
                      <a:lnTo>
                        <a:pt x="41" y="10"/>
                      </a:lnTo>
                      <a:lnTo>
                        <a:pt x="57" y="10"/>
                      </a:lnTo>
                      <a:lnTo>
                        <a:pt x="78" y="10"/>
                      </a:lnTo>
                      <a:lnTo>
                        <a:pt x="95" y="29"/>
                      </a:lnTo>
                      <a:lnTo>
                        <a:pt x="110" y="59"/>
                      </a:lnTo>
                      <a:lnTo>
                        <a:pt x="126" y="69"/>
                      </a:lnTo>
                      <a:lnTo>
                        <a:pt x="143" y="78"/>
                      </a:lnTo>
                      <a:lnTo>
                        <a:pt x="159" y="78"/>
                      </a:lnTo>
                      <a:lnTo>
                        <a:pt x="175" y="78"/>
                      </a:lnTo>
                      <a:lnTo>
                        <a:pt x="196" y="59"/>
                      </a:lnTo>
                      <a:lnTo>
                        <a:pt x="212" y="49"/>
                      </a:lnTo>
                      <a:lnTo>
                        <a:pt x="250" y="29"/>
                      </a:lnTo>
                      <a:lnTo>
                        <a:pt x="265" y="0"/>
                      </a:lnTo>
                      <a:lnTo>
                        <a:pt x="281" y="0"/>
                      </a:lnTo>
                      <a:lnTo>
                        <a:pt x="303" y="59"/>
                      </a:lnTo>
                      <a:lnTo>
                        <a:pt x="319" y="69"/>
                      </a:lnTo>
                      <a:lnTo>
                        <a:pt x="340" y="88"/>
                      </a:lnTo>
                      <a:lnTo>
                        <a:pt x="356" y="98"/>
                      </a:lnTo>
                      <a:lnTo>
                        <a:pt x="372" y="98"/>
                      </a:lnTo>
                      <a:lnTo>
                        <a:pt x="388" y="88"/>
                      </a:lnTo>
                      <a:lnTo>
                        <a:pt x="404" y="59"/>
                      </a:lnTo>
                      <a:lnTo>
                        <a:pt x="420" y="39"/>
                      </a:lnTo>
                      <a:lnTo>
                        <a:pt x="442" y="39"/>
                      </a:lnTo>
                      <a:lnTo>
                        <a:pt x="458" y="39"/>
                      </a:lnTo>
                      <a:lnTo>
                        <a:pt x="474" y="39"/>
                      </a:lnTo>
                      <a:lnTo>
                        <a:pt x="490" y="39"/>
                      </a:lnTo>
                      <a:lnTo>
                        <a:pt x="506" y="59"/>
                      </a:lnTo>
                      <a:lnTo>
                        <a:pt x="522" y="78"/>
                      </a:lnTo>
                      <a:lnTo>
                        <a:pt x="538" y="98"/>
                      </a:lnTo>
                      <a:lnTo>
                        <a:pt x="554" y="98"/>
                      </a:lnTo>
                      <a:lnTo>
                        <a:pt x="570" y="98"/>
                      </a:lnTo>
                      <a:lnTo>
                        <a:pt x="586" y="98"/>
                      </a:lnTo>
                      <a:lnTo>
                        <a:pt x="602" y="78"/>
                      </a:lnTo>
                      <a:lnTo>
                        <a:pt x="624" y="49"/>
                      </a:lnTo>
                      <a:lnTo>
                        <a:pt x="645" y="39"/>
                      </a:lnTo>
                      <a:lnTo>
                        <a:pt x="661" y="19"/>
                      </a:lnTo>
                      <a:lnTo>
                        <a:pt x="693" y="19"/>
                      </a:lnTo>
                      <a:lnTo>
                        <a:pt x="709" y="10"/>
                      </a:lnTo>
                      <a:lnTo>
                        <a:pt x="731" y="10"/>
                      </a:lnTo>
                      <a:lnTo>
                        <a:pt x="747" y="19"/>
                      </a:lnTo>
                      <a:lnTo>
                        <a:pt x="758" y="49"/>
                      </a:lnTo>
                      <a:lnTo>
                        <a:pt x="774" y="78"/>
                      </a:lnTo>
                      <a:lnTo>
                        <a:pt x="790" y="107"/>
                      </a:lnTo>
                      <a:lnTo>
                        <a:pt x="806" y="107"/>
                      </a:lnTo>
                      <a:lnTo>
                        <a:pt x="827" y="107"/>
                      </a:lnTo>
                      <a:lnTo>
                        <a:pt x="859" y="107"/>
                      </a:lnTo>
                      <a:lnTo>
                        <a:pt x="876" y="98"/>
                      </a:lnTo>
                      <a:lnTo>
                        <a:pt x="891" y="69"/>
                      </a:lnTo>
                      <a:lnTo>
                        <a:pt x="907" y="39"/>
                      </a:lnTo>
                      <a:lnTo>
                        <a:pt x="924" y="39"/>
                      </a:lnTo>
                      <a:lnTo>
                        <a:pt x="956" y="29"/>
                      </a:lnTo>
                      <a:lnTo>
                        <a:pt x="972" y="19"/>
                      </a:lnTo>
                      <a:lnTo>
                        <a:pt x="988" y="19"/>
                      </a:lnTo>
                      <a:lnTo>
                        <a:pt x="1009" y="59"/>
                      </a:lnTo>
                      <a:lnTo>
                        <a:pt x="1025" y="78"/>
                      </a:lnTo>
                      <a:lnTo>
                        <a:pt x="1036" y="107"/>
                      </a:lnTo>
                      <a:lnTo>
                        <a:pt x="1052" y="117"/>
                      </a:lnTo>
                      <a:lnTo>
                        <a:pt x="1068" y="117"/>
                      </a:lnTo>
                      <a:lnTo>
                        <a:pt x="1079" y="88"/>
                      </a:lnTo>
                      <a:lnTo>
                        <a:pt x="1095" y="69"/>
                      </a:lnTo>
                      <a:lnTo>
                        <a:pt x="1106" y="39"/>
                      </a:lnTo>
                      <a:lnTo>
                        <a:pt x="1122" y="39"/>
                      </a:lnTo>
                      <a:lnTo>
                        <a:pt x="1138" y="39"/>
                      </a:lnTo>
                      <a:lnTo>
                        <a:pt x="1154" y="39"/>
                      </a:lnTo>
                      <a:lnTo>
                        <a:pt x="1170" y="49"/>
                      </a:lnTo>
                      <a:lnTo>
                        <a:pt x="1180" y="78"/>
                      </a:lnTo>
                      <a:lnTo>
                        <a:pt x="1196" y="98"/>
                      </a:lnTo>
                      <a:lnTo>
                        <a:pt x="1213" y="117"/>
                      </a:lnTo>
                      <a:lnTo>
                        <a:pt x="1229" y="117"/>
                      </a:lnTo>
                      <a:lnTo>
                        <a:pt x="1245" y="117"/>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567400" y="2571480"/>
                  <a:ext cx="1978200" cy="187560"/>
                </a:xfrm>
                <a:custGeom>
                  <a:avLst/>
                  <a:gdLst/>
                  <a:ahLst/>
                  <a:rect l="l" t="t" r="r" b="b"/>
                  <a:pathLst>
                    <a:path w="1246" h="118">
                      <a:moveTo>
                        <a:pt x="0" y="67"/>
                      </a:moveTo>
                      <a:lnTo>
                        <a:pt x="19" y="49"/>
                      </a:lnTo>
                      <a:lnTo>
                        <a:pt x="25" y="19"/>
                      </a:lnTo>
                      <a:lnTo>
                        <a:pt x="41" y="10"/>
                      </a:lnTo>
                      <a:lnTo>
                        <a:pt x="57" y="10"/>
                      </a:lnTo>
                      <a:lnTo>
                        <a:pt x="78" y="10"/>
                      </a:lnTo>
                      <a:lnTo>
                        <a:pt x="95" y="29"/>
                      </a:lnTo>
                      <a:lnTo>
                        <a:pt x="110" y="59"/>
                      </a:lnTo>
                      <a:lnTo>
                        <a:pt x="126" y="69"/>
                      </a:lnTo>
                      <a:lnTo>
                        <a:pt x="143" y="78"/>
                      </a:lnTo>
                      <a:lnTo>
                        <a:pt x="159" y="78"/>
                      </a:lnTo>
                      <a:lnTo>
                        <a:pt x="175" y="78"/>
                      </a:lnTo>
                      <a:lnTo>
                        <a:pt x="196" y="59"/>
                      </a:lnTo>
                      <a:lnTo>
                        <a:pt x="212" y="49"/>
                      </a:lnTo>
                      <a:lnTo>
                        <a:pt x="250" y="29"/>
                      </a:lnTo>
                      <a:lnTo>
                        <a:pt x="265" y="0"/>
                      </a:lnTo>
                      <a:lnTo>
                        <a:pt x="281" y="0"/>
                      </a:lnTo>
                      <a:lnTo>
                        <a:pt x="303" y="59"/>
                      </a:lnTo>
                      <a:lnTo>
                        <a:pt x="319" y="69"/>
                      </a:lnTo>
                      <a:lnTo>
                        <a:pt x="340" y="88"/>
                      </a:lnTo>
                      <a:lnTo>
                        <a:pt x="356" y="98"/>
                      </a:lnTo>
                      <a:lnTo>
                        <a:pt x="372" y="98"/>
                      </a:lnTo>
                      <a:lnTo>
                        <a:pt x="388" y="88"/>
                      </a:lnTo>
                      <a:lnTo>
                        <a:pt x="404" y="59"/>
                      </a:lnTo>
                      <a:lnTo>
                        <a:pt x="420" y="39"/>
                      </a:lnTo>
                      <a:lnTo>
                        <a:pt x="442" y="39"/>
                      </a:lnTo>
                      <a:lnTo>
                        <a:pt x="458" y="39"/>
                      </a:lnTo>
                      <a:lnTo>
                        <a:pt x="474" y="39"/>
                      </a:lnTo>
                      <a:lnTo>
                        <a:pt x="490" y="39"/>
                      </a:lnTo>
                      <a:lnTo>
                        <a:pt x="506" y="59"/>
                      </a:lnTo>
                      <a:lnTo>
                        <a:pt x="522" y="78"/>
                      </a:lnTo>
                      <a:lnTo>
                        <a:pt x="538" y="98"/>
                      </a:lnTo>
                      <a:lnTo>
                        <a:pt x="554" y="98"/>
                      </a:lnTo>
                      <a:lnTo>
                        <a:pt x="570" y="98"/>
                      </a:lnTo>
                      <a:lnTo>
                        <a:pt x="586" y="98"/>
                      </a:lnTo>
                      <a:lnTo>
                        <a:pt x="602" y="78"/>
                      </a:lnTo>
                      <a:lnTo>
                        <a:pt x="624" y="49"/>
                      </a:lnTo>
                      <a:lnTo>
                        <a:pt x="645" y="39"/>
                      </a:lnTo>
                      <a:lnTo>
                        <a:pt x="661" y="19"/>
                      </a:lnTo>
                      <a:lnTo>
                        <a:pt x="693" y="19"/>
                      </a:lnTo>
                      <a:lnTo>
                        <a:pt x="709" y="10"/>
                      </a:lnTo>
                      <a:lnTo>
                        <a:pt x="731" y="10"/>
                      </a:lnTo>
                      <a:lnTo>
                        <a:pt x="747" y="19"/>
                      </a:lnTo>
                      <a:lnTo>
                        <a:pt x="758" y="49"/>
                      </a:lnTo>
                      <a:lnTo>
                        <a:pt x="774" y="78"/>
                      </a:lnTo>
                      <a:lnTo>
                        <a:pt x="790" y="107"/>
                      </a:lnTo>
                      <a:lnTo>
                        <a:pt x="806" y="107"/>
                      </a:lnTo>
                      <a:lnTo>
                        <a:pt x="827" y="107"/>
                      </a:lnTo>
                      <a:lnTo>
                        <a:pt x="859" y="107"/>
                      </a:lnTo>
                      <a:lnTo>
                        <a:pt x="876" y="98"/>
                      </a:lnTo>
                      <a:lnTo>
                        <a:pt x="891" y="69"/>
                      </a:lnTo>
                      <a:lnTo>
                        <a:pt x="907" y="39"/>
                      </a:lnTo>
                      <a:lnTo>
                        <a:pt x="924" y="39"/>
                      </a:lnTo>
                      <a:lnTo>
                        <a:pt x="956" y="29"/>
                      </a:lnTo>
                      <a:lnTo>
                        <a:pt x="972" y="19"/>
                      </a:lnTo>
                      <a:lnTo>
                        <a:pt x="988" y="19"/>
                      </a:lnTo>
                      <a:lnTo>
                        <a:pt x="1009" y="59"/>
                      </a:lnTo>
                      <a:lnTo>
                        <a:pt x="1025" y="78"/>
                      </a:lnTo>
                      <a:lnTo>
                        <a:pt x="1036" y="107"/>
                      </a:lnTo>
                      <a:lnTo>
                        <a:pt x="1052" y="117"/>
                      </a:lnTo>
                      <a:lnTo>
                        <a:pt x="1068" y="117"/>
                      </a:lnTo>
                      <a:lnTo>
                        <a:pt x="1079" y="88"/>
                      </a:lnTo>
                      <a:lnTo>
                        <a:pt x="1095" y="69"/>
                      </a:lnTo>
                      <a:lnTo>
                        <a:pt x="1106" y="39"/>
                      </a:lnTo>
                      <a:lnTo>
                        <a:pt x="1122" y="39"/>
                      </a:lnTo>
                      <a:lnTo>
                        <a:pt x="1138" y="39"/>
                      </a:lnTo>
                      <a:lnTo>
                        <a:pt x="1154" y="39"/>
                      </a:lnTo>
                      <a:lnTo>
                        <a:pt x="1170" y="49"/>
                      </a:lnTo>
                      <a:lnTo>
                        <a:pt x="1180" y="78"/>
                      </a:lnTo>
                      <a:lnTo>
                        <a:pt x="1196" y="98"/>
                      </a:lnTo>
                      <a:lnTo>
                        <a:pt x="1213" y="117"/>
                      </a:lnTo>
                      <a:lnTo>
                        <a:pt x="1229" y="117"/>
                      </a:lnTo>
                      <a:lnTo>
                        <a:pt x="1245" y="117"/>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567400" y="1501560"/>
                  <a:ext cx="1978200" cy="187560"/>
                </a:xfrm>
                <a:custGeom>
                  <a:avLst/>
                  <a:gdLst/>
                  <a:ahLst/>
                  <a:rect l="l" t="t" r="r" b="b"/>
                  <a:pathLst>
                    <a:path w="1246" h="118">
                      <a:moveTo>
                        <a:pt x="0" y="67"/>
                      </a:moveTo>
                      <a:lnTo>
                        <a:pt x="19" y="49"/>
                      </a:lnTo>
                      <a:lnTo>
                        <a:pt x="25" y="19"/>
                      </a:lnTo>
                      <a:lnTo>
                        <a:pt x="41" y="10"/>
                      </a:lnTo>
                      <a:lnTo>
                        <a:pt x="57" y="10"/>
                      </a:lnTo>
                      <a:lnTo>
                        <a:pt x="78" y="10"/>
                      </a:lnTo>
                      <a:lnTo>
                        <a:pt x="95" y="29"/>
                      </a:lnTo>
                      <a:lnTo>
                        <a:pt x="110" y="59"/>
                      </a:lnTo>
                      <a:lnTo>
                        <a:pt x="126" y="69"/>
                      </a:lnTo>
                      <a:lnTo>
                        <a:pt x="143" y="78"/>
                      </a:lnTo>
                      <a:lnTo>
                        <a:pt x="159" y="78"/>
                      </a:lnTo>
                      <a:lnTo>
                        <a:pt x="175" y="78"/>
                      </a:lnTo>
                      <a:lnTo>
                        <a:pt x="196" y="59"/>
                      </a:lnTo>
                      <a:lnTo>
                        <a:pt x="212" y="49"/>
                      </a:lnTo>
                      <a:lnTo>
                        <a:pt x="250" y="29"/>
                      </a:lnTo>
                      <a:lnTo>
                        <a:pt x="265" y="0"/>
                      </a:lnTo>
                      <a:lnTo>
                        <a:pt x="281" y="0"/>
                      </a:lnTo>
                      <a:lnTo>
                        <a:pt x="303" y="59"/>
                      </a:lnTo>
                      <a:lnTo>
                        <a:pt x="319" y="69"/>
                      </a:lnTo>
                      <a:lnTo>
                        <a:pt x="340" y="88"/>
                      </a:lnTo>
                      <a:lnTo>
                        <a:pt x="356" y="98"/>
                      </a:lnTo>
                      <a:lnTo>
                        <a:pt x="372" y="98"/>
                      </a:lnTo>
                      <a:lnTo>
                        <a:pt x="388" y="88"/>
                      </a:lnTo>
                      <a:lnTo>
                        <a:pt x="404" y="59"/>
                      </a:lnTo>
                      <a:lnTo>
                        <a:pt x="420" y="39"/>
                      </a:lnTo>
                      <a:lnTo>
                        <a:pt x="442" y="39"/>
                      </a:lnTo>
                      <a:lnTo>
                        <a:pt x="458" y="39"/>
                      </a:lnTo>
                      <a:lnTo>
                        <a:pt x="474" y="39"/>
                      </a:lnTo>
                      <a:lnTo>
                        <a:pt x="490" y="39"/>
                      </a:lnTo>
                      <a:lnTo>
                        <a:pt x="506" y="59"/>
                      </a:lnTo>
                      <a:lnTo>
                        <a:pt x="522" y="78"/>
                      </a:lnTo>
                      <a:lnTo>
                        <a:pt x="538" y="98"/>
                      </a:lnTo>
                      <a:lnTo>
                        <a:pt x="554" y="98"/>
                      </a:lnTo>
                      <a:lnTo>
                        <a:pt x="570" y="98"/>
                      </a:lnTo>
                      <a:lnTo>
                        <a:pt x="586" y="98"/>
                      </a:lnTo>
                      <a:lnTo>
                        <a:pt x="602" y="78"/>
                      </a:lnTo>
                      <a:lnTo>
                        <a:pt x="624" y="49"/>
                      </a:lnTo>
                      <a:lnTo>
                        <a:pt x="645" y="39"/>
                      </a:lnTo>
                      <a:lnTo>
                        <a:pt x="661" y="19"/>
                      </a:lnTo>
                      <a:lnTo>
                        <a:pt x="693" y="19"/>
                      </a:lnTo>
                      <a:lnTo>
                        <a:pt x="709" y="10"/>
                      </a:lnTo>
                      <a:lnTo>
                        <a:pt x="731" y="10"/>
                      </a:lnTo>
                      <a:lnTo>
                        <a:pt x="747" y="19"/>
                      </a:lnTo>
                      <a:lnTo>
                        <a:pt x="758" y="49"/>
                      </a:lnTo>
                      <a:lnTo>
                        <a:pt x="774" y="78"/>
                      </a:lnTo>
                      <a:lnTo>
                        <a:pt x="790" y="107"/>
                      </a:lnTo>
                      <a:lnTo>
                        <a:pt x="806" y="107"/>
                      </a:lnTo>
                      <a:lnTo>
                        <a:pt x="827" y="107"/>
                      </a:lnTo>
                      <a:lnTo>
                        <a:pt x="859" y="107"/>
                      </a:lnTo>
                      <a:lnTo>
                        <a:pt x="876" y="98"/>
                      </a:lnTo>
                      <a:lnTo>
                        <a:pt x="891" y="69"/>
                      </a:lnTo>
                      <a:lnTo>
                        <a:pt x="907" y="39"/>
                      </a:lnTo>
                      <a:lnTo>
                        <a:pt x="924" y="39"/>
                      </a:lnTo>
                      <a:lnTo>
                        <a:pt x="956" y="29"/>
                      </a:lnTo>
                      <a:lnTo>
                        <a:pt x="972" y="19"/>
                      </a:lnTo>
                      <a:lnTo>
                        <a:pt x="988" y="19"/>
                      </a:lnTo>
                      <a:lnTo>
                        <a:pt x="1009" y="59"/>
                      </a:lnTo>
                      <a:lnTo>
                        <a:pt x="1025" y="78"/>
                      </a:lnTo>
                      <a:lnTo>
                        <a:pt x="1036" y="107"/>
                      </a:lnTo>
                      <a:lnTo>
                        <a:pt x="1052" y="117"/>
                      </a:lnTo>
                      <a:lnTo>
                        <a:pt x="1068" y="117"/>
                      </a:lnTo>
                      <a:lnTo>
                        <a:pt x="1079" y="88"/>
                      </a:lnTo>
                      <a:lnTo>
                        <a:pt x="1095" y="69"/>
                      </a:lnTo>
                      <a:lnTo>
                        <a:pt x="1106" y="39"/>
                      </a:lnTo>
                      <a:lnTo>
                        <a:pt x="1122" y="39"/>
                      </a:lnTo>
                      <a:lnTo>
                        <a:pt x="1138" y="39"/>
                      </a:lnTo>
                      <a:lnTo>
                        <a:pt x="1154" y="39"/>
                      </a:lnTo>
                      <a:lnTo>
                        <a:pt x="1170" y="49"/>
                      </a:lnTo>
                      <a:lnTo>
                        <a:pt x="1180" y="78"/>
                      </a:lnTo>
                      <a:lnTo>
                        <a:pt x="1196" y="98"/>
                      </a:lnTo>
                      <a:lnTo>
                        <a:pt x="1213" y="117"/>
                      </a:lnTo>
                      <a:lnTo>
                        <a:pt x="1229" y="117"/>
                      </a:lnTo>
                      <a:lnTo>
                        <a:pt x="1245" y="117"/>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567400" y="1703160"/>
                  <a:ext cx="1978200" cy="185760"/>
                </a:xfrm>
                <a:custGeom>
                  <a:avLst/>
                  <a:gdLst/>
                  <a:ahLst/>
                  <a:rect l="l" t="t" r="r" b="b"/>
                  <a:pathLst>
                    <a:path w="1246" h="117">
                      <a:moveTo>
                        <a:pt x="0" y="66"/>
                      </a:moveTo>
                      <a:lnTo>
                        <a:pt x="19" y="49"/>
                      </a:lnTo>
                      <a:lnTo>
                        <a:pt x="25" y="19"/>
                      </a:lnTo>
                      <a:lnTo>
                        <a:pt x="41" y="10"/>
                      </a:lnTo>
                      <a:lnTo>
                        <a:pt x="57" y="10"/>
                      </a:lnTo>
                      <a:lnTo>
                        <a:pt x="78" y="10"/>
                      </a:lnTo>
                      <a:lnTo>
                        <a:pt x="95" y="29"/>
                      </a:lnTo>
                      <a:lnTo>
                        <a:pt x="110" y="58"/>
                      </a:lnTo>
                      <a:lnTo>
                        <a:pt x="126" y="68"/>
                      </a:lnTo>
                      <a:lnTo>
                        <a:pt x="143" y="78"/>
                      </a:lnTo>
                      <a:lnTo>
                        <a:pt x="159" y="78"/>
                      </a:lnTo>
                      <a:lnTo>
                        <a:pt x="175" y="78"/>
                      </a:lnTo>
                      <a:lnTo>
                        <a:pt x="196" y="58"/>
                      </a:lnTo>
                      <a:lnTo>
                        <a:pt x="212" y="49"/>
                      </a:lnTo>
                      <a:lnTo>
                        <a:pt x="250" y="29"/>
                      </a:lnTo>
                      <a:lnTo>
                        <a:pt x="265" y="0"/>
                      </a:lnTo>
                      <a:lnTo>
                        <a:pt x="281" y="0"/>
                      </a:lnTo>
                      <a:lnTo>
                        <a:pt x="303" y="58"/>
                      </a:lnTo>
                      <a:lnTo>
                        <a:pt x="319" y="68"/>
                      </a:lnTo>
                      <a:lnTo>
                        <a:pt x="340" y="87"/>
                      </a:lnTo>
                      <a:lnTo>
                        <a:pt x="356" y="97"/>
                      </a:lnTo>
                      <a:lnTo>
                        <a:pt x="372" y="97"/>
                      </a:lnTo>
                      <a:lnTo>
                        <a:pt x="388" y="87"/>
                      </a:lnTo>
                      <a:lnTo>
                        <a:pt x="404" y="58"/>
                      </a:lnTo>
                      <a:lnTo>
                        <a:pt x="420" y="38"/>
                      </a:lnTo>
                      <a:lnTo>
                        <a:pt x="442" y="38"/>
                      </a:lnTo>
                      <a:lnTo>
                        <a:pt x="458" y="38"/>
                      </a:lnTo>
                      <a:lnTo>
                        <a:pt x="474" y="38"/>
                      </a:lnTo>
                      <a:lnTo>
                        <a:pt x="490" y="38"/>
                      </a:lnTo>
                      <a:lnTo>
                        <a:pt x="506" y="58"/>
                      </a:lnTo>
                      <a:lnTo>
                        <a:pt x="522" y="78"/>
                      </a:lnTo>
                      <a:lnTo>
                        <a:pt x="538" y="97"/>
                      </a:lnTo>
                      <a:lnTo>
                        <a:pt x="554" y="97"/>
                      </a:lnTo>
                      <a:lnTo>
                        <a:pt x="570" y="97"/>
                      </a:lnTo>
                      <a:lnTo>
                        <a:pt x="586" y="97"/>
                      </a:lnTo>
                      <a:lnTo>
                        <a:pt x="602" y="78"/>
                      </a:lnTo>
                      <a:lnTo>
                        <a:pt x="624" y="49"/>
                      </a:lnTo>
                      <a:lnTo>
                        <a:pt x="645" y="38"/>
                      </a:lnTo>
                      <a:lnTo>
                        <a:pt x="661" y="19"/>
                      </a:lnTo>
                      <a:lnTo>
                        <a:pt x="693" y="19"/>
                      </a:lnTo>
                      <a:lnTo>
                        <a:pt x="709" y="10"/>
                      </a:lnTo>
                      <a:lnTo>
                        <a:pt x="731" y="10"/>
                      </a:lnTo>
                      <a:lnTo>
                        <a:pt x="747" y="19"/>
                      </a:lnTo>
                      <a:lnTo>
                        <a:pt x="758" y="49"/>
                      </a:lnTo>
                      <a:lnTo>
                        <a:pt x="774" y="78"/>
                      </a:lnTo>
                      <a:lnTo>
                        <a:pt x="790" y="107"/>
                      </a:lnTo>
                      <a:lnTo>
                        <a:pt x="806" y="107"/>
                      </a:lnTo>
                      <a:lnTo>
                        <a:pt x="827" y="107"/>
                      </a:lnTo>
                      <a:lnTo>
                        <a:pt x="859" y="107"/>
                      </a:lnTo>
                      <a:lnTo>
                        <a:pt x="876" y="97"/>
                      </a:lnTo>
                      <a:lnTo>
                        <a:pt x="891" y="68"/>
                      </a:lnTo>
                      <a:lnTo>
                        <a:pt x="907" y="38"/>
                      </a:lnTo>
                      <a:lnTo>
                        <a:pt x="924" y="38"/>
                      </a:lnTo>
                      <a:lnTo>
                        <a:pt x="956" y="29"/>
                      </a:lnTo>
                      <a:lnTo>
                        <a:pt x="972" y="19"/>
                      </a:lnTo>
                      <a:lnTo>
                        <a:pt x="988" y="19"/>
                      </a:lnTo>
                      <a:lnTo>
                        <a:pt x="1009" y="58"/>
                      </a:lnTo>
                      <a:lnTo>
                        <a:pt x="1025" y="78"/>
                      </a:lnTo>
                      <a:lnTo>
                        <a:pt x="1036" y="107"/>
                      </a:lnTo>
                      <a:lnTo>
                        <a:pt x="1052" y="116"/>
                      </a:lnTo>
                      <a:lnTo>
                        <a:pt x="1068" y="116"/>
                      </a:lnTo>
                      <a:lnTo>
                        <a:pt x="1079" y="87"/>
                      </a:lnTo>
                      <a:lnTo>
                        <a:pt x="1095" y="68"/>
                      </a:lnTo>
                      <a:lnTo>
                        <a:pt x="1106" y="38"/>
                      </a:lnTo>
                      <a:lnTo>
                        <a:pt x="1122" y="38"/>
                      </a:lnTo>
                      <a:lnTo>
                        <a:pt x="1138" y="38"/>
                      </a:lnTo>
                      <a:lnTo>
                        <a:pt x="1154" y="38"/>
                      </a:lnTo>
                      <a:lnTo>
                        <a:pt x="1170" y="49"/>
                      </a:lnTo>
                      <a:lnTo>
                        <a:pt x="1180" y="78"/>
                      </a:lnTo>
                      <a:lnTo>
                        <a:pt x="1196" y="97"/>
                      </a:lnTo>
                      <a:lnTo>
                        <a:pt x="1213" y="116"/>
                      </a:lnTo>
                      <a:lnTo>
                        <a:pt x="1229" y="116"/>
                      </a:lnTo>
                      <a:lnTo>
                        <a:pt x="1245" y="116"/>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562720" y="1903320"/>
                  <a:ext cx="1978200" cy="187200"/>
                </a:xfrm>
                <a:custGeom>
                  <a:avLst/>
                  <a:gdLst/>
                  <a:ahLst/>
                  <a:rect l="l" t="t" r="r" b="b"/>
                  <a:pathLst>
                    <a:path w="1246" h="118">
                      <a:moveTo>
                        <a:pt x="0" y="67"/>
                      </a:moveTo>
                      <a:lnTo>
                        <a:pt x="19" y="49"/>
                      </a:lnTo>
                      <a:lnTo>
                        <a:pt x="25" y="19"/>
                      </a:lnTo>
                      <a:lnTo>
                        <a:pt x="41" y="10"/>
                      </a:lnTo>
                      <a:lnTo>
                        <a:pt x="57" y="10"/>
                      </a:lnTo>
                      <a:lnTo>
                        <a:pt x="78" y="10"/>
                      </a:lnTo>
                      <a:lnTo>
                        <a:pt x="95" y="29"/>
                      </a:lnTo>
                      <a:lnTo>
                        <a:pt x="110" y="59"/>
                      </a:lnTo>
                      <a:lnTo>
                        <a:pt x="126" y="69"/>
                      </a:lnTo>
                      <a:lnTo>
                        <a:pt x="143" y="78"/>
                      </a:lnTo>
                      <a:lnTo>
                        <a:pt x="159" y="78"/>
                      </a:lnTo>
                      <a:lnTo>
                        <a:pt x="175" y="78"/>
                      </a:lnTo>
                      <a:lnTo>
                        <a:pt x="196" y="59"/>
                      </a:lnTo>
                      <a:lnTo>
                        <a:pt x="212" y="49"/>
                      </a:lnTo>
                      <a:lnTo>
                        <a:pt x="250" y="29"/>
                      </a:lnTo>
                      <a:lnTo>
                        <a:pt x="265" y="0"/>
                      </a:lnTo>
                      <a:lnTo>
                        <a:pt x="281" y="0"/>
                      </a:lnTo>
                      <a:lnTo>
                        <a:pt x="303" y="59"/>
                      </a:lnTo>
                      <a:lnTo>
                        <a:pt x="319" y="69"/>
                      </a:lnTo>
                      <a:lnTo>
                        <a:pt x="340" y="88"/>
                      </a:lnTo>
                      <a:lnTo>
                        <a:pt x="356" y="98"/>
                      </a:lnTo>
                      <a:lnTo>
                        <a:pt x="372" y="98"/>
                      </a:lnTo>
                      <a:lnTo>
                        <a:pt x="388" y="88"/>
                      </a:lnTo>
                      <a:lnTo>
                        <a:pt x="404" y="59"/>
                      </a:lnTo>
                      <a:lnTo>
                        <a:pt x="420" y="39"/>
                      </a:lnTo>
                      <a:lnTo>
                        <a:pt x="442" y="39"/>
                      </a:lnTo>
                      <a:lnTo>
                        <a:pt x="458" y="39"/>
                      </a:lnTo>
                      <a:lnTo>
                        <a:pt x="474" y="39"/>
                      </a:lnTo>
                      <a:lnTo>
                        <a:pt x="490" y="39"/>
                      </a:lnTo>
                      <a:lnTo>
                        <a:pt x="506" y="59"/>
                      </a:lnTo>
                      <a:lnTo>
                        <a:pt x="522" y="78"/>
                      </a:lnTo>
                      <a:lnTo>
                        <a:pt x="538" y="98"/>
                      </a:lnTo>
                      <a:lnTo>
                        <a:pt x="554" y="98"/>
                      </a:lnTo>
                      <a:lnTo>
                        <a:pt x="570" y="98"/>
                      </a:lnTo>
                      <a:lnTo>
                        <a:pt x="586" y="98"/>
                      </a:lnTo>
                      <a:lnTo>
                        <a:pt x="602" y="78"/>
                      </a:lnTo>
                      <a:lnTo>
                        <a:pt x="624" y="49"/>
                      </a:lnTo>
                      <a:lnTo>
                        <a:pt x="645" y="39"/>
                      </a:lnTo>
                      <a:lnTo>
                        <a:pt x="661" y="19"/>
                      </a:lnTo>
                      <a:lnTo>
                        <a:pt x="693" y="19"/>
                      </a:lnTo>
                      <a:lnTo>
                        <a:pt x="709" y="10"/>
                      </a:lnTo>
                      <a:lnTo>
                        <a:pt x="731" y="10"/>
                      </a:lnTo>
                      <a:lnTo>
                        <a:pt x="747" y="19"/>
                      </a:lnTo>
                      <a:lnTo>
                        <a:pt x="758" y="49"/>
                      </a:lnTo>
                      <a:lnTo>
                        <a:pt x="774" y="78"/>
                      </a:lnTo>
                      <a:lnTo>
                        <a:pt x="790" y="107"/>
                      </a:lnTo>
                      <a:lnTo>
                        <a:pt x="806" y="107"/>
                      </a:lnTo>
                      <a:lnTo>
                        <a:pt x="827" y="107"/>
                      </a:lnTo>
                      <a:lnTo>
                        <a:pt x="859" y="107"/>
                      </a:lnTo>
                      <a:lnTo>
                        <a:pt x="876" y="98"/>
                      </a:lnTo>
                      <a:lnTo>
                        <a:pt x="891" y="69"/>
                      </a:lnTo>
                      <a:lnTo>
                        <a:pt x="907" y="39"/>
                      </a:lnTo>
                      <a:lnTo>
                        <a:pt x="924" y="39"/>
                      </a:lnTo>
                      <a:lnTo>
                        <a:pt x="956" y="29"/>
                      </a:lnTo>
                      <a:lnTo>
                        <a:pt x="972" y="19"/>
                      </a:lnTo>
                      <a:lnTo>
                        <a:pt x="988" y="19"/>
                      </a:lnTo>
                      <a:lnTo>
                        <a:pt x="1009" y="59"/>
                      </a:lnTo>
                      <a:lnTo>
                        <a:pt x="1025" y="78"/>
                      </a:lnTo>
                      <a:lnTo>
                        <a:pt x="1036" y="107"/>
                      </a:lnTo>
                      <a:lnTo>
                        <a:pt x="1052" y="117"/>
                      </a:lnTo>
                      <a:lnTo>
                        <a:pt x="1068" y="117"/>
                      </a:lnTo>
                      <a:lnTo>
                        <a:pt x="1079" y="88"/>
                      </a:lnTo>
                      <a:lnTo>
                        <a:pt x="1095" y="69"/>
                      </a:lnTo>
                      <a:lnTo>
                        <a:pt x="1106" y="39"/>
                      </a:lnTo>
                      <a:lnTo>
                        <a:pt x="1122" y="39"/>
                      </a:lnTo>
                      <a:lnTo>
                        <a:pt x="1138" y="39"/>
                      </a:lnTo>
                      <a:lnTo>
                        <a:pt x="1154" y="39"/>
                      </a:lnTo>
                      <a:lnTo>
                        <a:pt x="1170" y="49"/>
                      </a:lnTo>
                      <a:lnTo>
                        <a:pt x="1180" y="78"/>
                      </a:lnTo>
                      <a:lnTo>
                        <a:pt x="1196" y="98"/>
                      </a:lnTo>
                      <a:lnTo>
                        <a:pt x="1213" y="117"/>
                      </a:lnTo>
                      <a:lnTo>
                        <a:pt x="1229" y="117"/>
                      </a:lnTo>
                      <a:lnTo>
                        <a:pt x="1245" y="117"/>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567400" y="2036520"/>
                  <a:ext cx="1978200" cy="187560"/>
                </a:xfrm>
                <a:custGeom>
                  <a:avLst/>
                  <a:gdLst/>
                  <a:ahLst/>
                  <a:rect l="l" t="t" r="r" b="b"/>
                  <a:pathLst>
                    <a:path w="1246" h="118">
                      <a:moveTo>
                        <a:pt x="0" y="67"/>
                      </a:moveTo>
                      <a:lnTo>
                        <a:pt x="19" y="49"/>
                      </a:lnTo>
                      <a:lnTo>
                        <a:pt x="25" y="19"/>
                      </a:lnTo>
                      <a:lnTo>
                        <a:pt x="41" y="10"/>
                      </a:lnTo>
                      <a:lnTo>
                        <a:pt x="57" y="10"/>
                      </a:lnTo>
                      <a:lnTo>
                        <a:pt x="78" y="10"/>
                      </a:lnTo>
                      <a:lnTo>
                        <a:pt x="95" y="29"/>
                      </a:lnTo>
                      <a:lnTo>
                        <a:pt x="110" y="59"/>
                      </a:lnTo>
                      <a:lnTo>
                        <a:pt x="126" y="69"/>
                      </a:lnTo>
                      <a:lnTo>
                        <a:pt x="143" y="78"/>
                      </a:lnTo>
                      <a:lnTo>
                        <a:pt x="159" y="78"/>
                      </a:lnTo>
                      <a:lnTo>
                        <a:pt x="175" y="78"/>
                      </a:lnTo>
                      <a:lnTo>
                        <a:pt x="196" y="59"/>
                      </a:lnTo>
                      <a:lnTo>
                        <a:pt x="212" y="49"/>
                      </a:lnTo>
                      <a:lnTo>
                        <a:pt x="250" y="29"/>
                      </a:lnTo>
                      <a:lnTo>
                        <a:pt x="265" y="0"/>
                      </a:lnTo>
                      <a:lnTo>
                        <a:pt x="281" y="0"/>
                      </a:lnTo>
                      <a:lnTo>
                        <a:pt x="303" y="59"/>
                      </a:lnTo>
                      <a:lnTo>
                        <a:pt x="319" y="69"/>
                      </a:lnTo>
                      <a:lnTo>
                        <a:pt x="340" y="88"/>
                      </a:lnTo>
                      <a:lnTo>
                        <a:pt x="356" y="98"/>
                      </a:lnTo>
                      <a:lnTo>
                        <a:pt x="372" y="98"/>
                      </a:lnTo>
                      <a:lnTo>
                        <a:pt x="388" y="88"/>
                      </a:lnTo>
                      <a:lnTo>
                        <a:pt x="404" y="59"/>
                      </a:lnTo>
                      <a:lnTo>
                        <a:pt x="420" y="39"/>
                      </a:lnTo>
                      <a:lnTo>
                        <a:pt x="442" y="39"/>
                      </a:lnTo>
                      <a:lnTo>
                        <a:pt x="458" y="39"/>
                      </a:lnTo>
                      <a:lnTo>
                        <a:pt x="474" y="39"/>
                      </a:lnTo>
                      <a:lnTo>
                        <a:pt x="490" y="39"/>
                      </a:lnTo>
                      <a:lnTo>
                        <a:pt x="506" y="59"/>
                      </a:lnTo>
                      <a:lnTo>
                        <a:pt x="522" y="78"/>
                      </a:lnTo>
                      <a:lnTo>
                        <a:pt x="538" y="98"/>
                      </a:lnTo>
                      <a:lnTo>
                        <a:pt x="554" y="98"/>
                      </a:lnTo>
                      <a:lnTo>
                        <a:pt x="570" y="98"/>
                      </a:lnTo>
                      <a:lnTo>
                        <a:pt x="586" y="98"/>
                      </a:lnTo>
                      <a:lnTo>
                        <a:pt x="602" y="78"/>
                      </a:lnTo>
                      <a:lnTo>
                        <a:pt x="624" y="49"/>
                      </a:lnTo>
                      <a:lnTo>
                        <a:pt x="645" y="39"/>
                      </a:lnTo>
                      <a:lnTo>
                        <a:pt x="661" y="19"/>
                      </a:lnTo>
                      <a:lnTo>
                        <a:pt x="693" y="19"/>
                      </a:lnTo>
                      <a:lnTo>
                        <a:pt x="709" y="10"/>
                      </a:lnTo>
                      <a:lnTo>
                        <a:pt x="731" y="10"/>
                      </a:lnTo>
                      <a:lnTo>
                        <a:pt x="747" y="19"/>
                      </a:lnTo>
                      <a:lnTo>
                        <a:pt x="758" y="49"/>
                      </a:lnTo>
                      <a:lnTo>
                        <a:pt x="774" y="78"/>
                      </a:lnTo>
                      <a:lnTo>
                        <a:pt x="790" y="107"/>
                      </a:lnTo>
                      <a:lnTo>
                        <a:pt x="806" y="107"/>
                      </a:lnTo>
                      <a:lnTo>
                        <a:pt x="827" y="107"/>
                      </a:lnTo>
                      <a:lnTo>
                        <a:pt x="859" y="107"/>
                      </a:lnTo>
                      <a:lnTo>
                        <a:pt x="876" y="98"/>
                      </a:lnTo>
                      <a:lnTo>
                        <a:pt x="891" y="69"/>
                      </a:lnTo>
                      <a:lnTo>
                        <a:pt x="907" y="39"/>
                      </a:lnTo>
                      <a:lnTo>
                        <a:pt x="924" y="39"/>
                      </a:lnTo>
                      <a:lnTo>
                        <a:pt x="956" y="29"/>
                      </a:lnTo>
                      <a:lnTo>
                        <a:pt x="972" y="19"/>
                      </a:lnTo>
                      <a:lnTo>
                        <a:pt x="988" y="19"/>
                      </a:lnTo>
                      <a:lnTo>
                        <a:pt x="1009" y="59"/>
                      </a:lnTo>
                      <a:lnTo>
                        <a:pt x="1025" y="78"/>
                      </a:lnTo>
                      <a:lnTo>
                        <a:pt x="1036" y="107"/>
                      </a:lnTo>
                      <a:lnTo>
                        <a:pt x="1052" y="117"/>
                      </a:lnTo>
                      <a:lnTo>
                        <a:pt x="1068" y="117"/>
                      </a:lnTo>
                      <a:lnTo>
                        <a:pt x="1079" y="88"/>
                      </a:lnTo>
                      <a:lnTo>
                        <a:pt x="1095" y="69"/>
                      </a:lnTo>
                      <a:lnTo>
                        <a:pt x="1106" y="39"/>
                      </a:lnTo>
                      <a:lnTo>
                        <a:pt x="1122" y="39"/>
                      </a:lnTo>
                      <a:lnTo>
                        <a:pt x="1138" y="39"/>
                      </a:lnTo>
                      <a:lnTo>
                        <a:pt x="1154" y="39"/>
                      </a:lnTo>
                      <a:lnTo>
                        <a:pt x="1170" y="49"/>
                      </a:lnTo>
                      <a:lnTo>
                        <a:pt x="1180" y="78"/>
                      </a:lnTo>
                      <a:lnTo>
                        <a:pt x="1196" y="98"/>
                      </a:lnTo>
                      <a:lnTo>
                        <a:pt x="1213" y="117"/>
                      </a:lnTo>
                      <a:lnTo>
                        <a:pt x="1229" y="117"/>
                      </a:lnTo>
                      <a:lnTo>
                        <a:pt x="1245" y="117"/>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567400" y="2238120"/>
                  <a:ext cx="1978200" cy="185760"/>
                </a:xfrm>
                <a:custGeom>
                  <a:avLst/>
                  <a:gdLst/>
                  <a:ahLst/>
                  <a:rect l="l" t="t" r="r" b="b"/>
                  <a:pathLst>
                    <a:path w="1246" h="117">
                      <a:moveTo>
                        <a:pt x="0" y="66"/>
                      </a:moveTo>
                      <a:lnTo>
                        <a:pt x="19" y="49"/>
                      </a:lnTo>
                      <a:lnTo>
                        <a:pt x="25" y="19"/>
                      </a:lnTo>
                      <a:lnTo>
                        <a:pt x="41" y="10"/>
                      </a:lnTo>
                      <a:lnTo>
                        <a:pt x="57" y="10"/>
                      </a:lnTo>
                      <a:lnTo>
                        <a:pt x="78" y="10"/>
                      </a:lnTo>
                      <a:lnTo>
                        <a:pt x="95" y="29"/>
                      </a:lnTo>
                      <a:lnTo>
                        <a:pt x="110" y="58"/>
                      </a:lnTo>
                      <a:lnTo>
                        <a:pt x="126" y="68"/>
                      </a:lnTo>
                      <a:lnTo>
                        <a:pt x="143" y="78"/>
                      </a:lnTo>
                      <a:lnTo>
                        <a:pt x="159" y="78"/>
                      </a:lnTo>
                      <a:lnTo>
                        <a:pt x="175" y="78"/>
                      </a:lnTo>
                      <a:lnTo>
                        <a:pt x="196" y="58"/>
                      </a:lnTo>
                      <a:lnTo>
                        <a:pt x="212" y="49"/>
                      </a:lnTo>
                      <a:lnTo>
                        <a:pt x="250" y="29"/>
                      </a:lnTo>
                      <a:lnTo>
                        <a:pt x="265" y="0"/>
                      </a:lnTo>
                      <a:lnTo>
                        <a:pt x="281" y="0"/>
                      </a:lnTo>
                      <a:lnTo>
                        <a:pt x="303" y="58"/>
                      </a:lnTo>
                      <a:lnTo>
                        <a:pt x="319" y="68"/>
                      </a:lnTo>
                      <a:lnTo>
                        <a:pt x="340" y="87"/>
                      </a:lnTo>
                      <a:lnTo>
                        <a:pt x="356" y="97"/>
                      </a:lnTo>
                      <a:lnTo>
                        <a:pt x="372" y="97"/>
                      </a:lnTo>
                      <a:lnTo>
                        <a:pt x="388" y="87"/>
                      </a:lnTo>
                      <a:lnTo>
                        <a:pt x="404" y="58"/>
                      </a:lnTo>
                      <a:lnTo>
                        <a:pt x="420" y="38"/>
                      </a:lnTo>
                      <a:lnTo>
                        <a:pt x="442" y="38"/>
                      </a:lnTo>
                      <a:lnTo>
                        <a:pt x="458" y="38"/>
                      </a:lnTo>
                      <a:lnTo>
                        <a:pt x="474" y="38"/>
                      </a:lnTo>
                      <a:lnTo>
                        <a:pt x="490" y="38"/>
                      </a:lnTo>
                      <a:lnTo>
                        <a:pt x="506" y="58"/>
                      </a:lnTo>
                      <a:lnTo>
                        <a:pt x="522" y="78"/>
                      </a:lnTo>
                      <a:lnTo>
                        <a:pt x="538" y="97"/>
                      </a:lnTo>
                      <a:lnTo>
                        <a:pt x="554" y="97"/>
                      </a:lnTo>
                      <a:lnTo>
                        <a:pt x="570" y="97"/>
                      </a:lnTo>
                      <a:lnTo>
                        <a:pt x="586" y="97"/>
                      </a:lnTo>
                      <a:lnTo>
                        <a:pt x="602" y="78"/>
                      </a:lnTo>
                      <a:lnTo>
                        <a:pt x="624" y="49"/>
                      </a:lnTo>
                      <a:lnTo>
                        <a:pt x="645" y="38"/>
                      </a:lnTo>
                      <a:lnTo>
                        <a:pt x="661" y="19"/>
                      </a:lnTo>
                      <a:lnTo>
                        <a:pt x="693" y="19"/>
                      </a:lnTo>
                      <a:lnTo>
                        <a:pt x="709" y="10"/>
                      </a:lnTo>
                      <a:lnTo>
                        <a:pt x="731" y="10"/>
                      </a:lnTo>
                      <a:lnTo>
                        <a:pt x="747" y="19"/>
                      </a:lnTo>
                      <a:lnTo>
                        <a:pt x="758" y="49"/>
                      </a:lnTo>
                      <a:lnTo>
                        <a:pt x="774" y="78"/>
                      </a:lnTo>
                      <a:lnTo>
                        <a:pt x="790" y="107"/>
                      </a:lnTo>
                      <a:lnTo>
                        <a:pt x="806" y="107"/>
                      </a:lnTo>
                      <a:lnTo>
                        <a:pt x="827" y="107"/>
                      </a:lnTo>
                      <a:lnTo>
                        <a:pt x="859" y="107"/>
                      </a:lnTo>
                      <a:lnTo>
                        <a:pt x="876" y="97"/>
                      </a:lnTo>
                      <a:lnTo>
                        <a:pt x="891" y="68"/>
                      </a:lnTo>
                      <a:lnTo>
                        <a:pt x="907" y="38"/>
                      </a:lnTo>
                      <a:lnTo>
                        <a:pt x="924" y="38"/>
                      </a:lnTo>
                      <a:lnTo>
                        <a:pt x="956" y="29"/>
                      </a:lnTo>
                      <a:lnTo>
                        <a:pt x="972" y="19"/>
                      </a:lnTo>
                      <a:lnTo>
                        <a:pt x="988" y="19"/>
                      </a:lnTo>
                      <a:lnTo>
                        <a:pt x="1009" y="58"/>
                      </a:lnTo>
                      <a:lnTo>
                        <a:pt x="1025" y="78"/>
                      </a:lnTo>
                      <a:lnTo>
                        <a:pt x="1036" y="107"/>
                      </a:lnTo>
                      <a:lnTo>
                        <a:pt x="1052" y="116"/>
                      </a:lnTo>
                      <a:lnTo>
                        <a:pt x="1068" y="116"/>
                      </a:lnTo>
                      <a:lnTo>
                        <a:pt x="1079" y="87"/>
                      </a:lnTo>
                      <a:lnTo>
                        <a:pt x="1095" y="68"/>
                      </a:lnTo>
                      <a:lnTo>
                        <a:pt x="1106" y="38"/>
                      </a:lnTo>
                      <a:lnTo>
                        <a:pt x="1122" y="38"/>
                      </a:lnTo>
                      <a:lnTo>
                        <a:pt x="1138" y="38"/>
                      </a:lnTo>
                      <a:lnTo>
                        <a:pt x="1154" y="38"/>
                      </a:lnTo>
                      <a:lnTo>
                        <a:pt x="1170" y="49"/>
                      </a:lnTo>
                      <a:lnTo>
                        <a:pt x="1180" y="78"/>
                      </a:lnTo>
                      <a:lnTo>
                        <a:pt x="1196" y="97"/>
                      </a:lnTo>
                      <a:lnTo>
                        <a:pt x="1213" y="116"/>
                      </a:lnTo>
                      <a:lnTo>
                        <a:pt x="1229" y="116"/>
                      </a:lnTo>
                      <a:lnTo>
                        <a:pt x="1245" y="116"/>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567400" y="2438280"/>
                  <a:ext cx="1978200" cy="187200"/>
                </a:xfrm>
                <a:custGeom>
                  <a:avLst/>
                  <a:gdLst/>
                  <a:ahLst/>
                  <a:rect l="l" t="t" r="r" b="b"/>
                  <a:pathLst>
                    <a:path w="1246" h="118">
                      <a:moveTo>
                        <a:pt x="0" y="67"/>
                      </a:moveTo>
                      <a:lnTo>
                        <a:pt x="19" y="49"/>
                      </a:lnTo>
                      <a:lnTo>
                        <a:pt x="25" y="19"/>
                      </a:lnTo>
                      <a:lnTo>
                        <a:pt x="41" y="10"/>
                      </a:lnTo>
                      <a:lnTo>
                        <a:pt x="57" y="10"/>
                      </a:lnTo>
                      <a:lnTo>
                        <a:pt x="78" y="10"/>
                      </a:lnTo>
                      <a:lnTo>
                        <a:pt x="95" y="29"/>
                      </a:lnTo>
                      <a:lnTo>
                        <a:pt x="110" y="59"/>
                      </a:lnTo>
                      <a:lnTo>
                        <a:pt x="126" y="69"/>
                      </a:lnTo>
                      <a:lnTo>
                        <a:pt x="143" y="78"/>
                      </a:lnTo>
                      <a:lnTo>
                        <a:pt x="159" y="78"/>
                      </a:lnTo>
                      <a:lnTo>
                        <a:pt x="175" y="78"/>
                      </a:lnTo>
                      <a:lnTo>
                        <a:pt x="196" y="59"/>
                      </a:lnTo>
                      <a:lnTo>
                        <a:pt x="212" y="49"/>
                      </a:lnTo>
                      <a:lnTo>
                        <a:pt x="250" y="29"/>
                      </a:lnTo>
                      <a:lnTo>
                        <a:pt x="265" y="0"/>
                      </a:lnTo>
                      <a:lnTo>
                        <a:pt x="281" y="0"/>
                      </a:lnTo>
                      <a:lnTo>
                        <a:pt x="303" y="59"/>
                      </a:lnTo>
                      <a:lnTo>
                        <a:pt x="319" y="69"/>
                      </a:lnTo>
                      <a:lnTo>
                        <a:pt x="340" y="88"/>
                      </a:lnTo>
                      <a:lnTo>
                        <a:pt x="356" y="98"/>
                      </a:lnTo>
                      <a:lnTo>
                        <a:pt x="372" y="98"/>
                      </a:lnTo>
                      <a:lnTo>
                        <a:pt x="388" y="88"/>
                      </a:lnTo>
                      <a:lnTo>
                        <a:pt x="404" y="59"/>
                      </a:lnTo>
                      <a:lnTo>
                        <a:pt x="420" y="39"/>
                      </a:lnTo>
                      <a:lnTo>
                        <a:pt x="442" y="39"/>
                      </a:lnTo>
                      <a:lnTo>
                        <a:pt x="458" y="39"/>
                      </a:lnTo>
                      <a:lnTo>
                        <a:pt x="474" y="39"/>
                      </a:lnTo>
                      <a:lnTo>
                        <a:pt x="490" y="39"/>
                      </a:lnTo>
                      <a:lnTo>
                        <a:pt x="506" y="59"/>
                      </a:lnTo>
                      <a:lnTo>
                        <a:pt x="522" y="78"/>
                      </a:lnTo>
                      <a:lnTo>
                        <a:pt x="538" y="98"/>
                      </a:lnTo>
                      <a:lnTo>
                        <a:pt x="554" y="98"/>
                      </a:lnTo>
                      <a:lnTo>
                        <a:pt x="570" y="98"/>
                      </a:lnTo>
                      <a:lnTo>
                        <a:pt x="586" y="98"/>
                      </a:lnTo>
                      <a:lnTo>
                        <a:pt x="602" y="78"/>
                      </a:lnTo>
                      <a:lnTo>
                        <a:pt x="624" y="49"/>
                      </a:lnTo>
                      <a:lnTo>
                        <a:pt x="645" y="39"/>
                      </a:lnTo>
                      <a:lnTo>
                        <a:pt x="661" y="19"/>
                      </a:lnTo>
                      <a:lnTo>
                        <a:pt x="693" y="19"/>
                      </a:lnTo>
                      <a:lnTo>
                        <a:pt x="709" y="10"/>
                      </a:lnTo>
                      <a:lnTo>
                        <a:pt x="731" y="10"/>
                      </a:lnTo>
                      <a:lnTo>
                        <a:pt x="747" y="19"/>
                      </a:lnTo>
                      <a:lnTo>
                        <a:pt x="758" y="49"/>
                      </a:lnTo>
                      <a:lnTo>
                        <a:pt x="774" y="78"/>
                      </a:lnTo>
                      <a:lnTo>
                        <a:pt x="790" y="107"/>
                      </a:lnTo>
                      <a:lnTo>
                        <a:pt x="806" y="107"/>
                      </a:lnTo>
                      <a:lnTo>
                        <a:pt x="827" y="107"/>
                      </a:lnTo>
                      <a:lnTo>
                        <a:pt x="859" y="107"/>
                      </a:lnTo>
                      <a:lnTo>
                        <a:pt x="876" y="98"/>
                      </a:lnTo>
                      <a:lnTo>
                        <a:pt x="891" y="69"/>
                      </a:lnTo>
                      <a:lnTo>
                        <a:pt x="907" y="39"/>
                      </a:lnTo>
                      <a:lnTo>
                        <a:pt x="924" y="39"/>
                      </a:lnTo>
                      <a:lnTo>
                        <a:pt x="956" y="29"/>
                      </a:lnTo>
                      <a:lnTo>
                        <a:pt x="972" y="19"/>
                      </a:lnTo>
                      <a:lnTo>
                        <a:pt x="988" y="19"/>
                      </a:lnTo>
                      <a:lnTo>
                        <a:pt x="1009" y="59"/>
                      </a:lnTo>
                      <a:lnTo>
                        <a:pt x="1025" y="78"/>
                      </a:lnTo>
                      <a:lnTo>
                        <a:pt x="1036" y="107"/>
                      </a:lnTo>
                      <a:lnTo>
                        <a:pt x="1052" y="117"/>
                      </a:lnTo>
                      <a:lnTo>
                        <a:pt x="1068" y="117"/>
                      </a:lnTo>
                      <a:lnTo>
                        <a:pt x="1079" y="88"/>
                      </a:lnTo>
                      <a:lnTo>
                        <a:pt x="1095" y="69"/>
                      </a:lnTo>
                      <a:lnTo>
                        <a:pt x="1106" y="39"/>
                      </a:lnTo>
                      <a:lnTo>
                        <a:pt x="1122" y="39"/>
                      </a:lnTo>
                      <a:lnTo>
                        <a:pt x="1138" y="39"/>
                      </a:lnTo>
                      <a:lnTo>
                        <a:pt x="1154" y="39"/>
                      </a:lnTo>
                      <a:lnTo>
                        <a:pt x="1170" y="49"/>
                      </a:lnTo>
                      <a:lnTo>
                        <a:pt x="1180" y="78"/>
                      </a:lnTo>
                      <a:lnTo>
                        <a:pt x="1196" y="98"/>
                      </a:lnTo>
                      <a:lnTo>
                        <a:pt x="1213" y="117"/>
                      </a:lnTo>
                      <a:lnTo>
                        <a:pt x="1229" y="117"/>
                      </a:lnTo>
                      <a:lnTo>
                        <a:pt x="1245" y="117"/>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8" name=""/>
            <p:cNvSpPr/>
            <p:nvPr/>
          </p:nvSpPr>
          <p:spPr>
            <a:xfrm>
              <a:off x="2956680" y="3006720"/>
              <a:ext cx="655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IP</a:t>
              </a:r>
              <a:endParaRPr b="0" lang="en-US" sz="2400" spc="-1" strike="noStrike">
                <a:solidFill>
                  <a:srgbClr val="000000"/>
                </a:solidFill>
                <a:latin typeface="Times New Roman"/>
              </a:endParaRPr>
            </a:p>
          </p:txBody>
        </p:sp>
        <p:sp>
          <p:nvSpPr>
            <p:cNvPr id="99" name=""/>
            <p:cNvSpPr/>
            <p:nvPr/>
          </p:nvSpPr>
          <p:spPr>
            <a:xfrm>
              <a:off x="6203880" y="3043080"/>
              <a:ext cx="1025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ASE</a:t>
              </a:r>
              <a:endParaRPr b="0" lang="en-US" sz="2400" spc="-1" strike="noStrike">
                <a:solidFill>
                  <a:srgbClr val="000000"/>
                </a:solidFill>
                <a:latin typeface="Times New Roman"/>
              </a:endParaRPr>
            </a:p>
          </p:txBody>
        </p:sp>
      </p:grpSp>
      <p:sp>
        <p:nvSpPr>
          <p:cNvPr id="100" name=""/>
          <p:cNvSpPr/>
          <p:nvPr/>
        </p:nvSpPr>
        <p:spPr>
          <a:xfrm>
            <a:off x="3048120" y="3505320"/>
            <a:ext cx="0" cy="457200"/>
          </a:xfrm>
          <a:prstGeom prst="line">
            <a:avLst/>
          </a:prstGeom>
          <a:ln w="507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1000" y="4038480"/>
            <a:ext cx="2977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ip portion (grams)</a:t>
            </a:r>
            <a:endParaRPr b="0" lang="en-US" sz="2400" spc="-1" strike="noStrike">
              <a:solidFill>
                <a:srgbClr val="000000"/>
              </a:solidFill>
              <a:latin typeface="Times New Roman"/>
            </a:endParaRPr>
          </a:p>
        </p:txBody>
      </p:sp>
      <p:sp>
        <p:nvSpPr>
          <p:cNvPr id="102" name=""/>
          <p:cNvSpPr/>
          <p:nvPr/>
        </p:nvSpPr>
        <p:spPr>
          <a:xfrm>
            <a:off x="2529000" y="4495680"/>
            <a:ext cx="0" cy="581040"/>
          </a:xfrm>
          <a:prstGeom prst="line">
            <a:avLst/>
          </a:prstGeom>
          <a:ln w="507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105200" y="5181480"/>
            <a:ext cx="3317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 % of staple weight</a:t>
            </a:r>
            <a:endParaRPr b="0" lang="en-US" sz="2400" spc="-1" strike="noStrike">
              <a:solidFill>
                <a:srgbClr val="000000"/>
              </a:solidFill>
              <a:latin typeface="Times New Roman"/>
            </a:endParaRPr>
          </a:p>
        </p:txBody>
      </p:sp>
      <p:sp>
        <p:nvSpPr>
          <p:cNvPr id="104" name=""/>
          <p:cNvSpPr/>
          <p:nvPr/>
        </p:nvSpPr>
        <p:spPr>
          <a:xfrm>
            <a:off x="4915440" y="4648320"/>
            <a:ext cx="4151520" cy="1368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IP BREAK</a:t>
            </a:r>
            <a:r>
              <a:rPr b="1" lang="en-GB" sz="2800" spc="-1" strike="noStrike">
                <a:solidFill>
                  <a:srgbClr val="ffffff"/>
                </a:solidFill>
                <a:latin typeface="Arial"/>
              </a:rPr>
              <a:t>	</a:t>
            </a:r>
            <a:r>
              <a:rPr b="1" lang="en-GB" sz="2800" spc="-1" strike="noStrike">
                <a:solidFill>
                  <a:srgbClr val="ffffff"/>
                </a:solidFill>
                <a:latin typeface="Arial"/>
              </a:rPr>
              <a:t>&lt;33%</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ID BREAK</a:t>
            </a:r>
            <a:r>
              <a:rPr b="1" lang="en-GB" sz="2800" spc="-1" strike="noStrike">
                <a:solidFill>
                  <a:srgbClr val="ffffff"/>
                </a:solidFill>
                <a:latin typeface="Arial"/>
              </a:rPr>
              <a:t>	</a:t>
            </a:r>
            <a:r>
              <a:rPr b="1" lang="en-GB" sz="2800" spc="-1" strike="noStrike">
                <a:solidFill>
                  <a:srgbClr val="ffffff"/>
                </a:solidFill>
                <a:latin typeface="Arial"/>
              </a:rPr>
              <a:t>33-66%</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ASE BREAK</a:t>
            </a:r>
            <a:r>
              <a:rPr b="1" lang="en-GB" sz="2800" spc="-1" strike="noStrike">
                <a:solidFill>
                  <a:srgbClr val="ffffff"/>
                </a:solidFill>
                <a:latin typeface="Arial"/>
              </a:rPr>
              <a:t>	</a:t>
            </a:r>
            <a:r>
              <a:rPr b="1" lang="en-GB" sz="2800" spc="-1" strike="noStrike">
                <a:solidFill>
                  <a:srgbClr val="ffffff"/>
                </a:solidFill>
                <a:latin typeface="Arial"/>
              </a:rPr>
              <a:t>&gt;66%</a:t>
            </a:r>
            <a:endParaRPr b="0" lang="en-US" sz="2800" spc="-1" strike="noStrike">
              <a:solidFill>
                <a:srgbClr val="000000"/>
              </a:solidFill>
              <a:latin typeface="Times New Roman"/>
            </a:endParaRPr>
          </a:p>
        </p:txBody>
      </p:sp>
      <p:sp>
        <p:nvSpPr>
          <p:cNvPr id="105" name=""/>
          <p:cNvSpPr/>
          <p:nvPr/>
        </p:nvSpPr>
        <p:spPr>
          <a:xfrm>
            <a:off x="4491000" y="4724280"/>
            <a:ext cx="309600" cy="1301760"/>
          </a:xfrm>
          <a:custGeom>
            <a:avLst/>
            <a:gdLst/>
            <a:ahLst/>
            <a:rect l="l" t="t" r="r" b="b"/>
            <a:pathLst>
              <a:path w="195" h="820">
                <a:moveTo>
                  <a:pt x="194" y="0"/>
                </a:moveTo>
                <a:lnTo>
                  <a:pt x="157" y="6"/>
                </a:lnTo>
                <a:lnTo>
                  <a:pt x="125" y="20"/>
                </a:lnTo>
                <a:lnTo>
                  <a:pt x="106" y="46"/>
                </a:lnTo>
                <a:lnTo>
                  <a:pt x="97" y="72"/>
                </a:lnTo>
                <a:lnTo>
                  <a:pt x="97" y="343"/>
                </a:lnTo>
                <a:lnTo>
                  <a:pt x="88" y="370"/>
                </a:lnTo>
                <a:lnTo>
                  <a:pt x="70" y="390"/>
                </a:lnTo>
                <a:lnTo>
                  <a:pt x="37" y="403"/>
                </a:lnTo>
                <a:lnTo>
                  <a:pt x="0" y="409"/>
                </a:lnTo>
                <a:lnTo>
                  <a:pt x="37" y="416"/>
                </a:lnTo>
                <a:lnTo>
                  <a:pt x="70" y="429"/>
                </a:lnTo>
                <a:lnTo>
                  <a:pt x="88" y="449"/>
                </a:lnTo>
                <a:lnTo>
                  <a:pt x="97" y="475"/>
                </a:lnTo>
                <a:lnTo>
                  <a:pt x="97" y="753"/>
                </a:lnTo>
                <a:lnTo>
                  <a:pt x="106" y="779"/>
                </a:lnTo>
                <a:lnTo>
                  <a:pt x="125" y="799"/>
                </a:lnTo>
                <a:lnTo>
                  <a:pt x="157" y="812"/>
                </a:lnTo>
                <a:lnTo>
                  <a:pt x="194" y="819"/>
                </a:lnTo>
              </a:path>
            </a:pathLst>
          </a:custGeom>
          <a:no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803880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easurement of Position of Break</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5T02:30:46Z</dcterms:created>
  <dc:creator>USER</dc:creator>
  <dc:description/>
  <dc:language>en-US</dc:language>
  <cp:lastModifiedBy>Hdaily</cp:lastModifiedBy>
  <cp:lastPrinted>2000-02-03T09:09:47Z</cp:lastPrinted>
  <dcterms:modified xsi:type="dcterms:W3CDTF">2000-06-21T04:47:31Z</dcterms:modified>
  <cp:revision>2</cp:revision>
  <dc:subject/>
  <dc:title>Defining the Measurement of Staple Strength</dc:title>
</cp:coreProperties>
</file>