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7115-E67F-4E4E-A733-951FF8A34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DD38-BBA4-4C65-9A5E-D387B79A8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fibre diameter profiles, this being the pattern of change in fibre diameter along the length of the staple.  Specific parameters of the profile are identified.  Differences between sheep within a mob and differences between genetic groups within a flock are shown, suggesting a degree of genetic control of the diameter response to environmental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7564-91E1-4B8F-91BE-4B649122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fibre diameter throughout the wool growth period (i.e. along the staple) are reflected in the fibre diameter profile.  Features of this profile which have been discussed in relation to staple strength are the minimum diameter in the profile (point of lowest diameter), variation in diameter and rate of change in diameter per mm of staple between the maximum and minimum di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break generally equates to the point of minimum diame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0553-9C98-4CFB-9B7F-3B0962E42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nsford, K.A. (1994). In “WOOLSPEC94: Specification of Australian Wool and its Implications for Marketing and Processing”. CSIRO Division of Wool Technology, J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diameter profile reflects the response of the sheep to environmental changes throughout the year, there is evidence to suggest that some flocks respond differently to the same scenario of environmental change, and even within a mob, some individuals will respond differently to others.  This suggests that there are certain biological / physiological mechanisms which underpin diameter response patterns, and that these could vary at both the flock and individual levels.  That is, there may be some flocks and certain individual animals that are less sensitive to environmental change, in terms of diameter.  These flocks / individuals may be able to buffer against environmental change in a way that reduces the potential for staple strength to dec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25480" y="557388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825480" y="497664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 name=""/>
          <p:cNvSpPr/>
          <p:nvPr/>
        </p:nvSpPr>
        <p:spPr>
          <a:xfrm>
            <a:off x="825480" y="438768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 name=""/>
          <p:cNvSpPr/>
          <p:nvPr/>
        </p:nvSpPr>
        <p:spPr>
          <a:xfrm>
            <a:off x="825480" y="379080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825480" y="320184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825480" y="260352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825480" y="2004840"/>
            <a:ext cx="11448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 name=""/>
          <p:cNvSpPr/>
          <p:nvPr/>
        </p:nvSpPr>
        <p:spPr>
          <a:xfrm>
            <a:off x="825480" y="141768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825480" y="82080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797040" y="557388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797040" y="438768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797040" y="32018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797040" y="2004840"/>
            <a:ext cx="17136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797040" y="82080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882720" y="5573880"/>
            <a:ext cx="807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10825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14922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8921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229392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7036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10356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5035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39132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3131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7131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51228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5227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2308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63324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673272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71341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5438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79437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834408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87534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8827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2826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16923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093760" y="5495400"/>
            <a:ext cx="180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4940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903400" y="5495400"/>
            <a:ext cx="180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3037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7036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5133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9230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53229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5722920" y="5486400"/>
            <a:ext cx="1440" cy="155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61326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65325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9343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77439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81439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85536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89535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882720" y="3646440"/>
            <a:ext cx="1440" cy="28800"/>
          </a:xfrm>
          <a:prstGeom prst="line">
            <a:avLst/>
          </a:prstGeom>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 name=""/>
          <p:cNvSpPr/>
          <p:nvPr/>
        </p:nvSpPr>
        <p:spPr>
          <a:xfrm>
            <a:off x="882720" y="3675240"/>
            <a:ext cx="1440" cy="28440"/>
          </a:xfrm>
          <a:prstGeom prst="line">
            <a:avLst/>
          </a:prstGeom>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 name=""/>
          <p:cNvSpPr/>
          <p:nvPr/>
        </p:nvSpPr>
        <p:spPr>
          <a:xfrm flipH="1">
            <a:off x="853920" y="3675240"/>
            <a:ext cx="28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882720" y="3675240"/>
            <a:ext cx="28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flipV="1">
            <a:off x="4471920" y="5122440"/>
            <a:ext cx="1800" cy="133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1220760" y="1116000"/>
            <a:ext cx="7786440" cy="5133240"/>
            <a:chOff x="1220760" y="1116000"/>
            <a:chExt cx="7786440" cy="5133240"/>
          </a:xfrm>
        </p:grpSpPr>
        <p:sp>
          <p:nvSpPr>
            <p:cNvPr id="109" name=""/>
            <p:cNvSpPr/>
            <p:nvPr/>
          </p:nvSpPr>
          <p:spPr>
            <a:xfrm>
              <a:off x="1973880" y="1241280"/>
              <a:ext cx="6964920" cy="410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73880" y="1241280"/>
              <a:ext cx="6964920" cy="41004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73880" y="1241280"/>
              <a:ext cx="1440" cy="410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73880" y="3595680"/>
              <a:ext cx="344520" cy="1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18400" y="3595680"/>
              <a:ext cx="353520" cy="1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672280" y="3703680"/>
              <a:ext cx="34740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019680" y="3703320"/>
              <a:ext cx="34452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364200" y="3395520"/>
              <a:ext cx="353160" cy="3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717720" y="2469600"/>
              <a:ext cx="345960" cy="92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064040" y="2469960"/>
              <a:ext cx="344520" cy="209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08560" y="2469960"/>
              <a:ext cx="353160" cy="209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762080" y="1855800"/>
              <a:ext cx="344520" cy="614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06600" y="1855800"/>
              <a:ext cx="35352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60120" y="1955520"/>
              <a:ext cx="345600" cy="1339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6080" y="3295440"/>
              <a:ext cx="344520" cy="20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39080" y="3484440"/>
              <a:ext cx="365400" cy="3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04480" y="3803400"/>
              <a:ext cx="344520" cy="514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849000" y="3803040"/>
              <a:ext cx="347400" cy="514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196760" y="3595320"/>
              <a:ext cx="353160" cy="207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7550280" y="3295440"/>
              <a:ext cx="344520" cy="30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894800" y="2877840"/>
              <a:ext cx="345960" cy="41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41120" y="2877840"/>
              <a:ext cx="353160" cy="109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8594280" y="2877480"/>
              <a:ext cx="344520" cy="109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41120" y="3670200"/>
              <a:ext cx="74160" cy="74520"/>
            </a:xfrm>
            <a:prstGeom prst="rect">
              <a:avLst/>
            </a:pr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2285640" y="356220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flipV="1">
              <a:off x="2318400" y="35697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a:off x="2318400" y="35956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 name=""/>
            <p:cNvSpPr/>
            <p:nvPr/>
          </p:nvSpPr>
          <p:spPr>
            <a:xfrm flipH="1">
              <a:off x="2294640" y="359568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318400" y="3595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639520" y="36702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flipV="1">
              <a:off x="2672280" y="367776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 name=""/>
            <p:cNvSpPr/>
            <p:nvPr/>
          </p:nvSpPr>
          <p:spPr>
            <a:xfrm>
              <a:off x="2672280" y="37036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 name=""/>
            <p:cNvSpPr/>
            <p:nvPr/>
          </p:nvSpPr>
          <p:spPr>
            <a:xfrm flipH="1">
              <a:off x="2648160" y="3703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672280" y="3703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2985480" y="3768480"/>
              <a:ext cx="74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flipV="1">
              <a:off x="301968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 name=""/>
            <p:cNvSpPr/>
            <p:nvPr/>
          </p:nvSpPr>
          <p:spPr>
            <a:xfrm>
              <a:off x="301968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 name=""/>
            <p:cNvSpPr/>
            <p:nvPr/>
          </p:nvSpPr>
          <p:spPr>
            <a:xfrm flipH="1">
              <a:off x="2992680" y="3803400"/>
              <a:ext cx="2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3019680" y="380340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3331800" y="36702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
            <p:cNvSpPr/>
            <p:nvPr/>
          </p:nvSpPr>
          <p:spPr>
            <a:xfrm flipV="1">
              <a:off x="3364200" y="367776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 name=""/>
            <p:cNvSpPr/>
            <p:nvPr/>
          </p:nvSpPr>
          <p:spPr>
            <a:xfrm>
              <a:off x="3364200" y="37036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 name=""/>
            <p:cNvSpPr/>
            <p:nvPr/>
          </p:nvSpPr>
          <p:spPr>
            <a:xfrm flipH="1">
              <a:off x="3340440" y="3703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3364200" y="3703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3684960" y="3362040"/>
              <a:ext cx="74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V="1">
              <a:off x="3717720" y="337032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 name=""/>
            <p:cNvSpPr/>
            <p:nvPr/>
          </p:nvSpPr>
          <p:spPr>
            <a:xfrm>
              <a:off x="3717720" y="339552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 name=""/>
            <p:cNvSpPr/>
            <p:nvPr/>
          </p:nvSpPr>
          <p:spPr>
            <a:xfrm flipH="1">
              <a:off x="3693600" y="339552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3717720" y="339552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4029480" y="243828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flipV="1">
              <a:off x="4064040" y="244620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4064040" y="2469960"/>
              <a:ext cx="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flipH="1">
              <a:off x="4038840" y="24699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4064040" y="246996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4375800" y="2646360"/>
              <a:ext cx="7380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 name=""/>
            <p:cNvSpPr/>
            <p:nvPr/>
          </p:nvSpPr>
          <p:spPr>
            <a:xfrm flipV="1">
              <a:off x="4408560" y="265428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 name=""/>
            <p:cNvSpPr/>
            <p:nvPr/>
          </p:nvSpPr>
          <p:spPr>
            <a:xfrm>
              <a:off x="4408560" y="26794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 name=""/>
            <p:cNvSpPr/>
            <p:nvPr/>
          </p:nvSpPr>
          <p:spPr>
            <a:xfrm flipH="1">
              <a:off x="4383360" y="267948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08560" y="267948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729320" y="243828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flipV="1">
              <a:off x="4762080" y="24462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762080" y="24699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 name=""/>
            <p:cNvSpPr/>
            <p:nvPr/>
          </p:nvSpPr>
          <p:spPr>
            <a:xfrm flipH="1">
              <a:off x="4736880" y="24699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4762080" y="246996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5073840" y="18223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flipV="1">
              <a:off x="5106600" y="182988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 name=""/>
            <p:cNvSpPr/>
            <p:nvPr/>
          </p:nvSpPr>
          <p:spPr>
            <a:xfrm>
              <a:off x="5106600" y="18558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
            <p:cNvSpPr/>
            <p:nvPr/>
          </p:nvSpPr>
          <p:spPr>
            <a:xfrm flipH="1">
              <a:off x="5082480" y="185580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106600" y="18558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427720" y="19224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flipV="1">
              <a:off x="5460120" y="193032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5460120" y="195552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flipH="1">
              <a:off x="5436360" y="195552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460120" y="195552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5773680" y="3260520"/>
              <a:ext cx="72720" cy="7776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 name=""/>
            <p:cNvSpPr/>
            <p:nvPr/>
          </p:nvSpPr>
          <p:spPr>
            <a:xfrm flipV="1">
              <a:off x="5806080" y="327024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5806080" y="32954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flipH="1">
              <a:off x="5780880" y="32954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5806080" y="329544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6118200" y="3462120"/>
              <a:ext cx="74160" cy="7488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 name=""/>
            <p:cNvSpPr/>
            <p:nvPr/>
          </p:nvSpPr>
          <p:spPr>
            <a:xfrm flipV="1">
              <a:off x="6150960" y="346968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a:off x="6150960" y="34956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flipH="1">
              <a:off x="6125400" y="34956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6150960" y="34956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471720" y="3768480"/>
              <a:ext cx="738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V="1">
              <a:off x="650448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a:off x="650448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flipH="1">
              <a:off x="647928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650448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6816600" y="428616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flipV="1">
              <a:off x="6849000" y="42940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6849000" y="431784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
            <p:cNvSpPr/>
            <p:nvPr/>
          </p:nvSpPr>
          <p:spPr>
            <a:xfrm flipH="1">
              <a:off x="6825240" y="431784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6849000" y="431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7164000" y="3768480"/>
              <a:ext cx="7272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flipV="1">
              <a:off x="719676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719676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flipH="1">
              <a:off x="717156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7196760" y="380340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7517520" y="3562200"/>
              <a:ext cx="727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flipV="1">
              <a:off x="7550280" y="35697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 name=""/>
            <p:cNvSpPr/>
            <p:nvPr/>
          </p:nvSpPr>
          <p:spPr>
            <a:xfrm>
              <a:off x="7550280" y="35956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flipH="1">
              <a:off x="7524720" y="3595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7550280" y="3595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862040" y="3260520"/>
              <a:ext cx="74160" cy="7776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 name=""/>
            <p:cNvSpPr/>
            <p:nvPr/>
          </p:nvSpPr>
          <p:spPr>
            <a:xfrm flipV="1">
              <a:off x="7894800" y="327024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894800" y="32954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 name=""/>
            <p:cNvSpPr/>
            <p:nvPr/>
          </p:nvSpPr>
          <p:spPr>
            <a:xfrm flipH="1">
              <a:off x="7870680" y="329544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94800" y="32954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206560" y="28447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flipV="1">
              <a:off x="8241120" y="28540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8241120" y="287784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flipH="1">
              <a:off x="821592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241120" y="287784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560440" y="2952720"/>
              <a:ext cx="738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8594280" y="296028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8594280" y="298764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flipH="1">
              <a:off x="8569080" y="298764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8594280" y="298764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906400" y="28447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V="1">
              <a:off x="8939160" y="28540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8939160" y="28778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flipH="1">
              <a:off x="891360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893916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1691640" y="5216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34" name=""/>
            <p:cNvSpPr/>
            <p:nvPr/>
          </p:nvSpPr>
          <p:spPr>
            <a:xfrm>
              <a:off x="1691640" y="4194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35" name=""/>
            <p:cNvSpPr/>
            <p:nvPr/>
          </p:nvSpPr>
          <p:spPr>
            <a:xfrm>
              <a:off x="1691640" y="31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36" name=""/>
            <p:cNvSpPr/>
            <p:nvPr/>
          </p:nvSpPr>
          <p:spPr>
            <a:xfrm>
              <a:off x="1691640" y="2138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37" name=""/>
            <p:cNvSpPr/>
            <p:nvPr/>
          </p:nvSpPr>
          <p:spPr>
            <a:xfrm>
              <a:off x="1691640" y="1116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38" name=""/>
            <p:cNvSpPr/>
            <p:nvPr/>
          </p:nvSpPr>
          <p:spPr>
            <a:xfrm>
              <a:off x="46314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6</a:t>
              </a:r>
              <a:endParaRPr b="0" lang="en-US" sz="1800" spc="-1" strike="noStrike">
                <a:solidFill>
                  <a:srgbClr val="000000"/>
                </a:solidFill>
                <a:latin typeface="Times New Roman"/>
              </a:endParaRPr>
            </a:p>
          </p:txBody>
        </p:sp>
        <p:sp>
          <p:nvSpPr>
            <p:cNvPr id="239" name=""/>
            <p:cNvSpPr/>
            <p:nvPr/>
          </p:nvSpPr>
          <p:spPr>
            <a:xfrm>
              <a:off x="533088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4</a:t>
              </a:r>
              <a:endParaRPr b="0" lang="en-US" sz="1800" spc="-1" strike="noStrike">
                <a:solidFill>
                  <a:srgbClr val="000000"/>
                </a:solidFill>
                <a:latin typeface="Times New Roman"/>
              </a:endParaRPr>
            </a:p>
          </p:txBody>
        </p:sp>
        <p:sp>
          <p:nvSpPr>
            <p:cNvPr id="240" name=""/>
            <p:cNvSpPr/>
            <p:nvPr/>
          </p:nvSpPr>
          <p:spPr>
            <a:xfrm>
              <a:off x="602172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2</a:t>
              </a:r>
              <a:endParaRPr b="0" lang="en-US" sz="1800" spc="-1" strike="noStrike">
                <a:solidFill>
                  <a:srgbClr val="000000"/>
                </a:solidFill>
                <a:latin typeface="Times New Roman"/>
              </a:endParaRPr>
            </a:p>
          </p:txBody>
        </p:sp>
        <p:sp>
          <p:nvSpPr>
            <p:cNvPr id="241" name=""/>
            <p:cNvSpPr/>
            <p:nvPr/>
          </p:nvSpPr>
          <p:spPr>
            <a:xfrm>
              <a:off x="671976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42" name=""/>
            <p:cNvSpPr/>
            <p:nvPr/>
          </p:nvSpPr>
          <p:spPr>
            <a:xfrm>
              <a:off x="74196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a:t>
              </a:r>
              <a:endParaRPr b="0" lang="en-US" sz="1800" spc="-1" strike="noStrike">
                <a:solidFill>
                  <a:srgbClr val="000000"/>
                </a:solidFill>
                <a:latin typeface="Times New Roman"/>
              </a:endParaRPr>
            </a:p>
          </p:txBody>
        </p:sp>
        <p:sp>
          <p:nvSpPr>
            <p:cNvPr id="243" name=""/>
            <p:cNvSpPr/>
            <p:nvPr/>
          </p:nvSpPr>
          <p:spPr>
            <a:xfrm>
              <a:off x="811044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6</a:t>
              </a:r>
              <a:endParaRPr b="0" lang="en-US" sz="1800" spc="-1" strike="noStrike">
                <a:solidFill>
                  <a:srgbClr val="000000"/>
                </a:solidFill>
                <a:latin typeface="Times New Roman"/>
              </a:endParaRPr>
            </a:p>
          </p:txBody>
        </p:sp>
        <p:sp>
          <p:nvSpPr>
            <p:cNvPr id="244" name=""/>
            <p:cNvSpPr/>
            <p:nvPr/>
          </p:nvSpPr>
          <p:spPr>
            <a:xfrm>
              <a:off x="87534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4</a:t>
              </a:r>
              <a:endParaRPr b="0" lang="en-US" sz="1800" spc="-1" strike="noStrike">
                <a:solidFill>
                  <a:srgbClr val="000000"/>
                </a:solidFill>
                <a:latin typeface="Times New Roman"/>
              </a:endParaRPr>
            </a:p>
          </p:txBody>
        </p:sp>
        <p:sp>
          <p:nvSpPr>
            <p:cNvPr id="245" name=""/>
            <p:cNvSpPr/>
            <p:nvPr/>
          </p:nvSpPr>
          <p:spPr>
            <a:xfrm>
              <a:off x="4169160" y="5883120"/>
              <a:ext cx="332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tance from tip (mm)</a:t>
              </a:r>
              <a:endParaRPr b="0" lang="en-US" sz="2400" spc="-1" strike="noStrike">
                <a:solidFill>
                  <a:srgbClr val="000000"/>
                </a:solidFill>
                <a:latin typeface="Times New Roman"/>
              </a:endParaRPr>
            </a:p>
          </p:txBody>
        </p:sp>
        <p:sp>
          <p:nvSpPr>
            <p:cNvPr id="246" name=""/>
            <p:cNvSpPr/>
            <p:nvPr/>
          </p:nvSpPr>
          <p:spPr>
            <a:xfrm rot="16200000">
              <a:off x="-300240" y="3186360"/>
              <a:ext cx="340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micron)</a:t>
              </a:r>
              <a:endParaRPr b="0" lang="en-US" sz="2400" spc="-1" strike="noStrike">
                <a:solidFill>
                  <a:srgbClr val="000000"/>
                </a:solidFill>
                <a:latin typeface="Times New Roman"/>
              </a:endParaRPr>
            </a:p>
          </p:txBody>
        </p:sp>
        <p:sp>
          <p:nvSpPr>
            <p:cNvPr id="247" name=""/>
            <p:cNvSpPr/>
            <p:nvPr/>
          </p:nvSpPr>
          <p:spPr>
            <a:xfrm>
              <a:off x="5028840" y="1542960"/>
              <a:ext cx="566280" cy="305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a:t>
              </a:r>
              <a:endParaRPr b="0" lang="en-US" sz="2000" spc="-1" strike="noStrike">
                <a:solidFill>
                  <a:srgbClr val="000000"/>
                </a:solidFill>
                <a:latin typeface="Times New Roman"/>
              </a:endParaRPr>
            </a:p>
          </p:txBody>
        </p:sp>
        <p:sp>
          <p:nvSpPr>
            <p:cNvPr id="248" name=""/>
            <p:cNvSpPr/>
            <p:nvPr/>
          </p:nvSpPr>
          <p:spPr>
            <a:xfrm>
              <a:off x="6937920" y="4413240"/>
              <a:ext cx="508320" cy="305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a:t>
              </a:r>
              <a:endParaRPr b="0" lang="en-US" sz="2000" spc="-1" strike="noStrike">
                <a:solidFill>
                  <a:srgbClr val="000000"/>
                </a:solidFill>
                <a:latin typeface="Times New Roman"/>
              </a:endParaRPr>
            </a:p>
          </p:txBody>
        </p:sp>
        <p:sp>
          <p:nvSpPr>
            <p:cNvPr id="249" name=""/>
            <p:cNvSpPr/>
            <p:nvPr/>
          </p:nvSpPr>
          <p:spPr>
            <a:xfrm>
              <a:off x="4829040" y="1584360"/>
              <a:ext cx="2211480" cy="3271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14720" y="2533680"/>
              <a:ext cx="265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ition of break</a:t>
              </a:r>
              <a:endParaRPr b="0" lang="en-US" sz="2400" spc="-1" strike="noStrike">
                <a:solidFill>
                  <a:srgbClr val="000000"/>
                </a:solidFill>
                <a:latin typeface="Times New Roman"/>
              </a:endParaRPr>
            </a:p>
          </p:txBody>
        </p:sp>
        <p:sp>
          <p:nvSpPr>
            <p:cNvPr id="251" name=""/>
            <p:cNvSpPr/>
            <p:nvPr/>
          </p:nvSpPr>
          <p:spPr>
            <a:xfrm flipH="1" rot="17820000">
              <a:off x="6111000" y="3188160"/>
              <a:ext cx="854280" cy="394920"/>
            </a:xfrm>
            <a:prstGeom prst="rightArrow">
              <a:avLst>
                <a:gd name="adj1" fmla="val 50000"/>
                <a:gd name="adj2" fmla="val 541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rot="15000000">
              <a:off x="6506280" y="3188520"/>
              <a:ext cx="854280" cy="394560"/>
            </a:xfrm>
            <a:prstGeom prst="rightArrow">
              <a:avLst>
                <a:gd name="adj1" fmla="val 50000"/>
                <a:gd name="adj2" fmla="val 5416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rot="16200000">
              <a:off x="6307920" y="3253680"/>
              <a:ext cx="854280" cy="394920"/>
            </a:xfrm>
            <a:prstGeom prst="rightArrow">
              <a:avLst>
                <a:gd name="adj1" fmla="val 50000"/>
                <a:gd name="adj2" fmla="val 541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551400" y="4076640"/>
              <a:ext cx="2365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e of chan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Symbol"/>
                  <a:ea typeface="Symbol"/>
                </a:rPr>
                <a:t></a:t>
              </a:r>
              <a:r>
                <a:rPr b="1" lang="en-GB" sz="2400" spc="-1" strike="noStrike">
                  <a:solidFill>
                    <a:srgbClr val="000000"/>
                  </a:solidFill>
                  <a:latin typeface="Arial"/>
                </a:rPr>
                <a:t>m per mm)</a:t>
              </a:r>
              <a:endParaRPr b="0" lang="en-US" sz="2400" spc="-1" strike="noStrike">
                <a:solidFill>
                  <a:srgbClr val="000000"/>
                </a:solidFill>
                <a:latin typeface="Times New Roman"/>
              </a:endParaRPr>
            </a:p>
          </p:txBody>
        </p:sp>
        <p:sp>
          <p:nvSpPr>
            <p:cNvPr id="255" name=""/>
            <p:cNvSpPr/>
            <p:nvPr/>
          </p:nvSpPr>
          <p:spPr>
            <a:xfrm flipH="1" rot="6780000">
              <a:off x="4344480" y="3139560"/>
              <a:ext cx="1423800" cy="334440"/>
            </a:xfrm>
            <a:prstGeom prst="rightArrow">
              <a:avLst>
                <a:gd name="adj1" fmla="val 50000"/>
                <a:gd name="adj2" fmla="val 1065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44440" y="541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8</a:t>
              </a:r>
              <a:endParaRPr b="0" lang="en-US" sz="1800" spc="-1" strike="noStrike">
                <a:solidFill>
                  <a:srgbClr val="000000"/>
                </a:solidFill>
                <a:latin typeface="Times New Roman"/>
              </a:endParaRPr>
            </a:p>
          </p:txBody>
        </p:sp>
        <p:sp>
          <p:nvSpPr>
            <p:cNvPr id="257" name=""/>
            <p:cNvSpPr/>
            <p:nvPr/>
          </p:nvSpPr>
          <p:spPr>
            <a:xfrm>
              <a:off x="3201480" y="541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58" name=""/>
            <p:cNvSpPr/>
            <p:nvPr/>
          </p:nvSpPr>
          <p:spPr>
            <a:xfrm>
              <a:off x="2463120" y="5397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a:t>
              </a:r>
              <a:endParaRPr b="0" lang="en-US" sz="1800" spc="-1" strike="noStrike">
                <a:solidFill>
                  <a:srgbClr val="000000"/>
                </a:solidFill>
                <a:latin typeface="Times New Roman"/>
              </a:endParaRPr>
            </a:p>
          </p:txBody>
        </p:sp>
        <p:sp>
          <p:nvSpPr>
            <p:cNvPr id="259" name=""/>
            <p:cNvSpPr/>
            <p:nvPr/>
          </p:nvSpPr>
          <p:spPr>
            <a:xfrm>
              <a:off x="1865520" y="5397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grpSp>
      <p:sp>
        <p:nvSpPr>
          <p:cNvPr id="260" name=""/>
          <p:cNvSpPr/>
          <p:nvPr/>
        </p:nvSpPr>
        <p:spPr>
          <a:xfrm flipV="1">
            <a:off x="7313760" y="5483160"/>
            <a:ext cx="1440" cy="155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 of a stapl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63" name="between-flock%20profiles" descr=""/>
          <p:cNvPicPr/>
          <p:nvPr/>
        </p:nvPicPr>
        <p:blipFill>
          <a:blip r:embed="rId1">
            <a:lum contrast="6000"/>
          </a:blip>
          <a:stretch/>
        </p:blipFill>
        <p:spPr>
          <a:xfrm>
            <a:off x="1600200" y="1424160"/>
            <a:ext cx="6553080" cy="4421160"/>
          </a:xfrm>
          <a:prstGeom prst="rect">
            <a:avLst/>
          </a:prstGeom>
          <a:ln w="0">
            <a:noFill/>
          </a:ln>
        </p:spPr>
      </p:pic>
      <p:sp>
        <p:nvSpPr>
          <p:cNvPr id="264" name=""/>
          <p:cNvSpPr/>
          <p:nvPr/>
        </p:nvSpPr>
        <p:spPr>
          <a:xfrm>
            <a:off x="721620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ansford (1994)</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tween-flock differences in diameter response patterns throughout the yea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49:27Z</dcterms:created>
  <dc:creator>USER</dc:creator>
  <dc:description/>
  <dc:language>en-US</dc:language>
  <cp:lastModifiedBy>Hdaily</cp:lastModifiedBy>
  <cp:lastPrinted>2000-02-03T09:09:47Z</cp:lastPrinted>
  <dcterms:modified xsi:type="dcterms:W3CDTF">2000-06-14T04:46:20Z</dcterms:modified>
  <cp:revision>2</cp:revision>
  <dc:subject/>
  <dc:title>Fibre Diameter Profiles</dc:title>
</cp:coreProperties>
</file>