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E000-BFE7-4CC2-859D-256E25415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3A73-05C0-4ADB-90D4-A1BC57B70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style as a composite trait, reflecting crimp frequency, crimp definition, tip and staple structure, dust penetration, weathering and greasy colour.  The contribution of each component trait to differences in style grade are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C336-616B-432D-9040-5C1B94D1A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562040" y="533520"/>
            <a:ext cx="3657600" cy="2743200"/>
          </a:xfrm>
          <a:prstGeom prst="rect">
            <a:avLst/>
          </a:prstGeom>
          <a:ln w="0">
            <a:noFill/>
          </a:ln>
        </p:spPr>
      </p:sp>
      <p:sp>
        <p:nvSpPr>
          <p:cNvPr id="22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components of style relate to the structure of the fleece (tip shape, staple structure), formation of the crimp (crimp frequency and crimp definition), dust content (amount of dust, colour of the dust and degree of penetration of dust down the staple), weathering (environmental damage to the staple tip) and greasy wool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therefore reflects an interaction between the fleece and the environ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0871-B710-4609-9BB0-53A983F52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562040" y="533520"/>
            <a:ext cx="3657600" cy="2743200"/>
          </a:xfrm>
          <a:prstGeom prst="rect">
            <a:avLst/>
          </a:prstGeom>
          <a:ln w="0">
            <a:noFill/>
          </a:ln>
        </p:spPr>
      </p:sp>
      <p:sp>
        <p:nvSpPr>
          <p:cNvPr id="23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rimp frequency</a:t>
            </a:r>
            <a:r>
              <a:rPr b="0" lang="en-AU" sz="1200" spc="-1" strike="noStrike">
                <a:solidFill>
                  <a:srgbClr val="000000"/>
                </a:solidFill>
                <a:latin typeface="Times New Roman"/>
              </a:rPr>
              <a:t> relates to the number of staple crimp waves per unit length of the staple (e.g. 6 crimps per 2.5 cm).  A high number of crimp waves is referred to as high frequency, while a low number indicates low crimp frequ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rimp definition</a:t>
            </a:r>
            <a:r>
              <a:rPr b="0" lang="en-AU" sz="1200" spc="-1" strike="noStrike">
                <a:solidFill>
                  <a:srgbClr val="000000"/>
                </a:solidFill>
                <a:latin typeface="Times New Roman"/>
              </a:rPr>
              <a:t>, also referred to as character, indicates the degree to which the crimp wave of individual fibres within a staple, are in alignment, such that staple crimp is visible.  High definition (or superior character) indicates a high degree of alignment between fibre crimp, while poor definition (or poor character) indicates poor alignment of fibre crim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2841-2C6B-4307-9BCA-53F5B80F8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evens, D. and Crowe, D. (1994). </a:t>
            </a:r>
            <a:r>
              <a:rPr b="0" lang="en-US" sz="1200" spc="-1" strike="noStrike">
                <a:solidFill>
                  <a:srgbClr val="000000"/>
                </a:solidFill>
                <a:latin typeface="Times New Roman"/>
              </a:rPr>
              <a:t>In “WOOLSPEC94: Specification of Australian Wool and its Implications for Marketing and Processing”. CSIRO Division of Wool Technology, E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ple tip structure is thought to depend on the degree of variation in fibre length within the staple.  Also, it is postulated that there is an interaction between tip shape and exposure of the staple to UV damage, water and dust penetration, i.e. facilitating weathering.</a:t>
            </a:r>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63BD-81F2-450E-9A4D-9F9099A49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rowe, D. and Stevens, D. (1994). </a:t>
            </a:r>
            <a:r>
              <a:rPr b="0" lang="en-US" sz="1200" spc="-1" strike="noStrike">
                <a:solidFill>
                  <a:srgbClr val="000000"/>
                </a:solidFill>
                <a:latin typeface="Times New Roman"/>
              </a:rPr>
              <a:t>In “WOOLSPEC94: Specification of Australian Wool and its Implications for Marketing and Processing”. CSIRO Division of Wool Technology, D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difference between style grades is in terms of greasy wool colour, dust penetration and weathering.  Crimp and fleece structure are secondary determin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omponents of Sty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3581280" y="4800600"/>
            <a:ext cx="5473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afd00"/>
                </a:solidFill>
                <a:latin typeface="Arial"/>
              </a:rPr>
              <a:t>Style reflects the interaction between fleece and environment</a:t>
            </a:r>
            <a:endParaRPr b="0" lang="en-US" sz="2400" spc="-1" strike="noStrike">
              <a:solidFill>
                <a:srgbClr val="000000"/>
              </a:solidFill>
              <a:latin typeface="Times New Roman"/>
            </a:endParaRPr>
          </a:p>
        </p:txBody>
      </p:sp>
      <p:sp>
        <p:nvSpPr>
          <p:cNvPr id="50" name=""/>
          <p:cNvSpPr/>
          <p:nvPr/>
        </p:nvSpPr>
        <p:spPr>
          <a:xfrm>
            <a:off x="2590920" y="4648320"/>
            <a:ext cx="839520" cy="841320"/>
          </a:xfrm>
          <a:custGeom>
            <a:avLst/>
            <a:gdLst/>
            <a:ahLst/>
            <a:rect l="l" t="t" r="r" b="b"/>
            <a:pathLst>
              <a:path w="529" h="530">
                <a:moveTo>
                  <a:pt x="528" y="381"/>
                </a:moveTo>
                <a:lnTo>
                  <a:pt x="369" y="529"/>
                </a:lnTo>
                <a:lnTo>
                  <a:pt x="369" y="458"/>
                </a:lnTo>
                <a:lnTo>
                  <a:pt x="302" y="458"/>
                </a:lnTo>
                <a:lnTo>
                  <a:pt x="242" y="452"/>
                </a:lnTo>
                <a:lnTo>
                  <a:pt x="184" y="439"/>
                </a:lnTo>
                <a:lnTo>
                  <a:pt x="134" y="419"/>
                </a:lnTo>
                <a:lnTo>
                  <a:pt x="90" y="393"/>
                </a:lnTo>
                <a:lnTo>
                  <a:pt x="51" y="355"/>
                </a:lnTo>
                <a:lnTo>
                  <a:pt x="37" y="342"/>
                </a:lnTo>
                <a:lnTo>
                  <a:pt x="23" y="323"/>
                </a:lnTo>
                <a:lnTo>
                  <a:pt x="14" y="297"/>
                </a:lnTo>
                <a:lnTo>
                  <a:pt x="7" y="277"/>
                </a:lnTo>
                <a:lnTo>
                  <a:pt x="2" y="258"/>
                </a:lnTo>
                <a:lnTo>
                  <a:pt x="0" y="232"/>
                </a:lnTo>
                <a:lnTo>
                  <a:pt x="0" y="0"/>
                </a:lnTo>
                <a:lnTo>
                  <a:pt x="157" y="0"/>
                </a:lnTo>
                <a:lnTo>
                  <a:pt x="157" y="232"/>
                </a:lnTo>
                <a:lnTo>
                  <a:pt x="159" y="245"/>
                </a:lnTo>
                <a:lnTo>
                  <a:pt x="168" y="258"/>
                </a:lnTo>
                <a:lnTo>
                  <a:pt x="182" y="271"/>
                </a:lnTo>
                <a:lnTo>
                  <a:pt x="198" y="284"/>
                </a:lnTo>
                <a:lnTo>
                  <a:pt x="221" y="290"/>
                </a:lnTo>
                <a:lnTo>
                  <a:pt x="244" y="297"/>
                </a:lnTo>
                <a:lnTo>
                  <a:pt x="272" y="303"/>
                </a:lnTo>
                <a:lnTo>
                  <a:pt x="302" y="303"/>
                </a:lnTo>
                <a:lnTo>
                  <a:pt x="369" y="303"/>
                </a:lnTo>
                <a:lnTo>
                  <a:pt x="369" y="232"/>
                </a:lnTo>
                <a:lnTo>
                  <a:pt x="528" y="381"/>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yle is a composite trait</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frequenc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defini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p shape / staple structu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ust (amount, penetration and colo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eather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easy colour</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219320" y="1219320"/>
            <a:ext cx="4876560" cy="4419000"/>
            <a:chOff x="1219320" y="1219320"/>
            <a:chExt cx="4876560" cy="4419000"/>
          </a:xfrm>
        </p:grpSpPr>
        <p:sp>
          <p:nvSpPr>
            <p:cNvPr id="55" name=""/>
            <p:cNvSpPr/>
            <p:nvPr/>
          </p:nvSpPr>
          <p:spPr>
            <a:xfrm>
              <a:off x="3701880" y="4894200"/>
              <a:ext cx="2394000" cy="74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219320" y="4894200"/>
              <a:ext cx="2438280" cy="74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43200" y="1219320"/>
              <a:ext cx="3267000" cy="52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72608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85460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9900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47048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34196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488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8636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898280" y="1284120"/>
              <a:ext cx="3263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ll-defined staple crimp</a:t>
              </a:r>
              <a:endParaRPr b="0" lang="en-US" sz="2000" spc="-1" strike="noStrike">
                <a:solidFill>
                  <a:srgbClr val="000000"/>
                </a:solidFill>
                <a:latin typeface="Times New Roman"/>
              </a:endParaRPr>
            </a:p>
          </p:txBody>
        </p:sp>
        <p:grpSp>
          <p:nvGrpSpPr>
            <p:cNvPr id="66" name=""/>
            <p:cNvGrpSpPr/>
            <p:nvPr/>
          </p:nvGrpSpPr>
          <p:grpSpPr>
            <a:xfrm>
              <a:off x="2174760" y="3287520"/>
              <a:ext cx="758880" cy="693360"/>
              <a:chOff x="2174760" y="3287520"/>
              <a:chExt cx="758880" cy="693360"/>
            </a:xfrm>
          </p:grpSpPr>
          <p:sp>
            <p:nvSpPr>
              <p:cNvPr id="67" name=""/>
              <p:cNvSpPr/>
              <p:nvPr/>
            </p:nvSpPr>
            <p:spPr>
              <a:xfrm>
                <a:off x="2729160" y="328752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544840" y="3287520"/>
                <a:ext cx="20412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359080" y="328752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174760" y="328752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2174760" y="2566800"/>
              <a:ext cx="758880" cy="691920"/>
              <a:chOff x="2174760" y="2566800"/>
              <a:chExt cx="758880" cy="691920"/>
            </a:xfrm>
          </p:grpSpPr>
          <p:sp>
            <p:nvSpPr>
              <p:cNvPr id="72" name=""/>
              <p:cNvSpPr/>
              <p:nvPr/>
            </p:nvSpPr>
            <p:spPr>
              <a:xfrm>
                <a:off x="2729160" y="2566800"/>
                <a:ext cx="204480" cy="69192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544840" y="2566800"/>
                <a:ext cx="204120" cy="69192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359080" y="2566800"/>
                <a:ext cx="204480" cy="69192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174760" y="2566800"/>
                <a:ext cx="204480" cy="69192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2174760" y="1874880"/>
              <a:ext cx="758880" cy="693360"/>
              <a:chOff x="2174760" y="1874880"/>
              <a:chExt cx="758880" cy="693360"/>
            </a:xfrm>
          </p:grpSpPr>
          <p:sp>
            <p:nvSpPr>
              <p:cNvPr id="77" name=""/>
              <p:cNvSpPr/>
              <p:nvPr/>
            </p:nvSpPr>
            <p:spPr>
              <a:xfrm>
                <a:off x="2729160" y="187488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44840" y="1874880"/>
                <a:ext cx="20412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59080" y="187488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74760" y="187488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2163600" y="4003560"/>
              <a:ext cx="758880" cy="693360"/>
              <a:chOff x="2163600" y="4003560"/>
              <a:chExt cx="758880" cy="693360"/>
            </a:xfrm>
          </p:grpSpPr>
          <p:sp>
            <p:nvSpPr>
              <p:cNvPr id="82" name=""/>
              <p:cNvSpPr/>
              <p:nvPr/>
            </p:nvSpPr>
            <p:spPr>
              <a:xfrm>
                <a:off x="2718000" y="400356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33320" y="400356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347920" y="4003560"/>
                <a:ext cx="20412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63600" y="400356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369080" y="4876560"/>
              <a:ext cx="21610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imp frequency</a:t>
              </a:r>
              <a:endParaRPr b="0" lang="en-US" sz="2000" spc="-1" strike="noStrike">
                <a:solidFill>
                  <a:srgbClr val="000000"/>
                </a:solidFill>
                <a:latin typeface="Times New Roman"/>
              </a:endParaRPr>
            </a:p>
          </p:txBody>
        </p:sp>
        <p:sp>
          <p:nvSpPr>
            <p:cNvPr id="87" name=""/>
            <p:cNvSpPr/>
            <p:nvPr/>
          </p:nvSpPr>
          <p:spPr>
            <a:xfrm>
              <a:off x="3867840" y="4876560"/>
              <a:ext cx="21610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imp frequency</a:t>
              </a:r>
              <a:endParaRPr b="0" lang="en-US" sz="2000" spc="-1" strike="noStrike">
                <a:solidFill>
                  <a:srgbClr val="000000"/>
                </a:solidFill>
                <a:latin typeface="Times New Roman"/>
              </a:endParaRPr>
            </a:p>
          </p:txBody>
        </p:sp>
      </p:grpSp>
      <p:grpSp>
        <p:nvGrpSpPr>
          <p:cNvPr id="88" name=""/>
          <p:cNvGrpSpPr/>
          <p:nvPr/>
        </p:nvGrpSpPr>
        <p:grpSpPr>
          <a:xfrm>
            <a:off x="6534000" y="1212840"/>
            <a:ext cx="2002320" cy="3663720"/>
            <a:chOff x="6534000" y="1212840"/>
            <a:chExt cx="2002320" cy="3663720"/>
          </a:xfrm>
        </p:grpSpPr>
        <p:sp>
          <p:nvSpPr>
            <p:cNvPr id="89" name=""/>
            <p:cNvSpPr/>
            <p:nvPr/>
          </p:nvSpPr>
          <p:spPr>
            <a:xfrm>
              <a:off x="6534000" y="1212840"/>
              <a:ext cx="1972080" cy="69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6954480" y="2032560"/>
              <a:ext cx="1040760" cy="2844000"/>
              <a:chOff x="6954480" y="2032560"/>
              <a:chExt cx="1040760" cy="2844000"/>
            </a:xfrm>
          </p:grpSpPr>
          <p:sp>
            <p:nvSpPr>
              <p:cNvPr id="91" name=""/>
              <p:cNvSpPr/>
              <p:nvPr/>
            </p:nvSpPr>
            <p:spPr>
              <a:xfrm>
                <a:off x="7611840" y="2032560"/>
                <a:ext cx="263880" cy="2844000"/>
              </a:xfrm>
              <a:custGeom>
                <a:avLst/>
                <a:gdLst/>
                <a:ahLst/>
                <a:rect l="l" t="t" r="r" b="b"/>
                <a:pathLst>
                  <a:path w="212" h="2164">
                    <a:moveTo>
                      <a:pt x="130" y="0"/>
                    </a:moveTo>
                    <a:lnTo>
                      <a:pt x="95" y="10"/>
                    </a:lnTo>
                    <a:lnTo>
                      <a:pt x="95" y="43"/>
                    </a:lnTo>
                    <a:lnTo>
                      <a:pt x="74" y="86"/>
                    </a:lnTo>
                    <a:lnTo>
                      <a:pt x="63" y="139"/>
                    </a:lnTo>
                    <a:lnTo>
                      <a:pt x="63" y="172"/>
                    </a:lnTo>
                    <a:lnTo>
                      <a:pt x="85" y="205"/>
                    </a:lnTo>
                    <a:lnTo>
                      <a:pt x="127" y="226"/>
                    </a:lnTo>
                    <a:lnTo>
                      <a:pt x="169" y="236"/>
                    </a:lnTo>
                    <a:lnTo>
                      <a:pt x="179" y="269"/>
                    </a:lnTo>
                    <a:lnTo>
                      <a:pt x="211" y="312"/>
                    </a:lnTo>
                    <a:lnTo>
                      <a:pt x="211" y="355"/>
                    </a:lnTo>
                    <a:lnTo>
                      <a:pt x="211" y="388"/>
                    </a:lnTo>
                    <a:lnTo>
                      <a:pt x="179" y="398"/>
                    </a:lnTo>
                    <a:lnTo>
                      <a:pt x="169" y="431"/>
                    </a:lnTo>
                    <a:lnTo>
                      <a:pt x="137" y="441"/>
                    </a:lnTo>
                    <a:lnTo>
                      <a:pt x="106" y="474"/>
                    </a:lnTo>
                    <a:lnTo>
                      <a:pt x="74" y="495"/>
                    </a:lnTo>
                    <a:lnTo>
                      <a:pt x="53" y="538"/>
                    </a:lnTo>
                    <a:lnTo>
                      <a:pt x="53" y="581"/>
                    </a:lnTo>
                    <a:lnTo>
                      <a:pt x="53" y="614"/>
                    </a:lnTo>
                    <a:lnTo>
                      <a:pt x="74" y="657"/>
                    </a:lnTo>
                    <a:lnTo>
                      <a:pt x="116" y="688"/>
                    </a:lnTo>
                    <a:lnTo>
                      <a:pt x="158" y="731"/>
                    </a:lnTo>
                    <a:lnTo>
                      <a:pt x="169" y="764"/>
                    </a:lnTo>
                    <a:lnTo>
                      <a:pt x="169" y="807"/>
                    </a:lnTo>
                    <a:lnTo>
                      <a:pt x="169" y="850"/>
                    </a:lnTo>
                    <a:lnTo>
                      <a:pt x="169" y="883"/>
                    </a:lnTo>
                    <a:lnTo>
                      <a:pt x="137" y="914"/>
                    </a:lnTo>
                    <a:lnTo>
                      <a:pt x="106" y="947"/>
                    </a:lnTo>
                    <a:lnTo>
                      <a:pt x="74" y="979"/>
                    </a:lnTo>
                    <a:lnTo>
                      <a:pt x="53" y="1023"/>
                    </a:lnTo>
                    <a:lnTo>
                      <a:pt x="42" y="1066"/>
                    </a:lnTo>
                    <a:lnTo>
                      <a:pt x="42" y="1109"/>
                    </a:lnTo>
                    <a:lnTo>
                      <a:pt x="42" y="1162"/>
                    </a:lnTo>
                    <a:lnTo>
                      <a:pt x="53" y="1195"/>
                    </a:lnTo>
                    <a:lnTo>
                      <a:pt x="85" y="1216"/>
                    </a:lnTo>
                    <a:lnTo>
                      <a:pt x="106" y="1249"/>
                    </a:lnTo>
                    <a:lnTo>
                      <a:pt x="148" y="1259"/>
                    </a:lnTo>
                    <a:lnTo>
                      <a:pt x="158" y="1292"/>
                    </a:lnTo>
                    <a:lnTo>
                      <a:pt x="169" y="1345"/>
                    </a:lnTo>
                    <a:lnTo>
                      <a:pt x="179" y="1378"/>
                    </a:lnTo>
                    <a:lnTo>
                      <a:pt x="148" y="1410"/>
                    </a:lnTo>
                    <a:lnTo>
                      <a:pt x="127" y="1453"/>
                    </a:lnTo>
                    <a:lnTo>
                      <a:pt x="95" y="1475"/>
                    </a:lnTo>
                    <a:lnTo>
                      <a:pt x="63" y="1496"/>
                    </a:lnTo>
                    <a:lnTo>
                      <a:pt x="53" y="1549"/>
                    </a:lnTo>
                    <a:lnTo>
                      <a:pt x="53" y="1582"/>
                    </a:lnTo>
                    <a:lnTo>
                      <a:pt x="53" y="1615"/>
                    </a:lnTo>
                    <a:lnTo>
                      <a:pt x="85" y="1647"/>
                    </a:lnTo>
                    <a:lnTo>
                      <a:pt x="95" y="1679"/>
                    </a:lnTo>
                    <a:lnTo>
                      <a:pt x="127" y="1689"/>
                    </a:lnTo>
                    <a:lnTo>
                      <a:pt x="158" y="1722"/>
                    </a:lnTo>
                    <a:lnTo>
                      <a:pt x="169" y="1765"/>
                    </a:lnTo>
                    <a:lnTo>
                      <a:pt x="169" y="1808"/>
                    </a:lnTo>
                    <a:lnTo>
                      <a:pt x="169" y="1841"/>
                    </a:lnTo>
                    <a:lnTo>
                      <a:pt x="137" y="1862"/>
                    </a:lnTo>
                    <a:lnTo>
                      <a:pt x="95" y="1894"/>
                    </a:lnTo>
                    <a:lnTo>
                      <a:pt x="63" y="1905"/>
                    </a:lnTo>
                    <a:lnTo>
                      <a:pt x="11" y="1948"/>
                    </a:lnTo>
                    <a:lnTo>
                      <a:pt x="0" y="1991"/>
                    </a:lnTo>
                    <a:lnTo>
                      <a:pt x="0" y="2024"/>
                    </a:lnTo>
                    <a:lnTo>
                      <a:pt x="32" y="2045"/>
                    </a:lnTo>
                    <a:lnTo>
                      <a:pt x="74" y="2077"/>
                    </a:lnTo>
                    <a:lnTo>
                      <a:pt x="85" y="2110"/>
                    </a:lnTo>
                    <a:lnTo>
                      <a:pt x="106" y="2153"/>
                    </a:lnTo>
                    <a:lnTo>
                      <a:pt x="158" y="2163"/>
                    </a:lnTo>
                    <a:lnTo>
                      <a:pt x="130" y="2160"/>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731360" y="2410920"/>
                <a:ext cx="263880" cy="2465280"/>
              </a:xfrm>
              <a:custGeom>
                <a:avLst/>
                <a:gdLst/>
                <a:ahLst/>
                <a:rect l="l" t="t" r="r" b="b"/>
                <a:pathLst>
                  <a:path w="212" h="1876">
                    <a:moveTo>
                      <a:pt x="130" y="0"/>
                    </a:moveTo>
                    <a:lnTo>
                      <a:pt x="95" y="9"/>
                    </a:lnTo>
                    <a:lnTo>
                      <a:pt x="95" y="37"/>
                    </a:lnTo>
                    <a:lnTo>
                      <a:pt x="74" y="74"/>
                    </a:lnTo>
                    <a:lnTo>
                      <a:pt x="63" y="121"/>
                    </a:lnTo>
                    <a:lnTo>
                      <a:pt x="63" y="149"/>
                    </a:lnTo>
                    <a:lnTo>
                      <a:pt x="85" y="177"/>
                    </a:lnTo>
                    <a:lnTo>
                      <a:pt x="127" y="196"/>
                    </a:lnTo>
                    <a:lnTo>
                      <a:pt x="169" y="205"/>
                    </a:lnTo>
                    <a:lnTo>
                      <a:pt x="179" y="233"/>
                    </a:lnTo>
                    <a:lnTo>
                      <a:pt x="211" y="270"/>
                    </a:lnTo>
                    <a:lnTo>
                      <a:pt x="211" y="308"/>
                    </a:lnTo>
                    <a:lnTo>
                      <a:pt x="211" y="336"/>
                    </a:lnTo>
                    <a:lnTo>
                      <a:pt x="179" y="345"/>
                    </a:lnTo>
                    <a:lnTo>
                      <a:pt x="169" y="373"/>
                    </a:lnTo>
                    <a:lnTo>
                      <a:pt x="137" y="382"/>
                    </a:lnTo>
                    <a:lnTo>
                      <a:pt x="106" y="410"/>
                    </a:lnTo>
                    <a:lnTo>
                      <a:pt x="74" y="429"/>
                    </a:lnTo>
                    <a:lnTo>
                      <a:pt x="53" y="466"/>
                    </a:lnTo>
                    <a:lnTo>
                      <a:pt x="53" y="504"/>
                    </a:lnTo>
                    <a:lnTo>
                      <a:pt x="53" y="532"/>
                    </a:lnTo>
                    <a:lnTo>
                      <a:pt x="74" y="569"/>
                    </a:lnTo>
                    <a:lnTo>
                      <a:pt x="116" y="597"/>
                    </a:lnTo>
                    <a:lnTo>
                      <a:pt x="158" y="634"/>
                    </a:lnTo>
                    <a:lnTo>
                      <a:pt x="169" y="662"/>
                    </a:lnTo>
                    <a:lnTo>
                      <a:pt x="169" y="699"/>
                    </a:lnTo>
                    <a:lnTo>
                      <a:pt x="169" y="737"/>
                    </a:lnTo>
                    <a:lnTo>
                      <a:pt x="169" y="765"/>
                    </a:lnTo>
                    <a:lnTo>
                      <a:pt x="137" y="793"/>
                    </a:lnTo>
                    <a:lnTo>
                      <a:pt x="106" y="821"/>
                    </a:lnTo>
                    <a:lnTo>
                      <a:pt x="74" y="848"/>
                    </a:lnTo>
                    <a:lnTo>
                      <a:pt x="53" y="887"/>
                    </a:lnTo>
                    <a:lnTo>
                      <a:pt x="42" y="924"/>
                    </a:lnTo>
                    <a:lnTo>
                      <a:pt x="42" y="961"/>
                    </a:lnTo>
                    <a:lnTo>
                      <a:pt x="42" y="1007"/>
                    </a:lnTo>
                    <a:lnTo>
                      <a:pt x="53" y="1035"/>
                    </a:lnTo>
                    <a:lnTo>
                      <a:pt x="85" y="1054"/>
                    </a:lnTo>
                    <a:lnTo>
                      <a:pt x="106" y="1082"/>
                    </a:lnTo>
                    <a:lnTo>
                      <a:pt x="148" y="1091"/>
                    </a:lnTo>
                    <a:lnTo>
                      <a:pt x="158" y="1120"/>
                    </a:lnTo>
                    <a:lnTo>
                      <a:pt x="169" y="1166"/>
                    </a:lnTo>
                    <a:lnTo>
                      <a:pt x="179" y="1194"/>
                    </a:lnTo>
                    <a:lnTo>
                      <a:pt x="148" y="1223"/>
                    </a:lnTo>
                    <a:lnTo>
                      <a:pt x="127" y="1260"/>
                    </a:lnTo>
                    <a:lnTo>
                      <a:pt x="95" y="1278"/>
                    </a:lnTo>
                    <a:lnTo>
                      <a:pt x="63" y="1297"/>
                    </a:lnTo>
                    <a:lnTo>
                      <a:pt x="53" y="1343"/>
                    </a:lnTo>
                    <a:lnTo>
                      <a:pt x="53" y="1371"/>
                    </a:lnTo>
                    <a:lnTo>
                      <a:pt x="53" y="1400"/>
                    </a:lnTo>
                    <a:lnTo>
                      <a:pt x="85" y="1427"/>
                    </a:lnTo>
                    <a:lnTo>
                      <a:pt x="95" y="1456"/>
                    </a:lnTo>
                    <a:lnTo>
                      <a:pt x="127" y="1465"/>
                    </a:lnTo>
                    <a:lnTo>
                      <a:pt x="158" y="1493"/>
                    </a:lnTo>
                    <a:lnTo>
                      <a:pt x="169" y="1530"/>
                    </a:lnTo>
                    <a:lnTo>
                      <a:pt x="169" y="1567"/>
                    </a:lnTo>
                    <a:lnTo>
                      <a:pt x="169" y="1596"/>
                    </a:lnTo>
                    <a:lnTo>
                      <a:pt x="137" y="1614"/>
                    </a:lnTo>
                    <a:lnTo>
                      <a:pt x="95" y="1642"/>
                    </a:lnTo>
                    <a:lnTo>
                      <a:pt x="63" y="1652"/>
                    </a:lnTo>
                    <a:lnTo>
                      <a:pt x="11" y="1689"/>
                    </a:lnTo>
                    <a:lnTo>
                      <a:pt x="0" y="1726"/>
                    </a:lnTo>
                    <a:lnTo>
                      <a:pt x="0" y="1754"/>
                    </a:lnTo>
                    <a:lnTo>
                      <a:pt x="32" y="1773"/>
                    </a:lnTo>
                    <a:lnTo>
                      <a:pt x="74" y="1801"/>
                    </a:lnTo>
                    <a:lnTo>
                      <a:pt x="85" y="1829"/>
                    </a:lnTo>
                    <a:lnTo>
                      <a:pt x="106" y="1866"/>
                    </a:lnTo>
                    <a:lnTo>
                      <a:pt x="158" y="1875"/>
                    </a:lnTo>
                    <a:lnTo>
                      <a:pt x="130" y="187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491960" y="2095560"/>
                <a:ext cx="263880" cy="278064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372800" y="3041640"/>
                <a:ext cx="263880" cy="1834560"/>
              </a:xfrm>
              <a:custGeom>
                <a:avLst/>
                <a:gdLst/>
                <a:ahLst/>
                <a:rect l="l" t="t" r="r" b="b"/>
                <a:pathLst>
                  <a:path w="212" h="1396">
                    <a:moveTo>
                      <a:pt x="130" y="0"/>
                    </a:moveTo>
                    <a:lnTo>
                      <a:pt x="95" y="7"/>
                    </a:lnTo>
                    <a:lnTo>
                      <a:pt x="95" y="28"/>
                    </a:lnTo>
                    <a:lnTo>
                      <a:pt x="74" y="55"/>
                    </a:lnTo>
                    <a:lnTo>
                      <a:pt x="63" y="90"/>
                    </a:lnTo>
                    <a:lnTo>
                      <a:pt x="63" y="111"/>
                    </a:lnTo>
                    <a:lnTo>
                      <a:pt x="85" y="132"/>
                    </a:lnTo>
                    <a:lnTo>
                      <a:pt x="127" y="146"/>
                    </a:lnTo>
                    <a:lnTo>
                      <a:pt x="169" y="152"/>
                    </a:lnTo>
                    <a:lnTo>
                      <a:pt x="179" y="173"/>
                    </a:lnTo>
                    <a:lnTo>
                      <a:pt x="211" y="201"/>
                    </a:lnTo>
                    <a:lnTo>
                      <a:pt x="211" y="229"/>
                    </a:lnTo>
                    <a:lnTo>
                      <a:pt x="211" y="250"/>
                    </a:lnTo>
                    <a:lnTo>
                      <a:pt x="179" y="257"/>
                    </a:lnTo>
                    <a:lnTo>
                      <a:pt x="169" y="278"/>
                    </a:lnTo>
                    <a:lnTo>
                      <a:pt x="137" y="284"/>
                    </a:lnTo>
                    <a:lnTo>
                      <a:pt x="106" y="305"/>
                    </a:lnTo>
                    <a:lnTo>
                      <a:pt x="74" y="319"/>
                    </a:lnTo>
                    <a:lnTo>
                      <a:pt x="53" y="347"/>
                    </a:lnTo>
                    <a:lnTo>
                      <a:pt x="53" y="375"/>
                    </a:lnTo>
                    <a:lnTo>
                      <a:pt x="53" y="396"/>
                    </a:lnTo>
                    <a:lnTo>
                      <a:pt x="74" y="423"/>
                    </a:lnTo>
                    <a:lnTo>
                      <a:pt x="116" y="444"/>
                    </a:lnTo>
                    <a:lnTo>
                      <a:pt x="158" y="472"/>
                    </a:lnTo>
                    <a:lnTo>
                      <a:pt x="169" y="493"/>
                    </a:lnTo>
                    <a:lnTo>
                      <a:pt x="169" y="520"/>
                    </a:lnTo>
                    <a:lnTo>
                      <a:pt x="169" y="548"/>
                    </a:lnTo>
                    <a:lnTo>
                      <a:pt x="169" y="569"/>
                    </a:lnTo>
                    <a:lnTo>
                      <a:pt x="137" y="590"/>
                    </a:lnTo>
                    <a:lnTo>
                      <a:pt x="106" y="611"/>
                    </a:lnTo>
                    <a:lnTo>
                      <a:pt x="74" y="631"/>
                    </a:lnTo>
                    <a:lnTo>
                      <a:pt x="53" y="660"/>
                    </a:lnTo>
                    <a:lnTo>
                      <a:pt x="42" y="687"/>
                    </a:lnTo>
                    <a:lnTo>
                      <a:pt x="42" y="715"/>
                    </a:lnTo>
                    <a:lnTo>
                      <a:pt x="42" y="749"/>
                    </a:lnTo>
                    <a:lnTo>
                      <a:pt x="53" y="770"/>
                    </a:lnTo>
                    <a:lnTo>
                      <a:pt x="85" y="784"/>
                    </a:lnTo>
                    <a:lnTo>
                      <a:pt x="106" y="805"/>
                    </a:lnTo>
                    <a:lnTo>
                      <a:pt x="148" y="812"/>
                    </a:lnTo>
                    <a:lnTo>
                      <a:pt x="158" y="833"/>
                    </a:lnTo>
                    <a:lnTo>
                      <a:pt x="169" y="867"/>
                    </a:lnTo>
                    <a:lnTo>
                      <a:pt x="179" y="888"/>
                    </a:lnTo>
                    <a:lnTo>
                      <a:pt x="148" y="910"/>
                    </a:lnTo>
                    <a:lnTo>
                      <a:pt x="127" y="937"/>
                    </a:lnTo>
                    <a:lnTo>
                      <a:pt x="95" y="951"/>
                    </a:lnTo>
                    <a:lnTo>
                      <a:pt x="63" y="965"/>
                    </a:lnTo>
                    <a:lnTo>
                      <a:pt x="53" y="999"/>
                    </a:lnTo>
                    <a:lnTo>
                      <a:pt x="53" y="1020"/>
                    </a:lnTo>
                    <a:lnTo>
                      <a:pt x="53" y="1041"/>
                    </a:lnTo>
                    <a:lnTo>
                      <a:pt x="85" y="1062"/>
                    </a:lnTo>
                    <a:lnTo>
                      <a:pt x="95" y="1083"/>
                    </a:lnTo>
                    <a:lnTo>
                      <a:pt x="127" y="1090"/>
                    </a:lnTo>
                    <a:lnTo>
                      <a:pt x="158" y="1111"/>
                    </a:lnTo>
                    <a:lnTo>
                      <a:pt x="169" y="1138"/>
                    </a:lnTo>
                    <a:lnTo>
                      <a:pt x="169" y="1166"/>
                    </a:lnTo>
                    <a:lnTo>
                      <a:pt x="169" y="1187"/>
                    </a:lnTo>
                    <a:lnTo>
                      <a:pt x="137" y="1201"/>
                    </a:lnTo>
                    <a:lnTo>
                      <a:pt x="95" y="1222"/>
                    </a:lnTo>
                    <a:lnTo>
                      <a:pt x="63" y="1229"/>
                    </a:lnTo>
                    <a:lnTo>
                      <a:pt x="11" y="1256"/>
                    </a:lnTo>
                    <a:lnTo>
                      <a:pt x="0" y="1284"/>
                    </a:lnTo>
                    <a:lnTo>
                      <a:pt x="0" y="1305"/>
                    </a:lnTo>
                    <a:lnTo>
                      <a:pt x="32" y="1319"/>
                    </a:lnTo>
                    <a:lnTo>
                      <a:pt x="74" y="1340"/>
                    </a:lnTo>
                    <a:lnTo>
                      <a:pt x="85" y="1361"/>
                    </a:lnTo>
                    <a:lnTo>
                      <a:pt x="106" y="1388"/>
                    </a:lnTo>
                    <a:lnTo>
                      <a:pt x="158" y="1395"/>
                    </a:lnTo>
                    <a:lnTo>
                      <a:pt x="130" y="1393"/>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253280" y="2284920"/>
                <a:ext cx="263880" cy="2591280"/>
              </a:xfrm>
              <a:custGeom>
                <a:avLst/>
                <a:gdLst/>
                <a:ahLst/>
                <a:rect l="l" t="t" r="r" b="b"/>
                <a:pathLst>
                  <a:path w="212" h="1972">
                    <a:moveTo>
                      <a:pt x="130" y="0"/>
                    </a:moveTo>
                    <a:lnTo>
                      <a:pt x="95" y="9"/>
                    </a:lnTo>
                    <a:lnTo>
                      <a:pt x="95" y="39"/>
                    </a:lnTo>
                    <a:lnTo>
                      <a:pt x="74" y="78"/>
                    </a:lnTo>
                    <a:lnTo>
                      <a:pt x="63" y="127"/>
                    </a:lnTo>
                    <a:lnTo>
                      <a:pt x="63" y="157"/>
                    </a:lnTo>
                    <a:lnTo>
                      <a:pt x="85" y="186"/>
                    </a:lnTo>
                    <a:lnTo>
                      <a:pt x="127" y="206"/>
                    </a:lnTo>
                    <a:lnTo>
                      <a:pt x="169" y="215"/>
                    </a:lnTo>
                    <a:lnTo>
                      <a:pt x="179" y="245"/>
                    </a:lnTo>
                    <a:lnTo>
                      <a:pt x="211" y="284"/>
                    </a:lnTo>
                    <a:lnTo>
                      <a:pt x="211" y="323"/>
                    </a:lnTo>
                    <a:lnTo>
                      <a:pt x="211" y="353"/>
                    </a:lnTo>
                    <a:lnTo>
                      <a:pt x="179" y="363"/>
                    </a:lnTo>
                    <a:lnTo>
                      <a:pt x="169" y="392"/>
                    </a:lnTo>
                    <a:lnTo>
                      <a:pt x="137" y="402"/>
                    </a:lnTo>
                    <a:lnTo>
                      <a:pt x="106" y="431"/>
                    </a:lnTo>
                    <a:lnTo>
                      <a:pt x="74" y="451"/>
                    </a:lnTo>
                    <a:lnTo>
                      <a:pt x="53" y="490"/>
                    </a:lnTo>
                    <a:lnTo>
                      <a:pt x="53" y="529"/>
                    </a:lnTo>
                    <a:lnTo>
                      <a:pt x="53" y="559"/>
                    </a:lnTo>
                    <a:lnTo>
                      <a:pt x="74" y="598"/>
                    </a:lnTo>
                    <a:lnTo>
                      <a:pt x="116" y="627"/>
                    </a:lnTo>
                    <a:lnTo>
                      <a:pt x="158" y="666"/>
                    </a:lnTo>
                    <a:lnTo>
                      <a:pt x="169" y="696"/>
                    </a:lnTo>
                    <a:lnTo>
                      <a:pt x="169" y="735"/>
                    </a:lnTo>
                    <a:lnTo>
                      <a:pt x="169" y="774"/>
                    </a:lnTo>
                    <a:lnTo>
                      <a:pt x="169" y="804"/>
                    </a:lnTo>
                    <a:lnTo>
                      <a:pt x="137" y="833"/>
                    </a:lnTo>
                    <a:lnTo>
                      <a:pt x="106" y="863"/>
                    </a:lnTo>
                    <a:lnTo>
                      <a:pt x="74" y="892"/>
                    </a:lnTo>
                    <a:lnTo>
                      <a:pt x="53" y="932"/>
                    </a:lnTo>
                    <a:lnTo>
                      <a:pt x="42" y="971"/>
                    </a:lnTo>
                    <a:lnTo>
                      <a:pt x="42" y="1010"/>
                    </a:lnTo>
                    <a:lnTo>
                      <a:pt x="42" y="1059"/>
                    </a:lnTo>
                    <a:lnTo>
                      <a:pt x="53" y="1088"/>
                    </a:lnTo>
                    <a:lnTo>
                      <a:pt x="85" y="1108"/>
                    </a:lnTo>
                    <a:lnTo>
                      <a:pt x="106" y="1138"/>
                    </a:lnTo>
                    <a:lnTo>
                      <a:pt x="148" y="1147"/>
                    </a:lnTo>
                    <a:lnTo>
                      <a:pt x="158" y="1177"/>
                    </a:lnTo>
                    <a:lnTo>
                      <a:pt x="169" y="1225"/>
                    </a:lnTo>
                    <a:lnTo>
                      <a:pt x="179" y="1255"/>
                    </a:lnTo>
                    <a:lnTo>
                      <a:pt x="148" y="1285"/>
                    </a:lnTo>
                    <a:lnTo>
                      <a:pt x="127" y="1324"/>
                    </a:lnTo>
                    <a:lnTo>
                      <a:pt x="95" y="1344"/>
                    </a:lnTo>
                    <a:lnTo>
                      <a:pt x="63" y="1363"/>
                    </a:lnTo>
                    <a:lnTo>
                      <a:pt x="53" y="1412"/>
                    </a:lnTo>
                    <a:lnTo>
                      <a:pt x="53" y="1442"/>
                    </a:lnTo>
                    <a:lnTo>
                      <a:pt x="53" y="1471"/>
                    </a:lnTo>
                    <a:lnTo>
                      <a:pt x="85" y="1500"/>
                    </a:lnTo>
                    <a:lnTo>
                      <a:pt x="95" y="1530"/>
                    </a:lnTo>
                    <a:lnTo>
                      <a:pt x="127" y="1540"/>
                    </a:lnTo>
                    <a:lnTo>
                      <a:pt x="158" y="1569"/>
                    </a:lnTo>
                    <a:lnTo>
                      <a:pt x="169" y="1608"/>
                    </a:lnTo>
                    <a:lnTo>
                      <a:pt x="169" y="1648"/>
                    </a:lnTo>
                    <a:lnTo>
                      <a:pt x="169" y="1677"/>
                    </a:lnTo>
                    <a:lnTo>
                      <a:pt x="137" y="1697"/>
                    </a:lnTo>
                    <a:lnTo>
                      <a:pt x="95" y="1726"/>
                    </a:lnTo>
                    <a:lnTo>
                      <a:pt x="63" y="1736"/>
                    </a:lnTo>
                    <a:lnTo>
                      <a:pt x="11" y="1775"/>
                    </a:lnTo>
                    <a:lnTo>
                      <a:pt x="0" y="1814"/>
                    </a:lnTo>
                    <a:lnTo>
                      <a:pt x="0" y="1844"/>
                    </a:lnTo>
                    <a:lnTo>
                      <a:pt x="32" y="1864"/>
                    </a:lnTo>
                    <a:lnTo>
                      <a:pt x="74" y="1893"/>
                    </a:lnTo>
                    <a:lnTo>
                      <a:pt x="85" y="1923"/>
                    </a:lnTo>
                    <a:lnTo>
                      <a:pt x="106" y="1962"/>
                    </a:lnTo>
                    <a:lnTo>
                      <a:pt x="158" y="1971"/>
                    </a:lnTo>
                    <a:lnTo>
                      <a:pt x="130" y="1968"/>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133400" y="2095560"/>
                <a:ext cx="263880" cy="278064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954480" y="2663280"/>
                <a:ext cx="263880" cy="2212920"/>
              </a:xfrm>
              <a:custGeom>
                <a:avLst/>
                <a:gdLst/>
                <a:ahLst/>
                <a:rect l="l" t="t" r="r" b="b"/>
                <a:pathLst>
                  <a:path w="212" h="1684">
                    <a:moveTo>
                      <a:pt x="130" y="0"/>
                    </a:moveTo>
                    <a:lnTo>
                      <a:pt x="95" y="8"/>
                    </a:lnTo>
                    <a:lnTo>
                      <a:pt x="95" y="33"/>
                    </a:lnTo>
                    <a:lnTo>
                      <a:pt x="74" y="67"/>
                    </a:lnTo>
                    <a:lnTo>
                      <a:pt x="63" y="108"/>
                    </a:lnTo>
                    <a:lnTo>
                      <a:pt x="63" y="134"/>
                    </a:lnTo>
                    <a:lnTo>
                      <a:pt x="85" y="159"/>
                    </a:lnTo>
                    <a:lnTo>
                      <a:pt x="127" y="176"/>
                    </a:lnTo>
                    <a:lnTo>
                      <a:pt x="169" y="184"/>
                    </a:lnTo>
                    <a:lnTo>
                      <a:pt x="179" y="209"/>
                    </a:lnTo>
                    <a:lnTo>
                      <a:pt x="211" y="243"/>
                    </a:lnTo>
                    <a:lnTo>
                      <a:pt x="211" y="276"/>
                    </a:lnTo>
                    <a:lnTo>
                      <a:pt x="211" y="302"/>
                    </a:lnTo>
                    <a:lnTo>
                      <a:pt x="179" y="310"/>
                    </a:lnTo>
                    <a:lnTo>
                      <a:pt x="169" y="335"/>
                    </a:lnTo>
                    <a:lnTo>
                      <a:pt x="137" y="343"/>
                    </a:lnTo>
                    <a:lnTo>
                      <a:pt x="106" y="368"/>
                    </a:lnTo>
                    <a:lnTo>
                      <a:pt x="74" y="385"/>
                    </a:lnTo>
                    <a:lnTo>
                      <a:pt x="53" y="419"/>
                    </a:lnTo>
                    <a:lnTo>
                      <a:pt x="53" y="452"/>
                    </a:lnTo>
                    <a:lnTo>
                      <a:pt x="53" y="477"/>
                    </a:lnTo>
                    <a:lnTo>
                      <a:pt x="74" y="511"/>
                    </a:lnTo>
                    <a:lnTo>
                      <a:pt x="116" y="536"/>
                    </a:lnTo>
                    <a:lnTo>
                      <a:pt x="158" y="569"/>
                    </a:lnTo>
                    <a:lnTo>
                      <a:pt x="169" y="594"/>
                    </a:lnTo>
                    <a:lnTo>
                      <a:pt x="169" y="628"/>
                    </a:lnTo>
                    <a:lnTo>
                      <a:pt x="169" y="661"/>
                    </a:lnTo>
                    <a:lnTo>
                      <a:pt x="169" y="687"/>
                    </a:lnTo>
                    <a:lnTo>
                      <a:pt x="137" y="711"/>
                    </a:lnTo>
                    <a:lnTo>
                      <a:pt x="106" y="737"/>
                    </a:lnTo>
                    <a:lnTo>
                      <a:pt x="74" y="762"/>
                    </a:lnTo>
                    <a:lnTo>
                      <a:pt x="53" y="796"/>
                    </a:lnTo>
                    <a:lnTo>
                      <a:pt x="42" y="829"/>
                    </a:lnTo>
                    <a:lnTo>
                      <a:pt x="42" y="863"/>
                    </a:lnTo>
                    <a:lnTo>
                      <a:pt x="42" y="904"/>
                    </a:lnTo>
                    <a:lnTo>
                      <a:pt x="53" y="929"/>
                    </a:lnTo>
                    <a:lnTo>
                      <a:pt x="85" y="946"/>
                    </a:lnTo>
                    <a:lnTo>
                      <a:pt x="106" y="972"/>
                    </a:lnTo>
                    <a:lnTo>
                      <a:pt x="148" y="980"/>
                    </a:lnTo>
                    <a:lnTo>
                      <a:pt x="158" y="1005"/>
                    </a:lnTo>
                    <a:lnTo>
                      <a:pt x="169" y="1046"/>
                    </a:lnTo>
                    <a:lnTo>
                      <a:pt x="179" y="1072"/>
                    </a:lnTo>
                    <a:lnTo>
                      <a:pt x="148" y="1097"/>
                    </a:lnTo>
                    <a:lnTo>
                      <a:pt x="127" y="1131"/>
                    </a:lnTo>
                    <a:lnTo>
                      <a:pt x="95" y="1147"/>
                    </a:lnTo>
                    <a:lnTo>
                      <a:pt x="63" y="1164"/>
                    </a:lnTo>
                    <a:lnTo>
                      <a:pt x="53" y="1206"/>
                    </a:lnTo>
                    <a:lnTo>
                      <a:pt x="53" y="1231"/>
                    </a:lnTo>
                    <a:lnTo>
                      <a:pt x="53" y="1256"/>
                    </a:lnTo>
                    <a:lnTo>
                      <a:pt x="85" y="1281"/>
                    </a:lnTo>
                    <a:lnTo>
                      <a:pt x="95" y="1307"/>
                    </a:lnTo>
                    <a:lnTo>
                      <a:pt x="127" y="1315"/>
                    </a:lnTo>
                    <a:lnTo>
                      <a:pt x="158" y="1340"/>
                    </a:lnTo>
                    <a:lnTo>
                      <a:pt x="169" y="1373"/>
                    </a:lnTo>
                    <a:lnTo>
                      <a:pt x="169" y="1407"/>
                    </a:lnTo>
                    <a:lnTo>
                      <a:pt x="169" y="1432"/>
                    </a:lnTo>
                    <a:lnTo>
                      <a:pt x="137" y="1449"/>
                    </a:lnTo>
                    <a:lnTo>
                      <a:pt x="95" y="1474"/>
                    </a:lnTo>
                    <a:lnTo>
                      <a:pt x="63" y="1482"/>
                    </a:lnTo>
                    <a:lnTo>
                      <a:pt x="11" y="1516"/>
                    </a:lnTo>
                    <a:lnTo>
                      <a:pt x="0" y="1549"/>
                    </a:lnTo>
                    <a:lnTo>
                      <a:pt x="0" y="1575"/>
                    </a:lnTo>
                    <a:lnTo>
                      <a:pt x="32" y="1591"/>
                    </a:lnTo>
                    <a:lnTo>
                      <a:pt x="74" y="1616"/>
                    </a:lnTo>
                    <a:lnTo>
                      <a:pt x="85" y="1642"/>
                    </a:lnTo>
                    <a:lnTo>
                      <a:pt x="106" y="1675"/>
                    </a:lnTo>
                    <a:lnTo>
                      <a:pt x="158" y="1683"/>
                    </a:lnTo>
                    <a:lnTo>
                      <a:pt x="130" y="1681"/>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6573240" y="1212840"/>
              <a:ext cx="19630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orly-defin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ple crimp</a:t>
              </a:r>
              <a:endParaRPr b="0" lang="en-US" sz="2000" spc="-1" strike="noStrike">
                <a:solidFill>
                  <a:srgbClr val="000000"/>
                </a:solidFill>
                <a:latin typeface="Times New Roman"/>
              </a:endParaRPr>
            </a:p>
          </p:txBody>
        </p:sp>
      </p:grpSp>
      <p:sp>
        <p:nvSpPr>
          <p:cNvPr id="99"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 Frequency and Crimp Defini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1275840" y="2743200"/>
            <a:ext cx="8582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a:t>
            </a:r>
            <a:endParaRPr b="0" lang="en-US" sz="3200" spc="-1" strike="noStrike">
              <a:solidFill>
                <a:srgbClr val="000000"/>
              </a:solidFill>
              <a:latin typeface="Times New Roman"/>
            </a:endParaRPr>
          </a:p>
        </p:txBody>
      </p:sp>
      <p:sp>
        <p:nvSpPr>
          <p:cNvPr id="102" name=""/>
          <p:cNvSpPr/>
          <p:nvPr/>
        </p:nvSpPr>
        <p:spPr>
          <a:xfrm>
            <a:off x="7434360" y="2895480"/>
            <a:ext cx="155772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inte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a:t>
            </a:r>
            <a:endParaRPr b="0" lang="en-US" sz="3200" spc="-1" strike="noStrike">
              <a:solidFill>
                <a:srgbClr val="000000"/>
              </a:solidFill>
              <a:latin typeface="Times New Roman"/>
            </a:endParaRPr>
          </a:p>
        </p:txBody>
      </p:sp>
      <p:grpSp>
        <p:nvGrpSpPr>
          <p:cNvPr id="103" name=""/>
          <p:cNvGrpSpPr/>
          <p:nvPr/>
        </p:nvGrpSpPr>
        <p:grpSpPr>
          <a:xfrm>
            <a:off x="2286000" y="914400"/>
            <a:ext cx="2057400" cy="5257440"/>
            <a:chOff x="2286000" y="914400"/>
            <a:chExt cx="2057400" cy="5257440"/>
          </a:xfrm>
        </p:grpSpPr>
        <p:sp>
          <p:nvSpPr>
            <p:cNvPr id="104" name=""/>
            <p:cNvSpPr/>
            <p:nvPr/>
          </p:nvSpPr>
          <p:spPr>
            <a:xfrm>
              <a:off x="3276360" y="3048120"/>
              <a:ext cx="838440" cy="30456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86000" y="3048120"/>
              <a:ext cx="838080" cy="30456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2286000" y="3048120"/>
              <a:ext cx="838080" cy="3123720"/>
              <a:chOff x="2286000" y="3048120"/>
              <a:chExt cx="838080" cy="3123720"/>
            </a:xfrm>
          </p:grpSpPr>
          <p:grpSp>
            <p:nvGrpSpPr>
              <p:cNvPr id="107" name=""/>
              <p:cNvGrpSpPr/>
              <p:nvPr/>
            </p:nvGrpSpPr>
            <p:grpSpPr>
              <a:xfrm>
                <a:off x="2299320" y="3116880"/>
                <a:ext cx="764280" cy="3026520"/>
                <a:chOff x="2299320" y="3116880"/>
                <a:chExt cx="764280" cy="3026520"/>
              </a:xfrm>
            </p:grpSpPr>
            <p:sp>
              <p:nvSpPr>
                <p:cNvPr id="108" name=""/>
                <p:cNvSpPr/>
                <p:nvPr/>
              </p:nvSpPr>
              <p:spPr>
                <a:xfrm>
                  <a:off x="2763720" y="3116880"/>
                  <a:ext cx="205560" cy="302652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858040" y="3116880"/>
                  <a:ext cx="205560" cy="302652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671560" y="3116880"/>
                  <a:ext cx="205560" cy="302652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77600" y="3116880"/>
                  <a:ext cx="205560" cy="302652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85440" y="3116880"/>
                  <a:ext cx="205560" cy="302652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391480" y="3116880"/>
                  <a:ext cx="205560" cy="302652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99320" y="3116880"/>
                  <a:ext cx="205560" cy="302652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2286000" y="3048120"/>
                <a:ext cx="838080" cy="3123720"/>
                <a:chOff x="2286000" y="3048120"/>
                <a:chExt cx="838080" cy="3123720"/>
              </a:xfrm>
            </p:grpSpPr>
            <p:sp>
              <p:nvSpPr>
                <p:cNvPr id="116" name=""/>
                <p:cNvSpPr/>
                <p:nvPr/>
              </p:nvSpPr>
              <p:spPr>
                <a:xfrm>
                  <a:off x="2286000" y="3085200"/>
                  <a:ext cx="0" cy="30866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3085200"/>
                  <a:ext cx="0" cy="30866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1200" y="3048120"/>
                  <a:ext cx="78948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3276360" y="3048120"/>
              <a:ext cx="838440" cy="3085560"/>
              <a:chOff x="3276360" y="3048120"/>
              <a:chExt cx="838440" cy="3085560"/>
            </a:xfrm>
          </p:grpSpPr>
          <p:grpSp>
            <p:nvGrpSpPr>
              <p:cNvPr id="120" name=""/>
              <p:cNvGrpSpPr/>
              <p:nvPr/>
            </p:nvGrpSpPr>
            <p:grpSpPr>
              <a:xfrm>
                <a:off x="3289680" y="3115800"/>
                <a:ext cx="764280" cy="2989800"/>
                <a:chOff x="3289680" y="3115800"/>
                <a:chExt cx="764280" cy="2989800"/>
              </a:xfrm>
            </p:grpSpPr>
            <p:sp>
              <p:nvSpPr>
                <p:cNvPr id="121" name=""/>
                <p:cNvSpPr/>
                <p:nvPr/>
              </p:nvSpPr>
              <p:spPr>
                <a:xfrm>
                  <a:off x="3754440" y="3115800"/>
                  <a:ext cx="205560" cy="29898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48400" y="3115800"/>
                  <a:ext cx="205560" cy="29898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661920" y="3115800"/>
                  <a:ext cx="205560" cy="29898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67960" y="3115800"/>
                  <a:ext cx="205560" cy="29898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75800" y="3115800"/>
                  <a:ext cx="205560" cy="29898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381840" y="3115800"/>
                  <a:ext cx="205560" cy="29898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89680" y="3115800"/>
                  <a:ext cx="205560" cy="29898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3276360" y="3048120"/>
                <a:ext cx="838440" cy="3085560"/>
                <a:chOff x="3276360" y="3048120"/>
                <a:chExt cx="838440" cy="3085560"/>
              </a:xfrm>
            </p:grpSpPr>
            <p:sp>
              <p:nvSpPr>
                <p:cNvPr id="129" name=""/>
                <p:cNvSpPr/>
                <p:nvPr/>
              </p:nvSpPr>
              <p:spPr>
                <a:xfrm>
                  <a:off x="3276360" y="3084840"/>
                  <a:ext cx="0" cy="30488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3084840"/>
                  <a:ext cx="0" cy="30488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01560" y="3048120"/>
                  <a:ext cx="78984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2" name=""/>
            <p:cNvGrpSpPr/>
            <p:nvPr/>
          </p:nvGrpSpPr>
          <p:grpSpPr>
            <a:xfrm>
              <a:off x="2361960" y="914400"/>
              <a:ext cx="1981440" cy="1600200"/>
              <a:chOff x="2361960" y="914400"/>
              <a:chExt cx="1981440" cy="1600200"/>
            </a:xfrm>
          </p:grpSpPr>
          <p:grpSp>
            <p:nvGrpSpPr>
              <p:cNvPr id="133" name=""/>
              <p:cNvGrpSpPr/>
              <p:nvPr/>
            </p:nvGrpSpPr>
            <p:grpSpPr>
              <a:xfrm>
                <a:off x="2971800" y="914400"/>
                <a:ext cx="1371600" cy="1447920"/>
                <a:chOff x="2971800" y="914400"/>
                <a:chExt cx="1371600" cy="1447920"/>
              </a:xfrm>
            </p:grpSpPr>
            <p:sp>
              <p:nvSpPr>
                <p:cNvPr id="134" name=""/>
                <p:cNvSpPr/>
                <p:nvPr/>
              </p:nvSpPr>
              <p:spPr>
                <a:xfrm>
                  <a:off x="2971800" y="914400"/>
                  <a:ext cx="1371600" cy="1447920"/>
                </a:xfrm>
                <a:prstGeom prst="irregularSeal1">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378240" y="1363680"/>
                  <a:ext cx="507600" cy="449280"/>
                </a:xfrm>
                <a:prstGeom prst="ellipse">
                  <a:avLst/>
                </a:pr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2361960" y="1566720"/>
                <a:ext cx="712800" cy="947880"/>
                <a:chOff x="2361960" y="1566720"/>
                <a:chExt cx="712800" cy="947880"/>
              </a:xfrm>
            </p:grpSpPr>
            <p:sp>
              <p:nvSpPr>
                <p:cNvPr id="137" name=""/>
                <p:cNvSpPr/>
                <p:nvPr/>
              </p:nvSpPr>
              <p:spPr>
                <a:xfrm>
                  <a:off x="2545920" y="1685880"/>
                  <a:ext cx="22392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98560" y="1990800"/>
                  <a:ext cx="223560" cy="49032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50840" y="1566720"/>
                  <a:ext cx="22392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361960" y="2023920"/>
                  <a:ext cx="22356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1" name=""/>
            <p:cNvSpPr/>
            <p:nvPr/>
          </p:nvSpPr>
          <p:spPr>
            <a:xfrm>
              <a:off x="243828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9056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74320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89548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4776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5268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0496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65760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988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6216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4952880" y="914400"/>
            <a:ext cx="2210040" cy="5257080"/>
            <a:chOff x="4952880" y="914400"/>
            <a:chExt cx="2210040" cy="5257080"/>
          </a:xfrm>
        </p:grpSpPr>
        <p:sp>
          <p:nvSpPr>
            <p:cNvPr id="152" name=""/>
            <p:cNvSpPr/>
            <p:nvPr/>
          </p:nvSpPr>
          <p:spPr>
            <a:xfrm>
              <a:off x="6172200" y="3048120"/>
              <a:ext cx="914400" cy="761760"/>
            </a:xfrm>
            <a:prstGeom prst="triangle">
              <a:avLst>
                <a:gd name="adj" fmla="val 45833"/>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105520" y="3048120"/>
              <a:ext cx="914400" cy="761760"/>
            </a:xfrm>
            <a:prstGeom prst="triangle">
              <a:avLst>
                <a:gd name="adj" fmla="val 45833"/>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6172200" y="3047760"/>
              <a:ext cx="913680" cy="3123720"/>
              <a:chOff x="6172200" y="3047760"/>
              <a:chExt cx="913680" cy="3123720"/>
            </a:xfrm>
          </p:grpSpPr>
          <p:grpSp>
            <p:nvGrpSpPr>
              <p:cNvPr id="155" name=""/>
              <p:cNvGrpSpPr/>
              <p:nvPr/>
            </p:nvGrpSpPr>
            <p:grpSpPr>
              <a:xfrm>
                <a:off x="6226920" y="3181320"/>
                <a:ext cx="783000" cy="2969280"/>
                <a:chOff x="6226920" y="3181320"/>
                <a:chExt cx="783000" cy="2969280"/>
              </a:xfrm>
            </p:grpSpPr>
            <p:grpSp>
              <p:nvGrpSpPr>
                <p:cNvPr id="156" name=""/>
                <p:cNvGrpSpPr/>
                <p:nvPr/>
              </p:nvGrpSpPr>
              <p:grpSpPr>
                <a:xfrm>
                  <a:off x="6226920" y="3450960"/>
                  <a:ext cx="783000" cy="2699640"/>
                  <a:chOff x="6226920" y="3450960"/>
                  <a:chExt cx="783000" cy="2699640"/>
                </a:xfrm>
              </p:grpSpPr>
              <p:sp>
                <p:nvSpPr>
                  <p:cNvPr id="157" name=""/>
                  <p:cNvSpPr/>
                  <p:nvPr/>
                </p:nvSpPr>
                <p:spPr>
                  <a:xfrm>
                    <a:off x="6652080" y="3450960"/>
                    <a:ext cx="187920" cy="2699640"/>
                  </a:xfrm>
                  <a:custGeom>
                    <a:avLst/>
                    <a:gdLst/>
                    <a:ahLst/>
                    <a:rect l="l" t="t" r="r" b="b"/>
                    <a:pathLst>
                      <a:path w="212" h="2404">
                        <a:moveTo>
                          <a:pt x="81" y="0"/>
                        </a:moveTo>
                        <a:lnTo>
                          <a:pt x="116" y="11"/>
                        </a:lnTo>
                        <a:lnTo>
                          <a:pt x="116" y="48"/>
                        </a:lnTo>
                        <a:lnTo>
                          <a:pt x="137" y="95"/>
                        </a:lnTo>
                        <a:lnTo>
                          <a:pt x="148" y="155"/>
                        </a:lnTo>
                        <a:lnTo>
                          <a:pt x="148" y="191"/>
                        </a:lnTo>
                        <a:lnTo>
                          <a:pt x="126" y="227"/>
                        </a:lnTo>
                        <a:lnTo>
                          <a:pt x="84" y="251"/>
                        </a:lnTo>
                        <a:lnTo>
                          <a:pt x="42" y="262"/>
                        </a:lnTo>
                        <a:lnTo>
                          <a:pt x="32" y="299"/>
                        </a:lnTo>
                        <a:lnTo>
                          <a:pt x="0" y="347"/>
                        </a:lnTo>
                        <a:lnTo>
                          <a:pt x="0" y="394"/>
                        </a:lnTo>
                        <a:lnTo>
                          <a:pt x="0" y="431"/>
                        </a:lnTo>
                        <a:lnTo>
                          <a:pt x="32" y="442"/>
                        </a:lnTo>
                        <a:lnTo>
                          <a:pt x="42" y="478"/>
                        </a:lnTo>
                        <a:lnTo>
                          <a:pt x="74" y="490"/>
                        </a:lnTo>
                        <a:lnTo>
                          <a:pt x="105" y="526"/>
                        </a:lnTo>
                        <a:lnTo>
                          <a:pt x="137" y="550"/>
                        </a:lnTo>
                        <a:lnTo>
                          <a:pt x="158" y="598"/>
                        </a:lnTo>
                        <a:lnTo>
                          <a:pt x="158" y="645"/>
                        </a:lnTo>
                        <a:lnTo>
                          <a:pt x="158" y="682"/>
                        </a:lnTo>
                        <a:lnTo>
                          <a:pt x="137" y="729"/>
                        </a:lnTo>
                        <a:lnTo>
                          <a:pt x="95" y="765"/>
                        </a:lnTo>
                        <a:lnTo>
                          <a:pt x="53" y="812"/>
                        </a:lnTo>
                        <a:lnTo>
                          <a:pt x="42" y="849"/>
                        </a:lnTo>
                        <a:lnTo>
                          <a:pt x="42" y="896"/>
                        </a:lnTo>
                        <a:lnTo>
                          <a:pt x="42" y="944"/>
                        </a:lnTo>
                        <a:lnTo>
                          <a:pt x="42" y="981"/>
                        </a:lnTo>
                        <a:lnTo>
                          <a:pt x="74" y="1016"/>
                        </a:lnTo>
                        <a:lnTo>
                          <a:pt x="105" y="1052"/>
                        </a:lnTo>
                        <a:lnTo>
                          <a:pt x="137" y="1087"/>
                        </a:lnTo>
                        <a:lnTo>
                          <a:pt x="158" y="1136"/>
                        </a:lnTo>
                        <a:lnTo>
                          <a:pt x="169" y="1184"/>
                        </a:lnTo>
                        <a:lnTo>
                          <a:pt x="169" y="1232"/>
                        </a:lnTo>
                        <a:lnTo>
                          <a:pt x="169" y="1291"/>
                        </a:lnTo>
                        <a:lnTo>
                          <a:pt x="158" y="1327"/>
                        </a:lnTo>
                        <a:lnTo>
                          <a:pt x="126" y="1351"/>
                        </a:lnTo>
                        <a:lnTo>
                          <a:pt x="105" y="1387"/>
                        </a:lnTo>
                        <a:lnTo>
                          <a:pt x="63" y="1399"/>
                        </a:lnTo>
                        <a:lnTo>
                          <a:pt x="53" y="1435"/>
                        </a:lnTo>
                        <a:lnTo>
                          <a:pt x="42" y="1494"/>
                        </a:lnTo>
                        <a:lnTo>
                          <a:pt x="32" y="1530"/>
                        </a:lnTo>
                        <a:lnTo>
                          <a:pt x="63" y="1567"/>
                        </a:lnTo>
                        <a:lnTo>
                          <a:pt x="84" y="1614"/>
                        </a:lnTo>
                        <a:lnTo>
                          <a:pt x="116" y="1638"/>
                        </a:lnTo>
                        <a:lnTo>
                          <a:pt x="148" y="1662"/>
                        </a:lnTo>
                        <a:lnTo>
                          <a:pt x="158" y="1721"/>
                        </a:lnTo>
                        <a:lnTo>
                          <a:pt x="158" y="1758"/>
                        </a:lnTo>
                        <a:lnTo>
                          <a:pt x="158" y="1794"/>
                        </a:lnTo>
                        <a:lnTo>
                          <a:pt x="126" y="1829"/>
                        </a:lnTo>
                        <a:lnTo>
                          <a:pt x="116" y="1866"/>
                        </a:lnTo>
                        <a:lnTo>
                          <a:pt x="84" y="1877"/>
                        </a:lnTo>
                        <a:lnTo>
                          <a:pt x="53" y="1913"/>
                        </a:lnTo>
                        <a:lnTo>
                          <a:pt x="42" y="1961"/>
                        </a:lnTo>
                        <a:lnTo>
                          <a:pt x="42" y="2009"/>
                        </a:lnTo>
                        <a:lnTo>
                          <a:pt x="42" y="2045"/>
                        </a:lnTo>
                        <a:lnTo>
                          <a:pt x="74" y="2069"/>
                        </a:lnTo>
                        <a:lnTo>
                          <a:pt x="116" y="2104"/>
                        </a:lnTo>
                        <a:lnTo>
                          <a:pt x="148" y="2117"/>
                        </a:lnTo>
                        <a:lnTo>
                          <a:pt x="200" y="2164"/>
                        </a:lnTo>
                        <a:lnTo>
                          <a:pt x="211" y="2212"/>
                        </a:lnTo>
                        <a:lnTo>
                          <a:pt x="211" y="2248"/>
                        </a:lnTo>
                        <a:lnTo>
                          <a:pt x="179" y="2272"/>
                        </a:lnTo>
                        <a:lnTo>
                          <a:pt x="137" y="2308"/>
                        </a:lnTo>
                        <a:lnTo>
                          <a:pt x="126" y="2344"/>
                        </a:lnTo>
                        <a:lnTo>
                          <a:pt x="105" y="2392"/>
                        </a:lnTo>
                        <a:lnTo>
                          <a:pt x="53" y="2403"/>
                        </a:lnTo>
                        <a:lnTo>
                          <a:pt x="81"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737760" y="3774240"/>
                    <a:ext cx="187920" cy="23760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567480" y="3450960"/>
                    <a:ext cx="187920" cy="2699640"/>
                  </a:xfrm>
                  <a:custGeom>
                    <a:avLst/>
                    <a:gdLst/>
                    <a:ahLst/>
                    <a:rect l="l" t="t" r="r" b="b"/>
                    <a:pathLst>
                      <a:path w="212" h="2404">
                        <a:moveTo>
                          <a:pt x="130" y="0"/>
                        </a:moveTo>
                        <a:lnTo>
                          <a:pt x="95" y="11"/>
                        </a:lnTo>
                        <a:lnTo>
                          <a:pt x="95" y="48"/>
                        </a:lnTo>
                        <a:lnTo>
                          <a:pt x="74" y="95"/>
                        </a:lnTo>
                        <a:lnTo>
                          <a:pt x="63" y="155"/>
                        </a:lnTo>
                        <a:lnTo>
                          <a:pt x="63" y="191"/>
                        </a:lnTo>
                        <a:lnTo>
                          <a:pt x="85" y="227"/>
                        </a:lnTo>
                        <a:lnTo>
                          <a:pt x="127" y="251"/>
                        </a:lnTo>
                        <a:lnTo>
                          <a:pt x="169" y="262"/>
                        </a:lnTo>
                        <a:lnTo>
                          <a:pt x="179" y="299"/>
                        </a:lnTo>
                        <a:lnTo>
                          <a:pt x="211" y="347"/>
                        </a:lnTo>
                        <a:lnTo>
                          <a:pt x="211" y="394"/>
                        </a:lnTo>
                        <a:lnTo>
                          <a:pt x="211" y="431"/>
                        </a:lnTo>
                        <a:lnTo>
                          <a:pt x="179" y="442"/>
                        </a:lnTo>
                        <a:lnTo>
                          <a:pt x="169" y="478"/>
                        </a:lnTo>
                        <a:lnTo>
                          <a:pt x="137" y="490"/>
                        </a:lnTo>
                        <a:lnTo>
                          <a:pt x="106" y="526"/>
                        </a:lnTo>
                        <a:lnTo>
                          <a:pt x="74" y="550"/>
                        </a:lnTo>
                        <a:lnTo>
                          <a:pt x="53" y="598"/>
                        </a:lnTo>
                        <a:lnTo>
                          <a:pt x="53" y="645"/>
                        </a:lnTo>
                        <a:lnTo>
                          <a:pt x="53" y="682"/>
                        </a:lnTo>
                        <a:lnTo>
                          <a:pt x="74" y="729"/>
                        </a:lnTo>
                        <a:lnTo>
                          <a:pt x="116" y="765"/>
                        </a:lnTo>
                        <a:lnTo>
                          <a:pt x="158" y="812"/>
                        </a:lnTo>
                        <a:lnTo>
                          <a:pt x="169" y="849"/>
                        </a:lnTo>
                        <a:lnTo>
                          <a:pt x="169" y="896"/>
                        </a:lnTo>
                        <a:lnTo>
                          <a:pt x="169" y="944"/>
                        </a:lnTo>
                        <a:lnTo>
                          <a:pt x="169" y="981"/>
                        </a:lnTo>
                        <a:lnTo>
                          <a:pt x="137" y="1016"/>
                        </a:lnTo>
                        <a:lnTo>
                          <a:pt x="106" y="1052"/>
                        </a:lnTo>
                        <a:lnTo>
                          <a:pt x="74" y="1087"/>
                        </a:lnTo>
                        <a:lnTo>
                          <a:pt x="53" y="1136"/>
                        </a:lnTo>
                        <a:lnTo>
                          <a:pt x="42" y="1184"/>
                        </a:lnTo>
                        <a:lnTo>
                          <a:pt x="42" y="1232"/>
                        </a:lnTo>
                        <a:lnTo>
                          <a:pt x="42" y="1291"/>
                        </a:lnTo>
                        <a:lnTo>
                          <a:pt x="53" y="1327"/>
                        </a:lnTo>
                        <a:lnTo>
                          <a:pt x="85" y="1351"/>
                        </a:lnTo>
                        <a:lnTo>
                          <a:pt x="106" y="1387"/>
                        </a:lnTo>
                        <a:lnTo>
                          <a:pt x="148" y="1399"/>
                        </a:lnTo>
                        <a:lnTo>
                          <a:pt x="158" y="1435"/>
                        </a:lnTo>
                        <a:lnTo>
                          <a:pt x="169" y="1494"/>
                        </a:lnTo>
                        <a:lnTo>
                          <a:pt x="179" y="1530"/>
                        </a:lnTo>
                        <a:lnTo>
                          <a:pt x="148" y="1567"/>
                        </a:lnTo>
                        <a:lnTo>
                          <a:pt x="127" y="1614"/>
                        </a:lnTo>
                        <a:lnTo>
                          <a:pt x="95" y="1638"/>
                        </a:lnTo>
                        <a:lnTo>
                          <a:pt x="63" y="1662"/>
                        </a:lnTo>
                        <a:lnTo>
                          <a:pt x="53" y="1721"/>
                        </a:lnTo>
                        <a:lnTo>
                          <a:pt x="53" y="1758"/>
                        </a:lnTo>
                        <a:lnTo>
                          <a:pt x="53" y="1794"/>
                        </a:lnTo>
                        <a:lnTo>
                          <a:pt x="85" y="1829"/>
                        </a:lnTo>
                        <a:lnTo>
                          <a:pt x="95" y="1866"/>
                        </a:lnTo>
                        <a:lnTo>
                          <a:pt x="127" y="1877"/>
                        </a:lnTo>
                        <a:lnTo>
                          <a:pt x="158" y="1913"/>
                        </a:lnTo>
                        <a:lnTo>
                          <a:pt x="169" y="1961"/>
                        </a:lnTo>
                        <a:lnTo>
                          <a:pt x="169" y="2009"/>
                        </a:lnTo>
                        <a:lnTo>
                          <a:pt x="169" y="2045"/>
                        </a:lnTo>
                        <a:lnTo>
                          <a:pt x="137" y="2069"/>
                        </a:lnTo>
                        <a:lnTo>
                          <a:pt x="95" y="2104"/>
                        </a:lnTo>
                        <a:lnTo>
                          <a:pt x="63" y="2117"/>
                        </a:lnTo>
                        <a:lnTo>
                          <a:pt x="11" y="2164"/>
                        </a:lnTo>
                        <a:lnTo>
                          <a:pt x="0" y="2212"/>
                        </a:lnTo>
                        <a:lnTo>
                          <a:pt x="0" y="2248"/>
                        </a:lnTo>
                        <a:lnTo>
                          <a:pt x="32" y="2272"/>
                        </a:lnTo>
                        <a:lnTo>
                          <a:pt x="74" y="2308"/>
                        </a:lnTo>
                        <a:lnTo>
                          <a:pt x="85" y="2344"/>
                        </a:lnTo>
                        <a:lnTo>
                          <a:pt x="106" y="2392"/>
                        </a:lnTo>
                        <a:lnTo>
                          <a:pt x="158" y="2403"/>
                        </a:lnTo>
                        <a:lnTo>
                          <a:pt x="130"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81440" y="3450960"/>
                    <a:ext cx="187920" cy="2699640"/>
                  </a:xfrm>
                  <a:custGeom>
                    <a:avLst/>
                    <a:gdLst/>
                    <a:ahLst/>
                    <a:rect l="l" t="t" r="r" b="b"/>
                    <a:pathLst>
                      <a:path w="212" h="2404">
                        <a:moveTo>
                          <a:pt x="81" y="0"/>
                        </a:moveTo>
                        <a:lnTo>
                          <a:pt x="116" y="11"/>
                        </a:lnTo>
                        <a:lnTo>
                          <a:pt x="116" y="48"/>
                        </a:lnTo>
                        <a:lnTo>
                          <a:pt x="137" y="95"/>
                        </a:lnTo>
                        <a:lnTo>
                          <a:pt x="148" y="155"/>
                        </a:lnTo>
                        <a:lnTo>
                          <a:pt x="148" y="191"/>
                        </a:lnTo>
                        <a:lnTo>
                          <a:pt x="126" y="227"/>
                        </a:lnTo>
                        <a:lnTo>
                          <a:pt x="84" y="251"/>
                        </a:lnTo>
                        <a:lnTo>
                          <a:pt x="42" y="262"/>
                        </a:lnTo>
                        <a:lnTo>
                          <a:pt x="32" y="299"/>
                        </a:lnTo>
                        <a:lnTo>
                          <a:pt x="0" y="347"/>
                        </a:lnTo>
                        <a:lnTo>
                          <a:pt x="0" y="394"/>
                        </a:lnTo>
                        <a:lnTo>
                          <a:pt x="0" y="431"/>
                        </a:lnTo>
                        <a:lnTo>
                          <a:pt x="32" y="442"/>
                        </a:lnTo>
                        <a:lnTo>
                          <a:pt x="42" y="478"/>
                        </a:lnTo>
                        <a:lnTo>
                          <a:pt x="74" y="490"/>
                        </a:lnTo>
                        <a:lnTo>
                          <a:pt x="105" y="526"/>
                        </a:lnTo>
                        <a:lnTo>
                          <a:pt x="137" y="550"/>
                        </a:lnTo>
                        <a:lnTo>
                          <a:pt x="158" y="598"/>
                        </a:lnTo>
                        <a:lnTo>
                          <a:pt x="158" y="645"/>
                        </a:lnTo>
                        <a:lnTo>
                          <a:pt x="158" y="682"/>
                        </a:lnTo>
                        <a:lnTo>
                          <a:pt x="137" y="729"/>
                        </a:lnTo>
                        <a:lnTo>
                          <a:pt x="95" y="765"/>
                        </a:lnTo>
                        <a:lnTo>
                          <a:pt x="53" y="812"/>
                        </a:lnTo>
                        <a:lnTo>
                          <a:pt x="42" y="849"/>
                        </a:lnTo>
                        <a:lnTo>
                          <a:pt x="42" y="896"/>
                        </a:lnTo>
                        <a:lnTo>
                          <a:pt x="42" y="944"/>
                        </a:lnTo>
                        <a:lnTo>
                          <a:pt x="42" y="981"/>
                        </a:lnTo>
                        <a:lnTo>
                          <a:pt x="74" y="1016"/>
                        </a:lnTo>
                        <a:lnTo>
                          <a:pt x="105" y="1052"/>
                        </a:lnTo>
                        <a:lnTo>
                          <a:pt x="137" y="1087"/>
                        </a:lnTo>
                        <a:lnTo>
                          <a:pt x="158" y="1136"/>
                        </a:lnTo>
                        <a:lnTo>
                          <a:pt x="169" y="1184"/>
                        </a:lnTo>
                        <a:lnTo>
                          <a:pt x="169" y="1232"/>
                        </a:lnTo>
                        <a:lnTo>
                          <a:pt x="169" y="1291"/>
                        </a:lnTo>
                        <a:lnTo>
                          <a:pt x="158" y="1327"/>
                        </a:lnTo>
                        <a:lnTo>
                          <a:pt x="126" y="1351"/>
                        </a:lnTo>
                        <a:lnTo>
                          <a:pt x="105" y="1387"/>
                        </a:lnTo>
                        <a:lnTo>
                          <a:pt x="63" y="1399"/>
                        </a:lnTo>
                        <a:lnTo>
                          <a:pt x="53" y="1435"/>
                        </a:lnTo>
                        <a:lnTo>
                          <a:pt x="42" y="1494"/>
                        </a:lnTo>
                        <a:lnTo>
                          <a:pt x="32" y="1530"/>
                        </a:lnTo>
                        <a:lnTo>
                          <a:pt x="63" y="1567"/>
                        </a:lnTo>
                        <a:lnTo>
                          <a:pt x="84" y="1614"/>
                        </a:lnTo>
                        <a:lnTo>
                          <a:pt x="116" y="1638"/>
                        </a:lnTo>
                        <a:lnTo>
                          <a:pt x="148" y="1662"/>
                        </a:lnTo>
                        <a:lnTo>
                          <a:pt x="158" y="1721"/>
                        </a:lnTo>
                        <a:lnTo>
                          <a:pt x="158" y="1758"/>
                        </a:lnTo>
                        <a:lnTo>
                          <a:pt x="158" y="1794"/>
                        </a:lnTo>
                        <a:lnTo>
                          <a:pt x="126" y="1829"/>
                        </a:lnTo>
                        <a:lnTo>
                          <a:pt x="116" y="1866"/>
                        </a:lnTo>
                        <a:lnTo>
                          <a:pt x="84" y="1877"/>
                        </a:lnTo>
                        <a:lnTo>
                          <a:pt x="53" y="1913"/>
                        </a:lnTo>
                        <a:lnTo>
                          <a:pt x="42" y="1961"/>
                        </a:lnTo>
                        <a:lnTo>
                          <a:pt x="42" y="2009"/>
                        </a:lnTo>
                        <a:lnTo>
                          <a:pt x="42" y="2045"/>
                        </a:lnTo>
                        <a:lnTo>
                          <a:pt x="74" y="2069"/>
                        </a:lnTo>
                        <a:lnTo>
                          <a:pt x="116" y="2104"/>
                        </a:lnTo>
                        <a:lnTo>
                          <a:pt x="148" y="2117"/>
                        </a:lnTo>
                        <a:lnTo>
                          <a:pt x="200" y="2164"/>
                        </a:lnTo>
                        <a:lnTo>
                          <a:pt x="211" y="2212"/>
                        </a:lnTo>
                        <a:lnTo>
                          <a:pt x="211" y="2248"/>
                        </a:lnTo>
                        <a:lnTo>
                          <a:pt x="179" y="2272"/>
                        </a:lnTo>
                        <a:lnTo>
                          <a:pt x="137" y="2308"/>
                        </a:lnTo>
                        <a:lnTo>
                          <a:pt x="126" y="2344"/>
                        </a:lnTo>
                        <a:lnTo>
                          <a:pt x="105" y="2392"/>
                        </a:lnTo>
                        <a:lnTo>
                          <a:pt x="53" y="2403"/>
                        </a:lnTo>
                        <a:lnTo>
                          <a:pt x="81"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397200" y="3450960"/>
                    <a:ext cx="187920" cy="2699640"/>
                  </a:xfrm>
                  <a:custGeom>
                    <a:avLst/>
                    <a:gdLst/>
                    <a:ahLst/>
                    <a:rect l="l" t="t" r="r" b="b"/>
                    <a:pathLst>
                      <a:path w="212" h="2404">
                        <a:moveTo>
                          <a:pt x="130" y="0"/>
                        </a:moveTo>
                        <a:lnTo>
                          <a:pt x="95" y="11"/>
                        </a:lnTo>
                        <a:lnTo>
                          <a:pt x="95" y="48"/>
                        </a:lnTo>
                        <a:lnTo>
                          <a:pt x="74" y="95"/>
                        </a:lnTo>
                        <a:lnTo>
                          <a:pt x="63" y="155"/>
                        </a:lnTo>
                        <a:lnTo>
                          <a:pt x="63" y="191"/>
                        </a:lnTo>
                        <a:lnTo>
                          <a:pt x="85" y="227"/>
                        </a:lnTo>
                        <a:lnTo>
                          <a:pt x="127" y="251"/>
                        </a:lnTo>
                        <a:lnTo>
                          <a:pt x="169" y="262"/>
                        </a:lnTo>
                        <a:lnTo>
                          <a:pt x="179" y="299"/>
                        </a:lnTo>
                        <a:lnTo>
                          <a:pt x="211" y="347"/>
                        </a:lnTo>
                        <a:lnTo>
                          <a:pt x="211" y="394"/>
                        </a:lnTo>
                        <a:lnTo>
                          <a:pt x="211" y="431"/>
                        </a:lnTo>
                        <a:lnTo>
                          <a:pt x="179" y="442"/>
                        </a:lnTo>
                        <a:lnTo>
                          <a:pt x="169" y="478"/>
                        </a:lnTo>
                        <a:lnTo>
                          <a:pt x="137" y="490"/>
                        </a:lnTo>
                        <a:lnTo>
                          <a:pt x="106" y="526"/>
                        </a:lnTo>
                        <a:lnTo>
                          <a:pt x="74" y="550"/>
                        </a:lnTo>
                        <a:lnTo>
                          <a:pt x="53" y="598"/>
                        </a:lnTo>
                        <a:lnTo>
                          <a:pt x="53" y="645"/>
                        </a:lnTo>
                        <a:lnTo>
                          <a:pt x="53" y="682"/>
                        </a:lnTo>
                        <a:lnTo>
                          <a:pt x="74" y="729"/>
                        </a:lnTo>
                        <a:lnTo>
                          <a:pt x="116" y="765"/>
                        </a:lnTo>
                        <a:lnTo>
                          <a:pt x="158" y="812"/>
                        </a:lnTo>
                        <a:lnTo>
                          <a:pt x="169" y="849"/>
                        </a:lnTo>
                        <a:lnTo>
                          <a:pt x="169" y="896"/>
                        </a:lnTo>
                        <a:lnTo>
                          <a:pt x="169" y="944"/>
                        </a:lnTo>
                        <a:lnTo>
                          <a:pt x="169" y="981"/>
                        </a:lnTo>
                        <a:lnTo>
                          <a:pt x="137" y="1016"/>
                        </a:lnTo>
                        <a:lnTo>
                          <a:pt x="106" y="1052"/>
                        </a:lnTo>
                        <a:lnTo>
                          <a:pt x="74" y="1087"/>
                        </a:lnTo>
                        <a:lnTo>
                          <a:pt x="53" y="1136"/>
                        </a:lnTo>
                        <a:lnTo>
                          <a:pt x="42" y="1184"/>
                        </a:lnTo>
                        <a:lnTo>
                          <a:pt x="42" y="1232"/>
                        </a:lnTo>
                        <a:lnTo>
                          <a:pt x="42" y="1291"/>
                        </a:lnTo>
                        <a:lnTo>
                          <a:pt x="53" y="1327"/>
                        </a:lnTo>
                        <a:lnTo>
                          <a:pt x="85" y="1351"/>
                        </a:lnTo>
                        <a:lnTo>
                          <a:pt x="106" y="1387"/>
                        </a:lnTo>
                        <a:lnTo>
                          <a:pt x="148" y="1399"/>
                        </a:lnTo>
                        <a:lnTo>
                          <a:pt x="158" y="1435"/>
                        </a:lnTo>
                        <a:lnTo>
                          <a:pt x="169" y="1494"/>
                        </a:lnTo>
                        <a:lnTo>
                          <a:pt x="179" y="1530"/>
                        </a:lnTo>
                        <a:lnTo>
                          <a:pt x="148" y="1567"/>
                        </a:lnTo>
                        <a:lnTo>
                          <a:pt x="127" y="1614"/>
                        </a:lnTo>
                        <a:lnTo>
                          <a:pt x="95" y="1638"/>
                        </a:lnTo>
                        <a:lnTo>
                          <a:pt x="63" y="1662"/>
                        </a:lnTo>
                        <a:lnTo>
                          <a:pt x="53" y="1721"/>
                        </a:lnTo>
                        <a:lnTo>
                          <a:pt x="53" y="1758"/>
                        </a:lnTo>
                        <a:lnTo>
                          <a:pt x="53" y="1794"/>
                        </a:lnTo>
                        <a:lnTo>
                          <a:pt x="85" y="1829"/>
                        </a:lnTo>
                        <a:lnTo>
                          <a:pt x="95" y="1866"/>
                        </a:lnTo>
                        <a:lnTo>
                          <a:pt x="127" y="1877"/>
                        </a:lnTo>
                        <a:lnTo>
                          <a:pt x="158" y="1913"/>
                        </a:lnTo>
                        <a:lnTo>
                          <a:pt x="169" y="1961"/>
                        </a:lnTo>
                        <a:lnTo>
                          <a:pt x="169" y="2009"/>
                        </a:lnTo>
                        <a:lnTo>
                          <a:pt x="169" y="2045"/>
                        </a:lnTo>
                        <a:lnTo>
                          <a:pt x="137" y="2069"/>
                        </a:lnTo>
                        <a:lnTo>
                          <a:pt x="95" y="2104"/>
                        </a:lnTo>
                        <a:lnTo>
                          <a:pt x="63" y="2117"/>
                        </a:lnTo>
                        <a:lnTo>
                          <a:pt x="11" y="2164"/>
                        </a:lnTo>
                        <a:lnTo>
                          <a:pt x="0" y="2212"/>
                        </a:lnTo>
                        <a:lnTo>
                          <a:pt x="0" y="2248"/>
                        </a:lnTo>
                        <a:lnTo>
                          <a:pt x="32" y="2272"/>
                        </a:lnTo>
                        <a:lnTo>
                          <a:pt x="74" y="2308"/>
                        </a:lnTo>
                        <a:lnTo>
                          <a:pt x="85" y="2344"/>
                        </a:lnTo>
                        <a:lnTo>
                          <a:pt x="106" y="2392"/>
                        </a:lnTo>
                        <a:lnTo>
                          <a:pt x="158" y="2403"/>
                        </a:lnTo>
                        <a:lnTo>
                          <a:pt x="130"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11160" y="3774240"/>
                    <a:ext cx="187920" cy="23760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26920" y="3774240"/>
                    <a:ext cx="187920" cy="23760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22000" y="3774240"/>
                    <a:ext cx="187920" cy="23760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6535440" y="3181320"/>
                  <a:ext cx="84960" cy="404280"/>
                </a:xfrm>
                <a:custGeom>
                  <a:avLst/>
                  <a:gdLst/>
                  <a:ahLst/>
                  <a:rect l="l" t="t" r="r" b="b"/>
                  <a:pathLst>
                    <a:path w="96" h="360">
                      <a:moveTo>
                        <a:pt x="70" y="0"/>
                      </a:moveTo>
                      <a:lnTo>
                        <a:pt x="32" y="11"/>
                      </a:lnTo>
                      <a:lnTo>
                        <a:pt x="21" y="43"/>
                      </a:lnTo>
                      <a:lnTo>
                        <a:pt x="21" y="75"/>
                      </a:lnTo>
                      <a:lnTo>
                        <a:pt x="0" y="117"/>
                      </a:lnTo>
                      <a:lnTo>
                        <a:pt x="11" y="159"/>
                      </a:lnTo>
                      <a:lnTo>
                        <a:pt x="21" y="201"/>
                      </a:lnTo>
                      <a:lnTo>
                        <a:pt x="42" y="243"/>
                      </a:lnTo>
                      <a:lnTo>
                        <a:pt x="53" y="275"/>
                      </a:lnTo>
                      <a:lnTo>
                        <a:pt x="53" y="317"/>
                      </a:lnTo>
                      <a:lnTo>
                        <a:pt x="95" y="359"/>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620040" y="3181320"/>
                  <a:ext cx="84960" cy="404280"/>
                </a:xfrm>
                <a:custGeom>
                  <a:avLst/>
                  <a:gdLst/>
                  <a:ahLst/>
                  <a:rect l="l" t="t" r="r" b="b"/>
                  <a:pathLst>
                    <a:path w="96" h="360">
                      <a:moveTo>
                        <a:pt x="25" y="0"/>
                      </a:moveTo>
                      <a:lnTo>
                        <a:pt x="63" y="11"/>
                      </a:lnTo>
                      <a:lnTo>
                        <a:pt x="74" y="43"/>
                      </a:lnTo>
                      <a:lnTo>
                        <a:pt x="74" y="75"/>
                      </a:lnTo>
                      <a:lnTo>
                        <a:pt x="95" y="117"/>
                      </a:lnTo>
                      <a:lnTo>
                        <a:pt x="84" y="159"/>
                      </a:lnTo>
                      <a:lnTo>
                        <a:pt x="74" y="201"/>
                      </a:lnTo>
                      <a:lnTo>
                        <a:pt x="53" y="243"/>
                      </a:lnTo>
                      <a:lnTo>
                        <a:pt x="42" y="275"/>
                      </a:lnTo>
                      <a:lnTo>
                        <a:pt x="42" y="317"/>
                      </a:lnTo>
                      <a:lnTo>
                        <a:pt x="0" y="359"/>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6172200" y="3047760"/>
                <a:ext cx="913680" cy="3123720"/>
                <a:chOff x="6172200" y="3047760"/>
                <a:chExt cx="913680" cy="3123720"/>
              </a:xfrm>
            </p:grpSpPr>
            <p:sp>
              <p:nvSpPr>
                <p:cNvPr id="168" name=""/>
                <p:cNvSpPr/>
                <p:nvPr/>
              </p:nvSpPr>
              <p:spPr>
                <a:xfrm flipV="1">
                  <a:off x="6172200" y="3694320"/>
                  <a:ext cx="0" cy="247716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7066080" y="3694320"/>
                  <a:ext cx="0" cy="247716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6194160" y="3047760"/>
                  <a:ext cx="338760" cy="6980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a:off x="6662160" y="3047760"/>
                  <a:ext cx="423720" cy="6980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78280" y="3073680"/>
                  <a:ext cx="8316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3" name=""/>
            <p:cNvGrpSpPr/>
            <p:nvPr/>
          </p:nvGrpSpPr>
          <p:grpSpPr>
            <a:xfrm>
              <a:off x="5105520" y="3047760"/>
              <a:ext cx="913680" cy="3123720"/>
              <a:chOff x="5105520" y="3047760"/>
              <a:chExt cx="913680" cy="3123720"/>
            </a:xfrm>
          </p:grpSpPr>
          <p:grpSp>
            <p:nvGrpSpPr>
              <p:cNvPr id="174" name=""/>
              <p:cNvGrpSpPr/>
              <p:nvPr/>
            </p:nvGrpSpPr>
            <p:grpSpPr>
              <a:xfrm>
                <a:off x="5160240" y="3181320"/>
                <a:ext cx="783000" cy="2969280"/>
                <a:chOff x="5160240" y="3181320"/>
                <a:chExt cx="783000" cy="2969280"/>
              </a:xfrm>
            </p:grpSpPr>
            <p:grpSp>
              <p:nvGrpSpPr>
                <p:cNvPr id="175" name=""/>
                <p:cNvGrpSpPr/>
                <p:nvPr/>
              </p:nvGrpSpPr>
              <p:grpSpPr>
                <a:xfrm>
                  <a:off x="5160240" y="3450960"/>
                  <a:ext cx="783000" cy="2699640"/>
                  <a:chOff x="5160240" y="3450960"/>
                  <a:chExt cx="783000" cy="2699640"/>
                </a:xfrm>
              </p:grpSpPr>
              <p:sp>
                <p:nvSpPr>
                  <p:cNvPr id="176" name=""/>
                  <p:cNvSpPr/>
                  <p:nvPr/>
                </p:nvSpPr>
                <p:spPr>
                  <a:xfrm>
                    <a:off x="5585400" y="3450960"/>
                    <a:ext cx="187920" cy="2699640"/>
                  </a:xfrm>
                  <a:custGeom>
                    <a:avLst/>
                    <a:gdLst/>
                    <a:ahLst/>
                    <a:rect l="l" t="t" r="r" b="b"/>
                    <a:pathLst>
                      <a:path w="212" h="2404">
                        <a:moveTo>
                          <a:pt x="81" y="0"/>
                        </a:moveTo>
                        <a:lnTo>
                          <a:pt x="116" y="11"/>
                        </a:lnTo>
                        <a:lnTo>
                          <a:pt x="116" y="48"/>
                        </a:lnTo>
                        <a:lnTo>
                          <a:pt x="137" y="95"/>
                        </a:lnTo>
                        <a:lnTo>
                          <a:pt x="148" y="155"/>
                        </a:lnTo>
                        <a:lnTo>
                          <a:pt x="148" y="191"/>
                        </a:lnTo>
                        <a:lnTo>
                          <a:pt x="126" y="227"/>
                        </a:lnTo>
                        <a:lnTo>
                          <a:pt x="84" y="251"/>
                        </a:lnTo>
                        <a:lnTo>
                          <a:pt x="42" y="262"/>
                        </a:lnTo>
                        <a:lnTo>
                          <a:pt x="32" y="299"/>
                        </a:lnTo>
                        <a:lnTo>
                          <a:pt x="0" y="347"/>
                        </a:lnTo>
                        <a:lnTo>
                          <a:pt x="0" y="394"/>
                        </a:lnTo>
                        <a:lnTo>
                          <a:pt x="0" y="431"/>
                        </a:lnTo>
                        <a:lnTo>
                          <a:pt x="32" y="442"/>
                        </a:lnTo>
                        <a:lnTo>
                          <a:pt x="42" y="478"/>
                        </a:lnTo>
                        <a:lnTo>
                          <a:pt x="74" y="490"/>
                        </a:lnTo>
                        <a:lnTo>
                          <a:pt x="105" y="526"/>
                        </a:lnTo>
                        <a:lnTo>
                          <a:pt x="137" y="550"/>
                        </a:lnTo>
                        <a:lnTo>
                          <a:pt x="158" y="598"/>
                        </a:lnTo>
                        <a:lnTo>
                          <a:pt x="158" y="645"/>
                        </a:lnTo>
                        <a:lnTo>
                          <a:pt x="158" y="682"/>
                        </a:lnTo>
                        <a:lnTo>
                          <a:pt x="137" y="729"/>
                        </a:lnTo>
                        <a:lnTo>
                          <a:pt x="95" y="765"/>
                        </a:lnTo>
                        <a:lnTo>
                          <a:pt x="53" y="812"/>
                        </a:lnTo>
                        <a:lnTo>
                          <a:pt x="42" y="849"/>
                        </a:lnTo>
                        <a:lnTo>
                          <a:pt x="42" y="896"/>
                        </a:lnTo>
                        <a:lnTo>
                          <a:pt x="42" y="944"/>
                        </a:lnTo>
                        <a:lnTo>
                          <a:pt x="42" y="981"/>
                        </a:lnTo>
                        <a:lnTo>
                          <a:pt x="74" y="1016"/>
                        </a:lnTo>
                        <a:lnTo>
                          <a:pt x="105" y="1052"/>
                        </a:lnTo>
                        <a:lnTo>
                          <a:pt x="137" y="1087"/>
                        </a:lnTo>
                        <a:lnTo>
                          <a:pt x="158" y="1136"/>
                        </a:lnTo>
                        <a:lnTo>
                          <a:pt x="169" y="1184"/>
                        </a:lnTo>
                        <a:lnTo>
                          <a:pt x="169" y="1232"/>
                        </a:lnTo>
                        <a:lnTo>
                          <a:pt x="169" y="1291"/>
                        </a:lnTo>
                        <a:lnTo>
                          <a:pt x="158" y="1327"/>
                        </a:lnTo>
                        <a:lnTo>
                          <a:pt x="126" y="1351"/>
                        </a:lnTo>
                        <a:lnTo>
                          <a:pt x="105" y="1387"/>
                        </a:lnTo>
                        <a:lnTo>
                          <a:pt x="63" y="1399"/>
                        </a:lnTo>
                        <a:lnTo>
                          <a:pt x="53" y="1435"/>
                        </a:lnTo>
                        <a:lnTo>
                          <a:pt x="42" y="1494"/>
                        </a:lnTo>
                        <a:lnTo>
                          <a:pt x="32" y="1530"/>
                        </a:lnTo>
                        <a:lnTo>
                          <a:pt x="63" y="1567"/>
                        </a:lnTo>
                        <a:lnTo>
                          <a:pt x="84" y="1614"/>
                        </a:lnTo>
                        <a:lnTo>
                          <a:pt x="116" y="1638"/>
                        </a:lnTo>
                        <a:lnTo>
                          <a:pt x="148" y="1662"/>
                        </a:lnTo>
                        <a:lnTo>
                          <a:pt x="158" y="1721"/>
                        </a:lnTo>
                        <a:lnTo>
                          <a:pt x="158" y="1758"/>
                        </a:lnTo>
                        <a:lnTo>
                          <a:pt x="158" y="1794"/>
                        </a:lnTo>
                        <a:lnTo>
                          <a:pt x="126" y="1829"/>
                        </a:lnTo>
                        <a:lnTo>
                          <a:pt x="116" y="1866"/>
                        </a:lnTo>
                        <a:lnTo>
                          <a:pt x="84" y="1877"/>
                        </a:lnTo>
                        <a:lnTo>
                          <a:pt x="53" y="1913"/>
                        </a:lnTo>
                        <a:lnTo>
                          <a:pt x="42" y="1961"/>
                        </a:lnTo>
                        <a:lnTo>
                          <a:pt x="42" y="2009"/>
                        </a:lnTo>
                        <a:lnTo>
                          <a:pt x="42" y="2045"/>
                        </a:lnTo>
                        <a:lnTo>
                          <a:pt x="74" y="2069"/>
                        </a:lnTo>
                        <a:lnTo>
                          <a:pt x="116" y="2104"/>
                        </a:lnTo>
                        <a:lnTo>
                          <a:pt x="148" y="2117"/>
                        </a:lnTo>
                        <a:lnTo>
                          <a:pt x="200" y="2164"/>
                        </a:lnTo>
                        <a:lnTo>
                          <a:pt x="211" y="2212"/>
                        </a:lnTo>
                        <a:lnTo>
                          <a:pt x="211" y="2248"/>
                        </a:lnTo>
                        <a:lnTo>
                          <a:pt x="179" y="2272"/>
                        </a:lnTo>
                        <a:lnTo>
                          <a:pt x="137" y="2308"/>
                        </a:lnTo>
                        <a:lnTo>
                          <a:pt x="126" y="2344"/>
                        </a:lnTo>
                        <a:lnTo>
                          <a:pt x="105" y="2392"/>
                        </a:lnTo>
                        <a:lnTo>
                          <a:pt x="53" y="2403"/>
                        </a:lnTo>
                        <a:lnTo>
                          <a:pt x="81"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671080" y="3774240"/>
                    <a:ext cx="187920" cy="23760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500800" y="3450960"/>
                    <a:ext cx="187920" cy="2699640"/>
                  </a:xfrm>
                  <a:custGeom>
                    <a:avLst/>
                    <a:gdLst/>
                    <a:ahLst/>
                    <a:rect l="l" t="t" r="r" b="b"/>
                    <a:pathLst>
                      <a:path w="212" h="2404">
                        <a:moveTo>
                          <a:pt x="130" y="0"/>
                        </a:moveTo>
                        <a:lnTo>
                          <a:pt x="95" y="11"/>
                        </a:lnTo>
                        <a:lnTo>
                          <a:pt x="95" y="48"/>
                        </a:lnTo>
                        <a:lnTo>
                          <a:pt x="74" y="95"/>
                        </a:lnTo>
                        <a:lnTo>
                          <a:pt x="63" y="155"/>
                        </a:lnTo>
                        <a:lnTo>
                          <a:pt x="63" y="191"/>
                        </a:lnTo>
                        <a:lnTo>
                          <a:pt x="85" y="227"/>
                        </a:lnTo>
                        <a:lnTo>
                          <a:pt x="127" y="251"/>
                        </a:lnTo>
                        <a:lnTo>
                          <a:pt x="169" y="262"/>
                        </a:lnTo>
                        <a:lnTo>
                          <a:pt x="179" y="299"/>
                        </a:lnTo>
                        <a:lnTo>
                          <a:pt x="211" y="347"/>
                        </a:lnTo>
                        <a:lnTo>
                          <a:pt x="211" y="394"/>
                        </a:lnTo>
                        <a:lnTo>
                          <a:pt x="211" y="431"/>
                        </a:lnTo>
                        <a:lnTo>
                          <a:pt x="179" y="442"/>
                        </a:lnTo>
                        <a:lnTo>
                          <a:pt x="169" y="478"/>
                        </a:lnTo>
                        <a:lnTo>
                          <a:pt x="137" y="490"/>
                        </a:lnTo>
                        <a:lnTo>
                          <a:pt x="106" y="526"/>
                        </a:lnTo>
                        <a:lnTo>
                          <a:pt x="74" y="550"/>
                        </a:lnTo>
                        <a:lnTo>
                          <a:pt x="53" y="598"/>
                        </a:lnTo>
                        <a:lnTo>
                          <a:pt x="53" y="645"/>
                        </a:lnTo>
                        <a:lnTo>
                          <a:pt x="53" y="682"/>
                        </a:lnTo>
                        <a:lnTo>
                          <a:pt x="74" y="729"/>
                        </a:lnTo>
                        <a:lnTo>
                          <a:pt x="116" y="765"/>
                        </a:lnTo>
                        <a:lnTo>
                          <a:pt x="158" y="812"/>
                        </a:lnTo>
                        <a:lnTo>
                          <a:pt x="169" y="849"/>
                        </a:lnTo>
                        <a:lnTo>
                          <a:pt x="169" y="896"/>
                        </a:lnTo>
                        <a:lnTo>
                          <a:pt x="169" y="944"/>
                        </a:lnTo>
                        <a:lnTo>
                          <a:pt x="169" y="981"/>
                        </a:lnTo>
                        <a:lnTo>
                          <a:pt x="137" y="1016"/>
                        </a:lnTo>
                        <a:lnTo>
                          <a:pt x="106" y="1052"/>
                        </a:lnTo>
                        <a:lnTo>
                          <a:pt x="74" y="1087"/>
                        </a:lnTo>
                        <a:lnTo>
                          <a:pt x="53" y="1136"/>
                        </a:lnTo>
                        <a:lnTo>
                          <a:pt x="42" y="1184"/>
                        </a:lnTo>
                        <a:lnTo>
                          <a:pt x="42" y="1232"/>
                        </a:lnTo>
                        <a:lnTo>
                          <a:pt x="42" y="1291"/>
                        </a:lnTo>
                        <a:lnTo>
                          <a:pt x="53" y="1327"/>
                        </a:lnTo>
                        <a:lnTo>
                          <a:pt x="85" y="1351"/>
                        </a:lnTo>
                        <a:lnTo>
                          <a:pt x="106" y="1387"/>
                        </a:lnTo>
                        <a:lnTo>
                          <a:pt x="148" y="1399"/>
                        </a:lnTo>
                        <a:lnTo>
                          <a:pt x="158" y="1435"/>
                        </a:lnTo>
                        <a:lnTo>
                          <a:pt x="169" y="1494"/>
                        </a:lnTo>
                        <a:lnTo>
                          <a:pt x="179" y="1530"/>
                        </a:lnTo>
                        <a:lnTo>
                          <a:pt x="148" y="1567"/>
                        </a:lnTo>
                        <a:lnTo>
                          <a:pt x="127" y="1614"/>
                        </a:lnTo>
                        <a:lnTo>
                          <a:pt x="95" y="1638"/>
                        </a:lnTo>
                        <a:lnTo>
                          <a:pt x="63" y="1662"/>
                        </a:lnTo>
                        <a:lnTo>
                          <a:pt x="53" y="1721"/>
                        </a:lnTo>
                        <a:lnTo>
                          <a:pt x="53" y="1758"/>
                        </a:lnTo>
                        <a:lnTo>
                          <a:pt x="53" y="1794"/>
                        </a:lnTo>
                        <a:lnTo>
                          <a:pt x="85" y="1829"/>
                        </a:lnTo>
                        <a:lnTo>
                          <a:pt x="95" y="1866"/>
                        </a:lnTo>
                        <a:lnTo>
                          <a:pt x="127" y="1877"/>
                        </a:lnTo>
                        <a:lnTo>
                          <a:pt x="158" y="1913"/>
                        </a:lnTo>
                        <a:lnTo>
                          <a:pt x="169" y="1961"/>
                        </a:lnTo>
                        <a:lnTo>
                          <a:pt x="169" y="2009"/>
                        </a:lnTo>
                        <a:lnTo>
                          <a:pt x="169" y="2045"/>
                        </a:lnTo>
                        <a:lnTo>
                          <a:pt x="137" y="2069"/>
                        </a:lnTo>
                        <a:lnTo>
                          <a:pt x="95" y="2104"/>
                        </a:lnTo>
                        <a:lnTo>
                          <a:pt x="63" y="2117"/>
                        </a:lnTo>
                        <a:lnTo>
                          <a:pt x="11" y="2164"/>
                        </a:lnTo>
                        <a:lnTo>
                          <a:pt x="0" y="2212"/>
                        </a:lnTo>
                        <a:lnTo>
                          <a:pt x="0" y="2248"/>
                        </a:lnTo>
                        <a:lnTo>
                          <a:pt x="32" y="2272"/>
                        </a:lnTo>
                        <a:lnTo>
                          <a:pt x="74" y="2308"/>
                        </a:lnTo>
                        <a:lnTo>
                          <a:pt x="85" y="2344"/>
                        </a:lnTo>
                        <a:lnTo>
                          <a:pt x="106" y="2392"/>
                        </a:lnTo>
                        <a:lnTo>
                          <a:pt x="158" y="2403"/>
                        </a:lnTo>
                        <a:lnTo>
                          <a:pt x="130"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14760" y="3450960"/>
                    <a:ext cx="187920" cy="2699640"/>
                  </a:xfrm>
                  <a:custGeom>
                    <a:avLst/>
                    <a:gdLst/>
                    <a:ahLst/>
                    <a:rect l="l" t="t" r="r" b="b"/>
                    <a:pathLst>
                      <a:path w="212" h="2404">
                        <a:moveTo>
                          <a:pt x="81" y="0"/>
                        </a:moveTo>
                        <a:lnTo>
                          <a:pt x="116" y="11"/>
                        </a:lnTo>
                        <a:lnTo>
                          <a:pt x="116" y="48"/>
                        </a:lnTo>
                        <a:lnTo>
                          <a:pt x="137" y="95"/>
                        </a:lnTo>
                        <a:lnTo>
                          <a:pt x="148" y="155"/>
                        </a:lnTo>
                        <a:lnTo>
                          <a:pt x="148" y="191"/>
                        </a:lnTo>
                        <a:lnTo>
                          <a:pt x="126" y="227"/>
                        </a:lnTo>
                        <a:lnTo>
                          <a:pt x="84" y="251"/>
                        </a:lnTo>
                        <a:lnTo>
                          <a:pt x="42" y="262"/>
                        </a:lnTo>
                        <a:lnTo>
                          <a:pt x="32" y="299"/>
                        </a:lnTo>
                        <a:lnTo>
                          <a:pt x="0" y="347"/>
                        </a:lnTo>
                        <a:lnTo>
                          <a:pt x="0" y="394"/>
                        </a:lnTo>
                        <a:lnTo>
                          <a:pt x="0" y="431"/>
                        </a:lnTo>
                        <a:lnTo>
                          <a:pt x="32" y="442"/>
                        </a:lnTo>
                        <a:lnTo>
                          <a:pt x="42" y="478"/>
                        </a:lnTo>
                        <a:lnTo>
                          <a:pt x="74" y="490"/>
                        </a:lnTo>
                        <a:lnTo>
                          <a:pt x="105" y="526"/>
                        </a:lnTo>
                        <a:lnTo>
                          <a:pt x="137" y="550"/>
                        </a:lnTo>
                        <a:lnTo>
                          <a:pt x="158" y="598"/>
                        </a:lnTo>
                        <a:lnTo>
                          <a:pt x="158" y="645"/>
                        </a:lnTo>
                        <a:lnTo>
                          <a:pt x="158" y="682"/>
                        </a:lnTo>
                        <a:lnTo>
                          <a:pt x="137" y="729"/>
                        </a:lnTo>
                        <a:lnTo>
                          <a:pt x="95" y="765"/>
                        </a:lnTo>
                        <a:lnTo>
                          <a:pt x="53" y="812"/>
                        </a:lnTo>
                        <a:lnTo>
                          <a:pt x="42" y="849"/>
                        </a:lnTo>
                        <a:lnTo>
                          <a:pt x="42" y="896"/>
                        </a:lnTo>
                        <a:lnTo>
                          <a:pt x="42" y="944"/>
                        </a:lnTo>
                        <a:lnTo>
                          <a:pt x="42" y="981"/>
                        </a:lnTo>
                        <a:lnTo>
                          <a:pt x="74" y="1016"/>
                        </a:lnTo>
                        <a:lnTo>
                          <a:pt x="105" y="1052"/>
                        </a:lnTo>
                        <a:lnTo>
                          <a:pt x="137" y="1087"/>
                        </a:lnTo>
                        <a:lnTo>
                          <a:pt x="158" y="1136"/>
                        </a:lnTo>
                        <a:lnTo>
                          <a:pt x="169" y="1184"/>
                        </a:lnTo>
                        <a:lnTo>
                          <a:pt x="169" y="1232"/>
                        </a:lnTo>
                        <a:lnTo>
                          <a:pt x="169" y="1291"/>
                        </a:lnTo>
                        <a:lnTo>
                          <a:pt x="158" y="1327"/>
                        </a:lnTo>
                        <a:lnTo>
                          <a:pt x="126" y="1351"/>
                        </a:lnTo>
                        <a:lnTo>
                          <a:pt x="105" y="1387"/>
                        </a:lnTo>
                        <a:lnTo>
                          <a:pt x="63" y="1399"/>
                        </a:lnTo>
                        <a:lnTo>
                          <a:pt x="53" y="1435"/>
                        </a:lnTo>
                        <a:lnTo>
                          <a:pt x="42" y="1494"/>
                        </a:lnTo>
                        <a:lnTo>
                          <a:pt x="32" y="1530"/>
                        </a:lnTo>
                        <a:lnTo>
                          <a:pt x="63" y="1567"/>
                        </a:lnTo>
                        <a:lnTo>
                          <a:pt x="84" y="1614"/>
                        </a:lnTo>
                        <a:lnTo>
                          <a:pt x="116" y="1638"/>
                        </a:lnTo>
                        <a:lnTo>
                          <a:pt x="148" y="1662"/>
                        </a:lnTo>
                        <a:lnTo>
                          <a:pt x="158" y="1721"/>
                        </a:lnTo>
                        <a:lnTo>
                          <a:pt x="158" y="1758"/>
                        </a:lnTo>
                        <a:lnTo>
                          <a:pt x="158" y="1794"/>
                        </a:lnTo>
                        <a:lnTo>
                          <a:pt x="126" y="1829"/>
                        </a:lnTo>
                        <a:lnTo>
                          <a:pt x="116" y="1866"/>
                        </a:lnTo>
                        <a:lnTo>
                          <a:pt x="84" y="1877"/>
                        </a:lnTo>
                        <a:lnTo>
                          <a:pt x="53" y="1913"/>
                        </a:lnTo>
                        <a:lnTo>
                          <a:pt x="42" y="1961"/>
                        </a:lnTo>
                        <a:lnTo>
                          <a:pt x="42" y="2009"/>
                        </a:lnTo>
                        <a:lnTo>
                          <a:pt x="42" y="2045"/>
                        </a:lnTo>
                        <a:lnTo>
                          <a:pt x="74" y="2069"/>
                        </a:lnTo>
                        <a:lnTo>
                          <a:pt x="116" y="2104"/>
                        </a:lnTo>
                        <a:lnTo>
                          <a:pt x="148" y="2117"/>
                        </a:lnTo>
                        <a:lnTo>
                          <a:pt x="200" y="2164"/>
                        </a:lnTo>
                        <a:lnTo>
                          <a:pt x="211" y="2212"/>
                        </a:lnTo>
                        <a:lnTo>
                          <a:pt x="211" y="2248"/>
                        </a:lnTo>
                        <a:lnTo>
                          <a:pt x="179" y="2272"/>
                        </a:lnTo>
                        <a:lnTo>
                          <a:pt x="137" y="2308"/>
                        </a:lnTo>
                        <a:lnTo>
                          <a:pt x="126" y="2344"/>
                        </a:lnTo>
                        <a:lnTo>
                          <a:pt x="105" y="2392"/>
                        </a:lnTo>
                        <a:lnTo>
                          <a:pt x="53" y="2403"/>
                        </a:lnTo>
                        <a:lnTo>
                          <a:pt x="81"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330520" y="3450960"/>
                    <a:ext cx="187920" cy="2699640"/>
                  </a:xfrm>
                  <a:custGeom>
                    <a:avLst/>
                    <a:gdLst/>
                    <a:ahLst/>
                    <a:rect l="l" t="t" r="r" b="b"/>
                    <a:pathLst>
                      <a:path w="212" h="2404">
                        <a:moveTo>
                          <a:pt x="130" y="0"/>
                        </a:moveTo>
                        <a:lnTo>
                          <a:pt x="95" y="11"/>
                        </a:lnTo>
                        <a:lnTo>
                          <a:pt x="95" y="48"/>
                        </a:lnTo>
                        <a:lnTo>
                          <a:pt x="74" y="95"/>
                        </a:lnTo>
                        <a:lnTo>
                          <a:pt x="63" y="155"/>
                        </a:lnTo>
                        <a:lnTo>
                          <a:pt x="63" y="191"/>
                        </a:lnTo>
                        <a:lnTo>
                          <a:pt x="85" y="227"/>
                        </a:lnTo>
                        <a:lnTo>
                          <a:pt x="127" y="251"/>
                        </a:lnTo>
                        <a:lnTo>
                          <a:pt x="169" y="262"/>
                        </a:lnTo>
                        <a:lnTo>
                          <a:pt x="179" y="299"/>
                        </a:lnTo>
                        <a:lnTo>
                          <a:pt x="211" y="347"/>
                        </a:lnTo>
                        <a:lnTo>
                          <a:pt x="211" y="394"/>
                        </a:lnTo>
                        <a:lnTo>
                          <a:pt x="211" y="431"/>
                        </a:lnTo>
                        <a:lnTo>
                          <a:pt x="179" y="442"/>
                        </a:lnTo>
                        <a:lnTo>
                          <a:pt x="169" y="478"/>
                        </a:lnTo>
                        <a:lnTo>
                          <a:pt x="137" y="490"/>
                        </a:lnTo>
                        <a:lnTo>
                          <a:pt x="106" y="526"/>
                        </a:lnTo>
                        <a:lnTo>
                          <a:pt x="74" y="550"/>
                        </a:lnTo>
                        <a:lnTo>
                          <a:pt x="53" y="598"/>
                        </a:lnTo>
                        <a:lnTo>
                          <a:pt x="53" y="645"/>
                        </a:lnTo>
                        <a:lnTo>
                          <a:pt x="53" y="682"/>
                        </a:lnTo>
                        <a:lnTo>
                          <a:pt x="74" y="729"/>
                        </a:lnTo>
                        <a:lnTo>
                          <a:pt x="116" y="765"/>
                        </a:lnTo>
                        <a:lnTo>
                          <a:pt x="158" y="812"/>
                        </a:lnTo>
                        <a:lnTo>
                          <a:pt x="169" y="849"/>
                        </a:lnTo>
                        <a:lnTo>
                          <a:pt x="169" y="896"/>
                        </a:lnTo>
                        <a:lnTo>
                          <a:pt x="169" y="944"/>
                        </a:lnTo>
                        <a:lnTo>
                          <a:pt x="169" y="981"/>
                        </a:lnTo>
                        <a:lnTo>
                          <a:pt x="137" y="1016"/>
                        </a:lnTo>
                        <a:lnTo>
                          <a:pt x="106" y="1052"/>
                        </a:lnTo>
                        <a:lnTo>
                          <a:pt x="74" y="1087"/>
                        </a:lnTo>
                        <a:lnTo>
                          <a:pt x="53" y="1136"/>
                        </a:lnTo>
                        <a:lnTo>
                          <a:pt x="42" y="1184"/>
                        </a:lnTo>
                        <a:lnTo>
                          <a:pt x="42" y="1232"/>
                        </a:lnTo>
                        <a:lnTo>
                          <a:pt x="42" y="1291"/>
                        </a:lnTo>
                        <a:lnTo>
                          <a:pt x="53" y="1327"/>
                        </a:lnTo>
                        <a:lnTo>
                          <a:pt x="85" y="1351"/>
                        </a:lnTo>
                        <a:lnTo>
                          <a:pt x="106" y="1387"/>
                        </a:lnTo>
                        <a:lnTo>
                          <a:pt x="148" y="1399"/>
                        </a:lnTo>
                        <a:lnTo>
                          <a:pt x="158" y="1435"/>
                        </a:lnTo>
                        <a:lnTo>
                          <a:pt x="169" y="1494"/>
                        </a:lnTo>
                        <a:lnTo>
                          <a:pt x="179" y="1530"/>
                        </a:lnTo>
                        <a:lnTo>
                          <a:pt x="148" y="1567"/>
                        </a:lnTo>
                        <a:lnTo>
                          <a:pt x="127" y="1614"/>
                        </a:lnTo>
                        <a:lnTo>
                          <a:pt x="95" y="1638"/>
                        </a:lnTo>
                        <a:lnTo>
                          <a:pt x="63" y="1662"/>
                        </a:lnTo>
                        <a:lnTo>
                          <a:pt x="53" y="1721"/>
                        </a:lnTo>
                        <a:lnTo>
                          <a:pt x="53" y="1758"/>
                        </a:lnTo>
                        <a:lnTo>
                          <a:pt x="53" y="1794"/>
                        </a:lnTo>
                        <a:lnTo>
                          <a:pt x="85" y="1829"/>
                        </a:lnTo>
                        <a:lnTo>
                          <a:pt x="95" y="1866"/>
                        </a:lnTo>
                        <a:lnTo>
                          <a:pt x="127" y="1877"/>
                        </a:lnTo>
                        <a:lnTo>
                          <a:pt x="158" y="1913"/>
                        </a:lnTo>
                        <a:lnTo>
                          <a:pt x="169" y="1961"/>
                        </a:lnTo>
                        <a:lnTo>
                          <a:pt x="169" y="2009"/>
                        </a:lnTo>
                        <a:lnTo>
                          <a:pt x="169" y="2045"/>
                        </a:lnTo>
                        <a:lnTo>
                          <a:pt x="137" y="2069"/>
                        </a:lnTo>
                        <a:lnTo>
                          <a:pt x="95" y="2104"/>
                        </a:lnTo>
                        <a:lnTo>
                          <a:pt x="63" y="2117"/>
                        </a:lnTo>
                        <a:lnTo>
                          <a:pt x="11" y="2164"/>
                        </a:lnTo>
                        <a:lnTo>
                          <a:pt x="0" y="2212"/>
                        </a:lnTo>
                        <a:lnTo>
                          <a:pt x="0" y="2248"/>
                        </a:lnTo>
                        <a:lnTo>
                          <a:pt x="32" y="2272"/>
                        </a:lnTo>
                        <a:lnTo>
                          <a:pt x="74" y="2308"/>
                        </a:lnTo>
                        <a:lnTo>
                          <a:pt x="85" y="2344"/>
                        </a:lnTo>
                        <a:lnTo>
                          <a:pt x="106" y="2392"/>
                        </a:lnTo>
                        <a:lnTo>
                          <a:pt x="158" y="2403"/>
                        </a:lnTo>
                        <a:lnTo>
                          <a:pt x="130"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244480" y="3774240"/>
                    <a:ext cx="187920" cy="23760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160240" y="3774240"/>
                    <a:ext cx="187920" cy="23760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755320" y="3774240"/>
                    <a:ext cx="187920" cy="23760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5468760" y="3181320"/>
                  <a:ext cx="84960" cy="404280"/>
                </a:xfrm>
                <a:custGeom>
                  <a:avLst/>
                  <a:gdLst/>
                  <a:ahLst/>
                  <a:rect l="l" t="t" r="r" b="b"/>
                  <a:pathLst>
                    <a:path w="96" h="360">
                      <a:moveTo>
                        <a:pt x="70" y="0"/>
                      </a:moveTo>
                      <a:lnTo>
                        <a:pt x="32" y="11"/>
                      </a:lnTo>
                      <a:lnTo>
                        <a:pt x="21" y="43"/>
                      </a:lnTo>
                      <a:lnTo>
                        <a:pt x="21" y="75"/>
                      </a:lnTo>
                      <a:lnTo>
                        <a:pt x="0" y="117"/>
                      </a:lnTo>
                      <a:lnTo>
                        <a:pt x="11" y="159"/>
                      </a:lnTo>
                      <a:lnTo>
                        <a:pt x="21" y="201"/>
                      </a:lnTo>
                      <a:lnTo>
                        <a:pt x="42" y="243"/>
                      </a:lnTo>
                      <a:lnTo>
                        <a:pt x="53" y="275"/>
                      </a:lnTo>
                      <a:lnTo>
                        <a:pt x="53" y="317"/>
                      </a:lnTo>
                      <a:lnTo>
                        <a:pt x="95" y="359"/>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553360" y="3181320"/>
                  <a:ext cx="84960" cy="404280"/>
                </a:xfrm>
                <a:custGeom>
                  <a:avLst/>
                  <a:gdLst/>
                  <a:ahLst/>
                  <a:rect l="l" t="t" r="r" b="b"/>
                  <a:pathLst>
                    <a:path w="96" h="360">
                      <a:moveTo>
                        <a:pt x="25" y="0"/>
                      </a:moveTo>
                      <a:lnTo>
                        <a:pt x="63" y="11"/>
                      </a:lnTo>
                      <a:lnTo>
                        <a:pt x="74" y="43"/>
                      </a:lnTo>
                      <a:lnTo>
                        <a:pt x="74" y="75"/>
                      </a:lnTo>
                      <a:lnTo>
                        <a:pt x="95" y="117"/>
                      </a:lnTo>
                      <a:lnTo>
                        <a:pt x="84" y="159"/>
                      </a:lnTo>
                      <a:lnTo>
                        <a:pt x="74" y="201"/>
                      </a:lnTo>
                      <a:lnTo>
                        <a:pt x="53" y="243"/>
                      </a:lnTo>
                      <a:lnTo>
                        <a:pt x="42" y="275"/>
                      </a:lnTo>
                      <a:lnTo>
                        <a:pt x="42" y="317"/>
                      </a:lnTo>
                      <a:lnTo>
                        <a:pt x="0" y="359"/>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5105520" y="3047760"/>
                <a:ext cx="913680" cy="3123720"/>
                <a:chOff x="5105520" y="3047760"/>
                <a:chExt cx="913680" cy="3123720"/>
              </a:xfrm>
            </p:grpSpPr>
            <p:sp>
              <p:nvSpPr>
                <p:cNvPr id="187" name=""/>
                <p:cNvSpPr/>
                <p:nvPr/>
              </p:nvSpPr>
              <p:spPr>
                <a:xfrm flipV="1">
                  <a:off x="5105520" y="3694320"/>
                  <a:ext cx="0" cy="247716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999400" y="3694320"/>
                  <a:ext cx="0" cy="247716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127480" y="3047760"/>
                  <a:ext cx="338760" cy="6980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a:off x="5595480" y="3047760"/>
                  <a:ext cx="423720" cy="6980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11600" y="3073680"/>
                  <a:ext cx="8316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2" name=""/>
            <p:cNvGrpSpPr/>
            <p:nvPr/>
          </p:nvGrpSpPr>
          <p:grpSpPr>
            <a:xfrm>
              <a:off x="5105520" y="914400"/>
              <a:ext cx="1980720" cy="1600200"/>
              <a:chOff x="5105520" y="914400"/>
              <a:chExt cx="1980720" cy="1600200"/>
            </a:xfrm>
          </p:grpSpPr>
          <p:grpSp>
            <p:nvGrpSpPr>
              <p:cNvPr id="193" name=""/>
              <p:cNvGrpSpPr/>
              <p:nvPr/>
            </p:nvGrpSpPr>
            <p:grpSpPr>
              <a:xfrm>
                <a:off x="5715000" y="914400"/>
                <a:ext cx="1371240" cy="1447920"/>
                <a:chOff x="5715000" y="914400"/>
                <a:chExt cx="1371240" cy="1447920"/>
              </a:xfrm>
            </p:grpSpPr>
            <p:sp>
              <p:nvSpPr>
                <p:cNvPr id="194" name=""/>
                <p:cNvSpPr/>
                <p:nvPr/>
              </p:nvSpPr>
              <p:spPr>
                <a:xfrm>
                  <a:off x="5715000" y="914400"/>
                  <a:ext cx="1371240" cy="1447920"/>
                </a:xfrm>
                <a:prstGeom prst="irregularSeal1">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121440" y="1363680"/>
                  <a:ext cx="507600" cy="449280"/>
                </a:xfrm>
                <a:prstGeom prst="ellipse">
                  <a:avLst/>
                </a:pr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105520" y="1566720"/>
                <a:ext cx="712080" cy="947880"/>
                <a:chOff x="5105520" y="1566720"/>
                <a:chExt cx="712080" cy="947880"/>
              </a:xfrm>
            </p:grpSpPr>
            <p:sp>
              <p:nvSpPr>
                <p:cNvPr id="197" name=""/>
                <p:cNvSpPr/>
                <p:nvPr/>
              </p:nvSpPr>
              <p:spPr>
                <a:xfrm>
                  <a:off x="5289120" y="1685880"/>
                  <a:ext cx="22356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441760" y="1990800"/>
                  <a:ext cx="223200" cy="49032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594040" y="1566720"/>
                  <a:ext cx="22356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05520" y="2023920"/>
                  <a:ext cx="22320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1" name=""/>
            <p:cNvSpPr/>
            <p:nvPr/>
          </p:nvSpPr>
          <p:spPr>
            <a:xfrm>
              <a:off x="5105520" y="281952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257800" y="28195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10080" y="2819520"/>
              <a:ext cx="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562720" y="2743200"/>
              <a:ext cx="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715000" y="28195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867280" y="281952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19920" y="28195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48520" y="28195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00800" y="28195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553080" y="2819520"/>
              <a:ext cx="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05720" y="28195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858000" y="28195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010280" y="281952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62920" y="2819520"/>
              <a:ext cx="0" cy="990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952880" y="2819520"/>
              <a:ext cx="0" cy="990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6465960" y="6324480"/>
            <a:ext cx="2570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and Crowe (1994)</a:t>
            </a:r>
            <a:endParaRPr b="0" lang="en-US" sz="1200" spc="-1" strike="noStrike">
              <a:solidFill>
                <a:srgbClr val="000000"/>
              </a:solidFill>
              <a:latin typeface="Times New Roman"/>
            </a:endParaRPr>
          </a:p>
        </p:txBody>
      </p:sp>
      <p:sp>
        <p:nvSpPr>
          <p:cNvPr id="2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tip shape</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6465960" y="6324480"/>
            <a:ext cx="2570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and Crowe (1994)</a:t>
            </a:r>
            <a:endParaRPr b="0" lang="en-US" sz="1200" spc="-1" strike="noStrike">
              <a:solidFill>
                <a:srgbClr val="000000"/>
              </a:solidFill>
              <a:latin typeface="Times New Roman"/>
            </a:endParaRPr>
          </a:p>
        </p:txBody>
      </p:sp>
      <p:sp>
        <p:nvSpPr>
          <p:cNvPr id="2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rder of importance:</a:t>
            </a:r>
            <a:endParaRPr b="1" lang="en-US" sz="3200" spc="-1" strike="noStrike">
              <a:solidFill>
                <a:srgbClr val="fafd00"/>
              </a:solidFill>
              <a:latin typeface="Arial"/>
            </a:endParaRPr>
          </a:p>
        </p:txBody>
      </p:sp>
      <p:sp>
        <p:nvSpPr>
          <p:cNvPr id="22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a:t>
            </a:r>
            <a:r>
              <a:rPr b="1" lang="en-GB" sz="2800" spc="-1" strike="noStrike">
                <a:solidFill>
                  <a:srgbClr val="ffffff"/>
                </a:solidFill>
                <a:latin typeface="Arial"/>
              </a:rPr>
              <a:t> Overall colour/brightness of greasy wool, weathered tip and dust regions</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a:t>
            </a:r>
            <a:r>
              <a:rPr b="1" lang="en-GB" sz="2800" spc="-1" strike="noStrike">
                <a:solidFill>
                  <a:srgbClr val="ffffff"/>
                </a:solidFill>
                <a:latin typeface="Arial"/>
              </a:rPr>
              <a:t> Relative amounts of weathering, dust and wool areas</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3.</a:t>
            </a:r>
            <a:r>
              <a:rPr b="1" lang="en-GB" sz="2800" spc="-1" strike="noStrike">
                <a:solidFill>
                  <a:srgbClr val="ffffff"/>
                </a:solidFill>
                <a:latin typeface="Arial"/>
              </a:rPr>
              <a:t> Intensity of colour of weathered area and crimp structur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4.</a:t>
            </a:r>
            <a:r>
              <a:rPr b="1" lang="en-GB" sz="2800" spc="-1" strike="noStrike">
                <a:solidFill>
                  <a:srgbClr val="ffffff"/>
                </a:solidFill>
                <a:latin typeface="Arial"/>
              </a:rPr>
              <a:t> Tip structur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56:57Z</dcterms:created>
  <dc:creator>USER</dc:creator>
  <dc:description/>
  <dc:language>en-US</dc:language>
  <cp:lastModifiedBy>Hdaily</cp:lastModifiedBy>
  <cp:lastPrinted>2000-02-03T09:09:47Z</cp:lastPrinted>
  <dcterms:modified xsi:type="dcterms:W3CDTF">2000-06-21T05:21:04Z</dcterms:modified>
  <cp:revision>4</cp:revision>
  <dc:subject/>
  <dc:title>The Components of Style</dc:title>
</cp:coreProperties>
</file>