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2294-1D30-48D8-9DFF-BF025A29D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8BCE-060F-4F82-9CFD-CAD01FFDC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conventional and future (novel) strategies whereby gastrointestinal nematode infections can be controlled.  It also summarises the key features of control prog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3F3D-F196-4171-B677-9532ACB0A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elmintics represent the major strategy that has been employed in controlling nematode infection.  A range of treatments exist on the market, including both narrow- (species specific) and broad- (control a number of species) spectrum drenches.  The broad-spectrum drenches are normally effective against </a:t>
            </a:r>
            <a:r>
              <a:rPr b="0" i="1" lang="en-US" sz="1200" spc="-1" strike="noStrike">
                <a:solidFill>
                  <a:srgbClr val="000000"/>
                </a:solidFill>
                <a:latin typeface="Times New Roman"/>
              </a:rPr>
              <a:t>Haemonchus</a:t>
            </a:r>
            <a:r>
              <a:rPr b="0" lang="en-US" sz="1200" spc="-1" strike="noStrike">
                <a:solidFill>
                  <a:srgbClr val="000000"/>
                </a:solidFill>
                <a:latin typeface="Times New Roman"/>
              </a:rPr>
              <a:t>, </a:t>
            </a:r>
            <a:r>
              <a:rPr b="0" i="1" lang="en-US" sz="1200" spc="-1" strike="noStrike">
                <a:solidFill>
                  <a:srgbClr val="000000"/>
                </a:solidFill>
                <a:latin typeface="Times New Roman"/>
              </a:rPr>
              <a:t>Trichostrongylus</a:t>
            </a:r>
            <a:r>
              <a:rPr b="0" lang="en-US" sz="1200" spc="-1" strike="noStrike">
                <a:solidFill>
                  <a:srgbClr val="000000"/>
                </a:solidFill>
                <a:latin typeface="Times New Roman"/>
              </a:rPr>
              <a:t>, </a:t>
            </a:r>
            <a:r>
              <a:rPr b="0" i="1" lang="en-US" sz="1200" spc="-1" strike="noStrike">
                <a:solidFill>
                  <a:srgbClr val="000000"/>
                </a:solidFill>
                <a:latin typeface="Times New Roman"/>
              </a:rPr>
              <a:t>Ostertagia</a:t>
            </a:r>
            <a:r>
              <a:rPr b="0" lang="en-US" sz="1200" spc="-1" strike="noStrike">
                <a:solidFill>
                  <a:srgbClr val="000000"/>
                </a:solidFill>
                <a:latin typeface="Times New Roman"/>
              </a:rPr>
              <a:t> and </a:t>
            </a:r>
            <a:r>
              <a:rPr b="0" i="1" lang="en-US" sz="1200" spc="-1" strike="noStrike">
                <a:solidFill>
                  <a:srgbClr val="000000"/>
                </a:solidFill>
                <a:latin typeface="Times New Roman"/>
              </a:rPr>
              <a:t>Nematodirus</a:t>
            </a:r>
            <a:r>
              <a:rPr b="0" lang="en-US" sz="1200" spc="-1" strike="noStrike">
                <a:solidFill>
                  <a:srgbClr val="000000"/>
                </a:solidFill>
                <a:latin typeface="Times New Roman"/>
              </a:rPr>
              <a:t>, and include white drenches (benzimidazole group), clear drenches (levamisole group) and ivermectin.  Anthelmintics may be administered orally via drenching or intra-rumenally via sustained release de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road approaches to the use of anthelmintics.  The curative approach involves treatment only when clinical signs are apparent.  The tactical approach bases the decision to treat on weather conditions favourable for the parasite.  The strategic approach entails a fixed number of treatments at specified times to delay the seasonal buildup in worm numbers.  The suppressive approach uses regular treatment at fixed time intervals (e.g. monthly) throughout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growing anthelmintic resistance suggests that chemical-based control strategies are unlikely to be sustainable in the long-term, unless new anthelmintics are developed (and this is highly question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zing stock on non-contaminated pastures or on crop residues also diminishes the opportunity for infection. However, spelling of pastures in the hope of reducing the population of infective larvae is of limited use.  In winter rainfall areas, larvae readily survive during autumn to spring, so spelling a paddock at this time is unlikely to affect contamin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0F1E-E0C8-46BB-97B3-F31062032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key features of nematode control programs.</a:t>
            </a:r>
            <a:endParaRPr b="0" lang="en-US" sz="1200" spc="-1" strike="noStrike">
              <a:solidFill>
                <a:srgbClr val="000000"/>
              </a:solidFill>
              <a:latin typeface="Times New Roman"/>
            </a:endParaRPr>
          </a:p>
        </p:txBody>
      </p:sp>
      <p:sp>
        <p:nvSpPr>
          <p:cNvPr id="69"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9017-E4A4-414F-B900-F877E36C7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potential strategies for improving host resistant to nematode infection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Breeding for increased genetic resistance</a:t>
            </a:r>
            <a:r>
              <a:rPr b="0" lang="en-AU" sz="1200" spc="-1" strike="noStrike">
                <a:solidFill>
                  <a:srgbClr val="000000"/>
                </a:solidFill>
                <a:latin typeface="Times New Roman"/>
              </a:rPr>
              <a:t> - by placing greater emphasis on resistance to gastroinestinal nematodes in the breeding objective (heritability of 0.2-0.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Strategic use of nutrition</a:t>
            </a:r>
            <a:r>
              <a:rPr b="0" lang="en-AU" sz="1200" spc="-1" strike="noStrike">
                <a:solidFill>
                  <a:srgbClr val="000000"/>
                </a:solidFill>
                <a:latin typeface="Times New Roman"/>
              </a:rPr>
              <a:t> - the provision of protein supplements during peak infection periods can be used to increase the resilience of stock to infection, giving lower faecal egg counts and sub-clinical losses; this improved nutrition can also have beneficial carry-over effects during subsequent periods of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Vaccination</a:t>
            </a:r>
            <a:r>
              <a:rPr b="0" lang="en-AU" sz="1200" spc="-1" strike="noStrike">
                <a:solidFill>
                  <a:srgbClr val="000000"/>
                </a:solidFill>
                <a:latin typeface="Times New Roman"/>
              </a:rPr>
              <a:t> - this is still a long way off despite much work; the only effective nematode vaccine developed is against lungworm in ca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control of the free-living larval stage holds great potential.  The most promising candidate appears to be </a:t>
            </a:r>
            <a:r>
              <a:rPr b="0" i="1" lang="en-AU" sz="1200" spc="-1" strike="noStrike">
                <a:solidFill>
                  <a:srgbClr val="000000"/>
                </a:solidFill>
                <a:latin typeface="Times New Roman"/>
              </a:rPr>
              <a:t>Duddingtonia flagrans</a:t>
            </a:r>
            <a:r>
              <a:rPr b="0" lang="en-AU" sz="1200" spc="-1" strike="noStrike">
                <a:solidFill>
                  <a:srgbClr val="000000"/>
                </a:solidFill>
                <a:latin typeface="Times New Roman"/>
              </a:rPr>
              <a:t>, a net-trapping, nematode destroying fungus.  These organisms normally feed on a range of free-living soil nematodes.  It has been shown that the fungal spores can survive passage through the gastrointestinal tract, significantly reducing worm burdens in the host, the number of infective larvae that develop in the faeces and the level of contamination of pastures.  The aim is to achieve reductions in clinical and subclinical diseases while also stimulating development of acquired immunity in young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Strategies for Controlling Gastrointestinal Nematode Infections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Control Measures </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arasite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helmintic treat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 vs broadspectru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major broadspectrum classes (levamisole, benzimidazole, macrocyclic lacto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ressive, </a:t>
            </a:r>
            <a:r>
              <a:rPr b="1" lang="en-GB" sz="2000" spc="-1" strike="noStrike" u="sng">
                <a:solidFill>
                  <a:srgbClr val="ffffff"/>
                </a:solidFill>
                <a:uFillTx/>
                <a:latin typeface="Arial"/>
              </a:rPr>
              <a:t>strategic</a:t>
            </a:r>
            <a:r>
              <a:rPr b="1" lang="en-GB" sz="2000" spc="-1" strike="noStrike">
                <a:solidFill>
                  <a:srgbClr val="ffffff"/>
                </a:solidFill>
                <a:latin typeface="Arial"/>
              </a:rPr>
              <a:t>, tactical, curative treatm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sustained release dev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helmintic resistance - HUGE PROBLEM</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zing manag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spelling - limited u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stubbles and sown pastures and fodder cr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non-susceptible animals (cattle, dry sheep)</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Key features of control program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im to reduce pasture contamination</a:t>
            </a:r>
            <a:endParaRPr b="1" lang="en-US" sz="24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lambing drench to reduce peri-parturient rise in egg count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mb onto clean pasture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weaners at weaning</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adult sheep when environmental conditions are the most adverse for worm development (e.g. summer drenches in winter rainfall areas), and/or prior to a seasonal increase</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se immune stock to “clean up” infected pastures </a:t>
            </a:r>
            <a:endParaRPr b="1" lang="en-US" sz="18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im to slow development of anthelmintic resistance</a:t>
            </a:r>
            <a:endParaRPr b="1" lang="en-US" sz="24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eep drench frequency to a minimum</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tate the use of major broad spectrum group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se of narrow spectrum drenches where possible</a:t>
            </a:r>
            <a:endParaRPr b="1" lang="en-US" sz="18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Monitor progress by measuring faecal egg counts and drench resistanc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 Novel Control Measur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d use of genetic selection for resist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tegic use of improved 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ccination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nviron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logical control using nematophagus fungi</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55:52Z</dcterms:created>
  <dc:creator>USER</dc:creator>
  <dc:description/>
  <dc:language>en-US</dc:language>
  <cp:lastModifiedBy>Hdaily</cp:lastModifiedBy>
  <cp:lastPrinted>2000-02-03T09:09:47Z</cp:lastPrinted>
  <dcterms:modified xsi:type="dcterms:W3CDTF">2000-06-20T01:53:15Z</dcterms:modified>
  <cp:revision>3</cp:revision>
  <dc:subject/>
  <dc:title>  Strategies for Controlling Gastrointestinal Nematode Infections in Sheep</dc:title>
</cp:coreProperties>
</file>