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8F08-E9B9-4FF6-BA3E-52437FF43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71BE-DDEB-4B16-AE4D-3D6675B63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mechanisms of generalised or systemic disease.  In particular, it focuses on stress responses and considers how these responses impact on sheep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ECE7-3285-4D46-9F89-4DC101076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 spectrum of behaviours can be affected depending on the stressor involved.  If the net effect is reduced feed intake, then it compounds the effects of stress hormo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vated secretion of glucocorticoids is a response to more chronic types of stress.  In sheep, the active glucocorticoid is cortisol, produced by the adrenal 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vated secretion of catecholamines (adrenaline and noradrenaline) from the adrenal medulla in response to acute stress.  They also act as neurotransmitters involved in both the central and autonomic nervous systems, influencing blood flow (especially to the skin) and heart beat.  Thus they can have a direct effect on wool growth by constricting the supply of circulating nutrients available to the wool follicle.  These direct effects on wool growth are relatively short l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sympathetic tone can also result, inducing vasoconstriction in peripheral tissues and vasodilation in central tissues.  But it is difficult to differentiate these responses from those arising from increased catecholamine secre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9487-A97D-4D5B-825D-E05692120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erguson, K.A., Wallace, A.L.C. and Lindner, H.R. (1965) Hormonal regulation of wool growth. Biology of the skin and hair growth, proceedings of a symposium held in Canberra, Australia, August 1964,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depression in wool growth arising from increased concentrations in cortisol (above normal physiological levels) using adrenalectomised sheep.  The lower solid line represents the concentration of cortisol administered to treated animals, the upper solid line represents the wool growth rate of treated animals and the dotted line represents the wool growth rate of adrenalectomised sheep receiving normal concentrations of cortis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concentrations of cortisol are required for normal wool growth.  But high concentrations of cortisol or its analogues, depress wool growth in vivo.  At very high doses, cessation of wool growth can occur.  Concentrations of cortisol need to be elevated for at least 24 hours to depress wool growth.  Thus short sharp stressors are not sufficient to cause a break in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part of this effect of cortisol on wool growth is direct and not due to changes in metabolite concentrations induced by glucocortic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B258-FD22-4816-BB3C-49C0D3D9E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comprise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cortisol levels throughout the experiment are shown in the figure above.  The struck group showed marked elevation of cortisol throughout the infection period, whereas cortisol levels remained relatively stable in the control and pair-fed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dicates a specific stress response as a result of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Mechanisms of</a:t>
            </a:r>
            <a:br>
              <a:rPr sz="3200"/>
            </a:br>
            <a:r>
              <a:rPr b="1" lang="en-GB" sz="3200" spc="-1" strike="noStrike">
                <a:solidFill>
                  <a:srgbClr val="fafd00"/>
                </a:solidFill>
                <a:latin typeface="Arial"/>
              </a:rPr>
              <a:t>Generalised (Systemic) Disease:</a:t>
            </a:r>
            <a:br>
              <a:rPr sz="3200"/>
            </a:br>
            <a:r>
              <a:rPr b="1" lang="en-GB" sz="3200" spc="-1" strike="noStrike">
                <a:solidFill>
                  <a:srgbClr val="fafd00"/>
                </a:solidFill>
                <a:latin typeface="Arial"/>
              </a:rPr>
              <a:t>The Stress Response</a:t>
            </a:r>
            <a:br>
              <a:rPr sz="3200"/>
            </a:b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the stress respons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tered behaviou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ucocorticoid secretion (cortis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techolamine secretion (adrenaline and noradrena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d sympathetic ton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19320" y="1811880"/>
            <a:ext cx="7848360" cy="4134960"/>
            <a:chOff x="1219320" y="1811880"/>
            <a:chExt cx="7848360" cy="4134960"/>
          </a:xfrm>
        </p:grpSpPr>
        <p:sp>
          <p:nvSpPr>
            <p:cNvPr id="53" name=""/>
            <p:cNvSpPr/>
            <p:nvPr/>
          </p:nvSpPr>
          <p:spPr>
            <a:xfrm>
              <a:off x="1219320" y="1828800"/>
              <a:ext cx="7848360" cy="410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339920" y="1811880"/>
              <a:ext cx="7645680" cy="4134960"/>
              <a:chOff x="1339920" y="1811880"/>
              <a:chExt cx="7645680" cy="4134960"/>
            </a:xfrm>
          </p:grpSpPr>
          <p:sp>
            <p:nvSpPr>
              <p:cNvPr id="55" name=""/>
              <p:cNvSpPr/>
              <p:nvPr/>
            </p:nvSpPr>
            <p:spPr>
              <a:xfrm>
                <a:off x="2114640" y="4210200"/>
                <a:ext cx="5384880" cy="587160"/>
              </a:xfrm>
              <a:custGeom>
                <a:avLst/>
                <a:gdLst/>
                <a:ahLst/>
                <a:rect l="l" t="t" r="r" b="b"/>
                <a:pathLst>
                  <a:path w="3517" h="370">
                    <a:moveTo>
                      <a:pt x="0" y="369"/>
                    </a:moveTo>
                    <a:lnTo>
                      <a:pt x="524" y="369"/>
                    </a:lnTo>
                    <a:lnTo>
                      <a:pt x="524" y="156"/>
                    </a:lnTo>
                    <a:lnTo>
                      <a:pt x="806" y="156"/>
                    </a:lnTo>
                    <a:lnTo>
                      <a:pt x="806" y="0"/>
                    </a:lnTo>
                    <a:lnTo>
                      <a:pt x="1097" y="0"/>
                    </a:lnTo>
                    <a:lnTo>
                      <a:pt x="1165" y="369"/>
                    </a:lnTo>
                    <a:lnTo>
                      <a:pt x="1612" y="369"/>
                    </a:lnTo>
                    <a:lnTo>
                      <a:pt x="1612" y="292"/>
                    </a:lnTo>
                    <a:lnTo>
                      <a:pt x="1904" y="292"/>
                    </a:lnTo>
                    <a:lnTo>
                      <a:pt x="1904" y="224"/>
                    </a:lnTo>
                    <a:lnTo>
                      <a:pt x="2205" y="224"/>
                    </a:lnTo>
                    <a:lnTo>
                      <a:pt x="2205" y="146"/>
                    </a:lnTo>
                    <a:lnTo>
                      <a:pt x="2506" y="146"/>
                    </a:lnTo>
                    <a:lnTo>
                      <a:pt x="2506" y="68"/>
                    </a:lnTo>
                    <a:lnTo>
                      <a:pt x="2865" y="68"/>
                    </a:lnTo>
                    <a:lnTo>
                      <a:pt x="2904" y="350"/>
                    </a:lnTo>
                    <a:lnTo>
                      <a:pt x="3516" y="350"/>
                    </a:lnTo>
                    <a:lnTo>
                      <a:pt x="3507" y="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14640" y="4210200"/>
                <a:ext cx="5384880" cy="587160"/>
              </a:xfrm>
              <a:custGeom>
                <a:avLst/>
                <a:gdLst/>
                <a:ahLst/>
                <a:rect l="l" t="t" r="r" b="b"/>
                <a:pathLst>
                  <a:path w="3517" h="370">
                    <a:moveTo>
                      <a:pt x="0" y="369"/>
                    </a:moveTo>
                    <a:lnTo>
                      <a:pt x="524" y="369"/>
                    </a:lnTo>
                    <a:lnTo>
                      <a:pt x="524" y="156"/>
                    </a:lnTo>
                    <a:lnTo>
                      <a:pt x="806" y="156"/>
                    </a:lnTo>
                    <a:lnTo>
                      <a:pt x="806" y="0"/>
                    </a:lnTo>
                    <a:lnTo>
                      <a:pt x="1097" y="0"/>
                    </a:lnTo>
                    <a:lnTo>
                      <a:pt x="1165" y="369"/>
                    </a:lnTo>
                    <a:lnTo>
                      <a:pt x="1612" y="369"/>
                    </a:lnTo>
                    <a:lnTo>
                      <a:pt x="1612" y="292"/>
                    </a:lnTo>
                    <a:lnTo>
                      <a:pt x="1904" y="292"/>
                    </a:lnTo>
                    <a:lnTo>
                      <a:pt x="1904" y="224"/>
                    </a:lnTo>
                    <a:lnTo>
                      <a:pt x="2205" y="224"/>
                    </a:lnTo>
                    <a:lnTo>
                      <a:pt x="2205" y="146"/>
                    </a:lnTo>
                    <a:lnTo>
                      <a:pt x="2506" y="146"/>
                    </a:lnTo>
                    <a:lnTo>
                      <a:pt x="2506" y="68"/>
                    </a:lnTo>
                    <a:lnTo>
                      <a:pt x="2865" y="68"/>
                    </a:lnTo>
                    <a:lnTo>
                      <a:pt x="2904" y="350"/>
                    </a:lnTo>
                    <a:lnTo>
                      <a:pt x="3516" y="350"/>
                    </a:lnTo>
                    <a:lnTo>
                      <a:pt x="3507" y="350"/>
                    </a:lnTo>
                  </a:path>
                </a:pathLst>
              </a:custGeom>
              <a:noFill/>
              <a:ln cap="rnd" w="50760">
                <a:solidFill>
                  <a:srgbClr val="ff66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22480" y="2668680"/>
                <a:ext cx="0" cy="177948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354480" y="3303360"/>
                <a:ext cx="0" cy="9205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800520" y="3719520"/>
                <a:ext cx="0" cy="5047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00440" y="2627280"/>
                <a:ext cx="0" cy="208908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049720" y="2887200"/>
                <a:ext cx="0" cy="16765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95760" y="3346560"/>
                <a:ext cx="0" cy="110160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938920" y="3557520"/>
                <a:ext cx="0" cy="78264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00880" y="3792600"/>
                <a:ext cx="0" cy="54756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28680" y="2612880"/>
                <a:ext cx="538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20760" y="2171880"/>
                <a:ext cx="0" cy="272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28680" y="215100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28680" y="2151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28680" y="261288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128680" y="26128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28680" y="307656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28680" y="30765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28680" y="353844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128680" y="35384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28680" y="446400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28680" y="4464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8680" y="400068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28680" y="4000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141640" y="4925880"/>
                <a:ext cx="5452920" cy="63360"/>
                <a:chOff x="2141640" y="4925880"/>
                <a:chExt cx="5452920" cy="63360"/>
              </a:xfrm>
            </p:grpSpPr>
            <p:sp>
              <p:nvSpPr>
                <p:cNvPr id="80" name=""/>
                <p:cNvSpPr/>
                <p:nvPr/>
              </p:nvSpPr>
              <p:spPr>
                <a:xfrm>
                  <a:off x="2141640" y="4925880"/>
                  <a:ext cx="545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35872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2" name=""/>
                <p:cNvSpPr/>
                <p:nvPr/>
              </p:nvSpPr>
              <p:spPr>
                <a:xfrm>
                  <a:off x="235872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3" name=""/>
                <p:cNvSpPr/>
                <p:nvPr/>
              </p:nvSpPr>
              <p:spPr>
                <a:xfrm>
                  <a:off x="289440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4" name=""/>
                <p:cNvSpPr/>
                <p:nvPr/>
              </p:nvSpPr>
              <p:spPr>
                <a:xfrm>
                  <a:off x="289440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5" name=""/>
                <p:cNvSpPr/>
                <p:nvPr/>
              </p:nvSpPr>
              <p:spPr>
                <a:xfrm>
                  <a:off x="344412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6" name=""/>
                <p:cNvSpPr/>
                <p:nvPr/>
              </p:nvSpPr>
              <p:spPr>
                <a:xfrm>
                  <a:off x="344412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7" name=""/>
                <p:cNvSpPr/>
                <p:nvPr/>
              </p:nvSpPr>
              <p:spPr>
                <a:xfrm>
                  <a:off x="39945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8" name=""/>
                <p:cNvSpPr/>
                <p:nvPr/>
              </p:nvSpPr>
              <p:spPr>
                <a:xfrm>
                  <a:off x="39945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9" name=""/>
                <p:cNvSpPr/>
                <p:nvPr/>
              </p:nvSpPr>
              <p:spPr>
                <a:xfrm>
                  <a:off x="454428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0" name=""/>
                <p:cNvSpPr/>
                <p:nvPr/>
              </p:nvSpPr>
              <p:spPr>
                <a:xfrm>
                  <a:off x="454428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1" name=""/>
                <p:cNvSpPr/>
                <p:nvPr/>
              </p:nvSpPr>
              <p:spPr>
                <a:xfrm>
                  <a:off x="509508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2" name=""/>
                <p:cNvSpPr/>
                <p:nvPr/>
              </p:nvSpPr>
              <p:spPr>
                <a:xfrm>
                  <a:off x="509508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3" name=""/>
                <p:cNvSpPr/>
                <p:nvPr/>
              </p:nvSpPr>
              <p:spPr>
                <a:xfrm>
                  <a:off x="564480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4" name=""/>
                <p:cNvSpPr/>
                <p:nvPr/>
              </p:nvSpPr>
              <p:spPr>
                <a:xfrm>
                  <a:off x="564480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5" name=""/>
                <p:cNvSpPr/>
                <p:nvPr/>
              </p:nvSpPr>
              <p:spPr>
                <a:xfrm>
                  <a:off x="61941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6" name=""/>
                <p:cNvSpPr/>
                <p:nvPr/>
              </p:nvSpPr>
              <p:spPr>
                <a:xfrm>
                  <a:off x="61941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7" name=""/>
                <p:cNvSpPr/>
                <p:nvPr/>
              </p:nvSpPr>
              <p:spPr>
                <a:xfrm>
                  <a:off x="67449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8" name=""/>
                <p:cNvSpPr/>
                <p:nvPr/>
              </p:nvSpPr>
              <p:spPr>
                <a:xfrm>
                  <a:off x="67449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9" name=""/>
                <p:cNvSpPr/>
                <p:nvPr/>
              </p:nvSpPr>
              <p:spPr>
                <a:xfrm>
                  <a:off x="728064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0" name=""/>
                <p:cNvSpPr/>
                <p:nvPr/>
              </p:nvSpPr>
              <p:spPr>
                <a:xfrm>
                  <a:off x="728064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101" name=""/>
              <p:cNvGrpSpPr/>
              <p:nvPr/>
            </p:nvGrpSpPr>
            <p:grpSpPr>
              <a:xfrm>
                <a:off x="2193120" y="5072040"/>
                <a:ext cx="5376600" cy="393840"/>
                <a:chOff x="2193120" y="5072040"/>
                <a:chExt cx="5376600" cy="393840"/>
              </a:xfrm>
            </p:grpSpPr>
            <p:sp>
              <p:nvSpPr>
                <p:cNvPr id="102" name=""/>
                <p:cNvSpPr/>
                <p:nvPr/>
              </p:nvSpPr>
              <p:spPr>
                <a:xfrm>
                  <a:off x="2193120" y="507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3" name=""/>
                <p:cNvSpPr/>
                <p:nvPr/>
              </p:nvSpPr>
              <p:spPr>
                <a:xfrm>
                  <a:off x="268812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04" name=""/>
                <p:cNvSpPr/>
                <p:nvPr/>
              </p:nvSpPr>
              <p:spPr>
                <a:xfrm>
                  <a:off x="323892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05" name=""/>
                <p:cNvSpPr/>
                <p:nvPr/>
              </p:nvSpPr>
              <p:spPr>
                <a:xfrm>
                  <a:off x="37904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06" name=""/>
                <p:cNvSpPr/>
                <p:nvPr/>
              </p:nvSpPr>
              <p:spPr>
                <a:xfrm>
                  <a:off x="433980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07" name=""/>
                <p:cNvSpPr/>
                <p:nvPr/>
              </p:nvSpPr>
              <p:spPr>
                <a:xfrm>
                  <a:off x="489096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08" name=""/>
                <p:cNvSpPr/>
                <p:nvPr/>
              </p:nvSpPr>
              <p:spPr>
                <a:xfrm>
                  <a:off x="54500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09" name=""/>
                <p:cNvSpPr/>
                <p:nvPr/>
              </p:nvSpPr>
              <p:spPr>
                <a:xfrm>
                  <a:off x="600480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110" name=""/>
                <p:cNvSpPr/>
                <p:nvPr/>
              </p:nvSpPr>
              <p:spPr>
                <a:xfrm>
                  <a:off x="65552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1" name=""/>
                <p:cNvSpPr/>
                <p:nvPr/>
              </p:nvSpPr>
              <p:spPr>
                <a:xfrm>
                  <a:off x="710496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90</a:t>
                  </a:r>
                  <a:endParaRPr b="0" lang="en-US" sz="2000" spc="-1" strike="noStrike">
                    <a:solidFill>
                      <a:srgbClr val="000000"/>
                    </a:solidFill>
                    <a:latin typeface="Times New Roman"/>
                  </a:endParaRPr>
                </a:p>
              </p:txBody>
            </p:sp>
          </p:grpSp>
          <p:grpSp>
            <p:nvGrpSpPr>
              <p:cNvPr id="112" name=""/>
              <p:cNvGrpSpPr/>
              <p:nvPr/>
            </p:nvGrpSpPr>
            <p:grpSpPr>
              <a:xfrm>
                <a:off x="1573920" y="2011320"/>
                <a:ext cx="606600" cy="3029040"/>
                <a:chOff x="1573920" y="2011320"/>
                <a:chExt cx="606600" cy="3029040"/>
              </a:xfrm>
            </p:grpSpPr>
            <p:sp>
              <p:nvSpPr>
                <p:cNvPr id="113" name=""/>
                <p:cNvSpPr/>
                <p:nvPr/>
              </p:nvSpPr>
              <p:spPr>
                <a:xfrm>
                  <a:off x="1573920" y="20113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4" name=""/>
                <p:cNvSpPr/>
                <p:nvPr/>
              </p:nvSpPr>
              <p:spPr>
                <a:xfrm>
                  <a:off x="1573920" y="2457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15" name=""/>
                <p:cNvSpPr/>
                <p:nvPr/>
              </p:nvSpPr>
              <p:spPr>
                <a:xfrm>
                  <a:off x="1680120" y="2889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6" name=""/>
                <p:cNvSpPr/>
                <p:nvPr/>
              </p:nvSpPr>
              <p:spPr>
                <a:xfrm>
                  <a:off x="1680120" y="3336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7" name=""/>
                <p:cNvSpPr/>
                <p:nvPr/>
              </p:nvSpPr>
              <p:spPr>
                <a:xfrm>
                  <a:off x="1680120" y="3768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8" name=""/>
                <p:cNvSpPr/>
                <p:nvPr/>
              </p:nvSpPr>
              <p:spPr>
                <a:xfrm>
                  <a:off x="1680120" y="4214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19" name=""/>
                <p:cNvSpPr/>
                <p:nvPr/>
              </p:nvSpPr>
              <p:spPr>
                <a:xfrm>
                  <a:off x="1782360" y="4646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grpSp>
            <p:nvGrpSpPr>
              <p:cNvPr id="120" name=""/>
              <p:cNvGrpSpPr/>
              <p:nvPr/>
            </p:nvGrpSpPr>
            <p:grpSpPr>
              <a:xfrm>
                <a:off x="2233440" y="2298600"/>
                <a:ext cx="5279760" cy="1558800"/>
                <a:chOff x="2233440" y="2298600"/>
                <a:chExt cx="5279760" cy="1558800"/>
              </a:xfrm>
            </p:grpSpPr>
            <p:sp>
              <p:nvSpPr>
                <p:cNvPr id="121" name=""/>
                <p:cNvSpPr/>
                <p:nvPr/>
              </p:nvSpPr>
              <p:spPr>
                <a:xfrm>
                  <a:off x="2233440" y="2298600"/>
                  <a:ext cx="3034800" cy="1434960"/>
                </a:xfrm>
                <a:custGeom>
                  <a:avLst/>
                  <a:gdLst/>
                  <a:ahLst/>
                  <a:rect l="l" t="t" r="r" b="b"/>
                  <a:pathLst>
                    <a:path w="1983" h="904">
                      <a:moveTo>
                        <a:pt x="0" y="243"/>
                      </a:moveTo>
                      <a:lnTo>
                        <a:pt x="68" y="243"/>
                      </a:lnTo>
                      <a:lnTo>
                        <a:pt x="68" y="214"/>
                      </a:lnTo>
                      <a:lnTo>
                        <a:pt x="146" y="214"/>
                      </a:lnTo>
                      <a:lnTo>
                        <a:pt x="146" y="185"/>
                      </a:lnTo>
                      <a:lnTo>
                        <a:pt x="224" y="185"/>
                      </a:lnTo>
                      <a:lnTo>
                        <a:pt x="224" y="156"/>
                      </a:lnTo>
                      <a:lnTo>
                        <a:pt x="302" y="156"/>
                      </a:lnTo>
                      <a:lnTo>
                        <a:pt x="302" y="68"/>
                      </a:lnTo>
                      <a:lnTo>
                        <a:pt x="370" y="68"/>
                      </a:lnTo>
                      <a:lnTo>
                        <a:pt x="370" y="0"/>
                      </a:lnTo>
                      <a:lnTo>
                        <a:pt x="438" y="0"/>
                      </a:lnTo>
                      <a:lnTo>
                        <a:pt x="438" y="214"/>
                      </a:lnTo>
                      <a:lnTo>
                        <a:pt x="506" y="214"/>
                      </a:lnTo>
                      <a:lnTo>
                        <a:pt x="506" y="262"/>
                      </a:lnTo>
                      <a:lnTo>
                        <a:pt x="583" y="262"/>
                      </a:lnTo>
                      <a:lnTo>
                        <a:pt x="583" y="408"/>
                      </a:lnTo>
                      <a:lnTo>
                        <a:pt x="661" y="408"/>
                      </a:lnTo>
                      <a:lnTo>
                        <a:pt x="661" y="563"/>
                      </a:lnTo>
                      <a:lnTo>
                        <a:pt x="729" y="563"/>
                      </a:lnTo>
                      <a:lnTo>
                        <a:pt x="729" y="641"/>
                      </a:lnTo>
                      <a:lnTo>
                        <a:pt x="807" y="641"/>
                      </a:lnTo>
                      <a:lnTo>
                        <a:pt x="807" y="835"/>
                      </a:lnTo>
                      <a:lnTo>
                        <a:pt x="952" y="835"/>
                      </a:lnTo>
                      <a:lnTo>
                        <a:pt x="952" y="903"/>
                      </a:lnTo>
                      <a:lnTo>
                        <a:pt x="1030" y="903"/>
                      </a:lnTo>
                      <a:lnTo>
                        <a:pt x="1030" y="835"/>
                      </a:lnTo>
                      <a:lnTo>
                        <a:pt x="1098" y="835"/>
                      </a:lnTo>
                      <a:lnTo>
                        <a:pt x="1098" y="427"/>
                      </a:lnTo>
                      <a:lnTo>
                        <a:pt x="1176" y="427"/>
                      </a:lnTo>
                      <a:lnTo>
                        <a:pt x="1176" y="243"/>
                      </a:lnTo>
                      <a:lnTo>
                        <a:pt x="1244" y="243"/>
                      </a:lnTo>
                      <a:lnTo>
                        <a:pt x="1244" y="49"/>
                      </a:lnTo>
                      <a:lnTo>
                        <a:pt x="1322" y="49"/>
                      </a:lnTo>
                      <a:lnTo>
                        <a:pt x="1322" y="10"/>
                      </a:lnTo>
                      <a:lnTo>
                        <a:pt x="1399" y="10"/>
                      </a:lnTo>
                      <a:lnTo>
                        <a:pt x="1409" y="20"/>
                      </a:lnTo>
                      <a:lnTo>
                        <a:pt x="1458" y="20"/>
                      </a:lnTo>
                      <a:lnTo>
                        <a:pt x="1458" y="88"/>
                      </a:lnTo>
                      <a:lnTo>
                        <a:pt x="1545" y="88"/>
                      </a:lnTo>
                      <a:lnTo>
                        <a:pt x="1545" y="194"/>
                      </a:lnTo>
                      <a:lnTo>
                        <a:pt x="1613" y="194"/>
                      </a:lnTo>
                      <a:lnTo>
                        <a:pt x="1613" y="175"/>
                      </a:lnTo>
                      <a:lnTo>
                        <a:pt x="1691" y="175"/>
                      </a:lnTo>
                      <a:lnTo>
                        <a:pt x="1691" y="204"/>
                      </a:lnTo>
                      <a:lnTo>
                        <a:pt x="1768" y="204"/>
                      </a:lnTo>
                      <a:lnTo>
                        <a:pt x="1768" y="282"/>
                      </a:lnTo>
                      <a:lnTo>
                        <a:pt x="1836" y="282"/>
                      </a:lnTo>
                      <a:lnTo>
                        <a:pt x="1836" y="379"/>
                      </a:lnTo>
                      <a:lnTo>
                        <a:pt x="1914" y="379"/>
                      </a:lnTo>
                      <a:lnTo>
                        <a:pt x="1914" y="466"/>
                      </a:lnTo>
                      <a:lnTo>
                        <a:pt x="1982" y="4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233440" y="2298600"/>
                  <a:ext cx="3034800" cy="1434960"/>
                </a:xfrm>
                <a:custGeom>
                  <a:avLst/>
                  <a:gdLst/>
                  <a:ahLst/>
                  <a:rect l="l" t="t" r="r" b="b"/>
                  <a:pathLst>
                    <a:path w="1983" h="904">
                      <a:moveTo>
                        <a:pt x="0" y="243"/>
                      </a:moveTo>
                      <a:lnTo>
                        <a:pt x="68" y="243"/>
                      </a:lnTo>
                      <a:lnTo>
                        <a:pt x="68" y="214"/>
                      </a:lnTo>
                      <a:lnTo>
                        <a:pt x="146" y="214"/>
                      </a:lnTo>
                      <a:lnTo>
                        <a:pt x="146" y="185"/>
                      </a:lnTo>
                      <a:lnTo>
                        <a:pt x="224" y="185"/>
                      </a:lnTo>
                      <a:lnTo>
                        <a:pt x="224" y="156"/>
                      </a:lnTo>
                      <a:lnTo>
                        <a:pt x="302" y="156"/>
                      </a:lnTo>
                      <a:lnTo>
                        <a:pt x="302" y="68"/>
                      </a:lnTo>
                      <a:lnTo>
                        <a:pt x="370" y="68"/>
                      </a:lnTo>
                      <a:lnTo>
                        <a:pt x="370" y="0"/>
                      </a:lnTo>
                      <a:lnTo>
                        <a:pt x="438" y="0"/>
                      </a:lnTo>
                      <a:lnTo>
                        <a:pt x="438" y="214"/>
                      </a:lnTo>
                      <a:lnTo>
                        <a:pt x="506" y="214"/>
                      </a:lnTo>
                      <a:lnTo>
                        <a:pt x="506" y="262"/>
                      </a:lnTo>
                      <a:lnTo>
                        <a:pt x="583" y="262"/>
                      </a:lnTo>
                      <a:lnTo>
                        <a:pt x="583" y="408"/>
                      </a:lnTo>
                      <a:lnTo>
                        <a:pt x="661" y="408"/>
                      </a:lnTo>
                      <a:lnTo>
                        <a:pt x="661" y="563"/>
                      </a:lnTo>
                      <a:lnTo>
                        <a:pt x="729" y="563"/>
                      </a:lnTo>
                      <a:lnTo>
                        <a:pt x="729" y="641"/>
                      </a:lnTo>
                      <a:lnTo>
                        <a:pt x="807" y="641"/>
                      </a:lnTo>
                      <a:lnTo>
                        <a:pt x="807" y="835"/>
                      </a:lnTo>
                      <a:lnTo>
                        <a:pt x="952" y="835"/>
                      </a:lnTo>
                      <a:lnTo>
                        <a:pt x="952" y="903"/>
                      </a:lnTo>
                      <a:lnTo>
                        <a:pt x="1030" y="903"/>
                      </a:lnTo>
                      <a:lnTo>
                        <a:pt x="1030" y="835"/>
                      </a:lnTo>
                      <a:lnTo>
                        <a:pt x="1098" y="835"/>
                      </a:lnTo>
                      <a:lnTo>
                        <a:pt x="1098" y="427"/>
                      </a:lnTo>
                      <a:lnTo>
                        <a:pt x="1176" y="427"/>
                      </a:lnTo>
                      <a:lnTo>
                        <a:pt x="1176" y="243"/>
                      </a:lnTo>
                      <a:lnTo>
                        <a:pt x="1244" y="243"/>
                      </a:lnTo>
                      <a:lnTo>
                        <a:pt x="1244" y="49"/>
                      </a:lnTo>
                      <a:lnTo>
                        <a:pt x="1322" y="49"/>
                      </a:lnTo>
                      <a:lnTo>
                        <a:pt x="1322" y="10"/>
                      </a:lnTo>
                      <a:lnTo>
                        <a:pt x="1399" y="10"/>
                      </a:lnTo>
                      <a:lnTo>
                        <a:pt x="1409" y="20"/>
                      </a:lnTo>
                      <a:lnTo>
                        <a:pt x="1458" y="20"/>
                      </a:lnTo>
                      <a:lnTo>
                        <a:pt x="1458" y="88"/>
                      </a:lnTo>
                      <a:lnTo>
                        <a:pt x="1545" y="88"/>
                      </a:lnTo>
                      <a:lnTo>
                        <a:pt x="1545" y="194"/>
                      </a:lnTo>
                      <a:lnTo>
                        <a:pt x="1613" y="194"/>
                      </a:lnTo>
                      <a:lnTo>
                        <a:pt x="1613" y="175"/>
                      </a:lnTo>
                      <a:lnTo>
                        <a:pt x="1691" y="175"/>
                      </a:lnTo>
                      <a:lnTo>
                        <a:pt x="1691" y="204"/>
                      </a:lnTo>
                      <a:lnTo>
                        <a:pt x="1768" y="204"/>
                      </a:lnTo>
                      <a:lnTo>
                        <a:pt x="1768" y="282"/>
                      </a:lnTo>
                      <a:lnTo>
                        <a:pt x="1836" y="282"/>
                      </a:lnTo>
                      <a:lnTo>
                        <a:pt x="1836" y="379"/>
                      </a:lnTo>
                      <a:lnTo>
                        <a:pt x="1914" y="379"/>
                      </a:lnTo>
                      <a:lnTo>
                        <a:pt x="1914" y="466"/>
                      </a:lnTo>
                      <a:lnTo>
                        <a:pt x="1982" y="4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66800" y="2438280"/>
                  <a:ext cx="2246400" cy="1419120"/>
                </a:xfrm>
                <a:custGeom>
                  <a:avLst/>
                  <a:gdLst/>
                  <a:ahLst/>
                  <a:rect l="l" t="t" r="r" b="b"/>
                  <a:pathLst>
                    <a:path w="1468" h="894">
                      <a:moveTo>
                        <a:pt x="0" y="339"/>
                      </a:moveTo>
                      <a:lnTo>
                        <a:pt x="68" y="339"/>
                      </a:lnTo>
                      <a:lnTo>
                        <a:pt x="68" y="553"/>
                      </a:lnTo>
                      <a:lnTo>
                        <a:pt x="146" y="553"/>
                      </a:lnTo>
                      <a:lnTo>
                        <a:pt x="146" y="466"/>
                      </a:lnTo>
                      <a:lnTo>
                        <a:pt x="224" y="466"/>
                      </a:lnTo>
                      <a:lnTo>
                        <a:pt x="224" y="573"/>
                      </a:lnTo>
                      <a:lnTo>
                        <a:pt x="292" y="573"/>
                      </a:lnTo>
                      <a:lnTo>
                        <a:pt x="292" y="660"/>
                      </a:lnTo>
                      <a:lnTo>
                        <a:pt x="369" y="660"/>
                      </a:lnTo>
                      <a:lnTo>
                        <a:pt x="369" y="699"/>
                      </a:lnTo>
                      <a:lnTo>
                        <a:pt x="437" y="699"/>
                      </a:lnTo>
                      <a:lnTo>
                        <a:pt x="437" y="670"/>
                      </a:lnTo>
                      <a:lnTo>
                        <a:pt x="515" y="670"/>
                      </a:lnTo>
                      <a:lnTo>
                        <a:pt x="515" y="864"/>
                      </a:lnTo>
                      <a:lnTo>
                        <a:pt x="593" y="864"/>
                      </a:lnTo>
                      <a:lnTo>
                        <a:pt x="593" y="874"/>
                      </a:lnTo>
                      <a:lnTo>
                        <a:pt x="661" y="874"/>
                      </a:lnTo>
                      <a:lnTo>
                        <a:pt x="661" y="893"/>
                      </a:lnTo>
                      <a:lnTo>
                        <a:pt x="729" y="893"/>
                      </a:lnTo>
                      <a:lnTo>
                        <a:pt x="729" y="844"/>
                      </a:lnTo>
                      <a:lnTo>
                        <a:pt x="806" y="844"/>
                      </a:lnTo>
                      <a:lnTo>
                        <a:pt x="806" y="815"/>
                      </a:lnTo>
                      <a:lnTo>
                        <a:pt x="884" y="815"/>
                      </a:lnTo>
                      <a:lnTo>
                        <a:pt x="884" y="602"/>
                      </a:lnTo>
                      <a:lnTo>
                        <a:pt x="952" y="602"/>
                      </a:lnTo>
                      <a:lnTo>
                        <a:pt x="952" y="407"/>
                      </a:lnTo>
                      <a:lnTo>
                        <a:pt x="1030" y="407"/>
                      </a:lnTo>
                      <a:lnTo>
                        <a:pt x="1030" y="485"/>
                      </a:lnTo>
                      <a:lnTo>
                        <a:pt x="1108" y="485"/>
                      </a:lnTo>
                      <a:lnTo>
                        <a:pt x="1108" y="407"/>
                      </a:lnTo>
                      <a:lnTo>
                        <a:pt x="1176" y="407"/>
                      </a:lnTo>
                      <a:lnTo>
                        <a:pt x="1176" y="388"/>
                      </a:lnTo>
                      <a:lnTo>
                        <a:pt x="1244" y="388"/>
                      </a:lnTo>
                      <a:lnTo>
                        <a:pt x="1244" y="9"/>
                      </a:lnTo>
                      <a:lnTo>
                        <a:pt x="1321" y="9"/>
                      </a:lnTo>
                      <a:lnTo>
                        <a:pt x="1321" y="0"/>
                      </a:lnTo>
                      <a:lnTo>
                        <a:pt x="1399" y="0"/>
                      </a:lnTo>
                      <a:lnTo>
                        <a:pt x="1399" y="145"/>
                      </a:lnTo>
                      <a:lnTo>
                        <a:pt x="1467" y="14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78400" y="2438280"/>
                  <a:ext cx="1234800" cy="1419120"/>
                </a:xfrm>
                <a:custGeom>
                  <a:avLst/>
                  <a:gdLst/>
                  <a:ahLst/>
                  <a:rect l="l" t="t" r="r" b="b"/>
                  <a:pathLst>
                    <a:path w="807" h="894">
                      <a:moveTo>
                        <a:pt x="0" y="874"/>
                      </a:moveTo>
                      <a:lnTo>
                        <a:pt x="0" y="893"/>
                      </a:lnTo>
                      <a:lnTo>
                        <a:pt x="68" y="893"/>
                      </a:lnTo>
                      <a:lnTo>
                        <a:pt x="68" y="844"/>
                      </a:lnTo>
                      <a:lnTo>
                        <a:pt x="145" y="844"/>
                      </a:lnTo>
                      <a:lnTo>
                        <a:pt x="145" y="815"/>
                      </a:lnTo>
                      <a:lnTo>
                        <a:pt x="223" y="815"/>
                      </a:lnTo>
                      <a:lnTo>
                        <a:pt x="223" y="602"/>
                      </a:lnTo>
                      <a:lnTo>
                        <a:pt x="291" y="602"/>
                      </a:lnTo>
                      <a:lnTo>
                        <a:pt x="291" y="407"/>
                      </a:lnTo>
                      <a:lnTo>
                        <a:pt x="369" y="407"/>
                      </a:lnTo>
                      <a:lnTo>
                        <a:pt x="369" y="485"/>
                      </a:lnTo>
                      <a:lnTo>
                        <a:pt x="447" y="485"/>
                      </a:lnTo>
                      <a:lnTo>
                        <a:pt x="447" y="407"/>
                      </a:lnTo>
                      <a:lnTo>
                        <a:pt x="515" y="407"/>
                      </a:lnTo>
                      <a:lnTo>
                        <a:pt x="515" y="388"/>
                      </a:lnTo>
                      <a:lnTo>
                        <a:pt x="583" y="388"/>
                      </a:lnTo>
                      <a:lnTo>
                        <a:pt x="583" y="9"/>
                      </a:lnTo>
                      <a:lnTo>
                        <a:pt x="660" y="9"/>
                      </a:lnTo>
                      <a:lnTo>
                        <a:pt x="660" y="0"/>
                      </a:lnTo>
                      <a:lnTo>
                        <a:pt x="738" y="0"/>
                      </a:lnTo>
                      <a:lnTo>
                        <a:pt x="738" y="145"/>
                      </a:lnTo>
                      <a:lnTo>
                        <a:pt x="806" y="14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266800" y="2989080"/>
                  <a:ext cx="0" cy="33480"/>
                </a:xfrm>
                <a:prstGeom prst="line">
                  <a:avLst/>
                </a:prstGeom>
                <a:ln w="50760">
                  <a:solidFill>
                    <a:srgbClr val="fc0128"/>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26" name=""/>
              <p:cNvGrpSpPr/>
              <p:nvPr/>
            </p:nvGrpSpPr>
            <p:grpSpPr>
              <a:xfrm>
                <a:off x="7623000" y="4243320"/>
                <a:ext cx="60120" cy="681120"/>
                <a:chOff x="7623000" y="4243320"/>
                <a:chExt cx="60120" cy="681120"/>
              </a:xfrm>
            </p:grpSpPr>
            <p:sp>
              <p:nvSpPr>
                <p:cNvPr id="127" name=""/>
                <p:cNvSpPr/>
                <p:nvPr/>
              </p:nvSpPr>
              <p:spPr>
                <a:xfrm>
                  <a:off x="7623000" y="426384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45320" y="492444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57560" y="458136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45320" y="458136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57560" y="424332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45320" y="424332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7701480" y="4014720"/>
                <a:ext cx="676800" cy="1119240"/>
                <a:chOff x="7701480" y="4014720"/>
                <a:chExt cx="676800" cy="1119240"/>
              </a:xfrm>
            </p:grpSpPr>
            <p:sp>
              <p:nvSpPr>
                <p:cNvPr id="134" name=""/>
                <p:cNvSpPr/>
                <p:nvPr/>
              </p:nvSpPr>
              <p:spPr>
                <a:xfrm>
                  <a:off x="7702200" y="4014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135" name=""/>
                <p:cNvSpPr/>
                <p:nvPr/>
              </p:nvSpPr>
              <p:spPr>
                <a:xfrm>
                  <a:off x="7701480" y="43686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75</a:t>
                  </a:r>
                  <a:endParaRPr b="0" lang="en-US" sz="2000" spc="-1" strike="noStrike">
                    <a:solidFill>
                      <a:srgbClr val="000000"/>
                    </a:solidFill>
                    <a:latin typeface="Times New Roman"/>
                  </a:endParaRPr>
                </a:p>
              </p:txBody>
            </p:sp>
            <p:sp>
              <p:nvSpPr>
                <p:cNvPr id="136" name=""/>
                <p:cNvSpPr/>
                <p:nvPr/>
              </p:nvSpPr>
              <p:spPr>
                <a:xfrm>
                  <a:off x="7702200" y="4740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sp>
            <p:nvSpPr>
              <p:cNvPr id="137" name=""/>
              <p:cNvSpPr/>
              <p:nvPr/>
            </p:nvSpPr>
            <p:spPr>
              <a:xfrm rot="16200000">
                <a:off x="-249840" y="3401640"/>
                <a:ext cx="357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ool growth (% of controls)</a:t>
                </a:r>
                <a:endParaRPr b="0" lang="en-US" sz="2000" spc="-1" strike="noStrike">
                  <a:solidFill>
                    <a:srgbClr val="000000"/>
                  </a:solidFill>
                  <a:latin typeface="Times New Roman"/>
                </a:endParaRPr>
              </a:p>
            </p:txBody>
          </p:sp>
          <p:sp>
            <p:nvSpPr>
              <p:cNvPr id="138" name=""/>
              <p:cNvSpPr/>
              <p:nvPr/>
            </p:nvSpPr>
            <p:spPr>
              <a:xfrm rot="16200000">
                <a:off x="7378920" y="3506400"/>
                <a:ext cx="2514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rtisone acetate (mg/kg/day)</a:t>
                </a:r>
                <a:endParaRPr b="0" lang="en-US" sz="2000" spc="-1" strike="noStrike">
                  <a:solidFill>
                    <a:srgbClr val="000000"/>
                  </a:solidFill>
                  <a:latin typeface="Times New Roman"/>
                </a:endParaRPr>
              </a:p>
            </p:txBody>
          </p:sp>
          <p:sp>
            <p:nvSpPr>
              <p:cNvPr id="139" name=""/>
              <p:cNvSpPr/>
              <p:nvPr/>
            </p:nvSpPr>
            <p:spPr>
              <a:xfrm>
                <a:off x="3783600" y="5553000"/>
                <a:ext cx="272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eeks of experiment</a:t>
                </a:r>
                <a:endParaRPr b="0" lang="en-US" sz="2000" spc="-1" strike="noStrike">
                  <a:solidFill>
                    <a:srgbClr val="000000"/>
                  </a:solidFill>
                  <a:latin typeface="Times New Roman"/>
                </a:endParaRPr>
              </a:p>
            </p:txBody>
          </p:sp>
          <p:sp>
            <p:nvSpPr>
              <p:cNvPr id="140" name=""/>
              <p:cNvSpPr/>
              <p:nvPr/>
            </p:nvSpPr>
            <p:spPr>
              <a:xfrm>
                <a:off x="8975880" y="3557520"/>
                <a:ext cx="0" cy="443160"/>
              </a:xfrm>
              <a:prstGeom prst="line">
                <a:avLst/>
              </a:prstGeom>
              <a:ln w="50760">
                <a:solidFill>
                  <a:srgbClr val="d9319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3456000"/>
                <a:ext cx="0" cy="4428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a:off x="6836760" y="6324480"/>
            <a:ext cx="22143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Ferguson et al (1965)</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1142640" y="7617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creasing doses of cortisone acetate on wool growth in adrenalectomised sheep.  Controls received 0.25 mg/kg of cortisone acetate and 0.05 mg/kg of deoxycorticosterone per day</a:t>
            </a:r>
            <a:br>
              <a:rPr sz="2400"/>
            </a:b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5280" y="0"/>
            <a:ext cx="811836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cortisol concentrations in merino wethers</a:t>
            </a:r>
            <a:endParaRPr b="1" lang="en-US" sz="2400" spc="-1" strike="noStrike">
              <a:solidFill>
                <a:srgbClr val="fafd00"/>
              </a:solidFill>
              <a:latin typeface="Arial"/>
            </a:endParaRPr>
          </a:p>
        </p:txBody>
      </p:sp>
      <p:grpSp>
        <p:nvGrpSpPr>
          <p:cNvPr id="145" name=""/>
          <p:cNvGrpSpPr/>
          <p:nvPr/>
        </p:nvGrpSpPr>
        <p:grpSpPr>
          <a:xfrm>
            <a:off x="1336680" y="1447920"/>
            <a:ext cx="7578360" cy="4724280"/>
            <a:chOff x="1336680" y="1447920"/>
            <a:chExt cx="7578360" cy="4724280"/>
          </a:xfrm>
        </p:grpSpPr>
        <p:pic>
          <p:nvPicPr>
            <p:cNvPr id="146" name="" descr=""/>
            <p:cNvPicPr/>
            <p:nvPr/>
          </p:nvPicPr>
          <p:blipFill>
            <a:blip r:embed="rId1"/>
            <a:stretch/>
          </p:blipFill>
          <p:spPr>
            <a:xfrm>
              <a:off x="1336680" y="1447920"/>
              <a:ext cx="7578360" cy="4724280"/>
            </a:xfrm>
            <a:prstGeom prst="rect">
              <a:avLst/>
            </a:prstGeom>
            <a:ln w="0">
              <a:noFill/>
            </a:ln>
          </p:spPr>
        </p:pic>
        <p:grpSp>
          <p:nvGrpSpPr>
            <p:cNvPr id="147" name=""/>
            <p:cNvGrpSpPr/>
            <p:nvPr/>
          </p:nvGrpSpPr>
          <p:grpSpPr>
            <a:xfrm>
              <a:off x="3026520" y="5223600"/>
              <a:ext cx="2454120" cy="433440"/>
              <a:chOff x="3026520" y="5223600"/>
              <a:chExt cx="2454120" cy="433440"/>
            </a:xfrm>
          </p:grpSpPr>
          <p:sp>
            <p:nvSpPr>
              <p:cNvPr id="148" name=""/>
              <p:cNvSpPr/>
              <p:nvPr/>
            </p:nvSpPr>
            <p:spPr>
              <a:xfrm>
                <a:off x="3026520" y="5511600"/>
                <a:ext cx="2454120" cy="1454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86640" y="5223600"/>
                <a:ext cx="233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150"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3:59Z</dcterms:created>
  <dc:creator>USER</dc:creator>
  <dc:description/>
  <dc:language>en-US</dc:language>
  <cp:lastModifiedBy>Hdaily</cp:lastModifiedBy>
  <cp:lastPrinted>2000-02-03T09:09:47Z</cp:lastPrinted>
  <dcterms:modified xsi:type="dcterms:W3CDTF">2000-06-20T23:47:01Z</dcterms:modified>
  <cp:revision>5</cp:revision>
  <dc:subject/>
  <dc:title> Mechanisms of Generalised (Systemic) Disease: The Stress Response </dc:title>
</cp:coreProperties>
</file>