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828E-AE33-4283-9790-7BBA010A5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B991-3E99-485D-AF10-0405EA517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Agriculture Western Australia Staple Strength Resource Flocks, established to demonstrate the response to selection for high and low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5A98-1120-479E-816F-1CE935C7B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monstrate that staple strength (SS) is a heritable trait, Agriculture WA screened more than 20,000 animals and established the staple strength selection lines according to the guidelines set out above.  A sound line, a tender line and a control line were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animals were managed under the same environment (Mt Barker Research Station) and management regime.  In 1995, the staple strength resource flocks were transferred to Great Southern Agricultural Research Institute (GSARI) near Katanning.</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8743-0EC7-48FC-BA95-353F9E60E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ewes under the same environmental conditions shows that they stayed in their different staple strength categories.  Although the animals were selected only on SS, significant differences were found between the lines for coefficient of variation of fibre diameter (CVFD).  This confirmed the strong negative phenotypic relationship between SS and CVFD that had been found in other experimental flocks. </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3CCE-D424-4D22-9469-9C0E896DF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progeny of the selected animals (sound x sound, control x control, tender x tender matings) performed the same as their par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firmed that staple strength is a heritable trait, the phenotypic relationship between staple strength and CVFD is strongly negative and the genetic relationship between staple strength and CVFD is also strongly negative.  Thus parents with high CVFD wools produced progeny with relatively low staple strength wool, whereas parents with low CVFD wools produced progeny with relatively high staple strength wool.</a:t>
            </a: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Resource Flocks</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Resource Flock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screening of &gt;20,000 sheep from industry flocks (commenced early 1990’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 for high (sound), average (control) and low (tender) staple streng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 sheep were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low average for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1 SD from mean for: </a:t>
            </a:r>
            <a:r>
              <a:rPr b="1" lang="en-GB" sz="2000" spc="-1" strike="noStrike">
                <a:solidFill>
                  <a:srgbClr val="ffffff"/>
                </a:solidFill>
                <a:latin typeface="Arial"/>
              </a:rPr>
              <a:t>	</a:t>
            </a:r>
            <a:r>
              <a:rPr b="1" lang="en-GB" sz="2000" spc="-1" strike="noStrike">
                <a:solidFill>
                  <a:srgbClr val="ffffff"/>
                </a:solidFill>
                <a:latin typeface="Arial"/>
              </a:rPr>
              <a:t>Clean fleece weigh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Body weight</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Staple length</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ined as single flock (except for mating)</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97000" y="1509840"/>
            <a:ext cx="7870320" cy="4409280"/>
            <a:chOff x="1197000" y="1509840"/>
            <a:chExt cx="7870320" cy="4409280"/>
          </a:xfrm>
        </p:grpSpPr>
        <p:sp>
          <p:nvSpPr>
            <p:cNvPr id="53" name=""/>
            <p:cNvSpPr/>
            <p:nvPr/>
          </p:nvSpPr>
          <p:spPr>
            <a:xfrm>
              <a:off x="2164320" y="1635120"/>
              <a:ext cx="5100840" cy="3624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64320" y="4740120"/>
              <a:ext cx="51008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164320" y="422604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64320" y="370692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64320" y="318780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164320" y="266868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164320" y="215424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64320" y="163512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164320" y="1635120"/>
              <a:ext cx="5100840" cy="3624120"/>
            </a:xfrm>
            <a:prstGeom prst="rect">
              <a:avLst/>
            </a:prstGeom>
            <a:noFill/>
            <a:ln w="34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87680" y="2868480"/>
              <a:ext cx="568440" cy="239076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39000" y="2897280"/>
              <a:ext cx="566640" cy="236196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56120" y="3187800"/>
              <a:ext cx="562680" cy="207144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06000" y="2093760"/>
              <a:ext cx="564120" cy="316548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719160" y="3281400"/>
              <a:ext cx="568080" cy="197784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70120" y="1697040"/>
              <a:ext cx="566640" cy="356220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64320" y="1635120"/>
              <a:ext cx="1080" cy="3624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85120" y="5259240"/>
              <a:ext cx="78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085120" y="4740120"/>
              <a:ext cx="78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085120" y="422604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085120" y="370692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2085120" y="318780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085120" y="266868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2085120" y="215424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085120" y="163512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164320" y="5259240"/>
              <a:ext cx="5100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flipV="1">
              <a:off x="216432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71384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26516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17640" y="5132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82" name=""/>
            <p:cNvSpPr/>
            <p:nvPr/>
          </p:nvSpPr>
          <p:spPr>
            <a:xfrm>
              <a:off x="1817640" y="46134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83" name=""/>
            <p:cNvSpPr/>
            <p:nvPr/>
          </p:nvSpPr>
          <p:spPr>
            <a:xfrm>
              <a:off x="1668960" y="4098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84" name=""/>
            <p:cNvSpPr/>
            <p:nvPr/>
          </p:nvSpPr>
          <p:spPr>
            <a:xfrm>
              <a:off x="1668960" y="3579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85" name=""/>
            <p:cNvSpPr/>
            <p:nvPr/>
          </p:nvSpPr>
          <p:spPr>
            <a:xfrm>
              <a:off x="1668960" y="3060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86" name=""/>
            <p:cNvSpPr/>
            <p:nvPr/>
          </p:nvSpPr>
          <p:spPr>
            <a:xfrm>
              <a:off x="1668960" y="254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87" name=""/>
            <p:cNvSpPr/>
            <p:nvPr/>
          </p:nvSpPr>
          <p:spPr>
            <a:xfrm>
              <a:off x="1668960" y="202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88" name=""/>
            <p:cNvSpPr/>
            <p:nvPr/>
          </p:nvSpPr>
          <p:spPr>
            <a:xfrm>
              <a:off x="1668960" y="1509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89" name=""/>
            <p:cNvSpPr/>
            <p:nvPr/>
          </p:nvSpPr>
          <p:spPr>
            <a:xfrm>
              <a:off x="3255840" y="555300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0" lang="en-US" sz="2400" spc="-1" strike="noStrike">
                <a:solidFill>
                  <a:srgbClr val="000000"/>
                </a:solidFill>
                <a:latin typeface="Times New Roman"/>
              </a:endParaRPr>
            </a:p>
          </p:txBody>
        </p:sp>
        <p:sp>
          <p:nvSpPr>
            <p:cNvPr id="90" name=""/>
            <p:cNvSpPr/>
            <p:nvPr/>
          </p:nvSpPr>
          <p:spPr>
            <a:xfrm>
              <a:off x="5810040" y="555300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endParaRPr b="0" lang="en-US" sz="2400" spc="-1" strike="noStrike">
                <a:solidFill>
                  <a:srgbClr val="000000"/>
                </a:solidFill>
                <a:latin typeface="Times New Roman"/>
              </a:endParaRPr>
            </a:p>
          </p:txBody>
        </p:sp>
        <p:sp>
          <p:nvSpPr>
            <p:cNvPr id="91" name=""/>
            <p:cNvSpPr/>
            <p:nvPr/>
          </p:nvSpPr>
          <p:spPr>
            <a:xfrm rot="16200000">
              <a:off x="923040" y="321228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SS</a:t>
              </a:r>
              <a:endParaRPr b="0" lang="en-US" sz="2400" spc="-1" strike="noStrike">
                <a:solidFill>
                  <a:srgbClr val="000000"/>
                </a:solidFill>
                <a:latin typeface="Times New Roman"/>
              </a:endParaRPr>
            </a:p>
          </p:txBody>
        </p:sp>
        <p:sp>
          <p:nvSpPr>
            <p:cNvPr id="92" name=""/>
            <p:cNvSpPr/>
            <p:nvPr/>
          </p:nvSpPr>
          <p:spPr>
            <a:xfrm>
              <a:off x="7540560" y="2678040"/>
              <a:ext cx="1526760" cy="132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48920" y="2816280"/>
              <a:ext cx="159840" cy="16344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68880" y="27925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95" name=""/>
            <p:cNvSpPr/>
            <p:nvPr/>
          </p:nvSpPr>
          <p:spPr>
            <a:xfrm>
              <a:off x="7648920" y="3257640"/>
              <a:ext cx="159840" cy="16344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868160" y="323208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97" name=""/>
            <p:cNvSpPr/>
            <p:nvPr/>
          </p:nvSpPr>
          <p:spPr>
            <a:xfrm>
              <a:off x="7648920" y="3699000"/>
              <a:ext cx="159840" cy="16344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68520" y="367344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sp>
        <p:nvSpPr>
          <p:cNvPr id="99"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CVFD of screened ew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101600" y="1639800"/>
            <a:ext cx="8042040" cy="4236480"/>
            <a:chOff x="1101600" y="1639800"/>
            <a:chExt cx="8042040" cy="4236480"/>
          </a:xfrm>
        </p:grpSpPr>
        <p:grpSp>
          <p:nvGrpSpPr>
            <p:cNvPr id="102" name=""/>
            <p:cNvGrpSpPr/>
            <p:nvPr/>
          </p:nvGrpSpPr>
          <p:grpSpPr>
            <a:xfrm>
              <a:off x="1101600" y="1639800"/>
              <a:ext cx="6466680" cy="4236480"/>
              <a:chOff x="1101600" y="1639800"/>
              <a:chExt cx="6466680" cy="4236480"/>
            </a:xfrm>
          </p:grpSpPr>
          <p:sp>
            <p:nvSpPr>
              <p:cNvPr id="103" name=""/>
              <p:cNvSpPr/>
              <p:nvPr/>
            </p:nvSpPr>
            <p:spPr>
              <a:xfrm>
                <a:off x="2050920" y="1760400"/>
                <a:ext cx="5515920" cy="346716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50920" y="473220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2050920" y="423864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050920" y="374328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050920" y="324648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050920" y="274968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2050920" y="225756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050920" y="176040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050920" y="1760400"/>
                <a:ext cx="5515920" cy="3467160"/>
              </a:xfrm>
              <a:prstGeom prst="rect">
                <a:avLst/>
              </a:prstGeom>
              <a:noFill/>
              <a:ln w="33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09560" y="2792520"/>
                <a:ext cx="615240" cy="243504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68960" y="3137040"/>
                <a:ext cx="610920" cy="209052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800" y="3000240"/>
                <a:ext cx="610920" cy="222732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80240" y="2471760"/>
                <a:ext cx="615240" cy="275580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736080" y="3129120"/>
                <a:ext cx="615240" cy="209844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95840" y="1909800"/>
                <a:ext cx="612360" cy="331776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050920" y="1760400"/>
                <a:ext cx="1080" cy="34671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71720" y="522756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1971720" y="473220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971720" y="423864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971720" y="374328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971720" y="324648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1971720" y="274968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971720" y="225756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971720" y="176040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2050920" y="5227560"/>
                <a:ext cx="55159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V="1">
                <a:off x="2050920" y="5149440"/>
                <a:ext cx="108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810680" y="5149440"/>
                <a:ext cx="108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7566840" y="5149440"/>
                <a:ext cx="144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09640" y="51069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132" name=""/>
              <p:cNvSpPr/>
              <p:nvPr/>
            </p:nvSpPr>
            <p:spPr>
              <a:xfrm>
                <a:off x="1709640" y="46101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33" name=""/>
              <p:cNvSpPr/>
              <p:nvPr/>
            </p:nvSpPr>
            <p:spPr>
              <a:xfrm>
                <a:off x="1564560" y="4118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34" name=""/>
              <p:cNvSpPr/>
              <p:nvPr/>
            </p:nvSpPr>
            <p:spPr>
              <a:xfrm>
                <a:off x="1564560" y="3621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135" name=""/>
              <p:cNvSpPr/>
              <p:nvPr/>
            </p:nvSpPr>
            <p:spPr>
              <a:xfrm>
                <a:off x="1564560" y="312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36" name=""/>
              <p:cNvSpPr/>
              <p:nvPr/>
            </p:nvSpPr>
            <p:spPr>
              <a:xfrm>
                <a:off x="1564560" y="2629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137" name=""/>
              <p:cNvSpPr/>
              <p:nvPr/>
            </p:nvSpPr>
            <p:spPr>
              <a:xfrm>
                <a:off x="1564560" y="2135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138" name=""/>
              <p:cNvSpPr/>
              <p:nvPr/>
            </p:nvSpPr>
            <p:spPr>
              <a:xfrm>
                <a:off x="1564560" y="1639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139" name=""/>
              <p:cNvSpPr/>
              <p:nvPr/>
            </p:nvSpPr>
            <p:spPr>
              <a:xfrm>
                <a:off x="3249720" y="551016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0" lang="en-US" sz="2400" spc="-1" strike="noStrike">
                  <a:solidFill>
                    <a:srgbClr val="000000"/>
                  </a:solidFill>
                  <a:latin typeface="Times New Roman"/>
                </a:endParaRPr>
              </a:p>
            </p:txBody>
          </p:sp>
          <p:sp>
            <p:nvSpPr>
              <p:cNvPr id="140" name=""/>
              <p:cNvSpPr/>
              <p:nvPr/>
            </p:nvSpPr>
            <p:spPr>
              <a:xfrm>
                <a:off x="6013440" y="55101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endParaRPr b="0" lang="en-US" sz="2400" spc="-1" strike="noStrike">
                  <a:solidFill>
                    <a:srgbClr val="000000"/>
                  </a:solidFill>
                  <a:latin typeface="Times New Roman"/>
                </a:endParaRPr>
              </a:p>
            </p:txBody>
          </p:sp>
          <p:sp>
            <p:nvSpPr>
              <p:cNvPr id="141" name=""/>
              <p:cNvSpPr/>
              <p:nvPr/>
            </p:nvSpPr>
            <p:spPr>
              <a:xfrm rot="16200000">
                <a:off x="827640" y="324108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SS</a:t>
                </a:r>
                <a:endParaRPr b="0" lang="en-US" sz="2400" spc="-1" strike="noStrike">
                  <a:solidFill>
                    <a:srgbClr val="000000"/>
                  </a:solidFill>
                  <a:latin typeface="Times New Roman"/>
                </a:endParaRPr>
              </a:p>
            </p:txBody>
          </p:sp>
        </p:grpSp>
        <p:grpSp>
          <p:nvGrpSpPr>
            <p:cNvPr id="142" name=""/>
            <p:cNvGrpSpPr/>
            <p:nvPr/>
          </p:nvGrpSpPr>
          <p:grpSpPr>
            <a:xfrm>
              <a:off x="7716600" y="3429000"/>
              <a:ext cx="1427040" cy="1320120"/>
              <a:chOff x="7716600" y="3429000"/>
              <a:chExt cx="1427040" cy="1320120"/>
            </a:xfrm>
          </p:grpSpPr>
          <p:sp>
            <p:nvSpPr>
              <p:cNvPr id="143" name=""/>
              <p:cNvSpPr/>
              <p:nvPr/>
            </p:nvSpPr>
            <p:spPr>
              <a:xfrm>
                <a:off x="7716600" y="3429000"/>
                <a:ext cx="1427040" cy="127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21720" y="3562200"/>
                <a:ext cx="156600" cy="15732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037000" y="35384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146" name=""/>
              <p:cNvSpPr/>
              <p:nvPr/>
            </p:nvSpPr>
            <p:spPr>
              <a:xfrm>
                <a:off x="7821720" y="3984480"/>
                <a:ext cx="156600" cy="15732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036280" y="396072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48" name=""/>
              <p:cNvSpPr/>
              <p:nvPr/>
            </p:nvSpPr>
            <p:spPr>
              <a:xfrm>
                <a:off x="7821720" y="4406760"/>
                <a:ext cx="156600" cy="15732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6640" y="438300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grpSp>
      <p:sp>
        <p:nvSpPr>
          <p:cNvPr id="150"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CVFD of progeny</a:t>
            </a:r>
            <a:br>
              <a:rPr sz="3200"/>
            </a:br>
            <a:r>
              <a:rPr b="1" lang="en-GB" sz="3200" spc="-1" strike="noStrike">
                <a:solidFill>
                  <a:srgbClr val="fafd00"/>
                </a:solidFill>
                <a:latin typeface="Arial"/>
              </a:rPr>
              <a:t>of screened ew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3:14:28Z</dcterms:created>
  <dc:creator>Craig John Roberts</dc:creator>
  <dc:description/>
  <dc:language>en-US</dc:language>
  <cp:lastModifiedBy>Hdaily</cp:lastModifiedBy>
  <cp:lastPrinted>2000-02-03T09:09:47Z</cp:lastPrinted>
  <dcterms:modified xsi:type="dcterms:W3CDTF">2000-06-21T04:24:14Z</dcterms:modified>
  <cp:revision>4</cp:revision>
  <dc:subject/>
  <dc:title>Staple Strength Resource Flocks</dc:title>
</cp:coreProperties>
</file>