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295D-6C3B-4CA5-B294-728C1B886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DEE0-CA60-40BE-A453-786D420D1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notion of breeding for improved resistance to disease in sheep.  Breeding for resistance is one of a range of strategies for controlling disease and is especially worth considering </a:t>
            </a:r>
            <a:r>
              <a:rPr b="0" lang="en-AU" sz="1200" spc="-1" strike="noStrike">
                <a:solidFill>
                  <a:srgbClr val="000000"/>
                </a:solidFill>
                <a:latin typeface="Times New Roman"/>
              </a:rPr>
              <a:t>w</a:t>
            </a:r>
            <a:r>
              <a:rPr b="0" lang="en-GB" sz="1200" spc="-1" strike="noStrike">
                <a:solidFill>
                  <a:srgbClr val="000000"/>
                </a:solidFill>
                <a:latin typeface="Times New Roman"/>
              </a:rPr>
              <a:t>here conventional measures of control have been either ineffective, unsustainable or uneconomic.  It needs to be remembered that it is a long-term strategy and there is a cost in terms of progress in other traits of economic importance.  Some of the considerations required when incorporating disease resistance traits into the breeding objective are outl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8604-995B-4F63-979B-2B2A42551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diseases affecting the potential profitability of all Australian wool producers are those caused by parasites (internal and external), diseases of the skin (fleece rot, dermatophilosis) and footrot.   Other diseases, such as Ovine Johnes Disease (OJD) and brucellosis, may have a major effect on individual woolgrowers if it is necessary to quarantine their livestock or if it restricts trade of livestock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production system, the relative importance of infectious diseases depends on their impact on welfare and productivity.  </a:t>
            </a:r>
            <a:r>
              <a:rPr b="0" lang="en-AU" sz="1200" spc="-1" strike="noStrike">
                <a:solidFill>
                  <a:srgbClr val="000000"/>
                </a:solidFill>
                <a:latin typeface="Times New Roman"/>
              </a:rPr>
              <a:t>For many diseases, there is no need to exploit genetic variation because other forms of control are effective and cheap.  For example, inexpensive multi-valent vaccines against several clostridial diseases and anthrax are available and widely used. But other diseases, such as blowfly strike, rely on preventative or curative measures which in themselves, cause problems.  Surgical mulesing, for example, is emerging as an animal welfare issue and chemical residues from pesticides threaten the viability of wool processing mills in many countries.  Furthermore, resistance of parasites to chemicals is a continuing problem for sheep producers, anthelmintic resistance being an outstanding examp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for diseases w</a:t>
            </a:r>
            <a:r>
              <a:rPr b="0" lang="en-GB" sz="1200" spc="-1" strike="noStrike">
                <a:solidFill>
                  <a:srgbClr val="000000"/>
                </a:solidFill>
                <a:latin typeface="Times New Roman"/>
              </a:rPr>
              <a:t>here conventional measures of control have been either ineffective, unsustainable or uneconomic, </a:t>
            </a:r>
            <a:r>
              <a:rPr b="0" lang="en-AU" sz="1200" spc="-1" strike="noStrike">
                <a:solidFill>
                  <a:srgbClr val="000000"/>
                </a:solidFill>
                <a:latin typeface="Times New Roman"/>
              </a:rPr>
              <a:t>that genetic selection programs are being seriously considered as a strategy for diseas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34EA-00D4-45A8-A7AA-7BBA967FA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considerations of including disease resistance in the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there will be a reduction in the selection pressure applied to other traits in the breeding objective, which will impact on genetic gain in these traits depending on the magnitude and direction of the genetic correlations involving disease resis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does an animal’s ability to mount a continued immune response (i.e. resistance) come at a physiological cost, this being a diversion of nutrients and energy away from production in favour of the immune response?  This has not been adequately quantified to d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rdly, animals need to be exposed to the disease to enable resistance to that disease to be expressed.  This is a major limitation when considering diseases such as footrot and OJD. </a:t>
            </a:r>
            <a:r>
              <a:rPr b="0" lang="en-AU" sz="1200" spc="-1" strike="noStrike">
                <a:solidFill>
                  <a:srgbClr val="000000"/>
                </a:solidFill>
                <a:latin typeface="Times New Roman"/>
              </a:rPr>
              <a:t>Genetic markers for these diseases would be a major breakthrough, whereby animals carrying the favoured genes could be identified by analysis of DNA from blood or other tissue.  Searches for associations between genetic markers and disease resistance have mainly focussed on resistance to worms, but to date, no useful markers have been found.  In many respects, markers for eradicable diseases would be more highly prized than markers for parasite resist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735F-28DD-4BB0-9085-A18EEA8CC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vent of new effective anthelmintics would reduce the need to breed for resistance, at least in the short-term, but it is difficult to predict if and how pharmaceutical companies will address the growing level of parasite resistance to chemical treat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difficult to quantify the extent of production losses arising from various levels of a given disease, when trying to determine the target level of resistance to be achieved via selective bree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rovements in resistance don’t translate into cost savings immediately.  It may be 10 years or more before the cumulative effects of breeding for resistance impact economically.  This differs from traits like fleece weight and fibre diameter where each incremental change in the trait results in greater returns for the produc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measures of disease resistance are rarely distributed in a normal fashion, which provides additional complications for statistical analysis and estimation of genetic parame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reeding for Disease Resistance in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 Rob Woolaston &amp; Dr. Sandra Eady,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reats to existing control measure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stro-intestinal parasi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thelmintic resista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eep Blowf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mal welfare issues (mules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sticide resid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istance to pesticid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ce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sticide resid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sticide resistanc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reeding for disease resistance -</a:t>
            </a:r>
            <a:br>
              <a:rPr sz="3200"/>
            </a:br>
            <a:r>
              <a:rPr b="1" lang="en-US" sz="3200" spc="-1" strike="noStrike">
                <a:solidFill>
                  <a:srgbClr val="fafd00"/>
                </a:solidFill>
                <a:latin typeface="Arial"/>
              </a:rPr>
              <a:t>What is the down-side?    </a:t>
            </a:r>
            <a:endParaRPr b="1" lang="en-US" sz="3200" spc="-1" strike="noStrike">
              <a:solidFill>
                <a:srgbClr val="fafd00"/>
              </a:solidFill>
              <a:latin typeface="Arial"/>
            </a:endParaRPr>
          </a:p>
        </p:txBody>
      </p:sp>
      <p:sp>
        <p:nvSpPr>
          <p:cNvPr id="54"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 trait to impro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 on selection press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lations with production trai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ological cos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need to deliberately challen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 varies spatially and temporall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iculties with economic weights</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her complication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control measures uncertai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ion losses difficult to quantif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tment costs usually non-linea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butions rarely continuous or normal</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22:42:41Z</dcterms:created>
  <dc:creator>USER</dc:creator>
  <dc:description/>
  <dc:language>en-US</dc:language>
  <cp:lastModifiedBy>Hdaily</cp:lastModifiedBy>
  <cp:lastPrinted>2000-02-03T09:09:47Z</cp:lastPrinted>
  <dcterms:modified xsi:type="dcterms:W3CDTF">2000-06-22T00:19:15Z</dcterms:modified>
  <cp:revision>9</cp:revision>
  <dc:subject/>
  <dc:title>Breeding for Disease Resistance in Sheep</dc:title>
</cp:coreProperties>
</file>