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338E-E21E-42DE-8BB0-54FD449A9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briefly introduces the SA Selection Demonstration Flocks, established to compare the following breeding and selection strategies used throughout the industr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lection based mainly on classer assessment with some use of objective measuremen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lection based mainly on performance records with some attention to visual assessmen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lection based largely on the SRS-type approach, using skin assessment and mate allocation.</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Jaensch, K.S., Grimson, R.J., Smith, D.H. and Ewers, A.L. (1998). SA Merino Selection Demonstration Flocks, Newsletter No. 2, Februar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6, the SA Research and Development Institute in collaboration with the University of Adelaide established three demonstration flocks, each of which represents a major industry view on the way in which a Merino breeding program should be conduc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Jaensch, K.S., Grimson, R.J., Smith, D.H. and Ewers, A.L. (1998). SA Merino Selection Demonstration Flocks, Newsletter No. 2, Februar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lection and mating decisions to be made for each flock, including choice of outside sires to be used, is the responsibility of a group comprising advocates of the breeding system associated with the flock.  In all other aspects of management, the three flocks are treated identically.  By undertaking all three strategies side-by-side, the relative advantages and disadvantages of each can be compared.  A randomly-selected control flock has also been established and managed identically, to provide a reference point against which genetic change in the other flocks can be measu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14264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th Australian</a:t>
            </a:r>
            <a:br>
              <a:rPr sz="3200"/>
            </a:br>
            <a:r>
              <a:rPr b="1" lang="en-GB" sz="3200" spc="-1" strike="noStrike">
                <a:solidFill>
                  <a:srgbClr val="fafd00"/>
                </a:solidFill>
                <a:latin typeface="Arial"/>
              </a:rPr>
              <a:t>Selection Demonstration Flock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81680" y="6400800"/>
            <a:ext cx="23623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et al. (1998).</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 Selection Demonstration Flock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comparison of three Merino breeding program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resenting major breeding trends currently encountered in the Merino industry (i.e. within-flock ewe selection and choice of outside sire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ch breeding program is driven by an industry group, comprising ram breeders, woolgrowers, classers and consultants, i.e. selection and mating decisions determined by “users” of the technology</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milar management schedule across all flocks</a:t>
            </a:r>
            <a:endParaRPr b="1" lang="en-US" sz="20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broad aim in each flock is the genetic improvement of the profitability of SA Merino sheep, by increasing the quantity and quality of wool produced, the reproductive rate and the saleability of surplus sheep.</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62320" y="5791320"/>
            <a:ext cx="4075200" cy="1062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further information contact:</a:t>
            </a:r>
            <a:endParaRPr b="0" lang="en-US" sz="1600" spc="-1" strike="noStrike">
              <a:solidFill>
                <a:srgbClr val="000000"/>
              </a:solidFill>
              <a:latin typeface="Times New Roman"/>
            </a:endParaRPr>
          </a:p>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r Raul Ponzoni, </a:t>
            </a:r>
            <a:endParaRPr b="0" lang="en-US" sz="1600" spc="-1" strike="noStrike">
              <a:solidFill>
                <a:srgbClr val="000000"/>
              </a:solidFill>
              <a:latin typeface="Times New Roman"/>
            </a:endParaRPr>
          </a:p>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 Research and Development Institute,</a:t>
            </a:r>
            <a:endParaRPr b="0" lang="en-US" sz="1600" spc="-1" strike="noStrike">
              <a:solidFill>
                <a:srgbClr val="000000"/>
              </a:solidFill>
              <a:latin typeface="Times New Roman"/>
            </a:endParaRPr>
          </a:p>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PO Box 397, Adelaide SA 5001</a:t>
            </a:r>
            <a:endParaRPr b="0" lang="en-US" sz="16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 Selection Demonstration Flocks</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1</a:t>
            </a:r>
            <a:r>
              <a:rPr b="1" lang="en-GB" sz="2000" spc="-1" strike="noStrike">
                <a:solidFill>
                  <a:srgbClr val="ffffff"/>
                </a:solidFill>
                <a:latin typeface="Arial"/>
              </a:rPr>
              <a:t> - contro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2</a:t>
            </a:r>
            <a:r>
              <a:rPr b="1" lang="en-GB" sz="2000" spc="-1" strike="noStrike">
                <a:solidFill>
                  <a:srgbClr val="ffffff"/>
                </a:solidFill>
                <a:latin typeface="Arial"/>
              </a:rPr>
              <a:t> - selection mainly based on performance records, but with some attention to visually assessed wool and body faul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3</a:t>
            </a:r>
            <a:r>
              <a:rPr b="1" lang="en-GB" sz="2000" spc="-1" strike="noStrike">
                <a:solidFill>
                  <a:srgbClr val="ffffff"/>
                </a:solidFill>
                <a:latin typeface="Arial"/>
              </a:rPr>
              <a:t> - selection mainly based on classer assessment of wool quantity and quality, and on the ability of the sheep to thrive and reproduce.  Occasional and non-systematic use of objective measurement data.</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4</a:t>
            </a:r>
            <a:r>
              <a:rPr b="1" lang="en-GB" sz="2000" spc="-1" strike="noStrike">
                <a:solidFill>
                  <a:srgbClr val="ffffff"/>
                </a:solidFill>
                <a:latin typeface="Arial"/>
              </a:rPr>
              <a:t> - selection largely based on the technological package that favours sheep having smooth, loose and pliable skin.  Involves tactile and visual evaluation of the skin, use of objective measurement and mate allocation.</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2:18:43Z</dcterms:created>
  <dc:creator>USER</dc:creator>
  <dc:description/>
  <dc:language>en-US</dc:language>
  <cp:lastModifiedBy>Hdaily</cp:lastModifiedBy>
  <cp:lastPrinted>2000-02-03T09:09:47Z</cp:lastPrinted>
  <dcterms:modified xsi:type="dcterms:W3CDTF">2000-06-19T23:45:38Z</dcterms:modified>
  <cp:revision>3</cp:revision>
  <dc:subject/>
  <dc:title>South Australian Selection Demonstration Flocks</dc:title>
</cp:coreProperties>
</file>