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F922-77D3-4A3E-90C0-43D686B17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1396-C67C-4479-B3EB-E27134CFE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examines the processes whereby sheep learn which foods are and are not valid for ingestion.  It considers the roles of sensory cues, post-ingestive consequences, neophobia and social factors on the learning experience.  The influence of early exposure of lambs to supplementary feeds on their acceptance of supplements at older ages is highligh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eoff Hinch, The University of New Englan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aters, T.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periment demonstrates the issue of post-ingestive consequences and aversion.  All sheep were fed freshly-cut lucerne in pens, but for one group of sheep the lucerne had been treated with lithium chloride in quantities capable of inducing a sense of nausea.  By doing this, the treated sheep were “tricked” into perceiving an otherwise valid food as an unsatisfactory food.  When both groups were released into a paddock of lucerne, the treated group avoided the lucerne plants.  Around 3 weeks after the pen-feeding, the lucerne aversion diminished as the treated group became more willing to try lucerne, learning that it no longer induced a negative post-ingestive consequen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animals go about making their choice of feed to eat?  There are a number of cues relating to sight, smell and taste.  First, they move to areas that are familiar.  Then, if the feed on offer smells familiar, they taste it.  If it tastes familiar, they swallow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 when eating a large amount of one particular feed, will always select relatively small amounts of other feeds on offer to avoid their senses from becoming overloaded with just one type of food.  This is also how animals will approach an unfamiliar feed type, by including small amounts of it in their diet with more familiar feed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Grovum, W.L. and Chapman, H.W. (1988). Factors affecting the voluntary intake of food by sheep. </a:t>
            </a:r>
            <a:r>
              <a:rPr b="0" i="1" lang="en-US" sz="1200" spc="-1" strike="noStrike">
                <a:solidFill>
                  <a:srgbClr val="000000"/>
                </a:solidFill>
                <a:latin typeface="Times New Roman"/>
              </a:rPr>
              <a:t>British Journal of Nutrition</a:t>
            </a:r>
            <a:r>
              <a:rPr b="0" lang="en-US" sz="1200" spc="-1" strike="noStrike">
                <a:solidFill>
                  <a:srgbClr val="000000"/>
                </a:solidFill>
                <a:latin typeface="Times New Roman"/>
              </a:rPr>
              <a:t>. </a:t>
            </a:r>
            <a:r>
              <a:rPr b="1" lang="en-US" sz="1200" spc="-1" strike="noStrike">
                <a:solidFill>
                  <a:srgbClr val="000000"/>
                </a:solidFill>
                <a:latin typeface="Times New Roman"/>
              </a:rPr>
              <a:t>59</a:t>
            </a:r>
            <a:r>
              <a:rPr b="0" lang="en-US" sz="1200" spc="-1" strike="noStrike">
                <a:solidFill>
                  <a:srgbClr val="000000"/>
                </a:solidFill>
                <a:latin typeface="Times New Roman"/>
              </a:rPr>
              <a:t>: 63-7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inted in Lynch, J.J., Hinch, G.H. and Adams, D.B. (1992). The Behaviour of Sheep. CAB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periment looked at the responses of sheep to varying concentrations of sweet, sour, bitter and salt in their diet.  The sweet (sucrose) and bitter (urea) treatments at all three concentrations showed a decrease in lucerne intake relative to the control.  The sour (HCl) and salt (NaCl) treatments did not influence intake relative to the control.  MSG, which is an additive to stimulate intake, did evoke a positive response.  It is likely that sweet, sour and bitter responses do not greatly affect feed intake, though salt may depending on the requirements of the individu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ell may be of greater importance in determining intake in shee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happle, R.S., Wodzicka-Tomaszewska, M. and Lynch, J.J. (1987). The learning behaviour of sheep when introduced to wheat. 2. Social transmission of wheat feeding and the role of the senses. </a:t>
            </a:r>
            <a:r>
              <a:rPr b="0" i="1" lang="en-US" sz="1200" spc="-1" strike="noStrike">
                <a:solidFill>
                  <a:srgbClr val="000000"/>
                </a:solidFill>
                <a:latin typeface="Times New Roman"/>
              </a:rPr>
              <a:t>Applied Animal Behaviour Science</a:t>
            </a:r>
            <a:r>
              <a:rPr b="0" lang="en-US" sz="1200" spc="-1" strike="noStrike">
                <a:solidFill>
                  <a:srgbClr val="000000"/>
                </a:solidFill>
                <a:latin typeface="Times New Roman"/>
              </a:rPr>
              <a:t> </a:t>
            </a:r>
            <a:r>
              <a:rPr b="1" lang="en-US" sz="1200" spc="-1" strike="noStrike">
                <a:solidFill>
                  <a:srgbClr val="000000"/>
                </a:solidFill>
                <a:latin typeface="Times New Roman"/>
              </a:rPr>
              <a:t>18</a:t>
            </a:r>
            <a:r>
              <a:rPr b="0" lang="en-US" sz="1200" spc="-1" strike="noStrike">
                <a:solidFill>
                  <a:srgbClr val="000000"/>
                </a:solidFill>
                <a:latin typeface="Times New Roman"/>
              </a:rPr>
              <a:t>: 163-17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inted in Lynch, J.J., Hinch, G.H. and Adams, D.B. (1992). The Behaviour of Sheep. CAB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this experiment was to identify which of the senses played the greatest role in affecting intake of unfamiliar feeds.  None of these sheep had been exposed to wheat previously.  The sensory treatments included visual impairment (blind - blindfolds), hearing impairment (deaf - ear plugs), impairment of smell (anosmic – spraying local anaesthetic into the nasal passage) and combinations of these.  The overall results showed that there is no single sensory cue involved in learning about a new feed.  Also, when one sense is impaired, other senses are employed to compensate.  Even when sight, sound and smell are impaired, 6 sheep still consumed wheat within 5 days.  This was presumably a function of taste c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sheep are adaptable in terms of the senses employed in the learning pro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ep are neophobic, afraid of unfamiliar situations including foods.  When an unfamiliar (new) food is introduced, sheep behaviour is generally characterised by the individuals standing about 1 metre away from the new feed, taking time to adjust to the smell (i.e. learn).  It may take 2-3 days before they closely approach the food.  If there are no other animals for them to follow, it may take at least 5 days before the individual “learns” sufficient about the food for it to attempt tasting the fo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mounts are consumed initially, to evaluate the taste relative to their experience of other familiar feeds.  If there is no negative effect, then the animal will eat increasingly more until it becomes a familiar food.  However, if this small amount elicits a feeling of ill-health, then the association is made between this food and the outcome such that the animal will avoid eating it.  This does not apply solely to poisonous plants, but also to feeds that are essentially good for them but for which they have simply over-eaten and suffered accordingly (e.g. wheat).  So the smell and flavour become associated with the post-ingestive consequen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Chapple, R.S. and Lynch, J.J. (1986). Behavioural factors modifying acceptance of supplementary foods by sheep. </a:t>
            </a:r>
            <a:r>
              <a:rPr b="0" i="1" lang="en-US" sz="1200" spc="-1" strike="noStrike">
                <a:solidFill>
                  <a:srgbClr val="000000"/>
                </a:solidFill>
                <a:latin typeface="Times New Roman"/>
              </a:rPr>
              <a:t>Research Development in Agriculture</a:t>
            </a:r>
            <a:r>
              <a:rPr b="0" lang="en-US" sz="1200" spc="-1" strike="noStrike">
                <a:solidFill>
                  <a:srgbClr val="000000"/>
                </a:solidFill>
                <a:latin typeface="Times New Roman"/>
              </a:rPr>
              <a:t> </a:t>
            </a:r>
            <a:r>
              <a:rPr b="1" lang="en-US" sz="1200" spc="-1" strike="noStrike">
                <a:solidFill>
                  <a:srgbClr val="000000"/>
                </a:solidFill>
                <a:latin typeface="Times New Roman"/>
              </a:rPr>
              <a:t>3</a:t>
            </a:r>
            <a:r>
              <a:rPr b="0" lang="en-US" sz="1200" spc="-1" strike="noStrike">
                <a:solidFill>
                  <a:srgbClr val="000000"/>
                </a:solidFill>
                <a:latin typeface="Times New Roman"/>
              </a:rPr>
              <a:t>: 113-1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inted in Lynch, J.J., Hinch, G.H. and Adams, D.B. (1992). The Behaviour of Sheep. CAB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compares intake of wheat by lambs that either had no prior experience of wheat (i.e.. unfamiliar food) or had prior experience due to wheat being fed to their mothers prior to weaning.  It demonstrates that animals learn from those around them as to whether a new food is safe or not. This has implications for supplementary feeding strategies in that early exposure to supplements will reduce the time taken for individuals to adjust to the supplement when it is provided later in their lifetim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Reprinted in Lynch, J.J., Hinch, G.H. and Adams, D.B. (1992). The Behaviour of Sheep. CAB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xposure of lambs to new foods with their mothers has a major influence on their willingness to consume these foods at a later age.  In this experiment, early exposure occurred at 2 weeks of age for a short period of time.  These lambs, even at 3 years of age, were more willing to consume wheat when offered, even though they had no other experience of wheat since that initial early exposure at 2 weeks of a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trick sheep into accepting an unfamiliar food as if it were a familiar food?  Yes, to some extent.  For example, if previously unfamiliar grain is provided with lucerne, the smell of lucerne will attract them to the ration and they will learn that the grain is a valid food in a shorter period of time than it would take if the grain had been provided separately.  But the most effective method is to teach them early in their life through short-term exposure to the food while with their moth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 develop a memory based on the association between the smell and taste of a food and the post-ingestive consequences.  If the consequence is negative (e.g. gut ache), then there will be a tendency for aversion to this to develop.  Typical examples are plants that contain toxins such as tannins, alkaloids and terpenoids.  Only small quantities of these toxins are required to establish an aversion to foods containing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7810560" y="5791320"/>
          <a:ext cx="1123920" cy="628560"/>
        </p:xfrm>
        <a:graphic>
          <a:graphicData uri="http://schemas.openxmlformats.org/presentationml/2006/ole">
            <p:oleObj progId="Word.Document.12" r:id="rId1" spid="">
              <p:embed/>
              <p:pic>
                <p:nvPicPr>
                  <p:cNvPr id="48" name="" descr=""/>
                  <p:cNvPicPr/>
                  <p:nvPr/>
                </p:nvPicPr>
                <p:blipFill>
                  <a:blip r:embed="rId2"/>
                  <a:stretch/>
                </p:blipFill>
                <p:spPr>
                  <a:xfrm>
                    <a:off x="7810560" y="5791320"/>
                    <a:ext cx="1123920" cy="628560"/>
                  </a:xfrm>
                  <a:prstGeom prst="rect">
                    <a:avLst/>
                  </a:prstGeom>
                  <a:ln w="0">
                    <a:noFill/>
                  </a:ln>
                </p:spPr>
              </p:pic>
            </p:oleObj>
          </a:graphicData>
        </a:graphic>
      </p:graphicFrame>
      <p:sp>
        <p:nvSpPr>
          <p:cNvPr id="4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w does a sheep learn about a new food?</a:t>
            </a:r>
            <a:endParaRPr b="1" lang="en-US" sz="3200" spc="-1" strike="noStrike">
              <a:solidFill>
                <a:srgbClr val="fafd00"/>
              </a:solidFill>
              <a:latin typeface="Arial"/>
            </a:endParaRPr>
          </a:p>
        </p:txBody>
      </p:sp>
      <p:sp>
        <p:nvSpPr>
          <p:cNvPr id="50"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Geoff Hinch, The University of New England.</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7" name="w412f15" descr=""/>
          <p:cNvPicPr/>
          <p:nvPr/>
        </p:nvPicPr>
        <p:blipFill>
          <a:blip r:embed="rId1"/>
          <a:stretch/>
        </p:blipFill>
        <p:spPr>
          <a:xfrm>
            <a:off x="1447920" y="838080"/>
            <a:ext cx="7454880" cy="5181840"/>
          </a:xfrm>
          <a:prstGeom prst="rect">
            <a:avLst/>
          </a:prstGeom>
          <a:ln w="0">
            <a:noFill/>
          </a:ln>
        </p:spPr>
      </p:pic>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Loss of an Aversion to Lucerne </a:t>
            </a:r>
            <a:endParaRPr b="1" lang="en-US" sz="3200" spc="-1" strike="noStrike">
              <a:solidFill>
                <a:srgbClr val="fafd00"/>
              </a:solidFill>
              <a:latin typeface="Arial"/>
            </a:endParaRPr>
          </a:p>
        </p:txBody>
      </p:sp>
      <p:sp>
        <p:nvSpPr>
          <p:cNvPr id="79" name=""/>
          <p:cNvSpPr/>
          <p:nvPr/>
        </p:nvSpPr>
        <p:spPr>
          <a:xfrm>
            <a:off x="6869160" y="6400800"/>
            <a:ext cx="2203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aters (unpublish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dentification of Food</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ual (general loc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lfactory or texture (mouth)</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nate response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te (swallow)</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nate respons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sory Specific Satie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ncept that animals will always include a small amount of a less preferred foo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4" name=""/>
          <p:cNvSpPr/>
          <p:nvPr/>
        </p:nvSpPr>
        <p:spPr>
          <a:xfrm>
            <a:off x="6444720" y="6400800"/>
            <a:ext cx="2628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rovum &amp; Chapman (1988)</a:t>
            </a:r>
            <a:endParaRPr b="0" lang="en-US" sz="1200" spc="-1" strike="noStrike">
              <a:solidFill>
                <a:srgbClr val="000000"/>
              </a:solidFill>
              <a:latin typeface="Times New Roman"/>
            </a:endParaRPr>
          </a:p>
        </p:txBody>
      </p:sp>
      <p:pic>
        <p:nvPicPr>
          <p:cNvPr id="55" name="diet%209" descr=""/>
          <p:cNvPicPr/>
          <p:nvPr/>
        </p:nvPicPr>
        <p:blipFill>
          <a:blip r:embed="rId1"/>
          <a:stretch/>
        </p:blipFill>
        <p:spPr>
          <a:xfrm>
            <a:off x="1523880" y="1371600"/>
            <a:ext cx="7086600" cy="4691160"/>
          </a:xfrm>
          <a:prstGeom prst="rect">
            <a:avLst/>
          </a:prstGeom>
          <a:ln w="0">
            <a:noFill/>
          </a:ln>
        </p:spPr>
      </p:pic>
      <p:sp>
        <p:nvSpPr>
          <p:cNvPr id="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ffects of sweet, sour, salt and bitter on lucerne intake of sheep</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57" name=""/>
          <p:cNvGraphicFramePr/>
          <p:nvPr/>
        </p:nvGraphicFramePr>
        <p:xfrm>
          <a:off x="0" y="1293840"/>
          <a:ext cx="7772400" cy="4114800"/>
        </p:xfrm>
        <a:graphic>
          <a:graphicData uri="http://schemas.openxmlformats.org/presentationml/2006/ole">
            <p:oleObj r:id="rId1" spid="">
              <p:embed/>
              <p:pic>
                <p:nvPicPr>
                  <p:cNvPr id="58" name="" descr=""/>
                  <p:cNvPicPr/>
                  <p:nvPr/>
                </p:nvPicPr>
                <p:blipFill>
                  <a:blip r:embed="rId2"/>
                  <a:stretch/>
                </p:blipFill>
                <p:spPr>
                  <a:xfrm>
                    <a:off x="0" y="1293840"/>
                    <a:ext cx="7772400" cy="4114800"/>
                  </a:xfrm>
                  <a:prstGeom prst="rect">
                    <a:avLst/>
                  </a:prstGeom>
                  <a:ln w="0">
                    <a:noFill/>
                  </a:ln>
                </p:spPr>
              </p:pic>
            </p:oleObj>
          </a:graphicData>
        </a:graphic>
      </p:graphicFrame>
      <p:sp>
        <p:nvSpPr>
          <p:cNvPr id="59" name=""/>
          <p:cNvSpPr/>
          <p:nvPr/>
        </p:nvSpPr>
        <p:spPr>
          <a:xfrm>
            <a:off x="6893640" y="6400800"/>
            <a:ext cx="2180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happle et al. (1987)</a:t>
            </a:r>
            <a:endParaRPr b="0" lang="en-US" sz="1200" spc="-1" strike="noStrike">
              <a:solidFill>
                <a:srgbClr val="000000"/>
              </a:solidFill>
              <a:latin typeface="Times New Roman"/>
            </a:endParaRPr>
          </a:p>
        </p:txBody>
      </p:sp>
      <p:pic>
        <p:nvPicPr>
          <p:cNvPr id="60" name="diet%208" descr=""/>
          <p:cNvPicPr/>
          <p:nvPr/>
        </p:nvPicPr>
        <p:blipFill>
          <a:blip r:embed="rId3"/>
          <a:stretch/>
        </p:blipFill>
        <p:spPr>
          <a:xfrm>
            <a:off x="1219320" y="1193760"/>
            <a:ext cx="7848360" cy="4815000"/>
          </a:xfrm>
          <a:prstGeom prst="rect">
            <a:avLst/>
          </a:prstGeom>
          <a:ln w="0">
            <a:noFill/>
          </a:ln>
        </p:spPr>
      </p:pic>
      <p:sp>
        <p:nvSpPr>
          <p:cNvPr id="6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nsory Impairment and learning about whea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p:txBody>
      </p:sp>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xperience</a:t>
            </a:r>
            <a:endParaRPr b="1" lang="en-US" sz="3200" spc="-1" strike="noStrike">
              <a:solidFill>
                <a:srgbClr val="fafd00"/>
              </a:solidFill>
              <a:latin typeface="Arial"/>
            </a:endParaRPr>
          </a:p>
        </p:txBody>
      </p:sp>
      <p:sp>
        <p:nvSpPr>
          <p:cNvPr id="64"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ophobia - “fear of new”</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eding sequence ?</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animals establish a pattern of “test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come by learning (social facilita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ate of learning about new foods is influenced by maternal food choice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e associations and early experienc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e is a possibility that animals are more sensitive to some sensory cues early in lif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5" name="diet%206" descr=""/>
          <p:cNvPicPr/>
          <p:nvPr/>
        </p:nvPicPr>
        <p:blipFill>
          <a:blip r:embed="rId1"/>
          <a:stretch/>
        </p:blipFill>
        <p:spPr>
          <a:xfrm>
            <a:off x="2057400" y="914400"/>
            <a:ext cx="5562720" cy="4952880"/>
          </a:xfrm>
          <a:prstGeom prst="rect">
            <a:avLst/>
          </a:prstGeom>
          <a:ln w="0">
            <a:noFill/>
          </a:ln>
        </p:spPr>
      </p:pic>
      <p:sp>
        <p:nvSpPr>
          <p:cNvPr id="66" name=""/>
          <p:cNvSpPr/>
          <p:nvPr/>
        </p:nvSpPr>
        <p:spPr>
          <a:xfrm>
            <a:off x="6521040" y="6400800"/>
            <a:ext cx="2555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happle and Lynch (1986)</a:t>
            </a:r>
            <a:endParaRPr b="0" lang="en-US" sz="1200" spc="-1" strike="noStrike">
              <a:solidFill>
                <a:srgbClr val="000000"/>
              </a:solidFill>
              <a:latin typeface="Times New Roman"/>
            </a:endParaRPr>
          </a:p>
        </p:txBody>
      </p:sp>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Learning about a new food - wheat</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8" name="diet%207" descr=""/>
          <p:cNvPicPr/>
          <p:nvPr/>
        </p:nvPicPr>
        <p:blipFill>
          <a:blip r:embed="rId1"/>
          <a:stretch/>
        </p:blipFill>
        <p:spPr>
          <a:xfrm>
            <a:off x="2209680" y="1095480"/>
            <a:ext cx="5486400" cy="5305320"/>
          </a:xfrm>
          <a:prstGeom prst="rect">
            <a:avLst/>
          </a:prstGeom>
          <a:ln w="0">
            <a:noFill/>
          </a:ln>
        </p:spPr>
      </p:pic>
      <p:sp>
        <p:nvSpPr>
          <p:cNvPr id="69" name=""/>
          <p:cNvSpPr/>
          <p:nvPr/>
        </p:nvSpPr>
        <p:spPr>
          <a:xfrm>
            <a:off x="7011000" y="6400800"/>
            <a:ext cx="2061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Lynch, et al. (1992)</a:t>
            </a:r>
            <a:endParaRPr b="0" lang="en-US" sz="1200" spc="-1" strike="noStrike">
              <a:solidFill>
                <a:srgbClr val="000000"/>
              </a:solidFill>
              <a:latin typeface="Times New Roman"/>
            </a:endParaRPr>
          </a:p>
        </p:txBody>
      </p:sp>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ocial effects on learning about food</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nsitive Period for Cues?</a:t>
            </a:r>
            <a:endParaRPr b="1" lang="en-US" sz="3200" spc="-1" strike="noStrike">
              <a:solidFill>
                <a:srgbClr val="fafd00"/>
              </a:solidFill>
              <a:latin typeface="Arial"/>
            </a:endParaRPr>
          </a:p>
        </p:txBody>
      </p:sp>
      <p:sp>
        <p:nvSpPr>
          <p:cNvPr id="72"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es : Flavour and Odou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t via olfactory learning vs innate?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sitive period in early lif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rmonal modulation of olfactory sensitivit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avour Enhanc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n issue for grazing animals but of interest to feed manufacturing companies for supplementary feeds and or specialised feeds for monogastrics.</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Geoff Hinch</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ost-Ingestive Consequences</a:t>
            </a:r>
            <a:endParaRPr b="1" lang="en-US" sz="3200" spc="-1" strike="noStrike">
              <a:solidFill>
                <a:srgbClr val="fafd00"/>
              </a:solidFill>
              <a:latin typeface="Arial"/>
            </a:endParaRPr>
          </a:p>
        </p:txBody>
      </p:sp>
      <p:sp>
        <p:nvSpPr>
          <p:cNvPr id="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emory about a food is associated with the link between cues and post- ingestive outcom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gative post-ingestive outcome creates an Avers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xins - alkaloids, phenolics (tannins), terpenoid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sitive post-ingestive effects difficult to demonstrate. Maybe associated with the correction of a nutrient imbalanc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02:02:20Z</dcterms:created>
  <dc:creator>USER</dc:creator>
  <dc:description/>
  <dc:language>en-US</dc:language>
  <cp:lastModifiedBy>Hdaily</cp:lastModifiedBy>
  <cp:lastPrinted>2000-03-22T02:30:22Z</cp:lastPrinted>
  <dcterms:modified xsi:type="dcterms:W3CDTF">2000-06-15T01:54:37Z</dcterms:modified>
  <cp:revision>3</cp:revision>
  <dc:subject/>
  <dc:title>How does a sheep learn about a new food?</dc:title>
</cp:coreProperties>
</file>