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ECE9-D50A-4E55-A766-483E205F6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6494-11A2-4A58-9224-0B6B0098F1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looks at some of the principles of diet selection in grazing sheep.  It considers the effects of tiller length, availability of green material, moisture content and energy requirements on the choice the sheep makes as to which components of the feed on offer it will consume.  It emphasises that the relative proportions of pasture species in the diet generally does not reflect the relative proportions of these species in the pasture.  It also demonstrates that diet selection varies considerably between individual sheep grazing the same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562040" y="533520"/>
            <a:ext cx="3657600" cy="2743200"/>
          </a:xfrm>
          <a:prstGeom prst="rect">
            <a:avLst/>
          </a:prstGeom>
          <a:ln w="0">
            <a:noFill/>
          </a:ln>
        </p:spPr>
      </p:sp>
      <p:sp>
        <p:nvSpPr>
          <p:cNvPr id="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L’Huiller, P.J., Poppi, D.P. and Fraser, J.J. (1984). Influence of green leaf distribution and diet selection by sheep and the implication for animal performance. </a:t>
            </a:r>
            <a:r>
              <a:rPr b="0" i="1" lang="en-US" sz="1200" spc="-1" strike="noStrike">
                <a:solidFill>
                  <a:srgbClr val="000000"/>
                </a:solidFill>
                <a:latin typeface="Times New Roman"/>
              </a:rPr>
              <a:t>Proc. NZ. Soc. Anim. Prod</a:t>
            </a:r>
            <a:r>
              <a:rPr b="0" lang="en-US" sz="1200" spc="-1" strike="noStrike">
                <a:solidFill>
                  <a:srgbClr val="000000"/>
                </a:solidFill>
                <a:latin typeface="Times New Roman"/>
              </a:rPr>
              <a:t>. </a:t>
            </a:r>
            <a:r>
              <a:rPr b="1" lang="en-US" sz="1200" spc="-1" strike="noStrike">
                <a:solidFill>
                  <a:srgbClr val="000000"/>
                </a:solidFill>
                <a:latin typeface="Times New Roman"/>
              </a:rPr>
              <a:t>44</a:t>
            </a:r>
            <a:r>
              <a:rPr b="0" lang="en-US" sz="1200" spc="-1" strike="noStrike">
                <a:solidFill>
                  <a:srgbClr val="000000"/>
                </a:solidFill>
                <a:latin typeface="Times New Roman"/>
              </a:rPr>
              <a:t>: 105-10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the diet does not generally reflect the composition of the pasture.  In this example, green grass leaf comprised less than 25% of the total pasture available while the bulk comprised dead material.  However, the diet of the sheep grazing this pasture comprised at least 75% of green grass leaf.  This provides a clear demonstration of diet selectivity in sheep.  It is important to remember, then, that when green material is available, it will comprise the bulk of the diet, even if it does not comprise the bulk of the feed on offer.  As selectivity is not as marked in cattle as it is in sheep, there is a greater tendency for diet composition to more closely reflect the composition of feed on offer in that speci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shows a New England pasture in autumn, comprising phalaris (both green and dead material) in the front of the picture and forb species in the background (probably native medics and weeds).  Why is there a large clump of phalaris adjacent to what appears to be a very over-grazed are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receiving the greatest concentration of grazing reflects green material availability and the presence of preferred plant species.  The result is that grazing pressure is not uniformly distributed across the entire paddock, with a tendency for over-grazing of preferred species and a competitive advantage for less preferred species.  Stocking rates must be sufficiently low, however, to allow major selectivity to be express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562040" y="533520"/>
            <a:ext cx="3657600" cy="2743200"/>
          </a:xfrm>
          <a:prstGeom prst="rect">
            <a:avLst/>
          </a:prstGeom>
          <a:ln w="0">
            <a:noFill/>
          </a:ln>
        </p:spPr>
      </p:sp>
      <p:sp>
        <p:nvSpPr>
          <p:cNvPr id="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room, D.M. and Arnold, G.W. (1986). Selection by grazing sheep of pasture plants at low herbage availability and responses of plants to grazing.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7</a:t>
            </a:r>
            <a:r>
              <a:rPr b="0" lang="en-US" sz="1200" spc="-1" strike="noStrike">
                <a:solidFill>
                  <a:srgbClr val="000000"/>
                </a:solidFill>
                <a:latin typeface="Times New Roman"/>
              </a:rPr>
              <a:t>: 527-53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results of a study conducted in Australia (Mediterranean environment – rye grass, sub clover, capeweed, erodium, silver grass).  The composition of the diet in grazing sheep does not reflect the composition of the total feed on offer.  But more importantly, there is substantial variation between individual sheep in diet composition, even when grazing in the same paddock.  Note the difference between the two sheep in the proportion of sub clover in the die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gree of selectivity by ruminants depends on specific forage.  Selectivity of lupins is extremely high, with a preference up to 25x greater than anything else in the paddock (this refers to sweet lupins in US rangelands).  The normal level of selectivity under Australian conditions is from 1.5-2.5x for one species over ano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green material is preferred over dry (due to the influence of moisture content on feed intake), leaf is preferred over stem (likely to be due to soluble carbohydrate differences) and clover preferred over grass (depending on time of da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otivates sheep in terms of eating?  Firstly, they are gregarious by nature – they respond to each other.  Secondly, they are fairly fearful animals – both in terms of other animals (e.g. people, dogs) but also fearful of new foods (i.e. neophobia).  So when it comes to feeding choices, what are some of the factors about which the sheep must make decis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to eat</a:t>
            </a:r>
            <a:r>
              <a:rPr b="0" lang="en-US" sz="1200" spc="-1" strike="noStrike">
                <a:solidFill>
                  <a:srgbClr val="000000"/>
                </a:solidFill>
                <a:latin typeface="Times New Roman"/>
              </a:rPr>
              <a:t> – like most ruminants, there is a circadian pattern (essentially based on light patterns), with animals showing a tendency for feeding at first light and in the evening prior to sunset.  Depending on availability of feed, they will also feed at times throughout the day. The maximum feeding period for Merino sheep is up to 13 hours per day (generally 6-7 hours with normal feed availability), with the remainder being for ruminating and resting.  If in an animal house, maintenance rations can be eaten within 20 minutes.  So intake rates are adjusted depending on where the sheep are and how much feed is available to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re to eat</a:t>
            </a:r>
            <a:r>
              <a:rPr b="0" lang="en-US" sz="1200" spc="-1" strike="noStrike">
                <a:solidFill>
                  <a:srgbClr val="000000"/>
                </a:solidFill>
                <a:latin typeface="Times New Roman"/>
              </a:rPr>
              <a:t> – sheep generally restrict their movements to within a few square kilometres (ie. there is a home range), utilising feed within this range.  Merinos are an exception to this, with some studies showing a very wide ranging behaviour.  There is also an influence of plant species, with grazing being more concentrated close to some species (preferred plant communities) than oth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o eat</a:t>
            </a:r>
            <a:r>
              <a:rPr b="0" lang="en-US" sz="1200" spc="-1" strike="noStrike">
                <a:solidFill>
                  <a:srgbClr val="000000"/>
                </a:solidFill>
                <a:latin typeface="Times New Roman"/>
              </a:rPr>
              <a:t> – this is the topic of diet selection: why do sheep choose to eat the things they d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uch to eat</a:t>
            </a:r>
            <a:r>
              <a:rPr b="0" lang="en-US" sz="1200" spc="-1" strike="noStrike">
                <a:solidFill>
                  <a:srgbClr val="000000"/>
                </a:solidFill>
                <a:latin typeface="Times New Roman"/>
              </a:rPr>
              <a:t> – this is related to availability of feed and level of sa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562040" y="533520"/>
            <a:ext cx="3657600" cy="2743200"/>
          </a:xfrm>
          <a:prstGeom prst="rect">
            <a:avLst/>
          </a:prstGeom>
          <a:ln w="0">
            <a:noFill/>
          </a:ln>
        </p:spPr>
      </p:sp>
      <p:sp>
        <p:nvSpPr>
          <p:cNvPr id="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llden, W.G. and Whittaker, I.A. (1970). The determinants of herbage intake by grazing sheep: the interrelationships of factors influencing herbage intake and availability.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21</a:t>
            </a:r>
            <a:r>
              <a:rPr b="0" lang="en-US" sz="1200" spc="-1" strike="noStrike">
                <a:solidFill>
                  <a:srgbClr val="000000"/>
                </a:solidFill>
                <a:latin typeface="Times New Roman"/>
              </a:rPr>
              <a:t>: 755-6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e of intake responds to the type of plants available.  As herbage availability and tiller length increase, sheep adjust the size and frequency of their bites such that they take fewer but larger bites.  Except for the situation where pasture is very short, rate of feed intake is relatively constant and independent of feed availability.  Thus sheep are quite adaptable to ensure they consume the amount of feed that they requi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zing animal is aiming to consume a certain total amount of feed.  But it is not simply a matter of total feed intake.  The animal must first make a decision as to what is food and what isn’t – recognition of potential foods while grazing throughout the pasture.  So the actual composition of the diet becomes important and this introduces the concept of diet selection.  Importantly, no Australian pasture system reflects a perfect monoculture, such that there are a number of plant species available on which the sheep can base its die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llden, W.G. and Whittaker, I.A. (1970). The determinants of herbage intake by grazing sheep: the interrelationships of factors influencing herbage intake and availability.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21</a:t>
            </a:r>
            <a:r>
              <a:rPr b="0" lang="en-US" sz="1200" spc="-1" strike="noStrike">
                <a:solidFill>
                  <a:srgbClr val="000000"/>
                </a:solidFill>
                <a:latin typeface="Times New Roman"/>
              </a:rPr>
              <a:t>: 755-6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inted in Lynch, J.J., Hinch, G.H. and Adams, D.B. (1992). The Behaviour of Sheep. CAB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 of different age differ in their response in rate of feed intake to tiller length (feed availability).  This graph shows that lambs are less responsive to changes in feed availability than are mature sheep.  Lambs show greater selectivity and possibly less adaptability to changes in the physical form of the fe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vity in sheep is highly variable between individuals.  If you were to put a group of 10 sheep into a paddock, the dietary decisions made would vary widely between the 10, depending on their backgrou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ts are far more selective than sheep, as they have a broader range of plant species that they utilise, including browse.  So when making comparisons of selectivity between animal species, it is important to note the range in plant species which each animal species is likely to consider ea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enning, P.D., Parsons, A.J., et al. (1994). Intake and behaviour responses by sheep to changes in sward characteristics under rotational grazing. </a:t>
            </a:r>
            <a:r>
              <a:rPr b="0" i="1" lang="en-US" sz="1200" spc="-1" strike="noStrike">
                <a:solidFill>
                  <a:srgbClr val="000000"/>
                </a:solidFill>
                <a:latin typeface="Times New Roman"/>
              </a:rPr>
              <a:t>Grass and Forage Science</a:t>
            </a:r>
            <a:r>
              <a:rPr b="0" lang="en-US" sz="1200" spc="-1" strike="noStrike">
                <a:solidFill>
                  <a:srgbClr val="000000"/>
                </a:solidFill>
                <a:latin typeface="Times New Roman"/>
              </a:rPr>
              <a:t> </a:t>
            </a:r>
            <a:r>
              <a:rPr b="1" lang="en-US" sz="1200" spc="-1" strike="noStrike">
                <a:solidFill>
                  <a:srgbClr val="000000"/>
                </a:solidFill>
                <a:latin typeface="Times New Roman"/>
              </a:rPr>
              <a:t>49</a:t>
            </a:r>
            <a:r>
              <a:rPr b="0" lang="en-US" sz="1200" spc="-1" strike="noStrike">
                <a:solidFill>
                  <a:srgbClr val="000000"/>
                </a:solidFill>
                <a:latin typeface="Times New Roman"/>
              </a:rPr>
              <a:t>: 476-4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ility of green leaf material also influences diet selection.  As green leaf availability increases, bite size also increases.  The animal requires fewer bites in a given period of time to obtain the same level of nutrient intake.  The greater the preference of the animal for the feed available, the larger the size of the bite.  Based on this, it would be expected that sheep would show greater preference for legumes over grass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Kenney, P.A., Black, J.L. and Colebrook, W.F. (1984). Factors affecting diet selection by sheep. 3. Dry matter content and particle length of forage.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a:t>
            </a:r>
            <a:r>
              <a:rPr b="1" lang="en-US" sz="1200" spc="-1" strike="noStrike">
                <a:solidFill>
                  <a:srgbClr val="000000"/>
                </a:solidFill>
                <a:latin typeface="Times New Roman"/>
              </a:rPr>
              <a:t>35</a:t>
            </a:r>
            <a:r>
              <a:rPr b="0" lang="en-US" sz="1200" spc="-1" strike="noStrike">
                <a:solidFill>
                  <a:srgbClr val="000000"/>
                </a:solidFill>
                <a:latin typeface="Times New Roman"/>
              </a:rPr>
              <a:t>: 831-83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e of feed intake also relates to the moisture content of the feed.  As dry matter content of the forage increase, rate of intake of wet material declines (top graph), while that of dry material increases (bottom graph).  The implication of this is that an animal can consume more feed in a given period of time if moisture content of the forage is high.  This fits in with the concept of optimal foraging, where choice is governed by maximum intake achievable for minimum expenditure of energ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Geoff Hinch, The University of New Eng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urnier-Chambrillon, C., Maillard, D. and Fournier, P. (1996). Variabilité du regime alimentaire du sanglier (Sus scofta) dans les granrigues de Mont pelluer. </a:t>
            </a:r>
            <a:r>
              <a:rPr b="0" i="1" lang="en-US" sz="1200" spc="-1" strike="noStrike">
                <a:solidFill>
                  <a:srgbClr val="000000"/>
                </a:solidFill>
                <a:latin typeface="Times New Roman"/>
              </a:rPr>
              <a:t>Game Wildlife</a:t>
            </a:r>
            <a:r>
              <a:rPr b="0" lang="en-US" sz="1200" spc="-1" strike="noStrike">
                <a:solidFill>
                  <a:srgbClr val="000000"/>
                </a:solidFill>
                <a:latin typeface="Times New Roman"/>
              </a:rPr>
              <a:t>. </a:t>
            </a:r>
            <a:r>
              <a:rPr b="1" lang="en-US" sz="1200" spc="-1" strike="noStrike">
                <a:solidFill>
                  <a:srgbClr val="000000"/>
                </a:solidFill>
                <a:latin typeface="Times New Roman"/>
              </a:rPr>
              <a:t>13</a:t>
            </a:r>
            <a:r>
              <a:rPr b="0" lang="en-US" sz="1200" spc="-1" strike="noStrike">
                <a:solidFill>
                  <a:srgbClr val="000000"/>
                </a:solidFill>
                <a:latin typeface="Times New Roman"/>
              </a:rPr>
              <a:t>: 1457-147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shown above indicates a wide variety of feeds being chosen by an omnivore such as the wild European boar.  So why does an animal include such variety in its diet?  Are there other characteristics of feeds, other than dry matter content, that influence why one is chosen over ano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oice of food to eat depends in part on the feed requirements of the individual animal, in particular protein and energy.  Of the two, energy requirement is the greatest determinant of choice for ruminants.  This introduces the notion of animals basing their dietary decisions on “what they know they ne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7810560" y="5791320"/>
          <a:ext cx="1123920" cy="628560"/>
        </p:xfrm>
        <a:graphic>
          <a:graphicData uri="http://schemas.openxmlformats.org/presentationml/2006/ole">
            <p:oleObj progId="Word.Document.12" r:id="rId1" spid="">
              <p:embed/>
              <p:pic>
                <p:nvPicPr>
                  <p:cNvPr id="48" name="" descr=""/>
                  <p:cNvPicPr/>
                  <p:nvPr/>
                </p:nvPicPr>
                <p:blipFill>
                  <a:blip r:embed="rId2"/>
                  <a:stretch/>
                </p:blipFill>
                <p:spPr>
                  <a:xfrm>
                    <a:off x="7810560" y="5791320"/>
                    <a:ext cx="1123920" cy="628560"/>
                  </a:xfrm>
                  <a:prstGeom prst="rect">
                    <a:avLst/>
                  </a:prstGeom>
                  <a:ln w="0">
                    <a:noFill/>
                  </a:ln>
                </p:spPr>
              </p:pic>
            </p:oleObj>
          </a:graphicData>
        </a:graphic>
      </p:graphicFrame>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et Selection in Sheep</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eoff Hinch, The University of New Englan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2209680"/>
            <a:ext cx="3809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pecies composition of pasture and oesophageal samples </a:t>
            </a:r>
            <a:endParaRPr b="1" lang="en-US" sz="3200" spc="-1" strike="noStrike">
              <a:solidFill>
                <a:srgbClr val="fafd00"/>
              </a:solidFill>
              <a:latin typeface="Arial"/>
            </a:endParaRPr>
          </a:p>
        </p:txBody>
      </p:sp>
      <p:pic>
        <p:nvPicPr>
          <p:cNvPr id="76" name="diet%204" descr=""/>
          <p:cNvPicPr/>
          <p:nvPr/>
        </p:nvPicPr>
        <p:blipFill>
          <a:blip r:embed="rId1"/>
          <a:stretch/>
        </p:blipFill>
        <p:spPr>
          <a:xfrm>
            <a:off x="4572000" y="76320"/>
            <a:ext cx="4203720" cy="6324480"/>
          </a:xfrm>
          <a:prstGeom prst="rect">
            <a:avLst/>
          </a:prstGeom>
          <a:ln w="0">
            <a:noFill/>
          </a:ln>
        </p:spPr>
      </p:pic>
      <p:sp>
        <p:nvSpPr>
          <p:cNvPr id="77" name=""/>
          <p:cNvSpPr/>
          <p:nvPr/>
        </p:nvSpPr>
        <p:spPr>
          <a:xfrm>
            <a:off x="6912000" y="6400800"/>
            <a:ext cx="2160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L’Huiller et al. (198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78" name="412p2" descr=""/>
          <p:cNvPicPr/>
          <p:nvPr/>
        </p:nvPicPr>
        <p:blipFill>
          <a:blip r:embed="rId1"/>
          <a:srcRect l="2294" t="3310" r="1385" b="2412"/>
          <a:stretch/>
        </p:blipFill>
        <p:spPr>
          <a:xfrm>
            <a:off x="2895480" y="914400"/>
            <a:ext cx="4098960" cy="5562720"/>
          </a:xfrm>
          <a:prstGeom prst="rect">
            <a:avLst/>
          </a:prstGeom>
          <a:ln w="0">
            <a:noFill/>
          </a:ln>
        </p:spPr>
      </p:pic>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result of selection ?</a:t>
            </a:r>
            <a:endParaRPr b="1" lang="en-US" sz="3200" spc="-1" strike="noStrike">
              <a:solidFill>
                <a:srgbClr val="fafd00"/>
              </a:solidFill>
              <a:latin typeface="Arial"/>
            </a:endParaRPr>
          </a:p>
        </p:txBody>
      </p:sp>
      <p:sp>
        <p:nvSpPr>
          <p:cNvPr id="80"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81" name="diet%205" descr=""/>
          <p:cNvPicPr/>
          <p:nvPr/>
        </p:nvPicPr>
        <p:blipFill>
          <a:blip r:embed="rId1"/>
          <a:stretch/>
        </p:blipFill>
        <p:spPr>
          <a:xfrm>
            <a:off x="1600200" y="1238400"/>
            <a:ext cx="6858000" cy="4857480"/>
          </a:xfrm>
          <a:prstGeom prst="rect">
            <a:avLst/>
          </a:prstGeom>
          <a:ln w="0">
            <a:noFill/>
          </a:ln>
        </p:spPr>
      </p:pic>
      <p:sp>
        <p:nvSpPr>
          <p:cNvPr id="82" name=""/>
          <p:cNvSpPr/>
          <p:nvPr/>
        </p:nvSpPr>
        <p:spPr>
          <a:xfrm>
            <a:off x="6605640" y="6324480"/>
            <a:ext cx="2468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oom and Arnold (1986)</a:t>
            </a:r>
            <a:endParaRPr b="0" lang="en-US" sz="1200" spc="-1" strike="noStrike">
              <a:solidFill>
                <a:srgbClr val="000000"/>
              </a:solidFill>
              <a:latin typeface="Times New Roman"/>
            </a:endParaRPr>
          </a:p>
        </p:txBody>
      </p:sp>
      <p:sp>
        <p:nvSpPr>
          <p:cNvPr id="8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heep choices from 5 plant species -oesophageal samples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ctivity - continued</a:t>
            </a:r>
            <a:endParaRPr b="1" lang="en-US" sz="3200" spc="-1" strike="noStrike">
              <a:solidFill>
                <a:srgbClr val="fafd00"/>
              </a:solidFill>
              <a:latin typeface="Arial"/>
            </a:endParaRPr>
          </a:p>
        </p:txBody>
      </p:sp>
      <p:sp>
        <p:nvSpPr>
          <p:cNvPr id="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gree of selectivity by ruminan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upin species - 25 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rmal 1.5 - 2.5 X</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ll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en over Dry (wa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f over stem (soluble carbohydr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ety (clover vs grass)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eeding Choices</a:t>
            </a:r>
            <a:endParaRPr b="1" lang="en-US" sz="3200" spc="-1" strike="noStrike">
              <a:solidFill>
                <a:srgbClr val="fafd00"/>
              </a:solidFill>
              <a:latin typeface="Arial"/>
            </a:endParaRPr>
          </a:p>
        </p:txBody>
      </p:sp>
      <p:sp>
        <p:nvSpPr>
          <p:cNvPr id="5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to Eat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rcadian patter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re to Eat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me range, plant communities, feeding patches, feeding station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to Ea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od sele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much to Eat</a:t>
            </a:r>
            <a:endParaRPr b="1" lang="en-US" sz="2800" spc="-1" strike="noStrike">
              <a:solidFill>
                <a:srgbClr val="ffffff"/>
              </a:solidFill>
              <a:latin typeface="Arial"/>
            </a:endParaRPr>
          </a:p>
        </p:txBody>
      </p:sp>
      <p:sp>
        <p:nvSpPr>
          <p:cNvPr id="53"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4" name="diet%203" descr=""/>
          <p:cNvPicPr/>
          <p:nvPr/>
        </p:nvPicPr>
        <p:blipFill>
          <a:blip r:embed="rId1"/>
          <a:stretch/>
        </p:blipFill>
        <p:spPr>
          <a:xfrm>
            <a:off x="1905120" y="1285920"/>
            <a:ext cx="6476760" cy="4809960"/>
          </a:xfrm>
          <a:prstGeom prst="rect">
            <a:avLst/>
          </a:prstGeom>
          <a:ln w="0">
            <a:noFill/>
          </a:ln>
        </p:spPr>
      </p:pic>
      <p:sp>
        <p:nvSpPr>
          <p:cNvPr id="55" name=""/>
          <p:cNvSpPr/>
          <p:nvPr/>
        </p:nvSpPr>
        <p:spPr>
          <a:xfrm>
            <a:off x="6580080" y="6400800"/>
            <a:ext cx="249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llden &amp; Whittaker (1970)</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lationship between feed availability, bite size and bite rat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hat to Eat?</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the potential food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 from the range of feeds availabl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that monoculture is unusual except for full feeding intensive systems!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0" name="w412f9" descr=""/>
          <p:cNvPicPr/>
          <p:nvPr/>
        </p:nvPicPr>
        <p:blipFill>
          <a:blip r:embed="rId1"/>
          <a:stretch/>
        </p:blipFill>
        <p:spPr>
          <a:xfrm>
            <a:off x="2819520" y="1066680"/>
            <a:ext cx="4292640" cy="5181840"/>
          </a:xfrm>
          <a:prstGeom prst="rect">
            <a:avLst/>
          </a:prstGeom>
          <a:ln w="0">
            <a:noFill/>
          </a:ln>
        </p:spPr>
      </p:pic>
      <p:sp>
        <p:nvSpPr>
          <p:cNvPr id="61"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Relationship between tiller height and intake rate of mature and immature and sheep</a:t>
            </a:r>
            <a:endParaRPr b="1" lang="en-US" sz="2800" spc="-1" strike="noStrike">
              <a:solidFill>
                <a:srgbClr val="fafd00"/>
              </a:solidFill>
              <a:latin typeface="Arial"/>
            </a:endParaRPr>
          </a:p>
        </p:txBody>
      </p:sp>
      <p:sp>
        <p:nvSpPr>
          <p:cNvPr id="62" name=""/>
          <p:cNvSpPr/>
          <p:nvPr/>
        </p:nvSpPr>
        <p:spPr>
          <a:xfrm>
            <a:off x="6580080" y="6400800"/>
            <a:ext cx="2492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llden &amp; Whittaker (197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
          <p:cNvSpPr/>
          <p:nvPr/>
        </p:nvSpPr>
        <p:spPr>
          <a:xfrm>
            <a:off x="8079840" y="6507000"/>
            <a:ext cx="988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ctivity</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istic of foraging animals including the traditional intensively farmed speci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y variable between individua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es differ in degre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tle &lt; sheep &lt; goa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so variation associated with the proportion of browse in the die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6" name="diet%202" descr=""/>
          <p:cNvPicPr/>
          <p:nvPr/>
        </p:nvPicPr>
        <p:blipFill>
          <a:blip r:embed="rId1"/>
          <a:stretch/>
        </p:blipFill>
        <p:spPr>
          <a:xfrm>
            <a:off x="1676520" y="1219320"/>
            <a:ext cx="6933960" cy="4825800"/>
          </a:xfrm>
          <a:prstGeom prst="rect">
            <a:avLst/>
          </a:prstGeom>
          <a:ln w="0">
            <a:noFill/>
          </a:ln>
        </p:spPr>
      </p:pic>
      <p:sp>
        <p:nvSpPr>
          <p:cNvPr id="67" name=""/>
          <p:cNvSpPr/>
          <p:nvPr/>
        </p:nvSpPr>
        <p:spPr>
          <a:xfrm>
            <a:off x="6977520" y="6400800"/>
            <a:ext cx="2172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Penning et al. (1994)</a:t>
            </a:r>
            <a:endParaRPr b="0" lang="en-US" sz="1200" spc="-1" strike="noStrike">
              <a:solidFill>
                <a:srgbClr val="000000"/>
              </a:solidFill>
              <a:latin typeface="Times New Roman"/>
            </a:endParaRPr>
          </a:p>
        </p:txBody>
      </p:sp>
      <p:sp>
        <p:nvSpPr>
          <p:cNvPr id="6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lationship between sheep bite size(mass) and available green leaf </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1752480"/>
            <a:ext cx="33526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Relationship between dry matter and intake rate of wet or dry material </a:t>
            </a:r>
            <a:endParaRPr b="1" lang="en-US" sz="2800" spc="-1" strike="noStrike">
              <a:solidFill>
                <a:srgbClr val="fafd00"/>
              </a:solidFill>
              <a:latin typeface="Arial"/>
            </a:endParaRPr>
          </a:p>
        </p:txBody>
      </p:sp>
      <p:pic>
        <p:nvPicPr>
          <p:cNvPr id="70" name="diet%201" descr=""/>
          <p:cNvPicPr/>
          <p:nvPr/>
        </p:nvPicPr>
        <p:blipFill>
          <a:blip r:embed="rId1"/>
          <a:stretch/>
        </p:blipFill>
        <p:spPr>
          <a:xfrm>
            <a:off x="4495680" y="0"/>
            <a:ext cx="4143600" cy="6248520"/>
          </a:xfrm>
          <a:prstGeom prst="rect">
            <a:avLst/>
          </a:prstGeom>
          <a:ln w="0">
            <a:noFill/>
          </a:ln>
        </p:spPr>
      </p:pic>
      <p:sp>
        <p:nvSpPr>
          <p:cNvPr id="71" name=""/>
          <p:cNvSpPr/>
          <p:nvPr/>
        </p:nvSpPr>
        <p:spPr>
          <a:xfrm>
            <a:off x="6943320" y="6400800"/>
            <a:ext cx="2129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Kenney et al. (198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219320" y="12952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u="sng">
                <a:solidFill>
                  <a:srgbClr val="ffffff"/>
                </a:solidFill>
                <a:uFillTx/>
                <a:latin typeface="Arial"/>
              </a:rPr>
              <a:t>Food</a:t>
            </a:r>
            <a:r>
              <a:rPr b="0" lang="en-US" sz="2800" spc="-1" strike="noStrike">
                <a:solidFill>
                  <a:srgbClr val="ffffff"/>
                </a:solidFill>
                <a:latin typeface="Arial"/>
              </a:rPr>
              <a:t>	</a:t>
            </a:r>
            <a:r>
              <a:rPr b="0" lang="en-US" sz="2800" spc="-1" strike="noStrike">
                <a:solidFill>
                  <a:srgbClr val="ffffff"/>
                </a:solidFill>
                <a:latin typeface="Arial"/>
              </a:rPr>
              <a:t>	</a:t>
            </a:r>
            <a:r>
              <a:rPr b="1" lang="en-US" sz="3200" spc="-1" strike="noStrike" u="sng">
                <a:solidFill>
                  <a:srgbClr val="ffffff"/>
                </a:solidFill>
                <a:uFillTx/>
                <a:latin typeface="Arial"/>
              </a:rPr>
              <a:t>% Dry matter</a:t>
            </a:r>
            <a:endParaRPr b="1"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orn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47</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uit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5</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e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5</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plant</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5</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shrooms</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2</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in</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32</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ima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3</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f litter</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1</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
          <p:cNvSpPr/>
          <p:nvPr/>
        </p:nvSpPr>
        <p:spPr>
          <a:xfrm>
            <a:off x="6032160" y="6400800"/>
            <a:ext cx="3042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eoff Hinch</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ournier-Chambrillon et al. (1996)</a:t>
            </a:r>
            <a:endParaRPr b="0" lang="en-US" sz="1200" spc="-1" strike="noStrike">
              <a:solidFill>
                <a:srgbClr val="000000"/>
              </a:solidFill>
              <a:latin typeface="Times New Roman"/>
            </a:endParaRPr>
          </a:p>
        </p:txBody>
      </p:sp>
      <p:sp>
        <p:nvSpPr>
          <p:cNvPr id="7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Food Choices of Omnivore - Wild Boa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1:11:24Z</dcterms:created>
  <dc:creator>USER</dc:creator>
  <dc:description/>
  <dc:language>en-US</dc:language>
  <cp:lastModifiedBy>Hdaily</cp:lastModifiedBy>
  <cp:lastPrinted>2000-03-22T01:39:32Z</cp:lastPrinted>
  <dcterms:modified xsi:type="dcterms:W3CDTF">2000-06-15T01:42:03Z</dcterms:modified>
  <cp:revision>3</cp:revision>
  <dc:subject/>
  <dc:title>No Slide Title</dc:title>
</cp:coreProperties>
</file>