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46C7-3DBD-44B4-8FCC-2F89B41C3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completion of this module the reader will have an understanding of the differences in the worsted and woollen processing systems, the raw materials which go into each system and the final product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C1B1-7B53-4004-91F1-B53D1D186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Merino wools are processed on either of two (2) processing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WORSTED </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OOLL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 produces mostly fine and medium Merino wools. Approximately 85% of Australia's raw wool, fleece and skirtings, is directed towards the WORSTED processing system.  The other 15% are processed on the WOOLLEN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t should be noted woollen processing worldwide represents almost 50% of all wool processing.  In countries such as the old USSR and China, where heavy military type uniforms were worn and where price differentials are of ultimate importance, woollen processing was and still is predomin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e chart above shows a breakdown of the wool types produced in the 1995-96 season.   In that year 83% of the Australian clip would have been processed through the worsted processing system, whilst 17% (the weaners, lambs, locks, crutchings and other) was destined for the woollen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apporximately 90% of wool income comes from worsted combing wools.  Thus far more emphasis is placed on research and development into the worsted processing system of yarn manufa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lains diagramatically the steps in each of the processing systems.  The woollen processing system is less complex than the worsted system.  It includes a carbonising stage (see ‘Carbonising’ module) but does not have the gilling and combing sequences of the worst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ing machines in each system use the same </a:t>
            </a:r>
            <a:r>
              <a:rPr b="0" lang="en-GB" sz="1200" spc="-1" strike="noStrike">
                <a:solidFill>
                  <a:srgbClr val="000000"/>
                </a:solidFill>
                <a:latin typeface="Times New Roman"/>
              </a:rPr>
              <a:t>THREE basic actions</a:t>
            </a:r>
            <a:br>
              <a:rPr sz="1200"/>
            </a:br>
            <a:r>
              <a:rPr b="0" lang="en-GB" sz="1200" spc="-1" strike="noStrike">
                <a:solidFill>
                  <a:srgbClr val="000000"/>
                </a:solidFill>
                <a:latin typeface="Times New Roman"/>
              </a:rPr>
              <a:t>of, carding, stripping and raising (see “Carding Principles” module).  However, the woollen card has no burr beaters or morels for burr removal.  The only VM which is removed during woollen carding is that which falls out or is crushed by a Peralta device placed at the end of the first section of the card.  See “Processing on the Woollen System” module for a more detailed description of a woollen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difference between the two processing systems is the output from the cards.  The worsted card produces a sliver which is subsequently gilled and combed into a top, whilst the woollen card produces slubbings.  These slubbings are collected on condenser bobbins which are then placed directly onto a spinning frame.  </a:t>
            </a:r>
            <a:r>
              <a:rPr b="0" lang="en-AU" sz="1200" spc="-1" strike="noStrike">
                <a:solidFill>
                  <a:srgbClr val="000000"/>
                </a:solidFill>
                <a:latin typeface="Times New Roman"/>
              </a:rPr>
              <a:t>The fibre alignment and linear density of a woollen yarn is primarily determined at the carding st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ing points for both systems of yarn manufacture are at the greasy wool and yarn stages. The other products traded are TOP in the worsted system and clean wool (scoured, or scoured and carbonised) for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nother method of processing called semi-worsted.  This method although not widely used, is for the manufacture of long coarse wools making heavy weight yarns for the carpet and upholstery industries.  The process is similar to the worsted system but without the combing sequence. Therefore the wool used must be VM free and long since there is no removal of short fibres and vegetable matter in the combing process. Mackie equipment from Belfast is specifically designed  for this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2852-A3DD-4952-8ECD-9186A279C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rsted system processes virgin fleece and skirting wools with a mean staple length of over 50mm. The WOOLLEN system however, processes (i) virgin wool of staple length less than 50mm, (ii) open and broken top from the worsted system, (iii) combing waste (noil) from the worsted system and (iv) recycled materia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 Short Woo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arding wools, consist of short wools such as lambs’ wool, crutchings, locks and prematurely shorn fleece wools. These wools are all processed on the woollen system, however it should be noted that commercial practice is to blend these wools into a homogeneous batch or consignment that will produce yarn with the count, evenness and tensile strength (tenacity) the customer requires. Lamb's wool is the only category of wool which is sometimes processed on the woollen system without blending with wools from other categori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i) Open and Broken T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ops produced on the worsted system are sometimes reprocessed on the woollen system. The tops may be stretch broken to a specific fibre length or just opened and fed as raw material into the woollen card. Lambs’ wools are often used for this purpose to produce a final upper market product where the vegetable matter has been removed in the worsted processing system rather than in the carbonising process. The carbonising process may damage the wool, or alter the soft handle and bright colour which are features of lamb's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ii) Combing waste (Noi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Noil produced during combing in the worsted system consists of short fibres, usually less than 35mm  and vegetable matter (VM). This noil is blended with other wools destined for the woollen system, carbonised to remove VM and then processed through the woollen system. The woollen system does NOT remove short fibres other than those which may be lost (e.g. as fly) during the carding proc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v) Recycled materi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ags, both new and old, thread waste from spinning, twisting and warping can be blended with virgin wool or other re-manufactured material or even used alone and processed through the woollen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New rags may be woven or knitted material and consist of waste clippings etc. from tailors, garment and cloth manufactures. Old rags are discarded garments both knitted and wove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AFD8-903C-4135-B7AD-517F9F57F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difference between the worsted and woollen processing systems is the end product produced.  The worsted system produces a yarn which is lean and fine with the fibres aligned within the yarn.  These yarns can be made into such garments as fine wool undergarments or expensive mens sui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arns produced on the woollen system have a more random fibre array with fibres protruding above the yarn surface, giving the yarn a more hairy appearance. The garments produced on the woollen system are usually HAIRY, BULKY and HEAVY, such as overcoats, womens' winter skirts and mens' tweed sports jackets. However fine woollen knitting yarns are manufactured and this market area may increase as the trend for lighter finer garments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other articles produced on the woollen system are flannels, billiard cloths, rugs and blankets. Some elite non wool animal fibres such as cashmere are also often processed o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arison of Processing Systems: Worsted &amp; Woolle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91760" y="1219320"/>
            <a:ext cx="7325280" cy="5895720"/>
            <a:chOff x="1391760" y="1219320"/>
            <a:chExt cx="7325280" cy="5895720"/>
          </a:xfrm>
        </p:grpSpPr>
        <p:sp>
          <p:nvSpPr>
            <p:cNvPr id="50" name=""/>
            <p:cNvSpPr/>
            <p:nvPr/>
          </p:nvSpPr>
          <p:spPr>
            <a:xfrm>
              <a:off x="1674000" y="5757840"/>
              <a:ext cx="6885360" cy="42408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bonising fleece, pieces and bellies, stain wools, etc</a:t>
              </a:r>
              <a:endParaRPr b="0" lang="en-US" sz="2200" spc="-1" strike="noStrike">
                <a:solidFill>
                  <a:srgbClr val="000000"/>
                </a:solidFill>
                <a:latin typeface="Times New Roman"/>
              </a:endParaRPr>
            </a:p>
          </p:txBody>
        </p:sp>
        <p:sp>
          <p:nvSpPr>
            <p:cNvPr id="51" name=""/>
            <p:cNvSpPr/>
            <p:nvPr/>
          </p:nvSpPr>
          <p:spPr>
            <a:xfrm rot="19620000">
              <a:off x="1961280" y="4438080"/>
              <a:ext cx="1384200" cy="2501640"/>
            </a:xfrm>
            <a:custGeom>
              <a:avLst/>
              <a:gdLst/>
              <a:ahLst/>
              <a:rect l="l" t="t" r="r" b="b"/>
              <a:pathLst>
                <a:path stroke="0" w="21600" h="21600">
                  <a:moveTo>
                    <a:pt x="654" y="7100"/>
                  </a:moveTo>
                  <a:arcTo wR="10800" hR="10800" stAng="-9597766" swAng="4191091"/>
                  <a:lnTo>
                    <a:pt x="10800" y="10800"/>
                  </a:lnTo>
                  <a:close/>
                </a:path>
                <a:path fill="none" w="21600" h="21600">
                  <a:moveTo>
                    <a:pt x="654" y="7100"/>
                  </a:moveTo>
                  <a:arcTo wR="10800" hR="10800" stAng="-9597766" swAng="4191091"/>
                </a:path>
              </a:pathLst>
            </a:custGeom>
            <a:noFill/>
            <a:ln cap="rnd" w="50760">
              <a:solidFill>
                <a:srgbClr val="8cf4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315120" y="1328760"/>
              <a:ext cx="2401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 9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wool income</a:t>
              </a:r>
              <a:endParaRPr b="0" lang="en-US" sz="2400" spc="-1" strike="noStrike">
                <a:solidFill>
                  <a:srgbClr val="000000"/>
                </a:solidFill>
                <a:latin typeface="Times New Roman"/>
              </a:endParaRPr>
            </a:p>
          </p:txBody>
        </p:sp>
        <p:sp>
          <p:nvSpPr>
            <p:cNvPr id="53" name=""/>
            <p:cNvSpPr/>
            <p:nvPr/>
          </p:nvSpPr>
          <p:spPr>
            <a:xfrm flipH="1">
              <a:off x="5465880" y="1549440"/>
              <a:ext cx="99216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028960" y="2933640"/>
              <a:ext cx="366480" cy="1185840"/>
            </a:xfrm>
            <a:custGeom>
              <a:avLst/>
              <a:gdLst/>
              <a:ahLst/>
              <a:rect l="l" t="t" r="r" b="b"/>
              <a:pathLst>
                <a:path w="274" h="824">
                  <a:moveTo>
                    <a:pt x="273" y="263"/>
                  </a:moveTo>
                  <a:lnTo>
                    <a:pt x="273" y="263"/>
                  </a:lnTo>
                  <a:lnTo>
                    <a:pt x="255" y="254"/>
                  </a:lnTo>
                  <a:lnTo>
                    <a:pt x="239" y="246"/>
                  </a:lnTo>
                  <a:lnTo>
                    <a:pt x="222" y="239"/>
                  </a:lnTo>
                  <a:lnTo>
                    <a:pt x="206" y="230"/>
                  </a:lnTo>
                  <a:lnTo>
                    <a:pt x="191" y="221"/>
                  </a:lnTo>
                  <a:lnTo>
                    <a:pt x="176" y="214"/>
                  </a:lnTo>
                  <a:lnTo>
                    <a:pt x="162" y="205"/>
                  </a:lnTo>
                  <a:lnTo>
                    <a:pt x="148" y="196"/>
                  </a:lnTo>
                  <a:lnTo>
                    <a:pt x="135" y="188"/>
                  </a:lnTo>
                  <a:lnTo>
                    <a:pt x="122" y="179"/>
                  </a:lnTo>
                  <a:lnTo>
                    <a:pt x="111" y="171"/>
                  </a:lnTo>
                  <a:lnTo>
                    <a:pt x="99" y="162"/>
                  </a:lnTo>
                  <a:lnTo>
                    <a:pt x="89" y="153"/>
                  </a:lnTo>
                  <a:lnTo>
                    <a:pt x="79" y="145"/>
                  </a:lnTo>
                  <a:lnTo>
                    <a:pt x="70" y="136"/>
                  </a:lnTo>
                  <a:lnTo>
                    <a:pt x="61" y="126"/>
                  </a:lnTo>
                  <a:lnTo>
                    <a:pt x="52" y="118"/>
                  </a:lnTo>
                  <a:lnTo>
                    <a:pt x="45" y="109"/>
                  </a:lnTo>
                  <a:lnTo>
                    <a:pt x="38" y="100"/>
                  </a:lnTo>
                  <a:lnTo>
                    <a:pt x="31" y="91"/>
                  </a:lnTo>
                  <a:lnTo>
                    <a:pt x="25" y="81"/>
                  </a:lnTo>
                  <a:lnTo>
                    <a:pt x="20" y="73"/>
                  </a:lnTo>
                  <a:lnTo>
                    <a:pt x="16" y="64"/>
                  </a:lnTo>
                  <a:lnTo>
                    <a:pt x="11" y="54"/>
                  </a:lnTo>
                  <a:lnTo>
                    <a:pt x="8" y="46"/>
                  </a:lnTo>
                  <a:lnTo>
                    <a:pt x="5" y="36"/>
                  </a:lnTo>
                  <a:lnTo>
                    <a:pt x="3" y="27"/>
                  </a:lnTo>
                  <a:lnTo>
                    <a:pt x="1" y="18"/>
                  </a:lnTo>
                  <a:lnTo>
                    <a:pt x="0" y="8"/>
                  </a:lnTo>
                  <a:lnTo>
                    <a:pt x="0" y="0"/>
                  </a:lnTo>
                  <a:lnTo>
                    <a:pt x="0" y="560"/>
                  </a:lnTo>
                  <a:lnTo>
                    <a:pt x="0" y="569"/>
                  </a:lnTo>
                  <a:lnTo>
                    <a:pt x="1" y="579"/>
                  </a:lnTo>
                  <a:lnTo>
                    <a:pt x="3" y="587"/>
                  </a:lnTo>
                  <a:lnTo>
                    <a:pt x="5" y="597"/>
                  </a:lnTo>
                  <a:lnTo>
                    <a:pt x="8" y="606"/>
                  </a:lnTo>
                  <a:lnTo>
                    <a:pt x="11" y="615"/>
                  </a:lnTo>
                  <a:lnTo>
                    <a:pt x="16" y="625"/>
                  </a:lnTo>
                  <a:lnTo>
                    <a:pt x="20" y="633"/>
                  </a:lnTo>
                  <a:lnTo>
                    <a:pt x="25" y="642"/>
                  </a:lnTo>
                  <a:lnTo>
                    <a:pt x="31" y="652"/>
                  </a:lnTo>
                  <a:lnTo>
                    <a:pt x="38" y="660"/>
                  </a:lnTo>
                  <a:lnTo>
                    <a:pt x="45" y="670"/>
                  </a:lnTo>
                  <a:lnTo>
                    <a:pt x="52" y="678"/>
                  </a:lnTo>
                  <a:lnTo>
                    <a:pt x="61" y="687"/>
                  </a:lnTo>
                  <a:lnTo>
                    <a:pt x="70" y="697"/>
                  </a:lnTo>
                  <a:lnTo>
                    <a:pt x="79" y="705"/>
                  </a:lnTo>
                  <a:lnTo>
                    <a:pt x="89" y="714"/>
                  </a:lnTo>
                  <a:lnTo>
                    <a:pt x="99" y="723"/>
                  </a:lnTo>
                  <a:lnTo>
                    <a:pt x="111" y="731"/>
                  </a:lnTo>
                  <a:lnTo>
                    <a:pt x="122" y="740"/>
                  </a:lnTo>
                  <a:lnTo>
                    <a:pt x="135" y="748"/>
                  </a:lnTo>
                  <a:lnTo>
                    <a:pt x="148" y="757"/>
                  </a:lnTo>
                  <a:lnTo>
                    <a:pt x="162" y="766"/>
                  </a:lnTo>
                  <a:lnTo>
                    <a:pt x="176" y="774"/>
                  </a:lnTo>
                  <a:lnTo>
                    <a:pt x="191" y="782"/>
                  </a:lnTo>
                  <a:lnTo>
                    <a:pt x="206" y="791"/>
                  </a:lnTo>
                  <a:lnTo>
                    <a:pt x="222" y="799"/>
                  </a:lnTo>
                  <a:lnTo>
                    <a:pt x="239" y="807"/>
                  </a:lnTo>
                  <a:lnTo>
                    <a:pt x="255" y="815"/>
                  </a:lnTo>
                  <a:lnTo>
                    <a:pt x="273" y="823"/>
                  </a:lnTo>
                  <a:lnTo>
                    <a:pt x="273" y="26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058160" y="2933640"/>
              <a:ext cx="444240" cy="1219320"/>
            </a:xfrm>
            <a:custGeom>
              <a:avLst/>
              <a:gdLst/>
              <a:ahLst/>
              <a:rect l="l" t="t" r="r" b="b"/>
              <a:pathLst>
                <a:path w="330" h="847">
                  <a:moveTo>
                    <a:pt x="329" y="0"/>
                  </a:moveTo>
                  <a:lnTo>
                    <a:pt x="329" y="0"/>
                  </a:lnTo>
                  <a:lnTo>
                    <a:pt x="328" y="8"/>
                  </a:lnTo>
                  <a:lnTo>
                    <a:pt x="327" y="18"/>
                  </a:lnTo>
                  <a:lnTo>
                    <a:pt x="326" y="27"/>
                  </a:lnTo>
                  <a:lnTo>
                    <a:pt x="324" y="36"/>
                  </a:lnTo>
                  <a:lnTo>
                    <a:pt x="321" y="46"/>
                  </a:lnTo>
                  <a:lnTo>
                    <a:pt x="317" y="54"/>
                  </a:lnTo>
                  <a:lnTo>
                    <a:pt x="313" y="64"/>
                  </a:lnTo>
                  <a:lnTo>
                    <a:pt x="308" y="73"/>
                  </a:lnTo>
                  <a:lnTo>
                    <a:pt x="304" y="81"/>
                  </a:lnTo>
                  <a:lnTo>
                    <a:pt x="298" y="91"/>
                  </a:lnTo>
                  <a:lnTo>
                    <a:pt x="291" y="100"/>
                  </a:lnTo>
                  <a:lnTo>
                    <a:pt x="283" y="109"/>
                  </a:lnTo>
                  <a:lnTo>
                    <a:pt x="276" y="118"/>
                  </a:lnTo>
                  <a:lnTo>
                    <a:pt x="268" y="126"/>
                  </a:lnTo>
                  <a:lnTo>
                    <a:pt x="259" y="136"/>
                  </a:lnTo>
                  <a:lnTo>
                    <a:pt x="250" y="145"/>
                  </a:lnTo>
                  <a:lnTo>
                    <a:pt x="239" y="153"/>
                  </a:lnTo>
                  <a:lnTo>
                    <a:pt x="229" y="162"/>
                  </a:lnTo>
                  <a:lnTo>
                    <a:pt x="217" y="171"/>
                  </a:lnTo>
                  <a:lnTo>
                    <a:pt x="206" y="179"/>
                  </a:lnTo>
                  <a:lnTo>
                    <a:pt x="193" y="188"/>
                  </a:lnTo>
                  <a:lnTo>
                    <a:pt x="181" y="196"/>
                  </a:lnTo>
                  <a:lnTo>
                    <a:pt x="166" y="205"/>
                  </a:lnTo>
                  <a:lnTo>
                    <a:pt x="153" y="214"/>
                  </a:lnTo>
                  <a:lnTo>
                    <a:pt x="138" y="221"/>
                  </a:lnTo>
                  <a:lnTo>
                    <a:pt x="122" y="230"/>
                  </a:lnTo>
                  <a:lnTo>
                    <a:pt x="107" y="239"/>
                  </a:lnTo>
                  <a:lnTo>
                    <a:pt x="90" y="246"/>
                  </a:lnTo>
                  <a:lnTo>
                    <a:pt x="73" y="254"/>
                  </a:lnTo>
                  <a:lnTo>
                    <a:pt x="56" y="263"/>
                  </a:lnTo>
                  <a:lnTo>
                    <a:pt x="38" y="270"/>
                  </a:lnTo>
                  <a:lnTo>
                    <a:pt x="19" y="278"/>
                  </a:lnTo>
                  <a:lnTo>
                    <a:pt x="0" y="286"/>
                  </a:lnTo>
                  <a:lnTo>
                    <a:pt x="0" y="846"/>
                  </a:lnTo>
                  <a:lnTo>
                    <a:pt x="19" y="839"/>
                  </a:lnTo>
                  <a:lnTo>
                    <a:pt x="38" y="831"/>
                  </a:lnTo>
                  <a:lnTo>
                    <a:pt x="56" y="823"/>
                  </a:lnTo>
                  <a:lnTo>
                    <a:pt x="73" y="815"/>
                  </a:lnTo>
                  <a:lnTo>
                    <a:pt x="90" y="807"/>
                  </a:lnTo>
                  <a:lnTo>
                    <a:pt x="107" y="799"/>
                  </a:lnTo>
                  <a:lnTo>
                    <a:pt x="122" y="791"/>
                  </a:lnTo>
                  <a:lnTo>
                    <a:pt x="138" y="782"/>
                  </a:lnTo>
                  <a:lnTo>
                    <a:pt x="153" y="774"/>
                  </a:lnTo>
                  <a:lnTo>
                    <a:pt x="166" y="766"/>
                  </a:lnTo>
                  <a:lnTo>
                    <a:pt x="181" y="757"/>
                  </a:lnTo>
                  <a:lnTo>
                    <a:pt x="193" y="748"/>
                  </a:lnTo>
                  <a:lnTo>
                    <a:pt x="206" y="740"/>
                  </a:lnTo>
                  <a:lnTo>
                    <a:pt x="217" y="731"/>
                  </a:lnTo>
                  <a:lnTo>
                    <a:pt x="229" y="723"/>
                  </a:lnTo>
                  <a:lnTo>
                    <a:pt x="239" y="714"/>
                  </a:lnTo>
                  <a:lnTo>
                    <a:pt x="250" y="705"/>
                  </a:lnTo>
                  <a:lnTo>
                    <a:pt x="259" y="697"/>
                  </a:lnTo>
                  <a:lnTo>
                    <a:pt x="268" y="687"/>
                  </a:lnTo>
                  <a:lnTo>
                    <a:pt x="276" y="678"/>
                  </a:lnTo>
                  <a:lnTo>
                    <a:pt x="283" y="670"/>
                  </a:lnTo>
                  <a:lnTo>
                    <a:pt x="291" y="660"/>
                  </a:lnTo>
                  <a:lnTo>
                    <a:pt x="298" y="652"/>
                  </a:lnTo>
                  <a:lnTo>
                    <a:pt x="304" y="642"/>
                  </a:lnTo>
                  <a:lnTo>
                    <a:pt x="308" y="633"/>
                  </a:lnTo>
                  <a:lnTo>
                    <a:pt x="313" y="625"/>
                  </a:lnTo>
                  <a:lnTo>
                    <a:pt x="317" y="615"/>
                  </a:lnTo>
                  <a:lnTo>
                    <a:pt x="321" y="606"/>
                  </a:lnTo>
                  <a:lnTo>
                    <a:pt x="324" y="597"/>
                  </a:lnTo>
                  <a:lnTo>
                    <a:pt x="326" y="587"/>
                  </a:lnTo>
                  <a:lnTo>
                    <a:pt x="327" y="579"/>
                  </a:lnTo>
                  <a:lnTo>
                    <a:pt x="328" y="569"/>
                  </a:lnTo>
                  <a:lnTo>
                    <a:pt x="329" y="560"/>
                  </a:lnTo>
                  <a:lnTo>
                    <a:pt x="329" y="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94000" y="3313080"/>
              <a:ext cx="576360" cy="1000080"/>
            </a:xfrm>
            <a:custGeom>
              <a:avLst/>
              <a:gdLst/>
              <a:ahLst/>
              <a:rect l="l" t="t" r="r" b="b"/>
              <a:pathLst>
                <a:path w="427" h="695">
                  <a:moveTo>
                    <a:pt x="426" y="133"/>
                  </a:moveTo>
                  <a:lnTo>
                    <a:pt x="426" y="133"/>
                  </a:lnTo>
                  <a:lnTo>
                    <a:pt x="400" y="127"/>
                  </a:lnTo>
                  <a:lnTo>
                    <a:pt x="373" y="122"/>
                  </a:lnTo>
                  <a:lnTo>
                    <a:pt x="348" y="115"/>
                  </a:lnTo>
                  <a:lnTo>
                    <a:pt x="323" y="108"/>
                  </a:lnTo>
                  <a:lnTo>
                    <a:pt x="298" y="101"/>
                  </a:lnTo>
                  <a:lnTo>
                    <a:pt x="274" y="95"/>
                  </a:lnTo>
                  <a:lnTo>
                    <a:pt x="250" y="88"/>
                  </a:lnTo>
                  <a:lnTo>
                    <a:pt x="226" y="81"/>
                  </a:lnTo>
                  <a:lnTo>
                    <a:pt x="203" y="75"/>
                  </a:lnTo>
                  <a:lnTo>
                    <a:pt x="181" y="68"/>
                  </a:lnTo>
                  <a:lnTo>
                    <a:pt x="158" y="60"/>
                  </a:lnTo>
                  <a:lnTo>
                    <a:pt x="136" y="53"/>
                  </a:lnTo>
                  <a:lnTo>
                    <a:pt x="115" y="46"/>
                  </a:lnTo>
                  <a:lnTo>
                    <a:pt x="95" y="38"/>
                  </a:lnTo>
                  <a:lnTo>
                    <a:pt x="75" y="30"/>
                  </a:lnTo>
                  <a:lnTo>
                    <a:pt x="55" y="23"/>
                  </a:lnTo>
                  <a:lnTo>
                    <a:pt x="37" y="15"/>
                  </a:lnTo>
                  <a:lnTo>
                    <a:pt x="17" y="7"/>
                  </a:lnTo>
                  <a:lnTo>
                    <a:pt x="0" y="0"/>
                  </a:lnTo>
                  <a:lnTo>
                    <a:pt x="0" y="560"/>
                  </a:lnTo>
                  <a:lnTo>
                    <a:pt x="17" y="568"/>
                  </a:lnTo>
                  <a:lnTo>
                    <a:pt x="37" y="576"/>
                  </a:lnTo>
                  <a:lnTo>
                    <a:pt x="55" y="583"/>
                  </a:lnTo>
                  <a:lnTo>
                    <a:pt x="75" y="591"/>
                  </a:lnTo>
                  <a:lnTo>
                    <a:pt x="95" y="599"/>
                  </a:lnTo>
                  <a:lnTo>
                    <a:pt x="115" y="606"/>
                  </a:lnTo>
                  <a:lnTo>
                    <a:pt x="136" y="614"/>
                  </a:lnTo>
                  <a:lnTo>
                    <a:pt x="158" y="621"/>
                  </a:lnTo>
                  <a:lnTo>
                    <a:pt x="181" y="629"/>
                  </a:lnTo>
                  <a:lnTo>
                    <a:pt x="203" y="635"/>
                  </a:lnTo>
                  <a:lnTo>
                    <a:pt x="226" y="642"/>
                  </a:lnTo>
                  <a:lnTo>
                    <a:pt x="250" y="649"/>
                  </a:lnTo>
                  <a:lnTo>
                    <a:pt x="274" y="655"/>
                  </a:lnTo>
                  <a:lnTo>
                    <a:pt x="298" y="662"/>
                  </a:lnTo>
                  <a:lnTo>
                    <a:pt x="323" y="669"/>
                  </a:lnTo>
                  <a:lnTo>
                    <a:pt x="348" y="676"/>
                  </a:lnTo>
                  <a:lnTo>
                    <a:pt x="373" y="682"/>
                  </a:lnTo>
                  <a:lnTo>
                    <a:pt x="400" y="688"/>
                  </a:lnTo>
                  <a:lnTo>
                    <a:pt x="426" y="694"/>
                  </a:lnTo>
                  <a:lnTo>
                    <a:pt x="426" y="133"/>
                  </a:lnTo>
                </a:path>
              </a:pathLst>
            </a:custGeom>
            <a:solidFill>
              <a:srgbClr val="300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68560" y="3503520"/>
              <a:ext cx="860400" cy="949320"/>
            </a:xfrm>
            <a:custGeom>
              <a:avLst/>
              <a:gdLst/>
              <a:ahLst/>
              <a:rect l="l" t="t" r="r" b="b"/>
              <a:pathLst>
                <a:path w="640" h="660">
                  <a:moveTo>
                    <a:pt x="639" y="98"/>
                  </a:moveTo>
                  <a:lnTo>
                    <a:pt x="639" y="98"/>
                  </a:lnTo>
                  <a:lnTo>
                    <a:pt x="606" y="94"/>
                  </a:lnTo>
                  <a:lnTo>
                    <a:pt x="572" y="91"/>
                  </a:lnTo>
                  <a:lnTo>
                    <a:pt x="540" y="88"/>
                  </a:lnTo>
                  <a:lnTo>
                    <a:pt x="507" y="84"/>
                  </a:lnTo>
                  <a:lnTo>
                    <a:pt x="475" y="80"/>
                  </a:lnTo>
                  <a:lnTo>
                    <a:pt x="443" y="76"/>
                  </a:lnTo>
                  <a:lnTo>
                    <a:pt x="411" y="72"/>
                  </a:lnTo>
                  <a:lnTo>
                    <a:pt x="379" y="68"/>
                  </a:lnTo>
                  <a:lnTo>
                    <a:pt x="349" y="64"/>
                  </a:lnTo>
                  <a:lnTo>
                    <a:pt x="318" y="59"/>
                  </a:lnTo>
                  <a:lnTo>
                    <a:pt x="287" y="54"/>
                  </a:lnTo>
                  <a:lnTo>
                    <a:pt x="257" y="49"/>
                  </a:lnTo>
                  <a:lnTo>
                    <a:pt x="227" y="44"/>
                  </a:lnTo>
                  <a:lnTo>
                    <a:pt x="197" y="40"/>
                  </a:lnTo>
                  <a:lnTo>
                    <a:pt x="168" y="35"/>
                  </a:lnTo>
                  <a:lnTo>
                    <a:pt x="139" y="29"/>
                  </a:lnTo>
                  <a:lnTo>
                    <a:pt x="111" y="23"/>
                  </a:lnTo>
                  <a:lnTo>
                    <a:pt x="83" y="18"/>
                  </a:lnTo>
                  <a:lnTo>
                    <a:pt x="55" y="13"/>
                  </a:lnTo>
                  <a:lnTo>
                    <a:pt x="27" y="7"/>
                  </a:lnTo>
                  <a:lnTo>
                    <a:pt x="0" y="0"/>
                  </a:lnTo>
                  <a:lnTo>
                    <a:pt x="0" y="561"/>
                  </a:lnTo>
                  <a:lnTo>
                    <a:pt x="27" y="568"/>
                  </a:lnTo>
                  <a:lnTo>
                    <a:pt x="55" y="573"/>
                  </a:lnTo>
                  <a:lnTo>
                    <a:pt x="83" y="579"/>
                  </a:lnTo>
                  <a:lnTo>
                    <a:pt x="111" y="584"/>
                  </a:lnTo>
                  <a:lnTo>
                    <a:pt x="139" y="590"/>
                  </a:lnTo>
                  <a:lnTo>
                    <a:pt x="168" y="595"/>
                  </a:lnTo>
                  <a:lnTo>
                    <a:pt x="197" y="600"/>
                  </a:lnTo>
                  <a:lnTo>
                    <a:pt x="227" y="605"/>
                  </a:lnTo>
                  <a:lnTo>
                    <a:pt x="257" y="610"/>
                  </a:lnTo>
                  <a:lnTo>
                    <a:pt x="287" y="615"/>
                  </a:lnTo>
                  <a:lnTo>
                    <a:pt x="318" y="619"/>
                  </a:lnTo>
                  <a:lnTo>
                    <a:pt x="349" y="624"/>
                  </a:lnTo>
                  <a:lnTo>
                    <a:pt x="379" y="629"/>
                  </a:lnTo>
                  <a:lnTo>
                    <a:pt x="411" y="633"/>
                  </a:lnTo>
                  <a:lnTo>
                    <a:pt x="443" y="637"/>
                  </a:lnTo>
                  <a:lnTo>
                    <a:pt x="475" y="640"/>
                  </a:lnTo>
                  <a:lnTo>
                    <a:pt x="507" y="644"/>
                  </a:lnTo>
                  <a:lnTo>
                    <a:pt x="540" y="648"/>
                  </a:lnTo>
                  <a:lnTo>
                    <a:pt x="572" y="652"/>
                  </a:lnTo>
                  <a:lnTo>
                    <a:pt x="606" y="655"/>
                  </a:lnTo>
                  <a:lnTo>
                    <a:pt x="639" y="659"/>
                  </a:lnTo>
                  <a:lnTo>
                    <a:pt x="639" y="98"/>
                  </a:lnTo>
                </a:path>
              </a:pathLst>
            </a:custGeom>
            <a:solidFill>
              <a:srgbClr val="50707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64240" y="3344760"/>
              <a:ext cx="2293920" cy="1154160"/>
            </a:xfrm>
            <a:custGeom>
              <a:avLst/>
              <a:gdLst/>
              <a:ahLst/>
              <a:rect l="l" t="t" r="r" b="b"/>
              <a:pathLst>
                <a:path w="1705" h="801">
                  <a:moveTo>
                    <a:pt x="1704" y="0"/>
                  </a:moveTo>
                  <a:lnTo>
                    <a:pt x="1704" y="0"/>
                  </a:lnTo>
                  <a:lnTo>
                    <a:pt x="1685" y="7"/>
                  </a:lnTo>
                  <a:lnTo>
                    <a:pt x="1665" y="15"/>
                  </a:lnTo>
                  <a:lnTo>
                    <a:pt x="1644" y="23"/>
                  </a:lnTo>
                  <a:lnTo>
                    <a:pt x="1623" y="30"/>
                  </a:lnTo>
                  <a:lnTo>
                    <a:pt x="1602" y="37"/>
                  </a:lnTo>
                  <a:lnTo>
                    <a:pt x="1579" y="45"/>
                  </a:lnTo>
                  <a:lnTo>
                    <a:pt x="1556" y="52"/>
                  </a:lnTo>
                  <a:lnTo>
                    <a:pt x="1533" y="58"/>
                  </a:lnTo>
                  <a:lnTo>
                    <a:pt x="1510" y="65"/>
                  </a:lnTo>
                  <a:lnTo>
                    <a:pt x="1486" y="72"/>
                  </a:lnTo>
                  <a:lnTo>
                    <a:pt x="1461" y="78"/>
                  </a:lnTo>
                  <a:lnTo>
                    <a:pt x="1436" y="85"/>
                  </a:lnTo>
                  <a:lnTo>
                    <a:pt x="1411" y="92"/>
                  </a:lnTo>
                  <a:lnTo>
                    <a:pt x="1386" y="99"/>
                  </a:lnTo>
                  <a:lnTo>
                    <a:pt x="1360" y="104"/>
                  </a:lnTo>
                  <a:lnTo>
                    <a:pt x="1333" y="110"/>
                  </a:lnTo>
                  <a:lnTo>
                    <a:pt x="1306" y="117"/>
                  </a:lnTo>
                  <a:lnTo>
                    <a:pt x="1279" y="123"/>
                  </a:lnTo>
                  <a:lnTo>
                    <a:pt x="1251" y="128"/>
                  </a:lnTo>
                  <a:lnTo>
                    <a:pt x="1222" y="133"/>
                  </a:lnTo>
                  <a:lnTo>
                    <a:pt x="1195" y="139"/>
                  </a:lnTo>
                  <a:lnTo>
                    <a:pt x="1166" y="145"/>
                  </a:lnTo>
                  <a:lnTo>
                    <a:pt x="1136" y="150"/>
                  </a:lnTo>
                  <a:lnTo>
                    <a:pt x="1106" y="154"/>
                  </a:lnTo>
                  <a:lnTo>
                    <a:pt x="1076" y="159"/>
                  </a:lnTo>
                  <a:lnTo>
                    <a:pt x="1047" y="164"/>
                  </a:lnTo>
                  <a:lnTo>
                    <a:pt x="1016" y="169"/>
                  </a:lnTo>
                  <a:lnTo>
                    <a:pt x="985" y="174"/>
                  </a:lnTo>
                  <a:lnTo>
                    <a:pt x="954" y="178"/>
                  </a:lnTo>
                  <a:lnTo>
                    <a:pt x="922" y="182"/>
                  </a:lnTo>
                  <a:lnTo>
                    <a:pt x="890" y="186"/>
                  </a:lnTo>
                  <a:lnTo>
                    <a:pt x="859" y="190"/>
                  </a:lnTo>
                  <a:lnTo>
                    <a:pt x="826" y="194"/>
                  </a:lnTo>
                  <a:lnTo>
                    <a:pt x="793" y="198"/>
                  </a:lnTo>
                  <a:lnTo>
                    <a:pt x="761" y="201"/>
                  </a:lnTo>
                  <a:lnTo>
                    <a:pt x="728" y="204"/>
                  </a:lnTo>
                  <a:lnTo>
                    <a:pt x="694" y="208"/>
                  </a:lnTo>
                  <a:lnTo>
                    <a:pt x="661" y="211"/>
                  </a:lnTo>
                  <a:lnTo>
                    <a:pt x="627" y="214"/>
                  </a:lnTo>
                  <a:lnTo>
                    <a:pt x="594" y="217"/>
                  </a:lnTo>
                  <a:lnTo>
                    <a:pt x="560" y="220"/>
                  </a:lnTo>
                  <a:lnTo>
                    <a:pt x="526" y="222"/>
                  </a:lnTo>
                  <a:lnTo>
                    <a:pt x="491" y="223"/>
                  </a:lnTo>
                  <a:lnTo>
                    <a:pt x="456" y="226"/>
                  </a:lnTo>
                  <a:lnTo>
                    <a:pt x="422" y="228"/>
                  </a:lnTo>
                  <a:lnTo>
                    <a:pt x="387" y="230"/>
                  </a:lnTo>
                  <a:lnTo>
                    <a:pt x="353" y="231"/>
                  </a:lnTo>
                  <a:lnTo>
                    <a:pt x="317" y="233"/>
                  </a:lnTo>
                  <a:lnTo>
                    <a:pt x="283" y="234"/>
                  </a:lnTo>
                  <a:lnTo>
                    <a:pt x="247" y="236"/>
                  </a:lnTo>
                  <a:lnTo>
                    <a:pt x="212" y="237"/>
                  </a:lnTo>
                  <a:lnTo>
                    <a:pt x="176" y="238"/>
                  </a:lnTo>
                  <a:lnTo>
                    <a:pt x="142" y="238"/>
                  </a:lnTo>
                  <a:lnTo>
                    <a:pt x="106" y="239"/>
                  </a:lnTo>
                  <a:lnTo>
                    <a:pt x="71" y="239"/>
                  </a:lnTo>
                  <a:lnTo>
                    <a:pt x="35" y="240"/>
                  </a:lnTo>
                  <a:lnTo>
                    <a:pt x="0" y="240"/>
                  </a:lnTo>
                  <a:lnTo>
                    <a:pt x="0" y="800"/>
                  </a:lnTo>
                  <a:lnTo>
                    <a:pt x="35" y="800"/>
                  </a:lnTo>
                  <a:lnTo>
                    <a:pt x="71" y="799"/>
                  </a:lnTo>
                  <a:lnTo>
                    <a:pt x="106" y="799"/>
                  </a:lnTo>
                  <a:lnTo>
                    <a:pt x="142" y="798"/>
                  </a:lnTo>
                  <a:lnTo>
                    <a:pt x="176" y="798"/>
                  </a:lnTo>
                  <a:lnTo>
                    <a:pt x="212" y="798"/>
                  </a:lnTo>
                  <a:lnTo>
                    <a:pt x="247" y="797"/>
                  </a:lnTo>
                  <a:lnTo>
                    <a:pt x="283" y="795"/>
                  </a:lnTo>
                  <a:lnTo>
                    <a:pt x="317" y="794"/>
                  </a:lnTo>
                  <a:lnTo>
                    <a:pt x="353" y="792"/>
                  </a:lnTo>
                  <a:lnTo>
                    <a:pt x="387" y="791"/>
                  </a:lnTo>
                  <a:lnTo>
                    <a:pt x="422" y="789"/>
                  </a:lnTo>
                  <a:lnTo>
                    <a:pt x="456" y="787"/>
                  </a:lnTo>
                  <a:lnTo>
                    <a:pt x="491" y="784"/>
                  </a:lnTo>
                  <a:lnTo>
                    <a:pt x="526" y="782"/>
                  </a:lnTo>
                  <a:lnTo>
                    <a:pt x="560" y="780"/>
                  </a:lnTo>
                  <a:lnTo>
                    <a:pt x="594" y="777"/>
                  </a:lnTo>
                  <a:lnTo>
                    <a:pt x="627" y="774"/>
                  </a:lnTo>
                  <a:lnTo>
                    <a:pt x="661" y="772"/>
                  </a:lnTo>
                  <a:lnTo>
                    <a:pt x="694" y="769"/>
                  </a:lnTo>
                  <a:lnTo>
                    <a:pt x="728" y="765"/>
                  </a:lnTo>
                  <a:lnTo>
                    <a:pt x="761" y="762"/>
                  </a:lnTo>
                  <a:lnTo>
                    <a:pt x="793" y="758"/>
                  </a:lnTo>
                  <a:lnTo>
                    <a:pt x="826" y="754"/>
                  </a:lnTo>
                  <a:lnTo>
                    <a:pt x="859" y="750"/>
                  </a:lnTo>
                  <a:lnTo>
                    <a:pt x="890" y="747"/>
                  </a:lnTo>
                  <a:lnTo>
                    <a:pt x="922" y="743"/>
                  </a:lnTo>
                  <a:lnTo>
                    <a:pt x="954" y="739"/>
                  </a:lnTo>
                  <a:lnTo>
                    <a:pt x="985" y="734"/>
                  </a:lnTo>
                  <a:lnTo>
                    <a:pt x="1016" y="729"/>
                  </a:lnTo>
                  <a:lnTo>
                    <a:pt x="1047" y="725"/>
                  </a:lnTo>
                  <a:lnTo>
                    <a:pt x="1076" y="720"/>
                  </a:lnTo>
                  <a:lnTo>
                    <a:pt x="1106" y="715"/>
                  </a:lnTo>
                  <a:lnTo>
                    <a:pt x="1136" y="710"/>
                  </a:lnTo>
                  <a:lnTo>
                    <a:pt x="1166" y="705"/>
                  </a:lnTo>
                  <a:lnTo>
                    <a:pt x="1195" y="700"/>
                  </a:lnTo>
                  <a:lnTo>
                    <a:pt x="1222" y="694"/>
                  </a:lnTo>
                  <a:lnTo>
                    <a:pt x="1251" y="689"/>
                  </a:lnTo>
                  <a:lnTo>
                    <a:pt x="1279" y="683"/>
                  </a:lnTo>
                  <a:lnTo>
                    <a:pt x="1306" y="678"/>
                  </a:lnTo>
                  <a:lnTo>
                    <a:pt x="1333" y="671"/>
                  </a:lnTo>
                  <a:lnTo>
                    <a:pt x="1360" y="665"/>
                  </a:lnTo>
                  <a:lnTo>
                    <a:pt x="1386" y="659"/>
                  </a:lnTo>
                  <a:lnTo>
                    <a:pt x="1411" y="653"/>
                  </a:lnTo>
                  <a:lnTo>
                    <a:pt x="1436" y="646"/>
                  </a:lnTo>
                  <a:lnTo>
                    <a:pt x="1461" y="639"/>
                  </a:lnTo>
                  <a:lnTo>
                    <a:pt x="1486" y="632"/>
                  </a:lnTo>
                  <a:lnTo>
                    <a:pt x="1510" y="626"/>
                  </a:lnTo>
                  <a:lnTo>
                    <a:pt x="1533" y="619"/>
                  </a:lnTo>
                  <a:lnTo>
                    <a:pt x="1556" y="612"/>
                  </a:lnTo>
                  <a:lnTo>
                    <a:pt x="1579" y="606"/>
                  </a:lnTo>
                  <a:lnTo>
                    <a:pt x="1602" y="598"/>
                  </a:lnTo>
                  <a:lnTo>
                    <a:pt x="1623" y="591"/>
                  </a:lnTo>
                  <a:lnTo>
                    <a:pt x="1644" y="583"/>
                  </a:lnTo>
                  <a:lnTo>
                    <a:pt x="1665" y="576"/>
                  </a:lnTo>
                  <a:lnTo>
                    <a:pt x="1685" y="568"/>
                  </a:lnTo>
                  <a:lnTo>
                    <a:pt x="1704" y="560"/>
                  </a:lnTo>
                  <a:lnTo>
                    <a:pt x="1704" y="0"/>
                  </a:lnTo>
                </a:path>
              </a:pathLst>
            </a:custGeom>
            <a:solidFill>
              <a:srgbClr val="401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27520" y="3645000"/>
              <a:ext cx="938160" cy="853920"/>
            </a:xfrm>
            <a:custGeom>
              <a:avLst/>
              <a:gdLst/>
              <a:ahLst/>
              <a:rect l="l" t="t" r="r" b="b"/>
              <a:pathLst>
                <a:path w="697" h="593">
                  <a:moveTo>
                    <a:pt x="696" y="32"/>
                  </a:moveTo>
                  <a:lnTo>
                    <a:pt x="696" y="32"/>
                  </a:lnTo>
                  <a:lnTo>
                    <a:pt x="660" y="32"/>
                  </a:lnTo>
                  <a:lnTo>
                    <a:pt x="624" y="31"/>
                  </a:lnTo>
                  <a:lnTo>
                    <a:pt x="589" y="31"/>
                  </a:lnTo>
                  <a:lnTo>
                    <a:pt x="553" y="30"/>
                  </a:lnTo>
                  <a:lnTo>
                    <a:pt x="518" y="30"/>
                  </a:lnTo>
                  <a:lnTo>
                    <a:pt x="482" y="29"/>
                  </a:lnTo>
                  <a:lnTo>
                    <a:pt x="448" y="28"/>
                  </a:lnTo>
                  <a:lnTo>
                    <a:pt x="412" y="26"/>
                  </a:lnTo>
                  <a:lnTo>
                    <a:pt x="377" y="25"/>
                  </a:lnTo>
                  <a:lnTo>
                    <a:pt x="342" y="23"/>
                  </a:lnTo>
                  <a:lnTo>
                    <a:pt x="308" y="22"/>
                  </a:lnTo>
                  <a:lnTo>
                    <a:pt x="272" y="20"/>
                  </a:lnTo>
                  <a:lnTo>
                    <a:pt x="238" y="18"/>
                  </a:lnTo>
                  <a:lnTo>
                    <a:pt x="203" y="15"/>
                  </a:lnTo>
                  <a:lnTo>
                    <a:pt x="169" y="14"/>
                  </a:lnTo>
                  <a:lnTo>
                    <a:pt x="135" y="12"/>
                  </a:lnTo>
                  <a:lnTo>
                    <a:pt x="101" y="9"/>
                  </a:lnTo>
                  <a:lnTo>
                    <a:pt x="67" y="6"/>
                  </a:lnTo>
                  <a:lnTo>
                    <a:pt x="33" y="3"/>
                  </a:lnTo>
                  <a:lnTo>
                    <a:pt x="0" y="0"/>
                  </a:lnTo>
                  <a:lnTo>
                    <a:pt x="0" y="561"/>
                  </a:lnTo>
                  <a:lnTo>
                    <a:pt x="33" y="564"/>
                  </a:lnTo>
                  <a:lnTo>
                    <a:pt x="67" y="566"/>
                  </a:lnTo>
                  <a:lnTo>
                    <a:pt x="101" y="569"/>
                  </a:lnTo>
                  <a:lnTo>
                    <a:pt x="135" y="572"/>
                  </a:lnTo>
                  <a:lnTo>
                    <a:pt x="169" y="574"/>
                  </a:lnTo>
                  <a:lnTo>
                    <a:pt x="203" y="576"/>
                  </a:lnTo>
                  <a:lnTo>
                    <a:pt x="238" y="579"/>
                  </a:lnTo>
                  <a:lnTo>
                    <a:pt x="272" y="581"/>
                  </a:lnTo>
                  <a:lnTo>
                    <a:pt x="308" y="583"/>
                  </a:lnTo>
                  <a:lnTo>
                    <a:pt x="342" y="584"/>
                  </a:lnTo>
                  <a:lnTo>
                    <a:pt x="377" y="586"/>
                  </a:lnTo>
                  <a:lnTo>
                    <a:pt x="412" y="587"/>
                  </a:lnTo>
                  <a:lnTo>
                    <a:pt x="448" y="589"/>
                  </a:lnTo>
                  <a:lnTo>
                    <a:pt x="482" y="590"/>
                  </a:lnTo>
                  <a:lnTo>
                    <a:pt x="518" y="590"/>
                  </a:lnTo>
                  <a:lnTo>
                    <a:pt x="553" y="590"/>
                  </a:lnTo>
                  <a:lnTo>
                    <a:pt x="589" y="591"/>
                  </a:lnTo>
                  <a:lnTo>
                    <a:pt x="624" y="591"/>
                  </a:lnTo>
                  <a:lnTo>
                    <a:pt x="660" y="592"/>
                  </a:lnTo>
                  <a:lnTo>
                    <a:pt x="696" y="592"/>
                  </a:lnTo>
                  <a:lnTo>
                    <a:pt x="696" y="32"/>
                  </a:lnTo>
                </a:path>
              </a:pathLst>
            </a:custGeom>
            <a:solidFill>
              <a:srgbClr val="7f7f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28960" y="2174760"/>
              <a:ext cx="5473440" cy="1171800"/>
            </a:xfrm>
            <a:custGeom>
              <a:avLst/>
              <a:gdLst/>
              <a:ahLst/>
              <a:rect l="l" t="t" r="r" b="b"/>
              <a:pathLst>
                <a:path w="4068" h="813">
                  <a:moveTo>
                    <a:pt x="273" y="789"/>
                  </a:moveTo>
                  <a:lnTo>
                    <a:pt x="273" y="789"/>
                  </a:lnTo>
                  <a:lnTo>
                    <a:pt x="255" y="780"/>
                  </a:lnTo>
                  <a:lnTo>
                    <a:pt x="239" y="772"/>
                  </a:lnTo>
                  <a:lnTo>
                    <a:pt x="222" y="765"/>
                  </a:lnTo>
                  <a:lnTo>
                    <a:pt x="206" y="756"/>
                  </a:lnTo>
                  <a:lnTo>
                    <a:pt x="191" y="747"/>
                  </a:lnTo>
                  <a:lnTo>
                    <a:pt x="176" y="740"/>
                  </a:lnTo>
                  <a:lnTo>
                    <a:pt x="162" y="731"/>
                  </a:lnTo>
                  <a:lnTo>
                    <a:pt x="148" y="722"/>
                  </a:lnTo>
                  <a:lnTo>
                    <a:pt x="135" y="714"/>
                  </a:lnTo>
                  <a:lnTo>
                    <a:pt x="122" y="705"/>
                  </a:lnTo>
                  <a:lnTo>
                    <a:pt x="111" y="697"/>
                  </a:lnTo>
                  <a:lnTo>
                    <a:pt x="99" y="688"/>
                  </a:lnTo>
                  <a:lnTo>
                    <a:pt x="89" y="679"/>
                  </a:lnTo>
                  <a:lnTo>
                    <a:pt x="79" y="671"/>
                  </a:lnTo>
                  <a:lnTo>
                    <a:pt x="70" y="662"/>
                  </a:lnTo>
                  <a:lnTo>
                    <a:pt x="61" y="652"/>
                  </a:lnTo>
                  <a:lnTo>
                    <a:pt x="52" y="644"/>
                  </a:lnTo>
                  <a:lnTo>
                    <a:pt x="45" y="635"/>
                  </a:lnTo>
                  <a:lnTo>
                    <a:pt x="38" y="626"/>
                  </a:lnTo>
                  <a:lnTo>
                    <a:pt x="31" y="617"/>
                  </a:lnTo>
                  <a:lnTo>
                    <a:pt x="25" y="607"/>
                  </a:lnTo>
                  <a:lnTo>
                    <a:pt x="20" y="599"/>
                  </a:lnTo>
                  <a:lnTo>
                    <a:pt x="16" y="590"/>
                  </a:lnTo>
                  <a:lnTo>
                    <a:pt x="11" y="580"/>
                  </a:lnTo>
                  <a:lnTo>
                    <a:pt x="8" y="572"/>
                  </a:lnTo>
                  <a:lnTo>
                    <a:pt x="5" y="562"/>
                  </a:lnTo>
                  <a:lnTo>
                    <a:pt x="3" y="553"/>
                  </a:lnTo>
                  <a:lnTo>
                    <a:pt x="1" y="544"/>
                  </a:lnTo>
                  <a:lnTo>
                    <a:pt x="0" y="534"/>
                  </a:lnTo>
                  <a:lnTo>
                    <a:pt x="0" y="526"/>
                  </a:lnTo>
                  <a:lnTo>
                    <a:pt x="0" y="516"/>
                  </a:lnTo>
                  <a:lnTo>
                    <a:pt x="1" y="507"/>
                  </a:lnTo>
                  <a:lnTo>
                    <a:pt x="3" y="498"/>
                  </a:lnTo>
                  <a:lnTo>
                    <a:pt x="5" y="489"/>
                  </a:lnTo>
                  <a:lnTo>
                    <a:pt x="8" y="480"/>
                  </a:lnTo>
                  <a:lnTo>
                    <a:pt x="11" y="470"/>
                  </a:lnTo>
                  <a:lnTo>
                    <a:pt x="16" y="461"/>
                  </a:lnTo>
                  <a:lnTo>
                    <a:pt x="20" y="452"/>
                  </a:lnTo>
                  <a:lnTo>
                    <a:pt x="25" y="443"/>
                  </a:lnTo>
                  <a:lnTo>
                    <a:pt x="31" y="434"/>
                  </a:lnTo>
                  <a:lnTo>
                    <a:pt x="38" y="425"/>
                  </a:lnTo>
                  <a:lnTo>
                    <a:pt x="45" y="416"/>
                  </a:lnTo>
                  <a:lnTo>
                    <a:pt x="52" y="407"/>
                  </a:lnTo>
                  <a:lnTo>
                    <a:pt x="61" y="398"/>
                  </a:lnTo>
                  <a:lnTo>
                    <a:pt x="70" y="389"/>
                  </a:lnTo>
                  <a:lnTo>
                    <a:pt x="79" y="381"/>
                  </a:lnTo>
                  <a:lnTo>
                    <a:pt x="89" y="372"/>
                  </a:lnTo>
                  <a:lnTo>
                    <a:pt x="99" y="362"/>
                  </a:lnTo>
                  <a:lnTo>
                    <a:pt x="111" y="354"/>
                  </a:lnTo>
                  <a:lnTo>
                    <a:pt x="122" y="345"/>
                  </a:lnTo>
                  <a:lnTo>
                    <a:pt x="135" y="337"/>
                  </a:lnTo>
                  <a:lnTo>
                    <a:pt x="148" y="328"/>
                  </a:lnTo>
                  <a:lnTo>
                    <a:pt x="162" y="320"/>
                  </a:lnTo>
                  <a:lnTo>
                    <a:pt x="176" y="312"/>
                  </a:lnTo>
                  <a:lnTo>
                    <a:pt x="191" y="303"/>
                  </a:lnTo>
                  <a:lnTo>
                    <a:pt x="206" y="295"/>
                  </a:lnTo>
                  <a:lnTo>
                    <a:pt x="222" y="287"/>
                  </a:lnTo>
                  <a:lnTo>
                    <a:pt x="239" y="278"/>
                  </a:lnTo>
                  <a:lnTo>
                    <a:pt x="255" y="270"/>
                  </a:lnTo>
                  <a:lnTo>
                    <a:pt x="273" y="263"/>
                  </a:lnTo>
                  <a:lnTo>
                    <a:pt x="290" y="255"/>
                  </a:lnTo>
                  <a:lnTo>
                    <a:pt x="310" y="246"/>
                  </a:lnTo>
                  <a:lnTo>
                    <a:pt x="328" y="239"/>
                  </a:lnTo>
                  <a:lnTo>
                    <a:pt x="348" y="231"/>
                  </a:lnTo>
                  <a:lnTo>
                    <a:pt x="368" y="223"/>
                  </a:lnTo>
                  <a:lnTo>
                    <a:pt x="388" y="217"/>
                  </a:lnTo>
                  <a:lnTo>
                    <a:pt x="409" y="209"/>
                  </a:lnTo>
                  <a:lnTo>
                    <a:pt x="431" y="201"/>
                  </a:lnTo>
                  <a:lnTo>
                    <a:pt x="454" y="194"/>
                  </a:lnTo>
                  <a:lnTo>
                    <a:pt x="476" y="188"/>
                  </a:lnTo>
                  <a:lnTo>
                    <a:pt x="499" y="180"/>
                  </a:lnTo>
                  <a:lnTo>
                    <a:pt x="523" y="173"/>
                  </a:lnTo>
                  <a:lnTo>
                    <a:pt x="547" y="167"/>
                  </a:lnTo>
                  <a:lnTo>
                    <a:pt x="571" y="160"/>
                  </a:lnTo>
                  <a:lnTo>
                    <a:pt x="596" y="153"/>
                  </a:lnTo>
                  <a:lnTo>
                    <a:pt x="621" y="147"/>
                  </a:lnTo>
                  <a:lnTo>
                    <a:pt x="646" y="141"/>
                  </a:lnTo>
                  <a:lnTo>
                    <a:pt x="673" y="135"/>
                  </a:lnTo>
                  <a:lnTo>
                    <a:pt x="699" y="128"/>
                  </a:lnTo>
                  <a:lnTo>
                    <a:pt x="726" y="122"/>
                  </a:lnTo>
                  <a:lnTo>
                    <a:pt x="754" y="117"/>
                  </a:lnTo>
                  <a:lnTo>
                    <a:pt x="782" y="111"/>
                  </a:lnTo>
                  <a:lnTo>
                    <a:pt x="810" y="105"/>
                  </a:lnTo>
                  <a:lnTo>
                    <a:pt x="838" y="99"/>
                  </a:lnTo>
                  <a:lnTo>
                    <a:pt x="867" y="95"/>
                  </a:lnTo>
                  <a:lnTo>
                    <a:pt x="896" y="89"/>
                  </a:lnTo>
                  <a:lnTo>
                    <a:pt x="926" y="84"/>
                  </a:lnTo>
                  <a:lnTo>
                    <a:pt x="956" y="79"/>
                  </a:lnTo>
                  <a:lnTo>
                    <a:pt x="986" y="74"/>
                  </a:lnTo>
                  <a:lnTo>
                    <a:pt x="1017" y="70"/>
                  </a:lnTo>
                  <a:lnTo>
                    <a:pt x="1048" y="65"/>
                  </a:lnTo>
                  <a:lnTo>
                    <a:pt x="1078" y="61"/>
                  </a:lnTo>
                  <a:lnTo>
                    <a:pt x="1110" y="56"/>
                  </a:lnTo>
                  <a:lnTo>
                    <a:pt x="1142" y="52"/>
                  </a:lnTo>
                  <a:lnTo>
                    <a:pt x="1174" y="49"/>
                  </a:lnTo>
                  <a:lnTo>
                    <a:pt x="1206" y="45"/>
                  </a:lnTo>
                  <a:lnTo>
                    <a:pt x="1239" y="41"/>
                  </a:lnTo>
                  <a:lnTo>
                    <a:pt x="1271" y="38"/>
                  </a:lnTo>
                  <a:lnTo>
                    <a:pt x="1305" y="34"/>
                  </a:lnTo>
                  <a:lnTo>
                    <a:pt x="1338" y="31"/>
                  </a:lnTo>
                  <a:lnTo>
                    <a:pt x="1371" y="28"/>
                  </a:lnTo>
                  <a:lnTo>
                    <a:pt x="1405" y="26"/>
                  </a:lnTo>
                  <a:lnTo>
                    <a:pt x="1439" y="23"/>
                  </a:lnTo>
                  <a:lnTo>
                    <a:pt x="1473" y="20"/>
                  </a:lnTo>
                  <a:lnTo>
                    <a:pt x="1507" y="17"/>
                  </a:lnTo>
                  <a:lnTo>
                    <a:pt x="1541" y="15"/>
                  </a:lnTo>
                  <a:lnTo>
                    <a:pt x="1576" y="13"/>
                  </a:lnTo>
                  <a:lnTo>
                    <a:pt x="1610" y="11"/>
                  </a:lnTo>
                  <a:lnTo>
                    <a:pt x="1646" y="9"/>
                  </a:lnTo>
                  <a:lnTo>
                    <a:pt x="1680" y="7"/>
                  </a:lnTo>
                  <a:lnTo>
                    <a:pt x="1715" y="5"/>
                  </a:lnTo>
                  <a:lnTo>
                    <a:pt x="1750" y="4"/>
                  </a:lnTo>
                  <a:lnTo>
                    <a:pt x="1786" y="3"/>
                  </a:lnTo>
                  <a:lnTo>
                    <a:pt x="1820" y="2"/>
                  </a:lnTo>
                  <a:lnTo>
                    <a:pt x="1856" y="2"/>
                  </a:lnTo>
                  <a:lnTo>
                    <a:pt x="1891" y="1"/>
                  </a:lnTo>
                  <a:lnTo>
                    <a:pt x="1927" y="1"/>
                  </a:lnTo>
                  <a:lnTo>
                    <a:pt x="1962" y="0"/>
                  </a:lnTo>
                  <a:lnTo>
                    <a:pt x="1998" y="0"/>
                  </a:lnTo>
                  <a:lnTo>
                    <a:pt x="2034" y="0"/>
                  </a:lnTo>
                  <a:lnTo>
                    <a:pt x="2069" y="0"/>
                  </a:lnTo>
                  <a:lnTo>
                    <a:pt x="2105" y="0"/>
                  </a:lnTo>
                  <a:lnTo>
                    <a:pt x="2140" y="1"/>
                  </a:lnTo>
                  <a:lnTo>
                    <a:pt x="2176" y="1"/>
                  </a:lnTo>
                  <a:lnTo>
                    <a:pt x="2210" y="2"/>
                  </a:lnTo>
                  <a:lnTo>
                    <a:pt x="2246" y="2"/>
                  </a:lnTo>
                  <a:lnTo>
                    <a:pt x="2281" y="3"/>
                  </a:lnTo>
                  <a:lnTo>
                    <a:pt x="2317" y="4"/>
                  </a:lnTo>
                  <a:lnTo>
                    <a:pt x="2351" y="5"/>
                  </a:lnTo>
                  <a:lnTo>
                    <a:pt x="2387" y="7"/>
                  </a:lnTo>
                  <a:lnTo>
                    <a:pt x="2421" y="9"/>
                  </a:lnTo>
                  <a:lnTo>
                    <a:pt x="2456" y="11"/>
                  </a:lnTo>
                  <a:lnTo>
                    <a:pt x="2490" y="13"/>
                  </a:lnTo>
                  <a:lnTo>
                    <a:pt x="2525" y="15"/>
                  </a:lnTo>
                  <a:lnTo>
                    <a:pt x="2560" y="17"/>
                  </a:lnTo>
                  <a:lnTo>
                    <a:pt x="2594" y="20"/>
                  </a:lnTo>
                  <a:lnTo>
                    <a:pt x="2628" y="23"/>
                  </a:lnTo>
                  <a:lnTo>
                    <a:pt x="2661" y="26"/>
                  </a:lnTo>
                  <a:lnTo>
                    <a:pt x="2695" y="28"/>
                  </a:lnTo>
                  <a:lnTo>
                    <a:pt x="2728" y="31"/>
                  </a:lnTo>
                  <a:lnTo>
                    <a:pt x="2762" y="34"/>
                  </a:lnTo>
                  <a:lnTo>
                    <a:pt x="2795" y="38"/>
                  </a:lnTo>
                  <a:lnTo>
                    <a:pt x="2827" y="41"/>
                  </a:lnTo>
                  <a:lnTo>
                    <a:pt x="2860" y="45"/>
                  </a:lnTo>
                  <a:lnTo>
                    <a:pt x="2893" y="49"/>
                  </a:lnTo>
                  <a:lnTo>
                    <a:pt x="2924" y="52"/>
                  </a:lnTo>
                  <a:lnTo>
                    <a:pt x="2956" y="56"/>
                  </a:lnTo>
                  <a:lnTo>
                    <a:pt x="2988" y="61"/>
                  </a:lnTo>
                  <a:lnTo>
                    <a:pt x="3019" y="65"/>
                  </a:lnTo>
                  <a:lnTo>
                    <a:pt x="3050" y="70"/>
                  </a:lnTo>
                  <a:lnTo>
                    <a:pt x="3081" y="74"/>
                  </a:lnTo>
                  <a:lnTo>
                    <a:pt x="3110" y="79"/>
                  </a:lnTo>
                  <a:lnTo>
                    <a:pt x="3140" y="84"/>
                  </a:lnTo>
                  <a:lnTo>
                    <a:pt x="3170" y="89"/>
                  </a:lnTo>
                  <a:lnTo>
                    <a:pt x="3200" y="95"/>
                  </a:lnTo>
                  <a:lnTo>
                    <a:pt x="3229" y="99"/>
                  </a:lnTo>
                  <a:lnTo>
                    <a:pt x="3256" y="105"/>
                  </a:lnTo>
                  <a:lnTo>
                    <a:pt x="3285" y="111"/>
                  </a:lnTo>
                  <a:lnTo>
                    <a:pt x="3313" y="117"/>
                  </a:lnTo>
                  <a:lnTo>
                    <a:pt x="3340" y="122"/>
                  </a:lnTo>
                  <a:lnTo>
                    <a:pt x="3367" y="128"/>
                  </a:lnTo>
                  <a:lnTo>
                    <a:pt x="3394" y="135"/>
                  </a:lnTo>
                  <a:lnTo>
                    <a:pt x="3420" y="141"/>
                  </a:lnTo>
                  <a:lnTo>
                    <a:pt x="3445" y="147"/>
                  </a:lnTo>
                  <a:lnTo>
                    <a:pt x="3470" y="153"/>
                  </a:lnTo>
                  <a:lnTo>
                    <a:pt x="3495" y="160"/>
                  </a:lnTo>
                  <a:lnTo>
                    <a:pt x="3520" y="167"/>
                  </a:lnTo>
                  <a:lnTo>
                    <a:pt x="3544" y="173"/>
                  </a:lnTo>
                  <a:lnTo>
                    <a:pt x="3567" y="180"/>
                  </a:lnTo>
                  <a:lnTo>
                    <a:pt x="3590" y="188"/>
                  </a:lnTo>
                  <a:lnTo>
                    <a:pt x="3613" y="194"/>
                  </a:lnTo>
                  <a:lnTo>
                    <a:pt x="3636" y="201"/>
                  </a:lnTo>
                  <a:lnTo>
                    <a:pt x="3657" y="209"/>
                  </a:lnTo>
                  <a:lnTo>
                    <a:pt x="3678" y="217"/>
                  </a:lnTo>
                  <a:lnTo>
                    <a:pt x="3699" y="223"/>
                  </a:lnTo>
                  <a:lnTo>
                    <a:pt x="3719" y="231"/>
                  </a:lnTo>
                  <a:lnTo>
                    <a:pt x="3738" y="239"/>
                  </a:lnTo>
                  <a:lnTo>
                    <a:pt x="3757" y="246"/>
                  </a:lnTo>
                  <a:lnTo>
                    <a:pt x="3776" y="255"/>
                  </a:lnTo>
                  <a:lnTo>
                    <a:pt x="3794" y="263"/>
                  </a:lnTo>
                  <a:lnTo>
                    <a:pt x="3811" y="270"/>
                  </a:lnTo>
                  <a:lnTo>
                    <a:pt x="3828" y="278"/>
                  </a:lnTo>
                  <a:lnTo>
                    <a:pt x="3845" y="287"/>
                  </a:lnTo>
                  <a:lnTo>
                    <a:pt x="3860" y="295"/>
                  </a:lnTo>
                  <a:lnTo>
                    <a:pt x="3876" y="303"/>
                  </a:lnTo>
                  <a:lnTo>
                    <a:pt x="3891" y="312"/>
                  </a:lnTo>
                  <a:lnTo>
                    <a:pt x="3904" y="320"/>
                  </a:lnTo>
                  <a:lnTo>
                    <a:pt x="3919" y="328"/>
                  </a:lnTo>
                  <a:lnTo>
                    <a:pt x="3931" y="337"/>
                  </a:lnTo>
                  <a:lnTo>
                    <a:pt x="3944" y="345"/>
                  </a:lnTo>
                  <a:lnTo>
                    <a:pt x="3955" y="354"/>
                  </a:lnTo>
                  <a:lnTo>
                    <a:pt x="3967" y="362"/>
                  </a:lnTo>
                  <a:lnTo>
                    <a:pt x="3977" y="372"/>
                  </a:lnTo>
                  <a:lnTo>
                    <a:pt x="3988" y="381"/>
                  </a:lnTo>
                  <a:lnTo>
                    <a:pt x="3997" y="389"/>
                  </a:lnTo>
                  <a:lnTo>
                    <a:pt x="4006" y="398"/>
                  </a:lnTo>
                  <a:lnTo>
                    <a:pt x="4014" y="407"/>
                  </a:lnTo>
                  <a:lnTo>
                    <a:pt x="4021" y="416"/>
                  </a:lnTo>
                  <a:lnTo>
                    <a:pt x="4029" y="425"/>
                  </a:lnTo>
                  <a:lnTo>
                    <a:pt x="4036" y="434"/>
                  </a:lnTo>
                  <a:lnTo>
                    <a:pt x="4042" y="443"/>
                  </a:lnTo>
                  <a:lnTo>
                    <a:pt x="4046" y="452"/>
                  </a:lnTo>
                  <a:lnTo>
                    <a:pt x="4051" y="461"/>
                  </a:lnTo>
                  <a:lnTo>
                    <a:pt x="4055" y="470"/>
                  </a:lnTo>
                  <a:lnTo>
                    <a:pt x="4059" y="480"/>
                  </a:lnTo>
                  <a:lnTo>
                    <a:pt x="4062" y="489"/>
                  </a:lnTo>
                  <a:lnTo>
                    <a:pt x="4064" y="498"/>
                  </a:lnTo>
                  <a:lnTo>
                    <a:pt x="4065" y="507"/>
                  </a:lnTo>
                  <a:lnTo>
                    <a:pt x="4066" y="516"/>
                  </a:lnTo>
                  <a:lnTo>
                    <a:pt x="4067" y="526"/>
                  </a:lnTo>
                  <a:lnTo>
                    <a:pt x="4066" y="534"/>
                  </a:lnTo>
                  <a:lnTo>
                    <a:pt x="4065" y="544"/>
                  </a:lnTo>
                  <a:lnTo>
                    <a:pt x="4064" y="553"/>
                  </a:lnTo>
                  <a:lnTo>
                    <a:pt x="4062" y="562"/>
                  </a:lnTo>
                  <a:lnTo>
                    <a:pt x="4059" y="572"/>
                  </a:lnTo>
                  <a:lnTo>
                    <a:pt x="4055" y="580"/>
                  </a:lnTo>
                  <a:lnTo>
                    <a:pt x="4051" y="590"/>
                  </a:lnTo>
                  <a:lnTo>
                    <a:pt x="4046" y="599"/>
                  </a:lnTo>
                  <a:lnTo>
                    <a:pt x="4042" y="607"/>
                  </a:lnTo>
                  <a:lnTo>
                    <a:pt x="4036" y="617"/>
                  </a:lnTo>
                  <a:lnTo>
                    <a:pt x="4029" y="626"/>
                  </a:lnTo>
                  <a:lnTo>
                    <a:pt x="4021" y="635"/>
                  </a:lnTo>
                  <a:lnTo>
                    <a:pt x="4014" y="644"/>
                  </a:lnTo>
                  <a:lnTo>
                    <a:pt x="4006" y="652"/>
                  </a:lnTo>
                  <a:lnTo>
                    <a:pt x="3997" y="662"/>
                  </a:lnTo>
                  <a:lnTo>
                    <a:pt x="3988" y="671"/>
                  </a:lnTo>
                  <a:lnTo>
                    <a:pt x="3977" y="679"/>
                  </a:lnTo>
                  <a:lnTo>
                    <a:pt x="3967" y="688"/>
                  </a:lnTo>
                  <a:lnTo>
                    <a:pt x="3955" y="697"/>
                  </a:lnTo>
                  <a:lnTo>
                    <a:pt x="3944" y="705"/>
                  </a:lnTo>
                  <a:lnTo>
                    <a:pt x="3931" y="714"/>
                  </a:lnTo>
                  <a:lnTo>
                    <a:pt x="3919" y="722"/>
                  </a:lnTo>
                  <a:lnTo>
                    <a:pt x="3904" y="731"/>
                  </a:lnTo>
                  <a:lnTo>
                    <a:pt x="3891" y="740"/>
                  </a:lnTo>
                  <a:lnTo>
                    <a:pt x="3876" y="747"/>
                  </a:lnTo>
                  <a:lnTo>
                    <a:pt x="3860" y="756"/>
                  </a:lnTo>
                  <a:lnTo>
                    <a:pt x="3845" y="765"/>
                  </a:lnTo>
                  <a:lnTo>
                    <a:pt x="3828" y="772"/>
                  </a:lnTo>
                  <a:lnTo>
                    <a:pt x="3811" y="780"/>
                  </a:lnTo>
                  <a:lnTo>
                    <a:pt x="3794" y="789"/>
                  </a:lnTo>
                  <a:lnTo>
                    <a:pt x="3776" y="796"/>
                  </a:lnTo>
                  <a:lnTo>
                    <a:pt x="3757" y="804"/>
                  </a:lnTo>
                  <a:lnTo>
                    <a:pt x="3738" y="812"/>
                  </a:lnTo>
                  <a:lnTo>
                    <a:pt x="2034" y="526"/>
                  </a:lnTo>
                  <a:lnTo>
                    <a:pt x="273" y="789"/>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64240" y="2933640"/>
              <a:ext cx="2293920" cy="758880"/>
            </a:xfrm>
            <a:custGeom>
              <a:avLst/>
              <a:gdLst/>
              <a:ahLst/>
              <a:rect l="l" t="t" r="r" b="b"/>
              <a:pathLst>
                <a:path w="1705" h="527">
                  <a:moveTo>
                    <a:pt x="1704" y="286"/>
                  </a:moveTo>
                  <a:lnTo>
                    <a:pt x="1704" y="286"/>
                  </a:lnTo>
                  <a:lnTo>
                    <a:pt x="1685" y="293"/>
                  </a:lnTo>
                  <a:lnTo>
                    <a:pt x="1665" y="301"/>
                  </a:lnTo>
                  <a:lnTo>
                    <a:pt x="1644" y="309"/>
                  </a:lnTo>
                  <a:lnTo>
                    <a:pt x="1623" y="316"/>
                  </a:lnTo>
                  <a:lnTo>
                    <a:pt x="1602" y="323"/>
                  </a:lnTo>
                  <a:lnTo>
                    <a:pt x="1579" y="331"/>
                  </a:lnTo>
                  <a:lnTo>
                    <a:pt x="1556" y="338"/>
                  </a:lnTo>
                  <a:lnTo>
                    <a:pt x="1533" y="344"/>
                  </a:lnTo>
                  <a:lnTo>
                    <a:pt x="1510" y="351"/>
                  </a:lnTo>
                  <a:lnTo>
                    <a:pt x="1486" y="358"/>
                  </a:lnTo>
                  <a:lnTo>
                    <a:pt x="1461" y="364"/>
                  </a:lnTo>
                  <a:lnTo>
                    <a:pt x="1436" y="371"/>
                  </a:lnTo>
                  <a:lnTo>
                    <a:pt x="1411" y="378"/>
                  </a:lnTo>
                  <a:lnTo>
                    <a:pt x="1386" y="385"/>
                  </a:lnTo>
                  <a:lnTo>
                    <a:pt x="1360" y="390"/>
                  </a:lnTo>
                  <a:lnTo>
                    <a:pt x="1333" y="396"/>
                  </a:lnTo>
                  <a:lnTo>
                    <a:pt x="1306" y="403"/>
                  </a:lnTo>
                  <a:lnTo>
                    <a:pt x="1279" y="409"/>
                  </a:lnTo>
                  <a:lnTo>
                    <a:pt x="1251" y="414"/>
                  </a:lnTo>
                  <a:lnTo>
                    <a:pt x="1222" y="419"/>
                  </a:lnTo>
                  <a:lnTo>
                    <a:pt x="1195" y="425"/>
                  </a:lnTo>
                  <a:lnTo>
                    <a:pt x="1166" y="431"/>
                  </a:lnTo>
                  <a:lnTo>
                    <a:pt x="1136" y="436"/>
                  </a:lnTo>
                  <a:lnTo>
                    <a:pt x="1106" y="440"/>
                  </a:lnTo>
                  <a:lnTo>
                    <a:pt x="1076" y="445"/>
                  </a:lnTo>
                  <a:lnTo>
                    <a:pt x="1047" y="450"/>
                  </a:lnTo>
                  <a:lnTo>
                    <a:pt x="1016" y="455"/>
                  </a:lnTo>
                  <a:lnTo>
                    <a:pt x="985" y="460"/>
                  </a:lnTo>
                  <a:lnTo>
                    <a:pt x="954" y="464"/>
                  </a:lnTo>
                  <a:lnTo>
                    <a:pt x="922" y="468"/>
                  </a:lnTo>
                  <a:lnTo>
                    <a:pt x="890" y="472"/>
                  </a:lnTo>
                  <a:lnTo>
                    <a:pt x="859" y="476"/>
                  </a:lnTo>
                  <a:lnTo>
                    <a:pt x="826" y="480"/>
                  </a:lnTo>
                  <a:lnTo>
                    <a:pt x="793" y="484"/>
                  </a:lnTo>
                  <a:lnTo>
                    <a:pt x="761" y="487"/>
                  </a:lnTo>
                  <a:lnTo>
                    <a:pt x="728" y="490"/>
                  </a:lnTo>
                  <a:lnTo>
                    <a:pt x="694" y="494"/>
                  </a:lnTo>
                  <a:lnTo>
                    <a:pt x="661" y="497"/>
                  </a:lnTo>
                  <a:lnTo>
                    <a:pt x="627" y="500"/>
                  </a:lnTo>
                  <a:lnTo>
                    <a:pt x="594" y="503"/>
                  </a:lnTo>
                  <a:lnTo>
                    <a:pt x="560" y="506"/>
                  </a:lnTo>
                  <a:lnTo>
                    <a:pt x="526" y="508"/>
                  </a:lnTo>
                  <a:lnTo>
                    <a:pt x="491" y="509"/>
                  </a:lnTo>
                  <a:lnTo>
                    <a:pt x="456" y="512"/>
                  </a:lnTo>
                  <a:lnTo>
                    <a:pt x="422" y="514"/>
                  </a:lnTo>
                  <a:lnTo>
                    <a:pt x="387" y="516"/>
                  </a:lnTo>
                  <a:lnTo>
                    <a:pt x="353" y="517"/>
                  </a:lnTo>
                  <a:lnTo>
                    <a:pt x="317" y="519"/>
                  </a:lnTo>
                  <a:lnTo>
                    <a:pt x="283" y="520"/>
                  </a:lnTo>
                  <a:lnTo>
                    <a:pt x="247" y="522"/>
                  </a:lnTo>
                  <a:lnTo>
                    <a:pt x="212" y="523"/>
                  </a:lnTo>
                  <a:lnTo>
                    <a:pt x="176" y="524"/>
                  </a:lnTo>
                  <a:lnTo>
                    <a:pt x="142" y="524"/>
                  </a:lnTo>
                  <a:lnTo>
                    <a:pt x="106" y="525"/>
                  </a:lnTo>
                  <a:lnTo>
                    <a:pt x="71" y="525"/>
                  </a:lnTo>
                  <a:lnTo>
                    <a:pt x="35" y="526"/>
                  </a:lnTo>
                  <a:lnTo>
                    <a:pt x="0" y="526"/>
                  </a:lnTo>
                  <a:lnTo>
                    <a:pt x="0" y="0"/>
                  </a:lnTo>
                  <a:lnTo>
                    <a:pt x="1704" y="286"/>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27520" y="2933640"/>
              <a:ext cx="938160" cy="758880"/>
            </a:xfrm>
            <a:custGeom>
              <a:avLst/>
              <a:gdLst/>
              <a:ahLst/>
              <a:rect l="l" t="t" r="r" b="b"/>
              <a:pathLst>
                <a:path w="697" h="527">
                  <a:moveTo>
                    <a:pt x="696" y="526"/>
                  </a:moveTo>
                  <a:lnTo>
                    <a:pt x="696" y="526"/>
                  </a:lnTo>
                  <a:lnTo>
                    <a:pt x="660" y="526"/>
                  </a:lnTo>
                  <a:lnTo>
                    <a:pt x="624" y="525"/>
                  </a:lnTo>
                  <a:lnTo>
                    <a:pt x="589" y="525"/>
                  </a:lnTo>
                  <a:lnTo>
                    <a:pt x="553" y="524"/>
                  </a:lnTo>
                  <a:lnTo>
                    <a:pt x="518" y="524"/>
                  </a:lnTo>
                  <a:lnTo>
                    <a:pt x="482" y="523"/>
                  </a:lnTo>
                  <a:lnTo>
                    <a:pt x="448" y="522"/>
                  </a:lnTo>
                  <a:lnTo>
                    <a:pt x="412" y="520"/>
                  </a:lnTo>
                  <a:lnTo>
                    <a:pt x="377" y="519"/>
                  </a:lnTo>
                  <a:lnTo>
                    <a:pt x="342" y="517"/>
                  </a:lnTo>
                  <a:lnTo>
                    <a:pt x="308" y="516"/>
                  </a:lnTo>
                  <a:lnTo>
                    <a:pt x="272" y="514"/>
                  </a:lnTo>
                  <a:lnTo>
                    <a:pt x="238" y="512"/>
                  </a:lnTo>
                  <a:lnTo>
                    <a:pt x="203" y="509"/>
                  </a:lnTo>
                  <a:lnTo>
                    <a:pt x="169" y="508"/>
                  </a:lnTo>
                  <a:lnTo>
                    <a:pt x="135" y="506"/>
                  </a:lnTo>
                  <a:lnTo>
                    <a:pt x="101" y="503"/>
                  </a:lnTo>
                  <a:lnTo>
                    <a:pt x="67" y="500"/>
                  </a:lnTo>
                  <a:lnTo>
                    <a:pt x="33" y="497"/>
                  </a:lnTo>
                  <a:lnTo>
                    <a:pt x="0" y="494"/>
                  </a:lnTo>
                  <a:lnTo>
                    <a:pt x="696" y="0"/>
                  </a:lnTo>
                  <a:lnTo>
                    <a:pt x="696" y="526"/>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68560" y="2933640"/>
              <a:ext cx="1797120" cy="712800"/>
            </a:xfrm>
            <a:custGeom>
              <a:avLst/>
              <a:gdLst/>
              <a:ahLst/>
              <a:rect l="l" t="t" r="r" b="b"/>
              <a:pathLst>
                <a:path w="1336" h="495">
                  <a:moveTo>
                    <a:pt x="639" y="494"/>
                  </a:moveTo>
                  <a:lnTo>
                    <a:pt x="639" y="494"/>
                  </a:lnTo>
                  <a:lnTo>
                    <a:pt x="606" y="490"/>
                  </a:lnTo>
                  <a:lnTo>
                    <a:pt x="572" y="487"/>
                  </a:lnTo>
                  <a:lnTo>
                    <a:pt x="540" y="484"/>
                  </a:lnTo>
                  <a:lnTo>
                    <a:pt x="507" y="480"/>
                  </a:lnTo>
                  <a:lnTo>
                    <a:pt x="475" y="476"/>
                  </a:lnTo>
                  <a:lnTo>
                    <a:pt x="443" y="472"/>
                  </a:lnTo>
                  <a:lnTo>
                    <a:pt x="411" y="468"/>
                  </a:lnTo>
                  <a:lnTo>
                    <a:pt x="379" y="464"/>
                  </a:lnTo>
                  <a:lnTo>
                    <a:pt x="349" y="460"/>
                  </a:lnTo>
                  <a:lnTo>
                    <a:pt x="318" y="455"/>
                  </a:lnTo>
                  <a:lnTo>
                    <a:pt x="287" y="450"/>
                  </a:lnTo>
                  <a:lnTo>
                    <a:pt x="257" y="445"/>
                  </a:lnTo>
                  <a:lnTo>
                    <a:pt x="227" y="440"/>
                  </a:lnTo>
                  <a:lnTo>
                    <a:pt x="197" y="436"/>
                  </a:lnTo>
                  <a:lnTo>
                    <a:pt x="168" y="431"/>
                  </a:lnTo>
                  <a:lnTo>
                    <a:pt x="139" y="425"/>
                  </a:lnTo>
                  <a:lnTo>
                    <a:pt x="111" y="419"/>
                  </a:lnTo>
                  <a:lnTo>
                    <a:pt x="83" y="414"/>
                  </a:lnTo>
                  <a:lnTo>
                    <a:pt x="55" y="409"/>
                  </a:lnTo>
                  <a:lnTo>
                    <a:pt x="27" y="403"/>
                  </a:lnTo>
                  <a:lnTo>
                    <a:pt x="0" y="396"/>
                  </a:lnTo>
                  <a:lnTo>
                    <a:pt x="1335" y="0"/>
                  </a:lnTo>
                  <a:lnTo>
                    <a:pt x="639" y="494"/>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394000" y="2933640"/>
              <a:ext cx="2371680" cy="571680"/>
            </a:xfrm>
            <a:custGeom>
              <a:avLst/>
              <a:gdLst/>
              <a:ahLst/>
              <a:rect l="l" t="t" r="r" b="b"/>
              <a:pathLst>
                <a:path w="1762" h="397">
                  <a:moveTo>
                    <a:pt x="426" y="396"/>
                  </a:moveTo>
                  <a:lnTo>
                    <a:pt x="426" y="396"/>
                  </a:lnTo>
                  <a:lnTo>
                    <a:pt x="400" y="390"/>
                  </a:lnTo>
                  <a:lnTo>
                    <a:pt x="373" y="385"/>
                  </a:lnTo>
                  <a:lnTo>
                    <a:pt x="348" y="378"/>
                  </a:lnTo>
                  <a:lnTo>
                    <a:pt x="323" y="371"/>
                  </a:lnTo>
                  <a:lnTo>
                    <a:pt x="298" y="364"/>
                  </a:lnTo>
                  <a:lnTo>
                    <a:pt x="274" y="358"/>
                  </a:lnTo>
                  <a:lnTo>
                    <a:pt x="250" y="351"/>
                  </a:lnTo>
                  <a:lnTo>
                    <a:pt x="226" y="344"/>
                  </a:lnTo>
                  <a:lnTo>
                    <a:pt x="203" y="338"/>
                  </a:lnTo>
                  <a:lnTo>
                    <a:pt x="181" y="331"/>
                  </a:lnTo>
                  <a:lnTo>
                    <a:pt x="158" y="323"/>
                  </a:lnTo>
                  <a:lnTo>
                    <a:pt x="136" y="316"/>
                  </a:lnTo>
                  <a:lnTo>
                    <a:pt x="115" y="309"/>
                  </a:lnTo>
                  <a:lnTo>
                    <a:pt x="95" y="301"/>
                  </a:lnTo>
                  <a:lnTo>
                    <a:pt x="75" y="293"/>
                  </a:lnTo>
                  <a:lnTo>
                    <a:pt x="55" y="286"/>
                  </a:lnTo>
                  <a:lnTo>
                    <a:pt x="37" y="278"/>
                  </a:lnTo>
                  <a:lnTo>
                    <a:pt x="17" y="270"/>
                  </a:lnTo>
                  <a:lnTo>
                    <a:pt x="0" y="263"/>
                  </a:lnTo>
                  <a:lnTo>
                    <a:pt x="1761" y="0"/>
                  </a:lnTo>
                  <a:lnTo>
                    <a:pt x="426" y="396"/>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52400" y="4502160"/>
              <a:ext cx="1376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kirtings</a:t>
              </a:r>
              <a:endParaRPr b="0" lang="en-US" sz="2200" spc="-1" strike="noStrike">
                <a:solidFill>
                  <a:srgbClr val="000000"/>
                </a:solidFill>
                <a:latin typeface="Times New Roman"/>
              </a:endParaRPr>
            </a:p>
          </p:txBody>
        </p:sp>
        <p:sp>
          <p:nvSpPr>
            <p:cNvPr id="66" name=""/>
            <p:cNvSpPr/>
            <p:nvPr/>
          </p:nvSpPr>
          <p:spPr>
            <a:xfrm>
              <a:off x="6424200" y="4811760"/>
              <a:ext cx="74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a:t>
              </a:r>
              <a:endParaRPr b="0" lang="en-US" sz="2200" spc="-1" strike="noStrike">
                <a:solidFill>
                  <a:srgbClr val="000000"/>
                </a:solidFill>
                <a:latin typeface="Times New Roman"/>
              </a:endParaRPr>
            </a:p>
          </p:txBody>
        </p:sp>
        <p:grpSp>
          <p:nvGrpSpPr>
            <p:cNvPr id="67" name=""/>
            <p:cNvGrpSpPr/>
            <p:nvPr/>
          </p:nvGrpSpPr>
          <p:grpSpPr>
            <a:xfrm>
              <a:off x="4174560" y="1219320"/>
              <a:ext cx="1469160" cy="731880"/>
              <a:chOff x="4174560" y="1219320"/>
              <a:chExt cx="1469160" cy="731880"/>
            </a:xfrm>
          </p:grpSpPr>
          <p:sp>
            <p:nvSpPr>
              <p:cNvPr id="68" name=""/>
              <p:cNvSpPr/>
              <p:nvPr/>
            </p:nvSpPr>
            <p:spPr>
              <a:xfrm>
                <a:off x="4174560" y="1219320"/>
                <a:ext cx="14691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bing </a:t>
                </a:r>
                <a:endParaRPr b="0" lang="en-US" sz="2200" spc="-1" strike="noStrike">
                  <a:solidFill>
                    <a:srgbClr val="000000"/>
                  </a:solidFill>
                  <a:latin typeface="Times New Roman"/>
                </a:endParaRPr>
              </a:p>
            </p:txBody>
          </p:sp>
          <p:sp>
            <p:nvSpPr>
              <p:cNvPr id="69" name=""/>
              <p:cNvSpPr/>
              <p:nvPr/>
            </p:nvSpPr>
            <p:spPr>
              <a:xfrm>
                <a:off x="4351320" y="1527120"/>
                <a:ext cx="973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eece</a:t>
                </a:r>
                <a:endParaRPr b="0" lang="en-US" sz="2200" spc="-1" strike="noStrike">
                  <a:solidFill>
                    <a:srgbClr val="000000"/>
                  </a:solidFill>
                  <a:latin typeface="Times New Roman"/>
                </a:endParaRPr>
              </a:p>
            </p:txBody>
          </p:sp>
        </p:grpSp>
        <p:sp>
          <p:nvSpPr>
            <p:cNvPr id="70" name=""/>
            <p:cNvSpPr/>
            <p:nvPr/>
          </p:nvSpPr>
          <p:spPr>
            <a:xfrm>
              <a:off x="4452480" y="1835280"/>
              <a:ext cx="74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7%</a:t>
              </a:r>
              <a:endParaRPr b="0" lang="en-US" sz="2200" spc="-1" strike="noStrike">
                <a:solidFill>
                  <a:srgbClr val="000000"/>
                </a:solidFill>
                <a:latin typeface="Times New Roman"/>
              </a:endParaRPr>
            </a:p>
          </p:txBody>
        </p:sp>
        <p:sp>
          <p:nvSpPr>
            <p:cNvPr id="71" name=""/>
            <p:cNvSpPr/>
            <p:nvPr/>
          </p:nvSpPr>
          <p:spPr>
            <a:xfrm>
              <a:off x="2777040" y="4389480"/>
              <a:ext cx="989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ks</a:t>
              </a:r>
              <a:endParaRPr b="0" lang="en-US" sz="2200" spc="-1" strike="noStrike">
                <a:solidFill>
                  <a:srgbClr val="000000"/>
                </a:solidFill>
                <a:latin typeface="Times New Roman"/>
              </a:endParaRPr>
            </a:p>
          </p:txBody>
        </p:sp>
        <p:sp>
          <p:nvSpPr>
            <p:cNvPr id="72" name=""/>
            <p:cNvSpPr/>
            <p:nvPr/>
          </p:nvSpPr>
          <p:spPr>
            <a:xfrm>
              <a:off x="3048120" y="4699080"/>
              <a:ext cx="382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mp;</a:t>
              </a:r>
              <a:endParaRPr b="0" lang="en-US" sz="2200" spc="-1" strike="noStrike">
                <a:solidFill>
                  <a:srgbClr val="000000"/>
                </a:solidFill>
                <a:latin typeface="Times New Roman"/>
              </a:endParaRPr>
            </a:p>
          </p:txBody>
        </p:sp>
        <p:sp>
          <p:nvSpPr>
            <p:cNvPr id="73" name=""/>
            <p:cNvSpPr/>
            <p:nvPr/>
          </p:nvSpPr>
          <p:spPr>
            <a:xfrm>
              <a:off x="2516040" y="5006880"/>
              <a:ext cx="160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rutchings</a:t>
              </a:r>
              <a:endParaRPr b="0" lang="en-US" sz="2200" spc="-1" strike="noStrike">
                <a:solidFill>
                  <a:srgbClr val="000000"/>
                </a:solidFill>
                <a:latin typeface="Times New Roman"/>
              </a:endParaRPr>
            </a:p>
          </p:txBody>
        </p:sp>
        <p:sp>
          <p:nvSpPr>
            <p:cNvPr id="74" name=""/>
            <p:cNvSpPr/>
            <p:nvPr/>
          </p:nvSpPr>
          <p:spPr>
            <a:xfrm>
              <a:off x="2950560" y="531504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75" name=""/>
            <p:cNvSpPr/>
            <p:nvPr/>
          </p:nvSpPr>
          <p:spPr>
            <a:xfrm>
              <a:off x="1804320" y="4165560"/>
              <a:ext cx="925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000000"/>
                </a:solidFill>
                <a:latin typeface="Times New Roman"/>
              </a:endParaRPr>
            </a:p>
          </p:txBody>
        </p:sp>
        <p:sp>
          <p:nvSpPr>
            <p:cNvPr id="76" name=""/>
            <p:cNvSpPr/>
            <p:nvPr/>
          </p:nvSpPr>
          <p:spPr>
            <a:xfrm>
              <a:off x="1949040" y="447372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77" name=""/>
            <p:cNvSpPr/>
            <p:nvPr/>
          </p:nvSpPr>
          <p:spPr>
            <a:xfrm>
              <a:off x="3972240" y="4605480"/>
              <a:ext cx="1345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eaners</a:t>
              </a:r>
              <a:endParaRPr b="0" lang="en-US" sz="2200" spc="-1" strike="noStrike">
                <a:solidFill>
                  <a:srgbClr val="000000"/>
                </a:solidFill>
                <a:latin typeface="Times New Roman"/>
              </a:endParaRPr>
            </a:p>
          </p:txBody>
        </p:sp>
        <p:sp>
          <p:nvSpPr>
            <p:cNvPr id="78" name=""/>
            <p:cNvSpPr/>
            <p:nvPr/>
          </p:nvSpPr>
          <p:spPr>
            <a:xfrm>
              <a:off x="4005360" y="4915080"/>
              <a:ext cx="12679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mp; lambs</a:t>
              </a:r>
              <a:endParaRPr b="0" lang="en-US" sz="2200" spc="-1" strike="noStrike">
                <a:solidFill>
                  <a:srgbClr val="000000"/>
                </a:solidFill>
                <a:latin typeface="Times New Roman"/>
              </a:endParaRPr>
            </a:p>
          </p:txBody>
        </p:sp>
        <p:sp>
          <p:nvSpPr>
            <p:cNvPr id="79" name=""/>
            <p:cNvSpPr/>
            <p:nvPr/>
          </p:nvSpPr>
          <p:spPr>
            <a:xfrm>
              <a:off x="4296960" y="522432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grpSp>
      <p:sp>
        <p:nvSpPr>
          <p:cNvPr id="8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Wool Clip</a:t>
            </a:r>
            <a:endParaRPr b="1" lang="en-US" sz="3200" spc="-1" strike="noStrike">
              <a:solidFill>
                <a:srgbClr val="fafd00"/>
              </a:solidFill>
              <a:latin typeface="Arial"/>
            </a:endParaRPr>
          </a:p>
        </p:txBody>
      </p:sp>
      <p:sp>
        <p:nvSpPr>
          <p:cNvPr id="81" name=""/>
          <p:cNvSpPr/>
          <p:nvPr/>
        </p:nvSpPr>
        <p:spPr>
          <a:xfrm>
            <a:off x="1372680" y="762120"/>
            <a:ext cx="56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types by clean mass %: 1995-96</a:t>
            </a:r>
            <a:endParaRPr b="0" lang="en-US" sz="2400" spc="-1" strike="noStrike">
              <a:solidFill>
                <a:srgbClr val="000000"/>
              </a:solidFill>
              <a:latin typeface="Times New Roman"/>
            </a:endParaRPr>
          </a:p>
        </p:txBody>
      </p:sp>
      <p:sp>
        <p:nvSpPr>
          <p:cNvPr id="82"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cessing Systems For Wool</a:t>
            </a:r>
            <a:endParaRPr b="1" lang="en-US" sz="3200" spc="-1" strike="noStrike">
              <a:solidFill>
                <a:srgbClr val="fafd00"/>
              </a:solidFill>
              <a:latin typeface="Arial"/>
            </a:endParaRPr>
          </a:p>
        </p:txBody>
      </p:sp>
      <p:grpSp>
        <p:nvGrpSpPr>
          <p:cNvPr id="84" name=""/>
          <p:cNvGrpSpPr/>
          <p:nvPr/>
        </p:nvGrpSpPr>
        <p:grpSpPr>
          <a:xfrm>
            <a:off x="1065600" y="1033560"/>
            <a:ext cx="7849800" cy="5200200"/>
            <a:chOff x="1065600" y="1033560"/>
            <a:chExt cx="7849800" cy="5200200"/>
          </a:xfrm>
        </p:grpSpPr>
        <p:sp>
          <p:nvSpPr>
            <p:cNvPr id="85" name=""/>
            <p:cNvSpPr/>
            <p:nvPr/>
          </p:nvSpPr>
          <p:spPr>
            <a:xfrm>
              <a:off x="4950720" y="1033560"/>
              <a:ext cx="1941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u="sng">
                  <a:solidFill>
                    <a:srgbClr val="ffff99"/>
                  </a:solidFill>
                  <a:uFillTx/>
                  <a:latin typeface="Arial"/>
                </a:rPr>
                <a:t>WOOLLENS</a:t>
              </a:r>
              <a:endParaRPr b="0" lang="en-US" sz="2400" spc="-1" strike="noStrike">
                <a:solidFill>
                  <a:srgbClr val="000000"/>
                </a:solidFill>
                <a:latin typeface="Times New Roman"/>
              </a:endParaRPr>
            </a:p>
          </p:txBody>
        </p:sp>
        <p:sp>
          <p:nvSpPr>
            <p:cNvPr id="86" name=""/>
            <p:cNvSpPr/>
            <p:nvPr/>
          </p:nvSpPr>
          <p:spPr>
            <a:xfrm>
              <a:off x="2825640" y="3978360"/>
              <a:ext cx="1654200" cy="671760"/>
            </a:xfrm>
            <a:prstGeom prst="ellipse">
              <a:avLst/>
            </a:prstGeom>
            <a:solidFill>
              <a:srgbClr val="dddddd"/>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25640" y="1121040"/>
              <a:ext cx="1654200" cy="60156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825640" y="3049920"/>
              <a:ext cx="1654200" cy="60156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65600" y="1033560"/>
              <a:ext cx="1737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u="sng">
                  <a:solidFill>
                    <a:srgbClr val="ffff99"/>
                  </a:solidFill>
                  <a:uFillTx/>
                  <a:latin typeface="Arial"/>
                </a:rPr>
                <a:t>WORSTED</a:t>
              </a:r>
              <a:endParaRPr b="0" lang="en-US" sz="2400" spc="-1" strike="noStrike">
                <a:solidFill>
                  <a:srgbClr val="000000"/>
                </a:solidFill>
                <a:latin typeface="Times New Roman"/>
              </a:endParaRPr>
            </a:p>
          </p:txBody>
        </p:sp>
        <p:sp>
          <p:nvSpPr>
            <p:cNvPr id="90" name=""/>
            <p:cNvSpPr/>
            <p:nvPr/>
          </p:nvSpPr>
          <p:spPr>
            <a:xfrm>
              <a:off x="3150000" y="1252800"/>
              <a:ext cx="1005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COUR</a:t>
              </a:r>
              <a:endParaRPr b="0" lang="en-US" sz="1800" spc="-1" strike="noStrike">
                <a:solidFill>
                  <a:srgbClr val="000000"/>
                </a:solidFill>
                <a:latin typeface="Times New Roman"/>
              </a:endParaRPr>
            </a:p>
          </p:txBody>
        </p:sp>
        <p:sp>
          <p:nvSpPr>
            <p:cNvPr id="91" name=""/>
            <p:cNvSpPr/>
            <p:nvPr/>
          </p:nvSpPr>
          <p:spPr>
            <a:xfrm>
              <a:off x="3029400" y="318312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DING</a:t>
              </a:r>
              <a:endParaRPr b="0" lang="en-US" sz="1800" spc="-1" strike="noStrike">
                <a:solidFill>
                  <a:srgbClr val="000000"/>
                </a:solidFill>
                <a:latin typeface="Times New Roman"/>
              </a:endParaRPr>
            </a:p>
          </p:txBody>
        </p:sp>
        <p:sp>
          <p:nvSpPr>
            <p:cNvPr id="92" name=""/>
            <p:cNvSpPr/>
            <p:nvPr/>
          </p:nvSpPr>
          <p:spPr>
            <a:xfrm>
              <a:off x="2982960" y="4037400"/>
              <a:ext cx="1339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ILLING &amp;</a:t>
              </a:r>
              <a:br>
                <a:rPr sz="1800"/>
              </a:br>
              <a:r>
                <a:rPr b="1" lang="en-US" sz="1800" spc="-1" strike="noStrike">
                  <a:solidFill>
                    <a:srgbClr val="000000"/>
                  </a:solidFill>
                  <a:latin typeface="Arial"/>
                </a:rPr>
                <a:t>COMBING</a:t>
              </a:r>
              <a:endParaRPr b="0" lang="en-US" sz="1800" spc="-1" strike="noStrike">
                <a:solidFill>
                  <a:srgbClr val="000000"/>
                </a:solidFill>
                <a:latin typeface="Times New Roman"/>
              </a:endParaRPr>
            </a:p>
          </p:txBody>
        </p:sp>
        <p:sp>
          <p:nvSpPr>
            <p:cNvPr id="93" name=""/>
            <p:cNvSpPr/>
            <p:nvPr/>
          </p:nvSpPr>
          <p:spPr>
            <a:xfrm>
              <a:off x="1778760" y="4081680"/>
              <a:ext cx="652320" cy="3632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P</a:t>
              </a:r>
              <a:endParaRPr b="0" lang="en-US" sz="1800" spc="-1" strike="noStrike">
                <a:solidFill>
                  <a:srgbClr val="000000"/>
                </a:solidFill>
                <a:latin typeface="Times New Roman"/>
              </a:endParaRPr>
            </a:p>
          </p:txBody>
        </p:sp>
        <p:sp>
          <p:nvSpPr>
            <p:cNvPr id="94" name=""/>
            <p:cNvSpPr/>
            <p:nvPr/>
          </p:nvSpPr>
          <p:spPr>
            <a:xfrm>
              <a:off x="4416120" y="5658120"/>
              <a:ext cx="1217880" cy="5756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WORSTED</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YARN</a:t>
              </a:r>
              <a:endParaRPr b="0" lang="en-US" sz="1600" spc="-1" strike="noStrike">
                <a:solidFill>
                  <a:srgbClr val="000000"/>
                </a:solidFill>
                <a:latin typeface="Times New Roman"/>
              </a:endParaRPr>
            </a:p>
          </p:txBody>
        </p:sp>
        <p:sp>
          <p:nvSpPr>
            <p:cNvPr id="95" name=""/>
            <p:cNvSpPr/>
            <p:nvPr/>
          </p:nvSpPr>
          <p:spPr>
            <a:xfrm>
              <a:off x="3637080" y="1759320"/>
              <a:ext cx="0" cy="1253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48240" y="3686400"/>
              <a:ext cx="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648240" y="4692960"/>
              <a:ext cx="0" cy="301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69240" y="2071800"/>
              <a:ext cx="1654200" cy="601920"/>
            </a:xfrm>
            <a:prstGeom prst="ellipse">
              <a:avLst/>
            </a:prstGeom>
            <a:solidFill>
              <a:srgbClr val="c8fec8"/>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69240" y="3049920"/>
              <a:ext cx="1654200" cy="6015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69240" y="1121040"/>
              <a:ext cx="1654200" cy="6015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93240" y="1252800"/>
              <a:ext cx="1005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COUR</a:t>
              </a:r>
              <a:endParaRPr b="0" lang="en-US" sz="1800" spc="-1" strike="noStrike">
                <a:solidFill>
                  <a:srgbClr val="000000"/>
                </a:solidFill>
                <a:latin typeface="Times New Roman"/>
              </a:endParaRPr>
            </a:p>
          </p:txBody>
        </p:sp>
        <p:sp>
          <p:nvSpPr>
            <p:cNvPr id="102" name=""/>
            <p:cNvSpPr/>
            <p:nvPr/>
          </p:nvSpPr>
          <p:spPr>
            <a:xfrm>
              <a:off x="7020360" y="2205360"/>
              <a:ext cx="1551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BONISE</a:t>
              </a:r>
              <a:endParaRPr b="0" lang="en-US" sz="1800" spc="-1" strike="noStrike">
                <a:solidFill>
                  <a:srgbClr val="000000"/>
                </a:solidFill>
                <a:latin typeface="Times New Roman"/>
              </a:endParaRPr>
            </a:p>
          </p:txBody>
        </p:sp>
        <p:sp>
          <p:nvSpPr>
            <p:cNvPr id="103" name=""/>
            <p:cNvSpPr/>
            <p:nvPr/>
          </p:nvSpPr>
          <p:spPr>
            <a:xfrm>
              <a:off x="7172640" y="318312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ARDING</a:t>
              </a:r>
              <a:endParaRPr b="0" lang="en-US" sz="1800" spc="-1" strike="noStrike">
                <a:solidFill>
                  <a:srgbClr val="000000"/>
                </a:solidFill>
                <a:latin typeface="Times New Roman"/>
              </a:endParaRPr>
            </a:p>
          </p:txBody>
        </p:sp>
        <p:sp>
          <p:nvSpPr>
            <p:cNvPr id="104" name=""/>
            <p:cNvSpPr/>
            <p:nvPr/>
          </p:nvSpPr>
          <p:spPr>
            <a:xfrm>
              <a:off x="5650200" y="2546640"/>
              <a:ext cx="967680" cy="63756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LEA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OL</a:t>
              </a:r>
              <a:endParaRPr b="0" lang="en-US" sz="1800" spc="-1" strike="noStrike">
                <a:solidFill>
                  <a:srgbClr val="000000"/>
                </a:solidFill>
                <a:latin typeface="Times New Roman"/>
              </a:endParaRPr>
            </a:p>
          </p:txBody>
        </p:sp>
        <p:sp>
          <p:nvSpPr>
            <p:cNvPr id="105" name=""/>
            <p:cNvSpPr/>
            <p:nvPr/>
          </p:nvSpPr>
          <p:spPr>
            <a:xfrm>
              <a:off x="5829120" y="5658120"/>
              <a:ext cx="1216080" cy="575640"/>
            </a:xfrm>
            <a:prstGeom prst="rect">
              <a:avLst/>
            </a:prstGeom>
            <a:solidFill>
              <a:srgbClr val="fcd1c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WOOLLE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YARN</a:t>
              </a:r>
              <a:endParaRPr b="0" lang="en-US" sz="1600" spc="-1" strike="noStrike">
                <a:solidFill>
                  <a:srgbClr val="000000"/>
                </a:solidFill>
                <a:latin typeface="Times New Roman"/>
              </a:endParaRPr>
            </a:p>
          </p:txBody>
        </p:sp>
        <p:sp>
          <p:nvSpPr>
            <p:cNvPr id="106" name=""/>
            <p:cNvSpPr/>
            <p:nvPr/>
          </p:nvSpPr>
          <p:spPr>
            <a:xfrm>
              <a:off x="7792920" y="1768680"/>
              <a:ext cx="0" cy="270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1080" y="2792520"/>
              <a:ext cx="1127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92920" y="1848240"/>
              <a:ext cx="1122480" cy="1028520"/>
            </a:xfrm>
            <a:custGeom>
              <a:avLst/>
              <a:gdLst/>
              <a:ahLst/>
              <a:rect l="l" t="t" r="r" b="b"/>
              <a:pathLst>
                <a:path w="707" h="699">
                  <a:moveTo>
                    <a:pt x="0" y="0"/>
                  </a:moveTo>
                  <a:lnTo>
                    <a:pt x="706" y="8"/>
                  </a:lnTo>
                  <a:lnTo>
                    <a:pt x="706" y="698"/>
                  </a:lnTo>
                  <a:lnTo>
                    <a:pt x="61" y="691"/>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770960" y="4158000"/>
              <a:ext cx="0" cy="844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7085160" y="3624480"/>
              <a:ext cx="1380960" cy="480960"/>
              <a:chOff x="7085160" y="3624480"/>
              <a:chExt cx="1380960" cy="480960"/>
            </a:xfrm>
          </p:grpSpPr>
          <p:sp>
            <p:nvSpPr>
              <p:cNvPr id="111" name=""/>
              <p:cNvSpPr/>
              <p:nvPr/>
            </p:nvSpPr>
            <p:spPr>
              <a:xfrm>
                <a:off x="7085160" y="3624480"/>
                <a:ext cx="1373040" cy="48096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49240" y="3624480"/>
                <a:ext cx="1316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ing</a:t>
                </a:r>
                <a:endParaRPr b="0" lang="en-US" sz="1600" spc="-1" strike="noStrike">
                  <a:solidFill>
                    <a:srgbClr val="000000"/>
                  </a:solidFill>
                  <a:latin typeface="Times New Roman"/>
                </a:endParaRPr>
              </a:p>
            </p:txBody>
          </p:sp>
        </p:grpSp>
        <p:sp>
          <p:nvSpPr>
            <p:cNvPr id="113" name=""/>
            <p:cNvSpPr/>
            <p:nvPr/>
          </p:nvSpPr>
          <p:spPr>
            <a:xfrm flipH="1">
              <a:off x="2436840" y="431028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237440" y="4233960"/>
              <a:ext cx="1209600" cy="363240"/>
            </a:xfrm>
            <a:prstGeom prst="rect">
              <a:avLst/>
            </a:prstGeom>
            <a:solidFill>
              <a:srgbClr val="fcfeb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lubbing</a:t>
              </a:r>
              <a:endParaRPr b="0" lang="en-US" sz="1800" spc="-1" strike="noStrike">
                <a:solidFill>
                  <a:srgbClr val="000000"/>
                </a:solidFill>
                <a:latin typeface="Times New Roman"/>
              </a:endParaRPr>
            </a:p>
          </p:txBody>
        </p:sp>
        <p:sp>
          <p:nvSpPr>
            <p:cNvPr id="115" name=""/>
            <p:cNvSpPr/>
            <p:nvPr/>
          </p:nvSpPr>
          <p:spPr>
            <a:xfrm>
              <a:off x="7770960" y="2633760"/>
              <a:ext cx="0" cy="38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6969240" y="5016600"/>
              <a:ext cx="1654200" cy="893880"/>
              <a:chOff x="6969240" y="5016600"/>
              <a:chExt cx="1654200" cy="893880"/>
            </a:xfrm>
          </p:grpSpPr>
          <p:grpSp>
            <p:nvGrpSpPr>
              <p:cNvPr id="117" name=""/>
              <p:cNvGrpSpPr/>
              <p:nvPr/>
            </p:nvGrpSpPr>
            <p:grpSpPr>
              <a:xfrm>
                <a:off x="6969240" y="5016600"/>
                <a:ext cx="1654200" cy="601920"/>
                <a:chOff x="6969240" y="5016600"/>
                <a:chExt cx="1654200" cy="601920"/>
              </a:xfrm>
            </p:grpSpPr>
            <p:sp>
              <p:nvSpPr>
                <p:cNvPr id="118" name=""/>
                <p:cNvSpPr/>
                <p:nvPr/>
              </p:nvSpPr>
              <p:spPr>
                <a:xfrm>
                  <a:off x="6969240" y="5016600"/>
                  <a:ext cx="1654200" cy="601920"/>
                </a:xfrm>
                <a:prstGeom prst="ellipse">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53200" y="5150160"/>
                  <a:ext cx="128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INNING</a:t>
                  </a:r>
                  <a:endParaRPr b="0" lang="en-US" sz="1800" spc="-1" strike="noStrike">
                    <a:solidFill>
                      <a:srgbClr val="000000"/>
                    </a:solidFill>
                    <a:latin typeface="Times New Roman"/>
                  </a:endParaRPr>
                </a:p>
              </p:txBody>
            </p:sp>
          </p:grpSp>
          <p:sp>
            <p:nvSpPr>
              <p:cNvPr id="120" name=""/>
              <p:cNvSpPr/>
              <p:nvPr/>
            </p:nvSpPr>
            <p:spPr>
              <a:xfrm>
                <a:off x="7091280" y="5909040"/>
                <a:ext cx="69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70960" y="5605560"/>
                <a:ext cx="0" cy="304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825640" y="5016600"/>
              <a:ext cx="1654200" cy="893880"/>
              <a:chOff x="2825640" y="5016600"/>
              <a:chExt cx="1654200" cy="893880"/>
            </a:xfrm>
          </p:grpSpPr>
          <p:sp>
            <p:nvSpPr>
              <p:cNvPr id="123" name=""/>
              <p:cNvSpPr/>
              <p:nvPr/>
            </p:nvSpPr>
            <p:spPr>
              <a:xfrm>
                <a:off x="2825640" y="5016600"/>
                <a:ext cx="1654200" cy="60192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3009960" y="5150160"/>
                <a:ext cx="1366920" cy="760320"/>
                <a:chOff x="3009960" y="5150160"/>
                <a:chExt cx="1366920" cy="760320"/>
              </a:xfrm>
            </p:grpSpPr>
            <p:sp>
              <p:nvSpPr>
                <p:cNvPr id="125" name=""/>
                <p:cNvSpPr/>
                <p:nvPr/>
              </p:nvSpPr>
              <p:spPr>
                <a:xfrm>
                  <a:off x="3009960" y="5150160"/>
                  <a:ext cx="1286280" cy="3632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INNING</a:t>
                  </a:r>
                  <a:endParaRPr b="0" lang="en-US" sz="1800" spc="-1" strike="noStrike">
                    <a:solidFill>
                      <a:srgbClr val="000000"/>
                    </a:solidFill>
                    <a:latin typeface="Times New Roman"/>
                  </a:endParaRPr>
                </a:p>
              </p:txBody>
            </p:sp>
            <p:sp>
              <p:nvSpPr>
                <p:cNvPr id="126" name=""/>
                <p:cNvSpPr/>
                <p:nvPr/>
              </p:nvSpPr>
              <p:spPr>
                <a:xfrm flipV="1">
                  <a:off x="3579840" y="5909040"/>
                  <a:ext cx="7970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
                <p:cNvSpPr/>
                <p:nvPr/>
              </p:nvSpPr>
              <p:spPr>
                <a:xfrm>
                  <a:off x="3579840" y="5605560"/>
                  <a:ext cx="0" cy="304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8"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9" name="woolbig" descr=""/>
          <p:cNvPicPr/>
          <p:nvPr/>
        </p:nvPicPr>
        <p:blipFill>
          <a:blip r:embed="rId1"/>
          <a:stretch/>
        </p:blipFill>
        <p:spPr>
          <a:xfrm>
            <a:off x="5486400" y="3048120"/>
            <a:ext cx="1622520" cy="2352600"/>
          </a:xfrm>
          <a:prstGeom prst="rect">
            <a:avLst/>
          </a:prstGeom>
          <a:ln w="0">
            <a:noFill/>
          </a:ln>
        </p:spPr>
      </p:pic>
      <p:sp>
        <p:nvSpPr>
          <p:cNvPr id="130"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fferences between systems:</a:t>
            </a:r>
            <a:br>
              <a:rPr sz="3200"/>
            </a:br>
            <a:r>
              <a:rPr b="1" lang="en-US" sz="3200" spc="-1" strike="noStrike">
                <a:solidFill>
                  <a:srgbClr val="fafd00"/>
                </a:solidFill>
                <a:latin typeface="Arial"/>
              </a:rPr>
              <a:t>  Raw Material</a:t>
            </a:r>
            <a:endParaRPr b="1" lang="en-US" sz="3200" spc="-1" strike="noStrike">
              <a:solidFill>
                <a:srgbClr val="fafd00"/>
              </a:solidFill>
              <a:latin typeface="Arial"/>
            </a:endParaRPr>
          </a:p>
        </p:txBody>
      </p:sp>
      <p:sp>
        <p:nvSpPr>
          <p:cNvPr id="132" name="PlaceHolder 2"/>
          <p:cNvSpPr>
            <a:spLocks noGrp="1"/>
          </p:cNvSpPr>
          <p:nvPr>
            <p:ph/>
          </p:nvPr>
        </p:nvSpPr>
        <p:spPr>
          <a:xfrm>
            <a:off x="1295280" y="15238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OLLE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virgin wool (Carding Woo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or stretch broken TO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d waste  (Worsted Noil etc)</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ycled material (Rags, tailors waste)</a:t>
            </a:r>
            <a:endParaRPr b="1" lang="en-US" sz="2400" spc="-1" strike="noStrike">
              <a:solidFill>
                <a:srgbClr val="ffffff"/>
              </a:solidFill>
              <a:latin typeface="Arial"/>
            </a:endParaRPr>
          </a:p>
        </p:txBody>
      </p:sp>
      <p:sp>
        <p:nvSpPr>
          <p:cNvPr id="133" name="PlaceHolder 3"/>
          <p:cNvSpPr>
            <a:spLocks noGrp="1"/>
          </p:cNvSpPr>
          <p:nvPr>
            <p:ph/>
          </p:nvPr>
        </p:nvSpPr>
        <p:spPr>
          <a:xfrm>
            <a:off x="5257440" y="15238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ORST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gin fleece and skirting wool</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7186680" y="2149560"/>
          <a:ext cx="1881000" cy="3641760"/>
        </p:xfrm>
        <a:graphic>
          <a:graphicData uri="http://schemas.openxmlformats.org/presentationml/2006/ole">
            <p:oleObj r:id="rId1" spid="">
              <p:embed/>
              <p:pic>
                <p:nvPicPr>
                  <p:cNvPr id="135" name="" descr=""/>
                  <p:cNvPicPr/>
                  <p:nvPr/>
                </p:nvPicPr>
                <p:blipFill>
                  <a:blip r:embed="rId2"/>
                  <a:stretch/>
                </p:blipFill>
                <p:spPr>
                  <a:xfrm>
                    <a:off x="7186680" y="2149560"/>
                    <a:ext cx="1881000" cy="3641760"/>
                  </a:xfrm>
                  <a:prstGeom prst="rect">
                    <a:avLst/>
                  </a:prstGeom>
                  <a:ln w="0">
                    <a:noFill/>
                  </a:ln>
                </p:spPr>
              </p:pic>
            </p:oleObj>
          </a:graphicData>
        </a:graphic>
      </p:graphicFrame>
      <p:grpSp>
        <p:nvGrpSpPr>
          <p:cNvPr id="136" name=""/>
          <p:cNvGrpSpPr/>
          <p:nvPr/>
        </p:nvGrpSpPr>
        <p:grpSpPr>
          <a:xfrm>
            <a:off x="1221120" y="1600200"/>
            <a:ext cx="6699600" cy="2025000"/>
            <a:chOff x="1221120" y="1600200"/>
            <a:chExt cx="6699600" cy="2025000"/>
          </a:xfrm>
        </p:grpSpPr>
        <p:sp>
          <p:nvSpPr>
            <p:cNvPr id="137" name=""/>
            <p:cNvSpPr/>
            <p:nvPr/>
          </p:nvSpPr>
          <p:spPr>
            <a:xfrm>
              <a:off x="1221120" y="1600200"/>
              <a:ext cx="6699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OOLLEN - hairy, bulky, (often) heavy</a:t>
              </a:r>
              <a:endParaRPr b="0" lang="en-US" sz="2800" spc="-1" strike="noStrike">
                <a:solidFill>
                  <a:srgbClr val="000000"/>
                </a:solidFill>
                <a:latin typeface="Times New Roman"/>
              </a:endParaRPr>
            </a:p>
          </p:txBody>
        </p:sp>
        <p:sp>
          <p:nvSpPr>
            <p:cNvPr id="138" name=""/>
            <p:cNvSpPr/>
            <p:nvPr/>
          </p:nvSpPr>
          <p:spPr>
            <a:xfrm>
              <a:off x="3425040" y="2073240"/>
              <a:ext cx="43344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a:t>
              </a:r>
              <a:r>
                <a:rPr b="1" lang="en-US" sz="2400" spc="-1" strike="noStrike">
                  <a:solidFill>
                    <a:srgbClr val="ffffff"/>
                  </a:solidFill>
                  <a:latin typeface="Arial"/>
                </a:rPr>
                <a:t>	</a:t>
              </a:r>
              <a:r>
                <a:rPr b="1" lang="en-US" sz="2400" spc="-1" strike="noStrike">
                  <a:solidFill>
                    <a:srgbClr val="ffffff"/>
                  </a:solidFill>
                  <a:latin typeface="Arial"/>
                </a:rPr>
                <a:t>Overco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men’s winter ski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lann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lankets</a:t>
              </a:r>
              <a:endParaRPr b="0" lang="en-US" sz="2400" spc="-1" strike="noStrike">
                <a:solidFill>
                  <a:srgbClr val="000000"/>
                </a:solidFill>
                <a:latin typeface="Times New Roman"/>
              </a:endParaRPr>
            </a:p>
          </p:txBody>
        </p:sp>
      </p:grpSp>
      <p:grpSp>
        <p:nvGrpSpPr>
          <p:cNvPr id="139" name=""/>
          <p:cNvGrpSpPr/>
          <p:nvPr/>
        </p:nvGrpSpPr>
        <p:grpSpPr>
          <a:xfrm>
            <a:off x="1222200" y="4435560"/>
            <a:ext cx="5943240" cy="1735560"/>
            <a:chOff x="1222200" y="4435560"/>
            <a:chExt cx="5943240" cy="1735560"/>
          </a:xfrm>
        </p:grpSpPr>
        <p:sp>
          <p:nvSpPr>
            <p:cNvPr id="140" name=""/>
            <p:cNvSpPr/>
            <p:nvPr/>
          </p:nvSpPr>
          <p:spPr>
            <a:xfrm>
              <a:off x="1222200" y="4435560"/>
              <a:ext cx="5332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ORSTED - lean, fine, smooth</a:t>
              </a:r>
              <a:endParaRPr b="0" lang="en-US" sz="2800" spc="-1" strike="noStrike">
                <a:solidFill>
                  <a:srgbClr val="000000"/>
                </a:solidFill>
                <a:latin typeface="Times New Roman"/>
              </a:endParaRPr>
            </a:p>
          </p:txBody>
        </p:sp>
        <p:sp>
          <p:nvSpPr>
            <p:cNvPr id="141" name=""/>
            <p:cNvSpPr/>
            <p:nvPr/>
          </p:nvSpPr>
          <p:spPr>
            <a:xfrm>
              <a:off x="3274560" y="4984920"/>
              <a:ext cx="38908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e wool undergar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men’s su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l wool</a:t>
              </a:r>
              <a:endParaRPr b="0" lang="en-US" sz="2400" spc="-1" strike="noStrike">
                <a:solidFill>
                  <a:srgbClr val="000000"/>
                </a:solidFill>
                <a:latin typeface="Times New Roman"/>
              </a:endParaRPr>
            </a:p>
          </p:txBody>
        </p:sp>
      </p:grpSp>
      <p:sp>
        <p:nvSpPr>
          <p:cNvPr id="142" name=""/>
          <p:cNvSpPr/>
          <p:nvPr/>
        </p:nvSpPr>
        <p:spPr>
          <a:xfrm>
            <a:off x="762372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fferences between systems:</a:t>
            </a:r>
            <a:br>
              <a:rPr sz="3200"/>
            </a:br>
            <a:r>
              <a:rPr b="1" lang="en-US" sz="3200" spc="-1" strike="noStrike">
                <a:solidFill>
                  <a:srgbClr val="fafd00"/>
                </a:solidFill>
                <a:latin typeface="Arial"/>
              </a:rPr>
              <a:t> End Produc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3:39:52Z</dcterms:created>
  <dc:creator>Peter Auer</dc:creator>
  <dc:description/>
  <dc:language>en-US</dc:language>
  <cp:lastModifiedBy>select agreement</cp:lastModifiedBy>
  <cp:lastPrinted>2000-02-08T04:00:36Z</cp:lastPrinted>
  <dcterms:modified xsi:type="dcterms:W3CDTF">2000-03-10T02:28:20Z</dcterms:modified>
  <cp:revision>3</cp:revision>
  <dc:subject/>
  <dc:title>Comparison of Processing Systems: Worsted &amp; Woollen</dc:title>
</cp:coreProperties>
</file>