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2A1A-3AE9-434F-85B2-4ACA35690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technology used to blend fibre throughout the processing pipeline.  The rationale for blending is explained, and some of the latest blended wool products are feat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es of pre-scour blending and blending before spinning are expl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ibre blend can be either </a:t>
            </a:r>
            <a:r>
              <a:rPr b="1" lang="en-AU" sz="1200" spc="-1" strike="noStrike">
                <a:solidFill>
                  <a:srgbClr val="000000"/>
                </a:solidFill>
                <a:latin typeface="Times New Roman"/>
              </a:rPr>
              <a:t>intimate</a:t>
            </a:r>
            <a:r>
              <a:rPr b="0" lang="en-AU" sz="1200" spc="-1" strike="noStrike">
                <a:solidFill>
                  <a:srgbClr val="000000"/>
                </a:solidFill>
                <a:latin typeface="Times New Roman"/>
              </a:rPr>
              <a:t> or exist within a textile structure, such as a yarn or a fabric as a </a:t>
            </a:r>
            <a:r>
              <a:rPr b="1" lang="en-AU" sz="1200" spc="-1" strike="noStrike">
                <a:solidFill>
                  <a:srgbClr val="000000"/>
                </a:solidFill>
                <a:latin typeface="Times New Roman"/>
              </a:rPr>
              <a:t>separate</a:t>
            </a:r>
            <a:r>
              <a:rPr b="0" lang="en-AU" sz="1200" spc="-1" strike="noStrike">
                <a:solidFill>
                  <a:srgbClr val="000000"/>
                </a:solidFill>
                <a:latin typeface="Times New Roman"/>
              </a:rPr>
              <a:t> bl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imate blend should return a homogeneous sample of fibres in the proportion of the blend if the blending has been carried out successfully.  A separate blend wouldn’t achieve this if, for example, just the warp yarns were sampled in a fabric having warp yarns containing one fibre, and the weft yarns were constructed from another fibre.  These type of blends have been considered somewhat outside the definition of a blend, and have been referred to as “ortho-mix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tuation can get quite complicated since each of the yarns used to make the fabric may themselves be constructed from blended str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a greater part of the development in wool fibre blends has concentrated on intimate blends of wool with other fibres such as cotton, nylon and lyc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ent notable exception is the development of Sportwool by CSIRO Textile and Fibre Technology.  This is a separate blend in a knitted fabric.  Pure wool yarn and pure polyester yarn are knitted so that the pure wool yarn is on the inside of the fabric next to the skin, while the polyester is on the outside of the fabric.  In this way the wool does its work absorbing moisture, while the polyester can be printed.  This is particularly suited to applications such as sports guernsey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bres are blended for a number of reasons.  The development of new products is one reason that has been to the fore in recent years.  Developments such as wool / Lycra blends (about 1-2% Lycra), and wool / cotton blends (about 10 or 20% wool) have been commercialised over the last few years, although wool and cotton blending isn’t new.</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products have been developed for different reasons.  Wool / Lycra blends are designed primarily to use the stretch-return properties of Lycra to enhance the wearability of wool, particularly in knitted configurations.  Wool / cotton has been designed to make a softer product with enhanced thermal properties for the jeans / casual wear marke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one considers the infinite varieties of yarns and fabrics that are available at any time world-wide, the common sense in utilising fibre blends to enhance product ranges becomes apparen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more technical reasons why fibres are blended.  In some countries, especially those with low levels of capital expenditure in dyeing technology, wool tops are dyed and then re-mixed after dyeing to make sure that the entire batch of tops is the same colou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venness of the product could also refer to how intimate the achieved blend becomes during blending.  A topmaker certainly wants to make sure that the skirtings are not discernible from the fleece wool when it is in a top.</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major route to achieving this level of intimate blending and also product evenness is using doubling and drafting.  For more information see the modules  “Evenness” and “Drafting”.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discussed in the “Processing on the Woollen System” module blending may be carried out for cost reasons.  The same reasoning can apply to topmaking.  Topmakers are supplying a specified product at least cost, therefore they will attempt to make the most cost effective blend possible to meet their customers’ (the spinners) requirement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cessing performance of yarns may be enhanced by blending, or it may cause concerns.  Certainly a wool / nylon blend would perform better in weft insertion during weaving, however a wool/polyester blend is a more technically demanding proposi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me aspects of product performance were covered in the above section on fibre blends.  It should be added that fibres can be blended to enhance the properties of one of the fibres in a blend.  For example,  Lycra is enhancing in wool/lycra, for wool / cotton blends, wool is enhancin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reasonably straightforward to examine just where in the pipeline that fibre blending can occur.  For more information see the “Textile Processes and Product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processing points before the yarn stage where intimate blending is possible.  The points examined in this module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re-scour blend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e-gilling / re-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lending that occurs in carding, gilling and combing is thought of as secondary to the aim of fibre aligning and straightening, however this aspect of these processes will be covered in other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twist has been inserted into an array of fibres in the spinning process, it is impossible to achieve any more intimacy in blending.  Blending before this stage will be aimed to achieve intimate bl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any blended products after the production of singles yarn would contain separate blends, e.g. a doubled yarn consisting of pure wool and nylon singles yar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428640"/>
            <a:ext cx="5943600" cy="48769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efore fibres can be successfully blended they must be matched in terms of several fibre properti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iameter is NOT a major technical issue since fibres of widely varying diameter can be successfully blended, e.g. Harris Tweed fabric, wool / mohair blends.  However differences in fibre diameter may be manifested in yarn as uneven distribution in the yarn cross-section (coarser fibres tend to migrate to the outside of yarns), or in fabrics as undesirable aesthetic features such as poor appearance which can be related to the linear density evenness of the yarns themselv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ength is the most critical fibre property that needs to be matched.  The fibre length distribution in a fibre array must be such that drafting is controllable.  Drafting usually occurs between two sets of rollers (the first set is slow, the second set is fast) which are set apart according to how long the longest fibres are.  If the shortest fibres are relatively short they will not be well controlled and yarn evenness will be affected.  If there is a complete lack of control the short fibre may cause the whole process to break down thus affecting machine efficienc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physical property of stiffness (more technically initial modulus), or how easily a fibre can be stretched can affect drafting as well.  Imagine a fibre like elastic (Lycra) being drafted with wool.  Fibre control is critical in this situation.  The moduli below 2% extension is critical here, and should match.  This illustrated in the next slid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tatic is always a problem in fibre processing.  The moisture present as fibre regain dissipates the static charge built up through fibre / roller contact.  If a fibre of low regain (e.g. polyester or nylon is being blended with a high regain fibre (e.g. wool), a lower ambient relative humidity is recommended (80% r.h. to 65% r.h.).  This means that the use of an anti-static lubricant is necessary.  The concentration of this anti-stat is generally higher than with a pure fibre since the presence of wool effectively reduced the level of lubricant.  At 65% r.h. the order of decreasing electrostatic charge is wool &gt; polyamide (nylon) &gt; acrylic &gt; polyester.  It is believed that the absorption of the lubricant by the fibres is the critical facto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yeing involves prolonged heating of fibres with various chemicals.  The degree and length of heating are different for different fibres, therefore some blends of fibres are very difficult to dye without harming one of the fibres, e.g. for wool / polyester, wool will be damaged by the polyester dyeing condition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inishing is achieved with heat and water, therefore if fibres react differently to each of these conditions they will achieve differing levels of set.  A pure wool fabric would not finish the same as a wool / nylon fabric.</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Note: FLE = Fibre Leading End; FTE = Fibre Trailing End</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von, Bergen, W. (1963), Wool Handbook, Volume 1, p.520, </a:t>
            </a:r>
            <a:r>
              <a:rPr b="0" lang="en-GB" sz="1200" spc="-1" strike="noStrike">
                <a:solidFill>
                  <a:srgbClr val="000000"/>
                </a:solidFill>
                <a:latin typeface="Times New Roman"/>
              </a:rPr>
              <a:t>John Wiley &amp; Sons, In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tress-strain curves for wool fibres compared to polyester (including modified PET), nylon and acryl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breaking strength (stress) and elongation (strain) are important components in determining yarn strength and fabric dur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itial modulus (slope of the line) is a measure of how stiff the fibres are at strains less than 2%.  As far as fibre blending is concerned this is a critical region that equates to the level of strain that fibres undergo during flexing, bending and twisting during fibre processing and w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this graph, it could be concluded that polyester and acrylic fibres match the low strain properties of the wool fibres bet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ustomers of the topmaker wants a top to suit their specifications as spinners.  These specifications are covered in more detail in the module “Top T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 charges the spinner on a volume basis.  A lot of costs are fixed.  One way to optimise profits is to utilise Prediction formula, and thus meet the spinner’s specifications at least cost in terms of raw mate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diction formulae gives the topmaker a variety of options as far as raw material is concerned.  The final make-up of the processing batch (consignment) will depend on supply of suitable wool, but it may be quite complex in terms of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ick is then to ensure that this consignment, consisting of many wool bales, returns a consistent batch of top.  A vital part of this outcome is the blending that occurs before the batch is sco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topmakers use this as a quality control (QC) opportunity.  The bales are laid out in an order such that the scour output will be homogenised.  This can be done by experienced personnel, or by computer programs.  The bales can then be individually inspected.  This individual inspection was a feature of times when labour was cheaper, and so large contamination was often picked out of the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pproach is to “open” all the wool from the bales so that the bale demarcation is destroyed, and put all the opened wool in an Accumulator, which might be a machine or simply a big room.  Once blended in the Accumulator the wool can then be scoured with more confidence that the scoured product will be homogeneou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gilling and combing are understood, then re-gilling and re-combing are self-explanatory.  They are the same processes used at a different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ps are dyed by immersing them in hot water containing dyes and chemicals.  This is a batch process.  Unless the dyeing conditions are strictly controlled, it is very difficult to get the colour the same within batches of the same tops.  Therefore the tops are re-gilled to maintain an even colour.  They are also re-combed, since there is a certain amount of fibre breakage during re-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lling and re-combing are sometimes undertaken as a matter of course by spinners to ensure that their machines are not affected by the input material (tops).  This is not that common, since it adds another process before spinning, but may be necessary if the spinner has a problem with the top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likely scenario is that the wool top needs to be blended with another fibre.  Since the wool fibre market is relatively small, it is more common for wool tops to be manufactured to suit blends with synthetic fibres.  Synthetic tops are made to suit the synthetic staple yarn market, not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ase of matching cotton, that fibre is about 25-25mm in length.  Therefore the wool must go through a process of stretch-breaking to match the fibre length properties of the cotton.  For more information see the module “Textile Processes an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uitable blend is obtained by using tops of both types of fibres in the correct proportion to suit the blend, e.g. 55/45 wool/nylon would use an input equivalent to 55 wool tops and 45 nylon tops, assuming they have the same linear density.  If the linear density varied, then the number of tops, or the linear density of the tops could be adjusted to suit the ble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lending Fibr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tion of a Blend</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im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 fully mix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mogeneous sample of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par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in yar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ded (plied) yar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ain intimate blend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in fabric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rp and weft (ortho-mixtur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blended yar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ended yarns</a:t>
            </a:r>
            <a:endParaRPr b="1" lang="en-US" sz="2000" spc="-1" strike="noStrike">
              <a:solidFill>
                <a:srgbClr val="ffffff"/>
              </a:solidFill>
              <a:latin typeface="Arial"/>
            </a:endParaRPr>
          </a:p>
        </p:txBody>
      </p:sp>
      <p:sp>
        <p:nvSpPr>
          <p:cNvPr id="51"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Blend Fibre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blend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nyl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lycra</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cott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silk</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microfibr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desig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desig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Evenn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eing (to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osi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ubling &amp; drafting</a:t>
            </a:r>
            <a:endParaRPr b="1" lang="en-US" sz="2000" spc="-1" strike="noStrike">
              <a:solidFill>
                <a:srgbClr val="ffffff"/>
              </a:solidFill>
              <a:latin typeface="Arial"/>
            </a:endParaRPr>
          </a:p>
        </p:txBody>
      </p:sp>
      <p:sp>
        <p:nvSpPr>
          <p:cNvPr id="55"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Cos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Q</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cified produc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ast cos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cessing performan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e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performan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ere to Blend?</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im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cou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il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isher gil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gilling / re-comb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 dye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ynthetic staple tops</a:t>
            </a:r>
            <a:endParaRPr b="1" lang="en-US" sz="2000" spc="-1" strike="noStrike">
              <a:solidFill>
                <a:srgbClr val="ffffff"/>
              </a:solidFill>
              <a:latin typeface="Arial"/>
            </a:endParaRPr>
          </a:p>
        </p:txBody>
      </p:sp>
      <p:sp>
        <p:nvSpPr>
          <p:cNvPr id="59"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par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ub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av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nit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ye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ction to heat, chemical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ish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ction to heat, water</a:t>
            </a:r>
            <a:endParaRPr b="1" lang="en-US" sz="2000" spc="-1" strike="noStrike">
              <a:solidFill>
                <a:srgbClr val="ffffff"/>
              </a:solidFill>
              <a:latin typeface="Arial"/>
            </a:endParaRPr>
          </a:p>
        </p:txBody>
      </p:sp>
      <p:grpSp>
        <p:nvGrpSpPr>
          <p:cNvPr id="61" name=""/>
          <p:cNvGrpSpPr/>
          <p:nvPr/>
        </p:nvGrpSpPr>
        <p:grpSpPr>
          <a:xfrm>
            <a:off x="3962520" y="1066680"/>
            <a:ext cx="5088960" cy="1961280"/>
            <a:chOff x="3962520" y="1066680"/>
            <a:chExt cx="5088960" cy="1961280"/>
          </a:xfrm>
        </p:grpSpPr>
        <p:sp>
          <p:nvSpPr>
            <p:cNvPr id="62" name=""/>
            <p:cNvSpPr/>
            <p:nvPr/>
          </p:nvSpPr>
          <p:spPr>
            <a:xfrm>
              <a:off x="5372280" y="1066680"/>
              <a:ext cx="620280" cy="679680"/>
            </a:xfrm>
            <a:prstGeom prst="ellipse">
              <a:avLst/>
            </a:prstGeom>
            <a:noFill/>
            <a:ln w="414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72280" y="1742040"/>
              <a:ext cx="620280" cy="681480"/>
            </a:xfrm>
            <a:prstGeom prst="ellipse">
              <a:avLst/>
            </a:prstGeom>
            <a:noFill/>
            <a:ln w="414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724880" y="1066680"/>
              <a:ext cx="620280" cy="679680"/>
            </a:xfrm>
            <a:prstGeom prst="ellipse">
              <a:avLst/>
            </a:prstGeom>
            <a:noFill/>
            <a:ln w="414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724880" y="1742040"/>
              <a:ext cx="620280" cy="681480"/>
            </a:xfrm>
            <a:prstGeom prst="ellipse">
              <a:avLst/>
            </a:prstGeom>
            <a:noFill/>
            <a:ln w="414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962520" y="1732680"/>
              <a:ext cx="1469520" cy="1440"/>
            </a:xfrm>
            <a:prstGeom prst="line">
              <a:avLst/>
            </a:prstGeom>
            <a:ln w="507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5006880" y="1595160"/>
              <a:ext cx="500760" cy="275040"/>
            </a:xfrm>
            <a:custGeom>
              <a:avLst/>
              <a:gdLst/>
              <a:ahLst/>
              <a:rect l="l" t="t" r="r" b="b"/>
              <a:pathLst>
                <a:path w="1234" h="616">
                  <a:moveTo>
                    <a:pt x="0" y="0"/>
                  </a:moveTo>
                  <a:lnTo>
                    <a:pt x="1234" y="308"/>
                  </a:lnTo>
                  <a:lnTo>
                    <a:pt x="0" y="616"/>
                  </a:lnTo>
                  <a:lnTo>
                    <a:pt x="0" y="0"/>
                  </a:lnTo>
                  <a:close/>
                </a:path>
              </a:pathLst>
            </a:custGeom>
            <a:solidFill>
              <a:srgbClr val="ffffcc"/>
            </a:solidFill>
            <a:ln w="507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121080" y="1732680"/>
              <a:ext cx="1558080" cy="1440"/>
            </a:xfrm>
            <a:prstGeom prst="line">
              <a:avLst/>
            </a:prstGeom>
            <a:ln w="3348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8297280" y="1732680"/>
              <a:ext cx="728280" cy="1440"/>
            </a:xfrm>
            <a:prstGeom prst="line">
              <a:avLst/>
            </a:prstGeom>
            <a:ln w="792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8929080" y="1700640"/>
              <a:ext cx="122400" cy="65160"/>
            </a:xfrm>
            <a:custGeom>
              <a:avLst/>
              <a:gdLst/>
              <a:ahLst/>
              <a:rect l="l" t="t" r="r" b="b"/>
              <a:pathLst>
                <a:path w="301" h="150">
                  <a:moveTo>
                    <a:pt x="0" y="0"/>
                  </a:moveTo>
                  <a:lnTo>
                    <a:pt x="301" y="75"/>
                  </a:lnTo>
                  <a:lnTo>
                    <a:pt x="0" y="150"/>
                  </a:lnTo>
                  <a:lnTo>
                    <a:pt x="0" y="0"/>
                  </a:lnTo>
                  <a:close/>
                </a:path>
              </a:pathLst>
            </a:custGeom>
            <a:solidFill>
              <a:srgbClr val="ffffcc"/>
            </a:solidFill>
            <a:ln w="792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71" name=""/>
            <p:cNvGrpSpPr/>
            <p:nvPr/>
          </p:nvGrpSpPr>
          <p:grpSpPr>
            <a:xfrm>
              <a:off x="5198400" y="2395800"/>
              <a:ext cx="3847320" cy="632160"/>
              <a:chOff x="5198400" y="2395800"/>
              <a:chExt cx="3847320" cy="632160"/>
            </a:xfrm>
          </p:grpSpPr>
          <p:sp>
            <p:nvSpPr>
              <p:cNvPr id="72" name=""/>
              <p:cNvSpPr/>
              <p:nvPr/>
            </p:nvSpPr>
            <p:spPr>
              <a:xfrm>
                <a:off x="5198400" y="2395800"/>
                <a:ext cx="1431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afd00"/>
                    </a:solidFill>
                    <a:latin typeface="Arial"/>
                  </a:rPr>
                  <a:t>back rollers</a:t>
                </a:r>
                <a:endParaRPr b="0" lang="en-US" sz="2200" spc="-1" strike="noStrike">
                  <a:solidFill>
                    <a:srgbClr val="000000"/>
                  </a:solidFill>
                  <a:latin typeface="Times New Roman"/>
                </a:endParaRPr>
              </a:p>
            </p:txBody>
          </p:sp>
          <p:sp>
            <p:nvSpPr>
              <p:cNvPr id="73" name=""/>
              <p:cNvSpPr/>
              <p:nvPr/>
            </p:nvSpPr>
            <p:spPr>
              <a:xfrm>
                <a:off x="5198760" y="2692440"/>
                <a:ext cx="1267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afd00"/>
                    </a:solidFill>
                    <a:latin typeface="Arial"/>
                  </a:rPr>
                  <a:t>speed = X</a:t>
                </a:r>
                <a:endParaRPr b="0" lang="en-US" sz="2200" spc="-1" strike="noStrike">
                  <a:solidFill>
                    <a:srgbClr val="000000"/>
                  </a:solidFill>
                  <a:latin typeface="Times New Roman"/>
                </a:endParaRPr>
              </a:p>
            </p:txBody>
          </p:sp>
          <p:sp>
            <p:nvSpPr>
              <p:cNvPr id="74" name=""/>
              <p:cNvSpPr/>
              <p:nvPr/>
            </p:nvSpPr>
            <p:spPr>
              <a:xfrm>
                <a:off x="7465320" y="2395800"/>
                <a:ext cx="1399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afd00"/>
                    </a:solidFill>
                    <a:latin typeface="Arial"/>
                  </a:rPr>
                  <a:t>front rollers</a:t>
                </a:r>
                <a:endParaRPr b="0" lang="en-US" sz="2200" spc="-1" strike="noStrike">
                  <a:solidFill>
                    <a:srgbClr val="000000"/>
                  </a:solidFill>
                  <a:latin typeface="Times New Roman"/>
                </a:endParaRPr>
              </a:p>
            </p:txBody>
          </p:sp>
          <p:sp>
            <p:nvSpPr>
              <p:cNvPr id="75" name=""/>
              <p:cNvSpPr/>
              <p:nvPr/>
            </p:nvSpPr>
            <p:spPr>
              <a:xfrm>
                <a:off x="7467480" y="2691000"/>
                <a:ext cx="1578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afd00"/>
                    </a:solidFill>
                    <a:latin typeface="Arial"/>
                  </a:rPr>
                  <a:t>speed = 10X</a:t>
                </a:r>
                <a:endParaRPr b="0" lang="en-US" sz="2200" spc="-1" strike="noStrike">
                  <a:solidFill>
                    <a:srgbClr val="000000"/>
                  </a:solidFill>
                  <a:latin typeface="Times New Roman"/>
                </a:endParaRPr>
              </a:p>
            </p:txBody>
          </p:sp>
        </p:grpSp>
        <p:sp>
          <p:nvSpPr>
            <p:cNvPr id="76" name=""/>
            <p:cNvSpPr/>
            <p:nvPr/>
          </p:nvSpPr>
          <p:spPr>
            <a:xfrm>
              <a:off x="6059880" y="1209960"/>
              <a:ext cx="528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afd00"/>
                  </a:solidFill>
                  <a:latin typeface="Arial"/>
                </a:rPr>
                <a:t>FTE</a:t>
              </a:r>
              <a:endParaRPr b="0" lang="en-US" sz="2200" spc="-1" strike="noStrike">
                <a:solidFill>
                  <a:srgbClr val="000000"/>
                </a:solidFill>
                <a:latin typeface="Times New Roman"/>
              </a:endParaRPr>
            </a:p>
          </p:txBody>
        </p:sp>
        <p:sp>
          <p:nvSpPr>
            <p:cNvPr id="77" name=""/>
            <p:cNvSpPr/>
            <p:nvPr/>
          </p:nvSpPr>
          <p:spPr>
            <a:xfrm>
              <a:off x="7178400" y="1209960"/>
              <a:ext cx="528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afd00"/>
                  </a:solidFill>
                  <a:latin typeface="Arial"/>
                </a:rPr>
                <a:t>FLE</a:t>
              </a:r>
              <a:endParaRPr b="0" lang="en-US" sz="2200" spc="-1" strike="noStrike">
                <a:solidFill>
                  <a:srgbClr val="000000"/>
                </a:solidFill>
                <a:latin typeface="Times New Roman"/>
              </a:endParaRPr>
            </a:p>
          </p:txBody>
        </p:sp>
      </p:grpSp>
      <p:sp>
        <p:nvSpPr>
          <p:cNvPr id="78"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lend Restrictions</a:t>
            </a:r>
            <a:endParaRPr b="1" lang="en-US" sz="3200" spc="-1" strike="noStrike">
              <a:solidFill>
                <a:srgbClr val="fafd00"/>
              </a:solidFill>
              <a:latin typeface="Arial"/>
            </a:endParaRPr>
          </a:p>
        </p:txBody>
      </p:sp>
      <p:sp>
        <p:nvSpPr>
          <p:cNvPr id="80" name="PlaceHolder 3"/>
          <p:cNvSpPr>
            <a:spLocks noGrp="1"/>
          </p:cNvSpPr>
          <p:nvPr>
            <p:ph/>
          </p:nvPr>
        </p:nvSpPr>
        <p:spPr>
          <a:xfrm>
            <a:off x="121896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properti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ngt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hysical properti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itial modulus</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 of regai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ubricant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itial Fibre Modulus</a:t>
            </a:r>
            <a:endParaRPr b="1" lang="en-US" sz="3200" spc="-1" strike="noStrike">
              <a:solidFill>
                <a:srgbClr val="fafd00"/>
              </a:solidFill>
              <a:latin typeface="Arial"/>
            </a:endParaRPr>
          </a:p>
        </p:txBody>
      </p:sp>
      <p:pic>
        <p:nvPicPr>
          <p:cNvPr id="82" name="STRESS" descr=""/>
          <p:cNvPicPr/>
          <p:nvPr/>
        </p:nvPicPr>
        <p:blipFill>
          <a:blip r:embed="rId1">
            <a:lum contrast="6000"/>
          </a:blip>
          <a:stretch/>
        </p:blipFill>
        <p:spPr>
          <a:xfrm>
            <a:off x="1371600" y="914400"/>
            <a:ext cx="7543800" cy="5140440"/>
          </a:xfrm>
          <a:prstGeom prst="rect">
            <a:avLst/>
          </a:prstGeom>
          <a:ln w="0">
            <a:noFill/>
          </a:ln>
        </p:spPr>
      </p:pic>
      <p:sp>
        <p:nvSpPr>
          <p:cNvPr id="83" name=""/>
          <p:cNvSpPr/>
          <p:nvPr/>
        </p:nvSpPr>
        <p:spPr>
          <a:xfrm>
            <a:off x="7054560" y="6324480"/>
            <a:ext cx="2018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von Bergen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Scour Blending</a:t>
            </a:r>
            <a:endParaRPr b="1" lang="en-US" sz="3200" spc="-1" strike="noStrike">
              <a:solidFill>
                <a:srgbClr val="fafd00"/>
              </a:solidFill>
              <a:latin typeface="Arial"/>
            </a:endParaRPr>
          </a:p>
        </p:txBody>
      </p:sp>
      <p:sp>
        <p:nvSpPr>
          <p:cNvPr id="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pmak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inner’s specificatio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amet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ength</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M etc.</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diction formula</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w material cost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ariety of options, many bal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end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rting (QC)</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lending ord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cumulator</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 Blending</a:t>
            </a:r>
            <a:endParaRPr b="1" lang="en-US" sz="3200" spc="-1" strike="noStrike">
              <a:solidFill>
                <a:srgbClr val="fafd00"/>
              </a:solidFill>
              <a:latin typeface="Arial"/>
            </a:endParaRPr>
          </a:p>
        </p:txBody>
      </p:sp>
      <p:sp>
        <p:nvSpPr>
          <p:cNvPr id="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gilling &amp; re-comb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oubling &amp; draf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 dye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to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s of other fibre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matched to oth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tton shor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ndard synthetic tops</a:t>
            </a:r>
            <a:endParaRPr b="1" lang="en-US" sz="2400" spc="-1" strike="noStrike">
              <a:solidFill>
                <a:srgbClr val="ffffff"/>
              </a:solidFill>
              <a:latin typeface="Arial"/>
            </a:endParaRPr>
          </a:p>
        </p:txBody>
      </p:sp>
      <p:sp>
        <p:nvSpPr>
          <p:cNvPr id="8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1:05:33Z</dcterms:created>
  <dc:creator>USER</dc:creator>
  <dc:description/>
  <dc:language>en-US</dc:language>
  <cp:lastModifiedBy>select agreement</cp:lastModifiedBy>
  <cp:lastPrinted>2000-02-10T01:21:34Z</cp:lastPrinted>
  <dcterms:modified xsi:type="dcterms:W3CDTF">2000-03-09T22:35:10Z</dcterms:modified>
  <cp:revision>5</cp:revision>
  <dc:subject/>
  <dc:title>Blending Fibres</dc:title>
</cp:coreProperties>
</file>