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515A-C5F4-437F-BFCA-989107588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ule the aims of the science of scouring are elucidated, as well as the problems which may occur during an uncontrolled scouring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s of contaminants present during scouring are discussed, and the problems the presence of residual contaminants may cause are expl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quence of events leading to contaminant removal is also discussed, but this is further expanded in the module “Fundamental Processes in Aqueous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uring is the only operation, apart from carbonising, which is unique to the early stage processing (ESP) of wool fibre, compared to other staple fibres. Synthetic fibres are not contaminated to any significant extent, and are not sco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strictly true for later stage processing.  For example, cotton fibre is scoured but this operation is usually performed when the fibre has been converted to fabric.  The wax on raw cotton acts to protect the fibre throughout its processing route.  Unfortunately the wax on wool inhibits processing to the extent that it must be rem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where scouring fits into the worsted and woollen processing sequences.  In the worsted process, scouring occurs after the raw wool has been combined into processing bat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uring operation can be part of an integrated ESP line, but may also exist as a separate operation.  Scoured wool is an item of trade, and a significant portion of the Australian wool clip is traded in this form for the worsted and woollen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ypes of scouring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queous Scouring Systems</a:t>
            </a:r>
            <a:r>
              <a:rPr b="0" lang="en-US" sz="1200" spc="-1" strike="noStrike">
                <a:solidFill>
                  <a:srgbClr val="000000"/>
                </a:solidFill>
                <a:latin typeface="Times New Roman"/>
              </a:rPr>
              <a:t>: as the name implies these systems use water as the main component of the scouring liquor.  Water also acts as the transport medium in some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lvent Scouring Systems</a:t>
            </a:r>
            <a:r>
              <a:rPr b="0" lang="en-US" sz="1200" spc="-1" strike="noStrike">
                <a:solidFill>
                  <a:srgbClr val="000000"/>
                </a:solidFill>
                <a:latin typeface="Times New Roman"/>
              </a:rPr>
              <a:t>: as the name implies these systems use organic solvents as the main component of the scouring liqu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overed in more detail in the module “Scouring Syste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e to the nature of the wool fibre and its propensity to felt, scourers are faced with a contradiction when processing wool.  They must deliver a product free of scourable contaminants, but also free of entanglements.  To balance these requirements is the science of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scouring aims the greatest degree of contaminant removal while minimising fibr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el of contaminants remaining after scouring and the amount of fibre entanglement will affect the efficiency of operations later in ESP.  Generally, cleanliness and fibre entanglement are opposing outcomes, i.e. the cleaner fibres become, the more entangled they are after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approaches to this problem, embodied in technology, as aqueous scouring systems or non-aqueous scouring systems.  These are examined in another module called “Scouring Systems”.  Each system aims to minimise processing costs, and in a more environmentally conscious world, minimise the impact of pollution from these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aqueous systems are concerned, there are some fundamental processes occuring which are related to cleanliness, namely detergency, and fibre entanglement, namely felting.  These are examined in the module “Fundamental Processes in Scour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Leaving aside the issue of VM, the residual contaminants will have effects in the following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wax is not a good lubricant in carding, therefore the aim is to remove as much of this as possible and replace it with synthetic lubricants to minimise fibre breakage during carding. </a:t>
            </a:r>
            <a:r>
              <a:rPr b="0" lang="en-AU" sz="1200" spc="-1" strike="noStrike">
                <a:solidFill>
                  <a:srgbClr val="000000"/>
                </a:solidFill>
                <a:latin typeface="Courier-WP"/>
              </a:rPr>
              <a:t>Previous practice had been to leave a residual amount of grease (approx. 0.5%) on the fibre as a natural lubrica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Contaminants are continually being deposited and re-deposited on the working surfaces of processing equipment (such as rollers) and the fibres themselves.  When deposition exceeds re-deposition, there is an accumulation on the working surfaces.  This can lead to more frequent stops, more rapid wear, and loss of processing additive.  </a:t>
            </a:r>
            <a:r>
              <a:rPr b="0" lang="en-AU" sz="1200" spc="-1" strike="noStrike">
                <a:solidFill>
                  <a:srgbClr val="000000"/>
                </a:solidFill>
                <a:latin typeface="Times New Roman"/>
              </a:rPr>
              <a:t>Wool wax and other residual contaminants can build up as deposits on rollers and cause machine stoppages in areas such as gillboxes and other drafting zones (e.g. roller lapping).</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 presence of residual contaminants may cause increases in additive viscosity.  The loss of additive means that a greater quantity needs to be applied for the same effec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 possibility exists that changes in the level of fibre/fibre interactions may be lead to an increase in yarn unevenness, which in turn can lead to more ends down in spinning.</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 amount of wool dye that is taken up by the fibre is affected by the surface condition of the fibre.  Therefore dye uptake can be restricted by the presence of surface contamina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ount of fibre entanglement can also be related to the amount of fibre breakage that occurs in later processing, especially during card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5D7B-8C16-4DA5-8B65-555D316DA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is a relatively weak fibre, compared to other staple fibres.  During scouring wool undergoes various conditions which can potentially lead to fibre damage and loss of strength.  There are three possible sources of fibre damage during scouring: mechanical damage, pH and temper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chanical damage will be fairly minimal since the actions of moving parts in scouring tend to be relatively gentle.  As discussed, the entanglements caused by scouring will lead to subsequent breakage in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ce it is a protein fibre, wool suffers a loss of tensile strength when it is wet. The nature of the protein chains in wool mean that hydrogen bonds are dissociated in aqueous conditions causing strength loss.  Disulphide bonds can also be reduced in some conditions, causing further wet strength loss.  This strength loss is generally rever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can also become more susceptible to chemical damage in an aqueous medium, since the protein chains can be ionised and are attractive to small charged molecules such as acids and alkalis.  Alkaline conditions (pH&gt;7) are far more damaging than acid conditions.  Conditions above pH 9.5 will cause yellowing and damage to the fibre.  The alkaline nature of suint means that this is a potential source of alkalinity, therefore knowing the suint content of the wool before scouring is critical in setting scouring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mal degradation of wool fibre will occur with prolonged exposure to even relatively mild conditions such as those experienced during scouring.  This degradation would be manifested as strength loss and yellow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e must be taken to control the conditions which could lead to damage from these sources.  The appropriate conditions and controls on a scour should ensure that wool damage during scouring is minimis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2DD6-7448-4789-B233-26B5BEDE2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rom an industrial point of view scouring or washing of wool could be seen as a multi-stage extraction process for removing contaminants from the wool fibre. These contaminants can be classified as water soluble and water insolub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weat or "suint" is readily water soluble.  Suint is described as the potassium salt of various long chain fatty acids.  It is soluble in warm water (&gt;30°C), and can act as soap at pH &gt;9.  Therefore suint has a role as a detergent in its own right if conditions are alkaline.  It has been shown that suint exists as two fractions of differing solubilit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ried urine will also tend to be removed in the same processes as suint to some extent, although the occurrence of permanent urine stain is the single largest component of dark-fibre contamination.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the last decade or so the presence of a further contaminant has been demonstrated.  This was called the proteinaceous contaminant layer (PCL), and consists of mainly skin flakes and soluble peptides.  Significantly the PCL is water soluble and water insolub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ool grease is a misnomer, since the absence of glycerides or fats in analyses of this component classify the substance as a wax.  It largely consists of  the fatty acid esters of long chain alcohols, with a small amount of free fatty acid and free cholesterol.  Wool wax exists as a solid or semi solid with a melting point around 43°C in a stable film around the fibre.  Importantly there is an oxidised portion (mainly at the fibre tip) and an unoxidised portion (purest at the base of the fibre) present, which presents difficulties for the scourer.  The role of oxidised grease in forming complexes with various other contaminants such as PCL and dirt has consequences both for contaminant removal and effluent treatment.  While oxidised grease only forms 5% of the total, a complex containing oxidised grease acts as if it is all oxidis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Vegetable matter (VM) and animals such as ticks and lice are also present in raw wool.  These are largely removed in carding, although the moisture content of the scoured wool has a bearing on VM remova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ineral matter such as dirt dust and sand are acquired contaminants which exist in varying quantities depending on the source of the wool.</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Another way of thinking places the contaminants into two fractions: an </a:t>
            </a:r>
            <a:r>
              <a:rPr b="1" lang="en-AU" sz="1200" spc="-1" strike="noStrike">
                <a:solidFill>
                  <a:srgbClr val="000000"/>
                </a:solidFill>
                <a:latin typeface="Courier-WP"/>
              </a:rPr>
              <a:t>easy-to-remove</a:t>
            </a:r>
            <a:r>
              <a:rPr b="0" lang="en-AU" sz="1200" spc="-1" strike="noStrike">
                <a:solidFill>
                  <a:srgbClr val="000000"/>
                </a:solidFill>
                <a:latin typeface="Courier-WP"/>
              </a:rPr>
              <a:t> fraction and a </a:t>
            </a:r>
            <a:r>
              <a:rPr b="1" lang="en-AU" sz="1200" spc="-1" strike="noStrike">
                <a:solidFill>
                  <a:srgbClr val="000000"/>
                </a:solidFill>
                <a:latin typeface="Courier-WP"/>
              </a:rPr>
              <a:t>hard-to-remove</a:t>
            </a:r>
            <a:r>
              <a:rPr b="0" lang="en-AU" sz="1200" spc="-1" strike="noStrike">
                <a:solidFill>
                  <a:srgbClr val="000000"/>
                </a:solidFill>
                <a:latin typeface="Courier-WP"/>
              </a:rPr>
              <a:t> fracti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 former includes the unoxidised grease, most of the oxidised grease, readily soluble suint and loosely held mineral, organic and proteinaceous dir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Harder to remove are a small fraction of the oxidised grease, slowly-soluble suint, submicron mineral dirt and proteinaceous flakes adhering to the woo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 sequence thought to be followed during contaminant removal is as follows:</a:t>
            </a:r>
            <a:endParaRPr b="0" lang="en-US" sz="1200" spc="-1" strike="noStrike">
              <a:solidFill>
                <a:srgbClr val="000000"/>
              </a:solidFill>
              <a:latin typeface="Times New Roman"/>
            </a:endParaRPr>
          </a:p>
          <a:p>
            <a:pPr algn="just">
              <a:lnSpc>
                <a:spcPct val="100000"/>
              </a:lnSpc>
              <a:spcBef>
                <a:spcPts val="451"/>
              </a:spcBef>
              <a:buClr>
                <a:srgbClr val="000000"/>
              </a:buClr>
              <a:buFont typeface="Courier-WP"/>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Penetration of the grease by water and surfactant followed by rapid swelling of both grease and proteinaceous contaminants (some micelles, or detergent globules, may form dissolving some oxidised grease).</a:t>
            </a:r>
            <a:endParaRPr b="0" lang="en-US" sz="1200" spc="-1" strike="noStrike">
              <a:solidFill>
                <a:srgbClr val="000000"/>
              </a:solidFill>
              <a:latin typeface="Times New Roman"/>
            </a:endParaRPr>
          </a:p>
          <a:p>
            <a:pPr algn="just">
              <a:lnSpc>
                <a:spcPct val="100000"/>
              </a:lnSpc>
              <a:spcBef>
                <a:spcPts val="451"/>
              </a:spcBef>
              <a:buClr>
                <a:srgbClr val="000000"/>
              </a:buClr>
              <a:buFont typeface="Courier-WP"/>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Formation of grease globules (unoxidised in particular) within the swollen mass.</a:t>
            </a:r>
            <a:endParaRPr b="0" lang="en-US" sz="1200" spc="-1" strike="noStrike">
              <a:solidFill>
                <a:srgbClr val="000000"/>
              </a:solidFill>
              <a:latin typeface="Times New Roman"/>
            </a:endParaRPr>
          </a:p>
          <a:p>
            <a:pPr algn="just">
              <a:lnSpc>
                <a:spcPct val="100000"/>
              </a:lnSpc>
              <a:spcBef>
                <a:spcPts val="451"/>
              </a:spcBef>
              <a:buClr>
                <a:srgbClr val="000000"/>
              </a:buClr>
              <a:buFont typeface="Courier-WP"/>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Removal of the complexed and uncomplexed easy-to-remove contaminants which are not strongly bound to the fibre surface.</a:t>
            </a:r>
            <a:endParaRPr b="0" lang="en-US" sz="1200" spc="-1" strike="noStrike">
              <a:solidFill>
                <a:srgbClr val="000000"/>
              </a:solidFill>
              <a:latin typeface="Times New Roman"/>
            </a:endParaRPr>
          </a:p>
          <a:p>
            <a:pPr algn="just">
              <a:lnSpc>
                <a:spcPct val="100000"/>
              </a:lnSpc>
              <a:spcBef>
                <a:spcPts val="451"/>
              </a:spcBef>
              <a:buClr>
                <a:srgbClr val="000000"/>
              </a:buClr>
              <a:buFont typeface="Courier-WP"/>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ourier-WP"/>
              </a:rPr>
              <a:t>Partial</a:t>
            </a:r>
            <a:r>
              <a:rPr b="0" lang="en-AU" sz="1200" spc="-1" strike="noStrike">
                <a:solidFill>
                  <a:srgbClr val="000000"/>
                </a:solidFill>
                <a:latin typeface="Courier-WP"/>
              </a:rPr>
              <a:t> removal of the hard-to-remove contaminants such as swollen proteinaceous contaminants adhering to the fibre along with associated complexed grease and sui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is sequence indicates that not all contaminants are amenable to removal, and that the roles of oxidised grease and PCL are significant in the non-removal of contamina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is sequence can be seen more clearly in the module “Fundamental Processes in Aqueous Scouring: Detergency, Felting”.  How this sequence is applied to scouring technology can be seen in the module “Scouring Systems”, as well as the “Siroscour Technology” modu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152280"/>
            <a:ext cx="78483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n Introduction to Scour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43000" y="1219320"/>
            <a:ext cx="7995240" cy="4842360"/>
            <a:chOff x="1143000" y="1219320"/>
            <a:chExt cx="7995240" cy="4842360"/>
          </a:xfrm>
        </p:grpSpPr>
        <p:sp>
          <p:nvSpPr>
            <p:cNvPr id="50" name=""/>
            <p:cNvSpPr/>
            <p:nvPr/>
          </p:nvSpPr>
          <p:spPr>
            <a:xfrm>
              <a:off x="1206360" y="1219320"/>
              <a:ext cx="15004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uring</a:t>
              </a:r>
              <a:endParaRPr b="0" lang="en-US" sz="2400" spc="-1" strike="noStrike">
                <a:solidFill>
                  <a:srgbClr val="000000"/>
                </a:solidFill>
                <a:latin typeface="Times New Roman"/>
              </a:endParaRPr>
            </a:p>
          </p:txBody>
        </p:sp>
        <p:sp>
          <p:nvSpPr>
            <p:cNvPr id="51" name=""/>
            <p:cNvSpPr/>
            <p:nvPr/>
          </p:nvSpPr>
          <p:spPr>
            <a:xfrm>
              <a:off x="1206360" y="2430000"/>
              <a:ext cx="13312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ng</a:t>
              </a:r>
              <a:endParaRPr b="0" lang="en-US" sz="2400" spc="-1" strike="noStrike">
                <a:solidFill>
                  <a:srgbClr val="000000"/>
                </a:solidFill>
                <a:latin typeface="Times New Roman"/>
              </a:endParaRPr>
            </a:p>
          </p:txBody>
        </p:sp>
        <p:sp>
          <p:nvSpPr>
            <p:cNvPr id="52" name=""/>
            <p:cNvSpPr/>
            <p:nvPr/>
          </p:nvSpPr>
          <p:spPr>
            <a:xfrm>
              <a:off x="1203120" y="3041280"/>
              <a:ext cx="113184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ling</a:t>
              </a:r>
              <a:endParaRPr b="0" lang="en-US" sz="2400" spc="-1" strike="noStrike">
                <a:solidFill>
                  <a:srgbClr val="000000"/>
                </a:solidFill>
                <a:latin typeface="Times New Roman"/>
              </a:endParaRPr>
            </a:p>
          </p:txBody>
        </p:sp>
        <p:sp>
          <p:nvSpPr>
            <p:cNvPr id="53" name=""/>
            <p:cNvSpPr/>
            <p:nvPr/>
          </p:nvSpPr>
          <p:spPr>
            <a:xfrm>
              <a:off x="1206360" y="3652560"/>
              <a:ext cx="15004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g</a:t>
              </a:r>
              <a:endParaRPr b="0" lang="en-US" sz="2400" spc="-1" strike="noStrike">
                <a:solidFill>
                  <a:srgbClr val="000000"/>
                </a:solidFill>
                <a:latin typeface="Times New Roman"/>
              </a:endParaRPr>
            </a:p>
          </p:txBody>
        </p:sp>
        <p:sp>
          <p:nvSpPr>
            <p:cNvPr id="54" name=""/>
            <p:cNvSpPr/>
            <p:nvPr/>
          </p:nvSpPr>
          <p:spPr>
            <a:xfrm>
              <a:off x="1206000" y="4263480"/>
              <a:ext cx="138312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ing</a:t>
              </a:r>
              <a:endParaRPr b="0" lang="en-US" sz="2400" spc="-1" strike="noStrike">
                <a:solidFill>
                  <a:srgbClr val="000000"/>
                </a:solidFill>
                <a:latin typeface="Times New Roman"/>
              </a:endParaRPr>
            </a:p>
          </p:txBody>
        </p:sp>
        <p:sp>
          <p:nvSpPr>
            <p:cNvPr id="55" name=""/>
            <p:cNvSpPr/>
            <p:nvPr/>
          </p:nvSpPr>
          <p:spPr>
            <a:xfrm>
              <a:off x="7527240" y="1219320"/>
              <a:ext cx="15004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uring</a:t>
              </a:r>
              <a:endParaRPr b="0" lang="en-US" sz="2400" spc="-1" strike="noStrike">
                <a:solidFill>
                  <a:srgbClr val="000000"/>
                </a:solidFill>
                <a:latin typeface="Times New Roman"/>
              </a:endParaRPr>
            </a:p>
          </p:txBody>
        </p:sp>
        <p:sp>
          <p:nvSpPr>
            <p:cNvPr id="56" name=""/>
            <p:cNvSpPr/>
            <p:nvPr/>
          </p:nvSpPr>
          <p:spPr>
            <a:xfrm>
              <a:off x="7168680" y="1819080"/>
              <a:ext cx="19576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ising</a:t>
              </a:r>
              <a:endParaRPr b="0" lang="en-US" sz="2400" spc="-1" strike="noStrike">
                <a:solidFill>
                  <a:srgbClr val="000000"/>
                </a:solidFill>
                <a:latin typeface="Times New Roman"/>
              </a:endParaRPr>
            </a:p>
          </p:txBody>
        </p:sp>
        <p:sp>
          <p:nvSpPr>
            <p:cNvPr id="57" name=""/>
            <p:cNvSpPr/>
            <p:nvPr/>
          </p:nvSpPr>
          <p:spPr>
            <a:xfrm>
              <a:off x="7635960" y="2441520"/>
              <a:ext cx="13312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ng</a:t>
              </a:r>
              <a:endParaRPr b="0" lang="en-US" sz="2400" spc="-1" strike="noStrike">
                <a:solidFill>
                  <a:srgbClr val="000000"/>
                </a:solidFill>
                <a:latin typeface="Times New Roman"/>
              </a:endParaRPr>
            </a:p>
          </p:txBody>
        </p:sp>
        <p:sp>
          <p:nvSpPr>
            <p:cNvPr id="58" name=""/>
            <p:cNvSpPr/>
            <p:nvPr/>
          </p:nvSpPr>
          <p:spPr>
            <a:xfrm>
              <a:off x="7524360" y="4885920"/>
              <a:ext cx="148392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nning</a:t>
              </a:r>
              <a:endParaRPr b="0" lang="en-US" sz="2400" spc="-1" strike="noStrike">
                <a:solidFill>
                  <a:srgbClr val="000000"/>
                </a:solidFill>
                <a:latin typeface="Times New Roman"/>
              </a:endParaRPr>
            </a:p>
          </p:txBody>
        </p:sp>
        <p:sp>
          <p:nvSpPr>
            <p:cNvPr id="59" name=""/>
            <p:cNvSpPr/>
            <p:nvPr/>
          </p:nvSpPr>
          <p:spPr>
            <a:xfrm>
              <a:off x="1217520" y="4885920"/>
              <a:ext cx="148392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nning</a:t>
              </a:r>
              <a:endParaRPr b="0" lang="en-US" sz="2400" spc="-1" strike="noStrike">
                <a:solidFill>
                  <a:srgbClr val="000000"/>
                </a:solidFill>
                <a:latin typeface="Times New Roman"/>
              </a:endParaRPr>
            </a:p>
          </p:txBody>
        </p:sp>
        <p:sp>
          <p:nvSpPr>
            <p:cNvPr id="60" name=""/>
            <p:cNvSpPr/>
            <p:nvPr/>
          </p:nvSpPr>
          <p:spPr>
            <a:xfrm>
              <a:off x="1143000" y="2374920"/>
              <a:ext cx="76377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212840" y="4208400"/>
              <a:ext cx="76374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198920" y="3663720"/>
              <a:ext cx="193932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ensing</a:t>
              </a:r>
              <a:endParaRPr b="0" lang="en-US" sz="2400" spc="-1" strike="noStrike">
                <a:solidFill>
                  <a:srgbClr val="000000"/>
                </a:solidFill>
                <a:latin typeface="Times New Roman"/>
              </a:endParaRPr>
            </a:p>
          </p:txBody>
        </p:sp>
        <p:sp>
          <p:nvSpPr>
            <p:cNvPr id="63" name=""/>
            <p:cNvSpPr/>
            <p:nvPr/>
          </p:nvSpPr>
          <p:spPr>
            <a:xfrm>
              <a:off x="3238920" y="1595520"/>
              <a:ext cx="334296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EANING PROCESS</a:t>
              </a:r>
              <a:endParaRPr b="0" lang="en-US" sz="2400" spc="-1" strike="noStrike">
                <a:solidFill>
                  <a:srgbClr val="000000"/>
                </a:solidFill>
                <a:latin typeface="Times New Roman"/>
              </a:endParaRPr>
            </a:p>
          </p:txBody>
        </p:sp>
        <p:sp>
          <p:nvSpPr>
            <p:cNvPr id="64" name=""/>
            <p:cNvSpPr/>
            <p:nvPr/>
          </p:nvSpPr>
          <p:spPr>
            <a:xfrm>
              <a:off x="3029400" y="3021480"/>
              <a:ext cx="403632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MEDIATE PROCESS</a:t>
              </a:r>
              <a:endParaRPr b="0" lang="en-US" sz="2400" spc="-1" strike="noStrike">
                <a:solidFill>
                  <a:srgbClr val="000000"/>
                </a:solidFill>
                <a:latin typeface="Times New Roman"/>
              </a:endParaRPr>
            </a:p>
          </p:txBody>
        </p:sp>
        <p:sp>
          <p:nvSpPr>
            <p:cNvPr id="65" name=""/>
            <p:cNvSpPr/>
            <p:nvPr/>
          </p:nvSpPr>
          <p:spPr>
            <a:xfrm>
              <a:off x="2830320" y="3731760"/>
              <a:ext cx="80712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66" name=""/>
            <p:cNvSpPr/>
            <p:nvPr/>
          </p:nvSpPr>
          <p:spPr>
            <a:xfrm>
              <a:off x="5492520" y="3731760"/>
              <a:ext cx="145008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lubbing</a:t>
              </a:r>
              <a:endParaRPr b="0" lang="en-US" sz="2400" spc="-1" strike="noStrike">
                <a:solidFill>
                  <a:srgbClr val="000000"/>
                </a:solidFill>
                <a:latin typeface="Times New Roman"/>
              </a:endParaRPr>
            </a:p>
          </p:txBody>
        </p:sp>
        <p:sp>
          <p:nvSpPr>
            <p:cNvPr id="67" name=""/>
            <p:cNvSpPr/>
            <p:nvPr/>
          </p:nvSpPr>
          <p:spPr>
            <a:xfrm>
              <a:off x="1218960" y="5497200"/>
              <a:ext cx="141804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ing</a:t>
              </a:r>
              <a:endParaRPr b="0" lang="en-US" sz="2400" spc="-1" strike="noStrike">
                <a:solidFill>
                  <a:srgbClr val="000000"/>
                </a:solidFill>
                <a:latin typeface="Times New Roman"/>
              </a:endParaRPr>
            </a:p>
          </p:txBody>
        </p:sp>
        <p:sp>
          <p:nvSpPr>
            <p:cNvPr id="68" name=""/>
            <p:cNvSpPr/>
            <p:nvPr/>
          </p:nvSpPr>
          <p:spPr>
            <a:xfrm>
              <a:off x="7523640" y="5497200"/>
              <a:ext cx="141804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ing</a:t>
              </a:r>
              <a:endParaRPr b="0" lang="en-US" sz="2400" spc="-1" strike="noStrike">
                <a:solidFill>
                  <a:srgbClr val="000000"/>
                </a:solidFill>
                <a:latin typeface="Times New Roman"/>
              </a:endParaRPr>
            </a:p>
          </p:txBody>
        </p:sp>
        <p:sp>
          <p:nvSpPr>
            <p:cNvPr id="69" name=""/>
            <p:cNvSpPr/>
            <p:nvPr/>
          </p:nvSpPr>
          <p:spPr>
            <a:xfrm>
              <a:off x="4359600" y="5601960"/>
              <a:ext cx="104184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RN</a:t>
              </a:r>
              <a:endParaRPr b="0" lang="en-US" sz="2400" spc="-1" strike="noStrike">
                <a:solidFill>
                  <a:srgbClr val="000000"/>
                </a:solidFill>
                <a:latin typeface="Times New Roman"/>
              </a:endParaRPr>
            </a:p>
          </p:txBody>
        </p:sp>
        <p:sp>
          <p:nvSpPr>
            <p:cNvPr id="70" name=""/>
            <p:cNvSpPr/>
            <p:nvPr/>
          </p:nvSpPr>
          <p:spPr>
            <a:xfrm>
              <a:off x="3101040" y="4719240"/>
              <a:ext cx="357768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RN  MANUFACTURE</a:t>
              </a:r>
              <a:endParaRPr b="0" lang="en-US" sz="2400" spc="-1" strike="noStrike">
                <a:solidFill>
                  <a:srgbClr val="000000"/>
                </a:solidFill>
                <a:latin typeface="Times New Roman"/>
              </a:endParaRPr>
            </a:p>
          </p:txBody>
        </p:sp>
      </p:grpSp>
      <p:sp>
        <p:nvSpPr>
          <p:cNvPr id="71"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couring in ES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couring Science</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nli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entanglement (felt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minant remov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later process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C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lution</a:t>
            </a:r>
            <a:endParaRPr b="1" lang="en-US" sz="2400" spc="-1" strike="noStrike">
              <a:solidFill>
                <a:srgbClr val="ffffff"/>
              </a:solidFill>
              <a:latin typeface="Arial"/>
            </a:endParaRPr>
          </a:p>
        </p:txBody>
      </p:sp>
      <p:sp>
        <p:nvSpPr>
          <p:cNvPr id="75"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 on Later Processing</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x &amp; other residua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adequate lubricating propert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osi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 on processing additiv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 on drafting in spinn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 on dye uptak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entangl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breakag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Damage</a:t>
            </a:r>
            <a:endParaRPr b="1" lang="en-US" sz="3200" spc="-1" strike="noStrike">
              <a:solidFill>
                <a:srgbClr val="fafd00"/>
              </a:solidFill>
              <a:latin typeface="Arial"/>
            </a:endParaRPr>
          </a:p>
        </p:txBody>
      </p:sp>
      <p:sp>
        <p:nvSpPr>
          <p:cNvPr id="8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H</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ptide bonds attacked at pH &gt; 7</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llowing &gt; pH 9.5</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fected by suint content</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mperatur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longed exposure, mild condition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chanical damage negligible</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perly controlled scouring should eliminate these problems</a:t>
            </a:r>
            <a:endParaRPr b="1" lang="en-US" sz="2800" spc="-1" strike="noStrike">
              <a:solidFill>
                <a:srgbClr val="ffffff"/>
              </a:solidFill>
              <a:latin typeface="Arial"/>
            </a:endParaRPr>
          </a:p>
        </p:txBody>
      </p:sp>
      <p:sp>
        <p:nvSpPr>
          <p:cNvPr id="83"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Contaminants</a:t>
            </a:r>
            <a:endParaRPr b="1" lang="en-US" sz="3200" spc="-1" strike="noStrike">
              <a:solidFill>
                <a:srgbClr val="fafd00"/>
              </a:solidFill>
              <a:latin typeface="Arial"/>
            </a:endParaRPr>
          </a:p>
        </p:txBody>
      </p:sp>
      <p:sp>
        <p:nvSpPr>
          <p:cNvPr id="87" name="PlaceHolder 2"/>
          <p:cNvSpPr>
            <a:spLocks noGrp="1"/>
          </p:cNvSpPr>
          <p:nvPr>
            <p:ph/>
          </p:nvPr>
        </p:nvSpPr>
        <p:spPr>
          <a:xfrm>
            <a:off x="1295280" y="11426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solub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int (swea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ins (partl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teinaceous Contaminant Layer (PCL)</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luble peptides</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PlaceHolder 3"/>
          <p:cNvSpPr>
            <a:spLocks noGrp="1"/>
          </p:cNvSpPr>
          <p:nvPr>
            <p:ph/>
          </p:nvPr>
        </p:nvSpPr>
        <p:spPr>
          <a:xfrm>
            <a:off x="5257440" y="11426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insolub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x (greas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xidis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noxidise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neral mat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CL</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kin flakes</a:t>
            </a:r>
            <a:endParaRPr b="1" lang="en-US" sz="1800" spc="-1" strike="noStrike">
              <a:solidFill>
                <a:srgbClr val="ffffff"/>
              </a:solidFill>
              <a:latin typeface="Arial"/>
            </a:endParaRPr>
          </a:p>
        </p:txBody>
      </p:sp>
      <p:sp>
        <p:nvSpPr>
          <p:cNvPr id="89" name=""/>
          <p:cNvSpPr/>
          <p:nvPr/>
        </p:nvSpPr>
        <p:spPr>
          <a:xfrm>
            <a:off x="990720" y="487692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Arial"/>
              </a:rPr>
              <a:t>The removal of ALL contaminants is not possible with any current scouring technolog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
        <p:nvSpPr>
          <p:cNvPr id="92"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Contaminants</a:t>
            </a:r>
            <a:endParaRPr b="1" lang="en-US" sz="3200" spc="-1" strike="noStrike">
              <a:solidFill>
                <a:srgbClr val="fafd00"/>
              </a:solidFill>
              <a:latin typeface="Arial"/>
            </a:endParaRPr>
          </a:p>
        </p:txBody>
      </p:sp>
      <p:sp>
        <p:nvSpPr>
          <p:cNvPr id="9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y to remo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oxidised wa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oxidised wa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dily soluble sui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se dirt</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 to remo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ction of oxidised wa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owly soluble sui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micron dir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hering skin flake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taminant Removal Sequence</a:t>
            </a:r>
            <a:endParaRPr b="1" lang="en-US" sz="3200" spc="-1" strike="noStrike">
              <a:solidFill>
                <a:srgbClr val="fafd00"/>
              </a:solidFill>
              <a:latin typeface="Arial"/>
            </a:endParaRPr>
          </a:p>
        </p:txBody>
      </p:sp>
      <p:sp>
        <p:nvSpPr>
          <p:cNvPr id="9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queous Proces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netration of wax</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welling of wax</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tion of Globu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al of easy-to-remove complex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al removal of hard-to-remove complexes</a:t>
            </a:r>
            <a:endParaRPr b="1" lang="en-US" sz="2800" spc="-1" strike="noStrike">
              <a:solidFill>
                <a:srgbClr val="ffffff"/>
              </a:solidFill>
              <a:latin typeface="Arial"/>
            </a:endParaRPr>
          </a:p>
        </p:txBody>
      </p:sp>
      <p:sp>
        <p:nvSpPr>
          <p:cNvPr id="96"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1:36:06Z</dcterms:created>
  <dc:creator>Peter Auer</dc:creator>
  <dc:description/>
  <dc:language>en-US</dc:language>
  <cp:lastModifiedBy>Hdaily</cp:lastModifiedBy>
  <cp:lastPrinted>2000-02-03T09:09:47Z</cp:lastPrinted>
  <dcterms:modified xsi:type="dcterms:W3CDTF">2000-03-20T23:26:21Z</dcterms:modified>
  <cp:revision>6</cp:revision>
  <dc:subject/>
  <dc:title>An Introduction to Scouring</dc:title>
</cp:coreProperties>
</file>