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B84B-F1D2-4F7A-877E-AAA5DACB8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entanglement leads to a loss in fibre length, an increase in combing noil and a decrease in the clarity of the card web due to nep formation.  This module explores the concept of “working points” in a scour to explain where fibre entanglement may occur in an aqueous scour.  Solutions to the problem of entanglement and its reduction are review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93C9-47E9-45CB-8B21-A861E5A61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analogy of working points in carding to open the wool, CSIRO Textile and Fibre Technology (TFT) have developed the concept of working points in wool scouring to explain how wool becomes entangled in a scouring line.  Once entanglement is introduced it cannot be removed. As the wool proceeds down the scouring line the entanglement will not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verity of entanglement induced in the scouring process is a function of the severity of each working point coupled with the number of working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ing points includ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 of feeding the wool to each bow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nker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port mechanisms in the bowl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y in which wool flows out of each bow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used to assist this out-flow</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queeze roller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yors between the bowl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t opening process if there any prior to the dr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se points have the potential to entangle the wool.  In fact, compared to the methods used to create felts, there are similarities to the actions occurring in a wool scour, albeit at much lower levels of intens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wool falls off the interstage conveyor, it is pushed into the bowl by the recirculating scouring liquor being pumped into the bowl through the spray box.  If this flow is turbulent it will encourag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nkers are used to wet out and submerge the wool as it enters a bowl.  In some scours they may be positioned along the bowl to improve the scouring action.  However, in pushing the wool down and forward before releasing it, the wool can be given a very turbulent treatment.  This up and down mechanical action encourages fibre entangl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four methods used to transport wool through a bowl, namely swing rakes, harrows, triple-crank rakes an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of these systems was developed by Fleissner GMB.  In this system the wool mat essentially "floats” across the water before being sucked onto perforate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ransport systems use pins or tines to push the wool through the scouring liquor. One could argue that they are simply the mechanisation of the actions of pitchforks that were used in the early scouring systems.  The swing rake has a very severe action that most closely resembles the action of a pitch fork.  Consequently, they have a great propensity for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modern scouring lines use triple-cranks. The degree of induced entanglement is probably less than the harrow action because they are able to be more smoothly driv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entangling actions that are associated with any rak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general turbulence through pushing the wool through the sc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needle felting” caused by individual tines as they penetrate the wool mat thus pushing pieces of wool through the mat. This analogous to needle punching nonwoven we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if the motion of the rakes is not smooth, the wool is subjected to a jagged motion which is analogous to the action of felting machines for the hat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row on the slide indicates the direction of increasing entanglement, swing rakes being the wor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a bowl the wool is pushed up an incline of the false bottom until it reaches the breast from which it descends to the nip of the squeezing rollers.  At the nip, foam may develop which can cause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contributor to entanglement in the modern wool scour can be at the squeezing rollers where water is being pushed through the wool.  The wool is being held at one end, allowing the free end of the fibre to move and entangle with new fibres coming thr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scourers believe that the water level in the bowl needs to be adjusted so that the flow of the scouring liquor over the breast carries the wool with it.  Others believe that the level should be adjusted so that the wool flowing down the incline to the nip of the squeezing rollers should contain as little water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atter case there is a very high potential for entanglement because the mechanical system for transferring the wool over the breast is essentially that of repetitively pushing the wool as a mat for some time until it topples over and down into the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couring lines have a separate mechanical system to the main rakes for transferring the wool from the bowl to the squeezing rollers.  Like the main rakes these have differing degrees of severity.  In order of decreasing severity, these include Belgian lifts (old system like pitch forks), swing rakes (similar to Belgian lifts only level with the bowl), head rakes and extensions to the main rakes (this was common with harrows in which the tines were progressively shortened to allow the wool to be pushed up the incline of the false bottom).  The arrow indicates the severity of the a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860C-1892-493B-87A7-5907D8B2B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Dr. Jock Christoe, CSIRO Textile and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lide lists four ways by which entanglement can be reduced.  The first two methods reduce entanglement by decreasing the amount of mechanical energy imparted to the wool during scouring.  The third method reduces entanglement (in theory) by replacing the aqueous scouring environment with one that does not enhance the differential friction effect  nor render the fibres more flexible (i.e. solvent med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must remember that the main purpose of scouring is to remove contaminants to acceptable levels of residual contaminants.  This limits the extent that one can change the scouring configuration.  From an entanglement point of view, the best configuration would involve no agitation or one in which the wool is overly restrained.  Looking at these ways in more detai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Modification of existing mach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inciple here involves reducing the number of working points for example by shortening the bowls or  changing the dunkers.  Minibowl scours are a good example of this approa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Radical changes to scouring mach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case the principle involves eliminating working points, for example by conveying the wool through washing zones using porous conveyors or drums.  Because of the gentle action and the way the wool is held, it retains higher levels of residual dirt. Three systems have been developed: (1) CSIRO jet scouring machine (the wool is sprayed with alkaline detergent solution while supported by porous conveyors); (2) UNSW jet scouring machine (the wool is sprayed with alkaline detergent solution while held on porous drums); (3) Fleissner Suction Drum Syste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hanging the scouring med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in which solvents are used to wash the wool include the De Smet (Solvent) process in which wool is sprayed with both hexane and  an isopropanol/water mixture and the Wooltech process in which wool is washed in trichloroethylene. A Wooltech plant operates in Trieste, Italy.  Organic solvents need to be carefully managed to overcome potential environmental and occupational health and safety problems.  High levels of solvent encourage micro entanglements.  Whilst in aqueous scouring temperature, pH levels and mechanical action cause entanglem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hanging the scouring configura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approach, chemistry rather than mechanical action is to used remove the contaminants.  The best example of this is Siroscour and three-stage scour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number of fibre properties that can have an effect on the level of fibre entanglement during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is critical as far as fibre entanglement is concerned.  For instance, the New Zealand 32 µm plus wools have no entanglement problems during scouring whilst great care is required with Australian superfine Merino wools to limit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unit mass, the finer wools have a greater surface area, more wax and dirt, a greater number of fibres.  Finer wools require a higher detergent level to clean them.  The biggest problem being the removal of wool w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ibre crimp can also have an effect.  For a given volume, finer wool will have more fibre / fibre contacts which would encourag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fibre alignment before scouring can also have an effect.  Poorly aligned fibres already have a degree of fibre entanglement before scouring begi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ntanglement in Scour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131840" y="1225440"/>
            <a:ext cx="7935840" cy="4254480"/>
            <a:chOff x="1131840" y="1225440"/>
            <a:chExt cx="7935840" cy="4254480"/>
          </a:xfrm>
        </p:grpSpPr>
        <p:sp>
          <p:nvSpPr>
            <p:cNvPr id="52" name=""/>
            <p:cNvSpPr/>
            <p:nvPr/>
          </p:nvSpPr>
          <p:spPr>
            <a:xfrm>
              <a:off x="1131840" y="1225440"/>
              <a:ext cx="793584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38760" y="1382760"/>
              <a:ext cx="7752600" cy="3979800"/>
              <a:chOff x="1238760" y="1382760"/>
              <a:chExt cx="7752600" cy="3979800"/>
            </a:xfrm>
          </p:grpSpPr>
          <p:sp>
            <p:nvSpPr>
              <p:cNvPr id="54" name=""/>
              <p:cNvSpPr/>
              <p:nvPr/>
            </p:nvSpPr>
            <p:spPr>
              <a:xfrm>
                <a:off x="1238760" y="1382760"/>
                <a:ext cx="7752600" cy="397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964280" y="2985840"/>
                <a:ext cx="855000" cy="724320"/>
                <a:chOff x="7964280" y="2985840"/>
                <a:chExt cx="855000" cy="724320"/>
              </a:xfrm>
            </p:grpSpPr>
            <p:sp>
              <p:nvSpPr>
                <p:cNvPr id="56" name=""/>
                <p:cNvSpPr/>
                <p:nvPr/>
              </p:nvSpPr>
              <p:spPr>
                <a:xfrm>
                  <a:off x="7964280" y="3492360"/>
                  <a:ext cx="19332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8132400" y="3162240"/>
                  <a:ext cx="686880" cy="5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8024040" y="2985840"/>
                  <a:ext cx="688320" cy="5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1889280" y="3321000"/>
                <a:ext cx="477792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7185960" y="2700360"/>
                <a:ext cx="843840" cy="1665360"/>
                <a:chOff x="7185960" y="2700360"/>
                <a:chExt cx="843840" cy="1665360"/>
              </a:xfrm>
            </p:grpSpPr>
            <p:sp>
              <p:nvSpPr>
                <p:cNvPr id="61" name=""/>
                <p:cNvSpPr/>
                <p:nvPr/>
              </p:nvSpPr>
              <p:spPr>
                <a:xfrm>
                  <a:off x="7185960" y="3546360"/>
                  <a:ext cx="843840" cy="819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85960" y="2700360"/>
                  <a:ext cx="843840" cy="820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1900800" y="3122640"/>
                <a:ext cx="33840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9240" y="3673440"/>
                <a:ext cx="3619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5979960" y="3284640"/>
                <a:ext cx="650520" cy="425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05360" y="3362400"/>
                <a:ext cx="650160" cy="133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2473200" y="3129120"/>
                <a:ext cx="2999520" cy="352440"/>
                <a:chOff x="2473200" y="3129120"/>
                <a:chExt cx="2999520" cy="352440"/>
              </a:xfrm>
            </p:grpSpPr>
            <p:sp>
              <p:nvSpPr>
                <p:cNvPr id="68" name=""/>
                <p:cNvSpPr/>
                <p:nvPr/>
              </p:nvSpPr>
              <p:spPr>
                <a:xfrm>
                  <a:off x="2741400" y="3129120"/>
                  <a:ext cx="26722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500220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8956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04244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3060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7272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952360" y="3214800"/>
                  <a:ext cx="285480" cy="266760"/>
                  <a:chOff x="2952360" y="3214800"/>
                  <a:chExt cx="285480" cy="266760"/>
                </a:xfrm>
              </p:grpSpPr>
              <p:sp>
                <p:nvSpPr>
                  <p:cNvPr id="75" name=""/>
                  <p:cNvSpPr/>
                  <p:nvPr/>
                </p:nvSpPr>
                <p:spPr>
                  <a:xfrm>
                    <a:off x="3164760" y="3214800"/>
                    <a:ext cx="0" cy="101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2952360" y="3438360"/>
                    <a:ext cx="285480" cy="43200"/>
                    <a:chOff x="2952360" y="3438360"/>
                    <a:chExt cx="285480" cy="43200"/>
                  </a:xfrm>
                </p:grpSpPr>
                <p:sp>
                  <p:nvSpPr>
                    <p:cNvPr id="77" name=""/>
                    <p:cNvSpPr/>
                    <p:nvPr/>
                  </p:nvSpPr>
                  <p:spPr>
                    <a:xfrm flipH="1">
                      <a:off x="2952360" y="3443400"/>
                      <a:ext cx="28224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237840" y="3438360"/>
                      <a:ext cx="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2473200" y="3206880"/>
                  <a:ext cx="287280" cy="268200"/>
                  <a:chOff x="2473200" y="3206880"/>
                  <a:chExt cx="287280" cy="268200"/>
                </a:xfrm>
              </p:grpSpPr>
              <p:sp>
                <p:nvSpPr>
                  <p:cNvPr id="80" name=""/>
                  <p:cNvSpPr/>
                  <p:nvPr/>
                </p:nvSpPr>
                <p:spPr>
                  <a:xfrm>
                    <a:off x="2685960" y="3206880"/>
                    <a:ext cx="0" cy="10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2473200" y="3430440"/>
                    <a:ext cx="287280" cy="44640"/>
                    <a:chOff x="2473200" y="3430440"/>
                    <a:chExt cx="287280" cy="44640"/>
                  </a:xfrm>
                </p:grpSpPr>
                <p:sp>
                  <p:nvSpPr>
                    <p:cNvPr id="82" name=""/>
                    <p:cNvSpPr/>
                    <p:nvPr/>
                  </p:nvSpPr>
                  <p:spPr>
                    <a:xfrm flipH="1">
                      <a:off x="2473200" y="3435480"/>
                      <a:ext cx="28260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3" name=""/>
                    <p:cNvSpPr/>
                    <p:nvPr/>
                  </p:nvSpPr>
                  <p:spPr>
                    <a:xfrm>
                      <a:off x="2759040" y="3430440"/>
                      <a:ext cx="144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grpSp>
            <p:nvGrpSpPr>
              <p:cNvPr id="84" name=""/>
              <p:cNvGrpSpPr/>
              <p:nvPr/>
            </p:nvGrpSpPr>
            <p:grpSpPr>
              <a:xfrm>
                <a:off x="5865840" y="3078000"/>
                <a:ext cx="794880" cy="249480"/>
                <a:chOff x="5865840" y="3078000"/>
                <a:chExt cx="794880" cy="249480"/>
              </a:xfrm>
            </p:grpSpPr>
            <p:sp>
              <p:nvSpPr>
                <p:cNvPr id="85" name=""/>
                <p:cNvSpPr/>
                <p:nvPr/>
              </p:nvSpPr>
              <p:spPr>
                <a:xfrm>
                  <a:off x="5865840" y="3165480"/>
                  <a:ext cx="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74080" y="31719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 name=""/>
                <p:cNvSpPr/>
                <p:nvPr/>
              </p:nvSpPr>
              <p:spPr>
                <a:xfrm>
                  <a:off x="6656760" y="3146400"/>
                  <a:ext cx="3960" cy="30240"/>
                </a:xfrm>
                <a:prstGeom prst="line">
                  <a:avLst/>
                </a:prstGeom>
                <a:ln w="507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 name=""/>
                <p:cNvSpPr/>
                <p:nvPr/>
              </p:nvSpPr>
              <p:spPr>
                <a:xfrm>
                  <a:off x="5938920" y="3078000"/>
                  <a:ext cx="675000" cy="8280"/>
                </a:xfrm>
                <a:prstGeom prst="line">
                  <a:avLst/>
                </a:prstGeom>
                <a:ln w="507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sp>
            <p:nvSpPr>
              <p:cNvPr id="89" name=""/>
              <p:cNvSpPr/>
              <p:nvPr/>
            </p:nvSpPr>
            <p:spPr>
              <a:xfrm>
                <a:off x="1400760" y="204804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1. SPRAY BOX</a:t>
                </a:r>
                <a:endParaRPr b="0" lang="en-US" sz="2000" spc="-1" strike="noStrike">
                  <a:solidFill>
                    <a:srgbClr val="000000"/>
                  </a:solidFill>
                  <a:latin typeface="Times New Roman"/>
                </a:endParaRPr>
              </a:p>
            </p:txBody>
          </p:sp>
          <p:sp>
            <p:nvSpPr>
              <p:cNvPr id="90" name=""/>
              <p:cNvSpPr/>
              <p:nvPr/>
            </p:nvSpPr>
            <p:spPr>
              <a:xfrm flipH="1">
                <a:off x="2544120" y="2324160"/>
                <a:ext cx="30312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45880" y="2700360"/>
                <a:ext cx="19332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314720" y="2746440"/>
                <a:ext cx="82800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1423080" y="2922480"/>
                <a:ext cx="826200" cy="39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42680" y="1623960"/>
                <a:ext cx="1444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2. DUNKERS</a:t>
                </a:r>
                <a:endParaRPr b="0" lang="en-US" sz="2000" spc="-1" strike="noStrike">
                  <a:solidFill>
                    <a:srgbClr val="000000"/>
                  </a:solidFill>
                  <a:latin typeface="Times New Roman"/>
                </a:endParaRPr>
              </a:p>
            </p:txBody>
          </p:sp>
          <p:sp>
            <p:nvSpPr>
              <p:cNvPr id="95" name=""/>
              <p:cNvSpPr/>
              <p:nvPr/>
            </p:nvSpPr>
            <p:spPr>
              <a:xfrm>
                <a:off x="3574080" y="227952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3. RAKES</a:t>
                </a:r>
                <a:endParaRPr b="0" lang="en-US" sz="2000" spc="-1" strike="noStrike">
                  <a:solidFill>
                    <a:srgbClr val="000000"/>
                  </a:solidFill>
                  <a:latin typeface="Times New Roman"/>
                </a:endParaRPr>
              </a:p>
            </p:txBody>
          </p:sp>
          <p:sp>
            <p:nvSpPr>
              <p:cNvPr id="96" name=""/>
              <p:cNvSpPr/>
              <p:nvPr/>
            </p:nvSpPr>
            <p:spPr>
              <a:xfrm flipH="1">
                <a:off x="2799000" y="2182680"/>
                <a:ext cx="483120" cy="115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35320" y="2676600"/>
                <a:ext cx="54000" cy="34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69280" y="1862280"/>
                <a:ext cx="178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4. BOWL LEVEL</a:t>
                </a:r>
                <a:endParaRPr b="0" lang="en-US" sz="2000" spc="-1" strike="noStrike">
                  <a:solidFill>
                    <a:srgbClr val="000000"/>
                  </a:solidFill>
                  <a:latin typeface="Times New Roman"/>
                </a:endParaRPr>
              </a:p>
            </p:txBody>
          </p:sp>
          <p:sp>
            <p:nvSpPr>
              <p:cNvPr id="99" name=""/>
              <p:cNvSpPr/>
              <p:nvPr/>
            </p:nvSpPr>
            <p:spPr>
              <a:xfrm>
                <a:off x="5275440" y="2306520"/>
                <a:ext cx="361800" cy="97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23640" y="1550880"/>
                <a:ext cx="13183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5.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TRANSFER</a:t>
                </a:r>
                <a:endParaRPr b="0" lang="en-US" sz="2000" spc="-1" strike="noStrike">
                  <a:solidFill>
                    <a:srgbClr val="000000"/>
                  </a:solidFill>
                  <a:latin typeface="Times New Roman"/>
                </a:endParaRPr>
              </a:p>
            </p:txBody>
          </p:sp>
          <p:sp>
            <p:nvSpPr>
              <p:cNvPr id="101" name=""/>
              <p:cNvSpPr/>
              <p:nvPr/>
            </p:nvSpPr>
            <p:spPr>
              <a:xfrm>
                <a:off x="6060600" y="2222640"/>
                <a:ext cx="371880" cy="8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689160" y="2144880"/>
                <a:ext cx="140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6. SQUEEZE</a:t>
                </a:r>
                <a:endParaRPr b="0" lang="en-US" sz="2000" spc="-1" strike="noStrike">
                  <a:solidFill>
                    <a:srgbClr val="000000"/>
                  </a:solidFill>
                  <a:latin typeface="Times New Roman"/>
                </a:endParaRPr>
              </a:p>
            </p:txBody>
          </p:sp>
          <p:sp>
            <p:nvSpPr>
              <p:cNvPr id="103" name=""/>
              <p:cNvSpPr/>
              <p:nvPr/>
            </p:nvSpPr>
            <p:spPr>
              <a:xfrm>
                <a:off x="6831360" y="2639880"/>
                <a:ext cx="487440" cy="81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08000" y="1592280"/>
                <a:ext cx="1607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7. CONVEYOR</a:t>
                </a:r>
                <a:endParaRPr b="0" lang="en-US" sz="2000" spc="-1" strike="noStrike">
                  <a:solidFill>
                    <a:srgbClr val="000000"/>
                  </a:solidFill>
                  <a:latin typeface="Times New Roman"/>
                </a:endParaRPr>
              </a:p>
            </p:txBody>
          </p:sp>
          <p:sp>
            <p:nvSpPr>
              <p:cNvPr id="105" name=""/>
              <p:cNvSpPr/>
              <p:nvPr/>
            </p:nvSpPr>
            <p:spPr>
              <a:xfrm>
                <a:off x="8349120" y="2076480"/>
                <a:ext cx="0" cy="94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417040" y="3482280"/>
                <a:ext cx="2910960" cy="181080"/>
                <a:chOff x="2417040" y="3482280"/>
                <a:chExt cx="2910960" cy="181080"/>
              </a:xfrm>
            </p:grpSpPr>
            <p:grpSp>
              <p:nvGrpSpPr>
                <p:cNvPr id="107" name=""/>
                <p:cNvGrpSpPr/>
                <p:nvPr/>
              </p:nvGrpSpPr>
              <p:grpSpPr>
                <a:xfrm>
                  <a:off x="3813120" y="3492000"/>
                  <a:ext cx="1514880" cy="171360"/>
                  <a:chOff x="3813120" y="3492000"/>
                  <a:chExt cx="1514880" cy="171360"/>
                </a:xfrm>
              </p:grpSpPr>
              <p:grpSp>
                <p:nvGrpSpPr>
                  <p:cNvPr id="108" name=""/>
                  <p:cNvGrpSpPr/>
                  <p:nvPr/>
                </p:nvGrpSpPr>
                <p:grpSpPr>
                  <a:xfrm>
                    <a:off x="4507920" y="3495960"/>
                    <a:ext cx="820080" cy="167400"/>
                    <a:chOff x="4507920" y="3495960"/>
                    <a:chExt cx="820080" cy="167400"/>
                  </a:xfrm>
                </p:grpSpPr>
                <p:grpSp>
                  <p:nvGrpSpPr>
                    <p:cNvPr id="109" name=""/>
                    <p:cNvGrpSpPr/>
                    <p:nvPr/>
                  </p:nvGrpSpPr>
                  <p:grpSpPr>
                    <a:xfrm>
                      <a:off x="4878360" y="3495960"/>
                      <a:ext cx="449640" cy="164160"/>
                      <a:chOff x="4878360" y="3495960"/>
                      <a:chExt cx="449640" cy="164160"/>
                    </a:xfrm>
                  </p:grpSpPr>
                  <p:sp>
                    <p:nvSpPr>
                      <p:cNvPr id="110" name=""/>
                      <p:cNvSpPr/>
                      <p:nvPr/>
                    </p:nvSpPr>
                    <p:spPr>
                      <a:xfrm rot="21240000">
                        <a:off x="5049720" y="3509640"/>
                        <a:ext cx="2718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21240000">
                        <a:off x="4884480" y="3509640"/>
                        <a:ext cx="2703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507920" y="3495960"/>
                      <a:ext cx="451800" cy="167400"/>
                      <a:chOff x="4507920" y="3495960"/>
                      <a:chExt cx="451800" cy="167400"/>
                    </a:xfrm>
                  </p:grpSpPr>
                  <p:sp>
                    <p:nvSpPr>
                      <p:cNvPr id="113" name=""/>
                      <p:cNvSpPr/>
                      <p:nvPr/>
                    </p:nvSpPr>
                    <p:spPr>
                      <a:xfrm rot="21240000">
                        <a:off x="4682520" y="350964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1240000">
                        <a:off x="4514040" y="3510000"/>
                        <a:ext cx="2736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5" name=""/>
                  <p:cNvGrpSpPr/>
                  <p:nvPr/>
                </p:nvGrpSpPr>
                <p:grpSpPr>
                  <a:xfrm>
                    <a:off x="3813120" y="3492000"/>
                    <a:ext cx="819000" cy="166320"/>
                    <a:chOff x="3813120" y="3492000"/>
                    <a:chExt cx="819000" cy="166320"/>
                  </a:xfrm>
                </p:grpSpPr>
                <p:grpSp>
                  <p:nvGrpSpPr>
                    <p:cNvPr id="116" name=""/>
                    <p:cNvGrpSpPr/>
                    <p:nvPr/>
                  </p:nvGrpSpPr>
                  <p:grpSpPr>
                    <a:xfrm>
                      <a:off x="4180680" y="3493440"/>
                      <a:ext cx="451440" cy="164880"/>
                      <a:chOff x="4180680" y="3493440"/>
                      <a:chExt cx="451440" cy="164880"/>
                    </a:xfrm>
                  </p:grpSpPr>
                  <p:sp>
                    <p:nvSpPr>
                      <p:cNvPr id="117" name=""/>
                      <p:cNvSpPr/>
                      <p:nvPr/>
                    </p:nvSpPr>
                    <p:spPr>
                      <a:xfrm rot="21300000">
                        <a:off x="4349880" y="3507840"/>
                        <a:ext cx="27648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300000">
                        <a:off x="4186080" y="3504960"/>
                        <a:ext cx="2750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3813120" y="3492000"/>
                      <a:ext cx="448560" cy="164880"/>
                      <a:chOff x="3813120" y="3492000"/>
                      <a:chExt cx="448560" cy="164880"/>
                    </a:xfrm>
                  </p:grpSpPr>
                  <p:sp>
                    <p:nvSpPr>
                      <p:cNvPr id="120" name=""/>
                      <p:cNvSpPr/>
                      <p:nvPr/>
                    </p:nvSpPr>
                    <p:spPr>
                      <a:xfrm rot="21300000">
                        <a:off x="3985200" y="350532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21300000">
                        <a:off x="3818520" y="3503520"/>
                        <a:ext cx="27216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2" name=""/>
                <p:cNvGrpSpPr/>
                <p:nvPr/>
              </p:nvGrpSpPr>
              <p:grpSpPr>
                <a:xfrm>
                  <a:off x="2417040" y="3482280"/>
                  <a:ext cx="1517040" cy="171720"/>
                  <a:chOff x="2417040" y="3482280"/>
                  <a:chExt cx="1517040" cy="171720"/>
                </a:xfrm>
              </p:grpSpPr>
              <p:grpSp>
                <p:nvGrpSpPr>
                  <p:cNvPr id="123" name=""/>
                  <p:cNvGrpSpPr/>
                  <p:nvPr/>
                </p:nvGrpSpPr>
                <p:grpSpPr>
                  <a:xfrm>
                    <a:off x="3114360" y="3486600"/>
                    <a:ext cx="819720" cy="167400"/>
                    <a:chOff x="3114360" y="3486600"/>
                    <a:chExt cx="819720" cy="167400"/>
                  </a:xfrm>
                </p:grpSpPr>
                <p:grpSp>
                  <p:nvGrpSpPr>
                    <p:cNvPr id="124" name=""/>
                    <p:cNvGrpSpPr/>
                    <p:nvPr/>
                  </p:nvGrpSpPr>
                  <p:grpSpPr>
                    <a:xfrm>
                      <a:off x="3483720" y="3486600"/>
                      <a:ext cx="450360" cy="167400"/>
                      <a:chOff x="3483720" y="3486600"/>
                      <a:chExt cx="450360" cy="167400"/>
                    </a:xfrm>
                  </p:grpSpPr>
                  <p:sp>
                    <p:nvSpPr>
                      <p:cNvPr id="125" name=""/>
                      <p:cNvSpPr/>
                      <p:nvPr/>
                    </p:nvSpPr>
                    <p:spPr>
                      <a:xfrm rot="21240000">
                        <a:off x="3656520" y="3501720"/>
                        <a:ext cx="27072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240000">
                        <a:off x="3490200" y="3500280"/>
                        <a:ext cx="27216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3114360" y="3488400"/>
                      <a:ext cx="450360" cy="165600"/>
                      <a:chOff x="3114360" y="3488400"/>
                      <a:chExt cx="450360" cy="165600"/>
                    </a:xfrm>
                  </p:grpSpPr>
                  <p:sp>
                    <p:nvSpPr>
                      <p:cNvPr id="128" name=""/>
                      <p:cNvSpPr/>
                      <p:nvPr/>
                    </p:nvSpPr>
                    <p:spPr>
                      <a:xfrm rot="21240000">
                        <a:off x="3288600" y="3501720"/>
                        <a:ext cx="26928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21240000">
                        <a:off x="3120480" y="3502080"/>
                        <a:ext cx="27216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2417040" y="3482280"/>
                    <a:ext cx="821880" cy="169560"/>
                    <a:chOff x="2417040" y="3482280"/>
                    <a:chExt cx="821880" cy="169560"/>
                  </a:xfrm>
                </p:grpSpPr>
                <p:grpSp>
                  <p:nvGrpSpPr>
                    <p:cNvPr id="131" name=""/>
                    <p:cNvGrpSpPr/>
                    <p:nvPr/>
                  </p:nvGrpSpPr>
                  <p:grpSpPr>
                    <a:xfrm>
                      <a:off x="2787120" y="3484080"/>
                      <a:ext cx="451800" cy="167760"/>
                      <a:chOff x="2787120" y="3484080"/>
                      <a:chExt cx="451800" cy="167760"/>
                    </a:xfrm>
                  </p:grpSpPr>
                  <p:sp>
                    <p:nvSpPr>
                      <p:cNvPr id="132" name=""/>
                      <p:cNvSpPr/>
                      <p:nvPr/>
                    </p:nvSpPr>
                    <p:spPr>
                      <a:xfrm rot="21300000">
                        <a:off x="2956320" y="349992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1300000">
                        <a:off x="2792520" y="3495600"/>
                        <a:ext cx="27360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417040" y="3482280"/>
                      <a:ext cx="451080" cy="166680"/>
                      <a:chOff x="2417040" y="3482280"/>
                      <a:chExt cx="451080" cy="166680"/>
                    </a:xfrm>
                  </p:grpSpPr>
                  <p:sp>
                    <p:nvSpPr>
                      <p:cNvPr id="135" name=""/>
                      <p:cNvSpPr/>
                      <p:nvPr/>
                    </p:nvSpPr>
                    <p:spPr>
                      <a:xfrm rot="21300000">
                        <a:off x="2587320" y="3495240"/>
                        <a:ext cx="27504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21300000">
                        <a:off x="2422440" y="3493800"/>
                        <a:ext cx="27504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7" name=""/>
              <p:cNvGrpSpPr/>
              <p:nvPr/>
            </p:nvGrpSpPr>
            <p:grpSpPr>
              <a:xfrm>
                <a:off x="5179680" y="3495960"/>
                <a:ext cx="820440" cy="167400"/>
                <a:chOff x="5179680" y="3495960"/>
                <a:chExt cx="820440" cy="167400"/>
              </a:xfrm>
            </p:grpSpPr>
            <p:grpSp>
              <p:nvGrpSpPr>
                <p:cNvPr id="138" name=""/>
                <p:cNvGrpSpPr/>
                <p:nvPr/>
              </p:nvGrpSpPr>
              <p:grpSpPr>
                <a:xfrm>
                  <a:off x="5548680" y="3495960"/>
                  <a:ext cx="451440" cy="164520"/>
                  <a:chOff x="5548680" y="3495960"/>
                  <a:chExt cx="451440" cy="164520"/>
                </a:xfrm>
              </p:grpSpPr>
              <p:sp>
                <p:nvSpPr>
                  <p:cNvPr id="139" name=""/>
                  <p:cNvSpPr/>
                  <p:nvPr/>
                </p:nvSpPr>
                <p:spPr>
                  <a:xfrm rot="21240000">
                    <a:off x="5720040" y="3510000"/>
                    <a:ext cx="2736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240000">
                    <a:off x="5554800" y="3509640"/>
                    <a:ext cx="27072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5179680" y="3495960"/>
                  <a:ext cx="450360" cy="167400"/>
                  <a:chOff x="5179680" y="3495960"/>
                  <a:chExt cx="450360" cy="167400"/>
                </a:xfrm>
              </p:grpSpPr>
              <p:sp>
                <p:nvSpPr>
                  <p:cNvPr id="142" name=""/>
                  <p:cNvSpPr/>
                  <p:nvPr/>
                </p:nvSpPr>
                <p:spPr>
                  <a:xfrm rot="21240000">
                    <a:off x="5352840" y="350964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1240000">
                    <a:off x="5185800" y="3510000"/>
                    <a:ext cx="2721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4" name=""/>
              <p:cNvGrpSpPr/>
              <p:nvPr/>
            </p:nvGrpSpPr>
            <p:grpSpPr>
              <a:xfrm>
                <a:off x="6605280" y="3166920"/>
                <a:ext cx="803880" cy="391320"/>
                <a:chOff x="6605280" y="3166920"/>
                <a:chExt cx="803880" cy="391320"/>
              </a:xfrm>
            </p:grpSpPr>
            <p:grpSp>
              <p:nvGrpSpPr>
                <p:cNvPr id="145" name=""/>
                <p:cNvGrpSpPr/>
                <p:nvPr/>
              </p:nvGrpSpPr>
              <p:grpSpPr>
                <a:xfrm>
                  <a:off x="6950880" y="3293640"/>
                  <a:ext cx="458280" cy="264600"/>
                  <a:chOff x="6950880" y="3293640"/>
                  <a:chExt cx="458280" cy="264600"/>
                </a:xfrm>
              </p:grpSpPr>
              <p:sp>
                <p:nvSpPr>
                  <p:cNvPr id="146" name=""/>
                  <p:cNvSpPr/>
                  <p:nvPr/>
                </p:nvSpPr>
                <p:spPr>
                  <a:xfrm rot="900000">
                    <a:off x="7117920" y="3386160"/>
                    <a:ext cx="27792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900000">
                    <a:off x="6964200" y="3327120"/>
                    <a:ext cx="27936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6605280" y="3166920"/>
                  <a:ext cx="460800" cy="268200"/>
                  <a:chOff x="6605280" y="3166920"/>
                  <a:chExt cx="460800" cy="268200"/>
                </a:xfrm>
              </p:grpSpPr>
              <p:sp>
                <p:nvSpPr>
                  <p:cNvPr id="149" name=""/>
                  <p:cNvSpPr/>
                  <p:nvPr/>
                </p:nvSpPr>
                <p:spPr>
                  <a:xfrm rot="900000">
                    <a:off x="6775200" y="3257280"/>
                    <a:ext cx="27684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900000">
                    <a:off x="6618240" y="320004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1" name=""/>
              <p:cNvGrpSpPr/>
              <p:nvPr/>
            </p:nvGrpSpPr>
            <p:grpSpPr>
              <a:xfrm>
                <a:off x="2450160" y="3197880"/>
                <a:ext cx="159120" cy="466920"/>
                <a:chOff x="2450160" y="3197880"/>
                <a:chExt cx="159120" cy="466920"/>
              </a:xfrm>
            </p:grpSpPr>
            <p:sp>
              <p:nvSpPr>
                <p:cNvPr id="152" name=""/>
                <p:cNvSpPr/>
                <p:nvPr/>
              </p:nvSpPr>
              <p:spPr>
                <a:xfrm rot="5040000">
                  <a:off x="2382120" y="3449520"/>
                  <a:ext cx="291960" cy="126720"/>
                </a:xfrm>
                <a:prstGeom prst="ellipse">
                  <a:avLst/>
                </a:prstGeom>
                <a:no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3" name=""/>
                <p:cNvSpPr/>
                <p:nvPr/>
              </p:nvSpPr>
              <p:spPr>
                <a:xfrm rot="5040000">
                  <a:off x="2382120" y="3286800"/>
                  <a:ext cx="295200" cy="128520"/>
                </a:xfrm>
                <a:prstGeom prst="ellips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54" name=""/>
              <p:cNvGrpSpPr/>
              <p:nvPr/>
            </p:nvGrpSpPr>
            <p:grpSpPr>
              <a:xfrm>
                <a:off x="2358720" y="3031200"/>
                <a:ext cx="158760" cy="467280"/>
                <a:chOff x="2358720" y="3031200"/>
                <a:chExt cx="158760" cy="467280"/>
              </a:xfrm>
            </p:grpSpPr>
            <p:sp>
              <p:nvSpPr>
                <p:cNvPr id="155" name=""/>
                <p:cNvSpPr/>
                <p:nvPr/>
              </p:nvSpPr>
              <p:spPr>
                <a:xfrm rot="5040000">
                  <a:off x="2291400" y="3281040"/>
                  <a:ext cx="293400" cy="128880"/>
                </a:xfrm>
                <a:prstGeom prst="ellipse">
                  <a:avLst/>
                </a:prstGeom>
                <a:noFill/>
                <a:ln w="25560">
                  <a:solidFill>
                    <a:srgbClr val="00cc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6" name=""/>
                <p:cNvSpPr/>
                <p:nvPr/>
              </p:nvSpPr>
              <p:spPr>
                <a:xfrm rot="5040000">
                  <a:off x="2290680" y="3120840"/>
                  <a:ext cx="293760" cy="125640"/>
                </a:xfrm>
                <a:prstGeom prst="ellipse">
                  <a:avLst/>
                </a:prstGeom>
                <a:noFill/>
                <a:ln w="25560">
                  <a:solidFill>
                    <a:srgbClr val="00cc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7" name=""/>
              <p:cNvGrpSpPr/>
              <p:nvPr/>
            </p:nvGrpSpPr>
            <p:grpSpPr>
              <a:xfrm>
                <a:off x="2293560" y="2765160"/>
                <a:ext cx="156600" cy="468720"/>
                <a:chOff x="2293560" y="2765160"/>
                <a:chExt cx="156600" cy="468720"/>
              </a:xfrm>
            </p:grpSpPr>
            <p:sp>
              <p:nvSpPr>
                <p:cNvPr id="158" name=""/>
                <p:cNvSpPr/>
                <p:nvPr/>
              </p:nvSpPr>
              <p:spPr>
                <a:xfrm rot="5700000">
                  <a:off x="2221920" y="2854080"/>
                  <a:ext cx="297000" cy="128520"/>
                </a:xfrm>
                <a:prstGeom prst="ellipse">
                  <a:avLst/>
                </a:prstGeom>
                <a:noFill/>
                <a:ln w="25560">
                  <a:solidFill>
                    <a:srgbClr val="00cc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59" name=""/>
                <p:cNvSpPr/>
                <p:nvPr/>
              </p:nvSpPr>
              <p:spPr>
                <a:xfrm rot="5700000">
                  <a:off x="2224800" y="3016080"/>
                  <a:ext cx="295200" cy="129960"/>
                </a:xfrm>
                <a:prstGeom prst="ellipse">
                  <a:avLst/>
                </a:prstGeom>
                <a:noFill/>
                <a:ln w="25560">
                  <a:solidFill>
                    <a:srgbClr val="00cc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60" name=""/>
              <p:cNvGrpSpPr/>
              <p:nvPr/>
            </p:nvGrpSpPr>
            <p:grpSpPr>
              <a:xfrm>
                <a:off x="5850360" y="3204000"/>
                <a:ext cx="798120" cy="461880"/>
                <a:chOff x="5850360" y="3204000"/>
                <a:chExt cx="798120" cy="461880"/>
              </a:xfrm>
            </p:grpSpPr>
            <p:grpSp>
              <p:nvGrpSpPr>
                <p:cNvPr id="161" name=""/>
                <p:cNvGrpSpPr/>
                <p:nvPr/>
              </p:nvGrpSpPr>
              <p:grpSpPr>
                <a:xfrm>
                  <a:off x="6189120" y="3204000"/>
                  <a:ext cx="459360" cy="317520"/>
                  <a:chOff x="6189120" y="3204000"/>
                  <a:chExt cx="459360" cy="317520"/>
                </a:xfrm>
              </p:grpSpPr>
              <p:sp>
                <p:nvSpPr>
                  <p:cNvPr id="162" name=""/>
                  <p:cNvSpPr/>
                  <p:nvPr/>
                </p:nvSpPr>
                <p:spPr>
                  <a:xfrm rot="19860000">
                    <a:off x="6356160" y="3262320"/>
                    <a:ext cx="2764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860000">
                    <a:off x="6205680" y="3324240"/>
                    <a:ext cx="27360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5850360" y="3344760"/>
                  <a:ext cx="460080" cy="321120"/>
                  <a:chOff x="5850360" y="3344760"/>
                  <a:chExt cx="460080" cy="321120"/>
                </a:xfrm>
              </p:grpSpPr>
              <p:sp>
                <p:nvSpPr>
                  <p:cNvPr id="165" name=""/>
                  <p:cNvSpPr/>
                  <p:nvPr/>
                </p:nvSpPr>
                <p:spPr>
                  <a:xfrm rot="19860000">
                    <a:off x="6019560" y="3402000"/>
                    <a:ext cx="27360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860000">
                    <a:off x="5867280" y="3466800"/>
                    <a:ext cx="27396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7904160" y="2967840"/>
                <a:ext cx="741600" cy="579240"/>
                <a:chOff x="7904160" y="2967840"/>
                <a:chExt cx="741600" cy="579240"/>
              </a:xfrm>
            </p:grpSpPr>
            <p:grpSp>
              <p:nvGrpSpPr>
                <p:cNvPr id="168" name=""/>
                <p:cNvGrpSpPr/>
                <p:nvPr/>
              </p:nvGrpSpPr>
              <p:grpSpPr>
                <a:xfrm>
                  <a:off x="8207280" y="2967840"/>
                  <a:ext cx="438480" cy="374760"/>
                  <a:chOff x="8207280" y="2967840"/>
                  <a:chExt cx="438480" cy="374760"/>
                </a:xfrm>
              </p:grpSpPr>
              <p:sp>
                <p:nvSpPr>
                  <p:cNvPr id="169" name=""/>
                  <p:cNvSpPr/>
                  <p:nvPr/>
                </p:nvSpPr>
                <p:spPr>
                  <a:xfrm rot="19200000">
                    <a:off x="8355960" y="3039840"/>
                    <a:ext cx="27684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200000">
                    <a:off x="8219520" y="313020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7904160" y="3172320"/>
                  <a:ext cx="439560" cy="374760"/>
                  <a:chOff x="7904160" y="3172320"/>
                  <a:chExt cx="439560" cy="374760"/>
                </a:xfrm>
              </p:grpSpPr>
              <p:sp>
                <p:nvSpPr>
                  <p:cNvPr id="172" name=""/>
                  <p:cNvSpPr/>
                  <p:nvPr/>
                </p:nvSpPr>
                <p:spPr>
                  <a:xfrm rot="19200000">
                    <a:off x="8057520" y="3242880"/>
                    <a:ext cx="27216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9200000">
                    <a:off x="7918560" y="3332160"/>
                    <a:ext cx="27216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4" name=""/>
              <p:cNvGrpSpPr/>
              <p:nvPr/>
            </p:nvGrpSpPr>
            <p:grpSpPr>
              <a:xfrm>
                <a:off x="1523160" y="2477880"/>
                <a:ext cx="764640" cy="537840"/>
                <a:chOff x="1523160" y="2477880"/>
                <a:chExt cx="764640" cy="537840"/>
              </a:xfrm>
            </p:grpSpPr>
            <p:grpSp>
              <p:nvGrpSpPr>
                <p:cNvPr id="175" name=""/>
                <p:cNvGrpSpPr/>
                <p:nvPr/>
              </p:nvGrpSpPr>
              <p:grpSpPr>
                <a:xfrm>
                  <a:off x="1839960" y="2477880"/>
                  <a:ext cx="447840" cy="354960"/>
                  <a:chOff x="1839960" y="2477880"/>
                  <a:chExt cx="447840" cy="354960"/>
                </a:xfrm>
              </p:grpSpPr>
              <p:sp>
                <p:nvSpPr>
                  <p:cNvPr id="176" name=""/>
                  <p:cNvSpPr/>
                  <p:nvPr/>
                </p:nvSpPr>
                <p:spPr>
                  <a:xfrm rot="19440000">
                    <a:off x="1996560" y="2545920"/>
                    <a:ext cx="27684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19440000">
                    <a:off x="1855080" y="2623680"/>
                    <a:ext cx="27504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1523160" y="2661120"/>
                  <a:ext cx="447120" cy="354600"/>
                  <a:chOff x="1523160" y="2661120"/>
                  <a:chExt cx="447120" cy="354600"/>
                </a:xfrm>
              </p:grpSpPr>
              <p:sp>
                <p:nvSpPr>
                  <p:cNvPr id="179" name=""/>
                  <p:cNvSpPr/>
                  <p:nvPr/>
                </p:nvSpPr>
                <p:spPr>
                  <a:xfrm rot="19440000">
                    <a:off x="1683720" y="2727000"/>
                    <a:ext cx="27072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9440000">
                    <a:off x="1539000" y="2806200"/>
                    <a:ext cx="27216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1" name=""/>
              <p:cNvSpPr/>
              <p:nvPr/>
            </p:nvSpPr>
            <p:spPr>
              <a:xfrm rot="5880000">
                <a:off x="2191680" y="2677680"/>
                <a:ext cx="297000" cy="128880"/>
              </a:xfrm>
              <a:prstGeom prst="ellips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rot="3540000">
                <a:off x="2130480" y="2593440"/>
                <a:ext cx="295200" cy="130320"/>
              </a:xfrm>
              <a:prstGeom prst="ellipse">
                <a:avLst/>
              </a:prstGeom>
              <a:noFill/>
              <a:ln w="25560">
                <a:solidFill>
                  <a:srgbClr val="00cc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flipH="1">
                <a:off x="2218680" y="3357720"/>
                <a:ext cx="448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89280" y="3321000"/>
                <a:ext cx="4779360" cy="1200240"/>
              </a:xfrm>
              <a:custGeom>
                <a:avLst/>
                <a:gdLst/>
                <a:ahLst/>
                <a:rect l="l" t="t" r="r" b="b"/>
                <a:pathLst>
                  <a:path w="3262" h="756">
                    <a:moveTo>
                      <a:pt x="0" y="0"/>
                    </a:moveTo>
                    <a:lnTo>
                      <a:pt x="0" y="755"/>
                    </a:lnTo>
                    <a:lnTo>
                      <a:pt x="3261" y="755"/>
                    </a:lnTo>
                    <a:lnTo>
                      <a:pt x="326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98560" y="482436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lse bottom</a:t>
                </a:r>
                <a:endParaRPr b="0" lang="en-US" sz="2400" spc="-1" strike="noStrike">
                  <a:solidFill>
                    <a:srgbClr val="000000"/>
                  </a:solidFill>
                  <a:latin typeface="Times New Roman"/>
                </a:endParaRPr>
              </a:p>
            </p:txBody>
          </p:sp>
          <p:sp>
            <p:nvSpPr>
              <p:cNvPr id="186" name=""/>
              <p:cNvSpPr/>
              <p:nvPr/>
            </p:nvSpPr>
            <p:spPr>
              <a:xfrm flipV="1">
                <a:off x="3175920" y="3673080"/>
                <a:ext cx="559440" cy="123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king Points in an Aqueous Scour</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wl Feed</a:t>
            </a:r>
            <a:endParaRPr b="1" lang="en-US" sz="3200" spc="-1" strike="noStrike">
              <a:solidFill>
                <a:srgbClr val="fafd00"/>
              </a:solidFill>
              <a:latin typeface="Arial"/>
            </a:endParaRPr>
          </a:p>
        </p:txBody>
      </p:sp>
      <p:sp>
        <p:nvSpPr>
          <p:cNvPr id="1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ray Bo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pushed into bow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bul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nk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tting o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ush down and forwar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bulence</a:t>
            </a:r>
            <a:endParaRPr b="1" lang="en-US" sz="2400" spc="-1" strike="noStrike">
              <a:solidFill>
                <a:srgbClr val="ffffff"/>
              </a:solidFill>
              <a:latin typeface="Arial"/>
            </a:endParaRPr>
          </a:p>
        </p:txBody>
      </p:sp>
      <p:sp>
        <p:nvSpPr>
          <p:cNvPr id="191"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flipV="1">
            <a:off x="1447920" y="2057040"/>
            <a:ext cx="0" cy="3048120"/>
          </a:xfrm>
          <a:prstGeom prst="line">
            <a:avLst/>
          </a:prstGeom>
          <a:ln w="12708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 name="FORK" descr=""/>
          <p:cNvPicPr/>
          <p:nvPr/>
        </p:nvPicPr>
        <p:blipFill>
          <a:blip r:embed="rId1"/>
          <a:stretch/>
        </p:blipFill>
        <p:spPr>
          <a:xfrm>
            <a:off x="5486400" y="3505320"/>
            <a:ext cx="3429000" cy="2309760"/>
          </a:xfrm>
          <a:prstGeom prst="rect">
            <a:avLst/>
          </a:prstGeom>
          <a:ln w="0">
            <a:noFill/>
          </a:ln>
        </p:spPr>
      </p:pic>
      <p:sp>
        <p:nvSpPr>
          <p:cNvPr id="194"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ransport</a:t>
            </a:r>
            <a:endParaRPr b="1" lang="en-US" sz="3200" spc="-1" strike="noStrike">
              <a:solidFill>
                <a:srgbClr val="fafd00"/>
              </a:solidFill>
              <a:latin typeface="Arial"/>
            </a:endParaRPr>
          </a:p>
        </p:txBody>
      </p:sp>
      <p:sp>
        <p:nvSpPr>
          <p:cNvPr id="196" name="PlaceHolder 2"/>
          <p:cNvSpPr>
            <a:spLocks noGrp="1"/>
          </p:cNvSpPr>
          <p:nvPr>
            <p:ph/>
          </p:nvPr>
        </p:nvSpPr>
        <p:spPr>
          <a:xfrm>
            <a:off x="167616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THOD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k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ing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rro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iple-crank rak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ction dru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oating mat</a:t>
            </a:r>
            <a:endParaRPr b="1" lang="en-US" sz="2000" spc="-1" strike="noStrike">
              <a:solidFill>
                <a:srgbClr val="ffffff"/>
              </a:solidFill>
              <a:latin typeface="Arial"/>
            </a:endParaRPr>
          </a:p>
        </p:txBody>
      </p:sp>
      <p:sp>
        <p:nvSpPr>
          <p:cNvPr id="19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ENTANGLING ACTIONS</a:t>
            </a:r>
            <a:r>
              <a:rPr b="1" lang="en-AU" sz="2400" spc="-1" strike="noStrike">
                <a:solidFill>
                  <a:srgbClr val="ffffff"/>
                </a:solidFill>
                <a:latin typeface="Arial"/>
              </a:rPr>
              <a:t> (rak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 turbule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edle fel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agged mo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flipV="1">
            <a:off x="1447920" y="3580920"/>
            <a:ext cx="0" cy="2133720"/>
          </a:xfrm>
          <a:prstGeom prst="line">
            <a:avLst/>
          </a:prstGeom>
          <a:ln w="12708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queeze Rollers</a:t>
            </a:r>
            <a:endParaRPr b="1" lang="en-US" sz="3200" spc="-1" strike="noStrike">
              <a:solidFill>
                <a:srgbClr val="fafd00"/>
              </a:solidFill>
              <a:latin typeface="Arial"/>
            </a:endParaRPr>
          </a:p>
        </p:txBody>
      </p:sp>
      <p:sp>
        <p:nvSpPr>
          <p:cNvPr id="201" name="PlaceHolder 2"/>
          <p:cNvSpPr>
            <a:spLocks noGrp="1"/>
          </p:cNvSpPr>
          <p:nvPr>
            <p:ph/>
          </p:nvPr>
        </p:nvSpPr>
        <p:spPr>
          <a:xfrm>
            <a:off x="15998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er to Nip</a:t>
            </a: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ush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 level hig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ho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lgian lif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ing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d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in rake extensions</a:t>
            </a:r>
            <a:endParaRPr b="1" lang="en-US" sz="2000" spc="-1" strike="noStrike">
              <a:solidFill>
                <a:srgbClr val="ffffff"/>
              </a:solidFill>
              <a:latin typeface="Arial"/>
            </a:endParaRPr>
          </a:p>
        </p:txBody>
      </p:sp>
      <p:sp>
        <p:nvSpPr>
          <p:cNvPr id="202"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the Squeeze Nip</a:t>
            </a: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uffer box effec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urbule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jor contributor</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tanglement Reduction</a:t>
            </a:r>
            <a:endParaRPr b="1" lang="en-US" sz="3200" spc="-1" strike="noStrike">
              <a:solidFill>
                <a:srgbClr val="fafd00"/>
              </a:solidFill>
              <a:latin typeface="Arial"/>
            </a:endParaRPr>
          </a:p>
        </p:txBody>
      </p:sp>
      <p:sp>
        <p:nvSpPr>
          <p:cNvPr id="2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y existing machin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dical changes to the scouring machin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 the scouring mediu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que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v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 Sme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tec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 the scouring configur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cour</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couring</a:t>
            </a:r>
            <a:endParaRPr b="1" lang="en-US" sz="3200" spc="-1" strike="noStrike">
              <a:solidFill>
                <a:srgbClr val="fafd00"/>
              </a:solidFill>
              <a:latin typeface="Arial"/>
            </a:endParaRPr>
          </a:p>
        </p:txBody>
      </p:sp>
      <p:sp>
        <p:nvSpPr>
          <p:cNvPr id="20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 (decrease)</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detergent concentration required</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urface area</a:t>
            </a:r>
            <a:endParaRPr b="1" lang="en-US" sz="20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 possible</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increase)</a:t>
            </a:r>
            <a:endParaRPr b="1" lang="en-US" sz="28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sociated with diameter decrease</a:t>
            </a:r>
            <a:endParaRPr b="1" lang="en-US" sz="20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 (increase)</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entanglement</a:t>
            </a:r>
            <a:endParaRPr b="1" lang="en-US" sz="2400" spc="-1" strike="noStrike">
              <a:solidFill>
                <a:srgbClr val="ffffff"/>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0:36:02Z</dcterms:created>
  <dc:creator>Peter Auer</dc:creator>
  <dc:description/>
  <dc:language>en-US</dc:language>
  <cp:lastModifiedBy>Hdaily</cp:lastModifiedBy>
  <cp:lastPrinted>2000-02-03T09:09:47Z</cp:lastPrinted>
  <dcterms:modified xsi:type="dcterms:W3CDTF">2000-03-20T22:16:03Z</dcterms:modified>
  <cp:revision>4</cp:revision>
  <dc:subject/>
  <dc:title>Fibre Entanglement in Scouring</dc:title>
</cp:coreProperties>
</file>