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4FC1-FDE6-4621-B5C0-AD6149191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562040" y="533520"/>
            <a:ext cx="3657600" cy="2743200"/>
          </a:xfrm>
          <a:prstGeom prst="rect">
            <a:avLst/>
          </a:prstGeom>
          <a:ln w="0">
            <a:noFill/>
          </a:ln>
        </p:spPr>
      </p:sp>
      <p:sp>
        <p:nvSpPr>
          <p:cNvPr id="8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wo processes that are fundamental to aqueous scouring, detergency and fe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7371-0398-4F7C-8B7D-4ADE4A16D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PlaceHolder 1"/>
          <p:cNvSpPr>
            <a:spLocks noGrp="1"/>
          </p:cNvSpPr>
          <p:nvPr>
            <p:ph type="sldImg"/>
          </p:nvPr>
        </p:nvSpPr>
        <p:spPr>
          <a:xfrm>
            <a:off x="1562040" y="533520"/>
            <a:ext cx="3657600" cy="2743200"/>
          </a:xfrm>
          <a:prstGeom prst="rect">
            <a:avLst/>
          </a:prstGeom>
          <a:ln w="0">
            <a:noFill/>
          </a:ln>
        </p:spPr>
      </p:sp>
      <p:sp>
        <p:nvSpPr>
          <p:cNvPr id="8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gency is integral to aqueous scouring.  It is aimed at removing contaminants by the action of surfactants.  The contaminants are then kept off the fibre in various states such as emulsions and suspensions.  These activities in context are related to the Contaminant Removal Sequence outlined in the module, “An Introduction to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sentially detergency involves the removal of soil from substrates.  In the case of wool scouring the soil involved is the wool wax, and particulate matter such as dirt and skin flakes.  The substrate cleaned is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s to achieve detergency in the case of aqueous wool scouring are surfactants, wetting of the surfaces (fibre, wax, soil), some form of agitation and mechanisms to prevent the soil re-depositing on the substr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CDE7-B4C4-429D-AE74-4D6FA9F54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PlaceHolder 1"/>
          <p:cNvSpPr>
            <a:spLocks noGrp="1"/>
          </p:cNvSpPr>
          <p:nvPr>
            <p:ph type="sldImg"/>
          </p:nvPr>
        </p:nvSpPr>
        <p:spPr>
          <a:xfrm>
            <a:off x="1562040" y="533520"/>
            <a:ext cx="3657600" cy="2743200"/>
          </a:xfrm>
          <a:prstGeom prst="rect">
            <a:avLst/>
          </a:prstGeom>
          <a:ln w="0">
            <a:noFill/>
          </a:ln>
        </p:spPr>
      </p:sp>
      <p:sp>
        <p:nvSpPr>
          <p:cNvPr id="8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urfactants are chemicals with special properties.  They are long chain molecules in two parts, usually designated as a head and a tail.  The tail is completely non-polar, which means that by themselves the tails have no attraction for water, a polar molecule.  In fact in the presence of water the tails will want to stick together.  This means that the tail is hydrophobic.  The head of a surfactant molecule is polar, and therefore will experience some attraction for water.  The head is hydrophilic.</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f the surfactant is soap, there is a full negative charge on the head.  This would be called an anionic surfactant.  The head would be small and compact.  This is represented at the top of the slid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head of a nonionic surfactant is relatively long and doesn't have a full charge but has many localised charges along its length.  In effect though, the head is slightly polar and has an attraction for water.  This is represented in the middle of the slid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Generally non-ionic surfactants make the best detergents, mainly due to their dispersing properties and the fact that they are not affected significantly by hard water and temperatu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most popular detergent used in the wool industry today is Lissapol TN450.  This is a condensate of nonyl phenol with 8.5 moles of ethylene oxide.  This means the head has on average 8.5 molecules of (CH2CH2O).  The presence of oxygen causes localisation of the electrons along the head.</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ourier-WP"/>
              </a:rPr>
              <a:t>The presence of a benzene ring in the structure of Lissapol TN450, means that it takes slightly longer to biodegrade than a completely linear surfactant.  While this may be a problem in colder climates, the milder conditions in Australia mean the difference is not critical.  Nevertheless there has been some substitution of Lissapol TN450 with a similar, more biodegradable product called Softin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summary, surfactants are molecules in two parts, one is attractive to water (hydrophilic) and the other part doesn’t like water (hydrophobic).  These chemicals have special properties in water.</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CFF3-BF5B-4A8B-B0E4-E710CCA3F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PlaceHolder 1"/>
          <p:cNvSpPr>
            <a:spLocks noGrp="1"/>
          </p:cNvSpPr>
          <p:nvPr>
            <p:ph type="sldImg"/>
          </p:nvPr>
        </p:nvSpPr>
        <p:spPr>
          <a:xfrm>
            <a:off x="1681200" y="623880"/>
            <a:ext cx="3419280" cy="2563920"/>
          </a:xfrm>
          <a:prstGeom prst="rect">
            <a:avLst/>
          </a:prstGeom>
          <a:ln w="0">
            <a:noFill/>
          </a:ln>
        </p:spPr>
      </p:sp>
      <p:sp>
        <p:nvSpPr>
          <p:cNvPr id="892" name="PlaceHolder 2"/>
          <p:cNvSpPr>
            <a:spLocks noGrp="1"/>
          </p:cNvSpPr>
          <p:nvPr>
            <p:ph type="body"/>
          </p:nvPr>
        </p:nvSpPr>
        <p:spPr>
          <a:xfrm>
            <a:off x="641520" y="3503520"/>
            <a:ext cx="5574960" cy="48816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als with the function of these surfactant molecules in wa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if there is a </a:t>
            </a:r>
            <a:r>
              <a:rPr b="1" lang="en-AU" sz="1200" spc="-1" strike="noStrike">
                <a:solidFill>
                  <a:srgbClr val="000000"/>
                </a:solidFill>
                <a:latin typeface="Times New Roman"/>
              </a:rPr>
              <a:t>surface</a:t>
            </a:r>
            <a:r>
              <a:rPr b="0" lang="en-AU" sz="1200" spc="-1" strike="noStrike">
                <a:solidFill>
                  <a:srgbClr val="000000"/>
                </a:solidFill>
                <a:latin typeface="Times New Roman"/>
              </a:rPr>
              <a:t> or interface present e.g. between grease and water, or between dirt and fibre, the surfactant molecules will </a:t>
            </a:r>
            <a:r>
              <a:rPr b="1" lang="en-AU" sz="1200" spc="-1" strike="noStrike">
                <a:solidFill>
                  <a:srgbClr val="000000"/>
                </a:solidFill>
                <a:latin typeface="Times New Roman"/>
              </a:rPr>
              <a:t>preferentially </a:t>
            </a:r>
            <a:r>
              <a:rPr b="0" lang="en-AU" sz="1200" spc="-1" strike="noStrike">
                <a:solidFill>
                  <a:srgbClr val="000000"/>
                </a:solidFill>
                <a:latin typeface="Times New Roman"/>
              </a:rPr>
              <a:t>orientate at the interface, due to the differing polarities of the head and the tail.  This is called </a:t>
            </a:r>
            <a:r>
              <a:rPr b="1" lang="en-AU" sz="1200" spc="-1" strike="noStrike">
                <a:solidFill>
                  <a:srgbClr val="000000"/>
                </a:solidFill>
                <a:latin typeface="Times New Roman"/>
              </a:rPr>
              <a:t>surface activit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rfactant is said to be </a:t>
            </a:r>
            <a:r>
              <a:rPr b="1" lang="en-AU" sz="1200" spc="-1" strike="noStrike" u="sng">
                <a:solidFill>
                  <a:srgbClr val="000000"/>
                </a:solidFill>
                <a:uFillTx/>
                <a:latin typeface="Times New Roman"/>
              </a:rPr>
              <a:t>ad</a:t>
            </a:r>
            <a:r>
              <a:rPr b="1" lang="en-AU" sz="1200" spc="-1" strike="noStrike">
                <a:solidFill>
                  <a:srgbClr val="000000"/>
                </a:solidFill>
                <a:latin typeface="Times New Roman"/>
              </a:rPr>
              <a:t>sorbed</a:t>
            </a:r>
            <a:r>
              <a:rPr b="0" lang="en-AU" sz="1200" spc="-1" strike="noStrike">
                <a:solidFill>
                  <a:srgbClr val="000000"/>
                </a:solidFill>
                <a:latin typeface="Times New Roman"/>
              </a:rPr>
              <a:t> at the interface (i.e. aligned but distinct).  It can occur at any interface, e.g. between grease and water, between fibre and water, between dirt and fibre.  The effect of adsorption is that the surface is expanded and the surface or interfacial tension is </a:t>
            </a:r>
            <a:r>
              <a:rPr b="1" lang="en-AU" sz="1200" spc="-1" strike="noStrike">
                <a:solidFill>
                  <a:srgbClr val="000000"/>
                </a:solidFill>
                <a:latin typeface="Times New Roman"/>
              </a:rPr>
              <a:t>lowered</a:t>
            </a:r>
            <a:r>
              <a:rPr b="0" lang="en-AU" sz="1200" spc="-1" strike="noStrike">
                <a:solidFill>
                  <a:srgbClr val="000000"/>
                </a:solidFill>
                <a:latin typeface="Times New Roman"/>
              </a:rPr>
              <a:t> by the presence of surfactant molecules.  One outcome of lower interfacial tensions is that surfaces are easier to wet.  Surfaces must be wet for detergency to occur.  This certainly helps wool which has a hydrophobic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condly, the heads of an ionic surfactant molecule will repel each other, because they have the same charge.  This means that two surfaces coated with preferentially orientated surfactants will repel each other.  This effect is greater for anionic surfactants due to their full negative charge, but still occurs with non-ionics to a lesser extent.  This repulsion means that less work is required to separate the surfaces, and remove the contamin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more, the materials will be easier to keep separate or </a:t>
            </a:r>
            <a:r>
              <a:rPr b="1" lang="en-AU" sz="1200" spc="-1" strike="noStrike">
                <a:solidFill>
                  <a:srgbClr val="000000"/>
                </a:solidFill>
                <a:latin typeface="Times New Roman"/>
              </a:rPr>
              <a:t>suspended</a:t>
            </a:r>
            <a:r>
              <a:rPr b="0" lang="en-AU" sz="1200" spc="-1" strike="noStrike">
                <a:solidFill>
                  <a:srgbClr val="000000"/>
                </a:solidFill>
                <a:latin typeface="Times New Roman"/>
              </a:rPr>
              <a:t> with a surrounding adsorbed layer.  For anionics this suspension is maintained through electrical repulsion.  However the mechanism for non-ionics is more one of steric hindrance, i.e. the particles are separated by the coating of surfac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note that some form of agitation is necessary to dislodge the partic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C7B5-62A1-4D06-8655-CB4EBC0DB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PlaceHolder 1"/>
          <p:cNvSpPr>
            <a:spLocks noGrp="1"/>
          </p:cNvSpPr>
          <p:nvPr>
            <p:ph type="sldImg"/>
          </p:nvPr>
        </p:nvSpPr>
        <p:spPr>
          <a:xfrm>
            <a:off x="1681200" y="623880"/>
            <a:ext cx="3419280" cy="2563920"/>
          </a:xfrm>
          <a:prstGeom prst="rect">
            <a:avLst/>
          </a:prstGeom>
          <a:ln w="0">
            <a:noFill/>
          </a:ln>
        </p:spPr>
      </p:sp>
      <p:sp>
        <p:nvSpPr>
          <p:cNvPr id="899" name="PlaceHolder 2"/>
          <p:cNvSpPr>
            <a:spLocks noGrp="1"/>
          </p:cNvSpPr>
          <p:nvPr>
            <p:ph type="body"/>
          </p:nvPr>
        </p:nvSpPr>
        <p:spPr>
          <a:xfrm>
            <a:off x="641520" y="3503520"/>
            <a:ext cx="5574960" cy="48816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r>
              <a:rPr b="0" lang="en-AU" sz="1200" spc="-1" strike="noStrike">
                <a:solidFill>
                  <a:srgbClr val="000000"/>
                </a:solidFill>
                <a:latin typeface="Courier-WP"/>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Another phenomenon is that above a certain concentration of surfactant the molecules form clusters.  Above this critical concentration the surfaces are crammed with surfactant but the surfactant is still in solution.  The surfactants aggregate to form clusters called </a:t>
            </a:r>
            <a:r>
              <a:rPr b="1" lang="en-AU" sz="1200" spc="-1" strike="noStrike">
                <a:solidFill>
                  <a:srgbClr val="000000"/>
                </a:solidFill>
                <a:latin typeface="Courier-WP"/>
              </a:rPr>
              <a:t>micelles</a:t>
            </a:r>
            <a:r>
              <a:rPr b="0" lang="en-AU" sz="1200" spc="-1" strike="noStrike">
                <a:solidFill>
                  <a:srgbClr val="000000"/>
                </a:solidFill>
                <a:latin typeface="Courier-WP"/>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se clusters can be viewed as a drop of liquid hydrocarbon, the tails of the surfactants forming the centre of a sphere covered with charged heads.  This is  represented in this sl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Significantly for the emulsion of wool wax, non-polar  materials can be dissolved inside the centre of the micelles.  So the micelle is a stable structure which effectively removes the wax from the fibre by emulsifying it.  An emulsion is stable in the prevailing conditions in a scou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562040" y="533520"/>
            <a:ext cx="3657600" cy="2743200"/>
          </a:xfrm>
          <a:prstGeom prst="rect">
            <a:avLst/>
          </a:prstGeom>
          <a:ln w="0">
            <a:noFill/>
          </a:ln>
        </p:spPr>
      </p:sp>
      <p:sp>
        <p:nvSpPr>
          <p:cNvPr id="9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Detergency is a complex phenomena involving wetting, adsorption, suspension and the dissolving of nonpolar material in micell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is slide represents the sequence which is thought to occur during contaminant removal in aqueous scouring.</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Firstly the fibre is covered in wax and dirt.  The addition of water is insufficient to dislodge the dirt, mainly due to inefficient wetting and high surface tensions involved.  However, the addition of hot water above the melting point of the wax makes it pliable and allows access to the surfacta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When detergent is added it is adsorbed at all surfaces with the hydrophobic tails oriented to the surfaces.  The interfacial tension are lowered aiding wetting and the spreading of surfacta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Once adsorption is sufficiently advanced, the surfactant heads act by mutual repulsion and lower the adhesion between the soil and the substrate.  During the swelling period, liquid grease tends to form into globules or balls due to the lower interfacial tensions caused by the surfacta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A7F1-D621-46C6-89C3-2C6B95CD3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PlaceHolder 1"/>
          <p:cNvSpPr>
            <a:spLocks noGrp="1"/>
          </p:cNvSpPr>
          <p:nvPr>
            <p:ph type="sldImg"/>
          </p:nvPr>
        </p:nvSpPr>
        <p:spPr>
          <a:xfrm>
            <a:off x="1562040" y="533520"/>
            <a:ext cx="3657600" cy="2743200"/>
          </a:xfrm>
          <a:prstGeom prst="rect">
            <a:avLst/>
          </a:prstGeom>
          <a:ln w="0">
            <a:noFill/>
          </a:ln>
        </p:spPr>
      </p:sp>
      <p:sp>
        <p:nvSpPr>
          <p:cNvPr id="9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agitation is applied to the system the dirt  and grease are dislodged into the bulk of the scouring medium or liquor.  The soil remains suspended due to the adsorbed surfactants acting to make stable emulsions and suspen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the bulk of the contaminants are disassociated from the fibres and become part of the scour liqu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ax tends to stay emulsified and must be separated from the aqueous solution to alleviate pollution conce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rt tends to settle out of the liquor over time to the bottom of the scour vessel where it can be removed and separated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proportion of dust is not associated with the wax.  This loose dust can be shaken out before scouring, or will tend to be washed off during scouring and settle in bottom of the scour bow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FB32-F5D1-47F7-A316-2FBA0AB9F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PlaceHolder 1"/>
          <p:cNvSpPr>
            <a:spLocks noGrp="1"/>
          </p:cNvSpPr>
          <p:nvPr>
            <p:ph type="sldImg"/>
          </p:nvPr>
        </p:nvSpPr>
        <p:spPr>
          <a:xfrm>
            <a:off x="1681200" y="623880"/>
            <a:ext cx="3419280" cy="2563920"/>
          </a:xfrm>
          <a:prstGeom prst="rect">
            <a:avLst/>
          </a:prstGeom>
          <a:ln w="0">
            <a:noFill/>
          </a:ln>
        </p:spPr>
      </p:sp>
      <p:sp>
        <p:nvSpPr>
          <p:cNvPr id="915" name="PlaceHolder 2"/>
          <p:cNvSpPr>
            <a:spLocks noGrp="1"/>
          </p:cNvSpPr>
          <p:nvPr>
            <p:ph type="body"/>
          </p:nvPr>
        </p:nvSpPr>
        <p:spPr>
          <a:xfrm>
            <a:off x="641520" y="3500280"/>
            <a:ext cx="5574960" cy="4881600"/>
          </a:xfrm>
          <a:prstGeom prst="rect">
            <a:avLst/>
          </a:prstGeom>
          <a:noFill/>
          <a:ln w="0">
            <a:noFill/>
          </a:ln>
        </p:spPr>
        <p:txBody>
          <a:bodyPr lIns="90360" rIns="90360" tIns="44280" bIns="4428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r>
              <a:rPr b="0" lang="en-AU" sz="1200" spc="-1" strike="noStrike">
                <a:solidFill>
                  <a:srgbClr val="000000"/>
                </a:solidFill>
                <a:latin typeface="Times New Roman"/>
              </a:rPr>
              <a:t>.</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next fundamental process in scouring is felting.  Felting in a mild form is classified as fibre entanglement.  In its most severe form it is actually the basis for a number of non-woven wool products such as felts.  A mass of wool fibre can be felted to such an extent that the final dense mass can be cut with a saw.</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sidering the essential requirements for felting, it is no surprise that this is a cause for concern in aqueous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bres need to have freedom to move and be in contact with other fibres.  Once the staple structure has been broken down this is achieved and also, the scales can achieve an opposed configur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ater acts as a lubricant in a felting system allowing the fibres to move past each other.  Wool also absorbs water which has the tendency to raise the scales of the fibre, and also increase the flexibility of the fib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gitation is necessary to achieve relative movement of the fibres past each other.  Even though the agitation in scouring is relatively gentle, it is still sufficient to cause a degree of felt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feature of all animal fibres and some textured synthetic fibres is the Directional Friction Effect (DFE).  Essentially this means that the coefficient of friction against the scales is greater than the coefficient of friction with the sc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athematically DFE is expressed thu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G Times"/>
              </a:rPr>
              <a:t>DFE</a:t>
            </a:r>
            <a:r>
              <a:rPr b="0" lang="en-AU" sz="1100" spc="-1" strike="noStrike">
                <a:solidFill>
                  <a:srgbClr val="000000"/>
                </a:solidFill>
                <a:latin typeface="CG Times"/>
              </a:rPr>
              <a:t>	</a:t>
            </a:r>
            <a:r>
              <a:rPr b="0" lang="en-AU" sz="1100" spc="-1" strike="noStrike">
                <a:solidFill>
                  <a:srgbClr val="000000"/>
                </a:solidFill>
                <a:latin typeface="CG Times"/>
              </a:rPr>
              <a:t>=</a:t>
            </a:r>
            <a:r>
              <a:rPr b="0" lang="en-AU" sz="1100" spc="-1" strike="noStrike">
                <a:solidFill>
                  <a:srgbClr val="000000"/>
                </a:solidFill>
                <a:latin typeface="CG Times"/>
              </a:rPr>
              <a:t>	</a:t>
            </a:r>
            <a:r>
              <a:rPr b="0" lang="en-AU" sz="1100" spc="-1" strike="noStrike">
                <a:solidFill>
                  <a:srgbClr val="000000"/>
                </a:solidFill>
                <a:latin typeface="CG Times"/>
              </a:rPr>
              <a:t>µ</a:t>
            </a:r>
            <a:r>
              <a:rPr b="0" lang="en-AU" sz="1100" spc="-1" strike="noStrike" baseline="-25000">
                <a:solidFill>
                  <a:srgbClr val="000000"/>
                </a:solidFill>
                <a:latin typeface="CG Times"/>
              </a:rPr>
              <a:t>a</a:t>
            </a:r>
            <a:r>
              <a:rPr b="0" lang="en-AU" sz="1100" spc="-1" strike="noStrike">
                <a:solidFill>
                  <a:srgbClr val="000000"/>
                </a:solidFill>
                <a:latin typeface="CG Times"/>
              </a:rPr>
              <a:t>   </a:t>
            </a:r>
            <a:r>
              <a:rPr b="1" lang="en-AU" sz="1100" spc="-1" strike="noStrike">
                <a:solidFill>
                  <a:srgbClr val="000000"/>
                </a:solidFill>
                <a:latin typeface="CG Times"/>
              </a:rPr>
              <a:t>-</a:t>
            </a:r>
            <a:r>
              <a:rPr b="0" lang="en-AU" sz="1100" spc="-1" strike="noStrike">
                <a:solidFill>
                  <a:srgbClr val="000000"/>
                </a:solidFill>
                <a:latin typeface="CG Times"/>
              </a:rPr>
              <a:t>  µ</a:t>
            </a:r>
            <a:r>
              <a:rPr b="0" lang="en-AU" sz="1100" spc="-1" strike="noStrike" baseline="-25000">
                <a:solidFill>
                  <a:srgbClr val="000000"/>
                </a:solidFill>
                <a:latin typeface="CG Times"/>
              </a:rPr>
              <a:t>w</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baseline="-25000">
                <a:solidFill>
                  <a:srgbClr val="000000"/>
                </a:solidFill>
                <a:latin typeface="CG Times"/>
              </a:rPr>
              <a:t>	</a:t>
            </a:r>
            <a:r>
              <a:rPr b="0" lang="en-AU" sz="1100" spc="-1" strike="noStrike" baseline="-25000">
                <a:solidFill>
                  <a:srgbClr val="000000"/>
                </a:solidFill>
                <a:latin typeface="CG Times"/>
              </a:rPr>
              <a:t>	</a:t>
            </a:r>
            <a:r>
              <a:rPr b="0" lang="en-AU" sz="1100" spc="-1" strike="noStrike" baseline="-25000">
                <a:solidFill>
                  <a:srgbClr val="000000"/>
                </a:solidFill>
                <a:latin typeface="CG Times"/>
              </a:rPr>
              <a:t> </a:t>
            </a:r>
            <a:r>
              <a:rPr b="0" lang="en-AU" sz="1100" spc="-1" strike="noStrike">
                <a:solidFill>
                  <a:srgbClr val="000000"/>
                </a:solidFill>
                <a:latin typeface="CG Times"/>
              </a:rPr>
              <a:t>µ</a:t>
            </a:r>
            <a:r>
              <a:rPr b="0" lang="en-AU" sz="1100" spc="-1" strike="noStrike" baseline="-25000">
                <a:solidFill>
                  <a:srgbClr val="000000"/>
                </a:solidFill>
                <a:latin typeface="CG Times"/>
              </a:rPr>
              <a:t>a</a:t>
            </a:r>
            <a:r>
              <a:rPr b="0" lang="en-AU" sz="1100" spc="-1" strike="noStrike">
                <a:solidFill>
                  <a:srgbClr val="000000"/>
                </a:solidFill>
                <a:latin typeface="CG Times"/>
              </a:rPr>
              <a:t>  </a:t>
            </a:r>
            <a:r>
              <a:rPr b="1" lang="en-AU" sz="1100" spc="-1" strike="noStrike">
                <a:solidFill>
                  <a:srgbClr val="000000"/>
                </a:solidFill>
                <a:latin typeface="Courier-WP"/>
              </a:rPr>
              <a:t>+  </a:t>
            </a:r>
            <a:r>
              <a:rPr b="0" lang="en-AU" sz="1100" spc="-1" strike="noStrike">
                <a:solidFill>
                  <a:srgbClr val="000000"/>
                </a:solidFill>
                <a:latin typeface="CG Times"/>
              </a:rPr>
              <a:t>µ</a:t>
            </a:r>
            <a:r>
              <a:rPr b="0" lang="en-AU" sz="1100" spc="-1" strike="noStrike" baseline="-25000">
                <a:solidFill>
                  <a:srgbClr val="000000"/>
                </a:solidFill>
                <a:latin typeface="CG Times"/>
              </a:rPr>
              <a:t>w</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ourier-WP"/>
              </a:rPr>
              <a:t>where</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G Times"/>
              </a:rPr>
              <a:t>µ</a:t>
            </a:r>
            <a:r>
              <a:rPr b="0" lang="en-AU" sz="1100" spc="-1" strike="noStrike" baseline="-25000">
                <a:solidFill>
                  <a:srgbClr val="000000"/>
                </a:solidFill>
                <a:latin typeface="CG Times"/>
              </a:rPr>
              <a:t>a</a:t>
            </a:r>
            <a:r>
              <a:rPr b="0" lang="en-AU" sz="1100" spc="-1" strike="noStrike">
                <a:solidFill>
                  <a:srgbClr val="000000"/>
                </a:solidFill>
                <a:latin typeface="Courier-WP"/>
              </a:rPr>
              <a:t> is the coefficient of friction against the direction of scale</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G Times"/>
              </a:rPr>
              <a:t>µ</a:t>
            </a:r>
            <a:r>
              <a:rPr b="0" lang="en-AU" sz="1100" spc="-1" strike="noStrike" baseline="-25000">
                <a:solidFill>
                  <a:srgbClr val="000000"/>
                </a:solidFill>
                <a:latin typeface="CG Times"/>
              </a:rPr>
              <a:t>w</a:t>
            </a:r>
            <a:r>
              <a:rPr b="0" lang="en-AU" sz="1100" spc="-1" strike="noStrike">
                <a:solidFill>
                  <a:srgbClr val="000000"/>
                </a:solidFill>
                <a:latin typeface="Courier-WP"/>
              </a:rPr>
              <a:t> is the coefficient of friction with the direction of scale</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WP"/>
              </a:rPr>
              <a:t>Therefore if </a:t>
            </a:r>
            <a:r>
              <a:rPr b="0" lang="en-AU" sz="1100" spc="-1" strike="noStrike">
                <a:solidFill>
                  <a:srgbClr val="000000"/>
                </a:solidFill>
                <a:latin typeface="CG Times"/>
              </a:rPr>
              <a:t>µ</a:t>
            </a:r>
            <a:r>
              <a:rPr b="0" lang="en-AU" sz="1100" spc="-1" strike="noStrike" baseline="-25000">
                <a:solidFill>
                  <a:srgbClr val="000000"/>
                </a:solidFill>
                <a:latin typeface="CG Times"/>
              </a:rPr>
              <a:t>a</a:t>
            </a:r>
            <a:r>
              <a:rPr b="0" lang="en-AU" sz="1100" spc="-1" strike="noStrike">
                <a:solidFill>
                  <a:srgbClr val="000000"/>
                </a:solidFill>
                <a:latin typeface="CG Times"/>
              </a:rPr>
              <a:t> and µ</a:t>
            </a:r>
            <a:r>
              <a:rPr b="0" lang="en-AU" sz="1100" spc="-1" strike="noStrike" baseline="-25000">
                <a:solidFill>
                  <a:srgbClr val="000000"/>
                </a:solidFill>
                <a:latin typeface="CG Times"/>
              </a:rPr>
              <a:t>w </a:t>
            </a:r>
            <a:r>
              <a:rPr b="0" lang="en-AU" sz="1100" spc="-1" strike="noStrike">
                <a:solidFill>
                  <a:srgbClr val="000000"/>
                </a:solidFill>
                <a:latin typeface="Times New Roman"/>
              </a:rPr>
              <a:t>were equal the DFE would be zero.</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is concept is illustrated on the following slide.</a:t>
            </a:r>
            <a:endParaRPr b="0" lang="en-US" sz="1100" spc="-1" strike="noStrike">
              <a:solidFill>
                <a:srgbClr val="000000"/>
              </a:solidFill>
              <a:latin typeface="Times New Roman"/>
            </a:endParaRPr>
          </a:p>
        </p:txBody>
      </p:sp>
      <p:sp>
        <p:nvSpPr>
          <p:cNvPr id="916" name=""/>
          <p:cNvSpPr/>
          <p:nvPr/>
        </p:nvSpPr>
        <p:spPr>
          <a:xfrm>
            <a:off x="2514600" y="7391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D40E-9878-46E0-9571-EA59A4DC5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PlaceHolder 1"/>
          <p:cNvSpPr>
            <a:spLocks noGrp="1"/>
          </p:cNvSpPr>
          <p:nvPr>
            <p:ph type="sldImg"/>
          </p:nvPr>
        </p:nvSpPr>
        <p:spPr>
          <a:xfrm>
            <a:off x="1681200" y="623880"/>
            <a:ext cx="3419280" cy="2563920"/>
          </a:xfrm>
          <a:prstGeom prst="rect">
            <a:avLst/>
          </a:prstGeom>
          <a:ln w="0">
            <a:noFill/>
          </a:ln>
        </p:spPr>
      </p:sp>
      <p:sp>
        <p:nvSpPr>
          <p:cNvPr id="923" name="PlaceHolder 2"/>
          <p:cNvSpPr>
            <a:spLocks noGrp="1"/>
          </p:cNvSpPr>
          <p:nvPr>
            <p:ph type="body"/>
          </p:nvPr>
        </p:nvSpPr>
        <p:spPr>
          <a:xfrm>
            <a:off x="641520" y="3503520"/>
            <a:ext cx="5574960" cy="48816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fibres in proximity are labelled Fibre 1 and Fibre 2.  The root end of the fibres are indicated.  Adjacent scales are marked by white and red triang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second illustration Fibre 2 is extended by some form of mechanical agitation.  Imagine that one end of the fibre is trapped by other fibres not shown.  The adjacent scales are now sepa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third illustration, Fibre 2 is relaxed, but the fibre is prevented from returning to its original position relative to Fibre 1 by the fibre scales.  Fibre 2 has effectively migrated relative to Fibre 1 in the direction of the root of Fibre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cenario is not possible when the wool is retained in a staple structure since the fibres in a staple are all oriented the same way.  The scales must be opposed for this effect to happ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ndamental Processes in Aqueous Scouring:</a:t>
            </a:r>
            <a:br>
              <a:rPr sz="3200"/>
            </a:br>
            <a:r>
              <a:rPr b="1" lang="en-GB" sz="3200" spc="-1" strike="noStrike">
                <a:solidFill>
                  <a:srgbClr val="fafd00"/>
                </a:solidFill>
                <a:latin typeface="Arial"/>
              </a:rPr>
              <a:t>Detergency &amp; Fel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tergency</a:t>
            </a:r>
            <a:endParaRPr b="1" lang="en-US" sz="3200" spc="-1" strike="noStrike">
              <a:solidFill>
                <a:srgbClr val="fafd00"/>
              </a:solidFill>
              <a:latin typeface="Arial"/>
            </a:endParaRPr>
          </a:p>
        </p:txBody>
      </p:sp>
      <p:sp>
        <p:nvSpPr>
          <p:cNvPr id="52"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oval of soil</a:t>
            </a:r>
            <a:endParaRPr b="1"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i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x</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rticulate matter</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strat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 fibr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quirements</a:t>
            </a:r>
            <a:endParaRPr b="1"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rfacta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tt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it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vent re-deposi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muls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spension</a:t>
            </a:r>
            <a:endParaRPr b="1" lang="en-US" sz="2000" spc="-1" strike="noStrike">
              <a:solidFill>
                <a:srgbClr val="ffffff"/>
              </a:solidFill>
              <a:latin typeface="Arial"/>
            </a:endParaRPr>
          </a:p>
        </p:txBody>
      </p:sp>
      <p:sp>
        <p:nvSpPr>
          <p:cNvPr id="54"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rfactants</a:t>
            </a:r>
            <a:endParaRPr b="1" lang="en-US" sz="3200" spc="-1" strike="noStrike">
              <a:solidFill>
                <a:srgbClr val="fafd00"/>
              </a:solidFill>
              <a:latin typeface="Arial"/>
            </a:endParaRPr>
          </a:p>
        </p:txBody>
      </p:sp>
      <p:grpSp>
        <p:nvGrpSpPr>
          <p:cNvPr id="59" name=""/>
          <p:cNvGrpSpPr/>
          <p:nvPr/>
        </p:nvGrpSpPr>
        <p:grpSpPr>
          <a:xfrm>
            <a:off x="1143000" y="1295280"/>
            <a:ext cx="7945560" cy="4479120"/>
            <a:chOff x="1143000" y="1295280"/>
            <a:chExt cx="7945560" cy="4479120"/>
          </a:xfrm>
        </p:grpSpPr>
        <p:sp>
          <p:nvSpPr>
            <p:cNvPr id="60" name=""/>
            <p:cNvSpPr/>
            <p:nvPr/>
          </p:nvSpPr>
          <p:spPr>
            <a:xfrm>
              <a:off x="1193760" y="1320840"/>
              <a:ext cx="7894800" cy="442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400040" y="2114640"/>
              <a:ext cx="6154920" cy="32868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il</a:t>
              </a:r>
              <a:endParaRPr b="0" lang="en-US" sz="2400" spc="-1" strike="noStrike">
                <a:solidFill>
                  <a:srgbClr val="000000"/>
                </a:solidFill>
                <a:latin typeface="Times New Roman"/>
              </a:endParaRPr>
            </a:p>
          </p:txBody>
        </p:sp>
        <p:sp>
          <p:nvSpPr>
            <p:cNvPr id="62" name=""/>
            <p:cNvSpPr/>
            <p:nvPr/>
          </p:nvSpPr>
          <p:spPr>
            <a:xfrm>
              <a:off x="7556400" y="1784520"/>
              <a:ext cx="1117800" cy="1054080"/>
            </a:xfrm>
            <a:prstGeom prst="ellipse">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d</a:t>
              </a:r>
              <a:endParaRPr b="0" lang="en-US" sz="2400" spc="-1" strike="noStrike">
                <a:solidFill>
                  <a:srgbClr val="000000"/>
                </a:solidFill>
                <a:latin typeface="Times New Roman"/>
              </a:endParaRPr>
            </a:p>
          </p:txBody>
        </p:sp>
        <p:sp>
          <p:nvSpPr>
            <p:cNvPr id="63" name=""/>
            <p:cNvSpPr/>
            <p:nvPr/>
          </p:nvSpPr>
          <p:spPr>
            <a:xfrm>
              <a:off x="6709680" y="1295280"/>
              <a:ext cx="23713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ophilic</a:t>
              </a:r>
              <a:endParaRPr b="0" lang="en-US" sz="3200" spc="-1" strike="noStrike">
                <a:solidFill>
                  <a:srgbClr val="000000"/>
                </a:solidFill>
                <a:latin typeface="Times New Roman"/>
              </a:endParaRPr>
            </a:p>
          </p:txBody>
        </p:sp>
        <p:sp>
          <p:nvSpPr>
            <p:cNvPr id="64" name=""/>
            <p:cNvSpPr/>
            <p:nvPr/>
          </p:nvSpPr>
          <p:spPr>
            <a:xfrm>
              <a:off x="3200760" y="2462040"/>
              <a:ext cx="26427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ophobic</a:t>
              </a:r>
              <a:endParaRPr b="0" lang="en-US" sz="3200" spc="-1" strike="noStrike">
                <a:solidFill>
                  <a:srgbClr val="000000"/>
                </a:solidFill>
                <a:latin typeface="Times New Roman"/>
              </a:endParaRPr>
            </a:p>
          </p:txBody>
        </p:sp>
        <p:sp>
          <p:nvSpPr>
            <p:cNvPr id="65" name=""/>
            <p:cNvSpPr/>
            <p:nvPr/>
          </p:nvSpPr>
          <p:spPr>
            <a:xfrm>
              <a:off x="1312560" y="3171960"/>
              <a:ext cx="234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n-ionic head</a:t>
              </a:r>
              <a:endParaRPr b="0" lang="en-US" sz="2400" spc="-1" strike="noStrike">
                <a:solidFill>
                  <a:srgbClr val="000000"/>
                </a:solidFill>
                <a:latin typeface="Times New Roman"/>
              </a:endParaRPr>
            </a:p>
          </p:txBody>
        </p:sp>
        <p:grpSp>
          <p:nvGrpSpPr>
            <p:cNvPr id="66" name=""/>
            <p:cNvGrpSpPr/>
            <p:nvPr/>
          </p:nvGrpSpPr>
          <p:grpSpPr>
            <a:xfrm>
              <a:off x="1143000" y="4800600"/>
              <a:ext cx="7801560" cy="973800"/>
              <a:chOff x="1143000" y="4800600"/>
              <a:chExt cx="7801560" cy="973800"/>
            </a:xfrm>
          </p:grpSpPr>
          <p:sp>
            <p:nvSpPr>
              <p:cNvPr id="67" name=""/>
              <p:cNvSpPr/>
              <p:nvPr/>
            </p:nvSpPr>
            <p:spPr>
              <a:xfrm>
                <a:off x="1143000" y="5282640"/>
                <a:ext cx="3520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4711680" y="4800600"/>
                <a:ext cx="1083960" cy="534960"/>
                <a:chOff x="4711680" y="4800600"/>
                <a:chExt cx="1083960" cy="534960"/>
              </a:xfrm>
            </p:grpSpPr>
            <p:sp>
              <p:nvSpPr>
                <p:cNvPr id="69" name=""/>
                <p:cNvSpPr/>
                <p:nvPr/>
              </p:nvSpPr>
              <p:spPr>
                <a:xfrm flipV="1">
                  <a:off x="4711680" y="4800600"/>
                  <a:ext cx="511560" cy="504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flipV="1">
                  <a:off x="5189040" y="4832640"/>
                  <a:ext cx="606600" cy="502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5761440" y="4800600"/>
                <a:ext cx="1083960" cy="534960"/>
                <a:chOff x="5761440" y="4800600"/>
                <a:chExt cx="1083960" cy="534960"/>
              </a:xfrm>
            </p:grpSpPr>
            <p:sp>
              <p:nvSpPr>
                <p:cNvPr id="72" name=""/>
                <p:cNvSpPr/>
                <p:nvPr/>
              </p:nvSpPr>
              <p:spPr>
                <a:xfrm flipV="1">
                  <a:off x="5761440" y="4800600"/>
                  <a:ext cx="511560" cy="504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238800" y="4832640"/>
                  <a:ext cx="606600" cy="502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6811200" y="4800600"/>
                <a:ext cx="1083960" cy="534960"/>
                <a:chOff x="6811200" y="4800600"/>
                <a:chExt cx="1083960" cy="534960"/>
              </a:xfrm>
            </p:grpSpPr>
            <p:sp>
              <p:nvSpPr>
                <p:cNvPr id="75" name=""/>
                <p:cNvSpPr/>
                <p:nvPr/>
              </p:nvSpPr>
              <p:spPr>
                <a:xfrm flipV="1">
                  <a:off x="6811200" y="4800600"/>
                  <a:ext cx="511560" cy="504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flipV="1">
                  <a:off x="7288560" y="4832640"/>
                  <a:ext cx="606600" cy="502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7860600" y="4800600"/>
                <a:ext cx="1083960" cy="534960"/>
                <a:chOff x="7860600" y="4800600"/>
                <a:chExt cx="1083960" cy="534960"/>
              </a:xfrm>
            </p:grpSpPr>
            <p:sp>
              <p:nvSpPr>
                <p:cNvPr id="78" name=""/>
                <p:cNvSpPr/>
                <p:nvPr/>
              </p:nvSpPr>
              <p:spPr>
                <a:xfrm flipV="1">
                  <a:off x="7860600" y="4800600"/>
                  <a:ext cx="511560" cy="504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8337960" y="4832640"/>
                  <a:ext cx="606600" cy="502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503080" y="5288400"/>
                <a:ext cx="623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il</a:t>
                </a:r>
                <a:endParaRPr b="0" lang="en-US" sz="2400" spc="-1" strike="noStrike">
                  <a:solidFill>
                    <a:srgbClr val="000000"/>
                  </a:solidFill>
                  <a:latin typeface="Times New Roman"/>
                </a:endParaRPr>
              </a:p>
            </p:txBody>
          </p:sp>
          <p:sp>
            <p:nvSpPr>
              <p:cNvPr id="81" name=""/>
              <p:cNvSpPr/>
              <p:nvPr/>
            </p:nvSpPr>
            <p:spPr>
              <a:xfrm>
                <a:off x="6143400" y="5319720"/>
                <a:ext cx="89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d</a:t>
                </a:r>
                <a:endParaRPr b="0" lang="en-US" sz="2400" spc="-1" strike="noStrike">
                  <a:solidFill>
                    <a:srgbClr val="000000"/>
                  </a:solidFill>
                  <a:latin typeface="Times New Roman"/>
                </a:endParaRPr>
              </a:p>
            </p:txBody>
          </p:sp>
        </p:grpSp>
        <p:sp>
          <p:nvSpPr>
            <p:cNvPr id="82" name=""/>
            <p:cNvSpPr/>
            <p:nvPr/>
          </p:nvSpPr>
          <p:spPr>
            <a:xfrm>
              <a:off x="7859880" y="1849320"/>
              <a:ext cx="419040" cy="39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929720" y="2048040"/>
              <a:ext cx="279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1620720" y="3532320"/>
              <a:ext cx="6794280" cy="874440"/>
              <a:chOff x="1620720" y="3532320"/>
              <a:chExt cx="6794280" cy="874440"/>
            </a:xfrm>
          </p:grpSpPr>
          <p:grpSp>
            <p:nvGrpSpPr>
              <p:cNvPr id="85" name=""/>
              <p:cNvGrpSpPr/>
              <p:nvPr/>
            </p:nvGrpSpPr>
            <p:grpSpPr>
              <a:xfrm>
                <a:off x="1620720" y="3532320"/>
                <a:ext cx="1861200" cy="874440"/>
                <a:chOff x="1620720" y="3532320"/>
                <a:chExt cx="1861200" cy="874440"/>
              </a:xfrm>
            </p:grpSpPr>
            <p:sp>
              <p:nvSpPr>
                <p:cNvPr id="86" name=""/>
                <p:cNvSpPr/>
                <p:nvPr/>
              </p:nvSpPr>
              <p:spPr>
                <a:xfrm>
                  <a:off x="2014200" y="386784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 CH O</a:t>
                  </a:r>
                  <a:endParaRPr b="0" lang="en-US" sz="2400" spc="-1" strike="noStrike">
                    <a:solidFill>
                      <a:srgbClr val="000000"/>
                    </a:solidFill>
                    <a:latin typeface="Times New Roman"/>
                  </a:endParaRPr>
                </a:p>
              </p:txBody>
            </p:sp>
            <p:sp>
              <p:nvSpPr>
                <p:cNvPr id="87" name=""/>
                <p:cNvSpPr/>
                <p:nvPr/>
              </p:nvSpPr>
              <p:spPr>
                <a:xfrm>
                  <a:off x="1620720" y="4094280"/>
                  <a:ext cx="465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38464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89" name=""/>
                <p:cNvSpPr/>
                <p:nvPr/>
              </p:nvSpPr>
              <p:spPr>
                <a:xfrm>
                  <a:off x="287496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90" name=""/>
                <p:cNvSpPr/>
                <p:nvPr/>
              </p:nvSpPr>
              <p:spPr>
                <a:xfrm>
                  <a:off x="3026520" y="3532320"/>
                  <a:ext cx="43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1" name=""/>
                <p:cNvSpPr/>
                <p:nvPr/>
              </p:nvSpPr>
              <p:spPr>
                <a:xfrm>
                  <a:off x="3014280" y="3573360"/>
                  <a:ext cx="335160" cy="316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3429000" y="3532320"/>
                <a:ext cx="1696680" cy="874440"/>
                <a:chOff x="3429000" y="3532320"/>
                <a:chExt cx="1696680" cy="874440"/>
              </a:xfrm>
            </p:grpSpPr>
            <p:grpSp>
              <p:nvGrpSpPr>
                <p:cNvPr id="93" name=""/>
                <p:cNvGrpSpPr/>
                <p:nvPr/>
              </p:nvGrpSpPr>
              <p:grpSpPr>
                <a:xfrm>
                  <a:off x="3657960" y="3532320"/>
                  <a:ext cx="1467720" cy="874440"/>
                  <a:chOff x="3657960" y="3532320"/>
                  <a:chExt cx="1467720" cy="874440"/>
                </a:xfrm>
              </p:grpSpPr>
              <p:sp>
                <p:nvSpPr>
                  <p:cNvPr id="94" name=""/>
                  <p:cNvSpPr/>
                  <p:nvPr/>
                </p:nvSpPr>
                <p:spPr>
                  <a:xfrm>
                    <a:off x="3657960" y="386712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 CH O</a:t>
                    </a:r>
                    <a:endParaRPr b="0" lang="en-US" sz="2400" spc="-1" strike="noStrike">
                      <a:solidFill>
                        <a:srgbClr val="000000"/>
                      </a:solidFill>
                      <a:latin typeface="Times New Roman"/>
                    </a:endParaRPr>
                  </a:p>
                </p:txBody>
              </p:sp>
              <p:sp>
                <p:nvSpPr>
                  <p:cNvPr id="95" name=""/>
                  <p:cNvSpPr/>
                  <p:nvPr/>
                </p:nvSpPr>
                <p:spPr>
                  <a:xfrm>
                    <a:off x="402732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96" name=""/>
                  <p:cNvSpPr/>
                  <p:nvPr/>
                </p:nvSpPr>
                <p:spPr>
                  <a:xfrm>
                    <a:off x="451800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97" name=""/>
                  <p:cNvSpPr/>
                  <p:nvPr/>
                </p:nvSpPr>
                <p:spPr>
                  <a:xfrm>
                    <a:off x="4669920" y="3532320"/>
                    <a:ext cx="43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8" name=""/>
                  <p:cNvSpPr/>
                  <p:nvPr/>
                </p:nvSpPr>
                <p:spPr>
                  <a:xfrm>
                    <a:off x="4657680" y="3573360"/>
                    <a:ext cx="335160" cy="316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342900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5029200" y="3532320"/>
                <a:ext cx="1740960" cy="874440"/>
                <a:chOff x="5029200" y="3532320"/>
                <a:chExt cx="1740960" cy="874440"/>
              </a:xfrm>
            </p:grpSpPr>
            <p:grpSp>
              <p:nvGrpSpPr>
                <p:cNvPr id="101" name=""/>
                <p:cNvGrpSpPr/>
                <p:nvPr/>
              </p:nvGrpSpPr>
              <p:grpSpPr>
                <a:xfrm>
                  <a:off x="5302440" y="3532320"/>
                  <a:ext cx="1467720" cy="874440"/>
                  <a:chOff x="5302440" y="3532320"/>
                  <a:chExt cx="1467720" cy="874440"/>
                </a:xfrm>
              </p:grpSpPr>
              <p:sp>
                <p:nvSpPr>
                  <p:cNvPr id="102" name=""/>
                  <p:cNvSpPr/>
                  <p:nvPr/>
                </p:nvSpPr>
                <p:spPr>
                  <a:xfrm>
                    <a:off x="5302440" y="386712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 CH O</a:t>
                    </a:r>
                    <a:endParaRPr b="0" lang="en-US" sz="2400" spc="-1" strike="noStrike">
                      <a:solidFill>
                        <a:srgbClr val="000000"/>
                      </a:solidFill>
                      <a:latin typeface="Times New Roman"/>
                    </a:endParaRPr>
                  </a:p>
                </p:txBody>
              </p:sp>
              <p:sp>
                <p:nvSpPr>
                  <p:cNvPr id="103" name=""/>
                  <p:cNvSpPr/>
                  <p:nvPr/>
                </p:nvSpPr>
                <p:spPr>
                  <a:xfrm>
                    <a:off x="567216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04" name=""/>
                  <p:cNvSpPr/>
                  <p:nvPr/>
                </p:nvSpPr>
                <p:spPr>
                  <a:xfrm>
                    <a:off x="616572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05" name=""/>
                  <p:cNvSpPr/>
                  <p:nvPr/>
                </p:nvSpPr>
                <p:spPr>
                  <a:xfrm>
                    <a:off x="6314400" y="3532320"/>
                    <a:ext cx="43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06" name=""/>
                  <p:cNvSpPr/>
                  <p:nvPr/>
                </p:nvSpPr>
                <p:spPr>
                  <a:xfrm>
                    <a:off x="6303960" y="3573360"/>
                    <a:ext cx="334800" cy="316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5029200" y="41148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6705720" y="3532320"/>
                <a:ext cx="1709280" cy="874440"/>
                <a:chOff x="6705720" y="3532320"/>
                <a:chExt cx="1709280" cy="874440"/>
              </a:xfrm>
            </p:grpSpPr>
            <p:grpSp>
              <p:nvGrpSpPr>
                <p:cNvPr id="109" name=""/>
                <p:cNvGrpSpPr/>
                <p:nvPr/>
              </p:nvGrpSpPr>
              <p:grpSpPr>
                <a:xfrm>
                  <a:off x="6947280" y="3532320"/>
                  <a:ext cx="1467720" cy="874440"/>
                  <a:chOff x="6947280" y="3532320"/>
                  <a:chExt cx="1467720" cy="874440"/>
                </a:xfrm>
              </p:grpSpPr>
              <p:sp>
                <p:nvSpPr>
                  <p:cNvPr id="110" name=""/>
                  <p:cNvSpPr/>
                  <p:nvPr/>
                </p:nvSpPr>
                <p:spPr>
                  <a:xfrm>
                    <a:off x="6947280" y="386712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 CH O</a:t>
                    </a:r>
                    <a:endParaRPr b="0" lang="en-US" sz="2400" spc="-1" strike="noStrike">
                      <a:solidFill>
                        <a:srgbClr val="000000"/>
                      </a:solidFill>
                      <a:latin typeface="Times New Roman"/>
                    </a:endParaRPr>
                  </a:p>
                </p:txBody>
              </p:sp>
              <p:sp>
                <p:nvSpPr>
                  <p:cNvPr id="111" name=""/>
                  <p:cNvSpPr/>
                  <p:nvPr/>
                </p:nvSpPr>
                <p:spPr>
                  <a:xfrm>
                    <a:off x="731520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12" name=""/>
                  <p:cNvSpPr/>
                  <p:nvPr/>
                </p:nvSpPr>
                <p:spPr>
                  <a:xfrm>
                    <a:off x="780876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13" name=""/>
                  <p:cNvSpPr/>
                  <p:nvPr/>
                </p:nvSpPr>
                <p:spPr>
                  <a:xfrm>
                    <a:off x="7959240" y="3532320"/>
                    <a:ext cx="43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4" name=""/>
                  <p:cNvSpPr/>
                  <p:nvPr/>
                </p:nvSpPr>
                <p:spPr>
                  <a:xfrm>
                    <a:off x="7947000" y="3573360"/>
                    <a:ext cx="335160" cy="316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6705720" y="41148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spension of particles</a:t>
            </a:r>
            <a:endParaRPr b="1" lang="en-US" sz="3200" spc="-1" strike="noStrike">
              <a:solidFill>
                <a:srgbClr val="fafd00"/>
              </a:solidFill>
              <a:latin typeface="Arial"/>
            </a:endParaRPr>
          </a:p>
        </p:txBody>
      </p:sp>
      <p:grpSp>
        <p:nvGrpSpPr>
          <p:cNvPr id="119" name=""/>
          <p:cNvGrpSpPr/>
          <p:nvPr/>
        </p:nvGrpSpPr>
        <p:grpSpPr>
          <a:xfrm>
            <a:off x="1295280" y="1146240"/>
            <a:ext cx="7683480" cy="4263840"/>
            <a:chOff x="1295280" y="1146240"/>
            <a:chExt cx="7683480" cy="4263840"/>
          </a:xfrm>
        </p:grpSpPr>
        <p:grpSp>
          <p:nvGrpSpPr>
            <p:cNvPr id="120" name=""/>
            <p:cNvGrpSpPr/>
            <p:nvPr/>
          </p:nvGrpSpPr>
          <p:grpSpPr>
            <a:xfrm>
              <a:off x="1295280" y="1146240"/>
              <a:ext cx="7683480" cy="4263840"/>
              <a:chOff x="1295280" y="1146240"/>
              <a:chExt cx="7683480" cy="4263840"/>
            </a:xfrm>
          </p:grpSpPr>
          <p:sp>
            <p:nvSpPr>
              <p:cNvPr id="121" name=""/>
              <p:cNvSpPr/>
              <p:nvPr/>
            </p:nvSpPr>
            <p:spPr>
              <a:xfrm>
                <a:off x="1295280" y="1146240"/>
                <a:ext cx="7683480" cy="425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1524600" y="1216080"/>
                <a:ext cx="7428600" cy="4194000"/>
                <a:chOff x="1524600" y="1216080"/>
                <a:chExt cx="7428600" cy="4194000"/>
              </a:xfrm>
            </p:grpSpPr>
            <p:grpSp>
              <p:nvGrpSpPr>
                <p:cNvPr id="123" name=""/>
                <p:cNvGrpSpPr/>
                <p:nvPr/>
              </p:nvGrpSpPr>
              <p:grpSpPr>
                <a:xfrm>
                  <a:off x="6766560" y="1388880"/>
                  <a:ext cx="1313640" cy="378000"/>
                  <a:chOff x="6766560" y="1388880"/>
                  <a:chExt cx="1313640" cy="378000"/>
                </a:xfrm>
              </p:grpSpPr>
              <p:sp>
                <p:nvSpPr>
                  <p:cNvPr id="124" name=""/>
                  <p:cNvSpPr/>
                  <p:nvPr/>
                </p:nvSpPr>
                <p:spPr>
                  <a:xfrm flipH="1">
                    <a:off x="6968520" y="1508040"/>
                    <a:ext cx="111132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766200" y="138888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1524600" y="1811160"/>
                  <a:ext cx="2583360" cy="3189240"/>
                </a:xfrm>
                <a:custGeom>
                  <a:avLst/>
                  <a:gdLst/>
                  <a:ahLst/>
                  <a:rect l="l" t="t" r="r" b="b"/>
                  <a:pathLst>
                    <a:path w="1789" h="2009">
                      <a:moveTo>
                        <a:pt x="168" y="1400"/>
                      </a:moveTo>
                      <a:lnTo>
                        <a:pt x="137" y="1311"/>
                      </a:lnTo>
                      <a:lnTo>
                        <a:pt x="112" y="1217"/>
                      </a:lnTo>
                      <a:lnTo>
                        <a:pt x="88" y="1128"/>
                      </a:lnTo>
                      <a:lnTo>
                        <a:pt x="70" y="1040"/>
                      </a:lnTo>
                      <a:lnTo>
                        <a:pt x="35" y="857"/>
                      </a:lnTo>
                      <a:lnTo>
                        <a:pt x="7" y="674"/>
                      </a:lnTo>
                      <a:lnTo>
                        <a:pt x="7" y="626"/>
                      </a:lnTo>
                      <a:lnTo>
                        <a:pt x="0" y="573"/>
                      </a:lnTo>
                      <a:lnTo>
                        <a:pt x="0" y="550"/>
                      </a:lnTo>
                      <a:lnTo>
                        <a:pt x="4" y="526"/>
                      </a:lnTo>
                      <a:lnTo>
                        <a:pt x="11" y="508"/>
                      </a:lnTo>
                      <a:lnTo>
                        <a:pt x="25" y="490"/>
                      </a:lnTo>
                      <a:lnTo>
                        <a:pt x="32" y="485"/>
                      </a:lnTo>
                      <a:lnTo>
                        <a:pt x="42" y="479"/>
                      </a:lnTo>
                      <a:lnTo>
                        <a:pt x="56" y="473"/>
                      </a:lnTo>
                      <a:lnTo>
                        <a:pt x="77" y="467"/>
                      </a:lnTo>
                      <a:lnTo>
                        <a:pt x="119" y="455"/>
                      </a:lnTo>
                      <a:lnTo>
                        <a:pt x="172" y="443"/>
                      </a:lnTo>
                      <a:lnTo>
                        <a:pt x="225" y="437"/>
                      </a:lnTo>
                      <a:lnTo>
                        <a:pt x="274" y="425"/>
                      </a:lnTo>
                      <a:lnTo>
                        <a:pt x="319" y="420"/>
                      </a:lnTo>
                      <a:lnTo>
                        <a:pt x="337" y="414"/>
                      </a:lnTo>
                      <a:lnTo>
                        <a:pt x="351" y="414"/>
                      </a:lnTo>
                      <a:lnTo>
                        <a:pt x="435" y="372"/>
                      </a:lnTo>
                      <a:lnTo>
                        <a:pt x="522" y="337"/>
                      </a:lnTo>
                      <a:lnTo>
                        <a:pt x="614" y="319"/>
                      </a:lnTo>
                      <a:lnTo>
                        <a:pt x="712" y="301"/>
                      </a:lnTo>
                      <a:lnTo>
                        <a:pt x="908" y="290"/>
                      </a:lnTo>
                      <a:lnTo>
                        <a:pt x="1003" y="284"/>
                      </a:lnTo>
                      <a:lnTo>
                        <a:pt x="1097" y="272"/>
                      </a:lnTo>
                      <a:lnTo>
                        <a:pt x="1125" y="254"/>
                      </a:lnTo>
                      <a:lnTo>
                        <a:pt x="1139" y="248"/>
                      </a:lnTo>
                      <a:lnTo>
                        <a:pt x="1150" y="237"/>
                      </a:lnTo>
                      <a:lnTo>
                        <a:pt x="1175" y="189"/>
                      </a:lnTo>
                      <a:lnTo>
                        <a:pt x="1192" y="154"/>
                      </a:lnTo>
                      <a:lnTo>
                        <a:pt x="1203" y="124"/>
                      </a:lnTo>
                      <a:lnTo>
                        <a:pt x="1213" y="101"/>
                      </a:lnTo>
                      <a:lnTo>
                        <a:pt x="1220" y="71"/>
                      </a:lnTo>
                      <a:lnTo>
                        <a:pt x="1220" y="53"/>
                      </a:lnTo>
                      <a:lnTo>
                        <a:pt x="1217" y="42"/>
                      </a:lnTo>
                      <a:lnTo>
                        <a:pt x="1224" y="36"/>
                      </a:lnTo>
                      <a:lnTo>
                        <a:pt x="1231" y="30"/>
                      </a:lnTo>
                      <a:lnTo>
                        <a:pt x="1241" y="24"/>
                      </a:lnTo>
                      <a:lnTo>
                        <a:pt x="1259" y="12"/>
                      </a:lnTo>
                      <a:lnTo>
                        <a:pt x="1280" y="0"/>
                      </a:lnTo>
                      <a:lnTo>
                        <a:pt x="1434" y="6"/>
                      </a:lnTo>
                      <a:lnTo>
                        <a:pt x="1511" y="6"/>
                      </a:lnTo>
                      <a:lnTo>
                        <a:pt x="1588" y="18"/>
                      </a:lnTo>
                      <a:lnTo>
                        <a:pt x="1602" y="24"/>
                      </a:lnTo>
                      <a:lnTo>
                        <a:pt x="1616" y="42"/>
                      </a:lnTo>
                      <a:lnTo>
                        <a:pt x="1630" y="65"/>
                      </a:lnTo>
                      <a:lnTo>
                        <a:pt x="1641" y="89"/>
                      </a:lnTo>
                      <a:lnTo>
                        <a:pt x="1662" y="142"/>
                      </a:lnTo>
                      <a:lnTo>
                        <a:pt x="1672" y="160"/>
                      </a:lnTo>
                      <a:lnTo>
                        <a:pt x="1679" y="177"/>
                      </a:lnTo>
                      <a:lnTo>
                        <a:pt x="1704" y="213"/>
                      </a:lnTo>
                      <a:lnTo>
                        <a:pt x="1728" y="248"/>
                      </a:lnTo>
                      <a:lnTo>
                        <a:pt x="1788" y="307"/>
                      </a:lnTo>
                      <a:lnTo>
                        <a:pt x="1777" y="496"/>
                      </a:lnTo>
                      <a:lnTo>
                        <a:pt x="1770" y="679"/>
                      </a:lnTo>
                      <a:lnTo>
                        <a:pt x="1763" y="868"/>
                      </a:lnTo>
                      <a:lnTo>
                        <a:pt x="1749" y="1051"/>
                      </a:lnTo>
                      <a:lnTo>
                        <a:pt x="1742" y="1093"/>
                      </a:lnTo>
                      <a:lnTo>
                        <a:pt x="1735" y="1128"/>
                      </a:lnTo>
                      <a:lnTo>
                        <a:pt x="1725" y="1164"/>
                      </a:lnTo>
                      <a:lnTo>
                        <a:pt x="1714" y="1199"/>
                      </a:lnTo>
                      <a:lnTo>
                        <a:pt x="1707" y="1252"/>
                      </a:lnTo>
                      <a:lnTo>
                        <a:pt x="1707" y="1311"/>
                      </a:lnTo>
                      <a:lnTo>
                        <a:pt x="1700" y="1364"/>
                      </a:lnTo>
                      <a:lnTo>
                        <a:pt x="1690" y="1394"/>
                      </a:lnTo>
                      <a:lnTo>
                        <a:pt x="1679" y="1418"/>
                      </a:lnTo>
                      <a:lnTo>
                        <a:pt x="1641" y="1471"/>
                      </a:lnTo>
                      <a:lnTo>
                        <a:pt x="1602" y="1524"/>
                      </a:lnTo>
                      <a:lnTo>
                        <a:pt x="1567" y="1577"/>
                      </a:lnTo>
                      <a:lnTo>
                        <a:pt x="1532" y="1636"/>
                      </a:lnTo>
                      <a:lnTo>
                        <a:pt x="1529" y="1748"/>
                      </a:lnTo>
                      <a:lnTo>
                        <a:pt x="1522" y="1801"/>
                      </a:lnTo>
                      <a:lnTo>
                        <a:pt x="1515" y="1855"/>
                      </a:lnTo>
                      <a:lnTo>
                        <a:pt x="1501" y="1890"/>
                      </a:lnTo>
                      <a:lnTo>
                        <a:pt x="1480" y="1914"/>
                      </a:lnTo>
                      <a:lnTo>
                        <a:pt x="1448" y="1931"/>
                      </a:lnTo>
                      <a:lnTo>
                        <a:pt x="1413" y="1943"/>
                      </a:lnTo>
                      <a:lnTo>
                        <a:pt x="1343" y="1961"/>
                      </a:lnTo>
                      <a:lnTo>
                        <a:pt x="1308" y="1961"/>
                      </a:lnTo>
                      <a:lnTo>
                        <a:pt x="1280" y="1961"/>
                      </a:lnTo>
                      <a:lnTo>
                        <a:pt x="989" y="1973"/>
                      </a:lnTo>
                      <a:lnTo>
                        <a:pt x="694" y="1979"/>
                      </a:lnTo>
                      <a:lnTo>
                        <a:pt x="659" y="1985"/>
                      </a:lnTo>
                      <a:lnTo>
                        <a:pt x="628" y="1990"/>
                      </a:lnTo>
                      <a:lnTo>
                        <a:pt x="600" y="1996"/>
                      </a:lnTo>
                      <a:lnTo>
                        <a:pt x="575" y="1996"/>
                      </a:lnTo>
                      <a:lnTo>
                        <a:pt x="540" y="2002"/>
                      </a:lnTo>
                      <a:lnTo>
                        <a:pt x="505" y="2008"/>
                      </a:lnTo>
                      <a:lnTo>
                        <a:pt x="470" y="2008"/>
                      </a:lnTo>
                      <a:lnTo>
                        <a:pt x="452" y="2008"/>
                      </a:lnTo>
                      <a:lnTo>
                        <a:pt x="428" y="2008"/>
                      </a:lnTo>
                      <a:lnTo>
                        <a:pt x="403" y="2008"/>
                      </a:lnTo>
                      <a:lnTo>
                        <a:pt x="372" y="2002"/>
                      </a:lnTo>
                      <a:lnTo>
                        <a:pt x="337" y="2002"/>
                      </a:lnTo>
                      <a:lnTo>
                        <a:pt x="295" y="1996"/>
                      </a:lnTo>
                      <a:lnTo>
                        <a:pt x="274" y="1973"/>
                      </a:lnTo>
                      <a:lnTo>
                        <a:pt x="260" y="1961"/>
                      </a:lnTo>
                      <a:lnTo>
                        <a:pt x="253" y="1949"/>
                      </a:lnTo>
                      <a:lnTo>
                        <a:pt x="249" y="1943"/>
                      </a:lnTo>
                      <a:lnTo>
                        <a:pt x="246" y="1926"/>
                      </a:lnTo>
                      <a:lnTo>
                        <a:pt x="242" y="1902"/>
                      </a:lnTo>
                      <a:lnTo>
                        <a:pt x="235" y="1866"/>
                      </a:lnTo>
                      <a:lnTo>
                        <a:pt x="225" y="1813"/>
                      </a:lnTo>
                      <a:lnTo>
                        <a:pt x="217" y="1790"/>
                      </a:lnTo>
                      <a:lnTo>
                        <a:pt x="214" y="1772"/>
                      </a:lnTo>
                      <a:lnTo>
                        <a:pt x="210" y="1748"/>
                      </a:lnTo>
                      <a:lnTo>
                        <a:pt x="207" y="1742"/>
                      </a:lnTo>
                      <a:lnTo>
                        <a:pt x="196" y="1601"/>
                      </a:lnTo>
                      <a:lnTo>
                        <a:pt x="186" y="1453"/>
                      </a:lnTo>
                      <a:lnTo>
                        <a:pt x="182" y="1435"/>
                      </a:lnTo>
                      <a:lnTo>
                        <a:pt x="179" y="1418"/>
                      </a:lnTo>
                      <a:lnTo>
                        <a:pt x="172" y="1406"/>
                      </a:lnTo>
                      <a:lnTo>
                        <a:pt x="168" y="140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3786120" y="4437000"/>
                  <a:ext cx="1313640" cy="378000"/>
                  <a:chOff x="3786120" y="4437000"/>
                  <a:chExt cx="1313640" cy="378000"/>
                </a:xfrm>
              </p:grpSpPr>
              <p:sp>
                <p:nvSpPr>
                  <p:cNvPr id="128" name=""/>
                  <p:cNvSpPr/>
                  <p:nvPr/>
                </p:nvSpPr>
                <p:spPr>
                  <a:xfrm>
                    <a:off x="3786120" y="4556160"/>
                    <a:ext cx="111132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900680" y="44370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4063320" y="3751200"/>
                  <a:ext cx="1314000" cy="378000"/>
                  <a:chOff x="4063320" y="3751200"/>
                  <a:chExt cx="1314000" cy="378000"/>
                </a:xfrm>
              </p:grpSpPr>
              <p:sp>
                <p:nvSpPr>
                  <p:cNvPr id="131" name=""/>
                  <p:cNvSpPr/>
                  <p:nvPr/>
                </p:nvSpPr>
                <p:spPr>
                  <a:xfrm>
                    <a:off x="4063320" y="387036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78240" y="37512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4132800" y="3141720"/>
                  <a:ext cx="1313640" cy="377640"/>
                  <a:chOff x="4132800" y="3141720"/>
                  <a:chExt cx="1313640" cy="377640"/>
                </a:xfrm>
              </p:grpSpPr>
              <p:sp>
                <p:nvSpPr>
                  <p:cNvPr id="134" name=""/>
                  <p:cNvSpPr/>
                  <p:nvPr/>
                </p:nvSpPr>
                <p:spPr>
                  <a:xfrm>
                    <a:off x="4132800" y="326052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247360" y="3141720"/>
                    <a:ext cx="199080" cy="377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202280" y="2379600"/>
                  <a:ext cx="1313640" cy="378000"/>
                  <a:chOff x="4202280" y="2379600"/>
                  <a:chExt cx="1313640" cy="378000"/>
                </a:xfrm>
              </p:grpSpPr>
              <p:sp>
                <p:nvSpPr>
                  <p:cNvPr id="137" name=""/>
                  <p:cNvSpPr/>
                  <p:nvPr/>
                </p:nvSpPr>
                <p:spPr>
                  <a:xfrm>
                    <a:off x="4202280" y="2498760"/>
                    <a:ext cx="111132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316840" y="23796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4063320" y="1846080"/>
                  <a:ext cx="1314000" cy="378000"/>
                  <a:chOff x="4063320" y="1846080"/>
                  <a:chExt cx="1314000" cy="378000"/>
                </a:xfrm>
              </p:grpSpPr>
              <p:sp>
                <p:nvSpPr>
                  <p:cNvPr id="140" name=""/>
                  <p:cNvSpPr/>
                  <p:nvPr/>
                </p:nvSpPr>
                <p:spPr>
                  <a:xfrm>
                    <a:off x="4063320" y="196524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78240" y="184608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7736040" y="1216080"/>
                  <a:ext cx="693000" cy="4194000"/>
                </a:xfrm>
                <a:custGeom>
                  <a:avLst/>
                  <a:gdLst/>
                  <a:ahLst/>
                  <a:rect l="l" t="t" r="r" b="b"/>
                  <a:pathLst>
                    <a:path w="514" h="3075">
                      <a:moveTo>
                        <a:pt x="513" y="0"/>
                      </a:moveTo>
                      <a:lnTo>
                        <a:pt x="505" y="120"/>
                      </a:lnTo>
                      <a:lnTo>
                        <a:pt x="489" y="234"/>
                      </a:lnTo>
                      <a:lnTo>
                        <a:pt x="472" y="341"/>
                      </a:lnTo>
                      <a:lnTo>
                        <a:pt x="440" y="454"/>
                      </a:lnTo>
                      <a:lnTo>
                        <a:pt x="432" y="501"/>
                      </a:lnTo>
                      <a:lnTo>
                        <a:pt x="432" y="534"/>
                      </a:lnTo>
                      <a:lnTo>
                        <a:pt x="423" y="601"/>
                      </a:lnTo>
                      <a:lnTo>
                        <a:pt x="415" y="661"/>
                      </a:lnTo>
                      <a:lnTo>
                        <a:pt x="399" y="728"/>
                      </a:lnTo>
                      <a:lnTo>
                        <a:pt x="391" y="762"/>
                      </a:lnTo>
                      <a:lnTo>
                        <a:pt x="383" y="795"/>
                      </a:lnTo>
                      <a:lnTo>
                        <a:pt x="375" y="822"/>
                      </a:lnTo>
                      <a:lnTo>
                        <a:pt x="366" y="835"/>
                      </a:lnTo>
                      <a:lnTo>
                        <a:pt x="350" y="895"/>
                      </a:lnTo>
                      <a:lnTo>
                        <a:pt x="350" y="922"/>
                      </a:lnTo>
                      <a:lnTo>
                        <a:pt x="350" y="949"/>
                      </a:lnTo>
                      <a:lnTo>
                        <a:pt x="358" y="969"/>
                      </a:lnTo>
                      <a:lnTo>
                        <a:pt x="375" y="982"/>
                      </a:lnTo>
                      <a:lnTo>
                        <a:pt x="383" y="982"/>
                      </a:lnTo>
                      <a:lnTo>
                        <a:pt x="399" y="975"/>
                      </a:lnTo>
                      <a:lnTo>
                        <a:pt x="415" y="969"/>
                      </a:lnTo>
                      <a:lnTo>
                        <a:pt x="432" y="955"/>
                      </a:lnTo>
                      <a:lnTo>
                        <a:pt x="440" y="949"/>
                      </a:lnTo>
                      <a:lnTo>
                        <a:pt x="448" y="989"/>
                      </a:lnTo>
                      <a:lnTo>
                        <a:pt x="456" y="1022"/>
                      </a:lnTo>
                      <a:lnTo>
                        <a:pt x="456" y="1036"/>
                      </a:lnTo>
                      <a:lnTo>
                        <a:pt x="456" y="1056"/>
                      </a:lnTo>
                      <a:lnTo>
                        <a:pt x="456" y="1076"/>
                      </a:lnTo>
                      <a:lnTo>
                        <a:pt x="448" y="1109"/>
                      </a:lnTo>
                      <a:lnTo>
                        <a:pt x="440" y="1163"/>
                      </a:lnTo>
                      <a:lnTo>
                        <a:pt x="432" y="1196"/>
                      </a:lnTo>
                      <a:lnTo>
                        <a:pt x="423" y="1236"/>
                      </a:lnTo>
                      <a:lnTo>
                        <a:pt x="407" y="1263"/>
                      </a:lnTo>
                      <a:lnTo>
                        <a:pt x="383" y="1290"/>
                      </a:lnTo>
                      <a:lnTo>
                        <a:pt x="366" y="1336"/>
                      </a:lnTo>
                      <a:lnTo>
                        <a:pt x="350" y="1383"/>
                      </a:lnTo>
                      <a:lnTo>
                        <a:pt x="334" y="1423"/>
                      </a:lnTo>
                      <a:lnTo>
                        <a:pt x="309" y="1470"/>
                      </a:lnTo>
                      <a:lnTo>
                        <a:pt x="277" y="1590"/>
                      </a:lnTo>
                      <a:lnTo>
                        <a:pt x="236" y="1711"/>
                      </a:lnTo>
                      <a:lnTo>
                        <a:pt x="228" y="1744"/>
                      </a:lnTo>
                      <a:lnTo>
                        <a:pt x="220" y="1757"/>
                      </a:lnTo>
                      <a:lnTo>
                        <a:pt x="220" y="1764"/>
                      </a:lnTo>
                      <a:lnTo>
                        <a:pt x="228" y="1811"/>
                      </a:lnTo>
                      <a:lnTo>
                        <a:pt x="228" y="1838"/>
                      </a:lnTo>
                      <a:lnTo>
                        <a:pt x="236" y="1858"/>
                      </a:lnTo>
                      <a:lnTo>
                        <a:pt x="261" y="1864"/>
                      </a:lnTo>
                      <a:lnTo>
                        <a:pt x="285" y="1864"/>
                      </a:lnTo>
                      <a:lnTo>
                        <a:pt x="309" y="1858"/>
                      </a:lnTo>
                      <a:lnTo>
                        <a:pt x="334" y="1871"/>
                      </a:lnTo>
                      <a:lnTo>
                        <a:pt x="342" y="1891"/>
                      </a:lnTo>
                      <a:lnTo>
                        <a:pt x="334" y="1918"/>
                      </a:lnTo>
                      <a:lnTo>
                        <a:pt x="318" y="1938"/>
                      </a:lnTo>
                      <a:lnTo>
                        <a:pt x="309" y="1965"/>
                      </a:lnTo>
                      <a:lnTo>
                        <a:pt x="301" y="1998"/>
                      </a:lnTo>
                      <a:lnTo>
                        <a:pt x="293" y="2025"/>
                      </a:lnTo>
                      <a:lnTo>
                        <a:pt x="293" y="2045"/>
                      </a:lnTo>
                      <a:lnTo>
                        <a:pt x="285" y="2058"/>
                      </a:lnTo>
                      <a:lnTo>
                        <a:pt x="269" y="2078"/>
                      </a:lnTo>
                      <a:lnTo>
                        <a:pt x="261" y="2092"/>
                      </a:lnTo>
                      <a:lnTo>
                        <a:pt x="236" y="2112"/>
                      </a:lnTo>
                      <a:lnTo>
                        <a:pt x="204" y="2232"/>
                      </a:lnTo>
                      <a:lnTo>
                        <a:pt x="179" y="2292"/>
                      </a:lnTo>
                      <a:lnTo>
                        <a:pt x="147" y="2346"/>
                      </a:lnTo>
                      <a:lnTo>
                        <a:pt x="130" y="2399"/>
                      </a:lnTo>
                      <a:lnTo>
                        <a:pt x="114" y="2432"/>
                      </a:lnTo>
                      <a:lnTo>
                        <a:pt x="114" y="2452"/>
                      </a:lnTo>
                      <a:lnTo>
                        <a:pt x="114" y="2459"/>
                      </a:lnTo>
                      <a:lnTo>
                        <a:pt x="130" y="2466"/>
                      </a:lnTo>
                      <a:lnTo>
                        <a:pt x="163" y="2466"/>
                      </a:lnTo>
                      <a:lnTo>
                        <a:pt x="212" y="2466"/>
                      </a:lnTo>
                      <a:lnTo>
                        <a:pt x="277" y="2473"/>
                      </a:lnTo>
                      <a:lnTo>
                        <a:pt x="212" y="2533"/>
                      </a:lnTo>
                      <a:lnTo>
                        <a:pt x="187" y="2566"/>
                      </a:lnTo>
                      <a:lnTo>
                        <a:pt x="171" y="2599"/>
                      </a:lnTo>
                      <a:lnTo>
                        <a:pt x="122" y="2740"/>
                      </a:lnTo>
                      <a:lnTo>
                        <a:pt x="73" y="2874"/>
                      </a:lnTo>
                      <a:lnTo>
                        <a:pt x="41" y="2954"/>
                      </a:lnTo>
                      <a:lnTo>
                        <a:pt x="0" y="3034"/>
                      </a:lnTo>
                      <a:lnTo>
                        <a:pt x="33" y="3041"/>
                      </a:lnTo>
                      <a:lnTo>
                        <a:pt x="57" y="3041"/>
                      </a:lnTo>
                      <a:lnTo>
                        <a:pt x="90" y="3047"/>
                      </a:lnTo>
                      <a:lnTo>
                        <a:pt x="98" y="3054"/>
                      </a:lnTo>
                      <a:lnTo>
                        <a:pt x="98" y="3061"/>
                      </a:lnTo>
                      <a:lnTo>
                        <a:pt x="98" y="3074"/>
                      </a:lnTo>
                    </a:path>
                  </a:pathLst>
                </a:custGeom>
                <a:no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6697440" y="1922400"/>
                  <a:ext cx="1314000" cy="378000"/>
                  <a:chOff x="6697440" y="1922400"/>
                  <a:chExt cx="1314000" cy="378000"/>
                </a:xfrm>
              </p:grpSpPr>
              <p:sp>
                <p:nvSpPr>
                  <p:cNvPr id="144" name=""/>
                  <p:cNvSpPr/>
                  <p:nvPr/>
                </p:nvSpPr>
                <p:spPr>
                  <a:xfrm flipH="1">
                    <a:off x="6899760" y="204156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6697080" y="19224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6766560" y="2608200"/>
                  <a:ext cx="1313640" cy="378000"/>
                  <a:chOff x="6766560" y="2608200"/>
                  <a:chExt cx="1313640" cy="378000"/>
                </a:xfrm>
              </p:grpSpPr>
              <p:sp>
                <p:nvSpPr>
                  <p:cNvPr id="147" name=""/>
                  <p:cNvSpPr/>
                  <p:nvPr/>
                </p:nvSpPr>
                <p:spPr>
                  <a:xfrm flipH="1">
                    <a:off x="6968520" y="2727360"/>
                    <a:ext cx="111132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766200" y="26082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6558480" y="3065400"/>
                  <a:ext cx="1313640" cy="378000"/>
                  <a:chOff x="6558480" y="3065400"/>
                  <a:chExt cx="1313640" cy="378000"/>
                </a:xfrm>
              </p:grpSpPr>
              <p:sp>
                <p:nvSpPr>
                  <p:cNvPr id="150" name=""/>
                  <p:cNvSpPr/>
                  <p:nvPr/>
                </p:nvSpPr>
                <p:spPr>
                  <a:xfrm flipH="1">
                    <a:off x="6760440" y="3184560"/>
                    <a:ext cx="111132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558120" y="30654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6489360" y="3522600"/>
                  <a:ext cx="1314000" cy="378000"/>
                  <a:chOff x="6489360" y="3522600"/>
                  <a:chExt cx="1314000" cy="378000"/>
                </a:xfrm>
              </p:grpSpPr>
              <p:sp>
                <p:nvSpPr>
                  <p:cNvPr id="153" name=""/>
                  <p:cNvSpPr/>
                  <p:nvPr/>
                </p:nvSpPr>
                <p:spPr>
                  <a:xfrm flipH="1">
                    <a:off x="6691680" y="364176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6489000" y="35226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6489360" y="4132080"/>
                  <a:ext cx="1314000" cy="378000"/>
                  <a:chOff x="6489360" y="4132080"/>
                  <a:chExt cx="1314000" cy="378000"/>
                </a:xfrm>
              </p:grpSpPr>
              <p:sp>
                <p:nvSpPr>
                  <p:cNvPr id="156" name=""/>
                  <p:cNvSpPr/>
                  <p:nvPr/>
                </p:nvSpPr>
                <p:spPr>
                  <a:xfrm flipH="1">
                    <a:off x="6691680" y="425124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6489000" y="413208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6419880" y="4894200"/>
                  <a:ext cx="1314000" cy="378000"/>
                  <a:chOff x="6419880" y="4894200"/>
                  <a:chExt cx="1314000" cy="378000"/>
                </a:xfrm>
              </p:grpSpPr>
              <p:sp>
                <p:nvSpPr>
                  <p:cNvPr id="159" name=""/>
                  <p:cNvSpPr/>
                  <p:nvPr/>
                </p:nvSpPr>
                <p:spPr>
                  <a:xfrm flipH="1">
                    <a:off x="6622200" y="501336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6419520" y="48942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1995480" y="3522240"/>
                  <a:ext cx="6735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t</a:t>
                  </a:r>
                  <a:endParaRPr b="0" lang="en-US" sz="2400" spc="-1" strike="noStrike">
                    <a:solidFill>
                      <a:srgbClr val="000000"/>
                    </a:solidFill>
                    <a:latin typeface="Times New Roman"/>
                  </a:endParaRPr>
                </a:p>
              </p:txBody>
            </p:sp>
            <p:sp>
              <p:nvSpPr>
                <p:cNvPr id="162" name=""/>
                <p:cNvSpPr/>
                <p:nvPr/>
              </p:nvSpPr>
              <p:spPr>
                <a:xfrm>
                  <a:off x="8110440" y="3196800"/>
                  <a:ext cx="8427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bre</a:t>
                  </a:r>
                  <a:endParaRPr b="0" lang="en-US" sz="2400" spc="-1" strike="noStrike">
                    <a:solidFill>
                      <a:srgbClr val="000000"/>
                    </a:solidFill>
                    <a:latin typeface="Times New Roman"/>
                  </a:endParaRPr>
                </a:p>
              </p:txBody>
            </p:sp>
          </p:grpSp>
        </p:grpSp>
        <p:sp>
          <p:nvSpPr>
            <p:cNvPr id="163" name=""/>
            <p:cNvSpPr/>
            <p:nvPr/>
          </p:nvSpPr>
          <p:spPr>
            <a:xfrm>
              <a:off x="5587560" y="1977840"/>
              <a:ext cx="970200" cy="152640"/>
            </a:xfrm>
            <a:prstGeom prst="leftRightArrow">
              <a:avLst>
                <a:gd name="adj1" fmla="val 50000"/>
                <a:gd name="adj2" fmla="val 126534"/>
              </a:avLst>
            </a:prstGeom>
            <a:solidFill>
              <a:srgbClr val="fde3b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5587560" y="2435040"/>
              <a:ext cx="970200" cy="152640"/>
            </a:xfrm>
            <a:prstGeom prst="leftRightArrow">
              <a:avLst>
                <a:gd name="adj1" fmla="val 50000"/>
                <a:gd name="adj2" fmla="val 126534"/>
              </a:avLst>
            </a:prstGeom>
            <a:solidFill>
              <a:srgbClr val="fde3b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 name=""/>
            <p:cNvSpPr/>
            <p:nvPr/>
          </p:nvSpPr>
          <p:spPr>
            <a:xfrm>
              <a:off x="5518080" y="3197160"/>
              <a:ext cx="970200" cy="152280"/>
            </a:xfrm>
            <a:prstGeom prst="leftRightArrow">
              <a:avLst>
                <a:gd name="adj1" fmla="val 50000"/>
                <a:gd name="adj2" fmla="val 126833"/>
              </a:avLst>
            </a:prstGeom>
            <a:solidFill>
              <a:srgbClr val="fde3b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5448600" y="3730680"/>
              <a:ext cx="970560" cy="152280"/>
            </a:xfrm>
            <a:prstGeom prst="leftRightArrow">
              <a:avLst>
                <a:gd name="adj1" fmla="val 50000"/>
                <a:gd name="adj2" fmla="val 126880"/>
              </a:avLst>
            </a:prstGeom>
            <a:solidFill>
              <a:srgbClr val="fde3b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5379480" y="4492440"/>
              <a:ext cx="970200" cy="152640"/>
            </a:xfrm>
            <a:prstGeom prst="leftRightArrow">
              <a:avLst>
                <a:gd name="adj1" fmla="val 50000"/>
                <a:gd name="adj2" fmla="val 126534"/>
              </a:avLst>
            </a:prstGeom>
            <a:solidFill>
              <a:srgbClr val="fde3b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68"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mulsion of wax in micelle</a:t>
            </a:r>
            <a:endParaRPr b="1" lang="en-US" sz="3200" spc="-1" strike="noStrike">
              <a:solidFill>
                <a:srgbClr val="fafd00"/>
              </a:solidFill>
              <a:latin typeface="Arial"/>
            </a:endParaRPr>
          </a:p>
        </p:txBody>
      </p:sp>
      <p:grpSp>
        <p:nvGrpSpPr>
          <p:cNvPr id="172" name=""/>
          <p:cNvGrpSpPr/>
          <p:nvPr/>
        </p:nvGrpSpPr>
        <p:grpSpPr>
          <a:xfrm>
            <a:off x="2070000" y="914400"/>
            <a:ext cx="6007320" cy="5337000"/>
            <a:chOff x="2070000" y="914400"/>
            <a:chExt cx="6007320" cy="5337000"/>
          </a:xfrm>
        </p:grpSpPr>
        <p:sp>
          <p:nvSpPr>
            <p:cNvPr id="173" name=""/>
            <p:cNvSpPr/>
            <p:nvPr/>
          </p:nvSpPr>
          <p:spPr>
            <a:xfrm>
              <a:off x="2070000" y="914400"/>
              <a:ext cx="6007320" cy="524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2196360" y="943920"/>
              <a:ext cx="5434920" cy="5307480"/>
              <a:chOff x="2196360" y="943920"/>
              <a:chExt cx="5434920" cy="5307480"/>
            </a:xfrm>
          </p:grpSpPr>
          <p:grpSp>
            <p:nvGrpSpPr>
              <p:cNvPr id="175" name=""/>
              <p:cNvGrpSpPr/>
              <p:nvPr/>
            </p:nvGrpSpPr>
            <p:grpSpPr>
              <a:xfrm>
                <a:off x="3138480" y="3278160"/>
                <a:ext cx="4492800" cy="835200"/>
                <a:chOff x="3138480" y="3278160"/>
                <a:chExt cx="4492800" cy="835200"/>
              </a:xfrm>
            </p:grpSpPr>
            <p:sp>
              <p:nvSpPr>
                <p:cNvPr id="176" name=""/>
                <p:cNvSpPr/>
                <p:nvPr/>
              </p:nvSpPr>
              <p:spPr>
                <a:xfrm>
                  <a:off x="3138480" y="3540240"/>
                  <a:ext cx="3800520" cy="25848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942240" y="3278160"/>
                  <a:ext cx="689040" cy="8352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3124080" y="2806200"/>
                <a:ext cx="4203720" cy="2627640"/>
                <a:chOff x="3124080" y="2806200"/>
                <a:chExt cx="4203720" cy="2627640"/>
              </a:xfrm>
            </p:grpSpPr>
            <p:sp>
              <p:nvSpPr>
                <p:cNvPr id="179" name=""/>
                <p:cNvSpPr/>
                <p:nvPr/>
              </p:nvSpPr>
              <p:spPr>
                <a:xfrm rot="1680000">
                  <a:off x="2962080" y="3682800"/>
                  <a:ext cx="3800160" cy="25848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680000">
                  <a:off x="6482880" y="4485960"/>
                  <a:ext cx="689040" cy="8348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256640" y="1845000"/>
                <a:ext cx="2081160" cy="4406400"/>
                <a:chOff x="4256640" y="1845000"/>
                <a:chExt cx="2081160" cy="4406400"/>
              </a:xfrm>
            </p:grpSpPr>
            <p:sp>
              <p:nvSpPr>
                <p:cNvPr id="182" name=""/>
                <p:cNvSpPr/>
                <p:nvPr/>
              </p:nvSpPr>
              <p:spPr>
                <a:xfrm rot="20340000">
                  <a:off x="4928760" y="1765080"/>
                  <a:ext cx="258840" cy="380016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20340000">
                  <a:off x="5406840" y="5435280"/>
                  <a:ext cx="834840" cy="6890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498840" y="2043000"/>
                <a:ext cx="2621520" cy="4208400"/>
                <a:chOff x="3498840" y="2043000"/>
                <a:chExt cx="2621520" cy="4208400"/>
              </a:xfrm>
            </p:grpSpPr>
            <p:sp>
              <p:nvSpPr>
                <p:cNvPr id="185" name=""/>
                <p:cNvSpPr/>
                <p:nvPr/>
              </p:nvSpPr>
              <p:spPr>
                <a:xfrm rot="1680000">
                  <a:off x="4984920" y="1881000"/>
                  <a:ext cx="258480" cy="380016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80000">
                  <a:off x="3611520" y="5406840"/>
                  <a:ext cx="835200" cy="6886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2328480" y="2600640"/>
                <a:ext cx="4146840" cy="2760480"/>
                <a:chOff x="2328480" y="2600640"/>
                <a:chExt cx="4146840" cy="2760480"/>
              </a:xfrm>
            </p:grpSpPr>
            <p:sp>
              <p:nvSpPr>
                <p:cNvPr id="188" name=""/>
                <p:cNvSpPr/>
                <p:nvPr/>
              </p:nvSpPr>
              <p:spPr>
                <a:xfrm rot="19740000">
                  <a:off x="2879640" y="3560760"/>
                  <a:ext cx="3800520" cy="258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19740000">
                  <a:off x="2494080" y="4408200"/>
                  <a:ext cx="689040" cy="8348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2196360" y="2771640"/>
                <a:ext cx="4468320" cy="1732320"/>
                <a:chOff x="2196360" y="2771640"/>
                <a:chExt cx="4468320" cy="1732320"/>
              </a:xfrm>
            </p:grpSpPr>
            <p:sp>
              <p:nvSpPr>
                <p:cNvPr id="191" name=""/>
                <p:cNvSpPr/>
                <p:nvPr/>
              </p:nvSpPr>
              <p:spPr>
                <a:xfrm rot="900000">
                  <a:off x="2895480" y="3757320"/>
                  <a:ext cx="3800520" cy="258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900000">
                  <a:off x="2292480" y="2846520"/>
                  <a:ext cx="689040" cy="8348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721240" y="1523880"/>
                <a:ext cx="3587040" cy="3538080"/>
                <a:chOff x="2721240" y="1523880"/>
                <a:chExt cx="3587040" cy="3538080"/>
              </a:xfrm>
            </p:grpSpPr>
            <p:sp>
              <p:nvSpPr>
                <p:cNvPr id="194" name=""/>
                <p:cNvSpPr/>
                <p:nvPr/>
              </p:nvSpPr>
              <p:spPr>
                <a:xfrm rot="2640000">
                  <a:off x="2950920" y="3519000"/>
                  <a:ext cx="3800520" cy="258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2640000">
                  <a:off x="2914200" y="1645920"/>
                  <a:ext cx="689040" cy="8348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3974040" y="953280"/>
                <a:ext cx="1294200" cy="4522320"/>
                <a:chOff x="3974040" y="953280"/>
                <a:chExt cx="1294200" cy="4522320"/>
              </a:xfrm>
            </p:grpSpPr>
            <p:sp>
              <p:nvSpPr>
                <p:cNvPr id="197" name=""/>
                <p:cNvSpPr/>
                <p:nvPr/>
              </p:nvSpPr>
              <p:spPr>
                <a:xfrm rot="21000000">
                  <a:off x="4681440" y="1681200"/>
                  <a:ext cx="258840" cy="38005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rot="21000000">
                  <a:off x="4027320" y="1020600"/>
                  <a:ext cx="834840" cy="6890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206600" y="943920"/>
                <a:ext cx="2316240" cy="4321080"/>
                <a:chOff x="4206600" y="943920"/>
                <a:chExt cx="2316240" cy="4321080"/>
              </a:xfrm>
            </p:grpSpPr>
            <p:sp>
              <p:nvSpPr>
                <p:cNvPr id="200" name=""/>
                <p:cNvSpPr/>
                <p:nvPr/>
              </p:nvSpPr>
              <p:spPr>
                <a:xfrm rot="1380000">
                  <a:off x="4938480" y="1564920"/>
                  <a:ext cx="258480" cy="38005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1380000">
                  <a:off x="5586480" y="1079640"/>
                  <a:ext cx="834840" cy="6886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3358800" y="1852200"/>
                <a:ext cx="4192200" cy="2669760"/>
                <a:chOff x="3358800" y="1852200"/>
                <a:chExt cx="4192200" cy="2669760"/>
              </a:xfrm>
            </p:grpSpPr>
            <p:sp>
              <p:nvSpPr>
                <p:cNvPr id="203" name=""/>
                <p:cNvSpPr/>
                <p:nvPr/>
              </p:nvSpPr>
              <p:spPr>
                <a:xfrm rot="19800000">
                  <a:off x="3168720" y="3330360"/>
                  <a:ext cx="3800520" cy="25848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9800000">
                  <a:off x="6698880" y="1968480"/>
                  <a:ext cx="689040" cy="8352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5"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aminant Removal Sequence</a:t>
            </a:r>
            <a:endParaRPr b="1" lang="en-US" sz="3200" spc="-1" strike="noStrike">
              <a:solidFill>
                <a:srgbClr val="fafd00"/>
              </a:solidFill>
              <a:latin typeface="Arial"/>
            </a:endParaRPr>
          </a:p>
        </p:txBody>
      </p:sp>
      <p:grpSp>
        <p:nvGrpSpPr>
          <p:cNvPr id="207" name=""/>
          <p:cNvGrpSpPr/>
          <p:nvPr/>
        </p:nvGrpSpPr>
        <p:grpSpPr>
          <a:xfrm>
            <a:off x="2514600" y="990720"/>
            <a:ext cx="5257800" cy="5333760"/>
            <a:chOff x="2514600" y="990720"/>
            <a:chExt cx="5257800" cy="5333760"/>
          </a:xfrm>
        </p:grpSpPr>
        <p:sp>
          <p:nvSpPr>
            <p:cNvPr id="208" name=""/>
            <p:cNvSpPr/>
            <p:nvPr/>
          </p:nvSpPr>
          <p:spPr>
            <a:xfrm>
              <a:off x="2514600" y="990720"/>
              <a:ext cx="5257800" cy="533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2819520" y="1067040"/>
              <a:ext cx="4722480" cy="5198040"/>
              <a:chOff x="2819520" y="1067040"/>
              <a:chExt cx="4722480" cy="5198040"/>
            </a:xfrm>
          </p:grpSpPr>
          <p:grpSp>
            <p:nvGrpSpPr>
              <p:cNvPr id="210" name=""/>
              <p:cNvGrpSpPr/>
              <p:nvPr/>
            </p:nvGrpSpPr>
            <p:grpSpPr>
              <a:xfrm>
                <a:off x="2819520" y="1067040"/>
                <a:ext cx="4570560" cy="2404080"/>
                <a:chOff x="2819520" y="1067040"/>
                <a:chExt cx="4570560" cy="2404080"/>
              </a:xfrm>
            </p:grpSpPr>
            <p:grpSp>
              <p:nvGrpSpPr>
                <p:cNvPr id="211" name=""/>
                <p:cNvGrpSpPr/>
                <p:nvPr/>
              </p:nvGrpSpPr>
              <p:grpSpPr>
                <a:xfrm>
                  <a:off x="2819520" y="1067040"/>
                  <a:ext cx="4570560" cy="2404080"/>
                  <a:chOff x="2819520" y="1067040"/>
                  <a:chExt cx="4570560" cy="2404080"/>
                </a:xfrm>
              </p:grpSpPr>
              <p:grpSp>
                <p:nvGrpSpPr>
                  <p:cNvPr id="212" name=""/>
                  <p:cNvGrpSpPr/>
                  <p:nvPr/>
                </p:nvGrpSpPr>
                <p:grpSpPr>
                  <a:xfrm>
                    <a:off x="2819520" y="1240200"/>
                    <a:ext cx="4570560" cy="2230920"/>
                    <a:chOff x="2819520" y="1240200"/>
                    <a:chExt cx="4570560" cy="2230920"/>
                  </a:xfrm>
                </p:grpSpPr>
                <p:grpSp>
                  <p:nvGrpSpPr>
                    <p:cNvPr id="213" name=""/>
                    <p:cNvGrpSpPr/>
                    <p:nvPr/>
                  </p:nvGrpSpPr>
                  <p:grpSpPr>
                    <a:xfrm>
                      <a:off x="3019320" y="1467000"/>
                      <a:ext cx="4253040" cy="1705320"/>
                      <a:chOff x="3019320" y="1467000"/>
                      <a:chExt cx="4253040" cy="1705320"/>
                    </a:xfrm>
                  </p:grpSpPr>
                  <p:grpSp>
                    <p:nvGrpSpPr>
                      <p:cNvPr id="214" name=""/>
                      <p:cNvGrpSpPr/>
                      <p:nvPr/>
                    </p:nvGrpSpPr>
                    <p:grpSpPr>
                      <a:xfrm>
                        <a:off x="3019320" y="1860480"/>
                        <a:ext cx="4113720" cy="995760"/>
                        <a:chOff x="3019320" y="1860480"/>
                        <a:chExt cx="4113720" cy="995760"/>
                      </a:xfrm>
                    </p:grpSpPr>
                    <p:sp>
                      <p:nvSpPr>
                        <p:cNvPr id="215" name=""/>
                        <p:cNvSpPr/>
                        <p:nvPr/>
                      </p:nvSpPr>
                      <p:spPr>
                        <a:xfrm>
                          <a:off x="3019320" y="1860480"/>
                          <a:ext cx="4060440" cy="279000"/>
                        </a:xfrm>
                        <a:custGeom>
                          <a:avLst/>
                          <a:gdLst/>
                          <a:ahLst/>
                          <a:rect l="l" t="t" r="r" b="b"/>
                          <a:pathLst>
                            <a:path w="4952" h="325">
                              <a:moveTo>
                                <a:pt x="0" y="174"/>
                              </a:moveTo>
                              <a:lnTo>
                                <a:pt x="977" y="299"/>
                              </a:lnTo>
                              <a:lnTo>
                                <a:pt x="745" y="0"/>
                              </a:lnTo>
                              <a:lnTo>
                                <a:pt x="1710" y="299"/>
                              </a:lnTo>
                              <a:lnTo>
                                <a:pt x="1479" y="0"/>
                              </a:lnTo>
                              <a:lnTo>
                                <a:pt x="2585" y="311"/>
                              </a:lnTo>
                              <a:lnTo>
                                <a:pt x="2315" y="25"/>
                              </a:lnTo>
                              <a:lnTo>
                                <a:pt x="3241" y="324"/>
                              </a:lnTo>
                              <a:lnTo>
                                <a:pt x="2945" y="25"/>
                              </a:lnTo>
                              <a:lnTo>
                                <a:pt x="4038" y="324"/>
                              </a:lnTo>
                              <a:lnTo>
                                <a:pt x="3677" y="13"/>
                              </a:lnTo>
                              <a:lnTo>
                                <a:pt x="4951" y="311"/>
                              </a:lnTo>
                              <a:lnTo>
                                <a:pt x="4938" y="3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72600" y="2576880"/>
                          <a:ext cx="4060440" cy="279360"/>
                        </a:xfrm>
                        <a:custGeom>
                          <a:avLst/>
                          <a:gdLst/>
                          <a:ahLst/>
                          <a:rect l="l" t="t" r="r" b="b"/>
                          <a:pathLst>
                            <a:path w="4952" h="325">
                              <a:moveTo>
                                <a:pt x="0" y="149"/>
                              </a:moveTo>
                              <a:lnTo>
                                <a:pt x="977" y="24"/>
                              </a:lnTo>
                              <a:lnTo>
                                <a:pt x="746" y="324"/>
                              </a:lnTo>
                              <a:lnTo>
                                <a:pt x="1710" y="24"/>
                              </a:lnTo>
                              <a:lnTo>
                                <a:pt x="1479" y="324"/>
                              </a:lnTo>
                              <a:lnTo>
                                <a:pt x="2585" y="12"/>
                              </a:lnTo>
                              <a:lnTo>
                                <a:pt x="2315" y="298"/>
                              </a:lnTo>
                              <a:lnTo>
                                <a:pt x="3241" y="0"/>
                              </a:lnTo>
                              <a:lnTo>
                                <a:pt x="2945" y="298"/>
                              </a:lnTo>
                              <a:lnTo>
                                <a:pt x="4038" y="0"/>
                              </a:lnTo>
                              <a:lnTo>
                                <a:pt x="3678" y="311"/>
                              </a:lnTo>
                              <a:lnTo>
                                <a:pt x="4951" y="12"/>
                              </a:lnTo>
                              <a:lnTo>
                                <a:pt x="4938" y="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3051000" y="1618920"/>
                        <a:ext cx="763920" cy="314280"/>
                      </a:xfrm>
                      <a:custGeom>
                        <a:avLst/>
                        <a:gdLst/>
                        <a:ahLst/>
                        <a:rect l="l" t="t" r="r" b="b"/>
                        <a:pathLst>
                          <a:path w="932" h="366">
                            <a:moveTo>
                              <a:pt x="91" y="200"/>
                            </a:moveTo>
                            <a:lnTo>
                              <a:pt x="186" y="186"/>
                            </a:lnTo>
                            <a:lnTo>
                              <a:pt x="282" y="175"/>
                            </a:lnTo>
                            <a:lnTo>
                              <a:pt x="377" y="162"/>
                            </a:lnTo>
                            <a:lnTo>
                              <a:pt x="473" y="144"/>
                            </a:lnTo>
                            <a:lnTo>
                              <a:pt x="500" y="127"/>
                            </a:lnTo>
                            <a:lnTo>
                              <a:pt x="528" y="113"/>
                            </a:lnTo>
                            <a:lnTo>
                              <a:pt x="587" y="89"/>
                            </a:lnTo>
                            <a:lnTo>
                              <a:pt x="647" y="72"/>
                            </a:lnTo>
                            <a:lnTo>
                              <a:pt x="708" y="51"/>
                            </a:lnTo>
                            <a:lnTo>
                              <a:pt x="725" y="48"/>
                            </a:lnTo>
                            <a:lnTo>
                              <a:pt x="742" y="41"/>
                            </a:lnTo>
                            <a:lnTo>
                              <a:pt x="751" y="38"/>
                            </a:lnTo>
                            <a:lnTo>
                              <a:pt x="757" y="38"/>
                            </a:lnTo>
                            <a:lnTo>
                              <a:pt x="761" y="34"/>
                            </a:lnTo>
                            <a:lnTo>
                              <a:pt x="764" y="34"/>
                            </a:lnTo>
                            <a:lnTo>
                              <a:pt x="776" y="24"/>
                            </a:lnTo>
                            <a:lnTo>
                              <a:pt x="789" y="13"/>
                            </a:lnTo>
                            <a:lnTo>
                              <a:pt x="804" y="3"/>
                            </a:lnTo>
                            <a:lnTo>
                              <a:pt x="819" y="0"/>
                            </a:lnTo>
                            <a:lnTo>
                              <a:pt x="827" y="0"/>
                            </a:lnTo>
                            <a:lnTo>
                              <a:pt x="838" y="0"/>
                            </a:lnTo>
                            <a:lnTo>
                              <a:pt x="861" y="0"/>
                            </a:lnTo>
                            <a:lnTo>
                              <a:pt x="887" y="7"/>
                            </a:lnTo>
                            <a:lnTo>
                              <a:pt x="910" y="17"/>
                            </a:lnTo>
                            <a:lnTo>
                              <a:pt x="918" y="24"/>
                            </a:lnTo>
                            <a:lnTo>
                              <a:pt x="925" y="31"/>
                            </a:lnTo>
                            <a:lnTo>
                              <a:pt x="929" y="38"/>
                            </a:lnTo>
                            <a:lnTo>
                              <a:pt x="931" y="51"/>
                            </a:lnTo>
                            <a:lnTo>
                              <a:pt x="927" y="62"/>
                            </a:lnTo>
                            <a:lnTo>
                              <a:pt x="921" y="75"/>
                            </a:lnTo>
                            <a:lnTo>
                              <a:pt x="908" y="89"/>
                            </a:lnTo>
                            <a:lnTo>
                              <a:pt x="891" y="107"/>
                            </a:lnTo>
                            <a:lnTo>
                              <a:pt x="867" y="120"/>
                            </a:lnTo>
                            <a:lnTo>
                              <a:pt x="840" y="124"/>
                            </a:lnTo>
                            <a:lnTo>
                              <a:pt x="810" y="124"/>
                            </a:lnTo>
                            <a:lnTo>
                              <a:pt x="783" y="127"/>
                            </a:lnTo>
                            <a:lnTo>
                              <a:pt x="753" y="141"/>
                            </a:lnTo>
                            <a:lnTo>
                              <a:pt x="738" y="151"/>
                            </a:lnTo>
                            <a:lnTo>
                              <a:pt x="727" y="162"/>
                            </a:lnTo>
                            <a:lnTo>
                              <a:pt x="721" y="175"/>
                            </a:lnTo>
                            <a:lnTo>
                              <a:pt x="719" y="189"/>
                            </a:lnTo>
                            <a:lnTo>
                              <a:pt x="715" y="203"/>
                            </a:lnTo>
                            <a:lnTo>
                              <a:pt x="708" y="217"/>
                            </a:lnTo>
                            <a:lnTo>
                              <a:pt x="702" y="220"/>
                            </a:lnTo>
                            <a:lnTo>
                              <a:pt x="696" y="224"/>
                            </a:lnTo>
                            <a:lnTo>
                              <a:pt x="685" y="227"/>
                            </a:lnTo>
                            <a:lnTo>
                              <a:pt x="672" y="231"/>
                            </a:lnTo>
                            <a:lnTo>
                              <a:pt x="645" y="238"/>
                            </a:lnTo>
                            <a:lnTo>
                              <a:pt x="613" y="241"/>
                            </a:lnTo>
                            <a:lnTo>
                              <a:pt x="583" y="244"/>
                            </a:lnTo>
                            <a:lnTo>
                              <a:pt x="558" y="248"/>
                            </a:lnTo>
                            <a:lnTo>
                              <a:pt x="547" y="251"/>
                            </a:lnTo>
                            <a:lnTo>
                              <a:pt x="536" y="251"/>
                            </a:lnTo>
                            <a:lnTo>
                              <a:pt x="532" y="251"/>
                            </a:lnTo>
                            <a:lnTo>
                              <a:pt x="528" y="251"/>
                            </a:lnTo>
                            <a:lnTo>
                              <a:pt x="456" y="265"/>
                            </a:lnTo>
                            <a:lnTo>
                              <a:pt x="382" y="286"/>
                            </a:lnTo>
                            <a:lnTo>
                              <a:pt x="237" y="324"/>
                            </a:lnTo>
                            <a:lnTo>
                              <a:pt x="210" y="348"/>
                            </a:lnTo>
                            <a:lnTo>
                              <a:pt x="197" y="355"/>
                            </a:lnTo>
                            <a:lnTo>
                              <a:pt x="182" y="362"/>
                            </a:lnTo>
                            <a:lnTo>
                              <a:pt x="159" y="365"/>
                            </a:lnTo>
                            <a:lnTo>
                              <a:pt x="138" y="362"/>
                            </a:lnTo>
                            <a:lnTo>
                              <a:pt x="119" y="358"/>
                            </a:lnTo>
                            <a:lnTo>
                              <a:pt x="102" y="351"/>
                            </a:lnTo>
                            <a:lnTo>
                              <a:pt x="70" y="331"/>
                            </a:lnTo>
                            <a:lnTo>
                              <a:pt x="38" y="306"/>
                            </a:lnTo>
                            <a:lnTo>
                              <a:pt x="27" y="293"/>
                            </a:lnTo>
                            <a:lnTo>
                              <a:pt x="15" y="282"/>
                            </a:lnTo>
                            <a:lnTo>
                              <a:pt x="4" y="269"/>
                            </a:lnTo>
                            <a:lnTo>
                              <a:pt x="2" y="262"/>
                            </a:lnTo>
                            <a:lnTo>
                              <a:pt x="0" y="251"/>
                            </a:lnTo>
                            <a:lnTo>
                              <a:pt x="4" y="241"/>
                            </a:lnTo>
                            <a:lnTo>
                              <a:pt x="12" y="231"/>
                            </a:lnTo>
                            <a:lnTo>
                              <a:pt x="25" y="224"/>
                            </a:lnTo>
                            <a:lnTo>
                              <a:pt x="40" y="217"/>
                            </a:lnTo>
                            <a:lnTo>
                              <a:pt x="55" y="210"/>
                            </a:lnTo>
                            <a:lnTo>
                              <a:pt x="70" y="206"/>
                            </a:lnTo>
                            <a:lnTo>
                              <a:pt x="82" y="203"/>
                            </a:lnTo>
                            <a:lnTo>
                              <a:pt x="91" y="20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209120" y="2859480"/>
                        <a:ext cx="761400" cy="312840"/>
                      </a:xfrm>
                      <a:custGeom>
                        <a:avLst/>
                        <a:gdLst/>
                        <a:ahLst/>
                        <a:rect l="l" t="t" r="r" b="b"/>
                        <a:pathLst>
                          <a:path w="929" h="364">
                            <a:moveTo>
                              <a:pt x="92" y="202"/>
                            </a:moveTo>
                            <a:lnTo>
                              <a:pt x="284" y="179"/>
                            </a:lnTo>
                            <a:lnTo>
                              <a:pt x="376" y="168"/>
                            </a:lnTo>
                            <a:lnTo>
                              <a:pt x="472" y="145"/>
                            </a:lnTo>
                            <a:lnTo>
                              <a:pt x="529" y="116"/>
                            </a:lnTo>
                            <a:lnTo>
                              <a:pt x="586" y="93"/>
                            </a:lnTo>
                            <a:lnTo>
                              <a:pt x="709" y="58"/>
                            </a:lnTo>
                            <a:lnTo>
                              <a:pt x="726" y="52"/>
                            </a:lnTo>
                            <a:lnTo>
                              <a:pt x="744" y="47"/>
                            </a:lnTo>
                            <a:lnTo>
                              <a:pt x="757" y="41"/>
                            </a:lnTo>
                            <a:lnTo>
                              <a:pt x="762" y="41"/>
                            </a:lnTo>
                            <a:lnTo>
                              <a:pt x="788" y="18"/>
                            </a:lnTo>
                            <a:lnTo>
                              <a:pt x="818" y="0"/>
                            </a:lnTo>
                            <a:lnTo>
                              <a:pt x="836" y="0"/>
                            </a:lnTo>
                            <a:lnTo>
                              <a:pt x="862" y="0"/>
                            </a:lnTo>
                            <a:lnTo>
                              <a:pt x="889" y="6"/>
                            </a:lnTo>
                            <a:lnTo>
                              <a:pt x="910" y="18"/>
                            </a:lnTo>
                            <a:lnTo>
                              <a:pt x="924" y="35"/>
                            </a:lnTo>
                            <a:lnTo>
                              <a:pt x="928" y="52"/>
                            </a:lnTo>
                            <a:lnTo>
                              <a:pt x="928" y="64"/>
                            </a:lnTo>
                            <a:lnTo>
                              <a:pt x="919" y="81"/>
                            </a:lnTo>
                            <a:lnTo>
                              <a:pt x="906" y="93"/>
                            </a:lnTo>
                            <a:lnTo>
                              <a:pt x="889" y="110"/>
                            </a:lnTo>
                            <a:lnTo>
                              <a:pt x="867" y="121"/>
                            </a:lnTo>
                            <a:lnTo>
                              <a:pt x="840" y="127"/>
                            </a:lnTo>
                            <a:lnTo>
                              <a:pt x="810" y="127"/>
                            </a:lnTo>
                            <a:lnTo>
                              <a:pt x="779" y="127"/>
                            </a:lnTo>
                            <a:lnTo>
                              <a:pt x="753" y="145"/>
                            </a:lnTo>
                            <a:lnTo>
                              <a:pt x="726" y="168"/>
                            </a:lnTo>
                            <a:lnTo>
                              <a:pt x="722" y="179"/>
                            </a:lnTo>
                            <a:lnTo>
                              <a:pt x="718" y="191"/>
                            </a:lnTo>
                            <a:lnTo>
                              <a:pt x="718" y="208"/>
                            </a:lnTo>
                            <a:lnTo>
                              <a:pt x="709" y="219"/>
                            </a:lnTo>
                            <a:lnTo>
                              <a:pt x="696" y="225"/>
                            </a:lnTo>
                            <a:lnTo>
                              <a:pt x="674" y="237"/>
                            </a:lnTo>
                            <a:lnTo>
                              <a:pt x="643" y="242"/>
                            </a:lnTo>
                            <a:lnTo>
                              <a:pt x="613" y="248"/>
                            </a:lnTo>
                            <a:lnTo>
                              <a:pt x="582" y="248"/>
                            </a:lnTo>
                            <a:lnTo>
                              <a:pt x="556" y="254"/>
                            </a:lnTo>
                            <a:lnTo>
                              <a:pt x="534" y="254"/>
                            </a:lnTo>
                            <a:lnTo>
                              <a:pt x="525" y="254"/>
                            </a:lnTo>
                            <a:lnTo>
                              <a:pt x="455" y="271"/>
                            </a:lnTo>
                            <a:lnTo>
                              <a:pt x="381" y="289"/>
                            </a:lnTo>
                            <a:lnTo>
                              <a:pt x="236" y="329"/>
                            </a:lnTo>
                            <a:lnTo>
                              <a:pt x="210" y="352"/>
                            </a:lnTo>
                            <a:lnTo>
                              <a:pt x="197" y="358"/>
                            </a:lnTo>
                            <a:lnTo>
                              <a:pt x="179" y="363"/>
                            </a:lnTo>
                            <a:lnTo>
                              <a:pt x="135" y="363"/>
                            </a:lnTo>
                            <a:lnTo>
                              <a:pt x="100" y="352"/>
                            </a:lnTo>
                            <a:lnTo>
                              <a:pt x="70" y="335"/>
                            </a:lnTo>
                            <a:lnTo>
                              <a:pt x="35" y="312"/>
                            </a:lnTo>
                            <a:lnTo>
                              <a:pt x="26" y="300"/>
                            </a:lnTo>
                            <a:lnTo>
                              <a:pt x="13" y="283"/>
                            </a:lnTo>
                            <a:lnTo>
                              <a:pt x="4" y="271"/>
                            </a:lnTo>
                            <a:lnTo>
                              <a:pt x="0" y="254"/>
                            </a:lnTo>
                            <a:lnTo>
                              <a:pt x="4" y="242"/>
                            </a:lnTo>
                            <a:lnTo>
                              <a:pt x="13" y="231"/>
                            </a:lnTo>
                            <a:lnTo>
                              <a:pt x="39" y="219"/>
                            </a:lnTo>
                            <a:lnTo>
                              <a:pt x="70" y="208"/>
                            </a:lnTo>
                            <a:lnTo>
                              <a:pt x="83" y="202"/>
                            </a:lnTo>
                            <a:lnTo>
                              <a:pt x="92" y="202"/>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65840" y="1552680"/>
                        <a:ext cx="771480" cy="244800"/>
                      </a:xfrm>
                      <a:custGeom>
                        <a:avLst/>
                        <a:gdLst/>
                        <a:ahLst/>
                        <a:rect l="l" t="t" r="r" b="b"/>
                        <a:pathLst>
                          <a:path w="941" h="285">
                            <a:moveTo>
                              <a:pt x="112" y="6"/>
                            </a:moveTo>
                            <a:lnTo>
                              <a:pt x="206" y="35"/>
                            </a:lnTo>
                            <a:lnTo>
                              <a:pt x="294" y="67"/>
                            </a:lnTo>
                            <a:lnTo>
                              <a:pt x="382" y="96"/>
                            </a:lnTo>
                            <a:lnTo>
                              <a:pt x="476" y="118"/>
                            </a:lnTo>
                            <a:lnTo>
                              <a:pt x="511" y="115"/>
                            </a:lnTo>
                            <a:lnTo>
                              <a:pt x="541" y="112"/>
                            </a:lnTo>
                            <a:lnTo>
                              <a:pt x="606" y="118"/>
                            </a:lnTo>
                            <a:lnTo>
                              <a:pt x="670" y="124"/>
                            </a:lnTo>
                            <a:lnTo>
                              <a:pt x="735" y="134"/>
                            </a:lnTo>
                            <a:lnTo>
                              <a:pt x="752" y="137"/>
                            </a:lnTo>
                            <a:lnTo>
                              <a:pt x="770" y="137"/>
                            </a:lnTo>
                            <a:lnTo>
                              <a:pt x="782" y="140"/>
                            </a:lnTo>
                            <a:lnTo>
                              <a:pt x="788" y="140"/>
                            </a:lnTo>
                            <a:lnTo>
                              <a:pt x="805" y="137"/>
                            </a:lnTo>
                            <a:lnTo>
                              <a:pt x="823" y="131"/>
                            </a:lnTo>
                            <a:lnTo>
                              <a:pt x="841" y="131"/>
                            </a:lnTo>
                            <a:lnTo>
                              <a:pt x="852" y="131"/>
                            </a:lnTo>
                            <a:lnTo>
                              <a:pt x="870" y="137"/>
                            </a:lnTo>
                            <a:lnTo>
                              <a:pt x="893" y="150"/>
                            </a:lnTo>
                            <a:lnTo>
                              <a:pt x="911" y="169"/>
                            </a:lnTo>
                            <a:lnTo>
                              <a:pt x="929" y="185"/>
                            </a:lnTo>
                            <a:lnTo>
                              <a:pt x="940" y="208"/>
                            </a:lnTo>
                            <a:lnTo>
                              <a:pt x="935" y="227"/>
                            </a:lnTo>
                            <a:lnTo>
                              <a:pt x="917" y="243"/>
                            </a:lnTo>
                            <a:lnTo>
                              <a:pt x="899" y="252"/>
                            </a:lnTo>
                            <a:lnTo>
                              <a:pt x="876" y="259"/>
                            </a:lnTo>
                            <a:lnTo>
                              <a:pt x="864" y="262"/>
                            </a:lnTo>
                            <a:lnTo>
                              <a:pt x="846" y="262"/>
                            </a:lnTo>
                            <a:lnTo>
                              <a:pt x="823" y="252"/>
                            </a:lnTo>
                            <a:lnTo>
                              <a:pt x="794" y="243"/>
                            </a:lnTo>
                            <a:lnTo>
                              <a:pt x="764" y="233"/>
                            </a:lnTo>
                            <a:lnTo>
                              <a:pt x="752" y="233"/>
                            </a:lnTo>
                            <a:lnTo>
                              <a:pt x="735" y="233"/>
                            </a:lnTo>
                            <a:lnTo>
                              <a:pt x="717" y="236"/>
                            </a:lnTo>
                            <a:lnTo>
                              <a:pt x="700" y="240"/>
                            </a:lnTo>
                            <a:lnTo>
                              <a:pt x="694" y="249"/>
                            </a:lnTo>
                            <a:lnTo>
                              <a:pt x="682" y="262"/>
                            </a:lnTo>
                            <a:lnTo>
                              <a:pt x="676" y="275"/>
                            </a:lnTo>
                            <a:lnTo>
                              <a:pt x="664" y="281"/>
                            </a:lnTo>
                            <a:lnTo>
                              <a:pt x="647" y="284"/>
                            </a:lnTo>
                            <a:lnTo>
                              <a:pt x="623" y="281"/>
                            </a:lnTo>
                            <a:lnTo>
                              <a:pt x="600" y="275"/>
                            </a:lnTo>
                            <a:lnTo>
                              <a:pt x="564" y="265"/>
                            </a:lnTo>
                            <a:lnTo>
                              <a:pt x="535" y="259"/>
                            </a:lnTo>
                            <a:lnTo>
                              <a:pt x="511" y="249"/>
                            </a:lnTo>
                            <a:lnTo>
                              <a:pt x="494" y="243"/>
                            </a:lnTo>
                            <a:lnTo>
                              <a:pt x="482" y="240"/>
                            </a:lnTo>
                            <a:lnTo>
                              <a:pt x="412" y="224"/>
                            </a:lnTo>
                            <a:lnTo>
                              <a:pt x="335" y="208"/>
                            </a:lnTo>
                            <a:lnTo>
                              <a:pt x="188" y="182"/>
                            </a:lnTo>
                            <a:lnTo>
                              <a:pt x="176" y="185"/>
                            </a:lnTo>
                            <a:lnTo>
                              <a:pt x="159" y="192"/>
                            </a:lnTo>
                            <a:lnTo>
                              <a:pt x="141" y="195"/>
                            </a:lnTo>
                            <a:lnTo>
                              <a:pt x="124" y="192"/>
                            </a:lnTo>
                            <a:lnTo>
                              <a:pt x="82" y="172"/>
                            </a:lnTo>
                            <a:lnTo>
                              <a:pt x="59" y="147"/>
                            </a:lnTo>
                            <a:lnTo>
                              <a:pt x="35" y="118"/>
                            </a:lnTo>
                            <a:lnTo>
                              <a:pt x="18" y="83"/>
                            </a:lnTo>
                            <a:lnTo>
                              <a:pt x="6" y="51"/>
                            </a:lnTo>
                            <a:lnTo>
                              <a:pt x="0" y="32"/>
                            </a:lnTo>
                            <a:lnTo>
                              <a:pt x="6" y="16"/>
                            </a:lnTo>
                            <a:lnTo>
                              <a:pt x="12" y="6"/>
                            </a:lnTo>
                            <a:lnTo>
                              <a:pt x="24" y="3"/>
                            </a:lnTo>
                            <a:lnTo>
                              <a:pt x="59" y="0"/>
                            </a:lnTo>
                            <a:lnTo>
                              <a:pt x="88" y="3"/>
                            </a:lnTo>
                            <a:lnTo>
                              <a:pt x="112" y="6"/>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00880" y="2835360"/>
                        <a:ext cx="771480" cy="245520"/>
                      </a:xfrm>
                      <a:custGeom>
                        <a:avLst/>
                        <a:gdLst/>
                        <a:ahLst/>
                        <a:rect l="l" t="t" r="r" b="b"/>
                        <a:pathLst>
                          <a:path w="941" h="286">
                            <a:moveTo>
                              <a:pt x="106" y="5"/>
                            </a:moveTo>
                            <a:lnTo>
                              <a:pt x="292" y="67"/>
                            </a:lnTo>
                            <a:lnTo>
                              <a:pt x="390" y="100"/>
                            </a:lnTo>
                            <a:lnTo>
                              <a:pt x="479" y="123"/>
                            </a:lnTo>
                            <a:lnTo>
                              <a:pt x="541" y="117"/>
                            </a:lnTo>
                            <a:lnTo>
                              <a:pt x="612" y="123"/>
                            </a:lnTo>
                            <a:lnTo>
                              <a:pt x="736" y="139"/>
                            </a:lnTo>
                            <a:lnTo>
                              <a:pt x="771" y="145"/>
                            </a:lnTo>
                            <a:lnTo>
                              <a:pt x="780" y="145"/>
                            </a:lnTo>
                            <a:lnTo>
                              <a:pt x="789" y="145"/>
                            </a:lnTo>
                            <a:lnTo>
                              <a:pt x="825" y="134"/>
                            </a:lnTo>
                            <a:lnTo>
                              <a:pt x="834" y="134"/>
                            </a:lnTo>
                            <a:lnTo>
                              <a:pt x="851" y="134"/>
                            </a:lnTo>
                            <a:lnTo>
                              <a:pt x="869" y="139"/>
                            </a:lnTo>
                            <a:lnTo>
                              <a:pt x="887" y="151"/>
                            </a:lnTo>
                            <a:lnTo>
                              <a:pt x="931" y="190"/>
                            </a:lnTo>
                            <a:lnTo>
                              <a:pt x="940" y="207"/>
                            </a:lnTo>
                            <a:lnTo>
                              <a:pt x="931" y="229"/>
                            </a:lnTo>
                            <a:lnTo>
                              <a:pt x="913" y="246"/>
                            </a:lnTo>
                            <a:lnTo>
                              <a:pt x="878" y="262"/>
                            </a:lnTo>
                            <a:lnTo>
                              <a:pt x="851" y="262"/>
                            </a:lnTo>
                            <a:lnTo>
                              <a:pt x="825" y="257"/>
                            </a:lnTo>
                            <a:lnTo>
                              <a:pt x="789" y="246"/>
                            </a:lnTo>
                            <a:lnTo>
                              <a:pt x="763" y="235"/>
                            </a:lnTo>
                            <a:lnTo>
                              <a:pt x="736" y="235"/>
                            </a:lnTo>
                            <a:lnTo>
                              <a:pt x="700" y="246"/>
                            </a:lnTo>
                            <a:lnTo>
                              <a:pt x="692" y="251"/>
                            </a:lnTo>
                            <a:lnTo>
                              <a:pt x="683" y="268"/>
                            </a:lnTo>
                            <a:lnTo>
                              <a:pt x="674" y="279"/>
                            </a:lnTo>
                            <a:lnTo>
                              <a:pt x="665" y="285"/>
                            </a:lnTo>
                            <a:lnTo>
                              <a:pt x="647" y="285"/>
                            </a:lnTo>
                            <a:lnTo>
                              <a:pt x="630" y="285"/>
                            </a:lnTo>
                            <a:lnTo>
                              <a:pt x="567" y="268"/>
                            </a:lnTo>
                            <a:lnTo>
                              <a:pt x="514" y="251"/>
                            </a:lnTo>
                            <a:lnTo>
                              <a:pt x="488" y="246"/>
                            </a:lnTo>
                            <a:lnTo>
                              <a:pt x="479" y="240"/>
                            </a:lnTo>
                            <a:lnTo>
                              <a:pt x="337" y="212"/>
                            </a:lnTo>
                            <a:lnTo>
                              <a:pt x="186" y="184"/>
                            </a:lnTo>
                            <a:lnTo>
                              <a:pt x="159" y="195"/>
                            </a:lnTo>
                            <a:lnTo>
                              <a:pt x="142" y="195"/>
                            </a:lnTo>
                            <a:lnTo>
                              <a:pt x="124" y="195"/>
                            </a:lnTo>
                            <a:lnTo>
                              <a:pt x="88" y="173"/>
                            </a:lnTo>
                            <a:lnTo>
                              <a:pt x="62" y="151"/>
                            </a:lnTo>
                            <a:lnTo>
                              <a:pt x="17" y="84"/>
                            </a:lnTo>
                            <a:lnTo>
                              <a:pt x="0" y="50"/>
                            </a:lnTo>
                            <a:lnTo>
                              <a:pt x="0" y="33"/>
                            </a:lnTo>
                            <a:lnTo>
                              <a:pt x="8" y="16"/>
                            </a:lnTo>
                            <a:lnTo>
                              <a:pt x="26" y="5"/>
                            </a:lnTo>
                            <a:lnTo>
                              <a:pt x="62" y="0"/>
                            </a:lnTo>
                            <a:lnTo>
                              <a:pt x="88" y="5"/>
                            </a:lnTo>
                            <a:lnTo>
                              <a:pt x="106" y="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211920" y="2725200"/>
                        <a:ext cx="496080" cy="388440"/>
                      </a:xfrm>
                      <a:custGeom>
                        <a:avLst/>
                        <a:gdLst/>
                        <a:ahLst/>
                        <a:rect l="l" t="t" r="r" b="b"/>
                        <a:pathLst>
                          <a:path w="605" h="452">
                            <a:moveTo>
                              <a:pt x="150" y="22"/>
                            </a:moveTo>
                            <a:lnTo>
                              <a:pt x="109" y="39"/>
                            </a:lnTo>
                            <a:lnTo>
                              <a:pt x="71" y="56"/>
                            </a:lnTo>
                            <a:lnTo>
                              <a:pt x="53" y="68"/>
                            </a:lnTo>
                            <a:lnTo>
                              <a:pt x="38" y="79"/>
                            </a:lnTo>
                            <a:lnTo>
                              <a:pt x="25" y="90"/>
                            </a:lnTo>
                            <a:lnTo>
                              <a:pt x="15" y="101"/>
                            </a:lnTo>
                            <a:lnTo>
                              <a:pt x="6" y="118"/>
                            </a:lnTo>
                            <a:lnTo>
                              <a:pt x="2" y="135"/>
                            </a:lnTo>
                            <a:lnTo>
                              <a:pt x="0" y="152"/>
                            </a:lnTo>
                            <a:lnTo>
                              <a:pt x="4" y="169"/>
                            </a:lnTo>
                            <a:lnTo>
                              <a:pt x="10" y="192"/>
                            </a:lnTo>
                            <a:lnTo>
                              <a:pt x="21" y="220"/>
                            </a:lnTo>
                            <a:lnTo>
                              <a:pt x="38" y="248"/>
                            </a:lnTo>
                            <a:lnTo>
                              <a:pt x="58" y="276"/>
                            </a:lnTo>
                            <a:lnTo>
                              <a:pt x="70" y="288"/>
                            </a:lnTo>
                            <a:lnTo>
                              <a:pt x="83" y="293"/>
                            </a:lnTo>
                            <a:lnTo>
                              <a:pt x="100" y="299"/>
                            </a:lnTo>
                            <a:lnTo>
                              <a:pt x="116" y="305"/>
                            </a:lnTo>
                            <a:lnTo>
                              <a:pt x="152" y="305"/>
                            </a:lnTo>
                            <a:lnTo>
                              <a:pt x="186" y="310"/>
                            </a:lnTo>
                            <a:lnTo>
                              <a:pt x="218" y="316"/>
                            </a:lnTo>
                            <a:lnTo>
                              <a:pt x="251" y="322"/>
                            </a:lnTo>
                            <a:lnTo>
                              <a:pt x="287" y="327"/>
                            </a:lnTo>
                            <a:lnTo>
                              <a:pt x="325" y="333"/>
                            </a:lnTo>
                            <a:lnTo>
                              <a:pt x="362" y="338"/>
                            </a:lnTo>
                            <a:lnTo>
                              <a:pt x="398" y="344"/>
                            </a:lnTo>
                            <a:lnTo>
                              <a:pt x="431" y="344"/>
                            </a:lnTo>
                            <a:lnTo>
                              <a:pt x="460" y="350"/>
                            </a:lnTo>
                            <a:lnTo>
                              <a:pt x="461" y="361"/>
                            </a:lnTo>
                            <a:lnTo>
                              <a:pt x="461" y="372"/>
                            </a:lnTo>
                            <a:lnTo>
                              <a:pt x="460" y="401"/>
                            </a:lnTo>
                            <a:lnTo>
                              <a:pt x="461" y="412"/>
                            </a:lnTo>
                            <a:lnTo>
                              <a:pt x="463" y="423"/>
                            </a:lnTo>
                            <a:lnTo>
                              <a:pt x="469" y="434"/>
                            </a:lnTo>
                            <a:lnTo>
                              <a:pt x="476" y="440"/>
                            </a:lnTo>
                            <a:lnTo>
                              <a:pt x="490" y="446"/>
                            </a:lnTo>
                            <a:lnTo>
                              <a:pt x="505" y="451"/>
                            </a:lnTo>
                            <a:lnTo>
                              <a:pt x="536" y="446"/>
                            </a:lnTo>
                            <a:lnTo>
                              <a:pt x="551" y="446"/>
                            </a:lnTo>
                            <a:lnTo>
                              <a:pt x="566" y="440"/>
                            </a:lnTo>
                            <a:lnTo>
                              <a:pt x="578" y="429"/>
                            </a:lnTo>
                            <a:lnTo>
                              <a:pt x="585" y="417"/>
                            </a:lnTo>
                            <a:lnTo>
                              <a:pt x="595" y="401"/>
                            </a:lnTo>
                            <a:lnTo>
                              <a:pt x="602" y="378"/>
                            </a:lnTo>
                            <a:lnTo>
                              <a:pt x="604" y="361"/>
                            </a:lnTo>
                            <a:lnTo>
                              <a:pt x="604" y="344"/>
                            </a:lnTo>
                            <a:lnTo>
                              <a:pt x="602" y="327"/>
                            </a:lnTo>
                            <a:lnTo>
                              <a:pt x="596" y="316"/>
                            </a:lnTo>
                            <a:lnTo>
                              <a:pt x="591" y="299"/>
                            </a:lnTo>
                            <a:lnTo>
                              <a:pt x="581" y="288"/>
                            </a:lnTo>
                            <a:lnTo>
                              <a:pt x="559" y="265"/>
                            </a:lnTo>
                            <a:lnTo>
                              <a:pt x="533" y="248"/>
                            </a:lnTo>
                            <a:lnTo>
                              <a:pt x="505" y="231"/>
                            </a:lnTo>
                            <a:lnTo>
                              <a:pt x="476" y="220"/>
                            </a:lnTo>
                            <a:lnTo>
                              <a:pt x="473" y="209"/>
                            </a:lnTo>
                            <a:lnTo>
                              <a:pt x="471" y="192"/>
                            </a:lnTo>
                            <a:lnTo>
                              <a:pt x="467" y="175"/>
                            </a:lnTo>
                            <a:lnTo>
                              <a:pt x="460" y="164"/>
                            </a:lnTo>
                            <a:lnTo>
                              <a:pt x="446" y="158"/>
                            </a:lnTo>
                            <a:lnTo>
                              <a:pt x="431" y="158"/>
                            </a:lnTo>
                            <a:lnTo>
                              <a:pt x="416" y="152"/>
                            </a:lnTo>
                            <a:lnTo>
                              <a:pt x="403" y="147"/>
                            </a:lnTo>
                            <a:lnTo>
                              <a:pt x="377" y="130"/>
                            </a:lnTo>
                            <a:lnTo>
                              <a:pt x="351" y="113"/>
                            </a:lnTo>
                            <a:lnTo>
                              <a:pt x="332" y="96"/>
                            </a:lnTo>
                            <a:lnTo>
                              <a:pt x="325" y="85"/>
                            </a:lnTo>
                            <a:lnTo>
                              <a:pt x="313" y="73"/>
                            </a:lnTo>
                            <a:lnTo>
                              <a:pt x="298" y="68"/>
                            </a:lnTo>
                            <a:lnTo>
                              <a:pt x="281" y="62"/>
                            </a:lnTo>
                            <a:lnTo>
                              <a:pt x="246" y="51"/>
                            </a:lnTo>
                            <a:lnTo>
                              <a:pt x="231" y="45"/>
                            </a:lnTo>
                            <a:lnTo>
                              <a:pt x="218" y="45"/>
                            </a:lnTo>
                            <a:lnTo>
                              <a:pt x="208" y="39"/>
                            </a:lnTo>
                            <a:lnTo>
                              <a:pt x="205" y="39"/>
                            </a:lnTo>
                            <a:lnTo>
                              <a:pt x="186" y="28"/>
                            </a:lnTo>
                            <a:lnTo>
                              <a:pt x="171" y="11"/>
                            </a:lnTo>
                            <a:lnTo>
                              <a:pt x="161" y="6"/>
                            </a:lnTo>
                            <a:lnTo>
                              <a:pt x="156" y="0"/>
                            </a:lnTo>
                            <a:lnTo>
                              <a:pt x="152" y="0"/>
                            </a:lnTo>
                            <a:lnTo>
                              <a:pt x="150" y="0"/>
                            </a:lnTo>
                            <a:lnTo>
                              <a:pt x="150" y="11"/>
                            </a:lnTo>
                            <a:lnTo>
                              <a:pt x="150" y="22"/>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219560" y="1467000"/>
                        <a:ext cx="498240" cy="386640"/>
                      </a:xfrm>
                      <a:custGeom>
                        <a:avLst/>
                        <a:gdLst/>
                        <a:ahLst/>
                        <a:rect l="l" t="t" r="r" b="b"/>
                        <a:pathLst>
                          <a:path w="608" h="450">
                            <a:moveTo>
                              <a:pt x="150" y="23"/>
                            </a:moveTo>
                            <a:lnTo>
                              <a:pt x="107" y="39"/>
                            </a:lnTo>
                            <a:lnTo>
                              <a:pt x="69" y="56"/>
                            </a:lnTo>
                            <a:lnTo>
                              <a:pt x="38" y="76"/>
                            </a:lnTo>
                            <a:lnTo>
                              <a:pt x="15" y="102"/>
                            </a:lnTo>
                            <a:lnTo>
                              <a:pt x="0" y="132"/>
                            </a:lnTo>
                            <a:lnTo>
                              <a:pt x="0" y="152"/>
                            </a:lnTo>
                            <a:lnTo>
                              <a:pt x="4" y="172"/>
                            </a:lnTo>
                            <a:lnTo>
                              <a:pt x="11" y="195"/>
                            </a:lnTo>
                            <a:lnTo>
                              <a:pt x="19" y="218"/>
                            </a:lnTo>
                            <a:lnTo>
                              <a:pt x="38" y="248"/>
                            </a:lnTo>
                            <a:lnTo>
                              <a:pt x="57" y="277"/>
                            </a:lnTo>
                            <a:lnTo>
                              <a:pt x="69" y="290"/>
                            </a:lnTo>
                            <a:lnTo>
                              <a:pt x="84" y="297"/>
                            </a:lnTo>
                            <a:lnTo>
                              <a:pt x="115" y="307"/>
                            </a:lnTo>
                            <a:lnTo>
                              <a:pt x="150" y="310"/>
                            </a:lnTo>
                            <a:lnTo>
                              <a:pt x="184" y="314"/>
                            </a:lnTo>
                            <a:lnTo>
                              <a:pt x="215" y="320"/>
                            </a:lnTo>
                            <a:lnTo>
                              <a:pt x="249" y="324"/>
                            </a:lnTo>
                            <a:lnTo>
                              <a:pt x="322" y="333"/>
                            </a:lnTo>
                            <a:lnTo>
                              <a:pt x="399" y="343"/>
                            </a:lnTo>
                            <a:lnTo>
                              <a:pt x="430" y="347"/>
                            </a:lnTo>
                            <a:lnTo>
                              <a:pt x="461" y="350"/>
                            </a:lnTo>
                            <a:lnTo>
                              <a:pt x="461" y="373"/>
                            </a:lnTo>
                            <a:lnTo>
                              <a:pt x="461" y="400"/>
                            </a:lnTo>
                            <a:lnTo>
                              <a:pt x="465" y="423"/>
                            </a:lnTo>
                            <a:lnTo>
                              <a:pt x="468" y="433"/>
                            </a:lnTo>
                            <a:lnTo>
                              <a:pt x="476" y="439"/>
                            </a:lnTo>
                            <a:lnTo>
                              <a:pt x="507" y="449"/>
                            </a:lnTo>
                            <a:lnTo>
                              <a:pt x="538" y="449"/>
                            </a:lnTo>
                            <a:lnTo>
                              <a:pt x="568" y="439"/>
                            </a:lnTo>
                            <a:lnTo>
                              <a:pt x="588" y="423"/>
                            </a:lnTo>
                            <a:lnTo>
                              <a:pt x="603" y="383"/>
                            </a:lnTo>
                            <a:lnTo>
                              <a:pt x="607" y="347"/>
                            </a:lnTo>
                            <a:lnTo>
                              <a:pt x="599" y="317"/>
                            </a:lnTo>
                            <a:lnTo>
                              <a:pt x="584" y="290"/>
                            </a:lnTo>
                            <a:lnTo>
                              <a:pt x="561" y="267"/>
                            </a:lnTo>
                            <a:lnTo>
                              <a:pt x="534" y="248"/>
                            </a:lnTo>
                            <a:lnTo>
                              <a:pt x="503" y="234"/>
                            </a:lnTo>
                            <a:lnTo>
                              <a:pt x="476" y="221"/>
                            </a:lnTo>
                            <a:lnTo>
                              <a:pt x="472" y="195"/>
                            </a:lnTo>
                            <a:lnTo>
                              <a:pt x="468" y="181"/>
                            </a:lnTo>
                            <a:lnTo>
                              <a:pt x="461" y="168"/>
                            </a:lnTo>
                            <a:lnTo>
                              <a:pt x="449" y="158"/>
                            </a:lnTo>
                            <a:lnTo>
                              <a:pt x="434" y="155"/>
                            </a:lnTo>
                            <a:lnTo>
                              <a:pt x="419" y="155"/>
                            </a:lnTo>
                            <a:lnTo>
                              <a:pt x="403" y="148"/>
                            </a:lnTo>
                            <a:lnTo>
                              <a:pt x="376" y="132"/>
                            </a:lnTo>
                            <a:lnTo>
                              <a:pt x="349" y="112"/>
                            </a:lnTo>
                            <a:lnTo>
                              <a:pt x="334" y="96"/>
                            </a:lnTo>
                            <a:lnTo>
                              <a:pt x="315" y="76"/>
                            </a:lnTo>
                            <a:lnTo>
                              <a:pt x="299" y="69"/>
                            </a:lnTo>
                            <a:lnTo>
                              <a:pt x="284" y="63"/>
                            </a:lnTo>
                            <a:lnTo>
                              <a:pt x="246" y="53"/>
                            </a:lnTo>
                            <a:lnTo>
                              <a:pt x="230" y="46"/>
                            </a:lnTo>
                            <a:lnTo>
                              <a:pt x="215" y="43"/>
                            </a:lnTo>
                            <a:lnTo>
                              <a:pt x="207" y="39"/>
                            </a:lnTo>
                            <a:lnTo>
                              <a:pt x="203" y="39"/>
                            </a:lnTo>
                            <a:lnTo>
                              <a:pt x="184" y="26"/>
                            </a:lnTo>
                            <a:lnTo>
                              <a:pt x="173" y="16"/>
                            </a:lnTo>
                            <a:lnTo>
                              <a:pt x="161" y="6"/>
                            </a:lnTo>
                            <a:lnTo>
                              <a:pt x="153" y="3"/>
                            </a:lnTo>
                            <a:lnTo>
                              <a:pt x="153" y="0"/>
                            </a:lnTo>
                            <a:lnTo>
                              <a:pt x="150" y="3"/>
                            </a:lnTo>
                            <a:lnTo>
                              <a:pt x="150" y="10"/>
                            </a:lnTo>
                            <a:lnTo>
                              <a:pt x="150" y="23"/>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575400" y="1702440"/>
                        <a:ext cx="541080" cy="271440"/>
                      </a:xfrm>
                      <a:custGeom>
                        <a:avLst/>
                        <a:gdLst/>
                        <a:ahLst/>
                        <a:rect l="l" t="t" r="r" b="b"/>
                        <a:pathLst>
                          <a:path w="660" h="316">
                            <a:moveTo>
                              <a:pt x="67" y="50"/>
                            </a:moveTo>
                            <a:lnTo>
                              <a:pt x="25" y="124"/>
                            </a:lnTo>
                            <a:lnTo>
                              <a:pt x="8" y="159"/>
                            </a:lnTo>
                            <a:lnTo>
                              <a:pt x="0" y="195"/>
                            </a:lnTo>
                            <a:lnTo>
                              <a:pt x="8" y="227"/>
                            </a:lnTo>
                            <a:lnTo>
                              <a:pt x="33" y="258"/>
                            </a:lnTo>
                            <a:lnTo>
                              <a:pt x="67" y="287"/>
                            </a:lnTo>
                            <a:lnTo>
                              <a:pt x="135" y="311"/>
                            </a:lnTo>
                            <a:lnTo>
                              <a:pt x="152" y="315"/>
                            </a:lnTo>
                            <a:lnTo>
                              <a:pt x="169" y="315"/>
                            </a:lnTo>
                            <a:lnTo>
                              <a:pt x="186" y="311"/>
                            </a:lnTo>
                            <a:lnTo>
                              <a:pt x="202" y="304"/>
                            </a:lnTo>
                            <a:lnTo>
                              <a:pt x="228" y="287"/>
                            </a:lnTo>
                            <a:lnTo>
                              <a:pt x="262" y="272"/>
                            </a:lnTo>
                            <a:lnTo>
                              <a:pt x="321" y="248"/>
                            </a:lnTo>
                            <a:lnTo>
                              <a:pt x="388" y="212"/>
                            </a:lnTo>
                            <a:lnTo>
                              <a:pt x="456" y="181"/>
                            </a:lnTo>
                            <a:lnTo>
                              <a:pt x="507" y="152"/>
                            </a:lnTo>
                            <a:lnTo>
                              <a:pt x="524" y="173"/>
                            </a:lnTo>
                            <a:lnTo>
                              <a:pt x="541" y="195"/>
                            </a:lnTo>
                            <a:lnTo>
                              <a:pt x="558" y="209"/>
                            </a:lnTo>
                            <a:lnTo>
                              <a:pt x="566" y="216"/>
                            </a:lnTo>
                            <a:lnTo>
                              <a:pt x="574" y="216"/>
                            </a:lnTo>
                            <a:lnTo>
                              <a:pt x="600" y="209"/>
                            </a:lnTo>
                            <a:lnTo>
                              <a:pt x="634" y="191"/>
                            </a:lnTo>
                            <a:lnTo>
                              <a:pt x="651" y="166"/>
                            </a:lnTo>
                            <a:lnTo>
                              <a:pt x="659" y="142"/>
                            </a:lnTo>
                            <a:lnTo>
                              <a:pt x="651" y="99"/>
                            </a:lnTo>
                            <a:lnTo>
                              <a:pt x="634" y="67"/>
                            </a:lnTo>
                            <a:lnTo>
                              <a:pt x="608" y="46"/>
                            </a:lnTo>
                            <a:lnTo>
                              <a:pt x="583" y="32"/>
                            </a:lnTo>
                            <a:lnTo>
                              <a:pt x="549" y="25"/>
                            </a:lnTo>
                            <a:lnTo>
                              <a:pt x="515" y="25"/>
                            </a:lnTo>
                            <a:lnTo>
                              <a:pt x="490" y="29"/>
                            </a:lnTo>
                            <a:lnTo>
                              <a:pt x="456" y="36"/>
                            </a:lnTo>
                            <a:lnTo>
                              <a:pt x="448" y="25"/>
                            </a:lnTo>
                            <a:lnTo>
                              <a:pt x="431" y="14"/>
                            </a:lnTo>
                            <a:lnTo>
                              <a:pt x="422" y="7"/>
                            </a:lnTo>
                            <a:lnTo>
                              <a:pt x="405" y="0"/>
                            </a:lnTo>
                            <a:lnTo>
                              <a:pt x="397" y="0"/>
                            </a:lnTo>
                            <a:lnTo>
                              <a:pt x="380" y="7"/>
                            </a:lnTo>
                            <a:lnTo>
                              <a:pt x="372" y="11"/>
                            </a:lnTo>
                            <a:lnTo>
                              <a:pt x="355" y="14"/>
                            </a:lnTo>
                            <a:lnTo>
                              <a:pt x="321" y="18"/>
                            </a:lnTo>
                            <a:lnTo>
                              <a:pt x="287" y="14"/>
                            </a:lnTo>
                            <a:lnTo>
                              <a:pt x="279" y="14"/>
                            </a:lnTo>
                            <a:lnTo>
                              <a:pt x="262" y="11"/>
                            </a:lnTo>
                            <a:lnTo>
                              <a:pt x="253" y="7"/>
                            </a:lnTo>
                            <a:lnTo>
                              <a:pt x="236" y="7"/>
                            </a:lnTo>
                            <a:lnTo>
                              <a:pt x="202" y="14"/>
                            </a:lnTo>
                            <a:lnTo>
                              <a:pt x="169" y="22"/>
                            </a:lnTo>
                            <a:lnTo>
                              <a:pt x="143" y="32"/>
                            </a:lnTo>
                            <a:lnTo>
                              <a:pt x="126" y="36"/>
                            </a:lnTo>
                            <a:lnTo>
                              <a:pt x="84" y="32"/>
                            </a:lnTo>
                            <a:lnTo>
                              <a:pt x="67" y="32"/>
                            </a:lnTo>
                            <a:lnTo>
                              <a:pt x="59" y="36"/>
                            </a:lnTo>
                            <a:lnTo>
                              <a:pt x="59" y="39"/>
                            </a:lnTo>
                            <a:lnTo>
                              <a:pt x="67" y="5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71080" y="2853360"/>
                        <a:ext cx="532080" cy="273960"/>
                      </a:xfrm>
                      <a:custGeom>
                        <a:avLst/>
                        <a:gdLst/>
                        <a:ahLst/>
                        <a:rect l="l" t="t" r="r" b="b"/>
                        <a:pathLst>
                          <a:path w="649" h="319">
                            <a:moveTo>
                              <a:pt x="67" y="51"/>
                            </a:moveTo>
                            <a:lnTo>
                              <a:pt x="20" y="125"/>
                            </a:lnTo>
                            <a:lnTo>
                              <a:pt x="7" y="159"/>
                            </a:lnTo>
                            <a:lnTo>
                              <a:pt x="0" y="193"/>
                            </a:lnTo>
                            <a:lnTo>
                              <a:pt x="7" y="221"/>
                            </a:lnTo>
                            <a:lnTo>
                              <a:pt x="27" y="255"/>
                            </a:lnTo>
                            <a:lnTo>
                              <a:pt x="74" y="284"/>
                            </a:lnTo>
                            <a:lnTo>
                              <a:pt x="134" y="312"/>
                            </a:lnTo>
                            <a:lnTo>
                              <a:pt x="167" y="318"/>
                            </a:lnTo>
                            <a:lnTo>
                              <a:pt x="194" y="306"/>
                            </a:lnTo>
                            <a:lnTo>
                              <a:pt x="227" y="289"/>
                            </a:lnTo>
                            <a:lnTo>
                              <a:pt x="254" y="272"/>
                            </a:lnTo>
                            <a:lnTo>
                              <a:pt x="314" y="244"/>
                            </a:lnTo>
                            <a:lnTo>
                              <a:pt x="381" y="215"/>
                            </a:lnTo>
                            <a:lnTo>
                              <a:pt x="448" y="181"/>
                            </a:lnTo>
                            <a:lnTo>
                              <a:pt x="508" y="153"/>
                            </a:lnTo>
                            <a:lnTo>
                              <a:pt x="521" y="176"/>
                            </a:lnTo>
                            <a:lnTo>
                              <a:pt x="535" y="198"/>
                            </a:lnTo>
                            <a:lnTo>
                              <a:pt x="548" y="215"/>
                            </a:lnTo>
                            <a:lnTo>
                              <a:pt x="568" y="221"/>
                            </a:lnTo>
                            <a:lnTo>
                              <a:pt x="602" y="210"/>
                            </a:lnTo>
                            <a:lnTo>
                              <a:pt x="628" y="193"/>
                            </a:lnTo>
                            <a:lnTo>
                              <a:pt x="642" y="170"/>
                            </a:lnTo>
                            <a:lnTo>
                              <a:pt x="648" y="147"/>
                            </a:lnTo>
                            <a:lnTo>
                              <a:pt x="642" y="102"/>
                            </a:lnTo>
                            <a:lnTo>
                              <a:pt x="628" y="74"/>
                            </a:lnTo>
                            <a:lnTo>
                              <a:pt x="602" y="51"/>
                            </a:lnTo>
                            <a:lnTo>
                              <a:pt x="575" y="34"/>
                            </a:lnTo>
                            <a:lnTo>
                              <a:pt x="548" y="28"/>
                            </a:lnTo>
                            <a:lnTo>
                              <a:pt x="515" y="28"/>
                            </a:lnTo>
                            <a:lnTo>
                              <a:pt x="448" y="39"/>
                            </a:lnTo>
                            <a:lnTo>
                              <a:pt x="428" y="17"/>
                            </a:lnTo>
                            <a:lnTo>
                              <a:pt x="421" y="5"/>
                            </a:lnTo>
                            <a:lnTo>
                              <a:pt x="408" y="0"/>
                            </a:lnTo>
                            <a:lnTo>
                              <a:pt x="394" y="5"/>
                            </a:lnTo>
                            <a:lnTo>
                              <a:pt x="381" y="11"/>
                            </a:lnTo>
                            <a:lnTo>
                              <a:pt x="361" y="17"/>
                            </a:lnTo>
                            <a:lnTo>
                              <a:pt x="348" y="17"/>
                            </a:lnTo>
                            <a:lnTo>
                              <a:pt x="287" y="17"/>
                            </a:lnTo>
                            <a:lnTo>
                              <a:pt x="261" y="11"/>
                            </a:lnTo>
                            <a:lnTo>
                              <a:pt x="234" y="5"/>
                            </a:lnTo>
                            <a:lnTo>
                              <a:pt x="201" y="11"/>
                            </a:lnTo>
                            <a:lnTo>
                              <a:pt x="160" y="22"/>
                            </a:lnTo>
                            <a:lnTo>
                              <a:pt x="134" y="28"/>
                            </a:lnTo>
                            <a:lnTo>
                              <a:pt x="127" y="34"/>
                            </a:lnTo>
                            <a:lnTo>
                              <a:pt x="120" y="34"/>
                            </a:lnTo>
                            <a:lnTo>
                              <a:pt x="80" y="34"/>
                            </a:lnTo>
                            <a:lnTo>
                              <a:pt x="60" y="28"/>
                            </a:lnTo>
                            <a:lnTo>
                              <a:pt x="60" y="34"/>
                            </a:lnTo>
                            <a:lnTo>
                              <a:pt x="67" y="51"/>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819520" y="1240200"/>
                      <a:ext cx="4491720" cy="212040"/>
                    </a:xfrm>
                    <a:custGeom>
                      <a:avLst/>
                      <a:gdLst/>
                      <a:ahLst/>
                      <a:rect l="l" t="t" r="r" b="b"/>
                      <a:pathLst>
                        <a:path w="5478" h="247">
                          <a:moveTo>
                            <a:pt x="0" y="241"/>
                          </a:moveTo>
                          <a:lnTo>
                            <a:pt x="424" y="157"/>
                          </a:lnTo>
                          <a:lnTo>
                            <a:pt x="627" y="118"/>
                          </a:lnTo>
                          <a:lnTo>
                            <a:pt x="822" y="82"/>
                          </a:lnTo>
                          <a:lnTo>
                            <a:pt x="1007" y="52"/>
                          </a:lnTo>
                          <a:lnTo>
                            <a:pt x="1184" y="28"/>
                          </a:lnTo>
                          <a:lnTo>
                            <a:pt x="1343" y="11"/>
                          </a:lnTo>
                          <a:lnTo>
                            <a:pt x="1493" y="3"/>
                          </a:lnTo>
                          <a:lnTo>
                            <a:pt x="1564" y="3"/>
                          </a:lnTo>
                          <a:lnTo>
                            <a:pt x="1617" y="8"/>
                          </a:lnTo>
                          <a:lnTo>
                            <a:pt x="1679" y="13"/>
                          </a:lnTo>
                          <a:lnTo>
                            <a:pt x="1732" y="23"/>
                          </a:lnTo>
                          <a:lnTo>
                            <a:pt x="1820" y="49"/>
                          </a:lnTo>
                          <a:lnTo>
                            <a:pt x="1899" y="80"/>
                          </a:lnTo>
                          <a:lnTo>
                            <a:pt x="1979" y="113"/>
                          </a:lnTo>
                          <a:lnTo>
                            <a:pt x="2050" y="146"/>
                          </a:lnTo>
                          <a:lnTo>
                            <a:pt x="2129" y="174"/>
                          </a:lnTo>
                          <a:lnTo>
                            <a:pt x="2164" y="187"/>
                          </a:lnTo>
                          <a:lnTo>
                            <a:pt x="2209" y="195"/>
                          </a:lnTo>
                          <a:lnTo>
                            <a:pt x="2403" y="221"/>
                          </a:lnTo>
                          <a:lnTo>
                            <a:pt x="2509" y="231"/>
                          </a:lnTo>
                          <a:lnTo>
                            <a:pt x="2606" y="239"/>
                          </a:lnTo>
                          <a:lnTo>
                            <a:pt x="2703" y="244"/>
                          </a:lnTo>
                          <a:lnTo>
                            <a:pt x="2792" y="246"/>
                          </a:lnTo>
                          <a:lnTo>
                            <a:pt x="2862" y="246"/>
                          </a:lnTo>
                          <a:lnTo>
                            <a:pt x="2933" y="241"/>
                          </a:lnTo>
                          <a:lnTo>
                            <a:pt x="2986" y="233"/>
                          </a:lnTo>
                          <a:lnTo>
                            <a:pt x="3021" y="218"/>
                          </a:lnTo>
                          <a:lnTo>
                            <a:pt x="3048" y="200"/>
                          </a:lnTo>
                          <a:lnTo>
                            <a:pt x="3074" y="180"/>
                          </a:lnTo>
                          <a:lnTo>
                            <a:pt x="3110" y="136"/>
                          </a:lnTo>
                          <a:lnTo>
                            <a:pt x="3136" y="116"/>
                          </a:lnTo>
                          <a:lnTo>
                            <a:pt x="3171" y="98"/>
                          </a:lnTo>
                          <a:lnTo>
                            <a:pt x="3216" y="82"/>
                          </a:lnTo>
                          <a:lnTo>
                            <a:pt x="3251" y="64"/>
                          </a:lnTo>
                          <a:lnTo>
                            <a:pt x="3295" y="46"/>
                          </a:lnTo>
                          <a:lnTo>
                            <a:pt x="3348" y="28"/>
                          </a:lnTo>
                          <a:lnTo>
                            <a:pt x="3392" y="16"/>
                          </a:lnTo>
                          <a:lnTo>
                            <a:pt x="3445" y="5"/>
                          </a:lnTo>
                          <a:lnTo>
                            <a:pt x="3498" y="0"/>
                          </a:lnTo>
                          <a:lnTo>
                            <a:pt x="3560" y="3"/>
                          </a:lnTo>
                          <a:lnTo>
                            <a:pt x="3587" y="8"/>
                          </a:lnTo>
                          <a:lnTo>
                            <a:pt x="3622" y="13"/>
                          </a:lnTo>
                          <a:lnTo>
                            <a:pt x="3684" y="34"/>
                          </a:lnTo>
                          <a:lnTo>
                            <a:pt x="3754" y="62"/>
                          </a:lnTo>
                          <a:lnTo>
                            <a:pt x="3825" y="92"/>
                          </a:lnTo>
                          <a:lnTo>
                            <a:pt x="3896" y="123"/>
                          </a:lnTo>
                          <a:lnTo>
                            <a:pt x="3966" y="154"/>
                          </a:lnTo>
                          <a:lnTo>
                            <a:pt x="4028" y="177"/>
                          </a:lnTo>
                          <a:lnTo>
                            <a:pt x="4055" y="187"/>
                          </a:lnTo>
                          <a:lnTo>
                            <a:pt x="4081" y="195"/>
                          </a:lnTo>
                          <a:lnTo>
                            <a:pt x="4125" y="203"/>
                          </a:lnTo>
                          <a:lnTo>
                            <a:pt x="4170" y="208"/>
                          </a:lnTo>
                          <a:lnTo>
                            <a:pt x="4196" y="208"/>
                          </a:lnTo>
                          <a:lnTo>
                            <a:pt x="4231" y="208"/>
                          </a:lnTo>
                          <a:lnTo>
                            <a:pt x="4284" y="200"/>
                          </a:lnTo>
                          <a:lnTo>
                            <a:pt x="4329" y="198"/>
                          </a:lnTo>
                          <a:lnTo>
                            <a:pt x="4373" y="195"/>
                          </a:lnTo>
                          <a:lnTo>
                            <a:pt x="4435" y="195"/>
                          </a:lnTo>
                          <a:lnTo>
                            <a:pt x="4505" y="198"/>
                          </a:lnTo>
                          <a:lnTo>
                            <a:pt x="4664" y="200"/>
                          </a:lnTo>
                          <a:lnTo>
                            <a:pt x="4823" y="203"/>
                          </a:lnTo>
                          <a:lnTo>
                            <a:pt x="4894" y="200"/>
                          </a:lnTo>
                          <a:lnTo>
                            <a:pt x="4947" y="195"/>
                          </a:lnTo>
                          <a:lnTo>
                            <a:pt x="4991" y="185"/>
                          </a:lnTo>
                          <a:lnTo>
                            <a:pt x="5035" y="172"/>
                          </a:lnTo>
                          <a:lnTo>
                            <a:pt x="5062" y="154"/>
                          </a:lnTo>
                          <a:lnTo>
                            <a:pt x="5088" y="136"/>
                          </a:lnTo>
                          <a:lnTo>
                            <a:pt x="5106" y="121"/>
                          </a:lnTo>
                          <a:lnTo>
                            <a:pt x="5132" y="108"/>
                          </a:lnTo>
                          <a:lnTo>
                            <a:pt x="5159" y="100"/>
                          </a:lnTo>
                          <a:lnTo>
                            <a:pt x="5185" y="98"/>
                          </a:lnTo>
                          <a:lnTo>
                            <a:pt x="5221" y="105"/>
                          </a:lnTo>
                          <a:lnTo>
                            <a:pt x="5256" y="121"/>
                          </a:lnTo>
                          <a:lnTo>
                            <a:pt x="5300" y="141"/>
                          </a:lnTo>
                          <a:lnTo>
                            <a:pt x="5344" y="164"/>
                          </a:lnTo>
                          <a:lnTo>
                            <a:pt x="5380" y="187"/>
                          </a:lnTo>
                          <a:lnTo>
                            <a:pt x="5415" y="210"/>
                          </a:lnTo>
                          <a:lnTo>
                            <a:pt x="5450" y="228"/>
                          </a:lnTo>
                          <a:lnTo>
                            <a:pt x="5477" y="241"/>
                          </a:lnTo>
                        </a:path>
                      </a:pathLst>
                    </a:custGeom>
                    <a:noFill/>
                    <a:ln cap="rnd" w="507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820240" y="3221280"/>
                      <a:ext cx="4569840" cy="249840"/>
                    </a:xfrm>
                    <a:custGeom>
                      <a:avLst/>
                      <a:gdLst/>
                      <a:ahLst/>
                      <a:rect l="l" t="t" r="r" b="b"/>
                      <a:pathLst>
                        <a:path w="5573" h="291">
                          <a:moveTo>
                            <a:pt x="0" y="290"/>
                          </a:moveTo>
                          <a:lnTo>
                            <a:pt x="180" y="240"/>
                          </a:lnTo>
                          <a:lnTo>
                            <a:pt x="350" y="196"/>
                          </a:lnTo>
                          <a:lnTo>
                            <a:pt x="503" y="164"/>
                          </a:lnTo>
                          <a:lnTo>
                            <a:pt x="629" y="145"/>
                          </a:lnTo>
                          <a:lnTo>
                            <a:pt x="683" y="145"/>
                          </a:lnTo>
                          <a:lnTo>
                            <a:pt x="719" y="158"/>
                          </a:lnTo>
                          <a:lnTo>
                            <a:pt x="782" y="183"/>
                          </a:lnTo>
                          <a:lnTo>
                            <a:pt x="845" y="221"/>
                          </a:lnTo>
                          <a:lnTo>
                            <a:pt x="872" y="233"/>
                          </a:lnTo>
                          <a:lnTo>
                            <a:pt x="917" y="240"/>
                          </a:lnTo>
                          <a:lnTo>
                            <a:pt x="1015" y="252"/>
                          </a:lnTo>
                          <a:lnTo>
                            <a:pt x="1132" y="265"/>
                          </a:lnTo>
                          <a:lnTo>
                            <a:pt x="1249" y="259"/>
                          </a:lnTo>
                          <a:lnTo>
                            <a:pt x="1303" y="252"/>
                          </a:lnTo>
                          <a:lnTo>
                            <a:pt x="1348" y="240"/>
                          </a:lnTo>
                          <a:lnTo>
                            <a:pt x="1384" y="221"/>
                          </a:lnTo>
                          <a:lnTo>
                            <a:pt x="1411" y="189"/>
                          </a:lnTo>
                          <a:lnTo>
                            <a:pt x="1429" y="151"/>
                          </a:lnTo>
                          <a:lnTo>
                            <a:pt x="1447" y="114"/>
                          </a:lnTo>
                          <a:lnTo>
                            <a:pt x="1465" y="76"/>
                          </a:lnTo>
                          <a:lnTo>
                            <a:pt x="1483" y="38"/>
                          </a:lnTo>
                          <a:lnTo>
                            <a:pt x="1510" y="13"/>
                          </a:lnTo>
                          <a:lnTo>
                            <a:pt x="1537" y="0"/>
                          </a:lnTo>
                          <a:lnTo>
                            <a:pt x="1573" y="0"/>
                          </a:lnTo>
                          <a:lnTo>
                            <a:pt x="1600" y="13"/>
                          </a:lnTo>
                          <a:lnTo>
                            <a:pt x="1627" y="32"/>
                          </a:lnTo>
                          <a:lnTo>
                            <a:pt x="1663" y="57"/>
                          </a:lnTo>
                          <a:lnTo>
                            <a:pt x="1699" y="82"/>
                          </a:lnTo>
                          <a:lnTo>
                            <a:pt x="1743" y="107"/>
                          </a:lnTo>
                          <a:lnTo>
                            <a:pt x="1806" y="126"/>
                          </a:lnTo>
                          <a:lnTo>
                            <a:pt x="1878" y="145"/>
                          </a:lnTo>
                          <a:lnTo>
                            <a:pt x="1968" y="158"/>
                          </a:lnTo>
                          <a:lnTo>
                            <a:pt x="2085" y="177"/>
                          </a:lnTo>
                          <a:lnTo>
                            <a:pt x="2220" y="189"/>
                          </a:lnTo>
                          <a:lnTo>
                            <a:pt x="2355" y="202"/>
                          </a:lnTo>
                          <a:lnTo>
                            <a:pt x="2489" y="214"/>
                          </a:lnTo>
                          <a:lnTo>
                            <a:pt x="2624" y="227"/>
                          </a:lnTo>
                          <a:lnTo>
                            <a:pt x="2741" y="233"/>
                          </a:lnTo>
                          <a:lnTo>
                            <a:pt x="2831" y="240"/>
                          </a:lnTo>
                          <a:lnTo>
                            <a:pt x="2903" y="246"/>
                          </a:lnTo>
                          <a:lnTo>
                            <a:pt x="2948" y="252"/>
                          </a:lnTo>
                          <a:lnTo>
                            <a:pt x="2984" y="252"/>
                          </a:lnTo>
                          <a:lnTo>
                            <a:pt x="3011" y="259"/>
                          </a:lnTo>
                          <a:lnTo>
                            <a:pt x="3038" y="259"/>
                          </a:lnTo>
                          <a:lnTo>
                            <a:pt x="3074" y="252"/>
                          </a:lnTo>
                          <a:lnTo>
                            <a:pt x="3110" y="246"/>
                          </a:lnTo>
                          <a:lnTo>
                            <a:pt x="3172" y="240"/>
                          </a:lnTo>
                          <a:lnTo>
                            <a:pt x="3253" y="227"/>
                          </a:lnTo>
                          <a:lnTo>
                            <a:pt x="3343" y="208"/>
                          </a:lnTo>
                          <a:lnTo>
                            <a:pt x="3442" y="189"/>
                          </a:lnTo>
                          <a:lnTo>
                            <a:pt x="3550" y="170"/>
                          </a:lnTo>
                          <a:lnTo>
                            <a:pt x="3658" y="145"/>
                          </a:lnTo>
                          <a:lnTo>
                            <a:pt x="3766" y="126"/>
                          </a:lnTo>
                          <a:lnTo>
                            <a:pt x="3855" y="107"/>
                          </a:lnTo>
                          <a:lnTo>
                            <a:pt x="3936" y="95"/>
                          </a:lnTo>
                          <a:lnTo>
                            <a:pt x="3999" y="88"/>
                          </a:lnTo>
                          <a:lnTo>
                            <a:pt x="4053" y="88"/>
                          </a:lnTo>
                          <a:lnTo>
                            <a:pt x="4098" y="88"/>
                          </a:lnTo>
                          <a:lnTo>
                            <a:pt x="4143" y="88"/>
                          </a:lnTo>
                          <a:lnTo>
                            <a:pt x="4215" y="95"/>
                          </a:lnTo>
                          <a:lnTo>
                            <a:pt x="4269" y="95"/>
                          </a:lnTo>
                          <a:lnTo>
                            <a:pt x="4323" y="95"/>
                          </a:lnTo>
                          <a:lnTo>
                            <a:pt x="4395" y="95"/>
                          </a:lnTo>
                          <a:lnTo>
                            <a:pt x="4467" y="95"/>
                          </a:lnTo>
                          <a:lnTo>
                            <a:pt x="4637" y="88"/>
                          </a:lnTo>
                          <a:lnTo>
                            <a:pt x="4799" y="88"/>
                          </a:lnTo>
                          <a:lnTo>
                            <a:pt x="4880" y="88"/>
                          </a:lnTo>
                          <a:lnTo>
                            <a:pt x="4943" y="95"/>
                          </a:lnTo>
                          <a:lnTo>
                            <a:pt x="5060" y="114"/>
                          </a:lnTo>
                          <a:lnTo>
                            <a:pt x="5168" y="145"/>
                          </a:lnTo>
                          <a:lnTo>
                            <a:pt x="5248" y="177"/>
                          </a:lnTo>
                          <a:lnTo>
                            <a:pt x="5329" y="196"/>
                          </a:lnTo>
                          <a:lnTo>
                            <a:pt x="5401" y="202"/>
                          </a:lnTo>
                          <a:lnTo>
                            <a:pt x="5464" y="202"/>
                          </a:lnTo>
                          <a:lnTo>
                            <a:pt x="5572" y="196"/>
                          </a:lnTo>
                        </a:path>
                      </a:pathLst>
                    </a:custGeom>
                    <a:noFill/>
                    <a:ln cap="rnd" w="507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5901480" y="1067040"/>
                    <a:ext cx="853560" cy="5155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ax</a:t>
                    </a:r>
                    <a:endParaRPr b="0" lang="en-US" sz="2800" spc="-1" strike="noStrike">
                      <a:solidFill>
                        <a:srgbClr val="000000"/>
                      </a:solidFill>
                      <a:latin typeface="Times New Roman"/>
                    </a:endParaRPr>
                  </a:p>
                </p:txBody>
              </p:sp>
            </p:grpSp>
            <p:sp>
              <p:nvSpPr>
                <p:cNvPr id="228" name=""/>
                <p:cNvSpPr/>
                <p:nvPr/>
              </p:nvSpPr>
              <p:spPr>
                <a:xfrm>
                  <a:off x="4235400" y="2222640"/>
                  <a:ext cx="952560" cy="5155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a:t>
                  </a:r>
                  <a:endParaRPr b="0" lang="en-US" sz="2800" spc="-1" strike="noStrike">
                    <a:solidFill>
                      <a:srgbClr val="000000"/>
                    </a:solidFill>
                    <a:latin typeface="Times New Roman"/>
                  </a:endParaRPr>
                </a:p>
              </p:txBody>
            </p:sp>
          </p:grpSp>
          <p:grpSp>
            <p:nvGrpSpPr>
              <p:cNvPr id="229" name=""/>
              <p:cNvGrpSpPr/>
              <p:nvPr/>
            </p:nvGrpSpPr>
            <p:grpSpPr>
              <a:xfrm>
                <a:off x="2971800" y="3962160"/>
                <a:ext cx="4570200" cy="2302920"/>
                <a:chOff x="2971800" y="3962160"/>
                <a:chExt cx="4570200" cy="2302920"/>
              </a:xfrm>
            </p:grpSpPr>
            <p:grpSp>
              <p:nvGrpSpPr>
                <p:cNvPr id="230" name=""/>
                <p:cNvGrpSpPr/>
                <p:nvPr/>
              </p:nvGrpSpPr>
              <p:grpSpPr>
                <a:xfrm>
                  <a:off x="3176280" y="4224960"/>
                  <a:ext cx="4210560" cy="1676880"/>
                  <a:chOff x="3176280" y="4224960"/>
                  <a:chExt cx="4210560" cy="1676880"/>
                </a:xfrm>
              </p:grpSpPr>
              <p:grpSp>
                <p:nvGrpSpPr>
                  <p:cNvPr id="231" name=""/>
                  <p:cNvGrpSpPr/>
                  <p:nvPr/>
                </p:nvGrpSpPr>
                <p:grpSpPr>
                  <a:xfrm>
                    <a:off x="3176280" y="4611960"/>
                    <a:ext cx="4072680" cy="979200"/>
                    <a:chOff x="3176280" y="4611960"/>
                    <a:chExt cx="4072680" cy="979200"/>
                  </a:xfrm>
                </p:grpSpPr>
                <p:sp>
                  <p:nvSpPr>
                    <p:cNvPr id="232" name=""/>
                    <p:cNvSpPr/>
                    <p:nvPr/>
                  </p:nvSpPr>
                  <p:spPr>
                    <a:xfrm>
                      <a:off x="3176280" y="4611960"/>
                      <a:ext cx="4020120" cy="274680"/>
                    </a:xfrm>
                    <a:custGeom>
                      <a:avLst/>
                      <a:gdLst/>
                      <a:ahLst/>
                      <a:rect l="l" t="t" r="r" b="b"/>
                      <a:pathLst>
                        <a:path w="4952" h="325">
                          <a:moveTo>
                            <a:pt x="0" y="174"/>
                          </a:moveTo>
                          <a:lnTo>
                            <a:pt x="977" y="299"/>
                          </a:lnTo>
                          <a:lnTo>
                            <a:pt x="745" y="0"/>
                          </a:lnTo>
                          <a:lnTo>
                            <a:pt x="1710" y="299"/>
                          </a:lnTo>
                          <a:lnTo>
                            <a:pt x="1479" y="0"/>
                          </a:lnTo>
                          <a:lnTo>
                            <a:pt x="2585" y="311"/>
                          </a:lnTo>
                          <a:lnTo>
                            <a:pt x="2315" y="25"/>
                          </a:lnTo>
                          <a:lnTo>
                            <a:pt x="3241" y="324"/>
                          </a:lnTo>
                          <a:lnTo>
                            <a:pt x="2945" y="25"/>
                          </a:lnTo>
                          <a:lnTo>
                            <a:pt x="4038" y="324"/>
                          </a:lnTo>
                          <a:lnTo>
                            <a:pt x="3677" y="13"/>
                          </a:lnTo>
                          <a:lnTo>
                            <a:pt x="4951" y="311"/>
                          </a:lnTo>
                          <a:lnTo>
                            <a:pt x="4938" y="3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228840" y="5316480"/>
                      <a:ext cx="4020120" cy="274680"/>
                    </a:xfrm>
                    <a:custGeom>
                      <a:avLst/>
                      <a:gdLst/>
                      <a:ahLst/>
                      <a:rect l="l" t="t" r="r" b="b"/>
                      <a:pathLst>
                        <a:path w="4952" h="325">
                          <a:moveTo>
                            <a:pt x="0" y="149"/>
                          </a:moveTo>
                          <a:lnTo>
                            <a:pt x="977" y="24"/>
                          </a:lnTo>
                          <a:lnTo>
                            <a:pt x="746" y="324"/>
                          </a:lnTo>
                          <a:lnTo>
                            <a:pt x="1710" y="24"/>
                          </a:lnTo>
                          <a:lnTo>
                            <a:pt x="1479" y="324"/>
                          </a:lnTo>
                          <a:lnTo>
                            <a:pt x="2585" y="12"/>
                          </a:lnTo>
                          <a:lnTo>
                            <a:pt x="2315" y="298"/>
                          </a:lnTo>
                          <a:lnTo>
                            <a:pt x="3241" y="0"/>
                          </a:lnTo>
                          <a:lnTo>
                            <a:pt x="2945" y="298"/>
                          </a:lnTo>
                          <a:lnTo>
                            <a:pt x="4038" y="0"/>
                          </a:lnTo>
                          <a:lnTo>
                            <a:pt x="3678" y="311"/>
                          </a:lnTo>
                          <a:lnTo>
                            <a:pt x="4951" y="12"/>
                          </a:lnTo>
                          <a:lnTo>
                            <a:pt x="4938" y="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 name=""/>
                  <p:cNvSpPr/>
                  <p:nvPr/>
                </p:nvSpPr>
                <p:spPr>
                  <a:xfrm>
                    <a:off x="3207600" y="4374360"/>
                    <a:ext cx="756360" cy="309240"/>
                  </a:xfrm>
                  <a:custGeom>
                    <a:avLst/>
                    <a:gdLst/>
                    <a:ahLst/>
                    <a:rect l="l" t="t" r="r" b="b"/>
                    <a:pathLst>
                      <a:path w="932" h="366">
                        <a:moveTo>
                          <a:pt x="91" y="200"/>
                        </a:moveTo>
                        <a:lnTo>
                          <a:pt x="186" y="186"/>
                        </a:lnTo>
                        <a:lnTo>
                          <a:pt x="282" y="175"/>
                        </a:lnTo>
                        <a:lnTo>
                          <a:pt x="377" y="162"/>
                        </a:lnTo>
                        <a:lnTo>
                          <a:pt x="473" y="144"/>
                        </a:lnTo>
                        <a:lnTo>
                          <a:pt x="500" y="127"/>
                        </a:lnTo>
                        <a:lnTo>
                          <a:pt x="528" y="113"/>
                        </a:lnTo>
                        <a:lnTo>
                          <a:pt x="587" y="89"/>
                        </a:lnTo>
                        <a:lnTo>
                          <a:pt x="647" y="72"/>
                        </a:lnTo>
                        <a:lnTo>
                          <a:pt x="708" y="51"/>
                        </a:lnTo>
                        <a:lnTo>
                          <a:pt x="725" y="48"/>
                        </a:lnTo>
                        <a:lnTo>
                          <a:pt x="742" y="41"/>
                        </a:lnTo>
                        <a:lnTo>
                          <a:pt x="751" y="38"/>
                        </a:lnTo>
                        <a:lnTo>
                          <a:pt x="757" y="38"/>
                        </a:lnTo>
                        <a:lnTo>
                          <a:pt x="761" y="34"/>
                        </a:lnTo>
                        <a:lnTo>
                          <a:pt x="764" y="34"/>
                        </a:lnTo>
                        <a:lnTo>
                          <a:pt x="776" y="24"/>
                        </a:lnTo>
                        <a:lnTo>
                          <a:pt x="789" y="13"/>
                        </a:lnTo>
                        <a:lnTo>
                          <a:pt x="804" y="3"/>
                        </a:lnTo>
                        <a:lnTo>
                          <a:pt x="819" y="0"/>
                        </a:lnTo>
                        <a:lnTo>
                          <a:pt x="827" y="0"/>
                        </a:lnTo>
                        <a:lnTo>
                          <a:pt x="838" y="0"/>
                        </a:lnTo>
                        <a:lnTo>
                          <a:pt x="861" y="0"/>
                        </a:lnTo>
                        <a:lnTo>
                          <a:pt x="887" y="7"/>
                        </a:lnTo>
                        <a:lnTo>
                          <a:pt x="910" y="17"/>
                        </a:lnTo>
                        <a:lnTo>
                          <a:pt x="918" y="24"/>
                        </a:lnTo>
                        <a:lnTo>
                          <a:pt x="925" y="31"/>
                        </a:lnTo>
                        <a:lnTo>
                          <a:pt x="929" y="38"/>
                        </a:lnTo>
                        <a:lnTo>
                          <a:pt x="931" y="51"/>
                        </a:lnTo>
                        <a:lnTo>
                          <a:pt x="927" y="62"/>
                        </a:lnTo>
                        <a:lnTo>
                          <a:pt x="921" y="75"/>
                        </a:lnTo>
                        <a:lnTo>
                          <a:pt x="908" y="89"/>
                        </a:lnTo>
                        <a:lnTo>
                          <a:pt x="891" y="107"/>
                        </a:lnTo>
                        <a:lnTo>
                          <a:pt x="867" y="120"/>
                        </a:lnTo>
                        <a:lnTo>
                          <a:pt x="840" y="124"/>
                        </a:lnTo>
                        <a:lnTo>
                          <a:pt x="810" y="124"/>
                        </a:lnTo>
                        <a:lnTo>
                          <a:pt x="783" y="127"/>
                        </a:lnTo>
                        <a:lnTo>
                          <a:pt x="753" y="141"/>
                        </a:lnTo>
                        <a:lnTo>
                          <a:pt x="738" y="151"/>
                        </a:lnTo>
                        <a:lnTo>
                          <a:pt x="727" y="162"/>
                        </a:lnTo>
                        <a:lnTo>
                          <a:pt x="721" y="175"/>
                        </a:lnTo>
                        <a:lnTo>
                          <a:pt x="719" y="189"/>
                        </a:lnTo>
                        <a:lnTo>
                          <a:pt x="715" y="203"/>
                        </a:lnTo>
                        <a:lnTo>
                          <a:pt x="708" y="217"/>
                        </a:lnTo>
                        <a:lnTo>
                          <a:pt x="702" y="220"/>
                        </a:lnTo>
                        <a:lnTo>
                          <a:pt x="696" y="224"/>
                        </a:lnTo>
                        <a:lnTo>
                          <a:pt x="685" y="227"/>
                        </a:lnTo>
                        <a:lnTo>
                          <a:pt x="672" y="231"/>
                        </a:lnTo>
                        <a:lnTo>
                          <a:pt x="645" y="238"/>
                        </a:lnTo>
                        <a:lnTo>
                          <a:pt x="613" y="241"/>
                        </a:lnTo>
                        <a:lnTo>
                          <a:pt x="583" y="244"/>
                        </a:lnTo>
                        <a:lnTo>
                          <a:pt x="558" y="248"/>
                        </a:lnTo>
                        <a:lnTo>
                          <a:pt x="547" y="251"/>
                        </a:lnTo>
                        <a:lnTo>
                          <a:pt x="536" y="251"/>
                        </a:lnTo>
                        <a:lnTo>
                          <a:pt x="532" y="251"/>
                        </a:lnTo>
                        <a:lnTo>
                          <a:pt x="528" y="251"/>
                        </a:lnTo>
                        <a:lnTo>
                          <a:pt x="456" y="265"/>
                        </a:lnTo>
                        <a:lnTo>
                          <a:pt x="382" y="286"/>
                        </a:lnTo>
                        <a:lnTo>
                          <a:pt x="237" y="324"/>
                        </a:lnTo>
                        <a:lnTo>
                          <a:pt x="210" y="348"/>
                        </a:lnTo>
                        <a:lnTo>
                          <a:pt x="197" y="355"/>
                        </a:lnTo>
                        <a:lnTo>
                          <a:pt x="182" y="362"/>
                        </a:lnTo>
                        <a:lnTo>
                          <a:pt x="159" y="365"/>
                        </a:lnTo>
                        <a:lnTo>
                          <a:pt x="138" y="362"/>
                        </a:lnTo>
                        <a:lnTo>
                          <a:pt x="119" y="358"/>
                        </a:lnTo>
                        <a:lnTo>
                          <a:pt x="102" y="351"/>
                        </a:lnTo>
                        <a:lnTo>
                          <a:pt x="70" y="331"/>
                        </a:lnTo>
                        <a:lnTo>
                          <a:pt x="38" y="306"/>
                        </a:lnTo>
                        <a:lnTo>
                          <a:pt x="27" y="293"/>
                        </a:lnTo>
                        <a:lnTo>
                          <a:pt x="15" y="282"/>
                        </a:lnTo>
                        <a:lnTo>
                          <a:pt x="4" y="269"/>
                        </a:lnTo>
                        <a:lnTo>
                          <a:pt x="2" y="262"/>
                        </a:lnTo>
                        <a:lnTo>
                          <a:pt x="0" y="251"/>
                        </a:lnTo>
                        <a:lnTo>
                          <a:pt x="4" y="241"/>
                        </a:lnTo>
                        <a:lnTo>
                          <a:pt x="12" y="231"/>
                        </a:lnTo>
                        <a:lnTo>
                          <a:pt x="25" y="224"/>
                        </a:lnTo>
                        <a:lnTo>
                          <a:pt x="40" y="217"/>
                        </a:lnTo>
                        <a:lnTo>
                          <a:pt x="55" y="210"/>
                        </a:lnTo>
                        <a:lnTo>
                          <a:pt x="70" y="206"/>
                        </a:lnTo>
                        <a:lnTo>
                          <a:pt x="82" y="203"/>
                        </a:lnTo>
                        <a:lnTo>
                          <a:pt x="91" y="20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354200" y="5594400"/>
                    <a:ext cx="753840" cy="307440"/>
                  </a:xfrm>
                  <a:custGeom>
                    <a:avLst/>
                    <a:gdLst/>
                    <a:ahLst/>
                    <a:rect l="l" t="t" r="r" b="b"/>
                    <a:pathLst>
                      <a:path w="929" h="364">
                        <a:moveTo>
                          <a:pt x="92" y="202"/>
                        </a:moveTo>
                        <a:lnTo>
                          <a:pt x="284" y="179"/>
                        </a:lnTo>
                        <a:lnTo>
                          <a:pt x="376" y="168"/>
                        </a:lnTo>
                        <a:lnTo>
                          <a:pt x="472" y="145"/>
                        </a:lnTo>
                        <a:lnTo>
                          <a:pt x="529" y="116"/>
                        </a:lnTo>
                        <a:lnTo>
                          <a:pt x="586" y="93"/>
                        </a:lnTo>
                        <a:lnTo>
                          <a:pt x="709" y="58"/>
                        </a:lnTo>
                        <a:lnTo>
                          <a:pt x="726" y="52"/>
                        </a:lnTo>
                        <a:lnTo>
                          <a:pt x="744" y="47"/>
                        </a:lnTo>
                        <a:lnTo>
                          <a:pt x="757" y="41"/>
                        </a:lnTo>
                        <a:lnTo>
                          <a:pt x="762" y="41"/>
                        </a:lnTo>
                        <a:lnTo>
                          <a:pt x="788" y="18"/>
                        </a:lnTo>
                        <a:lnTo>
                          <a:pt x="818" y="0"/>
                        </a:lnTo>
                        <a:lnTo>
                          <a:pt x="836" y="0"/>
                        </a:lnTo>
                        <a:lnTo>
                          <a:pt x="862" y="0"/>
                        </a:lnTo>
                        <a:lnTo>
                          <a:pt x="889" y="6"/>
                        </a:lnTo>
                        <a:lnTo>
                          <a:pt x="910" y="18"/>
                        </a:lnTo>
                        <a:lnTo>
                          <a:pt x="924" y="35"/>
                        </a:lnTo>
                        <a:lnTo>
                          <a:pt x="928" y="52"/>
                        </a:lnTo>
                        <a:lnTo>
                          <a:pt x="928" y="64"/>
                        </a:lnTo>
                        <a:lnTo>
                          <a:pt x="919" y="81"/>
                        </a:lnTo>
                        <a:lnTo>
                          <a:pt x="906" y="93"/>
                        </a:lnTo>
                        <a:lnTo>
                          <a:pt x="889" y="110"/>
                        </a:lnTo>
                        <a:lnTo>
                          <a:pt x="867" y="121"/>
                        </a:lnTo>
                        <a:lnTo>
                          <a:pt x="840" y="127"/>
                        </a:lnTo>
                        <a:lnTo>
                          <a:pt x="810" y="127"/>
                        </a:lnTo>
                        <a:lnTo>
                          <a:pt x="779" y="127"/>
                        </a:lnTo>
                        <a:lnTo>
                          <a:pt x="753" y="145"/>
                        </a:lnTo>
                        <a:lnTo>
                          <a:pt x="726" y="168"/>
                        </a:lnTo>
                        <a:lnTo>
                          <a:pt x="722" y="179"/>
                        </a:lnTo>
                        <a:lnTo>
                          <a:pt x="718" y="191"/>
                        </a:lnTo>
                        <a:lnTo>
                          <a:pt x="718" y="208"/>
                        </a:lnTo>
                        <a:lnTo>
                          <a:pt x="709" y="219"/>
                        </a:lnTo>
                        <a:lnTo>
                          <a:pt x="696" y="225"/>
                        </a:lnTo>
                        <a:lnTo>
                          <a:pt x="674" y="237"/>
                        </a:lnTo>
                        <a:lnTo>
                          <a:pt x="643" y="242"/>
                        </a:lnTo>
                        <a:lnTo>
                          <a:pt x="613" y="248"/>
                        </a:lnTo>
                        <a:lnTo>
                          <a:pt x="582" y="248"/>
                        </a:lnTo>
                        <a:lnTo>
                          <a:pt x="556" y="254"/>
                        </a:lnTo>
                        <a:lnTo>
                          <a:pt x="534" y="254"/>
                        </a:lnTo>
                        <a:lnTo>
                          <a:pt x="525" y="254"/>
                        </a:lnTo>
                        <a:lnTo>
                          <a:pt x="455" y="271"/>
                        </a:lnTo>
                        <a:lnTo>
                          <a:pt x="381" y="289"/>
                        </a:lnTo>
                        <a:lnTo>
                          <a:pt x="236" y="329"/>
                        </a:lnTo>
                        <a:lnTo>
                          <a:pt x="210" y="352"/>
                        </a:lnTo>
                        <a:lnTo>
                          <a:pt x="197" y="358"/>
                        </a:lnTo>
                        <a:lnTo>
                          <a:pt x="179" y="363"/>
                        </a:lnTo>
                        <a:lnTo>
                          <a:pt x="135" y="363"/>
                        </a:lnTo>
                        <a:lnTo>
                          <a:pt x="100" y="352"/>
                        </a:lnTo>
                        <a:lnTo>
                          <a:pt x="70" y="335"/>
                        </a:lnTo>
                        <a:lnTo>
                          <a:pt x="35" y="312"/>
                        </a:lnTo>
                        <a:lnTo>
                          <a:pt x="26" y="300"/>
                        </a:lnTo>
                        <a:lnTo>
                          <a:pt x="13" y="283"/>
                        </a:lnTo>
                        <a:lnTo>
                          <a:pt x="4" y="271"/>
                        </a:lnTo>
                        <a:lnTo>
                          <a:pt x="0" y="254"/>
                        </a:lnTo>
                        <a:lnTo>
                          <a:pt x="4" y="242"/>
                        </a:lnTo>
                        <a:lnTo>
                          <a:pt x="13" y="231"/>
                        </a:lnTo>
                        <a:lnTo>
                          <a:pt x="39" y="219"/>
                        </a:lnTo>
                        <a:lnTo>
                          <a:pt x="70" y="208"/>
                        </a:lnTo>
                        <a:lnTo>
                          <a:pt x="83" y="202"/>
                        </a:lnTo>
                        <a:lnTo>
                          <a:pt x="92" y="202"/>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103360" y="4309200"/>
                    <a:ext cx="763560" cy="240840"/>
                  </a:xfrm>
                  <a:custGeom>
                    <a:avLst/>
                    <a:gdLst/>
                    <a:ahLst/>
                    <a:rect l="l" t="t" r="r" b="b"/>
                    <a:pathLst>
                      <a:path w="941" h="285">
                        <a:moveTo>
                          <a:pt x="112" y="6"/>
                        </a:moveTo>
                        <a:lnTo>
                          <a:pt x="206" y="35"/>
                        </a:lnTo>
                        <a:lnTo>
                          <a:pt x="294" y="67"/>
                        </a:lnTo>
                        <a:lnTo>
                          <a:pt x="382" y="96"/>
                        </a:lnTo>
                        <a:lnTo>
                          <a:pt x="476" y="118"/>
                        </a:lnTo>
                        <a:lnTo>
                          <a:pt x="511" y="115"/>
                        </a:lnTo>
                        <a:lnTo>
                          <a:pt x="541" y="112"/>
                        </a:lnTo>
                        <a:lnTo>
                          <a:pt x="606" y="118"/>
                        </a:lnTo>
                        <a:lnTo>
                          <a:pt x="670" y="124"/>
                        </a:lnTo>
                        <a:lnTo>
                          <a:pt x="735" y="134"/>
                        </a:lnTo>
                        <a:lnTo>
                          <a:pt x="752" y="137"/>
                        </a:lnTo>
                        <a:lnTo>
                          <a:pt x="770" y="137"/>
                        </a:lnTo>
                        <a:lnTo>
                          <a:pt x="782" y="140"/>
                        </a:lnTo>
                        <a:lnTo>
                          <a:pt x="788" y="140"/>
                        </a:lnTo>
                        <a:lnTo>
                          <a:pt x="805" y="137"/>
                        </a:lnTo>
                        <a:lnTo>
                          <a:pt x="823" y="131"/>
                        </a:lnTo>
                        <a:lnTo>
                          <a:pt x="841" y="131"/>
                        </a:lnTo>
                        <a:lnTo>
                          <a:pt x="852" y="131"/>
                        </a:lnTo>
                        <a:lnTo>
                          <a:pt x="870" y="137"/>
                        </a:lnTo>
                        <a:lnTo>
                          <a:pt x="893" y="150"/>
                        </a:lnTo>
                        <a:lnTo>
                          <a:pt x="911" y="169"/>
                        </a:lnTo>
                        <a:lnTo>
                          <a:pt x="929" y="185"/>
                        </a:lnTo>
                        <a:lnTo>
                          <a:pt x="940" y="208"/>
                        </a:lnTo>
                        <a:lnTo>
                          <a:pt x="935" y="227"/>
                        </a:lnTo>
                        <a:lnTo>
                          <a:pt x="917" y="243"/>
                        </a:lnTo>
                        <a:lnTo>
                          <a:pt x="899" y="252"/>
                        </a:lnTo>
                        <a:lnTo>
                          <a:pt x="876" y="259"/>
                        </a:lnTo>
                        <a:lnTo>
                          <a:pt x="864" y="262"/>
                        </a:lnTo>
                        <a:lnTo>
                          <a:pt x="846" y="262"/>
                        </a:lnTo>
                        <a:lnTo>
                          <a:pt x="823" y="252"/>
                        </a:lnTo>
                        <a:lnTo>
                          <a:pt x="794" y="243"/>
                        </a:lnTo>
                        <a:lnTo>
                          <a:pt x="764" y="233"/>
                        </a:lnTo>
                        <a:lnTo>
                          <a:pt x="752" y="233"/>
                        </a:lnTo>
                        <a:lnTo>
                          <a:pt x="735" y="233"/>
                        </a:lnTo>
                        <a:lnTo>
                          <a:pt x="717" y="236"/>
                        </a:lnTo>
                        <a:lnTo>
                          <a:pt x="700" y="240"/>
                        </a:lnTo>
                        <a:lnTo>
                          <a:pt x="694" y="249"/>
                        </a:lnTo>
                        <a:lnTo>
                          <a:pt x="682" y="262"/>
                        </a:lnTo>
                        <a:lnTo>
                          <a:pt x="676" y="275"/>
                        </a:lnTo>
                        <a:lnTo>
                          <a:pt x="664" y="281"/>
                        </a:lnTo>
                        <a:lnTo>
                          <a:pt x="647" y="284"/>
                        </a:lnTo>
                        <a:lnTo>
                          <a:pt x="623" y="281"/>
                        </a:lnTo>
                        <a:lnTo>
                          <a:pt x="600" y="275"/>
                        </a:lnTo>
                        <a:lnTo>
                          <a:pt x="564" y="265"/>
                        </a:lnTo>
                        <a:lnTo>
                          <a:pt x="535" y="259"/>
                        </a:lnTo>
                        <a:lnTo>
                          <a:pt x="511" y="249"/>
                        </a:lnTo>
                        <a:lnTo>
                          <a:pt x="494" y="243"/>
                        </a:lnTo>
                        <a:lnTo>
                          <a:pt x="482" y="240"/>
                        </a:lnTo>
                        <a:lnTo>
                          <a:pt x="412" y="224"/>
                        </a:lnTo>
                        <a:lnTo>
                          <a:pt x="335" y="208"/>
                        </a:lnTo>
                        <a:lnTo>
                          <a:pt x="188" y="182"/>
                        </a:lnTo>
                        <a:lnTo>
                          <a:pt x="176" y="185"/>
                        </a:lnTo>
                        <a:lnTo>
                          <a:pt x="159" y="192"/>
                        </a:lnTo>
                        <a:lnTo>
                          <a:pt x="141" y="195"/>
                        </a:lnTo>
                        <a:lnTo>
                          <a:pt x="124" y="192"/>
                        </a:lnTo>
                        <a:lnTo>
                          <a:pt x="82" y="172"/>
                        </a:lnTo>
                        <a:lnTo>
                          <a:pt x="59" y="147"/>
                        </a:lnTo>
                        <a:lnTo>
                          <a:pt x="35" y="118"/>
                        </a:lnTo>
                        <a:lnTo>
                          <a:pt x="18" y="83"/>
                        </a:lnTo>
                        <a:lnTo>
                          <a:pt x="6" y="51"/>
                        </a:lnTo>
                        <a:lnTo>
                          <a:pt x="0" y="32"/>
                        </a:lnTo>
                        <a:lnTo>
                          <a:pt x="6" y="16"/>
                        </a:lnTo>
                        <a:lnTo>
                          <a:pt x="12" y="6"/>
                        </a:lnTo>
                        <a:lnTo>
                          <a:pt x="24" y="3"/>
                        </a:lnTo>
                        <a:lnTo>
                          <a:pt x="59" y="0"/>
                        </a:lnTo>
                        <a:lnTo>
                          <a:pt x="88" y="3"/>
                        </a:lnTo>
                        <a:lnTo>
                          <a:pt x="112" y="6"/>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623280" y="5570640"/>
                    <a:ext cx="763560" cy="241560"/>
                  </a:xfrm>
                  <a:custGeom>
                    <a:avLst/>
                    <a:gdLst/>
                    <a:ahLst/>
                    <a:rect l="l" t="t" r="r" b="b"/>
                    <a:pathLst>
                      <a:path w="941" h="286">
                        <a:moveTo>
                          <a:pt x="106" y="5"/>
                        </a:moveTo>
                        <a:lnTo>
                          <a:pt x="292" y="67"/>
                        </a:lnTo>
                        <a:lnTo>
                          <a:pt x="390" y="100"/>
                        </a:lnTo>
                        <a:lnTo>
                          <a:pt x="479" y="123"/>
                        </a:lnTo>
                        <a:lnTo>
                          <a:pt x="541" y="117"/>
                        </a:lnTo>
                        <a:lnTo>
                          <a:pt x="612" y="123"/>
                        </a:lnTo>
                        <a:lnTo>
                          <a:pt x="736" y="139"/>
                        </a:lnTo>
                        <a:lnTo>
                          <a:pt x="771" y="145"/>
                        </a:lnTo>
                        <a:lnTo>
                          <a:pt x="780" y="145"/>
                        </a:lnTo>
                        <a:lnTo>
                          <a:pt x="789" y="145"/>
                        </a:lnTo>
                        <a:lnTo>
                          <a:pt x="825" y="134"/>
                        </a:lnTo>
                        <a:lnTo>
                          <a:pt x="834" y="134"/>
                        </a:lnTo>
                        <a:lnTo>
                          <a:pt x="851" y="134"/>
                        </a:lnTo>
                        <a:lnTo>
                          <a:pt x="869" y="139"/>
                        </a:lnTo>
                        <a:lnTo>
                          <a:pt x="887" y="151"/>
                        </a:lnTo>
                        <a:lnTo>
                          <a:pt x="931" y="190"/>
                        </a:lnTo>
                        <a:lnTo>
                          <a:pt x="940" y="207"/>
                        </a:lnTo>
                        <a:lnTo>
                          <a:pt x="931" y="229"/>
                        </a:lnTo>
                        <a:lnTo>
                          <a:pt x="913" y="246"/>
                        </a:lnTo>
                        <a:lnTo>
                          <a:pt x="878" y="262"/>
                        </a:lnTo>
                        <a:lnTo>
                          <a:pt x="851" y="262"/>
                        </a:lnTo>
                        <a:lnTo>
                          <a:pt x="825" y="257"/>
                        </a:lnTo>
                        <a:lnTo>
                          <a:pt x="789" y="246"/>
                        </a:lnTo>
                        <a:lnTo>
                          <a:pt x="763" y="235"/>
                        </a:lnTo>
                        <a:lnTo>
                          <a:pt x="736" y="235"/>
                        </a:lnTo>
                        <a:lnTo>
                          <a:pt x="700" y="246"/>
                        </a:lnTo>
                        <a:lnTo>
                          <a:pt x="692" y="251"/>
                        </a:lnTo>
                        <a:lnTo>
                          <a:pt x="683" y="268"/>
                        </a:lnTo>
                        <a:lnTo>
                          <a:pt x="674" y="279"/>
                        </a:lnTo>
                        <a:lnTo>
                          <a:pt x="665" y="285"/>
                        </a:lnTo>
                        <a:lnTo>
                          <a:pt x="647" y="285"/>
                        </a:lnTo>
                        <a:lnTo>
                          <a:pt x="630" y="285"/>
                        </a:lnTo>
                        <a:lnTo>
                          <a:pt x="567" y="268"/>
                        </a:lnTo>
                        <a:lnTo>
                          <a:pt x="514" y="251"/>
                        </a:lnTo>
                        <a:lnTo>
                          <a:pt x="488" y="246"/>
                        </a:lnTo>
                        <a:lnTo>
                          <a:pt x="479" y="240"/>
                        </a:lnTo>
                        <a:lnTo>
                          <a:pt x="337" y="212"/>
                        </a:lnTo>
                        <a:lnTo>
                          <a:pt x="186" y="184"/>
                        </a:lnTo>
                        <a:lnTo>
                          <a:pt x="159" y="195"/>
                        </a:lnTo>
                        <a:lnTo>
                          <a:pt x="142" y="195"/>
                        </a:lnTo>
                        <a:lnTo>
                          <a:pt x="124" y="195"/>
                        </a:lnTo>
                        <a:lnTo>
                          <a:pt x="88" y="173"/>
                        </a:lnTo>
                        <a:lnTo>
                          <a:pt x="62" y="151"/>
                        </a:lnTo>
                        <a:lnTo>
                          <a:pt x="17" y="84"/>
                        </a:lnTo>
                        <a:lnTo>
                          <a:pt x="0" y="50"/>
                        </a:lnTo>
                        <a:lnTo>
                          <a:pt x="0" y="33"/>
                        </a:lnTo>
                        <a:lnTo>
                          <a:pt x="8" y="16"/>
                        </a:lnTo>
                        <a:lnTo>
                          <a:pt x="26" y="5"/>
                        </a:lnTo>
                        <a:lnTo>
                          <a:pt x="62" y="0"/>
                        </a:lnTo>
                        <a:lnTo>
                          <a:pt x="88" y="5"/>
                        </a:lnTo>
                        <a:lnTo>
                          <a:pt x="106" y="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366720" y="5462640"/>
                    <a:ext cx="491040" cy="381960"/>
                  </a:xfrm>
                  <a:custGeom>
                    <a:avLst/>
                    <a:gdLst/>
                    <a:ahLst/>
                    <a:rect l="l" t="t" r="r" b="b"/>
                    <a:pathLst>
                      <a:path w="605" h="452">
                        <a:moveTo>
                          <a:pt x="150" y="22"/>
                        </a:moveTo>
                        <a:lnTo>
                          <a:pt x="109" y="39"/>
                        </a:lnTo>
                        <a:lnTo>
                          <a:pt x="71" y="56"/>
                        </a:lnTo>
                        <a:lnTo>
                          <a:pt x="53" y="68"/>
                        </a:lnTo>
                        <a:lnTo>
                          <a:pt x="38" y="79"/>
                        </a:lnTo>
                        <a:lnTo>
                          <a:pt x="25" y="90"/>
                        </a:lnTo>
                        <a:lnTo>
                          <a:pt x="15" y="101"/>
                        </a:lnTo>
                        <a:lnTo>
                          <a:pt x="6" y="118"/>
                        </a:lnTo>
                        <a:lnTo>
                          <a:pt x="2" y="135"/>
                        </a:lnTo>
                        <a:lnTo>
                          <a:pt x="0" y="152"/>
                        </a:lnTo>
                        <a:lnTo>
                          <a:pt x="4" y="169"/>
                        </a:lnTo>
                        <a:lnTo>
                          <a:pt x="10" y="192"/>
                        </a:lnTo>
                        <a:lnTo>
                          <a:pt x="21" y="220"/>
                        </a:lnTo>
                        <a:lnTo>
                          <a:pt x="38" y="248"/>
                        </a:lnTo>
                        <a:lnTo>
                          <a:pt x="58" y="276"/>
                        </a:lnTo>
                        <a:lnTo>
                          <a:pt x="70" y="288"/>
                        </a:lnTo>
                        <a:lnTo>
                          <a:pt x="83" y="293"/>
                        </a:lnTo>
                        <a:lnTo>
                          <a:pt x="100" y="299"/>
                        </a:lnTo>
                        <a:lnTo>
                          <a:pt x="116" y="305"/>
                        </a:lnTo>
                        <a:lnTo>
                          <a:pt x="152" y="305"/>
                        </a:lnTo>
                        <a:lnTo>
                          <a:pt x="186" y="310"/>
                        </a:lnTo>
                        <a:lnTo>
                          <a:pt x="218" y="316"/>
                        </a:lnTo>
                        <a:lnTo>
                          <a:pt x="251" y="322"/>
                        </a:lnTo>
                        <a:lnTo>
                          <a:pt x="287" y="327"/>
                        </a:lnTo>
                        <a:lnTo>
                          <a:pt x="325" y="333"/>
                        </a:lnTo>
                        <a:lnTo>
                          <a:pt x="362" y="338"/>
                        </a:lnTo>
                        <a:lnTo>
                          <a:pt x="398" y="344"/>
                        </a:lnTo>
                        <a:lnTo>
                          <a:pt x="431" y="344"/>
                        </a:lnTo>
                        <a:lnTo>
                          <a:pt x="460" y="350"/>
                        </a:lnTo>
                        <a:lnTo>
                          <a:pt x="461" y="361"/>
                        </a:lnTo>
                        <a:lnTo>
                          <a:pt x="461" y="372"/>
                        </a:lnTo>
                        <a:lnTo>
                          <a:pt x="460" y="401"/>
                        </a:lnTo>
                        <a:lnTo>
                          <a:pt x="461" y="412"/>
                        </a:lnTo>
                        <a:lnTo>
                          <a:pt x="463" y="423"/>
                        </a:lnTo>
                        <a:lnTo>
                          <a:pt x="469" y="434"/>
                        </a:lnTo>
                        <a:lnTo>
                          <a:pt x="476" y="440"/>
                        </a:lnTo>
                        <a:lnTo>
                          <a:pt x="490" y="446"/>
                        </a:lnTo>
                        <a:lnTo>
                          <a:pt x="505" y="451"/>
                        </a:lnTo>
                        <a:lnTo>
                          <a:pt x="536" y="446"/>
                        </a:lnTo>
                        <a:lnTo>
                          <a:pt x="551" y="446"/>
                        </a:lnTo>
                        <a:lnTo>
                          <a:pt x="566" y="440"/>
                        </a:lnTo>
                        <a:lnTo>
                          <a:pt x="578" y="429"/>
                        </a:lnTo>
                        <a:lnTo>
                          <a:pt x="585" y="417"/>
                        </a:lnTo>
                        <a:lnTo>
                          <a:pt x="595" y="401"/>
                        </a:lnTo>
                        <a:lnTo>
                          <a:pt x="602" y="378"/>
                        </a:lnTo>
                        <a:lnTo>
                          <a:pt x="604" y="361"/>
                        </a:lnTo>
                        <a:lnTo>
                          <a:pt x="604" y="344"/>
                        </a:lnTo>
                        <a:lnTo>
                          <a:pt x="602" y="327"/>
                        </a:lnTo>
                        <a:lnTo>
                          <a:pt x="596" y="316"/>
                        </a:lnTo>
                        <a:lnTo>
                          <a:pt x="591" y="299"/>
                        </a:lnTo>
                        <a:lnTo>
                          <a:pt x="581" y="288"/>
                        </a:lnTo>
                        <a:lnTo>
                          <a:pt x="559" y="265"/>
                        </a:lnTo>
                        <a:lnTo>
                          <a:pt x="533" y="248"/>
                        </a:lnTo>
                        <a:lnTo>
                          <a:pt x="505" y="231"/>
                        </a:lnTo>
                        <a:lnTo>
                          <a:pt x="476" y="220"/>
                        </a:lnTo>
                        <a:lnTo>
                          <a:pt x="473" y="209"/>
                        </a:lnTo>
                        <a:lnTo>
                          <a:pt x="471" y="192"/>
                        </a:lnTo>
                        <a:lnTo>
                          <a:pt x="467" y="175"/>
                        </a:lnTo>
                        <a:lnTo>
                          <a:pt x="460" y="164"/>
                        </a:lnTo>
                        <a:lnTo>
                          <a:pt x="446" y="158"/>
                        </a:lnTo>
                        <a:lnTo>
                          <a:pt x="431" y="158"/>
                        </a:lnTo>
                        <a:lnTo>
                          <a:pt x="416" y="152"/>
                        </a:lnTo>
                        <a:lnTo>
                          <a:pt x="403" y="147"/>
                        </a:lnTo>
                        <a:lnTo>
                          <a:pt x="377" y="130"/>
                        </a:lnTo>
                        <a:lnTo>
                          <a:pt x="351" y="113"/>
                        </a:lnTo>
                        <a:lnTo>
                          <a:pt x="332" y="96"/>
                        </a:lnTo>
                        <a:lnTo>
                          <a:pt x="325" y="85"/>
                        </a:lnTo>
                        <a:lnTo>
                          <a:pt x="313" y="73"/>
                        </a:lnTo>
                        <a:lnTo>
                          <a:pt x="298" y="68"/>
                        </a:lnTo>
                        <a:lnTo>
                          <a:pt x="281" y="62"/>
                        </a:lnTo>
                        <a:lnTo>
                          <a:pt x="246" y="51"/>
                        </a:lnTo>
                        <a:lnTo>
                          <a:pt x="231" y="45"/>
                        </a:lnTo>
                        <a:lnTo>
                          <a:pt x="218" y="45"/>
                        </a:lnTo>
                        <a:lnTo>
                          <a:pt x="208" y="39"/>
                        </a:lnTo>
                        <a:lnTo>
                          <a:pt x="205" y="39"/>
                        </a:lnTo>
                        <a:lnTo>
                          <a:pt x="186" y="28"/>
                        </a:lnTo>
                        <a:lnTo>
                          <a:pt x="171" y="11"/>
                        </a:lnTo>
                        <a:lnTo>
                          <a:pt x="161" y="6"/>
                        </a:lnTo>
                        <a:lnTo>
                          <a:pt x="156" y="0"/>
                        </a:lnTo>
                        <a:lnTo>
                          <a:pt x="152" y="0"/>
                        </a:lnTo>
                        <a:lnTo>
                          <a:pt x="150" y="0"/>
                        </a:lnTo>
                        <a:lnTo>
                          <a:pt x="150" y="11"/>
                        </a:lnTo>
                        <a:lnTo>
                          <a:pt x="150" y="22"/>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364640" y="4224960"/>
                    <a:ext cx="493560" cy="380160"/>
                  </a:xfrm>
                  <a:custGeom>
                    <a:avLst/>
                    <a:gdLst/>
                    <a:ahLst/>
                    <a:rect l="l" t="t" r="r" b="b"/>
                    <a:pathLst>
                      <a:path w="608" h="450">
                        <a:moveTo>
                          <a:pt x="150" y="23"/>
                        </a:moveTo>
                        <a:lnTo>
                          <a:pt x="107" y="39"/>
                        </a:lnTo>
                        <a:lnTo>
                          <a:pt x="69" y="56"/>
                        </a:lnTo>
                        <a:lnTo>
                          <a:pt x="38" y="76"/>
                        </a:lnTo>
                        <a:lnTo>
                          <a:pt x="15" y="102"/>
                        </a:lnTo>
                        <a:lnTo>
                          <a:pt x="0" y="132"/>
                        </a:lnTo>
                        <a:lnTo>
                          <a:pt x="0" y="152"/>
                        </a:lnTo>
                        <a:lnTo>
                          <a:pt x="4" y="172"/>
                        </a:lnTo>
                        <a:lnTo>
                          <a:pt x="11" y="195"/>
                        </a:lnTo>
                        <a:lnTo>
                          <a:pt x="19" y="218"/>
                        </a:lnTo>
                        <a:lnTo>
                          <a:pt x="38" y="248"/>
                        </a:lnTo>
                        <a:lnTo>
                          <a:pt x="57" y="277"/>
                        </a:lnTo>
                        <a:lnTo>
                          <a:pt x="69" y="290"/>
                        </a:lnTo>
                        <a:lnTo>
                          <a:pt x="84" y="297"/>
                        </a:lnTo>
                        <a:lnTo>
                          <a:pt x="115" y="307"/>
                        </a:lnTo>
                        <a:lnTo>
                          <a:pt x="150" y="310"/>
                        </a:lnTo>
                        <a:lnTo>
                          <a:pt x="184" y="314"/>
                        </a:lnTo>
                        <a:lnTo>
                          <a:pt x="215" y="320"/>
                        </a:lnTo>
                        <a:lnTo>
                          <a:pt x="249" y="324"/>
                        </a:lnTo>
                        <a:lnTo>
                          <a:pt x="322" y="333"/>
                        </a:lnTo>
                        <a:lnTo>
                          <a:pt x="399" y="343"/>
                        </a:lnTo>
                        <a:lnTo>
                          <a:pt x="430" y="347"/>
                        </a:lnTo>
                        <a:lnTo>
                          <a:pt x="461" y="350"/>
                        </a:lnTo>
                        <a:lnTo>
                          <a:pt x="461" y="373"/>
                        </a:lnTo>
                        <a:lnTo>
                          <a:pt x="461" y="400"/>
                        </a:lnTo>
                        <a:lnTo>
                          <a:pt x="465" y="423"/>
                        </a:lnTo>
                        <a:lnTo>
                          <a:pt x="468" y="433"/>
                        </a:lnTo>
                        <a:lnTo>
                          <a:pt x="476" y="439"/>
                        </a:lnTo>
                        <a:lnTo>
                          <a:pt x="507" y="449"/>
                        </a:lnTo>
                        <a:lnTo>
                          <a:pt x="538" y="449"/>
                        </a:lnTo>
                        <a:lnTo>
                          <a:pt x="568" y="439"/>
                        </a:lnTo>
                        <a:lnTo>
                          <a:pt x="588" y="423"/>
                        </a:lnTo>
                        <a:lnTo>
                          <a:pt x="603" y="383"/>
                        </a:lnTo>
                        <a:lnTo>
                          <a:pt x="607" y="347"/>
                        </a:lnTo>
                        <a:lnTo>
                          <a:pt x="599" y="317"/>
                        </a:lnTo>
                        <a:lnTo>
                          <a:pt x="584" y="290"/>
                        </a:lnTo>
                        <a:lnTo>
                          <a:pt x="561" y="267"/>
                        </a:lnTo>
                        <a:lnTo>
                          <a:pt x="534" y="248"/>
                        </a:lnTo>
                        <a:lnTo>
                          <a:pt x="503" y="234"/>
                        </a:lnTo>
                        <a:lnTo>
                          <a:pt x="476" y="221"/>
                        </a:lnTo>
                        <a:lnTo>
                          <a:pt x="472" y="195"/>
                        </a:lnTo>
                        <a:lnTo>
                          <a:pt x="468" y="181"/>
                        </a:lnTo>
                        <a:lnTo>
                          <a:pt x="461" y="168"/>
                        </a:lnTo>
                        <a:lnTo>
                          <a:pt x="449" y="158"/>
                        </a:lnTo>
                        <a:lnTo>
                          <a:pt x="434" y="155"/>
                        </a:lnTo>
                        <a:lnTo>
                          <a:pt x="419" y="155"/>
                        </a:lnTo>
                        <a:lnTo>
                          <a:pt x="403" y="148"/>
                        </a:lnTo>
                        <a:lnTo>
                          <a:pt x="376" y="132"/>
                        </a:lnTo>
                        <a:lnTo>
                          <a:pt x="349" y="112"/>
                        </a:lnTo>
                        <a:lnTo>
                          <a:pt x="334" y="96"/>
                        </a:lnTo>
                        <a:lnTo>
                          <a:pt x="315" y="76"/>
                        </a:lnTo>
                        <a:lnTo>
                          <a:pt x="299" y="69"/>
                        </a:lnTo>
                        <a:lnTo>
                          <a:pt x="284" y="63"/>
                        </a:lnTo>
                        <a:lnTo>
                          <a:pt x="246" y="53"/>
                        </a:lnTo>
                        <a:lnTo>
                          <a:pt x="230" y="46"/>
                        </a:lnTo>
                        <a:lnTo>
                          <a:pt x="215" y="43"/>
                        </a:lnTo>
                        <a:lnTo>
                          <a:pt x="207" y="39"/>
                        </a:lnTo>
                        <a:lnTo>
                          <a:pt x="203" y="39"/>
                        </a:lnTo>
                        <a:lnTo>
                          <a:pt x="184" y="26"/>
                        </a:lnTo>
                        <a:lnTo>
                          <a:pt x="173" y="16"/>
                        </a:lnTo>
                        <a:lnTo>
                          <a:pt x="161" y="6"/>
                        </a:lnTo>
                        <a:lnTo>
                          <a:pt x="153" y="3"/>
                        </a:lnTo>
                        <a:lnTo>
                          <a:pt x="153" y="0"/>
                        </a:lnTo>
                        <a:lnTo>
                          <a:pt x="150" y="3"/>
                        </a:lnTo>
                        <a:lnTo>
                          <a:pt x="150" y="10"/>
                        </a:lnTo>
                        <a:lnTo>
                          <a:pt x="150" y="23"/>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697080" y="4456440"/>
                    <a:ext cx="535680" cy="267120"/>
                  </a:xfrm>
                  <a:custGeom>
                    <a:avLst/>
                    <a:gdLst/>
                    <a:ahLst/>
                    <a:rect l="l" t="t" r="r" b="b"/>
                    <a:pathLst>
                      <a:path w="660" h="316">
                        <a:moveTo>
                          <a:pt x="67" y="50"/>
                        </a:moveTo>
                        <a:lnTo>
                          <a:pt x="25" y="124"/>
                        </a:lnTo>
                        <a:lnTo>
                          <a:pt x="8" y="159"/>
                        </a:lnTo>
                        <a:lnTo>
                          <a:pt x="0" y="195"/>
                        </a:lnTo>
                        <a:lnTo>
                          <a:pt x="8" y="227"/>
                        </a:lnTo>
                        <a:lnTo>
                          <a:pt x="33" y="258"/>
                        </a:lnTo>
                        <a:lnTo>
                          <a:pt x="67" y="287"/>
                        </a:lnTo>
                        <a:lnTo>
                          <a:pt x="135" y="311"/>
                        </a:lnTo>
                        <a:lnTo>
                          <a:pt x="152" y="315"/>
                        </a:lnTo>
                        <a:lnTo>
                          <a:pt x="169" y="315"/>
                        </a:lnTo>
                        <a:lnTo>
                          <a:pt x="186" y="311"/>
                        </a:lnTo>
                        <a:lnTo>
                          <a:pt x="202" y="304"/>
                        </a:lnTo>
                        <a:lnTo>
                          <a:pt x="228" y="287"/>
                        </a:lnTo>
                        <a:lnTo>
                          <a:pt x="262" y="272"/>
                        </a:lnTo>
                        <a:lnTo>
                          <a:pt x="321" y="248"/>
                        </a:lnTo>
                        <a:lnTo>
                          <a:pt x="388" y="212"/>
                        </a:lnTo>
                        <a:lnTo>
                          <a:pt x="456" y="181"/>
                        </a:lnTo>
                        <a:lnTo>
                          <a:pt x="507" y="152"/>
                        </a:lnTo>
                        <a:lnTo>
                          <a:pt x="524" y="173"/>
                        </a:lnTo>
                        <a:lnTo>
                          <a:pt x="541" y="195"/>
                        </a:lnTo>
                        <a:lnTo>
                          <a:pt x="558" y="209"/>
                        </a:lnTo>
                        <a:lnTo>
                          <a:pt x="566" y="216"/>
                        </a:lnTo>
                        <a:lnTo>
                          <a:pt x="574" y="216"/>
                        </a:lnTo>
                        <a:lnTo>
                          <a:pt x="600" y="209"/>
                        </a:lnTo>
                        <a:lnTo>
                          <a:pt x="634" y="191"/>
                        </a:lnTo>
                        <a:lnTo>
                          <a:pt x="651" y="166"/>
                        </a:lnTo>
                        <a:lnTo>
                          <a:pt x="659" y="142"/>
                        </a:lnTo>
                        <a:lnTo>
                          <a:pt x="651" y="99"/>
                        </a:lnTo>
                        <a:lnTo>
                          <a:pt x="634" y="67"/>
                        </a:lnTo>
                        <a:lnTo>
                          <a:pt x="608" y="46"/>
                        </a:lnTo>
                        <a:lnTo>
                          <a:pt x="583" y="32"/>
                        </a:lnTo>
                        <a:lnTo>
                          <a:pt x="549" y="25"/>
                        </a:lnTo>
                        <a:lnTo>
                          <a:pt x="515" y="25"/>
                        </a:lnTo>
                        <a:lnTo>
                          <a:pt x="490" y="29"/>
                        </a:lnTo>
                        <a:lnTo>
                          <a:pt x="456" y="36"/>
                        </a:lnTo>
                        <a:lnTo>
                          <a:pt x="448" y="25"/>
                        </a:lnTo>
                        <a:lnTo>
                          <a:pt x="431" y="14"/>
                        </a:lnTo>
                        <a:lnTo>
                          <a:pt x="422" y="7"/>
                        </a:lnTo>
                        <a:lnTo>
                          <a:pt x="405" y="0"/>
                        </a:lnTo>
                        <a:lnTo>
                          <a:pt x="397" y="0"/>
                        </a:lnTo>
                        <a:lnTo>
                          <a:pt x="380" y="7"/>
                        </a:lnTo>
                        <a:lnTo>
                          <a:pt x="372" y="11"/>
                        </a:lnTo>
                        <a:lnTo>
                          <a:pt x="355" y="14"/>
                        </a:lnTo>
                        <a:lnTo>
                          <a:pt x="321" y="18"/>
                        </a:lnTo>
                        <a:lnTo>
                          <a:pt x="287" y="14"/>
                        </a:lnTo>
                        <a:lnTo>
                          <a:pt x="279" y="14"/>
                        </a:lnTo>
                        <a:lnTo>
                          <a:pt x="262" y="11"/>
                        </a:lnTo>
                        <a:lnTo>
                          <a:pt x="253" y="7"/>
                        </a:lnTo>
                        <a:lnTo>
                          <a:pt x="236" y="7"/>
                        </a:lnTo>
                        <a:lnTo>
                          <a:pt x="202" y="14"/>
                        </a:lnTo>
                        <a:lnTo>
                          <a:pt x="169" y="22"/>
                        </a:lnTo>
                        <a:lnTo>
                          <a:pt x="143" y="32"/>
                        </a:lnTo>
                        <a:lnTo>
                          <a:pt x="126" y="36"/>
                        </a:lnTo>
                        <a:lnTo>
                          <a:pt x="84" y="32"/>
                        </a:lnTo>
                        <a:lnTo>
                          <a:pt x="67" y="32"/>
                        </a:lnTo>
                        <a:lnTo>
                          <a:pt x="59" y="36"/>
                        </a:lnTo>
                        <a:lnTo>
                          <a:pt x="59" y="39"/>
                        </a:lnTo>
                        <a:lnTo>
                          <a:pt x="67" y="5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801760" y="5588640"/>
                    <a:ext cx="526680" cy="269640"/>
                  </a:xfrm>
                  <a:custGeom>
                    <a:avLst/>
                    <a:gdLst/>
                    <a:ahLst/>
                    <a:rect l="l" t="t" r="r" b="b"/>
                    <a:pathLst>
                      <a:path w="649" h="319">
                        <a:moveTo>
                          <a:pt x="67" y="51"/>
                        </a:moveTo>
                        <a:lnTo>
                          <a:pt x="20" y="125"/>
                        </a:lnTo>
                        <a:lnTo>
                          <a:pt x="7" y="159"/>
                        </a:lnTo>
                        <a:lnTo>
                          <a:pt x="0" y="193"/>
                        </a:lnTo>
                        <a:lnTo>
                          <a:pt x="7" y="221"/>
                        </a:lnTo>
                        <a:lnTo>
                          <a:pt x="27" y="255"/>
                        </a:lnTo>
                        <a:lnTo>
                          <a:pt x="74" y="284"/>
                        </a:lnTo>
                        <a:lnTo>
                          <a:pt x="134" y="312"/>
                        </a:lnTo>
                        <a:lnTo>
                          <a:pt x="167" y="318"/>
                        </a:lnTo>
                        <a:lnTo>
                          <a:pt x="194" y="306"/>
                        </a:lnTo>
                        <a:lnTo>
                          <a:pt x="227" y="289"/>
                        </a:lnTo>
                        <a:lnTo>
                          <a:pt x="254" y="272"/>
                        </a:lnTo>
                        <a:lnTo>
                          <a:pt x="314" y="244"/>
                        </a:lnTo>
                        <a:lnTo>
                          <a:pt x="381" y="215"/>
                        </a:lnTo>
                        <a:lnTo>
                          <a:pt x="448" y="181"/>
                        </a:lnTo>
                        <a:lnTo>
                          <a:pt x="508" y="153"/>
                        </a:lnTo>
                        <a:lnTo>
                          <a:pt x="521" y="176"/>
                        </a:lnTo>
                        <a:lnTo>
                          <a:pt x="535" y="198"/>
                        </a:lnTo>
                        <a:lnTo>
                          <a:pt x="548" y="215"/>
                        </a:lnTo>
                        <a:lnTo>
                          <a:pt x="568" y="221"/>
                        </a:lnTo>
                        <a:lnTo>
                          <a:pt x="602" y="210"/>
                        </a:lnTo>
                        <a:lnTo>
                          <a:pt x="628" y="193"/>
                        </a:lnTo>
                        <a:lnTo>
                          <a:pt x="642" y="170"/>
                        </a:lnTo>
                        <a:lnTo>
                          <a:pt x="648" y="147"/>
                        </a:lnTo>
                        <a:lnTo>
                          <a:pt x="642" y="102"/>
                        </a:lnTo>
                        <a:lnTo>
                          <a:pt x="628" y="74"/>
                        </a:lnTo>
                        <a:lnTo>
                          <a:pt x="602" y="51"/>
                        </a:lnTo>
                        <a:lnTo>
                          <a:pt x="575" y="34"/>
                        </a:lnTo>
                        <a:lnTo>
                          <a:pt x="548" y="28"/>
                        </a:lnTo>
                        <a:lnTo>
                          <a:pt x="515" y="28"/>
                        </a:lnTo>
                        <a:lnTo>
                          <a:pt x="448" y="39"/>
                        </a:lnTo>
                        <a:lnTo>
                          <a:pt x="428" y="17"/>
                        </a:lnTo>
                        <a:lnTo>
                          <a:pt x="421" y="5"/>
                        </a:lnTo>
                        <a:lnTo>
                          <a:pt x="408" y="0"/>
                        </a:lnTo>
                        <a:lnTo>
                          <a:pt x="394" y="5"/>
                        </a:lnTo>
                        <a:lnTo>
                          <a:pt x="381" y="11"/>
                        </a:lnTo>
                        <a:lnTo>
                          <a:pt x="361" y="17"/>
                        </a:lnTo>
                        <a:lnTo>
                          <a:pt x="348" y="17"/>
                        </a:lnTo>
                        <a:lnTo>
                          <a:pt x="287" y="17"/>
                        </a:lnTo>
                        <a:lnTo>
                          <a:pt x="261" y="11"/>
                        </a:lnTo>
                        <a:lnTo>
                          <a:pt x="234" y="5"/>
                        </a:lnTo>
                        <a:lnTo>
                          <a:pt x="201" y="11"/>
                        </a:lnTo>
                        <a:lnTo>
                          <a:pt x="160" y="22"/>
                        </a:lnTo>
                        <a:lnTo>
                          <a:pt x="134" y="28"/>
                        </a:lnTo>
                        <a:lnTo>
                          <a:pt x="127" y="34"/>
                        </a:lnTo>
                        <a:lnTo>
                          <a:pt x="120" y="34"/>
                        </a:lnTo>
                        <a:lnTo>
                          <a:pt x="80" y="34"/>
                        </a:lnTo>
                        <a:lnTo>
                          <a:pt x="60" y="28"/>
                        </a:lnTo>
                        <a:lnTo>
                          <a:pt x="60" y="34"/>
                        </a:lnTo>
                        <a:lnTo>
                          <a:pt x="67" y="51"/>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2971800" y="3962160"/>
                  <a:ext cx="4492800" cy="692280"/>
                </a:xfrm>
                <a:custGeom>
                  <a:avLst/>
                  <a:gdLst/>
                  <a:ahLst/>
                  <a:rect l="l" t="t" r="r" b="b"/>
                  <a:pathLst>
                    <a:path w="5534" h="819">
                      <a:moveTo>
                        <a:pt x="9" y="0"/>
                      </a:moveTo>
                      <a:lnTo>
                        <a:pt x="0" y="84"/>
                      </a:lnTo>
                      <a:lnTo>
                        <a:pt x="0" y="162"/>
                      </a:lnTo>
                      <a:lnTo>
                        <a:pt x="0" y="199"/>
                      </a:lnTo>
                      <a:lnTo>
                        <a:pt x="0" y="233"/>
                      </a:lnTo>
                      <a:lnTo>
                        <a:pt x="9" y="264"/>
                      </a:lnTo>
                      <a:lnTo>
                        <a:pt x="9" y="291"/>
                      </a:lnTo>
                      <a:lnTo>
                        <a:pt x="17" y="311"/>
                      </a:lnTo>
                      <a:lnTo>
                        <a:pt x="26" y="328"/>
                      </a:lnTo>
                      <a:lnTo>
                        <a:pt x="35" y="338"/>
                      </a:lnTo>
                      <a:lnTo>
                        <a:pt x="44" y="348"/>
                      </a:lnTo>
                      <a:lnTo>
                        <a:pt x="71" y="365"/>
                      </a:lnTo>
                      <a:lnTo>
                        <a:pt x="107" y="385"/>
                      </a:lnTo>
                      <a:lnTo>
                        <a:pt x="151" y="412"/>
                      </a:lnTo>
                      <a:lnTo>
                        <a:pt x="196" y="443"/>
                      </a:lnTo>
                      <a:lnTo>
                        <a:pt x="240" y="466"/>
                      </a:lnTo>
                      <a:lnTo>
                        <a:pt x="267" y="477"/>
                      </a:lnTo>
                      <a:lnTo>
                        <a:pt x="303" y="480"/>
                      </a:lnTo>
                      <a:lnTo>
                        <a:pt x="374" y="487"/>
                      </a:lnTo>
                      <a:lnTo>
                        <a:pt x="418" y="487"/>
                      </a:lnTo>
                      <a:lnTo>
                        <a:pt x="463" y="487"/>
                      </a:lnTo>
                      <a:lnTo>
                        <a:pt x="508" y="480"/>
                      </a:lnTo>
                      <a:lnTo>
                        <a:pt x="552" y="473"/>
                      </a:lnTo>
                      <a:lnTo>
                        <a:pt x="588" y="456"/>
                      </a:lnTo>
                      <a:lnTo>
                        <a:pt x="632" y="433"/>
                      </a:lnTo>
                      <a:lnTo>
                        <a:pt x="650" y="416"/>
                      </a:lnTo>
                      <a:lnTo>
                        <a:pt x="677" y="399"/>
                      </a:lnTo>
                      <a:lnTo>
                        <a:pt x="721" y="348"/>
                      </a:lnTo>
                      <a:lnTo>
                        <a:pt x="766" y="294"/>
                      </a:lnTo>
                      <a:lnTo>
                        <a:pt x="802" y="233"/>
                      </a:lnTo>
                      <a:lnTo>
                        <a:pt x="846" y="172"/>
                      </a:lnTo>
                      <a:lnTo>
                        <a:pt x="891" y="122"/>
                      </a:lnTo>
                      <a:lnTo>
                        <a:pt x="909" y="98"/>
                      </a:lnTo>
                      <a:lnTo>
                        <a:pt x="926" y="78"/>
                      </a:lnTo>
                      <a:lnTo>
                        <a:pt x="953" y="61"/>
                      </a:lnTo>
                      <a:lnTo>
                        <a:pt x="971" y="51"/>
                      </a:lnTo>
                      <a:lnTo>
                        <a:pt x="1015" y="37"/>
                      </a:lnTo>
                      <a:lnTo>
                        <a:pt x="1051" y="34"/>
                      </a:lnTo>
                      <a:lnTo>
                        <a:pt x="1096" y="40"/>
                      </a:lnTo>
                      <a:lnTo>
                        <a:pt x="1140" y="54"/>
                      </a:lnTo>
                      <a:lnTo>
                        <a:pt x="1176" y="71"/>
                      </a:lnTo>
                      <a:lnTo>
                        <a:pt x="1211" y="95"/>
                      </a:lnTo>
                      <a:lnTo>
                        <a:pt x="1256" y="145"/>
                      </a:lnTo>
                      <a:lnTo>
                        <a:pt x="1274" y="176"/>
                      </a:lnTo>
                      <a:lnTo>
                        <a:pt x="1274" y="216"/>
                      </a:lnTo>
                      <a:lnTo>
                        <a:pt x="1274" y="260"/>
                      </a:lnTo>
                      <a:lnTo>
                        <a:pt x="1274" y="307"/>
                      </a:lnTo>
                      <a:lnTo>
                        <a:pt x="1265" y="355"/>
                      </a:lnTo>
                      <a:lnTo>
                        <a:pt x="1256" y="402"/>
                      </a:lnTo>
                      <a:lnTo>
                        <a:pt x="1256" y="443"/>
                      </a:lnTo>
                      <a:lnTo>
                        <a:pt x="1256" y="480"/>
                      </a:lnTo>
                      <a:lnTo>
                        <a:pt x="1274" y="548"/>
                      </a:lnTo>
                      <a:lnTo>
                        <a:pt x="1283" y="578"/>
                      </a:lnTo>
                      <a:lnTo>
                        <a:pt x="1292" y="608"/>
                      </a:lnTo>
                      <a:lnTo>
                        <a:pt x="1309" y="635"/>
                      </a:lnTo>
                      <a:lnTo>
                        <a:pt x="1318" y="656"/>
                      </a:lnTo>
                      <a:lnTo>
                        <a:pt x="1336" y="669"/>
                      </a:lnTo>
                      <a:lnTo>
                        <a:pt x="1354" y="673"/>
                      </a:lnTo>
                      <a:lnTo>
                        <a:pt x="1372" y="666"/>
                      </a:lnTo>
                      <a:lnTo>
                        <a:pt x="1399" y="652"/>
                      </a:lnTo>
                      <a:lnTo>
                        <a:pt x="1425" y="629"/>
                      </a:lnTo>
                      <a:lnTo>
                        <a:pt x="1452" y="602"/>
                      </a:lnTo>
                      <a:lnTo>
                        <a:pt x="1497" y="537"/>
                      </a:lnTo>
                      <a:lnTo>
                        <a:pt x="1523" y="507"/>
                      </a:lnTo>
                      <a:lnTo>
                        <a:pt x="1550" y="480"/>
                      </a:lnTo>
                      <a:lnTo>
                        <a:pt x="1621" y="382"/>
                      </a:lnTo>
                      <a:lnTo>
                        <a:pt x="1657" y="335"/>
                      </a:lnTo>
                      <a:lnTo>
                        <a:pt x="1693" y="291"/>
                      </a:lnTo>
                      <a:lnTo>
                        <a:pt x="1719" y="247"/>
                      </a:lnTo>
                      <a:lnTo>
                        <a:pt x="1755" y="206"/>
                      </a:lnTo>
                      <a:lnTo>
                        <a:pt x="1782" y="169"/>
                      </a:lnTo>
                      <a:lnTo>
                        <a:pt x="1808" y="155"/>
                      </a:lnTo>
                      <a:lnTo>
                        <a:pt x="1835" y="145"/>
                      </a:lnTo>
                      <a:lnTo>
                        <a:pt x="1871" y="138"/>
                      </a:lnTo>
                      <a:lnTo>
                        <a:pt x="1915" y="132"/>
                      </a:lnTo>
                      <a:lnTo>
                        <a:pt x="2004" y="128"/>
                      </a:lnTo>
                      <a:lnTo>
                        <a:pt x="2102" y="132"/>
                      </a:lnTo>
                      <a:lnTo>
                        <a:pt x="2138" y="138"/>
                      </a:lnTo>
                      <a:lnTo>
                        <a:pt x="2174" y="145"/>
                      </a:lnTo>
                      <a:lnTo>
                        <a:pt x="2227" y="166"/>
                      </a:lnTo>
                      <a:lnTo>
                        <a:pt x="2263" y="196"/>
                      </a:lnTo>
                      <a:lnTo>
                        <a:pt x="2290" y="237"/>
                      </a:lnTo>
                      <a:lnTo>
                        <a:pt x="2299" y="264"/>
                      </a:lnTo>
                      <a:lnTo>
                        <a:pt x="2316" y="291"/>
                      </a:lnTo>
                      <a:lnTo>
                        <a:pt x="2325" y="324"/>
                      </a:lnTo>
                      <a:lnTo>
                        <a:pt x="2343" y="368"/>
                      </a:lnTo>
                      <a:lnTo>
                        <a:pt x="2352" y="419"/>
                      </a:lnTo>
                      <a:lnTo>
                        <a:pt x="2370" y="470"/>
                      </a:lnTo>
                      <a:lnTo>
                        <a:pt x="2379" y="520"/>
                      </a:lnTo>
                      <a:lnTo>
                        <a:pt x="2388" y="564"/>
                      </a:lnTo>
                      <a:lnTo>
                        <a:pt x="2405" y="602"/>
                      </a:lnTo>
                      <a:lnTo>
                        <a:pt x="2405" y="615"/>
                      </a:lnTo>
                      <a:lnTo>
                        <a:pt x="2414" y="625"/>
                      </a:lnTo>
                      <a:lnTo>
                        <a:pt x="2423" y="639"/>
                      </a:lnTo>
                      <a:lnTo>
                        <a:pt x="2432" y="646"/>
                      </a:lnTo>
                      <a:lnTo>
                        <a:pt x="2441" y="649"/>
                      </a:lnTo>
                      <a:lnTo>
                        <a:pt x="2450" y="642"/>
                      </a:lnTo>
                      <a:lnTo>
                        <a:pt x="2459" y="635"/>
                      </a:lnTo>
                      <a:lnTo>
                        <a:pt x="2477" y="619"/>
                      </a:lnTo>
                      <a:lnTo>
                        <a:pt x="2495" y="602"/>
                      </a:lnTo>
                      <a:lnTo>
                        <a:pt x="2512" y="578"/>
                      </a:lnTo>
                      <a:lnTo>
                        <a:pt x="2521" y="564"/>
                      </a:lnTo>
                      <a:lnTo>
                        <a:pt x="2530" y="548"/>
                      </a:lnTo>
                      <a:lnTo>
                        <a:pt x="2557" y="507"/>
                      </a:lnTo>
                      <a:lnTo>
                        <a:pt x="2584" y="460"/>
                      </a:lnTo>
                      <a:lnTo>
                        <a:pt x="2619" y="406"/>
                      </a:lnTo>
                      <a:lnTo>
                        <a:pt x="2646" y="355"/>
                      </a:lnTo>
                      <a:lnTo>
                        <a:pt x="2682" y="307"/>
                      </a:lnTo>
                      <a:lnTo>
                        <a:pt x="2708" y="267"/>
                      </a:lnTo>
                      <a:lnTo>
                        <a:pt x="2726" y="253"/>
                      </a:lnTo>
                      <a:lnTo>
                        <a:pt x="2744" y="240"/>
                      </a:lnTo>
                      <a:lnTo>
                        <a:pt x="2780" y="223"/>
                      </a:lnTo>
                      <a:lnTo>
                        <a:pt x="2815" y="213"/>
                      </a:lnTo>
                      <a:lnTo>
                        <a:pt x="2851" y="209"/>
                      </a:lnTo>
                      <a:lnTo>
                        <a:pt x="2896" y="209"/>
                      </a:lnTo>
                      <a:lnTo>
                        <a:pt x="2931" y="216"/>
                      </a:lnTo>
                      <a:lnTo>
                        <a:pt x="2976" y="223"/>
                      </a:lnTo>
                      <a:lnTo>
                        <a:pt x="3083" y="240"/>
                      </a:lnTo>
                      <a:lnTo>
                        <a:pt x="3145" y="250"/>
                      </a:lnTo>
                      <a:lnTo>
                        <a:pt x="3225" y="267"/>
                      </a:lnTo>
                      <a:lnTo>
                        <a:pt x="3386" y="304"/>
                      </a:lnTo>
                      <a:lnTo>
                        <a:pt x="3475" y="324"/>
                      </a:lnTo>
                      <a:lnTo>
                        <a:pt x="3546" y="345"/>
                      </a:lnTo>
                      <a:lnTo>
                        <a:pt x="3608" y="365"/>
                      </a:lnTo>
                      <a:lnTo>
                        <a:pt x="3662" y="385"/>
                      </a:lnTo>
                      <a:lnTo>
                        <a:pt x="3689" y="402"/>
                      </a:lnTo>
                      <a:lnTo>
                        <a:pt x="3706" y="422"/>
                      </a:lnTo>
                      <a:lnTo>
                        <a:pt x="3706" y="443"/>
                      </a:lnTo>
                      <a:lnTo>
                        <a:pt x="3706" y="460"/>
                      </a:lnTo>
                      <a:lnTo>
                        <a:pt x="3697" y="497"/>
                      </a:lnTo>
                      <a:lnTo>
                        <a:pt x="3697" y="514"/>
                      </a:lnTo>
                      <a:lnTo>
                        <a:pt x="3706" y="531"/>
                      </a:lnTo>
                      <a:lnTo>
                        <a:pt x="3751" y="558"/>
                      </a:lnTo>
                      <a:lnTo>
                        <a:pt x="3804" y="585"/>
                      </a:lnTo>
                      <a:lnTo>
                        <a:pt x="3876" y="605"/>
                      </a:lnTo>
                      <a:lnTo>
                        <a:pt x="3947" y="625"/>
                      </a:lnTo>
                      <a:lnTo>
                        <a:pt x="4045" y="649"/>
                      </a:lnTo>
                      <a:lnTo>
                        <a:pt x="4152" y="669"/>
                      </a:lnTo>
                      <a:lnTo>
                        <a:pt x="4205" y="679"/>
                      </a:lnTo>
                      <a:lnTo>
                        <a:pt x="4250" y="683"/>
                      </a:lnTo>
                      <a:lnTo>
                        <a:pt x="4294" y="683"/>
                      </a:lnTo>
                      <a:lnTo>
                        <a:pt x="4330" y="673"/>
                      </a:lnTo>
                      <a:lnTo>
                        <a:pt x="4357" y="656"/>
                      </a:lnTo>
                      <a:lnTo>
                        <a:pt x="4366" y="632"/>
                      </a:lnTo>
                      <a:lnTo>
                        <a:pt x="4375" y="602"/>
                      </a:lnTo>
                      <a:lnTo>
                        <a:pt x="4375" y="564"/>
                      </a:lnTo>
                      <a:lnTo>
                        <a:pt x="4384" y="493"/>
                      </a:lnTo>
                      <a:lnTo>
                        <a:pt x="4401" y="460"/>
                      </a:lnTo>
                      <a:lnTo>
                        <a:pt x="4428" y="433"/>
                      </a:lnTo>
                      <a:lnTo>
                        <a:pt x="4464" y="406"/>
                      </a:lnTo>
                      <a:lnTo>
                        <a:pt x="4508" y="378"/>
                      </a:lnTo>
                      <a:lnTo>
                        <a:pt x="4562" y="351"/>
                      </a:lnTo>
                      <a:lnTo>
                        <a:pt x="4615" y="324"/>
                      </a:lnTo>
                      <a:lnTo>
                        <a:pt x="4678" y="304"/>
                      </a:lnTo>
                      <a:lnTo>
                        <a:pt x="4740" y="291"/>
                      </a:lnTo>
                      <a:lnTo>
                        <a:pt x="4793" y="284"/>
                      </a:lnTo>
                      <a:lnTo>
                        <a:pt x="4829" y="287"/>
                      </a:lnTo>
                      <a:lnTo>
                        <a:pt x="4856" y="291"/>
                      </a:lnTo>
                      <a:lnTo>
                        <a:pt x="4883" y="297"/>
                      </a:lnTo>
                      <a:lnTo>
                        <a:pt x="4918" y="311"/>
                      </a:lnTo>
                      <a:lnTo>
                        <a:pt x="4954" y="324"/>
                      </a:lnTo>
                      <a:lnTo>
                        <a:pt x="4981" y="345"/>
                      </a:lnTo>
                      <a:lnTo>
                        <a:pt x="5052" y="385"/>
                      </a:lnTo>
                      <a:lnTo>
                        <a:pt x="5114" y="436"/>
                      </a:lnTo>
                      <a:lnTo>
                        <a:pt x="5177" y="490"/>
                      </a:lnTo>
                      <a:lnTo>
                        <a:pt x="5239" y="541"/>
                      </a:lnTo>
                      <a:lnTo>
                        <a:pt x="5292" y="588"/>
                      </a:lnTo>
                      <a:lnTo>
                        <a:pt x="5337" y="625"/>
                      </a:lnTo>
                      <a:lnTo>
                        <a:pt x="5408" y="690"/>
                      </a:lnTo>
                      <a:lnTo>
                        <a:pt x="5462" y="744"/>
                      </a:lnTo>
                      <a:lnTo>
                        <a:pt x="5497" y="788"/>
                      </a:lnTo>
                      <a:lnTo>
                        <a:pt x="5515" y="804"/>
                      </a:lnTo>
                      <a:lnTo>
                        <a:pt x="5533" y="818"/>
                      </a:lnTo>
                    </a:path>
                  </a:pathLst>
                </a:custGeom>
                <a:noFill/>
                <a:ln cap="rnd" w="507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78640" y="5622480"/>
                  <a:ext cx="4563360" cy="452160"/>
                </a:xfrm>
                <a:custGeom>
                  <a:avLst/>
                  <a:gdLst/>
                  <a:ahLst/>
                  <a:rect l="l" t="t" r="r" b="b"/>
                  <a:pathLst>
                    <a:path w="5621" h="535">
                      <a:moveTo>
                        <a:pt x="0" y="534"/>
                      </a:moveTo>
                      <a:lnTo>
                        <a:pt x="46" y="443"/>
                      </a:lnTo>
                      <a:lnTo>
                        <a:pt x="100" y="340"/>
                      </a:lnTo>
                      <a:lnTo>
                        <a:pt x="136" y="279"/>
                      </a:lnTo>
                      <a:lnTo>
                        <a:pt x="173" y="212"/>
                      </a:lnTo>
                      <a:lnTo>
                        <a:pt x="209" y="152"/>
                      </a:lnTo>
                      <a:lnTo>
                        <a:pt x="227" y="127"/>
                      </a:lnTo>
                      <a:lnTo>
                        <a:pt x="245" y="103"/>
                      </a:lnTo>
                      <a:lnTo>
                        <a:pt x="272" y="73"/>
                      </a:lnTo>
                      <a:lnTo>
                        <a:pt x="290" y="55"/>
                      </a:lnTo>
                      <a:lnTo>
                        <a:pt x="308" y="42"/>
                      </a:lnTo>
                      <a:lnTo>
                        <a:pt x="336" y="55"/>
                      </a:lnTo>
                      <a:lnTo>
                        <a:pt x="354" y="67"/>
                      </a:lnTo>
                      <a:lnTo>
                        <a:pt x="372" y="85"/>
                      </a:lnTo>
                      <a:lnTo>
                        <a:pt x="399" y="140"/>
                      </a:lnTo>
                      <a:lnTo>
                        <a:pt x="435" y="194"/>
                      </a:lnTo>
                      <a:lnTo>
                        <a:pt x="454" y="224"/>
                      </a:lnTo>
                      <a:lnTo>
                        <a:pt x="481" y="243"/>
                      </a:lnTo>
                      <a:lnTo>
                        <a:pt x="544" y="273"/>
                      </a:lnTo>
                      <a:lnTo>
                        <a:pt x="617" y="303"/>
                      </a:lnTo>
                      <a:lnTo>
                        <a:pt x="698" y="322"/>
                      </a:lnTo>
                      <a:lnTo>
                        <a:pt x="771" y="340"/>
                      </a:lnTo>
                      <a:lnTo>
                        <a:pt x="898" y="376"/>
                      </a:lnTo>
                      <a:lnTo>
                        <a:pt x="961" y="388"/>
                      </a:lnTo>
                      <a:lnTo>
                        <a:pt x="1015" y="388"/>
                      </a:lnTo>
                      <a:lnTo>
                        <a:pt x="1061" y="376"/>
                      </a:lnTo>
                      <a:lnTo>
                        <a:pt x="1115" y="358"/>
                      </a:lnTo>
                      <a:lnTo>
                        <a:pt x="1161" y="328"/>
                      </a:lnTo>
                      <a:lnTo>
                        <a:pt x="1206" y="291"/>
                      </a:lnTo>
                      <a:lnTo>
                        <a:pt x="1233" y="249"/>
                      </a:lnTo>
                      <a:lnTo>
                        <a:pt x="1251" y="194"/>
                      </a:lnTo>
                      <a:lnTo>
                        <a:pt x="1269" y="140"/>
                      </a:lnTo>
                      <a:lnTo>
                        <a:pt x="1287" y="121"/>
                      </a:lnTo>
                      <a:lnTo>
                        <a:pt x="1296" y="103"/>
                      </a:lnTo>
                      <a:lnTo>
                        <a:pt x="1333" y="73"/>
                      </a:lnTo>
                      <a:lnTo>
                        <a:pt x="1360" y="48"/>
                      </a:lnTo>
                      <a:lnTo>
                        <a:pt x="1378" y="42"/>
                      </a:lnTo>
                      <a:lnTo>
                        <a:pt x="1396" y="36"/>
                      </a:lnTo>
                      <a:lnTo>
                        <a:pt x="1423" y="42"/>
                      </a:lnTo>
                      <a:lnTo>
                        <a:pt x="1441" y="55"/>
                      </a:lnTo>
                      <a:lnTo>
                        <a:pt x="1469" y="73"/>
                      </a:lnTo>
                      <a:lnTo>
                        <a:pt x="1496" y="109"/>
                      </a:lnTo>
                      <a:lnTo>
                        <a:pt x="1532" y="146"/>
                      </a:lnTo>
                      <a:lnTo>
                        <a:pt x="1568" y="188"/>
                      </a:lnTo>
                      <a:lnTo>
                        <a:pt x="1632" y="273"/>
                      </a:lnTo>
                      <a:lnTo>
                        <a:pt x="1659" y="309"/>
                      </a:lnTo>
                      <a:lnTo>
                        <a:pt x="1686" y="340"/>
                      </a:lnTo>
                      <a:lnTo>
                        <a:pt x="1722" y="382"/>
                      </a:lnTo>
                      <a:lnTo>
                        <a:pt x="1759" y="407"/>
                      </a:lnTo>
                      <a:lnTo>
                        <a:pt x="1786" y="419"/>
                      </a:lnTo>
                      <a:lnTo>
                        <a:pt x="1831" y="437"/>
                      </a:lnTo>
                      <a:lnTo>
                        <a:pt x="1886" y="455"/>
                      </a:lnTo>
                      <a:lnTo>
                        <a:pt x="1940" y="473"/>
                      </a:lnTo>
                      <a:lnTo>
                        <a:pt x="2003" y="485"/>
                      </a:lnTo>
                      <a:lnTo>
                        <a:pt x="2067" y="485"/>
                      </a:lnTo>
                      <a:lnTo>
                        <a:pt x="2130" y="473"/>
                      </a:lnTo>
                      <a:lnTo>
                        <a:pt x="2203" y="449"/>
                      </a:lnTo>
                      <a:lnTo>
                        <a:pt x="2257" y="419"/>
                      </a:lnTo>
                      <a:lnTo>
                        <a:pt x="2303" y="388"/>
                      </a:lnTo>
                      <a:lnTo>
                        <a:pt x="2321" y="376"/>
                      </a:lnTo>
                      <a:lnTo>
                        <a:pt x="2330" y="370"/>
                      </a:lnTo>
                      <a:lnTo>
                        <a:pt x="2330" y="346"/>
                      </a:lnTo>
                      <a:lnTo>
                        <a:pt x="2330" y="322"/>
                      </a:lnTo>
                      <a:lnTo>
                        <a:pt x="2339" y="309"/>
                      </a:lnTo>
                      <a:lnTo>
                        <a:pt x="2357" y="291"/>
                      </a:lnTo>
                      <a:lnTo>
                        <a:pt x="2402" y="249"/>
                      </a:lnTo>
                      <a:lnTo>
                        <a:pt x="2466" y="194"/>
                      </a:lnTo>
                      <a:lnTo>
                        <a:pt x="2529" y="140"/>
                      </a:lnTo>
                      <a:lnTo>
                        <a:pt x="2565" y="121"/>
                      </a:lnTo>
                      <a:lnTo>
                        <a:pt x="2593" y="103"/>
                      </a:lnTo>
                      <a:lnTo>
                        <a:pt x="2665" y="79"/>
                      </a:lnTo>
                      <a:lnTo>
                        <a:pt x="2747" y="67"/>
                      </a:lnTo>
                      <a:lnTo>
                        <a:pt x="2819" y="61"/>
                      </a:lnTo>
                      <a:lnTo>
                        <a:pt x="2883" y="55"/>
                      </a:lnTo>
                      <a:lnTo>
                        <a:pt x="2928" y="48"/>
                      </a:lnTo>
                      <a:lnTo>
                        <a:pt x="2955" y="55"/>
                      </a:lnTo>
                      <a:lnTo>
                        <a:pt x="2991" y="55"/>
                      </a:lnTo>
                      <a:lnTo>
                        <a:pt x="3028" y="55"/>
                      </a:lnTo>
                      <a:lnTo>
                        <a:pt x="3082" y="42"/>
                      </a:lnTo>
                      <a:lnTo>
                        <a:pt x="3155" y="18"/>
                      </a:lnTo>
                      <a:lnTo>
                        <a:pt x="3218" y="6"/>
                      </a:lnTo>
                      <a:lnTo>
                        <a:pt x="3245" y="0"/>
                      </a:lnTo>
                      <a:lnTo>
                        <a:pt x="3263" y="6"/>
                      </a:lnTo>
                      <a:lnTo>
                        <a:pt x="3291" y="24"/>
                      </a:lnTo>
                      <a:lnTo>
                        <a:pt x="3300" y="61"/>
                      </a:lnTo>
                      <a:lnTo>
                        <a:pt x="3300" y="103"/>
                      </a:lnTo>
                      <a:lnTo>
                        <a:pt x="3318" y="152"/>
                      </a:lnTo>
                      <a:lnTo>
                        <a:pt x="3327" y="176"/>
                      </a:lnTo>
                      <a:lnTo>
                        <a:pt x="3345" y="212"/>
                      </a:lnTo>
                      <a:lnTo>
                        <a:pt x="3381" y="279"/>
                      </a:lnTo>
                      <a:lnTo>
                        <a:pt x="3417" y="346"/>
                      </a:lnTo>
                      <a:lnTo>
                        <a:pt x="3436" y="370"/>
                      </a:lnTo>
                      <a:lnTo>
                        <a:pt x="3463" y="388"/>
                      </a:lnTo>
                      <a:lnTo>
                        <a:pt x="3481" y="400"/>
                      </a:lnTo>
                      <a:lnTo>
                        <a:pt x="3499" y="407"/>
                      </a:lnTo>
                      <a:lnTo>
                        <a:pt x="3535" y="407"/>
                      </a:lnTo>
                      <a:lnTo>
                        <a:pt x="3581" y="394"/>
                      </a:lnTo>
                      <a:lnTo>
                        <a:pt x="3617" y="394"/>
                      </a:lnTo>
                      <a:lnTo>
                        <a:pt x="3653" y="388"/>
                      </a:lnTo>
                      <a:lnTo>
                        <a:pt x="3698" y="388"/>
                      </a:lnTo>
                      <a:lnTo>
                        <a:pt x="3753" y="382"/>
                      </a:lnTo>
                      <a:lnTo>
                        <a:pt x="3889" y="382"/>
                      </a:lnTo>
                      <a:lnTo>
                        <a:pt x="4025" y="370"/>
                      </a:lnTo>
                      <a:lnTo>
                        <a:pt x="4079" y="358"/>
                      </a:lnTo>
                      <a:lnTo>
                        <a:pt x="4134" y="340"/>
                      </a:lnTo>
                      <a:lnTo>
                        <a:pt x="4179" y="316"/>
                      </a:lnTo>
                      <a:lnTo>
                        <a:pt x="4215" y="285"/>
                      </a:lnTo>
                      <a:lnTo>
                        <a:pt x="4279" y="206"/>
                      </a:lnTo>
                      <a:lnTo>
                        <a:pt x="4306" y="164"/>
                      </a:lnTo>
                      <a:lnTo>
                        <a:pt x="4342" y="133"/>
                      </a:lnTo>
                      <a:lnTo>
                        <a:pt x="4378" y="109"/>
                      </a:lnTo>
                      <a:lnTo>
                        <a:pt x="4414" y="103"/>
                      </a:lnTo>
                      <a:lnTo>
                        <a:pt x="4460" y="109"/>
                      </a:lnTo>
                      <a:lnTo>
                        <a:pt x="4514" y="133"/>
                      </a:lnTo>
                      <a:lnTo>
                        <a:pt x="4569" y="170"/>
                      </a:lnTo>
                      <a:lnTo>
                        <a:pt x="4623" y="206"/>
                      </a:lnTo>
                      <a:lnTo>
                        <a:pt x="4686" y="249"/>
                      </a:lnTo>
                      <a:lnTo>
                        <a:pt x="4741" y="285"/>
                      </a:lnTo>
                      <a:lnTo>
                        <a:pt x="4795" y="322"/>
                      </a:lnTo>
                      <a:lnTo>
                        <a:pt x="4850" y="340"/>
                      </a:lnTo>
                      <a:lnTo>
                        <a:pt x="4904" y="352"/>
                      </a:lnTo>
                      <a:lnTo>
                        <a:pt x="4958" y="358"/>
                      </a:lnTo>
                      <a:lnTo>
                        <a:pt x="5076" y="358"/>
                      </a:lnTo>
                      <a:lnTo>
                        <a:pt x="5185" y="346"/>
                      </a:lnTo>
                      <a:lnTo>
                        <a:pt x="5285" y="340"/>
                      </a:lnTo>
                      <a:lnTo>
                        <a:pt x="5357" y="346"/>
                      </a:lnTo>
                      <a:lnTo>
                        <a:pt x="5421" y="358"/>
                      </a:lnTo>
                      <a:lnTo>
                        <a:pt x="5475" y="358"/>
                      </a:lnTo>
                      <a:lnTo>
                        <a:pt x="5502" y="352"/>
                      </a:lnTo>
                      <a:lnTo>
                        <a:pt x="5520" y="340"/>
                      </a:lnTo>
                      <a:lnTo>
                        <a:pt x="5538" y="322"/>
                      </a:lnTo>
                      <a:lnTo>
                        <a:pt x="5557" y="297"/>
                      </a:lnTo>
                      <a:lnTo>
                        <a:pt x="5584" y="224"/>
                      </a:lnTo>
                      <a:lnTo>
                        <a:pt x="5602" y="158"/>
                      </a:lnTo>
                      <a:lnTo>
                        <a:pt x="5611" y="127"/>
                      </a:lnTo>
                      <a:lnTo>
                        <a:pt x="5620" y="103"/>
                      </a:lnTo>
                    </a:path>
                  </a:pathLst>
                </a:custGeom>
                <a:noFill/>
                <a:ln cap="rnd" w="507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
                <p:cNvGrpSpPr/>
                <p:nvPr/>
              </p:nvGrpSpPr>
              <p:grpSpPr>
                <a:xfrm>
                  <a:off x="6098040" y="3976920"/>
                  <a:ext cx="316440" cy="514800"/>
                  <a:chOff x="6098040" y="3976920"/>
                  <a:chExt cx="316440" cy="514800"/>
                </a:xfrm>
              </p:grpSpPr>
              <p:sp>
                <p:nvSpPr>
                  <p:cNvPr id="245" name=""/>
                  <p:cNvSpPr/>
                  <p:nvPr/>
                </p:nvSpPr>
                <p:spPr>
                  <a:xfrm rot="1500000">
                    <a:off x="6189480" y="4057560"/>
                    <a:ext cx="46800" cy="4449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1500000">
                    <a:off x="6250680" y="400572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47" name=""/>
                <p:cNvGrpSpPr/>
                <p:nvPr/>
              </p:nvGrpSpPr>
              <p:grpSpPr>
                <a:xfrm>
                  <a:off x="5995800" y="4297320"/>
                  <a:ext cx="271800" cy="529560"/>
                  <a:chOff x="5995800" y="4297320"/>
                  <a:chExt cx="271800" cy="529560"/>
                </a:xfrm>
              </p:grpSpPr>
              <p:sp>
                <p:nvSpPr>
                  <p:cNvPr id="248" name=""/>
                  <p:cNvSpPr/>
                  <p:nvPr/>
                </p:nvSpPr>
                <p:spPr>
                  <a:xfrm rot="20340000">
                    <a:off x="6142320" y="4388400"/>
                    <a:ext cx="46800" cy="444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20340000">
                    <a:off x="6004800" y="4321800"/>
                    <a:ext cx="154080" cy="79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nvGrpSpPr>
                <p:cNvPr id="250" name=""/>
                <p:cNvGrpSpPr/>
                <p:nvPr/>
              </p:nvGrpSpPr>
              <p:grpSpPr>
                <a:xfrm>
                  <a:off x="6465600" y="5729400"/>
                  <a:ext cx="214560" cy="535680"/>
                  <a:chOff x="6465600" y="5729400"/>
                  <a:chExt cx="214560" cy="535680"/>
                </a:xfrm>
              </p:grpSpPr>
              <p:sp>
                <p:nvSpPr>
                  <p:cNvPr id="251" name=""/>
                  <p:cNvSpPr/>
                  <p:nvPr/>
                </p:nvSpPr>
                <p:spPr>
                  <a:xfrm rot="20760000">
                    <a:off x="6518520" y="5727960"/>
                    <a:ext cx="46800" cy="44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20760000">
                    <a:off x="6518520" y="616824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53" name=""/>
                <p:cNvGrpSpPr/>
                <p:nvPr/>
              </p:nvGrpSpPr>
              <p:grpSpPr>
                <a:xfrm>
                  <a:off x="5352120" y="5422680"/>
                  <a:ext cx="331560" cy="511560"/>
                  <a:chOff x="5352120" y="5422680"/>
                  <a:chExt cx="331560" cy="511560"/>
                </a:xfrm>
              </p:grpSpPr>
              <p:sp>
                <p:nvSpPr>
                  <p:cNvPr id="254" name=""/>
                  <p:cNvSpPr/>
                  <p:nvPr/>
                </p:nvSpPr>
                <p:spPr>
                  <a:xfrm rot="19860000">
                    <a:off x="5456880" y="5406120"/>
                    <a:ext cx="46800" cy="444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19860000">
                    <a:off x="5519880" y="582264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56" name=""/>
                <p:cNvGrpSpPr/>
                <p:nvPr/>
              </p:nvGrpSpPr>
              <p:grpSpPr>
                <a:xfrm>
                  <a:off x="4114800" y="5529240"/>
                  <a:ext cx="238320" cy="533520"/>
                  <a:chOff x="4114800" y="5529240"/>
                  <a:chExt cx="238320" cy="533520"/>
                </a:xfrm>
              </p:grpSpPr>
              <p:sp>
                <p:nvSpPr>
                  <p:cNvPr id="257" name=""/>
                  <p:cNvSpPr/>
                  <p:nvPr/>
                </p:nvSpPr>
                <p:spPr>
                  <a:xfrm rot="20580000">
                    <a:off x="4178520" y="5526360"/>
                    <a:ext cx="46800" cy="44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20580000">
                    <a:off x="4190400" y="596268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59" name=""/>
                <p:cNvGrpSpPr/>
                <p:nvPr/>
              </p:nvGrpSpPr>
              <p:grpSpPr>
                <a:xfrm>
                  <a:off x="4966920" y="4069440"/>
                  <a:ext cx="388440" cy="481320"/>
                  <a:chOff x="4966920" y="4069440"/>
                  <a:chExt cx="388440" cy="481320"/>
                </a:xfrm>
              </p:grpSpPr>
              <p:sp>
                <p:nvSpPr>
                  <p:cNvPr id="260" name=""/>
                  <p:cNvSpPr/>
                  <p:nvPr/>
                </p:nvSpPr>
                <p:spPr>
                  <a:xfrm rot="2160000">
                    <a:off x="5092560" y="4134960"/>
                    <a:ext cx="46800" cy="44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2160000">
                    <a:off x="5192640" y="410688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62" name=""/>
                <p:cNvGrpSpPr/>
                <p:nvPr/>
              </p:nvGrpSpPr>
              <p:grpSpPr>
                <a:xfrm>
                  <a:off x="4006440" y="4065840"/>
                  <a:ext cx="365760" cy="493920"/>
                  <a:chOff x="4006440" y="4065840"/>
                  <a:chExt cx="365760" cy="493920"/>
                </a:xfrm>
              </p:grpSpPr>
              <p:sp>
                <p:nvSpPr>
                  <p:cNvPr id="263" name=""/>
                  <p:cNvSpPr/>
                  <p:nvPr/>
                </p:nvSpPr>
                <p:spPr>
                  <a:xfrm rot="1920000">
                    <a:off x="4120200" y="4136400"/>
                    <a:ext cx="46800" cy="444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rot="1920000">
                    <a:off x="4208760" y="410040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grpSp>
      <p:sp>
        <p:nvSpPr>
          <p:cNvPr id="265"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1371600" y="838080"/>
            <a:ext cx="7467480" cy="5503320"/>
            <a:chOff x="1371600" y="838080"/>
            <a:chExt cx="7467480" cy="5503320"/>
          </a:xfrm>
        </p:grpSpPr>
        <p:sp>
          <p:nvSpPr>
            <p:cNvPr id="269" name=""/>
            <p:cNvSpPr/>
            <p:nvPr/>
          </p:nvSpPr>
          <p:spPr>
            <a:xfrm>
              <a:off x="1371600" y="838080"/>
              <a:ext cx="7467480" cy="548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1382760" y="1003320"/>
              <a:ext cx="7243560" cy="5338080"/>
              <a:chOff x="1382760" y="1003320"/>
              <a:chExt cx="7243560" cy="5338080"/>
            </a:xfrm>
          </p:grpSpPr>
          <p:grpSp>
            <p:nvGrpSpPr>
              <p:cNvPr id="271" name=""/>
              <p:cNvGrpSpPr/>
              <p:nvPr/>
            </p:nvGrpSpPr>
            <p:grpSpPr>
              <a:xfrm>
                <a:off x="1382760" y="1297080"/>
                <a:ext cx="7243560" cy="4512240"/>
                <a:chOff x="1382760" y="1297080"/>
                <a:chExt cx="7243560" cy="4512240"/>
              </a:xfrm>
            </p:grpSpPr>
            <p:grpSp>
              <p:nvGrpSpPr>
                <p:cNvPr id="272" name=""/>
                <p:cNvGrpSpPr/>
                <p:nvPr/>
              </p:nvGrpSpPr>
              <p:grpSpPr>
                <a:xfrm>
                  <a:off x="1986480" y="3156480"/>
                  <a:ext cx="5739120" cy="1068120"/>
                  <a:chOff x="1986480" y="3156480"/>
                  <a:chExt cx="5739120" cy="1068120"/>
                </a:xfrm>
              </p:grpSpPr>
              <p:sp>
                <p:nvSpPr>
                  <p:cNvPr id="273" name=""/>
                  <p:cNvSpPr/>
                  <p:nvPr/>
                </p:nvSpPr>
                <p:spPr>
                  <a:xfrm>
                    <a:off x="1986480" y="3156480"/>
                    <a:ext cx="5665320" cy="299160"/>
                  </a:xfrm>
                  <a:custGeom>
                    <a:avLst/>
                    <a:gdLst/>
                    <a:ahLst/>
                    <a:rect l="l" t="t" r="r" b="b"/>
                    <a:pathLst>
                      <a:path w="4506" h="239">
                        <a:moveTo>
                          <a:pt x="0" y="128"/>
                        </a:moveTo>
                        <a:lnTo>
                          <a:pt x="889" y="220"/>
                        </a:lnTo>
                        <a:lnTo>
                          <a:pt x="678" y="0"/>
                        </a:lnTo>
                        <a:lnTo>
                          <a:pt x="1556" y="220"/>
                        </a:lnTo>
                        <a:lnTo>
                          <a:pt x="1346" y="0"/>
                        </a:lnTo>
                        <a:lnTo>
                          <a:pt x="2352" y="229"/>
                        </a:lnTo>
                        <a:lnTo>
                          <a:pt x="2106" y="19"/>
                        </a:lnTo>
                        <a:lnTo>
                          <a:pt x="2949" y="238"/>
                        </a:lnTo>
                        <a:lnTo>
                          <a:pt x="2680" y="19"/>
                        </a:lnTo>
                        <a:lnTo>
                          <a:pt x="3674" y="238"/>
                        </a:lnTo>
                        <a:lnTo>
                          <a:pt x="3346" y="10"/>
                        </a:lnTo>
                        <a:lnTo>
                          <a:pt x="4505" y="229"/>
                        </a:lnTo>
                        <a:lnTo>
                          <a:pt x="4493" y="22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060280" y="3925440"/>
                    <a:ext cx="5665320" cy="299160"/>
                  </a:xfrm>
                  <a:custGeom>
                    <a:avLst/>
                    <a:gdLst/>
                    <a:ahLst/>
                    <a:rect l="l" t="t" r="r" b="b"/>
                    <a:pathLst>
                      <a:path w="4506" h="239">
                        <a:moveTo>
                          <a:pt x="0" y="110"/>
                        </a:moveTo>
                        <a:lnTo>
                          <a:pt x="889" y="18"/>
                        </a:lnTo>
                        <a:lnTo>
                          <a:pt x="679" y="238"/>
                        </a:lnTo>
                        <a:lnTo>
                          <a:pt x="1556" y="18"/>
                        </a:lnTo>
                        <a:lnTo>
                          <a:pt x="1346" y="238"/>
                        </a:lnTo>
                        <a:lnTo>
                          <a:pt x="2352" y="9"/>
                        </a:lnTo>
                        <a:lnTo>
                          <a:pt x="2106" y="219"/>
                        </a:lnTo>
                        <a:lnTo>
                          <a:pt x="2949" y="0"/>
                        </a:lnTo>
                        <a:lnTo>
                          <a:pt x="2680" y="219"/>
                        </a:lnTo>
                        <a:lnTo>
                          <a:pt x="3675" y="0"/>
                        </a:lnTo>
                        <a:lnTo>
                          <a:pt x="3347" y="228"/>
                        </a:lnTo>
                        <a:lnTo>
                          <a:pt x="4505" y="9"/>
                        </a:lnTo>
                        <a:lnTo>
                          <a:pt x="4494" y="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 name=""/>
                <p:cNvSpPr/>
                <p:nvPr/>
              </p:nvSpPr>
              <p:spPr>
                <a:xfrm>
                  <a:off x="2030400" y="2058120"/>
                  <a:ext cx="1067400" cy="335520"/>
                </a:xfrm>
                <a:custGeom>
                  <a:avLst/>
                  <a:gdLst/>
                  <a:ahLst/>
                  <a:rect l="l" t="t" r="r" b="b"/>
                  <a:pathLst>
                    <a:path w="849" h="268">
                      <a:moveTo>
                        <a:pt x="85" y="145"/>
                      </a:moveTo>
                      <a:lnTo>
                        <a:pt x="171" y="136"/>
                      </a:lnTo>
                      <a:lnTo>
                        <a:pt x="258" y="128"/>
                      </a:lnTo>
                      <a:lnTo>
                        <a:pt x="345" y="119"/>
                      </a:lnTo>
                      <a:lnTo>
                        <a:pt x="431" y="106"/>
                      </a:lnTo>
                      <a:lnTo>
                        <a:pt x="456" y="93"/>
                      </a:lnTo>
                      <a:lnTo>
                        <a:pt x="481" y="84"/>
                      </a:lnTo>
                      <a:lnTo>
                        <a:pt x="536" y="67"/>
                      </a:lnTo>
                      <a:lnTo>
                        <a:pt x="591" y="52"/>
                      </a:lnTo>
                      <a:lnTo>
                        <a:pt x="646" y="39"/>
                      </a:lnTo>
                      <a:lnTo>
                        <a:pt x="659" y="35"/>
                      </a:lnTo>
                      <a:lnTo>
                        <a:pt x="677" y="31"/>
                      </a:lnTo>
                      <a:lnTo>
                        <a:pt x="691" y="28"/>
                      </a:lnTo>
                      <a:lnTo>
                        <a:pt x="693" y="26"/>
                      </a:lnTo>
                      <a:lnTo>
                        <a:pt x="696" y="26"/>
                      </a:lnTo>
                      <a:lnTo>
                        <a:pt x="707" y="18"/>
                      </a:lnTo>
                      <a:lnTo>
                        <a:pt x="718" y="11"/>
                      </a:lnTo>
                      <a:lnTo>
                        <a:pt x="732" y="3"/>
                      </a:lnTo>
                      <a:lnTo>
                        <a:pt x="746" y="0"/>
                      </a:lnTo>
                      <a:lnTo>
                        <a:pt x="762" y="0"/>
                      </a:lnTo>
                      <a:lnTo>
                        <a:pt x="785" y="1"/>
                      </a:lnTo>
                      <a:lnTo>
                        <a:pt x="807" y="5"/>
                      </a:lnTo>
                      <a:lnTo>
                        <a:pt x="828" y="13"/>
                      </a:lnTo>
                      <a:lnTo>
                        <a:pt x="837" y="18"/>
                      </a:lnTo>
                      <a:lnTo>
                        <a:pt x="844" y="24"/>
                      </a:lnTo>
                      <a:lnTo>
                        <a:pt x="846" y="29"/>
                      </a:lnTo>
                      <a:lnTo>
                        <a:pt x="848" y="37"/>
                      </a:lnTo>
                      <a:lnTo>
                        <a:pt x="846" y="46"/>
                      </a:lnTo>
                      <a:lnTo>
                        <a:pt x="839" y="56"/>
                      </a:lnTo>
                      <a:lnTo>
                        <a:pt x="828" y="67"/>
                      </a:lnTo>
                      <a:lnTo>
                        <a:pt x="812" y="80"/>
                      </a:lnTo>
                      <a:lnTo>
                        <a:pt x="803" y="85"/>
                      </a:lnTo>
                      <a:lnTo>
                        <a:pt x="791" y="89"/>
                      </a:lnTo>
                      <a:lnTo>
                        <a:pt x="766" y="91"/>
                      </a:lnTo>
                      <a:lnTo>
                        <a:pt x="739" y="91"/>
                      </a:lnTo>
                      <a:lnTo>
                        <a:pt x="712" y="93"/>
                      </a:lnTo>
                      <a:lnTo>
                        <a:pt x="687" y="106"/>
                      </a:lnTo>
                      <a:lnTo>
                        <a:pt x="673" y="112"/>
                      </a:lnTo>
                      <a:lnTo>
                        <a:pt x="661" y="119"/>
                      </a:lnTo>
                      <a:lnTo>
                        <a:pt x="657" y="128"/>
                      </a:lnTo>
                      <a:lnTo>
                        <a:pt x="655" y="140"/>
                      </a:lnTo>
                      <a:lnTo>
                        <a:pt x="652" y="149"/>
                      </a:lnTo>
                      <a:lnTo>
                        <a:pt x="646" y="158"/>
                      </a:lnTo>
                      <a:lnTo>
                        <a:pt x="641" y="162"/>
                      </a:lnTo>
                      <a:lnTo>
                        <a:pt x="634" y="164"/>
                      </a:lnTo>
                      <a:lnTo>
                        <a:pt x="614" y="169"/>
                      </a:lnTo>
                      <a:lnTo>
                        <a:pt x="586" y="173"/>
                      </a:lnTo>
                      <a:lnTo>
                        <a:pt x="559" y="179"/>
                      </a:lnTo>
                      <a:lnTo>
                        <a:pt x="532" y="181"/>
                      </a:lnTo>
                      <a:lnTo>
                        <a:pt x="506" y="184"/>
                      </a:lnTo>
                      <a:lnTo>
                        <a:pt x="488" y="184"/>
                      </a:lnTo>
                      <a:lnTo>
                        <a:pt x="484" y="186"/>
                      </a:lnTo>
                      <a:lnTo>
                        <a:pt x="479" y="186"/>
                      </a:lnTo>
                      <a:lnTo>
                        <a:pt x="413" y="197"/>
                      </a:lnTo>
                      <a:lnTo>
                        <a:pt x="349" y="211"/>
                      </a:lnTo>
                      <a:lnTo>
                        <a:pt x="283" y="225"/>
                      </a:lnTo>
                      <a:lnTo>
                        <a:pt x="217" y="239"/>
                      </a:lnTo>
                      <a:lnTo>
                        <a:pt x="205" y="246"/>
                      </a:lnTo>
                      <a:lnTo>
                        <a:pt x="194" y="255"/>
                      </a:lnTo>
                      <a:lnTo>
                        <a:pt x="180" y="263"/>
                      </a:lnTo>
                      <a:lnTo>
                        <a:pt x="167" y="267"/>
                      </a:lnTo>
                      <a:lnTo>
                        <a:pt x="146" y="267"/>
                      </a:lnTo>
                      <a:lnTo>
                        <a:pt x="126" y="267"/>
                      </a:lnTo>
                      <a:lnTo>
                        <a:pt x="110" y="263"/>
                      </a:lnTo>
                      <a:lnTo>
                        <a:pt x="94" y="257"/>
                      </a:lnTo>
                      <a:lnTo>
                        <a:pt x="64" y="242"/>
                      </a:lnTo>
                      <a:lnTo>
                        <a:pt x="34" y="225"/>
                      </a:lnTo>
                      <a:lnTo>
                        <a:pt x="25" y="216"/>
                      </a:lnTo>
                      <a:lnTo>
                        <a:pt x="14" y="207"/>
                      </a:lnTo>
                      <a:lnTo>
                        <a:pt x="5" y="197"/>
                      </a:lnTo>
                      <a:lnTo>
                        <a:pt x="0" y="186"/>
                      </a:lnTo>
                      <a:lnTo>
                        <a:pt x="3" y="177"/>
                      </a:lnTo>
                      <a:lnTo>
                        <a:pt x="12" y="169"/>
                      </a:lnTo>
                      <a:lnTo>
                        <a:pt x="23" y="162"/>
                      </a:lnTo>
                      <a:lnTo>
                        <a:pt x="37" y="158"/>
                      </a:lnTo>
                      <a:lnTo>
                        <a:pt x="64" y="149"/>
                      </a:lnTo>
                      <a:lnTo>
                        <a:pt x="76" y="147"/>
                      </a:lnTo>
                      <a:lnTo>
                        <a:pt x="85" y="14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659760" y="1758600"/>
                  <a:ext cx="697680" cy="416880"/>
                </a:xfrm>
                <a:custGeom>
                  <a:avLst/>
                  <a:gdLst/>
                  <a:ahLst/>
                  <a:rect l="l" t="t" r="r" b="b"/>
                  <a:pathLst>
                    <a:path w="555" h="333">
                      <a:moveTo>
                        <a:pt x="138" y="16"/>
                      </a:moveTo>
                      <a:lnTo>
                        <a:pt x="100" y="28"/>
                      </a:lnTo>
                      <a:lnTo>
                        <a:pt x="65" y="41"/>
                      </a:lnTo>
                      <a:lnTo>
                        <a:pt x="35" y="57"/>
                      </a:lnTo>
                      <a:lnTo>
                        <a:pt x="15" y="76"/>
                      </a:lnTo>
                      <a:lnTo>
                        <a:pt x="4" y="98"/>
                      </a:lnTo>
                      <a:lnTo>
                        <a:pt x="0" y="113"/>
                      </a:lnTo>
                      <a:lnTo>
                        <a:pt x="4" y="127"/>
                      </a:lnTo>
                      <a:lnTo>
                        <a:pt x="11" y="144"/>
                      </a:lnTo>
                      <a:lnTo>
                        <a:pt x="19" y="162"/>
                      </a:lnTo>
                      <a:lnTo>
                        <a:pt x="35" y="182"/>
                      </a:lnTo>
                      <a:lnTo>
                        <a:pt x="54" y="205"/>
                      </a:lnTo>
                      <a:lnTo>
                        <a:pt x="65" y="213"/>
                      </a:lnTo>
                      <a:lnTo>
                        <a:pt x="77" y="219"/>
                      </a:lnTo>
                      <a:lnTo>
                        <a:pt x="92" y="222"/>
                      </a:lnTo>
                      <a:lnTo>
                        <a:pt x="108" y="225"/>
                      </a:lnTo>
                      <a:lnTo>
                        <a:pt x="138" y="227"/>
                      </a:lnTo>
                      <a:lnTo>
                        <a:pt x="169" y="230"/>
                      </a:lnTo>
                      <a:lnTo>
                        <a:pt x="196" y="235"/>
                      </a:lnTo>
                      <a:lnTo>
                        <a:pt x="227" y="240"/>
                      </a:lnTo>
                      <a:lnTo>
                        <a:pt x="296" y="246"/>
                      </a:lnTo>
                      <a:lnTo>
                        <a:pt x="361" y="252"/>
                      </a:lnTo>
                      <a:lnTo>
                        <a:pt x="392" y="254"/>
                      </a:lnTo>
                      <a:lnTo>
                        <a:pt x="419" y="257"/>
                      </a:lnTo>
                      <a:lnTo>
                        <a:pt x="419" y="276"/>
                      </a:lnTo>
                      <a:lnTo>
                        <a:pt x="419" y="295"/>
                      </a:lnTo>
                      <a:lnTo>
                        <a:pt x="423" y="311"/>
                      </a:lnTo>
                      <a:lnTo>
                        <a:pt x="427" y="319"/>
                      </a:lnTo>
                      <a:lnTo>
                        <a:pt x="434" y="324"/>
                      </a:lnTo>
                      <a:lnTo>
                        <a:pt x="461" y="330"/>
                      </a:lnTo>
                      <a:lnTo>
                        <a:pt x="477" y="332"/>
                      </a:lnTo>
                      <a:lnTo>
                        <a:pt x="492" y="330"/>
                      </a:lnTo>
                      <a:lnTo>
                        <a:pt x="504" y="328"/>
                      </a:lnTo>
                      <a:lnTo>
                        <a:pt x="515" y="324"/>
                      </a:lnTo>
                      <a:lnTo>
                        <a:pt x="527" y="319"/>
                      </a:lnTo>
                      <a:lnTo>
                        <a:pt x="534" y="311"/>
                      </a:lnTo>
                      <a:lnTo>
                        <a:pt x="550" y="282"/>
                      </a:lnTo>
                      <a:lnTo>
                        <a:pt x="554" y="255"/>
                      </a:lnTo>
                      <a:lnTo>
                        <a:pt x="546" y="233"/>
                      </a:lnTo>
                      <a:lnTo>
                        <a:pt x="530" y="213"/>
                      </a:lnTo>
                      <a:lnTo>
                        <a:pt x="511" y="197"/>
                      </a:lnTo>
                      <a:lnTo>
                        <a:pt x="488" y="182"/>
                      </a:lnTo>
                      <a:lnTo>
                        <a:pt x="461" y="171"/>
                      </a:lnTo>
                      <a:lnTo>
                        <a:pt x="434" y="163"/>
                      </a:lnTo>
                      <a:lnTo>
                        <a:pt x="431" y="154"/>
                      </a:lnTo>
                      <a:lnTo>
                        <a:pt x="431" y="143"/>
                      </a:lnTo>
                      <a:lnTo>
                        <a:pt x="427" y="132"/>
                      </a:lnTo>
                      <a:lnTo>
                        <a:pt x="419" y="124"/>
                      </a:lnTo>
                      <a:lnTo>
                        <a:pt x="407" y="117"/>
                      </a:lnTo>
                      <a:lnTo>
                        <a:pt x="396" y="114"/>
                      </a:lnTo>
                      <a:lnTo>
                        <a:pt x="381" y="113"/>
                      </a:lnTo>
                      <a:lnTo>
                        <a:pt x="369" y="109"/>
                      </a:lnTo>
                      <a:lnTo>
                        <a:pt x="342" y="97"/>
                      </a:lnTo>
                      <a:lnTo>
                        <a:pt x="319" y="82"/>
                      </a:lnTo>
                      <a:lnTo>
                        <a:pt x="304" y="70"/>
                      </a:lnTo>
                      <a:lnTo>
                        <a:pt x="296" y="63"/>
                      </a:lnTo>
                      <a:lnTo>
                        <a:pt x="284" y="57"/>
                      </a:lnTo>
                      <a:lnTo>
                        <a:pt x="258" y="48"/>
                      </a:lnTo>
                      <a:lnTo>
                        <a:pt x="227" y="40"/>
                      </a:lnTo>
                      <a:lnTo>
                        <a:pt x="200" y="33"/>
                      </a:lnTo>
                      <a:lnTo>
                        <a:pt x="192" y="30"/>
                      </a:lnTo>
                      <a:lnTo>
                        <a:pt x="188" y="30"/>
                      </a:lnTo>
                      <a:lnTo>
                        <a:pt x="169" y="21"/>
                      </a:lnTo>
                      <a:lnTo>
                        <a:pt x="158" y="13"/>
                      </a:lnTo>
                      <a:lnTo>
                        <a:pt x="150" y="6"/>
                      </a:lnTo>
                      <a:lnTo>
                        <a:pt x="142" y="2"/>
                      </a:lnTo>
                      <a:lnTo>
                        <a:pt x="138" y="0"/>
                      </a:lnTo>
                      <a:lnTo>
                        <a:pt x="138" y="2"/>
                      </a:lnTo>
                      <a:lnTo>
                        <a:pt x="138" y="8"/>
                      </a:lnTo>
                      <a:lnTo>
                        <a:pt x="138" y="16"/>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970320" y="2125440"/>
                  <a:ext cx="706320" cy="340560"/>
                </a:xfrm>
                <a:custGeom>
                  <a:avLst/>
                  <a:gdLst/>
                  <a:ahLst/>
                  <a:rect l="l" t="t" r="r" b="b"/>
                  <a:pathLst>
                    <a:path w="562" h="272">
                      <a:moveTo>
                        <a:pt x="65" y="67"/>
                      </a:moveTo>
                      <a:lnTo>
                        <a:pt x="16" y="130"/>
                      </a:lnTo>
                      <a:lnTo>
                        <a:pt x="8" y="159"/>
                      </a:lnTo>
                      <a:lnTo>
                        <a:pt x="0" y="187"/>
                      </a:lnTo>
                      <a:lnTo>
                        <a:pt x="0" y="212"/>
                      </a:lnTo>
                      <a:lnTo>
                        <a:pt x="16" y="234"/>
                      </a:lnTo>
                      <a:lnTo>
                        <a:pt x="48" y="253"/>
                      </a:lnTo>
                      <a:lnTo>
                        <a:pt x="105" y="269"/>
                      </a:lnTo>
                      <a:lnTo>
                        <a:pt x="121" y="271"/>
                      </a:lnTo>
                      <a:lnTo>
                        <a:pt x="129" y="269"/>
                      </a:lnTo>
                      <a:lnTo>
                        <a:pt x="145" y="263"/>
                      </a:lnTo>
                      <a:lnTo>
                        <a:pt x="161" y="257"/>
                      </a:lnTo>
                      <a:lnTo>
                        <a:pt x="185" y="242"/>
                      </a:lnTo>
                      <a:lnTo>
                        <a:pt x="209" y="228"/>
                      </a:lnTo>
                      <a:lnTo>
                        <a:pt x="233" y="216"/>
                      </a:lnTo>
                      <a:lnTo>
                        <a:pt x="265" y="202"/>
                      </a:lnTo>
                      <a:lnTo>
                        <a:pt x="321" y="171"/>
                      </a:lnTo>
                      <a:lnTo>
                        <a:pt x="385" y="140"/>
                      </a:lnTo>
                      <a:lnTo>
                        <a:pt x="409" y="126"/>
                      </a:lnTo>
                      <a:lnTo>
                        <a:pt x="433" y="112"/>
                      </a:lnTo>
                      <a:lnTo>
                        <a:pt x="441" y="126"/>
                      </a:lnTo>
                      <a:lnTo>
                        <a:pt x="457" y="144"/>
                      </a:lnTo>
                      <a:lnTo>
                        <a:pt x="457" y="150"/>
                      </a:lnTo>
                      <a:lnTo>
                        <a:pt x="465" y="155"/>
                      </a:lnTo>
                      <a:lnTo>
                        <a:pt x="473" y="159"/>
                      </a:lnTo>
                      <a:lnTo>
                        <a:pt x="481" y="159"/>
                      </a:lnTo>
                      <a:lnTo>
                        <a:pt x="497" y="155"/>
                      </a:lnTo>
                      <a:lnTo>
                        <a:pt x="505" y="151"/>
                      </a:lnTo>
                      <a:lnTo>
                        <a:pt x="537" y="136"/>
                      </a:lnTo>
                      <a:lnTo>
                        <a:pt x="553" y="114"/>
                      </a:lnTo>
                      <a:lnTo>
                        <a:pt x="561" y="93"/>
                      </a:lnTo>
                      <a:lnTo>
                        <a:pt x="561" y="75"/>
                      </a:lnTo>
                      <a:lnTo>
                        <a:pt x="553" y="61"/>
                      </a:lnTo>
                      <a:lnTo>
                        <a:pt x="553" y="48"/>
                      </a:lnTo>
                      <a:lnTo>
                        <a:pt x="545" y="38"/>
                      </a:lnTo>
                      <a:lnTo>
                        <a:pt x="537" y="30"/>
                      </a:lnTo>
                      <a:lnTo>
                        <a:pt x="521" y="22"/>
                      </a:lnTo>
                      <a:lnTo>
                        <a:pt x="505" y="14"/>
                      </a:lnTo>
                      <a:lnTo>
                        <a:pt x="473" y="12"/>
                      </a:lnTo>
                      <a:lnTo>
                        <a:pt x="449" y="14"/>
                      </a:lnTo>
                      <a:lnTo>
                        <a:pt x="417" y="18"/>
                      </a:lnTo>
                      <a:lnTo>
                        <a:pt x="393" y="26"/>
                      </a:lnTo>
                      <a:lnTo>
                        <a:pt x="385" y="18"/>
                      </a:lnTo>
                      <a:lnTo>
                        <a:pt x="377" y="10"/>
                      </a:lnTo>
                      <a:lnTo>
                        <a:pt x="369" y="4"/>
                      </a:lnTo>
                      <a:lnTo>
                        <a:pt x="361" y="0"/>
                      </a:lnTo>
                      <a:lnTo>
                        <a:pt x="353" y="2"/>
                      </a:lnTo>
                      <a:lnTo>
                        <a:pt x="337" y="8"/>
                      </a:lnTo>
                      <a:lnTo>
                        <a:pt x="329" y="14"/>
                      </a:lnTo>
                      <a:lnTo>
                        <a:pt x="313" y="18"/>
                      </a:lnTo>
                      <a:lnTo>
                        <a:pt x="281" y="20"/>
                      </a:lnTo>
                      <a:lnTo>
                        <a:pt x="257" y="22"/>
                      </a:lnTo>
                      <a:lnTo>
                        <a:pt x="249" y="22"/>
                      </a:lnTo>
                      <a:lnTo>
                        <a:pt x="233" y="20"/>
                      </a:lnTo>
                      <a:lnTo>
                        <a:pt x="225" y="18"/>
                      </a:lnTo>
                      <a:lnTo>
                        <a:pt x="209" y="20"/>
                      </a:lnTo>
                      <a:lnTo>
                        <a:pt x="177" y="28"/>
                      </a:lnTo>
                      <a:lnTo>
                        <a:pt x="153" y="38"/>
                      </a:lnTo>
                      <a:lnTo>
                        <a:pt x="121" y="48"/>
                      </a:lnTo>
                      <a:lnTo>
                        <a:pt x="113" y="49"/>
                      </a:lnTo>
                      <a:lnTo>
                        <a:pt x="113" y="51"/>
                      </a:lnTo>
                      <a:lnTo>
                        <a:pt x="81" y="53"/>
                      </a:lnTo>
                      <a:lnTo>
                        <a:pt x="65" y="53"/>
                      </a:lnTo>
                      <a:lnTo>
                        <a:pt x="56" y="53"/>
                      </a:lnTo>
                      <a:lnTo>
                        <a:pt x="56" y="55"/>
                      </a:lnTo>
                      <a:lnTo>
                        <a:pt x="56" y="59"/>
                      </a:lnTo>
                      <a:lnTo>
                        <a:pt x="65" y="67"/>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2711880" y="2752920"/>
                  <a:ext cx="4669200" cy="432720"/>
                  <a:chOff x="2711880" y="2752920"/>
                  <a:chExt cx="4669200" cy="432720"/>
                </a:xfrm>
              </p:grpSpPr>
              <p:grpSp>
                <p:nvGrpSpPr>
                  <p:cNvPr id="279" name=""/>
                  <p:cNvGrpSpPr/>
                  <p:nvPr/>
                </p:nvGrpSpPr>
                <p:grpSpPr>
                  <a:xfrm>
                    <a:off x="5073120" y="2768760"/>
                    <a:ext cx="1154880" cy="416880"/>
                    <a:chOff x="5073120" y="2768760"/>
                    <a:chExt cx="1154880" cy="416880"/>
                  </a:xfrm>
                </p:grpSpPr>
                <p:grpSp>
                  <p:nvGrpSpPr>
                    <p:cNvPr id="280" name=""/>
                    <p:cNvGrpSpPr/>
                    <p:nvPr/>
                  </p:nvGrpSpPr>
                  <p:grpSpPr>
                    <a:xfrm>
                      <a:off x="5073120" y="2768760"/>
                      <a:ext cx="272520" cy="412200"/>
                      <a:chOff x="5073120" y="2768760"/>
                      <a:chExt cx="272520" cy="412200"/>
                    </a:xfrm>
                  </p:grpSpPr>
                  <p:sp>
                    <p:nvSpPr>
                      <p:cNvPr id="281" name=""/>
                      <p:cNvSpPr/>
                      <p:nvPr/>
                    </p:nvSpPr>
                    <p:spPr>
                      <a:xfrm flipH="1" rot="1680000">
                        <a:off x="5153040" y="283896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rot="1680000">
                        <a:off x="5204880" y="2796480"/>
                        <a:ext cx="13392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283" name=""/>
                    <p:cNvGrpSpPr/>
                    <p:nvPr/>
                  </p:nvGrpSpPr>
                  <p:grpSpPr>
                    <a:xfrm>
                      <a:off x="5296680" y="2773800"/>
                      <a:ext cx="272160" cy="411840"/>
                      <a:chOff x="5296680" y="2773800"/>
                      <a:chExt cx="272160" cy="411840"/>
                    </a:xfrm>
                  </p:grpSpPr>
                  <p:sp>
                    <p:nvSpPr>
                      <p:cNvPr id="284" name=""/>
                      <p:cNvSpPr/>
                      <p:nvPr/>
                    </p:nvSpPr>
                    <p:spPr>
                      <a:xfrm flipH="1" rot="1680000">
                        <a:off x="5376600" y="284364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1680000">
                        <a:off x="5427360" y="28015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286" name=""/>
                    <p:cNvGrpSpPr/>
                    <p:nvPr/>
                  </p:nvGrpSpPr>
                  <p:grpSpPr>
                    <a:xfrm>
                      <a:off x="5626080" y="2773800"/>
                      <a:ext cx="272520" cy="411840"/>
                      <a:chOff x="5626080" y="2773800"/>
                      <a:chExt cx="272520" cy="411840"/>
                    </a:xfrm>
                  </p:grpSpPr>
                  <p:sp>
                    <p:nvSpPr>
                      <p:cNvPr id="287" name=""/>
                      <p:cNvSpPr/>
                      <p:nvPr/>
                    </p:nvSpPr>
                    <p:spPr>
                      <a:xfrm flipH="1" rot="1680000">
                        <a:off x="5706000" y="284364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rot="1680000">
                        <a:off x="5757120" y="28015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289" name=""/>
                    <p:cNvGrpSpPr/>
                    <p:nvPr/>
                  </p:nvGrpSpPr>
                  <p:grpSpPr>
                    <a:xfrm>
                      <a:off x="5955480" y="2773800"/>
                      <a:ext cx="272520" cy="411840"/>
                      <a:chOff x="5955480" y="2773800"/>
                      <a:chExt cx="272520" cy="411840"/>
                    </a:xfrm>
                  </p:grpSpPr>
                  <p:sp>
                    <p:nvSpPr>
                      <p:cNvPr id="290" name=""/>
                      <p:cNvSpPr/>
                      <p:nvPr/>
                    </p:nvSpPr>
                    <p:spPr>
                      <a:xfrm flipH="1" rot="1680000">
                        <a:off x="6035400" y="284364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rot="1680000">
                        <a:off x="6086520" y="28015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nvGrpSpPr>
                  <p:cNvPr id="292" name=""/>
                  <p:cNvGrpSpPr/>
                  <p:nvPr/>
                </p:nvGrpSpPr>
                <p:grpSpPr>
                  <a:xfrm>
                    <a:off x="6224400" y="2768760"/>
                    <a:ext cx="1156680" cy="416880"/>
                    <a:chOff x="6224400" y="2768760"/>
                    <a:chExt cx="1156680" cy="416880"/>
                  </a:xfrm>
                </p:grpSpPr>
                <p:grpSp>
                  <p:nvGrpSpPr>
                    <p:cNvPr id="293" name=""/>
                    <p:cNvGrpSpPr/>
                    <p:nvPr/>
                  </p:nvGrpSpPr>
                  <p:grpSpPr>
                    <a:xfrm>
                      <a:off x="6224400" y="2768760"/>
                      <a:ext cx="273960" cy="412200"/>
                      <a:chOff x="6224400" y="2768760"/>
                      <a:chExt cx="273960" cy="412200"/>
                    </a:xfrm>
                  </p:grpSpPr>
                  <p:sp>
                    <p:nvSpPr>
                      <p:cNvPr id="294" name=""/>
                      <p:cNvSpPr/>
                      <p:nvPr/>
                    </p:nvSpPr>
                    <p:spPr>
                      <a:xfrm flipH="1" rot="1680000">
                        <a:off x="6305040" y="2838960"/>
                        <a:ext cx="4032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rot="1680000">
                        <a:off x="6356880" y="279648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296" name=""/>
                    <p:cNvGrpSpPr/>
                    <p:nvPr/>
                  </p:nvGrpSpPr>
                  <p:grpSpPr>
                    <a:xfrm>
                      <a:off x="6447960" y="2773800"/>
                      <a:ext cx="273960" cy="411840"/>
                      <a:chOff x="6447960" y="2773800"/>
                      <a:chExt cx="273960" cy="411840"/>
                    </a:xfrm>
                  </p:grpSpPr>
                  <p:sp>
                    <p:nvSpPr>
                      <p:cNvPr id="297" name=""/>
                      <p:cNvSpPr/>
                      <p:nvPr/>
                    </p:nvSpPr>
                    <p:spPr>
                      <a:xfrm flipH="1" rot="1680000">
                        <a:off x="6528600" y="2843640"/>
                        <a:ext cx="4032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rot="1680000">
                        <a:off x="6580440" y="28015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299" name=""/>
                    <p:cNvGrpSpPr/>
                    <p:nvPr/>
                  </p:nvGrpSpPr>
                  <p:grpSpPr>
                    <a:xfrm>
                      <a:off x="6779160" y="2773800"/>
                      <a:ext cx="272520" cy="411840"/>
                      <a:chOff x="6779160" y="2773800"/>
                      <a:chExt cx="272520" cy="411840"/>
                    </a:xfrm>
                  </p:grpSpPr>
                  <p:sp>
                    <p:nvSpPr>
                      <p:cNvPr id="300" name=""/>
                      <p:cNvSpPr/>
                      <p:nvPr/>
                    </p:nvSpPr>
                    <p:spPr>
                      <a:xfrm flipH="1" rot="1680000">
                        <a:off x="6859080" y="284364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rot="1680000">
                        <a:off x="6910920" y="2801520"/>
                        <a:ext cx="13392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02" name=""/>
                    <p:cNvGrpSpPr/>
                    <p:nvPr/>
                  </p:nvGrpSpPr>
                  <p:grpSpPr>
                    <a:xfrm>
                      <a:off x="7108560" y="2773800"/>
                      <a:ext cx="272520" cy="411840"/>
                      <a:chOff x="7108560" y="2773800"/>
                      <a:chExt cx="272520" cy="411840"/>
                    </a:xfrm>
                  </p:grpSpPr>
                  <p:sp>
                    <p:nvSpPr>
                      <p:cNvPr id="303" name=""/>
                      <p:cNvSpPr/>
                      <p:nvPr/>
                    </p:nvSpPr>
                    <p:spPr>
                      <a:xfrm flipH="1" rot="1680000">
                        <a:off x="7188480" y="284364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1680000">
                        <a:off x="7239600" y="28015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nvGrpSpPr>
                  <p:cNvPr id="305" name=""/>
                  <p:cNvGrpSpPr/>
                  <p:nvPr/>
                </p:nvGrpSpPr>
                <p:grpSpPr>
                  <a:xfrm>
                    <a:off x="3896280" y="2752920"/>
                    <a:ext cx="1156320" cy="416880"/>
                    <a:chOff x="3896280" y="2752920"/>
                    <a:chExt cx="1156320" cy="416880"/>
                  </a:xfrm>
                </p:grpSpPr>
                <p:grpSp>
                  <p:nvGrpSpPr>
                    <p:cNvPr id="306" name=""/>
                    <p:cNvGrpSpPr/>
                    <p:nvPr/>
                  </p:nvGrpSpPr>
                  <p:grpSpPr>
                    <a:xfrm>
                      <a:off x="3896280" y="2752920"/>
                      <a:ext cx="272520" cy="411840"/>
                      <a:chOff x="3896280" y="2752920"/>
                      <a:chExt cx="272520" cy="411840"/>
                    </a:xfrm>
                  </p:grpSpPr>
                  <p:sp>
                    <p:nvSpPr>
                      <p:cNvPr id="307" name=""/>
                      <p:cNvSpPr/>
                      <p:nvPr/>
                    </p:nvSpPr>
                    <p:spPr>
                      <a:xfrm flipH="1" rot="1680000">
                        <a:off x="3976200" y="282276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rot="1680000">
                        <a:off x="4027320" y="278064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09" name=""/>
                    <p:cNvGrpSpPr/>
                    <p:nvPr/>
                  </p:nvGrpSpPr>
                  <p:grpSpPr>
                    <a:xfrm>
                      <a:off x="4119840" y="2758320"/>
                      <a:ext cx="272880" cy="410040"/>
                      <a:chOff x="4119840" y="2758320"/>
                      <a:chExt cx="272880" cy="410040"/>
                    </a:xfrm>
                  </p:grpSpPr>
                  <p:sp>
                    <p:nvSpPr>
                      <p:cNvPr id="310" name=""/>
                      <p:cNvSpPr/>
                      <p:nvPr/>
                    </p:nvSpPr>
                    <p:spPr>
                      <a:xfrm flipH="1" rot="1680000">
                        <a:off x="4200480" y="2826000"/>
                        <a:ext cx="4140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rot="1680000">
                        <a:off x="4250160" y="2786400"/>
                        <a:ext cx="13536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12" name=""/>
                    <p:cNvGrpSpPr/>
                    <p:nvPr/>
                  </p:nvGrpSpPr>
                  <p:grpSpPr>
                    <a:xfrm>
                      <a:off x="4450680" y="2757600"/>
                      <a:ext cx="272520" cy="412200"/>
                      <a:chOff x="4450680" y="2757600"/>
                      <a:chExt cx="272520" cy="412200"/>
                    </a:xfrm>
                  </p:grpSpPr>
                  <p:sp>
                    <p:nvSpPr>
                      <p:cNvPr id="313" name=""/>
                      <p:cNvSpPr/>
                      <p:nvPr/>
                    </p:nvSpPr>
                    <p:spPr>
                      <a:xfrm flipH="1" rot="1680000">
                        <a:off x="4530600" y="28278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rot="1680000">
                        <a:off x="4581720" y="27853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15" name=""/>
                    <p:cNvGrpSpPr/>
                    <p:nvPr/>
                  </p:nvGrpSpPr>
                  <p:grpSpPr>
                    <a:xfrm>
                      <a:off x="4780080" y="2757600"/>
                      <a:ext cx="272520" cy="412200"/>
                      <a:chOff x="4780080" y="2757600"/>
                      <a:chExt cx="272520" cy="412200"/>
                    </a:xfrm>
                  </p:grpSpPr>
                  <p:sp>
                    <p:nvSpPr>
                      <p:cNvPr id="316" name=""/>
                      <p:cNvSpPr/>
                      <p:nvPr/>
                    </p:nvSpPr>
                    <p:spPr>
                      <a:xfrm flipH="1" rot="1680000">
                        <a:off x="4860000" y="28278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rot="1680000">
                        <a:off x="4911120" y="27853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nvGrpSpPr>
                  <p:cNvPr id="318" name=""/>
                  <p:cNvGrpSpPr/>
                  <p:nvPr/>
                </p:nvGrpSpPr>
                <p:grpSpPr>
                  <a:xfrm>
                    <a:off x="2711880" y="2752920"/>
                    <a:ext cx="1155240" cy="416880"/>
                    <a:chOff x="2711880" y="2752920"/>
                    <a:chExt cx="1155240" cy="416880"/>
                  </a:xfrm>
                </p:grpSpPr>
                <p:grpSp>
                  <p:nvGrpSpPr>
                    <p:cNvPr id="319" name=""/>
                    <p:cNvGrpSpPr/>
                    <p:nvPr/>
                  </p:nvGrpSpPr>
                  <p:grpSpPr>
                    <a:xfrm>
                      <a:off x="2711880" y="2752920"/>
                      <a:ext cx="272520" cy="411840"/>
                      <a:chOff x="2711880" y="2752920"/>
                      <a:chExt cx="272520" cy="411840"/>
                    </a:xfrm>
                  </p:grpSpPr>
                  <p:sp>
                    <p:nvSpPr>
                      <p:cNvPr id="320" name=""/>
                      <p:cNvSpPr/>
                      <p:nvPr/>
                    </p:nvSpPr>
                    <p:spPr>
                      <a:xfrm flipH="1" rot="1680000">
                        <a:off x="2791800" y="282276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1680000">
                        <a:off x="2842920" y="278064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22" name=""/>
                    <p:cNvGrpSpPr/>
                    <p:nvPr/>
                  </p:nvGrpSpPr>
                  <p:grpSpPr>
                    <a:xfrm>
                      <a:off x="2935440" y="2757600"/>
                      <a:ext cx="272520" cy="412200"/>
                      <a:chOff x="2935440" y="2757600"/>
                      <a:chExt cx="272520" cy="412200"/>
                    </a:xfrm>
                  </p:grpSpPr>
                  <p:sp>
                    <p:nvSpPr>
                      <p:cNvPr id="323" name=""/>
                      <p:cNvSpPr/>
                      <p:nvPr/>
                    </p:nvSpPr>
                    <p:spPr>
                      <a:xfrm flipH="1" rot="1680000">
                        <a:off x="3015360" y="28278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1680000">
                        <a:off x="3066480" y="27853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25" name=""/>
                    <p:cNvGrpSpPr/>
                    <p:nvPr/>
                  </p:nvGrpSpPr>
                  <p:grpSpPr>
                    <a:xfrm>
                      <a:off x="3265200" y="2757600"/>
                      <a:ext cx="272160" cy="412200"/>
                      <a:chOff x="3265200" y="2757600"/>
                      <a:chExt cx="272160" cy="412200"/>
                    </a:xfrm>
                  </p:grpSpPr>
                  <p:sp>
                    <p:nvSpPr>
                      <p:cNvPr id="326" name=""/>
                      <p:cNvSpPr/>
                      <p:nvPr/>
                    </p:nvSpPr>
                    <p:spPr>
                      <a:xfrm flipH="1" rot="1680000">
                        <a:off x="3345120" y="28278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rot="1680000">
                        <a:off x="3395880" y="27853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28" name=""/>
                    <p:cNvGrpSpPr/>
                    <p:nvPr/>
                  </p:nvGrpSpPr>
                  <p:grpSpPr>
                    <a:xfrm>
                      <a:off x="3594600" y="2757600"/>
                      <a:ext cx="272520" cy="412200"/>
                      <a:chOff x="3594600" y="2757600"/>
                      <a:chExt cx="272520" cy="412200"/>
                    </a:xfrm>
                  </p:grpSpPr>
                  <p:sp>
                    <p:nvSpPr>
                      <p:cNvPr id="329" name=""/>
                      <p:cNvSpPr/>
                      <p:nvPr/>
                    </p:nvSpPr>
                    <p:spPr>
                      <a:xfrm flipH="1" rot="1680000">
                        <a:off x="3674520" y="28278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rot="1680000">
                        <a:off x="3725640" y="27853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grpSp>
              <p:nvGrpSpPr>
                <p:cNvPr id="331" name=""/>
                <p:cNvGrpSpPr/>
                <p:nvPr/>
              </p:nvGrpSpPr>
              <p:grpSpPr>
                <a:xfrm>
                  <a:off x="4347360" y="1384920"/>
                  <a:ext cx="2412360" cy="1418040"/>
                  <a:chOff x="4347360" y="1384920"/>
                  <a:chExt cx="2412360" cy="1418040"/>
                </a:xfrm>
              </p:grpSpPr>
              <p:sp>
                <p:nvSpPr>
                  <p:cNvPr id="332" name=""/>
                  <p:cNvSpPr/>
                  <p:nvPr/>
                </p:nvSpPr>
                <p:spPr>
                  <a:xfrm>
                    <a:off x="5095440" y="1942200"/>
                    <a:ext cx="1046880" cy="325440"/>
                  </a:xfrm>
                  <a:custGeom>
                    <a:avLst/>
                    <a:gdLst/>
                    <a:ahLst/>
                    <a:rect l="l" t="t" r="r" b="b"/>
                    <a:pathLst>
                      <a:path w="833" h="260">
                        <a:moveTo>
                          <a:pt x="92" y="10"/>
                        </a:moveTo>
                        <a:lnTo>
                          <a:pt x="179" y="39"/>
                        </a:lnTo>
                        <a:lnTo>
                          <a:pt x="259" y="70"/>
                        </a:lnTo>
                        <a:lnTo>
                          <a:pt x="345" y="97"/>
                        </a:lnTo>
                        <a:lnTo>
                          <a:pt x="382" y="109"/>
                        </a:lnTo>
                        <a:lnTo>
                          <a:pt x="425" y="119"/>
                        </a:lnTo>
                        <a:lnTo>
                          <a:pt x="456" y="119"/>
                        </a:lnTo>
                        <a:lnTo>
                          <a:pt x="481" y="121"/>
                        </a:lnTo>
                        <a:lnTo>
                          <a:pt x="536" y="128"/>
                        </a:lnTo>
                        <a:lnTo>
                          <a:pt x="592" y="140"/>
                        </a:lnTo>
                        <a:lnTo>
                          <a:pt x="647" y="150"/>
                        </a:lnTo>
                        <a:lnTo>
                          <a:pt x="666" y="153"/>
                        </a:lnTo>
                        <a:lnTo>
                          <a:pt x="684" y="155"/>
                        </a:lnTo>
                        <a:lnTo>
                          <a:pt x="697" y="158"/>
                        </a:lnTo>
                        <a:lnTo>
                          <a:pt x="703" y="158"/>
                        </a:lnTo>
                        <a:lnTo>
                          <a:pt x="715" y="157"/>
                        </a:lnTo>
                        <a:lnTo>
                          <a:pt x="734" y="155"/>
                        </a:lnTo>
                        <a:lnTo>
                          <a:pt x="746" y="153"/>
                        </a:lnTo>
                        <a:lnTo>
                          <a:pt x="752" y="155"/>
                        </a:lnTo>
                        <a:lnTo>
                          <a:pt x="758" y="157"/>
                        </a:lnTo>
                        <a:lnTo>
                          <a:pt x="771" y="164"/>
                        </a:lnTo>
                        <a:lnTo>
                          <a:pt x="789" y="174"/>
                        </a:lnTo>
                        <a:lnTo>
                          <a:pt x="814" y="187"/>
                        </a:lnTo>
                        <a:lnTo>
                          <a:pt x="826" y="203"/>
                        </a:lnTo>
                        <a:lnTo>
                          <a:pt x="832" y="218"/>
                        </a:lnTo>
                        <a:lnTo>
                          <a:pt x="832" y="234"/>
                        </a:lnTo>
                        <a:lnTo>
                          <a:pt x="820" y="246"/>
                        </a:lnTo>
                        <a:lnTo>
                          <a:pt x="783" y="256"/>
                        </a:lnTo>
                        <a:lnTo>
                          <a:pt x="771" y="256"/>
                        </a:lnTo>
                        <a:lnTo>
                          <a:pt x="758" y="254"/>
                        </a:lnTo>
                        <a:lnTo>
                          <a:pt x="746" y="252"/>
                        </a:lnTo>
                        <a:lnTo>
                          <a:pt x="734" y="247"/>
                        </a:lnTo>
                        <a:lnTo>
                          <a:pt x="709" y="237"/>
                        </a:lnTo>
                        <a:lnTo>
                          <a:pt x="684" y="227"/>
                        </a:lnTo>
                        <a:lnTo>
                          <a:pt x="672" y="227"/>
                        </a:lnTo>
                        <a:lnTo>
                          <a:pt x="660" y="227"/>
                        </a:lnTo>
                        <a:lnTo>
                          <a:pt x="641" y="227"/>
                        </a:lnTo>
                        <a:lnTo>
                          <a:pt x="629" y="230"/>
                        </a:lnTo>
                        <a:lnTo>
                          <a:pt x="623" y="237"/>
                        </a:lnTo>
                        <a:lnTo>
                          <a:pt x="616" y="246"/>
                        </a:lnTo>
                        <a:lnTo>
                          <a:pt x="610" y="254"/>
                        </a:lnTo>
                        <a:lnTo>
                          <a:pt x="598" y="259"/>
                        </a:lnTo>
                        <a:lnTo>
                          <a:pt x="586" y="259"/>
                        </a:lnTo>
                        <a:lnTo>
                          <a:pt x="561" y="254"/>
                        </a:lnTo>
                        <a:lnTo>
                          <a:pt x="536" y="247"/>
                        </a:lnTo>
                        <a:lnTo>
                          <a:pt x="512" y="239"/>
                        </a:lnTo>
                        <a:lnTo>
                          <a:pt x="487" y="230"/>
                        </a:lnTo>
                        <a:lnTo>
                          <a:pt x="462" y="223"/>
                        </a:lnTo>
                        <a:lnTo>
                          <a:pt x="444" y="216"/>
                        </a:lnTo>
                        <a:lnTo>
                          <a:pt x="438" y="213"/>
                        </a:lnTo>
                        <a:lnTo>
                          <a:pt x="376" y="196"/>
                        </a:lnTo>
                        <a:lnTo>
                          <a:pt x="308" y="179"/>
                        </a:lnTo>
                        <a:lnTo>
                          <a:pt x="179" y="150"/>
                        </a:lnTo>
                        <a:lnTo>
                          <a:pt x="160" y="152"/>
                        </a:lnTo>
                        <a:lnTo>
                          <a:pt x="148" y="155"/>
                        </a:lnTo>
                        <a:lnTo>
                          <a:pt x="129" y="157"/>
                        </a:lnTo>
                        <a:lnTo>
                          <a:pt x="117" y="153"/>
                        </a:lnTo>
                        <a:lnTo>
                          <a:pt x="80" y="136"/>
                        </a:lnTo>
                        <a:lnTo>
                          <a:pt x="55" y="116"/>
                        </a:lnTo>
                        <a:lnTo>
                          <a:pt x="37" y="90"/>
                        </a:lnTo>
                        <a:lnTo>
                          <a:pt x="18" y="61"/>
                        </a:lnTo>
                        <a:lnTo>
                          <a:pt x="12" y="49"/>
                        </a:lnTo>
                        <a:lnTo>
                          <a:pt x="6" y="36"/>
                        </a:lnTo>
                        <a:lnTo>
                          <a:pt x="0" y="24"/>
                        </a:lnTo>
                        <a:lnTo>
                          <a:pt x="0" y="12"/>
                        </a:lnTo>
                        <a:lnTo>
                          <a:pt x="6" y="5"/>
                        </a:lnTo>
                        <a:lnTo>
                          <a:pt x="18" y="1"/>
                        </a:lnTo>
                        <a:lnTo>
                          <a:pt x="31" y="0"/>
                        </a:lnTo>
                        <a:lnTo>
                          <a:pt x="49" y="1"/>
                        </a:lnTo>
                        <a:lnTo>
                          <a:pt x="74" y="7"/>
                        </a:lnTo>
                        <a:lnTo>
                          <a:pt x="92" y="1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 name=""/>
                  <p:cNvGrpSpPr/>
                  <p:nvPr/>
                </p:nvGrpSpPr>
                <p:grpSpPr>
                  <a:xfrm>
                    <a:off x="5302800" y="1384920"/>
                    <a:ext cx="208800" cy="571320"/>
                    <a:chOff x="5302800" y="1384920"/>
                    <a:chExt cx="208800" cy="571320"/>
                  </a:xfrm>
                </p:grpSpPr>
                <p:sp>
                  <p:nvSpPr>
                    <p:cNvPr id="334" name=""/>
                    <p:cNvSpPr/>
                    <p:nvPr/>
                  </p:nvSpPr>
                  <p:spPr>
                    <a:xfrm rot="840000">
                      <a:off x="5360760" y="14763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rot="840000">
                      <a:off x="5395680" y="1396440"/>
                      <a:ext cx="10692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36" name=""/>
                  <p:cNvGrpSpPr/>
                  <p:nvPr/>
                </p:nvGrpSpPr>
                <p:grpSpPr>
                  <a:xfrm>
                    <a:off x="5573160" y="1484640"/>
                    <a:ext cx="326520" cy="537480"/>
                    <a:chOff x="5573160" y="1484640"/>
                    <a:chExt cx="326520" cy="537480"/>
                  </a:xfrm>
                </p:grpSpPr>
                <p:sp>
                  <p:nvSpPr>
                    <p:cNvPr id="337" name=""/>
                    <p:cNvSpPr/>
                    <p:nvPr/>
                  </p:nvSpPr>
                  <p:spPr>
                    <a:xfrm rot="1620000">
                      <a:off x="5681160" y="15577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620000">
                      <a:off x="5779440" y="150408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339" name=""/>
                  <p:cNvGrpSpPr/>
                  <p:nvPr/>
                </p:nvGrpSpPr>
                <p:grpSpPr>
                  <a:xfrm>
                    <a:off x="5915880" y="1593360"/>
                    <a:ext cx="405720" cy="493200"/>
                    <a:chOff x="5915880" y="1593360"/>
                    <a:chExt cx="405720" cy="493200"/>
                  </a:xfrm>
                </p:grpSpPr>
                <p:sp>
                  <p:nvSpPr>
                    <p:cNvPr id="340" name=""/>
                    <p:cNvSpPr/>
                    <p:nvPr/>
                  </p:nvSpPr>
                  <p:spPr>
                    <a:xfrm rot="2220000">
                      <a:off x="6058080" y="16426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2220000">
                      <a:off x="6199920" y="16167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42" name=""/>
                  <p:cNvGrpSpPr/>
                  <p:nvPr/>
                </p:nvGrpSpPr>
                <p:grpSpPr>
                  <a:xfrm>
                    <a:off x="6177600" y="1657440"/>
                    <a:ext cx="582120" cy="495720"/>
                    <a:chOff x="6177600" y="1657440"/>
                    <a:chExt cx="582120" cy="495720"/>
                  </a:xfrm>
                </p:grpSpPr>
                <p:sp>
                  <p:nvSpPr>
                    <p:cNvPr id="343" name=""/>
                    <p:cNvSpPr/>
                    <p:nvPr/>
                  </p:nvSpPr>
                  <p:spPr>
                    <a:xfrm rot="19200000">
                      <a:off x="6114960" y="193752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4" name=""/>
                    <p:cNvSpPr/>
                    <p:nvPr/>
                  </p:nvSpPr>
                  <p:spPr>
                    <a:xfrm rot="19200000">
                      <a:off x="6638040" y="168120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45" name=""/>
                  <p:cNvGrpSpPr/>
                  <p:nvPr/>
                </p:nvGrpSpPr>
                <p:grpSpPr>
                  <a:xfrm>
                    <a:off x="6084360" y="2240280"/>
                    <a:ext cx="553680" cy="526680"/>
                    <a:chOff x="6084360" y="2240280"/>
                    <a:chExt cx="553680" cy="526680"/>
                  </a:xfrm>
                </p:grpSpPr>
                <p:sp>
                  <p:nvSpPr>
                    <p:cNvPr id="346" name=""/>
                    <p:cNvSpPr/>
                    <p:nvPr/>
                  </p:nvSpPr>
                  <p:spPr>
                    <a:xfrm rot="2580000">
                      <a:off x="6011640" y="24418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7" name=""/>
                    <p:cNvSpPr/>
                    <p:nvPr/>
                  </p:nvSpPr>
                  <p:spPr>
                    <a:xfrm rot="2580000">
                      <a:off x="6516720" y="265716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348" name=""/>
                  <p:cNvGrpSpPr/>
                  <p:nvPr/>
                </p:nvGrpSpPr>
                <p:grpSpPr>
                  <a:xfrm>
                    <a:off x="5909040" y="2249640"/>
                    <a:ext cx="316440" cy="544680"/>
                    <a:chOff x="5909040" y="2249640"/>
                    <a:chExt cx="316440" cy="544680"/>
                  </a:xfrm>
                </p:grpSpPr>
                <p:sp>
                  <p:nvSpPr>
                    <p:cNvPr id="349" name=""/>
                    <p:cNvSpPr/>
                    <p:nvPr/>
                  </p:nvSpPr>
                  <p:spPr>
                    <a:xfrm rot="19980000">
                      <a:off x="6017040" y="223020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9980000">
                      <a:off x="6104880" y="268812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51" name=""/>
                  <p:cNvGrpSpPr/>
                  <p:nvPr/>
                </p:nvGrpSpPr>
                <p:grpSpPr>
                  <a:xfrm>
                    <a:off x="5663880" y="2183760"/>
                    <a:ext cx="106560" cy="572040"/>
                    <a:chOff x="5663880" y="2183760"/>
                    <a:chExt cx="106560" cy="572040"/>
                  </a:xfrm>
                </p:grpSpPr>
                <p:sp>
                  <p:nvSpPr>
                    <p:cNvPr id="352" name=""/>
                    <p:cNvSpPr/>
                    <p:nvPr/>
                  </p:nvSpPr>
                  <p:spPr>
                    <a:xfrm>
                      <a:off x="5708880" y="218376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663880" y="26694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54" name=""/>
                  <p:cNvGrpSpPr/>
                  <p:nvPr/>
                </p:nvGrpSpPr>
                <p:grpSpPr>
                  <a:xfrm>
                    <a:off x="5270040" y="2227680"/>
                    <a:ext cx="110880" cy="575280"/>
                    <a:chOff x="5270040" y="2227680"/>
                    <a:chExt cx="110880" cy="575280"/>
                  </a:xfrm>
                </p:grpSpPr>
                <p:sp>
                  <p:nvSpPr>
                    <p:cNvPr id="355" name=""/>
                    <p:cNvSpPr/>
                    <p:nvPr/>
                  </p:nvSpPr>
                  <p:spPr>
                    <a:xfrm rot="120000">
                      <a:off x="5323680" y="22280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20000">
                      <a:off x="5271120" y="271512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57" name=""/>
                  <p:cNvGrpSpPr/>
                  <p:nvPr/>
                </p:nvGrpSpPr>
                <p:grpSpPr>
                  <a:xfrm>
                    <a:off x="4834440" y="1427760"/>
                    <a:ext cx="193680" cy="574200"/>
                    <a:chOff x="4834440" y="1427760"/>
                    <a:chExt cx="193680" cy="574200"/>
                  </a:xfrm>
                </p:grpSpPr>
                <p:sp>
                  <p:nvSpPr>
                    <p:cNvPr id="358" name=""/>
                    <p:cNvSpPr/>
                    <p:nvPr/>
                  </p:nvSpPr>
                  <p:spPr>
                    <a:xfrm rot="20820000">
                      <a:off x="4942440" y="15213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20820000">
                      <a:off x="4842720" y="1438200"/>
                      <a:ext cx="10620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60" name=""/>
                  <p:cNvGrpSpPr/>
                  <p:nvPr/>
                </p:nvGrpSpPr>
                <p:grpSpPr>
                  <a:xfrm>
                    <a:off x="4347360" y="2039040"/>
                    <a:ext cx="703440" cy="230400"/>
                    <a:chOff x="4347360" y="2039040"/>
                    <a:chExt cx="703440" cy="230400"/>
                  </a:xfrm>
                </p:grpSpPr>
                <p:sp>
                  <p:nvSpPr>
                    <p:cNvPr id="361" name=""/>
                    <p:cNvSpPr/>
                    <p:nvPr/>
                  </p:nvSpPr>
                  <p:spPr>
                    <a:xfrm rot="20700000">
                      <a:off x="4455360" y="2116440"/>
                      <a:ext cx="60228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2" name=""/>
                    <p:cNvSpPr/>
                    <p:nvPr/>
                  </p:nvSpPr>
                  <p:spPr>
                    <a:xfrm rot="20700000">
                      <a:off x="4356360" y="2172240"/>
                      <a:ext cx="106920" cy="84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63" name=""/>
                  <p:cNvGrpSpPr/>
                  <p:nvPr/>
                </p:nvGrpSpPr>
                <p:grpSpPr>
                  <a:xfrm>
                    <a:off x="4557600" y="2157840"/>
                    <a:ext cx="432360" cy="471960"/>
                    <a:chOff x="4557600" y="2157840"/>
                    <a:chExt cx="432360" cy="471960"/>
                  </a:xfrm>
                </p:grpSpPr>
                <p:sp>
                  <p:nvSpPr>
                    <p:cNvPr id="364" name=""/>
                    <p:cNvSpPr/>
                    <p:nvPr/>
                  </p:nvSpPr>
                  <p:spPr>
                    <a:xfrm rot="2460000">
                      <a:off x="4803840" y="21085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2460000">
                      <a:off x="4572360" y="252036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366" name=""/>
                  <p:cNvGrpSpPr/>
                  <p:nvPr/>
                </p:nvGrpSpPr>
                <p:grpSpPr>
                  <a:xfrm>
                    <a:off x="4834800" y="2247480"/>
                    <a:ext cx="304200" cy="549360"/>
                    <a:chOff x="4834800" y="2247480"/>
                    <a:chExt cx="304200" cy="549360"/>
                  </a:xfrm>
                </p:grpSpPr>
                <p:sp>
                  <p:nvSpPr>
                    <p:cNvPr id="367" name=""/>
                    <p:cNvSpPr/>
                    <p:nvPr/>
                  </p:nvSpPr>
                  <p:spPr>
                    <a:xfrm rot="1440000">
                      <a:off x="5010840" y="22327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1440000">
                      <a:off x="4847400" y="2692440"/>
                      <a:ext cx="10764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369" name=""/>
                <p:cNvGrpSpPr/>
                <p:nvPr/>
              </p:nvGrpSpPr>
              <p:grpSpPr>
                <a:xfrm>
                  <a:off x="2809800" y="1297080"/>
                  <a:ext cx="2413440" cy="1415880"/>
                  <a:chOff x="2809800" y="1297080"/>
                  <a:chExt cx="2413440" cy="1415880"/>
                </a:xfrm>
              </p:grpSpPr>
              <p:grpSp>
                <p:nvGrpSpPr>
                  <p:cNvPr id="370" name=""/>
                  <p:cNvGrpSpPr/>
                  <p:nvPr/>
                </p:nvGrpSpPr>
                <p:grpSpPr>
                  <a:xfrm>
                    <a:off x="3766680" y="1297080"/>
                    <a:ext cx="207000" cy="570600"/>
                    <a:chOff x="3766680" y="1297080"/>
                    <a:chExt cx="207000" cy="570600"/>
                  </a:xfrm>
                </p:grpSpPr>
                <p:sp>
                  <p:nvSpPr>
                    <p:cNvPr id="371" name=""/>
                    <p:cNvSpPr/>
                    <p:nvPr/>
                  </p:nvSpPr>
                  <p:spPr>
                    <a:xfrm rot="840000">
                      <a:off x="3824640" y="13878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840000">
                      <a:off x="3856680" y="130860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73" name=""/>
                  <p:cNvGrpSpPr/>
                  <p:nvPr/>
                </p:nvGrpSpPr>
                <p:grpSpPr>
                  <a:xfrm>
                    <a:off x="4036680" y="1395720"/>
                    <a:ext cx="326520" cy="537480"/>
                    <a:chOff x="4036680" y="1395720"/>
                    <a:chExt cx="326520" cy="537480"/>
                  </a:xfrm>
                </p:grpSpPr>
                <p:sp>
                  <p:nvSpPr>
                    <p:cNvPr id="374" name=""/>
                    <p:cNvSpPr/>
                    <p:nvPr/>
                  </p:nvSpPr>
                  <p:spPr>
                    <a:xfrm rot="1620000">
                      <a:off x="4144680" y="146880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620000">
                      <a:off x="4242960" y="141516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376" name=""/>
                  <p:cNvGrpSpPr/>
                  <p:nvPr/>
                </p:nvGrpSpPr>
                <p:grpSpPr>
                  <a:xfrm>
                    <a:off x="4379760" y="1505520"/>
                    <a:ext cx="405360" cy="493920"/>
                    <a:chOff x="4379760" y="1505520"/>
                    <a:chExt cx="405360" cy="493920"/>
                  </a:xfrm>
                </p:grpSpPr>
                <p:sp>
                  <p:nvSpPr>
                    <p:cNvPr id="377" name=""/>
                    <p:cNvSpPr/>
                    <p:nvPr/>
                  </p:nvSpPr>
                  <p:spPr>
                    <a:xfrm rot="2220000">
                      <a:off x="4521960" y="15555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rot="2220000">
                      <a:off x="4661640" y="152928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79" name=""/>
                  <p:cNvGrpSpPr/>
                  <p:nvPr/>
                </p:nvGrpSpPr>
                <p:grpSpPr>
                  <a:xfrm>
                    <a:off x="4641480" y="1568880"/>
                    <a:ext cx="581760" cy="495720"/>
                    <a:chOff x="4641480" y="1568880"/>
                    <a:chExt cx="581760" cy="495720"/>
                  </a:xfrm>
                </p:grpSpPr>
                <p:sp>
                  <p:nvSpPr>
                    <p:cNvPr id="380" name=""/>
                    <p:cNvSpPr/>
                    <p:nvPr/>
                  </p:nvSpPr>
                  <p:spPr>
                    <a:xfrm rot="19200000">
                      <a:off x="4578840" y="184896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rot="19200000">
                      <a:off x="5101560" y="159264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82" name=""/>
                  <p:cNvGrpSpPr/>
                  <p:nvPr/>
                </p:nvGrpSpPr>
                <p:grpSpPr>
                  <a:xfrm>
                    <a:off x="4548240" y="2151720"/>
                    <a:ext cx="554040" cy="526680"/>
                    <a:chOff x="4548240" y="2151720"/>
                    <a:chExt cx="554040" cy="526680"/>
                  </a:xfrm>
                </p:grpSpPr>
                <p:sp>
                  <p:nvSpPr>
                    <p:cNvPr id="383" name=""/>
                    <p:cNvSpPr/>
                    <p:nvPr/>
                  </p:nvSpPr>
                  <p:spPr>
                    <a:xfrm rot="2580000">
                      <a:off x="4475520" y="235332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4" name=""/>
                    <p:cNvSpPr/>
                    <p:nvPr/>
                  </p:nvSpPr>
                  <p:spPr>
                    <a:xfrm rot="2580000">
                      <a:off x="4980960" y="256860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385" name=""/>
                  <p:cNvGrpSpPr/>
                  <p:nvPr/>
                </p:nvGrpSpPr>
                <p:grpSpPr>
                  <a:xfrm>
                    <a:off x="4372920" y="2161080"/>
                    <a:ext cx="316080" cy="544680"/>
                    <a:chOff x="4372920" y="2161080"/>
                    <a:chExt cx="316080" cy="544680"/>
                  </a:xfrm>
                </p:grpSpPr>
                <p:sp>
                  <p:nvSpPr>
                    <p:cNvPr id="386" name=""/>
                    <p:cNvSpPr/>
                    <p:nvPr/>
                  </p:nvSpPr>
                  <p:spPr>
                    <a:xfrm rot="19980000">
                      <a:off x="4480560" y="21416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9980000">
                      <a:off x="4568400" y="259956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88" name=""/>
                  <p:cNvGrpSpPr/>
                  <p:nvPr/>
                </p:nvGrpSpPr>
                <p:grpSpPr>
                  <a:xfrm>
                    <a:off x="4127400" y="2095200"/>
                    <a:ext cx="106560" cy="571680"/>
                    <a:chOff x="4127400" y="2095200"/>
                    <a:chExt cx="106560" cy="571680"/>
                  </a:xfrm>
                </p:grpSpPr>
                <p:sp>
                  <p:nvSpPr>
                    <p:cNvPr id="389" name=""/>
                    <p:cNvSpPr/>
                    <p:nvPr/>
                  </p:nvSpPr>
                  <p:spPr>
                    <a:xfrm>
                      <a:off x="4172400" y="209520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27400" y="258084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91" name=""/>
                  <p:cNvGrpSpPr/>
                  <p:nvPr/>
                </p:nvGrpSpPr>
                <p:grpSpPr>
                  <a:xfrm>
                    <a:off x="3735000" y="2139120"/>
                    <a:ext cx="109440" cy="573840"/>
                    <a:chOff x="3735000" y="2139120"/>
                    <a:chExt cx="109440" cy="573840"/>
                  </a:xfrm>
                </p:grpSpPr>
                <p:sp>
                  <p:nvSpPr>
                    <p:cNvPr id="392" name=""/>
                    <p:cNvSpPr/>
                    <p:nvPr/>
                  </p:nvSpPr>
                  <p:spPr>
                    <a:xfrm rot="120000">
                      <a:off x="3788640" y="213948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rot="120000">
                      <a:off x="3736080" y="262476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94" name=""/>
                  <p:cNvGrpSpPr/>
                  <p:nvPr/>
                </p:nvGrpSpPr>
                <p:grpSpPr>
                  <a:xfrm>
                    <a:off x="3296880" y="1338840"/>
                    <a:ext cx="194040" cy="574560"/>
                    <a:chOff x="3296880" y="1338840"/>
                    <a:chExt cx="194040" cy="574560"/>
                  </a:xfrm>
                </p:grpSpPr>
                <p:sp>
                  <p:nvSpPr>
                    <p:cNvPr id="395" name=""/>
                    <p:cNvSpPr/>
                    <p:nvPr/>
                  </p:nvSpPr>
                  <p:spPr>
                    <a:xfrm rot="20820000">
                      <a:off x="3405240" y="14324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20820000">
                      <a:off x="3305160" y="134964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97" name=""/>
                  <p:cNvGrpSpPr/>
                  <p:nvPr/>
                </p:nvGrpSpPr>
                <p:grpSpPr>
                  <a:xfrm>
                    <a:off x="2809800" y="1950480"/>
                    <a:ext cx="703440" cy="230400"/>
                    <a:chOff x="2809800" y="1950480"/>
                    <a:chExt cx="703440" cy="230400"/>
                  </a:xfrm>
                </p:grpSpPr>
                <p:sp>
                  <p:nvSpPr>
                    <p:cNvPr id="398" name=""/>
                    <p:cNvSpPr/>
                    <p:nvPr/>
                  </p:nvSpPr>
                  <p:spPr>
                    <a:xfrm rot="20700000">
                      <a:off x="2917800" y="2027880"/>
                      <a:ext cx="60228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99" name=""/>
                    <p:cNvSpPr/>
                    <p:nvPr/>
                  </p:nvSpPr>
                  <p:spPr>
                    <a:xfrm rot="20700000">
                      <a:off x="2818800" y="2083320"/>
                      <a:ext cx="10692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00" name=""/>
                  <p:cNvGrpSpPr/>
                  <p:nvPr/>
                </p:nvGrpSpPr>
                <p:grpSpPr>
                  <a:xfrm>
                    <a:off x="3020040" y="2069280"/>
                    <a:ext cx="432360" cy="471960"/>
                    <a:chOff x="3020040" y="2069280"/>
                    <a:chExt cx="432360" cy="471960"/>
                  </a:xfrm>
                </p:grpSpPr>
                <p:sp>
                  <p:nvSpPr>
                    <p:cNvPr id="401" name=""/>
                    <p:cNvSpPr/>
                    <p:nvPr/>
                  </p:nvSpPr>
                  <p:spPr>
                    <a:xfrm rot="2460000">
                      <a:off x="3266280" y="20199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2460000">
                      <a:off x="3034800" y="243180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03" name=""/>
                  <p:cNvGrpSpPr/>
                  <p:nvPr/>
                </p:nvGrpSpPr>
                <p:grpSpPr>
                  <a:xfrm>
                    <a:off x="3299760" y="2158920"/>
                    <a:ext cx="304200" cy="547560"/>
                    <a:chOff x="3299760" y="2158920"/>
                    <a:chExt cx="304200" cy="547560"/>
                  </a:xfrm>
                </p:grpSpPr>
                <p:sp>
                  <p:nvSpPr>
                    <p:cNvPr id="404" name=""/>
                    <p:cNvSpPr/>
                    <p:nvPr/>
                  </p:nvSpPr>
                  <p:spPr>
                    <a:xfrm rot="1440000">
                      <a:off x="3475800" y="21441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rot="1440000">
                      <a:off x="3312360" y="26020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406" name=""/>
                <p:cNvGrpSpPr/>
                <p:nvPr/>
              </p:nvGrpSpPr>
              <p:grpSpPr>
                <a:xfrm>
                  <a:off x="1382760" y="1561320"/>
                  <a:ext cx="2412360" cy="1418040"/>
                  <a:chOff x="1382760" y="1561320"/>
                  <a:chExt cx="2412360" cy="1418040"/>
                </a:xfrm>
              </p:grpSpPr>
              <p:grpSp>
                <p:nvGrpSpPr>
                  <p:cNvPr id="407" name=""/>
                  <p:cNvGrpSpPr/>
                  <p:nvPr/>
                </p:nvGrpSpPr>
                <p:grpSpPr>
                  <a:xfrm>
                    <a:off x="2338200" y="1561320"/>
                    <a:ext cx="208800" cy="571680"/>
                    <a:chOff x="2338200" y="1561320"/>
                    <a:chExt cx="208800" cy="571680"/>
                  </a:xfrm>
                </p:grpSpPr>
                <p:sp>
                  <p:nvSpPr>
                    <p:cNvPr id="408" name=""/>
                    <p:cNvSpPr/>
                    <p:nvPr/>
                  </p:nvSpPr>
                  <p:spPr>
                    <a:xfrm rot="840000">
                      <a:off x="2396160" y="16531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rot="840000">
                      <a:off x="2431080" y="1572840"/>
                      <a:ext cx="10692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10" name=""/>
                  <p:cNvGrpSpPr/>
                  <p:nvPr/>
                </p:nvGrpSpPr>
                <p:grpSpPr>
                  <a:xfrm>
                    <a:off x="2608560" y="1661040"/>
                    <a:ext cx="326160" cy="537480"/>
                    <a:chOff x="2608560" y="1661040"/>
                    <a:chExt cx="326160" cy="537480"/>
                  </a:xfrm>
                </p:grpSpPr>
                <p:sp>
                  <p:nvSpPr>
                    <p:cNvPr id="411" name=""/>
                    <p:cNvSpPr/>
                    <p:nvPr/>
                  </p:nvSpPr>
                  <p:spPr>
                    <a:xfrm rot="1620000">
                      <a:off x="2716560" y="17341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rot="1620000">
                      <a:off x="2814480" y="1680480"/>
                      <a:ext cx="106560" cy="84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13" name=""/>
                  <p:cNvGrpSpPr/>
                  <p:nvPr/>
                </p:nvGrpSpPr>
                <p:grpSpPr>
                  <a:xfrm>
                    <a:off x="2951280" y="1769760"/>
                    <a:ext cx="406080" cy="493560"/>
                    <a:chOff x="2951280" y="1769760"/>
                    <a:chExt cx="406080" cy="493560"/>
                  </a:xfrm>
                </p:grpSpPr>
                <p:sp>
                  <p:nvSpPr>
                    <p:cNvPr id="414" name=""/>
                    <p:cNvSpPr/>
                    <p:nvPr/>
                  </p:nvSpPr>
                  <p:spPr>
                    <a:xfrm rot="2220000">
                      <a:off x="3093480" y="18194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2220000">
                      <a:off x="3235320" y="17928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16" name=""/>
                  <p:cNvGrpSpPr/>
                  <p:nvPr/>
                </p:nvGrpSpPr>
                <p:grpSpPr>
                  <a:xfrm>
                    <a:off x="3213000" y="1834200"/>
                    <a:ext cx="582120" cy="495720"/>
                    <a:chOff x="3213000" y="1834200"/>
                    <a:chExt cx="582120" cy="495720"/>
                  </a:xfrm>
                </p:grpSpPr>
                <p:sp>
                  <p:nvSpPr>
                    <p:cNvPr id="417" name=""/>
                    <p:cNvSpPr/>
                    <p:nvPr/>
                  </p:nvSpPr>
                  <p:spPr>
                    <a:xfrm rot="19200000">
                      <a:off x="3150360" y="21142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18" name=""/>
                    <p:cNvSpPr/>
                    <p:nvPr/>
                  </p:nvSpPr>
                  <p:spPr>
                    <a:xfrm rot="19200000">
                      <a:off x="3673440" y="18579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19" name=""/>
                  <p:cNvGrpSpPr/>
                  <p:nvPr/>
                </p:nvGrpSpPr>
                <p:grpSpPr>
                  <a:xfrm>
                    <a:off x="3119400" y="2416680"/>
                    <a:ext cx="554400" cy="527040"/>
                    <a:chOff x="3119400" y="2416680"/>
                    <a:chExt cx="554400" cy="527040"/>
                  </a:xfrm>
                </p:grpSpPr>
                <p:sp>
                  <p:nvSpPr>
                    <p:cNvPr id="420" name=""/>
                    <p:cNvSpPr/>
                    <p:nvPr/>
                  </p:nvSpPr>
                  <p:spPr>
                    <a:xfrm rot="2580000">
                      <a:off x="3047040" y="2618640"/>
                      <a:ext cx="602280" cy="2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21" name=""/>
                    <p:cNvSpPr/>
                    <p:nvPr/>
                  </p:nvSpPr>
                  <p:spPr>
                    <a:xfrm rot="2580000">
                      <a:off x="3552480" y="28339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22" name=""/>
                  <p:cNvGrpSpPr/>
                  <p:nvPr/>
                </p:nvGrpSpPr>
                <p:grpSpPr>
                  <a:xfrm>
                    <a:off x="2944440" y="2426400"/>
                    <a:ext cx="316080" cy="544320"/>
                    <a:chOff x="2944440" y="2426400"/>
                    <a:chExt cx="316080" cy="544320"/>
                  </a:xfrm>
                </p:grpSpPr>
                <p:sp>
                  <p:nvSpPr>
                    <p:cNvPr id="423" name=""/>
                    <p:cNvSpPr/>
                    <p:nvPr/>
                  </p:nvSpPr>
                  <p:spPr>
                    <a:xfrm rot="19980000">
                      <a:off x="3052080" y="24069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19980000">
                      <a:off x="3140280" y="28648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25" name=""/>
                  <p:cNvGrpSpPr/>
                  <p:nvPr/>
                </p:nvGrpSpPr>
                <p:grpSpPr>
                  <a:xfrm>
                    <a:off x="2699280" y="2360520"/>
                    <a:ext cx="106560" cy="571680"/>
                    <a:chOff x="2699280" y="2360520"/>
                    <a:chExt cx="106560" cy="571680"/>
                  </a:xfrm>
                </p:grpSpPr>
                <p:sp>
                  <p:nvSpPr>
                    <p:cNvPr id="426" name=""/>
                    <p:cNvSpPr/>
                    <p:nvPr/>
                  </p:nvSpPr>
                  <p:spPr>
                    <a:xfrm>
                      <a:off x="2744280" y="236052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699280" y="28461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28" name=""/>
                  <p:cNvGrpSpPr/>
                  <p:nvPr/>
                </p:nvGrpSpPr>
                <p:grpSpPr>
                  <a:xfrm>
                    <a:off x="2305440" y="2404080"/>
                    <a:ext cx="110880" cy="575280"/>
                    <a:chOff x="2305440" y="2404080"/>
                    <a:chExt cx="110880" cy="575280"/>
                  </a:xfrm>
                </p:grpSpPr>
                <p:sp>
                  <p:nvSpPr>
                    <p:cNvPr id="429" name=""/>
                    <p:cNvSpPr/>
                    <p:nvPr/>
                  </p:nvSpPr>
                  <p:spPr>
                    <a:xfrm rot="120000">
                      <a:off x="2359080" y="24044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rot="120000">
                      <a:off x="2306520" y="289152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31" name=""/>
                  <p:cNvGrpSpPr/>
                  <p:nvPr/>
                </p:nvGrpSpPr>
                <p:grpSpPr>
                  <a:xfrm>
                    <a:off x="1869840" y="1604160"/>
                    <a:ext cx="194040" cy="574200"/>
                    <a:chOff x="1869840" y="1604160"/>
                    <a:chExt cx="194040" cy="574200"/>
                  </a:xfrm>
                </p:grpSpPr>
                <p:sp>
                  <p:nvSpPr>
                    <p:cNvPr id="432" name=""/>
                    <p:cNvSpPr/>
                    <p:nvPr/>
                  </p:nvSpPr>
                  <p:spPr>
                    <a:xfrm rot="20820000">
                      <a:off x="1978200" y="16977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20820000">
                      <a:off x="1878120" y="161496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34" name=""/>
                  <p:cNvGrpSpPr/>
                  <p:nvPr/>
                </p:nvGrpSpPr>
                <p:grpSpPr>
                  <a:xfrm>
                    <a:off x="1382760" y="2215800"/>
                    <a:ext cx="703080" cy="230400"/>
                    <a:chOff x="1382760" y="2215800"/>
                    <a:chExt cx="703080" cy="230400"/>
                  </a:xfrm>
                </p:grpSpPr>
                <p:sp>
                  <p:nvSpPr>
                    <p:cNvPr id="435" name=""/>
                    <p:cNvSpPr/>
                    <p:nvPr/>
                  </p:nvSpPr>
                  <p:spPr>
                    <a:xfrm rot="20700000">
                      <a:off x="1490760" y="229320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36" name=""/>
                    <p:cNvSpPr/>
                    <p:nvPr/>
                  </p:nvSpPr>
                  <p:spPr>
                    <a:xfrm rot="20700000">
                      <a:off x="1391760" y="234864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37" name=""/>
                  <p:cNvGrpSpPr/>
                  <p:nvPr/>
                </p:nvGrpSpPr>
                <p:grpSpPr>
                  <a:xfrm>
                    <a:off x="1593000" y="2334240"/>
                    <a:ext cx="432360" cy="472320"/>
                    <a:chOff x="1593000" y="2334240"/>
                    <a:chExt cx="432360" cy="472320"/>
                  </a:xfrm>
                </p:grpSpPr>
                <p:sp>
                  <p:nvSpPr>
                    <p:cNvPr id="438" name=""/>
                    <p:cNvSpPr/>
                    <p:nvPr/>
                  </p:nvSpPr>
                  <p:spPr>
                    <a:xfrm rot="2460000">
                      <a:off x="1838880" y="22849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rot="2460000">
                      <a:off x="1607760" y="26971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40" name=""/>
                  <p:cNvGrpSpPr/>
                  <p:nvPr/>
                </p:nvGrpSpPr>
                <p:grpSpPr>
                  <a:xfrm>
                    <a:off x="1870200" y="2424240"/>
                    <a:ext cx="304200" cy="549360"/>
                    <a:chOff x="1870200" y="2424240"/>
                    <a:chExt cx="304200" cy="549360"/>
                  </a:xfrm>
                </p:grpSpPr>
                <p:sp>
                  <p:nvSpPr>
                    <p:cNvPr id="441" name=""/>
                    <p:cNvSpPr/>
                    <p:nvPr/>
                  </p:nvSpPr>
                  <p:spPr>
                    <a:xfrm rot="1440000">
                      <a:off x="2046240" y="24094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rot="1440000">
                      <a:off x="1883160" y="2868840"/>
                      <a:ext cx="10764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443" name=""/>
                <p:cNvGrpSpPr/>
                <p:nvPr/>
              </p:nvGrpSpPr>
              <p:grpSpPr>
                <a:xfrm>
                  <a:off x="6159240" y="1561320"/>
                  <a:ext cx="2412360" cy="1418040"/>
                  <a:chOff x="6159240" y="1561320"/>
                  <a:chExt cx="2412360" cy="1418040"/>
                </a:xfrm>
              </p:grpSpPr>
              <p:grpSp>
                <p:nvGrpSpPr>
                  <p:cNvPr id="444" name=""/>
                  <p:cNvGrpSpPr/>
                  <p:nvPr/>
                </p:nvGrpSpPr>
                <p:grpSpPr>
                  <a:xfrm>
                    <a:off x="7115040" y="1561320"/>
                    <a:ext cx="208080" cy="571680"/>
                    <a:chOff x="7115040" y="1561320"/>
                    <a:chExt cx="208080" cy="571680"/>
                  </a:xfrm>
                </p:grpSpPr>
                <p:sp>
                  <p:nvSpPr>
                    <p:cNvPr id="445" name=""/>
                    <p:cNvSpPr/>
                    <p:nvPr/>
                  </p:nvSpPr>
                  <p:spPr>
                    <a:xfrm rot="840000">
                      <a:off x="7173000" y="16531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rot="840000">
                      <a:off x="7207560" y="157284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47" name=""/>
                  <p:cNvGrpSpPr/>
                  <p:nvPr/>
                </p:nvGrpSpPr>
                <p:grpSpPr>
                  <a:xfrm>
                    <a:off x="7385040" y="1661040"/>
                    <a:ext cx="326160" cy="537480"/>
                    <a:chOff x="7385040" y="1661040"/>
                    <a:chExt cx="326160" cy="537480"/>
                  </a:xfrm>
                </p:grpSpPr>
                <p:sp>
                  <p:nvSpPr>
                    <p:cNvPr id="448" name=""/>
                    <p:cNvSpPr/>
                    <p:nvPr/>
                  </p:nvSpPr>
                  <p:spPr>
                    <a:xfrm rot="1620000">
                      <a:off x="7493040" y="17341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1620000">
                      <a:off x="7590960" y="1680480"/>
                      <a:ext cx="106560" cy="84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50" name=""/>
                  <p:cNvGrpSpPr/>
                  <p:nvPr/>
                </p:nvGrpSpPr>
                <p:grpSpPr>
                  <a:xfrm>
                    <a:off x="7728120" y="1769760"/>
                    <a:ext cx="406080" cy="493560"/>
                    <a:chOff x="7728120" y="1769760"/>
                    <a:chExt cx="406080" cy="493560"/>
                  </a:xfrm>
                </p:grpSpPr>
                <p:sp>
                  <p:nvSpPr>
                    <p:cNvPr id="451" name=""/>
                    <p:cNvSpPr/>
                    <p:nvPr/>
                  </p:nvSpPr>
                  <p:spPr>
                    <a:xfrm rot="2220000">
                      <a:off x="7870320" y="18194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rot="2220000">
                      <a:off x="8012160" y="17928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53" name=""/>
                  <p:cNvGrpSpPr/>
                  <p:nvPr/>
                </p:nvGrpSpPr>
                <p:grpSpPr>
                  <a:xfrm>
                    <a:off x="7989840" y="1834200"/>
                    <a:ext cx="581760" cy="495720"/>
                    <a:chOff x="7989840" y="1834200"/>
                    <a:chExt cx="581760" cy="495720"/>
                  </a:xfrm>
                </p:grpSpPr>
                <p:sp>
                  <p:nvSpPr>
                    <p:cNvPr id="454" name=""/>
                    <p:cNvSpPr/>
                    <p:nvPr/>
                  </p:nvSpPr>
                  <p:spPr>
                    <a:xfrm rot="19200000">
                      <a:off x="7927200" y="21142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55" name=""/>
                    <p:cNvSpPr/>
                    <p:nvPr/>
                  </p:nvSpPr>
                  <p:spPr>
                    <a:xfrm rot="19200000">
                      <a:off x="8449920" y="18579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56" name=""/>
                  <p:cNvGrpSpPr/>
                  <p:nvPr/>
                </p:nvGrpSpPr>
                <p:grpSpPr>
                  <a:xfrm>
                    <a:off x="7895880" y="2416680"/>
                    <a:ext cx="554400" cy="527040"/>
                    <a:chOff x="7895880" y="2416680"/>
                    <a:chExt cx="554400" cy="527040"/>
                  </a:xfrm>
                </p:grpSpPr>
                <p:sp>
                  <p:nvSpPr>
                    <p:cNvPr id="457" name=""/>
                    <p:cNvSpPr/>
                    <p:nvPr/>
                  </p:nvSpPr>
                  <p:spPr>
                    <a:xfrm rot="2580000">
                      <a:off x="7823520" y="2618280"/>
                      <a:ext cx="601920" cy="2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8" name=""/>
                    <p:cNvSpPr/>
                    <p:nvPr/>
                  </p:nvSpPr>
                  <p:spPr>
                    <a:xfrm rot="2580000">
                      <a:off x="8328960" y="28339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59" name=""/>
                  <p:cNvGrpSpPr/>
                  <p:nvPr/>
                </p:nvGrpSpPr>
                <p:grpSpPr>
                  <a:xfrm>
                    <a:off x="7721280" y="2426400"/>
                    <a:ext cx="315720" cy="544320"/>
                    <a:chOff x="7721280" y="2426400"/>
                    <a:chExt cx="315720" cy="544320"/>
                  </a:xfrm>
                </p:grpSpPr>
                <p:sp>
                  <p:nvSpPr>
                    <p:cNvPr id="460" name=""/>
                    <p:cNvSpPr/>
                    <p:nvPr/>
                  </p:nvSpPr>
                  <p:spPr>
                    <a:xfrm rot="19980000">
                      <a:off x="7828920" y="24069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19980000">
                      <a:off x="7916760" y="28648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62" name=""/>
                  <p:cNvGrpSpPr/>
                  <p:nvPr/>
                </p:nvGrpSpPr>
                <p:grpSpPr>
                  <a:xfrm>
                    <a:off x="7475760" y="2360520"/>
                    <a:ext cx="106560" cy="571680"/>
                    <a:chOff x="7475760" y="2360520"/>
                    <a:chExt cx="106560" cy="571680"/>
                  </a:xfrm>
                </p:grpSpPr>
                <p:sp>
                  <p:nvSpPr>
                    <p:cNvPr id="463" name=""/>
                    <p:cNvSpPr/>
                    <p:nvPr/>
                  </p:nvSpPr>
                  <p:spPr>
                    <a:xfrm>
                      <a:off x="7520760" y="23605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475760" y="28461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65" name=""/>
                  <p:cNvGrpSpPr/>
                  <p:nvPr/>
                </p:nvGrpSpPr>
                <p:grpSpPr>
                  <a:xfrm>
                    <a:off x="7082280" y="2404080"/>
                    <a:ext cx="110880" cy="575280"/>
                    <a:chOff x="7082280" y="2404080"/>
                    <a:chExt cx="110880" cy="575280"/>
                  </a:xfrm>
                </p:grpSpPr>
                <p:sp>
                  <p:nvSpPr>
                    <p:cNvPr id="466" name=""/>
                    <p:cNvSpPr/>
                    <p:nvPr/>
                  </p:nvSpPr>
                  <p:spPr>
                    <a:xfrm rot="120000">
                      <a:off x="7135920" y="24044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rot="120000">
                      <a:off x="7083360" y="289152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68" name=""/>
                  <p:cNvGrpSpPr/>
                  <p:nvPr/>
                </p:nvGrpSpPr>
                <p:grpSpPr>
                  <a:xfrm>
                    <a:off x="6646320" y="1604160"/>
                    <a:ext cx="194040" cy="574200"/>
                    <a:chOff x="6646320" y="1604160"/>
                    <a:chExt cx="194040" cy="574200"/>
                  </a:xfrm>
                </p:grpSpPr>
                <p:sp>
                  <p:nvSpPr>
                    <p:cNvPr id="469" name=""/>
                    <p:cNvSpPr/>
                    <p:nvPr/>
                  </p:nvSpPr>
                  <p:spPr>
                    <a:xfrm rot="20820000">
                      <a:off x="6754680" y="16977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rot="20820000">
                      <a:off x="6654600" y="161496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71" name=""/>
                  <p:cNvGrpSpPr/>
                  <p:nvPr/>
                </p:nvGrpSpPr>
                <p:grpSpPr>
                  <a:xfrm>
                    <a:off x="6159240" y="2215800"/>
                    <a:ext cx="703440" cy="230400"/>
                    <a:chOff x="6159240" y="2215800"/>
                    <a:chExt cx="703440" cy="230400"/>
                  </a:xfrm>
                </p:grpSpPr>
                <p:sp>
                  <p:nvSpPr>
                    <p:cNvPr id="472" name=""/>
                    <p:cNvSpPr/>
                    <p:nvPr/>
                  </p:nvSpPr>
                  <p:spPr>
                    <a:xfrm rot="20700000">
                      <a:off x="6267600" y="229320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73" name=""/>
                    <p:cNvSpPr/>
                    <p:nvPr/>
                  </p:nvSpPr>
                  <p:spPr>
                    <a:xfrm rot="20700000">
                      <a:off x="6168240" y="2348640"/>
                      <a:ext cx="10692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74" name=""/>
                  <p:cNvGrpSpPr/>
                  <p:nvPr/>
                </p:nvGrpSpPr>
                <p:grpSpPr>
                  <a:xfrm>
                    <a:off x="6369840" y="2334240"/>
                    <a:ext cx="432000" cy="472320"/>
                    <a:chOff x="6369840" y="2334240"/>
                    <a:chExt cx="432000" cy="472320"/>
                  </a:xfrm>
                </p:grpSpPr>
                <p:sp>
                  <p:nvSpPr>
                    <p:cNvPr id="475" name=""/>
                    <p:cNvSpPr/>
                    <p:nvPr/>
                  </p:nvSpPr>
                  <p:spPr>
                    <a:xfrm rot="2460000">
                      <a:off x="6615360" y="22849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2460000">
                      <a:off x="6384600" y="26971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77" name=""/>
                  <p:cNvGrpSpPr/>
                  <p:nvPr/>
                </p:nvGrpSpPr>
                <p:grpSpPr>
                  <a:xfrm>
                    <a:off x="6647040" y="2424240"/>
                    <a:ext cx="304200" cy="549360"/>
                    <a:chOff x="6647040" y="2424240"/>
                    <a:chExt cx="304200" cy="549360"/>
                  </a:xfrm>
                </p:grpSpPr>
                <p:sp>
                  <p:nvSpPr>
                    <p:cNvPr id="478" name=""/>
                    <p:cNvSpPr/>
                    <p:nvPr/>
                  </p:nvSpPr>
                  <p:spPr>
                    <a:xfrm rot="1440000">
                      <a:off x="6823080" y="24094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440000">
                      <a:off x="6660000" y="2868840"/>
                      <a:ext cx="10764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480" name=""/>
                <p:cNvGrpSpPr/>
                <p:nvPr/>
              </p:nvGrpSpPr>
              <p:grpSpPr>
                <a:xfrm>
                  <a:off x="1437480" y="4188600"/>
                  <a:ext cx="7188840" cy="1620720"/>
                  <a:chOff x="1437480" y="4188600"/>
                  <a:chExt cx="7188840" cy="1620720"/>
                </a:xfrm>
              </p:grpSpPr>
              <p:sp>
                <p:nvSpPr>
                  <p:cNvPr id="481" name=""/>
                  <p:cNvSpPr/>
                  <p:nvPr/>
                </p:nvSpPr>
                <p:spPr>
                  <a:xfrm>
                    <a:off x="3644280" y="4892760"/>
                    <a:ext cx="1068480" cy="338040"/>
                  </a:xfrm>
                  <a:custGeom>
                    <a:avLst/>
                    <a:gdLst/>
                    <a:ahLst/>
                    <a:rect l="l" t="t" r="r" b="b"/>
                    <a:pathLst>
                      <a:path w="850" h="270">
                        <a:moveTo>
                          <a:pt x="82" y="148"/>
                        </a:moveTo>
                        <a:lnTo>
                          <a:pt x="169" y="137"/>
                        </a:lnTo>
                        <a:lnTo>
                          <a:pt x="256" y="131"/>
                        </a:lnTo>
                        <a:lnTo>
                          <a:pt x="342" y="120"/>
                        </a:lnTo>
                        <a:lnTo>
                          <a:pt x="429" y="104"/>
                        </a:lnTo>
                        <a:lnTo>
                          <a:pt x="481" y="82"/>
                        </a:lnTo>
                        <a:lnTo>
                          <a:pt x="537" y="65"/>
                        </a:lnTo>
                        <a:lnTo>
                          <a:pt x="646" y="38"/>
                        </a:lnTo>
                        <a:lnTo>
                          <a:pt x="663" y="33"/>
                        </a:lnTo>
                        <a:lnTo>
                          <a:pt x="680" y="33"/>
                        </a:lnTo>
                        <a:lnTo>
                          <a:pt x="693" y="27"/>
                        </a:lnTo>
                        <a:lnTo>
                          <a:pt x="698" y="27"/>
                        </a:lnTo>
                        <a:lnTo>
                          <a:pt x="719" y="11"/>
                        </a:lnTo>
                        <a:lnTo>
                          <a:pt x="732" y="5"/>
                        </a:lnTo>
                        <a:lnTo>
                          <a:pt x="745" y="0"/>
                        </a:lnTo>
                        <a:lnTo>
                          <a:pt x="763" y="0"/>
                        </a:lnTo>
                        <a:lnTo>
                          <a:pt x="784" y="0"/>
                        </a:lnTo>
                        <a:lnTo>
                          <a:pt x="806" y="5"/>
                        </a:lnTo>
                        <a:lnTo>
                          <a:pt x="828" y="11"/>
                        </a:lnTo>
                        <a:lnTo>
                          <a:pt x="845" y="22"/>
                        </a:lnTo>
                        <a:lnTo>
                          <a:pt x="849" y="38"/>
                        </a:lnTo>
                        <a:lnTo>
                          <a:pt x="845" y="44"/>
                        </a:lnTo>
                        <a:lnTo>
                          <a:pt x="836" y="54"/>
                        </a:lnTo>
                        <a:lnTo>
                          <a:pt x="828" y="65"/>
                        </a:lnTo>
                        <a:lnTo>
                          <a:pt x="810" y="76"/>
                        </a:lnTo>
                        <a:lnTo>
                          <a:pt x="789" y="87"/>
                        </a:lnTo>
                        <a:lnTo>
                          <a:pt x="763" y="93"/>
                        </a:lnTo>
                        <a:lnTo>
                          <a:pt x="737" y="93"/>
                        </a:lnTo>
                        <a:lnTo>
                          <a:pt x="711" y="93"/>
                        </a:lnTo>
                        <a:lnTo>
                          <a:pt x="689" y="109"/>
                        </a:lnTo>
                        <a:lnTo>
                          <a:pt x="663" y="120"/>
                        </a:lnTo>
                        <a:lnTo>
                          <a:pt x="659" y="131"/>
                        </a:lnTo>
                        <a:lnTo>
                          <a:pt x="654" y="142"/>
                        </a:lnTo>
                        <a:lnTo>
                          <a:pt x="654" y="148"/>
                        </a:lnTo>
                        <a:lnTo>
                          <a:pt x="646" y="159"/>
                        </a:lnTo>
                        <a:lnTo>
                          <a:pt x="633" y="164"/>
                        </a:lnTo>
                        <a:lnTo>
                          <a:pt x="611" y="170"/>
                        </a:lnTo>
                        <a:lnTo>
                          <a:pt x="585" y="175"/>
                        </a:lnTo>
                        <a:lnTo>
                          <a:pt x="559" y="181"/>
                        </a:lnTo>
                        <a:lnTo>
                          <a:pt x="533" y="181"/>
                        </a:lnTo>
                        <a:lnTo>
                          <a:pt x="507" y="186"/>
                        </a:lnTo>
                        <a:lnTo>
                          <a:pt x="490" y="186"/>
                        </a:lnTo>
                        <a:lnTo>
                          <a:pt x="481" y="186"/>
                        </a:lnTo>
                        <a:lnTo>
                          <a:pt x="412" y="197"/>
                        </a:lnTo>
                        <a:lnTo>
                          <a:pt x="347" y="214"/>
                        </a:lnTo>
                        <a:lnTo>
                          <a:pt x="216" y="241"/>
                        </a:lnTo>
                        <a:lnTo>
                          <a:pt x="195" y="258"/>
                        </a:lnTo>
                        <a:lnTo>
                          <a:pt x="169" y="269"/>
                        </a:lnTo>
                        <a:lnTo>
                          <a:pt x="130" y="269"/>
                        </a:lnTo>
                        <a:lnTo>
                          <a:pt x="95" y="258"/>
                        </a:lnTo>
                        <a:lnTo>
                          <a:pt x="65" y="247"/>
                        </a:lnTo>
                        <a:lnTo>
                          <a:pt x="34" y="225"/>
                        </a:lnTo>
                        <a:lnTo>
                          <a:pt x="26" y="219"/>
                        </a:lnTo>
                        <a:lnTo>
                          <a:pt x="13" y="208"/>
                        </a:lnTo>
                        <a:lnTo>
                          <a:pt x="4" y="197"/>
                        </a:lnTo>
                        <a:lnTo>
                          <a:pt x="0" y="186"/>
                        </a:lnTo>
                        <a:lnTo>
                          <a:pt x="4" y="175"/>
                        </a:lnTo>
                        <a:lnTo>
                          <a:pt x="13" y="170"/>
                        </a:lnTo>
                        <a:lnTo>
                          <a:pt x="34" y="159"/>
                        </a:lnTo>
                        <a:lnTo>
                          <a:pt x="65" y="148"/>
                        </a:lnTo>
                        <a:lnTo>
                          <a:pt x="73" y="148"/>
                        </a:lnTo>
                        <a:lnTo>
                          <a:pt x="82" y="148"/>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853320" y="4824000"/>
                    <a:ext cx="1047240" cy="325440"/>
                  </a:xfrm>
                  <a:custGeom>
                    <a:avLst/>
                    <a:gdLst/>
                    <a:ahLst/>
                    <a:rect l="l" t="t" r="r" b="b"/>
                    <a:pathLst>
                      <a:path w="833" h="260">
                        <a:moveTo>
                          <a:pt x="93" y="6"/>
                        </a:moveTo>
                        <a:lnTo>
                          <a:pt x="261" y="65"/>
                        </a:lnTo>
                        <a:lnTo>
                          <a:pt x="345" y="97"/>
                        </a:lnTo>
                        <a:lnTo>
                          <a:pt x="429" y="119"/>
                        </a:lnTo>
                        <a:lnTo>
                          <a:pt x="487" y="119"/>
                        </a:lnTo>
                        <a:lnTo>
                          <a:pt x="538" y="129"/>
                        </a:lnTo>
                        <a:lnTo>
                          <a:pt x="647" y="151"/>
                        </a:lnTo>
                        <a:lnTo>
                          <a:pt x="681" y="156"/>
                        </a:lnTo>
                        <a:lnTo>
                          <a:pt x="689" y="156"/>
                        </a:lnTo>
                        <a:lnTo>
                          <a:pt x="697" y="156"/>
                        </a:lnTo>
                        <a:lnTo>
                          <a:pt x="731" y="151"/>
                        </a:lnTo>
                        <a:lnTo>
                          <a:pt x="739" y="151"/>
                        </a:lnTo>
                        <a:lnTo>
                          <a:pt x="756" y="156"/>
                        </a:lnTo>
                        <a:lnTo>
                          <a:pt x="790" y="172"/>
                        </a:lnTo>
                        <a:lnTo>
                          <a:pt x="823" y="199"/>
                        </a:lnTo>
                        <a:lnTo>
                          <a:pt x="832" y="216"/>
                        </a:lnTo>
                        <a:lnTo>
                          <a:pt x="832" y="232"/>
                        </a:lnTo>
                        <a:lnTo>
                          <a:pt x="815" y="242"/>
                        </a:lnTo>
                        <a:lnTo>
                          <a:pt x="781" y="253"/>
                        </a:lnTo>
                        <a:lnTo>
                          <a:pt x="756" y="253"/>
                        </a:lnTo>
                        <a:lnTo>
                          <a:pt x="731" y="248"/>
                        </a:lnTo>
                        <a:lnTo>
                          <a:pt x="689" y="226"/>
                        </a:lnTo>
                        <a:lnTo>
                          <a:pt x="655" y="226"/>
                        </a:lnTo>
                        <a:lnTo>
                          <a:pt x="630" y="226"/>
                        </a:lnTo>
                        <a:lnTo>
                          <a:pt x="622" y="232"/>
                        </a:lnTo>
                        <a:lnTo>
                          <a:pt x="613" y="242"/>
                        </a:lnTo>
                        <a:lnTo>
                          <a:pt x="605" y="253"/>
                        </a:lnTo>
                        <a:lnTo>
                          <a:pt x="597" y="259"/>
                        </a:lnTo>
                        <a:lnTo>
                          <a:pt x="580" y="259"/>
                        </a:lnTo>
                        <a:lnTo>
                          <a:pt x="563" y="253"/>
                        </a:lnTo>
                        <a:lnTo>
                          <a:pt x="513" y="237"/>
                        </a:lnTo>
                        <a:lnTo>
                          <a:pt x="462" y="221"/>
                        </a:lnTo>
                        <a:lnTo>
                          <a:pt x="445" y="216"/>
                        </a:lnTo>
                        <a:lnTo>
                          <a:pt x="437" y="210"/>
                        </a:lnTo>
                        <a:lnTo>
                          <a:pt x="311" y="183"/>
                        </a:lnTo>
                        <a:lnTo>
                          <a:pt x="177" y="151"/>
                        </a:lnTo>
                        <a:lnTo>
                          <a:pt x="151" y="151"/>
                        </a:lnTo>
                        <a:lnTo>
                          <a:pt x="118" y="151"/>
                        </a:lnTo>
                        <a:lnTo>
                          <a:pt x="84" y="135"/>
                        </a:lnTo>
                        <a:lnTo>
                          <a:pt x="59" y="113"/>
                        </a:lnTo>
                        <a:lnTo>
                          <a:pt x="17" y="59"/>
                        </a:lnTo>
                        <a:lnTo>
                          <a:pt x="0" y="38"/>
                        </a:lnTo>
                        <a:lnTo>
                          <a:pt x="0" y="22"/>
                        </a:lnTo>
                        <a:lnTo>
                          <a:pt x="0" y="11"/>
                        </a:lnTo>
                        <a:lnTo>
                          <a:pt x="17" y="0"/>
                        </a:lnTo>
                        <a:lnTo>
                          <a:pt x="42" y="0"/>
                        </a:lnTo>
                        <a:lnTo>
                          <a:pt x="76" y="6"/>
                        </a:lnTo>
                        <a:lnTo>
                          <a:pt x="93" y="6"/>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256480" y="4856400"/>
                    <a:ext cx="693720" cy="417240"/>
                  </a:xfrm>
                  <a:custGeom>
                    <a:avLst/>
                    <a:gdLst/>
                    <a:ahLst/>
                    <a:rect l="l" t="t" r="r" b="b"/>
                    <a:pathLst>
                      <a:path w="552" h="333">
                        <a:moveTo>
                          <a:pt x="136" y="16"/>
                        </a:moveTo>
                        <a:lnTo>
                          <a:pt x="99" y="28"/>
                        </a:lnTo>
                        <a:lnTo>
                          <a:pt x="64" y="44"/>
                        </a:lnTo>
                        <a:lnTo>
                          <a:pt x="33" y="55"/>
                        </a:lnTo>
                        <a:lnTo>
                          <a:pt x="23" y="66"/>
                        </a:lnTo>
                        <a:lnTo>
                          <a:pt x="12" y="77"/>
                        </a:lnTo>
                        <a:lnTo>
                          <a:pt x="4" y="89"/>
                        </a:lnTo>
                        <a:lnTo>
                          <a:pt x="0" y="100"/>
                        </a:lnTo>
                        <a:lnTo>
                          <a:pt x="0" y="111"/>
                        </a:lnTo>
                        <a:lnTo>
                          <a:pt x="2" y="127"/>
                        </a:lnTo>
                        <a:lnTo>
                          <a:pt x="8" y="144"/>
                        </a:lnTo>
                        <a:lnTo>
                          <a:pt x="18" y="161"/>
                        </a:lnTo>
                        <a:lnTo>
                          <a:pt x="35" y="183"/>
                        </a:lnTo>
                        <a:lnTo>
                          <a:pt x="53" y="205"/>
                        </a:lnTo>
                        <a:lnTo>
                          <a:pt x="64" y="216"/>
                        </a:lnTo>
                        <a:lnTo>
                          <a:pt x="76" y="222"/>
                        </a:lnTo>
                        <a:lnTo>
                          <a:pt x="105" y="227"/>
                        </a:lnTo>
                        <a:lnTo>
                          <a:pt x="138" y="227"/>
                        </a:lnTo>
                        <a:lnTo>
                          <a:pt x="169" y="233"/>
                        </a:lnTo>
                        <a:lnTo>
                          <a:pt x="197" y="238"/>
                        </a:lnTo>
                        <a:lnTo>
                          <a:pt x="228" y="238"/>
                        </a:lnTo>
                        <a:lnTo>
                          <a:pt x="296" y="244"/>
                        </a:lnTo>
                        <a:lnTo>
                          <a:pt x="329" y="249"/>
                        </a:lnTo>
                        <a:lnTo>
                          <a:pt x="362" y="249"/>
                        </a:lnTo>
                        <a:lnTo>
                          <a:pt x="391" y="255"/>
                        </a:lnTo>
                        <a:lnTo>
                          <a:pt x="417" y="255"/>
                        </a:lnTo>
                        <a:lnTo>
                          <a:pt x="419" y="271"/>
                        </a:lnTo>
                        <a:lnTo>
                          <a:pt x="419" y="294"/>
                        </a:lnTo>
                        <a:lnTo>
                          <a:pt x="419" y="299"/>
                        </a:lnTo>
                        <a:lnTo>
                          <a:pt x="421" y="310"/>
                        </a:lnTo>
                        <a:lnTo>
                          <a:pt x="426" y="316"/>
                        </a:lnTo>
                        <a:lnTo>
                          <a:pt x="434" y="321"/>
                        </a:lnTo>
                        <a:lnTo>
                          <a:pt x="446" y="327"/>
                        </a:lnTo>
                        <a:lnTo>
                          <a:pt x="458" y="332"/>
                        </a:lnTo>
                        <a:lnTo>
                          <a:pt x="487" y="332"/>
                        </a:lnTo>
                        <a:lnTo>
                          <a:pt x="514" y="321"/>
                        </a:lnTo>
                        <a:lnTo>
                          <a:pt x="524" y="316"/>
                        </a:lnTo>
                        <a:lnTo>
                          <a:pt x="532" y="310"/>
                        </a:lnTo>
                        <a:lnTo>
                          <a:pt x="541" y="294"/>
                        </a:lnTo>
                        <a:lnTo>
                          <a:pt x="547" y="283"/>
                        </a:lnTo>
                        <a:lnTo>
                          <a:pt x="551" y="266"/>
                        </a:lnTo>
                        <a:lnTo>
                          <a:pt x="551" y="255"/>
                        </a:lnTo>
                        <a:lnTo>
                          <a:pt x="549" y="244"/>
                        </a:lnTo>
                        <a:lnTo>
                          <a:pt x="545" y="233"/>
                        </a:lnTo>
                        <a:lnTo>
                          <a:pt x="530" y="210"/>
                        </a:lnTo>
                        <a:lnTo>
                          <a:pt x="510" y="194"/>
                        </a:lnTo>
                        <a:lnTo>
                          <a:pt x="485" y="183"/>
                        </a:lnTo>
                        <a:lnTo>
                          <a:pt x="458" y="172"/>
                        </a:lnTo>
                        <a:lnTo>
                          <a:pt x="434" y="161"/>
                        </a:lnTo>
                        <a:lnTo>
                          <a:pt x="430" y="150"/>
                        </a:lnTo>
                        <a:lnTo>
                          <a:pt x="428" y="144"/>
                        </a:lnTo>
                        <a:lnTo>
                          <a:pt x="423" y="133"/>
                        </a:lnTo>
                        <a:lnTo>
                          <a:pt x="417" y="122"/>
                        </a:lnTo>
                        <a:lnTo>
                          <a:pt x="407" y="116"/>
                        </a:lnTo>
                        <a:lnTo>
                          <a:pt x="393" y="116"/>
                        </a:lnTo>
                        <a:lnTo>
                          <a:pt x="380" y="111"/>
                        </a:lnTo>
                        <a:lnTo>
                          <a:pt x="368" y="111"/>
                        </a:lnTo>
                        <a:lnTo>
                          <a:pt x="341" y="100"/>
                        </a:lnTo>
                        <a:lnTo>
                          <a:pt x="319" y="83"/>
                        </a:lnTo>
                        <a:lnTo>
                          <a:pt x="302" y="72"/>
                        </a:lnTo>
                        <a:lnTo>
                          <a:pt x="294" y="61"/>
                        </a:lnTo>
                        <a:lnTo>
                          <a:pt x="284" y="55"/>
                        </a:lnTo>
                        <a:lnTo>
                          <a:pt x="271" y="50"/>
                        </a:lnTo>
                        <a:lnTo>
                          <a:pt x="255" y="44"/>
                        </a:lnTo>
                        <a:lnTo>
                          <a:pt x="222" y="39"/>
                        </a:lnTo>
                        <a:lnTo>
                          <a:pt x="208" y="33"/>
                        </a:lnTo>
                        <a:lnTo>
                          <a:pt x="195" y="33"/>
                        </a:lnTo>
                        <a:lnTo>
                          <a:pt x="187" y="28"/>
                        </a:lnTo>
                        <a:lnTo>
                          <a:pt x="185" y="28"/>
                        </a:lnTo>
                        <a:lnTo>
                          <a:pt x="169" y="16"/>
                        </a:lnTo>
                        <a:lnTo>
                          <a:pt x="154" y="11"/>
                        </a:lnTo>
                        <a:lnTo>
                          <a:pt x="146" y="5"/>
                        </a:lnTo>
                        <a:lnTo>
                          <a:pt x="140" y="0"/>
                        </a:lnTo>
                        <a:lnTo>
                          <a:pt x="138" y="0"/>
                        </a:lnTo>
                        <a:lnTo>
                          <a:pt x="136" y="5"/>
                        </a:lnTo>
                        <a:lnTo>
                          <a:pt x="136" y="16"/>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702760" y="4778640"/>
                    <a:ext cx="708840" cy="335520"/>
                  </a:xfrm>
                  <a:custGeom>
                    <a:avLst/>
                    <a:gdLst/>
                    <a:ahLst/>
                    <a:rect l="l" t="t" r="r" b="b"/>
                    <a:pathLst>
                      <a:path w="564" h="268">
                        <a:moveTo>
                          <a:pt x="64" y="69"/>
                        </a:moveTo>
                        <a:lnTo>
                          <a:pt x="19" y="128"/>
                        </a:lnTo>
                        <a:lnTo>
                          <a:pt x="6" y="155"/>
                        </a:lnTo>
                        <a:lnTo>
                          <a:pt x="0" y="187"/>
                        </a:lnTo>
                        <a:lnTo>
                          <a:pt x="0" y="208"/>
                        </a:lnTo>
                        <a:lnTo>
                          <a:pt x="19" y="230"/>
                        </a:lnTo>
                        <a:lnTo>
                          <a:pt x="51" y="251"/>
                        </a:lnTo>
                        <a:lnTo>
                          <a:pt x="102" y="267"/>
                        </a:lnTo>
                        <a:lnTo>
                          <a:pt x="128" y="267"/>
                        </a:lnTo>
                        <a:lnTo>
                          <a:pt x="154" y="257"/>
                        </a:lnTo>
                        <a:lnTo>
                          <a:pt x="185" y="241"/>
                        </a:lnTo>
                        <a:lnTo>
                          <a:pt x="211" y="230"/>
                        </a:lnTo>
                        <a:lnTo>
                          <a:pt x="262" y="203"/>
                        </a:lnTo>
                        <a:lnTo>
                          <a:pt x="326" y="171"/>
                        </a:lnTo>
                        <a:lnTo>
                          <a:pt x="384" y="139"/>
                        </a:lnTo>
                        <a:lnTo>
                          <a:pt x="435" y="112"/>
                        </a:lnTo>
                        <a:lnTo>
                          <a:pt x="448" y="128"/>
                        </a:lnTo>
                        <a:lnTo>
                          <a:pt x="454" y="144"/>
                        </a:lnTo>
                        <a:lnTo>
                          <a:pt x="467" y="155"/>
                        </a:lnTo>
                        <a:lnTo>
                          <a:pt x="486" y="160"/>
                        </a:lnTo>
                        <a:lnTo>
                          <a:pt x="512" y="150"/>
                        </a:lnTo>
                        <a:lnTo>
                          <a:pt x="537" y="139"/>
                        </a:lnTo>
                        <a:lnTo>
                          <a:pt x="550" y="118"/>
                        </a:lnTo>
                        <a:lnTo>
                          <a:pt x="563" y="96"/>
                        </a:lnTo>
                        <a:lnTo>
                          <a:pt x="557" y="64"/>
                        </a:lnTo>
                        <a:lnTo>
                          <a:pt x="544" y="37"/>
                        </a:lnTo>
                        <a:lnTo>
                          <a:pt x="525" y="27"/>
                        </a:lnTo>
                        <a:lnTo>
                          <a:pt x="505" y="16"/>
                        </a:lnTo>
                        <a:lnTo>
                          <a:pt x="480" y="11"/>
                        </a:lnTo>
                        <a:lnTo>
                          <a:pt x="448" y="16"/>
                        </a:lnTo>
                        <a:lnTo>
                          <a:pt x="397" y="27"/>
                        </a:lnTo>
                        <a:lnTo>
                          <a:pt x="377" y="16"/>
                        </a:lnTo>
                        <a:lnTo>
                          <a:pt x="358" y="0"/>
                        </a:lnTo>
                        <a:lnTo>
                          <a:pt x="345" y="5"/>
                        </a:lnTo>
                        <a:lnTo>
                          <a:pt x="339" y="11"/>
                        </a:lnTo>
                        <a:lnTo>
                          <a:pt x="326" y="16"/>
                        </a:lnTo>
                        <a:lnTo>
                          <a:pt x="313" y="16"/>
                        </a:lnTo>
                        <a:lnTo>
                          <a:pt x="288" y="21"/>
                        </a:lnTo>
                        <a:lnTo>
                          <a:pt x="256" y="21"/>
                        </a:lnTo>
                        <a:lnTo>
                          <a:pt x="237" y="21"/>
                        </a:lnTo>
                        <a:lnTo>
                          <a:pt x="211" y="21"/>
                        </a:lnTo>
                        <a:lnTo>
                          <a:pt x="185" y="27"/>
                        </a:lnTo>
                        <a:lnTo>
                          <a:pt x="154" y="37"/>
                        </a:lnTo>
                        <a:lnTo>
                          <a:pt x="128" y="48"/>
                        </a:lnTo>
                        <a:lnTo>
                          <a:pt x="115" y="53"/>
                        </a:lnTo>
                        <a:lnTo>
                          <a:pt x="83" y="53"/>
                        </a:lnTo>
                        <a:lnTo>
                          <a:pt x="64" y="53"/>
                        </a:lnTo>
                        <a:lnTo>
                          <a:pt x="58" y="53"/>
                        </a:lnTo>
                        <a:lnTo>
                          <a:pt x="64" y="69"/>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2787840" y="4188600"/>
                    <a:ext cx="4670640" cy="429840"/>
                    <a:chOff x="2787840" y="4188600"/>
                    <a:chExt cx="4670640" cy="429840"/>
                  </a:xfrm>
                </p:grpSpPr>
                <p:grpSp>
                  <p:nvGrpSpPr>
                    <p:cNvPr id="486" name=""/>
                    <p:cNvGrpSpPr/>
                    <p:nvPr/>
                  </p:nvGrpSpPr>
                  <p:grpSpPr>
                    <a:xfrm>
                      <a:off x="5149080" y="4188600"/>
                      <a:ext cx="1157040" cy="413640"/>
                      <a:chOff x="5149080" y="4188600"/>
                      <a:chExt cx="1157040" cy="413640"/>
                    </a:xfrm>
                  </p:grpSpPr>
                  <p:grpSp>
                    <p:nvGrpSpPr>
                      <p:cNvPr id="487" name=""/>
                      <p:cNvGrpSpPr/>
                      <p:nvPr/>
                    </p:nvGrpSpPr>
                    <p:grpSpPr>
                      <a:xfrm>
                        <a:off x="5149080" y="4193280"/>
                        <a:ext cx="274320" cy="408960"/>
                        <a:chOff x="5149080" y="4193280"/>
                        <a:chExt cx="274320" cy="408960"/>
                      </a:xfrm>
                    </p:grpSpPr>
                    <p:sp>
                      <p:nvSpPr>
                        <p:cNvPr id="488" name=""/>
                        <p:cNvSpPr/>
                        <p:nvPr/>
                      </p:nvSpPr>
                      <p:spPr>
                        <a:xfrm rot="19860000">
                          <a:off x="5231880" y="418068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rot="19860000">
                          <a:off x="5282280" y="451116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490" name=""/>
                      <p:cNvGrpSpPr/>
                      <p:nvPr/>
                    </p:nvGrpSpPr>
                    <p:grpSpPr>
                      <a:xfrm>
                        <a:off x="5372640" y="4188600"/>
                        <a:ext cx="274320" cy="408960"/>
                        <a:chOff x="5372640" y="4188600"/>
                        <a:chExt cx="274320" cy="408960"/>
                      </a:xfrm>
                    </p:grpSpPr>
                    <p:sp>
                      <p:nvSpPr>
                        <p:cNvPr id="491" name=""/>
                        <p:cNvSpPr/>
                        <p:nvPr/>
                      </p:nvSpPr>
                      <p:spPr>
                        <a:xfrm rot="19860000">
                          <a:off x="545544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rot="19860000">
                          <a:off x="550584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493" name=""/>
                      <p:cNvGrpSpPr/>
                      <p:nvPr/>
                    </p:nvGrpSpPr>
                    <p:grpSpPr>
                      <a:xfrm>
                        <a:off x="5702040" y="4188600"/>
                        <a:ext cx="274320" cy="408960"/>
                        <a:chOff x="5702040" y="4188600"/>
                        <a:chExt cx="274320" cy="408960"/>
                      </a:xfrm>
                    </p:grpSpPr>
                    <p:sp>
                      <p:nvSpPr>
                        <p:cNvPr id="494" name=""/>
                        <p:cNvSpPr/>
                        <p:nvPr/>
                      </p:nvSpPr>
                      <p:spPr>
                        <a:xfrm rot="19860000">
                          <a:off x="578484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rot="19860000">
                          <a:off x="583524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496" name=""/>
                      <p:cNvGrpSpPr/>
                      <p:nvPr/>
                    </p:nvGrpSpPr>
                    <p:grpSpPr>
                      <a:xfrm>
                        <a:off x="6031440" y="4188600"/>
                        <a:ext cx="274680" cy="408960"/>
                        <a:chOff x="6031440" y="4188600"/>
                        <a:chExt cx="274680" cy="408960"/>
                      </a:xfrm>
                    </p:grpSpPr>
                    <p:sp>
                      <p:nvSpPr>
                        <p:cNvPr id="497" name=""/>
                        <p:cNvSpPr/>
                        <p:nvPr/>
                      </p:nvSpPr>
                      <p:spPr>
                        <a:xfrm rot="19860000">
                          <a:off x="611424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rot="19860000">
                          <a:off x="616500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grpSp>
                  <p:nvGrpSpPr>
                    <p:cNvPr id="499" name=""/>
                    <p:cNvGrpSpPr/>
                    <p:nvPr/>
                  </p:nvGrpSpPr>
                  <p:grpSpPr>
                    <a:xfrm>
                      <a:off x="6301800" y="4188600"/>
                      <a:ext cx="1156680" cy="413640"/>
                      <a:chOff x="6301800" y="4188600"/>
                      <a:chExt cx="1156680" cy="413640"/>
                    </a:xfrm>
                  </p:grpSpPr>
                  <p:grpSp>
                    <p:nvGrpSpPr>
                      <p:cNvPr id="500" name=""/>
                      <p:cNvGrpSpPr/>
                      <p:nvPr/>
                    </p:nvGrpSpPr>
                    <p:grpSpPr>
                      <a:xfrm>
                        <a:off x="6301800" y="4193280"/>
                        <a:ext cx="274680" cy="408960"/>
                        <a:chOff x="6301800" y="4193280"/>
                        <a:chExt cx="274680" cy="408960"/>
                      </a:xfrm>
                    </p:grpSpPr>
                    <p:sp>
                      <p:nvSpPr>
                        <p:cNvPr id="501" name=""/>
                        <p:cNvSpPr/>
                        <p:nvPr/>
                      </p:nvSpPr>
                      <p:spPr>
                        <a:xfrm rot="19860000">
                          <a:off x="6384600" y="418068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rot="19860000">
                          <a:off x="6435360" y="451116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03" name=""/>
                      <p:cNvGrpSpPr/>
                      <p:nvPr/>
                    </p:nvGrpSpPr>
                    <p:grpSpPr>
                      <a:xfrm>
                        <a:off x="6525360" y="4188600"/>
                        <a:ext cx="274680" cy="408960"/>
                        <a:chOff x="6525360" y="4188600"/>
                        <a:chExt cx="274680" cy="408960"/>
                      </a:xfrm>
                    </p:grpSpPr>
                    <p:sp>
                      <p:nvSpPr>
                        <p:cNvPr id="504" name=""/>
                        <p:cNvSpPr/>
                        <p:nvPr/>
                      </p:nvSpPr>
                      <p:spPr>
                        <a:xfrm rot="19860000">
                          <a:off x="660816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rot="19860000">
                          <a:off x="665892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06" name=""/>
                      <p:cNvGrpSpPr/>
                      <p:nvPr/>
                    </p:nvGrpSpPr>
                    <p:grpSpPr>
                      <a:xfrm>
                        <a:off x="6855120" y="4188600"/>
                        <a:ext cx="274320" cy="408960"/>
                        <a:chOff x="6855120" y="4188600"/>
                        <a:chExt cx="274320" cy="408960"/>
                      </a:xfrm>
                    </p:grpSpPr>
                    <p:sp>
                      <p:nvSpPr>
                        <p:cNvPr id="507" name=""/>
                        <p:cNvSpPr/>
                        <p:nvPr/>
                      </p:nvSpPr>
                      <p:spPr>
                        <a:xfrm rot="19860000">
                          <a:off x="693792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rot="19860000">
                          <a:off x="698832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09" name=""/>
                      <p:cNvGrpSpPr/>
                      <p:nvPr/>
                    </p:nvGrpSpPr>
                    <p:grpSpPr>
                      <a:xfrm>
                        <a:off x="7184160" y="4188600"/>
                        <a:ext cx="274320" cy="408960"/>
                        <a:chOff x="7184160" y="4188600"/>
                        <a:chExt cx="274320" cy="408960"/>
                      </a:xfrm>
                    </p:grpSpPr>
                    <p:sp>
                      <p:nvSpPr>
                        <p:cNvPr id="510" name=""/>
                        <p:cNvSpPr/>
                        <p:nvPr/>
                      </p:nvSpPr>
                      <p:spPr>
                        <a:xfrm rot="19860000">
                          <a:off x="726696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rot="19860000">
                          <a:off x="731736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grpSp>
                  <p:nvGrpSpPr>
                    <p:cNvPr id="512" name=""/>
                    <p:cNvGrpSpPr/>
                    <p:nvPr/>
                  </p:nvGrpSpPr>
                  <p:grpSpPr>
                    <a:xfrm>
                      <a:off x="3971880" y="4203360"/>
                      <a:ext cx="1158120" cy="414720"/>
                      <a:chOff x="3971880" y="4203360"/>
                      <a:chExt cx="1158120" cy="414720"/>
                    </a:xfrm>
                  </p:grpSpPr>
                  <p:grpSp>
                    <p:nvGrpSpPr>
                      <p:cNvPr id="513" name=""/>
                      <p:cNvGrpSpPr/>
                      <p:nvPr/>
                    </p:nvGrpSpPr>
                    <p:grpSpPr>
                      <a:xfrm>
                        <a:off x="3971880" y="4209480"/>
                        <a:ext cx="274320" cy="408600"/>
                        <a:chOff x="3971880" y="4209480"/>
                        <a:chExt cx="274320" cy="408600"/>
                      </a:xfrm>
                    </p:grpSpPr>
                    <p:sp>
                      <p:nvSpPr>
                        <p:cNvPr id="514" name=""/>
                        <p:cNvSpPr/>
                        <p:nvPr/>
                      </p:nvSpPr>
                      <p:spPr>
                        <a:xfrm rot="19860000">
                          <a:off x="4054680" y="419688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9860000">
                          <a:off x="4105080" y="452700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16" name=""/>
                      <p:cNvGrpSpPr/>
                      <p:nvPr/>
                    </p:nvGrpSpPr>
                    <p:grpSpPr>
                      <a:xfrm>
                        <a:off x="4194720" y="4203360"/>
                        <a:ext cx="275040" cy="411480"/>
                        <a:chOff x="4194720" y="4203360"/>
                        <a:chExt cx="275040" cy="411480"/>
                      </a:xfrm>
                    </p:grpSpPr>
                    <p:sp>
                      <p:nvSpPr>
                        <p:cNvPr id="517" name=""/>
                        <p:cNvSpPr/>
                        <p:nvPr/>
                      </p:nvSpPr>
                      <p:spPr>
                        <a:xfrm rot="19860000">
                          <a:off x="4277520" y="4190760"/>
                          <a:ext cx="41040" cy="352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9860000">
                          <a:off x="4327560" y="4523760"/>
                          <a:ext cx="13536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19" name=""/>
                      <p:cNvGrpSpPr/>
                      <p:nvPr/>
                    </p:nvGrpSpPr>
                    <p:grpSpPr>
                      <a:xfrm>
                        <a:off x="4526280" y="4204440"/>
                        <a:ext cx="274320" cy="408960"/>
                        <a:chOff x="4526280" y="4204440"/>
                        <a:chExt cx="274320" cy="408960"/>
                      </a:xfrm>
                    </p:grpSpPr>
                    <p:sp>
                      <p:nvSpPr>
                        <p:cNvPr id="520" name=""/>
                        <p:cNvSpPr/>
                        <p:nvPr/>
                      </p:nvSpPr>
                      <p:spPr>
                        <a:xfrm rot="19860000">
                          <a:off x="4609080" y="419184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19860000">
                          <a:off x="4659120" y="452196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522" name=""/>
                      <p:cNvGrpSpPr/>
                      <p:nvPr/>
                    </p:nvGrpSpPr>
                    <p:grpSpPr>
                      <a:xfrm>
                        <a:off x="4855680" y="4204440"/>
                        <a:ext cx="274320" cy="408960"/>
                        <a:chOff x="4855680" y="4204440"/>
                        <a:chExt cx="274320" cy="408960"/>
                      </a:xfrm>
                    </p:grpSpPr>
                    <p:sp>
                      <p:nvSpPr>
                        <p:cNvPr id="523" name=""/>
                        <p:cNvSpPr/>
                        <p:nvPr/>
                      </p:nvSpPr>
                      <p:spPr>
                        <a:xfrm rot="19860000">
                          <a:off x="4938480" y="419184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19860000">
                          <a:off x="4988520" y="452196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nvGrpSpPr>
                    <p:cNvPr id="525" name=""/>
                    <p:cNvGrpSpPr/>
                    <p:nvPr/>
                  </p:nvGrpSpPr>
                  <p:grpSpPr>
                    <a:xfrm>
                      <a:off x="2787840" y="4204440"/>
                      <a:ext cx="1156680" cy="414000"/>
                      <a:chOff x="2787840" y="4204440"/>
                      <a:chExt cx="1156680" cy="414000"/>
                    </a:xfrm>
                  </p:grpSpPr>
                  <p:grpSp>
                    <p:nvGrpSpPr>
                      <p:cNvPr id="526" name=""/>
                      <p:cNvGrpSpPr/>
                      <p:nvPr/>
                    </p:nvGrpSpPr>
                    <p:grpSpPr>
                      <a:xfrm>
                        <a:off x="2787840" y="4209480"/>
                        <a:ext cx="274680" cy="408960"/>
                        <a:chOff x="2787840" y="4209480"/>
                        <a:chExt cx="274680" cy="408960"/>
                      </a:xfrm>
                    </p:grpSpPr>
                    <p:sp>
                      <p:nvSpPr>
                        <p:cNvPr id="527" name=""/>
                        <p:cNvSpPr/>
                        <p:nvPr/>
                      </p:nvSpPr>
                      <p:spPr>
                        <a:xfrm rot="19860000">
                          <a:off x="2870640" y="419688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9860000">
                          <a:off x="2921400" y="452736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29" name=""/>
                      <p:cNvGrpSpPr/>
                      <p:nvPr/>
                    </p:nvGrpSpPr>
                    <p:grpSpPr>
                      <a:xfrm>
                        <a:off x="3011400" y="4204440"/>
                        <a:ext cx="274320" cy="408960"/>
                        <a:chOff x="3011400" y="4204440"/>
                        <a:chExt cx="274320" cy="408960"/>
                      </a:xfrm>
                    </p:grpSpPr>
                    <p:sp>
                      <p:nvSpPr>
                        <p:cNvPr id="530" name=""/>
                        <p:cNvSpPr/>
                        <p:nvPr/>
                      </p:nvSpPr>
                      <p:spPr>
                        <a:xfrm rot="19860000">
                          <a:off x="3094200" y="419184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rot="19860000">
                          <a:off x="3144240" y="452196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532" name=""/>
                      <p:cNvGrpSpPr/>
                      <p:nvPr/>
                    </p:nvGrpSpPr>
                    <p:grpSpPr>
                      <a:xfrm>
                        <a:off x="3340800" y="4204800"/>
                        <a:ext cx="274680" cy="408600"/>
                        <a:chOff x="3340800" y="4204800"/>
                        <a:chExt cx="274680" cy="408600"/>
                      </a:xfrm>
                    </p:grpSpPr>
                    <p:sp>
                      <p:nvSpPr>
                        <p:cNvPr id="533" name=""/>
                        <p:cNvSpPr/>
                        <p:nvPr/>
                      </p:nvSpPr>
                      <p:spPr>
                        <a:xfrm rot="19860000">
                          <a:off x="3423600" y="4192200"/>
                          <a:ext cx="4032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rot="19860000">
                          <a:off x="3474000" y="452196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535" name=""/>
                      <p:cNvGrpSpPr/>
                      <p:nvPr/>
                    </p:nvGrpSpPr>
                    <p:grpSpPr>
                      <a:xfrm>
                        <a:off x="3670200" y="4204440"/>
                        <a:ext cx="274320" cy="408960"/>
                        <a:chOff x="3670200" y="4204440"/>
                        <a:chExt cx="274320" cy="408960"/>
                      </a:xfrm>
                    </p:grpSpPr>
                    <p:sp>
                      <p:nvSpPr>
                        <p:cNvPr id="536" name=""/>
                        <p:cNvSpPr/>
                        <p:nvPr/>
                      </p:nvSpPr>
                      <p:spPr>
                        <a:xfrm rot="19860000">
                          <a:off x="3753000" y="419184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rot="19860000">
                          <a:off x="3803040" y="452196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grpSp>
                <p:nvGrpSpPr>
                  <p:cNvPr id="538" name=""/>
                  <p:cNvGrpSpPr/>
                  <p:nvPr/>
                </p:nvGrpSpPr>
                <p:grpSpPr>
                  <a:xfrm>
                    <a:off x="1437480" y="4389840"/>
                    <a:ext cx="2412720" cy="1419480"/>
                    <a:chOff x="1437480" y="4389840"/>
                    <a:chExt cx="2412720" cy="1419480"/>
                  </a:xfrm>
                </p:grpSpPr>
                <p:grpSp>
                  <p:nvGrpSpPr>
                    <p:cNvPr id="539" name=""/>
                    <p:cNvGrpSpPr/>
                    <p:nvPr/>
                  </p:nvGrpSpPr>
                  <p:grpSpPr>
                    <a:xfrm>
                      <a:off x="2393280" y="4389840"/>
                      <a:ext cx="208800" cy="571680"/>
                      <a:chOff x="2393280" y="4389840"/>
                      <a:chExt cx="208800" cy="571680"/>
                    </a:xfrm>
                  </p:grpSpPr>
                  <p:sp>
                    <p:nvSpPr>
                      <p:cNvPr id="540" name=""/>
                      <p:cNvSpPr/>
                      <p:nvPr/>
                    </p:nvSpPr>
                    <p:spPr>
                      <a:xfrm rot="840000">
                        <a:off x="2451240" y="44816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rot="840000">
                        <a:off x="2486160" y="4401360"/>
                        <a:ext cx="10692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42" name=""/>
                    <p:cNvGrpSpPr/>
                    <p:nvPr/>
                  </p:nvGrpSpPr>
                  <p:grpSpPr>
                    <a:xfrm>
                      <a:off x="2662200" y="4490640"/>
                      <a:ext cx="326520" cy="538920"/>
                      <a:chOff x="2662200" y="4490640"/>
                      <a:chExt cx="326520" cy="538920"/>
                    </a:xfrm>
                  </p:grpSpPr>
                  <p:sp>
                    <p:nvSpPr>
                      <p:cNvPr id="543" name=""/>
                      <p:cNvSpPr/>
                      <p:nvPr/>
                    </p:nvSpPr>
                    <p:spPr>
                      <a:xfrm rot="1620000">
                        <a:off x="2770200" y="456516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rot="1620000">
                        <a:off x="2868120" y="45100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45" name=""/>
                    <p:cNvGrpSpPr/>
                    <p:nvPr/>
                  </p:nvGrpSpPr>
                  <p:grpSpPr>
                    <a:xfrm>
                      <a:off x="3006360" y="4598640"/>
                      <a:ext cx="405720" cy="493200"/>
                      <a:chOff x="3006360" y="4598640"/>
                      <a:chExt cx="405720" cy="493200"/>
                    </a:xfrm>
                  </p:grpSpPr>
                  <p:sp>
                    <p:nvSpPr>
                      <p:cNvPr id="546" name=""/>
                      <p:cNvSpPr/>
                      <p:nvPr/>
                    </p:nvSpPr>
                    <p:spPr>
                      <a:xfrm rot="2220000">
                        <a:off x="3148560" y="46479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2220000">
                        <a:off x="3290400" y="462204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48" name=""/>
                    <p:cNvGrpSpPr/>
                    <p:nvPr/>
                  </p:nvGrpSpPr>
                  <p:grpSpPr>
                    <a:xfrm>
                      <a:off x="3268080" y="4662720"/>
                      <a:ext cx="582120" cy="495720"/>
                      <a:chOff x="3268080" y="4662720"/>
                      <a:chExt cx="582120" cy="495720"/>
                    </a:xfrm>
                  </p:grpSpPr>
                  <p:sp>
                    <p:nvSpPr>
                      <p:cNvPr id="549" name=""/>
                      <p:cNvSpPr/>
                      <p:nvPr/>
                    </p:nvSpPr>
                    <p:spPr>
                      <a:xfrm rot="19200000">
                        <a:off x="3205440" y="494280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0" name=""/>
                      <p:cNvSpPr/>
                      <p:nvPr/>
                    </p:nvSpPr>
                    <p:spPr>
                      <a:xfrm rot="19200000">
                        <a:off x="3728520" y="46864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51" name=""/>
                    <p:cNvGrpSpPr/>
                    <p:nvPr/>
                  </p:nvGrpSpPr>
                  <p:grpSpPr>
                    <a:xfrm>
                      <a:off x="3174840" y="5246640"/>
                      <a:ext cx="553680" cy="526680"/>
                      <a:chOff x="3174840" y="5246640"/>
                      <a:chExt cx="553680" cy="526680"/>
                    </a:xfrm>
                  </p:grpSpPr>
                  <p:sp>
                    <p:nvSpPr>
                      <p:cNvPr id="552" name=""/>
                      <p:cNvSpPr/>
                      <p:nvPr/>
                    </p:nvSpPr>
                    <p:spPr>
                      <a:xfrm rot="2580000">
                        <a:off x="3102120" y="544824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3" name=""/>
                      <p:cNvSpPr/>
                      <p:nvPr/>
                    </p:nvSpPr>
                    <p:spPr>
                      <a:xfrm rot="2580000">
                        <a:off x="3607200" y="56635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54" name=""/>
                    <p:cNvGrpSpPr/>
                    <p:nvPr/>
                  </p:nvGrpSpPr>
                  <p:grpSpPr>
                    <a:xfrm>
                      <a:off x="2999520" y="5256360"/>
                      <a:ext cx="316080" cy="544320"/>
                      <a:chOff x="2999520" y="5256360"/>
                      <a:chExt cx="316080" cy="544320"/>
                    </a:xfrm>
                  </p:grpSpPr>
                  <p:sp>
                    <p:nvSpPr>
                      <p:cNvPr id="555" name=""/>
                      <p:cNvSpPr/>
                      <p:nvPr/>
                    </p:nvSpPr>
                    <p:spPr>
                      <a:xfrm rot="19980000">
                        <a:off x="3107160" y="52369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rot="19980000">
                        <a:off x="3195360" y="569484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57" name=""/>
                    <p:cNvGrpSpPr/>
                    <p:nvPr/>
                  </p:nvGrpSpPr>
                  <p:grpSpPr>
                    <a:xfrm>
                      <a:off x="2754360" y="5190480"/>
                      <a:ext cx="106560" cy="571680"/>
                      <a:chOff x="2754360" y="5190480"/>
                      <a:chExt cx="106560" cy="571680"/>
                    </a:xfrm>
                  </p:grpSpPr>
                  <p:sp>
                    <p:nvSpPr>
                      <p:cNvPr id="558" name=""/>
                      <p:cNvSpPr/>
                      <p:nvPr/>
                    </p:nvSpPr>
                    <p:spPr>
                      <a:xfrm>
                        <a:off x="2799360" y="519048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754360" y="56761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60" name=""/>
                    <p:cNvGrpSpPr/>
                    <p:nvPr/>
                  </p:nvGrpSpPr>
                  <p:grpSpPr>
                    <a:xfrm>
                      <a:off x="2360520" y="5234040"/>
                      <a:ext cx="110880" cy="575280"/>
                      <a:chOff x="2360520" y="5234040"/>
                      <a:chExt cx="110880" cy="575280"/>
                    </a:xfrm>
                  </p:grpSpPr>
                  <p:sp>
                    <p:nvSpPr>
                      <p:cNvPr id="561" name=""/>
                      <p:cNvSpPr/>
                      <p:nvPr/>
                    </p:nvSpPr>
                    <p:spPr>
                      <a:xfrm rot="120000">
                        <a:off x="2414160" y="52344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120000">
                        <a:off x="2361600" y="5721120"/>
                        <a:ext cx="10800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63" name=""/>
                    <p:cNvGrpSpPr/>
                    <p:nvPr/>
                  </p:nvGrpSpPr>
                  <p:grpSpPr>
                    <a:xfrm>
                      <a:off x="1924920" y="4432680"/>
                      <a:ext cx="194040" cy="574560"/>
                      <a:chOff x="1924920" y="4432680"/>
                      <a:chExt cx="194040" cy="574560"/>
                    </a:xfrm>
                  </p:grpSpPr>
                  <p:sp>
                    <p:nvSpPr>
                      <p:cNvPr id="564" name=""/>
                      <p:cNvSpPr/>
                      <p:nvPr/>
                    </p:nvSpPr>
                    <p:spPr>
                      <a:xfrm rot="20820000">
                        <a:off x="2033280" y="452628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20820000">
                        <a:off x="1933200" y="444348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66" name=""/>
                    <p:cNvGrpSpPr/>
                    <p:nvPr/>
                  </p:nvGrpSpPr>
                  <p:grpSpPr>
                    <a:xfrm>
                      <a:off x="1437480" y="5046840"/>
                      <a:ext cx="703800" cy="229320"/>
                      <a:chOff x="1437480" y="5046840"/>
                      <a:chExt cx="703800" cy="229320"/>
                    </a:xfrm>
                  </p:grpSpPr>
                  <p:sp>
                    <p:nvSpPr>
                      <p:cNvPr id="567" name=""/>
                      <p:cNvSpPr/>
                      <p:nvPr/>
                    </p:nvSpPr>
                    <p:spPr>
                      <a:xfrm rot="20700000">
                        <a:off x="1545840" y="5124240"/>
                        <a:ext cx="60228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8" name=""/>
                      <p:cNvSpPr/>
                      <p:nvPr/>
                    </p:nvSpPr>
                    <p:spPr>
                      <a:xfrm rot="20700000">
                        <a:off x="1446480" y="5177520"/>
                        <a:ext cx="10692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69" name=""/>
                    <p:cNvGrpSpPr/>
                    <p:nvPr/>
                  </p:nvGrpSpPr>
                  <p:grpSpPr>
                    <a:xfrm>
                      <a:off x="1646280" y="5163120"/>
                      <a:ext cx="435240" cy="474480"/>
                      <a:chOff x="1646280" y="5163120"/>
                      <a:chExt cx="435240" cy="474480"/>
                    </a:xfrm>
                  </p:grpSpPr>
                  <p:sp>
                    <p:nvSpPr>
                      <p:cNvPr id="570" name=""/>
                      <p:cNvSpPr/>
                      <p:nvPr/>
                    </p:nvSpPr>
                    <p:spPr>
                      <a:xfrm rot="2460000">
                        <a:off x="1895400" y="51138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2460000">
                        <a:off x="1661400" y="55267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72" name=""/>
                    <p:cNvGrpSpPr/>
                    <p:nvPr/>
                  </p:nvGrpSpPr>
                  <p:grpSpPr>
                    <a:xfrm>
                      <a:off x="1925280" y="5254200"/>
                      <a:ext cx="304200" cy="549000"/>
                      <a:chOff x="1925280" y="5254200"/>
                      <a:chExt cx="304200" cy="549000"/>
                    </a:xfrm>
                  </p:grpSpPr>
                  <p:sp>
                    <p:nvSpPr>
                      <p:cNvPr id="573" name=""/>
                      <p:cNvSpPr/>
                      <p:nvPr/>
                    </p:nvSpPr>
                    <p:spPr>
                      <a:xfrm rot="1440000">
                        <a:off x="2101320" y="52394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440000">
                        <a:off x="1937880" y="5698800"/>
                        <a:ext cx="10764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575" name=""/>
                  <p:cNvGrpSpPr/>
                  <p:nvPr/>
                </p:nvGrpSpPr>
                <p:grpSpPr>
                  <a:xfrm>
                    <a:off x="3084480" y="4346280"/>
                    <a:ext cx="2412360" cy="1419480"/>
                    <a:chOff x="3084480" y="4346280"/>
                    <a:chExt cx="2412360" cy="1419480"/>
                  </a:xfrm>
                </p:grpSpPr>
                <p:grpSp>
                  <p:nvGrpSpPr>
                    <p:cNvPr id="576" name=""/>
                    <p:cNvGrpSpPr/>
                    <p:nvPr/>
                  </p:nvGrpSpPr>
                  <p:grpSpPr>
                    <a:xfrm>
                      <a:off x="4040280" y="4346280"/>
                      <a:ext cx="208080" cy="571680"/>
                      <a:chOff x="4040280" y="4346280"/>
                      <a:chExt cx="208080" cy="571680"/>
                    </a:xfrm>
                  </p:grpSpPr>
                  <p:sp>
                    <p:nvSpPr>
                      <p:cNvPr id="577" name=""/>
                      <p:cNvSpPr/>
                      <p:nvPr/>
                    </p:nvSpPr>
                    <p:spPr>
                      <a:xfrm rot="840000">
                        <a:off x="4098240" y="44377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rot="840000">
                        <a:off x="4132800" y="435780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79" name=""/>
                    <p:cNvGrpSpPr/>
                    <p:nvPr/>
                  </p:nvGrpSpPr>
                  <p:grpSpPr>
                    <a:xfrm>
                      <a:off x="4309560" y="4447080"/>
                      <a:ext cx="326160" cy="538200"/>
                      <a:chOff x="4309560" y="4447080"/>
                      <a:chExt cx="326160" cy="538200"/>
                    </a:xfrm>
                  </p:grpSpPr>
                  <p:sp>
                    <p:nvSpPr>
                      <p:cNvPr id="580" name=""/>
                      <p:cNvSpPr/>
                      <p:nvPr/>
                    </p:nvSpPr>
                    <p:spPr>
                      <a:xfrm rot="1620000">
                        <a:off x="4417200" y="45212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620000">
                        <a:off x="4515120" y="44665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82" name=""/>
                    <p:cNvGrpSpPr/>
                    <p:nvPr/>
                  </p:nvGrpSpPr>
                  <p:grpSpPr>
                    <a:xfrm>
                      <a:off x="4653360" y="4554720"/>
                      <a:ext cx="406800" cy="493560"/>
                      <a:chOff x="4653360" y="4554720"/>
                      <a:chExt cx="406800" cy="493560"/>
                    </a:xfrm>
                  </p:grpSpPr>
                  <p:sp>
                    <p:nvSpPr>
                      <p:cNvPr id="583" name=""/>
                      <p:cNvSpPr/>
                      <p:nvPr/>
                    </p:nvSpPr>
                    <p:spPr>
                      <a:xfrm rot="2220000">
                        <a:off x="4795560" y="46044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2220000">
                        <a:off x="4937760" y="4578120"/>
                        <a:ext cx="10692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85" name=""/>
                    <p:cNvGrpSpPr/>
                    <p:nvPr/>
                  </p:nvGrpSpPr>
                  <p:grpSpPr>
                    <a:xfrm>
                      <a:off x="4915080" y="4619160"/>
                      <a:ext cx="581760" cy="495720"/>
                      <a:chOff x="4915080" y="4619160"/>
                      <a:chExt cx="581760" cy="495720"/>
                    </a:xfrm>
                  </p:grpSpPr>
                  <p:sp>
                    <p:nvSpPr>
                      <p:cNvPr id="586" name=""/>
                      <p:cNvSpPr/>
                      <p:nvPr/>
                    </p:nvSpPr>
                    <p:spPr>
                      <a:xfrm rot="19200000">
                        <a:off x="4852440" y="489924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87" name=""/>
                      <p:cNvSpPr/>
                      <p:nvPr/>
                    </p:nvSpPr>
                    <p:spPr>
                      <a:xfrm rot="19200000">
                        <a:off x="5375160" y="46429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88" name=""/>
                    <p:cNvGrpSpPr/>
                    <p:nvPr/>
                  </p:nvGrpSpPr>
                  <p:grpSpPr>
                    <a:xfrm>
                      <a:off x="4821840" y="5203080"/>
                      <a:ext cx="554040" cy="526680"/>
                      <a:chOff x="4821840" y="5203080"/>
                      <a:chExt cx="554040" cy="526680"/>
                    </a:xfrm>
                  </p:grpSpPr>
                  <p:sp>
                    <p:nvSpPr>
                      <p:cNvPr id="589" name=""/>
                      <p:cNvSpPr/>
                      <p:nvPr/>
                    </p:nvSpPr>
                    <p:spPr>
                      <a:xfrm rot="2580000">
                        <a:off x="4749120" y="54046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90" name=""/>
                      <p:cNvSpPr/>
                      <p:nvPr/>
                    </p:nvSpPr>
                    <p:spPr>
                      <a:xfrm rot="2580000">
                        <a:off x="5254560" y="561996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91" name=""/>
                    <p:cNvGrpSpPr/>
                    <p:nvPr/>
                  </p:nvGrpSpPr>
                  <p:grpSpPr>
                    <a:xfrm>
                      <a:off x="4646520" y="5212440"/>
                      <a:ext cx="316080" cy="544680"/>
                      <a:chOff x="4646520" y="5212440"/>
                      <a:chExt cx="316080" cy="544680"/>
                    </a:xfrm>
                  </p:grpSpPr>
                  <p:sp>
                    <p:nvSpPr>
                      <p:cNvPr id="592" name=""/>
                      <p:cNvSpPr/>
                      <p:nvPr/>
                    </p:nvSpPr>
                    <p:spPr>
                      <a:xfrm rot="19980000">
                        <a:off x="4754520" y="519300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9980000">
                        <a:off x="4842360" y="5650920"/>
                        <a:ext cx="10620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94" name=""/>
                    <p:cNvGrpSpPr/>
                    <p:nvPr/>
                  </p:nvGrpSpPr>
                  <p:grpSpPr>
                    <a:xfrm>
                      <a:off x="4401360" y="5146560"/>
                      <a:ext cx="106560" cy="572040"/>
                      <a:chOff x="4401360" y="5146560"/>
                      <a:chExt cx="106560" cy="572040"/>
                    </a:xfrm>
                  </p:grpSpPr>
                  <p:sp>
                    <p:nvSpPr>
                      <p:cNvPr id="595" name=""/>
                      <p:cNvSpPr/>
                      <p:nvPr/>
                    </p:nvSpPr>
                    <p:spPr>
                      <a:xfrm>
                        <a:off x="4446000" y="51465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401360" y="56322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97" name=""/>
                    <p:cNvGrpSpPr/>
                    <p:nvPr/>
                  </p:nvGrpSpPr>
                  <p:grpSpPr>
                    <a:xfrm>
                      <a:off x="4007520" y="5190480"/>
                      <a:ext cx="110880" cy="575280"/>
                      <a:chOff x="4007520" y="5190480"/>
                      <a:chExt cx="110880" cy="575280"/>
                    </a:xfrm>
                  </p:grpSpPr>
                  <p:sp>
                    <p:nvSpPr>
                      <p:cNvPr id="598" name=""/>
                      <p:cNvSpPr/>
                      <p:nvPr/>
                    </p:nvSpPr>
                    <p:spPr>
                      <a:xfrm rot="120000">
                        <a:off x="4061160" y="51908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rot="120000">
                        <a:off x="4008600" y="567792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00" name=""/>
                    <p:cNvGrpSpPr/>
                    <p:nvPr/>
                  </p:nvGrpSpPr>
                  <p:grpSpPr>
                    <a:xfrm>
                      <a:off x="3571920" y="4389120"/>
                      <a:ext cx="194040" cy="574200"/>
                      <a:chOff x="3571920" y="4389120"/>
                      <a:chExt cx="194040" cy="574200"/>
                    </a:xfrm>
                  </p:grpSpPr>
                  <p:sp>
                    <p:nvSpPr>
                      <p:cNvPr id="601" name=""/>
                      <p:cNvSpPr/>
                      <p:nvPr/>
                    </p:nvSpPr>
                    <p:spPr>
                      <a:xfrm rot="20820000">
                        <a:off x="3680280" y="44827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rot="20820000">
                        <a:off x="3580200" y="43999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03" name=""/>
                    <p:cNvGrpSpPr/>
                    <p:nvPr/>
                  </p:nvGrpSpPr>
                  <p:grpSpPr>
                    <a:xfrm>
                      <a:off x="3084480" y="5003280"/>
                      <a:ext cx="703440" cy="228960"/>
                      <a:chOff x="3084480" y="5003280"/>
                      <a:chExt cx="703440" cy="228960"/>
                    </a:xfrm>
                  </p:grpSpPr>
                  <p:sp>
                    <p:nvSpPr>
                      <p:cNvPr id="604" name=""/>
                      <p:cNvSpPr/>
                      <p:nvPr/>
                    </p:nvSpPr>
                    <p:spPr>
                      <a:xfrm rot="20700000">
                        <a:off x="3192840" y="50806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05" name=""/>
                      <p:cNvSpPr/>
                      <p:nvPr/>
                    </p:nvSpPr>
                    <p:spPr>
                      <a:xfrm rot="20700000">
                        <a:off x="3093480" y="513360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06" name=""/>
                    <p:cNvGrpSpPr/>
                    <p:nvPr/>
                  </p:nvGrpSpPr>
                  <p:grpSpPr>
                    <a:xfrm>
                      <a:off x="3293640" y="5119200"/>
                      <a:ext cx="434880" cy="474480"/>
                      <a:chOff x="3293640" y="5119200"/>
                      <a:chExt cx="434880" cy="474480"/>
                    </a:xfrm>
                  </p:grpSpPr>
                  <p:sp>
                    <p:nvSpPr>
                      <p:cNvPr id="607" name=""/>
                      <p:cNvSpPr/>
                      <p:nvPr/>
                    </p:nvSpPr>
                    <p:spPr>
                      <a:xfrm rot="2460000">
                        <a:off x="3542400" y="50698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rot="2460000">
                        <a:off x="3308400" y="54828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609" name=""/>
                    <p:cNvGrpSpPr/>
                    <p:nvPr/>
                  </p:nvGrpSpPr>
                  <p:grpSpPr>
                    <a:xfrm>
                      <a:off x="3572280" y="5210280"/>
                      <a:ext cx="304200" cy="549360"/>
                      <a:chOff x="3572280" y="5210280"/>
                      <a:chExt cx="304200" cy="549360"/>
                    </a:xfrm>
                  </p:grpSpPr>
                  <p:sp>
                    <p:nvSpPr>
                      <p:cNvPr id="610" name=""/>
                      <p:cNvSpPr/>
                      <p:nvPr/>
                    </p:nvSpPr>
                    <p:spPr>
                      <a:xfrm rot="1440000">
                        <a:off x="3748320" y="51955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rot="1440000">
                        <a:off x="3584880" y="5655240"/>
                        <a:ext cx="10764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612" name=""/>
                  <p:cNvGrpSpPr/>
                  <p:nvPr/>
                </p:nvGrpSpPr>
                <p:grpSpPr>
                  <a:xfrm>
                    <a:off x="4896000" y="4213440"/>
                    <a:ext cx="2412720" cy="1419120"/>
                    <a:chOff x="4896000" y="4213440"/>
                    <a:chExt cx="2412720" cy="1419120"/>
                  </a:xfrm>
                </p:grpSpPr>
                <p:grpSp>
                  <p:nvGrpSpPr>
                    <p:cNvPr id="613" name=""/>
                    <p:cNvGrpSpPr/>
                    <p:nvPr/>
                  </p:nvGrpSpPr>
                  <p:grpSpPr>
                    <a:xfrm>
                      <a:off x="5851800" y="4213440"/>
                      <a:ext cx="208800" cy="571320"/>
                      <a:chOff x="5851800" y="4213440"/>
                      <a:chExt cx="208800" cy="571320"/>
                    </a:xfrm>
                  </p:grpSpPr>
                  <p:sp>
                    <p:nvSpPr>
                      <p:cNvPr id="614" name=""/>
                      <p:cNvSpPr/>
                      <p:nvPr/>
                    </p:nvSpPr>
                    <p:spPr>
                      <a:xfrm rot="840000">
                        <a:off x="5909760" y="43048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840000">
                        <a:off x="5944680" y="4224960"/>
                        <a:ext cx="10692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16" name=""/>
                    <p:cNvGrpSpPr/>
                    <p:nvPr/>
                  </p:nvGrpSpPr>
                  <p:grpSpPr>
                    <a:xfrm>
                      <a:off x="6120720" y="4314240"/>
                      <a:ext cx="326880" cy="538920"/>
                      <a:chOff x="6120720" y="4314240"/>
                      <a:chExt cx="326880" cy="538920"/>
                    </a:xfrm>
                  </p:grpSpPr>
                  <p:sp>
                    <p:nvSpPr>
                      <p:cNvPr id="617" name=""/>
                      <p:cNvSpPr/>
                      <p:nvPr/>
                    </p:nvSpPr>
                    <p:spPr>
                      <a:xfrm rot="1620000">
                        <a:off x="6228720" y="438876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rot="1620000">
                        <a:off x="6327000" y="433368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619" name=""/>
                    <p:cNvGrpSpPr/>
                    <p:nvPr/>
                  </p:nvGrpSpPr>
                  <p:grpSpPr>
                    <a:xfrm>
                      <a:off x="6465240" y="4421880"/>
                      <a:ext cx="405720" cy="493560"/>
                      <a:chOff x="6465240" y="4421880"/>
                      <a:chExt cx="405720" cy="493560"/>
                    </a:xfrm>
                  </p:grpSpPr>
                  <p:sp>
                    <p:nvSpPr>
                      <p:cNvPr id="620" name=""/>
                      <p:cNvSpPr/>
                      <p:nvPr/>
                    </p:nvSpPr>
                    <p:spPr>
                      <a:xfrm rot="2220000">
                        <a:off x="6607440" y="44708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rot="2220000">
                        <a:off x="6749280" y="44452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22" name=""/>
                    <p:cNvGrpSpPr/>
                    <p:nvPr/>
                  </p:nvGrpSpPr>
                  <p:grpSpPr>
                    <a:xfrm>
                      <a:off x="6726600" y="4485960"/>
                      <a:ext cx="582120" cy="495720"/>
                      <a:chOff x="6726600" y="4485960"/>
                      <a:chExt cx="582120" cy="495720"/>
                    </a:xfrm>
                  </p:grpSpPr>
                  <p:sp>
                    <p:nvSpPr>
                      <p:cNvPr id="623" name=""/>
                      <p:cNvSpPr/>
                      <p:nvPr/>
                    </p:nvSpPr>
                    <p:spPr>
                      <a:xfrm rot="19200000">
                        <a:off x="6663960" y="4766040"/>
                        <a:ext cx="60228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4" name=""/>
                      <p:cNvSpPr/>
                      <p:nvPr/>
                    </p:nvSpPr>
                    <p:spPr>
                      <a:xfrm rot="19200000">
                        <a:off x="7187040" y="45097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25" name=""/>
                    <p:cNvGrpSpPr/>
                    <p:nvPr/>
                  </p:nvGrpSpPr>
                  <p:grpSpPr>
                    <a:xfrm>
                      <a:off x="6633360" y="5069880"/>
                      <a:ext cx="553680" cy="527040"/>
                      <a:chOff x="6633360" y="5069880"/>
                      <a:chExt cx="553680" cy="527040"/>
                    </a:xfrm>
                  </p:grpSpPr>
                  <p:sp>
                    <p:nvSpPr>
                      <p:cNvPr id="626" name=""/>
                      <p:cNvSpPr/>
                      <p:nvPr/>
                    </p:nvSpPr>
                    <p:spPr>
                      <a:xfrm rot="2580000">
                        <a:off x="6560640" y="52714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7" name=""/>
                      <p:cNvSpPr/>
                      <p:nvPr/>
                    </p:nvSpPr>
                    <p:spPr>
                      <a:xfrm rot="2580000">
                        <a:off x="7065720" y="54871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28" name=""/>
                    <p:cNvGrpSpPr/>
                    <p:nvPr/>
                  </p:nvGrpSpPr>
                  <p:grpSpPr>
                    <a:xfrm>
                      <a:off x="6458040" y="5079600"/>
                      <a:ext cx="316080" cy="544320"/>
                      <a:chOff x="6458040" y="5079600"/>
                      <a:chExt cx="316080" cy="544320"/>
                    </a:xfrm>
                  </p:grpSpPr>
                  <p:sp>
                    <p:nvSpPr>
                      <p:cNvPr id="629" name=""/>
                      <p:cNvSpPr/>
                      <p:nvPr/>
                    </p:nvSpPr>
                    <p:spPr>
                      <a:xfrm rot="19980000">
                        <a:off x="6565680" y="50601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rot="19980000">
                        <a:off x="6653880" y="55180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31" name=""/>
                    <p:cNvGrpSpPr/>
                    <p:nvPr/>
                  </p:nvGrpSpPr>
                  <p:grpSpPr>
                    <a:xfrm>
                      <a:off x="6212880" y="5013720"/>
                      <a:ext cx="106920" cy="571680"/>
                      <a:chOff x="6212880" y="5013720"/>
                      <a:chExt cx="106920" cy="571680"/>
                    </a:xfrm>
                  </p:grpSpPr>
                  <p:sp>
                    <p:nvSpPr>
                      <p:cNvPr id="632" name=""/>
                      <p:cNvSpPr/>
                      <p:nvPr/>
                    </p:nvSpPr>
                    <p:spPr>
                      <a:xfrm>
                        <a:off x="6258240" y="50137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212880" y="5499360"/>
                        <a:ext cx="10692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34" name=""/>
                    <p:cNvGrpSpPr/>
                    <p:nvPr/>
                  </p:nvGrpSpPr>
                  <p:grpSpPr>
                    <a:xfrm>
                      <a:off x="5819040" y="5057280"/>
                      <a:ext cx="110880" cy="575280"/>
                      <a:chOff x="5819040" y="5057280"/>
                      <a:chExt cx="110880" cy="575280"/>
                    </a:xfrm>
                  </p:grpSpPr>
                  <p:sp>
                    <p:nvSpPr>
                      <p:cNvPr id="635" name=""/>
                      <p:cNvSpPr/>
                      <p:nvPr/>
                    </p:nvSpPr>
                    <p:spPr>
                      <a:xfrm rot="120000">
                        <a:off x="5872680" y="505764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rot="120000">
                        <a:off x="5820120" y="554472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37" name=""/>
                    <p:cNvGrpSpPr/>
                    <p:nvPr/>
                  </p:nvGrpSpPr>
                  <p:grpSpPr>
                    <a:xfrm>
                      <a:off x="5383440" y="4256640"/>
                      <a:ext cx="193680" cy="573840"/>
                      <a:chOff x="5383440" y="4256640"/>
                      <a:chExt cx="193680" cy="573840"/>
                    </a:xfrm>
                  </p:grpSpPr>
                  <p:sp>
                    <p:nvSpPr>
                      <p:cNvPr id="638" name=""/>
                      <p:cNvSpPr/>
                      <p:nvPr/>
                    </p:nvSpPr>
                    <p:spPr>
                      <a:xfrm rot="20820000">
                        <a:off x="5491440" y="43498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rot="20820000">
                        <a:off x="5391720" y="4267080"/>
                        <a:ext cx="1062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40" name=""/>
                    <p:cNvGrpSpPr/>
                    <p:nvPr/>
                  </p:nvGrpSpPr>
                  <p:grpSpPr>
                    <a:xfrm>
                      <a:off x="4896000" y="4870080"/>
                      <a:ext cx="703800" cy="229320"/>
                      <a:chOff x="4896000" y="4870080"/>
                      <a:chExt cx="703800" cy="229320"/>
                    </a:xfrm>
                  </p:grpSpPr>
                  <p:sp>
                    <p:nvSpPr>
                      <p:cNvPr id="641" name=""/>
                      <p:cNvSpPr/>
                      <p:nvPr/>
                    </p:nvSpPr>
                    <p:spPr>
                      <a:xfrm rot="20700000">
                        <a:off x="5004360" y="4947480"/>
                        <a:ext cx="60228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42" name=""/>
                      <p:cNvSpPr/>
                      <p:nvPr/>
                    </p:nvSpPr>
                    <p:spPr>
                      <a:xfrm rot="20700000">
                        <a:off x="4905000" y="5000760"/>
                        <a:ext cx="10692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43" name=""/>
                    <p:cNvGrpSpPr/>
                    <p:nvPr/>
                  </p:nvGrpSpPr>
                  <p:grpSpPr>
                    <a:xfrm>
                      <a:off x="5104800" y="4986360"/>
                      <a:ext cx="435240" cy="474480"/>
                      <a:chOff x="5104800" y="4986360"/>
                      <a:chExt cx="435240" cy="474480"/>
                    </a:xfrm>
                  </p:grpSpPr>
                  <p:sp>
                    <p:nvSpPr>
                      <p:cNvPr id="644" name=""/>
                      <p:cNvSpPr/>
                      <p:nvPr/>
                    </p:nvSpPr>
                    <p:spPr>
                      <a:xfrm rot="2460000">
                        <a:off x="5353920" y="49370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rot="2460000">
                        <a:off x="5119920" y="53499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46" name=""/>
                    <p:cNvGrpSpPr/>
                    <p:nvPr/>
                  </p:nvGrpSpPr>
                  <p:grpSpPr>
                    <a:xfrm>
                      <a:off x="5383800" y="5077440"/>
                      <a:ext cx="304560" cy="549000"/>
                      <a:chOff x="5383800" y="5077440"/>
                      <a:chExt cx="304560" cy="549000"/>
                    </a:xfrm>
                  </p:grpSpPr>
                  <p:sp>
                    <p:nvSpPr>
                      <p:cNvPr id="647" name=""/>
                      <p:cNvSpPr/>
                      <p:nvPr/>
                    </p:nvSpPr>
                    <p:spPr>
                      <a:xfrm rot="1440000">
                        <a:off x="5560200" y="50626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rot="1440000">
                        <a:off x="5396400" y="5522040"/>
                        <a:ext cx="10764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649" name=""/>
                  <p:cNvGrpSpPr/>
                  <p:nvPr/>
                </p:nvGrpSpPr>
                <p:grpSpPr>
                  <a:xfrm>
                    <a:off x="6213960" y="4258440"/>
                    <a:ext cx="2412360" cy="1418400"/>
                    <a:chOff x="6213960" y="4258440"/>
                    <a:chExt cx="2412360" cy="1418400"/>
                  </a:xfrm>
                </p:grpSpPr>
                <p:grpSp>
                  <p:nvGrpSpPr>
                    <p:cNvPr id="650" name=""/>
                    <p:cNvGrpSpPr/>
                    <p:nvPr/>
                  </p:nvGrpSpPr>
                  <p:grpSpPr>
                    <a:xfrm>
                      <a:off x="7169760" y="4258440"/>
                      <a:ext cx="208080" cy="571680"/>
                      <a:chOff x="7169760" y="4258440"/>
                      <a:chExt cx="208080" cy="571680"/>
                    </a:xfrm>
                  </p:grpSpPr>
                  <p:sp>
                    <p:nvSpPr>
                      <p:cNvPr id="651" name=""/>
                      <p:cNvSpPr/>
                      <p:nvPr/>
                    </p:nvSpPr>
                    <p:spPr>
                      <a:xfrm rot="840000">
                        <a:off x="7227720" y="43502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rot="840000">
                        <a:off x="7262280" y="426996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653" name=""/>
                    <p:cNvGrpSpPr/>
                    <p:nvPr/>
                  </p:nvGrpSpPr>
                  <p:grpSpPr>
                    <a:xfrm>
                      <a:off x="7439760" y="4358160"/>
                      <a:ext cx="326520" cy="537480"/>
                      <a:chOff x="7439760" y="4358160"/>
                      <a:chExt cx="326520" cy="537480"/>
                    </a:xfrm>
                  </p:grpSpPr>
                  <p:sp>
                    <p:nvSpPr>
                      <p:cNvPr id="654" name=""/>
                      <p:cNvSpPr/>
                      <p:nvPr/>
                    </p:nvSpPr>
                    <p:spPr>
                      <a:xfrm rot="1620000">
                        <a:off x="7547760" y="44312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rot="1620000">
                        <a:off x="7646040" y="437760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56" name=""/>
                    <p:cNvGrpSpPr/>
                    <p:nvPr/>
                  </p:nvGrpSpPr>
                  <p:grpSpPr>
                    <a:xfrm>
                      <a:off x="7782840" y="4467240"/>
                      <a:ext cx="405720" cy="493200"/>
                      <a:chOff x="7782840" y="4467240"/>
                      <a:chExt cx="405720" cy="493200"/>
                    </a:xfrm>
                  </p:grpSpPr>
                  <p:sp>
                    <p:nvSpPr>
                      <p:cNvPr id="657" name=""/>
                      <p:cNvSpPr/>
                      <p:nvPr/>
                    </p:nvSpPr>
                    <p:spPr>
                      <a:xfrm rot="2220000">
                        <a:off x="7925040" y="45165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rot="2220000">
                        <a:off x="8066880" y="449064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59" name=""/>
                    <p:cNvGrpSpPr/>
                    <p:nvPr/>
                  </p:nvGrpSpPr>
                  <p:grpSpPr>
                    <a:xfrm>
                      <a:off x="8044560" y="4531320"/>
                      <a:ext cx="581760" cy="495720"/>
                      <a:chOff x="8044560" y="4531320"/>
                      <a:chExt cx="581760" cy="495720"/>
                    </a:xfrm>
                  </p:grpSpPr>
                  <p:sp>
                    <p:nvSpPr>
                      <p:cNvPr id="660" name=""/>
                      <p:cNvSpPr/>
                      <p:nvPr/>
                    </p:nvSpPr>
                    <p:spPr>
                      <a:xfrm rot="19200000">
                        <a:off x="7981920" y="481140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61" name=""/>
                      <p:cNvSpPr/>
                      <p:nvPr/>
                    </p:nvSpPr>
                    <p:spPr>
                      <a:xfrm rot="19200000">
                        <a:off x="8504640" y="45550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62" name=""/>
                    <p:cNvGrpSpPr/>
                    <p:nvPr/>
                  </p:nvGrpSpPr>
                  <p:grpSpPr>
                    <a:xfrm>
                      <a:off x="7950960" y="5114160"/>
                      <a:ext cx="554040" cy="526680"/>
                      <a:chOff x="7950960" y="5114160"/>
                      <a:chExt cx="554040" cy="526680"/>
                    </a:xfrm>
                  </p:grpSpPr>
                  <p:sp>
                    <p:nvSpPr>
                      <p:cNvPr id="663" name=""/>
                      <p:cNvSpPr/>
                      <p:nvPr/>
                    </p:nvSpPr>
                    <p:spPr>
                      <a:xfrm rot="2580000">
                        <a:off x="7878240" y="531576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64" name=""/>
                      <p:cNvSpPr/>
                      <p:nvPr/>
                    </p:nvSpPr>
                    <p:spPr>
                      <a:xfrm rot="2580000">
                        <a:off x="8383680" y="553104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65" name=""/>
                    <p:cNvGrpSpPr/>
                    <p:nvPr/>
                  </p:nvGrpSpPr>
                  <p:grpSpPr>
                    <a:xfrm>
                      <a:off x="7776000" y="5123520"/>
                      <a:ext cx="316080" cy="544680"/>
                      <a:chOff x="7776000" y="5123520"/>
                      <a:chExt cx="316080" cy="544680"/>
                    </a:xfrm>
                  </p:grpSpPr>
                  <p:sp>
                    <p:nvSpPr>
                      <p:cNvPr id="666" name=""/>
                      <p:cNvSpPr/>
                      <p:nvPr/>
                    </p:nvSpPr>
                    <p:spPr>
                      <a:xfrm rot="19980000">
                        <a:off x="7883640" y="51040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19980000">
                        <a:off x="7971480" y="55620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668" name=""/>
                    <p:cNvGrpSpPr/>
                    <p:nvPr/>
                  </p:nvGrpSpPr>
                  <p:grpSpPr>
                    <a:xfrm>
                      <a:off x="7530480" y="5057640"/>
                      <a:ext cx="106560" cy="571680"/>
                      <a:chOff x="7530480" y="5057640"/>
                      <a:chExt cx="106560" cy="571680"/>
                    </a:xfrm>
                  </p:grpSpPr>
                  <p:sp>
                    <p:nvSpPr>
                      <p:cNvPr id="669" name=""/>
                      <p:cNvSpPr/>
                      <p:nvPr/>
                    </p:nvSpPr>
                    <p:spPr>
                      <a:xfrm>
                        <a:off x="7575480" y="50576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530480" y="55432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71" name=""/>
                    <p:cNvGrpSpPr/>
                    <p:nvPr/>
                  </p:nvGrpSpPr>
                  <p:grpSpPr>
                    <a:xfrm>
                      <a:off x="7137000" y="5101560"/>
                      <a:ext cx="110880" cy="575280"/>
                      <a:chOff x="7137000" y="5101560"/>
                      <a:chExt cx="110880" cy="575280"/>
                    </a:xfrm>
                  </p:grpSpPr>
                  <p:sp>
                    <p:nvSpPr>
                      <p:cNvPr id="672" name=""/>
                      <p:cNvSpPr/>
                      <p:nvPr/>
                    </p:nvSpPr>
                    <p:spPr>
                      <a:xfrm rot="120000">
                        <a:off x="7190640" y="51019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rot="120000">
                        <a:off x="7138080" y="558900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74" name=""/>
                    <p:cNvGrpSpPr/>
                    <p:nvPr/>
                  </p:nvGrpSpPr>
                  <p:grpSpPr>
                    <a:xfrm>
                      <a:off x="6701040" y="4301280"/>
                      <a:ext cx="194040" cy="574560"/>
                      <a:chOff x="6701040" y="4301280"/>
                      <a:chExt cx="194040" cy="574560"/>
                    </a:xfrm>
                  </p:grpSpPr>
                  <p:sp>
                    <p:nvSpPr>
                      <p:cNvPr id="675" name=""/>
                      <p:cNvSpPr/>
                      <p:nvPr/>
                    </p:nvSpPr>
                    <p:spPr>
                      <a:xfrm rot="20820000">
                        <a:off x="6809400" y="439488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rot="20820000">
                        <a:off x="6709320" y="431208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677" name=""/>
                    <p:cNvGrpSpPr/>
                    <p:nvPr/>
                  </p:nvGrpSpPr>
                  <p:grpSpPr>
                    <a:xfrm>
                      <a:off x="6213960" y="4912920"/>
                      <a:ext cx="703440" cy="230400"/>
                      <a:chOff x="6213960" y="4912920"/>
                      <a:chExt cx="703440" cy="230400"/>
                    </a:xfrm>
                  </p:grpSpPr>
                  <p:sp>
                    <p:nvSpPr>
                      <p:cNvPr id="678" name=""/>
                      <p:cNvSpPr/>
                      <p:nvPr/>
                    </p:nvSpPr>
                    <p:spPr>
                      <a:xfrm rot="20700000">
                        <a:off x="6322320" y="499032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79" name=""/>
                      <p:cNvSpPr/>
                      <p:nvPr/>
                    </p:nvSpPr>
                    <p:spPr>
                      <a:xfrm rot="20700000">
                        <a:off x="6222960" y="5045760"/>
                        <a:ext cx="10692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80" name=""/>
                    <p:cNvGrpSpPr/>
                    <p:nvPr/>
                  </p:nvGrpSpPr>
                  <p:grpSpPr>
                    <a:xfrm>
                      <a:off x="6424560" y="5031720"/>
                      <a:ext cx="432000" cy="471960"/>
                      <a:chOff x="6424560" y="5031720"/>
                      <a:chExt cx="432000" cy="471960"/>
                    </a:xfrm>
                  </p:grpSpPr>
                  <p:sp>
                    <p:nvSpPr>
                      <p:cNvPr id="681" name=""/>
                      <p:cNvSpPr/>
                      <p:nvPr/>
                    </p:nvSpPr>
                    <p:spPr>
                      <a:xfrm rot="2460000">
                        <a:off x="6670440" y="49824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rot="2460000">
                        <a:off x="6439320" y="539424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83" name=""/>
                    <p:cNvGrpSpPr/>
                    <p:nvPr/>
                  </p:nvGrpSpPr>
                  <p:grpSpPr>
                    <a:xfrm>
                      <a:off x="6701760" y="5121360"/>
                      <a:ext cx="304200" cy="549360"/>
                      <a:chOff x="6701760" y="5121360"/>
                      <a:chExt cx="304200" cy="549360"/>
                    </a:xfrm>
                  </p:grpSpPr>
                  <p:sp>
                    <p:nvSpPr>
                      <p:cNvPr id="684" name=""/>
                      <p:cNvSpPr/>
                      <p:nvPr/>
                    </p:nvSpPr>
                    <p:spPr>
                      <a:xfrm rot="1440000">
                        <a:off x="6877800" y="51066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rot="1440000">
                        <a:off x="6714360" y="5566320"/>
                        <a:ext cx="10764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grpSp>
          <p:grpSp>
            <p:nvGrpSpPr>
              <p:cNvPr id="686" name=""/>
              <p:cNvGrpSpPr/>
              <p:nvPr/>
            </p:nvGrpSpPr>
            <p:grpSpPr>
              <a:xfrm>
                <a:off x="6632640" y="1063080"/>
                <a:ext cx="722880" cy="700560"/>
                <a:chOff x="6632640" y="1063080"/>
                <a:chExt cx="722880" cy="700560"/>
              </a:xfrm>
            </p:grpSpPr>
            <p:grpSp>
              <p:nvGrpSpPr>
                <p:cNvPr id="687" name=""/>
                <p:cNvGrpSpPr/>
                <p:nvPr/>
              </p:nvGrpSpPr>
              <p:grpSpPr>
                <a:xfrm>
                  <a:off x="6756480" y="1372680"/>
                  <a:ext cx="599040" cy="107640"/>
                  <a:chOff x="6756480" y="1372680"/>
                  <a:chExt cx="599040" cy="107640"/>
                </a:xfrm>
              </p:grpSpPr>
              <p:sp>
                <p:nvSpPr>
                  <p:cNvPr id="688" name=""/>
                  <p:cNvSpPr/>
                  <p:nvPr/>
                </p:nvSpPr>
                <p:spPr>
                  <a:xfrm>
                    <a:off x="6756480" y="140760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89" name=""/>
                  <p:cNvSpPr/>
                  <p:nvPr/>
                </p:nvSpPr>
                <p:spPr>
                  <a:xfrm>
                    <a:off x="7265160" y="137268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690" name=""/>
                <p:cNvGrpSpPr/>
                <p:nvPr/>
              </p:nvGrpSpPr>
              <p:grpSpPr>
                <a:xfrm>
                  <a:off x="6754680" y="1308240"/>
                  <a:ext cx="559440" cy="347400"/>
                  <a:chOff x="6754680" y="1308240"/>
                  <a:chExt cx="559440" cy="347400"/>
                </a:xfrm>
              </p:grpSpPr>
              <p:sp>
                <p:nvSpPr>
                  <p:cNvPr id="691" name=""/>
                  <p:cNvSpPr/>
                  <p:nvPr/>
                </p:nvSpPr>
                <p:spPr>
                  <a:xfrm rot="1680000">
                    <a:off x="6732000" y="142524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92" name=""/>
                  <p:cNvSpPr/>
                  <p:nvPr/>
                </p:nvSpPr>
                <p:spPr>
                  <a:xfrm rot="1680000">
                    <a:off x="7203600" y="153288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693" name=""/>
                <p:cNvGrpSpPr/>
                <p:nvPr/>
              </p:nvGrpSpPr>
              <p:grpSpPr>
                <a:xfrm>
                  <a:off x="6908400" y="1184040"/>
                  <a:ext cx="272880" cy="578160"/>
                  <a:chOff x="6908400" y="1184040"/>
                  <a:chExt cx="272880" cy="578160"/>
                </a:xfrm>
              </p:grpSpPr>
              <p:sp>
                <p:nvSpPr>
                  <p:cNvPr id="694" name=""/>
                  <p:cNvSpPr/>
                  <p:nvPr/>
                </p:nvSpPr>
                <p:spPr>
                  <a:xfrm rot="20340000">
                    <a:off x="6996600" y="1173240"/>
                    <a:ext cx="3276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20340000">
                    <a:off x="7059240" y="1656720"/>
                    <a:ext cx="10944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696" name=""/>
                <p:cNvGrpSpPr/>
                <p:nvPr/>
              </p:nvGrpSpPr>
              <p:grpSpPr>
                <a:xfrm>
                  <a:off x="6805440" y="1210320"/>
                  <a:ext cx="343440" cy="553320"/>
                  <a:chOff x="6805440" y="1210320"/>
                  <a:chExt cx="343440" cy="553320"/>
                </a:xfrm>
              </p:grpSpPr>
              <p:sp>
                <p:nvSpPr>
                  <p:cNvPr id="697" name=""/>
                  <p:cNvSpPr/>
                  <p:nvPr/>
                </p:nvSpPr>
                <p:spPr>
                  <a:xfrm rot="1680000">
                    <a:off x="7001280" y="118836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rot="1680000">
                    <a:off x="6819480" y="1654200"/>
                    <a:ext cx="11016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699" name=""/>
                <p:cNvGrpSpPr/>
                <p:nvPr/>
              </p:nvGrpSpPr>
              <p:grpSpPr>
                <a:xfrm>
                  <a:off x="6649560" y="1279080"/>
                  <a:ext cx="549720" cy="365760"/>
                  <a:chOff x="6649560" y="1279080"/>
                  <a:chExt cx="549720" cy="365760"/>
                </a:xfrm>
              </p:grpSpPr>
              <p:sp>
                <p:nvSpPr>
                  <p:cNvPr id="700" name=""/>
                  <p:cNvSpPr/>
                  <p:nvPr/>
                </p:nvSpPr>
                <p:spPr>
                  <a:xfrm rot="19740000">
                    <a:off x="6720840" y="1407240"/>
                    <a:ext cx="50652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01" name=""/>
                  <p:cNvSpPr/>
                  <p:nvPr/>
                </p:nvSpPr>
                <p:spPr>
                  <a:xfrm rot="19740000">
                    <a:off x="6670800" y="152172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02" name=""/>
                <p:cNvGrpSpPr/>
                <p:nvPr/>
              </p:nvGrpSpPr>
              <p:grpSpPr>
                <a:xfrm>
                  <a:off x="6632640" y="1305360"/>
                  <a:ext cx="594000" cy="224640"/>
                  <a:chOff x="6632640" y="1305360"/>
                  <a:chExt cx="594000" cy="224640"/>
                </a:xfrm>
              </p:grpSpPr>
              <p:sp>
                <p:nvSpPr>
                  <p:cNvPr id="703" name=""/>
                  <p:cNvSpPr/>
                  <p:nvPr/>
                </p:nvSpPr>
                <p:spPr>
                  <a:xfrm rot="900000">
                    <a:off x="6724800" y="143388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04" name=""/>
                  <p:cNvSpPr/>
                  <p:nvPr/>
                </p:nvSpPr>
                <p:spPr>
                  <a:xfrm rot="900000">
                    <a:off x="6644880" y="131508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05" name=""/>
                <p:cNvGrpSpPr/>
                <p:nvPr/>
              </p:nvGrpSpPr>
              <p:grpSpPr>
                <a:xfrm>
                  <a:off x="6703200" y="1139760"/>
                  <a:ext cx="474840" cy="466560"/>
                  <a:chOff x="6703200" y="1139760"/>
                  <a:chExt cx="474840" cy="466560"/>
                </a:xfrm>
              </p:grpSpPr>
              <p:sp>
                <p:nvSpPr>
                  <p:cNvPr id="706" name=""/>
                  <p:cNvSpPr/>
                  <p:nvPr/>
                </p:nvSpPr>
                <p:spPr>
                  <a:xfrm rot="2640000">
                    <a:off x="6732000" y="140364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07" name=""/>
                  <p:cNvSpPr/>
                  <p:nvPr/>
                </p:nvSpPr>
                <p:spPr>
                  <a:xfrm rot="2640000">
                    <a:off x="6727680" y="115596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08" name=""/>
                <p:cNvGrpSpPr/>
                <p:nvPr/>
              </p:nvGrpSpPr>
              <p:grpSpPr>
                <a:xfrm>
                  <a:off x="6869160" y="1064520"/>
                  <a:ext cx="167400" cy="594720"/>
                  <a:chOff x="6869160" y="1064520"/>
                  <a:chExt cx="167400" cy="594720"/>
                </a:xfrm>
              </p:grpSpPr>
              <p:sp>
                <p:nvSpPr>
                  <p:cNvPr id="709" name=""/>
                  <p:cNvSpPr/>
                  <p:nvPr/>
                </p:nvSpPr>
                <p:spPr>
                  <a:xfrm rot="21000000">
                    <a:off x="6960960" y="116064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rot="21000000">
                    <a:off x="6876000" y="107316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11" name=""/>
                <p:cNvGrpSpPr/>
                <p:nvPr/>
              </p:nvGrpSpPr>
              <p:grpSpPr>
                <a:xfrm>
                  <a:off x="6900120" y="1063080"/>
                  <a:ext cx="304920" cy="568800"/>
                  <a:chOff x="6900120" y="1063080"/>
                  <a:chExt cx="304920" cy="568800"/>
                </a:xfrm>
              </p:grpSpPr>
              <p:sp>
                <p:nvSpPr>
                  <p:cNvPr id="712" name=""/>
                  <p:cNvSpPr/>
                  <p:nvPr/>
                </p:nvSpPr>
                <p:spPr>
                  <a:xfrm rot="1380000">
                    <a:off x="6996240" y="114588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rot="1380000">
                    <a:off x="7083000" y="1080720"/>
                    <a:ext cx="10872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14" name=""/>
                <p:cNvGrpSpPr/>
                <p:nvPr/>
              </p:nvGrpSpPr>
              <p:grpSpPr>
                <a:xfrm>
                  <a:off x="6786360" y="1182960"/>
                  <a:ext cx="556920" cy="351720"/>
                  <a:chOff x="6786360" y="1182960"/>
                  <a:chExt cx="556920" cy="351720"/>
                </a:xfrm>
              </p:grpSpPr>
              <p:sp>
                <p:nvSpPr>
                  <p:cNvPr id="715" name=""/>
                  <p:cNvSpPr/>
                  <p:nvPr/>
                </p:nvSpPr>
                <p:spPr>
                  <a:xfrm rot="19800000">
                    <a:off x="6760080" y="1379160"/>
                    <a:ext cx="50652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16" name=""/>
                  <p:cNvSpPr/>
                  <p:nvPr/>
                </p:nvSpPr>
                <p:spPr>
                  <a:xfrm rot="19800000">
                    <a:off x="7232040" y="119808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717" name=""/>
              <p:cNvGrpSpPr/>
              <p:nvPr/>
            </p:nvGrpSpPr>
            <p:grpSpPr>
              <a:xfrm>
                <a:off x="2407680" y="1003320"/>
                <a:ext cx="722880" cy="700200"/>
                <a:chOff x="2407680" y="1003320"/>
                <a:chExt cx="722880" cy="700200"/>
              </a:xfrm>
            </p:grpSpPr>
            <p:grpSp>
              <p:nvGrpSpPr>
                <p:cNvPr id="718" name=""/>
                <p:cNvGrpSpPr/>
                <p:nvPr/>
              </p:nvGrpSpPr>
              <p:grpSpPr>
                <a:xfrm>
                  <a:off x="2531520" y="1312560"/>
                  <a:ext cx="599040" cy="107640"/>
                  <a:chOff x="2531520" y="1312560"/>
                  <a:chExt cx="599040" cy="107640"/>
                </a:xfrm>
              </p:grpSpPr>
              <p:sp>
                <p:nvSpPr>
                  <p:cNvPr id="719" name=""/>
                  <p:cNvSpPr/>
                  <p:nvPr/>
                </p:nvSpPr>
                <p:spPr>
                  <a:xfrm>
                    <a:off x="2531520" y="1347480"/>
                    <a:ext cx="50652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20" name=""/>
                  <p:cNvSpPr/>
                  <p:nvPr/>
                </p:nvSpPr>
                <p:spPr>
                  <a:xfrm>
                    <a:off x="3040200" y="131256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21" name=""/>
                <p:cNvGrpSpPr/>
                <p:nvPr/>
              </p:nvGrpSpPr>
              <p:grpSpPr>
                <a:xfrm>
                  <a:off x="2529720" y="1248120"/>
                  <a:ext cx="559440" cy="347040"/>
                  <a:chOff x="2529720" y="1248120"/>
                  <a:chExt cx="559440" cy="347040"/>
                </a:xfrm>
              </p:grpSpPr>
              <p:sp>
                <p:nvSpPr>
                  <p:cNvPr id="722" name=""/>
                  <p:cNvSpPr/>
                  <p:nvPr/>
                </p:nvSpPr>
                <p:spPr>
                  <a:xfrm rot="1680000">
                    <a:off x="2507400" y="136476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23" name=""/>
                  <p:cNvSpPr/>
                  <p:nvPr/>
                </p:nvSpPr>
                <p:spPr>
                  <a:xfrm rot="1680000">
                    <a:off x="2978640" y="147276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24" name=""/>
                <p:cNvGrpSpPr/>
                <p:nvPr/>
              </p:nvGrpSpPr>
              <p:grpSpPr>
                <a:xfrm>
                  <a:off x="2683440" y="1124280"/>
                  <a:ext cx="272520" cy="577800"/>
                  <a:chOff x="2683440" y="1124280"/>
                  <a:chExt cx="272520" cy="577800"/>
                </a:xfrm>
              </p:grpSpPr>
              <p:sp>
                <p:nvSpPr>
                  <p:cNvPr id="725" name=""/>
                  <p:cNvSpPr/>
                  <p:nvPr/>
                </p:nvSpPr>
                <p:spPr>
                  <a:xfrm rot="20340000">
                    <a:off x="2771640" y="111312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rot="20340000">
                    <a:off x="2833920" y="1596600"/>
                    <a:ext cx="10944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27" name=""/>
                <p:cNvGrpSpPr/>
                <p:nvPr/>
              </p:nvGrpSpPr>
              <p:grpSpPr>
                <a:xfrm>
                  <a:off x="2580480" y="1150200"/>
                  <a:ext cx="343440" cy="553320"/>
                  <a:chOff x="2580480" y="1150200"/>
                  <a:chExt cx="343440" cy="553320"/>
                </a:xfrm>
              </p:grpSpPr>
              <p:sp>
                <p:nvSpPr>
                  <p:cNvPr id="728" name=""/>
                  <p:cNvSpPr/>
                  <p:nvPr/>
                </p:nvSpPr>
                <p:spPr>
                  <a:xfrm rot="1680000">
                    <a:off x="2776320" y="112824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rot="1680000">
                    <a:off x="2594520" y="1594080"/>
                    <a:ext cx="11016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30" name=""/>
                <p:cNvGrpSpPr/>
                <p:nvPr/>
              </p:nvGrpSpPr>
              <p:grpSpPr>
                <a:xfrm>
                  <a:off x="2424960" y="1219680"/>
                  <a:ext cx="549000" cy="364680"/>
                  <a:chOff x="2424960" y="1219680"/>
                  <a:chExt cx="549000" cy="364680"/>
                </a:xfrm>
              </p:grpSpPr>
              <p:sp>
                <p:nvSpPr>
                  <p:cNvPr id="731" name=""/>
                  <p:cNvSpPr/>
                  <p:nvPr/>
                </p:nvSpPr>
                <p:spPr>
                  <a:xfrm rot="19740000">
                    <a:off x="2495880" y="134748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2" name=""/>
                  <p:cNvSpPr/>
                  <p:nvPr/>
                </p:nvSpPr>
                <p:spPr>
                  <a:xfrm rot="19740000">
                    <a:off x="2445840" y="146160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33" name=""/>
                <p:cNvGrpSpPr/>
                <p:nvPr/>
              </p:nvGrpSpPr>
              <p:grpSpPr>
                <a:xfrm>
                  <a:off x="2407680" y="1245240"/>
                  <a:ext cx="594000" cy="224640"/>
                  <a:chOff x="2407680" y="1245240"/>
                  <a:chExt cx="594000" cy="224640"/>
                </a:xfrm>
              </p:grpSpPr>
              <p:sp>
                <p:nvSpPr>
                  <p:cNvPr id="734" name=""/>
                  <p:cNvSpPr/>
                  <p:nvPr/>
                </p:nvSpPr>
                <p:spPr>
                  <a:xfrm rot="900000">
                    <a:off x="2499840" y="137376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5" name=""/>
                  <p:cNvSpPr/>
                  <p:nvPr/>
                </p:nvSpPr>
                <p:spPr>
                  <a:xfrm rot="900000">
                    <a:off x="2419920" y="125496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36" name=""/>
                <p:cNvGrpSpPr/>
                <p:nvPr/>
              </p:nvGrpSpPr>
              <p:grpSpPr>
                <a:xfrm>
                  <a:off x="2478240" y="1079640"/>
                  <a:ext cx="475200" cy="466560"/>
                  <a:chOff x="2478240" y="1079640"/>
                  <a:chExt cx="475200" cy="466560"/>
                </a:xfrm>
              </p:grpSpPr>
              <p:sp>
                <p:nvSpPr>
                  <p:cNvPr id="737" name=""/>
                  <p:cNvSpPr/>
                  <p:nvPr/>
                </p:nvSpPr>
                <p:spPr>
                  <a:xfrm rot="2640000">
                    <a:off x="2507400" y="134352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38" name=""/>
                  <p:cNvSpPr/>
                  <p:nvPr/>
                </p:nvSpPr>
                <p:spPr>
                  <a:xfrm rot="2640000">
                    <a:off x="2502720" y="109584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39" name=""/>
                <p:cNvGrpSpPr/>
                <p:nvPr/>
              </p:nvGrpSpPr>
              <p:grpSpPr>
                <a:xfrm>
                  <a:off x="2644200" y="1004400"/>
                  <a:ext cx="167400" cy="594720"/>
                  <a:chOff x="2644200" y="1004400"/>
                  <a:chExt cx="167400" cy="594720"/>
                </a:xfrm>
              </p:grpSpPr>
              <p:sp>
                <p:nvSpPr>
                  <p:cNvPr id="740" name=""/>
                  <p:cNvSpPr/>
                  <p:nvPr/>
                </p:nvSpPr>
                <p:spPr>
                  <a:xfrm rot="21000000">
                    <a:off x="2736000" y="110052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rot="21000000">
                    <a:off x="2651040" y="101304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42" name=""/>
                <p:cNvGrpSpPr/>
                <p:nvPr/>
              </p:nvGrpSpPr>
              <p:grpSpPr>
                <a:xfrm>
                  <a:off x="2675160" y="1003320"/>
                  <a:ext cx="304920" cy="568440"/>
                  <a:chOff x="2675160" y="1003320"/>
                  <a:chExt cx="304920" cy="568440"/>
                </a:xfrm>
              </p:grpSpPr>
              <p:sp>
                <p:nvSpPr>
                  <p:cNvPr id="743" name=""/>
                  <p:cNvSpPr/>
                  <p:nvPr/>
                </p:nvSpPr>
                <p:spPr>
                  <a:xfrm rot="1380000">
                    <a:off x="2771280" y="108576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rot="1380000">
                    <a:off x="2857680" y="102096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45" name=""/>
                <p:cNvGrpSpPr/>
                <p:nvPr/>
              </p:nvGrpSpPr>
              <p:grpSpPr>
                <a:xfrm>
                  <a:off x="2561760" y="1122840"/>
                  <a:ext cx="556920" cy="352080"/>
                  <a:chOff x="2561760" y="1122840"/>
                  <a:chExt cx="556920" cy="352080"/>
                </a:xfrm>
              </p:grpSpPr>
              <p:sp>
                <p:nvSpPr>
                  <p:cNvPr id="746" name=""/>
                  <p:cNvSpPr/>
                  <p:nvPr/>
                </p:nvSpPr>
                <p:spPr>
                  <a:xfrm rot="19800000">
                    <a:off x="2535480" y="131940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47" name=""/>
                  <p:cNvSpPr/>
                  <p:nvPr/>
                </p:nvSpPr>
                <p:spPr>
                  <a:xfrm rot="19800000">
                    <a:off x="3007440" y="113796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748" name=""/>
              <p:cNvGrpSpPr/>
              <p:nvPr/>
            </p:nvGrpSpPr>
            <p:grpSpPr>
              <a:xfrm>
                <a:off x="6330600" y="5581080"/>
                <a:ext cx="723600" cy="700560"/>
                <a:chOff x="6330600" y="5581080"/>
                <a:chExt cx="723600" cy="700560"/>
              </a:xfrm>
            </p:grpSpPr>
            <p:grpSp>
              <p:nvGrpSpPr>
                <p:cNvPr id="749" name=""/>
                <p:cNvGrpSpPr/>
                <p:nvPr/>
              </p:nvGrpSpPr>
              <p:grpSpPr>
                <a:xfrm>
                  <a:off x="6454800" y="5890320"/>
                  <a:ext cx="599400" cy="107640"/>
                  <a:chOff x="6454800" y="5890320"/>
                  <a:chExt cx="599400" cy="107640"/>
                </a:xfrm>
              </p:grpSpPr>
              <p:sp>
                <p:nvSpPr>
                  <p:cNvPr id="750" name=""/>
                  <p:cNvSpPr/>
                  <p:nvPr/>
                </p:nvSpPr>
                <p:spPr>
                  <a:xfrm>
                    <a:off x="6454800" y="5925240"/>
                    <a:ext cx="50652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1" name=""/>
                  <p:cNvSpPr/>
                  <p:nvPr/>
                </p:nvSpPr>
                <p:spPr>
                  <a:xfrm>
                    <a:off x="6963840" y="589032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52" name=""/>
                <p:cNvGrpSpPr/>
                <p:nvPr/>
              </p:nvGrpSpPr>
              <p:grpSpPr>
                <a:xfrm>
                  <a:off x="6452640" y="5825880"/>
                  <a:ext cx="559440" cy="346680"/>
                  <a:chOff x="6452640" y="5825880"/>
                  <a:chExt cx="559440" cy="346680"/>
                </a:xfrm>
              </p:grpSpPr>
              <p:sp>
                <p:nvSpPr>
                  <p:cNvPr id="753" name=""/>
                  <p:cNvSpPr/>
                  <p:nvPr/>
                </p:nvSpPr>
                <p:spPr>
                  <a:xfrm rot="1680000">
                    <a:off x="6430320" y="594252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54" name=""/>
                  <p:cNvSpPr/>
                  <p:nvPr/>
                </p:nvSpPr>
                <p:spPr>
                  <a:xfrm rot="1680000">
                    <a:off x="6901920" y="605052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5" name=""/>
                <p:cNvGrpSpPr/>
                <p:nvPr/>
              </p:nvGrpSpPr>
              <p:grpSpPr>
                <a:xfrm>
                  <a:off x="6606000" y="5701680"/>
                  <a:ext cx="272520" cy="577800"/>
                  <a:chOff x="6606000" y="5701680"/>
                  <a:chExt cx="272520" cy="577800"/>
                </a:xfrm>
              </p:grpSpPr>
              <p:sp>
                <p:nvSpPr>
                  <p:cNvPr id="756" name=""/>
                  <p:cNvSpPr/>
                  <p:nvPr/>
                </p:nvSpPr>
                <p:spPr>
                  <a:xfrm rot="20340000">
                    <a:off x="6694200" y="5690880"/>
                    <a:ext cx="32760" cy="49968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rot="20340000">
                    <a:off x="6757200" y="617400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58" name=""/>
                <p:cNvGrpSpPr/>
                <p:nvPr/>
              </p:nvGrpSpPr>
              <p:grpSpPr>
                <a:xfrm>
                  <a:off x="6503040" y="5727960"/>
                  <a:ext cx="344160" cy="553680"/>
                  <a:chOff x="6503040" y="5727960"/>
                  <a:chExt cx="344160" cy="553680"/>
                </a:xfrm>
              </p:grpSpPr>
              <p:sp>
                <p:nvSpPr>
                  <p:cNvPr id="759" name=""/>
                  <p:cNvSpPr/>
                  <p:nvPr/>
                </p:nvSpPr>
                <p:spPr>
                  <a:xfrm rot="1680000">
                    <a:off x="6699600" y="570600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rot="1680000">
                    <a:off x="6517440" y="6171840"/>
                    <a:ext cx="110160" cy="88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61" name=""/>
                <p:cNvGrpSpPr/>
                <p:nvPr/>
              </p:nvGrpSpPr>
              <p:grpSpPr>
                <a:xfrm>
                  <a:off x="6347880" y="5797440"/>
                  <a:ext cx="549000" cy="364680"/>
                  <a:chOff x="6347880" y="5797440"/>
                  <a:chExt cx="549000" cy="364680"/>
                </a:xfrm>
              </p:grpSpPr>
              <p:sp>
                <p:nvSpPr>
                  <p:cNvPr id="762" name=""/>
                  <p:cNvSpPr/>
                  <p:nvPr/>
                </p:nvSpPr>
                <p:spPr>
                  <a:xfrm rot="19740000">
                    <a:off x="6418800" y="592524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63" name=""/>
                  <p:cNvSpPr/>
                  <p:nvPr/>
                </p:nvSpPr>
                <p:spPr>
                  <a:xfrm rot="19740000">
                    <a:off x="6368760" y="603936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64" name=""/>
                <p:cNvGrpSpPr/>
                <p:nvPr/>
              </p:nvGrpSpPr>
              <p:grpSpPr>
                <a:xfrm>
                  <a:off x="6330600" y="5823000"/>
                  <a:ext cx="594720" cy="225000"/>
                  <a:chOff x="6330600" y="5823000"/>
                  <a:chExt cx="594720" cy="225000"/>
                </a:xfrm>
              </p:grpSpPr>
              <p:sp>
                <p:nvSpPr>
                  <p:cNvPr id="765" name=""/>
                  <p:cNvSpPr/>
                  <p:nvPr/>
                </p:nvSpPr>
                <p:spPr>
                  <a:xfrm rot="900000">
                    <a:off x="6423120" y="5951520"/>
                    <a:ext cx="50652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6" name=""/>
                  <p:cNvSpPr/>
                  <p:nvPr/>
                </p:nvSpPr>
                <p:spPr>
                  <a:xfrm rot="900000">
                    <a:off x="6342840" y="583272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67" name=""/>
                <p:cNvGrpSpPr/>
                <p:nvPr/>
              </p:nvGrpSpPr>
              <p:grpSpPr>
                <a:xfrm>
                  <a:off x="6400800" y="5657400"/>
                  <a:ext cx="475560" cy="466560"/>
                  <a:chOff x="6400800" y="5657400"/>
                  <a:chExt cx="475560" cy="466560"/>
                </a:xfrm>
              </p:grpSpPr>
              <p:sp>
                <p:nvSpPr>
                  <p:cNvPr id="768" name=""/>
                  <p:cNvSpPr/>
                  <p:nvPr/>
                </p:nvSpPr>
                <p:spPr>
                  <a:xfrm rot="2640000">
                    <a:off x="6430320" y="592128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9" name=""/>
                  <p:cNvSpPr/>
                  <p:nvPr/>
                </p:nvSpPr>
                <p:spPr>
                  <a:xfrm rot="2640000">
                    <a:off x="6425280" y="567360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70" name=""/>
                <p:cNvGrpSpPr/>
                <p:nvPr/>
              </p:nvGrpSpPr>
              <p:grpSpPr>
                <a:xfrm>
                  <a:off x="6567120" y="5582520"/>
                  <a:ext cx="167400" cy="594360"/>
                  <a:chOff x="6567120" y="5582520"/>
                  <a:chExt cx="167400" cy="594360"/>
                </a:xfrm>
              </p:grpSpPr>
              <p:sp>
                <p:nvSpPr>
                  <p:cNvPr id="771" name=""/>
                  <p:cNvSpPr/>
                  <p:nvPr/>
                </p:nvSpPr>
                <p:spPr>
                  <a:xfrm rot="21000000">
                    <a:off x="6658920" y="567828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rot="21000000">
                    <a:off x="6573960" y="5590800"/>
                    <a:ext cx="10872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73" name=""/>
                <p:cNvGrpSpPr/>
                <p:nvPr/>
              </p:nvGrpSpPr>
              <p:grpSpPr>
                <a:xfrm>
                  <a:off x="6598440" y="5581080"/>
                  <a:ext cx="304560" cy="568800"/>
                  <a:chOff x="6598440" y="5581080"/>
                  <a:chExt cx="304560" cy="568800"/>
                </a:xfrm>
              </p:grpSpPr>
              <p:sp>
                <p:nvSpPr>
                  <p:cNvPr id="774" name=""/>
                  <p:cNvSpPr/>
                  <p:nvPr/>
                </p:nvSpPr>
                <p:spPr>
                  <a:xfrm rot="1380000">
                    <a:off x="6694560" y="5663520"/>
                    <a:ext cx="32400" cy="49968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rot="1380000">
                    <a:off x="6780600" y="559872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76" name=""/>
                <p:cNvGrpSpPr/>
                <p:nvPr/>
              </p:nvGrpSpPr>
              <p:grpSpPr>
                <a:xfrm>
                  <a:off x="6484680" y="5700600"/>
                  <a:ext cx="557280" cy="352080"/>
                  <a:chOff x="6484680" y="5700600"/>
                  <a:chExt cx="557280" cy="352080"/>
                </a:xfrm>
              </p:grpSpPr>
              <p:sp>
                <p:nvSpPr>
                  <p:cNvPr id="777" name=""/>
                  <p:cNvSpPr/>
                  <p:nvPr/>
                </p:nvSpPr>
                <p:spPr>
                  <a:xfrm rot="19800000">
                    <a:off x="6458400" y="589716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78" name=""/>
                  <p:cNvSpPr/>
                  <p:nvPr/>
                </p:nvSpPr>
                <p:spPr>
                  <a:xfrm rot="19800000">
                    <a:off x="6930360" y="571572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grpSp>
            <p:nvGrpSpPr>
              <p:cNvPr id="779" name=""/>
              <p:cNvGrpSpPr/>
              <p:nvPr/>
            </p:nvGrpSpPr>
            <p:grpSpPr>
              <a:xfrm>
                <a:off x="3313080" y="5640840"/>
                <a:ext cx="722880" cy="700560"/>
                <a:chOff x="3313080" y="5640840"/>
                <a:chExt cx="722880" cy="700560"/>
              </a:xfrm>
            </p:grpSpPr>
            <p:grpSp>
              <p:nvGrpSpPr>
                <p:cNvPr id="780" name=""/>
                <p:cNvGrpSpPr/>
                <p:nvPr/>
              </p:nvGrpSpPr>
              <p:grpSpPr>
                <a:xfrm>
                  <a:off x="3436920" y="5950440"/>
                  <a:ext cx="599040" cy="107640"/>
                  <a:chOff x="3436920" y="5950440"/>
                  <a:chExt cx="599040" cy="107640"/>
                </a:xfrm>
              </p:grpSpPr>
              <p:sp>
                <p:nvSpPr>
                  <p:cNvPr id="781" name=""/>
                  <p:cNvSpPr/>
                  <p:nvPr/>
                </p:nvSpPr>
                <p:spPr>
                  <a:xfrm>
                    <a:off x="3436920" y="5985360"/>
                    <a:ext cx="50652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82" name=""/>
                  <p:cNvSpPr/>
                  <p:nvPr/>
                </p:nvSpPr>
                <p:spPr>
                  <a:xfrm>
                    <a:off x="3945600" y="595044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83" name=""/>
                <p:cNvGrpSpPr/>
                <p:nvPr/>
              </p:nvGrpSpPr>
              <p:grpSpPr>
                <a:xfrm>
                  <a:off x="3435480" y="5886000"/>
                  <a:ext cx="559080" cy="347040"/>
                  <a:chOff x="3435480" y="5886000"/>
                  <a:chExt cx="559080" cy="347040"/>
                </a:xfrm>
              </p:grpSpPr>
              <p:sp>
                <p:nvSpPr>
                  <p:cNvPr id="784" name=""/>
                  <p:cNvSpPr/>
                  <p:nvPr/>
                </p:nvSpPr>
                <p:spPr>
                  <a:xfrm rot="1680000">
                    <a:off x="3412800" y="600300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85" name=""/>
                  <p:cNvSpPr/>
                  <p:nvPr/>
                </p:nvSpPr>
                <p:spPr>
                  <a:xfrm rot="1680000">
                    <a:off x="3884040" y="611028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86" name=""/>
                <p:cNvGrpSpPr/>
                <p:nvPr/>
              </p:nvGrpSpPr>
              <p:grpSpPr>
                <a:xfrm>
                  <a:off x="3588840" y="5762160"/>
                  <a:ext cx="272520" cy="577800"/>
                  <a:chOff x="3588840" y="5762160"/>
                  <a:chExt cx="272520" cy="577800"/>
                </a:xfrm>
              </p:grpSpPr>
              <p:sp>
                <p:nvSpPr>
                  <p:cNvPr id="787" name=""/>
                  <p:cNvSpPr/>
                  <p:nvPr/>
                </p:nvSpPr>
                <p:spPr>
                  <a:xfrm rot="20340000">
                    <a:off x="3677040" y="575100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rot="20340000">
                    <a:off x="3739320" y="6234480"/>
                    <a:ext cx="10944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89" name=""/>
                <p:cNvGrpSpPr/>
                <p:nvPr/>
              </p:nvGrpSpPr>
              <p:grpSpPr>
                <a:xfrm>
                  <a:off x="3485880" y="5788080"/>
                  <a:ext cx="343440" cy="553320"/>
                  <a:chOff x="3485880" y="5788080"/>
                  <a:chExt cx="343440" cy="553320"/>
                </a:xfrm>
              </p:grpSpPr>
              <p:sp>
                <p:nvSpPr>
                  <p:cNvPr id="790" name=""/>
                  <p:cNvSpPr/>
                  <p:nvPr/>
                </p:nvSpPr>
                <p:spPr>
                  <a:xfrm rot="1680000">
                    <a:off x="3681720" y="576612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rot="1680000">
                    <a:off x="3499920" y="6231960"/>
                    <a:ext cx="11016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92" name=""/>
                <p:cNvGrpSpPr/>
                <p:nvPr/>
              </p:nvGrpSpPr>
              <p:grpSpPr>
                <a:xfrm>
                  <a:off x="3330360" y="5857200"/>
                  <a:ext cx="549360" cy="365400"/>
                  <a:chOff x="3330360" y="5857200"/>
                  <a:chExt cx="549360" cy="365400"/>
                </a:xfrm>
              </p:grpSpPr>
              <p:sp>
                <p:nvSpPr>
                  <p:cNvPr id="793" name=""/>
                  <p:cNvSpPr/>
                  <p:nvPr/>
                </p:nvSpPr>
                <p:spPr>
                  <a:xfrm rot="19740000">
                    <a:off x="3401280" y="598500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94" name=""/>
                  <p:cNvSpPr/>
                  <p:nvPr/>
                </p:nvSpPr>
                <p:spPr>
                  <a:xfrm rot="19740000">
                    <a:off x="3351600" y="6099480"/>
                    <a:ext cx="9000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95" name=""/>
                <p:cNvGrpSpPr/>
                <p:nvPr/>
              </p:nvGrpSpPr>
              <p:grpSpPr>
                <a:xfrm>
                  <a:off x="3313080" y="5883120"/>
                  <a:ext cx="594000" cy="224640"/>
                  <a:chOff x="3313080" y="5883120"/>
                  <a:chExt cx="594000" cy="224640"/>
                </a:xfrm>
              </p:grpSpPr>
              <p:sp>
                <p:nvSpPr>
                  <p:cNvPr id="796" name=""/>
                  <p:cNvSpPr/>
                  <p:nvPr/>
                </p:nvSpPr>
                <p:spPr>
                  <a:xfrm rot="900000">
                    <a:off x="3405240" y="601164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97" name=""/>
                  <p:cNvSpPr/>
                  <p:nvPr/>
                </p:nvSpPr>
                <p:spPr>
                  <a:xfrm rot="900000">
                    <a:off x="3325320" y="589284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98" name=""/>
                <p:cNvGrpSpPr/>
                <p:nvPr/>
              </p:nvGrpSpPr>
              <p:grpSpPr>
                <a:xfrm>
                  <a:off x="3383640" y="5717520"/>
                  <a:ext cx="475200" cy="466560"/>
                  <a:chOff x="3383640" y="5717520"/>
                  <a:chExt cx="475200" cy="466560"/>
                </a:xfrm>
              </p:grpSpPr>
              <p:sp>
                <p:nvSpPr>
                  <p:cNvPr id="799" name=""/>
                  <p:cNvSpPr/>
                  <p:nvPr/>
                </p:nvSpPr>
                <p:spPr>
                  <a:xfrm rot="2640000">
                    <a:off x="3412800" y="598140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00" name=""/>
                  <p:cNvSpPr/>
                  <p:nvPr/>
                </p:nvSpPr>
                <p:spPr>
                  <a:xfrm rot="2640000">
                    <a:off x="3408120" y="573372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1" name=""/>
                <p:cNvGrpSpPr/>
                <p:nvPr/>
              </p:nvGrpSpPr>
              <p:grpSpPr>
                <a:xfrm>
                  <a:off x="3549600" y="5642280"/>
                  <a:ext cx="167400" cy="594720"/>
                  <a:chOff x="3549600" y="5642280"/>
                  <a:chExt cx="167400" cy="594720"/>
                </a:xfrm>
              </p:grpSpPr>
              <p:sp>
                <p:nvSpPr>
                  <p:cNvPr id="802" name=""/>
                  <p:cNvSpPr/>
                  <p:nvPr/>
                </p:nvSpPr>
                <p:spPr>
                  <a:xfrm rot="21000000">
                    <a:off x="3641400" y="573840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rot="21000000">
                    <a:off x="3556440" y="565092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804" name=""/>
                <p:cNvGrpSpPr/>
                <p:nvPr/>
              </p:nvGrpSpPr>
              <p:grpSpPr>
                <a:xfrm>
                  <a:off x="3580560" y="5640840"/>
                  <a:ext cx="304920" cy="568800"/>
                  <a:chOff x="3580560" y="5640840"/>
                  <a:chExt cx="304920" cy="568800"/>
                </a:xfrm>
              </p:grpSpPr>
              <p:sp>
                <p:nvSpPr>
                  <p:cNvPr id="805" name=""/>
                  <p:cNvSpPr/>
                  <p:nvPr/>
                </p:nvSpPr>
                <p:spPr>
                  <a:xfrm rot="1380000">
                    <a:off x="3676680" y="572364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rot="1380000">
                    <a:off x="3763080" y="5658480"/>
                    <a:ext cx="109080" cy="88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07" name=""/>
                <p:cNvGrpSpPr/>
                <p:nvPr/>
              </p:nvGrpSpPr>
              <p:grpSpPr>
                <a:xfrm>
                  <a:off x="3467160" y="5760720"/>
                  <a:ext cx="556920" cy="352080"/>
                  <a:chOff x="3467160" y="5760720"/>
                  <a:chExt cx="556920" cy="352080"/>
                </a:xfrm>
              </p:grpSpPr>
              <p:sp>
                <p:nvSpPr>
                  <p:cNvPr id="808" name=""/>
                  <p:cNvSpPr/>
                  <p:nvPr/>
                </p:nvSpPr>
                <p:spPr>
                  <a:xfrm rot="19800000">
                    <a:off x="3440880" y="595692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9" name=""/>
                  <p:cNvSpPr/>
                  <p:nvPr/>
                </p:nvSpPr>
                <p:spPr>
                  <a:xfrm rot="19800000">
                    <a:off x="3912840" y="577584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grpSp>
      <p:sp>
        <p:nvSpPr>
          <p:cNvPr id="810" name=""/>
          <p:cNvSpPr/>
          <p:nvPr/>
        </p:nvSpPr>
        <p:spPr>
          <a:xfrm>
            <a:off x="685800" y="0"/>
            <a:ext cx="77724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aminant Removal Sequence</a:t>
            </a:r>
            <a:endParaRPr b="1" lang="en-US" sz="3200" spc="-1" strike="noStrike">
              <a:solidFill>
                <a:srgbClr val="fafd00"/>
              </a:solidFill>
              <a:latin typeface="Arial"/>
            </a:endParaRPr>
          </a:p>
        </p:txBody>
      </p:sp>
      <p:sp>
        <p:nvSpPr>
          <p:cNvPr id="812"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elting Requirements</a:t>
            </a:r>
            <a:endParaRPr b="1" lang="en-US" sz="3200" spc="-1" strike="noStrike">
              <a:solidFill>
                <a:srgbClr val="fafd00"/>
              </a:solidFill>
              <a:latin typeface="Arial"/>
            </a:endParaRPr>
          </a:p>
        </p:txBody>
      </p:sp>
      <p:sp>
        <p:nvSpPr>
          <p:cNvPr id="81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configuration</a:t>
            </a:r>
            <a:endParaRPr b="1" lang="en-US" sz="28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eedom to move</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act with other fibres</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posed scales</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ter</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essential but promotes felting</a:t>
            </a:r>
            <a:endParaRPr b="1" lang="en-US" sz="24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ubricant</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ales raised</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xibility increased</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gitation - essential</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FE - essential</a:t>
            </a:r>
            <a:endParaRPr b="1" lang="en-US" sz="2800" spc="-1" strike="noStrike">
              <a:solidFill>
                <a:srgbClr val="ffffff"/>
              </a:solidFill>
              <a:latin typeface="Arial"/>
            </a:endParaRPr>
          </a:p>
        </p:txBody>
      </p:sp>
      <p:sp>
        <p:nvSpPr>
          <p:cNvPr id="817"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9" name=""/>
          <p:cNvGrpSpPr/>
          <p:nvPr/>
        </p:nvGrpSpPr>
        <p:grpSpPr>
          <a:xfrm>
            <a:off x="1143000" y="838080"/>
            <a:ext cx="4498920" cy="2322720"/>
            <a:chOff x="1143000" y="838080"/>
            <a:chExt cx="4498920" cy="2322720"/>
          </a:xfrm>
        </p:grpSpPr>
        <p:grpSp>
          <p:nvGrpSpPr>
            <p:cNvPr id="820" name=""/>
            <p:cNvGrpSpPr/>
            <p:nvPr/>
          </p:nvGrpSpPr>
          <p:grpSpPr>
            <a:xfrm>
              <a:off x="1143000" y="838080"/>
              <a:ext cx="4498920" cy="2322720"/>
              <a:chOff x="1143000" y="838080"/>
              <a:chExt cx="4498920" cy="2322720"/>
            </a:xfrm>
          </p:grpSpPr>
          <p:sp>
            <p:nvSpPr>
              <p:cNvPr id="821" name=""/>
              <p:cNvSpPr/>
              <p:nvPr/>
            </p:nvSpPr>
            <p:spPr>
              <a:xfrm>
                <a:off x="1143000" y="838080"/>
                <a:ext cx="4498920" cy="2322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146960" y="1033560"/>
                <a:ext cx="4341600" cy="233640"/>
              </a:xfrm>
              <a:custGeom>
                <a:avLst/>
                <a:gdLst/>
                <a:ahLst/>
                <a:rect l="l" t="t" r="r" b="b"/>
                <a:pathLst>
                  <a:path w="5458" h="294">
                    <a:moveTo>
                      <a:pt x="0" y="158"/>
                    </a:moveTo>
                    <a:lnTo>
                      <a:pt x="1077" y="271"/>
                    </a:lnTo>
                    <a:lnTo>
                      <a:pt x="822" y="0"/>
                    </a:lnTo>
                    <a:lnTo>
                      <a:pt x="1885" y="271"/>
                    </a:lnTo>
                    <a:lnTo>
                      <a:pt x="1630" y="0"/>
                    </a:lnTo>
                    <a:lnTo>
                      <a:pt x="2849" y="282"/>
                    </a:lnTo>
                    <a:lnTo>
                      <a:pt x="2552" y="23"/>
                    </a:lnTo>
                    <a:lnTo>
                      <a:pt x="3572" y="293"/>
                    </a:lnTo>
                    <a:lnTo>
                      <a:pt x="3246" y="23"/>
                    </a:lnTo>
                    <a:lnTo>
                      <a:pt x="4451" y="293"/>
                    </a:lnTo>
                    <a:lnTo>
                      <a:pt x="4054" y="12"/>
                    </a:lnTo>
                    <a:lnTo>
                      <a:pt x="5457" y="282"/>
                    </a:lnTo>
                    <a:lnTo>
                      <a:pt x="5443" y="28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203120" y="1633320"/>
                <a:ext cx="4342320" cy="232920"/>
              </a:xfrm>
              <a:custGeom>
                <a:avLst/>
                <a:gdLst/>
                <a:ahLst/>
                <a:rect l="l" t="t" r="r" b="b"/>
                <a:pathLst>
                  <a:path w="5459" h="293">
                    <a:moveTo>
                      <a:pt x="0" y="135"/>
                    </a:moveTo>
                    <a:lnTo>
                      <a:pt x="1077" y="22"/>
                    </a:lnTo>
                    <a:lnTo>
                      <a:pt x="822" y="292"/>
                    </a:lnTo>
                    <a:lnTo>
                      <a:pt x="1885" y="22"/>
                    </a:lnTo>
                    <a:lnTo>
                      <a:pt x="1630" y="292"/>
                    </a:lnTo>
                    <a:lnTo>
                      <a:pt x="2850" y="11"/>
                    </a:lnTo>
                    <a:lnTo>
                      <a:pt x="2552" y="269"/>
                    </a:lnTo>
                    <a:lnTo>
                      <a:pt x="3573" y="0"/>
                    </a:lnTo>
                    <a:lnTo>
                      <a:pt x="3247" y="269"/>
                    </a:lnTo>
                    <a:lnTo>
                      <a:pt x="4452" y="0"/>
                    </a:lnTo>
                    <a:lnTo>
                      <a:pt x="4054" y="280"/>
                    </a:lnTo>
                    <a:lnTo>
                      <a:pt x="5458" y="11"/>
                    </a:lnTo>
                    <a:lnTo>
                      <a:pt x="5444" y="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4" name=""/>
              <p:cNvGrpSpPr/>
              <p:nvPr/>
            </p:nvGrpSpPr>
            <p:grpSpPr>
              <a:xfrm>
                <a:off x="1224720" y="2169720"/>
                <a:ext cx="4398840" cy="833040"/>
                <a:chOff x="1224720" y="2169720"/>
                <a:chExt cx="4398840" cy="833040"/>
              </a:xfrm>
            </p:grpSpPr>
            <p:sp>
              <p:nvSpPr>
                <p:cNvPr id="825" name=""/>
                <p:cNvSpPr/>
                <p:nvPr/>
              </p:nvSpPr>
              <p:spPr>
                <a:xfrm>
                  <a:off x="1281600" y="2169720"/>
                  <a:ext cx="4341960" cy="233640"/>
                </a:xfrm>
                <a:custGeom>
                  <a:avLst/>
                  <a:gdLst/>
                  <a:ahLst/>
                  <a:rect l="l" t="t" r="r" b="b"/>
                  <a:pathLst>
                    <a:path w="5459" h="294">
                      <a:moveTo>
                        <a:pt x="5458" y="158"/>
                      </a:moveTo>
                      <a:lnTo>
                        <a:pt x="4380" y="271"/>
                      </a:lnTo>
                      <a:lnTo>
                        <a:pt x="4636" y="0"/>
                      </a:lnTo>
                      <a:lnTo>
                        <a:pt x="3573" y="271"/>
                      </a:lnTo>
                      <a:lnTo>
                        <a:pt x="3828" y="0"/>
                      </a:lnTo>
                      <a:lnTo>
                        <a:pt x="2608" y="282"/>
                      </a:lnTo>
                      <a:lnTo>
                        <a:pt x="2906" y="23"/>
                      </a:lnTo>
                      <a:lnTo>
                        <a:pt x="1885" y="293"/>
                      </a:lnTo>
                      <a:lnTo>
                        <a:pt x="2211" y="23"/>
                      </a:lnTo>
                      <a:lnTo>
                        <a:pt x="1006" y="293"/>
                      </a:lnTo>
                      <a:lnTo>
                        <a:pt x="1404" y="12"/>
                      </a:lnTo>
                      <a:lnTo>
                        <a:pt x="0" y="282"/>
                      </a:lnTo>
                      <a:lnTo>
                        <a:pt x="14" y="282"/>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224720" y="2769120"/>
                  <a:ext cx="4341960" cy="233640"/>
                </a:xfrm>
                <a:custGeom>
                  <a:avLst/>
                  <a:gdLst/>
                  <a:ahLst/>
                  <a:rect l="l" t="t" r="r" b="b"/>
                  <a:pathLst>
                    <a:path w="5459" h="294">
                      <a:moveTo>
                        <a:pt x="5458" y="135"/>
                      </a:moveTo>
                      <a:lnTo>
                        <a:pt x="4380" y="22"/>
                      </a:lnTo>
                      <a:lnTo>
                        <a:pt x="4636" y="293"/>
                      </a:lnTo>
                      <a:lnTo>
                        <a:pt x="3572" y="22"/>
                      </a:lnTo>
                      <a:lnTo>
                        <a:pt x="3827" y="293"/>
                      </a:lnTo>
                      <a:lnTo>
                        <a:pt x="2608" y="11"/>
                      </a:lnTo>
                      <a:lnTo>
                        <a:pt x="2906" y="270"/>
                      </a:lnTo>
                      <a:lnTo>
                        <a:pt x="1885" y="0"/>
                      </a:lnTo>
                      <a:lnTo>
                        <a:pt x="2211" y="270"/>
                      </a:lnTo>
                      <a:lnTo>
                        <a:pt x="1006" y="0"/>
                      </a:lnTo>
                      <a:lnTo>
                        <a:pt x="1403" y="281"/>
                      </a:lnTo>
                      <a:lnTo>
                        <a:pt x="0" y="11"/>
                      </a:lnTo>
                      <a:lnTo>
                        <a:pt x="14" y="11"/>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3179160" y="1857600"/>
                <a:ext cx="108000" cy="169200"/>
              </a:xfrm>
              <a:custGeom>
                <a:avLst/>
                <a:gdLst/>
                <a:ahLst/>
                <a:rect l="l" t="t" r="r" b="b"/>
                <a:pathLst>
                  <a:path w="136" h="213">
                    <a:moveTo>
                      <a:pt x="0" y="212"/>
                    </a:moveTo>
                    <a:lnTo>
                      <a:pt x="67" y="0"/>
                    </a:lnTo>
                    <a:lnTo>
                      <a:pt x="135" y="212"/>
                    </a:lnTo>
                    <a:lnTo>
                      <a:pt x="0" y="212"/>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967480" y="2011320"/>
                <a:ext cx="108000" cy="170280"/>
              </a:xfrm>
              <a:custGeom>
                <a:avLst/>
                <a:gdLst/>
                <a:ahLst/>
                <a:rect l="l" t="t" r="r" b="b"/>
                <a:pathLst>
                  <a:path w="136" h="214">
                    <a:moveTo>
                      <a:pt x="135" y="0"/>
                    </a:moveTo>
                    <a:lnTo>
                      <a:pt x="67" y="213"/>
                    </a:lnTo>
                    <a:lnTo>
                      <a:pt x="0" y="0"/>
                    </a:lnTo>
                    <a:lnTo>
                      <a:pt x="13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9" name=""/>
            <p:cNvSpPr/>
            <p:nvPr/>
          </p:nvSpPr>
          <p:spPr>
            <a:xfrm>
              <a:off x="1310760" y="130176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1</a:t>
              </a:r>
              <a:endParaRPr b="0" lang="en-US" sz="1600" spc="-1" strike="noStrike">
                <a:solidFill>
                  <a:srgbClr val="000000"/>
                </a:solidFill>
                <a:latin typeface="Times New Roman"/>
              </a:endParaRPr>
            </a:p>
          </p:txBody>
        </p:sp>
        <p:sp>
          <p:nvSpPr>
            <p:cNvPr id="830" name=""/>
            <p:cNvSpPr/>
            <p:nvPr/>
          </p:nvSpPr>
          <p:spPr>
            <a:xfrm>
              <a:off x="1343880" y="244656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2</a:t>
              </a:r>
              <a:endParaRPr b="0" lang="en-US" sz="1600" spc="-1" strike="noStrike">
                <a:solidFill>
                  <a:srgbClr val="000000"/>
                </a:solidFill>
                <a:latin typeface="Times New Roman"/>
              </a:endParaRPr>
            </a:p>
          </p:txBody>
        </p:sp>
        <p:sp>
          <p:nvSpPr>
            <p:cNvPr id="831" name=""/>
            <p:cNvSpPr/>
            <p:nvPr/>
          </p:nvSpPr>
          <p:spPr>
            <a:xfrm>
              <a:off x="3982320" y="1339920"/>
              <a:ext cx="58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OT</a:t>
              </a:r>
              <a:endParaRPr b="0" lang="en-US" sz="1600" spc="-1" strike="noStrike">
                <a:solidFill>
                  <a:srgbClr val="000000"/>
                </a:solidFill>
                <a:latin typeface="Times New Roman"/>
              </a:endParaRPr>
            </a:p>
          </p:txBody>
        </p:sp>
        <p:sp>
          <p:nvSpPr>
            <p:cNvPr id="832" name=""/>
            <p:cNvSpPr/>
            <p:nvPr/>
          </p:nvSpPr>
          <p:spPr>
            <a:xfrm>
              <a:off x="3036240" y="2514600"/>
              <a:ext cx="58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OT</a:t>
              </a:r>
              <a:endParaRPr b="0" lang="en-US" sz="1600" spc="-1" strike="noStrike">
                <a:solidFill>
                  <a:srgbClr val="000000"/>
                </a:solidFill>
                <a:latin typeface="Times New Roman"/>
              </a:endParaRPr>
            </a:p>
          </p:txBody>
        </p:sp>
        <p:sp>
          <p:nvSpPr>
            <p:cNvPr id="833" name=""/>
            <p:cNvSpPr/>
            <p:nvPr/>
          </p:nvSpPr>
          <p:spPr>
            <a:xfrm flipH="1">
              <a:off x="2291040" y="2626920"/>
              <a:ext cx="711000" cy="720"/>
            </a:xfrm>
            <a:prstGeom prst="line">
              <a:avLst/>
            </a:prstGeom>
            <a:ln w="572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34" name=""/>
            <p:cNvSpPr/>
            <p:nvPr/>
          </p:nvSpPr>
          <p:spPr>
            <a:xfrm>
              <a:off x="2252520" y="2523600"/>
              <a:ext cx="523080" cy="207360"/>
            </a:xfrm>
            <a:custGeom>
              <a:avLst/>
              <a:gdLst/>
              <a:ahLst/>
              <a:rect l="l" t="t" r="r" b="b"/>
              <a:pathLst>
                <a:path w="658" h="261">
                  <a:moveTo>
                    <a:pt x="657" y="260"/>
                  </a:moveTo>
                  <a:lnTo>
                    <a:pt x="0" y="130"/>
                  </a:lnTo>
                  <a:lnTo>
                    <a:pt x="657" y="0"/>
                  </a:lnTo>
                  <a:lnTo>
                    <a:pt x="657" y="26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577400" y="1454400"/>
              <a:ext cx="954360" cy="720"/>
            </a:xfrm>
            <a:prstGeom prst="line">
              <a:avLst/>
            </a:prstGeom>
            <a:ln w="572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36" name=""/>
            <p:cNvSpPr/>
            <p:nvPr/>
          </p:nvSpPr>
          <p:spPr>
            <a:xfrm>
              <a:off x="5011200" y="1337400"/>
              <a:ext cx="590760" cy="234360"/>
            </a:xfrm>
            <a:custGeom>
              <a:avLst/>
              <a:gdLst/>
              <a:ahLst/>
              <a:rect l="l" t="t" r="r" b="b"/>
              <a:pathLst>
                <a:path w="743" h="295">
                  <a:moveTo>
                    <a:pt x="0" y="0"/>
                  </a:moveTo>
                  <a:lnTo>
                    <a:pt x="742" y="147"/>
                  </a:lnTo>
                  <a:lnTo>
                    <a:pt x="0" y="294"/>
                  </a:lnTo>
                  <a:lnTo>
                    <a:pt x="0" y="0"/>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361800" y="5610240"/>
            <a:ext cx="827280" cy="35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rectional Frictional Effect</a:t>
            </a:r>
            <a:endParaRPr b="1" lang="en-US" sz="3200" spc="-1" strike="noStrike">
              <a:solidFill>
                <a:srgbClr val="fafd00"/>
              </a:solidFill>
              <a:latin typeface="Arial"/>
            </a:endParaRPr>
          </a:p>
        </p:txBody>
      </p:sp>
      <p:grpSp>
        <p:nvGrpSpPr>
          <p:cNvPr id="840" name=""/>
          <p:cNvGrpSpPr/>
          <p:nvPr/>
        </p:nvGrpSpPr>
        <p:grpSpPr>
          <a:xfrm>
            <a:off x="1123920" y="4114800"/>
            <a:ext cx="4513680" cy="2396520"/>
            <a:chOff x="1123920" y="4114800"/>
            <a:chExt cx="4513680" cy="2396520"/>
          </a:xfrm>
        </p:grpSpPr>
        <p:grpSp>
          <p:nvGrpSpPr>
            <p:cNvPr id="841" name=""/>
            <p:cNvGrpSpPr/>
            <p:nvPr/>
          </p:nvGrpSpPr>
          <p:grpSpPr>
            <a:xfrm>
              <a:off x="1123920" y="4114800"/>
              <a:ext cx="4513680" cy="2396520"/>
              <a:chOff x="1123920" y="4114800"/>
              <a:chExt cx="4513680" cy="2396520"/>
            </a:xfrm>
          </p:grpSpPr>
          <p:sp>
            <p:nvSpPr>
              <p:cNvPr id="842" name=""/>
              <p:cNvSpPr/>
              <p:nvPr/>
            </p:nvSpPr>
            <p:spPr>
              <a:xfrm>
                <a:off x="1123920" y="4114800"/>
                <a:ext cx="4486320" cy="235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1126800" y="4271760"/>
                <a:ext cx="4510800" cy="2239560"/>
                <a:chOff x="1126800" y="4271760"/>
                <a:chExt cx="4510800" cy="2239560"/>
              </a:xfrm>
            </p:grpSpPr>
            <p:grpSp>
              <p:nvGrpSpPr>
                <p:cNvPr id="844" name=""/>
                <p:cNvGrpSpPr/>
                <p:nvPr/>
              </p:nvGrpSpPr>
              <p:grpSpPr>
                <a:xfrm>
                  <a:off x="1754640" y="4271760"/>
                  <a:ext cx="3882960" cy="905760"/>
                  <a:chOff x="1754640" y="4271760"/>
                  <a:chExt cx="3882960" cy="905760"/>
                </a:xfrm>
              </p:grpSpPr>
              <p:sp>
                <p:nvSpPr>
                  <p:cNvPr id="845" name=""/>
                  <p:cNvSpPr/>
                  <p:nvPr/>
                </p:nvSpPr>
                <p:spPr>
                  <a:xfrm>
                    <a:off x="1754640" y="4271760"/>
                    <a:ext cx="3833640" cy="253800"/>
                  </a:xfrm>
                  <a:custGeom>
                    <a:avLst/>
                    <a:gdLst/>
                    <a:ahLst/>
                    <a:rect l="l" t="t" r="r" b="b"/>
                    <a:pathLst>
                      <a:path w="4833" h="320">
                        <a:moveTo>
                          <a:pt x="0" y="172"/>
                        </a:moveTo>
                        <a:lnTo>
                          <a:pt x="954" y="295"/>
                        </a:lnTo>
                        <a:lnTo>
                          <a:pt x="727" y="0"/>
                        </a:lnTo>
                        <a:lnTo>
                          <a:pt x="1669" y="295"/>
                        </a:lnTo>
                        <a:lnTo>
                          <a:pt x="1443" y="0"/>
                        </a:lnTo>
                        <a:lnTo>
                          <a:pt x="2523" y="307"/>
                        </a:lnTo>
                        <a:lnTo>
                          <a:pt x="2259" y="25"/>
                        </a:lnTo>
                        <a:lnTo>
                          <a:pt x="3163" y="319"/>
                        </a:lnTo>
                        <a:lnTo>
                          <a:pt x="2874" y="25"/>
                        </a:lnTo>
                        <a:lnTo>
                          <a:pt x="3941" y="319"/>
                        </a:lnTo>
                        <a:lnTo>
                          <a:pt x="3589" y="13"/>
                        </a:lnTo>
                        <a:lnTo>
                          <a:pt x="4832" y="307"/>
                        </a:lnTo>
                        <a:lnTo>
                          <a:pt x="4819" y="30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804320" y="4923720"/>
                    <a:ext cx="3833280" cy="253800"/>
                  </a:xfrm>
                  <a:custGeom>
                    <a:avLst/>
                    <a:gdLst/>
                    <a:ahLst/>
                    <a:rect l="l" t="t" r="r" b="b"/>
                    <a:pathLst>
                      <a:path w="4833" h="320">
                        <a:moveTo>
                          <a:pt x="0" y="147"/>
                        </a:moveTo>
                        <a:lnTo>
                          <a:pt x="954" y="24"/>
                        </a:lnTo>
                        <a:lnTo>
                          <a:pt x="728" y="319"/>
                        </a:lnTo>
                        <a:lnTo>
                          <a:pt x="1669" y="24"/>
                        </a:lnTo>
                        <a:lnTo>
                          <a:pt x="1443" y="319"/>
                        </a:lnTo>
                        <a:lnTo>
                          <a:pt x="2523" y="12"/>
                        </a:lnTo>
                        <a:lnTo>
                          <a:pt x="2259" y="294"/>
                        </a:lnTo>
                        <a:lnTo>
                          <a:pt x="3163" y="0"/>
                        </a:lnTo>
                        <a:lnTo>
                          <a:pt x="2874" y="294"/>
                        </a:lnTo>
                        <a:lnTo>
                          <a:pt x="3941" y="0"/>
                        </a:lnTo>
                        <a:lnTo>
                          <a:pt x="3589" y="306"/>
                        </a:lnTo>
                        <a:lnTo>
                          <a:pt x="4832" y="12"/>
                        </a:lnTo>
                        <a:lnTo>
                          <a:pt x="4819" y="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1126800" y="5313240"/>
                  <a:ext cx="3882960" cy="905760"/>
                  <a:chOff x="1126800" y="5313240"/>
                  <a:chExt cx="3882960" cy="905760"/>
                </a:xfrm>
              </p:grpSpPr>
              <p:sp>
                <p:nvSpPr>
                  <p:cNvPr id="848" name=""/>
                  <p:cNvSpPr/>
                  <p:nvPr/>
                </p:nvSpPr>
                <p:spPr>
                  <a:xfrm>
                    <a:off x="1176480" y="5313240"/>
                    <a:ext cx="3833280" cy="253800"/>
                  </a:xfrm>
                  <a:custGeom>
                    <a:avLst/>
                    <a:gdLst/>
                    <a:ahLst/>
                    <a:rect l="l" t="t" r="r" b="b"/>
                    <a:pathLst>
                      <a:path w="4833" h="320">
                        <a:moveTo>
                          <a:pt x="4832" y="172"/>
                        </a:moveTo>
                        <a:lnTo>
                          <a:pt x="3878" y="295"/>
                        </a:lnTo>
                        <a:lnTo>
                          <a:pt x="4104" y="0"/>
                        </a:lnTo>
                        <a:lnTo>
                          <a:pt x="3163" y="295"/>
                        </a:lnTo>
                        <a:lnTo>
                          <a:pt x="3389" y="0"/>
                        </a:lnTo>
                        <a:lnTo>
                          <a:pt x="2309" y="307"/>
                        </a:lnTo>
                        <a:lnTo>
                          <a:pt x="2573" y="25"/>
                        </a:lnTo>
                        <a:lnTo>
                          <a:pt x="1669" y="319"/>
                        </a:lnTo>
                        <a:lnTo>
                          <a:pt x="1958" y="25"/>
                        </a:lnTo>
                        <a:lnTo>
                          <a:pt x="891" y="319"/>
                        </a:lnTo>
                        <a:lnTo>
                          <a:pt x="1243" y="12"/>
                        </a:lnTo>
                        <a:lnTo>
                          <a:pt x="0" y="307"/>
                        </a:lnTo>
                        <a:lnTo>
                          <a:pt x="13" y="307"/>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126800" y="5965200"/>
                    <a:ext cx="3833280" cy="253800"/>
                  </a:xfrm>
                  <a:custGeom>
                    <a:avLst/>
                    <a:gdLst/>
                    <a:ahLst/>
                    <a:rect l="l" t="t" r="r" b="b"/>
                    <a:pathLst>
                      <a:path w="4833" h="320">
                        <a:moveTo>
                          <a:pt x="4832" y="147"/>
                        </a:moveTo>
                        <a:lnTo>
                          <a:pt x="3878" y="24"/>
                        </a:lnTo>
                        <a:lnTo>
                          <a:pt x="4104" y="319"/>
                        </a:lnTo>
                        <a:lnTo>
                          <a:pt x="3163" y="24"/>
                        </a:lnTo>
                        <a:lnTo>
                          <a:pt x="3389" y="319"/>
                        </a:lnTo>
                        <a:lnTo>
                          <a:pt x="2309" y="12"/>
                        </a:lnTo>
                        <a:lnTo>
                          <a:pt x="2573" y="294"/>
                        </a:lnTo>
                        <a:lnTo>
                          <a:pt x="1669" y="0"/>
                        </a:lnTo>
                        <a:lnTo>
                          <a:pt x="1958" y="294"/>
                        </a:lnTo>
                        <a:lnTo>
                          <a:pt x="891" y="0"/>
                        </a:lnTo>
                        <a:lnTo>
                          <a:pt x="1243" y="307"/>
                        </a:lnTo>
                        <a:lnTo>
                          <a:pt x="0" y="12"/>
                        </a:lnTo>
                        <a:lnTo>
                          <a:pt x="13" y="12"/>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
                <p:cNvSpPr/>
                <p:nvPr/>
              </p:nvSpPr>
              <p:spPr>
                <a:xfrm>
                  <a:off x="3540240" y="5180040"/>
                  <a:ext cx="95040" cy="184680"/>
                </a:xfrm>
                <a:custGeom>
                  <a:avLst/>
                  <a:gdLst/>
                  <a:ahLst/>
                  <a:rect l="l" t="t" r="r" b="b"/>
                  <a:pathLst>
                    <a:path w="120" h="233">
                      <a:moveTo>
                        <a:pt x="0" y="232"/>
                      </a:moveTo>
                      <a:lnTo>
                        <a:pt x="59" y="0"/>
                      </a:lnTo>
                      <a:lnTo>
                        <a:pt x="119" y="232"/>
                      </a:lnTo>
                      <a:lnTo>
                        <a:pt x="0" y="232"/>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687760" y="5140440"/>
                  <a:ext cx="95040" cy="184680"/>
                </a:xfrm>
                <a:custGeom>
                  <a:avLst/>
                  <a:gdLst/>
                  <a:ahLst/>
                  <a:rect l="l" t="t" r="r" b="b"/>
                  <a:pathLst>
                    <a:path w="120" h="233">
                      <a:moveTo>
                        <a:pt x="119" y="0"/>
                      </a:moveTo>
                      <a:lnTo>
                        <a:pt x="59" y="232"/>
                      </a:lnTo>
                      <a:lnTo>
                        <a:pt x="0" y="0"/>
                      </a:lnTo>
                      <a:lnTo>
                        <a:pt x="11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117160" y="626760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2 moves to ROOT end</a:t>
                  </a:r>
                  <a:endParaRPr b="0" lang="en-US" sz="1600" spc="-1" strike="noStrike">
                    <a:solidFill>
                      <a:srgbClr val="000000"/>
                    </a:solidFill>
                    <a:latin typeface="Times New Roman"/>
                  </a:endParaRPr>
                </a:p>
              </p:txBody>
            </p:sp>
            <p:sp>
              <p:nvSpPr>
                <p:cNvPr id="853" name=""/>
                <p:cNvSpPr/>
                <p:nvPr/>
              </p:nvSpPr>
              <p:spPr>
                <a:xfrm>
                  <a:off x="2822040" y="4554720"/>
                  <a:ext cx="78948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1</a:t>
                  </a:r>
                  <a:endParaRPr b="0" lang="en-US" sz="1600" spc="-1" strike="noStrike">
                    <a:solidFill>
                      <a:srgbClr val="000000"/>
                    </a:solidFill>
                    <a:latin typeface="Times New Roman"/>
                  </a:endParaRPr>
                </a:p>
              </p:txBody>
            </p:sp>
          </p:grpSp>
        </p:grpSp>
        <p:sp>
          <p:nvSpPr>
            <p:cNvPr id="854" name=""/>
            <p:cNvSpPr/>
            <p:nvPr/>
          </p:nvSpPr>
          <p:spPr>
            <a:xfrm>
              <a:off x="1576080" y="5616720"/>
              <a:ext cx="66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2 </a:t>
              </a:r>
              <a:endParaRPr b="0" lang="en-US" sz="1600" spc="-1" strike="noStrike">
                <a:solidFill>
                  <a:srgbClr val="000000"/>
                </a:solidFill>
                <a:latin typeface="Times New Roman"/>
              </a:endParaRPr>
            </a:p>
          </p:txBody>
        </p:sp>
      </p:grpSp>
      <p:grpSp>
        <p:nvGrpSpPr>
          <p:cNvPr id="855" name=""/>
          <p:cNvGrpSpPr/>
          <p:nvPr/>
        </p:nvGrpSpPr>
        <p:grpSpPr>
          <a:xfrm>
            <a:off x="4646520" y="2211480"/>
            <a:ext cx="4497480" cy="2360520"/>
            <a:chOff x="4646520" y="2211480"/>
            <a:chExt cx="4497480" cy="2360520"/>
          </a:xfrm>
        </p:grpSpPr>
        <p:grpSp>
          <p:nvGrpSpPr>
            <p:cNvPr id="856" name=""/>
            <p:cNvGrpSpPr/>
            <p:nvPr/>
          </p:nvGrpSpPr>
          <p:grpSpPr>
            <a:xfrm>
              <a:off x="4646520" y="2211480"/>
              <a:ext cx="4497480" cy="2360520"/>
              <a:chOff x="4646520" y="2211480"/>
              <a:chExt cx="4497480" cy="2360520"/>
            </a:xfrm>
          </p:grpSpPr>
          <p:sp>
            <p:nvSpPr>
              <p:cNvPr id="857" name=""/>
              <p:cNvSpPr/>
              <p:nvPr/>
            </p:nvSpPr>
            <p:spPr>
              <a:xfrm>
                <a:off x="4646520" y="2211480"/>
                <a:ext cx="4497480" cy="236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58" name=""/>
              <p:cNvSpPr/>
              <p:nvPr/>
            </p:nvSpPr>
            <p:spPr>
              <a:xfrm>
                <a:off x="4954320" y="295740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fibre 1</a:t>
                </a:r>
                <a:endParaRPr b="0" lang="en-US" sz="1600" spc="-1" strike="noStrike">
                  <a:solidFill>
                    <a:srgbClr val="000000"/>
                  </a:solidFill>
                  <a:latin typeface="Times New Roman"/>
                </a:endParaRPr>
              </a:p>
            </p:txBody>
          </p:sp>
        </p:grpSp>
        <p:grpSp>
          <p:nvGrpSpPr>
            <p:cNvPr id="859" name=""/>
            <p:cNvGrpSpPr/>
            <p:nvPr/>
          </p:nvGrpSpPr>
          <p:grpSpPr>
            <a:xfrm>
              <a:off x="4658400" y="2477160"/>
              <a:ext cx="4479840" cy="1892520"/>
              <a:chOff x="4658400" y="2477160"/>
              <a:chExt cx="4479840" cy="1892520"/>
            </a:xfrm>
          </p:grpSpPr>
          <p:sp>
            <p:nvSpPr>
              <p:cNvPr id="860" name=""/>
              <p:cNvSpPr/>
              <p:nvPr/>
            </p:nvSpPr>
            <p:spPr>
              <a:xfrm>
                <a:off x="6972120" y="3388680"/>
                <a:ext cx="97920" cy="188280"/>
              </a:xfrm>
              <a:custGeom>
                <a:avLst/>
                <a:gdLst/>
                <a:ahLst/>
                <a:rect l="l" t="t" r="r" b="b"/>
                <a:pathLst>
                  <a:path w="123" h="237">
                    <a:moveTo>
                      <a:pt x="0" y="236"/>
                    </a:moveTo>
                    <a:lnTo>
                      <a:pt x="61" y="0"/>
                    </a:lnTo>
                    <a:lnTo>
                      <a:pt x="122" y="236"/>
                    </a:lnTo>
                    <a:lnTo>
                      <a:pt x="0" y="236"/>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059520" y="3400560"/>
                <a:ext cx="96840" cy="187560"/>
              </a:xfrm>
              <a:custGeom>
                <a:avLst/>
                <a:gdLst/>
                <a:ahLst/>
                <a:rect l="l" t="t" r="r" b="b"/>
                <a:pathLst>
                  <a:path w="122" h="236">
                    <a:moveTo>
                      <a:pt x="121" y="0"/>
                    </a:moveTo>
                    <a:lnTo>
                      <a:pt x="60" y="235"/>
                    </a:lnTo>
                    <a:lnTo>
                      <a:pt x="0" y="0"/>
                    </a:lnTo>
                    <a:lnTo>
                      <a:pt x="1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2" name=""/>
              <p:cNvGrpSpPr/>
              <p:nvPr/>
            </p:nvGrpSpPr>
            <p:grpSpPr>
              <a:xfrm>
                <a:off x="5149080" y="2477160"/>
                <a:ext cx="3989160" cy="921240"/>
                <a:chOff x="5149080" y="2477160"/>
                <a:chExt cx="3989160" cy="921240"/>
              </a:xfrm>
            </p:grpSpPr>
            <p:sp>
              <p:nvSpPr>
                <p:cNvPr id="863" name=""/>
                <p:cNvSpPr/>
                <p:nvPr/>
              </p:nvSpPr>
              <p:spPr>
                <a:xfrm>
                  <a:off x="5149080" y="2477160"/>
                  <a:ext cx="3937680" cy="258120"/>
                </a:xfrm>
                <a:custGeom>
                  <a:avLst/>
                  <a:gdLst/>
                  <a:ahLst/>
                  <a:rect l="l" t="t" r="r" b="b"/>
                  <a:pathLst>
                    <a:path w="4952" h="325">
                      <a:moveTo>
                        <a:pt x="0" y="174"/>
                      </a:moveTo>
                      <a:lnTo>
                        <a:pt x="977" y="299"/>
                      </a:lnTo>
                      <a:lnTo>
                        <a:pt x="745" y="0"/>
                      </a:lnTo>
                      <a:lnTo>
                        <a:pt x="1710" y="299"/>
                      </a:lnTo>
                      <a:lnTo>
                        <a:pt x="1479" y="0"/>
                      </a:lnTo>
                      <a:lnTo>
                        <a:pt x="2585" y="311"/>
                      </a:lnTo>
                      <a:lnTo>
                        <a:pt x="2315" y="25"/>
                      </a:lnTo>
                      <a:lnTo>
                        <a:pt x="3241" y="324"/>
                      </a:lnTo>
                      <a:lnTo>
                        <a:pt x="2945" y="25"/>
                      </a:lnTo>
                      <a:lnTo>
                        <a:pt x="4038" y="324"/>
                      </a:lnTo>
                      <a:lnTo>
                        <a:pt x="3677" y="13"/>
                      </a:lnTo>
                      <a:lnTo>
                        <a:pt x="4951" y="311"/>
                      </a:lnTo>
                      <a:lnTo>
                        <a:pt x="4938" y="3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200560" y="3140280"/>
                  <a:ext cx="3937680" cy="258120"/>
                </a:xfrm>
                <a:custGeom>
                  <a:avLst/>
                  <a:gdLst/>
                  <a:ahLst/>
                  <a:rect l="l" t="t" r="r" b="b"/>
                  <a:pathLst>
                    <a:path w="4952" h="325">
                      <a:moveTo>
                        <a:pt x="0" y="149"/>
                      </a:moveTo>
                      <a:lnTo>
                        <a:pt x="977" y="24"/>
                      </a:lnTo>
                      <a:lnTo>
                        <a:pt x="746" y="324"/>
                      </a:lnTo>
                      <a:lnTo>
                        <a:pt x="1710" y="24"/>
                      </a:lnTo>
                      <a:lnTo>
                        <a:pt x="1479" y="324"/>
                      </a:lnTo>
                      <a:lnTo>
                        <a:pt x="2585" y="12"/>
                      </a:lnTo>
                      <a:lnTo>
                        <a:pt x="2315" y="298"/>
                      </a:lnTo>
                      <a:lnTo>
                        <a:pt x="3241" y="0"/>
                      </a:lnTo>
                      <a:lnTo>
                        <a:pt x="2945" y="298"/>
                      </a:lnTo>
                      <a:lnTo>
                        <a:pt x="4038" y="0"/>
                      </a:lnTo>
                      <a:lnTo>
                        <a:pt x="3678" y="311"/>
                      </a:lnTo>
                      <a:lnTo>
                        <a:pt x="4951" y="12"/>
                      </a:lnTo>
                      <a:lnTo>
                        <a:pt x="4938" y="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4658400" y="3476160"/>
                <a:ext cx="4040280" cy="893520"/>
                <a:chOff x="4658400" y="3476160"/>
                <a:chExt cx="4040280" cy="893520"/>
              </a:xfrm>
            </p:grpSpPr>
            <p:sp>
              <p:nvSpPr>
                <p:cNvPr id="866" name=""/>
                <p:cNvSpPr/>
                <p:nvPr/>
              </p:nvSpPr>
              <p:spPr>
                <a:xfrm>
                  <a:off x="4658400" y="3476160"/>
                  <a:ext cx="3978360" cy="317880"/>
                </a:xfrm>
                <a:custGeom>
                  <a:avLst/>
                  <a:gdLst/>
                  <a:ahLst/>
                  <a:rect l="l" t="t" r="r" b="b"/>
                  <a:pathLst>
                    <a:path w="5003" h="400">
                      <a:moveTo>
                        <a:pt x="0" y="312"/>
                      </a:moveTo>
                      <a:lnTo>
                        <a:pt x="1170" y="87"/>
                      </a:lnTo>
                      <a:lnTo>
                        <a:pt x="695" y="349"/>
                      </a:lnTo>
                      <a:lnTo>
                        <a:pt x="1852" y="212"/>
                      </a:lnTo>
                      <a:lnTo>
                        <a:pt x="1543" y="374"/>
                      </a:lnTo>
                      <a:lnTo>
                        <a:pt x="2764" y="137"/>
                      </a:lnTo>
                      <a:lnTo>
                        <a:pt x="2392" y="374"/>
                      </a:lnTo>
                      <a:lnTo>
                        <a:pt x="3639" y="112"/>
                      </a:lnTo>
                      <a:lnTo>
                        <a:pt x="3202" y="399"/>
                      </a:lnTo>
                      <a:lnTo>
                        <a:pt x="4295" y="0"/>
                      </a:lnTo>
                      <a:lnTo>
                        <a:pt x="3922" y="387"/>
                      </a:lnTo>
                      <a:lnTo>
                        <a:pt x="5002" y="349"/>
                      </a:lnTo>
                      <a:lnTo>
                        <a:pt x="4964" y="349"/>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719600" y="4051800"/>
                  <a:ext cx="3979080" cy="317880"/>
                </a:xfrm>
                <a:custGeom>
                  <a:avLst/>
                  <a:gdLst/>
                  <a:ahLst/>
                  <a:rect l="l" t="t" r="r" b="b"/>
                  <a:pathLst>
                    <a:path w="5004" h="400">
                      <a:moveTo>
                        <a:pt x="0" y="87"/>
                      </a:moveTo>
                      <a:lnTo>
                        <a:pt x="1170" y="312"/>
                      </a:lnTo>
                      <a:lnTo>
                        <a:pt x="695" y="50"/>
                      </a:lnTo>
                      <a:lnTo>
                        <a:pt x="1852" y="187"/>
                      </a:lnTo>
                      <a:lnTo>
                        <a:pt x="1543" y="25"/>
                      </a:lnTo>
                      <a:lnTo>
                        <a:pt x="2765" y="262"/>
                      </a:lnTo>
                      <a:lnTo>
                        <a:pt x="2392" y="25"/>
                      </a:lnTo>
                      <a:lnTo>
                        <a:pt x="3640" y="287"/>
                      </a:lnTo>
                      <a:lnTo>
                        <a:pt x="3202" y="0"/>
                      </a:lnTo>
                      <a:lnTo>
                        <a:pt x="4295" y="399"/>
                      </a:lnTo>
                      <a:lnTo>
                        <a:pt x="3923" y="12"/>
                      </a:lnTo>
                      <a:lnTo>
                        <a:pt x="5003" y="50"/>
                      </a:lnTo>
                      <a:lnTo>
                        <a:pt x="4964" y="5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
              <p:cNvSpPr/>
              <p:nvPr/>
            </p:nvSpPr>
            <p:spPr>
              <a:xfrm>
                <a:off x="4861440" y="3797280"/>
                <a:ext cx="155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2 extended</a:t>
                </a:r>
                <a:endParaRPr b="0" lang="en-US" sz="1600" spc="-1" strike="noStrike">
                  <a:solidFill>
                    <a:srgbClr val="000000"/>
                  </a:solidFill>
                  <a:latin typeface="Times New Roman"/>
                </a:endParaRPr>
              </a:p>
            </p:txBody>
          </p:sp>
        </p:grpSp>
      </p:grpSp>
      <p:sp>
        <p:nvSpPr>
          <p:cNvPr id="869"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1:03:14Z</dcterms:created>
  <dc:creator>Peter Auer</dc:creator>
  <dc:description/>
  <dc:language>en-US</dc:language>
  <cp:lastModifiedBy>Hdaily</cp:lastModifiedBy>
  <cp:lastPrinted>2000-02-03T09:09:47Z</cp:lastPrinted>
  <dcterms:modified xsi:type="dcterms:W3CDTF">2000-03-21T03:06:41Z</dcterms:modified>
  <cp:revision>4</cp:revision>
  <dc:subject/>
  <dc:title>No Slide Title</dc:title>
</cp:coreProperties>
</file>